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64845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7040" y="-36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1560" y="734760"/>
            <a:ext cx="49068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1968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7040" y="931968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5BC1080-1341-4818-8FB0-07C2984C73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4558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4560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4562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 et Microsoft en li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4564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4550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ient des clips arts Microsoft (4) et Softkey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s Dessins Microsoft modifiés pour cer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sldImg"/>
          </p:nvPr>
        </p:nvSpPr>
        <p:spPr>
          <a:xfrm>
            <a:off x="871560" y="735120"/>
            <a:ext cx="4906800" cy="3679560"/>
          </a:xfrm>
          <a:prstGeom prst="rect">
            <a:avLst/>
          </a:prstGeom>
          <a:ln w="0">
            <a:noFill/>
          </a:ln>
        </p:spPr>
      </p:sp>
      <p:sp>
        <p:nvSpPr>
          <p:cNvPr id="4554" name="PlaceHolder 2"/>
          <p:cNvSpPr>
            <a:spLocks noGrp="1"/>
          </p:cNvSpPr>
          <p:nvPr>
            <p:ph type="body"/>
          </p:nvPr>
        </p:nvSpPr>
        <p:spPr>
          <a:xfrm>
            <a:off x="885960" y="4659120"/>
            <a:ext cx="4876560" cy="44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s Soft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F3C-C3F0-4418-BB05-06E74DB4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F2E-C3DC-43B8-A157-E03D29F0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FC9-F389-4232-8177-BD9C4B23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199-1340-4A59-93D9-539425CF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591-C0DD-4E38-AD53-9645FAA6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DF0-F5AB-4D84-94B2-77DD2C79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937-A230-4754-B9E9-046C5587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7C1-3488-4692-8430-E475EAED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A36-4856-43B5-892B-4BA08C2C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8DD-CB0A-4B5F-A6CC-14F552DD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54D-D59C-4D21-B918-6874B738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9C0-51AC-44FF-BB73-4E066B9D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D3A4-15C8-4FDB-AE75-CDCB00524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16080" y="266688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"/>
          <p:cNvSpPr/>
          <p:nvPr/>
        </p:nvSpPr>
        <p:spPr>
          <a:xfrm>
            <a:off x="4876920" y="838080"/>
            <a:ext cx="2931840" cy="53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0" name="DOLPHIN" descr=""/>
          <p:cNvPicPr/>
          <p:nvPr/>
        </p:nvPicPr>
        <p:blipFill>
          <a:blip r:embed="rId1"/>
          <a:stretch/>
        </p:blipFill>
        <p:spPr>
          <a:xfrm>
            <a:off x="533520" y="3166920"/>
            <a:ext cx="3585960" cy="1285920"/>
          </a:xfrm>
          <a:prstGeom prst="rect">
            <a:avLst/>
          </a:prstGeom>
          <a:ln w="0">
            <a:noFill/>
          </a:ln>
        </p:spPr>
      </p:pic>
      <p:sp>
        <p:nvSpPr>
          <p:cNvPr id="1661" name=""/>
          <p:cNvSpPr/>
          <p:nvPr/>
        </p:nvSpPr>
        <p:spPr>
          <a:xfrm>
            <a:off x="190692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01208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553080" y="2795760"/>
            <a:ext cx="950760" cy="2027160"/>
            <a:chOff x="6553080" y="2795760"/>
            <a:chExt cx="950760" cy="2027160"/>
          </a:xfrm>
        </p:grpSpPr>
        <p:sp>
          <p:nvSpPr>
            <p:cNvPr id="1664" name=""/>
            <p:cNvSpPr/>
            <p:nvPr/>
          </p:nvSpPr>
          <p:spPr>
            <a:xfrm>
              <a:off x="6632280" y="4446720"/>
              <a:ext cx="76320" cy="11916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47" y="150"/>
                  </a:moveTo>
                  <a:lnTo>
                    <a:pt x="58" y="149"/>
                  </a:lnTo>
                  <a:lnTo>
                    <a:pt x="67" y="144"/>
                  </a:lnTo>
                  <a:lnTo>
                    <a:pt x="75" y="137"/>
                  </a:lnTo>
                  <a:lnTo>
                    <a:pt x="82" y="128"/>
                  </a:lnTo>
                  <a:lnTo>
                    <a:pt x="88" y="117"/>
                  </a:lnTo>
                  <a:lnTo>
                    <a:pt x="92" y="104"/>
                  </a:lnTo>
                  <a:lnTo>
                    <a:pt x="95" y="90"/>
                  </a:lnTo>
                  <a:lnTo>
                    <a:pt x="96" y="75"/>
                  </a:lnTo>
                  <a:lnTo>
                    <a:pt x="95" y="60"/>
                  </a:lnTo>
                  <a:lnTo>
                    <a:pt x="92" y="46"/>
                  </a:lnTo>
                  <a:lnTo>
                    <a:pt x="88" y="34"/>
                  </a:lnTo>
                  <a:lnTo>
                    <a:pt x="82" y="22"/>
                  </a:lnTo>
                  <a:lnTo>
                    <a:pt x="75" y="13"/>
                  </a:lnTo>
                  <a:lnTo>
                    <a:pt x="67" y="6"/>
                  </a:lnTo>
                  <a:lnTo>
                    <a:pt x="58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9" y="6"/>
                  </a:lnTo>
                  <a:lnTo>
                    <a:pt x="21" y="13"/>
                  </a:lnTo>
                  <a:lnTo>
                    <a:pt x="14" y="22"/>
                  </a:lnTo>
                  <a:lnTo>
                    <a:pt x="8" y="34"/>
                  </a:lnTo>
                  <a:lnTo>
                    <a:pt x="4" y="46"/>
                  </a:lnTo>
                  <a:lnTo>
                    <a:pt x="1" y="60"/>
                  </a:lnTo>
                  <a:lnTo>
                    <a:pt x="0" y="75"/>
                  </a:lnTo>
                  <a:lnTo>
                    <a:pt x="1" y="90"/>
                  </a:lnTo>
                  <a:lnTo>
                    <a:pt x="4" y="104"/>
                  </a:lnTo>
                  <a:lnTo>
                    <a:pt x="8" y="117"/>
                  </a:lnTo>
                  <a:lnTo>
                    <a:pt x="14" y="128"/>
                  </a:lnTo>
                  <a:lnTo>
                    <a:pt x="21" y="137"/>
                  </a:lnTo>
                  <a:lnTo>
                    <a:pt x="29" y="144"/>
                  </a:lnTo>
                  <a:lnTo>
                    <a:pt x="38" y="149"/>
                  </a:lnTo>
                  <a:lnTo>
                    <a:pt x="47" y="150"/>
                  </a:lnTo>
                  <a:close/>
                </a:path>
              </a:pathLst>
            </a:custGeom>
            <a:solidFill>
              <a:srgbClr val="999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580080" y="3986280"/>
              <a:ext cx="258480" cy="723960"/>
            </a:xfrm>
            <a:custGeom>
              <a:avLst/>
              <a:gdLst/>
              <a:ahLst/>
              <a:rect l="l" t="t" r="r" b="b"/>
              <a:pathLst>
                <a:path w="328" h="910">
                  <a:moveTo>
                    <a:pt x="235" y="0"/>
                  </a:moveTo>
                  <a:lnTo>
                    <a:pt x="0" y="734"/>
                  </a:lnTo>
                  <a:lnTo>
                    <a:pt x="28" y="910"/>
                  </a:lnTo>
                  <a:lnTo>
                    <a:pt x="328" y="23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999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662520" y="4149720"/>
              <a:ext cx="73080" cy="395280"/>
            </a:xfrm>
            <a:custGeom>
              <a:avLst/>
              <a:gdLst/>
              <a:ahLst/>
              <a:rect l="l" t="t" r="r" b="b"/>
              <a:pathLst>
                <a:path w="93" h="498">
                  <a:moveTo>
                    <a:pt x="15" y="152"/>
                  </a:moveTo>
                  <a:lnTo>
                    <a:pt x="0" y="498"/>
                  </a:lnTo>
                  <a:lnTo>
                    <a:pt x="93" y="192"/>
                  </a:lnTo>
                  <a:lnTo>
                    <a:pt x="62" y="0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99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224480" y="4005360"/>
              <a:ext cx="274680" cy="704880"/>
            </a:xfrm>
            <a:custGeom>
              <a:avLst/>
              <a:gdLst/>
              <a:ahLst/>
              <a:rect l="l" t="t" r="r" b="b"/>
              <a:pathLst>
                <a:path w="346" h="887">
                  <a:moveTo>
                    <a:pt x="0" y="16"/>
                  </a:moveTo>
                  <a:lnTo>
                    <a:pt x="290" y="887"/>
                  </a:lnTo>
                  <a:lnTo>
                    <a:pt x="346" y="713"/>
                  </a:lnTo>
                  <a:lnTo>
                    <a:pt x="9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9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272000" y="4159440"/>
              <a:ext cx="211320" cy="398520"/>
            </a:xfrm>
            <a:custGeom>
              <a:avLst/>
              <a:gdLst/>
              <a:ahLst/>
              <a:rect l="l" t="t" r="r" b="b"/>
              <a:pathLst>
                <a:path w="265" h="503">
                  <a:moveTo>
                    <a:pt x="0" y="0"/>
                  </a:moveTo>
                  <a:lnTo>
                    <a:pt x="224" y="309"/>
                  </a:lnTo>
                  <a:lnTo>
                    <a:pt x="265" y="503"/>
                  </a:lnTo>
                  <a:lnTo>
                    <a:pt x="96" y="3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991200" y="2800440"/>
              <a:ext cx="73080" cy="258840"/>
            </a:xfrm>
            <a:custGeom>
              <a:avLst/>
              <a:gdLst/>
              <a:ahLst/>
              <a:rect l="l" t="t" r="r" b="b"/>
              <a:pathLst>
                <a:path w="91" h="326">
                  <a:moveTo>
                    <a:pt x="9" y="18"/>
                  </a:moveTo>
                  <a:lnTo>
                    <a:pt x="0" y="308"/>
                  </a:lnTo>
                  <a:lnTo>
                    <a:pt x="2" y="310"/>
                  </a:lnTo>
                  <a:lnTo>
                    <a:pt x="9" y="313"/>
                  </a:lnTo>
                  <a:lnTo>
                    <a:pt x="20" y="319"/>
                  </a:lnTo>
                  <a:lnTo>
                    <a:pt x="31" y="324"/>
                  </a:lnTo>
                  <a:lnTo>
                    <a:pt x="45" y="326"/>
                  </a:lnTo>
                  <a:lnTo>
                    <a:pt x="60" y="325"/>
                  </a:lnTo>
                  <a:lnTo>
                    <a:pt x="74" y="318"/>
                  </a:lnTo>
                  <a:lnTo>
                    <a:pt x="86" y="304"/>
                  </a:lnTo>
                  <a:lnTo>
                    <a:pt x="91" y="23"/>
                  </a:lnTo>
                  <a:lnTo>
                    <a:pt x="89" y="21"/>
                  </a:lnTo>
                  <a:lnTo>
                    <a:pt x="83" y="16"/>
                  </a:lnTo>
                  <a:lnTo>
                    <a:pt x="75" y="9"/>
                  </a:lnTo>
                  <a:lnTo>
                    <a:pt x="64" y="3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3" y="6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999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746760" y="3240360"/>
              <a:ext cx="560160" cy="823680"/>
            </a:xfrm>
            <a:custGeom>
              <a:avLst/>
              <a:gdLst/>
              <a:ahLst/>
              <a:rect l="l" t="t" r="r" b="b"/>
              <a:pathLst>
                <a:path w="706" h="1037">
                  <a:moveTo>
                    <a:pt x="315" y="22"/>
                  </a:moveTo>
                  <a:lnTo>
                    <a:pt x="313" y="20"/>
                  </a:lnTo>
                  <a:lnTo>
                    <a:pt x="309" y="16"/>
                  </a:lnTo>
                  <a:lnTo>
                    <a:pt x="303" y="12"/>
                  </a:lnTo>
                  <a:lnTo>
                    <a:pt x="295" y="11"/>
                  </a:lnTo>
                  <a:lnTo>
                    <a:pt x="285" y="13"/>
                  </a:lnTo>
                  <a:lnTo>
                    <a:pt x="274" y="22"/>
                  </a:lnTo>
                  <a:lnTo>
                    <a:pt x="262" y="41"/>
                  </a:lnTo>
                  <a:lnTo>
                    <a:pt x="248" y="69"/>
                  </a:lnTo>
                  <a:lnTo>
                    <a:pt x="35" y="670"/>
                  </a:lnTo>
                  <a:lnTo>
                    <a:pt x="33" y="677"/>
                  </a:lnTo>
                  <a:lnTo>
                    <a:pt x="29" y="694"/>
                  </a:lnTo>
                  <a:lnTo>
                    <a:pt x="24" y="719"/>
                  </a:lnTo>
                  <a:lnTo>
                    <a:pt x="20" y="752"/>
                  </a:lnTo>
                  <a:lnTo>
                    <a:pt x="16" y="789"/>
                  </a:lnTo>
                  <a:lnTo>
                    <a:pt x="16" y="825"/>
                  </a:lnTo>
                  <a:lnTo>
                    <a:pt x="20" y="862"/>
                  </a:lnTo>
                  <a:lnTo>
                    <a:pt x="28" y="896"/>
                  </a:lnTo>
                  <a:lnTo>
                    <a:pt x="0" y="1004"/>
                  </a:lnTo>
                  <a:lnTo>
                    <a:pt x="89" y="1035"/>
                  </a:lnTo>
                  <a:lnTo>
                    <a:pt x="136" y="903"/>
                  </a:lnTo>
                  <a:lnTo>
                    <a:pt x="173" y="906"/>
                  </a:lnTo>
                  <a:lnTo>
                    <a:pt x="187" y="882"/>
                  </a:lnTo>
                  <a:lnTo>
                    <a:pt x="136" y="872"/>
                  </a:lnTo>
                  <a:lnTo>
                    <a:pt x="243" y="481"/>
                  </a:lnTo>
                  <a:lnTo>
                    <a:pt x="289" y="481"/>
                  </a:lnTo>
                  <a:lnTo>
                    <a:pt x="326" y="196"/>
                  </a:lnTo>
                  <a:lnTo>
                    <a:pt x="326" y="194"/>
                  </a:lnTo>
                  <a:lnTo>
                    <a:pt x="326" y="187"/>
                  </a:lnTo>
                  <a:lnTo>
                    <a:pt x="327" y="178"/>
                  </a:lnTo>
                  <a:lnTo>
                    <a:pt x="330" y="167"/>
                  </a:lnTo>
                  <a:lnTo>
                    <a:pt x="333" y="158"/>
                  </a:lnTo>
                  <a:lnTo>
                    <a:pt x="340" y="151"/>
                  </a:lnTo>
                  <a:lnTo>
                    <a:pt x="350" y="148"/>
                  </a:lnTo>
                  <a:lnTo>
                    <a:pt x="364" y="151"/>
                  </a:lnTo>
                  <a:lnTo>
                    <a:pt x="429" y="467"/>
                  </a:lnTo>
                  <a:lnTo>
                    <a:pt x="469" y="480"/>
                  </a:lnTo>
                  <a:lnTo>
                    <a:pt x="558" y="875"/>
                  </a:lnTo>
                  <a:lnTo>
                    <a:pt x="521" y="892"/>
                  </a:lnTo>
                  <a:lnTo>
                    <a:pt x="521" y="919"/>
                  </a:lnTo>
                  <a:lnTo>
                    <a:pt x="575" y="919"/>
                  </a:lnTo>
                  <a:lnTo>
                    <a:pt x="622" y="1037"/>
                  </a:lnTo>
                  <a:lnTo>
                    <a:pt x="706" y="1008"/>
                  </a:lnTo>
                  <a:lnTo>
                    <a:pt x="676" y="892"/>
                  </a:lnTo>
                  <a:lnTo>
                    <a:pt x="677" y="883"/>
                  </a:lnTo>
                  <a:lnTo>
                    <a:pt x="679" y="857"/>
                  </a:lnTo>
                  <a:lnTo>
                    <a:pt x="677" y="815"/>
                  </a:lnTo>
                  <a:lnTo>
                    <a:pt x="674" y="759"/>
                  </a:lnTo>
                  <a:lnTo>
                    <a:pt x="665" y="691"/>
                  </a:lnTo>
                  <a:lnTo>
                    <a:pt x="647" y="611"/>
                  </a:lnTo>
                  <a:lnTo>
                    <a:pt x="622" y="521"/>
                  </a:lnTo>
                  <a:lnTo>
                    <a:pt x="585" y="424"/>
                  </a:lnTo>
                  <a:lnTo>
                    <a:pt x="456" y="33"/>
                  </a:lnTo>
                  <a:lnTo>
                    <a:pt x="456" y="30"/>
                  </a:lnTo>
                  <a:lnTo>
                    <a:pt x="456" y="24"/>
                  </a:lnTo>
                  <a:lnTo>
                    <a:pt x="454" y="18"/>
                  </a:lnTo>
                  <a:lnTo>
                    <a:pt x="452" y="10"/>
                  </a:lnTo>
                  <a:lnTo>
                    <a:pt x="447" y="3"/>
                  </a:lnTo>
                  <a:lnTo>
                    <a:pt x="441" y="0"/>
                  </a:lnTo>
                  <a:lnTo>
                    <a:pt x="432" y="1"/>
                  </a:lnTo>
                  <a:lnTo>
                    <a:pt x="419" y="10"/>
                  </a:lnTo>
                  <a:lnTo>
                    <a:pt x="418" y="11"/>
                  </a:lnTo>
                  <a:lnTo>
                    <a:pt x="412" y="15"/>
                  </a:lnTo>
                  <a:lnTo>
                    <a:pt x="404" y="20"/>
                  </a:lnTo>
                  <a:lnTo>
                    <a:pt x="393" y="24"/>
                  </a:lnTo>
                  <a:lnTo>
                    <a:pt x="379" y="29"/>
                  </a:lnTo>
                  <a:lnTo>
                    <a:pt x="361" y="30"/>
                  </a:lnTo>
                  <a:lnTo>
                    <a:pt x="339" y="29"/>
                  </a:lnTo>
                  <a:lnTo>
                    <a:pt x="315" y="22"/>
                  </a:lnTo>
                  <a:close/>
                </a:path>
              </a:pathLst>
            </a:custGeom>
            <a:solidFill>
              <a:srgbClr val="074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732360" y="3287880"/>
              <a:ext cx="196920" cy="743040"/>
            </a:xfrm>
            <a:custGeom>
              <a:avLst/>
              <a:gdLst/>
              <a:ahLst/>
              <a:rect l="l" t="t" r="r" b="b"/>
              <a:pathLst>
                <a:path w="248" h="937">
                  <a:moveTo>
                    <a:pt x="246" y="0"/>
                  </a:moveTo>
                  <a:lnTo>
                    <a:pt x="55" y="523"/>
                  </a:lnTo>
                  <a:lnTo>
                    <a:pt x="52" y="530"/>
                  </a:lnTo>
                  <a:lnTo>
                    <a:pt x="44" y="550"/>
                  </a:lnTo>
                  <a:lnTo>
                    <a:pt x="33" y="581"/>
                  </a:lnTo>
                  <a:lnTo>
                    <a:pt x="22" y="621"/>
                  </a:lnTo>
                  <a:lnTo>
                    <a:pt x="11" y="672"/>
                  </a:lnTo>
                  <a:lnTo>
                    <a:pt x="5" y="730"/>
                  </a:lnTo>
                  <a:lnTo>
                    <a:pt x="3" y="793"/>
                  </a:lnTo>
                  <a:lnTo>
                    <a:pt x="9" y="862"/>
                  </a:lnTo>
                  <a:lnTo>
                    <a:pt x="0" y="937"/>
                  </a:lnTo>
                  <a:lnTo>
                    <a:pt x="33" y="855"/>
                  </a:lnTo>
                  <a:lnTo>
                    <a:pt x="32" y="851"/>
                  </a:lnTo>
                  <a:lnTo>
                    <a:pt x="30" y="838"/>
                  </a:lnTo>
                  <a:lnTo>
                    <a:pt x="26" y="817"/>
                  </a:lnTo>
                  <a:lnTo>
                    <a:pt x="25" y="787"/>
                  </a:lnTo>
                  <a:lnTo>
                    <a:pt x="25" y="749"/>
                  </a:lnTo>
                  <a:lnTo>
                    <a:pt x="28" y="704"/>
                  </a:lnTo>
                  <a:lnTo>
                    <a:pt x="36" y="651"/>
                  </a:lnTo>
                  <a:lnTo>
                    <a:pt x="48" y="590"/>
                  </a:lnTo>
                  <a:lnTo>
                    <a:pt x="51" y="583"/>
                  </a:lnTo>
                  <a:lnTo>
                    <a:pt x="58" y="565"/>
                  </a:lnTo>
                  <a:lnTo>
                    <a:pt x="68" y="537"/>
                  </a:lnTo>
                  <a:lnTo>
                    <a:pt x="82" y="500"/>
                  </a:lnTo>
                  <a:lnTo>
                    <a:pt x="98" y="455"/>
                  </a:lnTo>
                  <a:lnTo>
                    <a:pt x="116" y="407"/>
                  </a:lnTo>
                  <a:lnTo>
                    <a:pt x="135" y="354"/>
                  </a:lnTo>
                  <a:lnTo>
                    <a:pt x="154" y="300"/>
                  </a:lnTo>
                  <a:lnTo>
                    <a:pt x="174" y="246"/>
                  </a:lnTo>
                  <a:lnTo>
                    <a:pt x="192" y="193"/>
                  </a:lnTo>
                  <a:lnTo>
                    <a:pt x="208" y="143"/>
                  </a:lnTo>
                  <a:lnTo>
                    <a:pt x="223" y="98"/>
                  </a:lnTo>
                  <a:lnTo>
                    <a:pt x="235" y="59"/>
                  </a:lnTo>
                  <a:lnTo>
                    <a:pt x="243" y="29"/>
                  </a:lnTo>
                  <a:lnTo>
                    <a:pt x="248" y="9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555960" y="4062600"/>
              <a:ext cx="158760" cy="620640"/>
            </a:xfrm>
            <a:custGeom>
              <a:avLst/>
              <a:gdLst/>
              <a:ahLst/>
              <a:rect l="l" t="t" r="r" b="b"/>
              <a:pathLst>
                <a:path w="199" h="783">
                  <a:moveTo>
                    <a:pt x="199" y="0"/>
                  </a:moveTo>
                  <a:lnTo>
                    <a:pt x="28" y="639"/>
                  </a:lnTo>
                  <a:lnTo>
                    <a:pt x="32" y="783"/>
                  </a:lnTo>
                  <a:lnTo>
                    <a:pt x="0" y="641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940440" y="3414960"/>
              <a:ext cx="61920" cy="207720"/>
            </a:xfrm>
            <a:custGeom>
              <a:avLst/>
              <a:gdLst/>
              <a:ahLst/>
              <a:rect l="l" t="t" r="r" b="b"/>
              <a:pathLst>
                <a:path w="78" h="262">
                  <a:moveTo>
                    <a:pt x="78" y="0"/>
                  </a:moveTo>
                  <a:lnTo>
                    <a:pt x="48" y="262"/>
                  </a:lnTo>
                  <a:lnTo>
                    <a:pt x="0" y="262"/>
                  </a:lnTo>
                  <a:lnTo>
                    <a:pt x="30" y="248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60880" y="3641760"/>
              <a:ext cx="77760" cy="306360"/>
            </a:xfrm>
            <a:custGeom>
              <a:avLst/>
              <a:gdLst/>
              <a:ahLst/>
              <a:rect l="l" t="t" r="r" b="b"/>
              <a:pathLst>
                <a:path w="99" h="387">
                  <a:moveTo>
                    <a:pt x="99" y="0"/>
                  </a:moveTo>
                  <a:lnTo>
                    <a:pt x="21" y="368"/>
                  </a:lnTo>
                  <a:lnTo>
                    <a:pt x="56" y="387"/>
                  </a:lnTo>
                  <a:lnTo>
                    <a:pt x="0" y="38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613200" y="3980160"/>
              <a:ext cx="243000" cy="730080"/>
            </a:xfrm>
            <a:custGeom>
              <a:avLst/>
              <a:gdLst/>
              <a:ahLst/>
              <a:rect l="l" t="t" r="r" b="b"/>
              <a:pathLst>
                <a:path w="306" h="918">
                  <a:moveTo>
                    <a:pt x="306" y="0"/>
                  </a:moveTo>
                  <a:lnTo>
                    <a:pt x="0" y="918"/>
                  </a:lnTo>
                  <a:lnTo>
                    <a:pt x="3" y="908"/>
                  </a:lnTo>
                  <a:lnTo>
                    <a:pt x="12" y="879"/>
                  </a:lnTo>
                  <a:lnTo>
                    <a:pt x="25" y="834"/>
                  </a:lnTo>
                  <a:lnTo>
                    <a:pt x="43" y="775"/>
                  </a:lnTo>
                  <a:lnTo>
                    <a:pt x="65" y="706"/>
                  </a:lnTo>
                  <a:lnTo>
                    <a:pt x="88" y="629"/>
                  </a:lnTo>
                  <a:lnTo>
                    <a:pt x="114" y="546"/>
                  </a:lnTo>
                  <a:lnTo>
                    <a:pt x="141" y="461"/>
                  </a:lnTo>
                  <a:lnTo>
                    <a:pt x="167" y="375"/>
                  </a:lnTo>
                  <a:lnTo>
                    <a:pt x="195" y="292"/>
                  </a:lnTo>
                  <a:lnTo>
                    <a:pt x="220" y="215"/>
                  </a:lnTo>
                  <a:lnTo>
                    <a:pt x="244" y="146"/>
                  </a:lnTo>
                  <a:lnTo>
                    <a:pt x="265" y="86"/>
                  </a:lnTo>
                  <a:lnTo>
                    <a:pt x="283" y="41"/>
                  </a:lnTo>
                  <a:lnTo>
                    <a:pt x="297" y="11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553080" y="4710240"/>
              <a:ext cx="48960" cy="11268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32" y="0"/>
                  </a:moveTo>
                  <a:lnTo>
                    <a:pt x="0" y="143"/>
                  </a:lnTo>
                  <a:lnTo>
                    <a:pt x="61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48440" y="3044880"/>
              <a:ext cx="104760" cy="114480"/>
            </a:xfrm>
            <a:custGeom>
              <a:avLst/>
              <a:gdLst/>
              <a:ahLst/>
              <a:rect l="l" t="t" r="r" b="b"/>
              <a:pathLst>
                <a:path w="132" h="143">
                  <a:moveTo>
                    <a:pt x="0" y="0"/>
                  </a:moveTo>
                  <a:lnTo>
                    <a:pt x="6" y="1"/>
                  </a:lnTo>
                  <a:lnTo>
                    <a:pt x="21" y="4"/>
                  </a:lnTo>
                  <a:lnTo>
                    <a:pt x="41" y="12"/>
                  </a:lnTo>
                  <a:lnTo>
                    <a:pt x="65" y="24"/>
                  </a:lnTo>
                  <a:lnTo>
                    <a:pt x="89" y="42"/>
                  </a:lnTo>
                  <a:lnTo>
                    <a:pt x="110" y="68"/>
                  </a:lnTo>
                  <a:lnTo>
                    <a:pt x="124" y="101"/>
                  </a:lnTo>
                  <a:lnTo>
                    <a:pt x="129" y="143"/>
                  </a:lnTo>
                  <a:lnTo>
                    <a:pt x="131" y="137"/>
                  </a:lnTo>
                  <a:lnTo>
                    <a:pt x="132" y="120"/>
                  </a:lnTo>
                  <a:lnTo>
                    <a:pt x="132" y="97"/>
                  </a:lnTo>
                  <a:lnTo>
                    <a:pt x="126" y="69"/>
                  </a:lnTo>
                  <a:lnTo>
                    <a:pt x="112" y="42"/>
                  </a:lnTo>
                  <a:lnTo>
                    <a:pt x="89" y="21"/>
                  </a:lnTo>
                  <a:lnTo>
                    <a:pt x="5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127640" y="3287880"/>
              <a:ext cx="195120" cy="743040"/>
            </a:xfrm>
            <a:custGeom>
              <a:avLst/>
              <a:gdLst/>
              <a:ahLst/>
              <a:rect l="l" t="t" r="r" b="b"/>
              <a:pathLst>
                <a:path w="247" h="937">
                  <a:moveTo>
                    <a:pt x="2" y="0"/>
                  </a:moveTo>
                  <a:lnTo>
                    <a:pt x="192" y="523"/>
                  </a:lnTo>
                  <a:lnTo>
                    <a:pt x="195" y="530"/>
                  </a:lnTo>
                  <a:lnTo>
                    <a:pt x="203" y="550"/>
                  </a:lnTo>
                  <a:lnTo>
                    <a:pt x="214" y="581"/>
                  </a:lnTo>
                  <a:lnTo>
                    <a:pt x="225" y="621"/>
                  </a:lnTo>
                  <a:lnTo>
                    <a:pt x="235" y="672"/>
                  </a:lnTo>
                  <a:lnTo>
                    <a:pt x="242" y="730"/>
                  </a:lnTo>
                  <a:lnTo>
                    <a:pt x="245" y="793"/>
                  </a:lnTo>
                  <a:lnTo>
                    <a:pt x="239" y="862"/>
                  </a:lnTo>
                  <a:lnTo>
                    <a:pt x="247" y="937"/>
                  </a:lnTo>
                  <a:lnTo>
                    <a:pt x="214" y="855"/>
                  </a:lnTo>
                  <a:lnTo>
                    <a:pt x="215" y="851"/>
                  </a:lnTo>
                  <a:lnTo>
                    <a:pt x="217" y="838"/>
                  </a:lnTo>
                  <a:lnTo>
                    <a:pt x="220" y="817"/>
                  </a:lnTo>
                  <a:lnTo>
                    <a:pt x="223" y="787"/>
                  </a:lnTo>
                  <a:lnTo>
                    <a:pt x="223" y="749"/>
                  </a:lnTo>
                  <a:lnTo>
                    <a:pt x="219" y="704"/>
                  </a:lnTo>
                  <a:lnTo>
                    <a:pt x="212" y="651"/>
                  </a:lnTo>
                  <a:lnTo>
                    <a:pt x="200" y="590"/>
                  </a:lnTo>
                  <a:lnTo>
                    <a:pt x="197" y="583"/>
                  </a:lnTo>
                  <a:lnTo>
                    <a:pt x="190" y="565"/>
                  </a:lnTo>
                  <a:lnTo>
                    <a:pt x="180" y="537"/>
                  </a:lnTo>
                  <a:lnTo>
                    <a:pt x="166" y="500"/>
                  </a:lnTo>
                  <a:lnTo>
                    <a:pt x="150" y="455"/>
                  </a:lnTo>
                  <a:lnTo>
                    <a:pt x="132" y="407"/>
                  </a:lnTo>
                  <a:lnTo>
                    <a:pt x="113" y="354"/>
                  </a:lnTo>
                  <a:lnTo>
                    <a:pt x="94" y="300"/>
                  </a:lnTo>
                  <a:lnTo>
                    <a:pt x="74" y="246"/>
                  </a:lnTo>
                  <a:lnTo>
                    <a:pt x="56" y="193"/>
                  </a:lnTo>
                  <a:lnTo>
                    <a:pt x="40" y="143"/>
                  </a:lnTo>
                  <a:lnTo>
                    <a:pt x="25" y="98"/>
                  </a:lnTo>
                  <a:lnTo>
                    <a:pt x="13" y="59"/>
                  </a:lnTo>
                  <a:lnTo>
                    <a:pt x="5" y="29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40400" y="4062600"/>
              <a:ext cx="158760" cy="620640"/>
            </a:xfrm>
            <a:custGeom>
              <a:avLst/>
              <a:gdLst/>
              <a:ahLst/>
              <a:rect l="l" t="t" r="r" b="b"/>
              <a:pathLst>
                <a:path w="199" h="783">
                  <a:moveTo>
                    <a:pt x="0" y="0"/>
                  </a:moveTo>
                  <a:lnTo>
                    <a:pt x="170" y="639"/>
                  </a:lnTo>
                  <a:lnTo>
                    <a:pt x="167" y="783"/>
                  </a:lnTo>
                  <a:lnTo>
                    <a:pt x="199" y="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054560" y="3414960"/>
              <a:ext cx="60480" cy="207720"/>
            </a:xfrm>
            <a:custGeom>
              <a:avLst/>
              <a:gdLst/>
              <a:ahLst/>
              <a:rect l="l" t="t" r="r" b="b"/>
              <a:pathLst>
                <a:path w="76" h="262">
                  <a:moveTo>
                    <a:pt x="0" y="0"/>
                  </a:moveTo>
                  <a:lnTo>
                    <a:pt x="29" y="262"/>
                  </a:lnTo>
                  <a:lnTo>
                    <a:pt x="76" y="262"/>
                  </a:lnTo>
                  <a:lnTo>
                    <a:pt x="46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118280" y="3641760"/>
              <a:ext cx="77760" cy="306360"/>
            </a:xfrm>
            <a:custGeom>
              <a:avLst/>
              <a:gdLst/>
              <a:ahLst/>
              <a:rect l="l" t="t" r="r" b="b"/>
              <a:pathLst>
                <a:path w="98" h="387">
                  <a:moveTo>
                    <a:pt x="0" y="0"/>
                  </a:moveTo>
                  <a:lnTo>
                    <a:pt x="78" y="368"/>
                  </a:lnTo>
                  <a:lnTo>
                    <a:pt x="41" y="387"/>
                  </a:lnTo>
                  <a:lnTo>
                    <a:pt x="98" y="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98920" y="3980160"/>
              <a:ext cx="243000" cy="730080"/>
            </a:xfrm>
            <a:custGeom>
              <a:avLst/>
              <a:gdLst/>
              <a:ahLst/>
              <a:rect l="l" t="t" r="r" b="b"/>
              <a:pathLst>
                <a:path w="307" h="918">
                  <a:moveTo>
                    <a:pt x="0" y="0"/>
                  </a:moveTo>
                  <a:lnTo>
                    <a:pt x="307" y="918"/>
                  </a:lnTo>
                  <a:lnTo>
                    <a:pt x="303" y="908"/>
                  </a:lnTo>
                  <a:lnTo>
                    <a:pt x="295" y="879"/>
                  </a:lnTo>
                  <a:lnTo>
                    <a:pt x="281" y="834"/>
                  </a:lnTo>
                  <a:lnTo>
                    <a:pt x="264" y="775"/>
                  </a:lnTo>
                  <a:lnTo>
                    <a:pt x="242" y="706"/>
                  </a:lnTo>
                  <a:lnTo>
                    <a:pt x="219" y="629"/>
                  </a:lnTo>
                  <a:lnTo>
                    <a:pt x="193" y="546"/>
                  </a:lnTo>
                  <a:lnTo>
                    <a:pt x="166" y="461"/>
                  </a:lnTo>
                  <a:lnTo>
                    <a:pt x="140" y="375"/>
                  </a:lnTo>
                  <a:lnTo>
                    <a:pt x="112" y="292"/>
                  </a:lnTo>
                  <a:lnTo>
                    <a:pt x="87" y="215"/>
                  </a:lnTo>
                  <a:lnTo>
                    <a:pt x="63" y="146"/>
                  </a:lnTo>
                  <a:lnTo>
                    <a:pt x="42" y="86"/>
                  </a:lnTo>
                  <a:lnTo>
                    <a:pt x="23" y="4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54520" y="4710240"/>
              <a:ext cx="49320" cy="112680"/>
            </a:xfrm>
            <a:custGeom>
              <a:avLst/>
              <a:gdLst/>
              <a:ahLst/>
              <a:rect l="l" t="t" r="r" b="b"/>
              <a:pathLst>
                <a:path w="62" h="143">
                  <a:moveTo>
                    <a:pt x="29" y="0"/>
                  </a:moveTo>
                  <a:lnTo>
                    <a:pt x="62" y="143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967440" y="3224520"/>
              <a:ext cx="134640" cy="29880"/>
            </a:xfrm>
            <a:custGeom>
              <a:avLst/>
              <a:gdLst/>
              <a:ahLst/>
              <a:rect l="l" t="t" r="r" b="b"/>
              <a:pathLst>
                <a:path w="168" h="38">
                  <a:moveTo>
                    <a:pt x="1" y="28"/>
                  </a:moveTo>
                  <a:lnTo>
                    <a:pt x="1" y="26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2" y="6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8" y="2"/>
                  </a:lnTo>
                  <a:lnTo>
                    <a:pt x="46" y="11"/>
                  </a:lnTo>
                  <a:lnTo>
                    <a:pt x="50" y="12"/>
                  </a:lnTo>
                  <a:lnTo>
                    <a:pt x="60" y="16"/>
                  </a:lnTo>
                  <a:lnTo>
                    <a:pt x="74" y="19"/>
                  </a:lnTo>
                  <a:lnTo>
                    <a:pt x="92" y="23"/>
                  </a:lnTo>
                  <a:lnTo>
                    <a:pt x="112" y="24"/>
                  </a:lnTo>
                  <a:lnTo>
                    <a:pt x="132" y="21"/>
                  </a:lnTo>
                  <a:lnTo>
                    <a:pt x="151" y="15"/>
                  </a:lnTo>
                  <a:lnTo>
                    <a:pt x="168" y="3"/>
                  </a:lnTo>
                  <a:lnTo>
                    <a:pt x="166" y="5"/>
                  </a:lnTo>
                  <a:lnTo>
                    <a:pt x="158" y="12"/>
                  </a:lnTo>
                  <a:lnTo>
                    <a:pt x="146" y="20"/>
                  </a:lnTo>
                  <a:lnTo>
                    <a:pt x="131" y="28"/>
                  </a:lnTo>
                  <a:lnTo>
                    <a:pt x="112" y="35"/>
                  </a:lnTo>
                  <a:lnTo>
                    <a:pt x="91" y="38"/>
                  </a:lnTo>
                  <a:lnTo>
                    <a:pt x="67" y="35"/>
                  </a:lnTo>
                  <a:lnTo>
                    <a:pt x="40" y="26"/>
                  </a:lnTo>
                  <a:lnTo>
                    <a:pt x="39" y="25"/>
                  </a:lnTo>
                  <a:lnTo>
                    <a:pt x="35" y="23"/>
                  </a:lnTo>
                  <a:lnTo>
                    <a:pt x="30" y="20"/>
                  </a:lnTo>
                  <a:lnTo>
                    <a:pt x="23" y="18"/>
                  </a:lnTo>
                  <a:lnTo>
                    <a:pt x="16" y="18"/>
                  </a:lnTo>
                  <a:lnTo>
                    <a:pt x="9" y="18"/>
                  </a:lnTo>
                  <a:lnTo>
                    <a:pt x="5" y="2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05240" y="33451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4" y="61"/>
                  </a:moveTo>
                  <a:lnTo>
                    <a:pt x="4" y="58"/>
                  </a:lnTo>
                  <a:lnTo>
                    <a:pt x="3" y="53"/>
                  </a:lnTo>
                  <a:lnTo>
                    <a:pt x="3" y="45"/>
                  </a:lnTo>
                  <a:lnTo>
                    <a:pt x="4" y="35"/>
                  </a:lnTo>
                  <a:lnTo>
                    <a:pt x="7" y="26"/>
                  </a:lnTo>
                  <a:lnTo>
                    <a:pt x="14" y="19"/>
                  </a:lnTo>
                  <a:lnTo>
                    <a:pt x="26" y="15"/>
                  </a:lnTo>
                  <a:lnTo>
                    <a:pt x="42" y="15"/>
                  </a:lnTo>
                  <a:lnTo>
                    <a:pt x="39" y="12"/>
                  </a:lnTo>
                  <a:lnTo>
                    <a:pt x="34" y="8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7" y="2"/>
                  </a:lnTo>
                  <a:lnTo>
                    <a:pt x="1" y="11"/>
                  </a:lnTo>
                  <a:lnTo>
                    <a:pt x="0" y="30"/>
                  </a:lnTo>
                  <a:lnTo>
                    <a:pt x="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995880" y="2821320"/>
              <a:ext cx="9360" cy="222120"/>
            </a:xfrm>
            <a:custGeom>
              <a:avLst/>
              <a:gdLst/>
              <a:ahLst/>
              <a:rect l="l" t="t" r="r" b="b"/>
              <a:pathLst>
                <a:path w="11" h="280">
                  <a:moveTo>
                    <a:pt x="0" y="0"/>
                  </a:moveTo>
                  <a:lnTo>
                    <a:pt x="0" y="280"/>
                  </a:lnTo>
                  <a:lnTo>
                    <a:pt x="3" y="237"/>
                  </a:lnTo>
                  <a:lnTo>
                    <a:pt x="10" y="141"/>
                  </a:lnTo>
                  <a:lnTo>
                    <a:pt x="11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65720" y="2821320"/>
              <a:ext cx="7920" cy="222120"/>
            </a:xfrm>
            <a:custGeom>
              <a:avLst/>
              <a:gdLst/>
              <a:ahLst/>
              <a:rect l="l" t="t" r="r" b="b"/>
              <a:pathLst>
                <a:path w="12" h="280">
                  <a:moveTo>
                    <a:pt x="12" y="0"/>
                  </a:moveTo>
                  <a:lnTo>
                    <a:pt x="12" y="280"/>
                  </a:lnTo>
                  <a:lnTo>
                    <a:pt x="8" y="237"/>
                  </a:lnTo>
                  <a:lnTo>
                    <a:pt x="1" y="141"/>
                  </a:lnTo>
                  <a:lnTo>
                    <a:pt x="0" y="4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00560" y="2795760"/>
              <a:ext cx="73080" cy="17280"/>
            </a:xfrm>
            <a:custGeom>
              <a:avLst/>
              <a:gdLst/>
              <a:ahLst/>
              <a:rect l="l" t="t" r="r" b="b"/>
              <a:pathLst>
                <a:path w="92" h="22">
                  <a:moveTo>
                    <a:pt x="0" y="22"/>
                  </a:moveTo>
                  <a:lnTo>
                    <a:pt x="3" y="20"/>
                  </a:lnTo>
                  <a:lnTo>
                    <a:pt x="7" y="15"/>
                  </a:lnTo>
                  <a:lnTo>
                    <a:pt x="16" y="9"/>
                  </a:lnTo>
                  <a:lnTo>
                    <a:pt x="28" y="4"/>
                  </a:lnTo>
                  <a:lnTo>
                    <a:pt x="41" y="0"/>
                  </a:lnTo>
                  <a:lnTo>
                    <a:pt x="57" y="0"/>
                  </a:lnTo>
                  <a:lnTo>
                    <a:pt x="74" y="6"/>
                  </a:lnTo>
                  <a:lnTo>
                    <a:pt x="92" y="17"/>
                  </a:lnTo>
                  <a:lnTo>
                    <a:pt x="90" y="16"/>
                  </a:lnTo>
                  <a:lnTo>
                    <a:pt x="83" y="15"/>
                  </a:lnTo>
                  <a:lnTo>
                    <a:pt x="73" y="14"/>
                  </a:lnTo>
                  <a:lnTo>
                    <a:pt x="60" y="13"/>
                  </a:lnTo>
                  <a:lnTo>
                    <a:pt x="45" y="12"/>
                  </a:lnTo>
                  <a:lnTo>
                    <a:pt x="30" y="13"/>
                  </a:lnTo>
                  <a:lnTo>
                    <a:pt x="15" y="1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016400" y="2821320"/>
              <a:ext cx="5040" cy="209520"/>
            </a:xfrm>
            <a:custGeom>
              <a:avLst/>
              <a:gdLst/>
              <a:ahLst/>
              <a:rect l="l" t="t" r="r" b="b"/>
              <a:pathLst>
                <a:path w="6" h="265">
                  <a:moveTo>
                    <a:pt x="0" y="0"/>
                  </a:moveTo>
                  <a:lnTo>
                    <a:pt x="2" y="265"/>
                  </a:lnTo>
                  <a:lnTo>
                    <a:pt x="3" y="224"/>
                  </a:lnTo>
                  <a:lnTo>
                    <a:pt x="6" y="133"/>
                  </a:lnTo>
                  <a:lnTo>
                    <a:pt x="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032240" y="2821320"/>
              <a:ext cx="5040" cy="209520"/>
            </a:xfrm>
            <a:custGeom>
              <a:avLst/>
              <a:gdLst/>
              <a:ahLst/>
              <a:rect l="l" t="t" r="r" b="b"/>
              <a:pathLst>
                <a:path w="6" h="265">
                  <a:moveTo>
                    <a:pt x="0" y="0"/>
                  </a:moveTo>
                  <a:lnTo>
                    <a:pt x="2" y="265"/>
                  </a:lnTo>
                  <a:lnTo>
                    <a:pt x="3" y="224"/>
                  </a:lnTo>
                  <a:lnTo>
                    <a:pt x="6" y="133"/>
                  </a:lnTo>
                  <a:lnTo>
                    <a:pt x="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048440" y="2821320"/>
              <a:ext cx="6120" cy="20952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0" y="0"/>
                  </a:moveTo>
                  <a:lnTo>
                    <a:pt x="4" y="265"/>
                  </a:lnTo>
                  <a:lnTo>
                    <a:pt x="5" y="224"/>
                  </a:lnTo>
                  <a:lnTo>
                    <a:pt x="7" y="133"/>
                  </a:lnTo>
                  <a:lnTo>
                    <a:pt x="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011720" y="3051360"/>
              <a:ext cx="49320" cy="1728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0" y="2"/>
                  </a:moveTo>
                  <a:lnTo>
                    <a:pt x="1" y="4"/>
                  </a:lnTo>
                  <a:lnTo>
                    <a:pt x="5" y="9"/>
                  </a:lnTo>
                  <a:lnTo>
                    <a:pt x="10" y="15"/>
                  </a:lnTo>
                  <a:lnTo>
                    <a:pt x="19" y="20"/>
                  </a:lnTo>
                  <a:lnTo>
                    <a:pt x="28" y="23"/>
                  </a:lnTo>
                  <a:lnTo>
                    <a:pt x="38" y="22"/>
                  </a:lnTo>
                  <a:lnTo>
                    <a:pt x="50" y="15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586200" y="3756240"/>
              <a:ext cx="185760" cy="36360"/>
            </a:xfrm>
            <a:custGeom>
              <a:avLst/>
              <a:gdLst/>
              <a:ahLst/>
              <a:rect l="l" t="t" r="r" b="b"/>
              <a:pathLst>
                <a:path w="232" h="46">
                  <a:moveTo>
                    <a:pt x="0" y="17"/>
                  </a:moveTo>
                  <a:lnTo>
                    <a:pt x="232" y="0"/>
                  </a:lnTo>
                  <a:lnTo>
                    <a:pt x="202" y="4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905520" y="3749760"/>
              <a:ext cx="233280" cy="36720"/>
            </a:xfrm>
            <a:custGeom>
              <a:avLst/>
              <a:gdLst/>
              <a:ahLst/>
              <a:rect l="l" t="t" r="r" b="b"/>
              <a:pathLst>
                <a:path w="292" h="47">
                  <a:moveTo>
                    <a:pt x="16" y="8"/>
                  </a:moveTo>
                  <a:lnTo>
                    <a:pt x="284" y="0"/>
                  </a:lnTo>
                  <a:lnTo>
                    <a:pt x="292" y="39"/>
                  </a:lnTo>
                  <a:lnTo>
                    <a:pt x="0" y="47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568920" y="3726000"/>
              <a:ext cx="34920" cy="8568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22" y="109"/>
                  </a:moveTo>
                  <a:lnTo>
                    <a:pt x="30" y="104"/>
                  </a:lnTo>
                  <a:lnTo>
                    <a:pt x="37" y="92"/>
                  </a:lnTo>
                  <a:lnTo>
                    <a:pt x="41" y="75"/>
                  </a:lnTo>
                  <a:lnTo>
                    <a:pt x="42" y="54"/>
                  </a:lnTo>
                  <a:lnTo>
                    <a:pt x="41" y="34"/>
                  </a:lnTo>
                  <a:lnTo>
                    <a:pt x="37" y="16"/>
                  </a:lnTo>
                  <a:lnTo>
                    <a:pt x="30" y="5"/>
                  </a:lnTo>
                  <a:lnTo>
                    <a:pt x="22" y="0"/>
                  </a:lnTo>
                  <a:lnTo>
                    <a:pt x="12" y="5"/>
                  </a:lnTo>
                  <a:lnTo>
                    <a:pt x="5" y="16"/>
                  </a:lnTo>
                  <a:lnTo>
                    <a:pt x="1" y="34"/>
                  </a:lnTo>
                  <a:lnTo>
                    <a:pt x="0" y="54"/>
                  </a:lnTo>
                  <a:lnTo>
                    <a:pt x="1" y="75"/>
                  </a:lnTo>
                  <a:lnTo>
                    <a:pt x="5" y="92"/>
                  </a:lnTo>
                  <a:lnTo>
                    <a:pt x="12" y="104"/>
                  </a:lnTo>
                  <a:lnTo>
                    <a:pt x="22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284960" y="3741840"/>
              <a:ext cx="182520" cy="38160"/>
            </a:xfrm>
            <a:custGeom>
              <a:avLst/>
              <a:gdLst/>
              <a:ahLst/>
              <a:rect l="l" t="t" r="r" b="b"/>
              <a:pathLst>
                <a:path w="229" h="47">
                  <a:moveTo>
                    <a:pt x="229" y="17"/>
                  </a:moveTo>
                  <a:lnTo>
                    <a:pt x="0" y="0"/>
                  </a:lnTo>
                  <a:lnTo>
                    <a:pt x="30" y="47"/>
                  </a:lnTo>
                  <a:lnTo>
                    <a:pt x="22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441920" y="3716640"/>
              <a:ext cx="34920" cy="85680"/>
            </a:xfrm>
            <a:custGeom>
              <a:avLst/>
              <a:gdLst/>
              <a:ahLst/>
              <a:rect l="l" t="t" r="r" b="b"/>
              <a:pathLst>
                <a:path w="44" h="108">
                  <a:moveTo>
                    <a:pt x="22" y="108"/>
                  </a:moveTo>
                  <a:lnTo>
                    <a:pt x="14" y="103"/>
                  </a:lnTo>
                  <a:lnTo>
                    <a:pt x="7" y="93"/>
                  </a:lnTo>
                  <a:lnTo>
                    <a:pt x="2" y="76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7" y="16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37" y="16"/>
                  </a:lnTo>
                  <a:lnTo>
                    <a:pt x="41" y="33"/>
                  </a:lnTo>
                  <a:lnTo>
                    <a:pt x="44" y="54"/>
                  </a:lnTo>
                  <a:lnTo>
                    <a:pt x="41" y="76"/>
                  </a:lnTo>
                  <a:lnTo>
                    <a:pt x="37" y="93"/>
                  </a:lnTo>
                  <a:lnTo>
                    <a:pt x="30" y="103"/>
                  </a:lnTo>
                  <a:lnTo>
                    <a:pt x="22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13160" y="3648240"/>
              <a:ext cx="22320" cy="225360"/>
            </a:xfrm>
            <a:custGeom>
              <a:avLst/>
              <a:gdLst/>
              <a:ahLst/>
              <a:rect l="l" t="t" r="r" b="b"/>
              <a:pathLst>
                <a:path w="28" h="285">
                  <a:moveTo>
                    <a:pt x="0" y="4"/>
                  </a:moveTo>
                  <a:lnTo>
                    <a:pt x="0" y="285"/>
                  </a:lnTo>
                  <a:lnTo>
                    <a:pt x="28" y="285"/>
                  </a:lnTo>
                  <a:lnTo>
                    <a:pt x="2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669000" y="4464360"/>
              <a:ext cx="55440" cy="107640"/>
            </a:xfrm>
            <a:custGeom>
              <a:avLst/>
              <a:gdLst/>
              <a:ahLst/>
              <a:rect l="l" t="t" r="r" b="b"/>
              <a:pathLst>
                <a:path w="72" h="137">
                  <a:moveTo>
                    <a:pt x="0" y="137"/>
                  </a:moveTo>
                  <a:lnTo>
                    <a:pt x="6" y="137"/>
                  </a:lnTo>
                  <a:lnTo>
                    <a:pt x="20" y="135"/>
                  </a:lnTo>
                  <a:lnTo>
                    <a:pt x="38" y="130"/>
                  </a:lnTo>
                  <a:lnTo>
                    <a:pt x="55" y="120"/>
                  </a:lnTo>
                  <a:lnTo>
                    <a:pt x="68" y="104"/>
                  </a:lnTo>
                  <a:lnTo>
                    <a:pt x="72" y="80"/>
                  </a:lnTo>
                  <a:lnTo>
                    <a:pt x="61" y="45"/>
                  </a:lnTo>
                  <a:lnTo>
                    <a:pt x="31" y="0"/>
                  </a:lnTo>
                  <a:lnTo>
                    <a:pt x="34" y="5"/>
                  </a:lnTo>
                  <a:lnTo>
                    <a:pt x="39" y="19"/>
                  </a:lnTo>
                  <a:lnTo>
                    <a:pt x="46" y="38"/>
                  </a:lnTo>
                  <a:lnTo>
                    <a:pt x="51" y="60"/>
                  </a:lnTo>
                  <a:lnTo>
                    <a:pt x="51" y="84"/>
                  </a:lnTo>
                  <a:lnTo>
                    <a:pt x="44" y="106"/>
                  </a:lnTo>
                  <a:lnTo>
                    <a:pt x="28" y="125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33920" y="4492800"/>
              <a:ext cx="104760" cy="120600"/>
            </a:xfrm>
            <a:custGeom>
              <a:avLst/>
              <a:gdLst/>
              <a:ahLst/>
              <a:rect l="l" t="t" r="r" b="b"/>
              <a:pathLst>
                <a:path w="130" h="152">
                  <a:moveTo>
                    <a:pt x="64" y="152"/>
                  </a:moveTo>
                  <a:lnTo>
                    <a:pt x="52" y="151"/>
                  </a:lnTo>
                  <a:lnTo>
                    <a:pt x="39" y="146"/>
                  </a:lnTo>
                  <a:lnTo>
                    <a:pt x="29" y="139"/>
                  </a:lnTo>
                  <a:lnTo>
                    <a:pt x="18" y="130"/>
                  </a:lnTo>
                  <a:lnTo>
                    <a:pt x="11" y="119"/>
                  </a:lnTo>
                  <a:lnTo>
                    <a:pt x="5" y="106"/>
                  </a:lnTo>
                  <a:lnTo>
                    <a:pt x="1" y="91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5" y="46"/>
                  </a:lnTo>
                  <a:lnTo>
                    <a:pt x="11" y="33"/>
                  </a:lnTo>
                  <a:lnTo>
                    <a:pt x="18" y="22"/>
                  </a:lnTo>
                  <a:lnTo>
                    <a:pt x="29" y="13"/>
                  </a:lnTo>
                  <a:lnTo>
                    <a:pt x="39" y="6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8" y="1"/>
                  </a:lnTo>
                  <a:lnTo>
                    <a:pt x="90" y="6"/>
                  </a:lnTo>
                  <a:lnTo>
                    <a:pt x="101" y="13"/>
                  </a:lnTo>
                  <a:lnTo>
                    <a:pt x="112" y="22"/>
                  </a:lnTo>
                  <a:lnTo>
                    <a:pt x="119" y="33"/>
                  </a:lnTo>
                  <a:lnTo>
                    <a:pt x="125" y="46"/>
                  </a:lnTo>
                  <a:lnTo>
                    <a:pt x="129" y="61"/>
                  </a:lnTo>
                  <a:lnTo>
                    <a:pt x="130" y="76"/>
                  </a:lnTo>
                  <a:lnTo>
                    <a:pt x="129" y="91"/>
                  </a:lnTo>
                  <a:lnTo>
                    <a:pt x="125" y="106"/>
                  </a:lnTo>
                  <a:lnTo>
                    <a:pt x="119" y="119"/>
                  </a:lnTo>
                  <a:lnTo>
                    <a:pt x="112" y="130"/>
                  </a:lnTo>
                  <a:lnTo>
                    <a:pt x="101" y="139"/>
                  </a:lnTo>
                  <a:lnTo>
                    <a:pt x="90" y="146"/>
                  </a:lnTo>
                  <a:lnTo>
                    <a:pt x="78" y="151"/>
                  </a:lnTo>
                  <a:lnTo>
                    <a:pt x="64" y="152"/>
                  </a:lnTo>
                  <a:close/>
                </a:path>
              </a:pathLst>
            </a:custGeom>
            <a:solidFill>
              <a:srgbClr val="999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80000" y="4503960"/>
              <a:ext cx="57240" cy="111240"/>
            </a:xfrm>
            <a:custGeom>
              <a:avLst/>
              <a:gdLst/>
              <a:ahLst/>
              <a:rect l="l" t="t" r="r" b="b"/>
              <a:pathLst>
                <a:path w="72" h="138">
                  <a:moveTo>
                    <a:pt x="0" y="138"/>
                  </a:moveTo>
                  <a:lnTo>
                    <a:pt x="6" y="138"/>
                  </a:lnTo>
                  <a:lnTo>
                    <a:pt x="20" y="136"/>
                  </a:lnTo>
                  <a:lnTo>
                    <a:pt x="39" y="131"/>
                  </a:lnTo>
                  <a:lnTo>
                    <a:pt x="56" y="121"/>
                  </a:lnTo>
                  <a:lnTo>
                    <a:pt x="68" y="105"/>
                  </a:lnTo>
                  <a:lnTo>
                    <a:pt x="72" y="79"/>
                  </a:lnTo>
                  <a:lnTo>
                    <a:pt x="60" y="46"/>
                  </a:lnTo>
                  <a:lnTo>
                    <a:pt x="30" y="0"/>
                  </a:lnTo>
                  <a:lnTo>
                    <a:pt x="33" y="5"/>
                  </a:lnTo>
                  <a:lnTo>
                    <a:pt x="39" y="18"/>
                  </a:lnTo>
                  <a:lnTo>
                    <a:pt x="45" y="38"/>
                  </a:lnTo>
                  <a:lnTo>
                    <a:pt x="50" y="60"/>
                  </a:lnTo>
                  <a:lnTo>
                    <a:pt x="50" y="84"/>
                  </a:lnTo>
                  <a:lnTo>
                    <a:pt x="44" y="107"/>
                  </a:lnTo>
                  <a:lnTo>
                    <a:pt x="28" y="12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21320" y="4494240"/>
              <a:ext cx="41400" cy="1098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33" y="140"/>
                  </a:moveTo>
                  <a:lnTo>
                    <a:pt x="30" y="136"/>
                  </a:lnTo>
                  <a:lnTo>
                    <a:pt x="22" y="126"/>
                  </a:lnTo>
                  <a:lnTo>
                    <a:pt x="11" y="110"/>
                  </a:lnTo>
                  <a:lnTo>
                    <a:pt x="3" y="90"/>
                  </a:lnTo>
                  <a:lnTo>
                    <a:pt x="0" y="68"/>
                  </a:lnTo>
                  <a:lnTo>
                    <a:pt x="4" y="45"/>
                  </a:lnTo>
                  <a:lnTo>
                    <a:pt x="22" y="22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2" y="12"/>
                  </a:lnTo>
                  <a:lnTo>
                    <a:pt x="33" y="25"/>
                  </a:lnTo>
                  <a:lnTo>
                    <a:pt x="24" y="44"/>
                  </a:lnTo>
                  <a:lnTo>
                    <a:pt x="17" y="65"/>
                  </a:lnTo>
                  <a:lnTo>
                    <a:pt x="15" y="88"/>
                  </a:lnTo>
                  <a:lnTo>
                    <a:pt x="19" y="113"/>
                  </a:lnTo>
                  <a:lnTo>
                    <a:pt x="33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370640" y="4546800"/>
              <a:ext cx="17280" cy="190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6" y="22"/>
                  </a:lnTo>
                  <a:lnTo>
                    <a:pt x="3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1" y="7"/>
                  </a:lnTo>
                  <a:lnTo>
                    <a:pt x="22" y="11"/>
                  </a:lnTo>
                  <a:lnTo>
                    <a:pt x="21" y="16"/>
                  </a:lnTo>
                  <a:lnTo>
                    <a:pt x="18" y="20"/>
                  </a:lnTo>
                  <a:lnTo>
                    <a:pt x="15" y="22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906960" y="3052800"/>
              <a:ext cx="77760" cy="193680"/>
            </a:xfrm>
            <a:custGeom>
              <a:avLst/>
              <a:gdLst/>
              <a:ahLst/>
              <a:rect l="l" t="t" r="r" b="b"/>
              <a:pathLst>
                <a:path w="98" h="243">
                  <a:moveTo>
                    <a:pt x="98" y="0"/>
                  </a:moveTo>
                  <a:lnTo>
                    <a:pt x="95" y="1"/>
                  </a:lnTo>
                  <a:lnTo>
                    <a:pt x="90" y="3"/>
                  </a:lnTo>
                  <a:lnTo>
                    <a:pt x="80" y="8"/>
                  </a:lnTo>
                  <a:lnTo>
                    <a:pt x="69" y="15"/>
                  </a:lnTo>
                  <a:lnTo>
                    <a:pt x="56" y="23"/>
                  </a:lnTo>
                  <a:lnTo>
                    <a:pt x="44" y="33"/>
                  </a:lnTo>
                  <a:lnTo>
                    <a:pt x="31" y="45"/>
                  </a:lnTo>
                  <a:lnTo>
                    <a:pt x="19" y="59"/>
                  </a:lnTo>
                  <a:lnTo>
                    <a:pt x="9" y="75"/>
                  </a:lnTo>
                  <a:lnTo>
                    <a:pt x="2" y="93"/>
                  </a:lnTo>
                  <a:lnTo>
                    <a:pt x="0" y="113"/>
                  </a:lnTo>
                  <a:lnTo>
                    <a:pt x="1" y="135"/>
                  </a:lnTo>
                  <a:lnTo>
                    <a:pt x="7" y="159"/>
                  </a:lnTo>
                  <a:lnTo>
                    <a:pt x="19" y="186"/>
                  </a:lnTo>
                  <a:lnTo>
                    <a:pt x="39" y="213"/>
                  </a:lnTo>
                  <a:lnTo>
                    <a:pt x="67" y="243"/>
                  </a:lnTo>
                  <a:lnTo>
                    <a:pt x="62" y="237"/>
                  </a:lnTo>
                  <a:lnTo>
                    <a:pt x="50" y="220"/>
                  </a:lnTo>
                  <a:lnTo>
                    <a:pt x="37" y="194"/>
                  </a:lnTo>
                  <a:lnTo>
                    <a:pt x="25" y="160"/>
                  </a:lnTo>
                  <a:lnTo>
                    <a:pt x="21" y="122"/>
                  </a:lnTo>
                  <a:lnTo>
                    <a:pt x="29" y="82"/>
                  </a:lnTo>
                  <a:lnTo>
                    <a:pt x="53" y="4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040160" y="3173400"/>
              <a:ext cx="113040" cy="106560"/>
            </a:xfrm>
            <a:custGeom>
              <a:avLst/>
              <a:gdLst/>
              <a:ahLst/>
              <a:rect l="l" t="t" r="r" b="b"/>
              <a:pathLst>
                <a:path w="143" h="134">
                  <a:moveTo>
                    <a:pt x="143" y="0"/>
                  </a:moveTo>
                  <a:lnTo>
                    <a:pt x="142" y="6"/>
                  </a:lnTo>
                  <a:lnTo>
                    <a:pt x="138" y="20"/>
                  </a:lnTo>
                  <a:lnTo>
                    <a:pt x="130" y="39"/>
                  </a:lnTo>
                  <a:lnTo>
                    <a:pt x="119" y="64"/>
                  </a:lnTo>
                  <a:lnTo>
                    <a:pt x="100" y="87"/>
                  </a:lnTo>
                  <a:lnTo>
                    <a:pt x="75" y="108"/>
                  </a:lnTo>
                  <a:lnTo>
                    <a:pt x="41" y="125"/>
                  </a:lnTo>
                  <a:lnTo>
                    <a:pt x="0" y="134"/>
                  </a:lnTo>
                  <a:lnTo>
                    <a:pt x="6" y="134"/>
                  </a:lnTo>
                  <a:lnTo>
                    <a:pt x="22" y="133"/>
                  </a:lnTo>
                  <a:lnTo>
                    <a:pt x="45" y="128"/>
                  </a:lnTo>
                  <a:lnTo>
                    <a:pt x="71" y="119"/>
                  </a:lnTo>
                  <a:lnTo>
                    <a:pt x="98" y="103"/>
                  </a:lnTo>
                  <a:lnTo>
                    <a:pt x="121" y="79"/>
                  </a:lnTo>
                  <a:lnTo>
                    <a:pt x="137" y="45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743520" y="4046760"/>
              <a:ext cx="71280" cy="25200"/>
            </a:xfrm>
            <a:custGeom>
              <a:avLst/>
              <a:gdLst/>
              <a:ahLst/>
              <a:rect l="l" t="t" r="r" b="b"/>
              <a:pathLst>
                <a:path w="90" h="31">
                  <a:moveTo>
                    <a:pt x="0" y="0"/>
                  </a:moveTo>
                  <a:lnTo>
                    <a:pt x="90" y="31"/>
                  </a:lnTo>
                  <a:lnTo>
                    <a:pt x="86" y="31"/>
                  </a:lnTo>
                  <a:lnTo>
                    <a:pt x="76" y="30"/>
                  </a:lnTo>
                  <a:lnTo>
                    <a:pt x="62" y="29"/>
                  </a:lnTo>
                  <a:lnTo>
                    <a:pt x="46" y="26"/>
                  </a:lnTo>
                  <a:lnTo>
                    <a:pt x="30" y="23"/>
                  </a:lnTo>
                  <a:lnTo>
                    <a:pt x="15" y="17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48240" y="4050000"/>
              <a:ext cx="66600" cy="25200"/>
            </a:xfrm>
            <a:custGeom>
              <a:avLst/>
              <a:gdLst/>
              <a:ahLst/>
              <a:rect l="l" t="t" r="r" b="b"/>
              <a:pathLst>
                <a:path w="86" h="32">
                  <a:moveTo>
                    <a:pt x="0" y="31"/>
                  </a:moveTo>
                  <a:lnTo>
                    <a:pt x="86" y="0"/>
                  </a:lnTo>
                  <a:lnTo>
                    <a:pt x="83" y="1"/>
                  </a:lnTo>
                  <a:lnTo>
                    <a:pt x="76" y="6"/>
                  </a:lnTo>
                  <a:lnTo>
                    <a:pt x="67" y="13"/>
                  </a:lnTo>
                  <a:lnTo>
                    <a:pt x="56" y="19"/>
                  </a:lnTo>
                  <a:lnTo>
                    <a:pt x="42" y="26"/>
                  </a:lnTo>
                  <a:lnTo>
                    <a:pt x="27" y="30"/>
                  </a:lnTo>
                  <a:lnTo>
                    <a:pt x="13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19069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6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0" name="bs00285_" descr=""/>
          <p:cNvPicPr/>
          <p:nvPr/>
        </p:nvPicPr>
        <p:blipFill>
          <a:blip r:embed="rId1"/>
          <a:stretch/>
        </p:blipFill>
        <p:spPr>
          <a:xfrm>
            <a:off x="1219320" y="2995560"/>
            <a:ext cx="175248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711" name=""/>
          <p:cNvGrpSpPr/>
          <p:nvPr/>
        </p:nvGrpSpPr>
        <p:grpSpPr>
          <a:xfrm>
            <a:off x="3124080" y="609480"/>
            <a:ext cx="6167160" cy="9004320"/>
            <a:chOff x="3124080" y="609480"/>
            <a:chExt cx="6167160" cy="9004320"/>
          </a:xfrm>
        </p:grpSpPr>
        <p:sp>
          <p:nvSpPr>
            <p:cNvPr id="1712" name=""/>
            <p:cNvSpPr/>
            <p:nvPr/>
          </p:nvSpPr>
          <p:spPr>
            <a:xfrm>
              <a:off x="4646520" y="1936800"/>
              <a:ext cx="457344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124080" y="609480"/>
              <a:ext cx="6167160" cy="90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317920" y="2977920"/>
              <a:ext cx="3232080" cy="1513080"/>
            </a:xfrm>
            <a:custGeom>
              <a:avLst/>
              <a:gdLst/>
              <a:ahLst/>
              <a:rect l="l" t="t" r="r" b="b"/>
              <a:pathLst>
                <a:path w="4071" h="1907">
                  <a:moveTo>
                    <a:pt x="148" y="1901"/>
                  </a:moveTo>
                  <a:lnTo>
                    <a:pt x="148" y="1819"/>
                  </a:lnTo>
                  <a:lnTo>
                    <a:pt x="188" y="1788"/>
                  </a:lnTo>
                  <a:lnTo>
                    <a:pt x="189" y="1002"/>
                  </a:lnTo>
                  <a:lnTo>
                    <a:pt x="131" y="946"/>
                  </a:lnTo>
                  <a:lnTo>
                    <a:pt x="134" y="749"/>
                  </a:lnTo>
                  <a:lnTo>
                    <a:pt x="13" y="713"/>
                  </a:lnTo>
                  <a:lnTo>
                    <a:pt x="0" y="680"/>
                  </a:lnTo>
                  <a:lnTo>
                    <a:pt x="13" y="630"/>
                  </a:lnTo>
                  <a:lnTo>
                    <a:pt x="679" y="82"/>
                  </a:lnTo>
                  <a:lnTo>
                    <a:pt x="697" y="77"/>
                  </a:lnTo>
                  <a:lnTo>
                    <a:pt x="900" y="144"/>
                  </a:lnTo>
                  <a:lnTo>
                    <a:pt x="971" y="86"/>
                  </a:lnTo>
                  <a:lnTo>
                    <a:pt x="1023" y="83"/>
                  </a:lnTo>
                  <a:lnTo>
                    <a:pt x="1050" y="83"/>
                  </a:lnTo>
                  <a:lnTo>
                    <a:pt x="1021" y="0"/>
                  </a:lnTo>
                  <a:lnTo>
                    <a:pt x="1258" y="12"/>
                  </a:lnTo>
                  <a:lnTo>
                    <a:pt x="1563" y="162"/>
                  </a:lnTo>
                  <a:lnTo>
                    <a:pt x="1683" y="125"/>
                  </a:lnTo>
                  <a:lnTo>
                    <a:pt x="1634" y="83"/>
                  </a:lnTo>
                  <a:lnTo>
                    <a:pt x="1574" y="22"/>
                  </a:lnTo>
                  <a:lnTo>
                    <a:pt x="1575" y="8"/>
                  </a:lnTo>
                  <a:lnTo>
                    <a:pt x="1975" y="27"/>
                  </a:lnTo>
                  <a:lnTo>
                    <a:pt x="2495" y="275"/>
                  </a:lnTo>
                  <a:lnTo>
                    <a:pt x="2531" y="330"/>
                  </a:lnTo>
                  <a:lnTo>
                    <a:pt x="2580" y="324"/>
                  </a:lnTo>
                  <a:lnTo>
                    <a:pt x="2635" y="352"/>
                  </a:lnTo>
                  <a:lnTo>
                    <a:pt x="2730" y="471"/>
                  </a:lnTo>
                  <a:lnTo>
                    <a:pt x="2798" y="498"/>
                  </a:lnTo>
                  <a:lnTo>
                    <a:pt x="2827" y="452"/>
                  </a:lnTo>
                  <a:lnTo>
                    <a:pt x="2880" y="467"/>
                  </a:lnTo>
                  <a:lnTo>
                    <a:pt x="4042" y="1042"/>
                  </a:lnTo>
                  <a:lnTo>
                    <a:pt x="4032" y="1081"/>
                  </a:lnTo>
                  <a:lnTo>
                    <a:pt x="4003" y="1135"/>
                  </a:lnTo>
                  <a:lnTo>
                    <a:pt x="4011" y="1169"/>
                  </a:lnTo>
                  <a:lnTo>
                    <a:pt x="4071" y="1188"/>
                  </a:lnTo>
                  <a:lnTo>
                    <a:pt x="4062" y="1247"/>
                  </a:lnTo>
                  <a:lnTo>
                    <a:pt x="4032" y="1258"/>
                  </a:lnTo>
                  <a:lnTo>
                    <a:pt x="4032" y="1324"/>
                  </a:lnTo>
                  <a:lnTo>
                    <a:pt x="4030" y="1790"/>
                  </a:lnTo>
                  <a:lnTo>
                    <a:pt x="4058" y="1819"/>
                  </a:lnTo>
                  <a:lnTo>
                    <a:pt x="4053" y="1870"/>
                  </a:lnTo>
                  <a:lnTo>
                    <a:pt x="2110" y="1901"/>
                  </a:lnTo>
                  <a:lnTo>
                    <a:pt x="190" y="1907"/>
                  </a:lnTo>
                  <a:lnTo>
                    <a:pt x="148" y="190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881400" y="2987640"/>
              <a:ext cx="422280" cy="218880"/>
            </a:xfrm>
            <a:custGeom>
              <a:avLst/>
              <a:gdLst/>
              <a:ahLst/>
              <a:rect l="l" t="t" r="r" b="b"/>
              <a:pathLst>
                <a:path w="534" h="277">
                  <a:moveTo>
                    <a:pt x="534" y="258"/>
                  </a:moveTo>
                  <a:lnTo>
                    <a:pt x="530" y="25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519" y="277"/>
                  </a:lnTo>
                  <a:lnTo>
                    <a:pt x="513" y="271"/>
                  </a:lnTo>
                  <a:lnTo>
                    <a:pt x="534" y="258"/>
                  </a:lnTo>
                  <a:lnTo>
                    <a:pt x="532" y="255"/>
                  </a:lnTo>
                  <a:lnTo>
                    <a:pt x="530" y="254"/>
                  </a:lnTo>
                  <a:lnTo>
                    <a:pt x="534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287840" y="3192480"/>
              <a:ext cx="49320" cy="5868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50" y="48"/>
                  </a:moveTo>
                  <a:lnTo>
                    <a:pt x="61" y="54"/>
                  </a:lnTo>
                  <a:lnTo>
                    <a:pt x="21" y="0"/>
                  </a:lnTo>
                  <a:lnTo>
                    <a:pt x="0" y="13"/>
                  </a:lnTo>
                  <a:lnTo>
                    <a:pt x="40" y="69"/>
                  </a:lnTo>
                  <a:lnTo>
                    <a:pt x="50" y="74"/>
                  </a:lnTo>
                  <a:lnTo>
                    <a:pt x="40" y="69"/>
                  </a:lnTo>
                  <a:lnTo>
                    <a:pt x="44" y="74"/>
                  </a:lnTo>
                  <a:lnTo>
                    <a:pt x="50" y="74"/>
                  </a:lnTo>
                  <a:lnTo>
                    <a:pt x="5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327800" y="3230280"/>
              <a:ext cx="2844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2" y="3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29" y="26"/>
                  </a:lnTo>
                  <a:lnTo>
                    <a:pt x="37" y="23"/>
                  </a:lnTo>
                  <a:lnTo>
                    <a:pt x="29" y="26"/>
                  </a:lnTo>
                  <a:lnTo>
                    <a:pt x="33" y="26"/>
                  </a:lnTo>
                  <a:lnTo>
                    <a:pt x="37" y="2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345080" y="3219480"/>
              <a:ext cx="23760" cy="29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7" y="4"/>
                  </a:moveTo>
                  <a:lnTo>
                    <a:pt x="14" y="5"/>
                  </a:lnTo>
                  <a:lnTo>
                    <a:pt x="0" y="16"/>
                  </a:lnTo>
                  <a:lnTo>
                    <a:pt x="15" y="36"/>
                  </a:lnTo>
                  <a:lnTo>
                    <a:pt x="30" y="25"/>
                  </a:lnTo>
                  <a:lnTo>
                    <a:pt x="16" y="27"/>
                  </a:lnTo>
                  <a:lnTo>
                    <a:pt x="27" y="4"/>
                  </a:lnTo>
                  <a:lnTo>
                    <a:pt x="20" y="0"/>
                  </a:lnTo>
                  <a:lnTo>
                    <a:pt x="14" y="5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357680" y="3222360"/>
              <a:ext cx="59040" cy="4140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73" y="32"/>
                  </a:moveTo>
                  <a:lnTo>
                    <a:pt x="69" y="28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58" y="51"/>
                  </a:lnTo>
                  <a:lnTo>
                    <a:pt x="53" y="48"/>
                  </a:lnTo>
                  <a:lnTo>
                    <a:pt x="73" y="32"/>
                  </a:lnTo>
                  <a:lnTo>
                    <a:pt x="72" y="30"/>
                  </a:lnTo>
                  <a:lnTo>
                    <a:pt x="69" y="28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399080" y="3249360"/>
              <a:ext cx="92160" cy="10800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111" y="112"/>
                  </a:moveTo>
                  <a:lnTo>
                    <a:pt x="115" y="116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96" y="133"/>
                  </a:lnTo>
                  <a:lnTo>
                    <a:pt x="100" y="137"/>
                  </a:lnTo>
                  <a:lnTo>
                    <a:pt x="96" y="133"/>
                  </a:lnTo>
                  <a:lnTo>
                    <a:pt x="97" y="135"/>
                  </a:lnTo>
                  <a:lnTo>
                    <a:pt x="100" y="137"/>
                  </a:lnTo>
                  <a:lnTo>
                    <a:pt x="111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478640" y="3338280"/>
              <a:ext cx="66600" cy="4788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65" y="37"/>
                  </a:moveTo>
                  <a:lnTo>
                    <a:pt x="80" y="34"/>
                  </a:lnTo>
                  <a:lnTo>
                    <a:pt x="11" y="0"/>
                  </a:lnTo>
                  <a:lnTo>
                    <a:pt x="0" y="25"/>
                  </a:lnTo>
                  <a:lnTo>
                    <a:pt x="67" y="57"/>
                  </a:lnTo>
                  <a:lnTo>
                    <a:pt x="82" y="54"/>
                  </a:lnTo>
                  <a:lnTo>
                    <a:pt x="67" y="57"/>
                  </a:lnTo>
                  <a:lnTo>
                    <a:pt x="76" y="61"/>
                  </a:lnTo>
                  <a:lnTo>
                    <a:pt x="82" y="54"/>
                  </a:lnTo>
                  <a:lnTo>
                    <a:pt x="6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30840" y="3352680"/>
              <a:ext cx="30240" cy="28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3" y="6"/>
                  </a:moveTo>
                  <a:lnTo>
                    <a:pt x="17" y="0"/>
                  </a:lnTo>
                  <a:lnTo>
                    <a:pt x="0" y="18"/>
                  </a:lnTo>
                  <a:lnTo>
                    <a:pt x="17" y="35"/>
                  </a:lnTo>
                  <a:lnTo>
                    <a:pt x="35" y="19"/>
                  </a:lnTo>
                  <a:lnTo>
                    <a:pt x="39" y="12"/>
                  </a:lnTo>
                  <a:lnTo>
                    <a:pt x="35" y="19"/>
                  </a:lnTo>
                  <a:lnTo>
                    <a:pt x="38" y="16"/>
                  </a:lnTo>
                  <a:lnTo>
                    <a:pt x="39" y="12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542000" y="3322440"/>
              <a:ext cx="27000" cy="39600"/>
            </a:xfrm>
            <a:custGeom>
              <a:avLst/>
              <a:gdLst/>
              <a:ahLst/>
              <a:rect l="l" t="t" r="r" b="b"/>
              <a:pathLst>
                <a:path w="34" h="51">
                  <a:moveTo>
                    <a:pt x="26" y="3"/>
                  </a:moveTo>
                  <a:lnTo>
                    <a:pt x="10" y="12"/>
                  </a:lnTo>
                  <a:lnTo>
                    <a:pt x="0" y="45"/>
                  </a:lnTo>
                  <a:lnTo>
                    <a:pt x="26" y="51"/>
                  </a:lnTo>
                  <a:lnTo>
                    <a:pt x="34" y="19"/>
                  </a:lnTo>
                  <a:lnTo>
                    <a:pt x="18" y="28"/>
                  </a:lnTo>
                  <a:lnTo>
                    <a:pt x="26" y="3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554600" y="3324240"/>
              <a:ext cx="50760" cy="3312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63" y="17"/>
                  </a:moveTo>
                  <a:lnTo>
                    <a:pt x="62" y="17"/>
                  </a:lnTo>
                  <a:lnTo>
                    <a:pt x="8" y="0"/>
                  </a:lnTo>
                  <a:lnTo>
                    <a:pt x="0" y="25"/>
                  </a:lnTo>
                  <a:lnTo>
                    <a:pt x="54" y="42"/>
                  </a:lnTo>
                  <a:lnTo>
                    <a:pt x="53" y="42"/>
                  </a:lnTo>
                  <a:lnTo>
                    <a:pt x="6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97440" y="3338280"/>
              <a:ext cx="939960" cy="478080"/>
            </a:xfrm>
            <a:custGeom>
              <a:avLst/>
              <a:gdLst/>
              <a:ahLst/>
              <a:rect l="l" t="t" r="r" b="b"/>
              <a:pathLst>
                <a:path w="1184" h="603">
                  <a:moveTo>
                    <a:pt x="1183" y="595"/>
                  </a:moveTo>
                  <a:lnTo>
                    <a:pt x="1175" y="580"/>
                  </a:lnTo>
                  <a:lnTo>
                    <a:pt x="10" y="0"/>
                  </a:lnTo>
                  <a:lnTo>
                    <a:pt x="0" y="25"/>
                  </a:lnTo>
                  <a:lnTo>
                    <a:pt x="1164" y="603"/>
                  </a:lnTo>
                  <a:lnTo>
                    <a:pt x="1157" y="589"/>
                  </a:lnTo>
                  <a:lnTo>
                    <a:pt x="1183" y="595"/>
                  </a:lnTo>
                  <a:lnTo>
                    <a:pt x="1184" y="585"/>
                  </a:lnTo>
                  <a:lnTo>
                    <a:pt x="1175" y="580"/>
                  </a:lnTo>
                  <a:lnTo>
                    <a:pt x="1183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510400" y="3805200"/>
              <a:ext cx="25200" cy="3816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3" y="47"/>
                  </a:moveTo>
                  <a:lnTo>
                    <a:pt x="24" y="43"/>
                  </a:lnTo>
                  <a:lnTo>
                    <a:pt x="34" y="6"/>
                  </a:lnTo>
                  <a:lnTo>
                    <a:pt x="8" y="0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3" y="47"/>
                  </a:lnTo>
                  <a:lnTo>
                    <a:pt x="24" y="46"/>
                  </a:lnTo>
                  <a:lnTo>
                    <a:pt x="24" y="43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480160" y="3832200"/>
              <a:ext cx="47520" cy="5688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26" y="61"/>
                  </a:moveTo>
                  <a:lnTo>
                    <a:pt x="26" y="73"/>
                  </a:lnTo>
                  <a:lnTo>
                    <a:pt x="61" y="13"/>
                  </a:lnTo>
                  <a:lnTo>
                    <a:pt x="39" y="0"/>
                  </a:lnTo>
                  <a:lnTo>
                    <a:pt x="4" y="59"/>
                  </a:lnTo>
                  <a:lnTo>
                    <a:pt x="4" y="73"/>
                  </a:lnTo>
                  <a:lnTo>
                    <a:pt x="4" y="59"/>
                  </a:lnTo>
                  <a:lnTo>
                    <a:pt x="0" y="66"/>
                  </a:lnTo>
                  <a:lnTo>
                    <a:pt x="4" y="73"/>
                  </a:lnTo>
                  <a:lnTo>
                    <a:pt x="2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483400" y="3879720"/>
              <a:ext cx="27000" cy="3168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7" y="15"/>
                  </a:moveTo>
                  <a:lnTo>
                    <a:pt x="34" y="20"/>
                  </a:lnTo>
                  <a:lnTo>
                    <a:pt x="22" y="0"/>
                  </a:lnTo>
                  <a:lnTo>
                    <a:pt x="0" y="12"/>
                  </a:lnTo>
                  <a:lnTo>
                    <a:pt x="11" y="32"/>
                  </a:lnTo>
                  <a:lnTo>
                    <a:pt x="18" y="39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8" y="39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496000" y="3892320"/>
              <a:ext cx="63720" cy="3672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78" y="36"/>
                  </a:moveTo>
                  <a:lnTo>
                    <a:pt x="70" y="23"/>
                  </a:lnTo>
                  <a:lnTo>
                    <a:pt x="9" y="0"/>
                  </a:lnTo>
                  <a:lnTo>
                    <a:pt x="0" y="24"/>
                  </a:lnTo>
                  <a:lnTo>
                    <a:pt x="61" y="47"/>
                  </a:lnTo>
                  <a:lnTo>
                    <a:pt x="53" y="32"/>
                  </a:lnTo>
                  <a:lnTo>
                    <a:pt x="78" y="36"/>
                  </a:lnTo>
                  <a:lnTo>
                    <a:pt x="80" y="25"/>
                  </a:lnTo>
                  <a:lnTo>
                    <a:pt x="70" y="23"/>
                  </a:lnTo>
                  <a:lnTo>
                    <a:pt x="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532720" y="3917880"/>
              <a:ext cx="27000" cy="63360"/>
            </a:xfrm>
            <a:custGeom>
              <a:avLst/>
              <a:gdLst/>
              <a:ahLst/>
              <a:rect l="l" t="t" r="r" b="b"/>
              <a:pathLst>
                <a:path w="34" h="80">
                  <a:moveTo>
                    <a:pt x="17" y="80"/>
                  </a:moveTo>
                  <a:lnTo>
                    <a:pt x="26" y="69"/>
                  </a:lnTo>
                  <a:lnTo>
                    <a:pt x="34" y="4"/>
                  </a:lnTo>
                  <a:lnTo>
                    <a:pt x="9" y="0"/>
                  </a:lnTo>
                  <a:lnTo>
                    <a:pt x="0" y="66"/>
                  </a:lnTo>
                  <a:lnTo>
                    <a:pt x="10" y="54"/>
                  </a:lnTo>
                  <a:lnTo>
                    <a:pt x="17" y="80"/>
                  </a:lnTo>
                  <a:lnTo>
                    <a:pt x="25" y="78"/>
                  </a:lnTo>
                  <a:lnTo>
                    <a:pt x="26" y="69"/>
                  </a:lnTo>
                  <a:lnTo>
                    <a:pt x="17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507160" y="3960720"/>
              <a:ext cx="38160" cy="27000"/>
            </a:xfrm>
            <a:custGeom>
              <a:avLst/>
              <a:gdLst/>
              <a:ahLst/>
              <a:rect l="l" t="t" r="r" b="b"/>
              <a:pathLst>
                <a:path w="49" h="34">
                  <a:moveTo>
                    <a:pt x="26" y="20"/>
                  </a:moveTo>
                  <a:lnTo>
                    <a:pt x="16" y="34"/>
                  </a:lnTo>
                  <a:lnTo>
                    <a:pt x="49" y="26"/>
                  </a:lnTo>
                  <a:lnTo>
                    <a:pt x="42" y="0"/>
                  </a:lnTo>
                  <a:lnTo>
                    <a:pt x="10" y="8"/>
                  </a:lnTo>
                  <a:lnTo>
                    <a:pt x="0" y="20"/>
                  </a:lnTo>
                  <a:lnTo>
                    <a:pt x="10" y="8"/>
                  </a:lnTo>
                  <a:lnTo>
                    <a:pt x="0" y="9"/>
                  </a:lnTo>
                  <a:lnTo>
                    <a:pt x="0" y="2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507160" y="3976560"/>
              <a:ext cx="19080" cy="4752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4" y="49"/>
                  </a:moveTo>
                  <a:lnTo>
                    <a:pt x="26" y="5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1" y="60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507160" y="4014720"/>
              <a:ext cx="22320" cy="144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2"/>
                  </a:moveTo>
                  <a:lnTo>
                    <a:pt x="27" y="7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3" y="17"/>
                  </a:lnTo>
                  <a:lnTo>
                    <a:pt x="2" y="12"/>
                  </a:lnTo>
                  <a:lnTo>
                    <a:pt x="29" y="12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508600" y="4025880"/>
              <a:ext cx="20880" cy="384120"/>
            </a:xfrm>
            <a:custGeom>
              <a:avLst/>
              <a:gdLst/>
              <a:ahLst/>
              <a:rect l="l" t="t" r="r" b="b"/>
              <a:pathLst>
                <a:path w="27" h="485">
                  <a:moveTo>
                    <a:pt x="23" y="467"/>
                  </a:moveTo>
                  <a:lnTo>
                    <a:pt x="27" y="475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475"/>
                  </a:lnTo>
                  <a:lnTo>
                    <a:pt x="4" y="485"/>
                  </a:lnTo>
                  <a:lnTo>
                    <a:pt x="0" y="475"/>
                  </a:lnTo>
                  <a:lnTo>
                    <a:pt x="0" y="481"/>
                  </a:lnTo>
                  <a:lnTo>
                    <a:pt x="4" y="485"/>
                  </a:lnTo>
                  <a:lnTo>
                    <a:pt x="23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511840" y="4395600"/>
              <a:ext cx="38160" cy="3348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7" y="35"/>
                  </a:moveTo>
                  <a:lnTo>
                    <a:pt x="44" y="25"/>
                  </a:lnTo>
                  <a:lnTo>
                    <a:pt x="19" y="0"/>
                  </a:lnTo>
                  <a:lnTo>
                    <a:pt x="0" y="18"/>
                  </a:lnTo>
                  <a:lnTo>
                    <a:pt x="25" y="42"/>
                  </a:lnTo>
                  <a:lnTo>
                    <a:pt x="21" y="33"/>
                  </a:lnTo>
                  <a:lnTo>
                    <a:pt x="47" y="35"/>
                  </a:lnTo>
                  <a:lnTo>
                    <a:pt x="48" y="29"/>
                  </a:lnTo>
                  <a:lnTo>
                    <a:pt x="44" y="25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523000" y="4421160"/>
              <a:ext cx="27000" cy="5220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13" y="66"/>
                  </a:moveTo>
                  <a:lnTo>
                    <a:pt x="25" y="55"/>
                  </a:lnTo>
                  <a:lnTo>
                    <a:pt x="32" y="2"/>
                  </a:lnTo>
                  <a:lnTo>
                    <a:pt x="6" y="0"/>
                  </a:lnTo>
                  <a:lnTo>
                    <a:pt x="0" y="51"/>
                  </a:lnTo>
                  <a:lnTo>
                    <a:pt x="13" y="40"/>
                  </a:lnTo>
                  <a:lnTo>
                    <a:pt x="13" y="66"/>
                  </a:lnTo>
                  <a:lnTo>
                    <a:pt x="24" y="66"/>
                  </a:lnTo>
                  <a:lnTo>
                    <a:pt x="25" y="55"/>
                  </a:lnTo>
                  <a:lnTo>
                    <a:pt x="1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211960" y="4454280"/>
              <a:ext cx="322200" cy="19080"/>
            </a:xfrm>
            <a:custGeom>
              <a:avLst/>
              <a:gdLst/>
              <a:ahLst/>
              <a:rect l="l" t="t" r="r" b="b"/>
              <a:pathLst>
                <a:path w="405" h="26">
                  <a:moveTo>
                    <a:pt x="1" y="26"/>
                  </a:moveTo>
                  <a:lnTo>
                    <a:pt x="1" y="26"/>
                  </a:lnTo>
                  <a:lnTo>
                    <a:pt x="405" y="26"/>
                  </a:lnTo>
                  <a:lnTo>
                    <a:pt x="40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956280" y="4454280"/>
              <a:ext cx="1257120" cy="44640"/>
            </a:xfrm>
            <a:custGeom>
              <a:avLst/>
              <a:gdLst/>
              <a:ahLst/>
              <a:rect l="l" t="t" r="r" b="b"/>
              <a:pathLst>
                <a:path w="1584" h="57">
                  <a:moveTo>
                    <a:pt x="0" y="57"/>
                  </a:moveTo>
                  <a:lnTo>
                    <a:pt x="0" y="57"/>
                  </a:lnTo>
                  <a:lnTo>
                    <a:pt x="1584" y="26"/>
                  </a:lnTo>
                  <a:lnTo>
                    <a:pt x="1583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424120" y="4478040"/>
              <a:ext cx="1532160" cy="20880"/>
            </a:xfrm>
            <a:custGeom>
              <a:avLst/>
              <a:gdLst/>
              <a:ahLst/>
              <a:rect l="l" t="t" r="r" b="b"/>
              <a:pathLst>
                <a:path w="1929" h="26">
                  <a:moveTo>
                    <a:pt x="0" y="12"/>
                  </a:moveTo>
                  <a:lnTo>
                    <a:pt x="13" y="26"/>
                  </a:lnTo>
                  <a:lnTo>
                    <a:pt x="1929" y="26"/>
                  </a:lnTo>
                  <a:lnTo>
                    <a:pt x="1929" y="0"/>
                  </a:lnTo>
                  <a:lnTo>
                    <a:pt x="13" y="0"/>
                  </a:lnTo>
                  <a:lnTo>
                    <a:pt x="25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424120" y="4414680"/>
              <a:ext cx="20880" cy="7308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5" y="0"/>
                  </a:moveTo>
                  <a:lnTo>
                    <a:pt x="0" y="11"/>
                  </a:lnTo>
                  <a:lnTo>
                    <a:pt x="0" y="93"/>
                  </a:lnTo>
                  <a:lnTo>
                    <a:pt x="25" y="93"/>
                  </a:lnTo>
                  <a:lnTo>
                    <a:pt x="25" y="11"/>
                  </a:lnTo>
                  <a:lnTo>
                    <a:pt x="21" y="21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429160" y="4387680"/>
              <a:ext cx="47520" cy="4284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34" y="9"/>
                  </a:moveTo>
                  <a:lnTo>
                    <a:pt x="39" y="0"/>
                  </a:lnTo>
                  <a:lnTo>
                    <a:pt x="0" y="32"/>
                  </a:lnTo>
                  <a:lnTo>
                    <a:pt x="16" y="53"/>
                  </a:lnTo>
                  <a:lnTo>
                    <a:pt x="55" y="20"/>
                  </a:lnTo>
                  <a:lnTo>
                    <a:pt x="59" y="9"/>
                  </a:lnTo>
                  <a:lnTo>
                    <a:pt x="55" y="20"/>
                  </a:lnTo>
                  <a:lnTo>
                    <a:pt x="59" y="16"/>
                  </a:lnTo>
                  <a:lnTo>
                    <a:pt x="59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456160" y="4240080"/>
              <a:ext cx="20520" cy="155520"/>
            </a:xfrm>
            <a:custGeom>
              <a:avLst/>
              <a:gdLst/>
              <a:ahLst/>
              <a:rect l="l" t="t" r="r" b="b"/>
              <a:pathLst>
                <a:path w="25" h="197">
                  <a:moveTo>
                    <a:pt x="0" y="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25" y="19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456160" y="4079880"/>
              <a:ext cx="20520" cy="16020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25" y="20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456160" y="3765600"/>
              <a:ext cx="20520" cy="314280"/>
            </a:xfrm>
            <a:custGeom>
              <a:avLst/>
              <a:gdLst/>
              <a:ahLst/>
              <a:rect l="l" t="t" r="r" b="b"/>
              <a:pathLst>
                <a:path w="25" h="396">
                  <a:moveTo>
                    <a:pt x="4" y="20"/>
                  </a:moveTo>
                  <a:lnTo>
                    <a:pt x="0" y="11"/>
                  </a:lnTo>
                  <a:lnTo>
                    <a:pt x="0" y="396"/>
                  </a:lnTo>
                  <a:lnTo>
                    <a:pt x="25" y="396"/>
                  </a:lnTo>
                  <a:lnTo>
                    <a:pt x="25" y="11"/>
                  </a:lnTo>
                  <a:lnTo>
                    <a:pt x="21" y="0"/>
                  </a:lnTo>
                  <a:lnTo>
                    <a:pt x="25" y="11"/>
                  </a:lnTo>
                  <a:lnTo>
                    <a:pt x="25" y="6"/>
                  </a:lnTo>
                  <a:lnTo>
                    <a:pt x="21" y="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411520" y="3725640"/>
              <a:ext cx="61920" cy="5580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0" y="10"/>
                  </a:moveTo>
                  <a:lnTo>
                    <a:pt x="6" y="20"/>
                  </a:lnTo>
                  <a:lnTo>
                    <a:pt x="60" y="70"/>
                  </a:lnTo>
                  <a:lnTo>
                    <a:pt x="77" y="50"/>
                  </a:lnTo>
                  <a:lnTo>
                    <a:pt x="22" y="0"/>
                  </a:lnTo>
                  <a:lnTo>
                    <a:pt x="27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6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411520" y="3568680"/>
              <a:ext cx="22320" cy="164880"/>
            </a:xfrm>
            <a:custGeom>
              <a:avLst/>
              <a:gdLst/>
              <a:ahLst/>
              <a:rect l="l" t="t" r="r" b="b"/>
              <a:pathLst>
                <a:path w="27" h="208">
                  <a:moveTo>
                    <a:pt x="9" y="23"/>
                  </a:moveTo>
                  <a:lnTo>
                    <a:pt x="0" y="12"/>
                  </a:lnTo>
                  <a:lnTo>
                    <a:pt x="0" y="208"/>
                  </a:lnTo>
                  <a:lnTo>
                    <a:pt x="27" y="208"/>
                  </a:lnTo>
                  <a:lnTo>
                    <a:pt x="27" y="12"/>
                  </a:lnTo>
                  <a:lnTo>
                    <a:pt x="19" y="0"/>
                  </a:lnTo>
                  <a:lnTo>
                    <a:pt x="27" y="12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397120" y="3557520"/>
              <a:ext cx="30240" cy="284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" y="26"/>
                  </a:moveTo>
                  <a:lnTo>
                    <a:pt x="0" y="24"/>
                  </a:lnTo>
                  <a:lnTo>
                    <a:pt x="27" y="37"/>
                  </a:lnTo>
                  <a:lnTo>
                    <a:pt x="37" y="14"/>
                  </a:lnTo>
                  <a:lnTo>
                    <a:pt x="9" y="2"/>
                  </a:lnTo>
                  <a:lnTo>
                    <a:pt x="8" y="0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344920" y="3543120"/>
              <a:ext cx="58680" cy="34920"/>
            </a:xfrm>
            <a:custGeom>
              <a:avLst/>
              <a:gdLst/>
              <a:ahLst/>
              <a:rect l="l" t="t" r="r" b="b"/>
              <a:pathLst>
                <a:path w="73" h="45">
                  <a:moveTo>
                    <a:pt x="0" y="25"/>
                  </a:moveTo>
                  <a:lnTo>
                    <a:pt x="1" y="25"/>
                  </a:lnTo>
                  <a:lnTo>
                    <a:pt x="66" y="45"/>
                  </a:lnTo>
                  <a:lnTo>
                    <a:pt x="73" y="19"/>
                  </a:lnTo>
                  <a:lnTo>
                    <a:pt x="8" y="0"/>
                  </a:lnTo>
                  <a:lnTo>
                    <a:pt x="9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317920" y="3533760"/>
              <a:ext cx="34920" cy="2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0" y="18"/>
                  </a:moveTo>
                  <a:lnTo>
                    <a:pt x="6" y="24"/>
                  </a:lnTo>
                  <a:lnTo>
                    <a:pt x="35" y="37"/>
                  </a:lnTo>
                  <a:lnTo>
                    <a:pt x="44" y="12"/>
                  </a:lnTo>
                  <a:lnTo>
                    <a:pt x="16" y="0"/>
                  </a:lnTo>
                  <a:lnTo>
                    <a:pt x="24" y="8"/>
                  </a:lnTo>
                  <a:lnTo>
                    <a:pt x="0" y="18"/>
                  </a:lnTo>
                  <a:lnTo>
                    <a:pt x="2" y="23"/>
                  </a:lnTo>
                  <a:lnTo>
                    <a:pt x="6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305320" y="3512880"/>
              <a:ext cx="31680" cy="334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1" y="1"/>
                  </a:moveTo>
                  <a:lnTo>
                    <a:pt x="1" y="9"/>
                  </a:lnTo>
                  <a:lnTo>
                    <a:pt x="15" y="42"/>
                  </a:lnTo>
                  <a:lnTo>
                    <a:pt x="39" y="32"/>
                  </a:lnTo>
                  <a:lnTo>
                    <a:pt x="25" y="0"/>
                  </a:lnTo>
                  <a:lnTo>
                    <a:pt x="27" y="8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306760" y="3473280"/>
              <a:ext cx="30240" cy="4608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18" y="0"/>
                  </a:moveTo>
                  <a:lnTo>
                    <a:pt x="14" y="7"/>
                  </a:lnTo>
                  <a:lnTo>
                    <a:pt x="0" y="53"/>
                  </a:lnTo>
                  <a:lnTo>
                    <a:pt x="26" y="60"/>
                  </a:lnTo>
                  <a:lnTo>
                    <a:pt x="38" y="14"/>
                  </a:lnTo>
                  <a:lnTo>
                    <a:pt x="34" y="21"/>
                  </a:lnTo>
                  <a:lnTo>
                    <a:pt x="18" y="0"/>
                  </a:lnTo>
                  <a:lnTo>
                    <a:pt x="14" y="3"/>
                  </a:lnTo>
                  <a:lnTo>
                    <a:pt x="14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321160" y="3036600"/>
              <a:ext cx="541080" cy="452520"/>
            </a:xfrm>
            <a:custGeom>
              <a:avLst/>
              <a:gdLst/>
              <a:ahLst/>
              <a:rect l="l" t="t" r="r" b="b"/>
              <a:pathLst>
                <a:path w="682" h="570">
                  <a:moveTo>
                    <a:pt x="674" y="9"/>
                  </a:moveTo>
                  <a:lnTo>
                    <a:pt x="666" y="0"/>
                  </a:lnTo>
                  <a:lnTo>
                    <a:pt x="0" y="549"/>
                  </a:lnTo>
                  <a:lnTo>
                    <a:pt x="16" y="570"/>
                  </a:lnTo>
                  <a:lnTo>
                    <a:pt x="682" y="20"/>
                  </a:lnTo>
                  <a:lnTo>
                    <a:pt x="67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430760" y="3502080"/>
              <a:ext cx="1114560" cy="448920"/>
            </a:xfrm>
            <a:custGeom>
              <a:avLst/>
              <a:gdLst/>
              <a:ahLst/>
              <a:rect l="l" t="t" r="r" b="b"/>
              <a:pathLst>
                <a:path w="1404" h="566">
                  <a:moveTo>
                    <a:pt x="1" y="28"/>
                  </a:moveTo>
                  <a:lnTo>
                    <a:pt x="6" y="0"/>
                  </a:lnTo>
                  <a:lnTo>
                    <a:pt x="0" y="28"/>
                  </a:lnTo>
                  <a:lnTo>
                    <a:pt x="1335" y="533"/>
                  </a:lnTo>
                  <a:lnTo>
                    <a:pt x="1347" y="502"/>
                  </a:lnTo>
                  <a:lnTo>
                    <a:pt x="1335" y="533"/>
                  </a:lnTo>
                  <a:lnTo>
                    <a:pt x="1358" y="555"/>
                  </a:lnTo>
                  <a:lnTo>
                    <a:pt x="1404" y="56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508600" y="3941640"/>
              <a:ext cx="1800" cy="34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449920" y="4260600"/>
              <a:ext cx="68400" cy="147600"/>
            </a:xfrm>
            <a:custGeom>
              <a:avLst/>
              <a:gdLst/>
              <a:ahLst/>
              <a:rect l="l" t="t" r="r" b="b"/>
              <a:pathLst>
                <a:path w="87" h="185">
                  <a:moveTo>
                    <a:pt x="9" y="0"/>
                  </a:moveTo>
                  <a:lnTo>
                    <a:pt x="10" y="64"/>
                  </a:lnTo>
                  <a:lnTo>
                    <a:pt x="13" y="101"/>
                  </a:lnTo>
                  <a:lnTo>
                    <a:pt x="13" y="134"/>
                  </a:lnTo>
                  <a:lnTo>
                    <a:pt x="11" y="158"/>
                  </a:lnTo>
                  <a:lnTo>
                    <a:pt x="0" y="185"/>
                  </a:lnTo>
                  <a:lnTo>
                    <a:pt x="87" y="17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015040" y="4392360"/>
              <a:ext cx="434880" cy="15840"/>
            </a:xfrm>
            <a:custGeom>
              <a:avLst/>
              <a:gdLst/>
              <a:ahLst/>
              <a:rect l="l" t="t" r="r" b="b"/>
              <a:pathLst>
                <a:path w="549" h="19">
                  <a:moveTo>
                    <a:pt x="549" y="19"/>
                  </a:moveTo>
                  <a:lnTo>
                    <a:pt x="280" y="19"/>
                  </a:lnTo>
                  <a:lnTo>
                    <a:pt x="187" y="8"/>
                  </a:lnTo>
                  <a:lnTo>
                    <a:pt x="81" y="0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927480" y="4201920"/>
              <a:ext cx="1041480" cy="190440"/>
            </a:xfrm>
            <a:custGeom>
              <a:avLst/>
              <a:gdLst/>
              <a:ahLst/>
              <a:rect l="l" t="t" r="r" b="b"/>
              <a:pathLst>
                <a:path w="1313" h="240">
                  <a:moveTo>
                    <a:pt x="1313" y="8"/>
                  </a:moveTo>
                  <a:lnTo>
                    <a:pt x="1289" y="5"/>
                  </a:lnTo>
                  <a:lnTo>
                    <a:pt x="1251" y="3"/>
                  </a:lnTo>
                  <a:lnTo>
                    <a:pt x="1224" y="0"/>
                  </a:lnTo>
                  <a:lnTo>
                    <a:pt x="1189" y="0"/>
                  </a:lnTo>
                  <a:lnTo>
                    <a:pt x="1181" y="13"/>
                  </a:lnTo>
                  <a:lnTo>
                    <a:pt x="1184" y="220"/>
                  </a:lnTo>
                  <a:lnTo>
                    <a:pt x="1153" y="240"/>
                  </a:lnTo>
                  <a:lnTo>
                    <a:pt x="1043" y="236"/>
                  </a:lnTo>
                  <a:lnTo>
                    <a:pt x="1015" y="212"/>
                  </a:lnTo>
                  <a:lnTo>
                    <a:pt x="919" y="224"/>
                  </a:lnTo>
                  <a:lnTo>
                    <a:pt x="847" y="216"/>
                  </a:lnTo>
                  <a:lnTo>
                    <a:pt x="766" y="193"/>
                  </a:lnTo>
                  <a:lnTo>
                    <a:pt x="715" y="212"/>
                  </a:lnTo>
                  <a:lnTo>
                    <a:pt x="622" y="208"/>
                  </a:lnTo>
                  <a:lnTo>
                    <a:pt x="607" y="188"/>
                  </a:lnTo>
                  <a:lnTo>
                    <a:pt x="554" y="188"/>
                  </a:lnTo>
                  <a:lnTo>
                    <a:pt x="534" y="208"/>
                  </a:lnTo>
                  <a:lnTo>
                    <a:pt x="408" y="208"/>
                  </a:lnTo>
                  <a:lnTo>
                    <a:pt x="380" y="204"/>
                  </a:lnTo>
                  <a:lnTo>
                    <a:pt x="361" y="173"/>
                  </a:lnTo>
                  <a:lnTo>
                    <a:pt x="304" y="173"/>
                  </a:lnTo>
                  <a:lnTo>
                    <a:pt x="292" y="200"/>
                  </a:lnTo>
                  <a:lnTo>
                    <a:pt x="196" y="212"/>
                  </a:lnTo>
                  <a:lnTo>
                    <a:pt x="137" y="196"/>
                  </a:lnTo>
                  <a:lnTo>
                    <a:pt x="84" y="185"/>
                  </a:lnTo>
                  <a:lnTo>
                    <a:pt x="76" y="155"/>
                  </a:lnTo>
                  <a:lnTo>
                    <a:pt x="4" y="155"/>
                  </a:lnTo>
                  <a:lnTo>
                    <a:pt x="0" y="179"/>
                  </a:lnTo>
                  <a:lnTo>
                    <a:pt x="33" y="2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470200" y="4324320"/>
              <a:ext cx="1457280" cy="73080"/>
            </a:xfrm>
            <a:custGeom>
              <a:avLst/>
              <a:gdLst/>
              <a:ahLst/>
              <a:rect l="l" t="t" r="r" b="b"/>
              <a:pathLst>
                <a:path w="1834" h="92">
                  <a:moveTo>
                    <a:pt x="1834" y="25"/>
                  </a:moveTo>
                  <a:lnTo>
                    <a:pt x="1610" y="31"/>
                  </a:lnTo>
                  <a:lnTo>
                    <a:pt x="1592" y="0"/>
                  </a:lnTo>
                  <a:lnTo>
                    <a:pt x="1469" y="7"/>
                  </a:lnTo>
                  <a:lnTo>
                    <a:pt x="1440" y="39"/>
                  </a:lnTo>
                  <a:lnTo>
                    <a:pt x="1237" y="48"/>
                  </a:lnTo>
                  <a:lnTo>
                    <a:pt x="1225" y="3"/>
                  </a:lnTo>
                  <a:lnTo>
                    <a:pt x="1118" y="11"/>
                  </a:lnTo>
                  <a:lnTo>
                    <a:pt x="1105" y="42"/>
                  </a:lnTo>
                  <a:lnTo>
                    <a:pt x="1067" y="53"/>
                  </a:lnTo>
                  <a:lnTo>
                    <a:pt x="998" y="31"/>
                  </a:lnTo>
                  <a:lnTo>
                    <a:pt x="971" y="58"/>
                  </a:lnTo>
                  <a:lnTo>
                    <a:pt x="886" y="58"/>
                  </a:lnTo>
                  <a:lnTo>
                    <a:pt x="878" y="25"/>
                  </a:lnTo>
                  <a:lnTo>
                    <a:pt x="826" y="25"/>
                  </a:lnTo>
                  <a:lnTo>
                    <a:pt x="758" y="25"/>
                  </a:lnTo>
                  <a:lnTo>
                    <a:pt x="756" y="71"/>
                  </a:lnTo>
                  <a:lnTo>
                    <a:pt x="663" y="73"/>
                  </a:lnTo>
                  <a:lnTo>
                    <a:pt x="550" y="70"/>
                  </a:lnTo>
                  <a:lnTo>
                    <a:pt x="537" y="39"/>
                  </a:lnTo>
                  <a:lnTo>
                    <a:pt x="441" y="42"/>
                  </a:lnTo>
                  <a:lnTo>
                    <a:pt x="441" y="80"/>
                  </a:lnTo>
                  <a:lnTo>
                    <a:pt x="339" y="88"/>
                  </a:lnTo>
                  <a:lnTo>
                    <a:pt x="259" y="78"/>
                  </a:lnTo>
                  <a:lnTo>
                    <a:pt x="250" y="48"/>
                  </a:lnTo>
                  <a:lnTo>
                    <a:pt x="163" y="48"/>
                  </a:lnTo>
                  <a:lnTo>
                    <a:pt x="150" y="82"/>
                  </a:lnTo>
                  <a:lnTo>
                    <a:pt x="63" y="92"/>
                  </a:lnTo>
                  <a:lnTo>
                    <a:pt x="0" y="8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503680" y="3733560"/>
              <a:ext cx="73080" cy="138240"/>
            </a:xfrm>
            <a:custGeom>
              <a:avLst/>
              <a:gdLst/>
              <a:ahLst/>
              <a:rect l="l" t="t" r="r" b="b"/>
              <a:pathLst>
                <a:path w="92" h="174">
                  <a:moveTo>
                    <a:pt x="92" y="174"/>
                  </a:moveTo>
                  <a:lnTo>
                    <a:pt x="83" y="51"/>
                  </a:lnTo>
                  <a:lnTo>
                    <a:pt x="64" y="0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437080" y="4425840"/>
              <a:ext cx="1514520" cy="42840"/>
            </a:xfrm>
            <a:custGeom>
              <a:avLst/>
              <a:gdLst/>
              <a:ahLst/>
              <a:rect l="l" t="t" r="r" b="b"/>
              <a:pathLst>
                <a:path w="1907" h="54">
                  <a:moveTo>
                    <a:pt x="1902" y="0"/>
                  </a:moveTo>
                  <a:lnTo>
                    <a:pt x="1907" y="54"/>
                  </a:lnTo>
                  <a:lnTo>
                    <a:pt x="1902" y="0"/>
                  </a:lnTo>
                  <a:lnTo>
                    <a:pt x="0" y="3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948360" y="4424400"/>
              <a:ext cx="15922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805360" y="3598920"/>
              <a:ext cx="407880" cy="136440"/>
            </a:xfrm>
            <a:custGeom>
              <a:avLst/>
              <a:gdLst/>
              <a:ahLst/>
              <a:rect l="l" t="t" r="r" b="b"/>
              <a:pathLst>
                <a:path w="514" h="171">
                  <a:moveTo>
                    <a:pt x="0" y="171"/>
                  </a:moveTo>
                  <a:lnTo>
                    <a:pt x="23" y="166"/>
                  </a:lnTo>
                  <a:lnTo>
                    <a:pt x="92" y="154"/>
                  </a:lnTo>
                  <a:lnTo>
                    <a:pt x="84" y="85"/>
                  </a:lnTo>
                  <a:lnTo>
                    <a:pt x="160" y="81"/>
                  </a:lnTo>
                  <a:lnTo>
                    <a:pt x="173" y="44"/>
                  </a:lnTo>
                  <a:lnTo>
                    <a:pt x="212" y="51"/>
                  </a:lnTo>
                  <a:lnTo>
                    <a:pt x="216" y="89"/>
                  </a:lnTo>
                  <a:lnTo>
                    <a:pt x="295" y="89"/>
                  </a:lnTo>
                  <a:lnTo>
                    <a:pt x="307" y="109"/>
                  </a:lnTo>
                  <a:lnTo>
                    <a:pt x="442" y="89"/>
                  </a:lnTo>
                  <a:lnTo>
                    <a:pt x="445" y="58"/>
                  </a:lnTo>
                  <a:lnTo>
                    <a:pt x="496" y="36"/>
                  </a:lnTo>
                  <a:lnTo>
                    <a:pt x="5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198840" y="3483000"/>
              <a:ext cx="2251080" cy="520560"/>
            </a:xfrm>
            <a:custGeom>
              <a:avLst/>
              <a:gdLst/>
              <a:ahLst/>
              <a:rect l="l" t="t" r="r" b="b"/>
              <a:pathLst>
                <a:path w="2837" h="656">
                  <a:moveTo>
                    <a:pt x="0" y="185"/>
                  </a:moveTo>
                  <a:lnTo>
                    <a:pt x="161" y="178"/>
                  </a:lnTo>
                  <a:lnTo>
                    <a:pt x="177" y="200"/>
                  </a:lnTo>
                  <a:lnTo>
                    <a:pt x="290" y="179"/>
                  </a:lnTo>
                  <a:lnTo>
                    <a:pt x="301" y="133"/>
                  </a:lnTo>
                  <a:lnTo>
                    <a:pt x="390" y="97"/>
                  </a:lnTo>
                  <a:lnTo>
                    <a:pt x="535" y="101"/>
                  </a:lnTo>
                  <a:lnTo>
                    <a:pt x="539" y="133"/>
                  </a:lnTo>
                  <a:lnTo>
                    <a:pt x="682" y="109"/>
                  </a:lnTo>
                  <a:lnTo>
                    <a:pt x="692" y="59"/>
                  </a:lnTo>
                  <a:lnTo>
                    <a:pt x="728" y="46"/>
                  </a:lnTo>
                  <a:lnTo>
                    <a:pt x="789" y="20"/>
                  </a:lnTo>
                  <a:lnTo>
                    <a:pt x="840" y="24"/>
                  </a:lnTo>
                  <a:lnTo>
                    <a:pt x="881" y="0"/>
                  </a:lnTo>
                  <a:lnTo>
                    <a:pt x="920" y="59"/>
                  </a:lnTo>
                  <a:lnTo>
                    <a:pt x="1129" y="128"/>
                  </a:lnTo>
                  <a:lnTo>
                    <a:pt x="1333" y="187"/>
                  </a:lnTo>
                  <a:lnTo>
                    <a:pt x="1456" y="237"/>
                  </a:lnTo>
                  <a:lnTo>
                    <a:pt x="1598" y="268"/>
                  </a:lnTo>
                  <a:lnTo>
                    <a:pt x="1651" y="297"/>
                  </a:lnTo>
                  <a:lnTo>
                    <a:pt x="1728" y="306"/>
                  </a:lnTo>
                  <a:lnTo>
                    <a:pt x="2124" y="429"/>
                  </a:lnTo>
                  <a:lnTo>
                    <a:pt x="2205" y="467"/>
                  </a:lnTo>
                  <a:lnTo>
                    <a:pt x="2248" y="467"/>
                  </a:lnTo>
                  <a:lnTo>
                    <a:pt x="2445" y="539"/>
                  </a:lnTo>
                  <a:lnTo>
                    <a:pt x="2502" y="547"/>
                  </a:lnTo>
                  <a:lnTo>
                    <a:pt x="2595" y="587"/>
                  </a:lnTo>
                  <a:lnTo>
                    <a:pt x="2837" y="656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243640" y="3948120"/>
              <a:ext cx="15840" cy="452160"/>
            </a:xfrm>
            <a:custGeom>
              <a:avLst/>
              <a:gdLst/>
              <a:ahLst/>
              <a:rect l="l" t="t" r="r" b="b"/>
              <a:pathLst>
                <a:path w="19" h="570">
                  <a:moveTo>
                    <a:pt x="19" y="0"/>
                  </a:moveTo>
                  <a:lnTo>
                    <a:pt x="0" y="28"/>
                  </a:lnTo>
                  <a:lnTo>
                    <a:pt x="6" y="321"/>
                  </a:lnTo>
                  <a:lnTo>
                    <a:pt x="6" y="448"/>
                  </a:lnTo>
                  <a:lnTo>
                    <a:pt x="6" y="516"/>
                  </a:lnTo>
                  <a:lnTo>
                    <a:pt x="8" y="57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110440" y="4221000"/>
              <a:ext cx="52200" cy="136440"/>
            </a:xfrm>
            <a:custGeom>
              <a:avLst/>
              <a:gdLst/>
              <a:ahLst/>
              <a:rect l="l" t="t" r="r" b="b"/>
              <a:pathLst>
                <a:path w="68" h="172">
                  <a:moveTo>
                    <a:pt x="68" y="14"/>
                  </a:moveTo>
                  <a:lnTo>
                    <a:pt x="0" y="0"/>
                  </a:lnTo>
                  <a:lnTo>
                    <a:pt x="7" y="17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099280" y="3919320"/>
              <a:ext cx="60120" cy="119160"/>
            </a:xfrm>
            <a:custGeom>
              <a:avLst/>
              <a:gdLst/>
              <a:ahLst/>
              <a:rect l="l" t="t" r="r" b="b"/>
              <a:pathLst>
                <a:path w="75" h="152">
                  <a:moveTo>
                    <a:pt x="0" y="142"/>
                  </a:moveTo>
                  <a:lnTo>
                    <a:pt x="75" y="152"/>
                  </a:lnTo>
                  <a:lnTo>
                    <a:pt x="6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13360" y="4201920"/>
              <a:ext cx="149400" cy="44640"/>
            </a:xfrm>
            <a:custGeom>
              <a:avLst/>
              <a:gdLst/>
              <a:ahLst/>
              <a:rect l="l" t="t" r="r" b="b"/>
              <a:pathLst>
                <a:path w="188" h="55">
                  <a:moveTo>
                    <a:pt x="0" y="15"/>
                  </a:moveTo>
                  <a:lnTo>
                    <a:pt x="45" y="55"/>
                  </a:lnTo>
                  <a:lnTo>
                    <a:pt x="88" y="47"/>
                  </a:lnTo>
                  <a:lnTo>
                    <a:pt x="129" y="0"/>
                  </a:lnTo>
                  <a:lnTo>
                    <a:pt x="188" y="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707240" y="4213080"/>
              <a:ext cx="75960" cy="149400"/>
            </a:xfrm>
            <a:custGeom>
              <a:avLst/>
              <a:gdLst/>
              <a:ahLst/>
              <a:rect l="l" t="t" r="r" b="b"/>
              <a:pathLst>
                <a:path w="96" h="187">
                  <a:moveTo>
                    <a:pt x="96" y="32"/>
                  </a:moveTo>
                  <a:lnTo>
                    <a:pt x="37" y="71"/>
                  </a:lnTo>
                  <a:lnTo>
                    <a:pt x="39" y="183"/>
                  </a:lnTo>
                  <a:lnTo>
                    <a:pt x="0" y="187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399080" y="3860640"/>
              <a:ext cx="39600" cy="488880"/>
            </a:xfrm>
            <a:custGeom>
              <a:avLst/>
              <a:gdLst/>
              <a:ahLst/>
              <a:rect l="l" t="t" r="r" b="b"/>
              <a:pathLst>
                <a:path w="51" h="617">
                  <a:moveTo>
                    <a:pt x="51" y="354"/>
                  </a:moveTo>
                  <a:lnTo>
                    <a:pt x="51" y="111"/>
                  </a:lnTo>
                  <a:lnTo>
                    <a:pt x="51" y="7"/>
                  </a:lnTo>
                  <a:lnTo>
                    <a:pt x="0" y="0"/>
                  </a:lnTo>
                  <a:lnTo>
                    <a:pt x="12" y="6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362720" y="4146480"/>
              <a:ext cx="36360" cy="203040"/>
            </a:xfrm>
            <a:custGeom>
              <a:avLst/>
              <a:gdLst/>
              <a:ahLst/>
              <a:rect l="l" t="t" r="r" b="b"/>
              <a:pathLst>
                <a:path w="47" h="255">
                  <a:moveTo>
                    <a:pt x="47" y="0"/>
                  </a:moveTo>
                  <a:lnTo>
                    <a:pt x="4" y="3"/>
                  </a:lnTo>
                  <a:lnTo>
                    <a:pt x="0" y="35"/>
                  </a:lnTo>
                  <a:lnTo>
                    <a:pt x="4" y="2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211880" y="4132080"/>
              <a:ext cx="46080" cy="206280"/>
            </a:xfrm>
            <a:custGeom>
              <a:avLst/>
              <a:gdLst/>
              <a:ahLst/>
              <a:rect l="l" t="t" r="r" b="b"/>
              <a:pathLst>
                <a:path w="58" h="259">
                  <a:moveTo>
                    <a:pt x="58" y="1"/>
                  </a:moveTo>
                  <a:lnTo>
                    <a:pt x="0" y="0"/>
                  </a:lnTo>
                  <a:lnTo>
                    <a:pt x="0" y="2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142040" y="3600360"/>
              <a:ext cx="27000" cy="738000"/>
            </a:xfrm>
            <a:custGeom>
              <a:avLst/>
              <a:gdLst/>
              <a:ahLst/>
              <a:rect l="l" t="t" r="r" b="b"/>
              <a:pathLst>
                <a:path w="32" h="931">
                  <a:moveTo>
                    <a:pt x="0" y="0"/>
                  </a:moveTo>
                  <a:lnTo>
                    <a:pt x="20" y="172"/>
                  </a:lnTo>
                  <a:lnTo>
                    <a:pt x="32" y="9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986520" y="3754440"/>
              <a:ext cx="50760" cy="571320"/>
            </a:xfrm>
            <a:custGeom>
              <a:avLst/>
              <a:gdLst/>
              <a:ahLst/>
              <a:rect l="l" t="t" r="r" b="b"/>
              <a:pathLst>
                <a:path w="62" h="720">
                  <a:moveTo>
                    <a:pt x="62" y="460"/>
                  </a:moveTo>
                  <a:lnTo>
                    <a:pt x="43" y="0"/>
                  </a:lnTo>
                  <a:lnTo>
                    <a:pt x="0" y="4"/>
                  </a:lnTo>
                  <a:lnTo>
                    <a:pt x="0" y="7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986520" y="3546360"/>
              <a:ext cx="50760" cy="210960"/>
            </a:xfrm>
            <a:custGeom>
              <a:avLst/>
              <a:gdLst/>
              <a:ahLst/>
              <a:rect l="l" t="t" r="r" b="b"/>
              <a:pathLst>
                <a:path w="63" h="266">
                  <a:moveTo>
                    <a:pt x="0" y="266"/>
                  </a:moveTo>
                  <a:lnTo>
                    <a:pt x="3" y="69"/>
                  </a:lnTo>
                  <a:lnTo>
                    <a:pt x="63" y="33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921360" y="3530520"/>
              <a:ext cx="9360" cy="795240"/>
            </a:xfrm>
            <a:custGeom>
              <a:avLst/>
              <a:gdLst/>
              <a:ahLst/>
              <a:rect l="l" t="t" r="r" b="b"/>
              <a:pathLst>
                <a:path w="11" h="1004">
                  <a:moveTo>
                    <a:pt x="11" y="0"/>
                  </a:moveTo>
                  <a:lnTo>
                    <a:pt x="0" y="19"/>
                  </a:lnTo>
                  <a:lnTo>
                    <a:pt x="3" y="729"/>
                  </a:lnTo>
                  <a:lnTo>
                    <a:pt x="6" y="939"/>
                  </a:lnTo>
                  <a:lnTo>
                    <a:pt x="11" y="100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719840" y="4249440"/>
              <a:ext cx="12600" cy="100080"/>
            </a:xfrm>
            <a:custGeom>
              <a:avLst/>
              <a:gdLst/>
              <a:ahLst/>
              <a:rect l="l" t="t" r="r" b="b"/>
              <a:pathLst>
                <a:path w="15" h="127">
                  <a:moveTo>
                    <a:pt x="15" y="14"/>
                  </a:moveTo>
                  <a:lnTo>
                    <a:pt x="0" y="127"/>
                  </a:lnTo>
                  <a:lnTo>
                    <a:pt x="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7853040" y="4360320"/>
              <a:ext cx="32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8156160" y="3931920"/>
              <a:ext cx="4140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918120" y="3530520"/>
              <a:ext cx="120600" cy="798480"/>
            </a:xfrm>
            <a:custGeom>
              <a:avLst/>
              <a:gdLst/>
              <a:ahLst/>
              <a:rect l="l" t="t" r="r" b="b"/>
              <a:pathLst>
                <a:path w="152" h="1005">
                  <a:moveTo>
                    <a:pt x="19" y="1001"/>
                  </a:moveTo>
                  <a:lnTo>
                    <a:pt x="11" y="962"/>
                  </a:lnTo>
                  <a:lnTo>
                    <a:pt x="7" y="335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152" y="49"/>
                  </a:lnTo>
                  <a:lnTo>
                    <a:pt x="91" y="88"/>
                  </a:lnTo>
                  <a:lnTo>
                    <a:pt x="91" y="191"/>
                  </a:lnTo>
                  <a:lnTo>
                    <a:pt x="83" y="237"/>
                  </a:lnTo>
                  <a:lnTo>
                    <a:pt x="83" y="1005"/>
                  </a:lnTo>
                  <a:lnTo>
                    <a:pt x="19" y="100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142040" y="3595680"/>
              <a:ext cx="122040" cy="742680"/>
            </a:xfrm>
            <a:custGeom>
              <a:avLst/>
              <a:gdLst/>
              <a:ahLst/>
              <a:rect l="l" t="t" r="r" b="b"/>
              <a:pathLst>
                <a:path w="152" h="934">
                  <a:moveTo>
                    <a:pt x="34" y="934"/>
                  </a:moveTo>
                  <a:lnTo>
                    <a:pt x="23" y="240"/>
                  </a:lnTo>
                  <a:lnTo>
                    <a:pt x="7" y="67"/>
                  </a:lnTo>
                  <a:lnTo>
                    <a:pt x="0" y="0"/>
                  </a:lnTo>
                  <a:lnTo>
                    <a:pt x="144" y="47"/>
                  </a:lnTo>
                  <a:lnTo>
                    <a:pt x="152" y="71"/>
                  </a:lnTo>
                  <a:lnTo>
                    <a:pt x="82" y="108"/>
                  </a:lnTo>
                  <a:lnTo>
                    <a:pt x="89" y="934"/>
                  </a:lnTo>
                  <a:lnTo>
                    <a:pt x="34" y="9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948440" y="3852720"/>
              <a:ext cx="39600" cy="538200"/>
            </a:xfrm>
            <a:custGeom>
              <a:avLst/>
              <a:gdLst/>
              <a:ahLst/>
              <a:rect l="l" t="t" r="r" b="b"/>
              <a:pathLst>
                <a:path w="52" h="678">
                  <a:moveTo>
                    <a:pt x="33" y="678"/>
                  </a:moveTo>
                  <a:lnTo>
                    <a:pt x="11" y="162"/>
                  </a:lnTo>
                  <a:lnTo>
                    <a:pt x="0" y="1"/>
                  </a:lnTo>
                  <a:lnTo>
                    <a:pt x="27" y="0"/>
                  </a:lnTo>
                  <a:lnTo>
                    <a:pt x="52" y="678"/>
                  </a:lnTo>
                  <a:lnTo>
                    <a:pt x="33" y="678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049800" y="3671640"/>
              <a:ext cx="127080" cy="671760"/>
            </a:xfrm>
            <a:custGeom>
              <a:avLst/>
              <a:gdLst/>
              <a:ahLst/>
              <a:rect l="l" t="t" r="r" b="b"/>
              <a:pathLst>
                <a:path w="161" h="847">
                  <a:moveTo>
                    <a:pt x="30" y="847"/>
                  </a:moveTo>
                  <a:lnTo>
                    <a:pt x="19" y="626"/>
                  </a:lnTo>
                  <a:lnTo>
                    <a:pt x="4" y="193"/>
                  </a:lnTo>
                  <a:lnTo>
                    <a:pt x="0" y="17"/>
                  </a:lnTo>
                  <a:lnTo>
                    <a:pt x="135" y="0"/>
                  </a:lnTo>
                  <a:lnTo>
                    <a:pt x="135" y="34"/>
                  </a:lnTo>
                  <a:lnTo>
                    <a:pt x="135" y="65"/>
                  </a:lnTo>
                  <a:lnTo>
                    <a:pt x="135" y="91"/>
                  </a:lnTo>
                  <a:lnTo>
                    <a:pt x="147" y="110"/>
                  </a:lnTo>
                  <a:lnTo>
                    <a:pt x="150" y="137"/>
                  </a:lnTo>
                  <a:lnTo>
                    <a:pt x="161" y="157"/>
                  </a:lnTo>
                  <a:lnTo>
                    <a:pt x="151" y="168"/>
                  </a:lnTo>
                  <a:lnTo>
                    <a:pt x="151" y="181"/>
                  </a:lnTo>
                  <a:lnTo>
                    <a:pt x="154" y="218"/>
                  </a:lnTo>
                  <a:lnTo>
                    <a:pt x="141" y="260"/>
                  </a:lnTo>
                  <a:lnTo>
                    <a:pt x="158" y="596"/>
                  </a:lnTo>
                  <a:lnTo>
                    <a:pt x="151" y="844"/>
                  </a:lnTo>
                  <a:lnTo>
                    <a:pt x="30" y="84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345000" y="3625560"/>
              <a:ext cx="101520" cy="709920"/>
            </a:xfrm>
            <a:custGeom>
              <a:avLst/>
              <a:gdLst/>
              <a:ahLst/>
              <a:rect l="l" t="t" r="r" b="b"/>
              <a:pathLst>
                <a:path w="128" h="894">
                  <a:moveTo>
                    <a:pt x="17" y="894"/>
                  </a:moveTo>
                  <a:lnTo>
                    <a:pt x="4" y="369"/>
                  </a:lnTo>
                  <a:lnTo>
                    <a:pt x="0" y="111"/>
                  </a:lnTo>
                  <a:lnTo>
                    <a:pt x="0" y="19"/>
                  </a:lnTo>
                  <a:lnTo>
                    <a:pt x="106" y="0"/>
                  </a:lnTo>
                  <a:lnTo>
                    <a:pt x="117" y="307"/>
                  </a:lnTo>
                  <a:lnTo>
                    <a:pt x="120" y="609"/>
                  </a:lnTo>
                  <a:lnTo>
                    <a:pt x="128" y="888"/>
                  </a:lnTo>
                  <a:lnTo>
                    <a:pt x="17" y="8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13200" y="3570120"/>
              <a:ext cx="157320" cy="758880"/>
            </a:xfrm>
            <a:custGeom>
              <a:avLst/>
              <a:gdLst/>
              <a:ahLst/>
              <a:rect l="l" t="t" r="r" b="b"/>
              <a:pathLst>
                <a:path w="197" h="958">
                  <a:moveTo>
                    <a:pt x="28" y="958"/>
                  </a:moveTo>
                  <a:lnTo>
                    <a:pt x="17" y="717"/>
                  </a:lnTo>
                  <a:lnTo>
                    <a:pt x="16" y="534"/>
                  </a:lnTo>
                  <a:lnTo>
                    <a:pt x="16" y="459"/>
                  </a:lnTo>
                  <a:lnTo>
                    <a:pt x="15" y="367"/>
                  </a:lnTo>
                  <a:lnTo>
                    <a:pt x="11" y="319"/>
                  </a:lnTo>
                  <a:lnTo>
                    <a:pt x="7" y="292"/>
                  </a:lnTo>
                  <a:lnTo>
                    <a:pt x="0" y="265"/>
                  </a:lnTo>
                  <a:lnTo>
                    <a:pt x="11" y="208"/>
                  </a:lnTo>
                  <a:lnTo>
                    <a:pt x="13" y="146"/>
                  </a:lnTo>
                  <a:lnTo>
                    <a:pt x="13" y="78"/>
                  </a:lnTo>
                  <a:lnTo>
                    <a:pt x="161" y="0"/>
                  </a:lnTo>
                  <a:lnTo>
                    <a:pt x="167" y="330"/>
                  </a:lnTo>
                  <a:lnTo>
                    <a:pt x="170" y="639"/>
                  </a:lnTo>
                  <a:lnTo>
                    <a:pt x="171" y="743"/>
                  </a:lnTo>
                  <a:lnTo>
                    <a:pt x="185" y="760"/>
                  </a:lnTo>
                  <a:lnTo>
                    <a:pt x="197" y="817"/>
                  </a:lnTo>
                  <a:lnTo>
                    <a:pt x="185" y="890"/>
                  </a:lnTo>
                  <a:lnTo>
                    <a:pt x="152" y="954"/>
                  </a:lnTo>
                  <a:lnTo>
                    <a:pt x="28" y="95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497200" y="3711600"/>
              <a:ext cx="165240" cy="60120"/>
            </a:xfrm>
            <a:custGeom>
              <a:avLst/>
              <a:gdLst/>
              <a:ahLst/>
              <a:rect l="l" t="t" r="r" b="b"/>
              <a:pathLst>
                <a:path w="210" h="75">
                  <a:moveTo>
                    <a:pt x="92" y="75"/>
                  </a:moveTo>
                  <a:lnTo>
                    <a:pt x="72" y="43"/>
                  </a:lnTo>
                  <a:lnTo>
                    <a:pt x="0" y="40"/>
                  </a:lnTo>
                  <a:lnTo>
                    <a:pt x="183" y="0"/>
                  </a:lnTo>
                  <a:lnTo>
                    <a:pt x="210" y="4"/>
                  </a:lnTo>
                  <a:lnTo>
                    <a:pt x="177" y="55"/>
                  </a:lnTo>
                  <a:lnTo>
                    <a:pt x="92" y="75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571720" y="3755880"/>
              <a:ext cx="98640" cy="609480"/>
            </a:xfrm>
            <a:custGeom>
              <a:avLst/>
              <a:gdLst/>
              <a:ahLst/>
              <a:rect l="l" t="t" r="r" b="b"/>
              <a:pathLst>
                <a:path w="124" h="769">
                  <a:moveTo>
                    <a:pt x="25" y="769"/>
                  </a:moveTo>
                  <a:lnTo>
                    <a:pt x="5" y="123"/>
                  </a:lnTo>
                  <a:lnTo>
                    <a:pt x="0" y="20"/>
                  </a:lnTo>
                  <a:lnTo>
                    <a:pt x="88" y="0"/>
                  </a:lnTo>
                  <a:lnTo>
                    <a:pt x="115" y="590"/>
                  </a:lnTo>
                  <a:lnTo>
                    <a:pt x="124" y="764"/>
                  </a:lnTo>
                  <a:lnTo>
                    <a:pt x="25" y="7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797440" y="3720960"/>
              <a:ext cx="102960" cy="636480"/>
            </a:xfrm>
            <a:custGeom>
              <a:avLst/>
              <a:gdLst/>
              <a:ahLst/>
              <a:rect l="l" t="t" r="r" b="b"/>
              <a:pathLst>
                <a:path w="129" h="803">
                  <a:moveTo>
                    <a:pt x="31" y="803"/>
                  </a:moveTo>
                  <a:lnTo>
                    <a:pt x="17" y="403"/>
                  </a:lnTo>
                  <a:lnTo>
                    <a:pt x="0" y="22"/>
                  </a:lnTo>
                  <a:lnTo>
                    <a:pt x="101" y="0"/>
                  </a:lnTo>
                  <a:lnTo>
                    <a:pt x="129" y="797"/>
                  </a:lnTo>
                  <a:lnTo>
                    <a:pt x="31" y="80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481520" y="4151160"/>
              <a:ext cx="47880" cy="174600"/>
            </a:xfrm>
            <a:custGeom>
              <a:avLst/>
              <a:gdLst/>
              <a:ahLst/>
              <a:rect l="l" t="t" r="r" b="b"/>
              <a:pathLst>
                <a:path w="60" h="222">
                  <a:moveTo>
                    <a:pt x="60" y="0"/>
                  </a:moveTo>
                  <a:lnTo>
                    <a:pt x="0" y="0"/>
                  </a:lnTo>
                  <a:lnTo>
                    <a:pt x="0" y="2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438680" y="4144680"/>
              <a:ext cx="42840" cy="177840"/>
            </a:xfrm>
            <a:custGeom>
              <a:avLst/>
              <a:gdLst/>
              <a:ahLst/>
              <a:rect l="l" t="t" r="r" b="b"/>
              <a:pathLst>
                <a:path w="53" h="224">
                  <a:moveTo>
                    <a:pt x="53" y="7"/>
                  </a:moveTo>
                  <a:lnTo>
                    <a:pt x="0" y="0"/>
                  </a:lnTo>
                  <a:lnTo>
                    <a:pt x="0" y="143"/>
                  </a:lnTo>
                  <a:lnTo>
                    <a:pt x="0" y="2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7454520" y="371952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397640" y="3720960"/>
              <a:ext cx="56880" cy="138240"/>
            </a:xfrm>
            <a:custGeom>
              <a:avLst/>
              <a:gdLst/>
              <a:ahLst/>
              <a:rect l="l" t="t" r="r" b="b"/>
              <a:pathLst>
                <a:path w="72" h="173">
                  <a:moveTo>
                    <a:pt x="72" y="0"/>
                  </a:moveTo>
                  <a:lnTo>
                    <a:pt x="0" y="23"/>
                  </a:lnTo>
                  <a:lnTo>
                    <a:pt x="0" y="17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38680" y="3767040"/>
              <a:ext cx="1800" cy="96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 flipV="1">
              <a:off x="7480080" y="38318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89440" y="3765600"/>
              <a:ext cx="39960" cy="12348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0" y="0"/>
                  </a:moveTo>
                  <a:lnTo>
                    <a:pt x="0" y="130"/>
                  </a:lnTo>
                  <a:lnTo>
                    <a:pt x="50" y="1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484760" y="387324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 flipV="1">
              <a:off x="7438320" y="3866760"/>
              <a:ext cx="3996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7489440" y="372060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7664040" y="4168440"/>
              <a:ext cx="43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 flipV="1">
              <a:off x="7603920" y="4160880"/>
              <a:ext cx="5400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 flipV="1">
              <a:off x="7571880" y="4158720"/>
              <a:ext cx="298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562520" y="4221000"/>
              <a:ext cx="6480" cy="135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535520" y="4222800"/>
              <a:ext cx="1800" cy="131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7603920" y="4262400"/>
              <a:ext cx="1440" cy="68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7603920" y="4065120"/>
              <a:ext cx="1440" cy="196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661160" y="4025880"/>
              <a:ext cx="1440" cy="315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826040" y="4230720"/>
              <a:ext cx="1800" cy="11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786440" y="4255920"/>
              <a:ext cx="1440" cy="9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292960" y="4084560"/>
              <a:ext cx="21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226360" y="4057560"/>
              <a:ext cx="2880" cy="312840"/>
            </a:xfrm>
            <a:custGeom>
              <a:avLst/>
              <a:gdLst/>
              <a:ahLst/>
              <a:rect l="l" t="t" r="r" b="b"/>
              <a:pathLst>
                <a:path w="5" h="393">
                  <a:moveTo>
                    <a:pt x="5" y="393"/>
                  </a:moveTo>
                  <a:lnTo>
                    <a:pt x="3" y="115"/>
                  </a:lnTo>
                  <a:lnTo>
                    <a:pt x="3" y="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194320" y="4079880"/>
              <a:ext cx="5040" cy="293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159400" y="4047840"/>
              <a:ext cx="3240" cy="17784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3" y="81"/>
                  </a:moveTo>
                  <a:lnTo>
                    <a:pt x="0" y="129"/>
                  </a:lnTo>
                  <a:lnTo>
                    <a:pt x="0" y="2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231040" y="4228920"/>
              <a:ext cx="1584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553000" y="3701880"/>
              <a:ext cx="91800" cy="4464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112" y="0"/>
                  </a:moveTo>
                  <a:lnTo>
                    <a:pt x="108" y="2"/>
                  </a:lnTo>
                  <a:lnTo>
                    <a:pt x="0" y="31"/>
                  </a:lnTo>
                  <a:lnTo>
                    <a:pt x="6" y="57"/>
                  </a:lnTo>
                  <a:lnTo>
                    <a:pt x="115" y="26"/>
                  </a:lnTo>
                  <a:lnTo>
                    <a:pt x="112" y="26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8" y="2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641560" y="3701880"/>
              <a:ext cx="55800" cy="19080"/>
            </a:xfrm>
            <a:custGeom>
              <a:avLst/>
              <a:gdLst/>
              <a:ahLst/>
              <a:rect l="l" t="t" r="r" b="b"/>
              <a:pathLst>
                <a:path w="69" h="26">
                  <a:moveTo>
                    <a:pt x="61" y="2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5" y="26"/>
                  </a:lnTo>
                  <a:lnTo>
                    <a:pt x="69" y="26"/>
                  </a:lnTo>
                  <a:lnTo>
                    <a:pt x="65" y="26"/>
                  </a:lnTo>
                  <a:lnTo>
                    <a:pt x="66" y="26"/>
                  </a:lnTo>
                  <a:lnTo>
                    <a:pt x="69" y="26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690880" y="3671640"/>
              <a:ext cx="85680" cy="4932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08" y="1"/>
                  </a:moveTo>
                  <a:lnTo>
                    <a:pt x="100" y="1"/>
                  </a:lnTo>
                  <a:lnTo>
                    <a:pt x="0" y="38"/>
                  </a:lnTo>
                  <a:lnTo>
                    <a:pt x="8" y="62"/>
                  </a:lnTo>
                  <a:lnTo>
                    <a:pt x="108" y="25"/>
                  </a:lnTo>
                  <a:lnTo>
                    <a:pt x="100" y="27"/>
                  </a:lnTo>
                  <a:lnTo>
                    <a:pt x="108" y="1"/>
                  </a:lnTo>
                  <a:lnTo>
                    <a:pt x="104" y="0"/>
                  </a:lnTo>
                  <a:lnTo>
                    <a:pt x="100" y="1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70440" y="3673440"/>
              <a:ext cx="66600" cy="3960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73" y="24"/>
                  </a:moveTo>
                  <a:lnTo>
                    <a:pt x="82" y="23"/>
                  </a:lnTo>
                  <a:lnTo>
                    <a:pt x="8" y="0"/>
                  </a:lnTo>
                  <a:lnTo>
                    <a:pt x="0" y="26"/>
                  </a:lnTo>
                  <a:lnTo>
                    <a:pt x="75" y="49"/>
                  </a:lnTo>
                  <a:lnTo>
                    <a:pt x="85" y="47"/>
                  </a:lnTo>
                  <a:lnTo>
                    <a:pt x="75" y="49"/>
                  </a:lnTo>
                  <a:lnTo>
                    <a:pt x="81" y="50"/>
                  </a:lnTo>
                  <a:lnTo>
                    <a:pt x="85" y="47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827320" y="3678120"/>
              <a:ext cx="39960" cy="334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29" y="2"/>
                  </a:moveTo>
                  <a:lnTo>
                    <a:pt x="33" y="0"/>
                  </a:lnTo>
                  <a:lnTo>
                    <a:pt x="0" y="17"/>
                  </a:lnTo>
                  <a:lnTo>
                    <a:pt x="12" y="40"/>
                  </a:lnTo>
                  <a:lnTo>
                    <a:pt x="45" y="23"/>
                  </a:lnTo>
                  <a:lnTo>
                    <a:pt x="48" y="20"/>
                  </a:lnTo>
                  <a:lnTo>
                    <a:pt x="45" y="23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851440" y="3659040"/>
              <a:ext cx="34920" cy="3672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7" y="0"/>
                  </a:moveTo>
                  <a:lnTo>
                    <a:pt x="25" y="2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873400" y="3635280"/>
              <a:ext cx="42840" cy="396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45" y="0"/>
                  </a:moveTo>
                  <a:lnTo>
                    <a:pt x="39" y="3"/>
                  </a:lnTo>
                  <a:lnTo>
                    <a:pt x="0" y="31"/>
                  </a:lnTo>
                  <a:lnTo>
                    <a:pt x="15" y="52"/>
                  </a:lnTo>
                  <a:lnTo>
                    <a:pt x="54" y="23"/>
                  </a:lnTo>
                  <a:lnTo>
                    <a:pt x="49" y="26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08320" y="3622680"/>
              <a:ext cx="74880" cy="3312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89" y="0"/>
                  </a:moveTo>
                  <a:lnTo>
                    <a:pt x="89" y="0"/>
                  </a:lnTo>
                  <a:lnTo>
                    <a:pt x="0" y="16"/>
                  </a:lnTo>
                  <a:lnTo>
                    <a:pt x="4" y="42"/>
                  </a:lnTo>
                  <a:lnTo>
                    <a:pt x="93" y="26"/>
                  </a:lnTo>
                  <a:lnTo>
                    <a:pt x="93" y="26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979960" y="3589200"/>
              <a:ext cx="234720" cy="52560"/>
            </a:xfrm>
            <a:custGeom>
              <a:avLst/>
              <a:gdLst/>
              <a:ahLst/>
              <a:rect l="l" t="t" r="r" b="b"/>
              <a:pathLst>
                <a:path w="297" h="66">
                  <a:moveTo>
                    <a:pt x="293" y="0"/>
                  </a:moveTo>
                  <a:lnTo>
                    <a:pt x="293" y="0"/>
                  </a:lnTo>
                  <a:lnTo>
                    <a:pt x="0" y="40"/>
                  </a:lnTo>
                  <a:lnTo>
                    <a:pt x="4" y="66"/>
                  </a:lnTo>
                  <a:lnTo>
                    <a:pt x="297" y="24"/>
                  </a:lnTo>
                  <a:lnTo>
                    <a:pt x="297" y="24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211800" y="3539880"/>
              <a:ext cx="298440" cy="69840"/>
            </a:xfrm>
            <a:custGeom>
              <a:avLst/>
              <a:gdLst/>
              <a:ahLst/>
              <a:rect l="l" t="t" r="r" b="b"/>
              <a:pathLst>
                <a:path w="376" h="88">
                  <a:moveTo>
                    <a:pt x="368" y="0"/>
                  </a:moveTo>
                  <a:lnTo>
                    <a:pt x="370" y="0"/>
                  </a:lnTo>
                  <a:lnTo>
                    <a:pt x="0" y="64"/>
                  </a:lnTo>
                  <a:lnTo>
                    <a:pt x="4" y="88"/>
                  </a:lnTo>
                  <a:lnTo>
                    <a:pt x="374" y="25"/>
                  </a:lnTo>
                  <a:lnTo>
                    <a:pt x="376" y="25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503760" y="3506760"/>
              <a:ext cx="119160" cy="5220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146" y="0"/>
                  </a:moveTo>
                  <a:lnTo>
                    <a:pt x="143" y="0"/>
                  </a:lnTo>
                  <a:lnTo>
                    <a:pt x="0" y="42"/>
                  </a:lnTo>
                  <a:lnTo>
                    <a:pt x="8" y="67"/>
                  </a:lnTo>
                  <a:lnTo>
                    <a:pt x="151" y="26"/>
                  </a:lnTo>
                  <a:lnTo>
                    <a:pt x="150" y="2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619680" y="3477960"/>
              <a:ext cx="179280" cy="49320"/>
            </a:xfrm>
            <a:custGeom>
              <a:avLst/>
              <a:gdLst/>
              <a:ahLst/>
              <a:rect l="l" t="t" r="r" b="b"/>
              <a:pathLst>
                <a:path w="225" h="61">
                  <a:moveTo>
                    <a:pt x="220" y="0"/>
                  </a:moveTo>
                  <a:lnTo>
                    <a:pt x="221" y="0"/>
                  </a:lnTo>
                  <a:lnTo>
                    <a:pt x="0" y="35"/>
                  </a:lnTo>
                  <a:lnTo>
                    <a:pt x="4" y="61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94280" y="3458880"/>
              <a:ext cx="106200" cy="381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108" y="12"/>
                  </a:moveTo>
                  <a:lnTo>
                    <a:pt x="119" y="0"/>
                  </a:lnTo>
                  <a:lnTo>
                    <a:pt x="0" y="24"/>
                  </a:lnTo>
                  <a:lnTo>
                    <a:pt x="5" y="49"/>
                  </a:lnTo>
                  <a:lnTo>
                    <a:pt x="123" y="24"/>
                  </a:lnTo>
                  <a:lnTo>
                    <a:pt x="133" y="12"/>
                  </a:lnTo>
                  <a:lnTo>
                    <a:pt x="123" y="24"/>
                  </a:lnTo>
                  <a:lnTo>
                    <a:pt x="133" y="23"/>
                  </a:lnTo>
                  <a:lnTo>
                    <a:pt x="133" y="12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879960" y="3213000"/>
              <a:ext cx="20520" cy="255600"/>
            </a:xfrm>
            <a:custGeom>
              <a:avLst/>
              <a:gdLst/>
              <a:ahLst/>
              <a:rect l="l" t="t" r="r" b="b"/>
              <a:pathLst>
                <a:path w="25" h="323">
                  <a:moveTo>
                    <a:pt x="12" y="0"/>
                  </a:moveTo>
                  <a:lnTo>
                    <a:pt x="0" y="0"/>
                  </a:lnTo>
                  <a:lnTo>
                    <a:pt x="0" y="323"/>
                  </a:lnTo>
                  <a:lnTo>
                    <a:pt x="25" y="323"/>
                  </a:lnTo>
                  <a:lnTo>
                    <a:pt x="2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30680" y="3878280"/>
              <a:ext cx="61920" cy="488880"/>
            </a:xfrm>
            <a:custGeom>
              <a:avLst/>
              <a:gdLst/>
              <a:ahLst/>
              <a:rect l="l" t="t" r="r" b="b"/>
              <a:pathLst>
                <a:path w="77" h="616">
                  <a:moveTo>
                    <a:pt x="76" y="616"/>
                  </a:moveTo>
                  <a:lnTo>
                    <a:pt x="57" y="0"/>
                  </a:lnTo>
                  <a:lnTo>
                    <a:pt x="0" y="15"/>
                  </a:lnTo>
                  <a:lnTo>
                    <a:pt x="13" y="262"/>
                  </a:lnTo>
                  <a:lnTo>
                    <a:pt x="17" y="423"/>
                  </a:lnTo>
                  <a:lnTo>
                    <a:pt x="42" y="413"/>
                  </a:lnTo>
                  <a:lnTo>
                    <a:pt x="71" y="419"/>
                  </a:lnTo>
                  <a:lnTo>
                    <a:pt x="77" y="60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62280" y="4209840"/>
              <a:ext cx="81000" cy="648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3" y="0"/>
                  </a:moveTo>
                  <a:lnTo>
                    <a:pt x="55" y="0"/>
                  </a:lnTo>
                  <a:lnTo>
                    <a:pt x="28" y="4"/>
                  </a:lnTo>
                  <a:lnTo>
                    <a:pt x="0" y="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43280" y="4144680"/>
              <a:ext cx="7920" cy="225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489280" y="3800520"/>
              <a:ext cx="17640" cy="561960"/>
            </a:xfrm>
            <a:custGeom>
              <a:avLst/>
              <a:gdLst/>
              <a:ahLst/>
              <a:rect l="l" t="t" r="r" b="b"/>
              <a:pathLst>
                <a:path w="21" h="707">
                  <a:moveTo>
                    <a:pt x="21" y="707"/>
                  </a:moveTo>
                  <a:lnTo>
                    <a:pt x="16" y="38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5454000" y="3892320"/>
              <a:ext cx="50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5530680" y="3792240"/>
              <a:ext cx="1440" cy="9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640120" y="3727440"/>
              <a:ext cx="42840" cy="144360"/>
            </a:xfrm>
            <a:custGeom>
              <a:avLst/>
              <a:gdLst/>
              <a:ahLst/>
              <a:rect l="l" t="t" r="r" b="b"/>
              <a:pathLst>
                <a:path w="54" h="181">
                  <a:moveTo>
                    <a:pt x="19" y="0"/>
                  </a:moveTo>
                  <a:lnTo>
                    <a:pt x="0" y="35"/>
                  </a:lnTo>
                  <a:lnTo>
                    <a:pt x="3" y="181"/>
                  </a:lnTo>
                  <a:lnTo>
                    <a:pt x="54" y="171"/>
                  </a:lnTo>
                  <a:lnTo>
                    <a:pt x="50" y="2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662440" y="3851280"/>
              <a:ext cx="88920" cy="12600"/>
            </a:xfrm>
            <a:custGeom>
              <a:avLst/>
              <a:gdLst/>
              <a:ahLst/>
              <a:rect l="l" t="t" r="r" b="b"/>
              <a:pathLst>
                <a:path w="114" h="16">
                  <a:moveTo>
                    <a:pt x="0" y="16"/>
                  </a:moveTo>
                  <a:lnTo>
                    <a:pt x="60" y="0"/>
                  </a:lnTo>
                  <a:lnTo>
                    <a:pt x="1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721120" y="3701880"/>
              <a:ext cx="93600" cy="511200"/>
            </a:xfrm>
            <a:custGeom>
              <a:avLst/>
              <a:gdLst/>
              <a:ahLst/>
              <a:rect l="l" t="t" r="r" b="b"/>
              <a:pathLst>
                <a:path w="116" h="642">
                  <a:moveTo>
                    <a:pt x="0" y="0"/>
                  </a:moveTo>
                  <a:lnTo>
                    <a:pt x="21" y="12"/>
                  </a:lnTo>
                  <a:lnTo>
                    <a:pt x="19" y="51"/>
                  </a:lnTo>
                  <a:lnTo>
                    <a:pt x="40" y="193"/>
                  </a:lnTo>
                  <a:lnTo>
                    <a:pt x="43" y="247"/>
                  </a:lnTo>
                  <a:lnTo>
                    <a:pt x="59" y="632"/>
                  </a:lnTo>
                  <a:lnTo>
                    <a:pt x="116" y="642"/>
                  </a:lnTo>
                  <a:lnTo>
                    <a:pt x="108" y="220"/>
                  </a:lnTo>
                  <a:lnTo>
                    <a:pt x="92" y="13"/>
                  </a:lnTo>
                  <a:lnTo>
                    <a:pt x="4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814720" y="4213080"/>
              <a:ext cx="6480" cy="144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768640" y="4206600"/>
              <a:ext cx="6480" cy="141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698800" y="4206600"/>
              <a:ext cx="52560" cy="138240"/>
            </a:xfrm>
            <a:custGeom>
              <a:avLst/>
              <a:gdLst/>
              <a:ahLst/>
              <a:rect l="l" t="t" r="r" b="b"/>
              <a:pathLst>
                <a:path w="65" h="172">
                  <a:moveTo>
                    <a:pt x="65" y="0"/>
                  </a:moveTo>
                  <a:lnTo>
                    <a:pt x="0" y="5"/>
                  </a:lnTo>
                  <a:lnTo>
                    <a:pt x="9" y="17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657760" y="4211640"/>
              <a:ext cx="41040" cy="152280"/>
            </a:xfrm>
            <a:custGeom>
              <a:avLst/>
              <a:gdLst/>
              <a:ahLst/>
              <a:rect l="l" t="t" r="r" b="b"/>
              <a:pathLst>
                <a:path w="52" h="192">
                  <a:moveTo>
                    <a:pt x="52" y="0"/>
                  </a:moveTo>
                  <a:lnTo>
                    <a:pt x="9" y="1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 flipV="1">
              <a:off x="5641200" y="3873240"/>
              <a:ext cx="24120" cy="339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2960" y="3863880"/>
              <a:ext cx="15840" cy="345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735520" y="3851280"/>
              <a:ext cx="69840" cy="9360"/>
            </a:xfrm>
            <a:custGeom>
              <a:avLst/>
              <a:gdLst/>
              <a:ahLst/>
              <a:rect l="l" t="t" r="r" b="b"/>
              <a:pathLst>
                <a:path w="88" h="12">
                  <a:moveTo>
                    <a:pt x="10" y="12"/>
                  </a:moveTo>
                  <a:lnTo>
                    <a:pt x="0" y="3"/>
                  </a:lnTo>
                  <a:lnTo>
                    <a:pt x="54" y="0"/>
                  </a:lnTo>
                  <a:lnTo>
                    <a:pt x="88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048000" y="3687480"/>
              <a:ext cx="24120" cy="657360"/>
            </a:xfrm>
            <a:custGeom>
              <a:avLst/>
              <a:gdLst/>
              <a:ahLst/>
              <a:rect l="l" t="t" r="r" b="b"/>
              <a:pathLst>
                <a:path w="28" h="829">
                  <a:moveTo>
                    <a:pt x="0" y="0"/>
                  </a:moveTo>
                  <a:lnTo>
                    <a:pt x="13" y="511"/>
                  </a:lnTo>
                  <a:lnTo>
                    <a:pt x="28" y="8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000480" y="4167000"/>
              <a:ext cx="60480" cy="141480"/>
            </a:xfrm>
            <a:custGeom>
              <a:avLst/>
              <a:gdLst/>
              <a:ahLst/>
              <a:rect l="l" t="t" r="r" b="b"/>
              <a:pathLst>
                <a:path w="76" h="177">
                  <a:moveTo>
                    <a:pt x="76" y="0"/>
                  </a:moveTo>
                  <a:lnTo>
                    <a:pt x="0" y="0"/>
                  </a:lnTo>
                  <a:lnTo>
                    <a:pt x="0" y="17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40360" y="4167000"/>
              <a:ext cx="58680" cy="150840"/>
            </a:xfrm>
            <a:custGeom>
              <a:avLst/>
              <a:gdLst/>
              <a:ahLst/>
              <a:rect l="l" t="t" r="r" b="b"/>
              <a:pathLst>
                <a:path w="76" h="189">
                  <a:moveTo>
                    <a:pt x="76" y="0"/>
                  </a:moveTo>
                  <a:lnTo>
                    <a:pt x="0" y="5"/>
                  </a:lnTo>
                  <a:lnTo>
                    <a:pt x="4" y="18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 flipV="1">
              <a:off x="5878440" y="3722400"/>
              <a:ext cx="15840" cy="45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5884560" y="3678120"/>
              <a:ext cx="316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929200" y="3711600"/>
              <a:ext cx="66600" cy="112680"/>
            </a:xfrm>
            <a:custGeom>
              <a:avLst/>
              <a:gdLst/>
              <a:ahLst/>
              <a:rect l="l" t="t" r="r" b="b"/>
              <a:pathLst>
                <a:path w="85" h="140">
                  <a:moveTo>
                    <a:pt x="0" y="44"/>
                  </a:moveTo>
                  <a:lnTo>
                    <a:pt x="5" y="140"/>
                  </a:lnTo>
                  <a:lnTo>
                    <a:pt x="85" y="131"/>
                  </a:lnTo>
                  <a:lnTo>
                    <a:pt x="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995800" y="3816360"/>
              <a:ext cx="540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995800" y="3816360"/>
              <a:ext cx="3240" cy="350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932080" y="3824280"/>
              <a:ext cx="5040" cy="347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5886000" y="3824280"/>
              <a:ext cx="4572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341760" y="3641760"/>
              <a:ext cx="17640" cy="69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348240" y="4108320"/>
              <a:ext cx="14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335640" y="410832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3"/>
                  </a:moveTo>
                  <a:lnTo>
                    <a:pt x="0" y="6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333840" y="4108320"/>
              <a:ext cx="18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241680" y="4144680"/>
              <a:ext cx="14400" cy="131760"/>
            </a:xfrm>
            <a:custGeom>
              <a:avLst/>
              <a:gdLst/>
              <a:ahLst/>
              <a:rect l="l" t="t" r="r" b="b"/>
              <a:pathLst>
                <a:path w="19" h="166">
                  <a:moveTo>
                    <a:pt x="12" y="0"/>
                  </a:moveTo>
                  <a:lnTo>
                    <a:pt x="0" y="166"/>
                  </a:lnTo>
                  <a:lnTo>
                    <a:pt x="5" y="166"/>
                  </a:lnTo>
                  <a:lnTo>
                    <a:pt x="1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251400" y="4108320"/>
              <a:ext cx="17280" cy="3816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15" y="0"/>
                  </a:moveTo>
                  <a:lnTo>
                    <a:pt x="0" y="47"/>
                  </a:lnTo>
                  <a:lnTo>
                    <a:pt x="7" y="49"/>
                  </a:lnTo>
                  <a:lnTo>
                    <a:pt x="22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264000" y="4060800"/>
              <a:ext cx="6480" cy="47520"/>
            </a:xfrm>
            <a:custGeom>
              <a:avLst/>
              <a:gdLst/>
              <a:ahLst/>
              <a:rect l="l" t="t" r="r" b="b"/>
              <a:pathLst>
                <a:path w="9" h="59">
                  <a:moveTo>
                    <a:pt x="3" y="0"/>
                  </a:moveTo>
                  <a:lnTo>
                    <a:pt x="0" y="59"/>
                  </a:lnTo>
                  <a:lnTo>
                    <a:pt x="7" y="59"/>
                  </a:lnTo>
                  <a:lnTo>
                    <a:pt x="9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265800" y="4016160"/>
              <a:ext cx="12600" cy="44640"/>
            </a:xfrm>
            <a:custGeom>
              <a:avLst/>
              <a:gdLst/>
              <a:ahLst/>
              <a:rect l="l" t="t" r="r" b="b"/>
              <a:pathLst>
                <a:path w="16" h="57">
                  <a:moveTo>
                    <a:pt x="11" y="0"/>
                  </a:moveTo>
                  <a:lnTo>
                    <a:pt x="0" y="56"/>
                  </a:lnTo>
                  <a:lnTo>
                    <a:pt x="6" y="57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273720" y="3983040"/>
              <a:ext cx="29880" cy="3636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3" y="0"/>
                  </a:moveTo>
                  <a:lnTo>
                    <a:pt x="0" y="43"/>
                  </a:lnTo>
                  <a:lnTo>
                    <a:pt x="5" y="47"/>
                  </a:lnTo>
                  <a:lnTo>
                    <a:pt x="37" y="5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00720" y="3965400"/>
              <a:ext cx="34920" cy="205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44" y="5"/>
                  </a:moveTo>
                  <a:lnTo>
                    <a:pt x="39" y="2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42" y="7"/>
                  </a:lnTo>
                  <a:lnTo>
                    <a:pt x="37" y="5"/>
                  </a:lnTo>
                  <a:lnTo>
                    <a:pt x="44" y="5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329160" y="3970080"/>
              <a:ext cx="9360" cy="34920"/>
            </a:xfrm>
            <a:custGeom>
              <a:avLst/>
              <a:gdLst/>
              <a:ahLst/>
              <a:rect l="l" t="t" r="r" b="b"/>
              <a:pathLst>
                <a:path w="12" h="45">
                  <a:moveTo>
                    <a:pt x="12" y="45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7" y="45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325920" y="4005000"/>
              <a:ext cx="12600" cy="3816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5" y="47"/>
                  </a:moveTo>
                  <a:lnTo>
                    <a:pt x="16" y="0"/>
                  </a:lnTo>
                  <a:lnTo>
                    <a:pt x="11" y="0"/>
                  </a:lnTo>
                  <a:lnTo>
                    <a:pt x="0" y="47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325920" y="4043160"/>
              <a:ext cx="468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318000" y="4093920"/>
              <a:ext cx="12600" cy="46080"/>
            </a:xfrm>
            <a:custGeom>
              <a:avLst/>
              <a:gdLst/>
              <a:ahLst/>
              <a:rect l="l" t="t" r="r" b="b"/>
              <a:pathLst>
                <a:path w="16" h="59">
                  <a:moveTo>
                    <a:pt x="7" y="59"/>
                  </a:moveTo>
                  <a:lnTo>
                    <a:pt x="16" y="2"/>
                  </a:lnTo>
                  <a:lnTo>
                    <a:pt x="11" y="0"/>
                  </a:lnTo>
                  <a:lnTo>
                    <a:pt x="0" y="57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318000" y="4140000"/>
              <a:ext cx="17640" cy="120600"/>
            </a:xfrm>
            <a:custGeom>
              <a:avLst/>
              <a:gdLst/>
              <a:ahLst/>
              <a:rect l="l" t="t" r="r" b="b"/>
              <a:pathLst>
                <a:path w="23" h="152">
                  <a:moveTo>
                    <a:pt x="23" y="152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17" y="152"/>
                  </a:lnTo>
                  <a:lnTo>
                    <a:pt x="23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329160" y="4260600"/>
              <a:ext cx="6480" cy="3816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6" y="47"/>
                  </a:moveTo>
                  <a:lnTo>
                    <a:pt x="10" y="0"/>
                  </a:lnTo>
                  <a:lnTo>
                    <a:pt x="4" y="0"/>
                  </a:lnTo>
                  <a:lnTo>
                    <a:pt x="0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325920" y="4298760"/>
              <a:ext cx="6480" cy="414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6" y="53"/>
                  </a:moveTo>
                  <a:lnTo>
                    <a:pt x="7" y="5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6" y="53"/>
                  </a:lnTo>
                  <a:lnTo>
                    <a:pt x="7" y="52"/>
                  </a:lnTo>
                  <a:lnTo>
                    <a:pt x="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262560" y="4330440"/>
              <a:ext cx="31680" cy="1908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4"/>
                  </a:moveTo>
                  <a:lnTo>
                    <a:pt x="39" y="24"/>
                  </a:lnTo>
                  <a:lnTo>
                    <a:pt x="40" y="2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252840" y="4316400"/>
              <a:ext cx="14400" cy="1728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3"/>
                  </a:moveTo>
                  <a:lnTo>
                    <a:pt x="11" y="23"/>
                  </a:lnTo>
                  <a:lnTo>
                    <a:pt x="16" y="20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241680" y="4276440"/>
              <a:ext cx="17640" cy="41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1"/>
                  </a:moveTo>
                  <a:lnTo>
                    <a:pt x="15" y="53"/>
                  </a:lnTo>
                  <a:lnTo>
                    <a:pt x="22" y="51"/>
                  </a:lnTo>
                  <a:lnTo>
                    <a:pt x="5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168960" y="4143240"/>
              <a:ext cx="52200" cy="200160"/>
            </a:xfrm>
            <a:custGeom>
              <a:avLst/>
              <a:gdLst/>
              <a:ahLst/>
              <a:rect l="l" t="t" r="r" b="b"/>
              <a:pathLst>
                <a:path w="66" h="252">
                  <a:moveTo>
                    <a:pt x="66" y="208"/>
                  </a:moveTo>
                  <a:lnTo>
                    <a:pt x="65" y="121"/>
                  </a:lnTo>
                  <a:lnTo>
                    <a:pt x="65" y="0"/>
                  </a:lnTo>
                  <a:lnTo>
                    <a:pt x="4" y="5"/>
                  </a:lnTo>
                  <a:lnTo>
                    <a:pt x="0" y="2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156000" y="3670200"/>
              <a:ext cx="14400" cy="476280"/>
            </a:xfrm>
            <a:custGeom>
              <a:avLst/>
              <a:gdLst/>
              <a:ahLst/>
              <a:rect l="l" t="t" r="r" b="b"/>
              <a:pathLst>
                <a:path w="19" h="601">
                  <a:moveTo>
                    <a:pt x="19" y="601"/>
                  </a:moveTo>
                  <a:lnTo>
                    <a:pt x="3" y="158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210000" y="3687480"/>
              <a:ext cx="60480" cy="96840"/>
            </a:xfrm>
            <a:custGeom>
              <a:avLst/>
              <a:gdLst/>
              <a:ahLst/>
              <a:rect l="l" t="t" r="r" b="b"/>
              <a:pathLst>
                <a:path w="76" h="123">
                  <a:moveTo>
                    <a:pt x="2" y="8"/>
                  </a:moveTo>
                  <a:lnTo>
                    <a:pt x="0" y="123"/>
                  </a:lnTo>
                  <a:lnTo>
                    <a:pt x="41" y="118"/>
                  </a:lnTo>
                  <a:lnTo>
                    <a:pt x="76" y="123"/>
                  </a:lnTo>
                  <a:lnTo>
                    <a:pt x="7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270480" y="3776400"/>
              <a:ext cx="73080" cy="6480"/>
            </a:xfrm>
            <a:custGeom>
              <a:avLst/>
              <a:gdLst/>
              <a:ahLst/>
              <a:rect l="l" t="t" r="r" b="b"/>
              <a:pathLst>
                <a:path w="93" h="8">
                  <a:moveTo>
                    <a:pt x="0" y="8"/>
                  </a:moveTo>
                  <a:lnTo>
                    <a:pt x="46" y="0"/>
                  </a:lnTo>
                  <a:lnTo>
                    <a:pt x="93" y="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270480" y="3773520"/>
              <a:ext cx="32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208560" y="3774960"/>
              <a:ext cx="11160" cy="368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6177960" y="3789360"/>
              <a:ext cx="25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219360" y="4136760"/>
              <a:ext cx="3636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613200" y="3589200"/>
              <a:ext cx="23760" cy="739800"/>
            </a:xfrm>
            <a:custGeom>
              <a:avLst/>
              <a:gdLst/>
              <a:ahLst/>
              <a:rect l="l" t="t" r="r" b="b"/>
              <a:pathLst>
                <a:path w="29" h="934">
                  <a:moveTo>
                    <a:pt x="17" y="0"/>
                  </a:moveTo>
                  <a:lnTo>
                    <a:pt x="11" y="183"/>
                  </a:lnTo>
                  <a:lnTo>
                    <a:pt x="4" y="210"/>
                  </a:lnTo>
                  <a:lnTo>
                    <a:pt x="0" y="241"/>
                  </a:lnTo>
                  <a:lnTo>
                    <a:pt x="7" y="269"/>
                  </a:lnTo>
                  <a:lnTo>
                    <a:pt x="17" y="381"/>
                  </a:lnTo>
                  <a:lnTo>
                    <a:pt x="12" y="466"/>
                  </a:lnTo>
                  <a:lnTo>
                    <a:pt x="25" y="869"/>
                  </a:lnTo>
                  <a:lnTo>
                    <a:pt x="29" y="93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551280" y="4097160"/>
              <a:ext cx="79560" cy="201600"/>
            </a:xfrm>
            <a:custGeom>
              <a:avLst/>
              <a:gdLst/>
              <a:ahLst/>
              <a:rect l="l" t="t" r="r" b="b"/>
              <a:pathLst>
                <a:path w="100" h="255">
                  <a:moveTo>
                    <a:pt x="100" y="6"/>
                  </a:moveTo>
                  <a:lnTo>
                    <a:pt x="0" y="0"/>
                  </a:lnTo>
                  <a:lnTo>
                    <a:pt x="8" y="2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84680" y="4093920"/>
              <a:ext cx="66600" cy="208080"/>
            </a:xfrm>
            <a:custGeom>
              <a:avLst/>
              <a:gdLst/>
              <a:ahLst/>
              <a:rect l="l" t="t" r="r" b="b"/>
              <a:pathLst>
                <a:path w="84" h="262">
                  <a:moveTo>
                    <a:pt x="84" y="0"/>
                  </a:moveTo>
                  <a:lnTo>
                    <a:pt x="0" y="11"/>
                  </a:lnTo>
                  <a:lnTo>
                    <a:pt x="8" y="2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443280" y="4105080"/>
              <a:ext cx="41400" cy="220680"/>
            </a:xfrm>
            <a:custGeom>
              <a:avLst/>
              <a:gdLst/>
              <a:ahLst/>
              <a:rect l="l" t="t" r="r" b="b"/>
              <a:pathLst>
                <a:path w="51" h="277">
                  <a:moveTo>
                    <a:pt x="51" y="0"/>
                  </a:moveTo>
                  <a:lnTo>
                    <a:pt x="0" y="7"/>
                  </a:lnTo>
                  <a:lnTo>
                    <a:pt x="0" y="27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430680" y="3625560"/>
              <a:ext cx="12600" cy="486000"/>
            </a:xfrm>
            <a:custGeom>
              <a:avLst/>
              <a:gdLst/>
              <a:ahLst/>
              <a:rect l="l" t="t" r="r" b="b"/>
              <a:pathLst>
                <a:path w="16" h="611">
                  <a:moveTo>
                    <a:pt x="16" y="611"/>
                  </a:moveTo>
                  <a:lnTo>
                    <a:pt x="2" y="17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 flipV="1">
              <a:off x="6468480" y="3641400"/>
              <a:ext cx="3240" cy="115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470280" y="3632040"/>
              <a:ext cx="66960" cy="119160"/>
            </a:xfrm>
            <a:custGeom>
              <a:avLst/>
              <a:gdLst/>
              <a:ahLst/>
              <a:rect l="l" t="t" r="r" b="b"/>
              <a:pathLst>
                <a:path w="85" h="150">
                  <a:moveTo>
                    <a:pt x="0" y="150"/>
                  </a:moveTo>
                  <a:lnTo>
                    <a:pt x="40" y="129"/>
                  </a:lnTo>
                  <a:lnTo>
                    <a:pt x="85" y="134"/>
                  </a:lnTo>
                  <a:lnTo>
                    <a:pt x="8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538680" y="3725640"/>
              <a:ext cx="84240" cy="9720"/>
            </a:xfrm>
            <a:custGeom>
              <a:avLst/>
              <a:gdLst/>
              <a:ahLst/>
              <a:rect l="l" t="t" r="r" b="b"/>
              <a:pathLst>
                <a:path w="106" h="12">
                  <a:moveTo>
                    <a:pt x="0" y="12"/>
                  </a:moveTo>
                  <a:lnTo>
                    <a:pt x="49" y="0"/>
                  </a:lnTo>
                  <a:lnTo>
                    <a:pt x="95" y="7"/>
                  </a:lnTo>
                  <a:lnTo>
                    <a:pt x="106" y="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538680" y="3803400"/>
              <a:ext cx="12600" cy="290520"/>
            </a:xfrm>
            <a:custGeom>
              <a:avLst/>
              <a:gdLst/>
              <a:ahLst/>
              <a:rect l="l" t="t" r="r" b="b"/>
              <a:pathLst>
                <a:path w="15" h="364">
                  <a:moveTo>
                    <a:pt x="0" y="0"/>
                  </a:moveTo>
                  <a:lnTo>
                    <a:pt x="3" y="31"/>
                  </a:lnTo>
                  <a:lnTo>
                    <a:pt x="15" y="36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538680" y="3738600"/>
              <a:ext cx="1440" cy="77760"/>
            </a:xfrm>
            <a:custGeom>
              <a:avLst/>
              <a:gdLst/>
              <a:ahLst/>
              <a:rect l="l" t="t" r="r" b="b"/>
              <a:pathLst>
                <a:path w="3" h="99">
                  <a:moveTo>
                    <a:pt x="3" y="99"/>
                  </a:move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472080" y="3757320"/>
              <a:ext cx="12600" cy="346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435360" y="3744720"/>
              <a:ext cx="36720" cy="1260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7" y="6"/>
                  </a:move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849720" y="4097160"/>
              <a:ext cx="74880" cy="190440"/>
            </a:xfrm>
            <a:custGeom>
              <a:avLst/>
              <a:gdLst/>
              <a:ahLst/>
              <a:rect l="l" t="t" r="r" b="b"/>
              <a:pathLst>
                <a:path w="93" h="239">
                  <a:moveTo>
                    <a:pt x="93" y="13"/>
                  </a:moveTo>
                  <a:lnTo>
                    <a:pt x="57" y="0"/>
                  </a:lnTo>
                  <a:lnTo>
                    <a:pt x="1" y="12"/>
                  </a:lnTo>
                  <a:lnTo>
                    <a:pt x="1" y="35"/>
                  </a:lnTo>
                  <a:lnTo>
                    <a:pt x="0" y="23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787800" y="4093920"/>
              <a:ext cx="63720" cy="190800"/>
            </a:xfrm>
            <a:custGeom>
              <a:avLst/>
              <a:gdLst/>
              <a:ahLst/>
              <a:rect l="l" t="t" r="r" b="b"/>
              <a:pathLst>
                <a:path w="79" h="239">
                  <a:moveTo>
                    <a:pt x="79" y="11"/>
                  </a:moveTo>
                  <a:lnTo>
                    <a:pt x="37" y="0"/>
                  </a:lnTo>
                  <a:lnTo>
                    <a:pt x="4" y="12"/>
                  </a:lnTo>
                  <a:lnTo>
                    <a:pt x="0" y="23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44960" y="4087800"/>
              <a:ext cx="6480" cy="220680"/>
            </a:xfrm>
            <a:custGeom>
              <a:avLst/>
              <a:gdLst/>
              <a:ahLst/>
              <a:rect l="l" t="t" r="r" b="b"/>
              <a:pathLst>
                <a:path w="7" h="280">
                  <a:moveTo>
                    <a:pt x="4" y="0"/>
                  </a:moveTo>
                  <a:lnTo>
                    <a:pt x="7" y="62"/>
                  </a:lnTo>
                  <a:lnTo>
                    <a:pt x="0" y="28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741720" y="3568680"/>
              <a:ext cx="6480" cy="552240"/>
            </a:xfrm>
            <a:custGeom>
              <a:avLst/>
              <a:gdLst/>
              <a:ahLst/>
              <a:rect l="l" t="t" r="r" b="b"/>
              <a:pathLst>
                <a:path w="8" h="697">
                  <a:moveTo>
                    <a:pt x="8" y="697"/>
                  </a:moveTo>
                  <a:lnTo>
                    <a:pt x="4" y="38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786360" y="3576600"/>
              <a:ext cx="60120" cy="127080"/>
            </a:xfrm>
            <a:custGeom>
              <a:avLst/>
              <a:gdLst/>
              <a:ahLst/>
              <a:rect l="l" t="t" r="r" b="b"/>
              <a:pathLst>
                <a:path w="76" h="161">
                  <a:moveTo>
                    <a:pt x="0" y="22"/>
                  </a:moveTo>
                  <a:lnTo>
                    <a:pt x="4" y="161"/>
                  </a:lnTo>
                  <a:lnTo>
                    <a:pt x="41" y="154"/>
                  </a:lnTo>
                  <a:lnTo>
                    <a:pt x="75" y="160"/>
                  </a:lnTo>
                  <a:lnTo>
                    <a:pt x="7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845040" y="3697200"/>
              <a:ext cx="79560" cy="7920"/>
            </a:xfrm>
            <a:custGeom>
              <a:avLst/>
              <a:gdLst/>
              <a:ahLst/>
              <a:rect l="l" t="t" r="r" b="b"/>
              <a:pathLst>
                <a:path w="100" h="11">
                  <a:moveTo>
                    <a:pt x="0" y="7"/>
                  </a:moveTo>
                  <a:lnTo>
                    <a:pt x="49" y="0"/>
                  </a:lnTo>
                  <a:lnTo>
                    <a:pt x="100" y="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843600" y="3700440"/>
              <a:ext cx="9360" cy="398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87800" y="3703680"/>
              <a:ext cx="5040" cy="390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744960" y="3701880"/>
              <a:ext cx="49320" cy="6480"/>
            </a:xfrm>
            <a:custGeom>
              <a:avLst/>
              <a:gdLst/>
              <a:ahLst/>
              <a:rect l="l" t="t" r="r" b="b"/>
              <a:pathLst>
                <a:path w="62" h="10">
                  <a:moveTo>
                    <a:pt x="62" y="2"/>
                  </a:moveTo>
                  <a:lnTo>
                    <a:pt x="29" y="0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6791040" y="4093560"/>
              <a:ext cx="18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122960" y="4117680"/>
              <a:ext cx="31680" cy="168480"/>
            </a:xfrm>
            <a:custGeom>
              <a:avLst/>
              <a:gdLst/>
              <a:ahLst/>
              <a:rect l="l" t="t" r="r" b="b"/>
              <a:pathLst>
                <a:path w="40" h="212">
                  <a:moveTo>
                    <a:pt x="40" y="0"/>
                  </a:moveTo>
                  <a:lnTo>
                    <a:pt x="0" y="0"/>
                  </a:lnTo>
                  <a:lnTo>
                    <a:pt x="0" y="2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081560" y="4117680"/>
              <a:ext cx="41400" cy="173160"/>
            </a:xfrm>
            <a:custGeom>
              <a:avLst/>
              <a:gdLst/>
              <a:ahLst/>
              <a:rect l="l" t="t" r="r" b="b"/>
              <a:pathLst>
                <a:path w="52" h="217">
                  <a:moveTo>
                    <a:pt x="52" y="0"/>
                  </a:moveTo>
                  <a:lnTo>
                    <a:pt x="0" y="0"/>
                  </a:lnTo>
                  <a:lnTo>
                    <a:pt x="4" y="2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35480" y="4117680"/>
              <a:ext cx="46080" cy="168480"/>
            </a:xfrm>
            <a:custGeom>
              <a:avLst/>
              <a:gdLst/>
              <a:ahLst/>
              <a:rect l="l" t="t" r="r" b="b"/>
              <a:pathLst>
                <a:path w="58" h="212">
                  <a:moveTo>
                    <a:pt x="58" y="0"/>
                  </a:moveTo>
                  <a:lnTo>
                    <a:pt x="0" y="0"/>
                  </a:lnTo>
                  <a:lnTo>
                    <a:pt x="6" y="2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7021440" y="3689280"/>
              <a:ext cx="4680" cy="6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078320" y="3647880"/>
              <a:ext cx="41400" cy="125640"/>
            </a:xfrm>
            <a:custGeom>
              <a:avLst/>
              <a:gdLst/>
              <a:ahLst/>
              <a:rect l="l" t="t" r="r" b="b"/>
              <a:pathLst>
                <a:path w="52" h="158">
                  <a:moveTo>
                    <a:pt x="0" y="0"/>
                  </a:moveTo>
                  <a:lnTo>
                    <a:pt x="0" y="140"/>
                  </a:lnTo>
                  <a:lnTo>
                    <a:pt x="46" y="158"/>
                  </a:lnTo>
                  <a:lnTo>
                    <a:pt x="52" y="51"/>
                  </a:lnTo>
                  <a:lnTo>
                    <a:pt x="52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115040" y="3773520"/>
              <a:ext cx="44280" cy="1080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0"/>
                  </a:moveTo>
                  <a:lnTo>
                    <a:pt x="8" y="15"/>
                  </a:lnTo>
                  <a:lnTo>
                    <a:pt x="54" y="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122960" y="3784320"/>
              <a:ext cx="1440" cy="33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116480" y="377352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084800" y="3768480"/>
              <a:ext cx="3240" cy="233640"/>
            </a:xfrm>
            <a:custGeom>
              <a:avLst/>
              <a:gdLst/>
              <a:ahLst/>
              <a:rect l="l" t="t" r="r" b="b"/>
              <a:pathLst>
                <a:path w="4" h="295">
                  <a:moveTo>
                    <a:pt x="0" y="0"/>
                  </a:moveTo>
                  <a:lnTo>
                    <a:pt x="4" y="157"/>
                  </a:lnTo>
                  <a:lnTo>
                    <a:pt x="4" y="29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 flipV="1">
              <a:off x="7019280" y="3754080"/>
              <a:ext cx="5868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078320" y="4070160"/>
              <a:ext cx="1800" cy="47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306920" y="4147920"/>
              <a:ext cx="60480" cy="168480"/>
            </a:xfrm>
            <a:custGeom>
              <a:avLst/>
              <a:gdLst/>
              <a:ahLst/>
              <a:rect l="l" t="t" r="r" b="b"/>
              <a:pathLst>
                <a:path w="74" h="211">
                  <a:moveTo>
                    <a:pt x="74" y="3"/>
                  </a:moveTo>
                  <a:lnTo>
                    <a:pt x="0" y="0"/>
                  </a:lnTo>
                  <a:lnTo>
                    <a:pt x="0" y="2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54720" y="4125960"/>
              <a:ext cx="54000" cy="185400"/>
            </a:xfrm>
            <a:custGeom>
              <a:avLst/>
              <a:gdLst/>
              <a:ahLst/>
              <a:rect l="l" t="t" r="r" b="b"/>
              <a:pathLst>
                <a:path w="67" h="234">
                  <a:moveTo>
                    <a:pt x="67" y="0"/>
                  </a:moveTo>
                  <a:lnTo>
                    <a:pt x="2" y="11"/>
                  </a:lnTo>
                  <a:lnTo>
                    <a:pt x="0" y="23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210080" y="3633840"/>
              <a:ext cx="54000" cy="498240"/>
            </a:xfrm>
            <a:custGeom>
              <a:avLst/>
              <a:gdLst/>
              <a:ahLst/>
              <a:rect l="l" t="t" r="r" b="b"/>
              <a:pathLst>
                <a:path w="67" h="628">
                  <a:moveTo>
                    <a:pt x="3" y="628"/>
                  </a:moveTo>
                  <a:lnTo>
                    <a:pt x="0" y="55"/>
                  </a:lnTo>
                  <a:lnTo>
                    <a:pt x="67" y="23"/>
                  </a:lnTo>
                  <a:lnTo>
                    <a:pt x="5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254720" y="3727440"/>
              <a:ext cx="47520" cy="8568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2" y="0"/>
                  </a:moveTo>
                  <a:lnTo>
                    <a:pt x="0" y="100"/>
                  </a:lnTo>
                  <a:lnTo>
                    <a:pt x="54" y="108"/>
                  </a:lnTo>
                  <a:lnTo>
                    <a:pt x="59" y="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297560" y="3670200"/>
              <a:ext cx="60120" cy="158760"/>
            </a:xfrm>
            <a:custGeom>
              <a:avLst/>
              <a:gdLst/>
              <a:ahLst/>
              <a:rect l="l" t="t" r="r" b="b"/>
              <a:pathLst>
                <a:path w="75" h="200">
                  <a:moveTo>
                    <a:pt x="0" y="181"/>
                  </a:moveTo>
                  <a:lnTo>
                    <a:pt x="75" y="200"/>
                  </a:lnTo>
                  <a:lnTo>
                    <a:pt x="7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359480" y="3830400"/>
              <a:ext cx="7920" cy="319320"/>
            </a:xfrm>
            <a:custGeom>
              <a:avLst/>
              <a:gdLst/>
              <a:ahLst/>
              <a:rect l="l" t="t" r="r" b="b"/>
              <a:pathLst>
                <a:path w="10" h="401">
                  <a:moveTo>
                    <a:pt x="0" y="0"/>
                  </a:moveTo>
                  <a:lnTo>
                    <a:pt x="10" y="163"/>
                  </a:lnTo>
                  <a:lnTo>
                    <a:pt x="8" y="4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303680" y="3821040"/>
              <a:ext cx="5040" cy="323640"/>
            </a:xfrm>
            <a:custGeom>
              <a:avLst/>
              <a:gdLst/>
              <a:ahLst/>
              <a:rect l="l" t="t" r="r" b="b"/>
              <a:pathLst>
                <a:path w="5" h="408">
                  <a:moveTo>
                    <a:pt x="0" y="0"/>
                  </a:moveTo>
                  <a:lnTo>
                    <a:pt x="1" y="135"/>
                  </a:lnTo>
                  <a:lnTo>
                    <a:pt x="5" y="40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4720" y="3806640"/>
              <a:ext cx="3240" cy="32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7211520" y="3806640"/>
              <a:ext cx="42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353000" y="3671640"/>
              <a:ext cx="144360" cy="681120"/>
            </a:xfrm>
            <a:custGeom>
              <a:avLst/>
              <a:gdLst/>
              <a:ahLst/>
              <a:rect l="l" t="t" r="r" b="b"/>
              <a:pathLst>
                <a:path w="181" h="857">
                  <a:moveTo>
                    <a:pt x="16" y="857"/>
                  </a:moveTo>
                  <a:lnTo>
                    <a:pt x="8" y="707"/>
                  </a:lnTo>
                  <a:lnTo>
                    <a:pt x="19" y="468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81" y="58"/>
                  </a:lnTo>
                  <a:lnTo>
                    <a:pt x="130" y="58"/>
                  </a:lnTo>
                  <a:lnTo>
                    <a:pt x="97" y="70"/>
                  </a:lnTo>
                  <a:lnTo>
                    <a:pt x="59" y="90"/>
                  </a:lnTo>
                  <a:lnTo>
                    <a:pt x="70" y="853"/>
                  </a:lnTo>
                  <a:lnTo>
                    <a:pt x="16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508520" y="3717720"/>
              <a:ext cx="217440" cy="505080"/>
            </a:xfrm>
            <a:custGeom>
              <a:avLst/>
              <a:gdLst/>
              <a:ahLst/>
              <a:rect l="l" t="t" r="r" b="b"/>
              <a:pathLst>
                <a:path w="273" h="635">
                  <a:moveTo>
                    <a:pt x="0" y="0"/>
                  </a:moveTo>
                  <a:lnTo>
                    <a:pt x="25" y="67"/>
                  </a:lnTo>
                  <a:lnTo>
                    <a:pt x="31" y="635"/>
                  </a:lnTo>
                  <a:lnTo>
                    <a:pt x="66" y="630"/>
                  </a:lnTo>
                  <a:lnTo>
                    <a:pt x="79" y="466"/>
                  </a:lnTo>
                  <a:lnTo>
                    <a:pt x="135" y="394"/>
                  </a:lnTo>
                  <a:lnTo>
                    <a:pt x="196" y="359"/>
                  </a:lnTo>
                  <a:lnTo>
                    <a:pt x="240" y="364"/>
                  </a:lnTo>
                  <a:lnTo>
                    <a:pt x="255" y="622"/>
                  </a:lnTo>
                  <a:lnTo>
                    <a:pt x="273" y="60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508520" y="3714480"/>
              <a:ext cx="420840" cy="650880"/>
            </a:xfrm>
            <a:custGeom>
              <a:avLst/>
              <a:gdLst/>
              <a:ahLst/>
              <a:rect l="l" t="t" r="r" b="b"/>
              <a:pathLst>
                <a:path w="529" h="820">
                  <a:moveTo>
                    <a:pt x="31" y="803"/>
                  </a:moveTo>
                  <a:lnTo>
                    <a:pt x="27" y="63"/>
                  </a:lnTo>
                  <a:lnTo>
                    <a:pt x="0" y="0"/>
                  </a:lnTo>
                  <a:lnTo>
                    <a:pt x="94" y="20"/>
                  </a:lnTo>
                  <a:lnTo>
                    <a:pt x="482" y="135"/>
                  </a:lnTo>
                  <a:lnTo>
                    <a:pt x="529" y="162"/>
                  </a:lnTo>
                  <a:lnTo>
                    <a:pt x="494" y="166"/>
                  </a:lnTo>
                  <a:lnTo>
                    <a:pt x="443" y="205"/>
                  </a:lnTo>
                  <a:lnTo>
                    <a:pt x="455" y="705"/>
                  </a:lnTo>
                  <a:lnTo>
                    <a:pt x="447" y="626"/>
                  </a:lnTo>
                  <a:lnTo>
                    <a:pt x="424" y="624"/>
                  </a:lnTo>
                  <a:lnTo>
                    <a:pt x="400" y="610"/>
                  </a:lnTo>
                  <a:lnTo>
                    <a:pt x="324" y="674"/>
                  </a:lnTo>
                  <a:lnTo>
                    <a:pt x="289" y="697"/>
                  </a:lnTo>
                  <a:lnTo>
                    <a:pt x="286" y="811"/>
                  </a:lnTo>
                  <a:lnTo>
                    <a:pt x="250" y="820"/>
                  </a:lnTo>
                  <a:lnTo>
                    <a:pt x="250" y="462"/>
                  </a:lnTo>
                  <a:lnTo>
                    <a:pt x="239" y="363"/>
                  </a:lnTo>
                  <a:lnTo>
                    <a:pt x="192" y="363"/>
                  </a:lnTo>
                  <a:lnTo>
                    <a:pt x="136" y="398"/>
                  </a:lnTo>
                  <a:lnTo>
                    <a:pt x="97" y="437"/>
                  </a:lnTo>
                  <a:lnTo>
                    <a:pt x="78" y="472"/>
                  </a:lnTo>
                  <a:lnTo>
                    <a:pt x="78" y="815"/>
                  </a:lnTo>
                  <a:lnTo>
                    <a:pt x="31" y="8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03800" y="4198680"/>
              <a:ext cx="112680" cy="200160"/>
            </a:xfrm>
            <a:custGeom>
              <a:avLst/>
              <a:gdLst/>
              <a:ahLst/>
              <a:rect l="l" t="t" r="r" b="b"/>
              <a:pathLst>
                <a:path w="142" h="252">
                  <a:moveTo>
                    <a:pt x="142" y="8"/>
                  </a:moveTo>
                  <a:lnTo>
                    <a:pt x="117" y="0"/>
                  </a:lnTo>
                  <a:lnTo>
                    <a:pt x="96" y="8"/>
                  </a:lnTo>
                  <a:lnTo>
                    <a:pt x="81" y="3"/>
                  </a:lnTo>
                  <a:lnTo>
                    <a:pt x="89" y="236"/>
                  </a:lnTo>
                  <a:lnTo>
                    <a:pt x="65" y="252"/>
                  </a:lnTo>
                  <a:lnTo>
                    <a:pt x="0" y="24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864200" y="3843360"/>
              <a:ext cx="96840" cy="357120"/>
            </a:xfrm>
            <a:custGeom>
              <a:avLst/>
              <a:gdLst/>
              <a:ahLst/>
              <a:rect l="l" t="t" r="r" b="b"/>
              <a:pathLst>
                <a:path w="121" h="448">
                  <a:moveTo>
                    <a:pt x="121" y="201"/>
                  </a:moveTo>
                  <a:lnTo>
                    <a:pt x="105" y="12"/>
                  </a:lnTo>
                  <a:lnTo>
                    <a:pt x="66" y="0"/>
                  </a:lnTo>
                  <a:lnTo>
                    <a:pt x="0" y="43"/>
                  </a:lnTo>
                  <a:lnTo>
                    <a:pt x="7" y="44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868880" y="3843360"/>
              <a:ext cx="47880" cy="34920"/>
            </a:xfrm>
            <a:custGeom>
              <a:avLst/>
              <a:gdLst/>
              <a:ahLst/>
              <a:rect l="l" t="t" r="r" b="b"/>
              <a:pathLst>
                <a:path w="59" h="43">
                  <a:moveTo>
                    <a:pt x="0" y="43"/>
                  </a:moveTo>
                  <a:lnTo>
                    <a:pt x="16" y="21"/>
                  </a:lnTo>
                  <a:lnTo>
                    <a:pt x="5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 flipV="1">
              <a:off x="7927560" y="3876480"/>
              <a:ext cx="14400" cy="47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 flipV="1">
              <a:off x="7887960" y="3885840"/>
              <a:ext cx="14400" cy="46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035560" y="3871800"/>
              <a:ext cx="6480" cy="142920"/>
            </a:xfrm>
            <a:custGeom>
              <a:avLst/>
              <a:gdLst/>
              <a:ahLst/>
              <a:rect l="l" t="t" r="r" b="b"/>
              <a:pathLst>
                <a:path w="8" h="181">
                  <a:moveTo>
                    <a:pt x="0" y="0"/>
                  </a:moveTo>
                  <a:lnTo>
                    <a:pt x="3" y="58"/>
                  </a:lnTo>
                  <a:lnTo>
                    <a:pt x="1" y="109"/>
                  </a:lnTo>
                  <a:lnTo>
                    <a:pt x="8" y="18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015040" y="4203720"/>
              <a:ext cx="63360" cy="188640"/>
            </a:xfrm>
            <a:custGeom>
              <a:avLst/>
              <a:gdLst/>
              <a:ahLst/>
              <a:rect l="l" t="t" r="r" b="b"/>
              <a:pathLst>
                <a:path w="80" h="237">
                  <a:moveTo>
                    <a:pt x="80" y="237"/>
                  </a:moveTo>
                  <a:lnTo>
                    <a:pt x="69" y="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4" y="17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 flipV="1">
              <a:off x="8100360" y="4289040"/>
              <a:ext cx="32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089560" y="3962160"/>
              <a:ext cx="19080" cy="258840"/>
            </a:xfrm>
            <a:custGeom>
              <a:avLst/>
              <a:gdLst/>
              <a:ahLst/>
              <a:rect l="l" t="t" r="r" b="b"/>
              <a:pathLst>
                <a:path w="24" h="327">
                  <a:moveTo>
                    <a:pt x="24" y="327"/>
                  </a:moveTo>
                  <a:lnTo>
                    <a:pt x="13" y="10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8053200" y="3881160"/>
              <a:ext cx="63360" cy="325440"/>
            </a:xfrm>
            <a:custGeom>
              <a:avLst/>
              <a:gdLst/>
              <a:ahLst/>
              <a:rect l="l" t="t" r="r" b="b"/>
              <a:pathLst>
                <a:path w="80" h="409">
                  <a:moveTo>
                    <a:pt x="80" y="35"/>
                  </a:moveTo>
                  <a:lnTo>
                    <a:pt x="57" y="14"/>
                  </a:lnTo>
                  <a:lnTo>
                    <a:pt x="4" y="0"/>
                  </a:lnTo>
                  <a:lnTo>
                    <a:pt x="0" y="66"/>
                  </a:lnTo>
                  <a:lnTo>
                    <a:pt x="20" y="40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008560" y="3998880"/>
              <a:ext cx="33480" cy="111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2" y="15"/>
                  </a:moveTo>
                  <a:lnTo>
                    <a:pt x="22" y="0"/>
                  </a:lnTo>
                  <a:lnTo>
                    <a:pt x="0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961040" y="3998880"/>
              <a:ext cx="46080" cy="201600"/>
            </a:xfrm>
            <a:custGeom>
              <a:avLst/>
              <a:gdLst/>
              <a:ahLst/>
              <a:rect l="l" t="t" r="r" b="b"/>
              <a:pathLst>
                <a:path w="57" h="254">
                  <a:moveTo>
                    <a:pt x="57" y="38"/>
                  </a:moveTo>
                  <a:lnTo>
                    <a:pt x="57" y="6"/>
                  </a:lnTo>
                  <a:lnTo>
                    <a:pt x="25" y="0"/>
                  </a:lnTo>
                  <a:lnTo>
                    <a:pt x="0" y="8"/>
                  </a:lnTo>
                  <a:lnTo>
                    <a:pt x="0" y="46"/>
                  </a:lnTo>
                  <a:lnTo>
                    <a:pt x="8" y="25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037360" y="3971880"/>
              <a:ext cx="17280" cy="368280"/>
            </a:xfrm>
            <a:custGeom>
              <a:avLst/>
              <a:gdLst/>
              <a:ahLst/>
              <a:rect l="l" t="t" r="r" b="b"/>
              <a:pathLst>
                <a:path w="21" h="464">
                  <a:moveTo>
                    <a:pt x="21" y="464"/>
                  </a:moveTo>
                  <a:lnTo>
                    <a:pt x="13" y="24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 flipV="1">
              <a:off x="8000640" y="3897360"/>
              <a:ext cx="14400" cy="31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 flipV="1">
              <a:off x="8100360" y="4044960"/>
              <a:ext cx="1800" cy="48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8149680" y="4037040"/>
              <a:ext cx="6120" cy="10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8162640" y="4232160"/>
              <a:ext cx="63720" cy="166680"/>
            </a:xfrm>
            <a:custGeom>
              <a:avLst/>
              <a:gdLst/>
              <a:ahLst/>
              <a:rect l="l" t="t" r="r" b="b"/>
              <a:pathLst>
                <a:path w="79" h="210">
                  <a:moveTo>
                    <a:pt x="79" y="0"/>
                  </a:moveTo>
                  <a:lnTo>
                    <a:pt x="44" y="4"/>
                  </a:lnTo>
                  <a:lnTo>
                    <a:pt x="27" y="0"/>
                  </a:lnTo>
                  <a:lnTo>
                    <a:pt x="0" y="2"/>
                  </a:lnTo>
                  <a:lnTo>
                    <a:pt x="0" y="2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8146800" y="3909960"/>
              <a:ext cx="109440" cy="296640"/>
            </a:xfrm>
            <a:custGeom>
              <a:avLst/>
              <a:gdLst/>
              <a:ahLst/>
              <a:rect l="l" t="t" r="r" b="b"/>
              <a:pathLst>
                <a:path w="139" h="374">
                  <a:moveTo>
                    <a:pt x="64" y="195"/>
                  </a:moveTo>
                  <a:lnTo>
                    <a:pt x="37" y="222"/>
                  </a:lnTo>
                  <a:lnTo>
                    <a:pt x="23" y="237"/>
                  </a:lnTo>
                  <a:lnTo>
                    <a:pt x="24" y="374"/>
                  </a:lnTo>
                  <a:lnTo>
                    <a:pt x="4" y="291"/>
                  </a:lnTo>
                  <a:lnTo>
                    <a:pt x="12" y="155"/>
                  </a:lnTo>
                  <a:lnTo>
                    <a:pt x="0" y="0"/>
                  </a:lnTo>
                  <a:lnTo>
                    <a:pt x="46" y="5"/>
                  </a:lnTo>
                  <a:lnTo>
                    <a:pt x="139" y="47"/>
                  </a:lnTo>
                  <a:lnTo>
                    <a:pt x="123" y="71"/>
                  </a:lnTo>
                  <a:lnTo>
                    <a:pt x="123" y="189"/>
                  </a:lnTo>
                  <a:lnTo>
                    <a:pt x="100" y="178"/>
                  </a:lnTo>
                  <a:lnTo>
                    <a:pt x="79" y="179"/>
                  </a:lnTo>
                  <a:lnTo>
                    <a:pt x="64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8281800" y="4244760"/>
              <a:ext cx="71280" cy="157320"/>
            </a:xfrm>
            <a:custGeom>
              <a:avLst/>
              <a:gdLst/>
              <a:ahLst/>
              <a:rect l="l" t="t" r="r" b="b"/>
              <a:pathLst>
                <a:path w="89" h="197">
                  <a:moveTo>
                    <a:pt x="89" y="5"/>
                  </a:moveTo>
                  <a:lnTo>
                    <a:pt x="73" y="3"/>
                  </a:lnTo>
                  <a:lnTo>
                    <a:pt x="55" y="5"/>
                  </a:lnTo>
                  <a:lnTo>
                    <a:pt x="32" y="0"/>
                  </a:lnTo>
                  <a:lnTo>
                    <a:pt x="13" y="5"/>
                  </a:lnTo>
                  <a:lnTo>
                    <a:pt x="12" y="154"/>
                  </a:lnTo>
                  <a:lnTo>
                    <a:pt x="0" y="19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8381880" y="3989160"/>
              <a:ext cx="9360" cy="416160"/>
            </a:xfrm>
            <a:custGeom>
              <a:avLst/>
              <a:gdLst/>
              <a:ahLst/>
              <a:rect l="l" t="t" r="r" b="b"/>
              <a:pathLst>
                <a:path w="13" h="524">
                  <a:moveTo>
                    <a:pt x="6" y="0"/>
                  </a:moveTo>
                  <a:lnTo>
                    <a:pt x="4" y="67"/>
                  </a:lnTo>
                  <a:lnTo>
                    <a:pt x="7" y="150"/>
                  </a:lnTo>
                  <a:lnTo>
                    <a:pt x="7" y="242"/>
                  </a:lnTo>
                  <a:lnTo>
                    <a:pt x="10" y="315"/>
                  </a:lnTo>
                  <a:lnTo>
                    <a:pt x="11" y="375"/>
                  </a:lnTo>
                  <a:lnTo>
                    <a:pt x="13" y="446"/>
                  </a:lnTo>
                  <a:lnTo>
                    <a:pt x="13" y="493"/>
                  </a:lnTo>
                  <a:lnTo>
                    <a:pt x="0" y="5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475480" y="3981240"/>
              <a:ext cx="23760" cy="4284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11" y="0"/>
                  </a:moveTo>
                  <a:lnTo>
                    <a:pt x="0" y="35"/>
                  </a:lnTo>
                  <a:lnTo>
                    <a:pt x="31" y="5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449920" y="4005000"/>
              <a:ext cx="61920" cy="257400"/>
            </a:xfrm>
            <a:custGeom>
              <a:avLst/>
              <a:gdLst/>
              <a:ahLst/>
              <a:rect l="l" t="t" r="r" b="b"/>
              <a:pathLst>
                <a:path w="79" h="325">
                  <a:moveTo>
                    <a:pt x="32" y="6"/>
                  </a:moveTo>
                  <a:lnTo>
                    <a:pt x="0" y="0"/>
                  </a:lnTo>
                  <a:lnTo>
                    <a:pt x="5" y="90"/>
                  </a:lnTo>
                  <a:lnTo>
                    <a:pt x="5" y="123"/>
                  </a:lnTo>
                  <a:lnTo>
                    <a:pt x="5" y="153"/>
                  </a:lnTo>
                  <a:lnTo>
                    <a:pt x="10" y="323"/>
                  </a:lnTo>
                  <a:lnTo>
                    <a:pt x="23" y="316"/>
                  </a:lnTo>
                  <a:lnTo>
                    <a:pt x="42" y="323"/>
                  </a:lnTo>
                  <a:lnTo>
                    <a:pt x="55" y="319"/>
                  </a:lnTo>
                  <a:lnTo>
                    <a:pt x="65" y="325"/>
                  </a:lnTo>
                  <a:lnTo>
                    <a:pt x="79" y="32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8351640" y="4249440"/>
              <a:ext cx="14400" cy="132120"/>
            </a:xfrm>
            <a:custGeom>
              <a:avLst/>
              <a:gdLst/>
              <a:ahLst/>
              <a:rect l="l" t="t" r="r" b="b"/>
              <a:pathLst>
                <a:path w="19" h="166">
                  <a:moveTo>
                    <a:pt x="19" y="166"/>
                  </a:moveTo>
                  <a:lnTo>
                    <a:pt x="19" y="6"/>
                  </a:lnTo>
                  <a:lnTo>
                    <a:pt x="2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 flipV="1">
              <a:off x="8351640" y="4157280"/>
              <a:ext cx="1440" cy="98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8358120" y="3990960"/>
              <a:ext cx="6120" cy="263520"/>
            </a:xfrm>
            <a:custGeom>
              <a:avLst/>
              <a:gdLst/>
              <a:ahLst/>
              <a:rect l="l" t="t" r="r" b="b"/>
              <a:pathLst>
                <a:path w="8" h="332">
                  <a:moveTo>
                    <a:pt x="8" y="332"/>
                  </a:moveTo>
                  <a:lnTo>
                    <a:pt x="2" y="206"/>
                  </a:lnTo>
                  <a:lnTo>
                    <a:pt x="2" y="13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323200" y="3978000"/>
              <a:ext cx="79200" cy="405000"/>
            </a:xfrm>
            <a:custGeom>
              <a:avLst/>
              <a:gdLst/>
              <a:ahLst/>
              <a:rect l="l" t="t" r="r" b="b"/>
              <a:pathLst>
                <a:path w="100" h="510">
                  <a:moveTo>
                    <a:pt x="100" y="14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3" y="5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292960" y="3967200"/>
              <a:ext cx="1440" cy="282240"/>
            </a:xfrm>
            <a:custGeom>
              <a:avLst/>
              <a:gdLst/>
              <a:ahLst/>
              <a:rect l="l" t="t" r="r" b="b"/>
              <a:pathLst>
                <a:path w="0" h="355">
                  <a:moveTo>
                    <a:pt x="0" y="355"/>
                  </a:moveTo>
                  <a:lnTo>
                    <a:pt x="0" y="15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8321400" y="3968640"/>
              <a:ext cx="324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8389800" y="4252680"/>
              <a:ext cx="17280" cy="324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2"/>
                  </a:moveTo>
                  <a:lnTo>
                    <a:pt x="12" y="0"/>
                  </a:lnTo>
                  <a:lnTo>
                    <a:pt x="2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8407080" y="4252680"/>
              <a:ext cx="39600" cy="792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0" y="2"/>
                  </a:moveTo>
                  <a:lnTo>
                    <a:pt x="15" y="0"/>
                  </a:lnTo>
                  <a:lnTo>
                    <a:pt x="25" y="4"/>
                  </a:lnTo>
                  <a:lnTo>
                    <a:pt x="40" y="4"/>
                  </a:lnTo>
                  <a:lnTo>
                    <a:pt x="50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427960" y="4171680"/>
              <a:ext cx="6120" cy="200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 flipV="1">
              <a:off x="8436960" y="4011480"/>
              <a:ext cx="3240" cy="10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445240" y="4157640"/>
              <a:ext cx="4680" cy="228600"/>
            </a:xfrm>
            <a:custGeom>
              <a:avLst/>
              <a:gdLst/>
              <a:ahLst/>
              <a:rect l="l" t="t" r="r" b="b"/>
              <a:pathLst>
                <a:path w="7" h="289">
                  <a:moveTo>
                    <a:pt x="0" y="0"/>
                  </a:moveTo>
                  <a:lnTo>
                    <a:pt x="4" y="133"/>
                  </a:lnTo>
                  <a:lnTo>
                    <a:pt x="7" y="28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 flipV="1">
              <a:off x="8440200" y="4122360"/>
              <a:ext cx="4680" cy="34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489880" y="4038480"/>
              <a:ext cx="15840" cy="345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402400" y="4011480"/>
              <a:ext cx="7920" cy="36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472240" y="4032000"/>
              <a:ext cx="17640" cy="346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532200" y="3078000"/>
              <a:ext cx="1987560" cy="806400"/>
            </a:xfrm>
            <a:custGeom>
              <a:avLst/>
              <a:gdLst/>
              <a:ahLst/>
              <a:rect l="l" t="t" r="r" b="b"/>
              <a:pathLst>
                <a:path w="2505" h="1017">
                  <a:moveTo>
                    <a:pt x="2470" y="1017"/>
                  </a:moveTo>
                  <a:lnTo>
                    <a:pt x="2505" y="959"/>
                  </a:lnTo>
                  <a:lnTo>
                    <a:pt x="2029" y="738"/>
                  </a:lnTo>
                  <a:lnTo>
                    <a:pt x="1581" y="530"/>
                  </a:lnTo>
                  <a:lnTo>
                    <a:pt x="1267" y="374"/>
                  </a:lnTo>
                  <a:lnTo>
                    <a:pt x="440" y="0"/>
                  </a:lnTo>
                  <a:lnTo>
                    <a:pt x="273" y="46"/>
                  </a:lnTo>
                  <a:lnTo>
                    <a:pt x="0" y="124"/>
                  </a:lnTo>
                  <a:lnTo>
                    <a:pt x="31" y="177"/>
                  </a:lnTo>
                  <a:lnTo>
                    <a:pt x="220" y="212"/>
                  </a:lnTo>
                  <a:lnTo>
                    <a:pt x="426" y="165"/>
                  </a:lnTo>
                  <a:lnTo>
                    <a:pt x="971" y="394"/>
                  </a:lnTo>
                  <a:lnTo>
                    <a:pt x="1007" y="462"/>
                  </a:lnTo>
                  <a:lnTo>
                    <a:pt x="1042" y="488"/>
                  </a:lnTo>
                  <a:lnTo>
                    <a:pt x="1177" y="477"/>
                  </a:lnTo>
                  <a:lnTo>
                    <a:pt x="1672" y="688"/>
                  </a:lnTo>
                  <a:lnTo>
                    <a:pt x="2470" y="10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721120" y="3471840"/>
              <a:ext cx="1200240" cy="266760"/>
            </a:xfrm>
            <a:custGeom>
              <a:avLst/>
              <a:gdLst/>
              <a:ahLst/>
              <a:rect l="l" t="t" r="r" b="b"/>
              <a:pathLst>
                <a:path w="1512" h="336">
                  <a:moveTo>
                    <a:pt x="95" y="336"/>
                  </a:moveTo>
                  <a:lnTo>
                    <a:pt x="65" y="309"/>
                  </a:lnTo>
                  <a:lnTo>
                    <a:pt x="0" y="291"/>
                  </a:lnTo>
                  <a:lnTo>
                    <a:pt x="121" y="261"/>
                  </a:lnTo>
                  <a:lnTo>
                    <a:pt x="226" y="193"/>
                  </a:lnTo>
                  <a:lnTo>
                    <a:pt x="265" y="193"/>
                  </a:lnTo>
                  <a:lnTo>
                    <a:pt x="281" y="205"/>
                  </a:lnTo>
                  <a:lnTo>
                    <a:pt x="660" y="155"/>
                  </a:lnTo>
                  <a:lnTo>
                    <a:pt x="984" y="103"/>
                  </a:lnTo>
                  <a:lnTo>
                    <a:pt x="1145" y="60"/>
                  </a:lnTo>
                  <a:lnTo>
                    <a:pt x="1485" y="0"/>
                  </a:lnTo>
                  <a:lnTo>
                    <a:pt x="1485" y="20"/>
                  </a:lnTo>
                  <a:lnTo>
                    <a:pt x="1512" y="96"/>
                  </a:lnTo>
                  <a:lnTo>
                    <a:pt x="1473" y="64"/>
                  </a:lnTo>
                  <a:lnTo>
                    <a:pt x="1409" y="51"/>
                  </a:lnTo>
                  <a:lnTo>
                    <a:pt x="1343" y="64"/>
                  </a:lnTo>
                  <a:lnTo>
                    <a:pt x="1300" y="74"/>
                  </a:lnTo>
                  <a:lnTo>
                    <a:pt x="1288" y="123"/>
                  </a:lnTo>
                  <a:lnTo>
                    <a:pt x="1150" y="147"/>
                  </a:lnTo>
                  <a:lnTo>
                    <a:pt x="1110" y="127"/>
                  </a:lnTo>
                  <a:lnTo>
                    <a:pt x="1066" y="123"/>
                  </a:lnTo>
                  <a:lnTo>
                    <a:pt x="1007" y="123"/>
                  </a:lnTo>
                  <a:lnTo>
                    <a:pt x="960" y="135"/>
                  </a:lnTo>
                  <a:lnTo>
                    <a:pt x="923" y="151"/>
                  </a:lnTo>
                  <a:lnTo>
                    <a:pt x="904" y="166"/>
                  </a:lnTo>
                  <a:lnTo>
                    <a:pt x="893" y="197"/>
                  </a:lnTo>
                  <a:lnTo>
                    <a:pt x="791" y="214"/>
                  </a:lnTo>
                  <a:lnTo>
                    <a:pt x="743" y="197"/>
                  </a:lnTo>
                  <a:lnTo>
                    <a:pt x="676" y="197"/>
                  </a:lnTo>
                  <a:lnTo>
                    <a:pt x="608" y="201"/>
                  </a:lnTo>
                  <a:lnTo>
                    <a:pt x="573" y="214"/>
                  </a:lnTo>
                  <a:lnTo>
                    <a:pt x="558" y="222"/>
                  </a:lnTo>
                  <a:lnTo>
                    <a:pt x="553" y="254"/>
                  </a:lnTo>
                  <a:lnTo>
                    <a:pt x="415" y="270"/>
                  </a:lnTo>
                  <a:lnTo>
                    <a:pt x="396" y="258"/>
                  </a:lnTo>
                  <a:lnTo>
                    <a:pt x="356" y="254"/>
                  </a:lnTo>
                  <a:lnTo>
                    <a:pt x="319" y="251"/>
                  </a:lnTo>
                  <a:lnTo>
                    <a:pt x="276" y="255"/>
                  </a:lnTo>
                  <a:lnTo>
                    <a:pt x="241" y="265"/>
                  </a:lnTo>
                  <a:lnTo>
                    <a:pt x="211" y="284"/>
                  </a:lnTo>
                  <a:lnTo>
                    <a:pt x="199" y="313"/>
                  </a:lnTo>
                  <a:lnTo>
                    <a:pt x="95" y="336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5570280" y="3757320"/>
              <a:ext cx="684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573600" y="3741480"/>
              <a:ext cx="50760" cy="173160"/>
            </a:xfrm>
            <a:custGeom>
              <a:avLst/>
              <a:gdLst/>
              <a:ahLst/>
              <a:rect l="l" t="t" r="r" b="b"/>
              <a:pathLst>
                <a:path w="63" h="219">
                  <a:moveTo>
                    <a:pt x="54" y="0"/>
                  </a:moveTo>
                  <a:lnTo>
                    <a:pt x="50" y="50"/>
                  </a:lnTo>
                  <a:lnTo>
                    <a:pt x="63" y="142"/>
                  </a:lnTo>
                  <a:lnTo>
                    <a:pt x="50" y="219"/>
                  </a:lnTo>
                  <a:lnTo>
                    <a:pt x="0" y="130"/>
                  </a:lnTo>
                  <a:lnTo>
                    <a:pt x="0" y="66"/>
                  </a:lnTo>
                  <a:lnTo>
                    <a:pt x="5" y="38"/>
                  </a:lnTo>
                  <a:lnTo>
                    <a:pt x="17" y="1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40240" y="3965400"/>
              <a:ext cx="101520" cy="392040"/>
            </a:xfrm>
            <a:custGeom>
              <a:avLst/>
              <a:gdLst/>
              <a:ahLst/>
              <a:rect l="l" t="t" r="r" b="b"/>
              <a:pathLst>
                <a:path w="129" h="493">
                  <a:moveTo>
                    <a:pt x="125" y="2"/>
                  </a:moveTo>
                  <a:lnTo>
                    <a:pt x="129" y="23"/>
                  </a:lnTo>
                  <a:lnTo>
                    <a:pt x="129" y="54"/>
                  </a:lnTo>
                  <a:lnTo>
                    <a:pt x="129" y="100"/>
                  </a:lnTo>
                  <a:lnTo>
                    <a:pt x="129" y="123"/>
                  </a:lnTo>
                  <a:lnTo>
                    <a:pt x="122" y="171"/>
                  </a:lnTo>
                  <a:lnTo>
                    <a:pt x="118" y="189"/>
                  </a:lnTo>
                  <a:lnTo>
                    <a:pt x="114" y="212"/>
                  </a:lnTo>
                  <a:lnTo>
                    <a:pt x="118" y="248"/>
                  </a:lnTo>
                  <a:lnTo>
                    <a:pt x="122" y="291"/>
                  </a:lnTo>
                  <a:lnTo>
                    <a:pt x="126" y="310"/>
                  </a:lnTo>
                  <a:lnTo>
                    <a:pt x="129" y="333"/>
                  </a:lnTo>
                  <a:lnTo>
                    <a:pt x="129" y="348"/>
                  </a:lnTo>
                  <a:lnTo>
                    <a:pt x="129" y="377"/>
                  </a:lnTo>
                  <a:lnTo>
                    <a:pt x="129" y="421"/>
                  </a:lnTo>
                  <a:lnTo>
                    <a:pt x="125" y="452"/>
                  </a:lnTo>
                  <a:lnTo>
                    <a:pt x="122" y="470"/>
                  </a:lnTo>
                  <a:lnTo>
                    <a:pt x="115" y="485"/>
                  </a:lnTo>
                  <a:lnTo>
                    <a:pt x="108" y="490"/>
                  </a:lnTo>
                  <a:lnTo>
                    <a:pt x="92" y="493"/>
                  </a:lnTo>
                  <a:lnTo>
                    <a:pt x="76" y="490"/>
                  </a:lnTo>
                  <a:lnTo>
                    <a:pt x="56" y="483"/>
                  </a:lnTo>
                  <a:lnTo>
                    <a:pt x="37" y="476"/>
                  </a:lnTo>
                  <a:lnTo>
                    <a:pt x="25" y="466"/>
                  </a:lnTo>
                  <a:lnTo>
                    <a:pt x="12" y="458"/>
                  </a:lnTo>
                  <a:lnTo>
                    <a:pt x="10" y="449"/>
                  </a:lnTo>
                  <a:lnTo>
                    <a:pt x="6" y="432"/>
                  </a:lnTo>
                  <a:lnTo>
                    <a:pt x="0" y="406"/>
                  </a:lnTo>
                  <a:lnTo>
                    <a:pt x="0" y="387"/>
                  </a:lnTo>
                  <a:lnTo>
                    <a:pt x="0" y="362"/>
                  </a:lnTo>
                  <a:lnTo>
                    <a:pt x="3" y="309"/>
                  </a:lnTo>
                  <a:lnTo>
                    <a:pt x="6" y="274"/>
                  </a:lnTo>
                  <a:lnTo>
                    <a:pt x="7" y="237"/>
                  </a:lnTo>
                  <a:lnTo>
                    <a:pt x="11" y="209"/>
                  </a:lnTo>
                  <a:lnTo>
                    <a:pt x="18" y="190"/>
                  </a:lnTo>
                  <a:lnTo>
                    <a:pt x="23" y="165"/>
                  </a:lnTo>
                  <a:lnTo>
                    <a:pt x="25" y="135"/>
                  </a:lnTo>
                  <a:lnTo>
                    <a:pt x="29" y="102"/>
                  </a:lnTo>
                  <a:lnTo>
                    <a:pt x="30" y="83"/>
                  </a:lnTo>
                  <a:lnTo>
                    <a:pt x="34" y="66"/>
                  </a:lnTo>
                  <a:lnTo>
                    <a:pt x="42" y="55"/>
                  </a:lnTo>
                  <a:lnTo>
                    <a:pt x="54" y="36"/>
                  </a:lnTo>
                  <a:lnTo>
                    <a:pt x="62" y="27"/>
                  </a:lnTo>
                  <a:lnTo>
                    <a:pt x="75" y="19"/>
                  </a:lnTo>
                  <a:lnTo>
                    <a:pt x="85" y="12"/>
                  </a:lnTo>
                  <a:lnTo>
                    <a:pt x="99" y="7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891120" y="3462120"/>
              <a:ext cx="1628640" cy="563760"/>
            </a:xfrm>
            <a:custGeom>
              <a:avLst/>
              <a:gdLst/>
              <a:ahLst/>
              <a:rect l="l" t="t" r="r" b="b"/>
              <a:pathLst>
                <a:path w="2052" h="710">
                  <a:moveTo>
                    <a:pt x="0" y="0"/>
                  </a:moveTo>
                  <a:lnTo>
                    <a:pt x="2021" y="650"/>
                  </a:lnTo>
                  <a:lnTo>
                    <a:pt x="2048" y="650"/>
                  </a:lnTo>
                  <a:lnTo>
                    <a:pt x="2052" y="694"/>
                  </a:lnTo>
                  <a:lnTo>
                    <a:pt x="2031" y="710"/>
                  </a:lnTo>
                  <a:lnTo>
                    <a:pt x="1996" y="690"/>
                  </a:lnTo>
                  <a:lnTo>
                    <a:pt x="1721" y="613"/>
                  </a:lnTo>
                  <a:lnTo>
                    <a:pt x="1629" y="578"/>
                  </a:lnTo>
                  <a:lnTo>
                    <a:pt x="1576" y="562"/>
                  </a:lnTo>
                  <a:lnTo>
                    <a:pt x="1505" y="538"/>
                  </a:lnTo>
                  <a:lnTo>
                    <a:pt x="1425" y="513"/>
                  </a:lnTo>
                  <a:lnTo>
                    <a:pt x="1384" y="498"/>
                  </a:lnTo>
                  <a:lnTo>
                    <a:pt x="1341" y="498"/>
                  </a:lnTo>
                  <a:lnTo>
                    <a:pt x="1245" y="450"/>
                  </a:lnTo>
                  <a:lnTo>
                    <a:pt x="834" y="325"/>
                  </a:lnTo>
                  <a:lnTo>
                    <a:pt x="774" y="325"/>
                  </a:lnTo>
                  <a:lnTo>
                    <a:pt x="714" y="289"/>
                  </a:lnTo>
                  <a:lnTo>
                    <a:pt x="582" y="269"/>
                  </a:lnTo>
                  <a:lnTo>
                    <a:pt x="35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889680" y="3452760"/>
              <a:ext cx="1608120" cy="536400"/>
            </a:xfrm>
            <a:custGeom>
              <a:avLst/>
              <a:gdLst/>
              <a:ahLst/>
              <a:rect l="l" t="t" r="r" b="b"/>
              <a:pathLst>
                <a:path w="2026" h="675">
                  <a:moveTo>
                    <a:pt x="2024" y="648"/>
                  </a:moveTo>
                  <a:lnTo>
                    <a:pt x="2026" y="649"/>
                  </a:lnTo>
                  <a:lnTo>
                    <a:pt x="7" y="0"/>
                  </a:lnTo>
                  <a:lnTo>
                    <a:pt x="0" y="24"/>
                  </a:lnTo>
                  <a:lnTo>
                    <a:pt x="2020" y="674"/>
                  </a:lnTo>
                  <a:lnTo>
                    <a:pt x="2024" y="675"/>
                  </a:lnTo>
                  <a:lnTo>
                    <a:pt x="2020" y="674"/>
                  </a:lnTo>
                  <a:lnTo>
                    <a:pt x="2021" y="675"/>
                  </a:lnTo>
                  <a:lnTo>
                    <a:pt x="2024" y="675"/>
                  </a:lnTo>
                  <a:lnTo>
                    <a:pt x="2024" y="64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496000" y="3967200"/>
              <a:ext cx="31680" cy="2196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12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14" y="15"/>
                  </a:lnTo>
                  <a:lnTo>
                    <a:pt x="40" y="12"/>
                  </a:lnTo>
                  <a:lnTo>
                    <a:pt x="39" y="0"/>
                  </a:lnTo>
                  <a:lnTo>
                    <a:pt x="27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507160" y="3976560"/>
              <a:ext cx="23760" cy="44280"/>
            </a:xfrm>
            <a:custGeom>
              <a:avLst/>
              <a:gdLst/>
              <a:ahLst/>
              <a:rect l="l" t="t" r="r" b="b"/>
              <a:pathLst>
                <a:path w="30" h="56">
                  <a:moveTo>
                    <a:pt x="25" y="56"/>
                  </a:moveTo>
                  <a:lnTo>
                    <a:pt x="30" y="45"/>
                  </a:lnTo>
                  <a:lnTo>
                    <a:pt x="26" y="0"/>
                  </a:lnTo>
                  <a:lnTo>
                    <a:pt x="0" y="3"/>
                  </a:lnTo>
                  <a:lnTo>
                    <a:pt x="3" y="46"/>
                  </a:lnTo>
                  <a:lnTo>
                    <a:pt x="9" y="35"/>
                  </a:lnTo>
                  <a:lnTo>
                    <a:pt x="25" y="56"/>
                  </a:lnTo>
                  <a:lnTo>
                    <a:pt x="30" y="52"/>
                  </a:lnTo>
                  <a:lnTo>
                    <a:pt x="30" y="45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497800" y="4005000"/>
              <a:ext cx="28440" cy="3348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" y="38"/>
                  </a:moveTo>
                  <a:lnTo>
                    <a:pt x="16" y="37"/>
                  </a:lnTo>
                  <a:lnTo>
                    <a:pt x="37" y="21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5" y="17"/>
                  </a:lnTo>
                  <a:lnTo>
                    <a:pt x="3" y="38"/>
                  </a:lnTo>
                  <a:lnTo>
                    <a:pt x="10" y="44"/>
                  </a:lnTo>
                  <a:lnTo>
                    <a:pt x="16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470800" y="4000320"/>
              <a:ext cx="39600" cy="34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3" y="24"/>
                  </a:moveTo>
                  <a:lnTo>
                    <a:pt x="0" y="23"/>
                  </a:lnTo>
                  <a:lnTo>
                    <a:pt x="37" y="43"/>
                  </a:lnTo>
                  <a:lnTo>
                    <a:pt x="49" y="2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254800" y="3938400"/>
              <a:ext cx="223920" cy="81000"/>
            </a:xfrm>
            <a:custGeom>
              <a:avLst/>
              <a:gdLst/>
              <a:ahLst/>
              <a:rect l="l" t="t" r="r" b="b"/>
              <a:pathLst>
                <a:path w="282" h="101">
                  <a:moveTo>
                    <a:pt x="0" y="24"/>
                  </a:moveTo>
                  <a:lnTo>
                    <a:pt x="1" y="24"/>
                  </a:lnTo>
                  <a:lnTo>
                    <a:pt x="275" y="101"/>
                  </a:lnTo>
                  <a:lnTo>
                    <a:pt x="282" y="77"/>
                  </a:lnTo>
                  <a:lnTo>
                    <a:pt x="8" y="0"/>
                  </a:lnTo>
                  <a:lnTo>
                    <a:pt x="9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180280" y="3909960"/>
              <a:ext cx="82440" cy="4932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2" y="25"/>
                  </a:moveTo>
                  <a:lnTo>
                    <a:pt x="0" y="25"/>
                  </a:lnTo>
                  <a:lnTo>
                    <a:pt x="94" y="60"/>
                  </a:lnTo>
                  <a:lnTo>
                    <a:pt x="103" y="36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140320" y="3898800"/>
              <a:ext cx="47880" cy="3168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24"/>
                  </a:moveTo>
                  <a:lnTo>
                    <a:pt x="0" y="24"/>
                  </a:lnTo>
                  <a:lnTo>
                    <a:pt x="53" y="40"/>
                  </a:lnTo>
                  <a:lnTo>
                    <a:pt x="61" y="15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083440" y="3879720"/>
              <a:ext cx="63360" cy="381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0" y="25"/>
                  </a:moveTo>
                  <a:lnTo>
                    <a:pt x="0" y="25"/>
                  </a:lnTo>
                  <a:lnTo>
                    <a:pt x="72" y="49"/>
                  </a:lnTo>
                  <a:lnTo>
                    <a:pt x="80" y="25"/>
                  </a:lnTo>
                  <a:lnTo>
                    <a:pt x="9" y="0"/>
                  </a:lnTo>
                  <a:lnTo>
                    <a:pt x="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018280" y="3860640"/>
              <a:ext cx="69840" cy="381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24"/>
                  </a:moveTo>
                  <a:lnTo>
                    <a:pt x="2" y="24"/>
                  </a:lnTo>
                  <a:lnTo>
                    <a:pt x="81" y="49"/>
                  </a:lnTo>
                  <a:lnTo>
                    <a:pt x="88" y="24"/>
                  </a:lnTo>
                  <a:lnTo>
                    <a:pt x="9" y="0"/>
                  </a:ln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988040" y="3846240"/>
              <a:ext cx="38160" cy="3348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4" y="25"/>
                  </a:moveTo>
                  <a:lnTo>
                    <a:pt x="0" y="25"/>
                  </a:lnTo>
                  <a:lnTo>
                    <a:pt x="39" y="40"/>
                  </a:lnTo>
                  <a:lnTo>
                    <a:pt x="49" y="16"/>
                  </a:lnTo>
                  <a:lnTo>
                    <a:pt x="10" y="1"/>
                  </a:lnTo>
                  <a:lnTo>
                    <a:pt x="4" y="0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951680" y="3846240"/>
              <a:ext cx="39600" cy="208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0" y="24"/>
                  </a:moveTo>
                  <a:lnTo>
                    <a:pt x="5" y="25"/>
                  </a:lnTo>
                  <a:lnTo>
                    <a:pt x="48" y="25"/>
                  </a:lnTo>
                  <a:lnTo>
                    <a:pt x="48" y="0"/>
                  </a:lnTo>
                  <a:lnTo>
                    <a:pt x="5" y="0"/>
                  </a:lnTo>
                  <a:lnTo>
                    <a:pt x="10" y="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5" y="2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875360" y="3809880"/>
              <a:ext cx="85680" cy="57240"/>
            </a:xfrm>
            <a:custGeom>
              <a:avLst/>
              <a:gdLst/>
              <a:ahLst/>
              <a:rect l="l" t="t" r="r" b="b"/>
              <a:pathLst>
                <a:path w="108" h="71">
                  <a:moveTo>
                    <a:pt x="3" y="24"/>
                  </a:moveTo>
                  <a:lnTo>
                    <a:pt x="0" y="23"/>
                  </a:lnTo>
                  <a:lnTo>
                    <a:pt x="98" y="71"/>
                  </a:lnTo>
                  <a:lnTo>
                    <a:pt x="108" y="5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551360" y="3709800"/>
              <a:ext cx="330480" cy="119160"/>
            </a:xfrm>
            <a:custGeom>
              <a:avLst/>
              <a:gdLst/>
              <a:ahLst/>
              <a:rect l="l" t="t" r="r" b="b"/>
              <a:pathLst>
                <a:path w="418" h="150">
                  <a:moveTo>
                    <a:pt x="4" y="26"/>
                  </a:moveTo>
                  <a:lnTo>
                    <a:pt x="0" y="26"/>
                  </a:lnTo>
                  <a:lnTo>
                    <a:pt x="411" y="150"/>
                  </a:lnTo>
                  <a:lnTo>
                    <a:pt x="418" y="126"/>
                  </a:lnTo>
                  <a:lnTo>
                    <a:pt x="7" y="1"/>
                  </a:lnTo>
                  <a:lnTo>
                    <a:pt x="4" y="0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500600" y="3709800"/>
              <a:ext cx="54000" cy="2088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0" y="24"/>
                  </a:moveTo>
                  <a:lnTo>
                    <a:pt x="7" y="26"/>
                  </a:lnTo>
                  <a:lnTo>
                    <a:pt x="67" y="26"/>
                  </a:lnTo>
                  <a:lnTo>
                    <a:pt x="67" y="0"/>
                  </a:lnTo>
                  <a:lnTo>
                    <a:pt x="7" y="0"/>
                  </a:lnTo>
                  <a:lnTo>
                    <a:pt x="13" y="3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453080" y="3681360"/>
              <a:ext cx="58680" cy="4752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4" y="26"/>
                  </a:moveTo>
                  <a:lnTo>
                    <a:pt x="0" y="25"/>
                  </a:lnTo>
                  <a:lnTo>
                    <a:pt x="59" y="61"/>
                  </a:lnTo>
                  <a:lnTo>
                    <a:pt x="72" y="40"/>
                  </a:lnTo>
                  <a:lnTo>
                    <a:pt x="13" y="3"/>
                  </a:lnTo>
                  <a:lnTo>
                    <a:pt x="8" y="0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351560" y="3665520"/>
              <a:ext cx="108000" cy="36360"/>
            </a:xfrm>
            <a:custGeom>
              <a:avLst/>
              <a:gdLst/>
              <a:ahLst/>
              <a:rect l="l" t="t" r="r" b="b"/>
              <a:pathLst>
                <a:path w="137" h="44">
                  <a:moveTo>
                    <a:pt x="0" y="24"/>
                  </a:moveTo>
                  <a:lnTo>
                    <a:pt x="2" y="24"/>
                  </a:lnTo>
                  <a:lnTo>
                    <a:pt x="133" y="44"/>
                  </a:lnTo>
                  <a:lnTo>
                    <a:pt x="137" y="18"/>
                  </a:lnTo>
                  <a:lnTo>
                    <a:pt x="6" y="0"/>
                  </a:lnTo>
                  <a:lnTo>
                    <a:pt x="7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10200" y="3516120"/>
              <a:ext cx="446040" cy="168480"/>
            </a:xfrm>
            <a:custGeom>
              <a:avLst/>
              <a:gdLst/>
              <a:ahLst/>
              <a:rect l="l" t="t" r="r" b="b"/>
              <a:pathLst>
                <a:path w="563" h="212">
                  <a:moveTo>
                    <a:pt x="0" y="16"/>
                  </a:moveTo>
                  <a:lnTo>
                    <a:pt x="8" y="24"/>
                  </a:lnTo>
                  <a:lnTo>
                    <a:pt x="556" y="212"/>
                  </a:lnTo>
                  <a:lnTo>
                    <a:pt x="563" y="188"/>
                  </a:lnTo>
                  <a:lnTo>
                    <a:pt x="16" y="0"/>
                  </a:lnTo>
                  <a:lnTo>
                    <a:pt x="24" y="7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8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873480" y="3446280"/>
              <a:ext cx="55800" cy="84240"/>
            </a:xfrm>
            <a:custGeom>
              <a:avLst/>
              <a:gdLst/>
              <a:ahLst/>
              <a:rect l="l" t="t" r="r" b="b"/>
              <a:pathLst>
                <a:path w="70" h="105">
                  <a:moveTo>
                    <a:pt x="27" y="8"/>
                  </a:moveTo>
                  <a:lnTo>
                    <a:pt x="12" y="25"/>
                  </a:lnTo>
                  <a:lnTo>
                    <a:pt x="46" y="105"/>
                  </a:lnTo>
                  <a:lnTo>
                    <a:pt x="70" y="96"/>
                  </a:lnTo>
                  <a:lnTo>
                    <a:pt x="35" y="16"/>
                  </a:lnTo>
                  <a:lnTo>
                    <a:pt x="20" y="32"/>
                  </a:lnTo>
                  <a:lnTo>
                    <a:pt x="27" y="8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329240" y="3441600"/>
              <a:ext cx="136440" cy="82440"/>
            </a:xfrm>
            <a:custGeom>
              <a:avLst/>
              <a:gdLst/>
              <a:ahLst/>
              <a:rect l="l" t="t" r="r" b="b"/>
              <a:pathLst>
                <a:path w="171" h="104">
                  <a:moveTo>
                    <a:pt x="34" y="77"/>
                  </a:moveTo>
                  <a:lnTo>
                    <a:pt x="0" y="0"/>
                  </a:lnTo>
                  <a:lnTo>
                    <a:pt x="36" y="29"/>
                  </a:lnTo>
                  <a:lnTo>
                    <a:pt x="171" y="19"/>
                  </a:lnTo>
                  <a:lnTo>
                    <a:pt x="134" y="76"/>
                  </a:lnTo>
                  <a:lnTo>
                    <a:pt x="129" y="104"/>
                  </a:lnTo>
                  <a:lnTo>
                    <a:pt x="34" y="77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557760" y="2992320"/>
              <a:ext cx="76320" cy="71280"/>
            </a:xfrm>
            <a:custGeom>
              <a:avLst/>
              <a:gdLst/>
              <a:ahLst/>
              <a:rect l="l" t="t" r="r" b="b"/>
              <a:pathLst>
                <a:path w="97" h="92">
                  <a:moveTo>
                    <a:pt x="89" y="81"/>
                  </a:moveTo>
                  <a:lnTo>
                    <a:pt x="97" y="72"/>
                  </a:lnTo>
                  <a:lnTo>
                    <a:pt x="18" y="0"/>
                  </a:lnTo>
                  <a:lnTo>
                    <a:pt x="0" y="20"/>
                  </a:lnTo>
                  <a:lnTo>
                    <a:pt x="80" y="92"/>
                  </a:lnTo>
                  <a:lnTo>
                    <a:pt x="8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554520" y="2981160"/>
              <a:ext cx="22320" cy="205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4" y="22"/>
                  </a:moveTo>
                  <a:lnTo>
                    <a:pt x="26" y="24"/>
                  </a:lnTo>
                  <a:lnTo>
                    <a:pt x="30" y="5"/>
                  </a:lnTo>
                  <a:lnTo>
                    <a:pt x="4" y="0"/>
                  </a:lnTo>
                  <a:lnTo>
                    <a:pt x="0" y="20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567120" y="2973240"/>
              <a:ext cx="317520" cy="33480"/>
            </a:xfrm>
            <a:custGeom>
              <a:avLst/>
              <a:gdLst/>
              <a:ahLst/>
              <a:rect l="l" t="t" r="r" b="b"/>
              <a:pathLst>
                <a:path w="402" h="42">
                  <a:moveTo>
                    <a:pt x="0" y="14"/>
                  </a:moveTo>
                  <a:lnTo>
                    <a:pt x="0" y="27"/>
                  </a:lnTo>
                  <a:lnTo>
                    <a:pt x="402" y="42"/>
                  </a:lnTo>
                  <a:lnTo>
                    <a:pt x="402" y="16"/>
                  </a:lnTo>
                  <a:lnTo>
                    <a:pt x="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 flipV="1">
              <a:off x="6884280" y="299664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311520" y="2989080"/>
              <a:ext cx="14400" cy="3492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3" y="0"/>
                  </a:moveTo>
                  <a:lnTo>
                    <a:pt x="0" y="0"/>
                  </a:lnTo>
                  <a:lnTo>
                    <a:pt x="12" y="46"/>
                  </a:lnTo>
                  <a:lnTo>
                    <a:pt x="19" y="4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311520" y="2985840"/>
              <a:ext cx="5040" cy="3240"/>
            </a:xfrm>
            <a:prstGeom prst="rect">
              <a:avLst/>
            </a:prstGeom>
            <a:solidFill>
              <a:srgbClr val="ab02ab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43120" y="3429000"/>
              <a:ext cx="401760" cy="125280"/>
            </a:xfrm>
            <a:custGeom>
              <a:avLst/>
              <a:gdLst/>
              <a:ahLst/>
              <a:rect l="l" t="t" r="r" b="b"/>
              <a:pathLst>
                <a:path w="505" h="158">
                  <a:moveTo>
                    <a:pt x="12" y="151"/>
                  </a:moveTo>
                  <a:lnTo>
                    <a:pt x="11" y="158"/>
                  </a:lnTo>
                  <a:lnTo>
                    <a:pt x="505" y="7"/>
                  </a:lnTo>
                  <a:lnTo>
                    <a:pt x="504" y="0"/>
                  </a:lnTo>
                  <a:lnTo>
                    <a:pt x="9" y="151"/>
                  </a:lnTo>
                  <a:lnTo>
                    <a:pt x="8" y="158"/>
                  </a:lnTo>
                  <a:lnTo>
                    <a:pt x="9" y="151"/>
                  </a:lnTo>
                  <a:lnTo>
                    <a:pt x="0" y="155"/>
                  </a:lnTo>
                  <a:lnTo>
                    <a:pt x="8" y="158"/>
                  </a:lnTo>
                  <a:lnTo>
                    <a:pt x="12" y="151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349600" y="3549600"/>
              <a:ext cx="74520" cy="30240"/>
            </a:xfrm>
            <a:custGeom>
              <a:avLst/>
              <a:gdLst/>
              <a:ahLst/>
              <a:rect l="l" t="t" r="r" b="b"/>
              <a:pathLst>
                <a:path w="93" h="38">
                  <a:moveTo>
                    <a:pt x="93" y="31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92" y="38"/>
                  </a:lnTo>
                  <a:lnTo>
                    <a:pt x="93" y="38"/>
                  </a:lnTo>
                  <a:lnTo>
                    <a:pt x="93" y="31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24120" y="3511440"/>
              <a:ext cx="227160" cy="68400"/>
            </a:xfrm>
            <a:custGeom>
              <a:avLst/>
              <a:gdLst/>
              <a:ahLst/>
              <a:rect l="l" t="t" r="r" b="b"/>
              <a:pathLst>
                <a:path w="287" h="85">
                  <a:moveTo>
                    <a:pt x="284" y="0"/>
                  </a:moveTo>
                  <a:lnTo>
                    <a:pt x="0" y="78"/>
                  </a:lnTo>
                  <a:lnTo>
                    <a:pt x="0" y="85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73440" y="3546360"/>
              <a:ext cx="222120" cy="98280"/>
            </a:xfrm>
            <a:custGeom>
              <a:avLst/>
              <a:gdLst/>
              <a:ahLst/>
              <a:rect l="l" t="t" r="r" b="b"/>
              <a:pathLst>
                <a:path w="281" h="125">
                  <a:moveTo>
                    <a:pt x="279" y="0"/>
                  </a:moveTo>
                  <a:lnTo>
                    <a:pt x="281" y="53"/>
                  </a:lnTo>
                  <a:lnTo>
                    <a:pt x="0" y="12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763960" y="3489120"/>
              <a:ext cx="203040" cy="82800"/>
            </a:xfrm>
            <a:custGeom>
              <a:avLst/>
              <a:gdLst/>
              <a:ahLst/>
              <a:rect l="l" t="t" r="r" b="b"/>
              <a:pathLst>
                <a:path w="256" h="104">
                  <a:moveTo>
                    <a:pt x="256" y="0"/>
                  </a:moveTo>
                  <a:lnTo>
                    <a:pt x="245" y="44"/>
                  </a:lnTo>
                  <a:lnTo>
                    <a:pt x="0" y="10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622920" y="3566880"/>
              <a:ext cx="112680" cy="101880"/>
            </a:xfrm>
            <a:custGeom>
              <a:avLst/>
              <a:gdLst/>
              <a:ahLst/>
              <a:rect l="l" t="t" r="r" b="b"/>
              <a:pathLst>
                <a:path w="143" h="129">
                  <a:moveTo>
                    <a:pt x="0" y="129"/>
                  </a:moveTo>
                  <a:lnTo>
                    <a:pt x="0" y="31"/>
                  </a:lnTo>
                  <a:lnTo>
                    <a:pt x="143" y="0"/>
                  </a:lnTo>
                  <a:lnTo>
                    <a:pt x="102" y="92"/>
                  </a:lnTo>
                  <a:lnTo>
                    <a:pt x="10" y="92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875280" y="2997000"/>
              <a:ext cx="22320" cy="82800"/>
            </a:xfrm>
            <a:custGeom>
              <a:avLst/>
              <a:gdLst/>
              <a:ahLst/>
              <a:rect l="l" t="t" r="r" b="b"/>
              <a:pathLst>
                <a:path w="29" h="104">
                  <a:moveTo>
                    <a:pt x="17" y="104"/>
                  </a:moveTo>
                  <a:lnTo>
                    <a:pt x="29" y="102"/>
                  </a:lnTo>
                  <a:lnTo>
                    <a:pt x="26" y="0"/>
                  </a:lnTo>
                  <a:lnTo>
                    <a:pt x="0" y="0"/>
                  </a:lnTo>
                  <a:lnTo>
                    <a:pt x="3" y="104"/>
                  </a:lnTo>
                  <a:lnTo>
                    <a:pt x="1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348160" y="3294000"/>
              <a:ext cx="663480" cy="258840"/>
            </a:xfrm>
            <a:custGeom>
              <a:avLst/>
              <a:gdLst/>
              <a:ahLst/>
              <a:rect l="l" t="t" r="r" b="b"/>
              <a:pathLst>
                <a:path w="835" h="325">
                  <a:moveTo>
                    <a:pt x="518" y="213"/>
                  </a:moveTo>
                  <a:lnTo>
                    <a:pt x="495" y="169"/>
                  </a:lnTo>
                  <a:lnTo>
                    <a:pt x="0" y="325"/>
                  </a:lnTo>
                  <a:lnTo>
                    <a:pt x="835" y="69"/>
                  </a:lnTo>
                  <a:lnTo>
                    <a:pt x="8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351400" y="2989080"/>
              <a:ext cx="1206360" cy="587520"/>
            </a:xfrm>
            <a:custGeom>
              <a:avLst/>
              <a:gdLst/>
              <a:ahLst/>
              <a:rect l="l" t="t" r="r" b="b"/>
              <a:pathLst>
                <a:path w="1520" h="741">
                  <a:moveTo>
                    <a:pt x="1227" y="45"/>
                  </a:moveTo>
                  <a:lnTo>
                    <a:pt x="1214" y="0"/>
                  </a:lnTo>
                  <a:lnTo>
                    <a:pt x="1227" y="45"/>
                  </a:lnTo>
                  <a:lnTo>
                    <a:pt x="1490" y="174"/>
                  </a:lnTo>
                  <a:lnTo>
                    <a:pt x="1438" y="178"/>
                  </a:lnTo>
                  <a:lnTo>
                    <a:pt x="1405" y="153"/>
                  </a:lnTo>
                  <a:lnTo>
                    <a:pt x="1323" y="142"/>
                  </a:lnTo>
                  <a:lnTo>
                    <a:pt x="1222" y="70"/>
                  </a:lnTo>
                  <a:lnTo>
                    <a:pt x="1034" y="64"/>
                  </a:lnTo>
                  <a:lnTo>
                    <a:pt x="1081" y="140"/>
                  </a:lnTo>
                  <a:lnTo>
                    <a:pt x="1138" y="158"/>
                  </a:lnTo>
                  <a:lnTo>
                    <a:pt x="1184" y="157"/>
                  </a:lnTo>
                  <a:lnTo>
                    <a:pt x="1222" y="147"/>
                  </a:lnTo>
                  <a:lnTo>
                    <a:pt x="1273" y="154"/>
                  </a:lnTo>
                  <a:lnTo>
                    <a:pt x="1319" y="173"/>
                  </a:lnTo>
                  <a:lnTo>
                    <a:pt x="1422" y="250"/>
                  </a:lnTo>
                  <a:lnTo>
                    <a:pt x="1449" y="263"/>
                  </a:lnTo>
                  <a:lnTo>
                    <a:pt x="1442" y="292"/>
                  </a:lnTo>
                  <a:lnTo>
                    <a:pt x="1520" y="292"/>
                  </a:lnTo>
                  <a:lnTo>
                    <a:pt x="1505" y="261"/>
                  </a:lnTo>
                  <a:lnTo>
                    <a:pt x="1490" y="174"/>
                  </a:lnTo>
                  <a:lnTo>
                    <a:pt x="1227" y="45"/>
                  </a:lnTo>
                  <a:lnTo>
                    <a:pt x="918" y="639"/>
                  </a:lnTo>
                  <a:lnTo>
                    <a:pt x="1245" y="554"/>
                  </a:lnTo>
                  <a:lnTo>
                    <a:pt x="918" y="639"/>
                  </a:lnTo>
                  <a:lnTo>
                    <a:pt x="1227" y="45"/>
                  </a:lnTo>
                  <a:lnTo>
                    <a:pt x="1246" y="552"/>
                  </a:lnTo>
                  <a:lnTo>
                    <a:pt x="1246" y="494"/>
                  </a:lnTo>
                  <a:lnTo>
                    <a:pt x="1246" y="552"/>
                  </a:lnTo>
                  <a:lnTo>
                    <a:pt x="1227" y="45"/>
                  </a:lnTo>
                  <a:lnTo>
                    <a:pt x="833" y="452"/>
                  </a:lnTo>
                  <a:lnTo>
                    <a:pt x="495" y="558"/>
                  </a:lnTo>
                  <a:lnTo>
                    <a:pt x="0" y="710"/>
                  </a:lnTo>
                  <a:lnTo>
                    <a:pt x="92" y="741"/>
                  </a:lnTo>
                  <a:lnTo>
                    <a:pt x="377" y="662"/>
                  </a:lnTo>
                  <a:lnTo>
                    <a:pt x="480" y="601"/>
                  </a:lnTo>
                  <a:lnTo>
                    <a:pt x="575" y="609"/>
                  </a:lnTo>
                  <a:lnTo>
                    <a:pt x="831" y="546"/>
                  </a:lnTo>
                  <a:lnTo>
                    <a:pt x="938" y="505"/>
                  </a:lnTo>
                  <a:lnTo>
                    <a:pt x="924" y="470"/>
                  </a:lnTo>
                  <a:lnTo>
                    <a:pt x="941" y="444"/>
                  </a:lnTo>
                  <a:lnTo>
                    <a:pt x="1043" y="485"/>
                  </a:lnTo>
                  <a:lnTo>
                    <a:pt x="1228" y="448"/>
                  </a:lnTo>
                  <a:lnTo>
                    <a:pt x="1412" y="397"/>
                  </a:lnTo>
                  <a:lnTo>
                    <a:pt x="1439" y="338"/>
                  </a:lnTo>
                  <a:lnTo>
                    <a:pt x="1450" y="284"/>
                  </a:lnTo>
                  <a:lnTo>
                    <a:pt x="1424" y="247"/>
                  </a:lnTo>
                  <a:lnTo>
                    <a:pt x="1001" y="386"/>
                  </a:lnTo>
                  <a:lnTo>
                    <a:pt x="941" y="428"/>
                  </a:lnTo>
                  <a:lnTo>
                    <a:pt x="908" y="408"/>
                  </a:lnTo>
                  <a:lnTo>
                    <a:pt x="865" y="385"/>
                  </a:lnTo>
                  <a:lnTo>
                    <a:pt x="829" y="385"/>
                  </a:lnTo>
                  <a:lnTo>
                    <a:pt x="833" y="452"/>
                  </a:lnTo>
                  <a:lnTo>
                    <a:pt x="1227" y="45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108480" y="2966760"/>
              <a:ext cx="52200" cy="795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20" y="1"/>
                  </a:moveTo>
                  <a:lnTo>
                    <a:pt x="8" y="19"/>
                  </a:lnTo>
                  <a:lnTo>
                    <a:pt x="43" y="100"/>
                  </a:lnTo>
                  <a:lnTo>
                    <a:pt x="66" y="91"/>
                  </a:lnTo>
                  <a:lnTo>
                    <a:pt x="33" y="9"/>
                  </a:lnTo>
                  <a:lnTo>
                    <a:pt x="20" y="27"/>
                  </a:lnTo>
                  <a:lnTo>
                    <a:pt x="20" y="1"/>
                  </a:lnTo>
                  <a:lnTo>
                    <a:pt x="0" y="0"/>
                  </a:lnTo>
                  <a:lnTo>
                    <a:pt x="8" y="19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124320" y="2968560"/>
              <a:ext cx="195120" cy="28440"/>
            </a:xfrm>
            <a:custGeom>
              <a:avLst/>
              <a:gdLst/>
              <a:ahLst/>
              <a:rect l="l" t="t" r="r" b="b"/>
              <a:pathLst>
                <a:path w="246" h="37">
                  <a:moveTo>
                    <a:pt x="246" y="11"/>
                  </a:moveTo>
                  <a:lnTo>
                    <a:pt x="241" y="11"/>
                  </a:lnTo>
                  <a:lnTo>
                    <a:pt x="0" y="0"/>
                  </a:lnTo>
                  <a:lnTo>
                    <a:pt x="0" y="26"/>
                  </a:lnTo>
                  <a:lnTo>
                    <a:pt x="240" y="37"/>
                  </a:lnTo>
                  <a:lnTo>
                    <a:pt x="234" y="35"/>
                  </a:lnTo>
                  <a:lnTo>
                    <a:pt x="246" y="11"/>
                  </a:lnTo>
                  <a:lnTo>
                    <a:pt x="244" y="11"/>
                  </a:lnTo>
                  <a:lnTo>
                    <a:pt x="241" y="11"/>
                  </a:lnTo>
                  <a:lnTo>
                    <a:pt x="2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310080" y="2976480"/>
              <a:ext cx="22320" cy="25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0"/>
                  </a:moveTo>
                  <a:lnTo>
                    <a:pt x="28" y="10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322680" y="2984400"/>
              <a:ext cx="238320" cy="133200"/>
            </a:xfrm>
            <a:custGeom>
              <a:avLst/>
              <a:gdLst/>
              <a:ahLst/>
              <a:rect l="l" t="t" r="r" b="b"/>
              <a:pathLst>
                <a:path w="300" h="168">
                  <a:moveTo>
                    <a:pt x="291" y="141"/>
                  </a:moveTo>
                  <a:lnTo>
                    <a:pt x="300" y="143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289" y="166"/>
                  </a:lnTo>
                  <a:lnTo>
                    <a:pt x="298" y="166"/>
                  </a:lnTo>
                  <a:lnTo>
                    <a:pt x="289" y="166"/>
                  </a:lnTo>
                  <a:lnTo>
                    <a:pt x="294" y="168"/>
                  </a:lnTo>
                  <a:lnTo>
                    <a:pt x="298" y="166"/>
                  </a:lnTo>
                  <a:lnTo>
                    <a:pt x="291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554520" y="3065400"/>
              <a:ext cx="106560" cy="50760"/>
            </a:xfrm>
            <a:custGeom>
              <a:avLst/>
              <a:gdLst/>
              <a:ahLst/>
              <a:rect l="l" t="t" r="r" b="b"/>
              <a:pathLst>
                <a:path w="134" h="64">
                  <a:moveTo>
                    <a:pt x="130" y="12"/>
                  </a:moveTo>
                  <a:lnTo>
                    <a:pt x="127" y="0"/>
                  </a:lnTo>
                  <a:lnTo>
                    <a:pt x="0" y="39"/>
                  </a:lnTo>
                  <a:lnTo>
                    <a:pt x="7" y="64"/>
                  </a:lnTo>
                  <a:lnTo>
                    <a:pt x="134" y="26"/>
                  </a:lnTo>
                  <a:lnTo>
                    <a:pt x="1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313320" y="433692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" y="23"/>
                  </a:moveTo>
                  <a:lnTo>
                    <a:pt x="4" y="22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3" y="16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292440" y="4344840"/>
              <a:ext cx="22320" cy="1116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5"/>
                  </a:moveTo>
                  <a:lnTo>
                    <a:pt x="26" y="12"/>
                  </a:lnTo>
                  <a:lnTo>
                    <a:pt x="27" y="5"/>
                  </a:lnTo>
                  <a:lnTo>
                    <a:pt x="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b02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V="1">
              <a:off x="5900400" y="4173480"/>
              <a:ext cx="3492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 flipV="1">
              <a:off x="6891120" y="3297240"/>
              <a:ext cx="450720" cy="179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611760" y="3046320"/>
              <a:ext cx="1080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6587640" y="3160440"/>
              <a:ext cx="3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91160" y="3124080"/>
              <a:ext cx="42840" cy="7920"/>
            </a:xfrm>
            <a:custGeom>
              <a:avLst/>
              <a:gdLst/>
              <a:ahLst/>
              <a:rect l="l" t="t" r="r" b="b"/>
              <a:pathLst>
                <a:path w="54" h="9">
                  <a:moveTo>
                    <a:pt x="0" y="9"/>
                  </a:moveTo>
                  <a:lnTo>
                    <a:pt x="2" y="9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2" y="4"/>
                  </a:lnTo>
                  <a:lnTo>
                    <a:pt x="4" y="4"/>
                  </a:lnTo>
                  <a:lnTo>
                    <a:pt x="0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464160" y="3106440"/>
              <a:ext cx="30240" cy="255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2" y="6"/>
                  </a:moveTo>
                  <a:lnTo>
                    <a:pt x="0" y="6"/>
                  </a:lnTo>
                  <a:lnTo>
                    <a:pt x="33" y="32"/>
                  </a:lnTo>
                  <a:lnTo>
                    <a:pt x="37" y="27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399000" y="3098520"/>
              <a:ext cx="66600" cy="12960"/>
            </a:xfrm>
            <a:custGeom>
              <a:avLst/>
              <a:gdLst/>
              <a:ahLst/>
              <a:rect l="l" t="t" r="r" b="b"/>
              <a:pathLst>
                <a:path w="83" h="16">
                  <a:moveTo>
                    <a:pt x="0" y="7"/>
                  </a:moveTo>
                  <a:lnTo>
                    <a:pt x="83" y="16"/>
                  </a:lnTo>
                  <a:lnTo>
                    <a:pt x="83" y="10"/>
                  </a:lnTo>
                  <a:lnTo>
                    <a:pt x="1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319440" y="3041640"/>
              <a:ext cx="82800" cy="61920"/>
            </a:xfrm>
            <a:custGeom>
              <a:avLst/>
              <a:gdLst/>
              <a:ahLst/>
              <a:rect l="l" t="t" r="r" b="b"/>
              <a:pathLst>
                <a:path w="102" h="78">
                  <a:moveTo>
                    <a:pt x="0" y="5"/>
                  </a:moveTo>
                  <a:lnTo>
                    <a:pt x="100" y="78"/>
                  </a:lnTo>
                  <a:lnTo>
                    <a:pt x="102" y="7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167160" y="3035160"/>
              <a:ext cx="152280" cy="11160"/>
            </a:xfrm>
            <a:custGeom>
              <a:avLst/>
              <a:gdLst/>
              <a:ahLst/>
              <a:rect l="l" t="t" r="r" b="b"/>
              <a:pathLst>
                <a:path w="194" h="14">
                  <a:moveTo>
                    <a:pt x="7" y="3"/>
                  </a:moveTo>
                  <a:lnTo>
                    <a:pt x="6" y="7"/>
                  </a:lnTo>
                  <a:lnTo>
                    <a:pt x="194" y="14"/>
                  </a:lnTo>
                  <a:lnTo>
                    <a:pt x="194" y="9"/>
                  </a:lnTo>
                  <a:lnTo>
                    <a:pt x="6" y="0"/>
                  </a:lnTo>
                  <a:lnTo>
                    <a:pt x="3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168960" y="3038400"/>
              <a:ext cx="41040" cy="6336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50" y="74"/>
                  </a:moveTo>
                  <a:lnTo>
                    <a:pt x="53" y="77"/>
                  </a:lnTo>
                  <a:lnTo>
                    <a:pt x="4" y="0"/>
                  </a:lnTo>
                  <a:lnTo>
                    <a:pt x="0" y="3"/>
                  </a:lnTo>
                  <a:lnTo>
                    <a:pt x="47" y="80"/>
                  </a:lnTo>
                  <a:lnTo>
                    <a:pt x="49" y="81"/>
                  </a:lnTo>
                  <a:lnTo>
                    <a:pt x="47" y="80"/>
                  </a:lnTo>
                  <a:lnTo>
                    <a:pt x="49" y="81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06760" y="3097080"/>
              <a:ext cx="46080" cy="1908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18"/>
                  </a:moveTo>
                  <a:lnTo>
                    <a:pt x="1" y="0"/>
                  </a:lnTo>
                  <a:lnTo>
                    <a:pt x="0" y="7"/>
                  </a:lnTo>
                  <a:lnTo>
                    <a:pt x="58" y="25"/>
                  </a:lnTo>
                  <a:lnTo>
                    <a:pt x="58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252840" y="3109680"/>
              <a:ext cx="36720" cy="648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44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46" y="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289560" y="3101760"/>
              <a:ext cx="31680" cy="129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0" y="10"/>
                  </a:lnTo>
                  <a:lnTo>
                    <a:pt x="2" y="16"/>
                  </a:lnTo>
                  <a:lnTo>
                    <a:pt x="41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319440" y="3101760"/>
              <a:ext cx="43200" cy="1116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52" y="8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51" y="14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359400" y="3108240"/>
              <a:ext cx="39600" cy="190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48" y="21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6" y="25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478200" y="3186000"/>
              <a:ext cx="24120" cy="144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6"/>
                  </a:moveTo>
                  <a:lnTo>
                    <a:pt x="27" y="12"/>
                  </a:lnTo>
                  <a:lnTo>
                    <a:pt x="1" y="0"/>
                  </a:lnTo>
                  <a:lnTo>
                    <a:pt x="0" y="4"/>
                  </a:lnTo>
                  <a:lnTo>
                    <a:pt x="25" y="17"/>
                  </a:lnTo>
                  <a:lnTo>
                    <a:pt x="23" y="14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492600" y="3197160"/>
              <a:ext cx="9720" cy="252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3" y="26"/>
                  </a:moveTo>
                  <a:lnTo>
                    <a:pt x="7" y="30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494400" y="3217680"/>
              <a:ext cx="66600" cy="468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75" y="4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81" y="3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1" y="3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543360" y="3193920"/>
              <a:ext cx="15840" cy="27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2"/>
                  </a:moveTo>
                  <a:lnTo>
                    <a:pt x="14" y="34"/>
                  </a:lnTo>
                  <a:lnTo>
                    <a:pt x="20" y="33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530760" y="3124080"/>
              <a:ext cx="17280" cy="7128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2" y="5"/>
                  </a:moveTo>
                  <a:lnTo>
                    <a:pt x="0" y="2"/>
                  </a:lnTo>
                  <a:lnTo>
                    <a:pt x="15" y="89"/>
                  </a:lnTo>
                  <a:lnTo>
                    <a:pt x="21" y="87"/>
                  </a:lnTo>
                  <a:lnTo>
                    <a:pt x="6" y="1"/>
                  </a:lnTo>
                  <a:lnTo>
                    <a:pt x="2" y="0"/>
                  </a:lnTo>
                  <a:lnTo>
                    <a:pt x="6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075000" y="3493800"/>
              <a:ext cx="5040" cy="32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0" y="0"/>
                  </a:lnTo>
                  <a:lnTo>
                    <a:pt x="1" y="6"/>
                  </a:lnTo>
                  <a:lnTo>
                    <a:pt x="5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078240" y="3425760"/>
              <a:ext cx="260280" cy="71280"/>
            </a:xfrm>
            <a:custGeom>
              <a:avLst/>
              <a:gdLst/>
              <a:ahLst/>
              <a:rect l="l" t="t" r="r" b="b"/>
              <a:pathLst>
                <a:path w="328" h="91">
                  <a:moveTo>
                    <a:pt x="327" y="3"/>
                  </a:moveTo>
                  <a:lnTo>
                    <a:pt x="327" y="0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328" y="5"/>
                  </a:lnTo>
                  <a:lnTo>
                    <a:pt x="327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338520" y="3425760"/>
              <a:ext cx="3240" cy="4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338520" y="3427200"/>
              <a:ext cx="3240" cy="1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335640" y="3381120"/>
              <a:ext cx="6120" cy="460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4" y="0"/>
                  </a:moveTo>
                  <a:lnTo>
                    <a:pt x="0" y="0"/>
                  </a:lnTo>
                  <a:lnTo>
                    <a:pt x="3" y="58"/>
                  </a:lnTo>
                  <a:lnTo>
                    <a:pt x="8" y="58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335640" y="3378240"/>
              <a:ext cx="6120" cy="2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010200" y="3344760"/>
              <a:ext cx="4680" cy="46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7"/>
                  </a:moveTo>
                  <a:lnTo>
                    <a:pt x="6" y="7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43440" y="3344760"/>
              <a:ext cx="268200" cy="88920"/>
            </a:xfrm>
            <a:custGeom>
              <a:avLst/>
              <a:gdLst/>
              <a:ahLst/>
              <a:rect l="l" t="t" r="r" b="b"/>
              <a:pathLst>
                <a:path w="338" h="114">
                  <a:moveTo>
                    <a:pt x="1" y="114"/>
                  </a:moveTo>
                  <a:lnTo>
                    <a:pt x="338" y="7"/>
                  </a:lnTo>
                  <a:lnTo>
                    <a:pt x="336" y="0"/>
                  </a:lnTo>
                  <a:lnTo>
                    <a:pt x="0" y="107"/>
                  </a:lnTo>
                  <a:lnTo>
                    <a:pt x="1" y="11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648040" y="3463920"/>
              <a:ext cx="85680" cy="52200"/>
            </a:xfrm>
            <a:custGeom>
              <a:avLst/>
              <a:gdLst/>
              <a:ahLst/>
              <a:rect l="l" t="t" r="r" b="b"/>
              <a:pathLst>
                <a:path w="107" h="67">
                  <a:moveTo>
                    <a:pt x="104" y="0"/>
                  </a:moveTo>
                  <a:lnTo>
                    <a:pt x="0" y="61"/>
                  </a:lnTo>
                  <a:lnTo>
                    <a:pt x="3" y="67"/>
                  </a:lnTo>
                  <a:lnTo>
                    <a:pt x="107" y="6"/>
                  </a:lnTo>
                  <a:lnTo>
                    <a:pt x="104" y="0"/>
                  </a:lnTo>
                  <a:lnTo>
                    <a:pt x="103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730480" y="3463920"/>
              <a:ext cx="76320" cy="111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95" y="8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95" y="15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806800" y="3417840"/>
              <a:ext cx="203400" cy="57240"/>
            </a:xfrm>
            <a:custGeom>
              <a:avLst/>
              <a:gdLst/>
              <a:ahLst/>
              <a:rect l="l" t="t" r="r" b="b"/>
              <a:pathLst>
                <a:path w="256" h="71">
                  <a:moveTo>
                    <a:pt x="255" y="0"/>
                  </a:moveTo>
                  <a:lnTo>
                    <a:pt x="0" y="64"/>
                  </a:lnTo>
                  <a:lnTo>
                    <a:pt x="0" y="71"/>
                  </a:lnTo>
                  <a:lnTo>
                    <a:pt x="256" y="6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008400" y="3387600"/>
              <a:ext cx="88920" cy="36360"/>
            </a:xfrm>
            <a:custGeom>
              <a:avLst/>
              <a:gdLst/>
              <a:ahLst/>
              <a:rect l="l" t="t" r="r" b="b"/>
              <a:pathLst>
                <a:path w="112" h="46">
                  <a:moveTo>
                    <a:pt x="105" y="4"/>
                  </a:moveTo>
                  <a:lnTo>
                    <a:pt x="108" y="0"/>
                  </a:lnTo>
                  <a:lnTo>
                    <a:pt x="0" y="40"/>
                  </a:lnTo>
                  <a:lnTo>
                    <a:pt x="1" y="46"/>
                  </a:lnTo>
                  <a:lnTo>
                    <a:pt x="109" y="7"/>
                  </a:lnTo>
                  <a:lnTo>
                    <a:pt x="112" y="3"/>
                  </a:lnTo>
                  <a:lnTo>
                    <a:pt x="109" y="7"/>
                  </a:lnTo>
                  <a:lnTo>
                    <a:pt x="112" y="6"/>
                  </a:lnTo>
                  <a:lnTo>
                    <a:pt x="112" y="3"/>
                  </a:lnTo>
                  <a:lnTo>
                    <a:pt x="105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081480" y="3360600"/>
              <a:ext cx="15840" cy="3024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0" y="0"/>
                  </a:moveTo>
                  <a:lnTo>
                    <a:pt x="0" y="2"/>
                  </a:lnTo>
                  <a:lnTo>
                    <a:pt x="13" y="37"/>
                  </a:lnTo>
                  <a:lnTo>
                    <a:pt x="20" y="36"/>
                  </a:lnTo>
                  <a:lnTo>
                    <a:pt x="5" y="0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081480" y="3338280"/>
              <a:ext cx="17280" cy="25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2"/>
                  </a:moveTo>
                  <a:lnTo>
                    <a:pt x="16" y="3"/>
                  </a:lnTo>
                  <a:lnTo>
                    <a:pt x="0" y="29"/>
                  </a:lnTo>
                  <a:lnTo>
                    <a:pt x="5" y="33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6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095880" y="3338280"/>
              <a:ext cx="82440" cy="38160"/>
            </a:xfrm>
            <a:custGeom>
              <a:avLst/>
              <a:gdLst/>
              <a:ahLst/>
              <a:rect l="l" t="t" r="r" b="b"/>
              <a:pathLst>
                <a:path w="104" h="47">
                  <a:moveTo>
                    <a:pt x="104" y="40"/>
                  </a:moveTo>
                  <a:lnTo>
                    <a:pt x="3" y="0"/>
                  </a:lnTo>
                  <a:lnTo>
                    <a:pt x="0" y="6"/>
                  </a:lnTo>
                  <a:lnTo>
                    <a:pt x="103" y="47"/>
                  </a:lnTo>
                  <a:lnTo>
                    <a:pt x="104" y="47"/>
                  </a:lnTo>
                  <a:lnTo>
                    <a:pt x="104" y="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178320" y="3341520"/>
              <a:ext cx="147600" cy="3492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4" y="0"/>
                  </a:moveTo>
                  <a:lnTo>
                    <a:pt x="0" y="36"/>
                  </a:lnTo>
                  <a:lnTo>
                    <a:pt x="0" y="43"/>
                  </a:lnTo>
                  <a:lnTo>
                    <a:pt x="185" y="6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324480" y="3300120"/>
              <a:ext cx="149040" cy="47880"/>
            </a:xfrm>
            <a:custGeom>
              <a:avLst/>
              <a:gdLst/>
              <a:ahLst/>
              <a:rect l="l" t="t" r="r" b="b"/>
              <a:pathLst>
                <a:path w="188" h="59">
                  <a:moveTo>
                    <a:pt x="182" y="3"/>
                  </a:moveTo>
                  <a:lnTo>
                    <a:pt x="184" y="0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185" y="7"/>
                  </a:lnTo>
                  <a:lnTo>
                    <a:pt x="188" y="5"/>
                  </a:lnTo>
                  <a:lnTo>
                    <a:pt x="185" y="7"/>
                  </a:lnTo>
                  <a:lnTo>
                    <a:pt x="188" y="5"/>
                  </a:lnTo>
                  <a:lnTo>
                    <a:pt x="182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468840" y="3255840"/>
              <a:ext cx="25560" cy="49320"/>
            </a:xfrm>
            <a:custGeom>
              <a:avLst/>
              <a:gdLst/>
              <a:ahLst/>
              <a:rect l="l" t="t" r="r" b="b"/>
              <a:pathLst>
                <a:path w="33" h="60">
                  <a:moveTo>
                    <a:pt x="27" y="0"/>
                  </a:moveTo>
                  <a:lnTo>
                    <a:pt x="0" y="58"/>
                  </a:lnTo>
                  <a:lnTo>
                    <a:pt x="6" y="60"/>
                  </a:lnTo>
                  <a:lnTo>
                    <a:pt x="33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491160" y="3211560"/>
              <a:ext cx="11160" cy="4428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1" y="4"/>
                  </a:moveTo>
                  <a:lnTo>
                    <a:pt x="10" y="1"/>
                  </a:lnTo>
                  <a:lnTo>
                    <a:pt x="0" y="57"/>
                  </a:lnTo>
                  <a:lnTo>
                    <a:pt x="6" y="57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478200" y="3181320"/>
              <a:ext cx="24120" cy="331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4" y="7"/>
                  </a:moveTo>
                  <a:lnTo>
                    <a:pt x="0" y="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5" y="1"/>
                  </a:lnTo>
                  <a:lnTo>
                    <a:pt x="1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095880" y="3294000"/>
              <a:ext cx="50760" cy="3636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0" y="46"/>
                  </a:moveTo>
                  <a:lnTo>
                    <a:pt x="3" y="46"/>
                  </a:lnTo>
                  <a:lnTo>
                    <a:pt x="64" y="5"/>
                  </a:lnTo>
                  <a:lnTo>
                    <a:pt x="61" y="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072120" y="3309840"/>
              <a:ext cx="25200" cy="2052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6"/>
                  </a:moveTo>
                  <a:lnTo>
                    <a:pt x="31" y="26"/>
                  </a:lnTo>
                  <a:lnTo>
                    <a:pt x="34" y="2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008400" y="3292200"/>
              <a:ext cx="28800" cy="324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0" y="3"/>
                  </a:moveTo>
                  <a:lnTo>
                    <a:pt x="0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005160" y="3292200"/>
              <a:ext cx="3240" cy="3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030720" y="3130560"/>
              <a:ext cx="4680" cy="2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026040" y="3093840"/>
              <a:ext cx="9360" cy="3672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4" y="0"/>
                  </a:moveTo>
                  <a:lnTo>
                    <a:pt x="0" y="0"/>
                  </a:lnTo>
                  <a:lnTo>
                    <a:pt x="7" y="46"/>
                  </a:lnTo>
                  <a:lnTo>
                    <a:pt x="14" y="46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026040" y="3092400"/>
              <a:ext cx="4680" cy="1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879880" y="3057480"/>
              <a:ext cx="4680" cy="32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1"/>
                  </a:moveTo>
                  <a:lnTo>
                    <a:pt x="0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875200" y="3038400"/>
              <a:ext cx="9360" cy="205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4" y="0"/>
                  </a:moveTo>
                  <a:lnTo>
                    <a:pt x="0" y="1"/>
                  </a:lnTo>
                  <a:lnTo>
                    <a:pt x="5" y="25"/>
                  </a:lnTo>
                  <a:lnTo>
                    <a:pt x="12" y="2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875200" y="3036600"/>
              <a:ext cx="4680" cy="32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3"/>
                  </a:moveTo>
                  <a:lnTo>
                    <a:pt x="7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412960" y="3408120"/>
              <a:ext cx="86040" cy="66960"/>
            </a:xfrm>
            <a:custGeom>
              <a:avLst/>
              <a:gdLst/>
              <a:ahLst/>
              <a:rect l="l" t="t" r="r" b="b"/>
              <a:pathLst>
                <a:path w="108" h="85">
                  <a:moveTo>
                    <a:pt x="20" y="69"/>
                  </a:moveTo>
                  <a:lnTo>
                    <a:pt x="23" y="76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19" y="70"/>
                  </a:lnTo>
                  <a:lnTo>
                    <a:pt x="21" y="76"/>
                  </a:lnTo>
                  <a:lnTo>
                    <a:pt x="19" y="70"/>
                  </a:lnTo>
                  <a:lnTo>
                    <a:pt x="0" y="85"/>
                  </a:lnTo>
                  <a:lnTo>
                    <a:pt x="21" y="76"/>
                  </a:lnTo>
                  <a:lnTo>
                    <a:pt x="20" y="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429160" y="3443040"/>
              <a:ext cx="44280" cy="2412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55" y="0"/>
                  </a:moveTo>
                  <a:lnTo>
                    <a:pt x="0" y="24"/>
                  </a:lnTo>
                  <a:lnTo>
                    <a:pt x="1" y="31"/>
                  </a:lnTo>
                  <a:lnTo>
                    <a:pt x="57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73440" y="3370320"/>
              <a:ext cx="250920" cy="7776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312" y="1"/>
                  </a:moveTo>
                  <a:lnTo>
                    <a:pt x="314" y="0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315" y="7"/>
                  </a:lnTo>
                  <a:lnTo>
                    <a:pt x="318" y="4"/>
                  </a:lnTo>
                  <a:lnTo>
                    <a:pt x="315" y="7"/>
                  </a:lnTo>
                  <a:lnTo>
                    <a:pt x="318" y="4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721120" y="3332160"/>
              <a:ext cx="28440" cy="4104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3" y="0"/>
                  </a:moveTo>
                  <a:lnTo>
                    <a:pt x="0" y="48"/>
                  </a:lnTo>
                  <a:lnTo>
                    <a:pt x="6" y="5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746680" y="3314520"/>
              <a:ext cx="34920" cy="2232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9" y="0"/>
                  </a:moveTo>
                  <a:lnTo>
                    <a:pt x="0" y="22"/>
                  </a:lnTo>
                  <a:lnTo>
                    <a:pt x="3" y="27"/>
                  </a:lnTo>
                  <a:lnTo>
                    <a:pt x="43" y="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949720" y="3128760"/>
              <a:ext cx="88920" cy="66600"/>
            </a:xfrm>
            <a:custGeom>
              <a:avLst/>
              <a:gdLst/>
              <a:ahLst/>
              <a:rect l="l" t="t" r="r" b="b"/>
              <a:pathLst>
                <a:path w="112" h="84">
                  <a:moveTo>
                    <a:pt x="102" y="5"/>
                  </a:moveTo>
                  <a:lnTo>
                    <a:pt x="102" y="0"/>
                  </a:lnTo>
                  <a:lnTo>
                    <a:pt x="0" y="78"/>
                  </a:lnTo>
                  <a:lnTo>
                    <a:pt x="4" y="84"/>
                  </a:lnTo>
                  <a:lnTo>
                    <a:pt x="106" y="5"/>
                  </a:lnTo>
                  <a:lnTo>
                    <a:pt x="105" y="0"/>
                  </a:lnTo>
                  <a:lnTo>
                    <a:pt x="106" y="5"/>
                  </a:lnTo>
                  <a:lnTo>
                    <a:pt x="112" y="1"/>
                  </a:lnTo>
                  <a:lnTo>
                    <a:pt x="105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952960" y="3100320"/>
              <a:ext cx="81000" cy="3312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6"/>
                  </a:moveTo>
                  <a:lnTo>
                    <a:pt x="100" y="42"/>
                  </a:lnTo>
                  <a:lnTo>
                    <a:pt x="103" y="37"/>
                  </a:lnTo>
                  <a:lnTo>
                    <a:pt x="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887800" y="3081240"/>
              <a:ext cx="66600" cy="22320"/>
            </a:xfrm>
            <a:custGeom>
              <a:avLst/>
              <a:gdLst/>
              <a:ahLst/>
              <a:rect l="l" t="t" r="r" b="b"/>
              <a:pathLst>
                <a:path w="84" h="30">
                  <a:moveTo>
                    <a:pt x="6" y="6"/>
                  </a:moveTo>
                  <a:lnTo>
                    <a:pt x="2" y="6"/>
                  </a:lnTo>
                  <a:lnTo>
                    <a:pt x="81" y="30"/>
                  </a:lnTo>
                  <a:lnTo>
                    <a:pt x="84" y="24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838480" y="3081240"/>
              <a:ext cx="54000" cy="44280"/>
            </a:xfrm>
            <a:custGeom>
              <a:avLst/>
              <a:gdLst/>
              <a:ahLst/>
              <a:rect l="l" t="t" r="r" b="b"/>
              <a:pathLst>
                <a:path w="68" h="57">
                  <a:moveTo>
                    <a:pt x="5" y="57"/>
                  </a:moveTo>
                  <a:lnTo>
                    <a:pt x="68" y="6"/>
                  </a:lnTo>
                  <a:lnTo>
                    <a:pt x="62" y="0"/>
                  </a:lnTo>
                  <a:lnTo>
                    <a:pt x="0" y="52"/>
                  </a:lnTo>
                  <a:lnTo>
                    <a:pt x="5" y="5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90960" y="3120840"/>
              <a:ext cx="52560" cy="46080"/>
            </a:xfrm>
            <a:custGeom>
              <a:avLst/>
              <a:gdLst/>
              <a:ahLst/>
              <a:rect l="l" t="t" r="r" b="b"/>
              <a:pathLst>
                <a:path w="66" h="56">
                  <a:moveTo>
                    <a:pt x="4" y="56"/>
                  </a:moveTo>
                  <a:lnTo>
                    <a:pt x="66" y="5"/>
                  </a:lnTo>
                  <a:lnTo>
                    <a:pt x="61" y="0"/>
                  </a:lnTo>
                  <a:lnTo>
                    <a:pt x="0" y="51"/>
                  </a:lnTo>
                  <a:lnTo>
                    <a:pt x="4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41640" y="3162240"/>
              <a:ext cx="52560" cy="46080"/>
            </a:xfrm>
            <a:custGeom>
              <a:avLst/>
              <a:gdLst/>
              <a:ahLst/>
              <a:rect l="l" t="t" r="r" b="b"/>
              <a:pathLst>
                <a:path w="66" h="58">
                  <a:moveTo>
                    <a:pt x="3" y="58"/>
                  </a:moveTo>
                  <a:lnTo>
                    <a:pt x="66" y="5"/>
                  </a:lnTo>
                  <a:lnTo>
                    <a:pt x="62" y="0"/>
                  </a:lnTo>
                  <a:lnTo>
                    <a:pt x="0" y="51"/>
                  </a:lnTo>
                  <a:lnTo>
                    <a:pt x="3" y="58"/>
                  </a:lnTo>
                  <a:lnTo>
                    <a:pt x="4" y="57"/>
                  </a:lnTo>
                  <a:lnTo>
                    <a:pt x="3" y="5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13200" y="320328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9"/>
                  </a:moveTo>
                  <a:lnTo>
                    <a:pt x="38" y="7"/>
                  </a:lnTo>
                  <a:lnTo>
                    <a:pt x="36" y="0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663880" y="3213000"/>
              <a:ext cx="33480" cy="363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8" y="45"/>
                  </a:moveTo>
                  <a:lnTo>
                    <a:pt x="7" y="48"/>
                  </a:lnTo>
                  <a:lnTo>
                    <a:pt x="42" y="6"/>
                  </a:lnTo>
                  <a:lnTo>
                    <a:pt x="38" y="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8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63880" y="3247920"/>
              <a:ext cx="6480" cy="237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7" y="30"/>
                  </a:moveTo>
                  <a:lnTo>
                    <a:pt x="8" y="2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7" y="30"/>
                  </a:lnTo>
                  <a:lnTo>
                    <a:pt x="8" y="27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544720" y="3267000"/>
              <a:ext cx="123840" cy="104760"/>
            </a:xfrm>
            <a:custGeom>
              <a:avLst/>
              <a:gdLst/>
              <a:ahLst/>
              <a:rect l="l" t="t" r="r" b="b"/>
              <a:pathLst>
                <a:path w="157" h="131">
                  <a:moveTo>
                    <a:pt x="4" y="131"/>
                  </a:moveTo>
                  <a:lnTo>
                    <a:pt x="157" y="6"/>
                  </a:lnTo>
                  <a:lnTo>
                    <a:pt x="151" y="0"/>
                  </a:lnTo>
                  <a:lnTo>
                    <a:pt x="0" y="126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495760" y="3367080"/>
              <a:ext cx="52200" cy="4428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4" y="57"/>
                  </a:moveTo>
                  <a:lnTo>
                    <a:pt x="66" y="5"/>
                  </a:lnTo>
                  <a:lnTo>
                    <a:pt x="62" y="0"/>
                  </a:lnTo>
                  <a:lnTo>
                    <a:pt x="0" y="51"/>
                  </a:lnTo>
                  <a:lnTo>
                    <a:pt x="4" y="5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6013080" y="3344400"/>
              <a:ext cx="5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V="1">
              <a:off x="6055920" y="3154320"/>
              <a:ext cx="86040" cy="2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389280" y="3311280"/>
              <a:ext cx="158760" cy="106560"/>
            </a:xfrm>
            <a:custGeom>
              <a:avLst/>
              <a:gdLst/>
              <a:ahLst/>
              <a:rect l="l" t="t" r="r" b="b"/>
              <a:pathLst>
                <a:path w="200" h="135">
                  <a:moveTo>
                    <a:pt x="200" y="0"/>
                  </a:moveTo>
                  <a:lnTo>
                    <a:pt x="200" y="82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630840" y="3287520"/>
              <a:ext cx="199800" cy="69840"/>
            </a:xfrm>
            <a:custGeom>
              <a:avLst/>
              <a:gdLst/>
              <a:ahLst/>
              <a:rect l="l" t="t" r="r" b="b"/>
              <a:pathLst>
                <a:path w="253" h="88">
                  <a:moveTo>
                    <a:pt x="253" y="0"/>
                  </a:moveTo>
                  <a:lnTo>
                    <a:pt x="250" y="28"/>
                  </a:lnTo>
                  <a:lnTo>
                    <a:pt x="0" y="8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060960" y="3351240"/>
              <a:ext cx="129960" cy="145800"/>
            </a:xfrm>
            <a:custGeom>
              <a:avLst/>
              <a:gdLst/>
              <a:ahLst/>
              <a:rect l="l" t="t" r="r" b="b"/>
              <a:pathLst>
                <a:path w="163" h="184">
                  <a:moveTo>
                    <a:pt x="82" y="0"/>
                  </a:moveTo>
                  <a:lnTo>
                    <a:pt x="163" y="51"/>
                  </a:lnTo>
                  <a:lnTo>
                    <a:pt x="56" y="152"/>
                  </a:lnTo>
                  <a:lnTo>
                    <a:pt x="27" y="184"/>
                  </a:lnTo>
                  <a:lnTo>
                    <a:pt x="0" y="123"/>
                  </a:lnTo>
                  <a:lnTo>
                    <a:pt x="67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429160" y="3038400"/>
              <a:ext cx="604800" cy="426960"/>
            </a:xfrm>
            <a:custGeom>
              <a:avLst/>
              <a:gdLst/>
              <a:ahLst/>
              <a:rect l="l" t="t" r="r" b="b"/>
              <a:pathLst>
                <a:path w="762" h="537">
                  <a:moveTo>
                    <a:pt x="762" y="116"/>
                  </a:moveTo>
                  <a:lnTo>
                    <a:pt x="755" y="70"/>
                  </a:lnTo>
                  <a:lnTo>
                    <a:pt x="762" y="116"/>
                  </a:lnTo>
                  <a:lnTo>
                    <a:pt x="571" y="24"/>
                  </a:lnTo>
                  <a:lnTo>
                    <a:pt x="566" y="0"/>
                  </a:lnTo>
                  <a:lnTo>
                    <a:pt x="571" y="24"/>
                  </a:lnTo>
                  <a:lnTo>
                    <a:pt x="762" y="116"/>
                  </a:lnTo>
                  <a:lnTo>
                    <a:pt x="85" y="467"/>
                  </a:lnTo>
                  <a:lnTo>
                    <a:pt x="0" y="537"/>
                  </a:lnTo>
                  <a:lnTo>
                    <a:pt x="57" y="511"/>
                  </a:lnTo>
                  <a:lnTo>
                    <a:pt x="370" y="421"/>
                  </a:lnTo>
                  <a:lnTo>
                    <a:pt x="401" y="372"/>
                  </a:lnTo>
                  <a:lnTo>
                    <a:pt x="443" y="351"/>
                  </a:lnTo>
                  <a:lnTo>
                    <a:pt x="659" y="194"/>
                  </a:lnTo>
                  <a:lnTo>
                    <a:pt x="762" y="116"/>
                  </a:lnTo>
                  <a:lnTo>
                    <a:pt x="661" y="79"/>
                  </a:lnTo>
                  <a:lnTo>
                    <a:pt x="581" y="55"/>
                  </a:lnTo>
                  <a:lnTo>
                    <a:pt x="519" y="106"/>
                  </a:lnTo>
                  <a:lnTo>
                    <a:pt x="457" y="158"/>
                  </a:lnTo>
                  <a:lnTo>
                    <a:pt x="396" y="209"/>
                  </a:lnTo>
                  <a:lnTo>
                    <a:pt x="358" y="221"/>
                  </a:lnTo>
                  <a:lnTo>
                    <a:pt x="335" y="221"/>
                  </a:lnTo>
                  <a:lnTo>
                    <a:pt x="300" y="263"/>
                  </a:lnTo>
                  <a:lnTo>
                    <a:pt x="300" y="290"/>
                  </a:lnTo>
                  <a:lnTo>
                    <a:pt x="147" y="414"/>
                  </a:lnTo>
                  <a:lnTo>
                    <a:pt x="85" y="467"/>
                  </a:lnTo>
                  <a:lnTo>
                    <a:pt x="762" y="1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603840" y="3046320"/>
              <a:ext cx="199800" cy="34920"/>
            </a:xfrm>
            <a:custGeom>
              <a:avLst/>
              <a:gdLst/>
              <a:ahLst/>
              <a:rect l="l" t="t" r="r" b="b"/>
              <a:pathLst>
                <a:path w="253" h="45">
                  <a:moveTo>
                    <a:pt x="253" y="7"/>
                  </a:moveTo>
                  <a:lnTo>
                    <a:pt x="107" y="45"/>
                  </a:lnTo>
                  <a:lnTo>
                    <a:pt x="62" y="40"/>
                  </a:lnTo>
                  <a:lnTo>
                    <a:pt x="0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V="1">
              <a:off x="6024240" y="3186000"/>
              <a:ext cx="18252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852880" y="30286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1"/>
                  </a:moveTo>
                  <a:lnTo>
                    <a:pt x="28" y="1"/>
                  </a:lnTo>
                  <a:lnTo>
                    <a:pt x="0" y="9"/>
                  </a:lnTo>
                  <a:lnTo>
                    <a:pt x="6" y="35"/>
                  </a:lnTo>
                  <a:lnTo>
                    <a:pt x="35" y="26"/>
                  </a:lnTo>
                  <a:lnTo>
                    <a:pt x="27" y="26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873400" y="3028680"/>
              <a:ext cx="152640" cy="71640"/>
            </a:xfrm>
            <a:custGeom>
              <a:avLst/>
              <a:gdLst/>
              <a:ahLst/>
              <a:rect l="l" t="t" r="r" b="b"/>
              <a:pathLst>
                <a:path w="190" h="89">
                  <a:moveTo>
                    <a:pt x="190" y="67"/>
                  </a:moveTo>
                  <a:lnTo>
                    <a:pt x="189" y="65"/>
                  </a:lnTo>
                  <a:lnTo>
                    <a:pt x="9" y="0"/>
                  </a:lnTo>
                  <a:lnTo>
                    <a:pt x="0" y="25"/>
                  </a:lnTo>
                  <a:lnTo>
                    <a:pt x="181" y="89"/>
                  </a:lnTo>
                  <a:lnTo>
                    <a:pt x="179" y="89"/>
                  </a:lnTo>
                  <a:lnTo>
                    <a:pt x="19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016320" y="3081240"/>
              <a:ext cx="19080" cy="25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7" y="5"/>
                  </a:moveTo>
                  <a:lnTo>
                    <a:pt x="21" y="4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10" y="27"/>
                  </a:lnTo>
                  <a:lnTo>
                    <a:pt x="23" y="25"/>
                  </a:lnTo>
                  <a:lnTo>
                    <a:pt x="10" y="27"/>
                  </a:lnTo>
                  <a:lnTo>
                    <a:pt x="17" y="31"/>
                  </a:lnTo>
                  <a:lnTo>
                    <a:pt x="23" y="2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022800" y="3035160"/>
              <a:ext cx="71280" cy="66600"/>
            </a:xfrm>
            <a:custGeom>
              <a:avLst/>
              <a:gdLst/>
              <a:ahLst/>
              <a:rect l="l" t="t" r="r" b="b"/>
              <a:pathLst>
                <a:path w="92" h="84">
                  <a:moveTo>
                    <a:pt x="84" y="0"/>
                  </a:moveTo>
                  <a:lnTo>
                    <a:pt x="76" y="3"/>
                  </a:lnTo>
                  <a:lnTo>
                    <a:pt x="0" y="64"/>
                  </a:lnTo>
                  <a:lnTo>
                    <a:pt x="16" y="84"/>
                  </a:lnTo>
                  <a:lnTo>
                    <a:pt x="92" y="23"/>
                  </a:lnTo>
                  <a:lnTo>
                    <a:pt x="84" y="26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76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087960" y="3035160"/>
              <a:ext cx="61920" cy="2052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77" y="12"/>
                  </a:moveTo>
                  <a:lnTo>
                    <a:pt x="77" y="0"/>
                  </a:lnTo>
                  <a:lnTo>
                    <a:pt x="0" y="1"/>
                  </a:lnTo>
                  <a:lnTo>
                    <a:pt x="0" y="27"/>
                  </a:lnTo>
                  <a:lnTo>
                    <a:pt x="77" y="26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778360" y="3190680"/>
              <a:ext cx="174600" cy="128520"/>
            </a:xfrm>
            <a:custGeom>
              <a:avLst/>
              <a:gdLst/>
              <a:ahLst/>
              <a:rect l="l" t="t" r="r" b="b"/>
              <a:pathLst>
                <a:path w="222" h="162">
                  <a:moveTo>
                    <a:pt x="218" y="0"/>
                  </a:moveTo>
                  <a:lnTo>
                    <a:pt x="0" y="157"/>
                  </a:lnTo>
                  <a:lnTo>
                    <a:pt x="5" y="162"/>
                  </a:lnTo>
                  <a:lnTo>
                    <a:pt x="222" y="6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395760" y="3124080"/>
              <a:ext cx="84240" cy="6516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105" y="77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102" y="81"/>
                  </a:lnTo>
                  <a:lnTo>
                    <a:pt x="10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144840" y="3182760"/>
              <a:ext cx="336600" cy="115920"/>
            </a:xfrm>
            <a:custGeom>
              <a:avLst/>
              <a:gdLst/>
              <a:ahLst/>
              <a:rect l="l" t="t" r="r" b="b"/>
              <a:pathLst>
                <a:path w="426" h="146">
                  <a:moveTo>
                    <a:pt x="3" y="146"/>
                  </a:moveTo>
                  <a:lnTo>
                    <a:pt x="426" y="6"/>
                  </a:lnTo>
                  <a:lnTo>
                    <a:pt x="423" y="0"/>
                  </a:lnTo>
                  <a:lnTo>
                    <a:pt x="0" y="140"/>
                  </a:lnTo>
                  <a:lnTo>
                    <a:pt x="3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028920" y="3112920"/>
              <a:ext cx="330480" cy="195480"/>
            </a:xfrm>
            <a:custGeom>
              <a:avLst/>
              <a:gdLst/>
              <a:ahLst/>
              <a:rect l="l" t="t" r="r" b="b"/>
              <a:pathLst>
                <a:path w="418" h="246">
                  <a:moveTo>
                    <a:pt x="0" y="214"/>
                  </a:moveTo>
                  <a:lnTo>
                    <a:pt x="92" y="246"/>
                  </a:lnTo>
                  <a:lnTo>
                    <a:pt x="230" y="183"/>
                  </a:lnTo>
                  <a:lnTo>
                    <a:pt x="418" y="128"/>
                  </a:lnTo>
                  <a:lnTo>
                    <a:pt x="403" y="0"/>
                  </a:lnTo>
                  <a:lnTo>
                    <a:pt x="337" y="16"/>
                  </a:lnTo>
                  <a:lnTo>
                    <a:pt x="307" y="16"/>
                  </a:lnTo>
                  <a:lnTo>
                    <a:pt x="261" y="11"/>
                  </a:lnTo>
                  <a:lnTo>
                    <a:pt x="235" y="0"/>
                  </a:lnTo>
                  <a:lnTo>
                    <a:pt x="219" y="0"/>
                  </a:lnTo>
                  <a:lnTo>
                    <a:pt x="6" y="220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157800" y="3303360"/>
              <a:ext cx="323640" cy="104760"/>
            </a:xfrm>
            <a:custGeom>
              <a:avLst/>
              <a:gdLst/>
              <a:ahLst/>
              <a:rect l="l" t="t" r="r" b="b"/>
              <a:pathLst>
                <a:path w="408" h="132">
                  <a:moveTo>
                    <a:pt x="86" y="92"/>
                  </a:moveTo>
                  <a:lnTo>
                    <a:pt x="408" y="0"/>
                  </a:lnTo>
                  <a:lnTo>
                    <a:pt x="356" y="72"/>
                  </a:lnTo>
                  <a:lnTo>
                    <a:pt x="51" y="132"/>
                  </a:lnTo>
                  <a:lnTo>
                    <a:pt x="0" y="107"/>
                  </a:lnTo>
                  <a:lnTo>
                    <a:pt x="8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5" name=""/>
          <p:cNvGrpSpPr/>
          <p:nvPr/>
        </p:nvGrpSpPr>
        <p:grpSpPr>
          <a:xfrm>
            <a:off x="5334120" y="3314880"/>
            <a:ext cx="2941560" cy="990360"/>
            <a:chOff x="5334120" y="3314880"/>
            <a:chExt cx="2941560" cy="990360"/>
          </a:xfrm>
        </p:grpSpPr>
        <p:sp>
          <p:nvSpPr>
            <p:cNvPr id="2096" name=""/>
            <p:cNvSpPr/>
            <p:nvPr/>
          </p:nvSpPr>
          <p:spPr>
            <a:xfrm>
              <a:off x="5334120" y="3314880"/>
              <a:ext cx="2941560" cy="990360"/>
            </a:xfrm>
            <a:custGeom>
              <a:avLst/>
              <a:gdLst/>
              <a:ahLst/>
              <a:rect l="l" t="t" r="r" b="b"/>
              <a:pathLst>
                <a:path w="9266" h="3119">
                  <a:moveTo>
                    <a:pt x="2984" y="2630"/>
                  </a:moveTo>
                  <a:lnTo>
                    <a:pt x="2971" y="2629"/>
                  </a:lnTo>
                  <a:lnTo>
                    <a:pt x="2959" y="2623"/>
                  </a:lnTo>
                  <a:lnTo>
                    <a:pt x="2944" y="2604"/>
                  </a:lnTo>
                  <a:lnTo>
                    <a:pt x="2937" y="2573"/>
                  </a:lnTo>
                  <a:lnTo>
                    <a:pt x="2936" y="2533"/>
                  </a:lnTo>
                  <a:lnTo>
                    <a:pt x="2795" y="2533"/>
                  </a:lnTo>
                  <a:lnTo>
                    <a:pt x="2785" y="2594"/>
                  </a:lnTo>
                  <a:lnTo>
                    <a:pt x="2771" y="2654"/>
                  </a:lnTo>
                  <a:lnTo>
                    <a:pt x="2751" y="2711"/>
                  </a:lnTo>
                  <a:lnTo>
                    <a:pt x="2727" y="2764"/>
                  </a:lnTo>
                  <a:lnTo>
                    <a:pt x="2697" y="2816"/>
                  </a:lnTo>
                  <a:lnTo>
                    <a:pt x="2663" y="2864"/>
                  </a:lnTo>
                  <a:lnTo>
                    <a:pt x="2625" y="2909"/>
                  </a:lnTo>
                  <a:lnTo>
                    <a:pt x="2583" y="2951"/>
                  </a:lnTo>
                  <a:lnTo>
                    <a:pt x="2538" y="2989"/>
                  </a:lnTo>
                  <a:lnTo>
                    <a:pt x="2489" y="3022"/>
                  </a:lnTo>
                  <a:lnTo>
                    <a:pt x="2438" y="3050"/>
                  </a:lnTo>
                  <a:lnTo>
                    <a:pt x="2383" y="3074"/>
                  </a:lnTo>
                  <a:lnTo>
                    <a:pt x="2328" y="3093"/>
                  </a:lnTo>
                  <a:lnTo>
                    <a:pt x="2268" y="3107"/>
                  </a:lnTo>
                  <a:lnTo>
                    <a:pt x="2207" y="3117"/>
                  </a:lnTo>
                  <a:lnTo>
                    <a:pt x="2146" y="3119"/>
                  </a:lnTo>
                  <a:lnTo>
                    <a:pt x="2084" y="3117"/>
                  </a:lnTo>
                  <a:lnTo>
                    <a:pt x="2023" y="3107"/>
                  </a:lnTo>
                  <a:lnTo>
                    <a:pt x="1965" y="3093"/>
                  </a:lnTo>
                  <a:lnTo>
                    <a:pt x="1908" y="3074"/>
                  </a:lnTo>
                  <a:lnTo>
                    <a:pt x="1854" y="3050"/>
                  </a:lnTo>
                  <a:lnTo>
                    <a:pt x="1802" y="3022"/>
                  </a:lnTo>
                  <a:lnTo>
                    <a:pt x="1755" y="2989"/>
                  </a:lnTo>
                  <a:lnTo>
                    <a:pt x="1709" y="2951"/>
                  </a:lnTo>
                  <a:lnTo>
                    <a:pt x="1668" y="2909"/>
                  </a:lnTo>
                  <a:lnTo>
                    <a:pt x="1630" y="2864"/>
                  </a:lnTo>
                  <a:lnTo>
                    <a:pt x="1595" y="2816"/>
                  </a:lnTo>
                  <a:lnTo>
                    <a:pt x="1566" y="2764"/>
                  </a:lnTo>
                  <a:lnTo>
                    <a:pt x="1542" y="2711"/>
                  </a:lnTo>
                  <a:lnTo>
                    <a:pt x="1522" y="2654"/>
                  </a:lnTo>
                  <a:lnTo>
                    <a:pt x="1507" y="2594"/>
                  </a:lnTo>
                  <a:lnTo>
                    <a:pt x="1498" y="2533"/>
                  </a:lnTo>
                  <a:lnTo>
                    <a:pt x="1354" y="2533"/>
                  </a:lnTo>
                  <a:lnTo>
                    <a:pt x="1350" y="2567"/>
                  </a:lnTo>
                  <a:lnTo>
                    <a:pt x="1343" y="2592"/>
                  </a:lnTo>
                  <a:lnTo>
                    <a:pt x="1329" y="2606"/>
                  </a:lnTo>
                  <a:lnTo>
                    <a:pt x="1304" y="2610"/>
                  </a:lnTo>
                  <a:lnTo>
                    <a:pt x="447" y="2537"/>
                  </a:lnTo>
                  <a:lnTo>
                    <a:pt x="430" y="2488"/>
                  </a:lnTo>
                  <a:lnTo>
                    <a:pt x="108" y="2450"/>
                  </a:lnTo>
                  <a:lnTo>
                    <a:pt x="87" y="2444"/>
                  </a:lnTo>
                  <a:lnTo>
                    <a:pt x="68" y="2431"/>
                  </a:lnTo>
                  <a:lnTo>
                    <a:pt x="54" y="2413"/>
                  </a:lnTo>
                  <a:lnTo>
                    <a:pt x="44" y="2391"/>
                  </a:lnTo>
                  <a:lnTo>
                    <a:pt x="3" y="2211"/>
                  </a:lnTo>
                  <a:lnTo>
                    <a:pt x="0" y="2193"/>
                  </a:lnTo>
                  <a:lnTo>
                    <a:pt x="3" y="2178"/>
                  </a:lnTo>
                  <a:lnTo>
                    <a:pt x="17" y="2148"/>
                  </a:lnTo>
                  <a:lnTo>
                    <a:pt x="29" y="2136"/>
                  </a:lnTo>
                  <a:lnTo>
                    <a:pt x="42" y="2128"/>
                  </a:lnTo>
                  <a:lnTo>
                    <a:pt x="58" y="2122"/>
                  </a:lnTo>
                  <a:lnTo>
                    <a:pt x="75" y="2120"/>
                  </a:lnTo>
                  <a:lnTo>
                    <a:pt x="226" y="2120"/>
                  </a:lnTo>
                  <a:lnTo>
                    <a:pt x="183" y="1950"/>
                  </a:lnTo>
                  <a:lnTo>
                    <a:pt x="133" y="1950"/>
                  </a:lnTo>
                  <a:lnTo>
                    <a:pt x="169" y="1312"/>
                  </a:lnTo>
                  <a:lnTo>
                    <a:pt x="219" y="1312"/>
                  </a:lnTo>
                  <a:lnTo>
                    <a:pt x="222" y="1274"/>
                  </a:lnTo>
                  <a:lnTo>
                    <a:pt x="232" y="1239"/>
                  </a:lnTo>
                  <a:lnTo>
                    <a:pt x="249" y="1206"/>
                  </a:lnTo>
                  <a:lnTo>
                    <a:pt x="270" y="1178"/>
                  </a:lnTo>
                  <a:lnTo>
                    <a:pt x="296" y="1153"/>
                  </a:lnTo>
                  <a:lnTo>
                    <a:pt x="327" y="1134"/>
                  </a:lnTo>
                  <a:lnTo>
                    <a:pt x="360" y="1120"/>
                  </a:lnTo>
                  <a:lnTo>
                    <a:pt x="397" y="1113"/>
                  </a:lnTo>
                  <a:lnTo>
                    <a:pt x="875" y="1059"/>
                  </a:lnTo>
                  <a:lnTo>
                    <a:pt x="945" y="1049"/>
                  </a:lnTo>
                  <a:lnTo>
                    <a:pt x="1015" y="1031"/>
                  </a:lnTo>
                  <a:lnTo>
                    <a:pt x="1082" y="1007"/>
                  </a:lnTo>
                  <a:lnTo>
                    <a:pt x="1146" y="978"/>
                  </a:lnTo>
                  <a:lnTo>
                    <a:pt x="1209" y="944"/>
                  </a:lnTo>
                  <a:lnTo>
                    <a:pt x="1267" y="905"/>
                  </a:lnTo>
                  <a:lnTo>
                    <a:pt x="1323" y="860"/>
                  </a:lnTo>
                  <a:lnTo>
                    <a:pt x="1374" y="810"/>
                  </a:lnTo>
                  <a:lnTo>
                    <a:pt x="1940" y="206"/>
                  </a:lnTo>
                  <a:lnTo>
                    <a:pt x="1960" y="189"/>
                  </a:lnTo>
                  <a:lnTo>
                    <a:pt x="1991" y="173"/>
                  </a:lnTo>
                  <a:lnTo>
                    <a:pt x="2079" y="144"/>
                  </a:lnTo>
                  <a:lnTo>
                    <a:pt x="2202" y="116"/>
                  </a:lnTo>
                  <a:lnTo>
                    <a:pt x="2357" y="93"/>
                  </a:lnTo>
                  <a:lnTo>
                    <a:pt x="2540" y="70"/>
                  </a:lnTo>
                  <a:lnTo>
                    <a:pt x="2748" y="50"/>
                  </a:lnTo>
                  <a:lnTo>
                    <a:pt x="2979" y="35"/>
                  </a:lnTo>
                  <a:lnTo>
                    <a:pt x="3229" y="20"/>
                  </a:lnTo>
                  <a:lnTo>
                    <a:pt x="3494" y="11"/>
                  </a:lnTo>
                  <a:lnTo>
                    <a:pt x="3771" y="4"/>
                  </a:lnTo>
                  <a:lnTo>
                    <a:pt x="4058" y="0"/>
                  </a:lnTo>
                  <a:lnTo>
                    <a:pt x="4352" y="1"/>
                  </a:lnTo>
                  <a:lnTo>
                    <a:pt x="4649" y="6"/>
                  </a:lnTo>
                  <a:lnTo>
                    <a:pt x="4945" y="14"/>
                  </a:lnTo>
                  <a:lnTo>
                    <a:pt x="5239" y="27"/>
                  </a:lnTo>
                  <a:lnTo>
                    <a:pt x="5526" y="44"/>
                  </a:lnTo>
                  <a:lnTo>
                    <a:pt x="5581" y="84"/>
                  </a:lnTo>
                  <a:lnTo>
                    <a:pt x="5526" y="158"/>
                  </a:lnTo>
                  <a:lnTo>
                    <a:pt x="6043" y="994"/>
                  </a:lnTo>
                  <a:lnTo>
                    <a:pt x="6462" y="894"/>
                  </a:lnTo>
                  <a:lnTo>
                    <a:pt x="8514" y="1062"/>
                  </a:lnTo>
                  <a:lnTo>
                    <a:pt x="8637" y="1077"/>
                  </a:lnTo>
                  <a:lnTo>
                    <a:pt x="8737" y="1098"/>
                  </a:lnTo>
                  <a:lnTo>
                    <a:pt x="8814" y="1125"/>
                  </a:lnTo>
                  <a:lnTo>
                    <a:pt x="8870" y="1153"/>
                  </a:lnTo>
                  <a:lnTo>
                    <a:pt x="8905" y="1180"/>
                  </a:lnTo>
                  <a:lnTo>
                    <a:pt x="8923" y="1206"/>
                  </a:lnTo>
                  <a:lnTo>
                    <a:pt x="8926" y="1218"/>
                  </a:lnTo>
                  <a:lnTo>
                    <a:pt x="8923" y="1228"/>
                  </a:lnTo>
                  <a:lnTo>
                    <a:pt x="8907" y="1243"/>
                  </a:lnTo>
                  <a:lnTo>
                    <a:pt x="9037" y="1780"/>
                  </a:lnTo>
                  <a:lnTo>
                    <a:pt x="9047" y="1833"/>
                  </a:lnTo>
                  <a:lnTo>
                    <a:pt x="9048" y="1875"/>
                  </a:lnTo>
                  <a:lnTo>
                    <a:pt x="9045" y="1911"/>
                  </a:lnTo>
                  <a:lnTo>
                    <a:pt x="9036" y="1944"/>
                  </a:lnTo>
                  <a:lnTo>
                    <a:pt x="9017" y="2019"/>
                  </a:lnTo>
                  <a:lnTo>
                    <a:pt x="9009" y="2067"/>
                  </a:lnTo>
                  <a:lnTo>
                    <a:pt x="9007" y="2130"/>
                  </a:lnTo>
                  <a:lnTo>
                    <a:pt x="9192" y="2130"/>
                  </a:lnTo>
                  <a:lnTo>
                    <a:pt x="9220" y="2136"/>
                  </a:lnTo>
                  <a:lnTo>
                    <a:pt x="9244" y="2152"/>
                  </a:lnTo>
                  <a:lnTo>
                    <a:pt x="9260" y="2175"/>
                  </a:lnTo>
                  <a:lnTo>
                    <a:pt x="9266" y="2204"/>
                  </a:lnTo>
                  <a:lnTo>
                    <a:pt x="9266" y="2394"/>
                  </a:lnTo>
                  <a:lnTo>
                    <a:pt x="9261" y="2421"/>
                  </a:lnTo>
                  <a:lnTo>
                    <a:pt x="9247" y="2444"/>
                  </a:lnTo>
                  <a:lnTo>
                    <a:pt x="9226" y="2459"/>
                  </a:lnTo>
                  <a:lnTo>
                    <a:pt x="9200" y="2467"/>
                  </a:lnTo>
                  <a:lnTo>
                    <a:pt x="8522" y="2542"/>
                  </a:lnTo>
                  <a:lnTo>
                    <a:pt x="8493" y="2543"/>
                  </a:lnTo>
                  <a:lnTo>
                    <a:pt x="8470" y="2540"/>
                  </a:lnTo>
                  <a:lnTo>
                    <a:pt x="8454" y="2533"/>
                  </a:lnTo>
                  <a:lnTo>
                    <a:pt x="8442" y="2521"/>
                  </a:lnTo>
                  <a:lnTo>
                    <a:pt x="8434" y="2505"/>
                  </a:lnTo>
                  <a:lnTo>
                    <a:pt x="8429" y="2486"/>
                  </a:lnTo>
                  <a:lnTo>
                    <a:pt x="8425" y="2438"/>
                  </a:lnTo>
                  <a:lnTo>
                    <a:pt x="8296" y="2438"/>
                  </a:lnTo>
                  <a:lnTo>
                    <a:pt x="8296" y="2507"/>
                  </a:lnTo>
                  <a:lnTo>
                    <a:pt x="8287" y="2574"/>
                  </a:lnTo>
                  <a:lnTo>
                    <a:pt x="8273" y="2638"/>
                  </a:lnTo>
                  <a:lnTo>
                    <a:pt x="8253" y="2701"/>
                  </a:lnTo>
                  <a:lnTo>
                    <a:pt x="8227" y="2761"/>
                  </a:lnTo>
                  <a:lnTo>
                    <a:pt x="8195" y="2816"/>
                  </a:lnTo>
                  <a:lnTo>
                    <a:pt x="8158" y="2869"/>
                  </a:lnTo>
                  <a:lnTo>
                    <a:pt x="8116" y="2917"/>
                  </a:lnTo>
                  <a:lnTo>
                    <a:pt x="8069" y="2963"/>
                  </a:lnTo>
                  <a:lnTo>
                    <a:pt x="8019" y="3002"/>
                  </a:lnTo>
                  <a:lnTo>
                    <a:pt x="7964" y="3036"/>
                  </a:lnTo>
                  <a:lnTo>
                    <a:pt x="7906" y="3065"/>
                  </a:lnTo>
                  <a:lnTo>
                    <a:pt x="7844" y="3088"/>
                  </a:lnTo>
                  <a:lnTo>
                    <a:pt x="7780" y="3105"/>
                  </a:lnTo>
                  <a:lnTo>
                    <a:pt x="7713" y="3116"/>
                  </a:lnTo>
                  <a:lnTo>
                    <a:pt x="7644" y="3119"/>
                  </a:lnTo>
                  <a:lnTo>
                    <a:pt x="7575" y="3116"/>
                  </a:lnTo>
                  <a:lnTo>
                    <a:pt x="7509" y="3105"/>
                  </a:lnTo>
                  <a:lnTo>
                    <a:pt x="7445" y="3088"/>
                  </a:lnTo>
                  <a:lnTo>
                    <a:pt x="7384" y="3065"/>
                  </a:lnTo>
                  <a:lnTo>
                    <a:pt x="7326" y="3036"/>
                  </a:lnTo>
                  <a:lnTo>
                    <a:pt x="7271" y="3002"/>
                  </a:lnTo>
                  <a:lnTo>
                    <a:pt x="7220" y="2961"/>
                  </a:lnTo>
                  <a:lnTo>
                    <a:pt x="7174" y="2917"/>
                  </a:lnTo>
                  <a:lnTo>
                    <a:pt x="7132" y="2869"/>
                  </a:lnTo>
                  <a:lnTo>
                    <a:pt x="7094" y="2816"/>
                  </a:lnTo>
                  <a:lnTo>
                    <a:pt x="7062" y="2759"/>
                  </a:lnTo>
                  <a:lnTo>
                    <a:pt x="7036" y="2700"/>
                  </a:lnTo>
                  <a:lnTo>
                    <a:pt x="7016" y="2638"/>
                  </a:lnTo>
                  <a:lnTo>
                    <a:pt x="7001" y="2573"/>
                  </a:lnTo>
                  <a:lnTo>
                    <a:pt x="6994" y="2507"/>
                  </a:lnTo>
                  <a:lnTo>
                    <a:pt x="6993" y="2438"/>
                  </a:lnTo>
                  <a:lnTo>
                    <a:pt x="6861" y="2438"/>
                  </a:lnTo>
                  <a:lnTo>
                    <a:pt x="6863" y="2511"/>
                  </a:lnTo>
                  <a:lnTo>
                    <a:pt x="6860" y="2573"/>
                  </a:lnTo>
                  <a:lnTo>
                    <a:pt x="6854" y="2597"/>
                  </a:lnTo>
                  <a:lnTo>
                    <a:pt x="6842" y="2615"/>
                  </a:lnTo>
                  <a:lnTo>
                    <a:pt x="6825" y="2627"/>
                  </a:lnTo>
                  <a:lnTo>
                    <a:pt x="6803" y="2630"/>
                  </a:lnTo>
                  <a:lnTo>
                    <a:pt x="2984" y="2630"/>
                  </a:lnTo>
                  <a:lnTo>
                    <a:pt x="3510" y="1062"/>
                  </a:lnTo>
                  <a:lnTo>
                    <a:pt x="1871" y="1043"/>
                  </a:lnTo>
                  <a:lnTo>
                    <a:pt x="1853" y="1040"/>
                  </a:lnTo>
                  <a:lnTo>
                    <a:pt x="1838" y="1033"/>
                  </a:lnTo>
                  <a:lnTo>
                    <a:pt x="1825" y="1021"/>
                  </a:lnTo>
                  <a:lnTo>
                    <a:pt x="1815" y="1007"/>
                  </a:lnTo>
                  <a:lnTo>
                    <a:pt x="1809" y="989"/>
                  </a:lnTo>
                  <a:lnTo>
                    <a:pt x="1809" y="973"/>
                  </a:lnTo>
                  <a:lnTo>
                    <a:pt x="1813" y="956"/>
                  </a:lnTo>
                  <a:lnTo>
                    <a:pt x="1822" y="940"/>
                  </a:lnTo>
                  <a:lnTo>
                    <a:pt x="2241" y="414"/>
                  </a:lnTo>
                  <a:lnTo>
                    <a:pt x="2280" y="371"/>
                  </a:lnTo>
                  <a:lnTo>
                    <a:pt x="2303" y="350"/>
                  </a:lnTo>
                  <a:lnTo>
                    <a:pt x="2331" y="331"/>
                  </a:lnTo>
                  <a:lnTo>
                    <a:pt x="2364" y="314"/>
                  </a:lnTo>
                  <a:lnTo>
                    <a:pt x="2405" y="297"/>
                  </a:lnTo>
                  <a:lnTo>
                    <a:pt x="2514" y="265"/>
                  </a:lnTo>
                  <a:lnTo>
                    <a:pt x="2584" y="251"/>
                  </a:lnTo>
                  <a:lnTo>
                    <a:pt x="2667" y="236"/>
                  </a:lnTo>
                  <a:lnTo>
                    <a:pt x="2878" y="211"/>
                  </a:lnTo>
                  <a:lnTo>
                    <a:pt x="3155" y="188"/>
                  </a:lnTo>
                  <a:lnTo>
                    <a:pt x="3510" y="166"/>
                  </a:lnTo>
                  <a:lnTo>
                    <a:pt x="3510" y="1062"/>
                  </a:lnTo>
                  <a:lnTo>
                    <a:pt x="2984" y="2630"/>
                  </a:lnTo>
                  <a:lnTo>
                    <a:pt x="3769" y="1064"/>
                  </a:lnTo>
                  <a:lnTo>
                    <a:pt x="3769" y="153"/>
                  </a:lnTo>
                  <a:lnTo>
                    <a:pt x="4234" y="132"/>
                  </a:lnTo>
                  <a:lnTo>
                    <a:pt x="4606" y="122"/>
                  </a:lnTo>
                  <a:lnTo>
                    <a:pt x="4895" y="124"/>
                  </a:lnTo>
                  <a:lnTo>
                    <a:pt x="5011" y="128"/>
                  </a:lnTo>
                  <a:lnTo>
                    <a:pt x="5113" y="137"/>
                  </a:lnTo>
                  <a:lnTo>
                    <a:pt x="5198" y="146"/>
                  </a:lnTo>
                  <a:lnTo>
                    <a:pt x="5271" y="158"/>
                  </a:lnTo>
                  <a:lnTo>
                    <a:pt x="5330" y="173"/>
                  </a:lnTo>
                  <a:lnTo>
                    <a:pt x="5379" y="191"/>
                  </a:lnTo>
                  <a:lnTo>
                    <a:pt x="5419" y="210"/>
                  </a:lnTo>
                  <a:lnTo>
                    <a:pt x="5450" y="233"/>
                  </a:lnTo>
                  <a:lnTo>
                    <a:pt x="5475" y="258"/>
                  </a:lnTo>
                  <a:lnTo>
                    <a:pt x="5494" y="284"/>
                  </a:lnTo>
                  <a:lnTo>
                    <a:pt x="5943" y="1007"/>
                  </a:lnTo>
                  <a:lnTo>
                    <a:pt x="5949" y="1021"/>
                  </a:lnTo>
                  <a:lnTo>
                    <a:pt x="5949" y="1035"/>
                  </a:lnTo>
                  <a:lnTo>
                    <a:pt x="5942" y="1049"/>
                  </a:lnTo>
                  <a:lnTo>
                    <a:pt x="5926" y="1062"/>
                  </a:lnTo>
                  <a:lnTo>
                    <a:pt x="5901" y="1071"/>
                  </a:lnTo>
                  <a:lnTo>
                    <a:pt x="5865" y="1079"/>
                  </a:lnTo>
                  <a:lnTo>
                    <a:pt x="5760" y="1085"/>
                  </a:lnTo>
                  <a:lnTo>
                    <a:pt x="5697" y="1019"/>
                  </a:lnTo>
                  <a:lnTo>
                    <a:pt x="5701" y="1021"/>
                  </a:lnTo>
                  <a:lnTo>
                    <a:pt x="5700" y="1020"/>
                  </a:lnTo>
                  <a:lnTo>
                    <a:pt x="5697" y="1019"/>
                  </a:lnTo>
                  <a:lnTo>
                    <a:pt x="5719" y="1012"/>
                  </a:lnTo>
                  <a:lnTo>
                    <a:pt x="5734" y="1003"/>
                  </a:lnTo>
                  <a:lnTo>
                    <a:pt x="5742" y="993"/>
                  </a:lnTo>
                  <a:lnTo>
                    <a:pt x="5746" y="981"/>
                  </a:lnTo>
                  <a:lnTo>
                    <a:pt x="5745" y="969"/>
                  </a:lnTo>
                  <a:lnTo>
                    <a:pt x="5738" y="956"/>
                  </a:lnTo>
                  <a:lnTo>
                    <a:pt x="5712" y="930"/>
                  </a:lnTo>
                  <a:lnTo>
                    <a:pt x="5669" y="906"/>
                  </a:lnTo>
                  <a:lnTo>
                    <a:pt x="5614" y="885"/>
                  </a:lnTo>
                  <a:lnTo>
                    <a:pt x="5549" y="870"/>
                  </a:lnTo>
                  <a:lnTo>
                    <a:pt x="5476" y="866"/>
                  </a:lnTo>
                  <a:lnTo>
                    <a:pt x="5540" y="1022"/>
                  </a:lnTo>
                  <a:lnTo>
                    <a:pt x="5573" y="1025"/>
                  </a:lnTo>
                  <a:lnTo>
                    <a:pt x="5596" y="1083"/>
                  </a:lnTo>
                  <a:lnTo>
                    <a:pt x="3769" y="1064"/>
                  </a:lnTo>
                  <a:lnTo>
                    <a:pt x="2984" y="2630"/>
                  </a:lnTo>
                  <a:close/>
                </a:path>
              </a:pathLst>
            </a:custGeom>
            <a:gradFill rotWithShape="0">
              <a:gsLst>
                <a:gs pos="0">
                  <a:srgbClr val="175e17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334120" y="3314880"/>
              <a:ext cx="2941560" cy="990360"/>
            </a:xfrm>
            <a:custGeom>
              <a:avLst/>
              <a:gdLst/>
              <a:ahLst/>
              <a:rect l="l" t="t" r="r" b="b"/>
              <a:pathLst>
                <a:path w="9266" h="3119">
                  <a:moveTo>
                    <a:pt x="2984" y="2630"/>
                  </a:moveTo>
                  <a:lnTo>
                    <a:pt x="2971" y="2629"/>
                  </a:lnTo>
                  <a:lnTo>
                    <a:pt x="2959" y="2623"/>
                  </a:lnTo>
                  <a:lnTo>
                    <a:pt x="2944" y="2604"/>
                  </a:lnTo>
                  <a:lnTo>
                    <a:pt x="2937" y="2573"/>
                  </a:lnTo>
                  <a:lnTo>
                    <a:pt x="2936" y="2533"/>
                  </a:lnTo>
                  <a:lnTo>
                    <a:pt x="2795" y="2533"/>
                  </a:lnTo>
                  <a:lnTo>
                    <a:pt x="2785" y="2594"/>
                  </a:lnTo>
                  <a:lnTo>
                    <a:pt x="2771" y="2654"/>
                  </a:lnTo>
                  <a:lnTo>
                    <a:pt x="2751" y="2711"/>
                  </a:lnTo>
                  <a:lnTo>
                    <a:pt x="2727" y="2764"/>
                  </a:lnTo>
                  <a:lnTo>
                    <a:pt x="2697" y="2816"/>
                  </a:lnTo>
                  <a:lnTo>
                    <a:pt x="2663" y="2864"/>
                  </a:lnTo>
                  <a:lnTo>
                    <a:pt x="2625" y="2909"/>
                  </a:lnTo>
                  <a:lnTo>
                    <a:pt x="2583" y="2951"/>
                  </a:lnTo>
                  <a:lnTo>
                    <a:pt x="2538" y="2989"/>
                  </a:lnTo>
                  <a:lnTo>
                    <a:pt x="2489" y="3022"/>
                  </a:lnTo>
                  <a:lnTo>
                    <a:pt x="2438" y="3050"/>
                  </a:lnTo>
                  <a:lnTo>
                    <a:pt x="2383" y="3074"/>
                  </a:lnTo>
                  <a:lnTo>
                    <a:pt x="2328" y="3093"/>
                  </a:lnTo>
                  <a:lnTo>
                    <a:pt x="2268" y="3107"/>
                  </a:lnTo>
                  <a:lnTo>
                    <a:pt x="2207" y="3117"/>
                  </a:lnTo>
                  <a:lnTo>
                    <a:pt x="2146" y="3119"/>
                  </a:lnTo>
                  <a:lnTo>
                    <a:pt x="2084" y="3117"/>
                  </a:lnTo>
                  <a:lnTo>
                    <a:pt x="2023" y="3107"/>
                  </a:lnTo>
                  <a:lnTo>
                    <a:pt x="1965" y="3093"/>
                  </a:lnTo>
                  <a:lnTo>
                    <a:pt x="1908" y="3074"/>
                  </a:lnTo>
                  <a:lnTo>
                    <a:pt x="1854" y="3050"/>
                  </a:lnTo>
                  <a:lnTo>
                    <a:pt x="1802" y="3022"/>
                  </a:lnTo>
                  <a:lnTo>
                    <a:pt x="1755" y="2989"/>
                  </a:lnTo>
                  <a:lnTo>
                    <a:pt x="1709" y="2951"/>
                  </a:lnTo>
                  <a:lnTo>
                    <a:pt x="1668" y="2909"/>
                  </a:lnTo>
                  <a:lnTo>
                    <a:pt x="1630" y="2864"/>
                  </a:lnTo>
                  <a:lnTo>
                    <a:pt x="1595" y="2816"/>
                  </a:lnTo>
                  <a:lnTo>
                    <a:pt x="1566" y="2764"/>
                  </a:lnTo>
                  <a:lnTo>
                    <a:pt x="1542" y="2711"/>
                  </a:lnTo>
                  <a:lnTo>
                    <a:pt x="1522" y="2654"/>
                  </a:lnTo>
                  <a:lnTo>
                    <a:pt x="1507" y="2594"/>
                  </a:lnTo>
                  <a:lnTo>
                    <a:pt x="1498" y="2533"/>
                  </a:lnTo>
                  <a:lnTo>
                    <a:pt x="1354" y="2533"/>
                  </a:lnTo>
                  <a:lnTo>
                    <a:pt x="1350" y="2567"/>
                  </a:lnTo>
                  <a:lnTo>
                    <a:pt x="1343" y="2592"/>
                  </a:lnTo>
                  <a:lnTo>
                    <a:pt x="1329" y="2606"/>
                  </a:lnTo>
                  <a:lnTo>
                    <a:pt x="1304" y="2610"/>
                  </a:lnTo>
                  <a:lnTo>
                    <a:pt x="447" y="2537"/>
                  </a:lnTo>
                  <a:lnTo>
                    <a:pt x="430" y="2488"/>
                  </a:lnTo>
                  <a:lnTo>
                    <a:pt x="108" y="2450"/>
                  </a:lnTo>
                  <a:lnTo>
                    <a:pt x="87" y="2444"/>
                  </a:lnTo>
                  <a:lnTo>
                    <a:pt x="68" y="2431"/>
                  </a:lnTo>
                  <a:lnTo>
                    <a:pt x="54" y="2413"/>
                  </a:lnTo>
                  <a:lnTo>
                    <a:pt x="44" y="2391"/>
                  </a:lnTo>
                  <a:lnTo>
                    <a:pt x="3" y="2211"/>
                  </a:lnTo>
                  <a:lnTo>
                    <a:pt x="0" y="2193"/>
                  </a:lnTo>
                  <a:lnTo>
                    <a:pt x="3" y="2178"/>
                  </a:lnTo>
                  <a:lnTo>
                    <a:pt x="17" y="2148"/>
                  </a:lnTo>
                  <a:lnTo>
                    <a:pt x="29" y="2136"/>
                  </a:lnTo>
                  <a:lnTo>
                    <a:pt x="42" y="2128"/>
                  </a:lnTo>
                  <a:lnTo>
                    <a:pt x="58" y="2122"/>
                  </a:lnTo>
                  <a:lnTo>
                    <a:pt x="75" y="2120"/>
                  </a:lnTo>
                  <a:lnTo>
                    <a:pt x="226" y="2120"/>
                  </a:lnTo>
                  <a:lnTo>
                    <a:pt x="183" y="1950"/>
                  </a:lnTo>
                  <a:lnTo>
                    <a:pt x="133" y="1950"/>
                  </a:lnTo>
                  <a:lnTo>
                    <a:pt x="169" y="1312"/>
                  </a:lnTo>
                  <a:lnTo>
                    <a:pt x="219" y="1312"/>
                  </a:lnTo>
                  <a:lnTo>
                    <a:pt x="222" y="1274"/>
                  </a:lnTo>
                  <a:lnTo>
                    <a:pt x="232" y="1239"/>
                  </a:lnTo>
                  <a:lnTo>
                    <a:pt x="249" y="1206"/>
                  </a:lnTo>
                  <a:lnTo>
                    <a:pt x="270" y="1178"/>
                  </a:lnTo>
                  <a:lnTo>
                    <a:pt x="296" y="1153"/>
                  </a:lnTo>
                  <a:lnTo>
                    <a:pt x="327" y="1134"/>
                  </a:lnTo>
                  <a:lnTo>
                    <a:pt x="360" y="1120"/>
                  </a:lnTo>
                  <a:lnTo>
                    <a:pt x="397" y="1113"/>
                  </a:lnTo>
                  <a:lnTo>
                    <a:pt x="875" y="1059"/>
                  </a:lnTo>
                  <a:lnTo>
                    <a:pt x="945" y="1049"/>
                  </a:lnTo>
                  <a:lnTo>
                    <a:pt x="1015" y="1031"/>
                  </a:lnTo>
                  <a:lnTo>
                    <a:pt x="1082" y="1007"/>
                  </a:lnTo>
                  <a:lnTo>
                    <a:pt x="1146" y="978"/>
                  </a:lnTo>
                  <a:lnTo>
                    <a:pt x="1209" y="944"/>
                  </a:lnTo>
                  <a:lnTo>
                    <a:pt x="1267" y="905"/>
                  </a:lnTo>
                  <a:lnTo>
                    <a:pt x="1323" y="860"/>
                  </a:lnTo>
                  <a:lnTo>
                    <a:pt x="1374" y="810"/>
                  </a:lnTo>
                  <a:lnTo>
                    <a:pt x="1940" y="206"/>
                  </a:lnTo>
                  <a:lnTo>
                    <a:pt x="1960" y="189"/>
                  </a:lnTo>
                  <a:lnTo>
                    <a:pt x="1991" y="173"/>
                  </a:lnTo>
                  <a:lnTo>
                    <a:pt x="2079" y="144"/>
                  </a:lnTo>
                  <a:lnTo>
                    <a:pt x="2202" y="116"/>
                  </a:lnTo>
                  <a:lnTo>
                    <a:pt x="2357" y="93"/>
                  </a:lnTo>
                  <a:lnTo>
                    <a:pt x="2540" y="70"/>
                  </a:lnTo>
                  <a:lnTo>
                    <a:pt x="2748" y="50"/>
                  </a:lnTo>
                  <a:lnTo>
                    <a:pt x="2979" y="35"/>
                  </a:lnTo>
                  <a:lnTo>
                    <a:pt x="3229" y="20"/>
                  </a:lnTo>
                  <a:lnTo>
                    <a:pt x="3494" y="11"/>
                  </a:lnTo>
                  <a:lnTo>
                    <a:pt x="3771" y="4"/>
                  </a:lnTo>
                  <a:lnTo>
                    <a:pt x="4058" y="0"/>
                  </a:lnTo>
                  <a:lnTo>
                    <a:pt x="4352" y="1"/>
                  </a:lnTo>
                  <a:lnTo>
                    <a:pt x="4649" y="6"/>
                  </a:lnTo>
                  <a:lnTo>
                    <a:pt x="4945" y="14"/>
                  </a:lnTo>
                  <a:lnTo>
                    <a:pt x="5239" y="27"/>
                  </a:lnTo>
                  <a:lnTo>
                    <a:pt x="5526" y="44"/>
                  </a:lnTo>
                  <a:lnTo>
                    <a:pt x="5581" y="84"/>
                  </a:lnTo>
                  <a:lnTo>
                    <a:pt x="5526" y="158"/>
                  </a:lnTo>
                  <a:lnTo>
                    <a:pt x="6043" y="994"/>
                  </a:lnTo>
                  <a:lnTo>
                    <a:pt x="6462" y="894"/>
                  </a:lnTo>
                  <a:lnTo>
                    <a:pt x="8514" y="1062"/>
                  </a:lnTo>
                  <a:lnTo>
                    <a:pt x="8637" y="1077"/>
                  </a:lnTo>
                  <a:lnTo>
                    <a:pt x="8737" y="1098"/>
                  </a:lnTo>
                  <a:lnTo>
                    <a:pt x="8814" y="1125"/>
                  </a:lnTo>
                  <a:lnTo>
                    <a:pt x="8870" y="1153"/>
                  </a:lnTo>
                  <a:lnTo>
                    <a:pt x="8905" y="1180"/>
                  </a:lnTo>
                  <a:lnTo>
                    <a:pt x="8923" y="1206"/>
                  </a:lnTo>
                  <a:lnTo>
                    <a:pt x="8926" y="1218"/>
                  </a:lnTo>
                  <a:lnTo>
                    <a:pt x="8923" y="1228"/>
                  </a:lnTo>
                  <a:lnTo>
                    <a:pt x="8907" y="1243"/>
                  </a:lnTo>
                  <a:lnTo>
                    <a:pt x="9037" y="1780"/>
                  </a:lnTo>
                  <a:lnTo>
                    <a:pt x="9047" y="1833"/>
                  </a:lnTo>
                  <a:lnTo>
                    <a:pt x="9048" y="1875"/>
                  </a:lnTo>
                  <a:lnTo>
                    <a:pt x="9045" y="1911"/>
                  </a:lnTo>
                  <a:lnTo>
                    <a:pt x="9036" y="1944"/>
                  </a:lnTo>
                  <a:lnTo>
                    <a:pt x="9017" y="2019"/>
                  </a:lnTo>
                  <a:lnTo>
                    <a:pt x="9009" y="2067"/>
                  </a:lnTo>
                  <a:lnTo>
                    <a:pt x="9007" y="2130"/>
                  </a:lnTo>
                  <a:lnTo>
                    <a:pt x="9192" y="2130"/>
                  </a:lnTo>
                  <a:lnTo>
                    <a:pt x="9220" y="2136"/>
                  </a:lnTo>
                  <a:lnTo>
                    <a:pt x="9244" y="2152"/>
                  </a:lnTo>
                  <a:lnTo>
                    <a:pt x="9260" y="2175"/>
                  </a:lnTo>
                  <a:lnTo>
                    <a:pt x="9266" y="2204"/>
                  </a:lnTo>
                  <a:lnTo>
                    <a:pt x="9266" y="2394"/>
                  </a:lnTo>
                  <a:lnTo>
                    <a:pt x="9261" y="2421"/>
                  </a:lnTo>
                  <a:lnTo>
                    <a:pt x="9247" y="2444"/>
                  </a:lnTo>
                  <a:lnTo>
                    <a:pt x="9226" y="2459"/>
                  </a:lnTo>
                  <a:lnTo>
                    <a:pt x="9200" y="2467"/>
                  </a:lnTo>
                  <a:lnTo>
                    <a:pt x="8522" y="2542"/>
                  </a:lnTo>
                  <a:lnTo>
                    <a:pt x="8493" y="2543"/>
                  </a:lnTo>
                  <a:lnTo>
                    <a:pt x="8470" y="2540"/>
                  </a:lnTo>
                  <a:lnTo>
                    <a:pt x="8454" y="2533"/>
                  </a:lnTo>
                  <a:lnTo>
                    <a:pt x="8442" y="2521"/>
                  </a:lnTo>
                  <a:lnTo>
                    <a:pt x="8434" y="2505"/>
                  </a:lnTo>
                  <a:lnTo>
                    <a:pt x="8429" y="2486"/>
                  </a:lnTo>
                  <a:lnTo>
                    <a:pt x="8425" y="2438"/>
                  </a:lnTo>
                  <a:lnTo>
                    <a:pt x="8296" y="2438"/>
                  </a:lnTo>
                  <a:lnTo>
                    <a:pt x="8296" y="2507"/>
                  </a:lnTo>
                  <a:lnTo>
                    <a:pt x="8287" y="2574"/>
                  </a:lnTo>
                  <a:lnTo>
                    <a:pt x="8273" y="2638"/>
                  </a:lnTo>
                  <a:lnTo>
                    <a:pt x="8253" y="2701"/>
                  </a:lnTo>
                  <a:lnTo>
                    <a:pt x="8227" y="2761"/>
                  </a:lnTo>
                  <a:lnTo>
                    <a:pt x="8195" y="2816"/>
                  </a:lnTo>
                  <a:lnTo>
                    <a:pt x="8158" y="2869"/>
                  </a:lnTo>
                  <a:lnTo>
                    <a:pt x="8116" y="2917"/>
                  </a:lnTo>
                  <a:lnTo>
                    <a:pt x="8069" y="2963"/>
                  </a:lnTo>
                  <a:lnTo>
                    <a:pt x="8019" y="3002"/>
                  </a:lnTo>
                  <a:lnTo>
                    <a:pt x="7964" y="3036"/>
                  </a:lnTo>
                  <a:lnTo>
                    <a:pt x="7906" y="3065"/>
                  </a:lnTo>
                  <a:lnTo>
                    <a:pt x="7844" y="3088"/>
                  </a:lnTo>
                  <a:lnTo>
                    <a:pt x="7780" y="3105"/>
                  </a:lnTo>
                  <a:lnTo>
                    <a:pt x="7713" y="3116"/>
                  </a:lnTo>
                  <a:lnTo>
                    <a:pt x="7644" y="3119"/>
                  </a:lnTo>
                  <a:lnTo>
                    <a:pt x="7575" y="3116"/>
                  </a:lnTo>
                  <a:lnTo>
                    <a:pt x="7509" y="3105"/>
                  </a:lnTo>
                  <a:lnTo>
                    <a:pt x="7445" y="3088"/>
                  </a:lnTo>
                  <a:lnTo>
                    <a:pt x="7384" y="3065"/>
                  </a:lnTo>
                  <a:lnTo>
                    <a:pt x="7326" y="3036"/>
                  </a:lnTo>
                  <a:lnTo>
                    <a:pt x="7271" y="3002"/>
                  </a:lnTo>
                  <a:lnTo>
                    <a:pt x="7220" y="2961"/>
                  </a:lnTo>
                  <a:lnTo>
                    <a:pt x="7174" y="2917"/>
                  </a:lnTo>
                  <a:lnTo>
                    <a:pt x="7132" y="2869"/>
                  </a:lnTo>
                  <a:lnTo>
                    <a:pt x="7094" y="2816"/>
                  </a:lnTo>
                  <a:lnTo>
                    <a:pt x="7062" y="2759"/>
                  </a:lnTo>
                  <a:lnTo>
                    <a:pt x="7036" y="2700"/>
                  </a:lnTo>
                  <a:lnTo>
                    <a:pt x="7016" y="2638"/>
                  </a:lnTo>
                  <a:lnTo>
                    <a:pt x="7001" y="2573"/>
                  </a:lnTo>
                  <a:lnTo>
                    <a:pt x="6994" y="2507"/>
                  </a:lnTo>
                  <a:lnTo>
                    <a:pt x="6993" y="2438"/>
                  </a:lnTo>
                  <a:lnTo>
                    <a:pt x="6861" y="2438"/>
                  </a:lnTo>
                  <a:lnTo>
                    <a:pt x="6863" y="2511"/>
                  </a:lnTo>
                  <a:lnTo>
                    <a:pt x="6860" y="2573"/>
                  </a:lnTo>
                  <a:lnTo>
                    <a:pt x="6854" y="2597"/>
                  </a:lnTo>
                  <a:lnTo>
                    <a:pt x="6842" y="2615"/>
                  </a:lnTo>
                  <a:lnTo>
                    <a:pt x="6825" y="2627"/>
                  </a:lnTo>
                  <a:lnTo>
                    <a:pt x="6803" y="2630"/>
                  </a:lnTo>
                  <a:lnTo>
                    <a:pt x="2984" y="263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908680" y="3367080"/>
              <a:ext cx="540000" cy="283680"/>
            </a:xfrm>
            <a:custGeom>
              <a:avLst/>
              <a:gdLst/>
              <a:ahLst/>
              <a:rect l="l" t="t" r="r" b="b"/>
              <a:pathLst>
                <a:path w="1701" h="896">
                  <a:moveTo>
                    <a:pt x="1701" y="896"/>
                  </a:moveTo>
                  <a:lnTo>
                    <a:pt x="62" y="877"/>
                  </a:lnTo>
                  <a:lnTo>
                    <a:pt x="44" y="874"/>
                  </a:lnTo>
                  <a:lnTo>
                    <a:pt x="29" y="867"/>
                  </a:lnTo>
                  <a:lnTo>
                    <a:pt x="16" y="855"/>
                  </a:lnTo>
                  <a:lnTo>
                    <a:pt x="6" y="841"/>
                  </a:lnTo>
                  <a:lnTo>
                    <a:pt x="0" y="823"/>
                  </a:lnTo>
                  <a:lnTo>
                    <a:pt x="0" y="807"/>
                  </a:lnTo>
                  <a:lnTo>
                    <a:pt x="4" y="790"/>
                  </a:lnTo>
                  <a:lnTo>
                    <a:pt x="13" y="774"/>
                  </a:lnTo>
                  <a:lnTo>
                    <a:pt x="432" y="248"/>
                  </a:lnTo>
                  <a:lnTo>
                    <a:pt x="471" y="205"/>
                  </a:lnTo>
                  <a:lnTo>
                    <a:pt x="494" y="184"/>
                  </a:lnTo>
                  <a:lnTo>
                    <a:pt x="522" y="165"/>
                  </a:lnTo>
                  <a:lnTo>
                    <a:pt x="555" y="148"/>
                  </a:lnTo>
                  <a:lnTo>
                    <a:pt x="596" y="131"/>
                  </a:lnTo>
                  <a:lnTo>
                    <a:pt x="705" y="99"/>
                  </a:lnTo>
                  <a:lnTo>
                    <a:pt x="775" y="85"/>
                  </a:lnTo>
                  <a:lnTo>
                    <a:pt x="858" y="70"/>
                  </a:lnTo>
                  <a:lnTo>
                    <a:pt x="1069" y="45"/>
                  </a:lnTo>
                  <a:lnTo>
                    <a:pt x="1346" y="22"/>
                  </a:lnTo>
                  <a:lnTo>
                    <a:pt x="1701" y="0"/>
                  </a:lnTo>
                  <a:lnTo>
                    <a:pt x="1701" y="89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531120" y="3352680"/>
              <a:ext cx="692280" cy="306000"/>
            </a:xfrm>
            <a:custGeom>
              <a:avLst/>
              <a:gdLst/>
              <a:ahLst/>
              <a:rect l="l" t="t" r="r" b="b"/>
              <a:pathLst>
                <a:path w="2180" h="963">
                  <a:moveTo>
                    <a:pt x="0" y="942"/>
                  </a:moveTo>
                  <a:lnTo>
                    <a:pt x="0" y="31"/>
                  </a:lnTo>
                  <a:lnTo>
                    <a:pt x="465" y="10"/>
                  </a:lnTo>
                  <a:lnTo>
                    <a:pt x="837" y="0"/>
                  </a:lnTo>
                  <a:lnTo>
                    <a:pt x="1126" y="2"/>
                  </a:lnTo>
                  <a:lnTo>
                    <a:pt x="1242" y="6"/>
                  </a:lnTo>
                  <a:lnTo>
                    <a:pt x="1344" y="15"/>
                  </a:lnTo>
                  <a:lnTo>
                    <a:pt x="1429" y="24"/>
                  </a:lnTo>
                  <a:lnTo>
                    <a:pt x="1502" y="36"/>
                  </a:lnTo>
                  <a:lnTo>
                    <a:pt x="1561" y="51"/>
                  </a:lnTo>
                  <a:lnTo>
                    <a:pt x="1610" y="69"/>
                  </a:lnTo>
                  <a:lnTo>
                    <a:pt x="1650" y="88"/>
                  </a:lnTo>
                  <a:lnTo>
                    <a:pt x="1681" y="111"/>
                  </a:lnTo>
                  <a:lnTo>
                    <a:pt x="1706" y="136"/>
                  </a:lnTo>
                  <a:lnTo>
                    <a:pt x="1725" y="162"/>
                  </a:lnTo>
                  <a:lnTo>
                    <a:pt x="2174" y="885"/>
                  </a:lnTo>
                  <a:lnTo>
                    <a:pt x="2180" y="899"/>
                  </a:lnTo>
                  <a:lnTo>
                    <a:pt x="2180" y="913"/>
                  </a:lnTo>
                  <a:lnTo>
                    <a:pt x="2173" y="927"/>
                  </a:lnTo>
                  <a:lnTo>
                    <a:pt x="2157" y="940"/>
                  </a:lnTo>
                  <a:lnTo>
                    <a:pt x="2132" y="949"/>
                  </a:lnTo>
                  <a:lnTo>
                    <a:pt x="2096" y="957"/>
                  </a:lnTo>
                  <a:lnTo>
                    <a:pt x="1991" y="963"/>
                  </a:lnTo>
                  <a:lnTo>
                    <a:pt x="1928" y="897"/>
                  </a:lnTo>
                  <a:lnTo>
                    <a:pt x="1932" y="899"/>
                  </a:lnTo>
                  <a:lnTo>
                    <a:pt x="1931" y="898"/>
                  </a:lnTo>
                  <a:lnTo>
                    <a:pt x="1928" y="897"/>
                  </a:lnTo>
                  <a:lnTo>
                    <a:pt x="1950" y="890"/>
                  </a:lnTo>
                  <a:lnTo>
                    <a:pt x="1965" y="881"/>
                  </a:lnTo>
                  <a:lnTo>
                    <a:pt x="1973" y="871"/>
                  </a:lnTo>
                  <a:lnTo>
                    <a:pt x="1977" y="859"/>
                  </a:lnTo>
                  <a:lnTo>
                    <a:pt x="1976" y="847"/>
                  </a:lnTo>
                  <a:lnTo>
                    <a:pt x="1969" y="834"/>
                  </a:lnTo>
                  <a:lnTo>
                    <a:pt x="1943" y="808"/>
                  </a:lnTo>
                  <a:lnTo>
                    <a:pt x="1900" y="784"/>
                  </a:lnTo>
                  <a:lnTo>
                    <a:pt x="1845" y="763"/>
                  </a:lnTo>
                  <a:lnTo>
                    <a:pt x="1780" y="748"/>
                  </a:lnTo>
                  <a:lnTo>
                    <a:pt x="1707" y="744"/>
                  </a:lnTo>
                  <a:lnTo>
                    <a:pt x="1771" y="900"/>
                  </a:lnTo>
                  <a:lnTo>
                    <a:pt x="1804" y="903"/>
                  </a:lnTo>
                  <a:lnTo>
                    <a:pt x="1827" y="961"/>
                  </a:lnTo>
                  <a:lnTo>
                    <a:pt x="0" y="94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405400" y="3987720"/>
              <a:ext cx="65160" cy="115560"/>
            </a:xfrm>
            <a:custGeom>
              <a:avLst/>
              <a:gdLst/>
              <a:ahLst/>
              <a:rect l="l" t="t" r="r" b="b"/>
              <a:pathLst>
                <a:path w="204" h="368">
                  <a:moveTo>
                    <a:pt x="204" y="368"/>
                  </a:move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391360" y="3730320"/>
              <a:ext cx="33120" cy="203040"/>
            </a:xfrm>
            <a:custGeom>
              <a:avLst/>
              <a:gdLst/>
              <a:ahLst/>
              <a:rect l="l" t="t" r="r" b="b"/>
              <a:pathLst>
                <a:path w="105" h="638">
                  <a:moveTo>
                    <a:pt x="0" y="638"/>
                  </a:moveTo>
                  <a:lnTo>
                    <a:pt x="69" y="638"/>
                  </a:lnTo>
                  <a:lnTo>
                    <a:pt x="105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64320" y="3844800"/>
              <a:ext cx="501840" cy="272520"/>
            </a:xfrm>
            <a:custGeom>
              <a:avLst/>
              <a:gdLst/>
              <a:ahLst/>
              <a:rect l="l" t="t" r="r" b="b"/>
              <a:pathLst>
                <a:path w="1582" h="860">
                  <a:moveTo>
                    <a:pt x="0" y="860"/>
                  </a:moveTo>
                  <a:lnTo>
                    <a:pt x="1" y="754"/>
                  </a:lnTo>
                  <a:lnTo>
                    <a:pt x="6" y="690"/>
                  </a:lnTo>
                  <a:lnTo>
                    <a:pt x="8" y="665"/>
                  </a:lnTo>
                  <a:lnTo>
                    <a:pt x="18" y="620"/>
                  </a:lnTo>
                  <a:lnTo>
                    <a:pt x="36" y="553"/>
                  </a:lnTo>
                  <a:lnTo>
                    <a:pt x="59" y="489"/>
                  </a:lnTo>
                  <a:lnTo>
                    <a:pt x="88" y="429"/>
                  </a:lnTo>
                  <a:lnTo>
                    <a:pt x="121" y="371"/>
                  </a:lnTo>
                  <a:lnTo>
                    <a:pt x="158" y="316"/>
                  </a:lnTo>
                  <a:lnTo>
                    <a:pt x="201" y="265"/>
                  </a:lnTo>
                  <a:lnTo>
                    <a:pt x="246" y="217"/>
                  </a:lnTo>
                  <a:lnTo>
                    <a:pt x="296" y="175"/>
                  </a:lnTo>
                  <a:lnTo>
                    <a:pt x="350" y="135"/>
                  </a:lnTo>
                  <a:lnTo>
                    <a:pt x="405" y="101"/>
                  </a:lnTo>
                  <a:lnTo>
                    <a:pt x="464" y="71"/>
                  </a:lnTo>
                  <a:lnTo>
                    <a:pt x="525" y="46"/>
                  </a:lnTo>
                  <a:lnTo>
                    <a:pt x="590" y="26"/>
                  </a:lnTo>
                  <a:lnTo>
                    <a:pt x="655" y="12"/>
                  </a:lnTo>
                  <a:lnTo>
                    <a:pt x="723" y="4"/>
                  </a:lnTo>
                  <a:lnTo>
                    <a:pt x="792" y="0"/>
                  </a:lnTo>
                  <a:lnTo>
                    <a:pt x="861" y="4"/>
                  </a:lnTo>
                  <a:lnTo>
                    <a:pt x="928" y="12"/>
                  </a:lnTo>
                  <a:lnTo>
                    <a:pt x="994" y="26"/>
                  </a:lnTo>
                  <a:lnTo>
                    <a:pt x="1058" y="46"/>
                  </a:lnTo>
                  <a:lnTo>
                    <a:pt x="1120" y="71"/>
                  </a:lnTo>
                  <a:lnTo>
                    <a:pt x="1179" y="101"/>
                  </a:lnTo>
                  <a:lnTo>
                    <a:pt x="1235" y="135"/>
                  </a:lnTo>
                  <a:lnTo>
                    <a:pt x="1289" y="175"/>
                  </a:lnTo>
                  <a:lnTo>
                    <a:pt x="1337" y="217"/>
                  </a:lnTo>
                  <a:lnTo>
                    <a:pt x="1384" y="265"/>
                  </a:lnTo>
                  <a:lnTo>
                    <a:pt x="1425" y="316"/>
                  </a:lnTo>
                  <a:lnTo>
                    <a:pt x="1463" y="371"/>
                  </a:lnTo>
                  <a:lnTo>
                    <a:pt x="1497" y="429"/>
                  </a:lnTo>
                  <a:lnTo>
                    <a:pt x="1525" y="489"/>
                  </a:lnTo>
                  <a:lnTo>
                    <a:pt x="1549" y="553"/>
                  </a:lnTo>
                  <a:lnTo>
                    <a:pt x="1567" y="620"/>
                  </a:lnTo>
                  <a:lnTo>
                    <a:pt x="1579" y="688"/>
                  </a:lnTo>
                  <a:lnTo>
                    <a:pt x="1582" y="752"/>
                  </a:lnTo>
                  <a:lnTo>
                    <a:pt x="1582" y="8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808960" y="3890880"/>
              <a:ext cx="412560" cy="226440"/>
            </a:xfrm>
            <a:custGeom>
              <a:avLst/>
              <a:gdLst/>
              <a:ahLst/>
              <a:rect l="l" t="t" r="r" b="b"/>
              <a:pathLst>
                <a:path w="1304" h="717">
                  <a:moveTo>
                    <a:pt x="4" y="717"/>
                  </a:moveTo>
                  <a:lnTo>
                    <a:pt x="0" y="645"/>
                  </a:lnTo>
                  <a:lnTo>
                    <a:pt x="5" y="575"/>
                  </a:lnTo>
                  <a:lnTo>
                    <a:pt x="16" y="508"/>
                  </a:lnTo>
                  <a:lnTo>
                    <a:pt x="35" y="442"/>
                  </a:lnTo>
                  <a:lnTo>
                    <a:pt x="59" y="381"/>
                  </a:lnTo>
                  <a:lnTo>
                    <a:pt x="89" y="321"/>
                  </a:lnTo>
                  <a:lnTo>
                    <a:pt x="126" y="266"/>
                  </a:lnTo>
                  <a:lnTo>
                    <a:pt x="168" y="214"/>
                  </a:lnTo>
                  <a:lnTo>
                    <a:pt x="215" y="167"/>
                  </a:lnTo>
                  <a:lnTo>
                    <a:pt x="267" y="125"/>
                  </a:lnTo>
                  <a:lnTo>
                    <a:pt x="322" y="89"/>
                  </a:lnTo>
                  <a:lnTo>
                    <a:pt x="382" y="58"/>
                  </a:lnTo>
                  <a:lnTo>
                    <a:pt x="445" y="33"/>
                  </a:lnTo>
                  <a:lnTo>
                    <a:pt x="511" y="15"/>
                  </a:lnTo>
                  <a:lnTo>
                    <a:pt x="580" y="3"/>
                  </a:lnTo>
                  <a:lnTo>
                    <a:pt x="652" y="0"/>
                  </a:lnTo>
                  <a:lnTo>
                    <a:pt x="723" y="3"/>
                  </a:lnTo>
                  <a:lnTo>
                    <a:pt x="792" y="15"/>
                  </a:lnTo>
                  <a:lnTo>
                    <a:pt x="859" y="33"/>
                  </a:lnTo>
                  <a:lnTo>
                    <a:pt x="922" y="58"/>
                  </a:lnTo>
                  <a:lnTo>
                    <a:pt x="981" y="89"/>
                  </a:lnTo>
                  <a:lnTo>
                    <a:pt x="1037" y="125"/>
                  </a:lnTo>
                  <a:lnTo>
                    <a:pt x="1089" y="167"/>
                  </a:lnTo>
                  <a:lnTo>
                    <a:pt x="1135" y="214"/>
                  </a:lnTo>
                  <a:lnTo>
                    <a:pt x="1178" y="266"/>
                  </a:lnTo>
                  <a:lnTo>
                    <a:pt x="1214" y="321"/>
                  </a:lnTo>
                  <a:lnTo>
                    <a:pt x="1245" y="381"/>
                  </a:lnTo>
                  <a:lnTo>
                    <a:pt x="1270" y="442"/>
                  </a:lnTo>
                  <a:lnTo>
                    <a:pt x="1289" y="508"/>
                  </a:lnTo>
                  <a:lnTo>
                    <a:pt x="1299" y="575"/>
                  </a:lnTo>
                  <a:lnTo>
                    <a:pt x="1304" y="645"/>
                  </a:lnTo>
                  <a:lnTo>
                    <a:pt x="1301" y="7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908680" y="3992400"/>
              <a:ext cx="212760" cy="210600"/>
            </a:xfrm>
            <a:custGeom>
              <a:avLst/>
              <a:gdLst/>
              <a:ahLst/>
              <a:rect l="l" t="t" r="r" b="b"/>
              <a:pathLst>
                <a:path w="667" h="665">
                  <a:moveTo>
                    <a:pt x="333" y="665"/>
                  </a:moveTo>
                  <a:lnTo>
                    <a:pt x="286" y="661"/>
                  </a:lnTo>
                  <a:lnTo>
                    <a:pt x="241" y="653"/>
                  </a:lnTo>
                  <a:lnTo>
                    <a:pt x="201" y="638"/>
                  </a:lnTo>
                  <a:lnTo>
                    <a:pt x="162" y="619"/>
                  </a:lnTo>
                  <a:lnTo>
                    <a:pt x="127" y="594"/>
                  </a:lnTo>
                  <a:lnTo>
                    <a:pt x="95" y="565"/>
                  </a:lnTo>
                  <a:lnTo>
                    <a:pt x="68" y="533"/>
                  </a:lnTo>
                  <a:lnTo>
                    <a:pt x="45" y="499"/>
                  </a:lnTo>
                  <a:lnTo>
                    <a:pt x="26" y="461"/>
                  </a:lnTo>
                  <a:lnTo>
                    <a:pt x="12" y="420"/>
                  </a:lnTo>
                  <a:lnTo>
                    <a:pt x="3" y="380"/>
                  </a:lnTo>
                  <a:lnTo>
                    <a:pt x="0" y="337"/>
                  </a:lnTo>
                  <a:lnTo>
                    <a:pt x="2" y="293"/>
                  </a:lnTo>
                  <a:lnTo>
                    <a:pt x="11" y="250"/>
                  </a:lnTo>
                  <a:lnTo>
                    <a:pt x="25" y="208"/>
                  </a:lnTo>
                  <a:lnTo>
                    <a:pt x="45" y="165"/>
                  </a:lnTo>
                  <a:lnTo>
                    <a:pt x="71" y="126"/>
                  </a:lnTo>
                  <a:lnTo>
                    <a:pt x="101" y="93"/>
                  </a:lnTo>
                  <a:lnTo>
                    <a:pt x="134" y="64"/>
                  </a:lnTo>
                  <a:lnTo>
                    <a:pt x="171" y="40"/>
                  </a:lnTo>
                  <a:lnTo>
                    <a:pt x="209" y="23"/>
                  </a:lnTo>
                  <a:lnTo>
                    <a:pt x="249" y="9"/>
                  </a:lnTo>
                  <a:lnTo>
                    <a:pt x="291" y="2"/>
                  </a:lnTo>
                  <a:lnTo>
                    <a:pt x="333" y="0"/>
                  </a:lnTo>
                  <a:lnTo>
                    <a:pt x="374" y="2"/>
                  </a:lnTo>
                  <a:lnTo>
                    <a:pt x="416" y="9"/>
                  </a:lnTo>
                  <a:lnTo>
                    <a:pt x="456" y="23"/>
                  </a:lnTo>
                  <a:lnTo>
                    <a:pt x="496" y="40"/>
                  </a:lnTo>
                  <a:lnTo>
                    <a:pt x="531" y="64"/>
                  </a:lnTo>
                  <a:lnTo>
                    <a:pt x="566" y="93"/>
                  </a:lnTo>
                  <a:lnTo>
                    <a:pt x="595" y="126"/>
                  </a:lnTo>
                  <a:lnTo>
                    <a:pt x="622" y="165"/>
                  </a:lnTo>
                  <a:lnTo>
                    <a:pt x="642" y="208"/>
                  </a:lnTo>
                  <a:lnTo>
                    <a:pt x="656" y="250"/>
                  </a:lnTo>
                  <a:lnTo>
                    <a:pt x="664" y="293"/>
                  </a:lnTo>
                  <a:lnTo>
                    <a:pt x="667" y="337"/>
                  </a:lnTo>
                  <a:lnTo>
                    <a:pt x="663" y="380"/>
                  </a:lnTo>
                  <a:lnTo>
                    <a:pt x="654" y="420"/>
                  </a:lnTo>
                  <a:lnTo>
                    <a:pt x="639" y="461"/>
                  </a:lnTo>
                  <a:lnTo>
                    <a:pt x="622" y="499"/>
                  </a:lnTo>
                  <a:lnTo>
                    <a:pt x="598" y="533"/>
                  </a:lnTo>
                  <a:lnTo>
                    <a:pt x="570" y="565"/>
                  </a:lnTo>
                  <a:lnTo>
                    <a:pt x="538" y="594"/>
                  </a:lnTo>
                  <a:lnTo>
                    <a:pt x="504" y="619"/>
                  </a:lnTo>
                  <a:lnTo>
                    <a:pt x="466" y="638"/>
                  </a:lnTo>
                  <a:lnTo>
                    <a:pt x="424" y="653"/>
                  </a:lnTo>
                  <a:lnTo>
                    <a:pt x="379" y="661"/>
                  </a:lnTo>
                  <a:lnTo>
                    <a:pt x="333" y="66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6448680" y="3361680"/>
              <a:ext cx="82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448680" y="3633480"/>
              <a:ext cx="860400" cy="464760"/>
            </a:xfrm>
            <a:custGeom>
              <a:avLst/>
              <a:gdLst/>
              <a:ahLst/>
              <a:rect l="l" t="t" r="r" b="b"/>
              <a:pathLst>
                <a:path w="2710" h="1466">
                  <a:moveTo>
                    <a:pt x="0" y="55"/>
                  </a:moveTo>
                  <a:lnTo>
                    <a:pt x="259" y="57"/>
                  </a:lnTo>
                  <a:lnTo>
                    <a:pt x="201" y="214"/>
                  </a:lnTo>
                  <a:lnTo>
                    <a:pt x="394" y="1466"/>
                  </a:lnTo>
                  <a:lnTo>
                    <a:pt x="2710" y="1466"/>
                  </a:lnTo>
                  <a:lnTo>
                    <a:pt x="2608" y="283"/>
                  </a:lnTo>
                  <a:lnTo>
                    <a:pt x="2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105680" y="3341520"/>
              <a:ext cx="279360" cy="256680"/>
            </a:xfrm>
            <a:custGeom>
              <a:avLst/>
              <a:gdLst/>
              <a:ahLst/>
              <a:rect l="l" t="t" r="r" b="b"/>
              <a:pathLst>
                <a:path w="881" h="810">
                  <a:moveTo>
                    <a:pt x="0" y="0"/>
                  </a:moveTo>
                  <a:lnTo>
                    <a:pt x="120" y="89"/>
                  </a:lnTo>
                  <a:lnTo>
                    <a:pt x="238" y="183"/>
                  </a:lnTo>
                  <a:lnTo>
                    <a:pt x="353" y="281"/>
                  </a:lnTo>
                  <a:lnTo>
                    <a:pt x="466" y="380"/>
                  </a:lnTo>
                  <a:lnTo>
                    <a:pt x="575" y="485"/>
                  </a:lnTo>
                  <a:lnTo>
                    <a:pt x="681" y="591"/>
                  </a:lnTo>
                  <a:lnTo>
                    <a:pt x="783" y="700"/>
                  </a:lnTo>
                  <a:lnTo>
                    <a:pt x="881" y="8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102440" y="3638520"/>
              <a:ext cx="39960" cy="1080"/>
            </a:xfrm>
            <a:custGeom>
              <a:avLst/>
              <a:gdLst/>
              <a:ahLst/>
              <a:rect l="l" t="t" r="r" b="b"/>
              <a:pathLst>
                <a:path w="124" h="7">
                  <a:moveTo>
                    <a:pt x="124" y="0"/>
                  </a:moveTo>
                  <a:lnTo>
                    <a:pt x="72" y="7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110360" y="3657240"/>
              <a:ext cx="79560" cy="29880"/>
            </a:xfrm>
            <a:custGeom>
              <a:avLst/>
              <a:gdLst/>
              <a:ahLst/>
              <a:rect l="l" t="t" r="r" b="b"/>
              <a:pathLst>
                <a:path w="250" h="95">
                  <a:moveTo>
                    <a:pt x="0" y="0"/>
                  </a:moveTo>
                  <a:lnTo>
                    <a:pt x="36" y="95"/>
                  </a:lnTo>
                  <a:lnTo>
                    <a:pt x="250" y="95"/>
                  </a:lnTo>
                  <a:lnTo>
                    <a:pt x="16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602400" y="3782880"/>
              <a:ext cx="144720" cy="16920"/>
            </a:xfrm>
            <a:custGeom>
              <a:avLst/>
              <a:gdLst/>
              <a:ahLst/>
              <a:rect l="l" t="t" r="r" b="b"/>
              <a:pathLst>
                <a:path w="454" h="56">
                  <a:moveTo>
                    <a:pt x="454" y="56"/>
                  </a:moveTo>
                  <a:lnTo>
                    <a:pt x="45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424480" y="3749400"/>
              <a:ext cx="270036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512120" y="3844800"/>
              <a:ext cx="496800" cy="242640"/>
            </a:xfrm>
            <a:custGeom>
              <a:avLst/>
              <a:gdLst/>
              <a:ahLst/>
              <a:rect l="l" t="t" r="r" b="b"/>
              <a:pathLst>
                <a:path w="1567" h="765">
                  <a:moveTo>
                    <a:pt x="0" y="765"/>
                  </a:moveTo>
                  <a:lnTo>
                    <a:pt x="0" y="692"/>
                  </a:lnTo>
                  <a:lnTo>
                    <a:pt x="10" y="620"/>
                  </a:lnTo>
                  <a:lnTo>
                    <a:pt x="27" y="553"/>
                  </a:lnTo>
                  <a:lnTo>
                    <a:pt x="51" y="489"/>
                  </a:lnTo>
                  <a:lnTo>
                    <a:pt x="80" y="429"/>
                  </a:lnTo>
                  <a:lnTo>
                    <a:pt x="113" y="371"/>
                  </a:lnTo>
                  <a:lnTo>
                    <a:pt x="150" y="316"/>
                  </a:lnTo>
                  <a:lnTo>
                    <a:pt x="193" y="265"/>
                  </a:lnTo>
                  <a:lnTo>
                    <a:pt x="238" y="217"/>
                  </a:lnTo>
                  <a:lnTo>
                    <a:pt x="288" y="175"/>
                  </a:lnTo>
                  <a:lnTo>
                    <a:pt x="341" y="135"/>
                  </a:lnTo>
                  <a:lnTo>
                    <a:pt x="397" y="101"/>
                  </a:lnTo>
                  <a:lnTo>
                    <a:pt x="455" y="71"/>
                  </a:lnTo>
                  <a:lnTo>
                    <a:pt x="517" y="46"/>
                  </a:lnTo>
                  <a:lnTo>
                    <a:pt x="581" y="26"/>
                  </a:lnTo>
                  <a:lnTo>
                    <a:pt x="647" y="12"/>
                  </a:lnTo>
                  <a:lnTo>
                    <a:pt x="714" y="4"/>
                  </a:lnTo>
                  <a:lnTo>
                    <a:pt x="783" y="0"/>
                  </a:lnTo>
                  <a:lnTo>
                    <a:pt x="852" y="4"/>
                  </a:lnTo>
                  <a:lnTo>
                    <a:pt x="920" y="12"/>
                  </a:lnTo>
                  <a:lnTo>
                    <a:pt x="985" y="26"/>
                  </a:lnTo>
                  <a:lnTo>
                    <a:pt x="1050" y="46"/>
                  </a:lnTo>
                  <a:lnTo>
                    <a:pt x="1111" y="71"/>
                  </a:lnTo>
                  <a:lnTo>
                    <a:pt x="1171" y="101"/>
                  </a:lnTo>
                  <a:lnTo>
                    <a:pt x="1227" y="135"/>
                  </a:lnTo>
                  <a:lnTo>
                    <a:pt x="1280" y="175"/>
                  </a:lnTo>
                  <a:lnTo>
                    <a:pt x="1329" y="217"/>
                  </a:lnTo>
                  <a:lnTo>
                    <a:pt x="1375" y="265"/>
                  </a:lnTo>
                  <a:lnTo>
                    <a:pt x="1417" y="316"/>
                  </a:lnTo>
                  <a:lnTo>
                    <a:pt x="1455" y="371"/>
                  </a:lnTo>
                  <a:lnTo>
                    <a:pt x="1488" y="429"/>
                  </a:lnTo>
                  <a:lnTo>
                    <a:pt x="1517" y="489"/>
                  </a:lnTo>
                  <a:lnTo>
                    <a:pt x="1540" y="553"/>
                  </a:lnTo>
                  <a:lnTo>
                    <a:pt x="1558" y="620"/>
                  </a:lnTo>
                  <a:lnTo>
                    <a:pt x="1564" y="659"/>
                  </a:lnTo>
                  <a:lnTo>
                    <a:pt x="1567" y="696"/>
                  </a:lnTo>
                  <a:lnTo>
                    <a:pt x="1564" y="7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553520" y="3890880"/>
              <a:ext cx="414360" cy="196560"/>
            </a:xfrm>
            <a:custGeom>
              <a:avLst/>
              <a:gdLst/>
              <a:ahLst/>
              <a:rect l="l" t="t" r="r" b="b"/>
              <a:pathLst>
                <a:path w="1303" h="622">
                  <a:moveTo>
                    <a:pt x="0" y="622"/>
                  </a:moveTo>
                  <a:lnTo>
                    <a:pt x="6" y="558"/>
                  </a:lnTo>
                  <a:lnTo>
                    <a:pt x="18" y="495"/>
                  </a:lnTo>
                  <a:lnTo>
                    <a:pt x="36" y="435"/>
                  </a:lnTo>
                  <a:lnTo>
                    <a:pt x="59" y="378"/>
                  </a:lnTo>
                  <a:lnTo>
                    <a:pt x="88" y="324"/>
                  </a:lnTo>
                  <a:lnTo>
                    <a:pt x="121" y="271"/>
                  </a:lnTo>
                  <a:lnTo>
                    <a:pt x="158" y="224"/>
                  </a:lnTo>
                  <a:lnTo>
                    <a:pt x="201" y="180"/>
                  </a:lnTo>
                  <a:lnTo>
                    <a:pt x="246" y="140"/>
                  </a:lnTo>
                  <a:lnTo>
                    <a:pt x="296" y="105"/>
                  </a:lnTo>
                  <a:lnTo>
                    <a:pt x="348" y="74"/>
                  </a:lnTo>
                  <a:lnTo>
                    <a:pt x="404" y="48"/>
                  </a:lnTo>
                  <a:lnTo>
                    <a:pt x="462" y="27"/>
                  </a:lnTo>
                  <a:lnTo>
                    <a:pt x="524" y="11"/>
                  </a:lnTo>
                  <a:lnTo>
                    <a:pt x="587" y="3"/>
                  </a:lnTo>
                  <a:lnTo>
                    <a:pt x="651" y="0"/>
                  </a:lnTo>
                  <a:lnTo>
                    <a:pt x="716" y="3"/>
                  </a:lnTo>
                  <a:lnTo>
                    <a:pt x="779" y="11"/>
                  </a:lnTo>
                  <a:lnTo>
                    <a:pt x="840" y="27"/>
                  </a:lnTo>
                  <a:lnTo>
                    <a:pt x="899" y="48"/>
                  </a:lnTo>
                  <a:lnTo>
                    <a:pt x="954" y="74"/>
                  </a:lnTo>
                  <a:lnTo>
                    <a:pt x="1007" y="105"/>
                  </a:lnTo>
                  <a:lnTo>
                    <a:pt x="1057" y="140"/>
                  </a:lnTo>
                  <a:lnTo>
                    <a:pt x="1103" y="180"/>
                  </a:lnTo>
                  <a:lnTo>
                    <a:pt x="1145" y="224"/>
                  </a:lnTo>
                  <a:lnTo>
                    <a:pt x="1183" y="271"/>
                  </a:lnTo>
                  <a:lnTo>
                    <a:pt x="1216" y="324"/>
                  </a:lnTo>
                  <a:lnTo>
                    <a:pt x="1244" y="378"/>
                  </a:lnTo>
                  <a:lnTo>
                    <a:pt x="1267" y="435"/>
                  </a:lnTo>
                  <a:lnTo>
                    <a:pt x="1285" y="495"/>
                  </a:lnTo>
                  <a:lnTo>
                    <a:pt x="1297" y="558"/>
                  </a:lnTo>
                  <a:lnTo>
                    <a:pt x="1303" y="6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655040" y="3992400"/>
              <a:ext cx="211320" cy="210600"/>
            </a:xfrm>
            <a:custGeom>
              <a:avLst/>
              <a:gdLst/>
              <a:ahLst/>
              <a:rect l="l" t="t" r="r" b="b"/>
              <a:pathLst>
                <a:path w="666" h="665">
                  <a:moveTo>
                    <a:pt x="332" y="665"/>
                  </a:moveTo>
                  <a:lnTo>
                    <a:pt x="286" y="661"/>
                  </a:lnTo>
                  <a:lnTo>
                    <a:pt x="241" y="653"/>
                  </a:lnTo>
                  <a:lnTo>
                    <a:pt x="200" y="638"/>
                  </a:lnTo>
                  <a:lnTo>
                    <a:pt x="161" y="619"/>
                  </a:lnTo>
                  <a:lnTo>
                    <a:pt x="127" y="594"/>
                  </a:lnTo>
                  <a:lnTo>
                    <a:pt x="95" y="565"/>
                  </a:lnTo>
                  <a:lnTo>
                    <a:pt x="67" y="533"/>
                  </a:lnTo>
                  <a:lnTo>
                    <a:pt x="45" y="499"/>
                  </a:lnTo>
                  <a:lnTo>
                    <a:pt x="26" y="461"/>
                  </a:lnTo>
                  <a:lnTo>
                    <a:pt x="11" y="420"/>
                  </a:lnTo>
                  <a:lnTo>
                    <a:pt x="3" y="380"/>
                  </a:lnTo>
                  <a:lnTo>
                    <a:pt x="0" y="337"/>
                  </a:lnTo>
                  <a:lnTo>
                    <a:pt x="2" y="293"/>
                  </a:lnTo>
                  <a:lnTo>
                    <a:pt x="10" y="250"/>
                  </a:lnTo>
                  <a:lnTo>
                    <a:pt x="24" y="208"/>
                  </a:lnTo>
                  <a:lnTo>
                    <a:pt x="45" y="165"/>
                  </a:lnTo>
                  <a:lnTo>
                    <a:pt x="71" y="126"/>
                  </a:lnTo>
                  <a:lnTo>
                    <a:pt x="101" y="93"/>
                  </a:lnTo>
                  <a:lnTo>
                    <a:pt x="134" y="64"/>
                  </a:lnTo>
                  <a:lnTo>
                    <a:pt x="171" y="40"/>
                  </a:lnTo>
                  <a:lnTo>
                    <a:pt x="209" y="23"/>
                  </a:lnTo>
                  <a:lnTo>
                    <a:pt x="249" y="9"/>
                  </a:lnTo>
                  <a:lnTo>
                    <a:pt x="291" y="2"/>
                  </a:lnTo>
                  <a:lnTo>
                    <a:pt x="332" y="0"/>
                  </a:lnTo>
                  <a:lnTo>
                    <a:pt x="374" y="2"/>
                  </a:lnTo>
                  <a:lnTo>
                    <a:pt x="416" y="9"/>
                  </a:lnTo>
                  <a:lnTo>
                    <a:pt x="456" y="23"/>
                  </a:lnTo>
                  <a:lnTo>
                    <a:pt x="495" y="40"/>
                  </a:lnTo>
                  <a:lnTo>
                    <a:pt x="531" y="64"/>
                  </a:lnTo>
                  <a:lnTo>
                    <a:pt x="565" y="93"/>
                  </a:lnTo>
                  <a:lnTo>
                    <a:pt x="595" y="126"/>
                  </a:lnTo>
                  <a:lnTo>
                    <a:pt x="621" y="165"/>
                  </a:lnTo>
                  <a:lnTo>
                    <a:pt x="641" y="208"/>
                  </a:lnTo>
                  <a:lnTo>
                    <a:pt x="656" y="250"/>
                  </a:lnTo>
                  <a:lnTo>
                    <a:pt x="664" y="293"/>
                  </a:lnTo>
                  <a:lnTo>
                    <a:pt x="666" y="337"/>
                  </a:lnTo>
                  <a:lnTo>
                    <a:pt x="663" y="380"/>
                  </a:lnTo>
                  <a:lnTo>
                    <a:pt x="653" y="420"/>
                  </a:lnTo>
                  <a:lnTo>
                    <a:pt x="639" y="461"/>
                  </a:lnTo>
                  <a:lnTo>
                    <a:pt x="621" y="499"/>
                  </a:lnTo>
                  <a:lnTo>
                    <a:pt x="597" y="533"/>
                  </a:lnTo>
                  <a:lnTo>
                    <a:pt x="570" y="565"/>
                  </a:lnTo>
                  <a:lnTo>
                    <a:pt x="538" y="594"/>
                  </a:lnTo>
                  <a:lnTo>
                    <a:pt x="503" y="619"/>
                  </a:lnTo>
                  <a:lnTo>
                    <a:pt x="465" y="638"/>
                  </a:lnTo>
                  <a:lnTo>
                    <a:pt x="424" y="653"/>
                  </a:lnTo>
                  <a:lnTo>
                    <a:pt x="379" y="661"/>
                  </a:lnTo>
                  <a:lnTo>
                    <a:pt x="332" y="66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118720" y="3708360"/>
              <a:ext cx="83880" cy="171000"/>
            </a:xfrm>
            <a:custGeom>
              <a:avLst/>
              <a:gdLst/>
              <a:ahLst/>
              <a:rect l="l" t="t" r="r" b="b"/>
              <a:pathLst>
                <a:path w="266" h="537">
                  <a:moveTo>
                    <a:pt x="136" y="0"/>
                  </a:moveTo>
                  <a:lnTo>
                    <a:pt x="0" y="62"/>
                  </a:lnTo>
                  <a:lnTo>
                    <a:pt x="92" y="537"/>
                  </a:lnTo>
                  <a:lnTo>
                    <a:pt x="266" y="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104320" y="3990960"/>
              <a:ext cx="88920" cy="120240"/>
            </a:xfrm>
            <a:custGeom>
              <a:avLst/>
              <a:gdLst/>
              <a:ahLst/>
              <a:rect l="l" t="t" r="r" b="b"/>
              <a:pathLst>
                <a:path w="280" h="383">
                  <a:moveTo>
                    <a:pt x="280" y="0"/>
                  </a:moveTo>
                  <a:lnTo>
                    <a:pt x="0" y="0"/>
                  </a:lnTo>
                  <a:lnTo>
                    <a:pt x="61" y="3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807160" y="3890880"/>
              <a:ext cx="2160720" cy="412200"/>
            </a:xfrm>
            <a:custGeom>
              <a:avLst/>
              <a:gdLst/>
              <a:ahLst/>
              <a:rect l="l" t="t" r="r" b="b"/>
              <a:pathLst>
                <a:path w="6804" h="1302">
                  <a:moveTo>
                    <a:pt x="653" y="1302"/>
                  </a:moveTo>
                  <a:lnTo>
                    <a:pt x="744" y="1296"/>
                  </a:lnTo>
                  <a:lnTo>
                    <a:pt x="831" y="1278"/>
                  </a:lnTo>
                  <a:lnTo>
                    <a:pt x="913" y="1249"/>
                  </a:lnTo>
                  <a:lnTo>
                    <a:pt x="988" y="1211"/>
                  </a:lnTo>
                  <a:lnTo>
                    <a:pt x="1056" y="1163"/>
                  </a:lnTo>
                  <a:lnTo>
                    <a:pt x="1117" y="1107"/>
                  </a:lnTo>
                  <a:lnTo>
                    <a:pt x="1171" y="1044"/>
                  </a:lnTo>
                  <a:lnTo>
                    <a:pt x="1217" y="977"/>
                  </a:lnTo>
                  <a:lnTo>
                    <a:pt x="1253" y="903"/>
                  </a:lnTo>
                  <a:lnTo>
                    <a:pt x="1280" y="825"/>
                  </a:lnTo>
                  <a:lnTo>
                    <a:pt x="1298" y="744"/>
                  </a:lnTo>
                  <a:lnTo>
                    <a:pt x="1305" y="661"/>
                  </a:lnTo>
                  <a:lnTo>
                    <a:pt x="1300" y="577"/>
                  </a:lnTo>
                  <a:lnTo>
                    <a:pt x="1285" y="491"/>
                  </a:lnTo>
                  <a:lnTo>
                    <a:pt x="1258" y="408"/>
                  </a:lnTo>
                  <a:lnTo>
                    <a:pt x="1217" y="325"/>
                  </a:lnTo>
                  <a:lnTo>
                    <a:pt x="1166" y="249"/>
                  </a:lnTo>
                  <a:lnTo>
                    <a:pt x="1107" y="182"/>
                  </a:lnTo>
                  <a:lnTo>
                    <a:pt x="1041" y="127"/>
                  </a:lnTo>
                  <a:lnTo>
                    <a:pt x="970" y="81"/>
                  </a:lnTo>
                  <a:lnTo>
                    <a:pt x="894" y="46"/>
                  </a:lnTo>
                  <a:lnTo>
                    <a:pt x="816" y="20"/>
                  </a:lnTo>
                  <a:lnTo>
                    <a:pt x="735" y="5"/>
                  </a:lnTo>
                  <a:lnTo>
                    <a:pt x="653" y="0"/>
                  </a:lnTo>
                  <a:lnTo>
                    <a:pt x="571" y="5"/>
                  </a:lnTo>
                  <a:lnTo>
                    <a:pt x="490" y="20"/>
                  </a:lnTo>
                  <a:lnTo>
                    <a:pt x="411" y="46"/>
                  </a:lnTo>
                  <a:lnTo>
                    <a:pt x="335" y="81"/>
                  </a:lnTo>
                  <a:lnTo>
                    <a:pt x="264" y="127"/>
                  </a:lnTo>
                  <a:lnTo>
                    <a:pt x="199" y="182"/>
                  </a:lnTo>
                  <a:lnTo>
                    <a:pt x="139" y="249"/>
                  </a:lnTo>
                  <a:lnTo>
                    <a:pt x="113" y="286"/>
                  </a:lnTo>
                  <a:lnTo>
                    <a:pt x="88" y="325"/>
                  </a:lnTo>
                  <a:lnTo>
                    <a:pt x="67" y="366"/>
                  </a:lnTo>
                  <a:lnTo>
                    <a:pt x="48" y="408"/>
                  </a:lnTo>
                  <a:lnTo>
                    <a:pt x="20" y="491"/>
                  </a:lnTo>
                  <a:lnTo>
                    <a:pt x="4" y="577"/>
                  </a:lnTo>
                  <a:lnTo>
                    <a:pt x="0" y="661"/>
                  </a:lnTo>
                  <a:lnTo>
                    <a:pt x="7" y="744"/>
                  </a:lnTo>
                  <a:lnTo>
                    <a:pt x="25" y="825"/>
                  </a:lnTo>
                  <a:lnTo>
                    <a:pt x="52" y="903"/>
                  </a:lnTo>
                  <a:lnTo>
                    <a:pt x="89" y="977"/>
                  </a:lnTo>
                  <a:lnTo>
                    <a:pt x="134" y="1044"/>
                  </a:lnTo>
                  <a:lnTo>
                    <a:pt x="188" y="1107"/>
                  </a:lnTo>
                  <a:lnTo>
                    <a:pt x="250" y="1163"/>
                  </a:lnTo>
                  <a:lnTo>
                    <a:pt x="319" y="1211"/>
                  </a:lnTo>
                  <a:lnTo>
                    <a:pt x="394" y="1249"/>
                  </a:lnTo>
                  <a:lnTo>
                    <a:pt x="474" y="1278"/>
                  </a:lnTo>
                  <a:lnTo>
                    <a:pt x="561" y="1296"/>
                  </a:lnTo>
                  <a:lnTo>
                    <a:pt x="653" y="1302"/>
                  </a:lnTo>
                  <a:lnTo>
                    <a:pt x="653" y="983"/>
                  </a:lnTo>
                  <a:lnTo>
                    <a:pt x="699" y="979"/>
                  </a:lnTo>
                  <a:lnTo>
                    <a:pt x="744" y="971"/>
                  </a:lnTo>
                  <a:lnTo>
                    <a:pt x="785" y="955"/>
                  </a:lnTo>
                  <a:lnTo>
                    <a:pt x="824" y="936"/>
                  </a:lnTo>
                  <a:lnTo>
                    <a:pt x="858" y="911"/>
                  </a:lnTo>
                  <a:lnTo>
                    <a:pt x="890" y="883"/>
                  </a:lnTo>
                  <a:lnTo>
                    <a:pt x="918" y="852"/>
                  </a:lnTo>
                  <a:lnTo>
                    <a:pt x="940" y="816"/>
                  </a:lnTo>
                  <a:lnTo>
                    <a:pt x="959" y="778"/>
                  </a:lnTo>
                  <a:lnTo>
                    <a:pt x="974" y="739"/>
                  </a:lnTo>
                  <a:lnTo>
                    <a:pt x="982" y="698"/>
                  </a:lnTo>
                  <a:lnTo>
                    <a:pt x="985" y="656"/>
                  </a:lnTo>
                  <a:lnTo>
                    <a:pt x="983" y="612"/>
                  </a:lnTo>
                  <a:lnTo>
                    <a:pt x="975" y="569"/>
                  </a:lnTo>
                  <a:lnTo>
                    <a:pt x="961" y="527"/>
                  </a:lnTo>
                  <a:lnTo>
                    <a:pt x="940" y="484"/>
                  </a:lnTo>
                  <a:lnTo>
                    <a:pt x="914" y="445"/>
                  </a:lnTo>
                  <a:lnTo>
                    <a:pt x="884" y="412"/>
                  </a:lnTo>
                  <a:lnTo>
                    <a:pt x="851" y="383"/>
                  </a:lnTo>
                  <a:lnTo>
                    <a:pt x="814" y="359"/>
                  </a:lnTo>
                  <a:lnTo>
                    <a:pt x="776" y="342"/>
                  </a:lnTo>
                  <a:lnTo>
                    <a:pt x="736" y="328"/>
                  </a:lnTo>
                  <a:lnTo>
                    <a:pt x="694" y="321"/>
                  </a:lnTo>
                  <a:lnTo>
                    <a:pt x="653" y="319"/>
                  </a:lnTo>
                  <a:lnTo>
                    <a:pt x="611" y="321"/>
                  </a:lnTo>
                  <a:lnTo>
                    <a:pt x="569" y="328"/>
                  </a:lnTo>
                  <a:lnTo>
                    <a:pt x="529" y="342"/>
                  </a:lnTo>
                  <a:lnTo>
                    <a:pt x="491" y="359"/>
                  </a:lnTo>
                  <a:lnTo>
                    <a:pt x="454" y="383"/>
                  </a:lnTo>
                  <a:lnTo>
                    <a:pt x="421" y="412"/>
                  </a:lnTo>
                  <a:lnTo>
                    <a:pt x="391" y="445"/>
                  </a:lnTo>
                  <a:lnTo>
                    <a:pt x="365" y="484"/>
                  </a:lnTo>
                  <a:lnTo>
                    <a:pt x="344" y="527"/>
                  </a:lnTo>
                  <a:lnTo>
                    <a:pt x="329" y="569"/>
                  </a:lnTo>
                  <a:lnTo>
                    <a:pt x="321" y="612"/>
                  </a:lnTo>
                  <a:lnTo>
                    <a:pt x="320" y="656"/>
                  </a:lnTo>
                  <a:lnTo>
                    <a:pt x="323" y="698"/>
                  </a:lnTo>
                  <a:lnTo>
                    <a:pt x="332" y="739"/>
                  </a:lnTo>
                  <a:lnTo>
                    <a:pt x="346" y="778"/>
                  </a:lnTo>
                  <a:lnTo>
                    <a:pt x="365" y="816"/>
                  </a:lnTo>
                  <a:lnTo>
                    <a:pt x="388" y="852"/>
                  </a:lnTo>
                  <a:lnTo>
                    <a:pt x="415" y="883"/>
                  </a:lnTo>
                  <a:lnTo>
                    <a:pt x="447" y="911"/>
                  </a:lnTo>
                  <a:lnTo>
                    <a:pt x="482" y="936"/>
                  </a:lnTo>
                  <a:lnTo>
                    <a:pt x="520" y="955"/>
                  </a:lnTo>
                  <a:lnTo>
                    <a:pt x="561" y="971"/>
                  </a:lnTo>
                  <a:lnTo>
                    <a:pt x="606" y="979"/>
                  </a:lnTo>
                  <a:lnTo>
                    <a:pt x="653" y="983"/>
                  </a:lnTo>
                  <a:lnTo>
                    <a:pt x="653" y="1302"/>
                  </a:lnTo>
                  <a:close/>
                  <a:moveTo>
                    <a:pt x="6151" y="1302"/>
                  </a:moveTo>
                  <a:lnTo>
                    <a:pt x="6243" y="1296"/>
                  </a:lnTo>
                  <a:lnTo>
                    <a:pt x="6330" y="1278"/>
                  </a:lnTo>
                  <a:lnTo>
                    <a:pt x="6412" y="1249"/>
                  </a:lnTo>
                  <a:lnTo>
                    <a:pt x="6487" y="1211"/>
                  </a:lnTo>
                  <a:lnTo>
                    <a:pt x="6554" y="1163"/>
                  </a:lnTo>
                  <a:lnTo>
                    <a:pt x="6616" y="1107"/>
                  </a:lnTo>
                  <a:lnTo>
                    <a:pt x="6670" y="1044"/>
                  </a:lnTo>
                  <a:lnTo>
                    <a:pt x="6716" y="977"/>
                  </a:lnTo>
                  <a:lnTo>
                    <a:pt x="6752" y="903"/>
                  </a:lnTo>
                  <a:lnTo>
                    <a:pt x="6779" y="825"/>
                  </a:lnTo>
                  <a:lnTo>
                    <a:pt x="6797" y="744"/>
                  </a:lnTo>
                  <a:lnTo>
                    <a:pt x="6804" y="661"/>
                  </a:lnTo>
                  <a:lnTo>
                    <a:pt x="6799" y="577"/>
                  </a:lnTo>
                  <a:lnTo>
                    <a:pt x="6784" y="491"/>
                  </a:lnTo>
                  <a:lnTo>
                    <a:pt x="6756" y="408"/>
                  </a:lnTo>
                  <a:lnTo>
                    <a:pt x="6716" y="325"/>
                  </a:lnTo>
                  <a:lnTo>
                    <a:pt x="6665" y="249"/>
                  </a:lnTo>
                  <a:lnTo>
                    <a:pt x="6605" y="182"/>
                  </a:lnTo>
                  <a:lnTo>
                    <a:pt x="6540" y="127"/>
                  </a:lnTo>
                  <a:lnTo>
                    <a:pt x="6469" y="81"/>
                  </a:lnTo>
                  <a:lnTo>
                    <a:pt x="6394" y="46"/>
                  </a:lnTo>
                  <a:lnTo>
                    <a:pt x="6315" y="20"/>
                  </a:lnTo>
                  <a:lnTo>
                    <a:pt x="6235" y="5"/>
                  </a:lnTo>
                  <a:lnTo>
                    <a:pt x="6153" y="0"/>
                  </a:lnTo>
                  <a:lnTo>
                    <a:pt x="6069" y="5"/>
                  </a:lnTo>
                  <a:lnTo>
                    <a:pt x="5988" y="20"/>
                  </a:lnTo>
                  <a:lnTo>
                    <a:pt x="5910" y="46"/>
                  </a:lnTo>
                  <a:lnTo>
                    <a:pt x="5835" y="81"/>
                  </a:lnTo>
                  <a:lnTo>
                    <a:pt x="5764" y="127"/>
                  </a:lnTo>
                  <a:lnTo>
                    <a:pt x="5698" y="182"/>
                  </a:lnTo>
                  <a:lnTo>
                    <a:pt x="5639" y="249"/>
                  </a:lnTo>
                  <a:lnTo>
                    <a:pt x="5613" y="286"/>
                  </a:lnTo>
                  <a:lnTo>
                    <a:pt x="5588" y="325"/>
                  </a:lnTo>
                  <a:lnTo>
                    <a:pt x="5567" y="366"/>
                  </a:lnTo>
                  <a:lnTo>
                    <a:pt x="5547" y="408"/>
                  </a:lnTo>
                  <a:lnTo>
                    <a:pt x="5519" y="491"/>
                  </a:lnTo>
                  <a:lnTo>
                    <a:pt x="5504" y="577"/>
                  </a:lnTo>
                  <a:lnTo>
                    <a:pt x="5499" y="661"/>
                  </a:lnTo>
                  <a:lnTo>
                    <a:pt x="5506" y="744"/>
                  </a:lnTo>
                  <a:lnTo>
                    <a:pt x="5524" y="825"/>
                  </a:lnTo>
                  <a:lnTo>
                    <a:pt x="5551" y="903"/>
                  </a:lnTo>
                  <a:lnTo>
                    <a:pt x="5588" y="977"/>
                  </a:lnTo>
                  <a:lnTo>
                    <a:pt x="5633" y="1044"/>
                  </a:lnTo>
                  <a:lnTo>
                    <a:pt x="5687" y="1107"/>
                  </a:lnTo>
                  <a:lnTo>
                    <a:pt x="5748" y="1163"/>
                  </a:lnTo>
                  <a:lnTo>
                    <a:pt x="5817" y="1211"/>
                  </a:lnTo>
                  <a:lnTo>
                    <a:pt x="5892" y="1249"/>
                  </a:lnTo>
                  <a:lnTo>
                    <a:pt x="5973" y="1278"/>
                  </a:lnTo>
                  <a:lnTo>
                    <a:pt x="6060" y="1296"/>
                  </a:lnTo>
                  <a:lnTo>
                    <a:pt x="6151" y="1302"/>
                  </a:lnTo>
                  <a:lnTo>
                    <a:pt x="6151" y="983"/>
                  </a:lnTo>
                  <a:lnTo>
                    <a:pt x="6198" y="979"/>
                  </a:lnTo>
                  <a:lnTo>
                    <a:pt x="6243" y="971"/>
                  </a:lnTo>
                  <a:lnTo>
                    <a:pt x="6283" y="955"/>
                  </a:lnTo>
                  <a:lnTo>
                    <a:pt x="6322" y="936"/>
                  </a:lnTo>
                  <a:lnTo>
                    <a:pt x="6357" y="911"/>
                  </a:lnTo>
                  <a:lnTo>
                    <a:pt x="6389" y="883"/>
                  </a:lnTo>
                  <a:lnTo>
                    <a:pt x="6416" y="852"/>
                  </a:lnTo>
                  <a:lnTo>
                    <a:pt x="6439" y="816"/>
                  </a:lnTo>
                  <a:lnTo>
                    <a:pt x="6458" y="778"/>
                  </a:lnTo>
                  <a:lnTo>
                    <a:pt x="6472" y="739"/>
                  </a:lnTo>
                  <a:lnTo>
                    <a:pt x="6481" y="698"/>
                  </a:lnTo>
                  <a:lnTo>
                    <a:pt x="6484" y="656"/>
                  </a:lnTo>
                  <a:lnTo>
                    <a:pt x="6483" y="612"/>
                  </a:lnTo>
                  <a:lnTo>
                    <a:pt x="6475" y="569"/>
                  </a:lnTo>
                  <a:lnTo>
                    <a:pt x="6460" y="527"/>
                  </a:lnTo>
                  <a:lnTo>
                    <a:pt x="6440" y="484"/>
                  </a:lnTo>
                  <a:lnTo>
                    <a:pt x="6414" y="445"/>
                  </a:lnTo>
                  <a:lnTo>
                    <a:pt x="6384" y="412"/>
                  </a:lnTo>
                  <a:lnTo>
                    <a:pt x="6350" y="383"/>
                  </a:lnTo>
                  <a:lnTo>
                    <a:pt x="6314" y="359"/>
                  </a:lnTo>
                  <a:lnTo>
                    <a:pt x="6275" y="342"/>
                  </a:lnTo>
                  <a:lnTo>
                    <a:pt x="6235" y="328"/>
                  </a:lnTo>
                  <a:lnTo>
                    <a:pt x="6193" y="321"/>
                  </a:lnTo>
                  <a:lnTo>
                    <a:pt x="6151" y="319"/>
                  </a:lnTo>
                  <a:lnTo>
                    <a:pt x="6110" y="321"/>
                  </a:lnTo>
                  <a:lnTo>
                    <a:pt x="6068" y="328"/>
                  </a:lnTo>
                  <a:lnTo>
                    <a:pt x="6028" y="342"/>
                  </a:lnTo>
                  <a:lnTo>
                    <a:pt x="5990" y="359"/>
                  </a:lnTo>
                  <a:lnTo>
                    <a:pt x="5953" y="383"/>
                  </a:lnTo>
                  <a:lnTo>
                    <a:pt x="5920" y="412"/>
                  </a:lnTo>
                  <a:lnTo>
                    <a:pt x="5890" y="445"/>
                  </a:lnTo>
                  <a:lnTo>
                    <a:pt x="5864" y="484"/>
                  </a:lnTo>
                  <a:lnTo>
                    <a:pt x="5842" y="527"/>
                  </a:lnTo>
                  <a:lnTo>
                    <a:pt x="5828" y="569"/>
                  </a:lnTo>
                  <a:lnTo>
                    <a:pt x="5821" y="612"/>
                  </a:lnTo>
                  <a:lnTo>
                    <a:pt x="5819" y="656"/>
                  </a:lnTo>
                  <a:lnTo>
                    <a:pt x="5822" y="698"/>
                  </a:lnTo>
                  <a:lnTo>
                    <a:pt x="5830" y="739"/>
                  </a:lnTo>
                  <a:lnTo>
                    <a:pt x="5845" y="778"/>
                  </a:lnTo>
                  <a:lnTo>
                    <a:pt x="5864" y="816"/>
                  </a:lnTo>
                  <a:lnTo>
                    <a:pt x="5886" y="852"/>
                  </a:lnTo>
                  <a:lnTo>
                    <a:pt x="5915" y="883"/>
                  </a:lnTo>
                  <a:lnTo>
                    <a:pt x="5946" y="911"/>
                  </a:lnTo>
                  <a:lnTo>
                    <a:pt x="5981" y="936"/>
                  </a:lnTo>
                  <a:lnTo>
                    <a:pt x="6019" y="955"/>
                  </a:lnTo>
                  <a:lnTo>
                    <a:pt x="6061" y="971"/>
                  </a:lnTo>
                  <a:lnTo>
                    <a:pt x="6105" y="979"/>
                  </a:lnTo>
                  <a:lnTo>
                    <a:pt x="6151" y="983"/>
                  </a:lnTo>
                  <a:lnTo>
                    <a:pt x="6151" y="1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807160" y="3890880"/>
              <a:ext cx="414360" cy="412200"/>
            </a:xfrm>
            <a:custGeom>
              <a:avLst/>
              <a:gdLst/>
              <a:ahLst/>
              <a:rect l="l" t="t" r="r" b="b"/>
              <a:pathLst>
                <a:path w="1305" h="1302">
                  <a:moveTo>
                    <a:pt x="653" y="1302"/>
                  </a:moveTo>
                  <a:lnTo>
                    <a:pt x="744" y="1296"/>
                  </a:lnTo>
                  <a:lnTo>
                    <a:pt x="831" y="1278"/>
                  </a:lnTo>
                  <a:lnTo>
                    <a:pt x="913" y="1249"/>
                  </a:lnTo>
                  <a:lnTo>
                    <a:pt x="988" y="1211"/>
                  </a:lnTo>
                  <a:lnTo>
                    <a:pt x="1056" y="1163"/>
                  </a:lnTo>
                  <a:lnTo>
                    <a:pt x="1117" y="1107"/>
                  </a:lnTo>
                  <a:lnTo>
                    <a:pt x="1171" y="1044"/>
                  </a:lnTo>
                  <a:lnTo>
                    <a:pt x="1217" y="977"/>
                  </a:lnTo>
                  <a:lnTo>
                    <a:pt x="1253" y="903"/>
                  </a:lnTo>
                  <a:lnTo>
                    <a:pt x="1280" y="825"/>
                  </a:lnTo>
                  <a:lnTo>
                    <a:pt x="1298" y="744"/>
                  </a:lnTo>
                  <a:lnTo>
                    <a:pt x="1305" y="661"/>
                  </a:lnTo>
                  <a:lnTo>
                    <a:pt x="1300" y="577"/>
                  </a:lnTo>
                  <a:lnTo>
                    <a:pt x="1285" y="491"/>
                  </a:lnTo>
                  <a:lnTo>
                    <a:pt x="1258" y="408"/>
                  </a:lnTo>
                  <a:lnTo>
                    <a:pt x="1217" y="325"/>
                  </a:lnTo>
                  <a:lnTo>
                    <a:pt x="1166" y="249"/>
                  </a:lnTo>
                  <a:lnTo>
                    <a:pt x="1107" y="182"/>
                  </a:lnTo>
                  <a:lnTo>
                    <a:pt x="1041" y="127"/>
                  </a:lnTo>
                  <a:lnTo>
                    <a:pt x="970" y="81"/>
                  </a:lnTo>
                  <a:lnTo>
                    <a:pt x="894" y="46"/>
                  </a:lnTo>
                  <a:lnTo>
                    <a:pt x="816" y="20"/>
                  </a:lnTo>
                  <a:lnTo>
                    <a:pt x="735" y="5"/>
                  </a:lnTo>
                  <a:lnTo>
                    <a:pt x="653" y="0"/>
                  </a:lnTo>
                  <a:lnTo>
                    <a:pt x="571" y="5"/>
                  </a:lnTo>
                  <a:lnTo>
                    <a:pt x="490" y="20"/>
                  </a:lnTo>
                  <a:lnTo>
                    <a:pt x="411" y="46"/>
                  </a:lnTo>
                  <a:lnTo>
                    <a:pt x="335" y="81"/>
                  </a:lnTo>
                  <a:lnTo>
                    <a:pt x="264" y="127"/>
                  </a:lnTo>
                  <a:lnTo>
                    <a:pt x="199" y="182"/>
                  </a:lnTo>
                  <a:lnTo>
                    <a:pt x="139" y="249"/>
                  </a:lnTo>
                  <a:lnTo>
                    <a:pt x="113" y="286"/>
                  </a:lnTo>
                  <a:lnTo>
                    <a:pt x="88" y="325"/>
                  </a:lnTo>
                  <a:lnTo>
                    <a:pt x="67" y="366"/>
                  </a:lnTo>
                  <a:lnTo>
                    <a:pt x="48" y="408"/>
                  </a:lnTo>
                  <a:lnTo>
                    <a:pt x="20" y="491"/>
                  </a:lnTo>
                  <a:lnTo>
                    <a:pt x="4" y="577"/>
                  </a:lnTo>
                  <a:lnTo>
                    <a:pt x="0" y="661"/>
                  </a:lnTo>
                  <a:lnTo>
                    <a:pt x="7" y="744"/>
                  </a:lnTo>
                  <a:lnTo>
                    <a:pt x="25" y="825"/>
                  </a:lnTo>
                  <a:lnTo>
                    <a:pt x="52" y="903"/>
                  </a:lnTo>
                  <a:lnTo>
                    <a:pt x="89" y="977"/>
                  </a:lnTo>
                  <a:lnTo>
                    <a:pt x="134" y="1044"/>
                  </a:lnTo>
                  <a:lnTo>
                    <a:pt x="188" y="1107"/>
                  </a:lnTo>
                  <a:lnTo>
                    <a:pt x="250" y="1163"/>
                  </a:lnTo>
                  <a:lnTo>
                    <a:pt x="319" y="1211"/>
                  </a:lnTo>
                  <a:lnTo>
                    <a:pt x="394" y="1249"/>
                  </a:lnTo>
                  <a:lnTo>
                    <a:pt x="474" y="1278"/>
                  </a:lnTo>
                  <a:lnTo>
                    <a:pt x="561" y="1296"/>
                  </a:lnTo>
                  <a:lnTo>
                    <a:pt x="653" y="130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908680" y="3992400"/>
              <a:ext cx="211320" cy="210600"/>
            </a:xfrm>
            <a:custGeom>
              <a:avLst/>
              <a:gdLst/>
              <a:ahLst/>
              <a:rect l="l" t="t" r="r" b="b"/>
              <a:pathLst>
                <a:path w="665" h="664">
                  <a:moveTo>
                    <a:pt x="333" y="664"/>
                  </a:moveTo>
                  <a:lnTo>
                    <a:pt x="379" y="660"/>
                  </a:lnTo>
                  <a:lnTo>
                    <a:pt x="424" y="652"/>
                  </a:lnTo>
                  <a:lnTo>
                    <a:pt x="465" y="636"/>
                  </a:lnTo>
                  <a:lnTo>
                    <a:pt x="504" y="617"/>
                  </a:lnTo>
                  <a:lnTo>
                    <a:pt x="538" y="592"/>
                  </a:lnTo>
                  <a:lnTo>
                    <a:pt x="570" y="564"/>
                  </a:lnTo>
                  <a:lnTo>
                    <a:pt x="598" y="533"/>
                  </a:lnTo>
                  <a:lnTo>
                    <a:pt x="620" y="497"/>
                  </a:lnTo>
                  <a:lnTo>
                    <a:pt x="639" y="459"/>
                  </a:lnTo>
                  <a:lnTo>
                    <a:pt x="654" y="420"/>
                  </a:lnTo>
                  <a:lnTo>
                    <a:pt x="662" y="379"/>
                  </a:lnTo>
                  <a:lnTo>
                    <a:pt x="665" y="337"/>
                  </a:lnTo>
                  <a:lnTo>
                    <a:pt x="663" y="293"/>
                  </a:lnTo>
                  <a:lnTo>
                    <a:pt x="655" y="250"/>
                  </a:lnTo>
                  <a:lnTo>
                    <a:pt x="641" y="208"/>
                  </a:lnTo>
                  <a:lnTo>
                    <a:pt x="620" y="165"/>
                  </a:lnTo>
                  <a:lnTo>
                    <a:pt x="594" y="126"/>
                  </a:lnTo>
                  <a:lnTo>
                    <a:pt x="564" y="93"/>
                  </a:lnTo>
                  <a:lnTo>
                    <a:pt x="531" y="64"/>
                  </a:lnTo>
                  <a:lnTo>
                    <a:pt x="494" y="40"/>
                  </a:lnTo>
                  <a:lnTo>
                    <a:pt x="456" y="23"/>
                  </a:lnTo>
                  <a:lnTo>
                    <a:pt x="416" y="9"/>
                  </a:lnTo>
                  <a:lnTo>
                    <a:pt x="374" y="2"/>
                  </a:lnTo>
                  <a:lnTo>
                    <a:pt x="333" y="0"/>
                  </a:lnTo>
                  <a:lnTo>
                    <a:pt x="291" y="2"/>
                  </a:lnTo>
                  <a:lnTo>
                    <a:pt x="249" y="9"/>
                  </a:lnTo>
                  <a:lnTo>
                    <a:pt x="209" y="23"/>
                  </a:lnTo>
                  <a:lnTo>
                    <a:pt x="171" y="40"/>
                  </a:lnTo>
                  <a:lnTo>
                    <a:pt x="134" y="64"/>
                  </a:lnTo>
                  <a:lnTo>
                    <a:pt x="101" y="93"/>
                  </a:lnTo>
                  <a:lnTo>
                    <a:pt x="71" y="126"/>
                  </a:lnTo>
                  <a:lnTo>
                    <a:pt x="45" y="165"/>
                  </a:lnTo>
                  <a:lnTo>
                    <a:pt x="24" y="208"/>
                  </a:lnTo>
                  <a:lnTo>
                    <a:pt x="9" y="250"/>
                  </a:lnTo>
                  <a:lnTo>
                    <a:pt x="1" y="293"/>
                  </a:lnTo>
                  <a:lnTo>
                    <a:pt x="0" y="337"/>
                  </a:lnTo>
                  <a:lnTo>
                    <a:pt x="3" y="379"/>
                  </a:lnTo>
                  <a:lnTo>
                    <a:pt x="12" y="420"/>
                  </a:lnTo>
                  <a:lnTo>
                    <a:pt x="26" y="459"/>
                  </a:lnTo>
                  <a:lnTo>
                    <a:pt x="45" y="497"/>
                  </a:lnTo>
                  <a:lnTo>
                    <a:pt x="68" y="533"/>
                  </a:lnTo>
                  <a:lnTo>
                    <a:pt x="95" y="564"/>
                  </a:lnTo>
                  <a:lnTo>
                    <a:pt x="127" y="592"/>
                  </a:lnTo>
                  <a:lnTo>
                    <a:pt x="162" y="617"/>
                  </a:lnTo>
                  <a:lnTo>
                    <a:pt x="200" y="636"/>
                  </a:lnTo>
                  <a:lnTo>
                    <a:pt x="241" y="652"/>
                  </a:lnTo>
                  <a:lnTo>
                    <a:pt x="286" y="660"/>
                  </a:lnTo>
                  <a:lnTo>
                    <a:pt x="333" y="66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553520" y="3890880"/>
              <a:ext cx="414360" cy="412200"/>
            </a:xfrm>
            <a:custGeom>
              <a:avLst/>
              <a:gdLst/>
              <a:ahLst/>
              <a:rect l="l" t="t" r="r" b="b"/>
              <a:pathLst>
                <a:path w="1305" h="1302">
                  <a:moveTo>
                    <a:pt x="652" y="1302"/>
                  </a:moveTo>
                  <a:lnTo>
                    <a:pt x="744" y="1296"/>
                  </a:lnTo>
                  <a:lnTo>
                    <a:pt x="831" y="1278"/>
                  </a:lnTo>
                  <a:lnTo>
                    <a:pt x="913" y="1249"/>
                  </a:lnTo>
                  <a:lnTo>
                    <a:pt x="988" y="1211"/>
                  </a:lnTo>
                  <a:lnTo>
                    <a:pt x="1055" y="1163"/>
                  </a:lnTo>
                  <a:lnTo>
                    <a:pt x="1117" y="1107"/>
                  </a:lnTo>
                  <a:lnTo>
                    <a:pt x="1171" y="1044"/>
                  </a:lnTo>
                  <a:lnTo>
                    <a:pt x="1217" y="977"/>
                  </a:lnTo>
                  <a:lnTo>
                    <a:pt x="1253" y="903"/>
                  </a:lnTo>
                  <a:lnTo>
                    <a:pt x="1280" y="825"/>
                  </a:lnTo>
                  <a:lnTo>
                    <a:pt x="1298" y="744"/>
                  </a:lnTo>
                  <a:lnTo>
                    <a:pt x="1305" y="661"/>
                  </a:lnTo>
                  <a:lnTo>
                    <a:pt x="1300" y="577"/>
                  </a:lnTo>
                  <a:lnTo>
                    <a:pt x="1285" y="491"/>
                  </a:lnTo>
                  <a:lnTo>
                    <a:pt x="1257" y="408"/>
                  </a:lnTo>
                  <a:lnTo>
                    <a:pt x="1217" y="325"/>
                  </a:lnTo>
                  <a:lnTo>
                    <a:pt x="1166" y="249"/>
                  </a:lnTo>
                  <a:lnTo>
                    <a:pt x="1106" y="182"/>
                  </a:lnTo>
                  <a:lnTo>
                    <a:pt x="1041" y="127"/>
                  </a:lnTo>
                  <a:lnTo>
                    <a:pt x="970" y="81"/>
                  </a:lnTo>
                  <a:lnTo>
                    <a:pt x="895" y="46"/>
                  </a:lnTo>
                  <a:lnTo>
                    <a:pt x="816" y="20"/>
                  </a:lnTo>
                  <a:lnTo>
                    <a:pt x="736" y="5"/>
                  </a:lnTo>
                  <a:lnTo>
                    <a:pt x="654" y="0"/>
                  </a:lnTo>
                  <a:lnTo>
                    <a:pt x="570" y="5"/>
                  </a:lnTo>
                  <a:lnTo>
                    <a:pt x="489" y="20"/>
                  </a:lnTo>
                  <a:lnTo>
                    <a:pt x="411" y="46"/>
                  </a:lnTo>
                  <a:lnTo>
                    <a:pt x="336" y="81"/>
                  </a:lnTo>
                  <a:lnTo>
                    <a:pt x="265" y="127"/>
                  </a:lnTo>
                  <a:lnTo>
                    <a:pt x="199" y="182"/>
                  </a:lnTo>
                  <a:lnTo>
                    <a:pt x="140" y="249"/>
                  </a:lnTo>
                  <a:lnTo>
                    <a:pt x="114" y="286"/>
                  </a:lnTo>
                  <a:lnTo>
                    <a:pt x="89" y="325"/>
                  </a:lnTo>
                  <a:lnTo>
                    <a:pt x="68" y="366"/>
                  </a:lnTo>
                  <a:lnTo>
                    <a:pt x="48" y="408"/>
                  </a:lnTo>
                  <a:lnTo>
                    <a:pt x="20" y="491"/>
                  </a:lnTo>
                  <a:lnTo>
                    <a:pt x="5" y="577"/>
                  </a:lnTo>
                  <a:lnTo>
                    <a:pt x="0" y="661"/>
                  </a:lnTo>
                  <a:lnTo>
                    <a:pt x="7" y="744"/>
                  </a:lnTo>
                  <a:lnTo>
                    <a:pt x="25" y="825"/>
                  </a:lnTo>
                  <a:lnTo>
                    <a:pt x="52" y="903"/>
                  </a:lnTo>
                  <a:lnTo>
                    <a:pt x="89" y="977"/>
                  </a:lnTo>
                  <a:lnTo>
                    <a:pt x="134" y="1044"/>
                  </a:lnTo>
                  <a:lnTo>
                    <a:pt x="188" y="1107"/>
                  </a:lnTo>
                  <a:lnTo>
                    <a:pt x="249" y="1163"/>
                  </a:lnTo>
                  <a:lnTo>
                    <a:pt x="318" y="1211"/>
                  </a:lnTo>
                  <a:lnTo>
                    <a:pt x="393" y="1249"/>
                  </a:lnTo>
                  <a:lnTo>
                    <a:pt x="474" y="1278"/>
                  </a:lnTo>
                  <a:lnTo>
                    <a:pt x="561" y="1296"/>
                  </a:lnTo>
                  <a:lnTo>
                    <a:pt x="652" y="130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655040" y="3992400"/>
              <a:ext cx="211320" cy="210600"/>
            </a:xfrm>
            <a:custGeom>
              <a:avLst/>
              <a:gdLst/>
              <a:ahLst/>
              <a:rect l="l" t="t" r="r" b="b"/>
              <a:pathLst>
                <a:path w="665" h="664">
                  <a:moveTo>
                    <a:pt x="332" y="664"/>
                  </a:moveTo>
                  <a:lnTo>
                    <a:pt x="379" y="660"/>
                  </a:lnTo>
                  <a:lnTo>
                    <a:pt x="424" y="652"/>
                  </a:lnTo>
                  <a:lnTo>
                    <a:pt x="464" y="636"/>
                  </a:lnTo>
                  <a:lnTo>
                    <a:pt x="503" y="617"/>
                  </a:lnTo>
                  <a:lnTo>
                    <a:pt x="538" y="592"/>
                  </a:lnTo>
                  <a:lnTo>
                    <a:pt x="570" y="564"/>
                  </a:lnTo>
                  <a:lnTo>
                    <a:pt x="597" y="533"/>
                  </a:lnTo>
                  <a:lnTo>
                    <a:pt x="620" y="497"/>
                  </a:lnTo>
                  <a:lnTo>
                    <a:pt x="639" y="459"/>
                  </a:lnTo>
                  <a:lnTo>
                    <a:pt x="653" y="420"/>
                  </a:lnTo>
                  <a:lnTo>
                    <a:pt x="662" y="379"/>
                  </a:lnTo>
                  <a:lnTo>
                    <a:pt x="665" y="337"/>
                  </a:lnTo>
                  <a:lnTo>
                    <a:pt x="664" y="293"/>
                  </a:lnTo>
                  <a:lnTo>
                    <a:pt x="656" y="250"/>
                  </a:lnTo>
                  <a:lnTo>
                    <a:pt x="641" y="208"/>
                  </a:lnTo>
                  <a:lnTo>
                    <a:pt x="621" y="165"/>
                  </a:lnTo>
                  <a:lnTo>
                    <a:pt x="595" y="126"/>
                  </a:lnTo>
                  <a:lnTo>
                    <a:pt x="565" y="93"/>
                  </a:lnTo>
                  <a:lnTo>
                    <a:pt x="531" y="64"/>
                  </a:lnTo>
                  <a:lnTo>
                    <a:pt x="495" y="40"/>
                  </a:lnTo>
                  <a:lnTo>
                    <a:pt x="456" y="23"/>
                  </a:lnTo>
                  <a:lnTo>
                    <a:pt x="416" y="9"/>
                  </a:lnTo>
                  <a:lnTo>
                    <a:pt x="374" y="2"/>
                  </a:lnTo>
                  <a:lnTo>
                    <a:pt x="332" y="0"/>
                  </a:lnTo>
                  <a:lnTo>
                    <a:pt x="291" y="2"/>
                  </a:lnTo>
                  <a:lnTo>
                    <a:pt x="249" y="9"/>
                  </a:lnTo>
                  <a:lnTo>
                    <a:pt x="209" y="23"/>
                  </a:lnTo>
                  <a:lnTo>
                    <a:pt x="171" y="40"/>
                  </a:lnTo>
                  <a:lnTo>
                    <a:pt x="134" y="64"/>
                  </a:lnTo>
                  <a:lnTo>
                    <a:pt x="101" y="93"/>
                  </a:lnTo>
                  <a:lnTo>
                    <a:pt x="71" y="126"/>
                  </a:lnTo>
                  <a:lnTo>
                    <a:pt x="45" y="165"/>
                  </a:lnTo>
                  <a:lnTo>
                    <a:pt x="23" y="208"/>
                  </a:lnTo>
                  <a:lnTo>
                    <a:pt x="9" y="250"/>
                  </a:lnTo>
                  <a:lnTo>
                    <a:pt x="2" y="293"/>
                  </a:lnTo>
                  <a:lnTo>
                    <a:pt x="0" y="337"/>
                  </a:lnTo>
                  <a:lnTo>
                    <a:pt x="3" y="379"/>
                  </a:lnTo>
                  <a:lnTo>
                    <a:pt x="11" y="420"/>
                  </a:lnTo>
                  <a:lnTo>
                    <a:pt x="26" y="459"/>
                  </a:lnTo>
                  <a:lnTo>
                    <a:pt x="45" y="497"/>
                  </a:lnTo>
                  <a:lnTo>
                    <a:pt x="67" y="533"/>
                  </a:lnTo>
                  <a:lnTo>
                    <a:pt x="96" y="564"/>
                  </a:lnTo>
                  <a:lnTo>
                    <a:pt x="127" y="592"/>
                  </a:lnTo>
                  <a:lnTo>
                    <a:pt x="162" y="617"/>
                  </a:lnTo>
                  <a:lnTo>
                    <a:pt x="200" y="636"/>
                  </a:lnTo>
                  <a:lnTo>
                    <a:pt x="242" y="652"/>
                  </a:lnTo>
                  <a:lnTo>
                    <a:pt x="286" y="660"/>
                  </a:lnTo>
                  <a:lnTo>
                    <a:pt x="332" y="66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2" name=""/>
          <p:cNvSpPr/>
          <p:nvPr/>
        </p:nvSpPr>
        <p:spPr>
          <a:xfrm>
            <a:off x="2059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914400" y="3309840"/>
            <a:ext cx="3191040" cy="998640"/>
            <a:chOff x="914400" y="3309840"/>
            <a:chExt cx="3191040" cy="998640"/>
          </a:xfrm>
        </p:grpSpPr>
        <p:sp>
          <p:nvSpPr>
            <p:cNvPr id="2125" name=""/>
            <p:cNvSpPr/>
            <p:nvPr/>
          </p:nvSpPr>
          <p:spPr>
            <a:xfrm>
              <a:off x="914400" y="3309840"/>
              <a:ext cx="3191040" cy="998640"/>
            </a:xfrm>
            <a:custGeom>
              <a:avLst/>
              <a:gdLst/>
              <a:ahLst/>
              <a:rect l="l" t="t" r="r" b="b"/>
              <a:pathLst>
                <a:path w="8039" h="2517">
                  <a:moveTo>
                    <a:pt x="2555" y="2116"/>
                  </a:moveTo>
                  <a:lnTo>
                    <a:pt x="2519" y="2113"/>
                  </a:lnTo>
                  <a:lnTo>
                    <a:pt x="2492" y="2104"/>
                  </a:lnTo>
                  <a:lnTo>
                    <a:pt x="2475" y="2088"/>
                  </a:lnTo>
                  <a:lnTo>
                    <a:pt x="2464" y="2066"/>
                  </a:lnTo>
                  <a:lnTo>
                    <a:pt x="2458" y="2039"/>
                  </a:lnTo>
                  <a:lnTo>
                    <a:pt x="2456" y="2006"/>
                  </a:lnTo>
                  <a:lnTo>
                    <a:pt x="2453" y="1924"/>
                  </a:lnTo>
                  <a:lnTo>
                    <a:pt x="2355" y="1924"/>
                  </a:lnTo>
                  <a:lnTo>
                    <a:pt x="2355" y="1984"/>
                  </a:lnTo>
                  <a:lnTo>
                    <a:pt x="2349" y="2042"/>
                  </a:lnTo>
                  <a:lnTo>
                    <a:pt x="2336" y="2099"/>
                  </a:lnTo>
                  <a:lnTo>
                    <a:pt x="2319" y="2153"/>
                  </a:lnTo>
                  <a:lnTo>
                    <a:pt x="2296" y="2204"/>
                  </a:lnTo>
                  <a:lnTo>
                    <a:pt x="2268" y="2254"/>
                  </a:lnTo>
                  <a:lnTo>
                    <a:pt x="2236" y="2299"/>
                  </a:lnTo>
                  <a:lnTo>
                    <a:pt x="2200" y="2342"/>
                  </a:lnTo>
                  <a:lnTo>
                    <a:pt x="2158" y="2380"/>
                  </a:lnTo>
                  <a:lnTo>
                    <a:pt x="2115" y="2415"/>
                  </a:lnTo>
                  <a:lnTo>
                    <a:pt x="2068" y="2445"/>
                  </a:lnTo>
                  <a:lnTo>
                    <a:pt x="2017" y="2470"/>
                  </a:lnTo>
                  <a:lnTo>
                    <a:pt x="1964" y="2490"/>
                  </a:lnTo>
                  <a:lnTo>
                    <a:pt x="1908" y="2505"/>
                  </a:lnTo>
                  <a:lnTo>
                    <a:pt x="1851" y="2514"/>
                  </a:lnTo>
                  <a:lnTo>
                    <a:pt x="1791" y="2517"/>
                  </a:lnTo>
                  <a:lnTo>
                    <a:pt x="1731" y="2514"/>
                  </a:lnTo>
                  <a:lnTo>
                    <a:pt x="1673" y="2505"/>
                  </a:lnTo>
                  <a:lnTo>
                    <a:pt x="1617" y="2490"/>
                  </a:lnTo>
                  <a:lnTo>
                    <a:pt x="1563" y="2470"/>
                  </a:lnTo>
                  <a:lnTo>
                    <a:pt x="1513" y="2445"/>
                  </a:lnTo>
                  <a:lnTo>
                    <a:pt x="1465" y="2415"/>
                  </a:lnTo>
                  <a:lnTo>
                    <a:pt x="1422" y="2380"/>
                  </a:lnTo>
                  <a:lnTo>
                    <a:pt x="1381" y="2342"/>
                  </a:lnTo>
                  <a:lnTo>
                    <a:pt x="1344" y="2299"/>
                  </a:lnTo>
                  <a:lnTo>
                    <a:pt x="1312" y="2254"/>
                  </a:lnTo>
                  <a:lnTo>
                    <a:pt x="1284" y="2204"/>
                  </a:lnTo>
                  <a:lnTo>
                    <a:pt x="1262" y="2153"/>
                  </a:lnTo>
                  <a:lnTo>
                    <a:pt x="1244" y="2099"/>
                  </a:lnTo>
                  <a:lnTo>
                    <a:pt x="1232" y="2042"/>
                  </a:lnTo>
                  <a:lnTo>
                    <a:pt x="1225" y="1984"/>
                  </a:lnTo>
                  <a:lnTo>
                    <a:pt x="1225" y="1924"/>
                  </a:lnTo>
                  <a:lnTo>
                    <a:pt x="1131" y="1924"/>
                  </a:lnTo>
                  <a:lnTo>
                    <a:pt x="1129" y="1991"/>
                  </a:lnTo>
                  <a:lnTo>
                    <a:pt x="1126" y="2019"/>
                  </a:lnTo>
                  <a:lnTo>
                    <a:pt x="1121" y="2042"/>
                  </a:lnTo>
                  <a:lnTo>
                    <a:pt x="1111" y="2060"/>
                  </a:lnTo>
                  <a:lnTo>
                    <a:pt x="1095" y="2073"/>
                  </a:lnTo>
                  <a:lnTo>
                    <a:pt x="1073" y="2080"/>
                  </a:lnTo>
                  <a:lnTo>
                    <a:pt x="1043" y="2081"/>
                  </a:lnTo>
                  <a:lnTo>
                    <a:pt x="68" y="2026"/>
                  </a:lnTo>
                  <a:lnTo>
                    <a:pt x="53" y="2021"/>
                  </a:lnTo>
                  <a:lnTo>
                    <a:pt x="38" y="2010"/>
                  </a:lnTo>
                  <a:lnTo>
                    <a:pt x="27" y="1995"/>
                  </a:lnTo>
                  <a:lnTo>
                    <a:pt x="16" y="1974"/>
                  </a:lnTo>
                  <a:lnTo>
                    <a:pt x="4" y="1923"/>
                  </a:lnTo>
                  <a:lnTo>
                    <a:pt x="0" y="1864"/>
                  </a:lnTo>
                  <a:lnTo>
                    <a:pt x="4" y="1806"/>
                  </a:lnTo>
                  <a:lnTo>
                    <a:pt x="16" y="1754"/>
                  </a:lnTo>
                  <a:lnTo>
                    <a:pt x="26" y="1733"/>
                  </a:lnTo>
                  <a:lnTo>
                    <a:pt x="38" y="1717"/>
                  </a:lnTo>
                  <a:lnTo>
                    <a:pt x="51" y="1705"/>
                  </a:lnTo>
                  <a:lnTo>
                    <a:pt x="68" y="1700"/>
                  </a:lnTo>
                  <a:lnTo>
                    <a:pt x="285" y="1678"/>
                  </a:lnTo>
                  <a:lnTo>
                    <a:pt x="264" y="1665"/>
                  </a:lnTo>
                  <a:lnTo>
                    <a:pt x="246" y="1648"/>
                  </a:lnTo>
                  <a:lnTo>
                    <a:pt x="230" y="1630"/>
                  </a:lnTo>
                  <a:lnTo>
                    <a:pt x="218" y="1609"/>
                  </a:lnTo>
                  <a:lnTo>
                    <a:pt x="206" y="1588"/>
                  </a:lnTo>
                  <a:lnTo>
                    <a:pt x="198" y="1564"/>
                  </a:lnTo>
                  <a:lnTo>
                    <a:pt x="190" y="1517"/>
                  </a:lnTo>
                  <a:lnTo>
                    <a:pt x="161" y="1121"/>
                  </a:lnTo>
                  <a:lnTo>
                    <a:pt x="161" y="1067"/>
                  </a:lnTo>
                  <a:lnTo>
                    <a:pt x="171" y="1004"/>
                  </a:lnTo>
                  <a:lnTo>
                    <a:pt x="183" y="967"/>
                  </a:lnTo>
                  <a:lnTo>
                    <a:pt x="199" y="925"/>
                  </a:lnTo>
                  <a:lnTo>
                    <a:pt x="249" y="827"/>
                  </a:lnTo>
                  <a:lnTo>
                    <a:pt x="324" y="702"/>
                  </a:lnTo>
                  <a:lnTo>
                    <a:pt x="433" y="545"/>
                  </a:lnTo>
                  <a:lnTo>
                    <a:pt x="578" y="351"/>
                  </a:lnTo>
                  <a:lnTo>
                    <a:pt x="767" y="113"/>
                  </a:lnTo>
                  <a:lnTo>
                    <a:pt x="787" y="90"/>
                  </a:lnTo>
                  <a:lnTo>
                    <a:pt x="811" y="69"/>
                  </a:lnTo>
                  <a:lnTo>
                    <a:pt x="864" y="33"/>
                  </a:lnTo>
                  <a:lnTo>
                    <a:pt x="893" y="18"/>
                  </a:lnTo>
                  <a:lnTo>
                    <a:pt x="923" y="8"/>
                  </a:lnTo>
                  <a:lnTo>
                    <a:pt x="955" y="2"/>
                  </a:lnTo>
                  <a:lnTo>
                    <a:pt x="987" y="0"/>
                  </a:lnTo>
                  <a:lnTo>
                    <a:pt x="4373" y="0"/>
                  </a:lnTo>
                  <a:lnTo>
                    <a:pt x="4462" y="2"/>
                  </a:lnTo>
                  <a:lnTo>
                    <a:pt x="4540" y="10"/>
                  </a:lnTo>
                  <a:lnTo>
                    <a:pt x="4602" y="26"/>
                  </a:lnTo>
                  <a:lnTo>
                    <a:pt x="4627" y="36"/>
                  </a:lnTo>
                  <a:lnTo>
                    <a:pt x="4645" y="48"/>
                  </a:lnTo>
                  <a:lnTo>
                    <a:pt x="4583" y="110"/>
                  </a:lnTo>
                  <a:lnTo>
                    <a:pt x="5240" y="685"/>
                  </a:lnTo>
                  <a:lnTo>
                    <a:pt x="5305" y="738"/>
                  </a:lnTo>
                  <a:lnTo>
                    <a:pt x="5360" y="774"/>
                  </a:lnTo>
                  <a:lnTo>
                    <a:pt x="5409" y="794"/>
                  </a:lnTo>
                  <a:lnTo>
                    <a:pt x="5460" y="803"/>
                  </a:lnTo>
                  <a:lnTo>
                    <a:pt x="7487" y="946"/>
                  </a:lnTo>
                  <a:lnTo>
                    <a:pt x="7557" y="953"/>
                  </a:lnTo>
                  <a:lnTo>
                    <a:pt x="7581" y="960"/>
                  </a:lnTo>
                  <a:lnTo>
                    <a:pt x="7602" y="971"/>
                  </a:lnTo>
                  <a:lnTo>
                    <a:pt x="7618" y="986"/>
                  </a:lnTo>
                  <a:lnTo>
                    <a:pt x="7632" y="1008"/>
                  </a:lnTo>
                  <a:lnTo>
                    <a:pt x="7643" y="1038"/>
                  </a:lnTo>
                  <a:lnTo>
                    <a:pt x="7655" y="1076"/>
                  </a:lnTo>
                  <a:lnTo>
                    <a:pt x="7791" y="1600"/>
                  </a:lnTo>
                  <a:lnTo>
                    <a:pt x="7794" y="1630"/>
                  </a:lnTo>
                  <a:lnTo>
                    <a:pt x="7787" y="1659"/>
                  </a:lnTo>
                  <a:lnTo>
                    <a:pt x="7772" y="1683"/>
                  </a:lnTo>
                  <a:lnTo>
                    <a:pt x="7749" y="1701"/>
                  </a:lnTo>
                  <a:lnTo>
                    <a:pt x="7979" y="1701"/>
                  </a:lnTo>
                  <a:lnTo>
                    <a:pt x="7994" y="1704"/>
                  </a:lnTo>
                  <a:lnTo>
                    <a:pt x="8006" y="1713"/>
                  </a:lnTo>
                  <a:lnTo>
                    <a:pt x="8016" y="1725"/>
                  </a:lnTo>
                  <a:lnTo>
                    <a:pt x="8025" y="1742"/>
                  </a:lnTo>
                  <a:lnTo>
                    <a:pt x="8036" y="1784"/>
                  </a:lnTo>
                  <a:lnTo>
                    <a:pt x="8039" y="1833"/>
                  </a:lnTo>
                  <a:lnTo>
                    <a:pt x="8035" y="1883"/>
                  </a:lnTo>
                  <a:lnTo>
                    <a:pt x="8024" y="1928"/>
                  </a:lnTo>
                  <a:lnTo>
                    <a:pt x="8015" y="1948"/>
                  </a:lnTo>
                  <a:lnTo>
                    <a:pt x="8005" y="1964"/>
                  </a:lnTo>
                  <a:lnTo>
                    <a:pt x="7993" y="1975"/>
                  </a:lnTo>
                  <a:lnTo>
                    <a:pt x="7979" y="1981"/>
                  </a:lnTo>
                  <a:lnTo>
                    <a:pt x="7690" y="2053"/>
                  </a:lnTo>
                  <a:lnTo>
                    <a:pt x="7384" y="2081"/>
                  </a:lnTo>
                  <a:lnTo>
                    <a:pt x="7352" y="2080"/>
                  </a:lnTo>
                  <a:lnTo>
                    <a:pt x="7329" y="2073"/>
                  </a:lnTo>
                  <a:lnTo>
                    <a:pt x="7314" y="2059"/>
                  </a:lnTo>
                  <a:lnTo>
                    <a:pt x="7305" y="2038"/>
                  </a:lnTo>
                  <a:lnTo>
                    <a:pt x="7298" y="1980"/>
                  </a:lnTo>
                  <a:lnTo>
                    <a:pt x="7295" y="1903"/>
                  </a:lnTo>
                  <a:lnTo>
                    <a:pt x="7200" y="1903"/>
                  </a:lnTo>
                  <a:lnTo>
                    <a:pt x="7202" y="1965"/>
                  </a:lnTo>
                  <a:lnTo>
                    <a:pt x="7198" y="2025"/>
                  </a:lnTo>
                  <a:lnTo>
                    <a:pt x="7188" y="2082"/>
                  </a:lnTo>
                  <a:lnTo>
                    <a:pt x="7171" y="2138"/>
                  </a:lnTo>
                  <a:lnTo>
                    <a:pt x="7148" y="2192"/>
                  </a:lnTo>
                  <a:lnTo>
                    <a:pt x="7122" y="2242"/>
                  </a:lnTo>
                  <a:lnTo>
                    <a:pt x="7090" y="2290"/>
                  </a:lnTo>
                  <a:lnTo>
                    <a:pt x="7053" y="2334"/>
                  </a:lnTo>
                  <a:lnTo>
                    <a:pt x="7013" y="2375"/>
                  </a:lnTo>
                  <a:lnTo>
                    <a:pt x="6968" y="2410"/>
                  </a:lnTo>
                  <a:lnTo>
                    <a:pt x="6920" y="2442"/>
                  </a:lnTo>
                  <a:lnTo>
                    <a:pt x="6868" y="2468"/>
                  </a:lnTo>
                  <a:lnTo>
                    <a:pt x="6815" y="2489"/>
                  </a:lnTo>
                  <a:lnTo>
                    <a:pt x="6757" y="2505"/>
                  </a:lnTo>
                  <a:lnTo>
                    <a:pt x="6698" y="2514"/>
                  </a:lnTo>
                  <a:lnTo>
                    <a:pt x="6637" y="2517"/>
                  </a:lnTo>
                  <a:lnTo>
                    <a:pt x="6576" y="2514"/>
                  </a:lnTo>
                  <a:lnTo>
                    <a:pt x="6517" y="2505"/>
                  </a:lnTo>
                  <a:lnTo>
                    <a:pt x="6460" y="2489"/>
                  </a:lnTo>
                  <a:lnTo>
                    <a:pt x="6405" y="2468"/>
                  </a:lnTo>
                  <a:lnTo>
                    <a:pt x="6355" y="2441"/>
                  </a:lnTo>
                  <a:lnTo>
                    <a:pt x="6306" y="2410"/>
                  </a:lnTo>
                  <a:lnTo>
                    <a:pt x="6262" y="2374"/>
                  </a:lnTo>
                  <a:lnTo>
                    <a:pt x="6222" y="2334"/>
                  </a:lnTo>
                  <a:lnTo>
                    <a:pt x="6185" y="2290"/>
                  </a:lnTo>
                  <a:lnTo>
                    <a:pt x="6153" y="2242"/>
                  </a:lnTo>
                  <a:lnTo>
                    <a:pt x="6126" y="2192"/>
                  </a:lnTo>
                  <a:lnTo>
                    <a:pt x="6105" y="2138"/>
                  </a:lnTo>
                  <a:lnTo>
                    <a:pt x="6088" y="2082"/>
                  </a:lnTo>
                  <a:lnTo>
                    <a:pt x="6077" y="2025"/>
                  </a:lnTo>
                  <a:lnTo>
                    <a:pt x="6073" y="1965"/>
                  </a:lnTo>
                  <a:lnTo>
                    <a:pt x="6075" y="1904"/>
                  </a:lnTo>
                  <a:lnTo>
                    <a:pt x="5977" y="1903"/>
                  </a:lnTo>
                  <a:lnTo>
                    <a:pt x="5972" y="1994"/>
                  </a:lnTo>
                  <a:lnTo>
                    <a:pt x="5970" y="2031"/>
                  </a:lnTo>
                  <a:lnTo>
                    <a:pt x="5965" y="2061"/>
                  </a:lnTo>
                  <a:lnTo>
                    <a:pt x="5955" y="2084"/>
                  </a:lnTo>
                  <a:lnTo>
                    <a:pt x="5937" y="2102"/>
                  </a:lnTo>
                  <a:lnTo>
                    <a:pt x="5910" y="2113"/>
                  </a:lnTo>
                  <a:lnTo>
                    <a:pt x="5872" y="2116"/>
                  </a:lnTo>
                  <a:lnTo>
                    <a:pt x="2555" y="2116"/>
                  </a:lnTo>
                  <a:lnTo>
                    <a:pt x="2910" y="924"/>
                  </a:lnTo>
                  <a:lnTo>
                    <a:pt x="585" y="924"/>
                  </a:lnTo>
                  <a:lnTo>
                    <a:pt x="983" y="242"/>
                  </a:lnTo>
                  <a:lnTo>
                    <a:pt x="1000" y="215"/>
                  </a:lnTo>
                  <a:lnTo>
                    <a:pt x="1021" y="190"/>
                  </a:lnTo>
                  <a:lnTo>
                    <a:pt x="1043" y="168"/>
                  </a:lnTo>
                  <a:lnTo>
                    <a:pt x="1069" y="149"/>
                  </a:lnTo>
                  <a:lnTo>
                    <a:pt x="1097" y="132"/>
                  </a:lnTo>
                  <a:lnTo>
                    <a:pt x="1127" y="121"/>
                  </a:lnTo>
                  <a:lnTo>
                    <a:pt x="1158" y="113"/>
                  </a:lnTo>
                  <a:lnTo>
                    <a:pt x="1191" y="110"/>
                  </a:lnTo>
                  <a:lnTo>
                    <a:pt x="2754" y="110"/>
                  </a:lnTo>
                  <a:lnTo>
                    <a:pt x="2910" y="924"/>
                  </a:lnTo>
                  <a:lnTo>
                    <a:pt x="2555" y="2116"/>
                  </a:lnTo>
                  <a:lnTo>
                    <a:pt x="3054" y="924"/>
                  </a:lnTo>
                  <a:lnTo>
                    <a:pt x="2897" y="110"/>
                  </a:lnTo>
                  <a:lnTo>
                    <a:pt x="4380" y="110"/>
                  </a:lnTo>
                  <a:lnTo>
                    <a:pt x="4793" y="924"/>
                  </a:lnTo>
                  <a:lnTo>
                    <a:pt x="3054" y="924"/>
                  </a:lnTo>
                  <a:lnTo>
                    <a:pt x="2555" y="2116"/>
                  </a:lnTo>
                  <a:lnTo>
                    <a:pt x="4850" y="924"/>
                  </a:lnTo>
                  <a:lnTo>
                    <a:pt x="4437" y="110"/>
                  </a:lnTo>
                  <a:lnTo>
                    <a:pt x="4528" y="110"/>
                  </a:lnTo>
                  <a:lnTo>
                    <a:pt x="5354" y="877"/>
                  </a:lnTo>
                  <a:lnTo>
                    <a:pt x="5365" y="893"/>
                  </a:lnTo>
                  <a:lnTo>
                    <a:pt x="5368" y="901"/>
                  </a:lnTo>
                  <a:lnTo>
                    <a:pt x="5367" y="909"/>
                  </a:lnTo>
                  <a:lnTo>
                    <a:pt x="5363" y="915"/>
                  </a:lnTo>
                  <a:lnTo>
                    <a:pt x="5355" y="920"/>
                  </a:lnTo>
                  <a:lnTo>
                    <a:pt x="5341" y="923"/>
                  </a:lnTo>
                  <a:lnTo>
                    <a:pt x="5324" y="924"/>
                  </a:lnTo>
                  <a:lnTo>
                    <a:pt x="5174" y="924"/>
                  </a:lnTo>
                  <a:lnTo>
                    <a:pt x="5178" y="924"/>
                  </a:lnTo>
                  <a:lnTo>
                    <a:pt x="5177" y="924"/>
                  </a:lnTo>
                  <a:lnTo>
                    <a:pt x="5174" y="924"/>
                  </a:lnTo>
                  <a:lnTo>
                    <a:pt x="5185" y="904"/>
                  </a:lnTo>
                  <a:lnTo>
                    <a:pt x="5187" y="892"/>
                  </a:lnTo>
                  <a:lnTo>
                    <a:pt x="5185" y="881"/>
                  </a:lnTo>
                  <a:lnTo>
                    <a:pt x="5173" y="857"/>
                  </a:lnTo>
                  <a:lnTo>
                    <a:pt x="5149" y="837"/>
                  </a:lnTo>
                  <a:lnTo>
                    <a:pt x="5117" y="819"/>
                  </a:lnTo>
                  <a:lnTo>
                    <a:pt x="5077" y="807"/>
                  </a:lnTo>
                  <a:lnTo>
                    <a:pt x="5029" y="802"/>
                  </a:lnTo>
                  <a:lnTo>
                    <a:pt x="5003" y="803"/>
                  </a:lnTo>
                  <a:lnTo>
                    <a:pt x="4975" y="807"/>
                  </a:lnTo>
                  <a:lnTo>
                    <a:pt x="4995" y="924"/>
                  </a:lnTo>
                  <a:lnTo>
                    <a:pt x="4850" y="924"/>
                  </a:lnTo>
                  <a:lnTo>
                    <a:pt x="2555" y="2116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d8eb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914400" y="3309840"/>
              <a:ext cx="3191040" cy="998640"/>
            </a:xfrm>
            <a:custGeom>
              <a:avLst/>
              <a:gdLst/>
              <a:ahLst/>
              <a:rect l="l" t="t" r="r" b="b"/>
              <a:pathLst>
                <a:path w="8039" h="2517">
                  <a:moveTo>
                    <a:pt x="2555" y="2116"/>
                  </a:moveTo>
                  <a:lnTo>
                    <a:pt x="2519" y="2113"/>
                  </a:lnTo>
                  <a:lnTo>
                    <a:pt x="2492" y="2104"/>
                  </a:lnTo>
                  <a:lnTo>
                    <a:pt x="2475" y="2088"/>
                  </a:lnTo>
                  <a:lnTo>
                    <a:pt x="2464" y="2066"/>
                  </a:lnTo>
                  <a:lnTo>
                    <a:pt x="2458" y="2039"/>
                  </a:lnTo>
                  <a:lnTo>
                    <a:pt x="2456" y="2006"/>
                  </a:lnTo>
                  <a:lnTo>
                    <a:pt x="2453" y="1924"/>
                  </a:lnTo>
                  <a:lnTo>
                    <a:pt x="2355" y="1924"/>
                  </a:lnTo>
                  <a:lnTo>
                    <a:pt x="2355" y="1984"/>
                  </a:lnTo>
                  <a:lnTo>
                    <a:pt x="2349" y="2042"/>
                  </a:lnTo>
                  <a:lnTo>
                    <a:pt x="2336" y="2099"/>
                  </a:lnTo>
                  <a:lnTo>
                    <a:pt x="2319" y="2153"/>
                  </a:lnTo>
                  <a:lnTo>
                    <a:pt x="2296" y="2204"/>
                  </a:lnTo>
                  <a:lnTo>
                    <a:pt x="2268" y="2254"/>
                  </a:lnTo>
                  <a:lnTo>
                    <a:pt x="2236" y="2299"/>
                  </a:lnTo>
                  <a:lnTo>
                    <a:pt x="2200" y="2342"/>
                  </a:lnTo>
                  <a:lnTo>
                    <a:pt x="2158" y="2380"/>
                  </a:lnTo>
                  <a:lnTo>
                    <a:pt x="2115" y="2415"/>
                  </a:lnTo>
                  <a:lnTo>
                    <a:pt x="2068" y="2445"/>
                  </a:lnTo>
                  <a:lnTo>
                    <a:pt x="2017" y="2470"/>
                  </a:lnTo>
                  <a:lnTo>
                    <a:pt x="1964" y="2490"/>
                  </a:lnTo>
                  <a:lnTo>
                    <a:pt x="1908" y="2505"/>
                  </a:lnTo>
                  <a:lnTo>
                    <a:pt x="1851" y="2514"/>
                  </a:lnTo>
                  <a:lnTo>
                    <a:pt x="1791" y="2517"/>
                  </a:lnTo>
                  <a:lnTo>
                    <a:pt x="1731" y="2514"/>
                  </a:lnTo>
                  <a:lnTo>
                    <a:pt x="1673" y="2505"/>
                  </a:lnTo>
                  <a:lnTo>
                    <a:pt x="1617" y="2490"/>
                  </a:lnTo>
                  <a:lnTo>
                    <a:pt x="1563" y="2470"/>
                  </a:lnTo>
                  <a:lnTo>
                    <a:pt x="1513" y="2445"/>
                  </a:lnTo>
                  <a:lnTo>
                    <a:pt x="1465" y="2415"/>
                  </a:lnTo>
                  <a:lnTo>
                    <a:pt x="1422" y="2380"/>
                  </a:lnTo>
                  <a:lnTo>
                    <a:pt x="1381" y="2342"/>
                  </a:lnTo>
                  <a:lnTo>
                    <a:pt x="1344" y="2299"/>
                  </a:lnTo>
                  <a:lnTo>
                    <a:pt x="1312" y="2254"/>
                  </a:lnTo>
                  <a:lnTo>
                    <a:pt x="1284" y="2204"/>
                  </a:lnTo>
                  <a:lnTo>
                    <a:pt x="1262" y="2153"/>
                  </a:lnTo>
                  <a:lnTo>
                    <a:pt x="1244" y="2099"/>
                  </a:lnTo>
                  <a:lnTo>
                    <a:pt x="1232" y="2042"/>
                  </a:lnTo>
                  <a:lnTo>
                    <a:pt x="1225" y="1984"/>
                  </a:lnTo>
                  <a:lnTo>
                    <a:pt x="1225" y="1924"/>
                  </a:lnTo>
                  <a:lnTo>
                    <a:pt x="1131" y="1924"/>
                  </a:lnTo>
                  <a:lnTo>
                    <a:pt x="1129" y="1991"/>
                  </a:lnTo>
                  <a:lnTo>
                    <a:pt x="1126" y="2019"/>
                  </a:lnTo>
                  <a:lnTo>
                    <a:pt x="1121" y="2042"/>
                  </a:lnTo>
                  <a:lnTo>
                    <a:pt x="1111" y="2060"/>
                  </a:lnTo>
                  <a:lnTo>
                    <a:pt x="1095" y="2073"/>
                  </a:lnTo>
                  <a:lnTo>
                    <a:pt x="1073" y="2080"/>
                  </a:lnTo>
                  <a:lnTo>
                    <a:pt x="1043" y="2081"/>
                  </a:lnTo>
                  <a:lnTo>
                    <a:pt x="68" y="2026"/>
                  </a:lnTo>
                  <a:lnTo>
                    <a:pt x="53" y="2021"/>
                  </a:lnTo>
                  <a:lnTo>
                    <a:pt x="38" y="2010"/>
                  </a:lnTo>
                  <a:lnTo>
                    <a:pt x="27" y="1995"/>
                  </a:lnTo>
                  <a:lnTo>
                    <a:pt x="16" y="1974"/>
                  </a:lnTo>
                  <a:lnTo>
                    <a:pt x="4" y="1923"/>
                  </a:lnTo>
                  <a:lnTo>
                    <a:pt x="0" y="1864"/>
                  </a:lnTo>
                  <a:lnTo>
                    <a:pt x="4" y="1806"/>
                  </a:lnTo>
                  <a:lnTo>
                    <a:pt x="16" y="1754"/>
                  </a:lnTo>
                  <a:lnTo>
                    <a:pt x="26" y="1733"/>
                  </a:lnTo>
                  <a:lnTo>
                    <a:pt x="38" y="1717"/>
                  </a:lnTo>
                  <a:lnTo>
                    <a:pt x="51" y="1705"/>
                  </a:lnTo>
                  <a:lnTo>
                    <a:pt x="68" y="1700"/>
                  </a:lnTo>
                  <a:lnTo>
                    <a:pt x="285" y="1678"/>
                  </a:lnTo>
                  <a:lnTo>
                    <a:pt x="264" y="1665"/>
                  </a:lnTo>
                  <a:lnTo>
                    <a:pt x="246" y="1648"/>
                  </a:lnTo>
                  <a:lnTo>
                    <a:pt x="230" y="1630"/>
                  </a:lnTo>
                  <a:lnTo>
                    <a:pt x="218" y="1609"/>
                  </a:lnTo>
                  <a:lnTo>
                    <a:pt x="206" y="1588"/>
                  </a:lnTo>
                  <a:lnTo>
                    <a:pt x="198" y="1564"/>
                  </a:lnTo>
                  <a:lnTo>
                    <a:pt x="190" y="1517"/>
                  </a:lnTo>
                  <a:lnTo>
                    <a:pt x="161" y="1121"/>
                  </a:lnTo>
                  <a:lnTo>
                    <a:pt x="161" y="1067"/>
                  </a:lnTo>
                  <a:lnTo>
                    <a:pt x="171" y="1004"/>
                  </a:lnTo>
                  <a:lnTo>
                    <a:pt x="183" y="967"/>
                  </a:lnTo>
                  <a:lnTo>
                    <a:pt x="199" y="925"/>
                  </a:lnTo>
                  <a:lnTo>
                    <a:pt x="249" y="827"/>
                  </a:lnTo>
                  <a:lnTo>
                    <a:pt x="324" y="702"/>
                  </a:lnTo>
                  <a:lnTo>
                    <a:pt x="433" y="545"/>
                  </a:lnTo>
                  <a:lnTo>
                    <a:pt x="578" y="351"/>
                  </a:lnTo>
                  <a:lnTo>
                    <a:pt x="767" y="113"/>
                  </a:lnTo>
                  <a:lnTo>
                    <a:pt x="787" y="90"/>
                  </a:lnTo>
                  <a:lnTo>
                    <a:pt x="811" y="69"/>
                  </a:lnTo>
                  <a:lnTo>
                    <a:pt x="864" y="33"/>
                  </a:lnTo>
                  <a:lnTo>
                    <a:pt x="893" y="18"/>
                  </a:lnTo>
                  <a:lnTo>
                    <a:pt x="923" y="8"/>
                  </a:lnTo>
                  <a:lnTo>
                    <a:pt x="955" y="2"/>
                  </a:lnTo>
                  <a:lnTo>
                    <a:pt x="987" y="0"/>
                  </a:lnTo>
                  <a:lnTo>
                    <a:pt x="4373" y="0"/>
                  </a:lnTo>
                  <a:lnTo>
                    <a:pt x="4462" y="2"/>
                  </a:lnTo>
                  <a:lnTo>
                    <a:pt x="4540" y="10"/>
                  </a:lnTo>
                  <a:lnTo>
                    <a:pt x="4602" y="26"/>
                  </a:lnTo>
                  <a:lnTo>
                    <a:pt x="4627" y="36"/>
                  </a:lnTo>
                  <a:lnTo>
                    <a:pt x="4645" y="48"/>
                  </a:lnTo>
                  <a:lnTo>
                    <a:pt x="4583" y="110"/>
                  </a:lnTo>
                  <a:lnTo>
                    <a:pt x="5240" y="685"/>
                  </a:lnTo>
                  <a:lnTo>
                    <a:pt x="5305" y="738"/>
                  </a:lnTo>
                  <a:lnTo>
                    <a:pt x="5360" y="774"/>
                  </a:lnTo>
                  <a:lnTo>
                    <a:pt x="5409" y="794"/>
                  </a:lnTo>
                  <a:lnTo>
                    <a:pt x="5460" y="803"/>
                  </a:lnTo>
                  <a:lnTo>
                    <a:pt x="7487" y="946"/>
                  </a:lnTo>
                  <a:lnTo>
                    <a:pt x="7557" y="953"/>
                  </a:lnTo>
                  <a:lnTo>
                    <a:pt x="7581" y="960"/>
                  </a:lnTo>
                  <a:lnTo>
                    <a:pt x="7602" y="971"/>
                  </a:lnTo>
                  <a:lnTo>
                    <a:pt x="7618" y="986"/>
                  </a:lnTo>
                  <a:lnTo>
                    <a:pt x="7632" y="1008"/>
                  </a:lnTo>
                  <a:lnTo>
                    <a:pt x="7643" y="1038"/>
                  </a:lnTo>
                  <a:lnTo>
                    <a:pt x="7655" y="1076"/>
                  </a:lnTo>
                  <a:lnTo>
                    <a:pt x="7791" y="1600"/>
                  </a:lnTo>
                  <a:lnTo>
                    <a:pt x="7794" y="1630"/>
                  </a:lnTo>
                  <a:lnTo>
                    <a:pt x="7787" y="1659"/>
                  </a:lnTo>
                  <a:lnTo>
                    <a:pt x="7772" y="1683"/>
                  </a:lnTo>
                  <a:lnTo>
                    <a:pt x="7749" y="1701"/>
                  </a:lnTo>
                  <a:lnTo>
                    <a:pt x="7979" y="1701"/>
                  </a:lnTo>
                  <a:lnTo>
                    <a:pt x="7994" y="1704"/>
                  </a:lnTo>
                  <a:lnTo>
                    <a:pt x="8006" y="1713"/>
                  </a:lnTo>
                  <a:lnTo>
                    <a:pt x="8016" y="1725"/>
                  </a:lnTo>
                  <a:lnTo>
                    <a:pt x="8025" y="1742"/>
                  </a:lnTo>
                  <a:lnTo>
                    <a:pt x="8036" y="1784"/>
                  </a:lnTo>
                  <a:lnTo>
                    <a:pt x="8039" y="1833"/>
                  </a:lnTo>
                  <a:lnTo>
                    <a:pt x="8035" y="1883"/>
                  </a:lnTo>
                  <a:lnTo>
                    <a:pt x="8024" y="1928"/>
                  </a:lnTo>
                  <a:lnTo>
                    <a:pt x="8015" y="1948"/>
                  </a:lnTo>
                  <a:lnTo>
                    <a:pt x="8005" y="1964"/>
                  </a:lnTo>
                  <a:lnTo>
                    <a:pt x="7993" y="1975"/>
                  </a:lnTo>
                  <a:lnTo>
                    <a:pt x="7979" y="1981"/>
                  </a:lnTo>
                  <a:lnTo>
                    <a:pt x="7690" y="2053"/>
                  </a:lnTo>
                  <a:lnTo>
                    <a:pt x="7384" y="2081"/>
                  </a:lnTo>
                  <a:lnTo>
                    <a:pt x="7352" y="2080"/>
                  </a:lnTo>
                  <a:lnTo>
                    <a:pt x="7329" y="2073"/>
                  </a:lnTo>
                  <a:lnTo>
                    <a:pt x="7314" y="2059"/>
                  </a:lnTo>
                  <a:lnTo>
                    <a:pt x="7305" y="2038"/>
                  </a:lnTo>
                  <a:lnTo>
                    <a:pt x="7298" y="1980"/>
                  </a:lnTo>
                  <a:lnTo>
                    <a:pt x="7295" y="1903"/>
                  </a:lnTo>
                  <a:lnTo>
                    <a:pt x="7200" y="1903"/>
                  </a:lnTo>
                  <a:lnTo>
                    <a:pt x="7202" y="1965"/>
                  </a:lnTo>
                  <a:lnTo>
                    <a:pt x="7198" y="2025"/>
                  </a:lnTo>
                  <a:lnTo>
                    <a:pt x="7188" y="2082"/>
                  </a:lnTo>
                  <a:lnTo>
                    <a:pt x="7171" y="2138"/>
                  </a:lnTo>
                  <a:lnTo>
                    <a:pt x="7148" y="2192"/>
                  </a:lnTo>
                  <a:lnTo>
                    <a:pt x="7122" y="2242"/>
                  </a:lnTo>
                  <a:lnTo>
                    <a:pt x="7090" y="2290"/>
                  </a:lnTo>
                  <a:lnTo>
                    <a:pt x="7053" y="2334"/>
                  </a:lnTo>
                  <a:lnTo>
                    <a:pt x="7013" y="2375"/>
                  </a:lnTo>
                  <a:lnTo>
                    <a:pt x="6968" y="2410"/>
                  </a:lnTo>
                  <a:lnTo>
                    <a:pt x="6920" y="2442"/>
                  </a:lnTo>
                  <a:lnTo>
                    <a:pt x="6868" y="2468"/>
                  </a:lnTo>
                  <a:lnTo>
                    <a:pt x="6815" y="2489"/>
                  </a:lnTo>
                  <a:lnTo>
                    <a:pt x="6757" y="2505"/>
                  </a:lnTo>
                  <a:lnTo>
                    <a:pt x="6698" y="2514"/>
                  </a:lnTo>
                  <a:lnTo>
                    <a:pt x="6637" y="2517"/>
                  </a:lnTo>
                  <a:lnTo>
                    <a:pt x="6576" y="2514"/>
                  </a:lnTo>
                  <a:lnTo>
                    <a:pt x="6517" y="2505"/>
                  </a:lnTo>
                  <a:lnTo>
                    <a:pt x="6460" y="2489"/>
                  </a:lnTo>
                  <a:lnTo>
                    <a:pt x="6405" y="2468"/>
                  </a:lnTo>
                  <a:lnTo>
                    <a:pt x="6355" y="2441"/>
                  </a:lnTo>
                  <a:lnTo>
                    <a:pt x="6306" y="2410"/>
                  </a:lnTo>
                  <a:lnTo>
                    <a:pt x="6262" y="2374"/>
                  </a:lnTo>
                  <a:lnTo>
                    <a:pt x="6222" y="2334"/>
                  </a:lnTo>
                  <a:lnTo>
                    <a:pt x="6185" y="2290"/>
                  </a:lnTo>
                  <a:lnTo>
                    <a:pt x="6153" y="2242"/>
                  </a:lnTo>
                  <a:lnTo>
                    <a:pt x="6126" y="2192"/>
                  </a:lnTo>
                  <a:lnTo>
                    <a:pt x="6105" y="2138"/>
                  </a:lnTo>
                  <a:lnTo>
                    <a:pt x="6088" y="2082"/>
                  </a:lnTo>
                  <a:lnTo>
                    <a:pt x="6077" y="2025"/>
                  </a:lnTo>
                  <a:lnTo>
                    <a:pt x="6073" y="1965"/>
                  </a:lnTo>
                  <a:lnTo>
                    <a:pt x="6075" y="1904"/>
                  </a:lnTo>
                  <a:lnTo>
                    <a:pt x="5977" y="1903"/>
                  </a:lnTo>
                  <a:lnTo>
                    <a:pt x="5972" y="1994"/>
                  </a:lnTo>
                  <a:lnTo>
                    <a:pt x="5970" y="2031"/>
                  </a:lnTo>
                  <a:lnTo>
                    <a:pt x="5965" y="2061"/>
                  </a:lnTo>
                  <a:lnTo>
                    <a:pt x="5955" y="2084"/>
                  </a:lnTo>
                  <a:lnTo>
                    <a:pt x="5937" y="2102"/>
                  </a:lnTo>
                  <a:lnTo>
                    <a:pt x="5910" y="2113"/>
                  </a:lnTo>
                  <a:lnTo>
                    <a:pt x="5872" y="2116"/>
                  </a:lnTo>
                  <a:lnTo>
                    <a:pt x="2555" y="211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146240" y="3354480"/>
              <a:ext cx="922320" cy="322200"/>
            </a:xfrm>
            <a:custGeom>
              <a:avLst/>
              <a:gdLst/>
              <a:ahLst/>
              <a:rect l="l" t="t" r="r" b="b"/>
              <a:pathLst>
                <a:path w="2325" h="814">
                  <a:moveTo>
                    <a:pt x="2325" y="814"/>
                  </a:moveTo>
                  <a:lnTo>
                    <a:pt x="0" y="814"/>
                  </a:lnTo>
                  <a:lnTo>
                    <a:pt x="398" y="132"/>
                  </a:lnTo>
                  <a:lnTo>
                    <a:pt x="415" y="105"/>
                  </a:lnTo>
                  <a:lnTo>
                    <a:pt x="436" y="80"/>
                  </a:lnTo>
                  <a:lnTo>
                    <a:pt x="458" y="58"/>
                  </a:lnTo>
                  <a:lnTo>
                    <a:pt x="484" y="39"/>
                  </a:lnTo>
                  <a:lnTo>
                    <a:pt x="512" y="22"/>
                  </a:lnTo>
                  <a:lnTo>
                    <a:pt x="542" y="11"/>
                  </a:lnTo>
                  <a:lnTo>
                    <a:pt x="573" y="3"/>
                  </a:lnTo>
                  <a:lnTo>
                    <a:pt x="606" y="0"/>
                  </a:lnTo>
                  <a:lnTo>
                    <a:pt x="2169" y="0"/>
                  </a:lnTo>
                  <a:lnTo>
                    <a:pt x="2325" y="8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063880" y="3354480"/>
              <a:ext cx="752400" cy="322200"/>
            </a:xfrm>
            <a:custGeom>
              <a:avLst/>
              <a:gdLst/>
              <a:ahLst/>
              <a:rect l="l" t="t" r="r" b="b"/>
              <a:pathLst>
                <a:path w="1896" h="814">
                  <a:moveTo>
                    <a:pt x="157" y="814"/>
                  </a:moveTo>
                  <a:lnTo>
                    <a:pt x="0" y="0"/>
                  </a:lnTo>
                  <a:lnTo>
                    <a:pt x="1483" y="0"/>
                  </a:lnTo>
                  <a:lnTo>
                    <a:pt x="1896" y="814"/>
                  </a:lnTo>
                  <a:lnTo>
                    <a:pt x="157" y="8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674800" y="3354480"/>
              <a:ext cx="370080" cy="322200"/>
            </a:xfrm>
            <a:custGeom>
              <a:avLst/>
              <a:gdLst/>
              <a:ahLst/>
              <a:rect l="l" t="t" r="r" b="b"/>
              <a:pathLst>
                <a:path w="931" h="814">
                  <a:moveTo>
                    <a:pt x="413" y="814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17" y="767"/>
                  </a:lnTo>
                  <a:lnTo>
                    <a:pt x="928" y="783"/>
                  </a:lnTo>
                  <a:lnTo>
                    <a:pt x="931" y="791"/>
                  </a:lnTo>
                  <a:lnTo>
                    <a:pt x="930" y="799"/>
                  </a:lnTo>
                  <a:lnTo>
                    <a:pt x="926" y="805"/>
                  </a:lnTo>
                  <a:lnTo>
                    <a:pt x="918" y="810"/>
                  </a:lnTo>
                  <a:lnTo>
                    <a:pt x="904" y="813"/>
                  </a:lnTo>
                  <a:lnTo>
                    <a:pt x="887" y="814"/>
                  </a:lnTo>
                  <a:lnTo>
                    <a:pt x="737" y="814"/>
                  </a:lnTo>
                  <a:lnTo>
                    <a:pt x="741" y="814"/>
                  </a:lnTo>
                  <a:lnTo>
                    <a:pt x="740" y="814"/>
                  </a:lnTo>
                  <a:lnTo>
                    <a:pt x="737" y="814"/>
                  </a:lnTo>
                  <a:lnTo>
                    <a:pt x="748" y="794"/>
                  </a:lnTo>
                  <a:lnTo>
                    <a:pt x="750" y="782"/>
                  </a:lnTo>
                  <a:lnTo>
                    <a:pt x="748" y="771"/>
                  </a:lnTo>
                  <a:lnTo>
                    <a:pt x="736" y="747"/>
                  </a:lnTo>
                  <a:lnTo>
                    <a:pt x="712" y="727"/>
                  </a:lnTo>
                  <a:lnTo>
                    <a:pt x="680" y="709"/>
                  </a:lnTo>
                  <a:lnTo>
                    <a:pt x="640" y="697"/>
                  </a:lnTo>
                  <a:lnTo>
                    <a:pt x="592" y="692"/>
                  </a:lnTo>
                  <a:lnTo>
                    <a:pt x="566" y="693"/>
                  </a:lnTo>
                  <a:lnTo>
                    <a:pt x="538" y="697"/>
                  </a:lnTo>
                  <a:lnTo>
                    <a:pt x="558" y="814"/>
                  </a:lnTo>
                  <a:lnTo>
                    <a:pt x="413" y="8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027080" y="3975120"/>
              <a:ext cx="42840" cy="144360"/>
            </a:xfrm>
            <a:custGeom>
              <a:avLst/>
              <a:gdLst/>
              <a:ahLst/>
              <a:rect l="l" t="t" r="r" b="b"/>
              <a:pathLst>
                <a:path w="106" h="362">
                  <a:moveTo>
                    <a:pt x="14" y="362"/>
                  </a:moveTo>
                  <a:lnTo>
                    <a:pt x="36" y="361"/>
                  </a:lnTo>
                  <a:lnTo>
                    <a:pt x="56" y="356"/>
                  </a:lnTo>
                  <a:lnTo>
                    <a:pt x="71" y="344"/>
                  </a:lnTo>
                  <a:lnTo>
                    <a:pt x="84" y="328"/>
                  </a:lnTo>
                  <a:lnTo>
                    <a:pt x="94" y="303"/>
                  </a:lnTo>
                  <a:lnTo>
                    <a:pt x="101" y="271"/>
                  </a:lnTo>
                  <a:lnTo>
                    <a:pt x="105" y="231"/>
                  </a:lnTo>
                  <a:lnTo>
                    <a:pt x="106" y="180"/>
                  </a:lnTo>
                  <a:lnTo>
                    <a:pt x="104" y="124"/>
                  </a:lnTo>
                  <a:lnTo>
                    <a:pt x="99" y="81"/>
                  </a:lnTo>
                  <a:lnTo>
                    <a:pt x="90" y="49"/>
                  </a:lnTo>
                  <a:lnTo>
                    <a:pt x="79" y="26"/>
                  </a:lnTo>
                  <a:lnTo>
                    <a:pt x="63" y="11"/>
                  </a:lnTo>
                  <a:lnTo>
                    <a:pt x="44" y="4"/>
                  </a:lnTo>
                  <a:lnTo>
                    <a:pt x="24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977760" y="3754440"/>
              <a:ext cx="100080" cy="156960"/>
            </a:xfrm>
            <a:custGeom>
              <a:avLst/>
              <a:gdLst/>
              <a:ahLst/>
              <a:rect l="l" t="t" r="r" b="b"/>
              <a:pathLst>
                <a:path w="250" h="396">
                  <a:moveTo>
                    <a:pt x="29" y="396"/>
                  </a:moveTo>
                  <a:lnTo>
                    <a:pt x="250" y="396"/>
                  </a:lnTo>
                  <a:lnTo>
                    <a:pt x="2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363680" y="3821040"/>
              <a:ext cx="523800" cy="252360"/>
            </a:xfrm>
            <a:custGeom>
              <a:avLst/>
              <a:gdLst/>
              <a:ahLst/>
              <a:rect l="l" t="t" r="r" b="b"/>
              <a:pathLst>
                <a:path w="1322" h="636">
                  <a:moveTo>
                    <a:pt x="0" y="636"/>
                  </a:moveTo>
                  <a:lnTo>
                    <a:pt x="7" y="557"/>
                  </a:lnTo>
                  <a:lnTo>
                    <a:pt x="14" y="511"/>
                  </a:lnTo>
                  <a:lnTo>
                    <a:pt x="26" y="465"/>
                  </a:lnTo>
                  <a:lnTo>
                    <a:pt x="45" y="414"/>
                  </a:lnTo>
                  <a:lnTo>
                    <a:pt x="66" y="366"/>
                  </a:lnTo>
                  <a:lnTo>
                    <a:pt x="92" y="319"/>
                  </a:lnTo>
                  <a:lnTo>
                    <a:pt x="121" y="276"/>
                  </a:lnTo>
                  <a:lnTo>
                    <a:pt x="188" y="196"/>
                  </a:lnTo>
                  <a:lnTo>
                    <a:pt x="226" y="161"/>
                  </a:lnTo>
                  <a:lnTo>
                    <a:pt x="267" y="129"/>
                  </a:lnTo>
                  <a:lnTo>
                    <a:pt x="309" y="99"/>
                  </a:lnTo>
                  <a:lnTo>
                    <a:pt x="355" y="74"/>
                  </a:lnTo>
                  <a:lnTo>
                    <a:pt x="450" y="34"/>
                  </a:lnTo>
                  <a:lnTo>
                    <a:pt x="500" y="20"/>
                  </a:lnTo>
                  <a:lnTo>
                    <a:pt x="552" y="8"/>
                  </a:lnTo>
                  <a:lnTo>
                    <a:pt x="606" y="2"/>
                  </a:lnTo>
                  <a:lnTo>
                    <a:pt x="660" y="0"/>
                  </a:lnTo>
                  <a:lnTo>
                    <a:pt x="713" y="2"/>
                  </a:lnTo>
                  <a:lnTo>
                    <a:pt x="766" y="8"/>
                  </a:lnTo>
                  <a:lnTo>
                    <a:pt x="818" y="20"/>
                  </a:lnTo>
                  <a:lnTo>
                    <a:pt x="868" y="34"/>
                  </a:lnTo>
                  <a:lnTo>
                    <a:pt x="964" y="74"/>
                  </a:lnTo>
                  <a:lnTo>
                    <a:pt x="1009" y="99"/>
                  </a:lnTo>
                  <a:lnTo>
                    <a:pt x="1052" y="129"/>
                  </a:lnTo>
                  <a:lnTo>
                    <a:pt x="1093" y="161"/>
                  </a:lnTo>
                  <a:lnTo>
                    <a:pt x="1130" y="196"/>
                  </a:lnTo>
                  <a:lnTo>
                    <a:pt x="1197" y="276"/>
                  </a:lnTo>
                  <a:lnTo>
                    <a:pt x="1226" y="319"/>
                  </a:lnTo>
                  <a:lnTo>
                    <a:pt x="1252" y="366"/>
                  </a:lnTo>
                  <a:lnTo>
                    <a:pt x="1273" y="414"/>
                  </a:lnTo>
                  <a:lnTo>
                    <a:pt x="1292" y="465"/>
                  </a:lnTo>
                  <a:lnTo>
                    <a:pt x="1304" y="511"/>
                  </a:lnTo>
                  <a:lnTo>
                    <a:pt x="1314" y="557"/>
                  </a:lnTo>
                  <a:lnTo>
                    <a:pt x="1322" y="6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400040" y="3860640"/>
              <a:ext cx="449280" cy="212760"/>
            </a:xfrm>
            <a:custGeom>
              <a:avLst/>
              <a:gdLst/>
              <a:ahLst/>
              <a:rect l="l" t="t" r="r" b="b"/>
              <a:pathLst>
                <a:path w="1130" h="538">
                  <a:moveTo>
                    <a:pt x="0" y="538"/>
                  </a:moveTo>
                  <a:lnTo>
                    <a:pt x="6" y="483"/>
                  </a:lnTo>
                  <a:lnTo>
                    <a:pt x="17" y="429"/>
                  </a:lnTo>
                  <a:lnTo>
                    <a:pt x="32" y="376"/>
                  </a:lnTo>
                  <a:lnTo>
                    <a:pt x="52" y="327"/>
                  </a:lnTo>
                  <a:lnTo>
                    <a:pt x="77" y="280"/>
                  </a:lnTo>
                  <a:lnTo>
                    <a:pt x="106" y="236"/>
                  </a:lnTo>
                  <a:lnTo>
                    <a:pt x="139" y="194"/>
                  </a:lnTo>
                  <a:lnTo>
                    <a:pt x="175" y="156"/>
                  </a:lnTo>
                  <a:lnTo>
                    <a:pt x="215" y="122"/>
                  </a:lnTo>
                  <a:lnTo>
                    <a:pt x="258" y="91"/>
                  </a:lnTo>
                  <a:lnTo>
                    <a:pt x="304" y="64"/>
                  </a:lnTo>
                  <a:lnTo>
                    <a:pt x="352" y="41"/>
                  </a:lnTo>
                  <a:lnTo>
                    <a:pt x="402" y="24"/>
                  </a:lnTo>
                  <a:lnTo>
                    <a:pt x="455" y="10"/>
                  </a:lnTo>
                  <a:lnTo>
                    <a:pt x="510" y="3"/>
                  </a:lnTo>
                  <a:lnTo>
                    <a:pt x="566" y="0"/>
                  </a:lnTo>
                  <a:lnTo>
                    <a:pt x="621" y="3"/>
                  </a:lnTo>
                  <a:lnTo>
                    <a:pt x="675" y="10"/>
                  </a:lnTo>
                  <a:lnTo>
                    <a:pt x="728" y="24"/>
                  </a:lnTo>
                  <a:lnTo>
                    <a:pt x="778" y="41"/>
                  </a:lnTo>
                  <a:lnTo>
                    <a:pt x="827" y="64"/>
                  </a:lnTo>
                  <a:lnTo>
                    <a:pt x="872" y="91"/>
                  </a:lnTo>
                  <a:lnTo>
                    <a:pt x="915" y="122"/>
                  </a:lnTo>
                  <a:lnTo>
                    <a:pt x="955" y="156"/>
                  </a:lnTo>
                  <a:lnTo>
                    <a:pt x="991" y="194"/>
                  </a:lnTo>
                  <a:lnTo>
                    <a:pt x="1024" y="236"/>
                  </a:lnTo>
                  <a:lnTo>
                    <a:pt x="1053" y="280"/>
                  </a:lnTo>
                  <a:lnTo>
                    <a:pt x="1078" y="328"/>
                  </a:lnTo>
                  <a:lnTo>
                    <a:pt x="1098" y="377"/>
                  </a:lnTo>
                  <a:lnTo>
                    <a:pt x="1113" y="429"/>
                  </a:lnTo>
                  <a:lnTo>
                    <a:pt x="1125" y="483"/>
                  </a:lnTo>
                  <a:lnTo>
                    <a:pt x="1130" y="5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515960" y="3976560"/>
              <a:ext cx="217440" cy="216000"/>
            </a:xfrm>
            <a:custGeom>
              <a:avLst/>
              <a:gdLst/>
              <a:ahLst/>
              <a:rect l="l" t="t" r="r" b="b"/>
              <a:pathLst>
                <a:path w="546" h="547">
                  <a:moveTo>
                    <a:pt x="274" y="547"/>
                  </a:moveTo>
                  <a:lnTo>
                    <a:pt x="312" y="544"/>
                  </a:lnTo>
                  <a:lnTo>
                    <a:pt x="348" y="537"/>
                  </a:lnTo>
                  <a:lnTo>
                    <a:pt x="382" y="525"/>
                  </a:lnTo>
                  <a:lnTo>
                    <a:pt x="414" y="509"/>
                  </a:lnTo>
                  <a:lnTo>
                    <a:pt x="442" y="489"/>
                  </a:lnTo>
                  <a:lnTo>
                    <a:pt x="468" y="465"/>
                  </a:lnTo>
                  <a:lnTo>
                    <a:pt x="491" y="439"/>
                  </a:lnTo>
                  <a:lnTo>
                    <a:pt x="509" y="411"/>
                  </a:lnTo>
                  <a:lnTo>
                    <a:pt x="525" y="380"/>
                  </a:lnTo>
                  <a:lnTo>
                    <a:pt x="536" y="347"/>
                  </a:lnTo>
                  <a:lnTo>
                    <a:pt x="543" y="313"/>
                  </a:lnTo>
                  <a:lnTo>
                    <a:pt x="546" y="278"/>
                  </a:lnTo>
                  <a:lnTo>
                    <a:pt x="544" y="242"/>
                  </a:lnTo>
                  <a:lnTo>
                    <a:pt x="538" y="207"/>
                  </a:lnTo>
                  <a:lnTo>
                    <a:pt x="526" y="172"/>
                  </a:lnTo>
                  <a:lnTo>
                    <a:pt x="509" y="137"/>
                  </a:lnTo>
                  <a:lnTo>
                    <a:pt x="487" y="105"/>
                  </a:lnTo>
                  <a:lnTo>
                    <a:pt x="463" y="77"/>
                  </a:lnTo>
                  <a:lnTo>
                    <a:pt x="436" y="53"/>
                  </a:lnTo>
                  <a:lnTo>
                    <a:pt x="406" y="35"/>
                  </a:lnTo>
                  <a:lnTo>
                    <a:pt x="374" y="19"/>
                  </a:lnTo>
                  <a:lnTo>
                    <a:pt x="341" y="9"/>
                  </a:lnTo>
                  <a:lnTo>
                    <a:pt x="308" y="3"/>
                  </a:lnTo>
                  <a:lnTo>
                    <a:pt x="274" y="0"/>
                  </a:lnTo>
                  <a:lnTo>
                    <a:pt x="238" y="3"/>
                  </a:lnTo>
                  <a:lnTo>
                    <a:pt x="205" y="9"/>
                  </a:lnTo>
                  <a:lnTo>
                    <a:pt x="172" y="19"/>
                  </a:lnTo>
                  <a:lnTo>
                    <a:pt x="140" y="35"/>
                  </a:lnTo>
                  <a:lnTo>
                    <a:pt x="110" y="53"/>
                  </a:lnTo>
                  <a:lnTo>
                    <a:pt x="83" y="77"/>
                  </a:lnTo>
                  <a:lnTo>
                    <a:pt x="59" y="105"/>
                  </a:lnTo>
                  <a:lnTo>
                    <a:pt x="37" y="137"/>
                  </a:lnTo>
                  <a:lnTo>
                    <a:pt x="20" y="172"/>
                  </a:lnTo>
                  <a:lnTo>
                    <a:pt x="8" y="207"/>
                  </a:lnTo>
                  <a:lnTo>
                    <a:pt x="2" y="242"/>
                  </a:lnTo>
                  <a:lnTo>
                    <a:pt x="0" y="278"/>
                  </a:lnTo>
                  <a:lnTo>
                    <a:pt x="3" y="313"/>
                  </a:lnTo>
                  <a:lnTo>
                    <a:pt x="10" y="347"/>
                  </a:lnTo>
                  <a:lnTo>
                    <a:pt x="21" y="380"/>
                  </a:lnTo>
                  <a:lnTo>
                    <a:pt x="37" y="411"/>
                  </a:lnTo>
                  <a:lnTo>
                    <a:pt x="56" y="439"/>
                  </a:lnTo>
                  <a:lnTo>
                    <a:pt x="78" y="465"/>
                  </a:lnTo>
                  <a:lnTo>
                    <a:pt x="104" y="489"/>
                  </a:lnTo>
                  <a:lnTo>
                    <a:pt x="133" y="509"/>
                  </a:lnTo>
                  <a:lnTo>
                    <a:pt x="164" y="525"/>
                  </a:lnTo>
                  <a:lnTo>
                    <a:pt x="198" y="537"/>
                  </a:lnTo>
                  <a:lnTo>
                    <a:pt x="235" y="544"/>
                  </a:lnTo>
                  <a:lnTo>
                    <a:pt x="274" y="5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06640" y="335448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203560" y="3716280"/>
              <a:ext cx="98280" cy="11160"/>
            </a:xfrm>
            <a:custGeom>
              <a:avLst/>
              <a:gdLst/>
              <a:ahLst/>
              <a:rect l="l" t="t" r="r" b="b"/>
              <a:pathLst>
                <a:path w="248" h="25">
                  <a:moveTo>
                    <a:pt x="248" y="25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068560" y="3657600"/>
              <a:ext cx="1057320" cy="426960"/>
            </a:xfrm>
            <a:custGeom>
              <a:avLst/>
              <a:gdLst/>
              <a:ahLst/>
              <a:rect l="l" t="t" r="r" b="b"/>
              <a:pathLst>
                <a:path w="2662" h="1074">
                  <a:moveTo>
                    <a:pt x="0" y="47"/>
                  </a:moveTo>
                  <a:lnTo>
                    <a:pt x="144" y="47"/>
                  </a:lnTo>
                  <a:lnTo>
                    <a:pt x="292" y="1074"/>
                  </a:lnTo>
                  <a:lnTo>
                    <a:pt x="2520" y="1074"/>
                  </a:lnTo>
                  <a:lnTo>
                    <a:pt x="2662" y="432"/>
                  </a:lnTo>
                  <a:lnTo>
                    <a:pt x="2502" y="71"/>
                  </a:lnTo>
                  <a:lnTo>
                    <a:pt x="2478" y="34"/>
                  </a:lnTo>
                  <a:lnTo>
                    <a:pt x="244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897280" y="3676680"/>
              <a:ext cx="69840" cy="126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56" y="17"/>
                  </a:lnTo>
                  <a:lnTo>
                    <a:pt x="120" y="28"/>
                  </a:lnTo>
                  <a:lnTo>
                    <a:pt x="70" y="33"/>
                  </a:lnTo>
                  <a:lnTo>
                    <a:pt x="5" y="3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908440" y="3689280"/>
              <a:ext cx="39600" cy="2376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0" y="1"/>
                  </a:moveTo>
                  <a:lnTo>
                    <a:pt x="0" y="52"/>
                  </a:lnTo>
                  <a:lnTo>
                    <a:pt x="2" y="57"/>
                  </a:lnTo>
                  <a:lnTo>
                    <a:pt x="9" y="60"/>
                  </a:lnTo>
                  <a:lnTo>
                    <a:pt x="32" y="62"/>
                  </a:lnTo>
                  <a:lnTo>
                    <a:pt x="64" y="58"/>
                  </a:lnTo>
                  <a:lnTo>
                    <a:pt x="100" y="46"/>
                  </a:lnTo>
                  <a:lnTo>
                    <a:pt x="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2816280" y="367668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652840" y="335448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757600" y="3328920"/>
              <a:ext cx="401400" cy="304920"/>
            </a:xfrm>
            <a:custGeom>
              <a:avLst/>
              <a:gdLst/>
              <a:ahLst/>
              <a:rect l="l" t="t" r="r" b="b"/>
              <a:pathLst>
                <a:path w="1010" h="769">
                  <a:moveTo>
                    <a:pt x="0" y="0"/>
                  </a:moveTo>
                  <a:lnTo>
                    <a:pt x="273" y="181"/>
                  </a:lnTo>
                  <a:lnTo>
                    <a:pt x="411" y="277"/>
                  </a:lnTo>
                  <a:lnTo>
                    <a:pt x="544" y="375"/>
                  </a:lnTo>
                  <a:lnTo>
                    <a:pt x="673" y="476"/>
                  </a:lnTo>
                  <a:lnTo>
                    <a:pt x="795" y="575"/>
                  </a:lnTo>
                  <a:lnTo>
                    <a:pt x="908" y="673"/>
                  </a:lnTo>
                  <a:lnTo>
                    <a:pt x="1010" y="7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286080" y="3821040"/>
              <a:ext cx="523800" cy="244440"/>
            </a:xfrm>
            <a:custGeom>
              <a:avLst/>
              <a:gdLst/>
              <a:ahLst/>
              <a:rect l="l" t="t" r="r" b="b"/>
              <a:pathLst>
                <a:path w="1318" h="614">
                  <a:moveTo>
                    <a:pt x="0" y="614"/>
                  </a:moveTo>
                  <a:lnTo>
                    <a:pt x="9" y="543"/>
                  </a:lnTo>
                  <a:lnTo>
                    <a:pt x="29" y="464"/>
                  </a:lnTo>
                  <a:lnTo>
                    <a:pt x="47" y="413"/>
                  </a:lnTo>
                  <a:lnTo>
                    <a:pt x="69" y="365"/>
                  </a:lnTo>
                  <a:lnTo>
                    <a:pt x="95" y="318"/>
                  </a:lnTo>
                  <a:lnTo>
                    <a:pt x="124" y="275"/>
                  </a:lnTo>
                  <a:lnTo>
                    <a:pt x="156" y="234"/>
                  </a:lnTo>
                  <a:lnTo>
                    <a:pt x="190" y="196"/>
                  </a:lnTo>
                  <a:lnTo>
                    <a:pt x="228" y="160"/>
                  </a:lnTo>
                  <a:lnTo>
                    <a:pt x="268" y="128"/>
                  </a:lnTo>
                  <a:lnTo>
                    <a:pt x="311" y="99"/>
                  </a:lnTo>
                  <a:lnTo>
                    <a:pt x="356" y="74"/>
                  </a:lnTo>
                  <a:lnTo>
                    <a:pt x="451" y="34"/>
                  </a:lnTo>
                  <a:lnTo>
                    <a:pt x="502" y="20"/>
                  </a:lnTo>
                  <a:lnTo>
                    <a:pt x="553" y="8"/>
                  </a:lnTo>
                  <a:lnTo>
                    <a:pt x="606" y="2"/>
                  </a:lnTo>
                  <a:lnTo>
                    <a:pt x="660" y="0"/>
                  </a:lnTo>
                  <a:lnTo>
                    <a:pt x="714" y="2"/>
                  </a:lnTo>
                  <a:lnTo>
                    <a:pt x="766" y="8"/>
                  </a:lnTo>
                  <a:lnTo>
                    <a:pt x="818" y="20"/>
                  </a:lnTo>
                  <a:lnTo>
                    <a:pt x="869" y="34"/>
                  </a:lnTo>
                  <a:lnTo>
                    <a:pt x="917" y="52"/>
                  </a:lnTo>
                  <a:lnTo>
                    <a:pt x="965" y="74"/>
                  </a:lnTo>
                  <a:lnTo>
                    <a:pt x="1009" y="99"/>
                  </a:lnTo>
                  <a:lnTo>
                    <a:pt x="1053" y="129"/>
                  </a:lnTo>
                  <a:lnTo>
                    <a:pt x="1093" y="161"/>
                  </a:lnTo>
                  <a:lnTo>
                    <a:pt x="1131" y="196"/>
                  </a:lnTo>
                  <a:lnTo>
                    <a:pt x="1166" y="234"/>
                  </a:lnTo>
                  <a:lnTo>
                    <a:pt x="1198" y="276"/>
                  </a:lnTo>
                  <a:lnTo>
                    <a:pt x="1227" y="319"/>
                  </a:lnTo>
                  <a:lnTo>
                    <a:pt x="1252" y="366"/>
                  </a:lnTo>
                  <a:lnTo>
                    <a:pt x="1275" y="414"/>
                  </a:lnTo>
                  <a:lnTo>
                    <a:pt x="1292" y="465"/>
                  </a:lnTo>
                  <a:lnTo>
                    <a:pt x="1304" y="504"/>
                  </a:lnTo>
                  <a:lnTo>
                    <a:pt x="1311" y="542"/>
                  </a:lnTo>
                  <a:lnTo>
                    <a:pt x="1318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325680" y="3860640"/>
              <a:ext cx="446400" cy="204840"/>
            </a:xfrm>
            <a:custGeom>
              <a:avLst/>
              <a:gdLst/>
              <a:ahLst/>
              <a:rect l="l" t="t" r="r" b="b"/>
              <a:pathLst>
                <a:path w="1125" h="518">
                  <a:moveTo>
                    <a:pt x="0" y="517"/>
                  </a:moveTo>
                  <a:lnTo>
                    <a:pt x="7" y="463"/>
                  </a:lnTo>
                  <a:lnTo>
                    <a:pt x="19" y="411"/>
                  </a:lnTo>
                  <a:lnTo>
                    <a:pt x="36" y="361"/>
                  </a:lnTo>
                  <a:lnTo>
                    <a:pt x="58" y="313"/>
                  </a:lnTo>
                  <a:lnTo>
                    <a:pt x="82" y="268"/>
                  </a:lnTo>
                  <a:lnTo>
                    <a:pt x="111" y="225"/>
                  </a:lnTo>
                  <a:lnTo>
                    <a:pt x="144" y="186"/>
                  </a:lnTo>
                  <a:lnTo>
                    <a:pt x="181" y="149"/>
                  </a:lnTo>
                  <a:lnTo>
                    <a:pt x="220" y="116"/>
                  </a:lnTo>
                  <a:lnTo>
                    <a:pt x="262" y="87"/>
                  </a:lnTo>
                  <a:lnTo>
                    <a:pt x="307" y="61"/>
                  </a:lnTo>
                  <a:lnTo>
                    <a:pt x="354" y="39"/>
                  </a:lnTo>
                  <a:lnTo>
                    <a:pt x="403" y="23"/>
                  </a:lnTo>
                  <a:lnTo>
                    <a:pt x="454" y="10"/>
                  </a:lnTo>
                  <a:lnTo>
                    <a:pt x="507" y="3"/>
                  </a:lnTo>
                  <a:lnTo>
                    <a:pt x="562" y="0"/>
                  </a:lnTo>
                  <a:lnTo>
                    <a:pt x="617" y="3"/>
                  </a:lnTo>
                  <a:lnTo>
                    <a:pt x="669" y="10"/>
                  </a:lnTo>
                  <a:lnTo>
                    <a:pt x="721" y="23"/>
                  </a:lnTo>
                  <a:lnTo>
                    <a:pt x="771" y="39"/>
                  </a:lnTo>
                  <a:lnTo>
                    <a:pt x="817" y="61"/>
                  </a:lnTo>
                  <a:lnTo>
                    <a:pt x="863" y="87"/>
                  </a:lnTo>
                  <a:lnTo>
                    <a:pt x="905" y="116"/>
                  </a:lnTo>
                  <a:lnTo>
                    <a:pt x="944" y="149"/>
                  </a:lnTo>
                  <a:lnTo>
                    <a:pt x="980" y="186"/>
                  </a:lnTo>
                  <a:lnTo>
                    <a:pt x="1013" y="225"/>
                  </a:lnTo>
                  <a:lnTo>
                    <a:pt x="1042" y="268"/>
                  </a:lnTo>
                  <a:lnTo>
                    <a:pt x="1068" y="313"/>
                  </a:lnTo>
                  <a:lnTo>
                    <a:pt x="1089" y="362"/>
                  </a:lnTo>
                  <a:lnTo>
                    <a:pt x="1105" y="411"/>
                  </a:lnTo>
                  <a:lnTo>
                    <a:pt x="1118" y="464"/>
                  </a:lnTo>
                  <a:lnTo>
                    <a:pt x="1125" y="5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440160" y="3976560"/>
              <a:ext cx="217440" cy="216000"/>
            </a:xfrm>
            <a:custGeom>
              <a:avLst/>
              <a:gdLst/>
              <a:ahLst/>
              <a:rect l="l" t="t" r="r" b="b"/>
              <a:pathLst>
                <a:path w="547" h="547">
                  <a:moveTo>
                    <a:pt x="273" y="547"/>
                  </a:moveTo>
                  <a:lnTo>
                    <a:pt x="311" y="544"/>
                  </a:lnTo>
                  <a:lnTo>
                    <a:pt x="348" y="537"/>
                  </a:lnTo>
                  <a:lnTo>
                    <a:pt x="382" y="525"/>
                  </a:lnTo>
                  <a:lnTo>
                    <a:pt x="413" y="509"/>
                  </a:lnTo>
                  <a:lnTo>
                    <a:pt x="442" y="489"/>
                  </a:lnTo>
                  <a:lnTo>
                    <a:pt x="468" y="465"/>
                  </a:lnTo>
                  <a:lnTo>
                    <a:pt x="491" y="439"/>
                  </a:lnTo>
                  <a:lnTo>
                    <a:pt x="510" y="411"/>
                  </a:lnTo>
                  <a:lnTo>
                    <a:pt x="525" y="380"/>
                  </a:lnTo>
                  <a:lnTo>
                    <a:pt x="536" y="347"/>
                  </a:lnTo>
                  <a:lnTo>
                    <a:pt x="544" y="313"/>
                  </a:lnTo>
                  <a:lnTo>
                    <a:pt x="547" y="278"/>
                  </a:lnTo>
                  <a:lnTo>
                    <a:pt x="545" y="242"/>
                  </a:lnTo>
                  <a:lnTo>
                    <a:pt x="538" y="207"/>
                  </a:lnTo>
                  <a:lnTo>
                    <a:pt x="526" y="172"/>
                  </a:lnTo>
                  <a:lnTo>
                    <a:pt x="510" y="137"/>
                  </a:lnTo>
                  <a:lnTo>
                    <a:pt x="488" y="105"/>
                  </a:lnTo>
                  <a:lnTo>
                    <a:pt x="463" y="77"/>
                  </a:lnTo>
                  <a:lnTo>
                    <a:pt x="436" y="53"/>
                  </a:lnTo>
                  <a:lnTo>
                    <a:pt x="406" y="35"/>
                  </a:lnTo>
                  <a:lnTo>
                    <a:pt x="374" y="19"/>
                  </a:lnTo>
                  <a:lnTo>
                    <a:pt x="341" y="9"/>
                  </a:lnTo>
                  <a:lnTo>
                    <a:pt x="308" y="3"/>
                  </a:lnTo>
                  <a:lnTo>
                    <a:pt x="274" y="0"/>
                  </a:lnTo>
                  <a:lnTo>
                    <a:pt x="239" y="3"/>
                  </a:lnTo>
                  <a:lnTo>
                    <a:pt x="206" y="9"/>
                  </a:lnTo>
                  <a:lnTo>
                    <a:pt x="173" y="19"/>
                  </a:lnTo>
                  <a:lnTo>
                    <a:pt x="141" y="35"/>
                  </a:lnTo>
                  <a:lnTo>
                    <a:pt x="111" y="53"/>
                  </a:lnTo>
                  <a:lnTo>
                    <a:pt x="84" y="77"/>
                  </a:lnTo>
                  <a:lnTo>
                    <a:pt x="59" y="105"/>
                  </a:lnTo>
                  <a:lnTo>
                    <a:pt x="37" y="137"/>
                  </a:lnTo>
                  <a:lnTo>
                    <a:pt x="21" y="172"/>
                  </a:lnTo>
                  <a:lnTo>
                    <a:pt x="8" y="207"/>
                  </a:lnTo>
                  <a:lnTo>
                    <a:pt x="2" y="242"/>
                  </a:lnTo>
                  <a:lnTo>
                    <a:pt x="0" y="278"/>
                  </a:lnTo>
                  <a:lnTo>
                    <a:pt x="3" y="313"/>
                  </a:lnTo>
                  <a:lnTo>
                    <a:pt x="10" y="347"/>
                  </a:lnTo>
                  <a:lnTo>
                    <a:pt x="22" y="380"/>
                  </a:lnTo>
                  <a:lnTo>
                    <a:pt x="37" y="411"/>
                  </a:lnTo>
                  <a:lnTo>
                    <a:pt x="56" y="439"/>
                  </a:lnTo>
                  <a:lnTo>
                    <a:pt x="79" y="465"/>
                  </a:lnTo>
                  <a:lnTo>
                    <a:pt x="104" y="489"/>
                  </a:lnTo>
                  <a:lnTo>
                    <a:pt x="132" y="509"/>
                  </a:lnTo>
                  <a:lnTo>
                    <a:pt x="164" y="525"/>
                  </a:lnTo>
                  <a:lnTo>
                    <a:pt x="199" y="537"/>
                  </a:lnTo>
                  <a:lnTo>
                    <a:pt x="235" y="544"/>
                  </a:lnTo>
                  <a:lnTo>
                    <a:pt x="273" y="5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76840" y="3736800"/>
              <a:ext cx="129960" cy="208080"/>
            </a:xfrm>
            <a:custGeom>
              <a:avLst/>
              <a:gdLst/>
              <a:ahLst/>
              <a:rect l="l" t="t" r="r" b="b"/>
              <a:pathLst>
                <a:path w="328" h="524">
                  <a:moveTo>
                    <a:pt x="192" y="0"/>
                  </a:moveTo>
                  <a:lnTo>
                    <a:pt x="0" y="0"/>
                  </a:lnTo>
                  <a:lnTo>
                    <a:pt x="136" y="524"/>
                  </a:lnTo>
                  <a:lnTo>
                    <a:pt x="328" y="5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943440" y="3984480"/>
              <a:ext cx="46080" cy="139680"/>
            </a:xfrm>
            <a:custGeom>
              <a:avLst/>
              <a:gdLst/>
              <a:ahLst/>
              <a:rect l="l" t="t" r="r" b="b"/>
              <a:pathLst>
                <a:path w="116" h="352">
                  <a:moveTo>
                    <a:pt x="116" y="0"/>
                  </a:moveTo>
                  <a:lnTo>
                    <a:pt x="84" y="4"/>
                  </a:lnTo>
                  <a:lnTo>
                    <a:pt x="58" y="16"/>
                  </a:lnTo>
                  <a:lnTo>
                    <a:pt x="37" y="33"/>
                  </a:lnTo>
                  <a:lnTo>
                    <a:pt x="22" y="56"/>
                  </a:lnTo>
                  <a:lnTo>
                    <a:pt x="10" y="83"/>
                  </a:lnTo>
                  <a:lnTo>
                    <a:pt x="3" y="113"/>
                  </a:lnTo>
                  <a:lnTo>
                    <a:pt x="0" y="145"/>
                  </a:lnTo>
                  <a:lnTo>
                    <a:pt x="0" y="178"/>
                  </a:lnTo>
                  <a:lnTo>
                    <a:pt x="6" y="242"/>
                  </a:lnTo>
                  <a:lnTo>
                    <a:pt x="21" y="299"/>
                  </a:lnTo>
                  <a:lnTo>
                    <a:pt x="38" y="338"/>
                  </a:lnTo>
                  <a:lnTo>
                    <a:pt x="48" y="349"/>
                  </a:lnTo>
                  <a:lnTo>
                    <a:pt x="52" y="351"/>
                  </a:lnTo>
                  <a:lnTo>
                    <a:pt x="57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400040" y="3860640"/>
              <a:ext cx="2373480" cy="447840"/>
            </a:xfrm>
            <a:custGeom>
              <a:avLst/>
              <a:gdLst/>
              <a:ahLst/>
              <a:rect l="l" t="t" r="r" b="b"/>
              <a:pathLst>
                <a:path w="5980" h="1131">
                  <a:moveTo>
                    <a:pt x="567" y="1131"/>
                  </a:moveTo>
                  <a:lnTo>
                    <a:pt x="646" y="1126"/>
                  </a:lnTo>
                  <a:lnTo>
                    <a:pt x="722" y="1111"/>
                  </a:lnTo>
                  <a:lnTo>
                    <a:pt x="792" y="1085"/>
                  </a:lnTo>
                  <a:lnTo>
                    <a:pt x="857" y="1052"/>
                  </a:lnTo>
                  <a:lnTo>
                    <a:pt x="917" y="1010"/>
                  </a:lnTo>
                  <a:lnTo>
                    <a:pt x="970" y="962"/>
                  </a:lnTo>
                  <a:lnTo>
                    <a:pt x="1016" y="908"/>
                  </a:lnTo>
                  <a:lnTo>
                    <a:pt x="1056" y="848"/>
                  </a:lnTo>
                  <a:lnTo>
                    <a:pt x="1087" y="784"/>
                  </a:lnTo>
                  <a:lnTo>
                    <a:pt x="1111" y="716"/>
                  </a:lnTo>
                  <a:lnTo>
                    <a:pt x="1127" y="646"/>
                  </a:lnTo>
                  <a:lnTo>
                    <a:pt x="1133" y="573"/>
                  </a:lnTo>
                  <a:lnTo>
                    <a:pt x="1129" y="500"/>
                  </a:lnTo>
                  <a:lnTo>
                    <a:pt x="1115" y="427"/>
                  </a:lnTo>
                  <a:lnTo>
                    <a:pt x="1091" y="353"/>
                  </a:lnTo>
                  <a:lnTo>
                    <a:pt x="1056" y="282"/>
                  </a:lnTo>
                  <a:lnTo>
                    <a:pt x="1035" y="248"/>
                  </a:lnTo>
                  <a:lnTo>
                    <a:pt x="1012" y="216"/>
                  </a:lnTo>
                  <a:lnTo>
                    <a:pt x="960" y="159"/>
                  </a:lnTo>
                  <a:lnTo>
                    <a:pt x="903" y="111"/>
                  </a:lnTo>
                  <a:lnTo>
                    <a:pt x="842" y="70"/>
                  </a:lnTo>
                  <a:lnTo>
                    <a:pt x="776" y="39"/>
                  </a:lnTo>
                  <a:lnTo>
                    <a:pt x="708" y="18"/>
                  </a:lnTo>
                  <a:lnTo>
                    <a:pt x="638" y="4"/>
                  </a:lnTo>
                  <a:lnTo>
                    <a:pt x="567" y="0"/>
                  </a:lnTo>
                  <a:lnTo>
                    <a:pt x="495" y="4"/>
                  </a:lnTo>
                  <a:lnTo>
                    <a:pt x="425" y="18"/>
                  </a:lnTo>
                  <a:lnTo>
                    <a:pt x="357" y="39"/>
                  </a:lnTo>
                  <a:lnTo>
                    <a:pt x="291" y="70"/>
                  </a:lnTo>
                  <a:lnTo>
                    <a:pt x="230" y="111"/>
                  </a:lnTo>
                  <a:lnTo>
                    <a:pt x="173" y="159"/>
                  </a:lnTo>
                  <a:lnTo>
                    <a:pt x="121" y="216"/>
                  </a:lnTo>
                  <a:lnTo>
                    <a:pt x="98" y="248"/>
                  </a:lnTo>
                  <a:lnTo>
                    <a:pt x="77" y="282"/>
                  </a:lnTo>
                  <a:lnTo>
                    <a:pt x="58" y="317"/>
                  </a:lnTo>
                  <a:lnTo>
                    <a:pt x="42" y="353"/>
                  </a:lnTo>
                  <a:lnTo>
                    <a:pt x="18" y="427"/>
                  </a:lnTo>
                  <a:lnTo>
                    <a:pt x="3" y="500"/>
                  </a:lnTo>
                  <a:lnTo>
                    <a:pt x="0" y="573"/>
                  </a:lnTo>
                  <a:lnTo>
                    <a:pt x="6" y="646"/>
                  </a:lnTo>
                  <a:lnTo>
                    <a:pt x="22" y="716"/>
                  </a:lnTo>
                  <a:lnTo>
                    <a:pt x="46" y="784"/>
                  </a:lnTo>
                  <a:lnTo>
                    <a:pt x="77" y="848"/>
                  </a:lnTo>
                  <a:lnTo>
                    <a:pt x="117" y="908"/>
                  </a:lnTo>
                  <a:lnTo>
                    <a:pt x="164" y="962"/>
                  </a:lnTo>
                  <a:lnTo>
                    <a:pt x="216" y="1010"/>
                  </a:lnTo>
                  <a:lnTo>
                    <a:pt x="276" y="1052"/>
                  </a:lnTo>
                  <a:lnTo>
                    <a:pt x="341" y="1085"/>
                  </a:lnTo>
                  <a:lnTo>
                    <a:pt x="376" y="1099"/>
                  </a:lnTo>
                  <a:lnTo>
                    <a:pt x="412" y="1111"/>
                  </a:lnTo>
                  <a:lnTo>
                    <a:pt x="449" y="1119"/>
                  </a:lnTo>
                  <a:lnTo>
                    <a:pt x="487" y="1126"/>
                  </a:lnTo>
                  <a:lnTo>
                    <a:pt x="526" y="1130"/>
                  </a:lnTo>
                  <a:lnTo>
                    <a:pt x="567" y="1131"/>
                  </a:lnTo>
                  <a:lnTo>
                    <a:pt x="567" y="839"/>
                  </a:lnTo>
                  <a:lnTo>
                    <a:pt x="605" y="836"/>
                  </a:lnTo>
                  <a:lnTo>
                    <a:pt x="642" y="829"/>
                  </a:lnTo>
                  <a:lnTo>
                    <a:pt x="676" y="817"/>
                  </a:lnTo>
                  <a:lnTo>
                    <a:pt x="707" y="801"/>
                  </a:lnTo>
                  <a:lnTo>
                    <a:pt x="736" y="781"/>
                  </a:lnTo>
                  <a:lnTo>
                    <a:pt x="762" y="757"/>
                  </a:lnTo>
                  <a:lnTo>
                    <a:pt x="785" y="731"/>
                  </a:lnTo>
                  <a:lnTo>
                    <a:pt x="803" y="703"/>
                  </a:lnTo>
                  <a:lnTo>
                    <a:pt x="819" y="672"/>
                  </a:lnTo>
                  <a:lnTo>
                    <a:pt x="830" y="639"/>
                  </a:lnTo>
                  <a:lnTo>
                    <a:pt x="837" y="605"/>
                  </a:lnTo>
                  <a:lnTo>
                    <a:pt x="840" y="570"/>
                  </a:lnTo>
                  <a:lnTo>
                    <a:pt x="838" y="534"/>
                  </a:lnTo>
                  <a:lnTo>
                    <a:pt x="832" y="499"/>
                  </a:lnTo>
                  <a:lnTo>
                    <a:pt x="820" y="464"/>
                  </a:lnTo>
                  <a:lnTo>
                    <a:pt x="803" y="429"/>
                  </a:lnTo>
                  <a:lnTo>
                    <a:pt x="781" y="397"/>
                  </a:lnTo>
                  <a:lnTo>
                    <a:pt x="757" y="369"/>
                  </a:lnTo>
                  <a:lnTo>
                    <a:pt x="730" y="345"/>
                  </a:lnTo>
                  <a:lnTo>
                    <a:pt x="700" y="327"/>
                  </a:lnTo>
                  <a:lnTo>
                    <a:pt x="668" y="311"/>
                  </a:lnTo>
                  <a:lnTo>
                    <a:pt x="635" y="301"/>
                  </a:lnTo>
                  <a:lnTo>
                    <a:pt x="601" y="295"/>
                  </a:lnTo>
                  <a:lnTo>
                    <a:pt x="567" y="292"/>
                  </a:lnTo>
                  <a:lnTo>
                    <a:pt x="532" y="295"/>
                  </a:lnTo>
                  <a:lnTo>
                    <a:pt x="498" y="301"/>
                  </a:lnTo>
                  <a:lnTo>
                    <a:pt x="465" y="311"/>
                  </a:lnTo>
                  <a:lnTo>
                    <a:pt x="433" y="327"/>
                  </a:lnTo>
                  <a:lnTo>
                    <a:pt x="403" y="345"/>
                  </a:lnTo>
                  <a:lnTo>
                    <a:pt x="376" y="369"/>
                  </a:lnTo>
                  <a:lnTo>
                    <a:pt x="352" y="397"/>
                  </a:lnTo>
                  <a:lnTo>
                    <a:pt x="330" y="429"/>
                  </a:lnTo>
                  <a:lnTo>
                    <a:pt x="313" y="464"/>
                  </a:lnTo>
                  <a:lnTo>
                    <a:pt x="301" y="499"/>
                  </a:lnTo>
                  <a:lnTo>
                    <a:pt x="295" y="534"/>
                  </a:lnTo>
                  <a:lnTo>
                    <a:pt x="293" y="570"/>
                  </a:lnTo>
                  <a:lnTo>
                    <a:pt x="296" y="605"/>
                  </a:lnTo>
                  <a:lnTo>
                    <a:pt x="303" y="639"/>
                  </a:lnTo>
                  <a:lnTo>
                    <a:pt x="314" y="672"/>
                  </a:lnTo>
                  <a:lnTo>
                    <a:pt x="330" y="703"/>
                  </a:lnTo>
                  <a:lnTo>
                    <a:pt x="349" y="731"/>
                  </a:lnTo>
                  <a:lnTo>
                    <a:pt x="371" y="757"/>
                  </a:lnTo>
                  <a:lnTo>
                    <a:pt x="397" y="781"/>
                  </a:lnTo>
                  <a:lnTo>
                    <a:pt x="426" y="801"/>
                  </a:lnTo>
                  <a:lnTo>
                    <a:pt x="457" y="817"/>
                  </a:lnTo>
                  <a:lnTo>
                    <a:pt x="491" y="829"/>
                  </a:lnTo>
                  <a:lnTo>
                    <a:pt x="528" y="836"/>
                  </a:lnTo>
                  <a:lnTo>
                    <a:pt x="567" y="839"/>
                  </a:lnTo>
                  <a:lnTo>
                    <a:pt x="567" y="1131"/>
                  </a:lnTo>
                  <a:close/>
                  <a:moveTo>
                    <a:pt x="5414" y="1131"/>
                  </a:moveTo>
                  <a:lnTo>
                    <a:pt x="5493" y="1126"/>
                  </a:lnTo>
                  <a:lnTo>
                    <a:pt x="5569" y="1111"/>
                  </a:lnTo>
                  <a:lnTo>
                    <a:pt x="5639" y="1085"/>
                  </a:lnTo>
                  <a:lnTo>
                    <a:pt x="5704" y="1052"/>
                  </a:lnTo>
                  <a:lnTo>
                    <a:pt x="5764" y="1010"/>
                  </a:lnTo>
                  <a:lnTo>
                    <a:pt x="5817" y="962"/>
                  </a:lnTo>
                  <a:lnTo>
                    <a:pt x="5863" y="908"/>
                  </a:lnTo>
                  <a:lnTo>
                    <a:pt x="5904" y="848"/>
                  </a:lnTo>
                  <a:lnTo>
                    <a:pt x="5935" y="784"/>
                  </a:lnTo>
                  <a:lnTo>
                    <a:pt x="5958" y="716"/>
                  </a:lnTo>
                  <a:lnTo>
                    <a:pt x="5974" y="646"/>
                  </a:lnTo>
                  <a:lnTo>
                    <a:pt x="5980" y="573"/>
                  </a:lnTo>
                  <a:lnTo>
                    <a:pt x="5976" y="500"/>
                  </a:lnTo>
                  <a:lnTo>
                    <a:pt x="5963" y="427"/>
                  </a:lnTo>
                  <a:lnTo>
                    <a:pt x="5939" y="353"/>
                  </a:lnTo>
                  <a:lnTo>
                    <a:pt x="5904" y="282"/>
                  </a:lnTo>
                  <a:lnTo>
                    <a:pt x="5882" y="248"/>
                  </a:lnTo>
                  <a:lnTo>
                    <a:pt x="5859" y="216"/>
                  </a:lnTo>
                  <a:lnTo>
                    <a:pt x="5808" y="159"/>
                  </a:lnTo>
                  <a:lnTo>
                    <a:pt x="5751" y="111"/>
                  </a:lnTo>
                  <a:lnTo>
                    <a:pt x="5690" y="70"/>
                  </a:lnTo>
                  <a:lnTo>
                    <a:pt x="5624" y="39"/>
                  </a:lnTo>
                  <a:lnTo>
                    <a:pt x="5555" y="18"/>
                  </a:lnTo>
                  <a:lnTo>
                    <a:pt x="5485" y="4"/>
                  </a:lnTo>
                  <a:lnTo>
                    <a:pt x="5414" y="0"/>
                  </a:lnTo>
                  <a:lnTo>
                    <a:pt x="5343" y="4"/>
                  </a:lnTo>
                  <a:lnTo>
                    <a:pt x="5272" y="18"/>
                  </a:lnTo>
                  <a:lnTo>
                    <a:pt x="5204" y="39"/>
                  </a:lnTo>
                  <a:lnTo>
                    <a:pt x="5138" y="70"/>
                  </a:lnTo>
                  <a:lnTo>
                    <a:pt x="5077" y="111"/>
                  </a:lnTo>
                  <a:lnTo>
                    <a:pt x="5020" y="159"/>
                  </a:lnTo>
                  <a:lnTo>
                    <a:pt x="4969" y="216"/>
                  </a:lnTo>
                  <a:lnTo>
                    <a:pt x="4946" y="248"/>
                  </a:lnTo>
                  <a:lnTo>
                    <a:pt x="4924" y="282"/>
                  </a:lnTo>
                  <a:lnTo>
                    <a:pt x="4906" y="317"/>
                  </a:lnTo>
                  <a:lnTo>
                    <a:pt x="4889" y="353"/>
                  </a:lnTo>
                  <a:lnTo>
                    <a:pt x="4865" y="427"/>
                  </a:lnTo>
                  <a:lnTo>
                    <a:pt x="4851" y="500"/>
                  </a:lnTo>
                  <a:lnTo>
                    <a:pt x="4848" y="573"/>
                  </a:lnTo>
                  <a:lnTo>
                    <a:pt x="4854" y="646"/>
                  </a:lnTo>
                  <a:lnTo>
                    <a:pt x="4869" y="716"/>
                  </a:lnTo>
                  <a:lnTo>
                    <a:pt x="4893" y="784"/>
                  </a:lnTo>
                  <a:lnTo>
                    <a:pt x="4924" y="848"/>
                  </a:lnTo>
                  <a:lnTo>
                    <a:pt x="4964" y="908"/>
                  </a:lnTo>
                  <a:lnTo>
                    <a:pt x="5011" y="962"/>
                  </a:lnTo>
                  <a:lnTo>
                    <a:pt x="5064" y="1010"/>
                  </a:lnTo>
                  <a:lnTo>
                    <a:pt x="5124" y="1052"/>
                  </a:lnTo>
                  <a:lnTo>
                    <a:pt x="5189" y="1085"/>
                  </a:lnTo>
                  <a:lnTo>
                    <a:pt x="5224" y="1099"/>
                  </a:lnTo>
                  <a:lnTo>
                    <a:pt x="5259" y="1111"/>
                  </a:lnTo>
                  <a:lnTo>
                    <a:pt x="5296" y="1119"/>
                  </a:lnTo>
                  <a:lnTo>
                    <a:pt x="5334" y="1126"/>
                  </a:lnTo>
                  <a:lnTo>
                    <a:pt x="5374" y="1130"/>
                  </a:lnTo>
                  <a:lnTo>
                    <a:pt x="5414" y="1131"/>
                  </a:lnTo>
                  <a:lnTo>
                    <a:pt x="5414" y="839"/>
                  </a:lnTo>
                  <a:lnTo>
                    <a:pt x="5452" y="836"/>
                  </a:lnTo>
                  <a:lnTo>
                    <a:pt x="5489" y="829"/>
                  </a:lnTo>
                  <a:lnTo>
                    <a:pt x="5523" y="817"/>
                  </a:lnTo>
                  <a:lnTo>
                    <a:pt x="5554" y="801"/>
                  </a:lnTo>
                  <a:lnTo>
                    <a:pt x="5583" y="781"/>
                  </a:lnTo>
                  <a:lnTo>
                    <a:pt x="5609" y="757"/>
                  </a:lnTo>
                  <a:lnTo>
                    <a:pt x="5632" y="731"/>
                  </a:lnTo>
                  <a:lnTo>
                    <a:pt x="5651" y="703"/>
                  </a:lnTo>
                  <a:lnTo>
                    <a:pt x="5666" y="672"/>
                  </a:lnTo>
                  <a:lnTo>
                    <a:pt x="5677" y="639"/>
                  </a:lnTo>
                  <a:lnTo>
                    <a:pt x="5685" y="605"/>
                  </a:lnTo>
                  <a:lnTo>
                    <a:pt x="5688" y="570"/>
                  </a:lnTo>
                  <a:lnTo>
                    <a:pt x="5686" y="534"/>
                  </a:lnTo>
                  <a:lnTo>
                    <a:pt x="5679" y="499"/>
                  </a:lnTo>
                  <a:lnTo>
                    <a:pt x="5667" y="464"/>
                  </a:lnTo>
                  <a:lnTo>
                    <a:pt x="5651" y="429"/>
                  </a:lnTo>
                  <a:lnTo>
                    <a:pt x="5629" y="397"/>
                  </a:lnTo>
                  <a:lnTo>
                    <a:pt x="5604" y="369"/>
                  </a:lnTo>
                  <a:lnTo>
                    <a:pt x="5577" y="345"/>
                  </a:lnTo>
                  <a:lnTo>
                    <a:pt x="5547" y="327"/>
                  </a:lnTo>
                  <a:lnTo>
                    <a:pt x="5515" y="311"/>
                  </a:lnTo>
                  <a:lnTo>
                    <a:pt x="5482" y="301"/>
                  </a:lnTo>
                  <a:lnTo>
                    <a:pt x="5448" y="295"/>
                  </a:lnTo>
                  <a:lnTo>
                    <a:pt x="5414" y="292"/>
                  </a:lnTo>
                  <a:lnTo>
                    <a:pt x="5380" y="295"/>
                  </a:lnTo>
                  <a:lnTo>
                    <a:pt x="5346" y="301"/>
                  </a:lnTo>
                  <a:lnTo>
                    <a:pt x="5313" y="311"/>
                  </a:lnTo>
                  <a:lnTo>
                    <a:pt x="5281" y="327"/>
                  </a:lnTo>
                  <a:lnTo>
                    <a:pt x="5251" y="345"/>
                  </a:lnTo>
                  <a:lnTo>
                    <a:pt x="5224" y="369"/>
                  </a:lnTo>
                  <a:lnTo>
                    <a:pt x="5199" y="397"/>
                  </a:lnTo>
                  <a:lnTo>
                    <a:pt x="5177" y="429"/>
                  </a:lnTo>
                  <a:lnTo>
                    <a:pt x="5161" y="464"/>
                  </a:lnTo>
                  <a:lnTo>
                    <a:pt x="5148" y="499"/>
                  </a:lnTo>
                  <a:lnTo>
                    <a:pt x="5142" y="534"/>
                  </a:lnTo>
                  <a:lnTo>
                    <a:pt x="5140" y="570"/>
                  </a:lnTo>
                  <a:lnTo>
                    <a:pt x="5143" y="605"/>
                  </a:lnTo>
                  <a:lnTo>
                    <a:pt x="5150" y="639"/>
                  </a:lnTo>
                  <a:lnTo>
                    <a:pt x="5162" y="672"/>
                  </a:lnTo>
                  <a:lnTo>
                    <a:pt x="5177" y="703"/>
                  </a:lnTo>
                  <a:lnTo>
                    <a:pt x="5197" y="731"/>
                  </a:lnTo>
                  <a:lnTo>
                    <a:pt x="5219" y="757"/>
                  </a:lnTo>
                  <a:lnTo>
                    <a:pt x="5244" y="781"/>
                  </a:lnTo>
                  <a:lnTo>
                    <a:pt x="5273" y="801"/>
                  </a:lnTo>
                  <a:lnTo>
                    <a:pt x="5304" y="817"/>
                  </a:lnTo>
                  <a:lnTo>
                    <a:pt x="5338" y="829"/>
                  </a:lnTo>
                  <a:lnTo>
                    <a:pt x="5376" y="836"/>
                  </a:lnTo>
                  <a:lnTo>
                    <a:pt x="5414" y="839"/>
                  </a:lnTo>
                  <a:lnTo>
                    <a:pt x="5414" y="1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400040" y="3860640"/>
              <a:ext cx="449280" cy="447840"/>
            </a:xfrm>
            <a:custGeom>
              <a:avLst/>
              <a:gdLst/>
              <a:ahLst/>
              <a:rect l="l" t="t" r="r" b="b"/>
              <a:pathLst>
                <a:path w="1133" h="1131">
                  <a:moveTo>
                    <a:pt x="567" y="1131"/>
                  </a:moveTo>
                  <a:lnTo>
                    <a:pt x="646" y="1126"/>
                  </a:lnTo>
                  <a:lnTo>
                    <a:pt x="722" y="1111"/>
                  </a:lnTo>
                  <a:lnTo>
                    <a:pt x="792" y="1085"/>
                  </a:lnTo>
                  <a:lnTo>
                    <a:pt x="857" y="1052"/>
                  </a:lnTo>
                  <a:lnTo>
                    <a:pt x="917" y="1010"/>
                  </a:lnTo>
                  <a:lnTo>
                    <a:pt x="970" y="962"/>
                  </a:lnTo>
                  <a:lnTo>
                    <a:pt x="1016" y="908"/>
                  </a:lnTo>
                  <a:lnTo>
                    <a:pt x="1056" y="848"/>
                  </a:lnTo>
                  <a:lnTo>
                    <a:pt x="1087" y="784"/>
                  </a:lnTo>
                  <a:lnTo>
                    <a:pt x="1111" y="716"/>
                  </a:lnTo>
                  <a:lnTo>
                    <a:pt x="1127" y="646"/>
                  </a:lnTo>
                  <a:lnTo>
                    <a:pt x="1133" y="573"/>
                  </a:lnTo>
                  <a:lnTo>
                    <a:pt x="1129" y="500"/>
                  </a:lnTo>
                  <a:lnTo>
                    <a:pt x="1115" y="427"/>
                  </a:lnTo>
                  <a:lnTo>
                    <a:pt x="1091" y="353"/>
                  </a:lnTo>
                  <a:lnTo>
                    <a:pt x="1056" y="282"/>
                  </a:lnTo>
                  <a:lnTo>
                    <a:pt x="1035" y="248"/>
                  </a:lnTo>
                  <a:lnTo>
                    <a:pt x="1012" y="216"/>
                  </a:lnTo>
                  <a:lnTo>
                    <a:pt x="960" y="159"/>
                  </a:lnTo>
                  <a:lnTo>
                    <a:pt x="903" y="111"/>
                  </a:lnTo>
                  <a:lnTo>
                    <a:pt x="842" y="70"/>
                  </a:lnTo>
                  <a:lnTo>
                    <a:pt x="776" y="39"/>
                  </a:lnTo>
                  <a:lnTo>
                    <a:pt x="708" y="18"/>
                  </a:lnTo>
                  <a:lnTo>
                    <a:pt x="638" y="4"/>
                  </a:lnTo>
                  <a:lnTo>
                    <a:pt x="567" y="0"/>
                  </a:lnTo>
                  <a:lnTo>
                    <a:pt x="495" y="4"/>
                  </a:lnTo>
                  <a:lnTo>
                    <a:pt x="425" y="18"/>
                  </a:lnTo>
                  <a:lnTo>
                    <a:pt x="357" y="39"/>
                  </a:lnTo>
                  <a:lnTo>
                    <a:pt x="291" y="70"/>
                  </a:lnTo>
                  <a:lnTo>
                    <a:pt x="230" y="111"/>
                  </a:lnTo>
                  <a:lnTo>
                    <a:pt x="173" y="159"/>
                  </a:lnTo>
                  <a:lnTo>
                    <a:pt x="121" y="216"/>
                  </a:lnTo>
                  <a:lnTo>
                    <a:pt x="98" y="248"/>
                  </a:lnTo>
                  <a:lnTo>
                    <a:pt x="77" y="282"/>
                  </a:lnTo>
                  <a:lnTo>
                    <a:pt x="58" y="317"/>
                  </a:lnTo>
                  <a:lnTo>
                    <a:pt x="42" y="353"/>
                  </a:lnTo>
                  <a:lnTo>
                    <a:pt x="18" y="427"/>
                  </a:lnTo>
                  <a:lnTo>
                    <a:pt x="3" y="500"/>
                  </a:lnTo>
                  <a:lnTo>
                    <a:pt x="0" y="573"/>
                  </a:lnTo>
                  <a:lnTo>
                    <a:pt x="6" y="646"/>
                  </a:lnTo>
                  <a:lnTo>
                    <a:pt x="22" y="716"/>
                  </a:lnTo>
                  <a:lnTo>
                    <a:pt x="46" y="784"/>
                  </a:lnTo>
                  <a:lnTo>
                    <a:pt x="77" y="848"/>
                  </a:lnTo>
                  <a:lnTo>
                    <a:pt x="117" y="908"/>
                  </a:lnTo>
                  <a:lnTo>
                    <a:pt x="164" y="962"/>
                  </a:lnTo>
                  <a:lnTo>
                    <a:pt x="216" y="1010"/>
                  </a:lnTo>
                  <a:lnTo>
                    <a:pt x="276" y="1052"/>
                  </a:lnTo>
                  <a:lnTo>
                    <a:pt x="341" y="1085"/>
                  </a:lnTo>
                  <a:lnTo>
                    <a:pt x="376" y="1099"/>
                  </a:lnTo>
                  <a:lnTo>
                    <a:pt x="412" y="1111"/>
                  </a:lnTo>
                  <a:lnTo>
                    <a:pt x="449" y="1119"/>
                  </a:lnTo>
                  <a:lnTo>
                    <a:pt x="487" y="1126"/>
                  </a:lnTo>
                  <a:lnTo>
                    <a:pt x="526" y="1130"/>
                  </a:lnTo>
                  <a:lnTo>
                    <a:pt x="567" y="113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515960" y="3976560"/>
              <a:ext cx="217440" cy="216000"/>
            </a:xfrm>
            <a:custGeom>
              <a:avLst/>
              <a:gdLst/>
              <a:ahLst/>
              <a:rect l="l" t="t" r="r" b="b"/>
              <a:pathLst>
                <a:path w="547" h="547">
                  <a:moveTo>
                    <a:pt x="274" y="547"/>
                  </a:moveTo>
                  <a:lnTo>
                    <a:pt x="312" y="544"/>
                  </a:lnTo>
                  <a:lnTo>
                    <a:pt x="349" y="537"/>
                  </a:lnTo>
                  <a:lnTo>
                    <a:pt x="383" y="525"/>
                  </a:lnTo>
                  <a:lnTo>
                    <a:pt x="414" y="509"/>
                  </a:lnTo>
                  <a:lnTo>
                    <a:pt x="443" y="489"/>
                  </a:lnTo>
                  <a:lnTo>
                    <a:pt x="469" y="465"/>
                  </a:lnTo>
                  <a:lnTo>
                    <a:pt x="492" y="439"/>
                  </a:lnTo>
                  <a:lnTo>
                    <a:pt x="510" y="411"/>
                  </a:lnTo>
                  <a:lnTo>
                    <a:pt x="526" y="380"/>
                  </a:lnTo>
                  <a:lnTo>
                    <a:pt x="537" y="347"/>
                  </a:lnTo>
                  <a:lnTo>
                    <a:pt x="544" y="313"/>
                  </a:lnTo>
                  <a:lnTo>
                    <a:pt x="547" y="278"/>
                  </a:lnTo>
                  <a:lnTo>
                    <a:pt x="545" y="242"/>
                  </a:lnTo>
                  <a:lnTo>
                    <a:pt x="539" y="207"/>
                  </a:lnTo>
                  <a:lnTo>
                    <a:pt x="527" y="172"/>
                  </a:lnTo>
                  <a:lnTo>
                    <a:pt x="510" y="137"/>
                  </a:lnTo>
                  <a:lnTo>
                    <a:pt x="488" y="105"/>
                  </a:lnTo>
                  <a:lnTo>
                    <a:pt x="464" y="77"/>
                  </a:lnTo>
                  <a:lnTo>
                    <a:pt x="437" y="53"/>
                  </a:lnTo>
                  <a:lnTo>
                    <a:pt x="407" y="35"/>
                  </a:lnTo>
                  <a:lnTo>
                    <a:pt x="375" y="19"/>
                  </a:lnTo>
                  <a:lnTo>
                    <a:pt x="342" y="9"/>
                  </a:lnTo>
                  <a:lnTo>
                    <a:pt x="308" y="3"/>
                  </a:lnTo>
                  <a:lnTo>
                    <a:pt x="274" y="0"/>
                  </a:lnTo>
                  <a:lnTo>
                    <a:pt x="239" y="3"/>
                  </a:lnTo>
                  <a:lnTo>
                    <a:pt x="205" y="9"/>
                  </a:lnTo>
                  <a:lnTo>
                    <a:pt x="172" y="19"/>
                  </a:lnTo>
                  <a:lnTo>
                    <a:pt x="140" y="35"/>
                  </a:lnTo>
                  <a:lnTo>
                    <a:pt x="110" y="53"/>
                  </a:lnTo>
                  <a:lnTo>
                    <a:pt x="83" y="77"/>
                  </a:lnTo>
                  <a:lnTo>
                    <a:pt x="59" y="105"/>
                  </a:lnTo>
                  <a:lnTo>
                    <a:pt x="37" y="137"/>
                  </a:lnTo>
                  <a:lnTo>
                    <a:pt x="20" y="172"/>
                  </a:lnTo>
                  <a:lnTo>
                    <a:pt x="8" y="207"/>
                  </a:lnTo>
                  <a:lnTo>
                    <a:pt x="2" y="242"/>
                  </a:lnTo>
                  <a:lnTo>
                    <a:pt x="0" y="278"/>
                  </a:lnTo>
                  <a:lnTo>
                    <a:pt x="3" y="313"/>
                  </a:lnTo>
                  <a:lnTo>
                    <a:pt x="10" y="347"/>
                  </a:lnTo>
                  <a:lnTo>
                    <a:pt x="21" y="380"/>
                  </a:lnTo>
                  <a:lnTo>
                    <a:pt x="37" y="411"/>
                  </a:lnTo>
                  <a:lnTo>
                    <a:pt x="56" y="439"/>
                  </a:lnTo>
                  <a:lnTo>
                    <a:pt x="78" y="465"/>
                  </a:lnTo>
                  <a:lnTo>
                    <a:pt x="104" y="489"/>
                  </a:lnTo>
                  <a:lnTo>
                    <a:pt x="133" y="509"/>
                  </a:lnTo>
                  <a:lnTo>
                    <a:pt x="164" y="525"/>
                  </a:lnTo>
                  <a:lnTo>
                    <a:pt x="198" y="537"/>
                  </a:lnTo>
                  <a:lnTo>
                    <a:pt x="235" y="544"/>
                  </a:lnTo>
                  <a:lnTo>
                    <a:pt x="274" y="5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324240" y="3860640"/>
              <a:ext cx="449280" cy="447840"/>
            </a:xfrm>
            <a:custGeom>
              <a:avLst/>
              <a:gdLst/>
              <a:ahLst/>
              <a:rect l="l" t="t" r="r" b="b"/>
              <a:pathLst>
                <a:path w="1132" h="1131">
                  <a:moveTo>
                    <a:pt x="566" y="1131"/>
                  </a:moveTo>
                  <a:lnTo>
                    <a:pt x="645" y="1126"/>
                  </a:lnTo>
                  <a:lnTo>
                    <a:pt x="721" y="1111"/>
                  </a:lnTo>
                  <a:lnTo>
                    <a:pt x="791" y="1085"/>
                  </a:lnTo>
                  <a:lnTo>
                    <a:pt x="856" y="1052"/>
                  </a:lnTo>
                  <a:lnTo>
                    <a:pt x="916" y="1010"/>
                  </a:lnTo>
                  <a:lnTo>
                    <a:pt x="969" y="962"/>
                  </a:lnTo>
                  <a:lnTo>
                    <a:pt x="1015" y="908"/>
                  </a:lnTo>
                  <a:lnTo>
                    <a:pt x="1056" y="848"/>
                  </a:lnTo>
                  <a:lnTo>
                    <a:pt x="1087" y="784"/>
                  </a:lnTo>
                  <a:lnTo>
                    <a:pt x="1110" y="716"/>
                  </a:lnTo>
                  <a:lnTo>
                    <a:pt x="1126" y="646"/>
                  </a:lnTo>
                  <a:lnTo>
                    <a:pt x="1132" y="573"/>
                  </a:lnTo>
                  <a:lnTo>
                    <a:pt x="1128" y="500"/>
                  </a:lnTo>
                  <a:lnTo>
                    <a:pt x="1115" y="427"/>
                  </a:lnTo>
                  <a:lnTo>
                    <a:pt x="1091" y="353"/>
                  </a:lnTo>
                  <a:lnTo>
                    <a:pt x="1056" y="282"/>
                  </a:lnTo>
                  <a:lnTo>
                    <a:pt x="1034" y="248"/>
                  </a:lnTo>
                  <a:lnTo>
                    <a:pt x="1011" y="216"/>
                  </a:lnTo>
                  <a:lnTo>
                    <a:pt x="960" y="159"/>
                  </a:lnTo>
                  <a:lnTo>
                    <a:pt x="903" y="111"/>
                  </a:lnTo>
                  <a:lnTo>
                    <a:pt x="842" y="70"/>
                  </a:lnTo>
                  <a:lnTo>
                    <a:pt x="776" y="39"/>
                  </a:lnTo>
                  <a:lnTo>
                    <a:pt x="707" y="18"/>
                  </a:lnTo>
                  <a:lnTo>
                    <a:pt x="637" y="4"/>
                  </a:lnTo>
                  <a:lnTo>
                    <a:pt x="566" y="0"/>
                  </a:lnTo>
                  <a:lnTo>
                    <a:pt x="495" y="4"/>
                  </a:lnTo>
                  <a:lnTo>
                    <a:pt x="424" y="18"/>
                  </a:lnTo>
                  <a:lnTo>
                    <a:pt x="356" y="39"/>
                  </a:lnTo>
                  <a:lnTo>
                    <a:pt x="290" y="70"/>
                  </a:lnTo>
                  <a:lnTo>
                    <a:pt x="229" y="111"/>
                  </a:lnTo>
                  <a:lnTo>
                    <a:pt x="172" y="159"/>
                  </a:lnTo>
                  <a:lnTo>
                    <a:pt x="121" y="216"/>
                  </a:lnTo>
                  <a:lnTo>
                    <a:pt x="98" y="248"/>
                  </a:lnTo>
                  <a:lnTo>
                    <a:pt x="76" y="282"/>
                  </a:lnTo>
                  <a:lnTo>
                    <a:pt x="58" y="317"/>
                  </a:lnTo>
                  <a:lnTo>
                    <a:pt x="41" y="353"/>
                  </a:lnTo>
                  <a:lnTo>
                    <a:pt x="17" y="427"/>
                  </a:lnTo>
                  <a:lnTo>
                    <a:pt x="3" y="500"/>
                  </a:lnTo>
                  <a:lnTo>
                    <a:pt x="0" y="573"/>
                  </a:lnTo>
                  <a:lnTo>
                    <a:pt x="6" y="646"/>
                  </a:lnTo>
                  <a:lnTo>
                    <a:pt x="21" y="716"/>
                  </a:lnTo>
                  <a:lnTo>
                    <a:pt x="45" y="784"/>
                  </a:lnTo>
                  <a:lnTo>
                    <a:pt x="76" y="848"/>
                  </a:lnTo>
                  <a:lnTo>
                    <a:pt x="116" y="908"/>
                  </a:lnTo>
                  <a:lnTo>
                    <a:pt x="163" y="962"/>
                  </a:lnTo>
                  <a:lnTo>
                    <a:pt x="216" y="1010"/>
                  </a:lnTo>
                  <a:lnTo>
                    <a:pt x="276" y="1052"/>
                  </a:lnTo>
                  <a:lnTo>
                    <a:pt x="341" y="1085"/>
                  </a:lnTo>
                  <a:lnTo>
                    <a:pt x="376" y="1099"/>
                  </a:lnTo>
                  <a:lnTo>
                    <a:pt x="411" y="1111"/>
                  </a:lnTo>
                  <a:lnTo>
                    <a:pt x="448" y="1119"/>
                  </a:lnTo>
                  <a:lnTo>
                    <a:pt x="486" y="1126"/>
                  </a:lnTo>
                  <a:lnTo>
                    <a:pt x="526" y="1130"/>
                  </a:lnTo>
                  <a:lnTo>
                    <a:pt x="566" y="113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440160" y="3976560"/>
              <a:ext cx="217440" cy="216000"/>
            </a:xfrm>
            <a:custGeom>
              <a:avLst/>
              <a:gdLst/>
              <a:ahLst/>
              <a:rect l="l" t="t" r="r" b="b"/>
              <a:pathLst>
                <a:path w="548" h="547">
                  <a:moveTo>
                    <a:pt x="274" y="547"/>
                  </a:moveTo>
                  <a:lnTo>
                    <a:pt x="312" y="544"/>
                  </a:lnTo>
                  <a:lnTo>
                    <a:pt x="349" y="537"/>
                  </a:lnTo>
                  <a:lnTo>
                    <a:pt x="383" y="525"/>
                  </a:lnTo>
                  <a:lnTo>
                    <a:pt x="414" y="509"/>
                  </a:lnTo>
                  <a:lnTo>
                    <a:pt x="443" y="489"/>
                  </a:lnTo>
                  <a:lnTo>
                    <a:pt x="469" y="465"/>
                  </a:lnTo>
                  <a:lnTo>
                    <a:pt x="492" y="439"/>
                  </a:lnTo>
                  <a:lnTo>
                    <a:pt x="511" y="411"/>
                  </a:lnTo>
                  <a:lnTo>
                    <a:pt x="526" y="380"/>
                  </a:lnTo>
                  <a:lnTo>
                    <a:pt x="537" y="347"/>
                  </a:lnTo>
                  <a:lnTo>
                    <a:pt x="545" y="313"/>
                  </a:lnTo>
                  <a:lnTo>
                    <a:pt x="548" y="278"/>
                  </a:lnTo>
                  <a:lnTo>
                    <a:pt x="546" y="242"/>
                  </a:lnTo>
                  <a:lnTo>
                    <a:pt x="539" y="207"/>
                  </a:lnTo>
                  <a:lnTo>
                    <a:pt x="527" y="172"/>
                  </a:lnTo>
                  <a:lnTo>
                    <a:pt x="511" y="137"/>
                  </a:lnTo>
                  <a:lnTo>
                    <a:pt x="489" y="105"/>
                  </a:lnTo>
                  <a:lnTo>
                    <a:pt x="464" y="77"/>
                  </a:lnTo>
                  <a:lnTo>
                    <a:pt x="437" y="53"/>
                  </a:lnTo>
                  <a:lnTo>
                    <a:pt x="407" y="35"/>
                  </a:lnTo>
                  <a:lnTo>
                    <a:pt x="375" y="19"/>
                  </a:lnTo>
                  <a:lnTo>
                    <a:pt x="342" y="9"/>
                  </a:lnTo>
                  <a:lnTo>
                    <a:pt x="308" y="3"/>
                  </a:lnTo>
                  <a:lnTo>
                    <a:pt x="274" y="0"/>
                  </a:lnTo>
                  <a:lnTo>
                    <a:pt x="240" y="3"/>
                  </a:lnTo>
                  <a:lnTo>
                    <a:pt x="206" y="9"/>
                  </a:lnTo>
                  <a:lnTo>
                    <a:pt x="173" y="19"/>
                  </a:lnTo>
                  <a:lnTo>
                    <a:pt x="141" y="35"/>
                  </a:lnTo>
                  <a:lnTo>
                    <a:pt x="111" y="53"/>
                  </a:lnTo>
                  <a:lnTo>
                    <a:pt x="84" y="77"/>
                  </a:lnTo>
                  <a:lnTo>
                    <a:pt x="59" y="105"/>
                  </a:lnTo>
                  <a:lnTo>
                    <a:pt x="37" y="137"/>
                  </a:lnTo>
                  <a:lnTo>
                    <a:pt x="21" y="172"/>
                  </a:lnTo>
                  <a:lnTo>
                    <a:pt x="8" y="207"/>
                  </a:lnTo>
                  <a:lnTo>
                    <a:pt x="2" y="242"/>
                  </a:lnTo>
                  <a:lnTo>
                    <a:pt x="0" y="278"/>
                  </a:lnTo>
                  <a:lnTo>
                    <a:pt x="3" y="313"/>
                  </a:lnTo>
                  <a:lnTo>
                    <a:pt x="10" y="347"/>
                  </a:lnTo>
                  <a:lnTo>
                    <a:pt x="22" y="380"/>
                  </a:lnTo>
                  <a:lnTo>
                    <a:pt x="37" y="411"/>
                  </a:lnTo>
                  <a:lnTo>
                    <a:pt x="57" y="439"/>
                  </a:lnTo>
                  <a:lnTo>
                    <a:pt x="79" y="465"/>
                  </a:lnTo>
                  <a:lnTo>
                    <a:pt x="104" y="489"/>
                  </a:lnTo>
                  <a:lnTo>
                    <a:pt x="133" y="509"/>
                  </a:lnTo>
                  <a:lnTo>
                    <a:pt x="164" y="525"/>
                  </a:lnTo>
                  <a:lnTo>
                    <a:pt x="198" y="537"/>
                  </a:lnTo>
                  <a:lnTo>
                    <a:pt x="236" y="544"/>
                  </a:lnTo>
                  <a:lnTo>
                    <a:pt x="274" y="5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3" name="ACCENT12" descr=""/>
          <p:cNvPicPr/>
          <p:nvPr/>
        </p:nvPicPr>
        <p:blipFill>
          <a:blip r:embed="rId1"/>
          <a:stretch/>
        </p:blipFill>
        <p:spPr>
          <a:xfrm>
            <a:off x="1523880" y="2917800"/>
            <a:ext cx="1781280" cy="1782720"/>
          </a:xfrm>
          <a:prstGeom prst="rect">
            <a:avLst/>
          </a:prstGeom>
          <a:ln w="0">
            <a:noFill/>
          </a:ln>
        </p:spPr>
      </p:pic>
      <p:sp>
        <p:nvSpPr>
          <p:cNvPr id="2154" name=""/>
          <p:cNvSpPr/>
          <p:nvPr/>
        </p:nvSpPr>
        <p:spPr>
          <a:xfrm>
            <a:off x="2364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6080040" y="2917800"/>
            <a:ext cx="1747800" cy="1743120"/>
          </a:xfrm>
          <a:custGeom>
            <a:avLst/>
            <a:gdLst/>
            <a:ahLst/>
            <a:rect l="l" t="t" r="r" b="b"/>
            <a:pathLst>
              <a:path w="5502" h="6589">
                <a:moveTo>
                  <a:pt x="2752" y="6589"/>
                </a:moveTo>
                <a:lnTo>
                  <a:pt x="2652" y="6587"/>
                </a:lnTo>
                <a:lnTo>
                  <a:pt x="2555" y="6581"/>
                </a:lnTo>
                <a:lnTo>
                  <a:pt x="2459" y="6571"/>
                </a:lnTo>
                <a:lnTo>
                  <a:pt x="2364" y="6558"/>
                </a:lnTo>
                <a:lnTo>
                  <a:pt x="2271" y="6540"/>
                </a:lnTo>
                <a:lnTo>
                  <a:pt x="2178" y="6520"/>
                </a:lnTo>
                <a:lnTo>
                  <a:pt x="2088" y="6494"/>
                </a:lnTo>
                <a:lnTo>
                  <a:pt x="1998" y="6467"/>
                </a:lnTo>
                <a:lnTo>
                  <a:pt x="1910" y="6436"/>
                </a:lnTo>
                <a:lnTo>
                  <a:pt x="1824" y="6401"/>
                </a:lnTo>
                <a:lnTo>
                  <a:pt x="1655" y="6322"/>
                </a:lnTo>
                <a:lnTo>
                  <a:pt x="1494" y="6229"/>
                </a:lnTo>
                <a:lnTo>
                  <a:pt x="1415" y="6179"/>
                </a:lnTo>
                <a:lnTo>
                  <a:pt x="1338" y="6126"/>
                </a:lnTo>
                <a:lnTo>
                  <a:pt x="1263" y="6070"/>
                </a:lnTo>
                <a:lnTo>
                  <a:pt x="1190" y="6011"/>
                </a:lnTo>
                <a:lnTo>
                  <a:pt x="1119" y="5950"/>
                </a:lnTo>
                <a:lnTo>
                  <a:pt x="1049" y="5885"/>
                </a:lnTo>
                <a:lnTo>
                  <a:pt x="916" y="5749"/>
                </a:lnTo>
                <a:lnTo>
                  <a:pt x="790" y="5604"/>
                </a:lnTo>
                <a:lnTo>
                  <a:pt x="673" y="5451"/>
                </a:lnTo>
                <a:lnTo>
                  <a:pt x="564" y="5289"/>
                </a:lnTo>
                <a:lnTo>
                  <a:pt x="463" y="5118"/>
                </a:lnTo>
                <a:lnTo>
                  <a:pt x="417" y="5031"/>
                </a:lnTo>
                <a:lnTo>
                  <a:pt x="372" y="4942"/>
                </a:lnTo>
                <a:lnTo>
                  <a:pt x="290" y="4758"/>
                </a:lnTo>
                <a:lnTo>
                  <a:pt x="218" y="4569"/>
                </a:lnTo>
                <a:lnTo>
                  <a:pt x="155" y="4374"/>
                </a:lnTo>
                <a:lnTo>
                  <a:pt x="103" y="4175"/>
                </a:lnTo>
                <a:lnTo>
                  <a:pt x="61" y="3972"/>
                </a:lnTo>
                <a:lnTo>
                  <a:pt x="44" y="3870"/>
                </a:lnTo>
                <a:lnTo>
                  <a:pt x="29" y="3766"/>
                </a:lnTo>
                <a:lnTo>
                  <a:pt x="18" y="3662"/>
                </a:lnTo>
                <a:lnTo>
                  <a:pt x="9" y="3557"/>
                </a:lnTo>
                <a:lnTo>
                  <a:pt x="0" y="3346"/>
                </a:lnTo>
                <a:lnTo>
                  <a:pt x="3" y="3133"/>
                </a:lnTo>
                <a:lnTo>
                  <a:pt x="9" y="3026"/>
                </a:lnTo>
                <a:lnTo>
                  <a:pt x="18" y="2919"/>
                </a:lnTo>
                <a:lnTo>
                  <a:pt x="45" y="2704"/>
                </a:lnTo>
                <a:lnTo>
                  <a:pt x="63" y="2598"/>
                </a:lnTo>
                <a:lnTo>
                  <a:pt x="84" y="2490"/>
                </a:lnTo>
                <a:lnTo>
                  <a:pt x="108" y="2383"/>
                </a:lnTo>
                <a:lnTo>
                  <a:pt x="136" y="2277"/>
                </a:lnTo>
                <a:lnTo>
                  <a:pt x="167" y="2170"/>
                </a:lnTo>
                <a:lnTo>
                  <a:pt x="201" y="2065"/>
                </a:lnTo>
                <a:lnTo>
                  <a:pt x="280" y="1855"/>
                </a:lnTo>
                <a:lnTo>
                  <a:pt x="324" y="1750"/>
                </a:lnTo>
                <a:lnTo>
                  <a:pt x="372" y="1647"/>
                </a:lnTo>
                <a:lnTo>
                  <a:pt x="423" y="1547"/>
                </a:lnTo>
                <a:lnTo>
                  <a:pt x="476" y="1448"/>
                </a:lnTo>
                <a:lnTo>
                  <a:pt x="588" y="1261"/>
                </a:lnTo>
                <a:lnTo>
                  <a:pt x="708" y="1088"/>
                </a:lnTo>
                <a:lnTo>
                  <a:pt x="837" y="926"/>
                </a:lnTo>
                <a:lnTo>
                  <a:pt x="972" y="779"/>
                </a:lnTo>
                <a:lnTo>
                  <a:pt x="1041" y="710"/>
                </a:lnTo>
                <a:lnTo>
                  <a:pt x="1113" y="644"/>
                </a:lnTo>
                <a:lnTo>
                  <a:pt x="1260" y="522"/>
                </a:lnTo>
                <a:lnTo>
                  <a:pt x="1413" y="412"/>
                </a:lnTo>
                <a:lnTo>
                  <a:pt x="1570" y="316"/>
                </a:lnTo>
                <a:lnTo>
                  <a:pt x="1650" y="272"/>
                </a:lnTo>
                <a:lnTo>
                  <a:pt x="1731" y="232"/>
                </a:lnTo>
                <a:lnTo>
                  <a:pt x="1895" y="161"/>
                </a:lnTo>
                <a:lnTo>
                  <a:pt x="2063" y="103"/>
                </a:lnTo>
                <a:lnTo>
                  <a:pt x="2148" y="79"/>
                </a:lnTo>
                <a:lnTo>
                  <a:pt x="2233" y="58"/>
                </a:lnTo>
                <a:lnTo>
                  <a:pt x="2404" y="26"/>
                </a:lnTo>
                <a:lnTo>
                  <a:pt x="2577" y="7"/>
                </a:lnTo>
                <a:lnTo>
                  <a:pt x="2664" y="1"/>
                </a:lnTo>
                <a:lnTo>
                  <a:pt x="2752" y="0"/>
                </a:lnTo>
                <a:lnTo>
                  <a:pt x="2838" y="1"/>
                </a:lnTo>
                <a:lnTo>
                  <a:pt x="2925" y="6"/>
                </a:lnTo>
                <a:lnTo>
                  <a:pt x="3098" y="26"/>
                </a:lnTo>
                <a:lnTo>
                  <a:pt x="3269" y="58"/>
                </a:lnTo>
                <a:lnTo>
                  <a:pt x="3439" y="103"/>
                </a:lnTo>
                <a:lnTo>
                  <a:pt x="3607" y="161"/>
                </a:lnTo>
                <a:lnTo>
                  <a:pt x="3689" y="194"/>
                </a:lnTo>
                <a:lnTo>
                  <a:pt x="3771" y="232"/>
                </a:lnTo>
                <a:lnTo>
                  <a:pt x="3932" y="316"/>
                </a:lnTo>
                <a:lnTo>
                  <a:pt x="4089" y="412"/>
                </a:lnTo>
                <a:lnTo>
                  <a:pt x="4166" y="464"/>
                </a:lnTo>
                <a:lnTo>
                  <a:pt x="4242" y="521"/>
                </a:lnTo>
                <a:lnTo>
                  <a:pt x="4389" y="643"/>
                </a:lnTo>
                <a:lnTo>
                  <a:pt x="4530" y="779"/>
                </a:lnTo>
                <a:lnTo>
                  <a:pt x="4665" y="926"/>
                </a:lnTo>
                <a:lnTo>
                  <a:pt x="4730" y="1005"/>
                </a:lnTo>
                <a:lnTo>
                  <a:pt x="4794" y="1087"/>
                </a:lnTo>
                <a:lnTo>
                  <a:pt x="4914" y="1261"/>
                </a:lnTo>
                <a:lnTo>
                  <a:pt x="5026" y="1448"/>
                </a:lnTo>
                <a:lnTo>
                  <a:pt x="5130" y="1647"/>
                </a:lnTo>
                <a:lnTo>
                  <a:pt x="5222" y="1855"/>
                </a:lnTo>
                <a:lnTo>
                  <a:pt x="5301" y="2065"/>
                </a:lnTo>
                <a:lnTo>
                  <a:pt x="5366" y="2277"/>
                </a:lnTo>
                <a:lnTo>
                  <a:pt x="5394" y="2383"/>
                </a:lnTo>
                <a:lnTo>
                  <a:pt x="5418" y="2490"/>
                </a:lnTo>
                <a:lnTo>
                  <a:pt x="5458" y="2704"/>
                </a:lnTo>
                <a:lnTo>
                  <a:pt x="5485" y="2919"/>
                </a:lnTo>
                <a:lnTo>
                  <a:pt x="5499" y="3133"/>
                </a:lnTo>
                <a:lnTo>
                  <a:pt x="5502" y="3346"/>
                </a:lnTo>
                <a:lnTo>
                  <a:pt x="5493" y="3557"/>
                </a:lnTo>
                <a:lnTo>
                  <a:pt x="5473" y="3766"/>
                </a:lnTo>
                <a:lnTo>
                  <a:pt x="5459" y="3870"/>
                </a:lnTo>
                <a:lnTo>
                  <a:pt x="5442" y="3972"/>
                </a:lnTo>
                <a:lnTo>
                  <a:pt x="5400" y="4175"/>
                </a:lnTo>
                <a:lnTo>
                  <a:pt x="5375" y="4276"/>
                </a:lnTo>
                <a:lnTo>
                  <a:pt x="5348" y="4374"/>
                </a:lnTo>
                <a:lnTo>
                  <a:pt x="5285" y="4569"/>
                </a:lnTo>
                <a:lnTo>
                  <a:pt x="5250" y="4665"/>
                </a:lnTo>
                <a:lnTo>
                  <a:pt x="5213" y="4758"/>
                </a:lnTo>
                <a:lnTo>
                  <a:pt x="5131" y="4942"/>
                </a:lnTo>
                <a:lnTo>
                  <a:pt x="5039" y="5118"/>
                </a:lnTo>
                <a:lnTo>
                  <a:pt x="4939" y="5289"/>
                </a:lnTo>
                <a:lnTo>
                  <a:pt x="4830" y="5451"/>
                </a:lnTo>
                <a:lnTo>
                  <a:pt x="4712" y="5604"/>
                </a:lnTo>
                <a:lnTo>
                  <a:pt x="4587" y="5749"/>
                </a:lnTo>
                <a:lnTo>
                  <a:pt x="4453" y="5885"/>
                </a:lnTo>
                <a:lnTo>
                  <a:pt x="4312" y="6011"/>
                </a:lnTo>
                <a:lnTo>
                  <a:pt x="4239" y="6070"/>
                </a:lnTo>
                <a:lnTo>
                  <a:pt x="4164" y="6126"/>
                </a:lnTo>
                <a:lnTo>
                  <a:pt x="4009" y="6229"/>
                </a:lnTo>
                <a:lnTo>
                  <a:pt x="3847" y="6322"/>
                </a:lnTo>
                <a:lnTo>
                  <a:pt x="3764" y="6362"/>
                </a:lnTo>
                <a:lnTo>
                  <a:pt x="3679" y="6401"/>
                </a:lnTo>
                <a:lnTo>
                  <a:pt x="3592" y="6436"/>
                </a:lnTo>
                <a:lnTo>
                  <a:pt x="3505" y="6467"/>
                </a:lnTo>
                <a:lnTo>
                  <a:pt x="3415" y="6494"/>
                </a:lnTo>
                <a:lnTo>
                  <a:pt x="3324" y="6520"/>
                </a:lnTo>
                <a:lnTo>
                  <a:pt x="3232" y="6540"/>
                </a:lnTo>
                <a:lnTo>
                  <a:pt x="3139" y="6558"/>
                </a:lnTo>
                <a:lnTo>
                  <a:pt x="3044" y="6571"/>
                </a:lnTo>
                <a:lnTo>
                  <a:pt x="2948" y="6581"/>
                </a:lnTo>
                <a:lnTo>
                  <a:pt x="2851" y="6587"/>
                </a:lnTo>
                <a:lnTo>
                  <a:pt x="2752" y="6589"/>
                </a:lnTo>
                <a:lnTo>
                  <a:pt x="2907" y="6097"/>
                </a:lnTo>
                <a:lnTo>
                  <a:pt x="3040" y="6043"/>
                </a:lnTo>
                <a:lnTo>
                  <a:pt x="3167" y="5980"/>
                </a:lnTo>
                <a:lnTo>
                  <a:pt x="3288" y="5908"/>
                </a:lnTo>
                <a:lnTo>
                  <a:pt x="3402" y="5827"/>
                </a:lnTo>
                <a:lnTo>
                  <a:pt x="3511" y="5740"/>
                </a:lnTo>
                <a:lnTo>
                  <a:pt x="3613" y="5644"/>
                </a:lnTo>
                <a:lnTo>
                  <a:pt x="3709" y="5541"/>
                </a:lnTo>
                <a:lnTo>
                  <a:pt x="3798" y="5433"/>
                </a:lnTo>
                <a:lnTo>
                  <a:pt x="3881" y="5317"/>
                </a:lnTo>
                <a:lnTo>
                  <a:pt x="3957" y="5196"/>
                </a:lnTo>
                <a:lnTo>
                  <a:pt x="4026" y="5071"/>
                </a:lnTo>
                <a:lnTo>
                  <a:pt x="4089" y="4942"/>
                </a:lnTo>
                <a:lnTo>
                  <a:pt x="4144" y="4808"/>
                </a:lnTo>
                <a:lnTo>
                  <a:pt x="4192" y="4670"/>
                </a:lnTo>
                <a:lnTo>
                  <a:pt x="4233" y="4529"/>
                </a:lnTo>
                <a:lnTo>
                  <a:pt x="4267" y="4385"/>
                </a:lnTo>
                <a:lnTo>
                  <a:pt x="4294" y="4240"/>
                </a:lnTo>
                <a:lnTo>
                  <a:pt x="4313" y="4092"/>
                </a:lnTo>
                <a:lnTo>
                  <a:pt x="4324" y="3944"/>
                </a:lnTo>
                <a:lnTo>
                  <a:pt x="4328" y="3794"/>
                </a:lnTo>
                <a:lnTo>
                  <a:pt x="4324" y="3644"/>
                </a:lnTo>
                <a:lnTo>
                  <a:pt x="4312" y="3494"/>
                </a:lnTo>
                <a:lnTo>
                  <a:pt x="4292" y="3345"/>
                </a:lnTo>
                <a:lnTo>
                  <a:pt x="4264" y="3197"/>
                </a:lnTo>
                <a:lnTo>
                  <a:pt x="4229" y="3051"/>
                </a:lnTo>
                <a:lnTo>
                  <a:pt x="4184" y="2906"/>
                </a:lnTo>
                <a:lnTo>
                  <a:pt x="4132" y="2764"/>
                </a:lnTo>
                <a:lnTo>
                  <a:pt x="4071" y="2625"/>
                </a:lnTo>
                <a:lnTo>
                  <a:pt x="4001" y="2490"/>
                </a:lnTo>
                <a:lnTo>
                  <a:pt x="3923" y="2358"/>
                </a:lnTo>
                <a:lnTo>
                  <a:pt x="3837" y="2230"/>
                </a:lnTo>
                <a:lnTo>
                  <a:pt x="3741" y="2108"/>
                </a:lnTo>
                <a:lnTo>
                  <a:pt x="3682" y="2044"/>
                </a:lnTo>
                <a:lnTo>
                  <a:pt x="3619" y="1988"/>
                </a:lnTo>
                <a:lnTo>
                  <a:pt x="3553" y="1941"/>
                </a:lnTo>
                <a:lnTo>
                  <a:pt x="3485" y="1902"/>
                </a:lnTo>
                <a:lnTo>
                  <a:pt x="3414" y="1870"/>
                </a:lnTo>
                <a:lnTo>
                  <a:pt x="3341" y="1848"/>
                </a:lnTo>
                <a:lnTo>
                  <a:pt x="3267" y="1833"/>
                </a:lnTo>
                <a:lnTo>
                  <a:pt x="3193" y="1827"/>
                </a:lnTo>
                <a:lnTo>
                  <a:pt x="3118" y="1830"/>
                </a:lnTo>
                <a:lnTo>
                  <a:pt x="3044" y="1840"/>
                </a:lnTo>
                <a:lnTo>
                  <a:pt x="2971" y="1858"/>
                </a:lnTo>
                <a:lnTo>
                  <a:pt x="2899" y="1886"/>
                </a:lnTo>
                <a:lnTo>
                  <a:pt x="2828" y="1922"/>
                </a:lnTo>
                <a:lnTo>
                  <a:pt x="2761" y="1966"/>
                </a:lnTo>
                <a:lnTo>
                  <a:pt x="2695" y="2018"/>
                </a:lnTo>
                <a:lnTo>
                  <a:pt x="2664" y="2048"/>
                </a:lnTo>
                <a:lnTo>
                  <a:pt x="2634" y="2079"/>
                </a:lnTo>
                <a:lnTo>
                  <a:pt x="2578" y="2148"/>
                </a:lnTo>
                <a:lnTo>
                  <a:pt x="2529" y="2220"/>
                </a:lnTo>
                <a:lnTo>
                  <a:pt x="2487" y="2296"/>
                </a:lnTo>
                <a:lnTo>
                  <a:pt x="2451" y="2378"/>
                </a:lnTo>
                <a:lnTo>
                  <a:pt x="2423" y="2461"/>
                </a:lnTo>
                <a:lnTo>
                  <a:pt x="2401" y="2547"/>
                </a:lnTo>
                <a:lnTo>
                  <a:pt x="2385" y="2635"/>
                </a:lnTo>
                <a:lnTo>
                  <a:pt x="2377" y="2725"/>
                </a:lnTo>
                <a:lnTo>
                  <a:pt x="2376" y="2813"/>
                </a:lnTo>
                <a:lnTo>
                  <a:pt x="2382" y="2903"/>
                </a:lnTo>
                <a:lnTo>
                  <a:pt x="2394" y="2992"/>
                </a:lnTo>
                <a:lnTo>
                  <a:pt x="2414" y="3079"/>
                </a:lnTo>
                <a:lnTo>
                  <a:pt x="2440" y="3165"/>
                </a:lnTo>
                <a:lnTo>
                  <a:pt x="2474" y="3248"/>
                </a:lnTo>
                <a:lnTo>
                  <a:pt x="2515" y="3327"/>
                </a:lnTo>
                <a:lnTo>
                  <a:pt x="2563" y="3403"/>
                </a:lnTo>
                <a:lnTo>
                  <a:pt x="2610" y="3464"/>
                </a:lnTo>
                <a:lnTo>
                  <a:pt x="2607" y="3461"/>
                </a:lnTo>
                <a:lnTo>
                  <a:pt x="2608" y="3463"/>
                </a:lnTo>
                <a:lnTo>
                  <a:pt x="2610" y="3464"/>
                </a:lnTo>
                <a:lnTo>
                  <a:pt x="2637" y="3500"/>
                </a:lnTo>
                <a:lnTo>
                  <a:pt x="2661" y="3539"/>
                </a:lnTo>
                <a:lnTo>
                  <a:pt x="2681" y="3580"/>
                </a:lnTo>
                <a:lnTo>
                  <a:pt x="2698" y="3622"/>
                </a:lnTo>
                <a:lnTo>
                  <a:pt x="2711" y="3667"/>
                </a:lnTo>
                <a:lnTo>
                  <a:pt x="2720" y="3712"/>
                </a:lnTo>
                <a:lnTo>
                  <a:pt x="2725" y="3758"/>
                </a:lnTo>
                <a:lnTo>
                  <a:pt x="2727" y="3803"/>
                </a:lnTo>
                <a:lnTo>
                  <a:pt x="2725" y="3849"/>
                </a:lnTo>
                <a:lnTo>
                  <a:pt x="2720" y="3894"/>
                </a:lnTo>
                <a:lnTo>
                  <a:pt x="2711" y="3940"/>
                </a:lnTo>
                <a:lnTo>
                  <a:pt x="2698" y="3984"/>
                </a:lnTo>
                <a:lnTo>
                  <a:pt x="2681" y="4026"/>
                </a:lnTo>
                <a:lnTo>
                  <a:pt x="2661" y="4067"/>
                </a:lnTo>
                <a:lnTo>
                  <a:pt x="2610" y="4143"/>
                </a:lnTo>
                <a:lnTo>
                  <a:pt x="2580" y="4175"/>
                </a:lnTo>
                <a:lnTo>
                  <a:pt x="2547" y="4204"/>
                </a:lnTo>
                <a:lnTo>
                  <a:pt x="2513" y="4228"/>
                </a:lnTo>
                <a:lnTo>
                  <a:pt x="2478" y="4247"/>
                </a:lnTo>
                <a:lnTo>
                  <a:pt x="2441" y="4263"/>
                </a:lnTo>
                <a:lnTo>
                  <a:pt x="2403" y="4274"/>
                </a:lnTo>
                <a:lnTo>
                  <a:pt x="2365" y="4280"/>
                </a:lnTo>
                <a:lnTo>
                  <a:pt x="2327" y="4282"/>
                </a:lnTo>
                <a:lnTo>
                  <a:pt x="2289" y="4280"/>
                </a:lnTo>
                <a:lnTo>
                  <a:pt x="2251" y="4274"/>
                </a:lnTo>
                <a:lnTo>
                  <a:pt x="2213" y="4263"/>
                </a:lnTo>
                <a:lnTo>
                  <a:pt x="2176" y="4247"/>
                </a:lnTo>
                <a:lnTo>
                  <a:pt x="2141" y="4228"/>
                </a:lnTo>
                <a:lnTo>
                  <a:pt x="2107" y="4204"/>
                </a:lnTo>
                <a:lnTo>
                  <a:pt x="2074" y="4175"/>
                </a:lnTo>
                <a:lnTo>
                  <a:pt x="2044" y="4143"/>
                </a:lnTo>
                <a:lnTo>
                  <a:pt x="1987" y="4071"/>
                </a:lnTo>
                <a:lnTo>
                  <a:pt x="1934" y="3996"/>
                </a:lnTo>
                <a:lnTo>
                  <a:pt x="1885" y="3921"/>
                </a:lnTo>
                <a:lnTo>
                  <a:pt x="1839" y="3842"/>
                </a:lnTo>
                <a:lnTo>
                  <a:pt x="1797" y="3761"/>
                </a:lnTo>
                <a:lnTo>
                  <a:pt x="1758" y="3679"/>
                </a:lnTo>
                <a:lnTo>
                  <a:pt x="1724" y="3593"/>
                </a:lnTo>
                <a:lnTo>
                  <a:pt x="1692" y="3508"/>
                </a:lnTo>
                <a:lnTo>
                  <a:pt x="1665" y="3421"/>
                </a:lnTo>
                <a:lnTo>
                  <a:pt x="1641" y="3332"/>
                </a:lnTo>
                <a:lnTo>
                  <a:pt x="1621" y="3243"/>
                </a:lnTo>
                <a:lnTo>
                  <a:pt x="1605" y="3152"/>
                </a:lnTo>
                <a:lnTo>
                  <a:pt x="1592" y="3062"/>
                </a:lnTo>
                <a:lnTo>
                  <a:pt x="1583" y="2969"/>
                </a:lnTo>
                <a:lnTo>
                  <a:pt x="1577" y="2878"/>
                </a:lnTo>
                <a:lnTo>
                  <a:pt x="1575" y="2786"/>
                </a:lnTo>
                <a:lnTo>
                  <a:pt x="1577" y="2694"/>
                </a:lnTo>
                <a:lnTo>
                  <a:pt x="1583" y="2602"/>
                </a:lnTo>
                <a:lnTo>
                  <a:pt x="1592" y="2510"/>
                </a:lnTo>
                <a:lnTo>
                  <a:pt x="1605" y="2420"/>
                </a:lnTo>
                <a:lnTo>
                  <a:pt x="1621" y="2329"/>
                </a:lnTo>
                <a:lnTo>
                  <a:pt x="1641" y="2240"/>
                </a:lnTo>
                <a:lnTo>
                  <a:pt x="1665" y="2151"/>
                </a:lnTo>
                <a:lnTo>
                  <a:pt x="1692" y="2064"/>
                </a:lnTo>
                <a:lnTo>
                  <a:pt x="1724" y="1978"/>
                </a:lnTo>
                <a:lnTo>
                  <a:pt x="1758" y="1893"/>
                </a:lnTo>
                <a:lnTo>
                  <a:pt x="1797" y="1810"/>
                </a:lnTo>
                <a:lnTo>
                  <a:pt x="1839" y="1730"/>
                </a:lnTo>
                <a:lnTo>
                  <a:pt x="1885" y="1651"/>
                </a:lnTo>
                <a:lnTo>
                  <a:pt x="1934" y="1575"/>
                </a:lnTo>
                <a:lnTo>
                  <a:pt x="1987" y="1501"/>
                </a:lnTo>
                <a:lnTo>
                  <a:pt x="2044" y="1429"/>
                </a:lnTo>
                <a:lnTo>
                  <a:pt x="2104" y="1361"/>
                </a:lnTo>
                <a:lnTo>
                  <a:pt x="2165" y="1297"/>
                </a:lnTo>
                <a:lnTo>
                  <a:pt x="2229" y="1238"/>
                </a:lnTo>
                <a:lnTo>
                  <a:pt x="2295" y="1183"/>
                </a:lnTo>
                <a:lnTo>
                  <a:pt x="2431" y="1087"/>
                </a:lnTo>
                <a:lnTo>
                  <a:pt x="2501" y="1045"/>
                </a:lnTo>
                <a:lnTo>
                  <a:pt x="2573" y="1008"/>
                </a:lnTo>
                <a:lnTo>
                  <a:pt x="2646" y="975"/>
                </a:lnTo>
                <a:lnTo>
                  <a:pt x="2719" y="947"/>
                </a:lnTo>
                <a:lnTo>
                  <a:pt x="2870" y="902"/>
                </a:lnTo>
                <a:lnTo>
                  <a:pt x="2946" y="887"/>
                </a:lnTo>
                <a:lnTo>
                  <a:pt x="3022" y="876"/>
                </a:lnTo>
                <a:lnTo>
                  <a:pt x="3099" y="870"/>
                </a:lnTo>
                <a:lnTo>
                  <a:pt x="3176" y="867"/>
                </a:lnTo>
                <a:lnTo>
                  <a:pt x="3252" y="870"/>
                </a:lnTo>
                <a:lnTo>
                  <a:pt x="3329" y="876"/>
                </a:lnTo>
                <a:lnTo>
                  <a:pt x="3405" y="887"/>
                </a:lnTo>
                <a:lnTo>
                  <a:pt x="3481" y="902"/>
                </a:lnTo>
                <a:lnTo>
                  <a:pt x="3631" y="947"/>
                </a:lnTo>
                <a:lnTo>
                  <a:pt x="3705" y="975"/>
                </a:lnTo>
                <a:lnTo>
                  <a:pt x="3778" y="1008"/>
                </a:lnTo>
                <a:lnTo>
                  <a:pt x="3849" y="1045"/>
                </a:lnTo>
                <a:lnTo>
                  <a:pt x="3920" y="1087"/>
                </a:lnTo>
                <a:lnTo>
                  <a:pt x="3989" y="1133"/>
                </a:lnTo>
                <a:lnTo>
                  <a:pt x="4056" y="1183"/>
                </a:lnTo>
                <a:lnTo>
                  <a:pt x="4122" y="1238"/>
                </a:lnTo>
                <a:lnTo>
                  <a:pt x="4185" y="1297"/>
                </a:lnTo>
                <a:lnTo>
                  <a:pt x="4247" y="1361"/>
                </a:lnTo>
                <a:lnTo>
                  <a:pt x="4307" y="1429"/>
                </a:lnTo>
                <a:lnTo>
                  <a:pt x="4378" y="1514"/>
                </a:lnTo>
                <a:lnTo>
                  <a:pt x="4445" y="1601"/>
                </a:lnTo>
                <a:lnTo>
                  <a:pt x="4508" y="1688"/>
                </a:lnTo>
                <a:lnTo>
                  <a:pt x="4568" y="1777"/>
                </a:lnTo>
                <a:lnTo>
                  <a:pt x="4624" y="1867"/>
                </a:lnTo>
                <a:lnTo>
                  <a:pt x="4676" y="1957"/>
                </a:lnTo>
                <a:lnTo>
                  <a:pt x="4725" y="2048"/>
                </a:lnTo>
                <a:lnTo>
                  <a:pt x="4770" y="2140"/>
                </a:lnTo>
                <a:lnTo>
                  <a:pt x="4812" y="2234"/>
                </a:lnTo>
                <a:lnTo>
                  <a:pt x="4850" y="2328"/>
                </a:lnTo>
                <a:lnTo>
                  <a:pt x="4917" y="2516"/>
                </a:lnTo>
                <a:lnTo>
                  <a:pt x="4945" y="2611"/>
                </a:lnTo>
                <a:lnTo>
                  <a:pt x="4970" y="2706"/>
                </a:lnTo>
                <a:lnTo>
                  <a:pt x="4992" y="2800"/>
                </a:lnTo>
                <a:lnTo>
                  <a:pt x="5010" y="2896"/>
                </a:lnTo>
                <a:lnTo>
                  <a:pt x="5038" y="3087"/>
                </a:lnTo>
                <a:lnTo>
                  <a:pt x="5053" y="3278"/>
                </a:lnTo>
                <a:lnTo>
                  <a:pt x="5056" y="3467"/>
                </a:lnTo>
                <a:lnTo>
                  <a:pt x="5048" y="3655"/>
                </a:lnTo>
                <a:lnTo>
                  <a:pt x="5039" y="3748"/>
                </a:lnTo>
                <a:lnTo>
                  <a:pt x="5028" y="3841"/>
                </a:lnTo>
                <a:lnTo>
                  <a:pt x="5014" y="3932"/>
                </a:lnTo>
                <a:lnTo>
                  <a:pt x="4997" y="4023"/>
                </a:lnTo>
                <a:lnTo>
                  <a:pt x="4955" y="4202"/>
                </a:lnTo>
                <a:lnTo>
                  <a:pt x="4903" y="4377"/>
                </a:lnTo>
                <a:lnTo>
                  <a:pt x="4841" y="4547"/>
                </a:lnTo>
                <a:lnTo>
                  <a:pt x="4769" y="4712"/>
                </a:lnTo>
                <a:lnTo>
                  <a:pt x="4687" y="4870"/>
                </a:lnTo>
                <a:lnTo>
                  <a:pt x="4596" y="5022"/>
                </a:lnTo>
                <a:lnTo>
                  <a:pt x="4497" y="5166"/>
                </a:lnTo>
                <a:lnTo>
                  <a:pt x="4388" y="5303"/>
                </a:lnTo>
                <a:lnTo>
                  <a:pt x="4272" y="5431"/>
                </a:lnTo>
                <a:lnTo>
                  <a:pt x="4148" y="5550"/>
                </a:lnTo>
                <a:lnTo>
                  <a:pt x="4083" y="5607"/>
                </a:lnTo>
                <a:lnTo>
                  <a:pt x="4016" y="5659"/>
                </a:lnTo>
                <a:lnTo>
                  <a:pt x="3877" y="5759"/>
                </a:lnTo>
                <a:lnTo>
                  <a:pt x="3805" y="5805"/>
                </a:lnTo>
                <a:lnTo>
                  <a:pt x="3731" y="5847"/>
                </a:lnTo>
                <a:lnTo>
                  <a:pt x="3578" y="5922"/>
                </a:lnTo>
                <a:lnTo>
                  <a:pt x="3419" y="5986"/>
                </a:lnTo>
                <a:lnTo>
                  <a:pt x="3254" y="6037"/>
                </a:lnTo>
                <a:lnTo>
                  <a:pt x="3169" y="6058"/>
                </a:lnTo>
                <a:lnTo>
                  <a:pt x="3083" y="6075"/>
                </a:lnTo>
                <a:lnTo>
                  <a:pt x="2996" y="6088"/>
                </a:lnTo>
                <a:lnTo>
                  <a:pt x="2907" y="6097"/>
                </a:lnTo>
                <a:lnTo>
                  <a:pt x="2752" y="6589"/>
                </a:lnTo>
                <a:lnTo>
                  <a:pt x="2629" y="5687"/>
                </a:lnTo>
                <a:lnTo>
                  <a:pt x="2531" y="5706"/>
                </a:lnTo>
                <a:lnTo>
                  <a:pt x="2433" y="5717"/>
                </a:lnTo>
                <a:lnTo>
                  <a:pt x="2335" y="5722"/>
                </a:lnTo>
                <a:lnTo>
                  <a:pt x="2238" y="5718"/>
                </a:lnTo>
                <a:lnTo>
                  <a:pt x="2141" y="5709"/>
                </a:lnTo>
                <a:lnTo>
                  <a:pt x="2046" y="5692"/>
                </a:lnTo>
                <a:lnTo>
                  <a:pt x="1951" y="5668"/>
                </a:lnTo>
                <a:lnTo>
                  <a:pt x="1858" y="5638"/>
                </a:lnTo>
                <a:lnTo>
                  <a:pt x="1766" y="5599"/>
                </a:lnTo>
                <a:lnTo>
                  <a:pt x="1677" y="5556"/>
                </a:lnTo>
                <a:lnTo>
                  <a:pt x="1590" y="5506"/>
                </a:lnTo>
                <a:lnTo>
                  <a:pt x="1505" y="5448"/>
                </a:lnTo>
                <a:lnTo>
                  <a:pt x="1423" y="5386"/>
                </a:lnTo>
                <a:lnTo>
                  <a:pt x="1344" y="5316"/>
                </a:lnTo>
                <a:lnTo>
                  <a:pt x="1268" y="5241"/>
                </a:lnTo>
                <a:lnTo>
                  <a:pt x="1196" y="5159"/>
                </a:lnTo>
                <a:lnTo>
                  <a:pt x="1125" y="5071"/>
                </a:lnTo>
                <a:lnTo>
                  <a:pt x="1058" y="4983"/>
                </a:lnTo>
                <a:lnTo>
                  <a:pt x="995" y="4893"/>
                </a:lnTo>
                <a:lnTo>
                  <a:pt x="936" y="4802"/>
                </a:lnTo>
                <a:lnTo>
                  <a:pt x="828" y="4618"/>
                </a:lnTo>
                <a:lnTo>
                  <a:pt x="779" y="4524"/>
                </a:lnTo>
                <a:lnTo>
                  <a:pt x="734" y="4431"/>
                </a:lnTo>
                <a:lnTo>
                  <a:pt x="693" y="4336"/>
                </a:lnTo>
                <a:lnTo>
                  <a:pt x="655" y="4241"/>
                </a:lnTo>
                <a:lnTo>
                  <a:pt x="589" y="4049"/>
                </a:lnTo>
                <a:lnTo>
                  <a:pt x="561" y="3953"/>
                </a:lnTo>
                <a:lnTo>
                  <a:pt x="536" y="3857"/>
                </a:lnTo>
                <a:lnTo>
                  <a:pt x="497" y="3664"/>
                </a:lnTo>
                <a:lnTo>
                  <a:pt x="471" y="3472"/>
                </a:lnTo>
                <a:lnTo>
                  <a:pt x="462" y="3375"/>
                </a:lnTo>
                <a:lnTo>
                  <a:pt x="456" y="3279"/>
                </a:lnTo>
                <a:lnTo>
                  <a:pt x="454" y="3184"/>
                </a:lnTo>
                <a:lnTo>
                  <a:pt x="454" y="3089"/>
                </a:lnTo>
                <a:lnTo>
                  <a:pt x="458" y="2995"/>
                </a:lnTo>
                <a:lnTo>
                  <a:pt x="464" y="2900"/>
                </a:lnTo>
                <a:lnTo>
                  <a:pt x="485" y="2714"/>
                </a:lnTo>
                <a:lnTo>
                  <a:pt x="500" y="2623"/>
                </a:lnTo>
                <a:lnTo>
                  <a:pt x="517" y="2532"/>
                </a:lnTo>
                <a:lnTo>
                  <a:pt x="538" y="2442"/>
                </a:lnTo>
                <a:lnTo>
                  <a:pt x="560" y="2353"/>
                </a:lnTo>
                <a:lnTo>
                  <a:pt x="614" y="2178"/>
                </a:lnTo>
                <a:lnTo>
                  <a:pt x="677" y="2008"/>
                </a:lnTo>
                <a:lnTo>
                  <a:pt x="712" y="1926"/>
                </a:lnTo>
                <a:lnTo>
                  <a:pt x="750" y="1844"/>
                </a:lnTo>
                <a:lnTo>
                  <a:pt x="833" y="1687"/>
                </a:lnTo>
                <a:lnTo>
                  <a:pt x="924" y="1536"/>
                </a:lnTo>
                <a:lnTo>
                  <a:pt x="1025" y="1393"/>
                </a:lnTo>
                <a:lnTo>
                  <a:pt x="1134" y="1257"/>
                </a:lnTo>
                <a:lnTo>
                  <a:pt x="1251" y="1131"/>
                </a:lnTo>
                <a:lnTo>
                  <a:pt x="1375" y="1015"/>
                </a:lnTo>
                <a:lnTo>
                  <a:pt x="1507" y="907"/>
                </a:lnTo>
                <a:lnTo>
                  <a:pt x="1647" y="811"/>
                </a:lnTo>
                <a:lnTo>
                  <a:pt x="1719" y="767"/>
                </a:lnTo>
                <a:lnTo>
                  <a:pt x="1793" y="726"/>
                </a:lnTo>
                <a:lnTo>
                  <a:pt x="1868" y="687"/>
                </a:lnTo>
                <a:lnTo>
                  <a:pt x="1945" y="653"/>
                </a:lnTo>
                <a:lnTo>
                  <a:pt x="2103" y="591"/>
                </a:lnTo>
                <a:lnTo>
                  <a:pt x="2185" y="566"/>
                </a:lnTo>
                <a:lnTo>
                  <a:pt x="2268" y="543"/>
                </a:lnTo>
                <a:lnTo>
                  <a:pt x="2352" y="524"/>
                </a:lnTo>
                <a:lnTo>
                  <a:pt x="2437" y="510"/>
                </a:lnTo>
                <a:lnTo>
                  <a:pt x="2524" y="498"/>
                </a:lnTo>
                <a:lnTo>
                  <a:pt x="2612" y="490"/>
                </a:lnTo>
                <a:lnTo>
                  <a:pt x="2479" y="542"/>
                </a:lnTo>
                <a:lnTo>
                  <a:pt x="2351" y="605"/>
                </a:lnTo>
                <a:lnTo>
                  <a:pt x="2230" y="675"/>
                </a:lnTo>
                <a:lnTo>
                  <a:pt x="2114" y="756"/>
                </a:lnTo>
                <a:lnTo>
                  <a:pt x="2005" y="842"/>
                </a:lnTo>
                <a:lnTo>
                  <a:pt x="1902" y="938"/>
                </a:lnTo>
                <a:lnTo>
                  <a:pt x="1806" y="1040"/>
                </a:lnTo>
                <a:lnTo>
                  <a:pt x="1715" y="1148"/>
                </a:lnTo>
                <a:lnTo>
                  <a:pt x="1632" y="1263"/>
                </a:lnTo>
                <a:lnTo>
                  <a:pt x="1555" y="1383"/>
                </a:lnTo>
                <a:lnTo>
                  <a:pt x="1485" y="1508"/>
                </a:lnTo>
                <a:lnTo>
                  <a:pt x="1422" y="1638"/>
                </a:lnTo>
                <a:lnTo>
                  <a:pt x="1366" y="1772"/>
                </a:lnTo>
                <a:lnTo>
                  <a:pt x="1317" y="1910"/>
                </a:lnTo>
                <a:lnTo>
                  <a:pt x="1276" y="2050"/>
                </a:lnTo>
                <a:lnTo>
                  <a:pt x="1241" y="2194"/>
                </a:lnTo>
                <a:lnTo>
                  <a:pt x="1214" y="2340"/>
                </a:lnTo>
                <a:lnTo>
                  <a:pt x="1195" y="2488"/>
                </a:lnTo>
                <a:lnTo>
                  <a:pt x="1183" y="2637"/>
                </a:lnTo>
                <a:lnTo>
                  <a:pt x="1178" y="2787"/>
                </a:lnTo>
                <a:lnTo>
                  <a:pt x="1182" y="2937"/>
                </a:lnTo>
                <a:lnTo>
                  <a:pt x="1193" y="3087"/>
                </a:lnTo>
                <a:lnTo>
                  <a:pt x="1213" y="3237"/>
                </a:lnTo>
                <a:lnTo>
                  <a:pt x="1240" y="3385"/>
                </a:lnTo>
                <a:lnTo>
                  <a:pt x="1276" y="3532"/>
                </a:lnTo>
                <a:lnTo>
                  <a:pt x="1320" y="3677"/>
                </a:lnTo>
                <a:lnTo>
                  <a:pt x="1372" y="3819"/>
                </a:lnTo>
                <a:lnTo>
                  <a:pt x="1433" y="3958"/>
                </a:lnTo>
                <a:lnTo>
                  <a:pt x="1503" y="4095"/>
                </a:lnTo>
                <a:lnTo>
                  <a:pt x="1581" y="4227"/>
                </a:lnTo>
                <a:lnTo>
                  <a:pt x="1668" y="4355"/>
                </a:lnTo>
                <a:lnTo>
                  <a:pt x="1764" y="4478"/>
                </a:lnTo>
                <a:lnTo>
                  <a:pt x="1822" y="4541"/>
                </a:lnTo>
                <a:lnTo>
                  <a:pt x="1884" y="4596"/>
                </a:lnTo>
                <a:lnTo>
                  <a:pt x="1949" y="4643"/>
                </a:lnTo>
                <a:lnTo>
                  <a:pt x="2017" y="4683"/>
                </a:lnTo>
                <a:lnTo>
                  <a:pt x="2087" y="4714"/>
                </a:lnTo>
                <a:lnTo>
                  <a:pt x="2159" y="4737"/>
                </a:lnTo>
                <a:lnTo>
                  <a:pt x="2232" y="4751"/>
                </a:lnTo>
                <a:lnTo>
                  <a:pt x="2306" y="4758"/>
                </a:lnTo>
                <a:lnTo>
                  <a:pt x="2380" y="4757"/>
                </a:lnTo>
                <a:lnTo>
                  <a:pt x="2454" y="4748"/>
                </a:lnTo>
                <a:lnTo>
                  <a:pt x="2527" y="4730"/>
                </a:lnTo>
                <a:lnTo>
                  <a:pt x="2598" y="4703"/>
                </a:lnTo>
                <a:lnTo>
                  <a:pt x="2668" y="4668"/>
                </a:lnTo>
                <a:lnTo>
                  <a:pt x="2735" y="4626"/>
                </a:lnTo>
                <a:lnTo>
                  <a:pt x="2801" y="4575"/>
                </a:lnTo>
                <a:lnTo>
                  <a:pt x="2862" y="4516"/>
                </a:lnTo>
                <a:lnTo>
                  <a:pt x="2918" y="4450"/>
                </a:lnTo>
                <a:lnTo>
                  <a:pt x="2968" y="4379"/>
                </a:lnTo>
                <a:lnTo>
                  <a:pt x="3011" y="4304"/>
                </a:lnTo>
                <a:lnTo>
                  <a:pt x="3048" y="4224"/>
                </a:lnTo>
                <a:lnTo>
                  <a:pt x="3077" y="4142"/>
                </a:lnTo>
                <a:lnTo>
                  <a:pt x="3101" y="4058"/>
                </a:lnTo>
                <a:lnTo>
                  <a:pt x="3117" y="3970"/>
                </a:lnTo>
                <a:lnTo>
                  <a:pt x="3127" y="3882"/>
                </a:lnTo>
                <a:lnTo>
                  <a:pt x="3130" y="3794"/>
                </a:lnTo>
                <a:lnTo>
                  <a:pt x="3126" y="3705"/>
                </a:lnTo>
                <a:lnTo>
                  <a:pt x="3115" y="3616"/>
                </a:lnTo>
                <a:lnTo>
                  <a:pt x="3098" y="3530"/>
                </a:lnTo>
                <a:lnTo>
                  <a:pt x="3073" y="3445"/>
                </a:lnTo>
                <a:lnTo>
                  <a:pt x="3041" y="3361"/>
                </a:lnTo>
                <a:lnTo>
                  <a:pt x="3003" y="3281"/>
                </a:lnTo>
                <a:lnTo>
                  <a:pt x="2957" y="3205"/>
                </a:lnTo>
                <a:lnTo>
                  <a:pt x="2893" y="3125"/>
                </a:lnTo>
                <a:lnTo>
                  <a:pt x="2866" y="3089"/>
                </a:lnTo>
                <a:lnTo>
                  <a:pt x="2842" y="3050"/>
                </a:lnTo>
                <a:lnTo>
                  <a:pt x="2822" y="3009"/>
                </a:lnTo>
                <a:lnTo>
                  <a:pt x="2805" y="2967"/>
                </a:lnTo>
                <a:lnTo>
                  <a:pt x="2792" y="2923"/>
                </a:lnTo>
                <a:lnTo>
                  <a:pt x="2783" y="2877"/>
                </a:lnTo>
                <a:lnTo>
                  <a:pt x="2778" y="2831"/>
                </a:lnTo>
                <a:lnTo>
                  <a:pt x="2776" y="2786"/>
                </a:lnTo>
                <a:lnTo>
                  <a:pt x="2778" y="2740"/>
                </a:lnTo>
                <a:lnTo>
                  <a:pt x="2783" y="2695"/>
                </a:lnTo>
                <a:lnTo>
                  <a:pt x="2792" y="2649"/>
                </a:lnTo>
                <a:lnTo>
                  <a:pt x="2805" y="2605"/>
                </a:lnTo>
                <a:lnTo>
                  <a:pt x="2822" y="2563"/>
                </a:lnTo>
                <a:lnTo>
                  <a:pt x="2842" y="2522"/>
                </a:lnTo>
                <a:lnTo>
                  <a:pt x="2866" y="2482"/>
                </a:lnTo>
                <a:lnTo>
                  <a:pt x="2893" y="2446"/>
                </a:lnTo>
                <a:lnTo>
                  <a:pt x="2923" y="2414"/>
                </a:lnTo>
                <a:lnTo>
                  <a:pt x="2956" y="2385"/>
                </a:lnTo>
                <a:lnTo>
                  <a:pt x="2990" y="2361"/>
                </a:lnTo>
                <a:lnTo>
                  <a:pt x="3025" y="2341"/>
                </a:lnTo>
                <a:lnTo>
                  <a:pt x="3062" y="2325"/>
                </a:lnTo>
                <a:lnTo>
                  <a:pt x="3100" y="2314"/>
                </a:lnTo>
                <a:lnTo>
                  <a:pt x="3138" y="2308"/>
                </a:lnTo>
                <a:lnTo>
                  <a:pt x="3176" y="2306"/>
                </a:lnTo>
                <a:lnTo>
                  <a:pt x="3214" y="2308"/>
                </a:lnTo>
                <a:lnTo>
                  <a:pt x="3252" y="2314"/>
                </a:lnTo>
                <a:lnTo>
                  <a:pt x="3290" y="2325"/>
                </a:lnTo>
                <a:lnTo>
                  <a:pt x="3327" y="2341"/>
                </a:lnTo>
                <a:lnTo>
                  <a:pt x="3362" y="2361"/>
                </a:lnTo>
                <a:lnTo>
                  <a:pt x="3396" y="2385"/>
                </a:lnTo>
                <a:lnTo>
                  <a:pt x="3429" y="2414"/>
                </a:lnTo>
                <a:lnTo>
                  <a:pt x="3459" y="2446"/>
                </a:lnTo>
                <a:lnTo>
                  <a:pt x="3534" y="2544"/>
                </a:lnTo>
                <a:lnTo>
                  <a:pt x="3603" y="2646"/>
                </a:lnTo>
                <a:lnTo>
                  <a:pt x="3666" y="2751"/>
                </a:lnTo>
                <a:lnTo>
                  <a:pt x="3722" y="2863"/>
                </a:lnTo>
                <a:lnTo>
                  <a:pt x="3772" y="2977"/>
                </a:lnTo>
                <a:lnTo>
                  <a:pt x="3815" y="3095"/>
                </a:lnTo>
                <a:lnTo>
                  <a:pt x="3851" y="3217"/>
                </a:lnTo>
                <a:lnTo>
                  <a:pt x="3880" y="3340"/>
                </a:lnTo>
                <a:lnTo>
                  <a:pt x="3902" y="3465"/>
                </a:lnTo>
                <a:lnTo>
                  <a:pt x="3918" y="3592"/>
                </a:lnTo>
                <a:lnTo>
                  <a:pt x="3926" y="3721"/>
                </a:lnTo>
                <a:lnTo>
                  <a:pt x="3927" y="3850"/>
                </a:lnTo>
                <a:lnTo>
                  <a:pt x="3921" y="3980"/>
                </a:lnTo>
                <a:lnTo>
                  <a:pt x="3907" y="4109"/>
                </a:lnTo>
                <a:lnTo>
                  <a:pt x="3886" y="4238"/>
                </a:lnTo>
                <a:lnTo>
                  <a:pt x="3857" y="4366"/>
                </a:lnTo>
                <a:lnTo>
                  <a:pt x="3821" y="4491"/>
                </a:lnTo>
                <a:lnTo>
                  <a:pt x="3778" y="4612"/>
                </a:lnTo>
                <a:lnTo>
                  <a:pt x="3729" y="4728"/>
                </a:lnTo>
                <a:lnTo>
                  <a:pt x="3674" y="4840"/>
                </a:lnTo>
                <a:lnTo>
                  <a:pt x="3613" y="4946"/>
                </a:lnTo>
                <a:lnTo>
                  <a:pt x="3546" y="5046"/>
                </a:lnTo>
                <a:lnTo>
                  <a:pt x="3474" y="5141"/>
                </a:lnTo>
                <a:lnTo>
                  <a:pt x="3397" y="5230"/>
                </a:lnTo>
                <a:lnTo>
                  <a:pt x="3315" y="5313"/>
                </a:lnTo>
                <a:lnTo>
                  <a:pt x="3228" y="5388"/>
                </a:lnTo>
                <a:lnTo>
                  <a:pt x="3137" y="5458"/>
                </a:lnTo>
                <a:lnTo>
                  <a:pt x="3043" y="5519"/>
                </a:lnTo>
                <a:lnTo>
                  <a:pt x="2944" y="5573"/>
                </a:lnTo>
                <a:lnTo>
                  <a:pt x="2843" y="5620"/>
                </a:lnTo>
                <a:lnTo>
                  <a:pt x="2737" y="5657"/>
                </a:lnTo>
                <a:lnTo>
                  <a:pt x="2629" y="5687"/>
                </a:lnTo>
                <a:lnTo>
                  <a:pt x="2752" y="6589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7" name="SEWING_M" descr=""/>
          <p:cNvPicPr/>
          <p:nvPr/>
        </p:nvPicPr>
        <p:blipFill>
          <a:blip r:embed="rId1"/>
          <a:stretch/>
        </p:blipFill>
        <p:spPr>
          <a:xfrm>
            <a:off x="990720" y="2719440"/>
            <a:ext cx="2438280" cy="2181240"/>
          </a:xfrm>
          <a:prstGeom prst="rect">
            <a:avLst/>
          </a:prstGeom>
          <a:ln w="0">
            <a:noFill/>
          </a:ln>
        </p:spPr>
      </p:pic>
      <p:sp>
        <p:nvSpPr>
          <p:cNvPr id="2158" name=""/>
          <p:cNvSpPr/>
          <p:nvPr/>
        </p:nvSpPr>
        <p:spPr>
          <a:xfrm>
            <a:off x="2059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0" name="fd01663_" descr=""/>
          <p:cNvPicPr/>
          <p:nvPr/>
        </p:nvPicPr>
        <p:blipFill>
          <a:blip r:embed="rId2"/>
          <a:stretch/>
        </p:blipFill>
        <p:spPr>
          <a:xfrm>
            <a:off x="6629400" y="2892600"/>
            <a:ext cx="10382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"/>
          <p:cNvSpPr/>
          <p:nvPr/>
        </p:nvSpPr>
        <p:spPr>
          <a:xfrm>
            <a:off x="1295280" y="1760400"/>
            <a:ext cx="2286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2" name="ARROWHD" descr=""/>
          <p:cNvPicPr/>
          <p:nvPr/>
        </p:nvPicPr>
        <p:blipFill>
          <a:blip r:embed="rId1"/>
          <a:stretch/>
        </p:blipFill>
        <p:spPr>
          <a:xfrm>
            <a:off x="6248520" y="2836800"/>
            <a:ext cx="1562040" cy="1946160"/>
          </a:xfrm>
          <a:prstGeom prst="rect">
            <a:avLst/>
          </a:prstGeom>
          <a:ln w="0">
            <a:noFill/>
          </a:ln>
        </p:spPr>
      </p:pic>
      <p:sp>
        <p:nvSpPr>
          <p:cNvPr id="2163" name=""/>
          <p:cNvSpPr/>
          <p:nvPr/>
        </p:nvSpPr>
        <p:spPr>
          <a:xfrm>
            <a:off x="2211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0120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5" name="j0249287" descr=""/>
          <p:cNvPicPr/>
          <p:nvPr/>
        </p:nvPicPr>
        <p:blipFill>
          <a:blip r:embed="rId2"/>
          <a:stretch/>
        </p:blipFill>
        <p:spPr>
          <a:xfrm>
            <a:off x="1676520" y="2836800"/>
            <a:ext cx="15620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/>
          <p:nvPr/>
        </p:nvSpPr>
        <p:spPr>
          <a:xfrm>
            <a:off x="1143000" y="2868480"/>
            <a:ext cx="1873080" cy="1882800"/>
          </a:xfrm>
          <a:custGeom>
            <a:avLst/>
            <a:gdLst/>
            <a:ahLst/>
            <a:rect l="l" t="t" r="r" b="b"/>
            <a:pathLst>
              <a:path w="5901" h="5933">
                <a:moveTo>
                  <a:pt x="0" y="5933"/>
                </a:moveTo>
                <a:lnTo>
                  <a:pt x="655" y="5274"/>
                </a:lnTo>
                <a:lnTo>
                  <a:pt x="0" y="5274"/>
                </a:lnTo>
                <a:lnTo>
                  <a:pt x="655" y="4614"/>
                </a:lnTo>
                <a:lnTo>
                  <a:pt x="0" y="4614"/>
                </a:lnTo>
                <a:lnTo>
                  <a:pt x="655" y="3956"/>
                </a:lnTo>
                <a:lnTo>
                  <a:pt x="0" y="3956"/>
                </a:lnTo>
                <a:lnTo>
                  <a:pt x="655" y="3296"/>
                </a:lnTo>
                <a:lnTo>
                  <a:pt x="0" y="3296"/>
                </a:lnTo>
                <a:lnTo>
                  <a:pt x="655" y="2637"/>
                </a:lnTo>
                <a:lnTo>
                  <a:pt x="0" y="2637"/>
                </a:lnTo>
                <a:lnTo>
                  <a:pt x="655" y="1977"/>
                </a:lnTo>
                <a:lnTo>
                  <a:pt x="0" y="1977"/>
                </a:lnTo>
                <a:lnTo>
                  <a:pt x="655" y="1318"/>
                </a:lnTo>
                <a:lnTo>
                  <a:pt x="0" y="1318"/>
                </a:lnTo>
                <a:lnTo>
                  <a:pt x="655" y="660"/>
                </a:lnTo>
                <a:lnTo>
                  <a:pt x="654" y="662"/>
                </a:lnTo>
                <a:lnTo>
                  <a:pt x="655" y="661"/>
                </a:lnTo>
                <a:lnTo>
                  <a:pt x="655" y="660"/>
                </a:lnTo>
                <a:lnTo>
                  <a:pt x="0" y="660"/>
                </a:lnTo>
                <a:lnTo>
                  <a:pt x="655" y="0"/>
                </a:lnTo>
                <a:lnTo>
                  <a:pt x="655" y="5933"/>
                </a:lnTo>
                <a:lnTo>
                  <a:pt x="1311" y="5274"/>
                </a:lnTo>
                <a:lnTo>
                  <a:pt x="655" y="5274"/>
                </a:lnTo>
                <a:lnTo>
                  <a:pt x="1311" y="4614"/>
                </a:lnTo>
                <a:lnTo>
                  <a:pt x="655" y="4614"/>
                </a:lnTo>
                <a:lnTo>
                  <a:pt x="1311" y="3956"/>
                </a:lnTo>
                <a:lnTo>
                  <a:pt x="655" y="3956"/>
                </a:lnTo>
                <a:lnTo>
                  <a:pt x="1311" y="3296"/>
                </a:lnTo>
                <a:lnTo>
                  <a:pt x="655" y="3296"/>
                </a:lnTo>
                <a:lnTo>
                  <a:pt x="1311" y="2637"/>
                </a:lnTo>
                <a:lnTo>
                  <a:pt x="655" y="2637"/>
                </a:lnTo>
                <a:lnTo>
                  <a:pt x="1311" y="1977"/>
                </a:lnTo>
                <a:lnTo>
                  <a:pt x="655" y="1977"/>
                </a:lnTo>
                <a:lnTo>
                  <a:pt x="1311" y="1318"/>
                </a:lnTo>
                <a:lnTo>
                  <a:pt x="655" y="1318"/>
                </a:lnTo>
                <a:lnTo>
                  <a:pt x="1311" y="660"/>
                </a:lnTo>
                <a:lnTo>
                  <a:pt x="655" y="660"/>
                </a:lnTo>
                <a:lnTo>
                  <a:pt x="1311" y="0"/>
                </a:lnTo>
                <a:lnTo>
                  <a:pt x="1311" y="5933"/>
                </a:lnTo>
                <a:lnTo>
                  <a:pt x="1967" y="5274"/>
                </a:lnTo>
                <a:lnTo>
                  <a:pt x="1311" y="5274"/>
                </a:lnTo>
                <a:lnTo>
                  <a:pt x="1967" y="4614"/>
                </a:lnTo>
                <a:lnTo>
                  <a:pt x="1311" y="4614"/>
                </a:lnTo>
                <a:lnTo>
                  <a:pt x="1967" y="3956"/>
                </a:lnTo>
                <a:lnTo>
                  <a:pt x="1311" y="3956"/>
                </a:lnTo>
                <a:lnTo>
                  <a:pt x="1967" y="3296"/>
                </a:lnTo>
                <a:lnTo>
                  <a:pt x="1311" y="3296"/>
                </a:lnTo>
                <a:lnTo>
                  <a:pt x="1967" y="2637"/>
                </a:lnTo>
                <a:lnTo>
                  <a:pt x="1311" y="2637"/>
                </a:lnTo>
                <a:lnTo>
                  <a:pt x="1967" y="1977"/>
                </a:lnTo>
                <a:lnTo>
                  <a:pt x="1311" y="1977"/>
                </a:lnTo>
                <a:lnTo>
                  <a:pt x="1967" y="1318"/>
                </a:lnTo>
                <a:lnTo>
                  <a:pt x="1311" y="1318"/>
                </a:lnTo>
                <a:lnTo>
                  <a:pt x="1967" y="660"/>
                </a:lnTo>
                <a:lnTo>
                  <a:pt x="1311" y="660"/>
                </a:lnTo>
                <a:lnTo>
                  <a:pt x="1967" y="0"/>
                </a:lnTo>
                <a:lnTo>
                  <a:pt x="1967" y="5933"/>
                </a:lnTo>
                <a:lnTo>
                  <a:pt x="2623" y="5274"/>
                </a:lnTo>
                <a:lnTo>
                  <a:pt x="1967" y="5274"/>
                </a:lnTo>
                <a:lnTo>
                  <a:pt x="2623" y="4614"/>
                </a:lnTo>
                <a:lnTo>
                  <a:pt x="1967" y="4614"/>
                </a:lnTo>
                <a:lnTo>
                  <a:pt x="2623" y="3956"/>
                </a:lnTo>
                <a:lnTo>
                  <a:pt x="1967" y="3956"/>
                </a:lnTo>
                <a:lnTo>
                  <a:pt x="2623" y="3296"/>
                </a:lnTo>
                <a:lnTo>
                  <a:pt x="1967" y="3296"/>
                </a:lnTo>
                <a:lnTo>
                  <a:pt x="2623" y="2637"/>
                </a:lnTo>
                <a:lnTo>
                  <a:pt x="1967" y="2637"/>
                </a:lnTo>
                <a:lnTo>
                  <a:pt x="2623" y="1977"/>
                </a:lnTo>
                <a:lnTo>
                  <a:pt x="1967" y="1977"/>
                </a:lnTo>
                <a:lnTo>
                  <a:pt x="2623" y="1318"/>
                </a:lnTo>
                <a:lnTo>
                  <a:pt x="1967" y="1318"/>
                </a:lnTo>
                <a:lnTo>
                  <a:pt x="2623" y="660"/>
                </a:lnTo>
                <a:lnTo>
                  <a:pt x="1967" y="660"/>
                </a:lnTo>
                <a:lnTo>
                  <a:pt x="2623" y="0"/>
                </a:lnTo>
                <a:lnTo>
                  <a:pt x="2623" y="5933"/>
                </a:lnTo>
                <a:lnTo>
                  <a:pt x="3279" y="5274"/>
                </a:lnTo>
                <a:lnTo>
                  <a:pt x="2623" y="5274"/>
                </a:lnTo>
                <a:lnTo>
                  <a:pt x="3279" y="4614"/>
                </a:lnTo>
                <a:lnTo>
                  <a:pt x="2623" y="4614"/>
                </a:lnTo>
                <a:lnTo>
                  <a:pt x="3279" y="3956"/>
                </a:lnTo>
                <a:lnTo>
                  <a:pt x="2623" y="3956"/>
                </a:lnTo>
                <a:lnTo>
                  <a:pt x="3279" y="3296"/>
                </a:lnTo>
                <a:lnTo>
                  <a:pt x="2623" y="3296"/>
                </a:lnTo>
                <a:lnTo>
                  <a:pt x="3279" y="2637"/>
                </a:lnTo>
                <a:lnTo>
                  <a:pt x="2623" y="2637"/>
                </a:lnTo>
                <a:lnTo>
                  <a:pt x="3279" y="1977"/>
                </a:lnTo>
                <a:lnTo>
                  <a:pt x="2623" y="1977"/>
                </a:lnTo>
                <a:lnTo>
                  <a:pt x="3279" y="1318"/>
                </a:lnTo>
                <a:lnTo>
                  <a:pt x="2623" y="1318"/>
                </a:lnTo>
                <a:lnTo>
                  <a:pt x="3279" y="660"/>
                </a:lnTo>
                <a:lnTo>
                  <a:pt x="2623" y="660"/>
                </a:lnTo>
                <a:lnTo>
                  <a:pt x="3279" y="0"/>
                </a:lnTo>
                <a:lnTo>
                  <a:pt x="3279" y="5933"/>
                </a:lnTo>
                <a:lnTo>
                  <a:pt x="3934" y="5274"/>
                </a:lnTo>
                <a:lnTo>
                  <a:pt x="3279" y="5274"/>
                </a:lnTo>
                <a:lnTo>
                  <a:pt x="3934" y="4614"/>
                </a:lnTo>
                <a:lnTo>
                  <a:pt x="3279" y="4614"/>
                </a:lnTo>
                <a:lnTo>
                  <a:pt x="3934" y="3956"/>
                </a:lnTo>
                <a:lnTo>
                  <a:pt x="3279" y="3956"/>
                </a:lnTo>
                <a:lnTo>
                  <a:pt x="3934" y="3296"/>
                </a:lnTo>
                <a:lnTo>
                  <a:pt x="3279" y="3296"/>
                </a:lnTo>
                <a:lnTo>
                  <a:pt x="3934" y="2637"/>
                </a:lnTo>
                <a:lnTo>
                  <a:pt x="3279" y="2637"/>
                </a:lnTo>
                <a:lnTo>
                  <a:pt x="3934" y="1977"/>
                </a:lnTo>
                <a:lnTo>
                  <a:pt x="3279" y="1977"/>
                </a:lnTo>
                <a:lnTo>
                  <a:pt x="3934" y="1318"/>
                </a:lnTo>
                <a:lnTo>
                  <a:pt x="3279" y="1318"/>
                </a:lnTo>
                <a:lnTo>
                  <a:pt x="3934" y="660"/>
                </a:lnTo>
                <a:lnTo>
                  <a:pt x="3279" y="660"/>
                </a:lnTo>
                <a:lnTo>
                  <a:pt x="3934" y="0"/>
                </a:lnTo>
                <a:lnTo>
                  <a:pt x="3934" y="5933"/>
                </a:lnTo>
                <a:lnTo>
                  <a:pt x="4591" y="5274"/>
                </a:lnTo>
                <a:lnTo>
                  <a:pt x="3934" y="5274"/>
                </a:lnTo>
                <a:lnTo>
                  <a:pt x="4591" y="4614"/>
                </a:lnTo>
                <a:lnTo>
                  <a:pt x="3934" y="4614"/>
                </a:lnTo>
                <a:lnTo>
                  <a:pt x="4591" y="3956"/>
                </a:lnTo>
                <a:lnTo>
                  <a:pt x="3934" y="3956"/>
                </a:lnTo>
                <a:lnTo>
                  <a:pt x="4591" y="3296"/>
                </a:lnTo>
                <a:lnTo>
                  <a:pt x="3934" y="3296"/>
                </a:lnTo>
                <a:lnTo>
                  <a:pt x="4591" y="2637"/>
                </a:lnTo>
                <a:lnTo>
                  <a:pt x="3934" y="2637"/>
                </a:lnTo>
                <a:lnTo>
                  <a:pt x="4591" y="1977"/>
                </a:lnTo>
                <a:lnTo>
                  <a:pt x="3934" y="1977"/>
                </a:lnTo>
                <a:lnTo>
                  <a:pt x="4591" y="1318"/>
                </a:lnTo>
                <a:lnTo>
                  <a:pt x="3934" y="1318"/>
                </a:lnTo>
                <a:lnTo>
                  <a:pt x="4591" y="660"/>
                </a:lnTo>
                <a:lnTo>
                  <a:pt x="3934" y="660"/>
                </a:lnTo>
                <a:lnTo>
                  <a:pt x="4591" y="0"/>
                </a:lnTo>
                <a:lnTo>
                  <a:pt x="4591" y="5933"/>
                </a:lnTo>
                <a:lnTo>
                  <a:pt x="5246" y="5274"/>
                </a:lnTo>
                <a:lnTo>
                  <a:pt x="4591" y="5274"/>
                </a:lnTo>
                <a:lnTo>
                  <a:pt x="5246" y="4614"/>
                </a:lnTo>
                <a:lnTo>
                  <a:pt x="4591" y="4614"/>
                </a:lnTo>
                <a:lnTo>
                  <a:pt x="5246" y="3956"/>
                </a:lnTo>
                <a:lnTo>
                  <a:pt x="4591" y="3956"/>
                </a:lnTo>
                <a:lnTo>
                  <a:pt x="5246" y="3296"/>
                </a:lnTo>
                <a:lnTo>
                  <a:pt x="4591" y="3296"/>
                </a:lnTo>
                <a:lnTo>
                  <a:pt x="5246" y="2637"/>
                </a:lnTo>
                <a:lnTo>
                  <a:pt x="4591" y="2637"/>
                </a:lnTo>
                <a:lnTo>
                  <a:pt x="5246" y="1977"/>
                </a:lnTo>
                <a:lnTo>
                  <a:pt x="4591" y="1977"/>
                </a:lnTo>
                <a:lnTo>
                  <a:pt x="5246" y="1318"/>
                </a:lnTo>
                <a:lnTo>
                  <a:pt x="4591" y="1318"/>
                </a:lnTo>
                <a:lnTo>
                  <a:pt x="5246" y="660"/>
                </a:lnTo>
                <a:lnTo>
                  <a:pt x="4591" y="660"/>
                </a:lnTo>
                <a:lnTo>
                  <a:pt x="5246" y="0"/>
                </a:lnTo>
                <a:lnTo>
                  <a:pt x="5246" y="5933"/>
                </a:lnTo>
                <a:lnTo>
                  <a:pt x="5901" y="5274"/>
                </a:lnTo>
                <a:lnTo>
                  <a:pt x="5246" y="5274"/>
                </a:lnTo>
                <a:lnTo>
                  <a:pt x="5901" y="4614"/>
                </a:lnTo>
                <a:lnTo>
                  <a:pt x="5246" y="4614"/>
                </a:lnTo>
                <a:lnTo>
                  <a:pt x="5901" y="3956"/>
                </a:lnTo>
                <a:lnTo>
                  <a:pt x="5246" y="3956"/>
                </a:lnTo>
                <a:lnTo>
                  <a:pt x="5901" y="3296"/>
                </a:lnTo>
                <a:lnTo>
                  <a:pt x="5246" y="3296"/>
                </a:lnTo>
                <a:lnTo>
                  <a:pt x="5901" y="2637"/>
                </a:lnTo>
                <a:lnTo>
                  <a:pt x="5246" y="2637"/>
                </a:lnTo>
                <a:lnTo>
                  <a:pt x="5901" y="1977"/>
                </a:lnTo>
                <a:lnTo>
                  <a:pt x="5246" y="1977"/>
                </a:lnTo>
                <a:lnTo>
                  <a:pt x="5901" y="1318"/>
                </a:lnTo>
                <a:lnTo>
                  <a:pt x="5246" y="1318"/>
                </a:lnTo>
                <a:lnTo>
                  <a:pt x="5901" y="660"/>
                </a:lnTo>
                <a:lnTo>
                  <a:pt x="5246" y="660"/>
                </a:lnTo>
                <a:lnTo>
                  <a:pt x="5901" y="0"/>
                </a:lnTo>
                <a:lnTo>
                  <a:pt x="5901" y="5933"/>
                </a:lnTo>
                <a:lnTo>
                  <a:pt x="0" y="5933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982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0120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265800" y="2887560"/>
            <a:ext cx="1843200" cy="1844640"/>
          </a:xfrm>
          <a:custGeom>
            <a:avLst/>
            <a:gdLst/>
            <a:ahLst/>
            <a:rect l="l" t="t" r="r" b="b"/>
            <a:pathLst>
              <a:path w="5808" h="5810">
                <a:moveTo>
                  <a:pt x="2413" y="5810"/>
                </a:moveTo>
                <a:lnTo>
                  <a:pt x="2413" y="5689"/>
                </a:lnTo>
                <a:lnTo>
                  <a:pt x="2848" y="5689"/>
                </a:lnTo>
                <a:lnTo>
                  <a:pt x="2848" y="5810"/>
                </a:lnTo>
                <a:lnTo>
                  <a:pt x="2413" y="5810"/>
                </a:lnTo>
                <a:close/>
                <a:moveTo>
                  <a:pt x="2960" y="5810"/>
                </a:moveTo>
                <a:lnTo>
                  <a:pt x="2960" y="5689"/>
                </a:lnTo>
                <a:lnTo>
                  <a:pt x="3396" y="5689"/>
                </a:lnTo>
                <a:lnTo>
                  <a:pt x="3396" y="5810"/>
                </a:lnTo>
                <a:lnTo>
                  <a:pt x="2960" y="5810"/>
                </a:lnTo>
                <a:close/>
                <a:moveTo>
                  <a:pt x="3507" y="5578"/>
                </a:moveTo>
                <a:lnTo>
                  <a:pt x="3507" y="5374"/>
                </a:lnTo>
                <a:lnTo>
                  <a:pt x="3926" y="5374"/>
                </a:lnTo>
                <a:lnTo>
                  <a:pt x="3926" y="5578"/>
                </a:lnTo>
                <a:lnTo>
                  <a:pt x="3507" y="5578"/>
                </a:lnTo>
                <a:close/>
                <a:moveTo>
                  <a:pt x="2960" y="5578"/>
                </a:moveTo>
                <a:lnTo>
                  <a:pt x="2960" y="5374"/>
                </a:lnTo>
                <a:lnTo>
                  <a:pt x="3396" y="5374"/>
                </a:lnTo>
                <a:lnTo>
                  <a:pt x="3396" y="5578"/>
                </a:lnTo>
                <a:lnTo>
                  <a:pt x="2960" y="5578"/>
                </a:lnTo>
                <a:close/>
                <a:moveTo>
                  <a:pt x="2413" y="5578"/>
                </a:moveTo>
                <a:lnTo>
                  <a:pt x="2413" y="5374"/>
                </a:lnTo>
                <a:lnTo>
                  <a:pt x="2848" y="5374"/>
                </a:lnTo>
                <a:lnTo>
                  <a:pt x="2848" y="5578"/>
                </a:lnTo>
                <a:lnTo>
                  <a:pt x="2413" y="5578"/>
                </a:lnTo>
                <a:close/>
                <a:moveTo>
                  <a:pt x="1882" y="5578"/>
                </a:moveTo>
                <a:lnTo>
                  <a:pt x="1882" y="5374"/>
                </a:lnTo>
                <a:lnTo>
                  <a:pt x="2302" y="5374"/>
                </a:lnTo>
                <a:lnTo>
                  <a:pt x="2302" y="5578"/>
                </a:lnTo>
                <a:lnTo>
                  <a:pt x="1882" y="5578"/>
                </a:lnTo>
                <a:close/>
                <a:moveTo>
                  <a:pt x="1385" y="5262"/>
                </a:moveTo>
                <a:lnTo>
                  <a:pt x="1385" y="4985"/>
                </a:lnTo>
                <a:lnTo>
                  <a:pt x="1771" y="4985"/>
                </a:lnTo>
                <a:lnTo>
                  <a:pt x="1771" y="5262"/>
                </a:lnTo>
                <a:lnTo>
                  <a:pt x="1385" y="5262"/>
                </a:lnTo>
                <a:close/>
                <a:moveTo>
                  <a:pt x="1882" y="5262"/>
                </a:moveTo>
                <a:lnTo>
                  <a:pt x="1882" y="4985"/>
                </a:lnTo>
                <a:lnTo>
                  <a:pt x="2302" y="4985"/>
                </a:lnTo>
                <a:lnTo>
                  <a:pt x="2302" y="5262"/>
                </a:lnTo>
                <a:lnTo>
                  <a:pt x="1882" y="5262"/>
                </a:lnTo>
                <a:close/>
                <a:moveTo>
                  <a:pt x="2413" y="5262"/>
                </a:moveTo>
                <a:lnTo>
                  <a:pt x="2413" y="4985"/>
                </a:lnTo>
                <a:lnTo>
                  <a:pt x="2848" y="4985"/>
                </a:lnTo>
                <a:lnTo>
                  <a:pt x="2848" y="5262"/>
                </a:lnTo>
                <a:lnTo>
                  <a:pt x="2413" y="5262"/>
                </a:lnTo>
                <a:close/>
                <a:moveTo>
                  <a:pt x="2960" y="5262"/>
                </a:moveTo>
                <a:lnTo>
                  <a:pt x="2960" y="4985"/>
                </a:lnTo>
                <a:lnTo>
                  <a:pt x="3396" y="4985"/>
                </a:lnTo>
                <a:lnTo>
                  <a:pt x="3396" y="5262"/>
                </a:lnTo>
                <a:lnTo>
                  <a:pt x="2960" y="5262"/>
                </a:lnTo>
                <a:close/>
                <a:moveTo>
                  <a:pt x="3507" y="5262"/>
                </a:moveTo>
                <a:lnTo>
                  <a:pt x="3507" y="4985"/>
                </a:lnTo>
                <a:lnTo>
                  <a:pt x="3926" y="4985"/>
                </a:lnTo>
                <a:lnTo>
                  <a:pt x="3926" y="5262"/>
                </a:lnTo>
                <a:lnTo>
                  <a:pt x="3507" y="5262"/>
                </a:lnTo>
                <a:close/>
                <a:moveTo>
                  <a:pt x="4038" y="5262"/>
                </a:moveTo>
                <a:lnTo>
                  <a:pt x="4038" y="4985"/>
                </a:lnTo>
                <a:lnTo>
                  <a:pt x="4424" y="4985"/>
                </a:lnTo>
                <a:lnTo>
                  <a:pt x="4424" y="5262"/>
                </a:lnTo>
                <a:lnTo>
                  <a:pt x="4038" y="5262"/>
                </a:lnTo>
                <a:close/>
                <a:moveTo>
                  <a:pt x="4535" y="4874"/>
                </a:moveTo>
                <a:lnTo>
                  <a:pt x="4535" y="4536"/>
                </a:lnTo>
                <a:lnTo>
                  <a:pt x="4873" y="4536"/>
                </a:lnTo>
                <a:lnTo>
                  <a:pt x="4873" y="4874"/>
                </a:lnTo>
                <a:lnTo>
                  <a:pt x="4535" y="4874"/>
                </a:lnTo>
                <a:close/>
                <a:moveTo>
                  <a:pt x="4038" y="4874"/>
                </a:moveTo>
                <a:lnTo>
                  <a:pt x="4038" y="4536"/>
                </a:lnTo>
                <a:lnTo>
                  <a:pt x="4424" y="4536"/>
                </a:lnTo>
                <a:lnTo>
                  <a:pt x="4424" y="4874"/>
                </a:lnTo>
                <a:lnTo>
                  <a:pt x="4038" y="4874"/>
                </a:lnTo>
                <a:close/>
                <a:moveTo>
                  <a:pt x="3507" y="4874"/>
                </a:moveTo>
                <a:lnTo>
                  <a:pt x="3507" y="4536"/>
                </a:lnTo>
                <a:lnTo>
                  <a:pt x="3926" y="4536"/>
                </a:lnTo>
                <a:lnTo>
                  <a:pt x="3926" y="4874"/>
                </a:lnTo>
                <a:lnTo>
                  <a:pt x="3507" y="4874"/>
                </a:lnTo>
                <a:close/>
                <a:moveTo>
                  <a:pt x="2960" y="4874"/>
                </a:moveTo>
                <a:lnTo>
                  <a:pt x="2960" y="4536"/>
                </a:lnTo>
                <a:lnTo>
                  <a:pt x="3396" y="4536"/>
                </a:lnTo>
                <a:lnTo>
                  <a:pt x="3396" y="4874"/>
                </a:lnTo>
                <a:lnTo>
                  <a:pt x="2960" y="4874"/>
                </a:lnTo>
                <a:close/>
                <a:moveTo>
                  <a:pt x="2413" y="4874"/>
                </a:moveTo>
                <a:lnTo>
                  <a:pt x="2413" y="4536"/>
                </a:lnTo>
                <a:lnTo>
                  <a:pt x="2848" y="4536"/>
                </a:lnTo>
                <a:lnTo>
                  <a:pt x="2848" y="4874"/>
                </a:lnTo>
                <a:lnTo>
                  <a:pt x="2413" y="4874"/>
                </a:lnTo>
                <a:close/>
                <a:moveTo>
                  <a:pt x="1882" y="4874"/>
                </a:moveTo>
                <a:lnTo>
                  <a:pt x="1882" y="4536"/>
                </a:lnTo>
                <a:lnTo>
                  <a:pt x="2302" y="4536"/>
                </a:lnTo>
                <a:lnTo>
                  <a:pt x="2302" y="4874"/>
                </a:lnTo>
                <a:lnTo>
                  <a:pt x="1882" y="4874"/>
                </a:lnTo>
                <a:close/>
                <a:moveTo>
                  <a:pt x="1385" y="4874"/>
                </a:moveTo>
                <a:lnTo>
                  <a:pt x="1385" y="4536"/>
                </a:lnTo>
                <a:lnTo>
                  <a:pt x="1771" y="4536"/>
                </a:lnTo>
                <a:lnTo>
                  <a:pt x="1771" y="4874"/>
                </a:lnTo>
                <a:lnTo>
                  <a:pt x="1385" y="4874"/>
                </a:lnTo>
                <a:close/>
                <a:moveTo>
                  <a:pt x="936" y="4874"/>
                </a:moveTo>
                <a:lnTo>
                  <a:pt x="936" y="4536"/>
                </a:lnTo>
                <a:lnTo>
                  <a:pt x="1274" y="4536"/>
                </a:lnTo>
                <a:lnTo>
                  <a:pt x="1274" y="4874"/>
                </a:lnTo>
                <a:lnTo>
                  <a:pt x="936" y="4874"/>
                </a:lnTo>
                <a:close/>
                <a:moveTo>
                  <a:pt x="547" y="4425"/>
                </a:moveTo>
                <a:lnTo>
                  <a:pt x="547" y="4039"/>
                </a:lnTo>
                <a:lnTo>
                  <a:pt x="823" y="4039"/>
                </a:lnTo>
                <a:lnTo>
                  <a:pt x="823" y="4425"/>
                </a:lnTo>
                <a:lnTo>
                  <a:pt x="547" y="4425"/>
                </a:lnTo>
                <a:close/>
                <a:moveTo>
                  <a:pt x="936" y="4425"/>
                </a:moveTo>
                <a:lnTo>
                  <a:pt x="936" y="4039"/>
                </a:lnTo>
                <a:lnTo>
                  <a:pt x="1274" y="4039"/>
                </a:lnTo>
                <a:lnTo>
                  <a:pt x="1274" y="4425"/>
                </a:lnTo>
                <a:lnTo>
                  <a:pt x="936" y="4425"/>
                </a:lnTo>
                <a:close/>
                <a:moveTo>
                  <a:pt x="1385" y="4425"/>
                </a:moveTo>
                <a:lnTo>
                  <a:pt x="1385" y="4039"/>
                </a:lnTo>
                <a:lnTo>
                  <a:pt x="1771" y="4039"/>
                </a:lnTo>
                <a:lnTo>
                  <a:pt x="1771" y="4425"/>
                </a:lnTo>
                <a:lnTo>
                  <a:pt x="1385" y="4425"/>
                </a:lnTo>
                <a:close/>
                <a:moveTo>
                  <a:pt x="1882" y="4425"/>
                </a:moveTo>
                <a:lnTo>
                  <a:pt x="1882" y="4039"/>
                </a:lnTo>
                <a:lnTo>
                  <a:pt x="2302" y="4039"/>
                </a:lnTo>
                <a:lnTo>
                  <a:pt x="2302" y="4425"/>
                </a:lnTo>
                <a:lnTo>
                  <a:pt x="1882" y="4425"/>
                </a:lnTo>
                <a:close/>
                <a:moveTo>
                  <a:pt x="2413" y="4425"/>
                </a:moveTo>
                <a:lnTo>
                  <a:pt x="2413" y="4039"/>
                </a:lnTo>
                <a:lnTo>
                  <a:pt x="2848" y="4039"/>
                </a:lnTo>
                <a:lnTo>
                  <a:pt x="2848" y="4425"/>
                </a:lnTo>
                <a:lnTo>
                  <a:pt x="2413" y="4425"/>
                </a:lnTo>
                <a:close/>
                <a:moveTo>
                  <a:pt x="2960" y="4425"/>
                </a:moveTo>
                <a:lnTo>
                  <a:pt x="2960" y="4039"/>
                </a:lnTo>
                <a:lnTo>
                  <a:pt x="3396" y="4039"/>
                </a:lnTo>
                <a:lnTo>
                  <a:pt x="3396" y="4425"/>
                </a:lnTo>
                <a:lnTo>
                  <a:pt x="2960" y="4425"/>
                </a:lnTo>
                <a:close/>
                <a:moveTo>
                  <a:pt x="3507" y="4425"/>
                </a:moveTo>
                <a:lnTo>
                  <a:pt x="3507" y="4039"/>
                </a:lnTo>
                <a:lnTo>
                  <a:pt x="3926" y="4039"/>
                </a:lnTo>
                <a:lnTo>
                  <a:pt x="3926" y="4425"/>
                </a:lnTo>
                <a:lnTo>
                  <a:pt x="3507" y="4425"/>
                </a:lnTo>
                <a:close/>
                <a:moveTo>
                  <a:pt x="4038" y="4425"/>
                </a:moveTo>
                <a:lnTo>
                  <a:pt x="4038" y="4039"/>
                </a:lnTo>
                <a:lnTo>
                  <a:pt x="4424" y="4039"/>
                </a:lnTo>
                <a:lnTo>
                  <a:pt x="4424" y="4425"/>
                </a:lnTo>
                <a:lnTo>
                  <a:pt x="4038" y="4425"/>
                </a:lnTo>
                <a:close/>
                <a:moveTo>
                  <a:pt x="4535" y="4425"/>
                </a:moveTo>
                <a:lnTo>
                  <a:pt x="4535" y="4039"/>
                </a:lnTo>
                <a:lnTo>
                  <a:pt x="4873" y="4039"/>
                </a:lnTo>
                <a:lnTo>
                  <a:pt x="4873" y="4425"/>
                </a:lnTo>
                <a:lnTo>
                  <a:pt x="4535" y="4425"/>
                </a:lnTo>
                <a:close/>
                <a:moveTo>
                  <a:pt x="4984" y="4425"/>
                </a:moveTo>
                <a:lnTo>
                  <a:pt x="4984" y="4039"/>
                </a:lnTo>
                <a:lnTo>
                  <a:pt x="5261" y="4039"/>
                </a:lnTo>
                <a:lnTo>
                  <a:pt x="5261" y="4425"/>
                </a:lnTo>
                <a:lnTo>
                  <a:pt x="4984" y="4425"/>
                </a:lnTo>
                <a:close/>
                <a:moveTo>
                  <a:pt x="5373" y="3926"/>
                </a:moveTo>
                <a:lnTo>
                  <a:pt x="5373" y="3508"/>
                </a:lnTo>
                <a:lnTo>
                  <a:pt x="5576" y="3508"/>
                </a:lnTo>
                <a:lnTo>
                  <a:pt x="5576" y="3926"/>
                </a:lnTo>
                <a:lnTo>
                  <a:pt x="5373" y="3926"/>
                </a:lnTo>
                <a:close/>
                <a:moveTo>
                  <a:pt x="4984" y="3926"/>
                </a:moveTo>
                <a:lnTo>
                  <a:pt x="4984" y="3508"/>
                </a:lnTo>
                <a:lnTo>
                  <a:pt x="5261" y="3508"/>
                </a:lnTo>
                <a:lnTo>
                  <a:pt x="5261" y="3926"/>
                </a:lnTo>
                <a:lnTo>
                  <a:pt x="4984" y="3926"/>
                </a:lnTo>
                <a:close/>
                <a:moveTo>
                  <a:pt x="4535" y="3926"/>
                </a:moveTo>
                <a:lnTo>
                  <a:pt x="4535" y="3508"/>
                </a:lnTo>
                <a:lnTo>
                  <a:pt x="4873" y="3508"/>
                </a:lnTo>
                <a:lnTo>
                  <a:pt x="4873" y="3926"/>
                </a:lnTo>
                <a:lnTo>
                  <a:pt x="4535" y="3926"/>
                </a:lnTo>
                <a:close/>
                <a:moveTo>
                  <a:pt x="4038" y="3926"/>
                </a:moveTo>
                <a:lnTo>
                  <a:pt x="4038" y="3508"/>
                </a:lnTo>
                <a:lnTo>
                  <a:pt x="4424" y="3508"/>
                </a:lnTo>
                <a:lnTo>
                  <a:pt x="4424" y="3926"/>
                </a:lnTo>
                <a:lnTo>
                  <a:pt x="4038" y="3926"/>
                </a:lnTo>
                <a:close/>
                <a:moveTo>
                  <a:pt x="3507" y="3926"/>
                </a:moveTo>
                <a:lnTo>
                  <a:pt x="3507" y="3508"/>
                </a:lnTo>
                <a:lnTo>
                  <a:pt x="3926" y="3508"/>
                </a:lnTo>
                <a:lnTo>
                  <a:pt x="3926" y="3926"/>
                </a:lnTo>
                <a:lnTo>
                  <a:pt x="3507" y="3926"/>
                </a:lnTo>
                <a:close/>
                <a:moveTo>
                  <a:pt x="2960" y="3926"/>
                </a:moveTo>
                <a:lnTo>
                  <a:pt x="2960" y="3508"/>
                </a:lnTo>
                <a:lnTo>
                  <a:pt x="3396" y="3508"/>
                </a:lnTo>
                <a:lnTo>
                  <a:pt x="3396" y="3926"/>
                </a:lnTo>
                <a:lnTo>
                  <a:pt x="2960" y="3926"/>
                </a:lnTo>
                <a:close/>
                <a:moveTo>
                  <a:pt x="2413" y="3926"/>
                </a:moveTo>
                <a:lnTo>
                  <a:pt x="2413" y="3508"/>
                </a:lnTo>
                <a:lnTo>
                  <a:pt x="2848" y="3508"/>
                </a:lnTo>
                <a:lnTo>
                  <a:pt x="2848" y="3926"/>
                </a:lnTo>
                <a:lnTo>
                  <a:pt x="2413" y="3926"/>
                </a:lnTo>
                <a:close/>
                <a:moveTo>
                  <a:pt x="1882" y="3926"/>
                </a:moveTo>
                <a:lnTo>
                  <a:pt x="1882" y="3508"/>
                </a:lnTo>
                <a:lnTo>
                  <a:pt x="2302" y="3508"/>
                </a:lnTo>
                <a:lnTo>
                  <a:pt x="2302" y="3926"/>
                </a:lnTo>
                <a:lnTo>
                  <a:pt x="1882" y="3926"/>
                </a:lnTo>
                <a:close/>
                <a:moveTo>
                  <a:pt x="1385" y="3926"/>
                </a:moveTo>
                <a:lnTo>
                  <a:pt x="1385" y="3508"/>
                </a:lnTo>
                <a:lnTo>
                  <a:pt x="1771" y="3508"/>
                </a:lnTo>
                <a:lnTo>
                  <a:pt x="1771" y="3926"/>
                </a:lnTo>
                <a:lnTo>
                  <a:pt x="1385" y="3926"/>
                </a:lnTo>
                <a:close/>
                <a:moveTo>
                  <a:pt x="936" y="3926"/>
                </a:moveTo>
                <a:lnTo>
                  <a:pt x="936" y="3508"/>
                </a:lnTo>
                <a:lnTo>
                  <a:pt x="1274" y="3508"/>
                </a:lnTo>
                <a:lnTo>
                  <a:pt x="1274" y="3926"/>
                </a:lnTo>
                <a:lnTo>
                  <a:pt x="936" y="3926"/>
                </a:lnTo>
                <a:close/>
                <a:moveTo>
                  <a:pt x="547" y="3926"/>
                </a:moveTo>
                <a:lnTo>
                  <a:pt x="547" y="3508"/>
                </a:lnTo>
                <a:lnTo>
                  <a:pt x="823" y="3508"/>
                </a:lnTo>
                <a:lnTo>
                  <a:pt x="823" y="3926"/>
                </a:lnTo>
                <a:lnTo>
                  <a:pt x="547" y="3926"/>
                </a:lnTo>
                <a:close/>
                <a:moveTo>
                  <a:pt x="232" y="3926"/>
                </a:moveTo>
                <a:lnTo>
                  <a:pt x="232" y="3508"/>
                </a:lnTo>
                <a:lnTo>
                  <a:pt x="436" y="3508"/>
                </a:lnTo>
                <a:lnTo>
                  <a:pt x="436" y="3926"/>
                </a:lnTo>
                <a:lnTo>
                  <a:pt x="232" y="3926"/>
                </a:lnTo>
                <a:close/>
                <a:moveTo>
                  <a:pt x="0" y="3396"/>
                </a:moveTo>
                <a:lnTo>
                  <a:pt x="0" y="2961"/>
                </a:lnTo>
                <a:lnTo>
                  <a:pt x="120" y="2961"/>
                </a:lnTo>
                <a:lnTo>
                  <a:pt x="120" y="3396"/>
                </a:lnTo>
                <a:lnTo>
                  <a:pt x="0" y="3396"/>
                </a:lnTo>
                <a:close/>
                <a:moveTo>
                  <a:pt x="232" y="3396"/>
                </a:moveTo>
                <a:lnTo>
                  <a:pt x="232" y="2961"/>
                </a:lnTo>
                <a:lnTo>
                  <a:pt x="436" y="2961"/>
                </a:lnTo>
                <a:lnTo>
                  <a:pt x="436" y="3396"/>
                </a:lnTo>
                <a:lnTo>
                  <a:pt x="232" y="3396"/>
                </a:lnTo>
                <a:close/>
                <a:moveTo>
                  <a:pt x="547" y="3396"/>
                </a:moveTo>
                <a:lnTo>
                  <a:pt x="547" y="2961"/>
                </a:lnTo>
                <a:lnTo>
                  <a:pt x="823" y="2961"/>
                </a:lnTo>
                <a:lnTo>
                  <a:pt x="823" y="3396"/>
                </a:lnTo>
                <a:lnTo>
                  <a:pt x="547" y="3396"/>
                </a:lnTo>
                <a:close/>
                <a:moveTo>
                  <a:pt x="936" y="3396"/>
                </a:moveTo>
                <a:lnTo>
                  <a:pt x="936" y="2961"/>
                </a:lnTo>
                <a:lnTo>
                  <a:pt x="1274" y="2961"/>
                </a:lnTo>
                <a:lnTo>
                  <a:pt x="1274" y="3396"/>
                </a:lnTo>
                <a:lnTo>
                  <a:pt x="936" y="3396"/>
                </a:lnTo>
                <a:close/>
                <a:moveTo>
                  <a:pt x="1385" y="3396"/>
                </a:moveTo>
                <a:lnTo>
                  <a:pt x="1385" y="2961"/>
                </a:lnTo>
                <a:lnTo>
                  <a:pt x="1771" y="2961"/>
                </a:lnTo>
                <a:lnTo>
                  <a:pt x="1771" y="3396"/>
                </a:lnTo>
                <a:lnTo>
                  <a:pt x="1385" y="3396"/>
                </a:lnTo>
                <a:close/>
                <a:moveTo>
                  <a:pt x="1882" y="3396"/>
                </a:moveTo>
                <a:lnTo>
                  <a:pt x="1882" y="2961"/>
                </a:lnTo>
                <a:lnTo>
                  <a:pt x="2302" y="2961"/>
                </a:lnTo>
                <a:lnTo>
                  <a:pt x="2302" y="3396"/>
                </a:lnTo>
                <a:lnTo>
                  <a:pt x="1882" y="3396"/>
                </a:lnTo>
                <a:close/>
                <a:moveTo>
                  <a:pt x="2413" y="3396"/>
                </a:moveTo>
                <a:lnTo>
                  <a:pt x="2413" y="2961"/>
                </a:lnTo>
                <a:lnTo>
                  <a:pt x="2848" y="2961"/>
                </a:lnTo>
                <a:lnTo>
                  <a:pt x="2848" y="3396"/>
                </a:lnTo>
                <a:lnTo>
                  <a:pt x="2413" y="3396"/>
                </a:lnTo>
                <a:close/>
                <a:moveTo>
                  <a:pt x="2960" y="3396"/>
                </a:moveTo>
                <a:lnTo>
                  <a:pt x="2960" y="2961"/>
                </a:lnTo>
                <a:lnTo>
                  <a:pt x="3396" y="2961"/>
                </a:lnTo>
                <a:lnTo>
                  <a:pt x="3396" y="3396"/>
                </a:lnTo>
                <a:lnTo>
                  <a:pt x="2960" y="3396"/>
                </a:lnTo>
                <a:close/>
                <a:moveTo>
                  <a:pt x="3507" y="3396"/>
                </a:moveTo>
                <a:lnTo>
                  <a:pt x="3507" y="2961"/>
                </a:lnTo>
                <a:lnTo>
                  <a:pt x="3926" y="2961"/>
                </a:lnTo>
                <a:lnTo>
                  <a:pt x="3926" y="3396"/>
                </a:lnTo>
                <a:lnTo>
                  <a:pt x="3507" y="3396"/>
                </a:lnTo>
                <a:close/>
                <a:moveTo>
                  <a:pt x="4038" y="3396"/>
                </a:moveTo>
                <a:lnTo>
                  <a:pt x="4038" y="2961"/>
                </a:lnTo>
                <a:lnTo>
                  <a:pt x="4424" y="2961"/>
                </a:lnTo>
                <a:lnTo>
                  <a:pt x="4424" y="3396"/>
                </a:lnTo>
                <a:lnTo>
                  <a:pt x="4038" y="3396"/>
                </a:lnTo>
                <a:close/>
                <a:moveTo>
                  <a:pt x="4535" y="3396"/>
                </a:moveTo>
                <a:lnTo>
                  <a:pt x="4535" y="2961"/>
                </a:lnTo>
                <a:lnTo>
                  <a:pt x="4873" y="2961"/>
                </a:lnTo>
                <a:lnTo>
                  <a:pt x="4873" y="3396"/>
                </a:lnTo>
                <a:lnTo>
                  <a:pt x="4535" y="3396"/>
                </a:lnTo>
                <a:close/>
                <a:moveTo>
                  <a:pt x="4984" y="3396"/>
                </a:moveTo>
                <a:lnTo>
                  <a:pt x="4984" y="2961"/>
                </a:lnTo>
                <a:lnTo>
                  <a:pt x="5261" y="2961"/>
                </a:lnTo>
                <a:lnTo>
                  <a:pt x="5261" y="3396"/>
                </a:lnTo>
                <a:lnTo>
                  <a:pt x="4984" y="3396"/>
                </a:lnTo>
                <a:close/>
                <a:moveTo>
                  <a:pt x="5373" y="3396"/>
                </a:moveTo>
                <a:lnTo>
                  <a:pt x="5373" y="2961"/>
                </a:lnTo>
                <a:lnTo>
                  <a:pt x="5576" y="2961"/>
                </a:lnTo>
                <a:lnTo>
                  <a:pt x="5576" y="3396"/>
                </a:lnTo>
                <a:lnTo>
                  <a:pt x="5373" y="3396"/>
                </a:lnTo>
                <a:close/>
                <a:moveTo>
                  <a:pt x="5688" y="3396"/>
                </a:moveTo>
                <a:lnTo>
                  <a:pt x="5688" y="2961"/>
                </a:lnTo>
                <a:lnTo>
                  <a:pt x="5808" y="2961"/>
                </a:lnTo>
                <a:lnTo>
                  <a:pt x="5808" y="3396"/>
                </a:lnTo>
                <a:lnTo>
                  <a:pt x="5688" y="3396"/>
                </a:lnTo>
                <a:close/>
                <a:moveTo>
                  <a:pt x="5688" y="2848"/>
                </a:moveTo>
                <a:lnTo>
                  <a:pt x="5688" y="2414"/>
                </a:lnTo>
                <a:lnTo>
                  <a:pt x="5808" y="2414"/>
                </a:lnTo>
                <a:lnTo>
                  <a:pt x="5808" y="2848"/>
                </a:lnTo>
                <a:lnTo>
                  <a:pt x="5688" y="2848"/>
                </a:lnTo>
                <a:close/>
                <a:moveTo>
                  <a:pt x="5373" y="2848"/>
                </a:moveTo>
                <a:lnTo>
                  <a:pt x="5373" y="2414"/>
                </a:lnTo>
                <a:lnTo>
                  <a:pt x="5576" y="2414"/>
                </a:lnTo>
                <a:lnTo>
                  <a:pt x="5576" y="2848"/>
                </a:lnTo>
                <a:lnTo>
                  <a:pt x="5373" y="2848"/>
                </a:lnTo>
                <a:close/>
                <a:moveTo>
                  <a:pt x="4984" y="2848"/>
                </a:moveTo>
                <a:lnTo>
                  <a:pt x="4984" y="2414"/>
                </a:lnTo>
                <a:lnTo>
                  <a:pt x="5261" y="2414"/>
                </a:lnTo>
                <a:lnTo>
                  <a:pt x="5261" y="2848"/>
                </a:lnTo>
                <a:lnTo>
                  <a:pt x="4984" y="2848"/>
                </a:lnTo>
                <a:close/>
                <a:moveTo>
                  <a:pt x="4535" y="2848"/>
                </a:moveTo>
                <a:lnTo>
                  <a:pt x="4535" y="2414"/>
                </a:lnTo>
                <a:lnTo>
                  <a:pt x="4873" y="2414"/>
                </a:lnTo>
                <a:lnTo>
                  <a:pt x="4873" y="2848"/>
                </a:lnTo>
                <a:lnTo>
                  <a:pt x="4535" y="2848"/>
                </a:lnTo>
                <a:close/>
                <a:moveTo>
                  <a:pt x="4038" y="2848"/>
                </a:moveTo>
                <a:lnTo>
                  <a:pt x="4038" y="2414"/>
                </a:lnTo>
                <a:lnTo>
                  <a:pt x="4424" y="2414"/>
                </a:lnTo>
                <a:lnTo>
                  <a:pt x="4424" y="2848"/>
                </a:lnTo>
                <a:lnTo>
                  <a:pt x="4038" y="2848"/>
                </a:lnTo>
                <a:close/>
                <a:moveTo>
                  <a:pt x="3507" y="2848"/>
                </a:moveTo>
                <a:lnTo>
                  <a:pt x="3507" y="2414"/>
                </a:lnTo>
                <a:lnTo>
                  <a:pt x="3926" y="2414"/>
                </a:lnTo>
                <a:lnTo>
                  <a:pt x="3926" y="2848"/>
                </a:lnTo>
                <a:lnTo>
                  <a:pt x="3507" y="2848"/>
                </a:lnTo>
                <a:close/>
                <a:moveTo>
                  <a:pt x="2960" y="2848"/>
                </a:moveTo>
                <a:lnTo>
                  <a:pt x="2960" y="2414"/>
                </a:lnTo>
                <a:lnTo>
                  <a:pt x="3396" y="2414"/>
                </a:lnTo>
                <a:lnTo>
                  <a:pt x="3396" y="2848"/>
                </a:lnTo>
                <a:lnTo>
                  <a:pt x="2960" y="2848"/>
                </a:lnTo>
                <a:close/>
                <a:moveTo>
                  <a:pt x="2413" y="2848"/>
                </a:moveTo>
                <a:lnTo>
                  <a:pt x="2413" y="2414"/>
                </a:lnTo>
                <a:lnTo>
                  <a:pt x="2848" y="2414"/>
                </a:lnTo>
                <a:lnTo>
                  <a:pt x="2848" y="2848"/>
                </a:lnTo>
                <a:lnTo>
                  <a:pt x="2413" y="2848"/>
                </a:lnTo>
                <a:close/>
                <a:moveTo>
                  <a:pt x="1882" y="2848"/>
                </a:moveTo>
                <a:lnTo>
                  <a:pt x="1882" y="2414"/>
                </a:lnTo>
                <a:lnTo>
                  <a:pt x="2302" y="2414"/>
                </a:lnTo>
                <a:lnTo>
                  <a:pt x="2302" y="2848"/>
                </a:lnTo>
                <a:lnTo>
                  <a:pt x="1882" y="2848"/>
                </a:lnTo>
                <a:close/>
                <a:moveTo>
                  <a:pt x="1385" y="2848"/>
                </a:moveTo>
                <a:lnTo>
                  <a:pt x="1385" y="2414"/>
                </a:lnTo>
                <a:lnTo>
                  <a:pt x="1771" y="2414"/>
                </a:lnTo>
                <a:lnTo>
                  <a:pt x="1771" y="2848"/>
                </a:lnTo>
                <a:lnTo>
                  <a:pt x="1385" y="2848"/>
                </a:lnTo>
                <a:close/>
                <a:moveTo>
                  <a:pt x="936" y="2848"/>
                </a:moveTo>
                <a:lnTo>
                  <a:pt x="936" y="2414"/>
                </a:lnTo>
                <a:lnTo>
                  <a:pt x="1274" y="2414"/>
                </a:lnTo>
                <a:lnTo>
                  <a:pt x="1274" y="2848"/>
                </a:lnTo>
                <a:lnTo>
                  <a:pt x="936" y="2848"/>
                </a:lnTo>
                <a:close/>
                <a:moveTo>
                  <a:pt x="547" y="2848"/>
                </a:moveTo>
                <a:lnTo>
                  <a:pt x="547" y="2414"/>
                </a:lnTo>
                <a:lnTo>
                  <a:pt x="823" y="2414"/>
                </a:lnTo>
                <a:lnTo>
                  <a:pt x="823" y="2848"/>
                </a:lnTo>
                <a:lnTo>
                  <a:pt x="547" y="2848"/>
                </a:lnTo>
                <a:close/>
                <a:moveTo>
                  <a:pt x="232" y="2848"/>
                </a:moveTo>
                <a:lnTo>
                  <a:pt x="232" y="2414"/>
                </a:lnTo>
                <a:lnTo>
                  <a:pt x="436" y="2414"/>
                </a:lnTo>
                <a:lnTo>
                  <a:pt x="436" y="2848"/>
                </a:lnTo>
                <a:lnTo>
                  <a:pt x="435" y="2846"/>
                </a:lnTo>
                <a:lnTo>
                  <a:pt x="435" y="2847"/>
                </a:lnTo>
                <a:lnTo>
                  <a:pt x="436" y="2848"/>
                </a:lnTo>
                <a:lnTo>
                  <a:pt x="232" y="2848"/>
                </a:lnTo>
                <a:close/>
                <a:moveTo>
                  <a:pt x="0" y="2848"/>
                </a:moveTo>
                <a:lnTo>
                  <a:pt x="0" y="2414"/>
                </a:lnTo>
                <a:lnTo>
                  <a:pt x="120" y="2414"/>
                </a:lnTo>
                <a:lnTo>
                  <a:pt x="120" y="2848"/>
                </a:lnTo>
                <a:lnTo>
                  <a:pt x="0" y="2848"/>
                </a:lnTo>
                <a:close/>
                <a:moveTo>
                  <a:pt x="232" y="2302"/>
                </a:moveTo>
                <a:lnTo>
                  <a:pt x="232" y="1883"/>
                </a:lnTo>
                <a:lnTo>
                  <a:pt x="436" y="1883"/>
                </a:lnTo>
                <a:lnTo>
                  <a:pt x="436" y="2302"/>
                </a:lnTo>
                <a:lnTo>
                  <a:pt x="232" y="2302"/>
                </a:lnTo>
                <a:close/>
                <a:moveTo>
                  <a:pt x="547" y="2302"/>
                </a:moveTo>
                <a:lnTo>
                  <a:pt x="547" y="1883"/>
                </a:lnTo>
                <a:lnTo>
                  <a:pt x="823" y="1883"/>
                </a:lnTo>
                <a:lnTo>
                  <a:pt x="823" y="2302"/>
                </a:lnTo>
                <a:lnTo>
                  <a:pt x="547" y="2302"/>
                </a:lnTo>
                <a:close/>
                <a:moveTo>
                  <a:pt x="936" y="2302"/>
                </a:moveTo>
                <a:lnTo>
                  <a:pt x="936" y="1883"/>
                </a:lnTo>
                <a:lnTo>
                  <a:pt x="1274" y="1883"/>
                </a:lnTo>
                <a:lnTo>
                  <a:pt x="1274" y="2302"/>
                </a:lnTo>
                <a:lnTo>
                  <a:pt x="936" y="2302"/>
                </a:lnTo>
                <a:close/>
                <a:moveTo>
                  <a:pt x="1385" y="2302"/>
                </a:moveTo>
                <a:lnTo>
                  <a:pt x="1385" y="1883"/>
                </a:lnTo>
                <a:lnTo>
                  <a:pt x="1771" y="1883"/>
                </a:lnTo>
                <a:lnTo>
                  <a:pt x="1771" y="2302"/>
                </a:lnTo>
                <a:lnTo>
                  <a:pt x="1385" y="2302"/>
                </a:lnTo>
                <a:close/>
                <a:moveTo>
                  <a:pt x="1882" y="2302"/>
                </a:moveTo>
                <a:lnTo>
                  <a:pt x="1882" y="1883"/>
                </a:lnTo>
                <a:lnTo>
                  <a:pt x="2302" y="1883"/>
                </a:lnTo>
                <a:lnTo>
                  <a:pt x="2302" y="2302"/>
                </a:lnTo>
                <a:lnTo>
                  <a:pt x="1882" y="2302"/>
                </a:lnTo>
                <a:close/>
                <a:moveTo>
                  <a:pt x="2413" y="2302"/>
                </a:moveTo>
                <a:lnTo>
                  <a:pt x="2413" y="1883"/>
                </a:lnTo>
                <a:lnTo>
                  <a:pt x="2848" y="1883"/>
                </a:lnTo>
                <a:lnTo>
                  <a:pt x="2848" y="2302"/>
                </a:lnTo>
                <a:lnTo>
                  <a:pt x="2413" y="2302"/>
                </a:lnTo>
                <a:close/>
                <a:moveTo>
                  <a:pt x="2960" y="2302"/>
                </a:moveTo>
                <a:lnTo>
                  <a:pt x="2960" y="1883"/>
                </a:lnTo>
                <a:lnTo>
                  <a:pt x="3396" y="1883"/>
                </a:lnTo>
                <a:lnTo>
                  <a:pt x="3396" y="2302"/>
                </a:lnTo>
                <a:lnTo>
                  <a:pt x="2960" y="2302"/>
                </a:lnTo>
                <a:close/>
                <a:moveTo>
                  <a:pt x="3507" y="2302"/>
                </a:moveTo>
                <a:lnTo>
                  <a:pt x="3507" y="1883"/>
                </a:lnTo>
                <a:lnTo>
                  <a:pt x="3926" y="1883"/>
                </a:lnTo>
                <a:lnTo>
                  <a:pt x="3926" y="2302"/>
                </a:lnTo>
                <a:lnTo>
                  <a:pt x="3507" y="2302"/>
                </a:lnTo>
                <a:close/>
                <a:moveTo>
                  <a:pt x="4038" y="2302"/>
                </a:moveTo>
                <a:lnTo>
                  <a:pt x="4038" y="1883"/>
                </a:lnTo>
                <a:lnTo>
                  <a:pt x="4424" y="1883"/>
                </a:lnTo>
                <a:lnTo>
                  <a:pt x="4424" y="2302"/>
                </a:lnTo>
                <a:lnTo>
                  <a:pt x="4038" y="2302"/>
                </a:lnTo>
                <a:close/>
                <a:moveTo>
                  <a:pt x="4535" y="2302"/>
                </a:moveTo>
                <a:lnTo>
                  <a:pt x="4535" y="1883"/>
                </a:lnTo>
                <a:lnTo>
                  <a:pt x="4873" y="1883"/>
                </a:lnTo>
                <a:lnTo>
                  <a:pt x="4873" y="2302"/>
                </a:lnTo>
                <a:lnTo>
                  <a:pt x="4535" y="2302"/>
                </a:lnTo>
                <a:close/>
                <a:moveTo>
                  <a:pt x="4984" y="2302"/>
                </a:moveTo>
                <a:lnTo>
                  <a:pt x="4984" y="1883"/>
                </a:lnTo>
                <a:lnTo>
                  <a:pt x="5261" y="1883"/>
                </a:lnTo>
                <a:lnTo>
                  <a:pt x="5261" y="2302"/>
                </a:lnTo>
                <a:lnTo>
                  <a:pt x="4984" y="2302"/>
                </a:lnTo>
                <a:close/>
                <a:moveTo>
                  <a:pt x="5373" y="2302"/>
                </a:moveTo>
                <a:lnTo>
                  <a:pt x="5373" y="1883"/>
                </a:lnTo>
                <a:lnTo>
                  <a:pt x="5576" y="1883"/>
                </a:lnTo>
                <a:lnTo>
                  <a:pt x="5576" y="2302"/>
                </a:lnTo>
                <a:lnTo>
                  <a:pt x="5373" y="2302"/>
                </a:lnTo>
                <a:close/>
                <a:moveTo>
                  <a:pt x="4984" y="1771"/>
                </a:moveTo>
                <a:lnTo>
                  <a:pt x="4984" y="1385"/>
                </a:lnTo>
                <a:lnTo>
                  <a:pt x="5261" y="1385"/>
                </a:lnTo>
                <a:lnTo>
                  <a:pt x="5261" y="1771"/>
                </a:lnTo>
                <a:lnTo>
                  <a:pt x="4984" y="1771"/>
                </a:lnTo>
                <a:close/>
                <a:moveTo>
                  <a:pt x="4535" y="1771"/>
                </a:moveTo>
                <a:lnTo>
                  <a:pt x="4535" y="1385"/>
                </a:lnTo>
                <a:lnTo>
                  <a:pt x="4873" y="1385"/>
                </a:lnTo>
                <a:lnTo>
                  <a:pt x="4873" y="1771"/>
                </a:lnTo>
                <a:lnTo>
                  <a:pt x="4535" y="1771"/>
                </a:lnTo>
                <a:close/>
                <a:moveTo>
                  <a:pt x="4038" y="1771"/>
                </a:moveTo>
                <a:lnTo>
                  <a:pt x="4038" y="1385"/>
                </a:lnTo>
                <a:lnTo>
                  <a:pt x="4424" y="1385"/>
                </a:lnTo>
                <a:lnTo>
                  <a:pt x="4424" y="1771"/>
                </a:lnTo>
                <a:lnTo>
                  <a:pt x="4038" y="1771"/>
                </a:lnTo>
                <a:close/>
                <a:moveTo>
                  <a:pt x="3507" y="1771"/>
                </a:moveTo>
                <a:lnTo>
                  <a:pt x="3507" y="1385"/>
                </a:lnTo>
                <a:lnTo>
                  <a:pt x="3926" y="1385"/>
                </a:lnTo>
                <a:lnTo>
                  <a:pt x="3926" y="1771"/>
                </a:lnTo>
                <a:lnTo>
                  <a:pt x="3507" y="1771"/>
                </a:lnTo>
                <a:close/>
                <a:moveTo>
                  <a:pt x="2960" y="1771"/>
                </a:moveTo>
                <a:lnTo>
                  <a:pt x="2960" y="1385"/>
                </a:lnTo>
                <a:lnTo>
                  <a:pt x="3396" y="1385"/>
                </a:lnTo>
                <a:lnTo>
                  <a:pt x="3396" y="1771"/>
                </a:lnTo>
                <a:lnTo>
                  <a:pt x="2960" y="1771"/>
                </a:lnTo>
                <a:close/>
                <a:moveTo>
                  <a:pt x="2413" y="1771"/>
                </a:moveTo>
                <a:lnTo>
                  <a:pt x="2413" y="1385"/>
                </a:lnTo>
                <a:lnTo>
                  <a:pt x="2848" y="1385"/>
                </a:lnTo>
                <a:lnTo>
                  <a:pt x="2848" y="1771"/>
                </a:lnTo>
                <a:lnTo>
                  <a:pt x="2413" y="1771"/>
                </a:lnTo>
                <a:close/>
                <a:moveTo>
                  <a:pt x="1882" y="1771"/>
                </a:moveTo>
                <a:lnTo>
                  <a:pt x="1882" y="1385"/>
                </a:lnTo>
                <a:lnTo>
                  <a:pt x="2302" y="1385"/>
                </a:lnTo>
                <a:lnTo>
                  <a:pt x="2302" y="1771"/>
                </a:lnTo>
                <a:lnTo>
                  <a:pt x="1882" y="1771"/>
                </a:lnTo>
                <a:close/>
                <a:moveTo>
                  <a:pt x="1385" y="1771"/>
                </a:moveTo>
                <a:lnTo>
                  <a:pt x="1385" y="1385"/>
                </a:lnTo>
                <a:lnTo>
                  <a:pt x="1771" y="1385"/>
                </a:lnTo>
                <a:lnTo>
                  <a:pt x="1771" y="1771"/>
                </a:lnTo>
                <a:lnTo>
                  <a:pt x="1385" y="1771"/>
                </a:lnTo>
                <a:close/>
                <a:moveTo>
                  <a:pt x="936" y="1771"/>
                </a:moveTo>
                <a:lnTo>
                  <a:pt x="936" y="1385"/>
                </a:lnTo>
                <a:lnTo>
                  <a:pt x="1274" y="1385"/>
                </a:lnTo>
                <a:lnTo>
                  <a:pt x="1274" y="1771"/>
                </a:lnTo>
                <a:lnTo>
                  <a:pt x="936" y="1771"/>
                </a:lnTo>
                <a:close/>
                <a:moveTo>
                  <a:pt x="547" y="1771"/>
                </a:moveTo>
                <a:lnTo>
                  <a:pt x="547" y="1385"/>
                </a:lnTo>
                <a:lnTo>
                  <a:pt x="823" y="1385"/>
                </a:lnTo>
                <a:lnTo>
                  <a:pt x="823" y="1771"/>
                </a:lnTo>
                <a:lnTo>
                  <a:pt x="547" y="1771"/>
                </a:lnTo>
                <a:close/>
                <a:moveTo>
                  <a:pt x="936" y="1274"/>
                </a:moveTo>
                <a:lnTo>
                  <a:pt x="936" y="936"/>
                </a:lnTo>
                <a:lnTo>
                  <a:pt x="1274" y="936"/>
                </a:lnTo>
                <a:lnTo>
                  <a:pt x="1274" y="1274"/>
                </a:lnTo>
                <a:lnTo>
                  <a:pt x="936" y="1274"/>
                </a:lnTo>
                <a:close/>
                <a:moveTo>
                  <a:pt x="1385" y="1274"/>
                </a:moveTo>
                <a:lnTo>
                  <a:pt x="1385" y="936"/>
                </a:lnTo>
                <a:lnTo>
                  <a:pt x="1771" y="936"/>
                </a:lnTo>
                <a:lnTo>
                  <a:pt x="1771" y="1274"/>
                </a:lnTo>
                <a:lnTo>
                  <a:pt x="1385" y="1274"/>
                </a:lnTo>
                <a:close/>
                <a:moveTo>
                  <a:pt x="1882" y="1274"/>
                </a:moveTo>
                <a:lnTo>
                  <a:pt x="1882" y="936"/>
                </a:lnTo>
                <a:lnTo>
                  <a:pt x="2302" y="936"/>
                </a:lnTo>
                <a:lnTo>
                  <a:pt x="2302" y="1274"/>
                </a:lnTo>
                <a:lnTo>
                  <a:pt x="1882" y="1274"/>
                </a:lnTo>
                <a:close/>
                <a:moveTo>
                  <a:pt x="2413" y="1274"/>
                </a:moveTo>
                <a:lnTo>
                  <a:pt x="2413" y="936"/>
                </a:lnTo>
                <a:lnTo>
                  <a:pt x="2848" y="936"/>
                </a:lnTo>
                <a:lnTo>
                  <a:pt x="2848" y="1274"/>
                </a:lnTo>
                <a:lnTo>
                  <a:pt x="2413" y="1274"/>
                </a:lnTo>
                <a:close/>
                <a:moveTo>
                  <a:pt x="2960" y="1274"/>
                </a:moveTo>
                <a:lnTo>
                  <a:pt x="2960" y="936"/>
                </a:lnTo>
                <a:lnTo>
                  <a:pt x="3396" y="936"/>
                </a:lnTo>
                <a:lnTo>
                  <a:pt x="3396" y="1274"/>
                </a:lnTo>
                <a:lnTo>
                  <a:pt x="2960" y="1274"/>
                </a:lnTo>
                <a:close/>
                <a:moveTo>
                  <a:pt x="3507" y="1274"/>
                </a:moveTo>
                <a:lnTo>
                  <a:pt x="3507" y="936"/>
                </a:lnTo>
                <a:lnTo>
                  <a:pt x="3926" y="936"/>
                </a:lnTo>
                <a:lnTo>
                  <a:pt x="3926" y="1274"/>
                </a:lnTo>
                <a:lnTo>
                  <a:pt x="3507" y="1274"/>
                </a:lnTo>
                <a:close/>
                <a:moveTo>
                  <a:pt x="4038" y="1274"/>
                </a:moveTo>
                <a:lnTo>
                  <a:pt x="4038" y="936"/>
                </a:lnTo>
                <a:lnTo>
                  <a:pt x="4424" y="936"/>
                </a:lnTo>
                <a:lnTo>
                  <a:pt x="4424" y="1274"/>
                </a:lnTo>
                <a:lnTo>
                  <a:pt x="4038" y="1274"/>
                </a:lnTo>
                <a:close/>
                <a:moveTo>
                  <a:pt x="4535" y="1274"/>
                </a:moveTo>
                <a:lnTo>
                  <a:pt x="4535" y="936"/>
                </a:lnTo>
                <a:lnTo>
                  <a:pt x="4873" y="936"/>
                </a:lnTo>
                <a:lnTo>
                  <a:pt x="4873" y="1274"/>
                </a:lnTo>
                <a:lnTo>
                  <a:pt x="4535" y="1274"/>
                </a:lnTo>
                <a:close/>
                <a:moveTo>
                  <a:pt x="4038" y="824"/>
                </a:moveTo>
                <a:lnTo>
                  <a:pt x="4038" y="547"/>
                </a:lnTo>
                <a:lnTo>
                  <a:pt x="4424" y="547"/>
                </a:lnTo>
                <a:lnTo>
                  <a:pt x="4424" y="824"/>
                </a:lnTo>
                <a:lnTo>
                  <a:pt x="4038" y="824"/>
                </a:lnTo>
                <a:close/>
                <a:moveTo>
                  <a:pt x="3507" y="824"/>
                </a:moveTo>
                <a:lnTo>
                  <a:pt x="3507" y="547"/>
                </a:lnTo>
                <a:lnTo>
                  <a:pt x="3926" y="547"/>
                </a:lnTo>
                <a:lnTo>
                  <a:pt x="3926" y="824"/>
                </a:lnTo>
                <a:lnTo>
                  <a:pt x="3507" y="824"/>
                </a:lnTo>
                <a:close/>
                <a:moveTo>
                  <a:pt x="2960" y="824"/>
                </a:moveTo>
                <a:lnTo>
                  <a:pt x="2960" y="547"/>
                </a:lnTo>
                <a:lnTo>
                  <a:pt x="3396" y="547"/>
                </a:lnTo>
                <a:lnTo>
                  <a:pt x="3396" y="824"/>
                </a:lnTo>
                <a:lnTo>
                  <a:pt x="2960" y="824"/>
                </a:lnTo>
                <a:close/>
                <a:moveTo>
                  <a:pt x="2413" y="824"/>
                </a:moveTo>
                <a:lnTo>
                  <a:pt x="2413" y="547"/>
                </a:lnTo>
                <a:lnTo>
                  <a:pt x="2848" y="547"/>
                </a:lnTo>
                <a:lnTo>
                  <a:pt x="2848" y="824"/>
                </a:lnTo>
                <a:lnTo>
                  <a:pt x="2413" y="824"/>
                </a:lnTo>
                <a:close/>
                <a:moveTo>
                  <a:pt x="1882" y="824"/>
                </a:moveTo>
                <a:lnTo>
                  <a:pt x="1882" y="547"/>
                </a:lnTo>
                <a:lnTo>
                  <a:pt x="2302" y="547"/>
                </a:lnTo>
                <a:lnTo>
                  <a:pt x="2302" y="824"/>
                </a:lnTo>
                <a:lnTo>
                  <a:pt x="1882" y="824"/>
                </a:lnTo>
                <a:close/>
                <a:moveTo>
                  <a:pt x="1385" y="824"/>
                </a:moveTo>
                <a:lnTo>
                  <a:pt x="1385" y="547"/>
                </a:lnTo>
                <a:lnTo>
                  <a:pt x="1771" y="547"/>
                </a:lnTo>
                <a:lnTo>
                  <a:pt x="1771" y="824"/>
                </a:lnTo>
                <a:lnTo>
                  <a:pt x="1385" y="824"/>
                </a:lnTo>
                <a:close/>
                <a:moveTo>
                  <a:pt x="1882" y="436"/>
                </a:moveTo>
                <a:lnTo>
                  <a:pt x="1882" y="232"/>
                </a:lnTo>
                <a:lnTo>
                  <a:pt x="2302" y="232"/>
                </a:lnTo>
                <a:lnTo>
                  <a:pt x="2302" y="436"/>
                </a:lnTo>
                <a:lnTo>
                  <a:pt x="1882" y="436"/>
                </a:lnTo>
                <a:close/>
                <a:moveTo>
                  <a:pt x="2413" y="436"/>
                </a:moveTo>
                <a:lnTo>
                  <a:pt x="2413" y="232"/>
                </a:lnTo>
                <a:lnTo>
                  <a:pt x="2848" y="232"/>
                </a:lnTo>
                <a:lnTo>
                  <a:pt x="2848" y="436"/>
                </a:lnTo>
                <a:lnTo>
                  <a:pt x="2413" y="436"/>
                </a:lnTo>
                <a:close/>
                <a:moveTo>
                  <a:pt x="2960" y="436"/>
                </a:moveTo>
                <a:lnTo>
                  <a:pt x="2960" y="232"/>
                </a:lnTo>
                <a:lnTo>
                  <a:pt x="3396" y="232"/>
                </a:lnTo>
                <a:lnTo>
                  <a:pt x="3396" y="436"/>
                </a:lnTo>
                <a:lnTo>
                  <a:pt x="2960" y="436"/>
                </a:lnTo>
                <a:close/>
                <a:moveTo>
                  <a:pt x="3507" y="436"/>
                </a:moveTo>
                <a:lnTo>
                  <a:pt x="3507" y="232"/>
                </a:lnTo>
                <a:lnTo>
                  <a:pt x="3926" y="232"/>
                </a:lnTo>
                <a:lnTo>
                  <a:pt x="3926" y="436"/>
                </a:lnTo>
                <a:lnTo>
                  <a:pt x="3507" y="436"/>
                </a:lnTo>
                <a:close/>
                <a:moveTo>
                  <a:pt x="2960" y="120"/>
                </a:moveTo>
                <a:lnTo>
                  <a:pt x="2960" y="0"/>
                </a:lnTo>
                <a:lnTo>
                  <a:pt x="3396" y="0"/>
                </a:lnTo>
                <a:lnTo>
                  <a:pt x="3396" y="120"/>
                </a:lnTo>
                <a:lnTo>
                  <a:pt x="2960" y="120"/>
                </a:lnTo>
                <a:close/>
                <a:moveTo>
                  <a:pt x="2413" y="120"/>
                </a:moveTo>
                <a:lnTo>
                  <a:pt x="2413" y="0"/>
                </a:lnTo>
                <a:lnTo>
                  <a:pt x="2848" y="0"/>
                </a:lnTo>
                <a:lnTo>
                  <a:pt x="2848" y="120"/>
                </a:lnTo>
                <a:lnTo>
                  <a:pt x="2413" y="120"/>
                </a:lnTo>
                <a:close/>
              </a:path>
            </a:pathLst>
          </a:custGeom>
          <a:solidFill>
            <a:srgbClr val="96d4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0" name=""/>
          <p:cNvGrpSpPr/>
          <p:nvPr/>
        </p:nvGrpSpPr>
        <p:grpSpPr>
          <a:xfrm>
            <a:off x="6324480" y="3182760"/>
            <a:ext cx="1217880" cy="1252800"/>
            <a:chOff x="6324480" y="3182760"/>
            <a:chExt cx="1217880" cy="1252800"/>
          </a:xfrm>
        </p:grpSpPr>
        <p:sp>
          <p:nvSpPr>
            <p:cNvPr id="2171" name=""/>
            <p:cNvSpPr/>
            <p:nvPr/>
          </p:nvSpPr>
          <p:spPr>
            <a:xfrm>
              <a:off x="6324480" y="3194640"/>
              <a:ext cx="483840" cy="56808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0" y="86"/>
                  </a:moveTo>
                  <a:lnTo>
                    <a:pt x="2" y="73"/>
                  </a:lnTo>
                  <a:lnTo>
                    <a:pt x="4" y="67"/>
                  </a:lnTo>
                  <a:lnTo>
                    <a:pt x="8" y="54"/>
                  </a:lnTo>
                  <a:lnTo>
                    <a:pt x="15" y="40"/>
                  </a:lnTo>
                  <a:lnTo>
                    <a:pt x="25" y="29"/>
                  </a:lnTo>
                  <a:lnTo>
                    <a:pt x="36" y="17"/>
                  </a:lnTo>
                  <a:lnTo>
                    <a:pt x="48" y="9"/>
                  </a:lnTo>
                  <a:lnTo>
                    <a:pt x="63" y="2"/>
                  </a:lnTo>
                  <a:lnTo>
                    <a:pt x="75" y="0"/>
                  </a:lnTo>
                  <a:lnTo>
                    <a:pt x="67" y="9"/>
                  </a:lnTo>
                  <a:lnTo>
                    <a:pt x="55" y="23"/>
                  </a:lnTo>
                  <a:lnTo>
                    <a:pt x="46" y="40"/>
                  </a:lnTo>
                  <a:lnTo>
                    <a:pt x="40" y="56"/>
                  </a:lnTo>
                  <a:lnTo>
                    <a:pt x="36" y="73"/>
                  </a:lnTo>
                  <a:lnTo>
                    <a:pt x="36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324480" y="3841920"/>
              <a:ext cx="502920" cy="5799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0" y="0"/>
                  </a:moveTo>
                  <a:lnTo>
                    <a:pt x="2" y="17"/>
                  </a:lnTo>
                  <a:lnTo>
                    <a:pt x="8" y="30"/>
                  </a:lnTo>
                  <a:lnTo>
                    <a:pt x="15" y="46"/>
                  </a:lnTo>
                  <a:lnTo>
                    <a:pt x="23" y="57"/>
                  </a:lnTo>
                  <a:lnTo>
                    <a:pt x="34" y="69"/>
                  </a:lnTo>
                  <a:lnTo>
                    <a:pt x="46" y="78"/>
                  </a:lnTo>
                  <a:lnTo>
                    <a:pt x="59" y="84"/>
                  </a:lnTo>
                  <a:lnTo>
                    <a:pt x="67" y="86"/>
                  </a:lnTo>
                  <a:lnTo>
                    <a:pt x="75" y="88"/>
                  </a:lnTo>
                  <a:lnTo>
                    <a:pt x="78" y="88"/>
                  </a:lnTo>
                  <a:lnTo>
                    <a:pt x="67" y="75"/>
                  </a:lnTo>
                  <a:lnTo>
                    <a:pt x="55" y="61"/>
                  </a:lnTo>
                  <a:lnTo>
                    <a:pt x="46" y="46"/>
                  </a:lnTo>
                  <a:lnTo>
                    <a:pt x="40" y="29"/>
                  </a:lnTo>
                  <a:lnTo>
                    <a:pt x="36" y="11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645960" y="3182760"/>
              <a:ext cx="258840" cy="579960"/>
            </a:xfrm>
            <a:custGeom>
              <a:avLst/>
              <a:gdLst/>
              <a:ahLst/>
              <a:rect l="l" t="t" r="r" b="b"/>
              <a:pathLst>
                <a:path w="40" h="88">
                  <a:moveTo>
                    <a:pt x="40" y="0"/>
                  </a:moveTo>
                  <a:lnTo>
                    <a:pt x="28" y="11"/>
                  </a:lnTo>
                  <a:lnTo>
                    <a:pt x="19" y="25"/>
                  </a:lnTo>
                  <a:lnTo>
                    <a:pt x="9" y="42"/>
                  </a:lnTo>
                  <a:lnTo>
                    <a:pt x="3" y="58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40" y="8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634440" y="3841920"/>
              <a:ext cx="257040" cy="579960"/>
            </a:xfrm>
            <a:custGeom>
              <a:avLst/>
              <a:gdLst/>
              <a:ahLst/>
              <a:rect l="l" t="t" r="r" b="b"/>
              <a:pathLst>
                <a:path w="40" h="88">
                  <a:moveTo>
                    <a:pt x="4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5" y="29"/>
                  </a:lnTo>
                  <a:lnTo>
                    <a:pt x="11" y="46"/>
                  </a:lnTo>
                  <a:lnTo>
                    <a:pt x="21" y="61"/>
                  </a:lnTo>
                  <a:lnTo>
                    <a:pt x="30" y="78"/>
                  </a:lnTo>
                  <a:lnTo>
                    <a:pt x="40" y="8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975000" y="3841920"/>
              <a:ext cx="264600" cy="59364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0" y="90"/>
                  </a:moveTo>
                  <a:lnTo>
                    <a:pt x="10" y="78"/>
                  </a:lnTo>
                  <a:lnTo>
                    <a:pt x="21" y="65"/>
                  </a:lnTo>
                  <a:lnTo>
                    <a:pt x="29" y="48"/>
                  </a:lnTo>
                  <a:lnTo>
                    <a:pt x="35" y="30"/>
                  </a:lnTo>
                  <a:lnTo>
                    <a:pt x="39" y="1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975000" y="3182760"/>
              <a:ext cx="264600" cy="57996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0" y="88"/>
                  </a:moveTo>
                  <a:lnTo>
                    <a:pt x="41" y="88"/>
                  </a:lnTo>
                  <a:lnTo>
                    <a:pt x="39" y="79"/>
                  </a:lnTo>
                  <a:lnTo>
                    <a:pt x="35" y="59"/>
                  </a:lnTo>
                  <a:lnTo>
                    <a:pt x="29" y="44"/>
                  </a:lnTo>
                  <a:lnTo>
                    <a:pt x="21" y="27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052760" y="3841920"/>
              <a:ext cx="489600" cy="579960"/>
            </a:xfrm>
            <a:custGeom>
              <a:avLst/>
              <a:gdLst/>
              <a:ahLst/>
              <a:rect l="l" t="t" r="r" b="b"/>
              <a:pathLst>
                <a:path w="76" h="88">
                  <a:moveTo>
                    <a:pt x="76" y="0"/>
                  </a:moveTo>
                  <a:lnTo>
                    <a:pt x="76" y="13"/>
                  </a:lnTo>
                  <a:lnTo>
                    <a:pt x="73" y="21"/>
                  </a:lnTo>
                  <a:lnTo>
                    <a:pt x="69" y="32"/>
                  </a:lnTo>
                  <a:lnTo>
                    <a:pt x="63" y="46"/>
                  </a:lnTo>
                  <a:lnTo>
                    <a:pt x="51" y="59"/>
                  </a:lnTo>
                  <a:lnTo>
                    <a:pt x="40" y="71"/>
                  </a:lnTo>
                  <a:lnTo>
                    <a:pt x="29" y="78"/>
                  </a:lnTo>
                  <a:lnTo>
                    <a:pt x="13" y="84"/>
                  </a:lnTo>
                  <a:lnTo>
                    <a:pt x="0" y="88"/>
                  </a:lnTo>
                  <a:lnTo>
                    <a:pt x="9" y="78"/>
                  </a:lnTo>
                  <a:lnTo>
                    <a:pt x="21" y="65"/>
                  </a:lnTo>
                  <a:lnTo>
                    <a:pt x="30" y="48"/>
                  </a:lnTo>
                  <a:lnTo>
                    <a:pt x="36" y="30"/>
                  </a:lnTo>
                  <a:lnTo>
                    <a:pt x="38" y="13"/>
                  </a:lnTo>
                  <a:lnTo>
                    <a:pt x="4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039440" y="3182760"/>
              <a:ext cx="502920" cy="5799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8" y="88"/>
                  </a:moveTo>
                  <a:lnTo>
                    <a:pt x="76" y="73"/>
                  </a:lnTo>
                  <a:lnTo>
                    <a:pt x="73" y="58"/>
                  </a:lnTo>
                  <a:lnTo>
                    <a:pt x="65" y="44"/>
                  </a:lnTo>
                  <a:lnTo>
                    <a:pt x="55" y="33"/>
                  </a:lnTo>
                  <a:lnTo>
                    <a:pt x="46" y="21"/>
                  </a:lnTo>
                  <a:lnTo>
                    <a:pt x="32" y="11"/>
                  </a:lnTo>
                  <a:lnTo>
                    <a:pt x="19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11" y="13"/>
                  </a:lnTo>
                  <a:lnTo>
                    <a:pt x="23" y="27"/>
                  </a:lnTo>
                  <a:lnTo>
                    <a:pt x="32" y="44"/>
                  </a:lnTo>
                  <a:lnTo>
                    <a:pt x="38" y="59"/>
                  </a:lnTo>
                  <a:lnTo>
                    <a:pt x="40" y="79"/>
                  </a:lnTo>
                  <a:lnTo>
                    <a:pt x="42" y="88"/>
                  </a:lnTo>
                  <a:lnTo>
                    <a:pt x="78" y="88"/>
                  </a:lnTo>
                  <a:close/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9" name=""/>
          <p:cNvSpPr/>
          <p:nvPr/>
        </p:nvSpPr>
        <p:spPr>
          <a:xfrm>
            <a:off x="19069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783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1447920" y="3124080"/>
            <a:ext cx="1266480" cy="1280880"/>
            <a:chOff x="1447920" y="3124080"/>
            <a:chExt cx="1266480" cy="1280880"/>
          </a:xfrm>
        </p:grpSpPr>
        <p:sp>
          <p:nvSpPr>
            <p:cNvPr id="2182" name=""/>
            <p:cNvSpPr/>
            <p:nvPr/>
          </p:nvSpPr>
          <p:spPr>
            <a:xfrm>
              <a:off x="2556720" y="3906720"/>
              <a:ext cx="133560" cy="104040"/>
            </a:xfrm>
            <a:custGeom>
              <a:avLst/>
              <a:gdLst/>
              <a:ahLst/>
              <a:rect l="l" t="t" r="r" b="b"/>
              <a:pathLst>
                <a:path w="1384" h="1037">
                  <a:moveTo>
                    <a:pt x="1384" y="410"/>
                  </a:moveTo>
                  <a:lnTo>
                    <a:pt x="1149" y="1037"/>
                  </a:lnTo>
                  <a:lnTo>
                    <a:pt x="0" y="628"/>
                  </a:lnTo>
                  <a:lnTo>
                    <a:pt x="237" y="0"/>
                  </a:lnTo>
                  <a:lnTo>
                    <a:pt x="1384" y="41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503080" y="4012920"/>
              <a:ext cx="133200" cy="117360"/>
            </a:xfrm>
            <a:custGeom>
              <a:avLst/>
              <a:gdLst/>
              <a:ahLst/>
              <a:rect l="l" t="t" r="r" b="b"/>
              <a:pathLst>
                <a:path w="1379" h="1174">
                  <a:moveTo>
                    <a:pt x="1379" y="635"/>
                  </a:moveTo>
                  <a:lnTo>
                    <a:pt x="1033" y="1174"/>
                  </a:lnTo>
                  <a:lnTo>
                    <a:pt x="0" y="543"/>
                  </a:lnTo>
                  <a:lnTo>
                    <a:pt x="352" y="0"/>
                  </a:lnTo>
                  <a:lnTo>
                    <a:pt x="1379" y="635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426760" y="4110120"/>
              <a:ext cx="124200" cy="127800"/>
            </a:xfrm>
            <a:custGeom>
              <a:avLst/>
              <a:gdLst/>
              <a:ahLst/>
              <a:rect l="l" t="t" r="r" b="b"/>
              <a:pathLst>
                <a:path w="1300" h="1269">
                  <a:moveTo>
                    <a:pt x="1300" y="843"/>
                  </a:moveTo>
                  <a:lnTo>
                    <a:pt x="857" y="1269"/>
                  </a:lnTo>
                  <a:lnTo>
                    <a:pt x="0" y="423"/>
                  </a:lnTo>
                  <a:lnTo>
                    <a:pt x="443" y="0"/>
                  </a:lnTo>
                  <a:lnTo>
                    <a:pt x="1300" y="843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334960" y="4188600"/>
              <a:ext cx="110520" cy="132840"/>
            </a:xfrm>
            <a:custGeom>
              <a:avLst/>
              <a:gdLst/>
              <a:ahLst/>
              <a:rect l="l" t="t" r="r" b="b"/>
              <a:pathLst>
                <a:path w="1140" h="1316">
                  <a:moveTo>
                    <a:pt x="1140" y="1010"/>
                  </a:moveTo>
                  <a:lnTo>
                    <a:pt x="635" y="1316"/>
                  </a:lnTo>
                  <a:lnTo>
                    <a:pt x="0" y="303"/>
                  </a:lnTo>
                  <a:lnTo>
                    <a:pt x="505" y="0"/>
                  </a:lnTo>
                  <a:lnTo>
                    <a:pt x="1140" y="101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234520" y="4244400"/>
              <a:ext cx="89640" cy="129960"/>
            </a:xfrm>
            <a:custGeom>
              <a:avLst/>
              <a:gdLst/>
              <a:ahLst/>
              <a:rect l="l" t="t" r="r" b="b"/>
              <a:pathLst>
                <a:path w="932" h="1300">
                  <a:moveTo>
                    <a:pt x="932" y="1120"/>
                  </a:moveTo>
                  <a:lnTo>
                    <a:pt x="401" y="1300"/>
                  </a:lnTo>
                  <a:lnTo>
                    <a:pt x="0" y="186"/>
                  </a:lnTo>
                  <a:lnTo>
                    <a:pt x="529" y="0"/>
                  </a:lnTo>
                  <a:lnTo>
                    <a:pt x="932" y="112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120040" y="4280400"/>
              <a:ext cx="60480" cy="122760"/>
            </a:xfrm>
            <a:custGeom>
              <a:avLst/>
              <a:gdLst/>
              <a:ahLst/>
              <a:rect l="l" t="t" r="r" b="b"/>
              <a:pathLst>
                <a:path w="632" h="1227">
                  <a:moveTo>
                    <a:pt x="632" y="1177"/>
                  </a:moveTo>
                  <a:lnTo>
                    <a:pt x="104" y="1227"/>
                  </a:lnTo>
                  <a:lnTo>
                    <a:pt x="0" y="53"/>
                  </a:lnTo>
                  <a:lnTo>
                    <a:pt x="524" y="0"/>
                  </a:lnTo>
                  <a:lnTo>
                    <a:pt x="632" y="1177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000520" y="4282200"/>
              <a:ext cx="60480" cy="122760"/>
            </a:xfrm>
            <a:custGeom>
              <a:avLst/>
              <a:gdLst/>
              <a:ahLst/>
              <a:rect l="l" t="t" r="r" b="b"/>
              <a:pathLst>
                <a:path w="626" h="1218">
                  <a:moveTo>
                    <a:pt x="499" y="1218"/>
                  </a:moveTo>
                  <a:lnTo>
                    <a:pt x="0" y="1174"/>
                  </a:lnTo>
                  <a:lnTo>
                    <a:pt x="127" y="0"/>
                  </a:lnTo>
                  <a:lnTo>
                    <a:pt x="626" y="41"/>
                  </a:lnTo>
                  <a:lnTo>
                    <a:pt x="499" y="121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863360" y="4254840"/>
              <a:ext cx="81720" cy="126000"/>
            </a:xfrm>
            <a:custGeom>
              <a:avLst/>
              <a:gdLst/>
              <a:ahLst/>
              <a:rect l="l" t="t" r="r" b="b"/>
              <a:pathLst>
                <a:path w="847" h="1260">
                  <a:moveTo>
                    <a:pt x="443" y="1260"/>
                  </a:moveTo>
                  <a:lnTo>
                    <a:pt x="0" y="1118"/>
                  </a:lnTo>
                  <a:lnTo>
                    <a:pt x="394" y="0"/>
                  </a:lnTo>
                  <a:lnTo>
                    <a:pt x="847" y="140"/>
                  </a:lnTo>
                  <a:lnTo>
                    <a:pt x="443" y="126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742400" y="4205520"/>
              <a:ext cx="96840" cy="122760"/>
            </a:xfrm>
            <a:custGeom>
              <a:avLst/>
              <a:gdLst/>
              <a:ahLst/>
              <a:rect l="l" t="t" r="r" b="b"/>
              <a:pathLst>
                <a:path w="1013" h="1228">
                  <a:moveTo>
                    <a:pt x="381" y="1228"/>
                  </a:moveTo>
                  <a:lnTo>
                    <a:pt x="0" y="1013"/>
                  </a:lnTo>
                  <a:lnTo>
                    <a:pt x="632" y="0"/>
                  </a:lnTo>
                  <a:lnTo>
                    <a:pt x="1013" y="221"/>
                  </a:lnTo>
                  <a:lnTo>
                    <a:pt x="381" y="122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627920" y="4130280"/>
              <a:ext cx="112320" cy="112320"/>
            </a:xfrm>
            <a:custGeom>
              <a:avLst/>
              <a:gdLst/>
              <a:ahLst/>
              <a:rect l="l" t="t" r="r" b="b"/>
              <a:pathLst>
                <a:path w="1163" h="1114">
                  <a:moveTo>
                    <a:pt x="290" y="1114"/>
                  </a:moveTo>
                  <a:lnTo>
                    <a:pt x="0" y="830"/>
                  </a:lnTo>
                  <a:lnTo>
                    <a:pt x="866" y="0"/>
                  </a:lnTo>
                  <a:lnTo>
                    <a:pt x="1163" y="281"/>
                  </a:lnTo>
                  <a:lnTo>
                    <a:pt x="290" y="1114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544760" y="4045320"/>
              <a:ext cx="119160" cy="93600"/>
            </a:xfrm>
            <a:custGeom>
              <a:avLst/>
              <a:gdLst/>
              <a:ahLst/>
              <a:rect l="l" t="t" r="r" b="b"/>
              <a:pathLst>
                <a:path w="1239" h="937">
                  <a:moveTo>
                    <a:pt x="205" y="937"/>
                  </a:moveTo>
                  <a:lnTo>
                    <a:pt x="0" y="631"/>
                  </a:lnTo>
                  <a:lnTo>
                    <a:pt x="1029" y="0"/>
                  </a:lnTo>
                  <a:lnTo>
                    <a:pt x="1239" y="306"/>
                  </a:lnTo>
                  <a:lnTo>
                    <a:pt x="205" y="937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485720" y="3947760"/>
              <a:ext cx="122760" cy="74880"/>
            </a:xfrm>
            <a:custGeom>
              <a:avLst/>
              <a:gdLst/>
              <a:ahLst/>
              <a:rect l="l" t="t" r="r" b="b"/>
              <a:pathLst>
                <a:path w="1277" h="738">
                  <a:moveTo>
                    <a:pt x="137" y="738"/>
                  </a:moveTo>
                  <a:lnTo>
                    <a:pt x="0" y="429"/>
                  </a:lnTo>
                  <a:lnTo>
                    <a:pt x="1141" y="0"/>
                  </a:lnTo>
                  <a:lnTo>
                    <a:pt x="1277" y="309"/>
                  </a:lnTo>
                  <a:lnTo>
                    <a:pt x="137" y="73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451160" y="3833640"/>
              <a:ext cx="121320" cy="43920"/>
            </a:xfrm>
            <a:custGeom>
              <a:avLst/>
              <a:gdLst/>
              <a:ahLst/>
              <a:rect l="l" t="t" r="r" b="b"/>
              <a:pathLst>
                <a:path w="1258" h="447">
                  <a:moveTo>
                    <a:pt x="43" y="447"/>
                  </a:moveTo>
                  <a:lnTo>
                    <a:pt x="0" y="144"/>
                  </a:lnTo>
                  <a:lnTo>
                    <a:pt x="1209" y="0"/>
                  </a:lnTo>
                  <a:lnTo>
                    <a:pt x="1258" y="298"/>
                  </a:lnTo>
                  <a:lnTo>
                    <a:pt x="43" y="447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3698640"/>
              <a:ext cx="119160" cy="42840"/>
            </a:xfrm>
            <a:custGeom>
              <a:avLst/>
              <a:gdLst/>
              <a:ahLst/>
              <a:rect l="l" t="t" r="r" b="b"/>
              <a:pathLst>
                <a:path w="1239" h="417">
                  <a:moveTo>
                    <a:pt x="0" y="272"/>
                  </a:moveTo>
                  <a:lnTo>
                    <a:pt x="20" y="0"/>
                  </a:lnTo>
                  <a:lnTo>
                    <a:pt x="1239" y="149"/>
                  </a:lnTo>
                  <a:lnTo>
                    <a:pt x="1206" y="417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68440" y="3572640"/>
              <a:ext cx="117720" cy="61200"/>
            </a:xfrm>
            <a:custGeom>
              <a:avLst/>
              <a:gdLst/>
              <a:ahLst/>
              <a:rect l="l" t="t" r="r" b="b"/>
              <a:pathLst>
                <a:path w="1231" h="609">
                  <a:moveTo>
                    <a:pt x="0" y="237"/>
                  </a:moveTo>
                  <a:lnTo>
                    <a:pt x="72" y="0"/>
                  </a:lnTo>
                  <a:lnTo>
                    <a:pt x="1231" y="373"/>
                  </a:lnTo>
                  <a:lnTo>
                    <a:pt x="1159" y="609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523880" y="3438000"/>
              <a:ext cx="110520" cy="81360"/>
            </a:xfrm>
            <a:custGeom>
              <a:avLst/>
              <a:gdLst/>
              <a:ahLst/>
              <a:rect l="l" t="t" r="r" b="b"/>
              <a:pathLst>
                <a:path w="1143" h="817">
                  <a:moveTo>
                    <a:pt x="0" y="186"/>
                  </a:moveTo>
                  <a:lnTo>
                    <a:pt x="114" y="0"/>
                  </a:lnTo>
                  <a:lnTo>
                    <a:pt x="1143" y="634"/>
                  </a:lnTo>
                  <a:lnTo>
                    <a:pt x="1032" y="817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00200" y="3332160"/>
              <a:ext cx="96840" cy="97200"/>
            </a:xfrm>
            <a:custGeom>
              <a:avLst/>
              <a:gdLst/>
              <a:ahLst/>
              <a:rect l="l" t="t" r="r" b="b"/>
              <a:pathLst>
                <a:path w="1016" h="953">
                  <a:moveTo>
                    <a:pt x="0" y="136"/>
                  </a:moveTo>
                  <a:lnTo>
                    <a:pt x="127" y="0"/>
                  </a:lnTo>
                  <a:lnTo>
                    <a:pt x="1016" y="813"/>
                  </a:lnTo>
                  <a:lnTo>
                    <a:pt x="885" y="953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706040" y="3238560"/>
              <a:ext cx="75960" cy="109080"/>
            </a:xfrm>
            <a:custGeom>
              <a:avLst/>
              <a:gdLst/>
              <a:ahLst/>
              <a:rect l="l" t="t" r="r" b="b"/>
              <a:pathLst>
                <a:path w="801" h="1080">
                  <a:moveTo>
                    <a:pt x="0" y="88"/>
                  </a:moveTo>
                  <a:lnTo>
                    <a:pt x="130" y="0"/>
                  </a:lnTo>
                  <a:lnTo>
                    <a:pt x="801" y="994"/>
                  </a:lnTo>
                  <a:lnTo>
                    <a:pt x="668" y="10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825200" y="3173400"/>
              <a:ext cx="53640" cy="115920"/>
            </a:xfrm>
            <a:custGeom>
              <a:avLst/>
              <a:gdLst/>
              <a:ahLst/>
              <a:rect l="l" t="t" r="r" b="b"/>
              <a:pathLst>
                <a:path w="558" h="1154">
                  <a:moveTo>
                    <a:pt x="0" y="50"/>
                  </a:moveTo>
                  <a:lnTo>
                    <a:pt x="117" y="0"/>
                  </a:lnTo>
                  <a:lnTo>
                    <a:pt x="558" y="1107"/>
                  </a:lnTo>
                  <a:lnTo>
                    <a:pt x="441" y="11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962360" y="3134520"/>
              <a:ext cx="24120" cy="118800"/>
            </a:xfrm>
            <a:custGeom>
              <a:avLst/>
              <a:gdLst/>
              <a:ahLst/>
              <a:rect l="l" t="t" r="r" b="b"/>
              <a:pathLst>
                <a:path w="264" h="1186">
                  <a:moveTo>
                    <a:pt x="0" y="15"/>
                  </a:moveTo>
                  <a:lnTo>
                    <a:pt x="91" y="0"/>
                  </a:lnTo>
                  <a:lnTo>
                    <a:pt x="264" y="1173"/>
                  </a:lnTo>
                  <a:lnTo>
                    <a:pt x="166" y="118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090520" y="3124080"/>
              <a:ext cx="15480" cy="119520"/>
            </a:xfrm>
            <a:custGeom>
              <a:avLst/>
              <a:gdLst/>
              <a:ahLst/>
              <a:rect l="l" t="t" r="r" b="b"/>
              <a:pathLst>
                <a:path w="151" h="1183">
                  <a:moveTo>
                    <a:pt x="88" y="0"/>
                  </a:moveTo>
                  <a:lnTo>
                    <a:pt x="151" y="4"/>
                  </a:lnTo>
                  <a:lnTo>
                    <a:pt x="63" y="1183"/>
                  </a:lnTo>
                  <a:lnTo>
                    <a:pt x="0" y="118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589480" y="3790800"/>
              <a:ext cx="124920" cy="83880"/>
            </a:xfrm>
            <a:custGeom>
              <a:avLst/>
              <a:gdLst/>
              <a:ahLst/>
              <a:rect l="l" t="t" r="r" b="b"/>
              <a:pathLst>
                <a:path w="1304" h="840">
                  <a:moveTo>
                    <a:pt x="1304" y="148"/>
                  </a:moveTo>
                  <a:lnTo>
                    <a:pt x="1212" y="840"/>
                  </a:lnTo>
                  <a:lnTo>
                    <a:pt x="0" y="695"/>
                  </a:lnTo>
                  <a:lnTo>
                    <a:pt x="92" y="0"/>
                  </a:lnTo>
                  <a:lnTo>
                    <a:pt x="1304" y="14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428560" y="3869280"/>
              <a:ext cx="96840" cy="74880"/>
            </a:xfrm>
            <a:custGeom>
              <a:avLst/>
              <a:gdLst/>
              <a:ahLst/>
              <a:rect l="l" t="t" r="r" b="b"/>
              <a:pathLst>
                <a:path w="1007" h="760">
                  <a:moveTo>
                    <a:pt x="1007" y="300"/>
                  </a:moveTo>
                  <a:lnTo>
                    <a:pt x="835" y="760"/>
                  </a:lnTo>
                  <a:lnTo>
                    <a:pt x="0" y="457"/>
                  </a:lnTo>
                  <a:lnTo>
                    <a:pt x="173" y="0"/>
                  </a:lnTo>
                  <a:lnTo>
                    <a:pt x="1007" y="30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388960" y="3946320"/>
              <a:ext cx="96840" cy="84960"/>
            </a:xfrm>
            <a:custGeom>
              <a:avLst/>
              <a:gdLst/>
              <a:ahLst/>
              <a:rect l="l" t="t" r="r" b="b"/>
              <a:pathLst>
                <a:path w="1010" h="859">
                  <a:moveTo>
                    <a:pt x="1010" y="461"/>
                  </a:moveTo>
                  <a:lnTo>
                    <a:pt x="756" y="859"/>
                  </a:lnTo>
                  <a:lnTo>
                    <a:pt x="0" y="395"/>
                  </a:lnTo>
                  <a:lnTo>
                    <a:pt x="258" y="0"/>
                  </a:lnTo>
                  <a:lnTo>
                    <a:pt x="1010" y="461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333160" y="4016160"/>
              <a:ext cx="91800" cy="93600"/>
            </a:xfrm>
            <a:custGeom>
              <a:avLst/>
              <a:gdLst/>
              <a:ahLst/>
              <a:rect l="l" t="t" r="r" b="b"/>
              <a:pathLst>
                <a:path w="945" h="928">
                  <a:moveTo>
                    <a:pt x="945" y="618"/>
                  </a:moveTo>
                  <a:lnTo>
                    <a:pt x="625" y="928"/>
                  </a:lnTo>
                  <a:lnTo>
                    <a:pt x="0" y="309"/>
                  </a:lnTo>
                  <a:lnTo>
                    <a:pt x="323" y="0"/>
                  </a:lnTo>
                  <a:lnTo>
                    <a:pt x="945" y="61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267280" y="4074120"/>
              <a:ext cx="79560" cy="97200"/>
            </a:xfrm>
            <a:custGeom>
              <a:avLst/>
              <a:gdLst/>
              <a:ahLst/>
              <a:rect l="l" t="t" r="r" b="b"/>
              <a:pathLst>
                <a:path w="831" h="959">
                  <a:moveTo>
                    <a:pt x="831" y="738"/>
                  </a:moveTo>
                  <a:lnTo>
                    <a:pt x="462" y="959"/>
                  </a:lnTo>
                  <a:lnTo>
                    <a:pt x="0" y="221"/>
                  </a:lnTo>
                  <a:lnTo>
                    <a:pt x="371" y="0"/>
                  </a:lnTo>
                  <a:lnTo>
                    <a:pt x="831" y="73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192760" y="4115160"/>
              <a:ext cx="65880" cy="95400"/>
            </a:xfrm>
            <a:custGeom>
              <a:avLst/>
              <a:gdLst/>
              <a:ahLst/>
              <a:rect l="l" t="t" r="r" b="b"/>
              <a:pathLst>
                <a:path w="682" h="949">
                  <a:moveTo>
                    <a:pt x="682" y="819"/>
                  </a:moveTo>
                  <a:lnTo>
                    <a:pt x="294" y="949"/>
                  </a:lnTo>
                  <a:lnTo>
                    <a:pt x="0" y="138"/>
                  </a:lnTo>
                  <a:lnTo>
                    <a:pt x="388" y="0"/>
                  </a:lnTo>
                  <a:lnTo>
                    <a:pt x="682" y="81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107800" y="4140360"/>
              <a:ext cx="45000" cy="90360"/>
            </a:xfrm>
            <a:custGeom>
              <a:avLst/>
              <a:gdLst/>
              <a:ahLst/>
              <a:rect l="l" t="t" r="r" b="b"/>
              <a:pathLst>
                <a:path w="466" h="896">
                  <a:moveTo>
                    <a:pt x="466" y="858"/>
                  </a:moveTo>
                  <a:lnTo>
                    <a:pt x="75" y="896"/>
                  </a:lnTo>
                  <a:lnTo>
                    <a:pt x="0" y="37"/>
                  </a:lnTo>
                  <a:lnTo>
                    <a:pt x="388" y="0"/>
                  </a:lnTo>
                  <a:lnTo>
                    <a:pt x="466" y="85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022840" y="4142520"/>
              <a:ext cx="43200" cy="90360"/>
            </a:xfrm>
            <a:custGeom>
              <a:avLst/>
              <a:gdLst/>
              <a:ahLst/>
              <a:rect l="l" t="t" r="r" b="b"/>
              <a:pathLst>
                <a:path w="453" h="889">
                  <a:moveTo>
                    <a:pt x="362" y="889"/>
                  </a:moveTo>
                  <a:lnTo>
                    <a:pt x="0" y="856"/>
                  </a:lnTo>
                  <a:lnTo>
                    <a:pt x="88" y="0"/>
                  </a:lnTo>
                  <a:lnTo>
                    <a:pt x="453" y="29"/>
                  </a:lnTo>
                  <a:lnTo>
                    <a:pt x="362" y="88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922400" y="4122000"/>
              <a:ext cx="58680" cy="91800"/>
            </a:xfrm>
            <a:custGeom>
              <a:avLst/>
              <a:gdLst/>
              <a:ahLst/>
              <a:rect l="l" t="t" r="r" b="b"/>
              <a:pathLst>
                <a:path w="619" h="921">
                  <a:moveTo>
                    <a:pt x="326" y="921"/>
                  </a:moveTo>
                  <a:lnTo>
                    <a:pt x="0" y="817"/>
                  </a:lnTo>
                  <a:lnTo>
                    <a:pt x="290" y="0"/>
                  </a:lnTo>
                  <a:lnTo>
                    <a:pt x="619" y="104"/>
                  </a:lnTo>
                  <a:lnTo>
                    <a:pt x="326" y="921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833840" y="4086000"/>
              <a:ext cx="70920" cy="90360"/>
            </a:xfrm>
            <a:custGeom>
              <a:avLst/>
              <a:gdLst/>
              <a:ahLst/>
              <a:rect l="l" t="t" r="r" b="b"/>
              <a:pathLst>
                <a:path w="740" h="897">
                  <a:moveTo>
                    <a:pt x="277" y="897"/>
                  </a:moveTo>
                  <a:lnTo>
                    <a:pt x="0" y="739"/>
                  </a:lnTo>
                  <a:lnTo>
                    <a:pt x="463" y="0"/>
                  </a:lnTo>
                  <a:lnTo>
                    <a:pt x="740" y="158"/>
                  </a:lnTo>
                  <a:lnTo>
                    <a:pt x="277" y="897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751040" y="4031280"/>
              <a:ext cx="81000" cy="81720"/>
            </a:xfrm>
            <a:custGeom>
              <a:avLst/>
              <a:gdLst/>
              <a:ahLst/>
              <a:rect l="l" t="t" r="r" b="b"/>
              <a:pathLst>
                <a:path w="846" h="810">
                  <a:moveTo>
                    <a:pt x="211" y="810"/>
                  </a:moveTo>
                  <a:lnTo>
                    <a:pt x="0" y="606"/>
                  </a:lnTo>
                  <a:lnTo>
                    <a:pt x="632" y="0"/>
                  </a:lnTo>
                  <a:lnTo>
                    <a:pt x="846" y="204"/>
                  </a:lnTo>
                  <a:lnTo>
                    <a:pt x="211" y="81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688760" y="3968280"/>
              <a:ext cx="88200" cy="68040"/>
            </a:xfrm>
            <a:custGeom>
              <a:avLst/>
              <a:gdLst/>
              <a:ahLst/>
              <a:rect l="l" t="t" r="r" b="b"/>
              <a:pathLst>
                <a:path w="906" h="682">
                  <a:moveTo>
                    <a:pt x="150" y="682"/>
                  </a:moveTo>
                  <a:lnTo>
                    <a:pt x="0" y="461"/>
                  </a:lnTo>
                  <a:lnTo>
                    <a:pt x="753" y="0"/>
                  </a:lnTo>
                  <a:lnTo>
                    <a:pt x="906" y="225"/>
                  </a:lnTo>
                  <a:lnTo>
                    <a:pt x="150" y="682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647000" y="3898440"/>
              <a:ext cx="88200" cy="54360"/>
            </a:xfrm>
            <a:custGeom>
              <a:avLst/>
              <a:gdLst/>
              <a:ahLst/>
              <a:rect l="l" t="t" r="r" b="b"/>
              <a:pathLst>
                <a:path w="929" h="539">
                  <a:moveTo>
                    <a:pt x="98" y="539"/>
                  </a:moveTo>
                  <a:lnTo>
                    <a:pt x="0" y="315"/>
                  </a:lnTo>
                  <a:lnTo>
                    <a:pt x="831" y="0"/>
                  </a:lnTo>
                  <a:lnTo>
                    <a:pt x="929" y="227"/>
                  </a:lnTo>
                  <a:lnTo>
                    <a:pt x="98" y="53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621080" y="3814920"/>
              <a:ext cx="88200" cy="32400"/>
            </a:xfrm>
            <a:custGeom>
              <a:avLst/>
              <a:gdLst/>
              <a:ahLst/>
              <a:rect l="l" t="t" r="r" b="b"/>
              <a:pathLst>
                <a:path w="919" h="328">
                  <a:moveTo>
                    <a:pt x="33" y="328"/>
                  </a:moveTo>
                  <a:lnTo>
                    <a:pt x="0" y="111"/>
                  </a:lnTo>
                  <a:lnTo>
                    <a:pt x="883" y="0"/>
                  </a:lnTo>
                  <a:lnTo>
                    <a:pt x="919" y="220"/>
                  </a:lnTo>
                  <a:lnTo>
                    <a:pt x="33" y="32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617480" y="3717720"/>
              <a:ext cx="88200" cy="30240"/>
            </a:xfrm>
            <a:custGeom>
              <a:avLst/>
              <a:gdLst/>
              <a:ahLst/>
              <a:rect l="l" t="t" r="r" b="b"/>
              <a:pathLst>
                <a:path w="907" h="309">
                  <a:moveTo>
                    <a:pt x="0" y="202"/>
                  </a:moveTo>
                  <a:lnTo>
                    <a:pt x="17" y="0"/>
                  </a:lnTo>
                  <a:lnTo>
                    <a:pt x="907" y="108"/>
                  </a:lnTo>
                  <a:lnTo>
                    <a:pt x="883" y="309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633320" y="3623760"/>
              <a:ext cx="86400" cy="44280"/>
            </a:xfrm>
            <a:custGeom>
              <a:avLst/>
              <a:gdLst/>
              <a:ahLst/>
              <a:rect l="l" t="t" r="r" b="b"/>
              <a:pathLst>
                <a:path w="899" h="441">
                  <a:moveTo>
                    <a:pt x="0" y="170"/>
                  </a:moveTo>
                  <a:lnTo>
                    <a:pt x="52" y="0"/>
                  </a:lnTo>
                  <a:lnTo>
                    <a:pt x="899" y="271"/>
                  </a:lnTo>
                  <a:lnTo>
                    <a:pt x="846" y="441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674720" y="3526560"/>
              <a:ext cx="79560" cy="59400"/>
            </a:xfrm>
            <a:custGeom>
              <a:avLst/>
              <a:gdLst/>
              <a:ahLst/>
              <a:rect l="l" t="t" r="r" b="b"/>
              <a:pathLst>
                <a:path w="833" h="595">
                  <a:moveTo>
                    <a:pt x="0" y="132"/>
                  </a:moveTo>
                  <a:lnTo>
                    <a:pt x="81" y="0"/>
                  </a:lnTo>
                  <a:lnTo>
                    <a:pt x="833" y="463"/>
                  </a:lnTo>
                  <a:lnTo>
                    <a:pt x="752" y="595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30160" y="3449880"/>
              <a:ext cx="70920" cy="69480"/>
            </a:xfrm>
            <a:custGeom>
              <a:avLst/>
              <a:gdLst/>
              <a:ahLst/>
              <a:rect l="l" t="t" r="r" b="b"/>
              <a:pathLst>
                <a:path w="740" h="694">
                  <a:moveTo>
                    <a:pt x="0" y="98"/>
                  </a:moveTo>
                  <a:lnTo>
                    <a:pt x="94" y="0"/>
                  </a:lnTo>
                  <a:lnTo>
                    <a:pt x="740" y="593"/>
                  </a:lnTo>
                  <a:lnTo>
                    <a:pt x="649" y="694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806480" y="3381480"/>
              <a:ext cx="56880" cy="78480"/>
            </a:xfrm>
            <a:custGeom>
              <a:avLst/>
              <a:gdLst/>
              <a:ahLst/>
              <a:rect l="l" t="t" r="r" b="b"/>
              <a:pathLst>
                <a:path w="583" h="782">
                  <a:moveTo>
                    <a:pt x="0" y="62"/>
                  </a:moveTo>
                  <a:lnTo>
                    <a:pt x="94" y="0"/>
                  </a:lnTo>
                  <a:lnTo>
                    <a:pt x="583" y="722"/>
                  </a:lnTo>
                  <a:lnTo>
                    <a:pt x="488" y="78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892880" y="3333960"/>
              <a:ext cx="39960" cy="83520"/>
            </a:xfrm>
            <a:custGeom>
              <a:avLst/>
              <a:gdLst/>
              <a:ahLst/>
              <a:rect l="l" t="t" r="r" b="b"/>
              <a:pathLst>
                <a:path w="407" h="842">
                  <a:moveTo>
                    <a:pt x="0" y="38"/>
                  </a:moveTo>
                  <a:lnTo>
                    <a:pt x="88" y="0"/>
                  </a:lnTo>
                  <a:lnTo>
                    <a:pt x="407" y="807"/>
                  </a:lnTo>
                  <a:lnTo>
                    <a:pt x="323" y="8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993680" y="3304800"/>
              <a:ext cx="19080" cy="86760"/>
            </a:xfrm>
            <a:custGeom>
              <a:avLst/>
              <a:gdLst/>
              <a:ahLst/>
              <a:rect l="l" t="t" r="r" b="b"/>
              <a:pathLst>
                <a:path w="189" h="865">
                  <a:moveTo>
                    <a:pt x="0" y="11"/>
                  </a:moveTo>
                  <a:lnTo>
                    <a:pt x="65" y="0"/>
                  </a:lnTo>
                  <a:lnTo>
                    <a:pt x="189" y="856"/>
                  </a:lnTo>
                  <a:lnTo>
                    <a:pt x="120" y="86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086920" y="3297960"/>
              <a:ext cx="11880" cy="86760"/>
            </a:xfrm>
            <a:custGeom>
              <a:avLst/>
              <a:gdLst/>
              <a:ahLst/>
              <a:rect l="l" t="t" r="r" b="b"/>
              <a:pathLst>
                <a:path w="111" h="864">
                  <a:moveTo>
                    <a:pt x="65" y="0"/>
                  </a:moveTo>
                  <a:lnTo>
                    <a:pt x="111" y="3"/>
                  </a:lnTo>
                  <a:lnTo>
                    <a:pt x="48" y="864"/>
                  </a:lnTo>
                  <a:lnTo>
                    <a:pt x="0" y="86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452680" y="3784320"/>
              <a:ext cx="89640" cy="61200"/>
            </a:xfrm>
            <a:custGeom>
              <a:avLst/>
              <a:gdLst/>
              <a:ahLst/>
              <a:rect l="l" t="t" r="r" b="b"/>
              <a:pathLst>
                <a:path w="947" h="615">
                  <a:moveTo>
                    <a:pt x="947" y="110"/>
                  </a:moveTo>
                  <a:lnTo>
                    <a:pt x="886" y="615"/>
                  </a:lnTo>
                  <a:lnTo>
                    <a:pt x="0" y="508"/>
                  </a:lnTo>
                  <a:lnTo>
                    <a:pt x="65" y="0"/>
                  </a:lnTo>
                  <a:lnTo>
                    <a:pt x="947" y="11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342160" y="3842280"/>
              <a:ext cx="70560" cy="57960"/>
            </a:xfrm>
            <a:custGeom>
              <a:avLst/>
              <a:gdLst/>
              <a:ahLst/>
              <a:rect l="l" t="t" r="r" b="b"/>
              <a:pathLst>
                <a:path w="753" h="565">
                  <a:moveTo>
                    <a:pt x="753" y="224"/>
                  </a:moveTo>
                  <a:lnTo>
                    <a:pt x="625" y="565"/>
                  </a:lnTo>
                  <a:lnTo>
                    <a:pt x="0" y="341"/>
                  </a:lnTo>
                  <a:lnTo>
                    <a:pt x="128" y="0"/>
                  </a:lnTo>
                  <a:lnTo>
                    <a:pt x="753" y="224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312640" y="3900240"/>
              <a:ext cx="72360" cy="64440"/>
            </a:xfrm>
            <a:custGeom>
              <a:avLst/>
              <a:gdLst/>
              <a:ahLst/>
              <a:rect l="l" t="t" r="r" b="b"/>
              <a:pathLst>
                <a:path w="759" h="644">
                  <a:moveTo>
                    <a:pt x="759" y="347"/>
                  </a:moveTo>
                  <a:lnTo>
                    <a:pt x="567" y="644"/>
                  </a:lnTo>
                  <a:lnTo>
                    <a:pt x="0" y="297"/>
                  </a:lnTo>
                  <a:lnTo>
                    <a:pt x="193" y="0"/>
                  </a:lnTo>
                  <a:lnTo>
                    <a:pt x="759" y="347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270880" y="3952800"/>
              <a:ext cx="67320" cy="69840"/>
            </a:xfrm>
            <a:custGeom>
              <a:avLst/>
              <a:gdLst/>
              <a:ahLst/>
              <a:rect l="l" t="t" r="r" b="b"/>
              <a:pathLst>
                <a:path w="710" h="691">
                  <a:moveTo>
                    <a:pt x="710" y="461"/>
                  </a:moveTo>
                  <a:lnTo>
                    <a:pt x="466" y="691"/>
                  </a:lnTo>
                  <a:lnTo>
                    <a:pt x="0" y="230"/>
                  </a:lnTo>
                  <a:lnTo>
                    <a:pt x="240" y="0"/>
                  </a:lnTo>
                  <a:lnTo>
                    <a:pt x="710" y="461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220480" y="3996000"/>
              <a:ext cx="58680" cy="73080"/>
            </a:xfrm>
            <a:custGeom>
              <a:avLst/>
              <a:gdLst/>
              <a:ahLst/>
              <a:rect l="l" t="t" r="r" b="b"/>
              <a:pathLst>
                <a:path w="626" h="719">
                  <a:moveTo>
                    <a:pt x="626" y="555"/>
                  </a:moveTo>
                  <a:lnTo>
                    <a:pt x="346" y="719"/>
                  </a:lnTo>
                  <a:lnTo>
                    <a:pt x="0" y="168"/>
                  </a:lnTo>
                  <a:lnTo>
                    <a:pt x="277" y="0"/>
                  </a:lnTo>
                  <a:lnTo>
                    <a:pt x="626" y="555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165400" y="4028040"/>
              <a:ext cx="48240" cy="69840"/>
            </a:xfrm>
            <a:custGeom>
              <a:avLst/>
              <a:gdLst/>
              <a:ahLst/>
              <a:rect l="l" t="t" r="r" b="b"/>
              <a:pathLst>
                <a:path w="508" h="712">
                  <a:moveTo>
                    <a:pt x="508" y="612"/>
                  </a:moveTo>
                  <a:lnTo>
                    <a:pt x="221" y="712"/>
                  </a:lnTo>
                  <a:lnTo>
                    <a:pt x="0" y="100"/>
                  </a:lnTo>
                  <a:lnTo>
                    <a:pt x="289" y="0"/>
                  </a:lnTo>
                  <a:lnTo>
                    <a:pt x="508" y="612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102760" y="4046760"/>
              <a:ext cx="32760" cy="66240"/>
            </a:xfrm>
            <a:custGeom>
              <a:avLst/>
              <a:gdLst/>
              <a:ahLst/>
              <a:rect l="l" t="t" r="r" b="b"/>
              <a:pathLst>
                <a:path w="345" h="671">
                  <a:moveTo>
                    <a:pt x="345" y="644"/>
                  </a:moveTo>
                  <a:lnTo>
                    <a:pt x="55" y="671"/>
                  </a:lnTo>
                  <a:lnTo>
                    <a:pt x="0" y="28"/>
                  </a:lnTo>
                  <a:lnTo>
                    <a:pt x="286" y="0"/>
                  </a:lnTo>
                  <a:lnTo>
                    <a:pt x="345" y="644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036880" y="4048560"/>
              <a:ext cx="32760" cy="66240"/>
            </a:xfrm>
            <a:custGeom>
              <a:avLst/>
              <a:gdLst/>
              <a:ahLst/>
              <a:rect l="l" t="t" r="r" b="b"/>
              <a:pathLst>
                <a:path w="346" h="670">
                  <a:moveTo>
                    <a:pt x="274" y="670"/>
                  </a:moveTo>
                  <a:lnTo>
                    <a:pt x="0" y="641"/>
                  </a:lnTo>
                  <a:lnTo>
                    <a:pt x="68" y="0"/>
                  </a:lnTo>
                  <a:lnTo>
                    <a:pt x="346" y="23"/>
                  </a:lnTo>
                  <a:lnTo>
                    <a:pt x="274" y="67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962360" y="4033440"/>
              <a:ext cx="44640" cy="68040"/>
            </a:xfrm>
            <a:custGeom>
              <a:avLst/>
              <a:gdLst/>
              <a:ahLst/>
              <a:rect l="l" t="t" r="r" b="b"/>
              <a:pathLst>
                <a:path w="466" h="691">
                  <a:moveTo>
                    <a:pt x="244" y="691"/>
                  </a:moveTo>
                  <a:lnTo>
                    <a:pt x="0" y="612"/>
                  </a:lnTo>
                  <a:lnTo>
                    <a:pt x="217" y="0"/>
                  </a:lnTo>
                  <a:lnTo>
                    <a:pt x="466" y="79"/>
                  </a:lnTo>
                  <a:lnTo>
                    <a:pt x="244" y="691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896480" y="4005720"/>
              <a:ext cx="52200" cy="66240"/>
            </a:xfrm>
            <a:custGeom>
              <a:avLst/>
              <a:gdLst/>
              <a:ahLst/>
              <a:rect l="l" t="t" r="r" b="b"/>
              <a:pathLst>
                <a:path w="554" h="669">
                  <a:moveTo>
                    <a:pt x="205" y="669"/>
                  </a:moveTo>
                  <a:lnTo>
                    <a:pt x="0" y="553"/>
                  </a:lnTo>
                  <a:lnTo>
                    <a:pt x="345" y="0"/>
                  </a:lnTo>
                  <a:lnTo>
                    <a:pt x="554" y="117"/>
                  </a:lnTo>
                  <a:lnTo>
                    <a:pt x="205" y="66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832400" y="3965040"/>
              <a:ext cx="62280" cy="61200"/>
            </a:xfrm>
            <a:custGeom>
              <a:avLst/>
              <a:gdLst/>
              <a:ahLst/>
              <a:rect l="l" t="t" r="r" b="b"/>
              <a:pathLst>
                <a:path w="638" h="611">
                  <a:moveTo>
                    <a:pt x="163" y="611"/>
                  </a:moveTo>
                  <a:lnTo>
                    <a:pt x="0" y="454"/>
                  </a:lnTo>
                  <a:lnTo>
                    <a:pt x="475" y="0"/>
                  </a:lnTo>
                  <a:lnTo>
                    <a:pt x="638" y="154"/>
                  </a:lnTo>
                  <a:lnTo>
                    <a:pt x="163" y="611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87400" y="3917160"/>
              <a:ext cx="64440" cy="50760"/>
            </a:xfrm>
            <a:custGeom>
              <a:avLst/>
              <a:gdLst/>
              <a:ahLst/>
              <a:rect l="l" t="t" r="r" b="b"/>
              <a:pathLst>
                <a:path w="679" h="510">
                  <a:moveTo>
                    <a:pt x="114" y="510"/>
                  </a:moveTo>
                  <a:lnTo>
                    <a:pt x="0" y="347"/>
                  </a:lnTo>
                  <a:lnTo>
                    <a:pt x="564" y="0"/>
                  </a:lnTo>
                  <a:lnTo>
                    <a:pt x="679" y="167"/>
                  </a:lnTo>
                  <a:lnTo>
                    <a:pt x="114" y="51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756080" y="3864240"/>
              <a:ext cx="65880" cy="40680"/>
            </a:xfrm>
            <a:custGeom>
              <a:avLst/>
              <a:gdLst/>
              <a:ahLst/>
              <a:rect l="l" t="t" r="r" b="b"/>
              <a:pathLst>
                <a:path w="697" h="404">
                  <a:moveTo>
                    <a:pt x="71" y="404"/>
                  </a:moveTo>
                  <a:lnTo>
                    <a:pt x="0" y="236"/>
                  </a:lnTo>
                  <a:lnTo>
                    <a:pt x="622" y="0"/>
                  </a:lnTo>
                  <a:lnTo>
                    <a:pt x="697" y="170"/>
                  </a:lnTo>
                  <a:lnTo>
                    <a:pt x="71" y="404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735200" y="3802680"/>
              <a:ext cx="67320" cy="23760"/>
            </a:xfrm>
            <a:custGeom>
              <a:avLst/>
              <a:gdLst/>
              <a:ahLst/>
              <a:rect l="l" t="t" r="r" b="b"/>
              <a:pathLst>
                <a:path w="690" h="246">
                  <a:moveTo>
                    <a:pt x="25" y="246"/>
                  </a:moveTo>
                  <a:lnTo>
                    <a:pt x="0" y="78"/>
                  </a:lnTo>
                  <a:lnTo>
                    <a:pt x="664" y="0"/>
                  </a:lnTo>
                  <a:lnTo>
                    <a:pt x="690" y="164"/>
                  </a:lnTo>
                  <a:lnTo>
                    <a:pt x="25" y="246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733760" y="3729600"/>
              <a:ext cx="65520" cy="21960"/>
            </a:xfrm>
            <a:custGeom>
              <a:avLst/>
              <a:gdLst/>
              <a:ahLst/>
              <a:rect l="l" t="t" r="r" b="b"/>
              <a:pathLst>
                <a:path w="681" h="227">
                  <a:moveTo>
                    <a:pt x="0" y="151"/>
                  </a:moveTo>
                  <a:lnTo>
                    <a:pt x="13" y="0"/>
                  </a:lnTo>
                  <a:lnTo>
                    <a:pt x="681" y="79"/>
                  </a:lnTo>
                  <a:lnTo>
                    <a:pt x="664" y="22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746000" y="3659760"/>
              <a:ext cx="63720" cy="32400"/>
            </a:xfrm>
            <a:custGeom>
              <a:avLst/>
              <a:gdLst/>
              <a:ahLst/>
              <a:rect l="l" t="t" r="r" b="b"/>
              <a:pathLst>
                <a:path w="675" h="332">
                  <a:moveTo>
                    <a:pt x="0" y="129"/>
                  </a:moveTo>
                  <a:lnTo>
                    <a:pt x="42" y="0"/>
                  </a:lnTo>
                  <a:lnTo>
                    <a:pt x="675" y="202"/>
                  </a:lnTo>
                  <a:lnTo>
                    <a:pt x="639" y="332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75520" y="3584520"/>
              <a:ext cx="60480" cy="45720"/>
            </a:xfrm>
            <a:custGeom>
              <a:avLst/>
              <a:gdLst/>
              <a:ahLst/>
              <a:rect l="l" t="t" r="r" b="b"/>
              <a:pathLst>
                <a:path w="626" h="448">
                  <a:moveTo>
                    <a:pt x="0" y="102"/>
                  </a:moveTo>
                  <a:lnTo>
                    <a:pt x="62" y="0"/>
                  </a:lnTo>
                  <a:lnTo>
                    <a:pt x="626" y="351"/>
                  </a:lnTo>
                  <a:lnTo>
                    <a:pt x="564" y="44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816560" y="3528000"/>
              <a:ext cx="53640" cy="52920"/>
            </a:xfrm>
            <a:custGeom>
              <a:avLst/>
              <a:gdLst/>
              <a:ahLst/>
              <a:rect l="l" t="t" r="r" b="b"/>
              <a:pathLst>
                <a:path w="558" h="521">
                  <a:moveTo>
                    <a:pt x="0" y="76"/>
                  </a:moveTo>
                  <a:lnTo>
                    <a:pt x="72" y="0"/>
                  </a:lnTo>
                  <a:lnTo>
                    <a:pt x="558" y="445"/>
                  </a:lnTo>
                  <a:lnTo>
                    <a:pt x="486" y="52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875600" y="3477240"/>
              <a:ext cx="41400" cy="57960"/>
            </a:xfrm>
            <a:custGeom>
              <a:avLst/>
              <a:gdLst/>
              <a:ahLst/>
              <a:rect l="l" t="t" r="r" b="b"/>
              <a:pathLst>
                <a:path w="440" h="589">
                  <a:moveTo>
                    <a:pt x="0" y="50"/>
                  </a:moveTo>
                  <a:lnTo>
                    <a:pt x="72" y="0"/>
                  </a:lnTo>
                  <a:lnTo>
                    <a:pt x="440" y="542"/>
                  </a:lnTo>
                  <a:lnTo>
                    <a:pt x="365" y="58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939680" y="3441240"/>
              <a:ext cx="29160" cy="63360"/>
            </a:xfrm>
            <a:custGeom>
              <a:avLst/>
              <a:gdLst/>
              <a:ahLst/>
              <a:rect l="l" t="t" r="r" b="b"/>
              <a:pathLst>
                <a:path w="306" h="635">
                  <a:moveTo>
                    <a:pt x="0" y="29"/>
                  </a:moveTo>
                  <a:lnTo>
                    <a:pt x="65" y="0"/>
                  </a:lnTo>
                  <a:lnTo>
                    <a:pt x="306" y="606"/>
                  </a:lnTo>
                  <a:lnTo>
                    <a:pt x="241" y="63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016360" y="3418920"/>
              <a:ext cx="13680" cy="64800"/>
            </a:xfrm>
            <a:custGeom>
              <a:avLst/>
              <a:gdLst/>
              <a:ahLst/>
              <a:rect l="l" t="t" r="r" b="b"/>
              <a:pathLst>
                <a:path w="140" h="646">
                  <a:moveTo>
                    <a:pt x="0" y="3"/>
                  </a:moveTo>
                  <a:lnTo>
                    <a:pt x="51" y="0"/>
                  </a:lnTo>
                  <a:lnTo>
                    <a:pt x="140" y="637"/>
                  </a:lnTo>
                  <a:lnTo>
                    <a:pt x="90" y="64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085480" y="3413880"/>
              <a:ext cx="8640" cy="64800"/>
            </a:xfrm>
            <a:custGeom>
              <a:avLst/>
              <a:gdLst/>
              <a:ahLst/>
              <a:rect l="l" t="t" r="r" b="b"/>
              <a:pathLst>
                <a:path w="84" h="647">
                  <a:moveTo>
                    <a:pt x="48" y="0"/>
                  </a:moveTo>
                  <a:lnTo>
                    <a:pt x="84" y="3"/>
                  </a:lnTo>
                  <a:lnTo>
                    <a:pt x="36" y="647"/>
                  </a:lnTo>
                  <a:lnTo>
                    <a:pt x="0" y="64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359440" y="3779280"/>
              <a:ext cx="69120" cy="45720"/>
            </a:xfrm>
            <a:custGeom>
              <a:avLst/>
              <a:gdLst/>
              <a:ahLst/>
              <a:rect l="l" t="t" r="r" b="b"/>
              <a:pathLst>
                <a:path w="713" h="458">
                  <a:moveTo>
                    <a:pt x="713" y="79"/>
                  </a:moveTo>
                  <a:lnTo>
                    <a:pt x="664" y="458"/>
                  </a:lnTo>
                  <a:lnTo>
                    <a:pt x="0" y="379"/>
                  </a:lnTo>
                  <a:lnTo>
                    <a:pt x="48" y="0"/>
                  </a:lnTo>
                  <a:lnTo>
                    <a:pt x="713" y="7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270880" y="3821760"/>
              <a:ext cx="53280" cy="42480"/>
            </a:xfrm>
            <a:custGeom>
              <a:avLst/>
              <a:gdLst/>
              <a:ahLst/>
              <a:rect l="l" t="t" r="r" b="b"/>
              <a:pathLst>
                <a:path w="554" h="420">
                  <a:moveTo>
                    <a:pt x="554" y="167"/>
                  </a:moveTo>
                  <a:lnTo>
                    <a:pt x="463" y="420"/>
                  </a:lnTo>
                  <a:lnTo>
                    <a:pt x="0" y="252"/>
                  </a:lnTo>
                  <a:lnTo>
                    <a:pt x="98" y="0"/>
                  </a:lnTo>
                  <a:lnTo>
                    <a:pt x="554" y="167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250000" y="3864240"/>
              <a:ext cx="53640" cy="47880"/>
            </a:xfrm>
            <a:custGeom>
              <a:avLst/>
              <a:gdLst/>
              <a:ahLst/>
              <a:rect l="l" t="t" r="r" b="b"/>
              <a:pathLst>
                <a:path w="561" h="469">
                  <a:moveTo>
                    <a:pt x="561" y="251"/>
                  </a:moveTo>
                  <a:lnTo>
                    <a:pt x="417" y="469"/>
                  </a:lnTo>
                  <a:lnTo>
                    <a:pt x="0" y="214"/>
                  </a:lnTo>
                  <a:lnTo>
                    <a:pt x="144" y="0"/>
                  </a:lnTo>
                  <a:lnTo>
                    <a:pt x="561" y="251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220480" y="3903840"/>
              <a:ext cx="50040" cy="50760"/>
            </a:xfrm>
            <a:custGeom>
              <a:avLst/>
              <a:gdLst/>
              <a:ahLst/>
              <a:rect l="l" t="t" r="r" b="b"/>
              <a:pathLst>
                <a:path w="519" h="510">
                  <a:moveTo>
                    <a:pt x="519" y="340"/>
                  </a:moveTo>
                  <a:lnTo>
                    <a:pt x="343" y="510"/>
                  </a:lnTo>
                  <a:lnTo>
                    <a:pt x="0" y="169"/>
                  </a:lnTo>
                  <a:lnTo>
                    <a:pt x="177" y="0"/>
                  </a:lnTo>
                  <a:lnTo>
                    <a:pt x="519" y="34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182680" y="3934440"/>
              <a:ext cx="44640" cy="52920"/>
            </a:xfrm>
            <a:custGeom>
              <a:avLst/>
              <a:gdLst/>
              <a:ahLst/>
              <a:rect l="l" t="t" r="r" b="b"/>
              <a:pathLst>
                <a:path w="455" h="524">
                  <a:moveTo>
                    <a:pt x="455" y="407"/>
                  </a:moveTo>
                  <a:lnTo>
                    <a:pt x="253" y="524"/>
                  </a:lnTo>
                  <a:lnTo>
                    <a:pt x="0" y="119"/>
                  </a:lnTo>
                  <a:lnTo>
                    <a:pt x="202" y="0"/>
                  </a:lnTo>
                  <a:lnTo>
                    <a:pt x="455" y="407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142360" y="3956400"/>
              <a:ext cx="36360" cy="52920"/>
            </a:xfrm>
            <a:custGeom>
              <a:avLst/>
              <a:gdLst/>
              <a:ahLst/>
              <a:rect l="l" t="t" r="r" b="b"/>
              <a:pathLst>
                <a:path w="371" h="521">
                  <a:moveTo>
                    <a:pt x="371" y="448"/>
                  </a:moveTo>
                  <a:lnTo>
                    <a:pt x="160" y="521"/>
                  </a:lnTo>
                  <a:lnTo>
                    <a:pt x="0" y="72"/>
                  </a:lnTo>
                  <a:lnTo>
                    <a:pt x="212" y="0"/>
                  </a:lnTo>
                  <a:lnTo>
                    <a:pt x="371" y="44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095560" y="3971880"/>
              <a:ext cx="24120" cy="49320"/>
            </a:xfrm>
            <a:custGeom>
              <a:avLst/>
              <a:gdLst/>
              <a:ahLst/>
              <a:rect l="l" t="t" r="r" b="b"/>
              <a:pathLst>
                <a:path w="255" h="492">
                  <a:moveTo>
                    <a:pt x="255" y="473"/>
                  </a:moveTo>
                  <a:lnTo>
                    <a:pt x="44" y="492"/>
                  </a:lnTo>
                  <a:lnTo>
                    <a:pt x="0" y="18"/>
                  </a:lnTo>
                  <a:lnTo>
                    <a:pt x="213" y="0"/>
                  </a:lnTo>
                  <a:lnTo>
                    <a:pt x="255" y="473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048760" y="3971880"/>
              <a:ext cx="24120" cy="49320"/>
            </a:xfrm>
            <a:custGeom>
              <a:avLst/>
              <a:gdLst/>
              <a:ahLst/>
              <a:rect l="l" t="t" r="r" b="b"/>
              <a:pathLst>
                <a:path w="250" h="489">
                  <a:moveTo>
                    <a:pt x="202" y="489"/>
                  </a:moveTo>
                  <a:lnTo>
                    <a:pt x="0" y="470"/>
                  </a:lnTo>
                  <a:lnTo>
                    <a:pt x="52" y="0"/>
                  </a:lnTo>
                  <a:lnTo>
                    <a:pt x="250" y="17"/>
                  </a:lnTo>
                  <a:lnTo>
                    <a:pt x="202" y="48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993680" y="3961440"/>
              <a:ext cx="32760" cy="49320"/>
            </a:xfrm>
            <a:custGeom>
              <a:avLst/>
              <a:gdLst/>
              <a:ahLst/>
              <a:rect l="l" t="t" r="r" b="b"/>
              <a:pathLst>
                <a:path w="343" h="504">
                  <a:moveTo>
                    <a:pt x="180" y="504"/>
                  </a:moveTo>
                  <a:lnTo>
                    <a:pt x="0" y="448"/>
                  </a:lnTo>
                  <a:lnTo>
                    <a:pt x="160" y="0"/>
                  </a:lnTo>
                  <a:lnTo>
                    <a:pt x="343" y="57"/>
                  </a:lnTo>
                  <a:lnTo>
                    <a:pt x="180" y="504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945080" y="3941280"/>
              <a:ext cx="39600" cy="48960"/>
            </a:xfrm>
            <a:custGeom>
              <a:avLst/>
              <a:gdLst/>
              <a:ahLst/>
              <a:rect l="l" t="t" r="r" b="b"/>
              <a:pathLst>
                <a:path w="408" h="492">
                  <a:moveTo>
                    <a:pt x="150" y="492"/>
                  </a:moveTo>
                  <a:lnTo>
                    <a:pt x="0" y="408"/>
                  </a:lnTo>
                  <a:lnTo>
                    <a:pt x="252" y="0"/>
                  </a:lnTo>
                  <a:lnTo>
                    <a:pt x="408" y="88"/>
                  </a:lnTo>
                  <a:lnTo>
                    <a:pt x="150" y="492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898280" y="3912120"/>
              <a:ext cx="44640" cy="43920"/>
            </a:xfrm>
            <a:custGeom>
              <a:avLst/>
              <a:gdLst/>
              <a:ahLst/>
              <a:rect l="l" t="t" r="r" b="b"/>
              <a:pathLst>
                <a:path w="466" h="449">
                  <a:moveTo>
                    <a:pt x="117" y="449"/>
                  </a:moveTo>
                  <a:lnTo>
                    <a:pt x="0" y="338"/>
                  </a:lnTo>
                  <a:lnTo>
                    <a:pt x="345" y="0"/>
                  </a:lnTo>
                  <a:lnTo>
                    <a:pt x="466" y="114"/>
                  </a:lnTo>
                  <a:lnTo>
                    <a:pt x="117" y="44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865520" y="3876480"/>
              <a:ext cx="48240" cy="37440"/>
            </a:xfrm>
            <a:custGeom>
              <a:avLst/>
              <a:gdLst/>
              <a:ahLst/>
              <a:rect l="l" t="t" r="r" b="b"/>
              <a:pathLst>
                <a:path w="502" h="375">
                  <a:moveTo>
                    <a:pt x="84" y="375"/>
                  </a:moveTo>
                  <a:lnTo>
                    <a:pt x="0" y="255"/>
                  </a:lnTo>
                  <a:lnTo>
                    <a:pt x="414" y="0"/>
                  </a:lnTo>
                  <a:lnTo>
                    <a:pt x="502" y="122"/>
                  </a:lnTo>
                  <a:lnTo>
                    <a:pt x="84" y="375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841040" y="3838680"/>
              <a:ext cx="50040" cy="28800"/>
            </a:xfrm>
            <a:custGeom>
              <a:avLst/>
              <a:gdLst/>
              <a:ahLst/>
              <a:rect l="l" t="t" r="r" b="b"/>
              <a:pathLst>
                <a:path w="514" h="297">
                  <a:moveTo>
                    <a:pt x="55" y="297"/>
                  </a:moveTo>
                  <a:lnTo>
                    <a:pt x="0" y="173"/>
                  </a:lnTo>
                  <a:lnTo>
                    <a:pt x="459" y="0"/>
                  </a:lnTo>
                  <a:lnTo>
                    <a:pt x="514" y="126"/>
                  </a:lnTo>
                  <a:lnTo>
                    <a:pt x="55" y="297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827360" y="3792600"/>
              <a:ext cx="50040" cy="16920"/>
            </a:xfrm>
            <a:custGeom>
              <a:avLst/>
              <a:gdLst/>
              <a:ahLst/>
              <a:rect l="l" t="t" r="r" b="b"/>
              <a:pathLst>
                <a:path w="508" h="179">
                  <a:moveTo>
                    <a:pt x="20" y="179"/>
                  </a:moveTo>
                  <a:lnTo>
                    <a:pt x="0" y="60"/>
                  </a:lnTo>
                  <a:lnTo>
                    <a:pt x="489" y="0"/>
                  </a:lnTo>
                  <a:lnTo>
                    <a:pt x="508" y="120"/>
                  </a:lnTo>
                  <a:lnTo>
                    <a:pt x="20" y="17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825200" y="3738240"/>
              <a:ext cx="48600" cy="16920"/>
            </a:xfrm>
            <a:custGeom>
              <a:avLst/>
              <a:gdLst/>
              <a:ahLst/>
              <a:rect l="l" t="t" r="r" b="b"/>
              <a:pathLst>
                <a:path w="495" h="170">
                  <a:moveTo>
                    <a:pt x="0" y="110"/>
                  </a:moveTo>
                  <a:lnTo>
                    <a:pt x="10" y="0"/>
                  </a:lnTo>
                  <a:lnTo>
                    <a:pt x="495" y="59"/>
                  </a:lnTo>
                  <a:lnTo>
                    <a:pt x="485" y="17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833840" y="3686760"/>
              <a:ext cx="48600" cy="23760"/>
            </a:xfrm>
            <a:custGeom>
              <a:avLst/>
              <a:gdLst/>
              <a:ahLst/>
              <a:rect l="l" t="t" r="r" b="b"/>
              <a:pathLst>
                <a:path w="495" h="244">
                  <a:moveTo>
                    <a:pt x="0" y="96"/>
                  </a:moveTo>
                  <a:lnTo>
                    <a:pt x="29" y="0"/>
                  </a:lnTo>
                  <a:lnTo>
                    <a:pt x="495" y="152"/>
                  </a:lnTo>
                  <a:lnTo>
                    <a:pt x="466" y="2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856880" y="3632040"/>
              <a:ext cx="44640" cy="34200"/>
            </a:xfrm>
            <a:custGeom>
              <a:avLst/>
              <a:gdLst/>
              <a:ahLst/>
              <a:rect l="l" t="t" r="r" b="b"/>
              <a:pathLst>
                <a:path w="460" h="329">
                  <a:moveTo>
                    <a:pt x="0" y="76"/>
                  </a:moveTo>
                  <a:lnTo>
                    <a:pt x="46" y="0"/>
                  </a:lnTo>
                  <a:lnTo>
                    <a:pt x="460" y="253"/>
                  </a:lnTo>
                  <a:lnTo>
                    <a:pt x="418" y="329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887840" y="3591720"/>
              <a:ext cx="37800" cy="37440"/>
            </a:xfrm>
            <a:custGeom>
              <a:avLst/>
              <a:gdLst/>
              <a:ahLst/>
              <a:rect l="l" t="t" r="r" b="b"/>
              <a:pathLst>
                <a:path w="407" h="384">
                  <a:moveTo>
                    <a:pt x="0" y="56"/>
                  </a:moveTo>
                  <a:lnTo>
                    <a:pt x="52" y="0"/>
                  </a:lnTo>
                  <a:lnTo>
                    <a:pt x="407" y="327"/>
                  </a:lnTo>
                  <a:lnTo>
                    <a:pt x="355" y="384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929600" y="3553920"/>
              <a:ext cx="30960" cy="42480"/>
            </a:xfrm>
            <a:custGeom>
              <a:avLst/>
              <a:gdLst/>
              <a:ahLst/>
              <a:rect l="l" t="t" r="r" b="b"/>
              <a:pathLst>
                <a:path w="326" h="432">
                  <a:moveTo>
                    <a:pt x="0" y="38"/>
                  </a:moveTo>
                  <a:lnTo>
                    <a:pt x="56" y="0"/>
                  </a:lnTo>
                  <a:lnTo>
                    <a:pt x="326" y="397"/>
                  </a:lnTo>
                  <a:lnTo>
                    <a:pt x="273" y="43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77840" y="3526560"/>
              <a:ext cx="20520" cy="47520"/>
            </a:xfrm>
            <a:custGeom>
              <a:avLst/>
              <a:gdLst/>
              <a:ahLst/>
              <a:rect l="l" t="t" r="r" b="b"/>
              <a:pathLst>
                <a:path w="226" h="467">
                  <a:moveTo>
                    <a:pt x="0" y="23"/>
                  </a:moveTo>
                  <a:lnTo>
                    <a:pt x="49" y="0"/>
                  </a:lnTo>
                  <a:lnTo>
                    <a:pt x="226" y="448"/>
                  </a:lnTo>
                  <a:lnTo>
                    <a:pt x="176" y="46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033640" y="3511080"/>
              <a:ext cx="8640" cy="47880"/>
            </a:xfrm>
            <a:custGeom>
              <a:avLst/>
              <a:gdLst/>
              <a:ahLst/>
              <a:rect l="l" t="t" r="r" b="b"/>
              <a:pathLst>
                <a:path w="104" h="473">
                  <a:moveTo>
                    <a:pt x="0" y="4"/>
                  </a:moveTo>
                  <a:lnTo>
                    <a:pt x="39" y="0"/>
                  </a:lnTo>
                  <a:lnTo>
                    <a:pt x="104" y="470"/>
                  </a:lnTo>
                  <a:lnTo>
                    <a:pt x="65" y="47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085480" y="3507480"/>
              <a:ext cx="5040" cy="47880"/>
            </a:xfrm>
            <a:custGeom>
              <a:avLst/>
              <a:gdLst/>
              <a:ahLst/>
              <a:rect l="l" t="t" r="r" b="b"/>
              <a:pathLst>
                <a:path w="59" h="475">
                  <a:moveTo>
                    <a:pt x="36" y="0"/>
                  </a:moveTo>
                  <a:lnTo>
                    <a:pt x="59" y="0"/>
                  </a:lnTo>
                  <a:lnTo>
                    <a:pt x="23" y="475"/>
                  </a:lnTo>
                  <a:lnTo>
                    <a:pt x="0" y="47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284560" y="3775680"/>
              <a:ext cx="50040" cy="33840"/>
            </a:xfrm>
            <a:custGeom>
              <a:avLst/>
              <a:gdLst/>
              <a:ahLst/>
              <a:rect l="l" t="t" r="r" b="b"/>
              <a:pathLst>
                <a:path w="521" h="338">
                  <a:moveTo>
                    <a:pt x="521" y="58"/>
                  </a:moveTo>
                  <a:lnTo>
                    <a:pt x="485" y="338"/>
                  </a:lnTo>
                  <a:lnTo>
                    <a:pt x="0" y="279"/>
                  </a:lnTo>
                  <a:lnTo>
                    <a:pt x="31" y="0"/>
                  </a:lnTo>
                  <a:lnTo>
                    <a:pt x="521" y="58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222280" y="3808080"/>
              <a:ext cx="39960" cy="30240"/>
            </a:xfrm>
            <a:custGeom>
              <a:avLst/>
              <a:gdLst/>
              <a:ahLst/>
              <a:rect l="l" t="t" r="r" b="b"/>
              <a:pathLst>
                <a:path w="411" h="312">
                  <a:moveTo>
                    <a:pt x="411" y="123"/>
                  </a:moveTo>
                  <a:lnTo>
                    <a:pt x="339" y="312"/>
                  </a:lnTo>
                  <a:lnTo>
                    <a:pt x="0" y="186"/>
                  </a:lnTo>
                  <a:lnTo>
                    <a:pt x="69" y="0"/>
                  </a:lnTo>
                  <a:lnTo>
                    <a:pt x="411" y="123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206800" y="3838680"/>
              <a:ext cx="39600" cy="35640"/>
            </a:xfrm>
            <a:custGeom>
              <a:avLst/>
              <a:gdLst/>
              <a:ahLst/>
              <a:rect l="l" t="t" r="r" b="b"/>
              <a:pathLst>
                <a:path w="413" h="353">
                  <a:moveTo>
                    <a:pt x="413" y="189"/>
                  </a:moveTo>
                  <a:lnTo>
                    <a:pt x="310" y="353"/>
                  </a:lnTo>
                  <a:lnTo>
                    <a:pt x="0" y="161"/>
                  </a:lnTo>
                  <a:lnTo>
                    <a:pt x="108" y="0"/>
                  </a:lnTo>
                  <a:lnTo>
                    <a:pt x="413" y="18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184120" y="3867840"/>
              <a:ext cx="37800" cy="37440"/>
            </a:xfrm>
            <a:custGeom>
              <a:avLst/>
              <a:gdLst/>
              <a:ahLst/>
              <a:rect l="l" t="t" r="r" b="b"/>
              <a:pathLst>
                <a:path w="387" h="375">
                  <a:moveTo>
                    <a:pt x="387" y="251"/>
                  </a:moveTo>
                  <a:lnTo>
                    <a:pt x="256" y="375"/>
                  </a:lnTo>
                  <a:lnTo>
                    <a:pt x="0" y="122"/>
                  </a:lnTo>
                  <a:lnTo>
                    <a:pt x="130" y="0"/>
                  </a:lnTo>
                  <a:lnTo>
                    <a:pt x="387" y="251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156760" y="3891600"/>
              <a:ext cx="32400" cy="38880"/>
            </a:xfrm>
            <a:custGeom>
              <a:avLst/>
              <a:gdLst/>
              <a:ahLst/>
              <a:rect l="l" t="t" r="r" b="b"/>
              <a:pathLst>
                <a:path w="345" h="391">
                  <a:moveTo>
                    <a:pt x="345" y="300"/>
                  </a:moveTo>
                  <a:lnTo>
                    <a:pt x="188" y="391"/>
                  </a:lnTo>
                  <a:lnTo>
                    <a:pt x="0" y="88"/>
                  </a:lnTo>
                  <a:lnTo>
                    <a:pt x="152" y="0"/>
                  </a:lnTo>
                  <a:lnTo>
                    <a:pt x="345" y="30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27240" y="3908880"/>
              <a:ext cx="25920" cy="38880"/>
            </a:xfrm>
            <a:custGeom>
              <a:avLst/>
              <a:gdLst/>
              <a:ahLst/>
              <a:rect l="l" t="t" r="r" b="b"/>
              <a:pathLst>
                <a:path w="280" h="392">
                  <a:moveTo>
                    <a:pt x="280" y="334"/>
                  </a:moveTo>
                  <a:lnTo>
                    <a:pt x="121" y="392"/>
                  </a:lnTo>
                  <a:lnTo>
                    <a:pt x="0" y="57"/>
                  </a:lnTo>
                  <a:lnTo>
                    <a:pt x="160" y="0"/>
                  </a:lnTo>
                  <a:lnTo>
                    <a:pt x="280" y="334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092680" y="3918960"/>
              <a:ext cx="17280" cy="35640"/>
            </a:xfrm>
            <a:custGeom>
              <a:avLst/>
              <a:gdLst/>
              <a:ahLst/>
              <a:rect l="l" t="t" r="r" b="b"/>
              <a:pathLst>
                <a:path w="189" h="366">
                  <a:moveTo>
                    <a:pt x="189" y="350"/>
                  </a:moveTo>
                  <a:lnTo>
                    <a:pt x="30" y="366"/>
                  </a:lnTo>
                  <a:lnTo>
                    <a:pt x="0" y="12"/>
                  </a:lnTo>
                  <a:lnTo>
                    <a:pt x="160" y="0"/>
                  </a:lnTo>
                  <a:lnTo>
                    <a:pt x="189" y="35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055960" y="3918960"/>
              <a:ext cx="18720" cy="37440"/>
            </a:xfrm>
            <a:custGeom>
              <a:avLst/>
              <a:gdLst/>
              <a:ahLst/>
              <a:rect l="l" t="t" r="r" b="b"/>
              <a:pathLst>
                <a:path w="190" h="367">
                  <a:moveTo>
                    <a:pt x="151" y="367"/>
                  </a:moveTo>
                  <a:lnTo>
                    <a:pt x="0" y="354"/>
                  </a:lnTo>
                  <a:lnTo>
                    <a:pt x="40" y="0"/>
                  </a:lnTo>
                  <a:lnTo>
                    <a:pt x="190" y="13"/>
                  </a:lnTo>
                  <a:lnTo>
                    <a:pt x="151" y="367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016360" y="3910320"/>
              <a:ext cx="23760" cy="37440"/>
            </a:xfrm>
            <a:custGeom>
              <a:avLst/>
              <a:gdLst/>
              <a:ahLst/>
              <a:rect l="l" t="t" r="r" b="b"/>
              <a:pathLst>
                <a:path w="254" h="376">
                  <a:moveTo>
                    <a:pt x="133" y="376"/>
                  </a:moveTo>
                  <a:lnTo>
                    <a:pt x="0" y="335"/>
                  </a:lnTo>
                  <a:lnTo>
                    <a:pt x="120" y="0"/>
                  </a:lnTo>
                  <a:lnTo>
                    <a:pt x="254" y="41"/>
                  </a:lnTo>
                  <a:lnTo>
                    <a:pt x="133" y="376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979640" y="3896640"/>
              <a:ext cx="29160" cy="35280"/>
            </a:xfrm>
            <a:custGeom>
              <a:avLst/>
              <a:gdLst/>
              <a:ahLst/>
              <a:rect l="l" t="t" r="r" b="b"/>
              <a:pathLst>
                <a:path w="304" h="363">
                  <a:moveTo>
                    <a:pt x="115" y="363"/>
                  </a:moveTo>
                  <a:lnTo>
                    <a:pt x="0" y="300"/>
                  </a:lnTo>
                  <a:lnTo>
                    <a:pt x="190" y="0"/>
                  </a:lnTo>
                  <a:lnTo>
                    <a:pt x="304" y="63"/>
                  </a:lnTo>
                  <a:lnTo>
                    <a:pt x="115" y="363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945080" y="3874680"/>
              <a:ext cx="32400" cy="32040"/>
            </a:xfrm>
            <a:custGeom>
              <a:avLst/>
              <a:gdLst/>
              <a:ahLst/>
              <a:rect l="l" t="t" r="r" b="b"/>
              <a:pathLst>
                <a:path w="346" h="335">
                  <a:moveTo>
                    <a:pt x="85" y="335"/>
                  </a:moveTo>
                  <a:lnTo>
                    <a:pt x="0" y="250"/>
                  </a:lnTo>
                  <a:lnTo>
                    <a:pt x="261" y="0"/>
                  </a:lnTo>
                  <a:lnTo>
                    <a:pt x="346" y="86"/>
                  </a:lnTo>
                  <a:lnTo>
                    <a:pt x="85" y="335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920960" y="3848760"/>
              <a:ext cx="34560" cy="27360"/>
            </a:xfrm>
            <a:custGeom>
              <a:avLst/>
              <a:gdLst/>
              <a:ahLst/>
              <a:rect l="l" t="t" r="r" b="b"/>
              <a:pathLst>
                <a:path w="371" h="280">
                  <a:moveTo>
                    <a:pt x="65" y="280"/>
                  </a:moveTo>
                  <a:lnTo>
                    <a:pt x="0" y="189"/>
                  </a:lnTo>
                  <a:lnTo>
                    <a:pt x="310" y="0"/>
                  </a:lnTo>
                  <a:lnTo>
                    <a:pt x="371" y="91"/>
                  </a:lnTo>
                  <a:lnTo>
                    <a:pt x="65" y="28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901520" y="3819960"/>
              <a:ext cx="37800" cy="22320"/>
            </a:xfrm>
            <a:custGeom>
              <a:avLst/>
              <a:gdLst/>
              <a:ahLst/>
              <a:rect l="l" t="t" r="r" b="b"/>
              <a:pathLst>
                <a:path w="384" h="221">
                  <a:moveTo>
                    <a:pt x="42" y="221"/>
                  </a:moveTo>
                  <a:lnTo>
                    <a:pt x="0" y="125"/>
                  </a:lnTo>
                  <a:lnTo>
                    <a:pt x="345" y="0"/>
                  </a:lnTo>
                  <a:lnTo>
                    <a:pt x="384" y="94"/>
                  </a:lnTo>
                  <a:lnTo>
                    <a:pt x="42" y="221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891440" y="3785760"/>
              <a:ext cx="36360" cy="11880"/>
            </a:xfrm>
            <a:custGeom>
              <a:avLst/>
              <a:gdLst/>
              <a:ahLst/>
              <a:rect l="l" t="t" r="r" b="b"/>
              <a:pathLst>
                <a:path w="375" h="132">
                  <a:moveTo>
                    <a:pt x="13" y="132"/>
                  </a:moveTo>
                  <a:lnTo>
                    <a:pt x="0" y="44"/>
                  </a:lnTo>
                  <a:lnTo>
                    <a:pt x="365" y="0"/>
                  </a:lnTo>
                  <a:lnTo>
                    <a:pt x="375" y="88"/>
                  </a:lnTo>
                  <a:lnTo>
                    <a:pt x="13" y="132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91440" y="3744720"/>
              <a:ext cx="34560" cy="13680"/>
            </a:xfrm>
            <a:custGeom>
              <a:avLst/>
              <a:gdLst/>
              <a:ahLst/>
              <a:rect l="l" t="t" r="r" b="b"/>
              <a:pathLst>
                <a:path w="371" h="129">
                  <a:moveTo>
                    <a:pt x="0" y="85"/>
                  </a:moveTo>
                  <a:lnTo>
                    <a:pt x="6" y="0"/>
                  </a:lnTo>
                  <a:lnTo>
                    <a:pt x="371" y="44"/>
                  </a:lnTo>
                  <a:lnTo>
                    <a:pt x="361" y="12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96480" y="3707280"/>
              <a:ext cx="36360" cy="17280"/>
            </a:xfrm>
            <a:custGeom>
              <a:avLst/>
              <a:gdLst/>
              <a:ahLst/>
              <a:rect l="l" t="t" r="r" b="b"/>
              <a:pathLst>
                <a:path w="370" h="180">
                  <a:moveTo>
                    <a:pt x="0" y="70"/>
                  </a:moveTo>
                  <a:lnTo>
                    <a:pt x="22" y="0"/>
                  </a:lnTo>
                  <a:lnTo>
                    <a:pt x="370" y="107"/>
                  </a:lnTo>
                  <a:lnTo>
                    <a:pt x="347" y="18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913760" y="3666600"/>
              <a:ext cx="32760" cy="23400"/>
            </a:xfrm>
            <a:custGeom>
              <a:avLst/>
              <a:gdLst/>
              <a:ahLst/>
              <a:rect l="l" t="t" r="r" b="b"/>
              <a:pathLst>
                <a:path w="342" h="242">
                  <a:moveTo>
                    <a:pt x="0" y="53"/>
                  </a:moveTo>
                  <a:lnTo>
                    <a:pt x="33" y="0"/>
                  </a:lnTo>
                  <a:lnTo>
                    <a:pt x="342" y="189"/>
                  </a:lnTo>
                  <a:lnTo>
                    <a:pt x="310" y="242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936440" y="3635640"/>
              <a:ext cx="29160" cy="27360"/>
            </a:xfrm>
            <a:custGeom>
              <a:avLst/>
              <a:gdLst/>
              <a:ahLst/>
              <a:rect l="l" t="t" r="r" b="b"/>
              <a:pathLst>
                <a:path w="303" h="284">
                  <a:moveTo>
                    <a:pt x="0" y="42"/>
                  </a:moveTo>
                  <a:lnTo>
                    <a:pt x="35" y="0"/>
                  </a:lnTo>
                  <a:lnTo>
                    <a:pt x="303" y="243"/>
                  </a:lnTo>
                  <a:lnTo>
                    <a:pt x="264" y="28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967760" y="3606840"/>
              <a:ext cx="24120" cy="32400"/>
            </a:xfrm>
            <a:custGeom>
              <a:avLst/>
              <a:gdLst/>
              <a:ahLst/>
              <a:rect l="l" t="t" r="r" b="b"/>
              <a:pathLst>
                <a:path w="239" h="326">
                  <a:moveTo>
                    <a:pt x="0" y="29"/>
                  </a:moveTo>
                  <a:lnTo>
                    <a:pt x="39" y="0"/>
                  </a:lnTo>
                  <a:lnTo>
                    <a:pt x="239" y="300"/>
                  </a:lnTo>
                  <a:lnTo>
                    <a:pt x="200" y="32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004120" y="3588120"/>
              <a:ext cx="15120" cy="33840"/>
            </a:xfrm>
            <a:custGeom>
              <a:avLst/>
              <a:gdLst/>
              <a:ahLst/>
              <a:rect l="l" t="t" r="r" b="b"/>
              <a:pathLst>
                <a:path w="163" h="347">
                  <a:moveTo>
                    <a:pt x="0" y="15"/>
                  </a:moveTo>
                  <a:lnTo>
                    <a:pt x="33" y="0"/>
                  </a:lnTo>
                  <a:lnTo>
                    <a:pt x="163" y="334"/>
                  </a:lnTo>
                  <a:lnTo>
                    <a:pt x="130" y="34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045520" y="3576240"/>
              <a:ext cx="6840" cy="35280"/>
            </a:xfrm>
            <a:custGeom>
              <a:avLst/>
              <a:gdLst/>
              <a:ahLst/>
              <a:rect l="l" t="t" r="r" b="b"/>
              <a:pathLst>
                <a:path w="75" h="353">
                  <a:moveTo>
                    <a:pt x="0" y="6"/>
                  </a:moveTo>
                  <a:lnTo>
                    <a:pt x="25" y="0"/>
                  </a:lnTo>
                  <a:lnTo>
                    <a:pt x="75" y="350"/>
                  </a:lnTo>
                  <a:lnTo>
                    <a:pt x="48" y="35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083680" y="3572640"/>
              <a:ext cx="3240" cy="35640"/>
            </a:xfrm>
            <a:custGeom>
              <a:avLst/>
              <a:gdLst/>
              <a:ahLst/>
              <a:rect l="l" t="t" r="r" b="b"/>
              <a:pathLst>
                <a:path w="49" h="354">
                  <a:moveTo>
                    <a:pt x="30" y="0"/>
                  </a:moveTo>
                  <a:lnTo>
                    <a:pt x="49" y="4"/>
                  </a:lnTo>
                  <a:lnTo>
                    <a:pt x="19" y="354"/>
                  </a:lnTo>
                  <a:lnTo>
                    <a:pt x="0" y="35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232720" y="3772080"/>
              <a:ext cx="37800" cy="25200"/>
            </a:xfrm>
            <a:custGeom>
              <a:avLst/>
              <a:gdLst/>
              <a:ahLst/>
              <a:rect l="l" t="t" r="r" b="b"/>
              <a:pathLst>
                <a:path w="391" h="252">
                  <a:moveTo>
                    <a:pt x="391" y="44"/>
                  </a:moveTo>
                  <a:lnTo>
                    <a:pt x="365" y="252"/>
                  </a:lnTo>
                  <a:lnTo>
                    <a:pt x="0" y="208"/>
                  </a:lnTo>
                  <a:lnTo>
                    <a:pt x="29" y="0"/>
                  </a:lnTo>
                  <a:lnTo>
                    <a:pt x="391" y="44"/>
                  </a:lnTo>
                  <a:close/>
                </a:path>
              </a:pathLst>
            </a:custGeom>
            <a:solidFill>
              <a:srgbClr val="52d63c"/>
            </a:solidFill>
            <a:ln w="38160">
              <a:solidFill>
                <a:srgbClr val="52d6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2" name="SEAL24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2293" name=""/>
          <p:cNvSpPr/>
          <p:nvPr/>
        </p:nvSpPr>
        <p:spPr>
          <a:xfrm>
            <a:off x="1982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5" name="dd00385_" descr=""/>
          <p:cNvPicPr/>
          <p:nvPr/>
        </p:nvPicPr>
        <p:blipFill>
          <a:blip r:embed="rId2"/>
          <a:stretch/>
        </p:blipFill>
        <p:spPr>
          <a:xfrm>
            <a:off x="5943600" y="27432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RIBBON16" descr=""/>
          <p:cNvPicPr/>
          <p:nvPr/>
        </p:nvPicPr>
        <p:blipFill>
          <a:blip r:embed="rId1"/>
          <a:stretch/>
        </p:blipFill>
        <p:spPr>
          <a:xfrm>
            <a:off x="5943600" y="2927520"/>
            <a:ext cx="2082960" cy="1763640"/>
          </a:xfrm>
          <a:prstGeom prst="rect">
            <a:avLst/>
          </a:prstGeom>
          <a:ln w="0">
            <a:noFill/>
          </a:ln>
        </p:spPr>
      </p:pic>
      <p:sp>
        <p:nvSpPr>
          <p:cNvPr id="2297" name=""/>
          <p:cNvSpPr/>
          <p:nvPr/>
        </p:nvSpPr>
        <p:spPr>
          <a:xfrm>
            <a:off x="16783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9" name=""/>
          <p:cNvGrpSpPr/>
          <p:nvPr/>
        </p:nvGrpSpPr>
        <p:grpSpPr>
          <a:xfrm>
            <a:off x="1143000" y="2778120"/>
            <a:ext cx="2192400" cy="2063520"/>
            <a:chOff x="1143000" y="2778120"/>
            <a:chExt cx="2192400" cy="2063520"/>
          </a:xfrm>
        </p:grpSpPr>
        <p:sp>
          <p:nvSpPr>
            <p:cNvPr id="2300" name=""/>
            <p:cNvSpPr/>
            <p:nvPr/>
          </p:nvSpPr>
          <p:spPr>
            <a:xfrm>
              <a:off x="1820880" y="3270240"/>
              <a:ext cx="1504800" cy="1560600"/>
            </a:xfrm>
            <a:custGeom>
              <a:avLst/>
              <a:gdLst/>
              <a:ahLst/>
              <a:rect l="l" t="t" r="r" b="b"/>
              <a:pathLst>
                <a:path w="1896" h="1964">
                  <a:moveTo>
                    <a:pt x="1019" y="4"/>
                  </a:moveTo>
                  <a:lnTo>
                    <a:pt x="1080" y="14"/>
                  </a:lnTo>
                  <a:lnTo>
                    <a:pt x="1160" y="18"/>
                  </a:lnTo>
                  <a:lnTo>
                    <a:pt x="1634" y="280"/>
                  </a:lnTo>
                  <a:lnTo>
                    <a:pt x="1691" y="350"/>
                  </a:lnTo>
                  <a:lnTo>
                    <a:pt x="1784" y="461"/>
                  </a:lnTo>
                  <a:lnTo>
                    <a:pt x="1842" y="572"/>
                  </a:lnTo>
                  <a:lnTo>
                    <a:pt x="1882" y="701"/>
                  </a:lnTo>
                  <a:lnTo>
                    <a:pt x="1896" y="834"/>
                  </a:lnTo>
                  <a:lnTo>
                    <a:pt x="1896" y="975"/>
                  </a:lnTo>
                  <a:lnTo>
                    <a:pt x="1864" y="1121"/>
                  </a:lnTo>
                  <a:lnTo>
                    <a:pt x="1833" y="1246"/>
                  </a:lnTo>
                  <a:lnTo>
                    <a:pt x="1784" y="1357"/>
                  </a:lnTo>
                  <a:lnTo>
                    <a:pt x="1722" y="1480"/>
                  </a:lnTo>
                  <a:lnTo>
                    <a:pt x="1630" y="1614"/>
                  </a:lnTo>
                  <a:lnTo>
                    <a:pt x="1550" y="1702"/>
                  </a:lnTo>
                  <a:lnTo>
                    <a:pt x="1461" y="1795"/>
                  </a:lnTo>
                  <a:lnTo>
                    <a:pt x="1316" y="1875"/>
                  </a:lnTo>
                  <a:lnTo>
                    <a:pt x="1217" y="1911"/>
                  </a:lnTo>
                  <a:lnTo>
                    <a:pt x="1068" y="1964"/>
                  </a:lnTo>
                  <a:lnTo>
                    <a:pt x="903" y="1960"/>
                  </a:lnTo>
                  <a:lnTo>
                    <a:pt x="735" y="1920"/>
                  </a:lnTo>
                  <a:lnTo>
                    <a:pt x="549" y="1849"/>
                  </a:lnTo>
                  <a:lnTo>
                    <a:pt x="257" y="1666"/>
                  </a:lnTo>
                  <a:lnTo>
                    <a:pt x="61" y="1361"/>
                  </a:lnTo>
                  <a:lnTo>
                    <a:pt x="0" y="962"/>
                  </a:lnTo>
                  <a:lnTo>
                    <a:pt x="159" y="483"/>
                  </a:lnTo>
                  <a:lnTo>
                    <a:pt x="407" y="183"/>
                  </a:lnTo>
                  <a:lnTo>
                    <a:pt x="731" y="0"/>
                  </a:lnTo>
                  <a:lnTo>
                    <a:pt x="1019" y="4"/>
                  </a:lnTo>
                  <a:lnTo>
                    <a:pt x="1019" y="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220840" y="3516120"/>
              <a:ext cx="914400" cy="1111320"/>
            </a:xfrm>
            <a:custGeom>
              <a:avLst/>
              <a:gdLst/>
              <a:ahLst/>
              <a:rect l="l" t="t" r="r" b="b"/>
              <a:pathLst>
                <a:path w="1152" h="1401">
                  <a:moveTo>
                    <a:pt x="0" y="1033"/>
                  </a:moveTo>
                  <a:lnTo>
                    <a:pt x="0" y="853"/>
                  </a:lnTo>
                  <a:lnTo>
                    <a:pt x="22" y="707"/>
                  </a:lnTo>
                  <a:lnTo>
                    <a:pt x="65" y="566"/>
                  </a:lnTo>
                  <a:lnTo>
                    <a:pt x="139" y="432"/>
                  </a:lnTo>
                  <a:lnTo>
                    <a:pt x="261" y="250"/>
                  </a:lnTo>
                  <a:lnTo>
                    <a:pt x="304" y="205"/>
                  </a:lnTo>
                  <a:lnTo>
                    <a:pt x="460" y="73"/>
                  </a:lnTo>
                  <a:lnTo>
                    <a:pt x="635" y="0"/>
                  </a:lnTo>
                  <a:lnTo>
                    <a:pt x="789" y="14"/>
                  </a:lnTo>
                  <a:lnTo>
                    <a:pt x="875" y="40"/>
                  </a:lnTo>
                  <a:lnTo>
                    <a:pt x="994" y="111"/>
                  </a:lnTo>
                  <a:lnTo>
                    <a:pt x="1079" y="221"/>
                  </a:lnTo>
                  <a:lnTo>
                    <a:pt x="1128" y="310"/>
                  </a:lnTo>
                  <a:lnTo>
                    <a:pt x="1152" y="443"/>
                  </a:lnTo>
                  <a:lnTo>
                    <a:pt x="1132" y="680"/>
                  </a:lnTo>
                  <a:lnTo>
                    <a:pt x="1087" y="900"/>
                  </a:lnTo>
                  <a:lnTo>
                    <a:pt x="1027" y="1031"/>
                  </a:lnTo>
                  <a:lnTo>
                    <a:pt x="948" y="1148"/>
                  </a:lnTo>
                  <a:lnTo>
                    <a:pt x="821" y="1284"/>
                  </a:lnTo>
                  <a:lnTo>
                    <a:pt x="635" y="1387"/>
                  </a:lnTo>
                  <a:lnTo>
                    <a:pt x="535" y="1395"/>
                  </a:lnTo>
                  <a:lnTo>
                    <a:pt x="424" y="1401"/>
                  </a:lnTo>
                  <a:lnTo>
                    <a:pt x="324" y="1379"/>
                  </a:lnTo>
                  <a:lnTo>
                    <a:pt x="217" y="1332"/>
                  </a:lnTo>
                  <a:lnTo>
                    <a:pt x="134" y="1257"/>
                  </a:lnTo>
                  <a:lnTo>
                    <a:pt x="30" y="1117"/>
                  </a:lnTo>
                  <a:lnTo>
                    <a:pt x="0" y="1033"/>
                  </a:lnTo>
                  <a:lnTo>
                    <a:pt x="0" y="103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376360" y="3041640"/>
              <a:ext cx="235080" cy="231840"/>
            </a:xfrm>
            <a:custGeom>
              <a:avLst/>
              <a:gdLst/>
              <a:ahLst/>
              <a:rect l="l" t="t" r="r" b="b"/>
              <a:pathLst>
                <a:path w="295" h="292">
                  <a:moveTo>
                    <a:pt x="0" y="216"/>
                  </a:moveTo>
                  <a:lnTo>
                    <a:pt x="16" y="121"/>
                  </a:lnTo>
                  <a:lnTo>
                    <a:pt x="132" y="130"/>
                  </a:lnTo>
                  <a:lnTo>
                    <a:pt x="147" y="7"/>
                  </a:lnTo>
                  <a:lnTo>
                    <a:pt x="175" y="0"/>
                  </a:lnTo>
                  <a:lnTo>
                    <a:pt x="210" y="12"/>
                  </a:lnTo>
                  <a:lnTo>
                    <a:pt x="228" y="31"/>
                  </a:lnTo>
                  <a:lnTo>
                    <a:pt x="216" y="147"/>
                  </a:lnTo>
                  <a:lnTo>
                    <a:pt x="287" y="160"/>
                  </a:lnTo>
                  <a:lnTo>
                    <a:pt x="295" y="177"/>
                  </a:lnTo>
                  <a:lnTo>
                    <a:pt x="291" y="269"/>
                  </a:lnTo>
                  <a:lnTo>
                    <a:pt x="241" y="290"/>
                  </a:lnTo>
                  <a:lnTo>
                    <a:pt x="114" y="292"/>
                  </a:lnTo>
                  <a:lnTo>
                    <a:pt x="27" y="269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587680" y="3174840"/>
              <a:ext cx="23760" cy="92160"/>
            </a:xfrm>
            <a:custGeom>
              <a:avLst/>
              <a:gdLst/>
              <a:ahLst/>
              <a:rect l="l" t="t" r="r" b="b"/>
              <a:pathLst>
                <a:path w="31" h="116">
                  <a:moveTo>
                    <a:pt x="6" y="20"/>
                  </a:moveTo>
                  <a:lnTo>
                    <a:pt x="0" y="116"/>
                  </a:lnTo>
                  <a:lnTo>
                    <a:pt x="25" y="107"/>
                  </a:lnTo>
                  <a:lnTo>
                    <a:pt x="31" y="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374920" y="3144600"/>
              <a:ext cx="106200" cy="12564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21" y="0"/>
                  </a:moveTo>
                  <a:lnTo>
                    <a:pt x="55" y="29"/>
                  </a:lnTo>
                  <a:lnTo>
                    <a:pt x="82" y="41"/>
                  </a:lnTo>
                  <a:lnTo>
                    <a:pt x="115" y="55"/>
                  </a:lnTo>
                  <a:lnTo>
                    <a:pt x="133" y="58"/>
                  </a:lnTo>
                  <a:lnTo>
                    <a:pt x="132" y="158"/>
                  </a:lnTo>
                  <a:lnTo>
                    <a:pt x="29" y="135"/>
                  </a:lnTo>
                  <a:lnTo>
                    <a:pt x="0" y="6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476440" y="3044880"/>
              <a:ext cx="3960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51" y="0"/>
                  </a:moveTo>
                  <a:lnTo>
                    <a:pt x="41" y="158"/>
                  </a:lnTo>
                  <a:lnTo>
                    <a:pt x="0" y="152"/>
                  </a:lnTo>
                  <a:lnTo>
                    <a:pt x="21" y="6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21000" y="2779560"/>
              <a:ext cx="912600" cy="538200"/>
            </a:xfrm>
            <a:custGeom>
              <a:avLst/>
              <a:gdLst/>
              <a:ahLst/>
              <a:rect l="l" t="t" r="r" b="b"/>
              <a:pathLst>
                <a:path w="1152" h="677">
                  <a:moveTo>
                    <a:pt x="0" y="433"/>
                  </a:moveTo>
                  <a:lnTo>
                    <a:pt x="48" y="210"/>
                  </a:lnTo>
                  <a:lnTo>
                    <a:pt x="54" y="97"/>
                  </a:lnTo>
                  <a:lnTo>
                    <a:pt x="61" y="56"/>
                  </a:lnTo>
                  <a:lnTo>
                    <a:pt x="104" y="11"/>
                  </a:lnTo>
                  <a:lnTo>
                    <a:pt x="183" y="0"/>
                  </a:lnTo>
                  <a:lnTo>
                    <a:pt x="1020" y="56"/>
                  </a:lnTo>
                  <a:lnTo>
                    <a:pt x="1076" y="72"/>
                  </a:lnTo>
                  <a:lnTo>
                    <a:pt x="1121" y="99"/>
                  </a:lnTo>
                  <a:lnTo>
                    <a:pt x="1152" y="140"/>
                  </a:lnTo>
                  <a:lnTo>
                    <a:pt x="1152" y="269"/>
                  </a:lnTo>
                  <a:lnTo>
                    <a:pt x="1071" y="501"/>
                  </a:lnTo>
                  <a:lnTo>
                    <a:pt x="1121" y="661"/>
                  </a:lnTo>
                  <a:lnTo>
                    <a:pt x="543" y="677"/>
                  </a:lnTo>
                  <a:lnTo>
                    <a:pt x="785" y="523"/>
                  </a:lnTo>
                  <a:lnTo>
                    <a:pt x="841" y="495"/>
                  </a:lnTo>
                  <a:lnTo>
                    <a:pt x="832" y="313"/>
                  </a:lnTo>
                  <a:lnTo>
                    <a:pt x="803" y="266"/>
                  </a:lnTo>
                  <a:lnTo>
                    <a:pt x="314" y="210"/>
                  </a:lnTo>
                  <a:lnTo>
                    <a:pt x="205" y="222"/>
                  </a:lnTo>
                  <a:lnTo>
                    <a:pt x="126" y="473"/>
                  </a:lnTo>
                  <a:lnTo>
                    <a:pt x="0" y="433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143000" y="3085920"/>
              <a:ext cx="1244520" cy="1500120"/>
            </a:xfrm>
            <a:custGeom>
              <a:avLst/>
              <a:gdLst/>
              <a:ahLst/>
              <a:rect l="l" t="t" r="r" b="b"/>
              <a:pathLst>
                <a:path w="1567" h="1889">
                  <a:moveTo>
                    <a:pt x="984" y="1609"/>
                  </a:moveTo>
                  <a:lnTo>
                    <a:pt x="912" y="1506"/>
                  </a:lnTo>
                  <a:lnTo>
                    <a:pt x="912" y="1415"/>
                  </a:lnTo>
                  <a:lnTo>
                    <a:pt x="872" y="1286"/>
                  </a:lnTo>
                  <a:lnTo>
                    <a:pt x="924" y="973"/>
                  </a:lnTo>
                  <a:lnTo>
                    <a:pt x="1050" y="727"/>
                  </a:lnTo>
                  <a:lnTo>
                    <a:pt x="1160" y="553"/>
                  </a:lnTo>
                  <a:lnTo>
                    <a:pt x="1351" y="411"/>
                  </a:lnTo>
                  <a:lnTo>
                    <a:pt x="1567" y="275"/>
                  </a:lnTo>
                  <a:lnTo>
                    <a:pt x="1016" y="207"/>
                  </a:lnTo>
                  <a:lnTo>
                    <a:pt x="815" y="109"/>
                  </a:lnTo>
                  <a:lnTo>
                    <a:pt x="739" y="0"/>
                  </a:lnTo>
                  <a:lnTo>
                    <a:pt x="451" y="50"/>
                  </a:lnTo>
                  <a:lnTo>
                    <a:pt x="360" y="119"/>
                  </a:lnTo>
                  <a:lnTo>
                    <a:pt x="150" y="156"/>
                  </a:lnTo>
                  <a:lnTo>
                    <a:pt x="83" y="185"/>
                  </a:lnTo>
                  <a:lnTo>
                    <a:pt x="53" y="213"/>
                  </a:lnTo>
                  <a:lnTo>
                    <a:pt x="37" y="244"/>
                  </a:lnTo>
                  <a:lnTo>
                    <a:pt x="33" y="294"/>
                  </a:lnTo>
                  <a:lnTo>
                    <a:pt x="40" y="508"/>
                  </a:lnTo>
                  <a:lnTo>
                    <a:pt x="31" y="750"/>
                  </a:lnTo>
                  <a:lnTo>
                    <a:pt x="6" y="853"/>
                  </a:lnTo>
                  <a:lnTo>
                    <a:pt x="0" y="944"/>
                  </a:lnTo>
                  <a:lnTo>
                    <a:pt x="6" y="1036"/>
                  </a:lnTo>
                  <a:lnTo>
                    <a:pt x="31" y="1088"/>
                  </a:lnTo>
                  <a:lnTo>
                    <a:pt x="112" y="1158"/>
                  </a:lnTo>
                  <a:lnTo>
                    <a:pt x="304" y="1275"/>
                  </a:lnTo>
                  <a:lnTo>
                    <a:pt x="701" y="1537"/>
                  </a:lnTo>
                  <a:lnTo>
                    <a:pt x="780" y="1691"/>
                  </a:lnTo>
                  <a:lnTo>
                    <a:pt x="1122" y="1889"/>
                  </a:lnTo>
                  <a:lnTo>
                    <a:pt x="1018" y="1701"/>
                  </a:lnTo>
                  <a:lnTo>
                    <a:pt x="984" y="1609"/>
                  </a:lnTo>
                  <a:lnTo>
                    <a:pt x="984" y="1609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204920" y="3238560"/>
              <a:ext cx="541440" cy="276120"/>
            </a:xfrm>
            <a:custGeom>
              <a:avLst/>
              <a:gdLst/>
              <a:ahLst/>
              <a:rect l="l" t="t" r="r" b="b"/>
              <a:pathLst>
                <a:path w="681" h="348">
                  <a:moveTo>
                    <a:pt x="34" y="0"/>
                  </a:moveTo>
                  <a:lnTo>
                    <a:pt x="9" y="19"/>
                  </a:lnTo>
                  <a:lnTo>
                    <a:pt x="0" y="41"/>
                  </a:lnTo>
                  <a:lnTo>
                    <a:pt x="652" y="348"/>
                  </a:lnTo>
                  <a:lnTo>
                    <a:pt x="681" y="30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825560" y="3284640"/>
              <a:ext cx="403200" cy="360360"/>
            </a:xfrm>
            <a:custGeom>
              <a:avLst/>
              <a:gdLst/>
              <a:ahLst/>
              <a:rect l="l" t="t" r="r" b="b"/>
              <a:pathLst>
                <a:path w="508" h="455">
                  <a:moveTo>
                    <a:pt x="338" y="0"/>
                  </a:moveTo>
                  <a:lnTo>
                    <a:pt x="217" y="75"/>
                  </a:lnTo>
                  <a:lnTo>
                    <a:pt x="130" y="166"/>
                  </a:lnTo>
                  <a:lnTo>
                    <a:pt x="78" y="236"/>
                  </a:lnTo>
                  <a:lnTo>
                    <a:pt x="50" y="283"/>
                  </a:lnTo>
                  <a:lnTo>
                    <a:pt x="0" y="391"/>
                  </a:lnTo>
                  <a:lnTo>
                    <a:pt x="109" y="295"/>
                  </a:lnTo>
                  <a:lnTo>
                    <a:pt x="45" y="425"/>
                  </a:lnTo>
                  <a:lnTo>
                    <a:pt x="150" y="313"/>
                  </a:lnTo>
                  <a:lnTo>
                    <a:pt x="104" y="443"/>
                  </a:lnTo>
                  <a:lnTo>
                    <a:pt x="183" y="330"/>
                  </a:lnTo>
                  <a:lnTo>
                    <a:pt x="141" y="455"/>
                  </a:lnTo>
                  <a:lnTo>
                    <a:pt x="229" y="332"/>
                  </a:lnTo>
                  <a:lnTo>
                    <a:pt x="303" y="227"/>
                  </a:lnTo>
                  <a:lnTo>
                    <a:pt x="385" y="151"/>
                  </a:lnTo>
                  <a:lnTo>
                    <a:pt x="508" y="76"/>
                  </a:lnTo>
                  <a:lnTo>
                    <a:pt x="341" y="123"/>
                  </a:lnTo>
                  <a:lnTo>
                    <a:pt x="444" y="54"/>
                  </a:lnTo>
                  <a:lnTo>
                    <a:pt x="301" y="104"/>
                  </a:lnTo>
                  <a:lnTo>
                    <a:pt x="398" y="26"/>
                  </a:lnTo>
                  <a:lnTo>
                    <a:pt x="278" y="73"/>
                  </a:lnTo>
                  <a:lnTo>
                    <a:pt x="338" y="0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162080" y="3733560"/>
              <a:ext cx="466560" cy="257400"/>
            </a:xfrm>
            <a:custGeom>
              <a:avLst/>
              <a:gdLst/>
              <a:ahLst/>
              <a:rect l="l" t="t" r="r" b="b"/>
              <a:pathLst>
                <a:path w="587" h="325">
                  <a:moveTo>
                    <a:pt x="24" y="0"/>
                  </a:moveTo>
                  <a:lnTo>
                    <a:pt x="0" y="20"/>
                  </a:lnTo>
                  <a:lnTo>
                    <a:pt x="575" y="325"/>
                  </a:lnTo>
                  <a:lnTo>
                    <a:pt x="587" y="30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295280" y="3592440"/>
              <a:ext cx="265320" cy="304920"/>
            </a:xfrm>
            <a:custGeom>
              <a:avLst/>
              <a:gdLst/>
              <a:ahLst/>
              <a:rect l="l" t="t" r="r" b="b"/>
              <a:pathLst>
                <a:path w="335" h="384">
                  <a:moveTo>
                    <a:pt x="59" y="0"/>
                  </a:moveTo>
                  <a:lnTo>
                    <a:pt x="31" y="53"/>
                  </a:lnTo>
                  <a:lnTo>
                    <a:pt x="31" y="99"/>
                  </a:lnTo>
                  <a:lnTo>
                    <a:pt x="46" y="166"/>
                  </a:lnTo>
                  <a:lnTo>
                    <a:pt x="67" y="216"/>
                  </a:lnTo>
                  <a:lnTo>
                    <a:pt x="110" y="281"/>
                  </a:lnTo>
                  <a:lnTo>
                    <a:pt x="148" y="317"/>
                  </a:lnTo>
                  <a:lnTo>
                    <a:pt x="190" y="342"/>
                  </a:lnTo>
                  <a:lnTo>
                    <a:pt x="240" y="356"/>
                  </a:lnTo>
                  <a:lnTo>
                    <a:pt x="284" y="351"/>
                  </a:lnTo>
                  <a:lnTo>
                    <a:pt x="335" y="344"/>
                  </a:lnTo>
                  <a:lnTo>
                    <a:pt x="292" y="384"/>
                  </a:lnTo>
                  <a:lnTo>
                    <a:pt x="196" y="369"/>
                  </a:lnTo>
                  <a:lnTo>
                    <a:pt x="76" y="298"/>
                  </a:lnTo>
                  <a:lnTo>
                    <a:pt x="0" y="127"/>
                  </a:lnTo>
                  <a:lnTo>
                    <a:pt x="14" y="31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738440" y="4255920"/>
              <a:ext cx="209520" cy="249480"/>
            </a:xfrm>
            <a:custGeom>
              <a:avLst/>
              <a:gdLst/>
              <a:ahLst/>
              <a:rect l="l" t="t" r="r" b="b"/>
              <a:pathLst>
                <a:path w="264" h="314">
                  <a:moveTo>
                    <a:pt x="77" y="202"/>
                  </a:moveTo>
                  <a:lnTo>
                    <a:pt x="23" y="127"/>
                  </a:lnTo>
                  <a:lnTo>
                    <a:pt x="7" y="72"/>
                  </a:lnTo>
                  <a:lnTo>
                    <a:pt x="0" y="4"/>
                  </a:lnTo>
                  <a:lnTo>
                    <a:pt x="51" y="101"/>
                  </a:lnTo>
                  <a:lnTo>
                    <a:pt x="60" y="0"/>
                  </a:lnTo>
                  <a:lnTo>
                    <a:pt x="100" y="111"/>
                  </a:lnTo>
                  <a:lnTo>
                    <a:pt x="96" y="0"/>
                  </a:lnTo>
                  <a:lnTo>
                    <a:pt x="139" y="89"/>
                  </a:lnTo>
                  <a:lnTo>
                    <a:pt x="180" y="145"/>
                  </a:lnTo>
                  <a:lnTo>
                    <a:pt x="211" y="225"/>
                  </a:lnTo>
                  <a:lnTo>
                    <a:pt x="264" y="314"/>
                  </a:lnTo>
                  <a:lnTo>
                    <a:pt x="77" y="202"/>
                  </a:lnTo>
                  <a:lnTo>
                    <a:pt x="77" y="20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744560" y="3168720"/>
              <a:ext cx="222480" cy="183960"/>
            </a:xfrm>
            <a:custGeom>
              <a:avLst/>
              <a:gdLst/>
              <a:ahLst/>
              <a:rect l="l" t="t" r="r" b="b"/>
              <a:pathLst>
                <a:path w="279" h="232">
                  <a:moveTo>
                    <a:pt x="10" y="0"/>
                  </a:moveTo>
                  <a:lnTo>
                    <a:pt x="52" y="33"/>
                  </a:lnTo>
                  <a:lnTo>
                    <a:pt x="90" y="57"/>
                  </a:lnTo>
                  <a:lnTo>
                    <a:pt x="197" y="98"/>
                  </a:lnTo>
                  <a:lnTo>
                    <a:pt x="279" y="122"/>
                  </a:lnTo>
                  <a:lnTo>
                    <a:pt x="174" y="196"/>
                  </a:lnTo>
                  <a:lnTo>
                    <a:pt x="114" y="232"/>
                  </a:lnTo>
                  <a:lnTo>
                    <a:pt x="164" y="169"/>
                  </a:lnTo>
                  <a:lnTo>
                    <a:pt x="78" y="201"/>
                  </a:lnTo>
                  <a:lnTo>
                    <a:pt x="124" y="148"/>
                  </a:lnTo>
                  <a:lnTo>
                    <a:pt x="40" y="171"/>
                  </a:lnTo>
                  <a:lnTo>
                    <a:pt x="94" y="127"/>
                  </a:lnTo>
                  <a:lnTo>
                    <a:pt x="0" y="134"/>
                  </a:lnTo>
                  <a:lnTo>
                    <a:pt x="65" y="100"/>
                  </a:lnTo>
                  <a:lnTo>
                    <a:pt x="43" y="90"/>
                  </a:lnTo>
                  <a:lnTo>
                    <a:pt x="59" y="74"/>
                  </a:lnTo>
                  <a:lnTo>
                    <a:pt x="22" y="5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825560" y="3301920"/>
              <a:ext cx="158760" cy="14760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121" y="23"/>
                  </a:moveTo>
                  <a:lnTo>
                    <a:pt x="79" y="55"/>
                  </a:lnTo>
                  <a:lnTo>
                    <a:pt x="0" y="147"/>
                  </a:lnTo>
                  <a:lnTo>
                    <a:pt x="72" y="105"/>
                  </a:lnTo>
                  <a:lnTo>
                    <a:pt x="14" y="185"/>
                  </a:lnTo>
                  <a:lnTo>
                    <a:pt x="105" y="125"/>
                  </a:lnTo>
                  <a:lnTo>
                    <a:pt x="159" y="75"/>
                  </a:lnTo>
                  <a:lnTo>
                    <a:pt x="201" y="18"/>
                  </a:lnTo>
                  <a:lnTo>
                    <a:pt x="107" y="71"/>
                  </a:lnTo>
                  <a:lnTo>
                    <a:pt x="167" y="0"/>
                  </a:lnTo>
                  <a:lnTo>
                    <a:pt x="121" y="23"/>
                  </a:lnTo>
                  <a:lnTo>
                    <a:pt x="121" y="2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609560" y="2793960"/>
              <a:ext cx="754200" cy="69840"/>
            </a:xfrm>
            <a:custGeom>
              <a:avLst/>
              <a:gdLst/>
              <a:ahLst/>
              <a:rect l="l" t="t" r="r" b="b"/>
              <a:pathLst>
                <a:path w="951" h="88">
                  <a:moveTo>
                    <a:pt x="0" y="23"/>
                  </a:moveTo>
                  <a:lnTo>
                    <a:pt x="39" y="0"/>
                  </a:lnTo>
                  <a:lnTo>
                    <a:pt x="484" y="23"/>
                  </a:lnTo>
                  <a:lnTo>
                    <a:pt x="848" y="42"/>
                  </a:lnTo>
                  <a:lnTo>
                    <a:pt x="896" y="50"/>
                  </a:lnTo>
                  <a:lnTo>
                    <a:pt x="951" y="72"/>
                  </a:lnTo>
                  <a:lnTo>
                    <a:pt x="784" y="79"/>
                  </a:lnTo>
                  <a:lnTo>
                    <a:pt x="754" y="88"/>
                  </a:lnTo>
                  <a:lnTo>
                    <a:pt x="647" y="72"/>
                  </a:lnTo>
                  <a:lnTo>
                    <a:pt x="301" y="31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203560" y="2886120"/>
              <a:ext cx="63360" cy="320400"/>
            </a:xfrm>
            <a:custGeom>
              <a:avLst/>
              <a:gdLst/>
              <a:ahLst/>
              <a:rect l="l" t="t" r="r" b="b"/>
              <a:pathLst>
                <a:path w="82" h="405">
                  <a:moveTo>
                    <a:pt x="10" y="0"/>
                  </a:moveTo>
                  <a:lnTo>
                    <a:pt x="0" y="15"/>
                  </a:lnTo>
                  <a:lnTo>
                    <a:pt x="18" y="74"/>
                  </a:lnTo>
                  <a:lnTo>
                    <a:pt x="44" y="275"/>
                  </a:lnTo>
                  <a:lnTo>
                    <a:pt x="46" y="400"/>
                  </a:lnTo>
                  <a:lnTo>
                    <a:pt x="79" y="405"/>
                  </a:lnTo>
                  <a:lnTo>
                    <a:pt x="82" y="352"/>
                  </a:lnTo>
                  <a:lnTo>
                    <a:pt x="53" y="83"/>
                  </a:lnTo>
                  <a:lnTo>
                    <a:pt x="42" y="3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165320" y="3914640"/>
              <a:ext cx="519120" cy="331920"/>
            </a:xfrm>
            <a:custGeom>
              <a:avLst/>
              <a:gdLst/>
              <a:ahLst/>
              <a:rect l="l" t="t" r="r" b="b"/>
              <a:pathLst>
                <a:path w="655" h="418">
                  <a:moveTo>
                    <a:pt x="0" y="0"/>
                  </a:moveTo>
                  <a:lnTo>
                    <a:pt x="44" y="55"/>
                  </a:lnTo>
                  <a:lnTo>
                    <a:pt x="655" y="418"/>
                  </a:lnTo>
                  <a:lnTo>
                    <a:pt x="636" y="3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363680" y="3625920"/>
              <a:ext cx="225360" cy="204480"/>
            </a:xfrm>
            <a:custGeom>
              <a:avLst/>
              <a:gdLst/>
              <a:ahLst/>
              <a:rect l="l" t="t" r="r" b="b"/>
              <a:pathLst>
                <a:path w="284" h="258">
                  <a:moveTo>
                    <a:pt x="0" y="0"/>
                  </a:moveTo>
                  <a:lnTo>
                    <a:pt x="48" y="161"/>
                  </a:lnTo>
                  <a:lnTo>
                    <a:pt x="251" y="258"/>
                  </a:lnTo>
                  <a:lnTo>
                    <a:pt x="284" y="214"/>
                  </a:lnTo>
                  <a:lnTo>
                    <a:pt x="274" y="145"/>
                  </a:lnTo>
                  <a:lnTo>
                    <a:pt x="244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181160" y="3295440"/>
              <a:ext cx="550800" cy="281160"/>
            </a:xfrm>
            <a:custGeom>
              <a:avLst/>
              <a:gdLst/>
              <a:ahLst/>
              <a:rect l="l" t="t" r="r" b="b"/>
              <a:pathLst>
                <a:path w="695" h="354">
                  <a:moveTo>
                    <a:pt x="0" y="59"/>
                  </a:moveTo>
                  <a:lnTo>
                    <a:pt x="0" y="16"/>
                  </a:lnTo>
                  <a:lnTo>
                    <a:pt x="19" y="0"/>
                  </a:lnTo>
                  <a:lnTo>
                    <a:pt x="695" y="300"/>
                  </a:lnTo>
                  <a:lnTo>
                    <a:pt x="668" y="354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127240" y="3189240"/>
              <a:ext cx="268200" cy="173160"/>
            </a:xfrm>
            <a:custGeom>
              <a:avLst/>
              <a:gdLst/>
              <a:ahLst/>
              <a:rect l="l" t="t" r="r" b="b"/>
              <a:pathLst>
                <a:path w="337" h="217">
                  <a:moveTo>
                    <a:pt x="233" y="0"/>
                  </a:moveTo>
                  <a:lnTo>
                    <a:pt x="40" y="93"/>
                  </a:lnTo>
                  <a:lnTo>
                    <a:pt x="0" y="127"/>
                  </a:lnTo>
                  <a:lnTo>
                    <a:pt x="113" y="96"/>
                  </a:lnTo>
                  <a:lnTo>
                    <a:pt x="62" y="146"/>
                  </a:lnTo>
                  <a:lnTo>
                    <a:pt x="172" y="113"/>
                  </a:lnTo>
                  <a:lnTo>
                    <a:pt x="126" y="160"/>
                  </a:lnTo>
                  <a:lnTo>
                    <a:pt x="217" y="134"/>
                  </a:lnTo>
                  <a:lnTo>
                    <a:pt x="180" y="217"/>
                  </a:lnTo>
                  <a:lnTo>
                    <a:pt x="337" y="129"/>
                  </a:lnTo>
                  <a:lnTo>
                    <a:pt x="320" y="9"/>
                  </a:lnTo>
                  <a:lnTo>
                    <a:pt x="233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560600" y="2867040"/>
              <a:ext cx="617400" cy="298440"/>
            </a:xfrm>
            <a:custGeom>
              <a:avLst/>
              <a:gdLst/>
              <a:ahLst/>
              <a:rect l="l" t="t" r="r" b="b"/>
              <a:pathLst>
                <a:path w="778" h="374">
                  <a:moveTo>
                    <a:pt x="0" y="374"/>
                  </a:moveTo>
                  <a:lnTo>
                    <a:pt x="7" y="320"/>
                  </a:lnTo>
                  <a:lnTo>
                    <a:pt x="37" y="207"/>
                  </a:lnTo>
                  <a:lnTo>
                    <a:pt x="37" y="133"/>
                  </a:lnTo>
                  <a:lnTo>
                    <a:pt x="20" y="57"/>
                  </a:lnTo>
                  <a:lnTo>
                    <a:pt x="44" y="17"/>
                  </a:lnTo>
                  <a:lnTo>
                    <a:pt x="84" y="0"/>
                  </a:lnTo>
                  <a:lnTo>
                    <a:pt x="124" y="22"/>
                  </a:lnTo>
                  <a:lnTo>
                    <a:pt x="200" y="22"/>
                  </a:lnTo>
                  <a:lnTo>
                    <a:pt x="247" y="43"/>
                  </a:lnTo>
                  <a:lnTo>
                    <a:pt x="287" y="46"/>
                  </a:lnTo>
                  <a:lnTo>
                    <a:pt x="334" y="27"/>
                  </a:lnTo>
                  <a:lnTo>
                    <a:pt x="379" y="43"/>
                  </a:lnTo>
                  <a:lnTo>
                    <a:pt x="424" y="50"/>
                  </a:lnTo>
                  <a:lnTo>
                    <a:pt x="461" y="43"/>
                  </a:lnTo>
                  <a:lnTo>
                    <a:pt x="505" y="33"/>
                  </a:lnTo>
                  <a:lnTo>
                    <a:pt x="532" y="57"/>
                  </a:lnTo>
                  <a:lnTo>
                    <a:pt x="579" y="73"/>
                  </a:lnTo>
                  <a:lnTo>
                    <a:pt x="629" y="73"/>
                  </a:lnTo>
                  <a:lnTo>
                    <a:pt x="662" y="57"/>
                  </a:lnTo>
                  <a:lnTo>
                    <a:pt x="685" y="27"/>
                  </a:lnTo>
                  <a:lnTo>
                    <a:pt x="719" y="6"/>
                  </a:lnTo>
                  <a:lnTo>
                    <a:pt x="761" y="10"/>
                  </a:lnTo>
                  <a:lnTo>
                    <a:pt x="778" y="76"/>
                  </a:lnTo>
                  <a:lnTo>
                    <a:pt x="772" y="140"/>
                  </a:lnTo>
                  <a:lnTo>
                    <a:pt x="558" y="130"/>
                  </a:lnTo>
                  <a:lnTo>
                    <a:pt x="278" y="110"/>
                  </a:lnTo>
                  <a:lnTo>
                    <a:pt x="191" y="130"/>
                  </a:lnTo>
                  <a:lnTo>
                    <a:pt x="64" y="374"/>
                  </a:lnTo>
                  <a:lnTo>
                    <a:pt x="0" y="374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312920" y="3186000"/>
              <a:ext cx="528480" cy="249120"/>
            </a:xfrm>
            <a:custGeom>
              <a:avLst/>
              <a:gdLst/>
              <a:ahLst/>
              <a:rect l="l" t="t" r="r" b="b"/>
              <a:pathLst>
                <a:path w="665" h="314">
                  <a:moveTo>
                    <a:pt x="0" y="49"/>
                  </a:moveTo>
                  <a:lnTo>
                    <a:pt x="277" y="0"/>
                  </a:lnTo>
                  <a:lnTo>
                    <a:pt x="203" y="36"/>
                  </a:lnTo>
                  <a:lnTo>
                    <a:pt x="310" y="26"/>
                  </a:lnTo>
                  <a:lnTo>
                    <a:pt x="240" y="59"/>
                  </a:lnTo>
                  <a:lnTo>
                    <a:pt x="347" y="52"/>
                  </a:lnTo>
                  <a:lnTo>
                    <a:pt x="277" y="86"/>
                  </a:lnTo>
                  <a:lnTo>
                    <a:pt x="390" y="82"/>
                  </a:lnTo>
                  <a:lnTo>
                    <a:pt x="328" y="109"/>
                  </a:lnTo>
                  <a:lnTo>
                    <a:pt x="457" y="99"/>
                  </a:lnTo>
                  <a:lnTo>
                    <a:pt x="401" y="126"/>
                  </a:lnTo>
                  <a:lnTo>
                    <a:pt x="493" y="120"/>
                  </a:lnTo>
                  <a:lnTo>
                    <a:pt x="425" y="156"/>
                  </a:lnTo>
                  <a:lnTo>
                    <a:pt x="548" y="142"/>
                  </a:lnTo>
                  <a:lnTo>
                    <a:pt x="491" y="179"/>
                  </a:lnTo>
                  <a:lnTo>
                    <a:pt x="574" y="169"/>
                  </a:lnTo>
                  <a:lnTo>
                    <a:pt x="517" y="210"/>
                  </a:lnTo>
                  <a:lnTo>
                    <a:pt x="618" y="193"/>
                  </a:lnTo>
                  <a:lnTo>
                    <a:pt x="557" y="233"/>
                  </a:lnTo>
                  <a:lnTo>
                    <a:pt x="665" y="227"/>
                  </a:lnTo>
                  <a:lnTo>
                    <a:pt x="561" y="314"/>
                  </a:lnTo>
                  <a:lnTo>
                    <a:pt x="17" y="73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682640" y="3592440"/>
              <a:ext cx="254160" cy="665280"/>
            </a:xfrm>
            <a:custGeom>
              <a:avLst/>
              <a:gdLst/>
              <a:ahLst/>
              <a:rect l="l" t="t" r="r" b="b"/>
              <a:pathLst>
                <a:path w="320" h="839">
                  <a:moveTo>
                    <a:pt x="42" y="769"/>
                  </a:moveTo>
                  <a:lnTo>
                    <a:pt x="2" y="618"/>
                  </a:lnTo>
                  <a:lnTo>
                    <a:pt x="0" y="441"/>
                  </a:lnTo>
                  <a:lnTo>
                    <a:pt x="23" y="290"/>
                  </a:lnTo>
                  <a:lnTo>
                    <a:pt x="66" y="169"/>
                  </a:lnTo>
                  <a:lnTo>
                    <a:pt x="173" y="0"/>
                  </a:lnTo>
                  <a:lnTo>
                    <a:pt x="149" y="133"/>
                  </a:lnTo>
                  <a:lnTo>
                    <a:pt x="236" y="43"/>
                  </a:lnTo>
                  <a:lnTo>
                    <a:pt x="206" y="137"/>
                  </a:lnTo>
                  <a:lnTo>
                    <a:pt x="264" y="67"/>
                  </a:lnTo>
                  <a:lnTo>
                    <a:pt x="246" y="150"/>
                  </a:lnTo>
                  <a:lnTo>
                    <a:pt x="320" y="77"/>
                  </a:lnTo>
                  <a:lnTo>
                    <a:pt x="243" y="306"/>
                  </a:lnTo>
                  <a:lnTo>
                    <a:pt x="186" y="641"/>
                  </a:lnTo>
                  <a:lnTo>
                    <a:pt x="224" y="818"/>
                  </a:lnTo>
                  <a:lnTo>
                    <a:pt x="179" y="772"/>
                  </a:lnTo>
                  <a:lnTo>
                    <a:pt x="143" y="839"/>
                  </a:lnTo>
                  <a:lnTo>
                    <a:pt x="120" y="778"/>
                  </a:lnTo>
                  <a:lnTo>
                    <a:pt x="99" y="835"/>
                  </a:lnTo>
                  <a:lnTo>
                    <a:pt x="76" y="776"/>
                  </a:lnTo>
                  <a:lnTo>
                    <a:pt x="59" y="825"/>
                  </a:lnTo>
                  <a:lnTo>
                    <a:pt x="42" y="769"/>
                  </a:lnTo>
                  <a:lnTo>
                    <a:pt x="42" y="76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516040" y="3044880"/>
              <a:ext cx="25560" cy="129960"/>
            </a:xfrm>
            <a:custGeom>
              <a:avLst/>
              <a:gdLst/>
              <a:ahLst/>
              <a:rect l="l" t="t" r="r" b="b"/>
              <a:pathLst>
                <a:path w="31" h="164">
                  <a:moveTo>
                    <a:pt x="31" y="11"/>
                  </a:moveTo>
                  <a:lnTo>
                    <a:pt x="11" y="0"/>
                  </a:lnTo>
                  <a:lnTo>
                    <a:pt x="0" y="164"/>
                  </a:lnTo>
                  <a:lnTo>
                    <a:pt x="25" y="158"/>
                  </a:lnTo>
                  <a:lnTo>
                    <a:pt x="31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516040" y="3192480"/>
              <a:ext cx="51120" cy="7776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0" y="89"/>
                  </a:moveTo>
                  <a:lnTo>
                    <a:pt x="4" y="4"/>
                  </a:lnTo>
                  <a:lnTo>
                    <a:pt x="39" y="4"/>
                  </a:lnTo>
                  <a:lnTo>
                    <a:pt x="63" y="0"/>
                  </a:lnTo>
                  <a:lnTo>
                    <a:pt x="55" y="98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259000" y="3925800"/>
              <a:ext cx="95400" cy="214200"/>
            </a:xfrm>
            <a:custGeom>
              <a:avLst/>
              <a:gdLst/>
              <a:ahLst/>
              <a:rect l="l" t="t" r="r" b="b"/>
              <a:pathLst>
                <a:path w="120" h="270">
                  <a:moveTo>
                    <a:pt x="25" y="237"/>
                  </a:moveTo>
                  <a:lnTo>
                    <a:pt x="0" y="196"/>
                  </a:lnTo>
                  <a:lnTo>
                    <a:pt x="5" y="150"/>
                  </a:lnTo>
                  <a:lnTo>
                    <a:pt x="41" y="79"/>
                  </a:lnTo>
                  <a:lnTo>
                    <a:pt x="79" y="43"/>
                  </a:lnTo>
                  <a:lnTo>
                    <a:pt x="120" y="0"/>
                  </a:lnTo>
                  <a:lnTo>
                    <a:pt x="108" y="63"/>
                  </a:lnTo>
                  <a:lnTo>
                    <a:pt x="120" y="104"/>
                  </a:lnTo>
                  <a:lnTo>
                    <a:pt x="120" y="150"/>
                  </a:lnTo>
                  <a:lnTo>
                    <a:pt x="84" y="191"/>
                  </a:lnTo>
                  <a:lnTo>
                    <a:pt x="46" y="270"/>
                  </a:lnTo>
                  <a:lnTo>
                    <a:pt x="25" y="237"/>
                  </a:lnTo>
                  <a:lnTo>
                    <a:pt x="25" y="23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25600" y="4189320"/>
              <a:ext cx="393840" cy="401760"/>
            </a:xfrm>
            <a:custGeom>
              <a:avLst/>
              <a:gdLst/>
              <a:ahLst/>
              <a:rect l="l" t="t" r="r" b="b"/>
              <a:pathLst>
                <a:path w="497" h="506">
                  <a:moveTo>
                    <a:pt x="0" y="0"/>
                  </a:moveTo>
                  <a:lnTo>
                    <a:pt x="16" y="99"/>
                  </a:lnTo>
                  <a:lnTo>
                    <a:pt x="61" y="228"/>
                  </a:lnTo>
                  <a:lnTo>
                    <a:pt x="124" y="332"/>
                  </a:lnTo>
                  <a:lnTo>
                    <a:pt x="269" y="494"/>
                  </a:lnTo>
                  <a:lnTo>
                    <a:pt x="352" y="506"/>
                  </a:lnTo>
                  <a:lnTo>
                    <a:pt x="435" y="482"/>
                  </a:lnTo>
                  <a:lnTo>
                    <a:pt x="497" y="415"/>
                  </a:lnTo>
                  <a:lnTo>
                    <a:pt x="463" y="381"/>
                  </a:lnTo>
                  <a:lnTo>
                    <a:pt x="388" y="369"/>
                  </a:lnTo>
                  <a:lnTo>
                    <a:pt x="281" y="285"/>
                  </a:lnTo>
                  <a:lnTo>
                    <a:pt x="145" y="79"/>
                  </a:lnTo>
                  <a:lnTo>
                    <a:pt x="78" y="20"/>
                  </a:lnTo>
                  <a:lnTo>
                    <a:pt x="189" y="241"/>
                  </a:lnTo>
                  <a:lnTo>
                    <a:pt x="285" y="369"/>
                  </a:lnTo>
                  <a:lnTo>
                    <a:pt x="178" y="274"/>
                  </a:lnTo>
                  <a:lnTo>
                    <a:pt x="94" y="166"/>
                  </a:lnTo>
                  <a:lnTo>
                    <a:pt x="44" y="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243160" y="4336920"/>
              <a:ext cx="181080" cy="227160"/>
            </a:xfrm>
            <a:custGeom>
              <a:avLst/>
              <a:gdLst/>
              <a:ahLst/>
              <a:rect l="l" t="t" r="r" b="b"/>
              <a:pathLst>
                <a:path w="228" h="287">
                  <a:moveTo>
                    <a:pt x="0" y="0"/>
                  </a:moveTo>
                  <a:lnTo>
                    <a:pt x="25" y="91"/>
                  </a:lnTo>
                  <a:lnTo>
                    <a:pt x="71" y="162"/>
                  </a:lnTo>
                  <a:lnTo>
                    <a:pt x="132" y="225"/>
                  </a:lnTo>
                  <a:lnTo>
                    <a:pt x="228" y="287"/>
                  </a:lnTo>
                  <a:lnTo>
                    <a:pt x="140" y="154"/>
                  </a:lnTo>
                  <a:lnTo>
                    <a:pt x="71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417760" y="3965400"/>
              <a:ext cx="49320" cy="46080"/>
            </a:xfrm>
            <a:custGeom>
              <a:avLst/>
              <a:gdLst/>
              <a:ahLst/>
              <a:rect l="l" t="t" r="r" b="b"/>
              <a:pathLst>
                <a:path w="63" h="58">
                  <a:moveTo>
                    <a:pt x="5" y="49"/>
                  </a:moveTo>
                  <a:lnTo>
                    <a:pt x="0" y="20"/>
                  </a:lnTo>
                  <a:lnTo>
                    <a:pt x="41" y="0"/>
                  </a:lnTo>
                  <a:lnTo>
                    <a:pt x="63" y="24"/>
                  </a:lnTo>
                  <a:lnTo>
                    <a:pt x="50" y="58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421000" y="3787560"/>
              <a:ext cx="141120" cy="306360"/>
            </a:xfrm>
            <a:custGeom>
              <a:avLst/>
              <a:gdLst/>
              <a:ahLst/>
              <a:rect l="l" t="t" r="r" b="b"/>
              <a:pathLst>
                <a:path w="178" h="386">
                  <a:moveTo>
                    <a:pt x="69" y="90"/>
                  </a:moveTo>
                  <a:lnTo>
                    <a:pt x="102" y="137"/>
                  </a:lnTo>
                  <a:lnTo>
                    <a:pt x="115" y="186"/>
                  </a:lnTo>
                  <a:lnTo>
                    <a:pt x="115" y="240"/>
                  </a:lnTo>
                  <a:lnTo>
                    <a:pt x="99" y="282"/>
                  </a:lnTo>
                  <a:lnTo>
                    <a:pt x="61" y="323"/>
                  </a:lnTo>
                  <a:lnTo>
                    <a:pt x="0" y="353"/>
                  </a:lnTo>
                  <a:lnTo>
                    <a:pt x="25" y="386"/>
                  </a:lnTo>
                  <a:lnTo>
                    <a:pt x="94" y="369"/>
                  </a:lnTo>
                  <a:lnTo>
                    <a:pt x="153" y="315"/>
                  </a:lnTo>
                  <a:lnTo>
                    <a:pt x="173" y="248"/>
                  </a:lnTo>
                  <a:lnTo>
                    <a:pt x="178" y="186"/>
                  </a:lnTo>
                  <a:lnTo>
                    <a:pt x="165" y="124"/>
                  </a:lnTo>
                  <a:lnTo>
                    <a:pt x="137" y="54"/>
                  </a:lnTo>
                  <a:lnTo>
                    <a:pt x="102" y="0"/>
                  </a:lnTo>
                  <a:lnTo>
                    <a:pt x="102" y="82"/>
                  </a:lnTo>
                  <a:lnTo>
                    <a:pt x="69" y="90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519280" y="3990960"/>
              <a:ext cx="471600" cy="349200"/>
            </a:xfrm>
            <a:custGeom>
              <a:avLst/>
              <a:gdLst/>
              <a:ahLst/>
              <a:rect l="l" t="t" r="r" b="b"/>
              <a:pathLst>
                <a:path w="594" h="440">
                  <a:moveTo>
                    <a:pt x="101" y="3"/>
                  </a:moveTo>
                  <a:lnTo>
                    <a:pt x="80" y="58"/>
                  </a:lnTo>
                  <a:lnTo>
                    <a:pt x="42" y="120"/>
                  </a:lnTo>
                  <a:lnTo>
                    <a:pt x="0" y="161"/>
                  </a:lnTo>
                  <a:lnTo>
                    <a:pt x="6" y="203"/>
                  </a:lnTo>
                  <a:lnTo>
                    <a:pt x="50" y="249"/>
                  </a:lnTo>
                  <a:lnTo>
                    <a:pt x="175" y="356"/>
                  </a:lnTo>
                  <a:lnTo>
                    <a:pt x="287" y="419"/>
                  </a:lnTo>
                  <a:lnTo>
                    <a:pt x="374" y="440"/>
                  </a:lnTo>
                  <a:lnTo>
                    <a:pt x="449" y="435"/>
                  </a:lnTo>
                  <a:lnTo>
                    <a:pt x="531" y="407"/>
                  </a:lnTo>
                  <a:lnTo>
                    <a:pt x="569" y="373"/>
                  </a:lnTo>
                  <a:lnTo>
                    <a:pt x="594" y="320"/>
                  </a:lnTo>
                  <a:lnTo>
                    <a:pt x="594" y="277"/>
                  </a:lnTo>
                  <a:lnTo>
                    <a:pt x="548" y="249"/>
                  </a:lnTo>
                  <a:lnTo>
                    <a:pt x="432" y="220"/>
                  </a:lnTo>
                  <a:lnTo>
                    <a:pt x="324" y="158"/>
                  </a:lnTo>
                  <a:lnTo>
                    <a:pt x="200" y="46"/>
                  </a:lnTo>
                  <a:lnTo>
                    <a:pt x="150" y="0"/>
                  </a:lnTo>
                  <a:lnTo>
                    <a:pt x="101" y="3"/>
                  </a:lnTo>
                  <a:lnTo>
                    <a:pt x="101" y="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476440" y="3600360"/>
              <a:ext cx="471600" cy="150840"/>
            </a:xfrm>
            <a:custGeom>
              <a:avLst/>
              <a:gdLst/>
              <a:ahLst/>
              <a:rect l="l" t="t" r="r" b="b"/>
              <a:pathLst>
                <a:path w="594" h="191">
                  <a:moveTo>
                    <a:pt x="0" y="174"/>
                  </a:moveTo>
                  <a:lnTo>
                    <a:pt x="84" y="116"/>
                  </a:lnTo>
                  <a:lnTo>
                    <a:pt x="150" y="67"/>
                  </a:lnTo>
                  <a:lnTo>
                    <a:pt x="229" y="42"/>
                  </a:lnTo>
                  <a:lnTo>
                    <a:pt x="358" y="8"/>
                  </a:lnTo>
                  <a:lnTo>
                    <a:pt x="511" y="0"/>
                  </a:lnTo>
                  <a:lnTo>
                    <a:pt x="594" y="4"/>
                  </a:lnTo>
                  <a:lnTo>
                    <a:pt x="333" y="54"/>
                  </a:lnTo>
                  <a:lnTo>
                    <a:pt x="208" y="112"/>
                  </a:lnTo>
                  <a:lnTo>
                    <a:pt x="134" y="166"/>
                  </a:lnTo>
                  <a:lnTo>
                    <a:pt x="88" y="191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620800" y="3711600"/>
              <a:ext cx="468360" cy="237960"/>
            </a:xfrm>
            <a:custGeom>
              <a:avLst/>
              <a:gdLst/>
              <a:ahLst/>
              <a:rect l="l" t="t" r="r" b="b"/>
              <a:pathLst>
                <a:path w="590" h="299">
                  <a:moveTo>
                    <a:pt x="25" y="63"/>
                  </a:moveTo>
                  <a:lnTo>
                    <a:pt x="178" y="20"/>
                  </a:lnTo>
                  <a:lnTo>
                    <a:pt x="323" y="8"/>
                  </a:lnTo>
                  <a:lnTo>
                    <a:pt x="452" y="0"/>
                  </a:lnTo>
                  <a:lnTo>
                    <a:pt x="514" y="0"/>
                  </a:lnTo>
                  <a:lnTo>
                    <a:pt x="563" y="20"/>
                  </a:lnTo>
                  <a:lnTo>
                    <a:pt x="590" y="91"/>
                  </a:lnTo>
                  <a:lnTo>
                    <a:pt x="590" y="129"/>
                  </a:lnTo>
                  <a:lnTo>
                    <a:pt x="590" y="200"/>
                  </a:lnTo>
                  <a:lnTo>
                    <a:pt x="489" y="166"/>
                  </a:lnTo>
                  <a:lnTo>
                    <a:pt x="374" y="183"/>
                  </a:lnTo>
                  <a:lnTo>
                    <a:pt x="295" y="212"/>
                  </a:lnTo>
                  <a:lnTo>
                    <a:pt x="224" y="257"/>
                  </a:lnTo>
                  <a:lnTo>
                    <a:pt x="166" y="299"/>
                  </a:lnTo>
                  <a:lnTo>
                    <a:pt x="99" y="295"/>
                  </a:lnTo>
                  <a:lnTo>
                    <a:pt x="38" y="257"/>
                  </a:lnTo>
                  <a:lnTo>
                    <a:pt x="5" y="186"/>
                  </a:lnTo>
                  <a:lnTo>
                    <a:pt x="0" y="142"/>
                  </a:lnTo>
                  <a:lnTo>
                    <a:pt x="137" y="158"/>
                  </a:lnTo>
                  <a:lnTo>
                    <a:pt x="254" y="162"/>
                  </a:lnTo>
                  <a:lnTo>
                    <a:pt x="365" y="137"/>
                  </a:lnTo>
                  <a:lnTo>
                    <a:pt x="427" y="91"/>
                  </a:lnTo>
                  <a:lnTo>
                    <a:pt x="245" y="63"/>
                  </a:lnTo>
                  <a:lnTo>
                    <a:pt x="137" y="71"/>
                  </a:lnTo>
                  <a:lnTo>
                    <a:pt x="25" y="63"/>
                  </a:lnTo>
                  <a:lnTo>
                    <a:pt x="25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363760" y="4287600"/>
              <a:ext cx="306360" cy="281160"/>
            </a:xfrm>
            <a:custGeom>
              <a:avLst/>
              <a:gdLst/>
              <a:ahLst/>
              <a:rect l="l" t="t" r="r" b="b"/>
              <a:pathLst>
                <a:path w="386" h="353">
                  <a:moveTo>
                    <a:pt x="0" y="0"/>
                  </a:moveTo>
                  <a:lnTo>
                    <a:pt x="50" y="133"/>
                  </a:lnTo>
                  <a:lnTo>
                    <a:pt x="120" y="229"/>
                  </a:lnTo>
                  <a:lnTo>
                    <a:pt x="194" y="299"/>
                  </a:lnTo>
                  <a:lnTo>
                    <a:pt x="253" y="341"/>
                  </a:lnTo>
                  <a:lnTo>
                    <a:pt x="311" y="353"/>
                  </a:lnTo>
                  <a:lnTo>
                    <a:pt x="369" y="341"/>
                  </a:lnTo>
                  <a:lnTo>
                    <a:pt x="386" y="303"/>
                  </a:lnTo>
                  <a:lnTo>
                    <a:pt x="344" y="278"/>
                  </a:lnTo>
                  <a:lnTo>
                    <a:pt x="216" y="183"/>
                  </a:lnTo>
                  <a:lnTo>
                    <a:pt x="269" y="278"/>
                  </a:lnTo>
                  <a:lnTo>
                    <a:pt x="178" y="229"/>
                  </a:lnTo>
                  <a:lnTo>
                    <a:pt x="104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274840" y="3978360"/>
              <a:ext cx="60480" cy="10764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58" y="0"/>
                  </a:moveTo>
                  <a:lnTo>
                    <a:pt x="17" y="33"/>
                  </a:lnTo>
                  <a:lnTo>
                    <a:pt x="0" y="88"/>
                  </a:lnTo>
                  <a:lnTo>
                    <a:pt x="12" y="137"/>
                  </a:lnTo>
                  <a:lnTo>
                    <a:pt x="50" y="96"/>
                  </a:lnTo>
                  <a:lnTo>
                    <a:pt x="74" y="7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438280" y="3873600"/>
              <a:ext cx="109800" cy="212400"/>
            </a:xfrm>
            <a:custGeom>
              <a:avLst/>
              <a:gdLst/>
              <a:ahLst/>
              <a:rect l="l" t="t" r="r" b="b"/>
              <a:pathLst>
                <a:path w="138" h="269">
                  <a:moveTo>
                    <a:pt x="80" y="0"/>
                  </a:moveTo>
                  <a:lnTo>
                    <a:pt x="102" y="70"/>
                  </a:lnTo>
                  <a:lnTo>
                    <a:pt x="99" y="141"/>
                  </a:lnTo>
                  <a:lnTo>
                    <a:pt x="66" y="198"/>
                  </a:lnTo>
                  <a:lnTo>
                    <a:pt x="0" y="245"/>
                  </a:lnTo>
                  <a:lnTo>
                    <a:pt x="10" y="269"/>
                  </a:lnTo>
                  <a:lnTo>
                    <a:pt x="78" y="240"/>
                  </a:lnTo>
                  <a:lnTo>
                    <a:pt x="120" y="182"/>
                  </a:lnTo>
                  <a:lnTo>
                    <a:pt x="138" y="119"/>
                  </a:lnTo>
                  <a:lnTo>
                    <a:pt x="133" y="45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546280" y="4032360"/>
              <a:ext cx="325440" cy="255240"/>
            </a:xfrm>
            <a:custGeom>
              <a:avLst/>
              <a:gdLst/>
              <a:ahLst/>
              <a:rect l="l" t="t" r="r" b="b"/>
              <a:pathLst>
                <a:path w="410" h="323">
                  <a:moveTo>
                    <a:pt x="111" y="0"/>
                  </a:moveTo>
                  <a:lnTo>
                    <a:pt x="79" y="8"/>
                  </a:lnTo>
                  <a:lnTo>
                    <a:pt x="49" y="49"/>
                  </a:lnTo>
                  <a:lnTo>
                    <a:pt x="21" y="100"/>
                  </a:lnTo>
                  <a:lnTo>
                    <a:pt x="0" y="124"/>
                  </a:lnTo>
                  <a:lnTo>
                    <a:pt x="16" y="161"/>
                  </a:lnTo>
                  <a:lnTo>
                    <a:pt x="91" y="224"/>
                  </a:lnTo>
                  <a:lnTo>
                    <a:pt x="199" y="294"/>
                  </a:lnTo>
                  <a:lnTo>
                    <a:pt x="290" y="323"/>
                  </a:lnTo>
                  <a:lnTo>
                    <a:pt x="365" y="323"/>
                  </a:lnTo>
                  <a:lnTo>
                    <a:pt x="406" y="286"/>
                  </a:lnTo>
                  <a:lnTo>
                    <a:pt x="410" y="237"/>
                  </a:lnTo>
                  <a:lnTo>
                    <a:pt x="382" y="203"/>
                  </a:lnTo>
                  <a:lnTo>
                    <a:pt x="306" y="158"/>
                  </a:lnTo>
                  <a:lnTo>
                    <a:pt x="204" y="82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643120" y="3722760"/>
              <a:ext cx="425520" cy="188640"/>
            </a:xfrm>
            <a:custGeom>
              <a:avLst/>
              <a:gdLst/>
              <a:ahLst/>
              <a:rect l="l" t="t" r="r" b="b"/>
              <a:pathLst>
                <a:path w="534" h="237">
                  <a:moveTo>
                    <a:pt x="0" y="153"/>
                  </a:moveTo>
                  <a:lnTo>
                    <a:pt x="17" y="195"/>
                  </a:lnTo>
                  <a:lnTo>
                    <a:pt x="56" y="233"/>
                  </a:lnTo>
                  <a:lnTo>
                    <a:pt x="105" y="237"/>
                  </a:lnTo>
                  <a:lnTo>
                    <a:pt x="147" y="222"/>
                  </a:lnTo>
                  <a:lnTo>
                    <a:pt x="196" y="193"/>
                  </a:lnTo>
                  <a:lnTo>
                    <a:pt x="258" y="171"/>
                  </a:lnTo>
                  <a:lnTo>
                    <a:pt x="320" y="150"/>
                  </a:lnTo>
                  <a:lnTo>
                    <a:pt x="398" y="129"/>
                  </a:lnTo>
                  <a:lnTo>
                    <a:pt x="455" y="125"/>
                  </a:lnTo>
                  <a:lnTo>
                    <a:pt x="487" y="138"/>
                  </a:lnTo>
                  <a:lnTo>
                    <a:pt x="519" y="138"/>
                  </a:lnTo>
                  <a:lnTo>
                    <a:pt x="534" y="116"/>
                  </a:lnTo>
                  <a:lnTo>
                    <a:pt x="534" y="72"/>
                  </a:lnTo>
                  <a:lnTo>
                    <a:pt x="511" y="40"/>
                  </a:lnTo>
                  <a:lnTo>
                    <a:pt x="455" y="8"/>
                  </a:lnTo>
                  <a:lnTo>
                    <a:pt x="394" y="0"/>
                  </a:lnTo>
                  <a:lnTo>
                    <a:pt x="192" y="12"/>
                  </a:lnTo>
                  <a:lnTo>
                    <a:pt x="100" y="40"/>
                  </a:lnTo>
                  <a:lnTo>
                    <a:pt x="204" y="33"/>
                  </a:lnTo>
                  <a:lnTo>
                    <a:pt x="315" y="42"/>
                  </a:lnTo>
                  <a:lnTo>
                    <a:pt x="428" y="60"/>
                  </a:lnTo>
                  <a:lnTo>
                    <a:pt x="401" y="94"/>
                  </a:lnTo>
                  <a:lnTo>
                    <a:pt x="345" y="125"/>
                  </a:lnTo>
                  <a:lnTo>
                    <a:pt x="260" y="150"/>
                  </a:lnTo>
                  <a:lnTo>
                    <a:pt x="185" y="163"/>
                  </a:lnTo>
                  <a:lnTo>
                    <a:pt x="92" y="168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06680" y="3619440"/>
              <a:ext cx="270000" cy="112680"/>
            </a:xfrm>
            <a:custGeom>
              <a:avLst/>
              <a:gdLst/>
              <a:ahLst/>
              <a:rect l="l" t="t" r="r" b="b"/>
              <a:pathLst>
                <a:path w="340" h="143">
                  <a:moveTo>
                    <a:pt x="0" y="143"/>
                  </a:moveTo>
                  <a:lnTo>
                    <a:pt x="78" y="79"/>
                  </a:lnTo>
                  <a:lnTo>
                    <a:pt x="141" y="50"/>
                  </a:lnTo>
                  <a:lnTo>
                    <a:pt x="242" y="18"/>
                  </a:lnTo>
                  <a:lnTo>
                    <a:pt x="340" y="0"/>
                  </a:lnTo>
                  <a:lnTo>
                    <a:pt x="181" y="62"/>
                  </a:lnTo>
                  <a:lnTo>
                    <a:pt x="99" y="99"/>
                  </a:lnTo>
                  <a:lnTo>
                    <a:pt x="57" y="139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427120" y="3981240"/>
              <a:ext cx="22320" cy="1908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" y="24"/>
                  </a:moveTo>
                  <a:lnTo>
                    <a:pt x="0" y="3"/>
                  </a:lnTo>
                  <a:lnTo>
                    <a:pt x="25" y="0"/>
                  </a:lnTo>
                  <a:lnTo>
                    <a:pt x="27" y="22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281320" y="4003560"/>
              <a:ext cx="33120" cy="66600"/>
            </a:xfrm>
            <a:custGeom>
              <a:avLst/>
              <a:gdLst/>
              <a:ahLst/>
              <a:rect l="l" t="t" r="r" b="b"/>
              <a:pathLst>
                <a:path w="42" h="83">
                  <a:moveTo>
                    <a:pt x="35" y="0"/>
                  </a:moveTo>
                  <a:lnTo>
                    <a:pt x="15" y="15"/>
                  </a:lnTo>
                  <a:lnTo>
                    <a:pt x="0" y="56"/>
                  </a:lnTo>
                  <a:lnTo>
                    <a:pt x="5" y="83"/>
                  </a:lnTo>
                  <a:lnTo>
                    <a:pt x="27" y="49"/>
                  </a:lnTo>
                  <a:lnTo>
                    <a:pt x="42" y="3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441520" y="4427640"/>
              <a:ext cx="211320" cy="126720"/>
            </a:xfrm>
            <a:custGeom>
              <a:avLst/>
              <a:gdLst/>
              <a:ahLst/>
              <a:rect l="l" t="t" r="r" b="b"/>
              <a:pathLst>
                <a:path w="266" h="160">
                  <a:moveTo>
                    <a:pt x="0" y="0"/>
                  </a:moveTo>
                  <a:lnTo>
                    <a:pt x="31" y="45"/>
                  </a:lnTo>
                  <a:lnTo>
                    <a:pt x="74" y="89"/>
                  </a:lnTo>
                  <a:lnTo>
                    <a:pt x="136" y="139"/>
                  </a:lnTo>
                  <a:lnTo>
                    <a:pt x="180" y="158"/>
                  </a:lnTo>
                  <a:lnTo>
                    <a:pt x="222" y="160"/>
                  </a:lnTo>
                  <a:lnTo>
                    <a:pt x="259" y="151"/>
                  </a:lnTo>
                  <a:lnTo>
                    <a:pt x="266" y="129"/>
                  </a:lnTo>
                  <a:lnTo>
                    <a:pt x="159" y="52"/>
                  </a:lnTo>
                  <a:lnTo>
                    <a:pt x="208" y="119"/>
                  </a:lnTo>
                  <a:lnTo>
                    <a:pt x="146" y="100"/>
                  </a:lnTo>
                  <a:lnTo>
                    <a:pt x="96" y="72"/>
                  </a:lnTo>
                  <a:lnTo>
                    <a:pt x="4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557440" y="4049640"/>
              <a:ext cx="244440" cy="184320"/>
            </a:xfrm>
            <a:custGeom>
              <a:avLst/>
              <a:gdLst/>
              <a:ahLst/>
              <a:rect l="l" t="t" r="r" b="b"/>
              <a:pathLst>
                <a:path w="307" h="232">
                  <a:moveTo>
                    <a:pt x="15" y="134"/>
                  </a:moveTo>
                  <a:lnTo>
                    <a:pt x="0" y="106"/>
                  </a:lnTo>
                  <a:lnTo>
                    <a:pt x="17" y="85"/>
                  </a:lnTo>
                  <a:lnTo>
                    <a:pt x="45" y="64"/>
                  </a:lnTo>
                  <a:lnTo>
                    <a:pt x="52" y="40"/>
                  </a:lnTo>
                  <a:lnTo>
                    <a:pt x="71" y="5"/>
                  </a:lnTo>
                  <a:lnTo>
                    <a:pt x="93" y="0"/>
                  </a:lnTo>
                  <a:lnTo>
                    <a:pt x="118" y="17"/>
                  </a:lnTo>
                  <a:lnTo>
                    <a:pt x="141" y="45"/>
                  </a:lnTo>
                  <a:lnTo>
                    <a:pt x="162" y="70"/>
                  </a:lnTo>
                  <a:lnTo>
                    <a:pt x="194" y="94"/>
                  </a:lnTo>
                  <a:lnTo>
                    <a:pt x="243" y="127"/>
                  </a:lnTo>
                  <a:lnTo>
                    <a:pt x="298" y="161"/>
                  </a:lnTo>
                  <a:lnTo>
                    <a:pt x="307" y="195"/>
                  </a:lnTo>
                  <a:lnTo>
                    <a:pt x="294" y="210"/>
                  </a:lnTo>
                  <a:lnTo>
                    <a:pt x="258" y="208"/>
                  </a:lnTo>
                  <a:lnTo>
                    <a:pt x="197" y="200"/>
                  </a:lnTo>
                  <a:lnTo>
                    <a:pt x="197" y="227"/>
                  </a:lnTo>
                  <a:lnTo>
                    <a:pt x="179" y="232"/>
                  </a:lnTo>
                  <a:lnTo>
                    <a:pt x="147" y="217"/>
                  </a:lnTo>
                  <a:lnTo>
                    <a:pt x="124" y="195"/>
                  </a:lnTo>
                  <a:lnTo>
                    <a:pt x="86" y="172"/>
                  </a:lnTo>
                  <a:lnTo>
                    <a:pt x="15" y="134"/>
                  </a:lnTo>
                  <a:lnTo>
                    <a:pt x="15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62200" y="3860640"/>
              <a:ext cx="144360" cy="34920"/>
            </a:xfrm>
            <a:custGeom>
              <a:avLst/>
              <a:gdLst/>
              <a:ahLst/>
              <a:rect l="l" t="t" r="r" b="b"/>
              <a:pathLst>
                <a:path w="180" h="45">
                  <a:moveTo>
                    <a:pt x="0" y="0"/>
                  </a:moveTo>
                  <a:lnTo>
                    <a:pt x="61" y="9"/>
                  </a:lnTo>
                  <a:lnTo>
                    <a:pt x="106" y="9"/>
                  </a:lnTo>
                  <a:lnTo>
                    <a:pt x="180" y="3"/>
                  </a:lnTo>
                  <a:lnTo>
                    <a:pt x="113" y="37"/>
                  </a:lnTo>
                  <a:lnTo>
                    <a:pt x="72" y="45"/>
                  </a:lnTo>
                  <a:lnTo>
                    <a:pt x="3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827440" y="3732120"/>
              <a:ext cx="217440" cy="77760"/>
            </a:xfrm>
            <a:custGeom>
              <a:avLst/>
              <a:gdLst/>
              <a:ahLst/>
              <a:rect l="l" t="t" r="r" b="b"/>
              <a:pathLst>
                <a:path w="275" h="97">
                  <a:moveTo>
                    <a:pt x="0" y="8"/>
                  </a:moveTo>
                  <a:lnTo>
                    <a:pt x="124" y="21"/>
                  </a:lnTo>
                  <a:lnTo>
                    <a:pt x="196" y="28"/>
                  </a:lnTo>
                  <a:lnTo>
                    <a:pt x="215" y="42"/>
                  </a:lnTo>
                  <a:lnTo>
                    <a:pt x="166" y="94"/>
                  </a:lnTo>
                  <a:lnTo>
                    <a:pt x="230" y="97"/>
                  </a:lnTo>
                  <a:lnTo>
                    <a:pt x="267" y="87"/>
                  </a:lnTo>
                  <a:lnTo>
                    <a:pt x="275" y="55"/>
                  </a:lnTo>
                  <a:lnTo>
                    <a:pt x="260" y="25"/>
                  </a:lnTo>
                  <a:lnTo>
                    <a:pt x="19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49440" y="3911400"/>
              <a:ext cx="90720" cy="162000"/>
            </a:xfrm>
            <a:custGeom>
              <a:avLst/>
              <a:gdLst/>
              <a:ahLst/>
              <a:rect l="l" t="t" r="r" b="b"/>
              <a:pathLst>
                <a:path w="113" h="204">
                  <a:moveTo>
                    <a:pt x="0" y="195"/>
                  </a:moveTo>
                  <a:lnTo>
                    <a:pt x="44" y="165"/>
                  </a:lnTo>
                  <a:lnTo>
                    <a:pt x="68" y="136"/>
                  </a:lnTo>
                  <a:lnTo>
                    <a:pt x="89" y="94"/>
                  </a:lnTo>
                  <a:lnTo>
                    <a:pt x="96" y="52"/>
                  </a:lnTo>
                  <a:lnTo>
                    <a:pt x="88" y="0"/>
                  </a:lnTo>
                  <a:lnTo>
                    <a:pt x="105" y="30"/>
                  </a:lnTo>
                  <a:lnTo>
                    <a:pt x="113" y="61"/>
                  </a:lnTo>
                  <a:lnTo>
                    <a:pt x="108" y="97"/>
                  </a:lnTo>
                  <a:lnTo>
                    <a:pt x="96" y="128"/>
                  </a:lnTo>
                  <a:lnTo>
                    <a:pt x="77" y="164"/>
                  </a:lnTo>
                  <a:lnTo>
                    <a:pt x="44" y="190"/>
                  </a:lnTo>
                  <a:lnTo>
                    <a:pt x="8" y="204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330280" y="3478320"/>
              <a:ext cx="963720" cy="1319040"/>
            </a:xfrm>
            <a:custGeom>
              <a:avLst/>
              <a:gdLst/>
              <a:ahLst/>
              <a:rect l="l" t="t" r="r" b="b"/>
              <a:pathLst>
                <a:path w="1214" h="1662">
                  <a:moveTo>
                    <a:pt x="726" y="28"/>
                  </a:moveTo>
                  <a:lnTo>
                    <a:pt x="854" y="89"/>
                  </a:lnTo>
                  <a:lnTo>
                    <a:pt x="929" y="160"/>
                  </a:lnTo>
                  <a:lnTo>
                    <a:pt x="996" y="179"/>
                  </a:lnTo>
                  <a:lnTo>
                    <a:pt x="1019" y="236"/>
                  </a:lnTo>
                  <a:lnTo>
                    <a:pt x="1071" y="257"/>
                  </a:lnTo>
                  <a:lnTo>
                    <a:pt x="1049" y="311"/>
                  </a:lnTo>
                  <a:lnTo>
                    <a:pt x="1102" y="346"/>
                  </a:lnTo>
                  <a:lnTo>
                    <a:pt x="1094" y="408"/>
                  </a:lnTo>
                  <a:lnTo>
                    <a:pt x="1125" y="476"/>
                  </a:lnTo>
                  <a:lnTo>
                    <a:pt x="1099" y="546"/>
                  </a:lnTo>
                  <a:lnTo>
                    <a:pt x="1120" y="585"/>
                  </a:lnTo>
                  <a:lnTo>
                    <a:pt x="1089" y="630"/>
                  </a:lnTo>
                  <a:lnTo>
                    <a:pt x="1125" y="662"/>
                  </a:lnTo>
                  <a:lnTo>
                    <a:pt x="1080" y="719"/>
                  </a:lnTo>
                  <a:lnTo>
                    <a:pt x="1099" y="803"/>
                  </a:lnTo>
                  <a:lnTo>
                    <a:pt x="1076" y="865"/>
                  </a:lnTo>
                  <a:lnTo>
                    <a:pt x="1076" y="945"/>
                  </a:lnTo>
                  <a:lnTo>
                    <a:pt x="1031" y="1011"/>
                  </a:lnTo>
                  <a:lnTo>
                    <a:pt x="1031" y="1070"/>
                  </a:lnTo>
                  <a:lnTo>
                    <a:pt x="992" y="1105"/>
                  </a:lnTo>
                  <a:lnTo>
                    <a:pt x="974" y="1207"/>
                  </a:lnTo>
                  <a:lnTo>
                    <a:pt x="709" y="1473"/>
                  </a:lnTo>
                  <a:lnTo>
                    <a:pt x="438" y="1565"/>
                  </a:lnTo>
                  <a:lnTo>
                    <a:pt x="132" y="1539"/>
                  </a:lnTo>
                  <a:lnTo>
                    <a:pt x="0" y="1482"/>
                  </a:lnTo>
                  <a:lnTo>
                    <a:pt x="44" y="1570"/>
                  </a:lnTo>
                  <a:lnTo>
                    <a:pt x="141" y="1623"/>
                  </a:lnTo>
                  <a:lnTo>
                    <a:pt x="266" y="1662"/>
                  </a:lnTo>
                  <a:lnTo>
                    <a:pt x="417" y="1662"/>
                  </a:lnTo>
                  <a:lnTo>
                    <a:pt x="549" y="1623"/>
                  </a:lnTo>
                  <a:lnTo>
                    <a:pt x="691" y="1570"/>
                  </a:lnTo>
                  <a:lnTo>
                    <a:pt x="841" y="1459"/>
                  </a:lnTo>
                  <a:lnTo>
                    <a:pt x="943" y="1353"/>
                  </a:lnTo>
                  <a:lnTo>
                    <a:pt x="1063" y="1171"/>
                  </a:lnTo>
                  <a:lnTo>
                    <a:pt x="1160" y="959"/>
                  </a:lnTo>
                  <a:lnTo>
                    <a:pt x="1196" y="781"/>
                  </a:lnTo>
                  <a:lnTo>
                    <a:pt x="1214" y="528"/>
                  </a:lnTo>
                  <a:lnTo>
                    <a:pt x="1183" y="369"/>
                  </a:lnTo>
                  <a:lnTo>
                    <a:pt x="1116" y="219"/>
                  </a:lnTo>
                  <a:lnTo>
                    <a:pt x="988" y="63"/>
                  </a:lnTo>
                  <a:lnTo>
                    <a:pt x="912" y="14"/>
                  </a:lnTo>
                  <a:lnTo>
                    <a:pt x="792" y="0"/>
                  </a:lnTo>
                  <a:lnTo>
                    <a:pt x="726" y="28"/>
                  </a:lnTo>
                  <a:lnTo>
                    <a:pt x="726" y="28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866960" y="4133880"/>
              <a:ext cx="253800" cy="142920"/>
            </a:xfrm>
            <a:custGeom>
              <a:avLst/>
              <a:gdLst/>
              <a:ahLst/>
              <a:rect l="l" t="t" r="r" b="b"/>
              <a:pathLst>
                <a:path w="318" h="182">
                  <a:moveTo>
                    <a:pt x="31" y="0"/>
                  </a:moveTo>
                  <a:lnTo>
                    <a:pt x="0" y="31"/>
                  </a:lnTo>
                  <a:lnTo>
                    <a:pt x="279" y="182"/>
                  </a:lnTo>
                  <a:lnTo>
                    <a:pt x="318" y="12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881360" y="4024080"/>
              <a:ext cx="234720" cy="133560"/>
            </a:xfrm>
            <a:custGeom>
              <a:avLst/>
              <a:gdLst/>
              <a:ahLst/>
              <a:rect l="l" t="t" r="r" b="b"/>
              <a:pathLst>
                <a:path w="297" h="168">
                  <a:moveTo>
                    <a:pt x="26" y="0"/>
                  </a:moveTo>
                  <a:lnTo>
                    <a:pt x="0" y="31"/>
                  </a:lnTo>
                  <a:lnTo>
                    <a:pt x="271" y="168"/>
                  </a:lnTo>
                  <a:lnTo>
                    <a:pt x="297" y="11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905120" y="3919320"/>
              <a:ext cx="226800" cy="136800"/>
            </a:xfrm>
            <a:custGeom>
              <a:avLst/>
              <a:gdLst/>
              <a:ahLst/>
              <a:rect l="l" t="t" r="r" b="b"/>
              <a:pathLst>
                <a:path w="284" h="172">
                  <a:moveTo>
                    <a:pt x="53" y="0"/>
                  </a:moveTo>
                  <a:lnTo>
                    <a:pt x="0" y="47"/>
                  </a:lnTo>
                  <a:lnTo>
                    <a:pt x="249" y="172"/>
                  </a:lnTo>
                  <a:lnTo>
                    <a:pt x="284" y="10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941480" y="4359240"/>
              <a:ext cx="228600" cy="128520"/>
            </a:xfrm>
            <a:custGeom>
              <a:avLst/>
              <a:gdLst/>
              <a:ahLst/>
              <a:rect l="l" t="t" r="r" b="b"/>
              <a:pathLst>
                <a:path w="288" h="164">
                  <a:moveTo>
                    <a:pt x="31" y="0"/>
                  </a:moveTo>
                  <a:lnTo>
                    <a:pt x="0" y="48"/>
                  </a:lnTo>
                  <a:lnTo>
                    <a:pt x="288" y="164"/>
                  </a:lnTo>
                  <a:lnTo>
                    <a:pt x="257" y="98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120760" y="4295880"/>
              <a:ext cx="160560" cy="379080"/>
            </a:xfrm>
            <a:custGeom>
              <a:avLst/>
              <a:gdLst/>
              <a:ahLst/>
              <a:rect l="l" t="t" r="r" b="b"/>
              <a:pathLst>
                <a:path w="204" h="478">
                  <a:moveTo>
                    <a:pt x="31" y="0"/>
                  </a:moveTo>
                  <a:lnTo>
                    <a:pt x="0" y="66"/>
                  </a:lnTo>
                  <a:lnTo>
                    <a:pt x="40" y="243"/>
                  </a:lnTo>
                  <a:lnTo>
                    <a:pt x="116" y="389"/>
                  </a:lnTo>
                  <a:lnTo>
                    <a:pt x="204" y="478"/>
                  </a:lnTo>
                  <a:lnTo>
                    <a:pt x="102" y="230"/>
                  </a:lnTo>
                  <a:lnTo>
                    <a:pt x="79" y="141"/>
                  </a:lnTo>
                  <a:lnTo>
                    <a:pt x="88" y="5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187720" y="3651120"/>
              <a:ext cx="206280" cy="30636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0" y="292"/>
                  </a:moveTo>
                  <a:lnTo>
                    <a:pt x="53" y="287"/>
                  </a:lnTo>
                  <a:lnTo>
                    <a:pt x="97" y="137"/>
                  </a:lnTo>
                  <a:lnTo>
                    <a:pt x="194" y="0"/>
                  </a:lnTo>
                  <a:lnTo>
                    <a:pt x="163" y="78"/>
                  </a:lnTo>
                  <a:lnTo>
                    <a:pt x="230" y="8"/>
                  </a:lnTo>
                  <a:lnTo>
                    <a:pt x="185" y="106"/>
                  </a:lnTo>
                  <a:lnTo>
                    <a:pt x="260" y="38"/>
                  </a:lnTo>
                  <a:lnTo>
                    <a:pt x="207" y="150"/>
                  </a:lnTo>
                  <a:lnTo>
                    <a:pt x="88" y="337"/>
                  </a:lnTo>
                  <a:lnTo>
                    <a:pt x="43" y="384"/>
                  </a:lnTo>
                  <a:lnTo>
                    <a:pt x="0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548080" y="3289320"/>
              <a:ext cx="439560" cy="196920"/>
            </a:xfrm>
            <a:custGeom>
              <a:avLst/>
              <a:gdLst/>
              <a:ahLst/>
              <a:rect l="l" t="t" r="r" b="b"/>
              <a:pathLst>
                <a:path w="554" h="248">
                  <a:moveTo>
                    <a:pt x="72" y="163"/>
                  </a:moveTo>
                  <a:lnTo>
                    <a:pt x="187" y="128"/>
                  </a:lnTo>
                  <a:lnTo>
                    <a:pt x="284" y="110"/>
                  </a:lnTo>
                  <a:lnTo>
                    <a:pt x="332" y="110"/>
                  </a:lnTo>
                  <a:lnTo>
                    <a:pt x="182" y="3"/>
                  </a:lnTo>
                  <a:lnTo>
                    <a:pt x="230" y="0"/>
                  </a:lnTo>
                  <a:lnTo>
                    <a:pt x="554" y="172"/>
                  </a:lnTo>
                  <a:lnTo>
                    <a:pt x="377" y="163"/>
                  </a:lnTo>
                  <a:lnTo>
                    <a:pt x="222" y="208"/>
                  </a:lnTo>
                  <a:lnTo>
                    <a:pt x="125" y="248"/>
                  </a:lnTo>
                  <a:lnTo>
                    <a:pt x="173" y="194"/>
                  </a:lnTo>
                  <a:lnTo>
                    <a:pt x="49" y="225"/>
                  </a:lnTo>
                  <a:lnTo>
                    <a:pt x="120" y="177"/>
                  </a:lnTo>
                  <a:lnTo>
                    <a:pt x="0" y="208"/>
                  </a:lnTo>
                  <a:lnTo>
                    <a:pt x="72" y="163"/>
                  </a:lnTo>
                  <a:lnTo>
                    <a:pt x="72" y="16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920960" y="3828960"/>
              <a:ext cx="212760" cy="115920"/>
            </a:xfrm>
            <a:custGeom>
              <a:avLst/>
              <a:gdLst/>
              <a:ahLst/>
              <a:rect l="l" t="t" r="r" b="b"/>
              <a:pathLst>
                <a:path w="270" h="148">
                  <a:moveTo>
                    <a:pt x="8" y="0"/>
                  </a:moveTo>
                  <a:lnTo>
                    <a:pt x="270" y="107"/>
                  </a:lnTo>
                  <a:lnTo>
                    <a:pt x="262" y="148"/>
                  </a:lnTo>
                  <a:lnTo>
                    <a:pt x="0" y="2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971720" y="3727440"/>
              <a:ext cx="208080" cy="114120"/>
            </a:xfrm>
            <a:custGeom>
              <a:avLst/>
              <a:gdLst/>
              <a:ahLst/>
              <a:rect l="l" t="t" r="r" b="b"/>
              <a:pathLst>
                <a:path w="263" h="144">
                  <a:moveTo>
                    <a:pt x="25" y="0"/>
                  </a:moveTo>
                  <a:lnTo>
                    <a:pt x="0" y="29"/>
                  </a:lnTo>
                  <a:lnTo>
                    <a:pt x="258" y="144"/>
                  </a:lnTo>
                  <a:lnTo>
                    <a:pt x="263" y="11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030400" y="3636720"/>
              <a:ext cx="192240" cy="103320"/>
            </a:xfrm>
            <a:custGeom>
              <a:avLst/>
              <a:gdLst/>
              <a:ahLst/>
              <a:rect l="l" t="t" r="r" b="b"/>
              <a:pathLst>
                <a:path w="241" h="130">
                  <a:moveTo>
                    <a:pt x="24" y="0"/>
                  </a:moveTo>
                  <a:lnTo>
                    <a:pt x="0" y="33"/>
                  </a:lnTo>
                  <a:lnTo>
                    <a:pt x="238" y="130"/>
                  </a:lnTo>
                  <a:lnTo>
                    <a:pt x="241" y="9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368440" y="3476520"/>
              <a:ext cx="244440" cy="182520"/>
            </a:xfrm>
            <a:custGeom>
              <a:avLst/>
              <a:gdLst/>
              <a:ahLst/>
              <a:rect l="l" t="t" r="r" b="b"/>
              <a:pathLst>
                <a:path w="307" h="230">
                  <a:moveTo>
                    <a:pt x="204" y="0"/>
                  </a:moveTo>
                  <a:lnTo>
                    <a:pt x="123" y="57"/>
                  </a:lnTo>
                  <a:lnTo>
                    <a:pt x="53" y="122"/>
                  </a:lnTo>
                  <a:lnTo>
                    <a:pt x="0" y="205"/>
                  </a:lnTo>
                  <a:lnTo>
                    <a:pt x="101" y="127"/>
                  </a:lnTo>
                  <a:lnTo>
                    <a:pt x="36" y="230"/>
                  </a:lnTo>
                  <a:lnTo>
                    <a:pt x="126" y="173"/>
                  </a:lnTo>
                  <a:lnTo>
                    <a:pt x="217" y="103"/>
                  </a:lnTo>
                  <a:lnTo>
                    <a:pt x="307" y="37"/>
                  </a:lnTo>
                  <a:lnTo>
                    <a:pt x="212" y="57"/>
                  </a:lnTo>
                  <a:lnTo>
                    <a:pt x="266" y="8"/>
                  </a:lnTo>
                  <a:lnTo>
                    <a:pt x="175" y="45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997360" y="3984480"/>
              <a:ext cx="172800" cy="452520"/>
            </a:xfrm>
            <a:custGeom>
              <a:avLst/>
              <a:gdLst/>
              <a:ahLst/>
              <a:rect l="l" t="t" r="r" b="b"/>
              <a:pathLst>
                <a:path w="218" h="570">
                  <a:moveTo>
                    <a:pt x="206" y="0"/>
                  </a:moveTo>
                  <a:lnTo>
                    <a:pt x="185" y="119"/>
                  </a:lnTo>
                  <a:lnTo>
                    <a:pt x="168" y="193"/>
                  </a:lnTo>
                  <a:lnTo>
                    <a:pt x="147" y="286"/>
                  </a:lnTo>
                  <a:lnTo>
                    <a:pt x="119" y="373"/>
                  </a:lnTo>
                  <a:lnTo>
                    <a:pt x="66" y="471"/>
                  </a:lnTo>
                  <a:lnTo>
                    <a:pt x="0" y="570"/>
                  </a:lnTo>
                  <a:lnTo>
                    <a:pt x="78" y="505"/>
                  </a:lnTo>
                  <a:lnTo>
                    <a:pt x="123" y="447"/>
                  </a:lnTo>
                  <a:lnTo>
                    <a:pt x="165" y="365"/>
                  </a:lnTo>
                  <a:lnTo>
                    <a:pt x="197" y="267"/>
                  </a:lnTo>
                  <a:lnTo>
                    <a:pt x="209" y="168"/>
                  </a:lnTo>
                  <a:lnTo>
                    <a:pt x="218" y="65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089080" y="3548160"/>
              <a:ext cx="208080" cy="107640"/>
            </a:xfrm>
            <a:custGeom>
              <a:avLst/>
              <a:gdLst/>
              <a:ahLst/>
              <a:rect l="l" t="t" r="r" b="b"/>
              <a:pathLst>
                <a:path w="262" h="135">
                  <a:moveTo>
                    <a:pt x="0" y="16"/>
                  </a:moveTo>
                  <a:lnTo>
                    <a:pt x="25" y="0"/>
                  </a:lnTo>
                  <a:lnTo>
                    <a:pt x="262" y="99"/>
                  </a:lnTo>
                  <a:lnTo>
                    <a:pt x="242" y="135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160720" y="3476520"/>
              <a:ext cx="201600" cy="93600"/>
            </a:xfrm>
            <a:custGeom>
              <a:avLst/>
              <a:gdLst/>
              <a:ahLst/>
              <a:rect l="l" t="t" r="r" b="b"/>
              <a:pathLst>
                <a:path w="253" h="119">
                  <a:moveTo>
                    <a:pt x="0" y="21"/>
                  </a:moveTo>
                  <a:lnTo>
                    <a:pt x="28" y="0"/>
                  </a:lnTo>
                  <a:lnTo>
                    <a:pt x="253" y="90"/>
                  </a:lnTo>
                  <a:lnTo>
                    <a:pt x="217" y="1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244600" y="3405240"/>
              <a:ext cx="185760" cy="93600"/>
            </a:xfrm>
            <a:custGeom>
              <a:avLst/>
              <a:gdLst/>
              <a:ahLst/>
              <a:rect l="l" t="t" r="r" b="b"/>
              <a:pathLst>
                <a:path w="234" h="119">
                  <a:moveTo>
                    <a:pt x="0" y="20"/>
                  </a:moveTo>
                  <a:lnTo>
                    <a:pt x="17" y="0"/>
                  </a:lnTo>
                  <a:lnTo>
                    <a:pt x="234" y="90"/>
                  </a:lnTo>
                  <a:lnTo>
                    <a:pt x="206" y="11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19480" y="3365280"/>
              <a:ext cx="185760" cy="71640"/>
            </a:xfrm>
            <a:custGeom>
              <a:avLst/>
              <a:gdLst/>
              <a:ahLst/>
              <a:rect l="l" t="t" r="r" b="b"/>
              <a:pathLst>
                <a:path w="233" h="90">
                  <a:moveTo>
                    <a:pt x="0" y="3"/>
                  </a:moveTo>
                  <a:lnTo>
                    <a:pt x="209" y="90"/>
                  </a:lnTo>
                  <a:lnTo>
                    <a:pt x="233" y="73"/>
                  </a:lnTo>
                  <a:lnTo>
                    <a:pt x="6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408400" y="3319560"/>
              <a:ext cx="190440" cy="85680"/>
            </a:xfrm>
            <a:custGeom>
              <a:avLst/>
              <a:gdLst/>
              <a:ahLst/>
              <a:rect l="l" t="t" r="r" b="b"/>
              <a:pathLst>
                <a:path w="241" h="108">
                  <a:moveTo>
                    <a:pt x="0" y="0"/>
                  </a:moveTo>
                  <a:lnTo>
                    <a:pt x="204" y="108"/>
                  </a:lnTo>
                  <a:lnTo>
                    <a:pt x="241" y="86"/>
                  </a:lnTo>
                  <a:lnTo>
                    <a:pt x="7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984320" y="4483080"/>
              <a:ext cx="208080" cy="117360"/>
            </a:xfrm>
            <a:custGeom>
              <a:avLst/>
              <a:gdLst/>
              <a:ahLst/>
              <a:rect l="l" t="t" r="r" b="b"/>
              <a:pathLst>
                <a:path w="263" h="147">
                  <a:moveTo>
                    <a:pt x="0" y="0"/>
                  </a:moveTo>
                  <a:lnTo>
                    <a:pt x="250" y="111"/>
                  </a:lnTo>
                  <a:lnTo>
                    <a:pt x="263" y="147"/>
                  </a:lnTo>
                  <a:lnTo>
                    <a:pt x="46" y="6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052720" y="4579920"/>
              <a:ext cx="284040" cy="176040"/>
            </a:xfrm>
            <a:custGeom>
              <a:avLst/>
              <a:gdLst/>
              <a:ahLst/>
              <a:rect l="l" t="t" r="r" b="b"/>
              <a:pathLst>
                <a:path w="356" h="222">
                  <a:moveTo>
                    <a:pt x="0" y="0"/>
                  </a:moveTo>
                  <a:lnTo>
                    <a:pt x="217" y="111"/>
                  </a:lnTo>
                  <a:lnTo>
                    <a:pt x="356" y="222"/>
                  </a:lnTo>
                  <a:lnTo>
                    <a:pt x="204" y="177"/>
                  </a:lnTo>
                  <a:lnTo>
                    <a:pt x="8" y="6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565280" y="2865240"/>
              <a:ext cx="662040" cy="392400"/>
            </a:xfrm>
            <a:custGeom>
              <a:avLst/>
              <a:gdLst/>
              <a:ahLst/>
              <a:rect l="l" t="t" r="r" b="b"/>
              <a:pathLst>
                <a:path w="835" h="494">
                  <a:moveTo>
                    <a:pt x="835" y="414"/>
                  </a:moveTo>
                  <a:lnTo>
                    <a:pt x="825" y="283"/>
                  </a:lnTo>
                  <a:lnTo>
                    <a:pt x="807" y="135"/>
                  </a:lnTo>
                  <a:lnTo>
                    <a:pt x="783" y="29"/>
                  </a:lnTo>
                  <a:lnTo>
                    <a:pt x="769" y="5"/>
                  </a:lnTo>
                  <a:lnTo>
                    <a:pt x="736" y="0"/>
                  </a:lnTo>
                  <a:lnTo>
                    <a:pt x="715" y="22"/>
                  </a:lnTo>
                  <a:lnTo>
                    <a:pt x="724" y="57"/>
                  </a:lnTo>
                  <a:lnTo>
                    <a:pt x="724" y="95"/>
                  </a:lnTo>
                  <a:lnTo>
                    <a:pt x="707" y="119"/>
                  </a:lnTo>
                  <a:lnTo>
                    <a:pt x="691" y="126"/>
                  </a:lnTo>
                  <a:lnTo>
                    <a:pt x="654" y="130"/>
                  </a:lnTo>
                  <a:lnTo>
                    <a:pt x="625" y="124"/>
                  </a:lnTo>
                  <a:lnTo>
                    <a:pt x="601" y="117"/>
                  </a:lnTo>
                  <a:lnTo>
                    <a:pt x="550" y="100"/>
                  </a:lnTo>
                  <a:lnTo>
                    <a:pt x="514" y="76"/>
                  </a:lnTo>
                  <a:lnTo>
                    <a:pt x="488" y="69"/>
                  </a:lnTo>
                  <a:lnTo>
                    <a:pt x="443" y="88"/>
                  </a:lnTo>
                  <a:lnTo>
                    <a:pt x="417" y="93"/>
                  </a:lnTo>
                  <a:lnTo>
                    <a:pt x="375" y="88"/>
                  </a:lnTo>
                  <a:lnTo>
                    <a:pt x="321" y="69"/>
                  </a:lnTo>
                  <a:lnTo>
                    <a:pt x="277" y="86"/>
                  </a:lnTo>
                  <a:lnTo>
                    <a:pt x="234" y="84"/>
                  </a:lnTo>
                  <a:lnTo>
                    <a:pt x="217" y="81"/>
                  </a:lnTo>
                  <a:lnTo>
                    <a:pt x="173" y="60"/>
                  </a:lnTo>
                  <a:lnTo>
                    <a:pt x="130" y="71"/>
                  </a:lnTo>
                  <a:lnTo>
                    <a:pt x="97" y="71"/>
                  </a:lnTo>
                  <a:lnTo>
                    <a:pt x="49" y="53"/>
                  </a:lnTo>
                  <a:lnTo>
                    <a:pt x="36" y="66"/>
                  </a:lnTo>
                  <a:lnTo>
                    <a:pt x="31" y="88"/>
                  </a:lnTo>
                  <a:lnTo>
                    <a:pt x="36" y="111"/>
                  </a:lnTo>
                  <a:lnTo>
                    <a:pt x="47" y="126"/>
                  </a:lnTo>
                  <a:lnTo>
                    <a:pt x="47" y="173"/>
                  </a:lnTo>
                  <a:lnTo>
                    <a:pt x="47" y="228"/>
                  </a:lnTo>
                  <a:lnTo>
                    <a:pt x="22" y="307"/>
                  </a:lnTo>
                  <a:lnTo>
                    <a:pt x="2" y="354"/>
                  </a:lnTo>
                  <a:lnTo>
                    <a:pt x="0" y="385"/>
                  </a:lnTo>
                  <a:lnTo>
                    <a:pt x="47" y="401"/>
                  </a:lnTo>
                  <a:lnTo>
                    <a:pt x="60" y="423"/>
                  </a:lnTo>
                  <a:lnTo>
                    <a:pt x="45" y="445"/>
                  </a:lnTo>
                  <a:lnTo>
                    <a:pt x="85" y="467"/>
                  </a:lnTo>
                  <a:lnTo>
                    <a:pt x="133" y="473"/>
                  </a:lnTo>
                  <a:lnTo>
                    <a:pt x="248" y="475"/>
                  </a:lnTo>
                  <a:lnTo>
                    <a:pt x="210" y="440"/>
                  </a:lnTo>
                  <a:lnTo>
                    <a:pt x="208" y="409"/>
                  </a:lnTo>
                  <a:lnTo>
                    <a:pt x="210" y="383"/>
                  </a:lnTo>
                  <a:lnTo>
                    <a:pt x="220" y="317"/>
                  </a:lnTo>
                  <a:lnTo>
                    <a:pt x="246" y="363"/>
                  </a:lnTo>
                  <a:lnTo>
                    <a:pt x="268" y="390"/>
                  </a:lnTo>
                  <a:lnTo>
                    <a:pt x="293" y="407"/>
                  </a:lnTo>
                  <a:lnTo>
                    <a:pt x="341" y="427"/>
                  </a:lnTo>
                  <a:lnTo>
                    <a:pt x="422" y="465"/>
                  </a:lnTo>
                  <a:lnTo>
                    <a:pt x="512" y="494"/>
                  </a:lnTo>
                  <a:lnTo>
                    <a:pt x="366" y="423"/>
                  </a:lnTo>
                  <a:lnTo>
                    <a:pt x="300" y="381"/>
                  </a:lnTo>
                  <a:lnTo>
                    <a:pt x="270" y="347"/>
                  </a:lnTo>
                  <a:lnTo>
                    <a:pt x="255" y="307"/>
                  </a:lnTo>
                  <a:lnTo>
                    <a:pt x="250" y="248"/>
                  </a:lnTo>
                  <a:lnTo>
                    <a:pt x="257" y="144"/>
                  </a:lnTo>
                  <a:lnTo>
                    <a:pt x="302" y="135"/>
                  </a:lnTo>
                  <a:lnTo>
                    <a:pt x="330" y="133"/>
                  </a:lnTo>
                  <a:lnTo>
                    <a:pt x="368" y="142"/>
                  </a:lnTo>
                  <a:lnTo>
                    <a:pt x="417" y="154"/>
                  </a:lnTo>
                  <a:lnTo>
                    <a:pt x="446" y="144"/>
                  </a:lnTo>
                  <a:lnTo>
                    <a:pt x="481" y="128"/>
                  </a:lnTo>
                  <a:lnTo>
                    <a:pt x="521" y="144"/>
                  </a:lnTo>
                  <a:lnTo>
                    <a:pt x="557" y="157"/>
                  </a:lnTo>
                  <a:lnTo>
                    <a:pt x="581" y="157"/>
                  </a:lnTo>
                  <a:lnTo>
                    <a:pt x="614" y="146"/>
                  </a:lnTo>
                  <a:lnTo>
                    <a:pt x="640" y="154"/>
                  </a:lnTo>
                  <a:lnTo>
                    <a:pt x="682" y="173"/>
                  </a:lnTo>
                  <a:lnTo>
                    <a:pt x="707" y="177"/>
                  </a:lnTo>
                  <a:lnTo>
                    <a:pt x="740" y="173"/>
                  </a:lnTo>
                  <a:lnTo>
                    <a:pt x="759" y="204"/>
                  </a:lnTo>
                  <a:lnTo>
                    <a:pt x="769" y="248"/>
                  </a:lnTo>
                  <a:lnTo>
                    <a:pt x="771" y="319"/>
                  </a:lnTo>
                  <a:lnTo>
                    <a:pt x="771" y="354"/>
                  </a:lnTo>
                  <a:lnTo>
                    <a:pt x="761" y="407"/>
                  </a:lnTo>
                  <a:lnTo>
                    <a:pt x="787" y="423"/>
                  </a:lnTo>
                  <a:lnTo>
                    <a:pt x="820" y="425"/>
                  </a:lnTo>
                  <a:lnTo>
                    <a:pt x="835" y="414"/>
                  </a:lnTo>
                  <a:lnTo>
                    <a:pt x="835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220840" y="2871720"/>
              <a:ext cx="250920" cy="336600"/>
            </a:xfrm>
            <a:custGeom>
              <a:avLst/>
              <a:gdLst/>
              <a:ahLst/>
              <a:rect l="l" t="t" r="r" b="b"/>
              <a:pathLst>
                <a:path w="317" h="425">
                  <a:moveTo>
                    <a:pt x="0" y="0"/>
                  </a:moveTo>
                  <a:lnTo>
                    <a:pt x="27" y="35"/>
                  </a:lnTo>
                  <a:lnTo>
                    <a:pt x="46" y="97"/>
                  </a:lnTo>
                  <a:lnTo>
                    <a:pt x="69" y="292"/>
                  </a:lnTo>
                  <a:lnTo>
                    <a:pt x="76" y="425"/>
                  </a:lnTo>
                  <a:lnTo>
                    <a:pt x="208" y="420"/>
                  </a:lnTo>
                  <a:lnTo>
                    <a:pt x="223" y="347"/>
                  </a:lnTo>
                  <a:lnTo>
                    <a:pt x="304" y="347"/>
                  </a:lnTo>
                  <a:lnTo>
                    <a:pt x="317" y="338"/>
                  </a:lnTo>
                  <a:lnTo>
                    <a:pt x="293" y="112"/>
                  </a:lnTo>
                  <a:lnTo>
                    <a:pt x="281" y="41"/>
                  </a:lnTo>
                  <a:lnTo>
                    <a:pt x="263" y="17"/>
                  </a:lnTo>
                  <a:lnTo>
                    <a:pt x="225" y="6"/>
                  </a:lnTo>
                  <a:lnTo>
                    <a:pt x="159" y="0"/>
                  </a:lnTo>
                  <a:lnTo>
                    <a:pt x="175" y="39"/>
                  </a:lnTo>
                  <a:lnTo>
                    <a:pt x="188" y="97"/>
                  </a:lnTo>
                  <a:lnTo>
                    <a:pt x="201" y="288"/>
                  </a:lnTo>
                  <a:lnTo>
                    <a:pt x="188" y="323"/>
                  </a:lnTo>
                  <a:lnTo>
                    <a:pt x="155" y="90"/>
                  </a:lnTo>
                  <a:lnTo>
                    <a:pt x="142" y="53"/>
                  </a:lnTo>
                  <a:lnTo>
                    <a:pt x="11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89120" y="3633840"/>
              <a:ext cx="350640" cy="960480"/>
            </a:xfrm>
            <a:custGeom>
              <a:avLst/>
              <a:gdLst/>
              <a:ahLst/>
              <a:rect l="l" t="t" r="r" b="b"/>
              <a:pathLst>
                <a:path w="441" h="1209">
                  <a:moveTo>
                    <a:pt x="147" y="9"/>
                  </a:moveTo>
                  <a:lnTo>
                    <a:pt x="90" y="107"/>
                  </a:lnTo>
                  <a:lnTo>
                    <a:pt x="50" y="200"/>
                  </a:lnTo>
                  <a:lnTo>
                    <a:pt x="17" y="295"/>
                  </a:lnTo>
                  <a:lnTo>
                    <a:pt x="0" y="426"/>
                  </a:lnTo>
                  <a:lnTo>
                    <a:pt x="1" y="546"/>
                  </a:lnTo>
                  <a:lnTo>
                    <a:pt x="23" y="653"/>
                  </a:lnTo>
                  <a:lnTo>
                    <a:pt x="43" y="735"/>
                  </a:lnTo>
                  <a:lnTo>
                    <a:pt x="67" y="654"/>
                  </a:lnTo>
                  <a:lnTo>
                    <a:pt x="91" y="753"/>
                  </a:lnTo>
                  <a:lnTo>
                    <a:pt x="108" y="662"/>
                  </a:lnTo>
                  <a:lnTo>
                    <a:pt x="139" y="755"/>
                  </a:lnTo>
                  <a:lnTo>
                    <a:pt x="161" y="667"/>
                  </a:lnTo>
                  <a:lnTo>
                    <a:pt x="203" y="731"/>
                  </a:lnTo>
                  <a:lnTo>
                    <a:pt x="187" y="785"/>
                  </a:lnTo>
                  <a:lnTo>
                    <a:pt x="234" y="855"/>
                  </a:lnTo>
                  <a:lnTo>
                    <a:pt x="279" y="902"/>
                  </a:lnTo>
                  <a:lnTo>
                    <a:pt x="266" y="966"/>
                  </a:lnTo>
                  <a:lnTo>
                    <a:pt x="330" y="1043"/>
                  </a:lnTo>
                  <a:lnTo>
                    <a:pt x="325" y="1078"/>
                  </a:lnTo>
                  <a:lnTo>
                    <a:pt x="385" y="1130"/>
                  </a:lnTo>
                  <a:lnTo>
                    <a:pt x="408" y="1185"/>
                  </a:lnTo>
                  <a:lnTo>
                    <a:pt x="441" y="1209"/>
                  </a:lnTo>
                  <a:lnTo>
                    <a:pt x="429" y="1127"/>
                  </a:lnTo>
                  <a:lnTo>
                    <a:pt x="363" y="1072"/>
                  </a:lnTo>
                  <a:lnTo>
                    <a:pt x="370" y="1028"/>
                  </a:lnTo>
                  <a:lnTo>
                    <a:pt x="307" y="955"/>
                  </a:lnTo>
                  <a:lnTo>
                    <a:pt x="312" y="902"/>
                  </a:lnTo>
                  <a:lnTo>
                    <a:pt x="228" y="809"/>
                  </a:lnTo>
                  <a:lnTo>
                    <a:pt x="255" y="733"/>
                  </a:lnTo>
                  <a:lnTo>
                    <a:pt x="208" y="651"/>
                  </a:lnTo>
                  <a:lnTo>
                    <a:pt x="250" y="594"/>
                  </a:lnTo>
                  <a:lnTo>
                    <a:pt x="212" y="521"/>
                  </a:lnTo>
                  <a:lnTo>
                    <a:pt x="259" y="464"/>
                  </a:lnTo>
                  <a:lnTo>
                    <a:pt x="236" y="394"/>
                  </a:lnTo>
                  <a:lnTo>
                    <a:pt x="290" y="335"/>
                  </a:lnTo>
                  <a:lnTo>
                    <a:pt x="268" y="240"/>
                  </a:lnTo>
                  <a:lnTo>
                    <a:pt x="328" y="195"/>
                  </a:lnTo>
                  <a:lnTo>
                    <a:pt x="332" y="105"/>
                  </a:lnTo>
                  <a:lnTo>
                    <a:pt x="389" y="67"/>
                  </a:lnTo>
                  <a:lnTo>
                    <a:pt x="394" y="0"/>
                  </a:lnTo>
                  <a:lnTo>
                    <a:pt x="330" y="32"/>
                  </a:lnTo>
                  <a:lnTo>
                    <a:pt x="212" y="249"/>
                  </a:lnTo>
                  <a:lnTo>
                    <a:pt x="276" y="54"/>
                  </a:lnTo>
                  <a:lnTo>
                    <a:pt x="177" y="228"/>
                  </a:lnTo>
                  <a:lnTo>
                    <a:pt x="243" y="44"/>
                  </a:lnTo>
                  <a:lnTo>
                    <a:pt x="142" y="204"/>
                  </a:lnTo>
                  <a:lnTo>
                    <a:pt x="201" y="30"/>
                  </a:lnTo>
                  <a:lnTo>
                    <a:pt x="95" y="185"/>
                  </a:lnTo>
                  <a:lnTo>
                    <a:pt x="147" y="9"/>
                  </a:lnTo>
                  <a:lnTo>
                    <a:pt x="1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190520" y="3971880"/>
              <a:ext cx="1602000" cy="869760"/>
            </a:xfrm>
            <a:custGeom>
              <a:avLst/>
              <a:gdLst/>
              <a:ahLst/>
              <a:rect l="l" t="t" r="r" b="b"/>
              <a:pathLst>
                <a:path w="2017" h="1095">
                  <a:moveTo>
                    <a:pt x="0" y="0"/>
                  </a:moveTo>
                  <a:lnTo>
                    <a:pt x="636" y="390"/>
                  </a:lnTo>
                  <a:lnTo>
                    <a:pt x="645" y="364"/>
                  </a:lnTo>
                  <a:lnTo>
                    <a:pt x="694" y="487"/>
                  </a:lnTo>
                  <a:lnTo>
                    <a:pt x="742" y="561"/>
                  </a:lnTo>
                  <a:lnTo>
                    <a:pt x="813" y="617"/>
                  </a:lnTo>
                  <a:lnTo>
                    <a:pt x="1046" y="742"/>
                  </a:lnTo>
                  <a:lnTo>
                    <a:pt x="1100" y="799"/>
                  </a:lnTo>
                  <a:lnTo>
                    <a:pt x="1437" y="986"/>
                  </a:lnTo>
                  <a:lnTo>
                    <a:pt x="1534" y="1014"/>
                  </a:lnTo>
                  <a:lnTo>
                    <a:pt x="1618" y="1045"/>
                  </a:lnTo>
                  <a:lnTo>
                    <a:pt x="1691" y="1059"/>
                  </a:lnTo>
                  <a:lnTo>
                    <a:pt x="1769" y="1065"/>
                  </a:lnTo>
                  <a:lnTo>
                    <a:pt x="1847" y="1065"/>
                  </a:lnTo>
                  <a:lnTo>
                    <a:pt x="1946" y="1052"/>
                  </a:lnTo>
                  <a:lnTo>
                    <a:pt x="2017" y="1028"/>
                  </a:lnTo>
                  <a:lnTo>
                    <a:pt x="1938" y="1065"/>
                  </a:lnTo>
                  <a:lnTo>
                    <a:pt x="1833" y="1088"/>
                  </a:lnTo>
                  <a:lnTo>
                    <a:pt x="1717" y="1095"/>
                  </a:lnTo>
                  <a:lnTo>
                    <a:pt x="1594" y="1075"/>
                  </a:lnTo>
                  <a:lnTo>
                    <a:pt x="1417" y="1017"/>
                  </a:lnTo>
                  <a:lnTo>
                    <a:pt x="1099" y="845"/>
                  </a:lnTo>
                  <a:lnTo>
                    <a:pt x="1040" y="791"/>
                  </a:lnTo>
                  <a:lnTo>
                    <a:pt x="732" y="614"/>
                  </a:lnTo>
                  <a:lnTo>
                    <a:pt x="666" y="551"/>
                  </a:lnTo>
                  <a:lnTo>
                    <a:pt x="643" y="499"/>
                  </a:lnTo>
                  <a:lnTo>
                    <a:pt x="628" y="440"/>
                  </a:lnTo>
                  <a:lnTo>
                    <a:pt x="600" y="404"/>
                  </a:lnTo>
                  <a:lnTo>
                    <a:pt x="57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177920" y="3311280"/>
              <a:ext cx="700200" cy="360360"/>
            </a:xfrm>
            <a:custGeom>
              <a:avLst/>
              <a:gdLst/>
              <a:ahLst/>
              <a:rect l="l" t="t" r="r" b="b"/>
              <a:pathLst>
                <a:path w="880" h="455">
                  <a:moveTo>
                    <a:pt x="26" y="0"/>
                  </a:moveTo>
                  <a:lnTo>
                    <a:pt x="6" y="17"/>
                  </a:lnTo>
                  <a:lnTo>
                    <a:pt x="0" y="57"/>
                  </a:lnTo>
                  <a:lnTo>
                    <a:pt x="10" y="143"/>
                  </a:lnTo>
                  <a:lnTo>
                    <a:pt x="692" y="455"/>
                  </a:lnTo>
                  <a:lnTo>
                    <a:pt x="730" y="377"/>
                  </a:lnTo>
                  <a:lnTo>
                    <a:pt x="770" y="311"/>
                  </a:lnTo>
                  <a:lnTo>
                    <a:pt x="829" y="225"/>
                  </a:lnTo>
                  <a:lnTo>
                    <a:pt x="880" y="159"/>
                  </a:lnTo>
                  <a:lnTo>
                    <a:pt x="774" y="238"/>
                  </a:lnTo>
                  <a:lnTo>
                    <a:pt x="833" y="143"/>
                  </a:lnTo>
                  <a:lnTo>
                    <a:pt x="743" y="209"/>
                  </a:lnTo>
                  <a:lnTo>
                    <a:pt x="680" y="29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241280" y="2778120"/>
              <a:ext cx="1177920" cy="682560"/>
            </a:xfrm>
            <a:custGeom>
              <a:avLst/>
              <a:gdLst/>
              <a:ahLst/>
              <a:rect l="l" t="t" r="r" b="b"/>
              <a:pathLst>
                <a:path w="1485" h="862">
                  <a:moveTo>
                    <a:pt x="0" y="574"/>
                  </a:moveTo>
                  <a:lnTo>
                    <a:pt x="642" y="862"/>
                  </a:lnTo>
                  <a:lnTo>
                    <a:pt x="741" y="765"/>
                  </a:lnTo>
                  <a:lnTo>
                    <a:pt x="640" y="807"/>
                  </a:lnTo>
                  <a:lnTo>
                    <a:pt x="684" y="741"/>
                  </a:lnTo>
                  <a:lnTo>
                    <a:pt x="590" y="782"/>
                  </a:lnTo>
                  <a:lnTo>
                    <a:pt x="637" y="715"/>
                  </a:lnTo>
                  <a:lnTo>
                    <a:pt x="541" y="754"/>
                  </a:lnTo>
                  <a:lnTo>
                    <a:pt x="598" y="696"/>
                  </a:lnTo>
                  <a:lnTo>
                    <a:pt x="496" y="731"/>
                  </a:lnTo>
                  <a:lnTo>
                    <a:pt x="558" y="680"/>
                  </a:lnTo>
                  <a:lnTo>
                    <a:pt x="438" y="707"/>
                  </a:lnTo>
                  <a:lnTo>
                    <a:pt x="508" y="658"/>
                  </a:lnTo>
                  <a:lnTo>
                    <a:pt x="371" y="685"/>
                  </a:lnTo>
                  <a:lnTo>
                    <a:pt x="470" y="639"/>
                  </a:lnTo>
                  <a:lnTo>
                    <a:pt x="324" y="658"/>
                  </a:lnTo>
                  <a:lnTo>
                    <a:pt x="415" y="616"/>
                  </a:lnTo>
                  <a:lnTo>
                    <a:pt x="285" y="639"/>
                  </a:lnTo>
                  <a:lnTo>
                    <a:pt x="382" y="597"/>
                  </a:lnTo>
                  <a:lnTo>
                    <a:pt x="239" y="620"/>
                  </a:lnTo>
                  <a:lnTo>
                    <a:pt x="335" y="573"/>
                  </a:lnTo>
                  <a:lnTo>
                    <a:pt x="187" y="592"/>
                  </a:lnTo>
                  <a:lnTo>
                    <a:pt x="297" y="553"/>
                  </a:lnTo>
                  <a:lnTo>
                    <a:pt x="134" y="567"/>
                  </a:lnTo>
                  <a:lnTo>
                    <a:pt x="267" y="520"/>
                  </a:lnTo>
                  <a:lnTo>
                    <a:pt x="364" y="481"/>
                  </a:lnTo>
                  <a:lnTo>
                    <a:pt x="392" y="438"/>
                  </a:lnTo>
                  <a:lnTo>
                    <a:pt x="407" y="366"/>
                  </a:lnTo>
                  <a:lnTo>
                    <a:pt x="425" y="275"/>
                  </a:lnTo>
                  <a:lnTo>
                    <a:pt x="416" y="174"/>
                  </a:lnTo>
                  <a:lnTo>
                    <a:pt x="415" y="98"/>
                  </a:lnTo>
                  <a:lnTo>
                    <a:pt x="424" y="64"/>
                  </a:lnTo>
                  <a:lnTo>
                    <a:pt x="450" y="38"/>
                  </a:lnTo>
                  <a:lnTo>
                    <a:pt x="481" y="24"/>
                  </a:lnTo>
                  <a:lnTo>
                    <a:pt x="526" y="22"/>
                  </a:lnTo>
                  <a:lnTo>
                    <a:pt x="1297" y="58"/>
                  </a:lnTo>
                  <a:lnTo>
                    <a:pt x="1368" y="67"/>
                  </a:lnTo>
                  <a:lnTo>
                    <a:pt x="1430" y="80"/>
                  </a:lnTo>
                  <a:lnTo>
                    <a:pt x="1485" y="116"/>
                  </a:lnTo>
                  <a:lnTo>
                    <a:pt x="1439" y="71"/>
                  </a:lnTo>
                  <a:lnTo>
                    <a:pt x="1399" y="52"/>
                  </a:lnTo>
                  <a:lnTo>
                    <a:pt x="1342" y="38"/>
                  </a:lnTo>
                  <a:lnTo>
                    <a:pt x="1273" y="29"/>
                  </a:lnTo>
                  <a:lnTo>
                    <a:pt x="503" y="0"/>
                  </a:lnTo>
                  <a:lnTo>
                    <a:pt x="460" y="11"/>
                  </a:lnTo>
                  <a:lnTo>
                    <a:pt x="430" y="31"/>
                  </a:lnTo>
                  <a:lnTo>
                    <a:pt x="408" y="58"/>
                  </a:lnTo>
                  <a:lnTo>
                    <a:pt x="392" y="88"/>
                  </a:lnTo>
                  <a:lnTo>
                    <a:pt x="390" y="140"/>
                  </a:lnTo>
                  <a:lnTo>
                    <a:pt x="379" y="232"/>
                  </a:lnTo>
                  <a:lnTo>
                    <a:pt x="357" y="332"/>
                  </a:lnTo>
                  <a:lnTo>
                    <a:pt x="328" y="399"/>
                  </a:lnTo>
                  <a:lnTo>
                    <a:pt x="297" y="441"/>
                  </a:lnTo>
                  <a:lnTo>
                    <a:pt x="262" y="477"/>
                  </a:lnTo>
                  <a:lnTo>
                    <a:pt x="206" y="501"/>
                  </a:lnTo>
                  <a:lnTo>
                    <a:pt x="140" y="518"/>
                  </a:lnTo>
                  <a:lnTo>
                    <a:pt x="47" y="543"/>
                  </a:lnTo>
                  <a:lnTo>
                    <a:pt x="0" y="574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917720" y="3197160"/>
              <a:ext cx="290520" cy="152280"/>
            </a:xfrm>
            <a:custGeom>
              <a:avLst/>
              <a:gdLst/>
              <a:ahLst/>
              <a:rect l="l" t="t" r="r" b="b"/>
              <a:pathLst>
                <a:path w="366" h="193">
                  <a:moveTo>
                    <a:pt x="285" y="0"/>
                  </a:moveTo>
                  <a:lnTo>
                    <a:pt x="366" y="29"/>
                  </a:lnTo>
                  <a:lnTo>
                    <a:pt x="262" y="73"/>
                  </a:lnTo>
                  <a:lnTo>
                    <a:pt x="181" y="111"/>
                  </a:lnTo>
                  <a:lnTo>
                    <a:pt x="128" y="151"/>
                  </a:lnTo>
                  <a:lnTo>
                    <a:pt x="67" y="193"/>
                  </a:lnTo>
                  <a:lnTo>
                    <a:pt x="131" y="113"/>
                  </a:lnTo>
                  <a:lnTo>
                    <a:pt x="48" y="152"/>
                  </a:lnTo>
                  <a:lnTo>
                    <a:pt x="96" y="97"/>
                  </a:lnTo>
                  <a:lnTo>
                    <a:pt x="0" y="151"/>
                  </a:lnTo>
                  <a:lnTo>
                    <a:pt x="105" y="69"/>
                  </a:lnTo>
                  <a:lnTo>
                    <a:pt x="194" y="22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333440" y="3589200"/>
              <a:ext cx="247680" cy="273240"/>
            </a:xfrm>
            <a:custGeom>
              <a:avLst/>
              <a:gdLst/>
              <a:ahLst/>
              <a:rect l="l" t="t" r="r" b="b"/>
              <a:pathLst>
                <a:path w="312" h="345">
                  <a:moveTo>
                    <a:pt x="132" y="318"/>
                  </a:moveTo>
                  <a:lnTo>
                    <a:pt x="72" y="268"/>
                  </a:lnTo>
                  <a:lnTo>
                    <a:pt x="28" y="209"/>
                  </a:lnTo>
                  <a:lnTo>
                    <a:pt x="9" y="157"/>
                  </a:lnTo>
                  <a:lnTo>
                    <a:pt x="0" y="108"/>
                  </a:lnTo>
                  <a:lnTo>
                    <a:pt x="3" y="66"/>
                  </a:lnTo>
                  <a:lnTo>
                    <a:pt x="25" y="28"/>
                  </a:lnTo>
                  <a:lnTo>
                    <a:pt x="57" y="10"/>
                  </a:lnTo>
                  <a:lnTo>
                    <a:pt x="98" y="0"/>
                  </a:lnTo>
                  <a:lnTo>
                    <a:pt x="145" y="4"/>
                  </a:lnTo>
                  <a:lnTo>
                    <a:pt x="201" y="23"/>
                  </a:lnTo>
                  <a:lnTo>
                    <a:pt x="246" y="55"/>
                  </a:lnTo>
                  <a:lnTo>
                    <a:pt x="278" y="95"/>
                  </a:lnTo>
                  <a:lnTo>
                    <a:pt x="296" y="148"/>
                  </a:lnTo>
                  <a:lnTo>
                    <a:pt x="274" y="148"/>
                  </a:lnTo>
                  <a:lnTo>
                    <a:pt x="185" y="111"/>
                  </a:lnTo>
                  <a:lnTo>
                    <a:pt x="126" y="123"/>
                  </a:lnTo>
                  <a:lnTo>
                    <a:pt x="136" y="189"/>
                  </a:lnTo>
                  <a:lnTo>
                    <a:pt x="214" y="230"/>
                  </a:lnTo>
                  <a:lnTo>
                    <a:pt x="296" y="259"/>
                  </a:lnTo>
                  <a:lnTo>
                    <a:pt x="312" y="288"/>
                  </a:lnTo>
                  <a:lnTo>
                    <a:pt x="283" y="325"/>
                  </a:lnTo>
                  <a:lnTo>
                    <a:pt x="236" y="345"/>
                  </a:lnTo>
                  <a:lnTo>
                    <a:pt x="179" y="338"/>
                  </a:lnTo>
                  <a:lnTo>
                    <a:pt x="132" y="318"/>
                  </a:lnTo>
                  <a:lnTo>
                    <a:pt x="132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446200" y="3459240"/>
              <a:ext cx="889200" cy="1296720"/>
            </a:xfrm>
            <a:custGeom>
              <a:avLst/>
              <a:gdLst/>
              <a:ahLst/>
              <a:rect l="l" t="t" r="r" b="b"/>
              <a:pathLst>
                <a:path w="1119" h="1634">
                  <a:moveTo>
                    <a:pt x="0" y="287"/>
                  </a:moveTo>
                  <a:lnTo>
                    <a:pt x="145" y="158"/>
                  </a:lnTo>
                  <a:lnTo>
                    <a:pt x="234" y="101"/>
                  </a:lnTo>
                  <a:lnTo>
                    <a:pt x="338" y="47"/>
                  </a:lnTo>
                  <a:lnTo>
                    <a:pt x="433" y="16"/>
                  </a:lnTo>
                  <a:lnTo>
                    <a:pt x="539" y="4"/>
                  </a:lnTo>
                  <a:lnTo>
                    <a:pt x="621" y="0"/>
                  </a:lnTo>
                  <a:lnTo>
                    <a:pt x="693" y="13"/>
                  </a:lnTo>
                  <a:lnTo>
                    <a:pt x="779" y="29"/>
                  </a:lnTo>
                  <a:lnTo>
                    <a:pt x="886" y="86"/>
                  </a:lnTo>
                  <a:lnTo>
                    <a:pt x="955" y="152"/>
                  </a:lnTo>
                  <a:lnTo>
                    <a:pt x="1012" y="224"/>
                  </a:lnTo>
                  <a:lnTo>
                    <a:pt x="1062" y="326"/>
                  </a:lnTo>
                  <a:lnTo>
                    <a:pt x="1103" y="448"/>
                  </a:lnTo>
                  <a:lnTo>
                    <a:pt x="1119" y="578"/>
                  </a:lnTo>
                  <a:lnTo>
                    <a:pt x="1119" y="685"/>
                  </a:lnTo>
                  <a:lnTo>
                    <a:pt x="1097" y="862"/>
                  </a:lnTo>
                  <a:lnTo>
                    <a:pt x="1069" y="984"/>
                  </a:lnTo>
                  <a:lnTo>
                    <a:pt x="1015" y="1107"/>
                  </a:lnTo>
                  <a:lnTo>
                    <a:pt x="949" y="1234"/>
                  </a:lnTo>
                  <a:lnTo>
                    <a:pt x="879" y="1338"/>
                  </a:lnTo>
                  <a:lnTo>
                    <a:pt x="807" y="1442"/>
                  </a:lnTo>
                  <a:lnTo>
                    <a:pt x="671" y="1562"/>
                  </a:lnTo>
                  <a:lnTo>
                    <a:pt x="539" y="1634"/>
                  </a:lnTo>
                  <a:lnTo>
                    <a:pt x="659" y="1546"/>
                  </a:lnTo>
                  <a:lnTo>
                    <a:pt x="741" y="1474"/>
                  </a:lnTo>
                  <a:lnTo>
                    <a:pt x="820" y="1392"/>
                  </a:lnTo>
                  <a:lnTo>
                    <a:pt x="920" y="1247"/>
                  </a:lnTo>
                  <a:lnTo>
                    <a:pt x="981" y="1127"/>
                  </a:lnTo>
                  <a:lnTo>
                    <a:pt x="1037" y="1007"/>
                  </a:lnTo>
                  <a:lnTo>
                    <a:pt x="1069" y="880"/>
                  </a:lnTo>
                  <a:lnTo>
                    <a:pt x="1088" y="767"/>
                  </a:lnTo>
                  <a:lnTo>
                    <a:pt x="1100" y="625"/>
                  </a:lnTo>
                  <a:lnTo>
                    <a:pt x="1088" y="496"/>
                  </a:lnTo>
                  <a:lnTo>
                    <a:pt x="1056" y="360"/>
                  </a:lnTo>
                  <a:lnTo>
                    <a:pt x="1006" y="259"/>
                  </a:lnTo>
                  <a:lnTo>
                    <a:pt x="942" y="171"/>
                  </a:lnTo>
                  <a:lnTo>
                    <a:pt x="883" y="117"/>
                  </a:lnTo>
                  <a:lnTo>
                    <a:pt x="816" y="67"/>
                  </a:lnTo>
                  <a:lnTo>
                    <a:pt x="719" y="35"/>
                  </a:lnTo>
                  <a:lnTo>
                    <a:pt x="700" y="95"/>
                  </a:lnTo>
                  <a:lnTo>
                    <a:pt x="770" y="67"/>
                  </a:lnTo>
                  <a:lnTo>
                    <a:pt x="800" y="88"/>
                  </a:lnTo>
                  <a:lnTo>
                    <a:pt x="750" y="139"/>
                  </a:lnTo>
                  <a:lnTo>
                    <a:pt x="839" y="108"/>
                  </a:lnTo>
                  <a:lnTo>
                    <a:pt x="867" y="145"/>
                  </a:lnTo>
                  <a:lnTo>
                    <a:pt x="826" y="192"/>
                  </a:lnTo>
                  <a:lnTo>
                    <a:pt x="895" y="171"/>
                  </a:lnTo>
                  <a:lnTo>
                    <a:pt x="936" y="221"/>
                  </a:lnTo>
                  <a:lnTo>
                    <a:pt x="883" y="262"/>
                  </a:lnTo>
                  <a:lnTo>
                    <a:pt x="955" y="246"/>
                  </a:lnTo>
                  <a:lnTo>
                    <a:pt x="987" y="310"/>
                  </a:lnTo>
                  <a:lnTo>
                    <a:pt x="946" y="310"/>
                  </a:lnTo>
                  <a:lnTo>
                    <a:pt x="872" y="332"/>
                  </a:lnTo>
                  <a:lnTo>
                    <a:pt x="924" y="272"/>
                  </a:lnTo>
                  <a:lnTo>
                    <a:pt x="845" y="287"/>
                  </a:lnTo>
                  <a:lnTo>
                    <a:pt x="888" y="212"/>
                  </a:lnTo>
                  <a:lnTo>
                    <a:pt x="791" y="219"/>
                  </a:lnTo>
                  <a:lnTo>
                    <a:pt x="820" y="149"/>
                  </a:lnTo>
                  <a:lnTo>
                    <a:pt x="728" y="161"/>
                  </a:lnTo>
                  <a:lnTo>
                    <a:pt x="757" y="95"/>
                  </a:lnTo>
                  <a:lnTo>
                    <a:pt x="677" y="124"/>
                  </a:lnTo>
                  <a:lnTo>
                    <a:pt x="618" y="92"/>
                  </a:lnTo>
                  <a:lnTo>
                    <a:pt x="706" y="164"/>
                  </a:lnTo>
                  <a:lnTo>
                    <a:pt x="763" y="219"/>
                  </a:lnTo>
                  <a:lnTo>
                    <a:pt x="813" y="300"/>
                  </a:lnTo>
                  <a:lnTo>
                    <a:pt x="839" y="357"/>
                  </a:lnTo>
                  <a:lnTo>
                    <a:pt x="851" y="416"/>
                  </a:lnTo>
                  <a:lnTo>
                    <a:pt x="807" y="321"/>
                  </a:lnTo>
                  <a:lnTo>
                    <a:pt x="759" y="256"/>
                  </a:lnTo>
                  <a:lnTo>
                    <a:pt x="675" y="174"/>
                  </a:lnTo>
                  <a:lnTo>
                    <a:pt x="618" y="149"/>
                  </a:lnTo>
                  <a:lnTo>
                    <a:pt x="482" y="161"/>
                  </a:lnTo>
                  <a:lnTo>
                    <a:pt x="406" y="168"/>
                  </a:lnTo>
                  <a:lnTo>
                    <a:pt x="277" y="196"/>
                  </a:lnTo>
                  <a:lnTo>
                    <a:pt x="184" y="228"/>
                  </a:lnTo>
                  <a:lnTo>
                    <a:pt x="105" y="268"/>
                  </a:lnTo>
                  <a:lnTo>
                    <a:pt x="205" y="199"/>
                  </a:lnTo>
                  <a:lnTo>
                    <a:pt x="343" y="164"/>
                  </a:lnTo>
                  <a:lnTo>
                    <a:pt x="495" y="133"/>
                  </a:lnTo>
                  <a:lnTo>
                    <a:pt x="558" y="110"/>
                  </a:lnTo>
                  <a:lnTo>
                    <a:pt x="410" y="97"/>
                  </a:lnTo>
                  <a:lnTo>
                    <a:pt x="272" y="120"/>
                  </a:lnTo>
                  <a:lnTo>
                    <a:pt x="136" y="192"/>
                  </a:lnTo>
                  <a:lnTo>
                    <a:pt x="0" y="28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598840" y="3630600"/>
              <a:ext cx="390600" cy="114120"/>
            </a:xfrm>
            <a:custGeom>
              <a:avLst/>
              <a:gdLst/>
              <a:ahLst/>
              <a:rect l="l" t="t" r="r" b="b"/>
              <a:pathLst>
                <a:path w="491" h="145">
                  <a:moveTo>
                    <a:pt x="0" y="145"/>
                  </a:moveTo>
                  <a:lnTo>
                    <a:pt x="104" y="76"/>
                  </a:lnTo>
                  <a:lnTo>
                    <a:pt x="217" y="31"/>
                  </a:lnTo>
                  <a:lnTo>
                    <a:pt x="342" y="4"/>
                  </a:lnTo>
                  <a:lnTo>
                    <a:pt x="431" y="0"/>
                  </a:lnTo>
                  <a:lnTo>
                    <a:pt x="484" y="38"/>
                  </a:lnTo>
                  <a:lnTo>
                    <a:pt x="491" y="69"/>
                  </a:lnTo>
                  <a:lnTo>
                    <a:pt x="437" y="88"/>
                  </a:lnTo>
                  <a:lnTo>
                    <a:pt x="176" y="113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881360" y="3749760"/>
              <a:ext cx="431640" cy="623880"/>
            </a:xfrm>
            <a:custGeom>
              <a:avLst/>
              <a:gdLst/>
              <a:ahLst/>
              <a:rect l="l" t="t" r="r" b="b"/>
              <a:pathLst>
                <a:path w="545" h="786">
                  <a:moveTo>
                    <a:pt x="50" y="127"/>
                  </a:moveTo>
                  <a:lnTo>
                    <a:pt x="319" y="243"/>
                  </a:lnTo>
                  <a:lnTo>
                    <a:pt x="347" y="304"/>
                  </a:lnTo>
                  <a:lnTo>
                    <a:pt x="370" y="203"/>
                  </a:lnTo>
                  <a:lnTo>
                    <a:pt x="364" y="170"/>
                  </a:lnTo>
                  <a:lnTo>
                    <a:pt x="104" y="66"/>
                  </a:lnTo>
                  <a:lnTo>
                    <a:pt x="107" y="0"/>
                  </a:lnTo>
                  <a:lnTo>
                    <a:pt x="401" y="120"/>
                  </a:lnTo>
                  <a:lnTo>
                    <a:pt x="412" y="168"/>
                  </a:lnTo>
                  <a:lnTo>
                    <a:pt x="450" y="79"/>
                  </a:lnTo>
                  <a:lnTo>
                    <a:pt x="488" y="35"/>
                  </a:lnTo>
                  <a:lnTo>
                    <a:pt x="473" y="98"/>
                  </a:lnTo>
                  <a:lnTo>
                    <a:pt x="514" y="60"/>
                  </a:lnTo>
                  <a:lnTo>
                    <a:pt x="488" y="130"/>
                  </a:lnTo>
                  <a:lnTo>
                    <a:pt x="545" y="76"/>
                  </a:lnTo>
                  <a:lnTo>
                    <a:pt x="514" y="161"/>
                  </a:lnTo>
                  <a:lnTo>
                    <a:pt x="466" y="281"/>
                  </a:lnTo>
                  <a:lnTo>
                    <a:pt x="435" y="397"/>
                  </a:lnTo>
                  <a:lnTo>
                    <a:pt x="419" y="483"/>
                  </a:lnTo>
                  <a:lnTo>
                    <a:pt x="403" y="618"/>
                  </a:lnTo>
                  <a:lnTo>
                    <a:pt x="397" y="786"/>
                  </a:lnTo>
                  <a:lnTo>
                    <a:pt x="344" y="732"/>
                  </a:lnTo>
                  <a:lnTo>
                    <a:pt x="299" y="782"/>
                  </a:lnTo>
                  <a:lnTo>
                    <a:pt x="19" y="632"/>
                  </a:lnTo>
                  <a:lnTo>
                    <a:pt x="32" y="594"/>
                  </a:lnTo>
                  <a:lnTo>
                    <a:pt x="16" y="552"/>
                  </a:lnTo>
                  <a:lnTo>
                    <a:pt x="278" y="707"/>
                  </a:lnTo>
                  <a:lnTo>
                    <a:pt x="303" y="660"/>
                  </a:lnTo>
                  <a:lnTo>
                    <a:pt x="293" y="609"/>
                  </a:lnTo>
                  <a:lnTo>
                    <a:pt x="16" y="471"/>
                  </a:lnTo>
                  <a:lnTo>
                    <a:pt x="0" y="408"/>
                  </a:lnTo>
                  <a:lnTo>
                    <a:pt x="278" y="542"/>
                  </a:lnTo>
                  <a:lnTo>
                    <a:pt x="308" y="480"/>
                  </a:lnTo>
                  <a:lnTo>
                    <a:pt x="38" y="344"/>
                  </a:lnTo>
                  <a:lnTo>
                    <a:pt x="25" y="277"/>
                  </a:lnTo>
                  <a:lnTo>
                    <a:pt x="303" y="410"/>
                  </a:lnTo>
                  <a:lnTo>
                    <a:pt x="331" y="335"/>
                  </a:lnTo>
                  <a:lnTo>
                    <a:pt x="57" y="206"/>
                  </a:lnTo>
                  <a:lnTo>
                    <a:pt x="50" y="127"/>
                  </a:lnTo>
                  <a:lnTo>
                    <a:pt x="5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916280" y="4308480"/>
              <a:ext cx="242640" cy="155520"/>
            </a:xfrm>
            <a:custGeom>
              <a:avLst/>
              <a:gdLst/>
              <a:ahLst/>
              <a:rect l="l" t="t" r="r" b="b"/>
              <a:pathLst>
                <a:path w="306" h="196">
                  <a:moveTo>
                    <a:pt x="0" y="0"/>
                  </a:moveTo>
                  <a:lnTo>
                    <a:pt x="288" y="148"/>
                  </a:lnTo>
                  <a:lnTo>
                    <a:pt x="306" y="196"/>
                  </a:lnTo>
                  <a:lnTo>
                    <a:pt x="36" y="6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976400" y="4430520"/>
              <a:ext cx="200160" cy="108000"/>
            </a:xfrm>
            <a:custGeom>
              <a:avLst/>
              <a:gdLst/>
              <a:ahLst/>
              <a:rect l="l" t="t" r="r" b="b"/>
              <a:pathLst>
                <a:path w="252" h="136">
                  <a:moveTo>
                    <a:pt x="0" y="0"/>
                  </a:moveTo>
                  <a:lnTo>
                    <a:pt x="242" y="101"/>
                  </a:lnTo>
                  <a:lnTo>
                    <a:pt x="252" y="136"/>
                  </a:lnTo>
                  <a:lnTo>
                    <a:pt x="19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033640" y="4524480"/>
              <a:ext cx="193680" cy="96840"/>
            </a:xfrm>
            <a:custGeom>
              <a:avLst/>
              <a:gdLst/>
              <a:ahLst/>
              <a:rect l="l" t="t" r="r" b="b"/>
              <a:pathLst>
                <a:path w="243" h="123">
                  <a:moveTo>
                    <a:pt x="0" y="0"/>
                  </a:moveTo>
                  <a:lnTo>
                    <a:pt x="199" y="83"/>
                  </a:lnTo>
                  <a:lnTo>
                    <a:pt x="234" y="79"/>
                  </a:lnTo>
                  <a:lnTo>
                    <a:pt x="243" y="123"/>
                  </a:lnTo>
                  <a:lnTo>
                    <a:pt x="205" y="120"/>
                  </a:lnTo>
                  <a:lnTo>
                    <a:pt x="14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021040" y="3657600"/>
              <a:ext cx="206280" cy="137880"/>
            </a:xfrm>
            <a:custGeom>
              <a:avLst/>
              <a:gdLst/>
              <a:ahLst/>
              <a:rect l="l" t="t" r="r" b="b"/>
              <a:pathLst>
                <a:path w="258" h="174">
                  <a:moveTo>
                    <a:pt x="2" y="0"/>
                  </a:moveTo>
                  <a:lnTo>
                    <a:pt x="0" y="58"/>
                  </a:lnTo>
                  <a:lnTo>
                    <a:pt x="251" y="174"/>
                  </a:lnTo>
                  <a:lnTo>
                    <a:pt x="258" y="10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076480" y="3554280"/>
              <a:ext cx="225360" cy="139680"/>
            </a:xfrm>
            <a:custGeom>
              <a:avLst/>
              <a:gdLst/>
              <a:ahLst/>
              <a:rect l="l" t="t" r="r" b="b"/>
              <a:pathLst>
                <a:path w="284" h="176">
                  <a:moveTo>
                    <a:pt x="6" y="0"/>
                  </a:moveTo>
                  <a:lnTo>
                    <a:pt x="0" y="57"/>
                  </a:lnTo>
                  <a:lnTo>
                    <a:pt x="261" y="176"/>
                  </a:lnTo>
                  <a:lnTo>
                    <a:pt x="284" y="1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138400" y="3479760"/>
              <a:ext cx="216000" cy="130320"/>
            </a:xfrm>
            <a:custGeom>
              <a:avLst/>
              <a:gdLst/>
              <a:ahLst/>
              <a:rect l="l" t="t" r="r" b="b"/>
              <a:pathLst>
                <a:path w="272" h="164">
                  <a:moveTo>
                    <a:pt x="16" y="0"/>
                  </a:moveTo>
                  <a:lnTo>
                    <a:pt x="0" y="53"/>
                  </a:lnTo>
                  <a:lnTo>
                    <a:pt x="253" y="164"/>
                  </a:lnTo>
                  <a:lnTo>
                    <a:pt x="272" y="10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220840" y="3419280"/>
              <a:ext cx="203400" cy="115920"/>
            </a:xfrm>
            <a:custGeom>
              <a:avLst/>
              <a:gdLst/>
              <a:ahLst/>
              <a:rect l="l" t="t" r="r" b="b"/>
              <a:pathLst>
                <a:path w="256" h="145">
                  <a:moveTo>
                    <a:pt x="29" y="0"/>
                  </a:moveTo>
                  <a:lnTo>
                    <a:pt x="0" y="56"/>
                  </a:lnTo>
                  <a:lnTo>
                    <a:pt x="224" y="145"/>
                  </a:lnTo>
                  <a:lnTo>
                    <a:pt x="256" y="9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332080" y="3359160"/>
              <a:ext cx="195120" cy="74520"/>
            </a:xfrm>
            <a:custGeom>
              <a:avLst/>
              <a:gdLst/>
              <a:ahLst/>
              <a:rect l="l" t="t" r="r" b="b"/>
              <a:pathLst>
                <a:path w="245" h="94">
                  <a:moveTo>
                    <a:pt x="0" y="6"/>
                  </a:moveTo>
                  <a:lnTo>
                    <a:pt x="217" y="94"/>
                  </a:lnTo>
                  <a:lnTo>
                    <a:pt x="245" y="85"/>
                  </a:lnTo>
                  <a:lnTo>
                    <a:pt x="3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436840" y="3324240"/>
              <a:ext cx="200160" cy="666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0" y="0"/>
                  </a:moveTo>
                  <a:lnTo>
                    <a:pt x="206" y="85"/>
                  </a:lnTo>
                  <a:lnTo>
                    <a:pt x="253" y="81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56000" y="3298680"/>
              <a:ext cx="176040" cy="68400"/>
            </a:xfrm>
            <a:custGeom>
              <a:avLst/>
              <a:gdLst/>
              <a:ahLst/>
              <a:rect l="l" t="t" r="r" b="b"/>
              <a:pathLst>
                <a:path w="220" h="86">
                  <a:moveTo>
                    <a:pt x="0" y="9"/>
                  </a:moveTo>
                  <a:lnTo>
                    <a:pt x="195" y="86"/>
                  </a:lnTo>
                  <a:lnTo>
                    <a:pt x="220" y="73"/>
                  </a:lnTo>
                  <a:lnTo>
                    <a:pt x="32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309760" y="3403440"/>
              <a:ext cx="166680" cy="63720"/>
            </a:xfrm>
            <a:custGeom>
              <a:avLst/>
              <a:gdLst/>
              <a:ahLst/>
              <a:rect l="l" t="t" r="r" b="b"/>
              <a:pathLst>
                <a:path w="210" h="79">
                  <a:moveTo>
                    <a:pt x="0" y="0"/>
                  </a:moveTo>
                  <a:lnTo>
                    <a:pt x="170" y="79"/>
                  </a:lnTo>
                  <a:lnTo>
                    <a:pt x="21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297160" y="3722760"/>
              <a:ext cx="196920" cy="457200"/>
            </a:xfrm>
            <a:custGeom>
              <a:avLst/>
              <a:gdLst/>
              <a:ahLst/>
              <a:rect l="l" t="t" r="r" b="b"/>
              <a:pathLst>
                <a:path w="249" h="576">
                  <a:moveTo>
                    <a:pt x="161" y="0"/>
                  </a:moveTo>
                  <a:lnTo>
                    <a:pt x="79" y="113"/>
                  </a:lnTo>
                  <a:lnTo>
                    <a:pt x="31" y="189"/>
                  </a:lnTo>
                  <a:lnTo>
                    <a:pt x="0" y="286"/>
                  </a:lnTo>
                  <a:lnTo>
                    <a:pt x="66" y="218"/>
                  </a:lnTo>
                  <a:lnTo>
                    <a:pt x="111" y="198"/>
                  </a:lnTo>
                  <a:lnTo>
                    <a:pt x="133" y="211"/>
                  </a:lnTo>
                  <a:lnTo>
                    <a:pt x="123" y="246"/>
                  </a:lnTo>
                  <a:lnTo>
                    <a:pt x="95" y="293"/>
                  </a:lnTo>
                  <a:lnTo>
                    <a:pt x="95" y="347"/>
                  </a:lnTo>
                  <a:lnTo>
                    <a:pt x="113" y="385"/>
                  </a:lnTo>
                  <a:lnTo>
                    <a:pt x="95" y="442"/>
                  </a:lnTo>
                  <a:lnTo>
                    <a:pt x="41" y="485"/>
                  </a:lnTo>
                  <a:lnTo>
                    <a:pt x="16" y="539"/>
                  </a:lnTo>
                  <a:lnTo>
                    <a:pt x="25" y="576"/>
                  </a:lnTo>
                  <a:lnTo>
                    <a:pt x="66" y="494"/>
                  </a:lnTo>
                  <a:lnTo>
                    <a:pt x="101" y="479"/>
                  </a:lnTo>
                  <a:lnTo>
                    <a:pt x="133" y="457"/>
                  </a:lnTo>
                  <a:lnTo>
                    <a:pt x="138" y="415"/>
                  </a:lnTo>
                  <a:lnTo>
                    <a:pt x="192" y="410"/>
                  </a:lnTo>
                  <a:lnTo>
                    <a:pt x="233" y="388"/>
                  </a:lnTo>
                  <a:lnTo>
                    <a:pt x="224" y="372"/>
                  </a:lnTo>
                  <a:lnTo>
                    <a:pt x="158" y="381"/>
                  </a:lnTo>
                  <a:lnTo>
                    <a:pt x="133" y="343"/>
                  </a:lnTo>
                  <a:lnTo>
                    <a:pt x="133" y="315"/>
                  </a:lnTo>
                  <a:lnTo>
                    <a:pt x="149" y="293"/>
                  </a:lnTo>
                  <a:lnTo>
                    <a:pt x="170" y="286"/>
                  </a:lnTo>
                  <a:lnTo>
                    <a:pt x="199" y="293"/>
                  </a:lnTo>
                  <a:lnTo>
                    <a:pt x="240" y="315"/>
                  </a:lnTo>
                  <a:lnTo>
                    <a:pt x="249" y="286"/>
                  </a:lnTo>
                  <a:lnTo>
                    <a:pt x="233" y="258"/>
                  </a:lnTo>
                  <a:lnTo>
                    <a:pt x="205" y="240"/>
                  </a:lnTo>
                  <a:lnTo>
                    <a:pt x="154" y="233"/>
                  </a:lnTo>
                  <a:lnTo>
                    <a:pt x="189" y="166"/>
                  </a:lnTo>
                  <a:lnTo>
                    <a:pt x="208" y="91"/>
                  </a:lnTo>
                  <a:lnTo>
                    <a:pt x="221" y="28"/>
                  </a:lnTo>
                  <a:lnTo>
                    <a:pt x="161" y="53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540160" y="3779640"/>
              <a:ext cx="53640" cy="250920"/>
            </a:xfrm>
            <a:custGeom>
              <a:avLst/>
              <a:gdLst/>
              <a:ahLst/>
              <a:rect l="l" t="t" r="r" b="b"/>
              <a:pathLst>
                <a:path w="69" h="316">
                  <a:moveTo>
                    <a:pt x="3" y="0"/>
                  </a:moveTo>
                  <a:lnTo>
                    <a:pt x="0" y="28"/>
                  </a:lnTo>
                  <a:lnTo>
                    <a:pt x="9" y="60"/>
                  </a:lnTo>
                  <a:lnTo>
                    <a:pt x="38" y="105"/>
                  </a:lnTo>
                  <a:lnTo>
                    <a:pt x="44" y="168"/>
                  </a:lnTo>
                  <a:lnTo>
                    <a:pt x="47" y="243"/>
                  </a:lnTo>
                  <a:lnTo>
                    <a:pt x="31" y="316"/>
                  </a:lnTo>
                  <a:lnTo>
                    <a:pt x="69" y="212"/>
                  </a:lnTo>
                  <a:lnTo>
                    <a:pt x="67" y="123"/>
                  </a:lnTo>
                  <a:lnTo>
                    <a:pt x="51" y="6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762280" y="3906720"/>
              <a:ext cx="338040" cy="250920"/>
            </a:xfrm>
            <a:custGeom>
              <a:avLst/>
              <a:gdLst/>
              <a:ahLst/>
              <a:rect l="l" t="t" r="r" b="b"/>
              <a:pathLst>
                <a:path w="426" h="315">
                  <a:moveTo>
                    <a:pt x="378" y="22"/>
                  </a:moveTo>
                  <a:lnTo>
                    <a:pt x="423" y="44"/>
                  </a:lnTo>
                  <a:lnTo>
                    <a:pt x="426" y="82"/>
                  </a:lnTo>
                  <a:lnTo>
                    <a:pt x="416" y="126"/>
                  </a:lnTo>
                  <a:lnTo>
                    <a:pt x="387" y="136"/>
                  </a:lnTo>
                  <a:lnTo>
                    <a:pt x="341" y="114"/>
                  </a:lnTo>
                  <a:lnTo>
                    <a:pt x="265" y="94"/>
                  </a:lnTo>
                  <a:lnTo>
                    <a:pt x="215" y="105"/>
                  </a:lnTo>
                  <a:lnTo>
                    <a:pt x="181" y="145"/>
                  </a:lnTo>
                  <a:lnTo>
                    <a:pt x="224" y="186"/>
                  </a:lnTo>
                  <a:lnTo>
                    <a:pt x="331" y="205"/>
                  </a:lnTo>
                  <a:lnTo>
                    <a:pt x="394" y="209"/>
                  </a:lnTo>
                  <a:lnTo>
                    <a:pt x="385" y="268"/>
                  </a:lnTo>
                  <a:lnTo>
                    <a:pt x="350" y="309"/>
                  </a:lnTo>
                  <a:lnTo>
                    <a:pt x="274" y="315"/>
                  </a:lnTo>
                  <a:lnTo>
                    <a:pt x="215" y="297"/>
                  </a:lnTo>
                  <a:lnTo>
                    <a:pt x="117" y="256"/>
                  </a:lnTo>
                  <a:lnTo>
                    <a:pt x="61" y="211"/>
                  </a:lnTo>
                  <a:lnTo>
                    <a:pt x="20" y="171"/>
                  </a:lnTo>
                  <a:lnTo>
                    <a:pt x="0" y="139"/>
                  </a:lnTo>
                  <a:lnTo>
                    <a:pt x="9" y="114"/>
                  </a:lnTo>
                  <a:lnTo>
                    <a:pt x="50" y="78"/>
                  </a:lnTo>
                  <a:lnTo>
                    <a:pt x="117" y="37"/>
                  </a:lnTo>
                  <a:lnTo>
                    <a:pt x="177" y="16"/>
                  </a:lnTo>
                  <a:lnTo>
                    <a:pt x="227" y="0"/>
                  </a:lnTo>
                  <a:lnTo>
                    <a:pt x="299" y="3"/>
                  </a:lnTo>
                  <a:lnTo>
                    <a:pt x="378" y="22"/>
                  </a:lnTo>
                  <a:lnTo>
                    <a:pt x="37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606760" y="3784680"/>
              <a:ext cx="333360" cy="29880"/>
            </a:xfrm>
            <a:custGeom>
              <a:avLst/>
              <a:gdLst/>
              <a:ahLst/>
              <a:rect l="l" t="t" r="r" b="b"/>
              <a:pathLst>
                <a:path w="419" h="38">
                  <a:moveTo>
                    <a:pt x="0" y="6"/>
                  </a:moveTo>
                  <a:lnTo>
                    <a:pt x="70" y="29"/>
                  </a:lnTo>
                  <a:lnTo>
                    <a:pt x="167" y="38"/>
                  </a:lnTo>
                  <a:lnTo>
                    <a:pt x="274" y="29"/>
                  </a:lnTo>
                  <a:lnTo>
                    <a:pt x="365" y="20"/>
                  </a:lnTo>
                  <a:lnTo>
                    <a:pt x="419" y="20"/>
                  </a:lnTo>
                  <a:lnTo>
                    <a:pt x="344" y="0"/>
                  </a:lnTo>
                  <a:lnTo>
                    <a:pt x="236" y="0"/>
                  </a:lnTo>
                  <a:lnTo>
                    <a:pt x="129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233440" y="4108320"/>
              <a:ext cx="273240" cy="480960"/>
            </a:xfrm>
            <a:custGeom>
              <a:avLst/>
              <a:gdLst/>
              <a:ahLst/>
              <a:rect l="l" t="t" r="r" b="b"/>
              <a:pathLst>
                <a:path w="344" h="607">
                  <a:moveTo>
                    <a:pt x="0" y="0"/>
                  </a:moveTo>
                  <a:lnTo>
                    <a:pt x="20" y="152"/>
                  </a:lnTo>
                  <a:lnTo>
                    <a:pt x="35" y="253"/>
                  </a:lnTo>
                  <a:lnTo>
                    <a:pt x="76" y="347"/>
                  </a:lnTo>
                  <a:lnTo>
                    <a:pt x="120" y="401"/>
                  </a:lnTo>
                  <a:lnTo>
                    <a:pt x="76" y="297"/>
                  </a:lnTo>
                  <a:lnTo>
                    <a:pt x="63" y="209"/>
                  </a:lnTo>
                  <a:lnTo>
                    <a:pt x="60" y="155"/>
                  </a:lnTo>
                  <a:lnTo>
                    <a:pt x="99" y="247"/>
                  </a:lnTo>
                  <a:lnTo>
                    <a:pt x="136" y="383"/>
                  </a:lnTo>
                  <a:lnTo>
                    <a:pt x="192" y="471"/>
                  </a:lnTo>
                  <a:lnTo>
                    <a:pt x="249" y="543"/>
                  </a:lnTo>
                  <a:lnTo>
                    <a:pt x="306" y="607"/>
                  </a:lnTo>
                  <a:lnTo>
                    <a:pt x="344" y="600"/>
                  </a:lnTo>
                  <a:lnTo>
                    <a:pt x="332" y="571"/>
                  </a:lnTo>
                  <a:lnTo>
                    <a:pt x="221" y="451"/>
                  </a:lnTo>
                  <a:lnTo>
                    <a:pt x="155" y="344"/>
                  </a:lnTo>
                  <a:lnTo>
                    <a:pt x="133" y="281"/>
                  </a:lnTo>
                  <a:lnTo>
                    <a:pt x="104" y="197"/>
                  </a:lnTo>
                  <a:lnTo>
                    <a:pt x="86" y="165"/>
                  </a:lnTo>
                  <a:lnTo>
                    <a:pt x="83" y="123"/>
                  </a:lnTo>
                  <a:lnTo>
                    <a:pt x="70" y="86"/>
                  </a:lnTo>
                  <a:lnTo>
                    <a:pt x="35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349360" y="4043160"/>
              <a:ext cx="560520" cy="495360"/>
            </a:xfrm>
            <a:custGeom>
              <a:avLst/>
              <a:gdLst/>
              <a:ahLst/>
              <a:rect l="l" t="t" r="r" b="b"/>
              <a:pathLst>
                <a:path w="706" h="624">
                  <a:moveTo>
                    <a:pt x="0" y="160"/>
                  </a:moveTo>
                  <a:lnTo>
                    <a:pt x="22" y="122"/>
                  </a:lnTo>
                  <a:lnTo>
                    <a:pt x="72" y="101"/>
                  </a:lnTo>
                  <a:lnTo>
                    <a:pt x="136" y="97"/>
                  </a:lnTo>
                  <a:lnTo>
                    <a:pt x="180" y="75"/>
                  </a:lnTo>
                  <a:lnTo>
                    <a:pt x="221" y="40"/>
                  </a:lnTo>
                  <a:lnTo>
                    <a:pt x="259" y="0"/>
                  </a:lnTo>
                  <a:lnTo>
                    <a:pt x="212" y="72"/>
                  </a:lnTo>
                  <a:lnTo>
                    <a:pt x="171" y="113"/>
                  </a:lnTo>
                  <a:lnTo>
                    <a:pt x="155" y="147"/>
                  </a:lnTo>
                  <a:lnTo>
                    <a:pt x="165" y="163"/>
                  </a:lnTo>
                  <a:lnTo>
                    <a:pt x="212" y="230"/>
                  </a:lnTo>
                  <a:lnTo>
                    <a:pt x="284" y="306"/>
                  </a:lnTo>
                  <a:lnTo>
                    <a:pt x="337" y="410"/>
                  </a:lnTo>
                  <a:lnTo>
                    <a:pt x="404" y="441"/>
                  </a:lnTo>
                  <a:lnTo>
                    <a:pt x="423" y="432"/>
                  </a:lnTo>
                  <a:lnTo>
                    <a:pt x="420" y="396"/>
                  </a:lnTo>
                  <a:lnTo>
                    <a:pt x="382" y="350"/>
                  </a:lnTo>
                  <a:lnTo>
                    <a:pt x="423" y="356"/>
                  </a:lnTo>
                  <a:lnTo>
                    <a:pt x="476" y="394"/>
                  </a:lnTo>
                  <a:lnTo>
                    <a:pt x="520" y="441"/>
                  </a:lnTo>
                  <a:lnTo>
                    <a:pt x="583" y="464"/>
                  </a:lnTo>
                  <a:lnTo>
                    <a:pt x="681" y="469"/>
                  </a:lnTo>
                  <a:lnTo>
                    <a:pt x="706" y="498"/>
                  </a:lnTo>
                  <a:lnTo>
                    <a:pt x="618" y="568"/>
                  </a:lnTo>
                  <a:lnTo>
                    <a:pt x="489" y="624"/>
                  </a:lnTo>
                  <a:lnTo>
                    <a:pt x="505" y="568"/>
                  </a:lnTo>
                  <a:lnTo>
                    <a:pt x="482" y="557"/>
                  </a:lnTo>
                  <a:lnTo>
                    <a:pt x="409" y="543"/>
                  </a:lnTo>
                  <a:lnTo>
                    <a:pt x="337" y="507"/>
                  </a:lnTo>
                  <a:lnTo>
                    <a:pt x="280" y="457"/>
                  </a:lnTo>
                  <a:lnTo>
                    <a:pt x="240" y="407"/>
                  </a:lnTo>
                  <a:lnTo>
                    <a:pt x="203" y="350"/>
                  </a:lnTo>
                  <a:lnTo>
                    <a:pt x="165" y="292"/>
                  </a:lnTo>
                  <a:lnTo>
                    <a:pt x="110" y="224"/>
                  </a:lnTo>
                  <a:lnTo>
                    <a:pt x="63" y="182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208240" y="4238640"/>
              <a:ext cx="473040" cy="525240"/>
            </a:xfrm>
            <a:custGeom>
              <a:avLst/>
              <a:gdLst/>
              <a:ahLst/>
              <a:rect l="l" t="t" r="r" b="b"/>
              <a:pathLst>
                <a:path w="597" h="662">
                  <a:moveTo>
                    <a:pt x="16" y="0"/>
                  </a:moveTo>
                  <a:lnTo>
                    <a:pt x="7" y="82"/>
                  </a:lnTo>
                  <a:lnTo>
                    <a:pt x="0" y="195"/>
                  </a:lnTo>
                  <a:lnTo>
                    <a:pt x="20" y="293"/>
                  </a:lnTo>
                  <a:lnTo>
                    <a:pt x="52" y="372"/>
                  </a:lnTo>
                  <a:lnTo>
                    <a:pt x="86" y="451"/>
                  </a:lnTo>
                  <a:lnTo>
                    <a:pt x="131" y="536"/>
                  </a:lnTo>
                  <a:lnTo>
                    <a:pt x="196" y="612"/>
                  </a:lnTo>
                  <a:lnTo>
                    <a:pt x="231" y="587"/>
                  </a:lnTo>
                  <a:lnTo>
                    <a:pt x="269" y="621"/>
                  </a:lnTo>
                  <a:lnTo>
                    <a:pt x="322" y="599"/>
                  </a:lnTo>
                  <a:lnTo>
                    <a:pt x="367" y="646"/>
                  </a:lnTo>
                  <a:lnTo>
                    <a:pt x="414" y="621"/>
                  </a:lnTo>
                  <a:lnTo>
                    <a:pt x="448" y="656"/>
                  </a:lnTo>
                  <a:lnTo>
                    <a:pt x="502" y="624"/>
                  </a:lnTo>
                  <a:lnTo>
                    <a:pt x="568" y="662"/>
                  </a:lnTo>
                  <a:lnTo>
                    <a:pt x="597" y="624"/>
                  </a:lnTo>
                  <a:lnTo>
                    <a:pt x="565" y="551"/>
                  </a:lnTo>
                  <a:lnTo>
                    <a:pt x="518" y="558"/>
                  </a:lnTo>
                  <a:lnTo>
                    <a:pt x="464" y="605"/>
                  </a:lnTo>
                  <a:lnTo>
                    <a:pt x="426" y="542"/>
                  </a:lnTo>
                  <a:lnTo>
                    <a:pt x="396" y="539"/>
                  </a:lnTo>
                  <a:lnTo>
                    <a:pt x="373" y="592"/>
                  </a:lnTo>
                  <a:lnTo>
                    <a:pt x="348" y="530"/>
                  </a:lnTo>
                  <a:lnTo>
                    <a:pt x="303" y="510"/>
                  </a:lnTo>
                  <a:lnTo>
                    <a:pt x="272" y="562"/>
                  </a:lnTo>
                  <a:lnTo>
                    <a:pt x="272" y="488"/>
                  </a:lnTo>
                  <a:lnTo>
                    <a:pt x="203" y="432"/>
                  </a:lnTo>
                  <a:lnTo>
                    <a:pt x="136" y="362"/>
                  </a:lnTo>
                  <a:lnTo>
                    <a:pt x="76" y="265"/>
                  </a:lnTo>
                  <a:lnTo>
                    <a:pt x="45" y="182"/>
                  </a:lnTo>
                  <a:lnTo>
                    <a:pt x="29" y="1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643120" y="3784680"/>
              <a:ext cx="507960" cy="841320"/>
            </a:xfrm>
            <a:custGeom>
              <a:avLst/>
              <a:gdLst/>
              <a:ahLst/>
              <a:rect l="l" t="t" r="r" b="b"/>
              <a:pathLst>
                <a:path w="639" h="1060">
                  <a:moveTo>
                    <a:pt x="0" y="1060"/>
                  </a:moveTo>
                  <a:lnTo>
                    <a:pt x="104" y="1057"/>
                  </a:lnTo>
                  <a:lnTo>
                    <a:pt x="193" y="1026"/>
                  </a:lnTo>
                  <a:lnTo>
                    <a:pt x="281" y="966"/>
                  </a:lnTo>
                  <a:lnTo>
                    <a:pt x="379" y="887"/>
                  </a:lnTo>
                  <a:lnTo>
                    <a:pt x="454" y="799"/>
                  </a:lnTo>
                  <a:lnTo>
                    <a:pt x="535" y="663"/>
                  </a:lnTo>
                  <a:lnTo>
                    <a:pt x="596" y="505"/>
                  </a:lnTo>
                  <a:lnTo>
                    <a:pt x="621" y="364"/>
                  </a:lnTo>
                  <a:lnTo>
                    <a:pt x="639" y="224"/>
                  </a:lnTo>
                  <a:lnTo>
                    <a:pt x="618" y="54"/>
                  </a:lnTo>
                  <a:lnTo>
                    <a:pt x="599" y="0"/>
                  </a:lnTo>
                  <a:lnTo>
                    <a:pt x="609" y="114"/>
                  </a:lnTo>
                  <a:lnTo>
                    <a:pt x="599" y="249"/>
                  </a:lnTo>
                  <a:lnTo>
                    <a:pt x="583" y="366"/>
                  </a:lnTo>
                  <a:lnTo>
                    <a:pt x="558" y="502"/>
                  </a:lnTo>
                  <a:lnTo>
                    <a:pt x="505" y="634"/>
                  </a:lnTo>
                  <a:lnTo>
                    <a:pt x="406" y="770"/>
                  </a:lnTo>
                  <a:lnTo>
                    <a:pt x="340" y="853"/>
                  </a:lnTo>
                  <a:lnTo>
                    <a:pt x="272" y="922"/>
                  </a:lnTo>
                  <a:lnTo>
                    <a:pt x="136" y="1004"/>
                  </a:lnTo>
                  <a:lnTo>
                    <a:pt x="0" y="1060"/>
                  </a:lnTo>
                  <a:lnTo>
                    <a:pt x="0" y="10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676600" y="4360680"/>
              <a:ext cx="452520" cy="400320"/>
            </a:xfrm>
            <a:custGeom>
              <a:avLst/>
              <a:gdLst/>
              <a:ahLst/>
              <a:rect l="l" t="t" r="r" b="b"/>
              <a:pathLst>
                <a:path w="570" h="505">
                  <a:moveTo>
                    <a:pt x="0" y="470"/>
                  </a:moveTo>
                  <a:lnTo>
                    <a:pt x="33" y="404"/>
                  </a:lnTo>
                  <a:lnTo>
                    <a:pt x="81" y="429"/>
                  </a:lnTo>
                  <a:lnTo>
                    <a:pt x="106" y="372"/>
                  </a:lnTo>
                  <a:lnTo>
                    <a:pt x="153" y="394"/>
                  </a:lnTo>
                  <a:lnTo>
                    <a:pt x="185" y="334"/>
                  </a:lnTo>
                  <a:lnTo>
                    <a:pt x="230" y="344"/>
                  </a:lnTo>
                  <a:lnTo>
                    <a:pt x="251" y="297"/>
                  </a:lnTo>
                  <a:lnTo>
                    <a:pt x="324" y="293"/>
                  </a:lnTo>
                  <a:lnTo>
                    <a:pt x="337" y="224"/>
                  </a:lnTo>
                  <a:lnTo>
                    <a:pt x="380" y="211"/>
                  </a:lnTo>
                  <a:lnTo>
                    <a:pt x="402" y="161"/>
                  </a:lnTo>
                  <a:lnTo>
                    <a:pt x="459" y="136"/>
                  </a:lnTo>
                  <a:lnTo>
                    <a:pt x="472" y="76"/>
                  </a:lnTo>
                  <a:lnTo>
                    <a:pt x="522" y="66"/>
                  </a:lnTo>
                  <a:lnTo>
                    <a:pt x="570" y="0"/>
                  </a:lnTo>
                  <a:lnTo>
                    <a:pt x="551" y="79"/>
                  </a:lnTo>
                  <a:lnTo>
                    <a:pt x="538" y="120"/>
                  </a:lnTo>
                  <a:lnTo>
                    <a:pt x="509" y="123"/>
                  </a:lnTo>
                  <a:lnTo>
                    <a:pt x="493" y="177"/>
                  </a:lnTo>
                  <a:lnTo>
                    <a:pt x="444" y="196"/>
                  </a:lnTo>
                  <a:lnTo>
                    <a:pt x="425" y="256"/>
                  </a:lnTo>
                  <a:lnTo>
                    <a:pt x="377" y="261"/>
                  </a:lnTo>
                  <a:lnTo>
                    <a:pt x="362" y="322"/>
                  </a:lnTo>
                  <a:lnTo>
                    <a:pt x="321" y="344"/>
                  </a:lnTo>
                  <a:lnTo>
                    <a:pt x="292" y="385"/>
                  </a:lnTo>
                  <a:lnTo>
                    <a:pt x="242" y="382"/>
                  </a:lnTo>
                  <a:lnTo>
                    <a:pt x="223" y="422"/>
                  </a:lnTo>
                  <a:lnTo>
                    <a:pt x="176" y="422"/>
                  </a:lnTo>
                  <a:lnTo>
                    <a:pt x="142" y="467"/>
                  </a:lnTo>
                  <a:lnTo>
                    <a:pt x="94" y="464"/>
                  </a:lnTo>
                  <a:lnTo>
                    <a:pt x="56" y="505"/>
                  </a:lnTo>
                  <a:lnTo>
                    <a:pt x="0" y="47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1603440" y="2808360"/>
              <a:ext cx="422280" cy="4572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16"/>
                  </a:moveTo>
                  <a:lnTo>
                    <a:pt x="36" y="4"/>
                  </a:lnTo>
                  <a:lnTo>
                    <a:pt x="88" y="0"/>
                  </a:lnTo>
                  <a:lnTo>
                    <a:pt x="375" y="25"/>
                  </a:lnTo>
                  <a:lnTo>
                    <a:pt x="483" y="44"/>
                  </a:lnTo>
                  <a:lnTo>
                    <a:pt x="534" y="59"/>
                  </a:lnTo>
                  <a:lnTo>
                    <a:pt x="71" y="28"/>
                  </a:lnTo>
                  <a:lnTo>
                    <a:pt x="10" y="33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470320" y="3030480"/>
              <a:ext cx="93600" cy="142920"/>
            </a:xfrm>
            <a:custGeom>
              <a:avLst/>
              <a:gdLst/>
              <a:ahLst/>
              <a:rect l="l" t="t" r="r" b="b"/>
              <a:pathLst>
                <a:path w="118" h="179">
                  <a:moveTo>
                    <a:pt x="14" y="17"/>
                  </a:moveTo>
                  <a:lnTo>
                    <a:pt x="0" y="149"/>
                  </a:lnTo>
                  <a:lnTo>
                    <a:pt x="5" y="173"/>
                  </a:lnTo>
                  <a:lnTo>
                    <a:pt x="36" y="177"/>
                  </a:lnTo>
                  <a:lnTo>
                    <a:pt x="45" y="38"/>
                  </a:lnTo>
                  <a:lnTo>
                    <a:pt x="54" y="26"/>
                  </a:lnTo>
                  <a:lnTo>
                    <a:pt x="76" y="29"/>
                  </a:lnTo>
                  <a:lnTo>
                    <a:pt x="99" y="38"/>
                  </a:lnTo>
                  <a:lnTo>
                    <a:pt x="87" y="179"/>
                  </a:lnTo>
                  <a:lnTo>
                    <a:pt x="107" y="175"/>
                  </a:lnTo>
                  <a:lnTo>
                    <a:pt x="118" y="26"/>
                  </a:lnTo>
                  <a:lnTo>
                    <a:pt x="87" y="10"/>
                  </a:lnTo>
                  <a:lnTo>
                    <a:pt x="54" y="0"/>
                  </a:lnTo>
                  <a:lnTo>
                    <a:pt x="34" y="2"/>
                  </a:lnTo>
                  <a:lnTo>
                    <a:pt x="14" y="17"/>
                  </a:lnTo>
                  <a:lnTo>
                    <a:pt x="1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960560" y="3138480"/>
              <a:ext cx="703440" cy="571320"/>
            </a:xfrm>
            <a:custGeom>
              <a:avLst/>
              <a:gdLst/>
              <a:ahLst/>
              <a:rect l="l" t="t" r="r" b="b"/>
              <a:pathLst>
                <a:path w="887" h="721">
                  <a:moveTo>
                    <a:pt x="613" y="8"/>
                  </a:moveTo>
                  <a:lnTo>
                    <a:pt x="610" y="27"/>
                  </a:lnTo>
                  <a:lnTo>
                    <a:pt x="646" y="43"/>
                  </a:lnTo>
                  <a:lnTo>
                    <a:pt x="704" y="55"/>
                  </a:lnTo>
                  <a:lnTo>
                    <a:pt x="754" y="55"/>
                  </a:lnTo>
                  <a:lnTo>
                    <a:pt x="787" y="43"/>
                  </a:lnTo>
                  <a:lnTo>
                    <a:pt x="816" y="50"/>
                  </a:lnTo>
                  <a:lnTo>
                    <a:pt x="808" y="147"/>
                  </a:lnTo>
                  <a:lnTo>
                    <a:pt x="761" y="159"/>
                  </a:lnTo>
                  <a:lnTo>
                    <a:pt x="690" y="154"/>
                  </a:lnTo>
                  <a:lnTo>
                    <a:pt x="619" y="141"/>
                  </a:lnTo>
                  <a:lnTo>
                    <a:pt x="554" y="123"/>
                  </a:lnTo>
                  <a:lnTo>
                    <a:pt x="530" y="90"/>
                  </a:lnTo>
                  <a:lnTo>
                    <a:pt x="530" y="126"/>
                  </a:lnTo>
                  <a:lnTo>
                    <a:pt x="528" y="157"/>
                  </a:lnTo>
                  <a:lnTo>
                    <a:pt x="488" y="207"/>
                  </a:lnTo>
                  <a:lnTo>
                    <a:pt x="441" y="227"/>
                  </a:lnTo>
                  <a:lnTo>
                    <a:pt x="400" y="278"/>
                  </a:lnTo>
                  <a:lnTo>
                    <a:pt x="332" y="298"/>
                  </a:lnTo>
                  <a:lnTo>
                    <a:pt x="292" y="343"/>
                  </a:lnTo>
                  <a:lnTo>
                    <a:pt x="207" y="367"/>
                  </a:lnTo>
                  <a:lnTo>
                    <a:pt x="169" y="433"/>
                  </a:lnTo>
                  <a:lnTo>
                    <a:pt x="111" y="471"/>
                  </a:lnTo>
                  <a:lnTo>
                    <a:pt x="80" y="554"/>
                  </a:lnTo>
                  <a:lnTo>
                    <a:pt x="40" y="577"/>
                  </a:lnTo>
                  <a:lnTo>
                    <a:pt x="0" y="673"/>
                  </a:lnTo>
                  <a:lnTo>
                    <a:pt x="9" y="721"/>
                  </a:lnTo>
                  <a:lnTo>
                    <a:pt x="59" y="623"/>
                  </a:lnTo>
                  <a:lnTo>
                    <a:pt x="125" y="584"/>
                  </a:lnTo>
                  <a:lnTo>
                    <a:pt x="142" y="501"/>
                  </a:lnTo>
                  <a:lnTo>
                    <a:pt x="198" y="495"/>
                  </a:lnTo>
                  <a:lnTo>
                    <a:pt x="242" y="414"/>
                  </a:lnTo>
                  <a:lnTo>
                    <a:pt x="306" y="411"/>
                  </a:lnTo>
                  <a:lnTo>
                    <a:pt x="356" y="329"/>
                  </a:lnTo>
                  <a:lnTo>
                    <a:pt x="408" y="336"/>
                  </a:lnTo>
                  <a:lnTo>
                    <a:pt x="457" y="263"/>
                  </a:lnTo>
                  <a:lnTo>
                    <a:pt x="528" y="266"/>
                  </a:lnTo>
                  <a:lnTo>
                    <a:pt x="568" y="218"/>
                  </a:lnTo>
                  <a:lnTo>
                    <a:pt x="631" y="230"/>
                  </a:lnTo>
                  <a:lnTo>
                    <a:pt x="688" y="181"/>
                  </a:lnTo>
                  <a:lnTo>
                    <a:pt x="745" y="207"/>
                  </a:lnTo>
                  <a:lnTo>
                    <a:pt x="794" y="178"/>
                  </a:lnTo>
                  <a:lnTo>
                    <a:pt x="856" y="204"/>
                  </a:lnTo>
                  <a:lnTo>
                    <a:pt x="887" y="185"/>
                  </a:lnTo>
                  <a:lnTo>
                    <a:pt x="825" y="152"/>
                  </a:lnTo>
                  <a:lnTo>
                    <a:pt x="827" y="41"/>
                  </a:lnTo>
                  <a:lnTo>
                    <a:pt x="792" y="24"/>
                  </a:lnTo>
                  <a:lnTo>
                    <a:pt x="750" y="15"/>
                  </a:lnTo>
                  <a:lnTo>
                    <a:pt x="730" y="34"/>
                  </a:lnTo>
                  <a:lnTo>
                    <a:pt x="667" y="30"/>
                  </a:lnTo>
                  <a:lnTo>
                    <a:pt x="647" y="0"/>
                  </a:lnTo>
                  <a:lnTo>
                    <a:pt x="613" y="8"/>
                  </a:lnTo>
                  <a:lnTo>
                    <a:pt x="6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539720" y="3632040"/>
              <a:ext cx="150840" cy="200160"/>
            </a:xfrm>
            <a:custGeom>
              <a:avLst/>
              <a:gdLst/>
              <a:ahLst/>
              <a:rect l="l" t="t" r="r" b="b"/>
              <a:pathLst>
                <a:path w="191" h="251">
                  <a:moveTo>
                    <a:pt x="70" y="196"/>
                  </a:moveTo>
                  <a:lnTo>
                    <a:pt x="23" y="65"/>
                  </a:lnTo>
                  <a:lnTo>
                    <a:pt x="0" y="0"/>
                  </a:lnTo>
                  <a:lnTo>
                    <a:pt x="74" y="37"/>
                  </a:lnTo>
                  <a:lnTo>
                    <a:pt x="168" y="89"/>
                  </a:lnTo>
                  <a:lnTo>
                    <a:pt x="191" y="116"/>
                  </a:lnTo>
                  <a:lnTo>
                    <a:pt x="153" y="251"/>
                  </a:lnTo>
                  <a:lnTo>
                    <a:pt x="70" y="196"/>
                  </a:lnTo>
                  <a:lnTo>
                    <a:pt x="70" y="196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158840" y="3456000"/>
              <a:ext cx="522360" cy="761760"/>
            </a:xfrm>
            <a:custGeom>
              <a:avLst/>
              <a:gdLst/>
              <a:ahLst/>
              <a:rect l="l" t="t" r="r" b="b"/>
              <a:pathLst>
                <a:path w="656" h="960">
                  <a:moveTo>
                    <a:pt x="0" y="385"/>
                  </a:moveTo>
                  <a:lnTo>
                    <a:pt x="0" y="538"/>
                  </a:lnTo>
                  <a:lnTo>
                    <a:pt x="6" y="569"/>
                  </a:lnTo>
                  <a:lnTo>
                    <a:pt x="20" y="593"/>
                  </a:lnTo>
                  <a:lnTo>
                    <a:pt x="42" y="615"/>
                  </a:lnTo>
                  <a:lnTo>
                    <a:pt x="656" y="960"/>
                  </a:lnTo>
                  <a:lnTo>
                    <a:pt x="632" y="856"/>
                  </a:lnTo>
                  <a:lnTo>
                    <a:pt x="621" y="769"/>
                  </a:lnTo>
                  <a:lnTo>
                    <a:pt x="614" y="635"/>
                  </a:lnTo>
                  <a:lnTo>
                    <a:pt x="632" y="478"/>
                  </a:lnTo>
                  <a:lnTo>
                    <a:pt x="650" y="418"/>
                  </a:lnTo>
                  <a:lnTo>
                    <a:pt x="565" y="372"/>
                  </a:lnTo>
                  <a:lnTo>
                    <a:pt x="532" y="378"/>
                  </a:lnTo>
                  <a:lnTo>
                    <a:pt x="541" y="443"/>
                  </a:lnTo>
                  <a:lnTo>
                    <a:pt x="534" y="478"/>
                  </a:lnTo>
                  <a:lnTo>
                    <a:pt x="512" y="505"/>
                  </a:lnTo>
                  <a:lnTo>
                    <a:pt x="478" y="531"/>
                  </a:lnTo>
                  <a:lnTo>
                    <a:pt x="441" y="542"/>
                  </a:lnTo>
                  <a:lnTo>
                    <a:pt x="397" y="538"/>
                  </a:lnTo>
                  <a:lnTo>
                    <a:pt x="324" y="507"/>
                  </a:lnTo>
                  <a:lnTo>
                    <a:pt x="262" y="458"/>
                  </a:lnTo>
                  <a:lnTo>
                    <a:pt x="220" y="396"/>
                  </a:lnTo>
                  <a:lnTo>
                    <a:pt x="202" y="347"/>
                  </a:lnTo>
                  <a:lnTo>
                    <a:pt x="189" y="283"/>
                  </a:lnTo>
                  <a:lnTo>
                    <a:pt x="197" y="215"/>
                  </a:lnTo>
                  <a:lnTo>
                    <a:pt x="227" y="181"/>
                  </a:lnTo>
                  <a:lnTo>
                    <a:pt x="260" y="165"/>
                  </a:lnTo>
                  <a:lnTo>
                    <a:pt x="299" y="148"/>
                  </a:lnTo>
                  <a:lnTo>
                    <a:pt x="337" y="144"/>
                  </a:lnTo>
                  <a:lnTo>
                    <a:pt x="37" y="0"/>
                  </a:lnTo>
                  <a:lnTo>
                    <a:pt x="22" y="356"/>
                  </a:lnTo>
                  <a:lnTo>
                    <a:pt x="576" y="658"/>
                  </a:lnTo>
                  <a:lnTo>
                    <a:pt x="559" y="682"/>
                  </a:lnTo>
                  <a:lnTo>
                    <a:pt x="0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57640" y="533520"/>
            <a:ext cx="1238040" cy="14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32320" y="687240"/>
            <a:ext cx="54000" cy="177840"/>
          </a:xfrm>
          <a:custGeom>
            <a:avLst/>
            <a:gdLst/>
            <a:ahLst/>
            <a:rect l="l" t="t" r="r" b="b"/>
            <a:pathLst>
              <a:path w="69" h="225">
                <a:moveTo>
                  <a:pt x="69" y="220"/>
                </a:moveTo>
                <a:lnTo>
                  <a:pt x="67" y="42"/>
                </a:lnTo>
                <a:lnTo>
                  <a:pt x="8" y="0"/>
                </a:lnTo>
                <a:lnTo>
                  <a:pt x="0" y="2"/>
                </a:lnTo>
                <a:lnTo>
                  <a:pt x="1" y="7"/>
                </a:lnTo>
                <a:lnTo>
                  <a:pt x="8" y="14"/>
                </a:lnTo>
                <a:lnTo>
                  <a:pt x="14" y="15"/>
                </a:lnTo>
                <a:lnTo>
                  <a:pt x="39" y="197"/>
                </a:lnTo>
                <a:lnTo>
                  <a:pt x="47" y="200"/>
                </a:lnTo>
                <a:lnTo>
                  <a:pt x="54" y="206"/>
                </a:lnTo>
                <a:lnTo>
                  <a:pt x="59" y="215"/>
                </a:lnTo>
                <a:lnTo>
                  <a:pt x="64" y="225"/>
                </a:lnTo>
                <a:lnTo>
                  <a:pt x="64" y="225"/>
                </a:lnTo>
                <a:lnTo>
                  <a:pt x="67" y="221"/>
                </a:lnTo>
                <a:lnTo>
                  <a:pt x="69" y="220"/>
                </a:lnTo>
                <a:lnTo>
                  <a:pt x="69" y="2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1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3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0104488" descr=""/>
          <p:cNvPicPr/>
          <p:nvPr/>
        </p:nvPicPr>
        <p:blipFill>
          <a:blip r:embed="rId1"/>
          <a:stretch/>
        </p:blipFill>
        <p:spPr>
          <a:xfrm>
            <a:off x="6019920" y="307980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54" name="j0104508" descr=""/>
          <p:cNvPicPr/>
          <p:nvPr/>
        </p:nvPicPr>
        <p:blipFill>
          <a:blip r:embed="rId2"/>
          <a:stretch/>
        </p:blipFill>
        <p:spPr>
          <a:xfrm>
            <a:off x="1676520" y="3079800"/>
            <a:ext cx="14605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3" name=""/>
          <p:cNvGrpSpPr/>
          <p:nvPr/>
        </p:nvGrpSpPr>
        <p:grpSpPr>
          <a:xfrm>
            <a:off x="6248520" y="3124080"/>
            <a:ext cx="1641240" cy="1717920"/>
            <a:chOff x="6248520" y="3124080"/>
            <a:chExt cx="1641240" cy="1717920"/>
          </a:xfrm>
        </p:grpSpPr>
        <p:sp>
          <p:nvSpPr>
            <p:cNvPr id="2404" name=""/>
            <p:cNvSpPr/>
            <p:nvPr/>
          </p:nvSpPr>
          <p:spPr>
            <a:xfrm>
              <a:off x="6248520" y="3124080"/>
              <a:ext cx="164124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80200" y="3351240"/>
              <a:ext cx="1431720" cy="1324080"/>
            </a:xfrm>
            <a:custGeom>
              <a:avLst/>
              <a:gdLst/>
              <a:ahLst/>
              <a:rect l="l" t="t" r="r" b="b"/>
              <a:pathLst>
                <a:path w="1804" h="1668">
                  <a:moveTo>
                    <a:pt x="382" y="1668"/>
                  </a:moveTo>
                  <a:lnTo>
                    <a:pt x="138" y="1563"/>
                  </a:lnTo>
                  <a:lnTo>
                    <a:pt x="109" y="1501"/>
                  </a:lnTo>
                  <a:lnTo>
                    <a:pt x="46" y="1439"/>
                  </a:lnTo>
                  <a:lnTo>
                    <a:pt x="62" y="1346"/>
                  </a:lnTo>
                  <a:lnTo>
                    <a:pt x="167" y="963"/>
                  </a:lnTo>
                  <a:lnTo>
                    <a:pt x="138" y="872"/>
                  </a:lnTo>
                  <a:lnTo>
                    <a:pt x="76" y="887"/>
                  </a:lnTo>
                  <a:lnTo>
                    <a:pt x="76" y="825"/>
                  </a:lnTo>
                  <a:lnTo>
                    <a:pt x="138" y="734"/>
                  </a:lnTo>
                  <a:lnTo>
                    <a:pt x="46" y="582"/>
                  </a:lnTo>
                  <a:lnTo>
                    <a:pt x="17" y="522"/>
                  </a:lnTo>
                  <a:lnTo>
                    <a:pt x="0" y="491"/>
                  </a:lnTo>
                  <a:lnTo>
                    <a:pt x="0" y="429"/>
                  </a:lnTo>
                  <a:lnTo>
                    <a:pt x="184" y="170"/>
                  </a:lnTo>
                  <a:lnTo>
                    <a:pt x="223" y="143"/>
                  </a:lnTo>
                  <a:lnTo>
                    <a:pt x="264" y="122"/>
                  </a:lnTo>
                  <a:lnTo>
                    <a:pt x="305" y="103"/>
                  </a:lnTo>
                  <a:lnTo>
                    <a:pt x="343" y="87"/>
                  </a:lnTo>
                  <a:lnTo>
                    <a:pt x="384" y="75"/>
                  </a:lnTo>
                  <a:lnTo>
                    <a:pt x="425" y="66"/>
                  </a:lnTo>
                  <a:lnTo>
                    <a:pt x="464" y="58"/>
                  </a:lnTo>
                  <a:lnTo>
                    <a:pt x="505" y="50"/>
                  </a:lnTo>
                  <a:lnTo>
                    <a:pt x="545" y="46"/>
                  </a:lnTo>
                  <a:lnTo>
                    <a:pt x="584" y="40"/>
                  </a:lnTo>
                  <a:lnTo>
                    <a:pt x="625" y="36"/>
                  </a:lnTo>
                  <a:lnTo>
                    <a:pt x="666" y="31"/>
                  </a:lnTo>
                  <a:lnTo>
                    <a:pt x="705" y="25"/>
                  </a:lnTo>
                  <a:lnTo>
                    <a:pt x="745" y="19"/>
                  </a:lnTo>
                  <a:lnTo>
                    <a:pt x="786" y="9"/>
                  </a:lnTo>
                  <a:lnTo>
                    <a:pt x="825" y="0"/>
                  </a:lnTo>
                  <a:lnTo>
                    <a:pt x="1421" y="93"/>
                  </a:lnTo>
                  <a:lnTo>
                    <a:pt x="1468" y="79"/>
                  </a:lnTo>
                  <a:lnTo>
                    <a:pt x="1621" y="93"/>
                  </a:lnTo>
                  <a:lnTo>
                    <a:pt x="1742" y="229"/>
                  </a:lnTo>
                  <a:lnTo>
                    <a:pt x="1788" y="643"/>
                  </a:lnTo>
                  <a:lnTo>
                    <a:pt x="1759" y="751"/>
                  </a:lnTo>
                  <a:lnTo>
                    <a:pt x="1771" y="837"/>
                  </a:lnTo>
                  <a:lnTo>
                    <a:pt x="1782" y="920"/>
                  </a:lnTo>
                  <a:lnTo>
                    <a:pt x="1792" y="1004"/>
                  </a:lnTo>
                  <a:lnTo>
                    <a:pt x="1800" y="1085"/>
                  </a:lnTo>
                  <a:lnTo>
                    <a:pt x="1804" y="1169"/>
                  </a:lnTo>
                  <a:lnTo>
                    <a:pt x="1802" y="1252"/>
                  </a:lnTo>
                  <a:lnTo>
                    <a:pt x="1792" y="1336"/>
                  </a:lnTo>
                  <a:lnTo>
                    <a:pt x="1775" y="1422"/>
                  </a:lnTo>
                  <a:lnTo>
                    <a:pt x="1270" y="1530"/>
                  </a:lnTo>
                  <a:lnTo>
                    <a:pt x="1085" y="1577"/>
                  </a:lnTo>
                  <a:lnTo>
                    <a:pt x="382" y="1668"/>
                  </a:lnTo>
                  <a:close/>
                </a:path>
              </a:pathLst>
            </a:custGeom>
            <a:solidFill>
              <a:srgbClr val="33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256440" y="3133800"/>
              <a:ext cx="1623960" cy="1700280"/>
            </a:xfrm>
            <a:custGeom>
              <a:avLst/>
              <a:gdLst/>
              <a:ahLst/>
              <a:rect l="l" t="t" r="r" b="b"/>
              <a:pathLst>
                <a:path w="2046" h="2142">
                  <a:moveTo>
                    <a:pt x="1159" y="2142"/>
                  </a:moveTo>
                  <a:lnTo>
                    <a:pt x="242" y="1699"/>
                  </a:lnTo>
                  <a:lnTo>
                    <a:pt x="213" y="1730"/>
                  </a:lnTo>
                  <a:lnTo>
                    <a:pt x="153" y="1699"/>
                  </a:lnTo>
                  <a:lnTo>
                    <a:pt x="138" y="1593"/>
                  </a:lnTo>
                  <a:lnTo>
                    <a:pt x="0" y="1501"/>
                  </a:lnTo>
                  <a:lnTo>
                    <a:pt x="0" y="1439"/>
                  </a:lnTo>
                  <a:lnTo>
                    <a:pt x="138" y="1439"/>
                  </a:lnTo>
                  <a:lnTo>
                    <a:pt x="107" y="917"/>
                  </a:lnTo>
                  <a:lnTo>
                    <a:pt x="44" y="934"/>
                  </a:lnTo>
                  <a:lnTo>
                    <a:pt x="44" y="812"/>
                  </a:lnTo>
                  <a:lnTo>
                    <a:pt x="107" y="734"/>
                  </a:lnTo>
                  <a:lnTo>
                    <a:pt x="167" y="582"/>
                  </a:lnTo>
                  <a:lnTo>
                    <a:pt x="200" y="551"/>
                  </a:lnTo>
                  <a:lnTo>
                    <a:pt x="229" y="429"/>
                  </a:lnTo>
                  <a:lnTo>
                    <a:pt x="303" y="491"/>
                  </a:lnTo>
                  <a:lnTo>
                    <a:pt x="899" y="0"/>
                  </a:lnTo>
                  <a:lnTo>
                    <a:pt x="961" y="62"/>
                  </a:lnTo>
                  <a:lnTo>
                    <a:pt x="1037" y="46"/>
                  </a:lnTo>
                  <a:lnTo>
                    <a:pt x="1052" y="91"/>
                  </a:lnTo>
                  <a:lnTo>
                    <a:pt x="380" y="687"/>
                  </a:lnTo>
                  <a:lnTo>
                    <a:pt x="347" y="705"/>
                  </a:lnTo>
                  <a:lnTo>
                    <a:pt x="310" y="746"/>
                  </a:lnTo>
                  <a:lnTo>
                    <a:pt x="285" y="790"/>
                  </a:lnTo>
                  <a:lnTo>
                    <a:pt x="274" y="835"/>
                  </a:lnTo>
                  <a:lnTo>
                    <a:pt x="270" y="882"/>
                  </a:lnTo>
                  <a:lnTo>
                    <a:pt x="272" y="930"/>
                  </a:lnTo>
                  <a:lnTo>
                    <a:pt x="279" y="979"/>
                  </a:lnTo>
                  <a:lnTo>
                    <a:pt x="291" y="1025"/>
                  </a:lnTo>
                  <a:lnTo>
                    <a:pt x="303" y="1072"/>
                  </a:lnTo>
                  <a:lnTo>
                    <a:pt x="594" y="1561"/>
                  </a:lnTo>
                  <a:lnTo>
                    <a:pt x="732" y="1684"/>
                  </a:lnTo>
                  <a:lnTo>
                    <a:pt x="747" y="1730"/>
                  </a:lnTo>
                  <a:lnTo>
                    <a:pt x="1159" y="1913"/>
                  </a:lnTo>
                  <a:lnTo>
                    <a:pt x="1297" y="1791"/>
                  </a:lnTo>
                  <a:lnTo>
                    <a:pt x="1281" y="1760"/>
                  </a:lnTo>
                  <a:lnTo>
                    <a:pt x="1373" y="1637"/>
                  </a:lnTo>
                  <a:lnTo>
                    <a:pt x="1710" y="1363"/>
                  </a:lnTo>
                  <a:lnTo>
                    <a:pt x="1710" y="720"/>
                  </a:lnTo>
                  <a:lnTo>
                    <a:pt x="1710" y="674"/>
                  </a:lnTo>
                  <a:lnTo>
                    <a:pt x="1235" y="338"/>
                  </a:lnTo>
                  <a:lnTo>
                    <a:pt x="1297" y="200"/>
                  </a:lnTo>
                  <a:lnTo>
                    <a:pt x="1693" y="429"/>
                  </a:lnTo>
                  <a:lnTo>
                    <a:pt x="1802" y="458"/>
                  </a:lnTo>
                  <a:lnTo>
                    <a:pt x="1831" y="538"/>
                  </a:lnTo>
                  <a:lnTo>
                    <a:pt x="1864" y="505"/>
                  </a:lnTo>
                  <a:lnTo>
                    <a:pt x="1940" y="551"/>
                  </a:lnTo>
                  <a:lnTo>
                    <a:pt x="1955" y="963"/>
                  </a:lnTo>
                  <a:lnTo>
                    <a:pt x="1955" y="1163"/>
                  </a:lnTo>
                  <a:lnTo>
                    <a:pt x="2002" y="1163"/>
                  </a:lnTo>
                  <a:lnTo>
                    <a:pt x="2046" y="1196"/>
                  </a:lnTo>
                  <a:lnTo>
                    <a:pt x="1922" y="1501"/>
                  </a:lnTo>
                  <a:lnTo>
                    <a:pt x="1359" y="2004"/>
                  </a:lnTo>
                  <a:lnTo>
                    <a:pt x="1252" y="2080"/>
                  </a:lnTo>
                  <a:lnTo>
                    <a:pt x="1159" y="2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054920" y="4664160"/>
              <a:ext cx="109440" cy="60120"/>
            </a:xfrm>
            <a:custGeom>
              <a:avLst/>
              <a:gdLst/>
              <a:ahLst/>
              <a:rect l="l" t="t" r="r" b="b"/>
              <a:pathLst>
                <a:path w="137" h="75">
                  <a:moveTo>
                    <a:pt x="75" y="75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37" y="0"/>
                  </a:lnTo>
                  <a:lnTo>
                    <a:pt x="75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459480" y="4156200"/>
              <a:ext cx="146160" cy="180720"/>
            </a:xfrm>
            <a:custGeom>
              <a:avLst/>
              <a:gdLst/>
              <a:ahLst/>
              <a:rect l="l" t="t" r="r" b="b"/>
              <a:pathLst>
                <a:path w="184" h="229">
                  <a:moveTo>
                    <a:pt x="138" y="213"/>
                  </a:moveTo>
                  <a:lnTo>
                    <a:pt x="0" y="120"/>
                  </a:lnTo>
                  <a:lnTo>
                    <a:pt x="16" y="0"/>
                  </a:lnTo>
                  <a:lnTo>
                    <a:pt x="184" y="229"/>
                  </a:lnTo>
                  <a:lnTo>
                    <a:pt x="138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9" name=""/>
          <p:cNvSpPr/>
          <p:nvPr/>
        </p:nvSpPr>
        <p:spPr>
          <a:xfrm>
            <a:off x="2135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1447920" y="2914560"/>
            <a:ext cx="1784160" cy="1671840"/>
            <a:chOff x="1447920" y="2914560"/>
            <a:chExt cx="1784160" cy="1671840"/>
          </a:xfrm>
        </p:grpSpPr>
        <p:sp>
          <p:nvSpPr>
            <p:cNvPr id="2412" name=""/>
            <p:cNvSpPr/>
            <p:nvPr/>
          </p:nvSpPr>
          <p:spPr>
            <a:xfrm>
              <a:off x="1447920" y="2971800"/>
              <a:ext cx="1233360" cy="1119240"/>
            </a:xfrm>
            <a:custGeom>
              <a:avLst/>
              <a:gdLst/>
              <a:ahLst/>
              <a:rect l="l" t="t" r="r" b="b"/>
              <a:pathLst>
                <a:path w="633" h="561">
                  <a:moveTo>
                    <a:pt x="8" y="546"/>
                  </a:moveTo>
                  <a:lnTo>
                    <a:pt x="17" y="545"/>
                  </a:lnTo>
                  <a:lnTo>
                    <a:pt x="26" y="545"/>
                  </a:lnTo>
                  <a:lnTo>
                    <a:pt x="35" y="544"/>
                  </a:lnTo>
                  <a:lnTo>
                    <a:pt x="46" y="544"/>
                  </a:lnTo>
                  <a:lnTo>
                    <a:pt x="55" y="543"/>
                  </a:lnTo>
                  <a:lnTo>
                    <a:pt x="64" y="543"/>
                  </a:lnTo>
                  <a:lnTo>
                    <a:pt x="75" y="543"/>
                  </a:lnTo>
                  <a:lnTo>
                    <a:pt x="84" y="543"/>
                  </a:lnTo>
                  <a:lnTo>
                    <a:pt x="98" y="543"/>
                  </a:lnTo>
                  <a:lnTo>
                    <a:pt x="111" y="544"/>
                  </a:lnTo>
                  <a:lnTo>
                    <a:pt x="124" y="545"/>
                  </a:lnTo>
                  <a:lnTo>
                    <a:pt x="138" y="545"/>
                  </a:lnTo>
                  <a:lnTo>
                    <a:pt x="152" y="546"/>
                  </a:lnTo>
                  <a:lnTo>
                    <a:pt x="166" y="547"/>
                  </a:lnTo>
                  <a:lnTo>
                    <a:pt x="180" y="548"/>
                  </a:lnTo>
                  <a:lnTo>
                    <a:pt x="194" y="548"/>
                  </a:lnTo>
                  <a:lnTo>
                    <a:pt x="208" y="548"/>
                  </a:lnTo>
                  <a:lnTo>
                    <a:pt x="220" y="551"/>
                  </a:lnTo>
                  <a:lnTo>
                    <a:pt x="234" y="552"/>
                  </a:lnTo>
                  <a:lnTo>
                    <a:pt x="248" y="554"/>
                  </a:lnTo>
                  <a:lnTo>
                    <a:pt x="262" y="558"/>
                  </a:lnTo>
                  <a:lnTo>
                    <a:pt x="276" y="559"/>
                  </a:lnTo>
                  <a:lnTo>
                    <a:pt x="290" y="561"/>
                  </a:lnTo>
                  <a:lnTo>
                    <a:pt x="304" y="561"/>
                  </a:lnTo>
                  <a:lnTo>
                    <a:pt x="317" y="561"/>
                  </a:lnTo>
                  <a:lnTo>
                    <a:pt x="330" y="559"/>
                  </a:lnTo>
                  <a:lnTo>
                    <a:pt x="344" y="558"/>
                  </a:lnTo>
                  <a:lnTo>
                    <a:pt x="358" y="554"/>
                  </a:lnTo>
                  <a:lnTo>
                    <a:pt x="372" y="552"/>
                  </a:lnTo>
                  <a:lnTo>
                    <a:pt x="386" y="551"/>
                  </a:lnTo>
                  <a:lnTo>
                    <a:pt x="400" y="548"/>
                  </a:lnTo>
                  <a:lnTo>
                    <a:pt x="413" y="548"/>
                  </a:lnTo>
                  <a:lnTo>
                    <a:pt x="427" y="548"/>
                  </a:lnTo>
                  <a:lnTo>
                    <a:pt x="440" y="548"/>
                  </a:lnTo>
                  <a:lnTo>
                    <a:pt x="454" y="548"/>
                  </a:lnTo>
                  <a:lnTo>
                    <a:pt x="468" y="548"/>
                  </a:lnTo>
                  <a:lnTo>
                    <a:pt x="482" y="548"/>
                  </a:lnTo>
                  <a:lnTo>
                    <a:pt x="495" y="548"/>
                  </a:lnTo>
                  <a:lnTo>
                    <a:pt x="509" y="548"/>
                  </a:lnTo>
                  <a:lnTo>
                    <a:pt x="523" y="548"/>
                  </a:lnTo>
                  <a:lnTo>
                    <a:pt x="537" y="548"/>
                  </a:lnTo>
                  <a:lnTo>
                    <a:pt x="550" y="550"/>
                  </a:lnTo>
                  <a:lnTo>
                    <a:pt x="564" y="551"/>
                  </a:lnTo>
                  <a:lnTo>
                    <a:pt x="577" y="551"/>
                  </a:lnTo>
                  <a:lnTo>
                    <a:pt x="591" y="552"/>
                  </a:lnTo>
                  <a:lnTo>
                    <a:pt x="605" y="553"/>
                  </a:lnTo>
                  <a:lnTo>
                    <a:pt x="619" y="554"/>
                  </a:lnTo>
                  <a:lnTo>
                    <a:pt x="633" y="554"/>
                  </a:lnTo>
                  <a:lnTo>
                    <a:pt x="631" y="525"/>
                  </a:lnTo>
                  <a:lnTo>
                    <a:pt x="627" y="497"/>
                  </a:lnTo>
                  <a:lnTo>
                    <a:pt x="624" y="467"/>
                  </a:lnTo>
                  <a:lnTo>
                    <a:pt x="621" y="439"/>
                  </a:lnTo>
                  <a:lnTo>
                    <a:pt x="623" y="410"/>
                  </a:lnTo>
                  <a:lnTo>
                    <a:pt x="625" y="381"/>
                  </a:lnTo>
                  <a:lnTo>
                    <a:pt x="626" y="351"/>
                  </a:lnTo>
                  <a:lnTo>
                    <a:pt x="627" y="323"/>
                  </a:lnTo>
                  <a:lnTo>
                    <a:pt x="628" y="297"/>
                  </a:lnTo>
                  <a:lnTo>
                    <a:pt x="631" y="271"/>
                  </a:lnTo>
                  <a:lnTo>
                    <a:pt x="632" y="246"/>
                  </a:lnTo>
                  <a:lnTo>
                    <a:pt x="633" y="219"/>
                  </a:lnTo>
                  <a:lnTo>
                    <a:pt x="631" y="192"/>
                  </a:lnTo>
                  <a:lnTo>
                    <a:pt x="627" y="164"/>
                  </a:lnTo>
                  <a:lnTo>
                    <a:pt x="624" y="136"/>
                  </a:lnTo>
                  <a:lnTo>
                    <a:pt x="621" y="110"/>
                  </a:lnTo>
                  <a:lnTo>
                    <a:pt x="624" y="82"/>
                  </a:lnTo>
                  <a:lnTo>
                    <a:pt x="627" y="54"/>
                  </a:lnTo>
                  <a:lnTo>
                    <a:pt x="631" y="27"/>
                  </a:lnTo>
                  <a:lnTo>
                    <a:pt x="633" y="0"/>
                  </a:lnTo>
                  <a:lnTo>
                    <a:pt x="629" y="14"/>
                  </a:lnTo>
                  <a:lnTo>
                    <a:pt x="626" y="28"/>
                  </a:lnTo>
                  <a:lnTo>
                    <a:pt x="621" y="42"/>
                  </a:lnTo>
                  <a:lnTo>
                    <a:pt x="614" y="53"/>
                  </a:lnTo>
                  <a:lnTo>
                    <a:pt x="610" y="60"/>
                  </a:lnTo>
                  <a:lnTo>
                    <a:pt x="605" y="66"/>
                  </a:lnTo>
                  <a:lnTo>
                    <a:pt x="599" y="72"/>
                  </a:lnTo>
                  <a:lnTo>
                    <a:pt x="594" y="77"/>
                  </a:lnTo>
                  <a:lnTo>
                    <a:pt x="588" y="83"/>
                  </a:lnTo>
                  <a:lnTo>
                    <a:pt x="582" y="88"/>
                  </a:lnTo>
                  <a:lnTo>
                    <a:pt x="575" y="92"/>
                  </a:lnTo>
                  <a:lnTo>
                    <a:pt x="569" y="97"/>
                  </a:lnTo>
                  <a:lnTo>
                    <a:pt x="561" y="103"/>
                  </a:lnTo>
                  <a:lnTo>
                    <a:pt x="552" y="109"/>
                  </a:lnTo>
                  <a:lnTo>
                    <a:pt x="543" y="114"/>
                  </a:lnTo>
                  <a:lnTo>
                    <a:pt x="535" y="119"/>
                  </a:lnTo>
                  <a:lnTo>
                    <a:pt x="524" y="124"/>
                  </a:lnTo>
                  <a:lnTo>
                    <a:pt x="515" y="128"/>
                  </a:lnTo>
                  <a:lnTo>
                    <a:pt x="506" y="131"/>
                  </a:lnTo>
                  <a:lnTo>
                    <a:pt x="495" y="133"/>
                  </a:lnTo>
                  <a:lnTo>
                    <a:pt x="480" y="135"/>
                  </a:lnTo>
                  <a:lnTo>
                    <a:pt x="465" y="135"/>
                  </a:lnTo>
                  <a:lnTo>
                    <a:pt x="450" y="135"/>
                  </a:lnTo>
                  <a:lnTo>
                    <a:pt x="435" y="135"/>
                  </a:lnTo>
                  <a:lnTo>
                    <a:pt x="420" y="135"/>
                  </a:lnTo>
                  <a:lnTo>
                    <a:pt x="405" y="134"/>
                  </a:lnTo>
                  <a:lnTo>
                    <a:pt x="389" y="134"/>
                  </a:lnTo>
                  <a:lnTo>
                    <a:pt x="374" y="135"/>
                  </a:lnTo>
                  <a:lnTo>
                    <a:pt x="369" y="136"/>
                  </a:lnTo>
                  <a:lnTo>
                    <a:pt x="365" y="141"/>
                  </a:lnTo>
                  <a:lnTo>
                    <a:pt x="361" y="147"/>
                  </a:lnTo>
                  <a:lnTo>
                    <a:pt x="360" y="152"/>
                  </a:lnTo>
                  <a:lnTo>
                    <a:pt x="360" y="187"/>
                  </a:lnTo>
                  <a:lnTo>
                    <a:pt x="361" y="219"/>
                  </a:lnTo>
                  <a:lnTo>
                    <a:pt x="363" y="253"/>
                  </a:lnTo>
                  <a:lnTo>
                    <a:pt x="363" y="286"/>
                  </a:lnTo>
                  <a:lnTo>
                    <a:pt x="363" y="309"/>
                  </a:lnTo>
                  <a:lnTo>
                    <a:pt x="360" y="333"/>
                  </a:lnTo>
                  <a:lnTo>
                    <a:pt x="357" y="356"/>
                  </a:lnTo>
                  <a:lnTo>
                    <a:pt x="348" y="376"/>
                  </a:lnTo>
                  <a:lnTo>
                    <a:pt x="342" y="385"/>
                  </a:lnTo>
                  <a:lnTo>
                    <a:pt x="335" y="393"/>
                  </a:lnTo>
                  <a:lnTo>
                    <a:pt x="327" y="400"/>
                  </a:lnTo>
                  <a:lnTo>
                    <a:pt x="319" y="405"/>
                  </a:lnTo>
                  <a:lnTo>
                    <a:pt x="309" y="411"/>
                  </a:lnTo>
                  <a:lnTo>
                    <a:pt x="300" y="417"/>
                  </a:lnTo>
                  <a:lnTo>
                    <a:pt x="290" y="421"/>
                  </a:lnTo>
                  <a:lnTo>
                    <a:pt x="280" y="426"/>
                  </a:lnTo>
                  <a:lnTo>
                    <a:pt x="272" y="430"/>
                  </a:lnTo>
                  <a:lnTo>
                    <a:pt x="264" y="432"/>
                  </a:lnTo>
                  <a:lnTo>
                    <a:pt x="256" y="434"/>
                  </a:lnTo>
                  <a:lnTo>
                    <a:pt x="248" y="435"/>
                  </a:lnTo>
                  <a:lnTo>
                    <a:pt x="239" y="436"/>
                  </a:lnTo>
                  <a:lnTo>
                    <a:pt x="230" y="438"/>
                  </a:lnTo>
                  <a:lnTo>
                    <a:pt x="222" y="438"/>
                  </a:lnTo>
                  <a:lnTo>
                    <a:pt x="212" y="438"/>
                  </a:lnTo>
                  <a:lnTo>
                    <a:pt x="202" y="438"/>
                  </a:lnTo>
                  <a:lnTo>
                    <a:pt x="192" y="436"/>
                  </a:lnTo>
                  <a:lnTo>
                    <a:pt x="181" y="436"/>
                  </a:lnTo>
                  <a:lnTo>
                    <a:pt x="171" y="435"/>
                  </a:lnTo>
                  <a:lnTo>
                    <a:pt x="160" y="434"/>
                  </a:lnTo>
                  <a:lnTo>
                    <a:pt x="150" y="432"/>
                  </a:lnTo>
                  <a:lnTo>
                    <a:pt x="139" y="431"/>
                  </a:lnTo>
                  <a:lnTo>
                    <a:pt x="129" y="430"/>
                  </a:lnTo>
                  <a:lnTo>
                    <a:pt x="120" y="428"/>
                  </a:lnTo>
                  <a:lnTo>
                    <a:pt x="111" y="426"/>
                  </a:lnTo>
                  <a:lnTo>
                    <a:pt x="101" y="425"/>
                  </a:lnTo>
                  <a:lnTo>
                    <a:pt x="92" y="423"/>
                  </a:lnTo>
                  <a:lnTo>
                    <a:pt x="83" y="420"/>
                  </a:lnTo>
                  <a:lnTo>
                    <a:pt x="74" y="418"/>
                  </a:lnTo>
                  <a:lnTo>
                    <a:pt x="64" y="417"/>
                  </a:lnTo>
                  <a:lnTo>
                    <a:pt x="55" y="417"/>
                  </a:lnTo>
                  <a:lnTo>
                    <a:pt x="48" y="417"/>
                  </a:lnTo>
                  <a:lnTo>
                    <a:pt x="40" y="419"/>
                  </a:lnTo>
                  <a:lnTo>
                    <a:pt x="32" y="421"/>
                  </a:lnTo>
                  <a:lnTo>
                    <a:pt x="26" y="426"/>
                  </a:lnTo>
                  <a:lnTo>
                    <a:pt x="17" y="434"/>
                  </a:lnTo>
                  <a:lnTo>
                    <a:pt x="10" y="443"/>
                  </a:lnTo>
                  <a:lnTo>
                    <a:pt x="3" y="454"/>
                  </a:lnTo>
                  <a:lnTo>
                    <a:pt x="0" y="465"/>
                  </a:lnTo>
                  <a:lnTo>
                    <a:pt x="1" y="471"/>
                  </a:lnTo>
                  <a:lnTo>
                    <a:pt x="5" y="477"/>
                  </a:lnTo>
                  <a:lnTo>
                    <a:pt x="9" y="483"/>
                  </a:lnTo>
                  <a:lnTo>
                    <a:pt x="11" y="488"/>
                  </a:lnTo>
                  <a:lnTo>
                    <a:pt x="8" y="546"/>
                  </a:lnTo>
                  <a:close/>
                </a:path>
              </a:pathLst>
            </a:custGeom>
            <a:solidFill>
              <a:srgbClr val="c4a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79560" y="3406680"/>
              <a:ext cx="1004760" cy="890640"/>
            </a:xfrm>
            <a:custGeom>
              <a:avLst/>
              <a:gdLst/>
              <a:ahLst/>
              <a:rect l="l" t="t" r="r" b="b"/>
              <a:pathLst>
                <a:path w="633" h="561">
                  <a:moveTo>
                    <a:pt x="8" y="546"/>
                  </a:moveTo>
                  <a:lnTo>
                    <a:pt x="17" y="545"/>
                  </a:lnTo>
                  <a:lnTo>
                    <a:pt x="26" y="545"/>
                  </a:lnTo>
                  <a:lnTo>
                    <a:pt x="35" y="544"/>
                  </a:lnTo>
                  <a:lnTo>
                    <a:pt x="46" y="544"/>
                  </a:lnTo>
                  <a:lnTo>
                    <a:pt x="55" y="543"/>
                  </a:lnTo>
                  <a:lnTo>
                    <a:pt x="64" y="543"/>
                  </a:lnTo>
                  <a:lnTo>
                    <a:pt x="75" y="543"/>
                  </a:lnTo>
                  <a:lnTo>
                    <a:pt x="84" y="543"/>
                  </a:lnTo>
                  <a:lnTo>
                    <a:pt x="98" y="543"/>
                  </a:lnTo>
                  <a:lnTo>
                    <a:pt x="111" y="544"/>
                  </a:lnTo>
                  <a:lnTo>
                    <a:pt x="124" y="545"/>
                  </a:lnTo>
                  <a:lnTo>
                    <a:pt x="138" y="545"/>
                  </a:lnTo>
                  <a:lnTo>
                    <a:pt x="152" y="546"/>
                  </a:lnTo>
                  <a:lnTo>
                    <a:pt x="166" y="547"/>
                  </a:lnTo>
                  <a:lnTo>
                    <a:pt x="180" y="548"/>
                  </a:lnTo>
                  <a:lnTo>
                    <a:pt x="194" y="548"/>
                  </a:lnTo>
                  <a:lnTo>
                    <a:pt x="208" y="548"/>
                  </a:lnTo>
                  <a:lnTo>
                    <a:pt x="220" y="551"/>
                  </a:lnTo>
                  <a:lnTo>
                    <a:pt x="234" y="552"/>
                  </a:lnTo>
                  <a:lnTo>
                    <a:pt x="248" y="554"/>
                  </a:lnTo>
                  <a:lnTo>
                    <a:pt x="262" y="558"/>
                  </a:lnTo>
                  <a:lnTo>
                    <a:pt x="276" y="559"/>
                  </a:lnTo>
                  <a:lnTo>
                    <a:pt x="290" y="561"/>
                  </a:lnTo>
                  <a:lnTo>
                    <a:pt x="304" y="561"/>
                  </a:lnTo>
                  <a:lnTo>
                    <a:pt x="317" y="561"/>
                  </a:lnTo>
                  <a:lnTo>
                    <a:pt x="330" y="559"/>
                  </a:lnTo>
                  <a:lnTo>
                    <a:pt x="344" y="558"/>
                  </a:lnTo>
                  <a:lnTo>
                    <a:pt x="358" y="554"/>
                  </a:lnTo>
                  <a:lnTo>
                    <a:pt x="372" y="552"/>
                  </a:lnTo>
                  <a:lnTo>
                    <a:pt x="386" y="551"/>
                  </a:lnTo>
                  <a:lnTo>
                    <a:pt x="400" y="548"/>
                  </a:lnTo>
                  <a:lnTo>
                    <a:pt x="413" y="548"/>
                  </a:lnTo>
                  <a:lnTo>
                    <a:pt x="427" y="548"/>
                  </a:lnTo>
                  <a:lnTo>
                    <a:pt x="440" y="548"/>
                  </a:lnTo>
                  <a:lnTo>
                    <a:pt x="454" y="548"/>
                  </a:lnTo>
                  <a:lnTo>
                    <a:pt x="468" y="548"/>
                  </a:lnTo>
                  <a:lnTo>
                    <a:pt x="482" y="548"/>
                  </a:lnTo>
                  <a:lnTo>
                    <a:pt x="495" y="548"/>
                  </a:lnTo>
                  <a:lnTo>
                    <a:pt x="509" y="548"/>
                  </a:lnTo>
                  <a:lnTo>
                    <a:pt x="523" y="548"/>
                  </a:lnTo>
                  <a:lnTo>
                    <a:pt x="537" y="548"/>
                  </a:lnTo>
                  <a:lnTo>
                    <a:pt x="550" y="550"/>
                  </a:lnTo>
                  <a:lnTo>
                    <a:pt x="564" y="551"/>
                  </a:lnTo>
                  <a:lnTo>
                    <a:pt x="577" y="551"/>
                  </a:lnTo>
                  <a:lnTo>
                    <a:pt x="591" y="552"/>
                  </a:lnTo>
                  <a:lnTo>
                    <a:pt x="605" y="553"/>
                  </a:lnTo>
                  <a:lnTo>
                    <a:pt x="619" y="554"/>
                  </a:lnTo>
                  <a:lnTo>
                    <a:pt x="633" y="554"/>
                  </a:lnTo>
                  <a:lnTo>
                    <a:pt x="631" y="525"/>
                  </a:lnTo>
                  <a:lnTo>
                    <a:pt x="627" y="497"/>
                  </a:lnTo>
                  <a:lnTo>
                    <a:pt x="624" y="467"/>
                  </a:lnTo>
                  <a:lnTo>
                    <a:pt x="621" y="439"/>
                  </a:lnTo>
                  <a:lnTo>
                    <a:pt x="623" y="410"/>
                  </a:lnTo>
                  <a:lnTo>
                    <a:pt x="625" y="381"/>
                  </a:lnTo>
                  <a:lnTo>
                    <a:pt x="626" y="351"/>
                  </a:lnTo>
                  <a:lnTo>
                    <a:pt x="627" y="323"/>
                  </a:lnTo>
                  <a:lnTo>
                    <a:pt x="628" y="297"/>
                  </a:lnTo>
                  <a:lnTo>
                    <a:pt x="631" y="271"/>
                  </a:lnTo>
                  <a:lnTo>
                    <a:pt x="632" y="246"/>
                  </a:lnTo>
                  <a:lnTo>
                    <a:pt x="633" y="219"/>
                  </a:lnTo>
                  <a:lnTo>
                    <a:pt x="631" y="192"/>
                  </a:lnTo>
                  <a:lnTo>
                    <a:pt x="627" y="164"/>
                  </a:lnTo>
                  <a:lnTo>
                    <a:pt x="624" y="136"/>
                  </a:lnTo>
                  <a:lnTo>
                    <a:pt x="621" y="110"/>
                  </a:lnTo>
                  <a:lnTo>
                    <a:pt x="624" y="82"/>
                  </a:lnTo>
                  <a:lnTo>
                    <a:pt x="627" y="54"/>
                  </a:lnTo>
                  <a:lnTo>
                    <a:pt x="631" y="27"/>
                  </a:lnTo>
                  <a:lnTo>
                    <a:pt x="633" y="0"/>
                  </a:lnTo>
                  <a:lnTo>
                    <a:pt x="629" y="14"/>
                  </a:lnTo>
                  <a:lnTo>
                    <a:pt x="626" y="28"/>
                  </a:lnTo>
                  <a:lnTo>
                    <a:pt x="621" y="42"/>
                  </a:lnTo>
                  <a:lnTo>
                    <a:pt x="614" y="53"/>
                  </a:lnTo>
                  <a:lnTo>
                    <a:pt x="610" y="60"/>
                  </a:lnTo>
                  <a:lnTo>
                    <a:pt x="605" y="66"/>
                  </a:lnTo>
                  <a:lnTo>
                    <a:pt x="599" y="72"/>
                  </a:lnTo>
                  <a:lnTo>
                    <a:pt x="594" y="77"/>
                  </a:lnTo>
                  <a:lnTo>
                    <a:pt x="588" y="83"/>
                  </a:lnTo>
                  <a:lnTo>
                    <a:pt x="582" y="88"/>
                  </a:lnTo>
                  <a:lnTo>
                    <a:pt x="575" y="92"/>
                  </a:lnTo>
                  <a:lnTo>
                    <a:pt x="569" y="97"/>
                  </a:lnTo>
                  <a:lnTo>
                    <a:pt x="561" y="103"/>
                  </a:lnTo>
                  <a:lnTo>
                    <a:pt x="552" y="109"/>
                  </a:lnTo>
                  <a:lnTo>
                    <a:pt x="543" y="114"/>
                  </a:lnTo>
                  <a:lnTo>
                    <a:pt x="535" y="119"/>
                  </a:lnTo>
                  <a:lnTo>
                    <a:pt x="524" y="124"/>
                  </a:lnTo>
                  <a:lnTo>
                    <a:pt x="515" y="128"/>
                  </a:lnTo>
                  <a:lnTo>
                    <a:pt x="506" y="131"/>
                  </a:lnTo>
                  <a:lnTo>
                    <a:pt x="495" y="133"/>
                  </a:lnTo>
                  <a:lnTo>
                    <a:pt x="480" y="135"/>
                  </a:lnTo>
                  <a:lnTo>
                    <a:pt x="465" y="135"/>
                  </a:lnTo>
                  <a:lnTo>
                    <a:pt x="450" y="135"/>
                  </a:lnTo>
                  <a:lnTo>
                    <a:pt x="435" y="135"/>
                  </a:lnTo>
                  <a:lnTo>
                    <a:pt x="420" y="135"/>
                  </a:lnTo>
                  <a:lnTo>
                    <a:pt x="405" y="134"/>
                  </a:lnTo>
                  <a:lnTo>
                    <a:pt x="389" y="134"/>
                  </a:lnTo>
                  <a:lnTo>
                    <a:pt x="374" y="135"/>
                  </a:lnTo>
                  <a:lnTo>
                    <a:pt x="369" y="136"/>
                  </a:lnTo>
                  <a:lnTo>
                    <a:pt x="365" y="141"/>
                  </a:lnTo>
                  <a:lnTo>
                    <a:pt x="361" y="147"/>
                  </a:lnTo>
                  <a:lnTo>
                    <a:pt x="360" y="152"/>
                  </a:lnTo>
                  <a:lnTo>
                    <a:pt x="360" y="187"/>
                  </a:lnTo>
                  <a:lnTo>
                    <a:pt x="361" y="219"/>
                  </a:lnTo>
                  <a:lnTo>
                    <a:pt x="363" y="253"/>
                  </a:lnTo>
                  <a:lnTo>
                    <a:pt x="363" y="286"/>
                  </a:lnTo>
                  <a:lnTo>
                    <a:pt x="363" y="309"/>
                  </a:lnTo>
                  <a:lnTo>
                    <a:pt x="360" y="333"/>
                  </a:lnTo>
                  <a:lnTo>
                    <a:pt x="357" y="356"/>
                  </a:lnTo>
                  <a:lnTo>
                    <a:pt x="348" y="376"/>
                  </a:lnTo>
                  <a:lnTo>
                    <a:pt x="342" y="385"/>
                  </a:lnTo>
                  <a:lnTo>
                    <a:pt x="335" y="393"/>
                  </a:lnTo>
                  <a:lnTo>
                    <a:pt x="327" y="400"/>
                  </a:lnTo>
                  <a:lnTo>
                    <a:pt x="319" y="405"/>
                  </a:lnTo>
                  <a:lnTo>
                    <a:pt x="309" y="411"/>
                  </a:lnTo>
                  <a:lnTo>
                    <a:pt x="300" y="417"/>
                  </a:lnTo>
                  <a:lnTo>
                    <a:pt x="290" y="421"/>
                  </a:lnTo>
                  <a:lnTo>
                    <a:pt x="280" y="426"/>
                  </a:lnTo>
                  <a:lnTo>
                    <a:pt x="272" y="430"/>
                  </a:lnTo>
                  <a:lnTo>
                    <a:pt x="264" y="432"/>
                  </a:lnTo>
                  <a:lnTo>
                    <a:pt x="256" y="434"/>
                  </a:lnTo>
                  <a:lnTo>
                    <a:pt x="248" y="435"/>
                  </a:lnTo>
                  <a:lnTo>
                    <a:pt x="239" y="436"/>
                  </a:lnTo>
                  <a:lnTo>
                    <a:pt x="230" y="438"/>
                  </a:lnTo>
                  <a:lnTo>
                    <a:pt x="222" y="438"/>
                  </a:lnTo>
                  <a:lnTo>
                    <a:pt x="212" y="438"/>
                  </a:lnTo>
                  <a:lnTo>
                    <a:pt x="202" y="438"/>
                  </a:lnTo>
                  <a:lnTo>
                    <a:pt x="192" y="436"/>
                  </a:lnTo>
                  <a:lnTo>
                    <a:pt x="181" y="436"/>
                  </a:lnTo>
                  <a:lnTo>
                    <a:pt x="171" y="435"/>
                  </a:lnTo>
                  <a:lnTo>
                    <a:pt x="160" y="434"/>
                  </a:lnTo>
                  <a:lnTo>
                    <a:pt x="150" y="432"/>
                  </a:lnTo>
                  <a:lnTo>
                    <a:pt x="139" y="431"/>
                  </a:lnTo>
                  <a:lnTo>
                    <a:pt x="129" y="430"/>
                  </a:lnTo>
                  <a:lnTo>
                    <a:pt x="120" y="428"/>
                  </a:lnTo>
                  <a:lnTo>
                    <a:pt x="111" y="426"/>
                  </a:lnTo>
                  <a:lnTo>
                    <a:pt x="101" y="425"/>
                  </a:lnTo>
                  <a:lnTo>
                    <a:pt x="92" y="423"/>
                  </a:lnTo>
                  <a:lnTo>
                    <a:pt x="83" y="420"/>
                  </a:lnTo>
                  <a:lnTo>
                    <a:pt x="74" y="418"/>
                  </a:lnTo>
                  <a:lnTo>
                    <a:pt x="64" y="417"/>
                  </a:lnTo>
                  <a:lnTo>
                    <a:pt x="55" y="417"/>
                  </a:lnTo>
                  <a:lnTo>
                    <a:pt x="48" y="417"/>
                  </a:lnTo>
                  <a:lnTo>
                    <a:pt x="40" y="419"/>
                  </a:lnTo>
                  <a:lnTo>
                    <a:pt x="32" y="421"/>
                  </a:lnTo>
                  <a:lnTo>
                    <a:pt x="26" y="426"/>
                  </a:lnTo>
                  <a:lnTo>
                    <a:pt x="17" y="434"/>
                  </a:lnTo>
                  <a:lnTo>
                    <a:pt x="10" y="443"/>
                  </a:lnTo>
                  <a:lnTo>
                    <a:pt x="3" y="454"/>
                  </a:lnTo>
                  <a:lnTo>
                    <a:pt x="0" y="465"/>
                  </a:lnTo>
                  <a:lnTo>
                    <a:pt x="1" y="471"/>
                  </a:lnTo>
                  <a:lnTo>
                    <a:pt x="5" y="477"/>
                  </a:lnTo>
                  <a:lnTo>
                    <a:pt x="9" y="483"/>
                  </a:lnTo>
                  <a:lnTo>
                    <a:pt x="11" y="488"/>
                  </a:lnTo>
                  <a:lnTo>
                    <a:pt x="8" y="546"/>
                  </a:lnTo>
                  <a:close/>
                </a:path>
              </a:pathLst>
            </a:custGeom>
            <a:solidFill>
              <a:srgbClr val="c4a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057400" y="3048120"/>
              <a:ext cx="1004760" cy="1143000"/>
            </a:xfrm>
            <a:custGeom>
              <a:avLst/>
              <a:gdLst/>
              <a:ahLst/>
              <a:rect l="l" t="t" r="r" b="b"/>
              <a:pathLst>
                <a:path w="633" h="561">
                  <a:moveTo>
                    <a:pt x="8" y="546"/>
                  </a:moveTo>
                  <a:lnTo>
                    <a:pt x="17" y="545"/>
                  </a:lnTo>
                  <a:lnTo>
                    <a:pt x="26" y="545"/>
                  </a:lnTo>
                  <a:lnTo>
                    <a:pt x="35" y="544"/>
                  </a:lnTo>
                  <a:lnTo>
                    <a:pt x="46" y="544"/>
                  </a:lnTo>
                  <a:lnTo>
                    <a:pt x="55" y="543"/>
                  </a:lnTo>
                  <a:lnTo>
                    <a:pt x="64" y="543"/>
                  </a:lnTo>
                  <a:lnTo>
                    <a:pt x="75" y="543"/>
                  </a:lnTo>
                  <a:lnTo>
                    <a:pt x="84" y="543"/>
                  </a:lnTo>
                  <a:lnTo>
                    <a:pt x="98" y="543"/>
                  </a:lnTo>
                  <a:lnTo>
                    <a:pt x="111" y="544"/>
                  </a:lnTo>
                  <a:lnTo>
                    <a:pt x="124" y="545"/>
                  </a:lnTo>
                  <a:lnTo>
                    <a:pt x="138" y="545"/>
                  </a:lnTo>
                  <a:lnTo>
                    <a:pt x="152" y="546"/>
                  </a:lnTo>
                  <a:lnTo>
                    <a:pt x="166" y="547"/>
                  </a:lnTo>
                  <a:lnTo>
                    <a:pt x="180" y="548"/>
                  </a:lnTo>
                  <a:lnTo>
                    <a:pt x="194" y="548"/>
                  </a:lnTo>
                  <a:lnTo>
                    <a:pt x="208" y="548"/>
                  </a:lnTo>
                  <a:lnTo>
                    <a:pt x="220" y="551"/>
                  </a:lnTo>
                  <a:lnTo>
                    <a:pt x="234" y="552"/>
                  </a:lnTo>
                  <a:lnTo>
                    <a:pt x="248" y="554"/>
                  </a:lnTo>
                  <a:lnTo>
                    <a:pt x="262" y="558"/>
                  </a:lnTo>
                  <a:lnTo>
                    <a:pt x="276" y="559"/>
                  </a:lnTo>
                  <a:lnTo>
                    <a:pt x="290" y="561"/>
                  </a:lnTo>
                  <a:lnTo>
                    <a:pt x="304" y="561"/>
                  </a:lnTo>
                  <a:lnTo>
                    <a:pt x="317" y="561"/>
                  </a:lnTo>
                  <a:lnTo>
                    <a:pt x="330" y="559"/>
                  </a:lnTo>
                  <a:lnTo>
                    <a:pt x="344" y="558"/>
                  </a:lnTo>
                  <a:lnTo>
                    <a:pt x="358" y="554"/>
                  </a:lnTo>
                  <a:lnTo>
                    <a:pt x="372" y="552"/>
                  </a:lnTo>
                  <a:lnTo>
                    <a:pt x="386" y="551"/>
                  </a:lnTo>
                  <a:lnTo>
                    <a:pt x="400" y="548"/>
                  </a:lnTo>
                  <a:lnTo>
                    <a:pt x="413" y="548"/>
                  </a:lnTo>
                  <a:lnTo>
                    <a:pt x="427" y="548"/>
                  </a:lnTo>
                  <a:lnTo>
                    <a:pt x="440" y="548"/>
                  </a:lnTo>
                  <a:lnTo>
                    <a:pt x="454" y="548"/>
                  </a:lnTo>
                  <a:lnTo>
                    <a:pt x="468" y="548"/>
                  </a:lnTo>
                  <a:lnTo>
                    <a:pt x="482" y="548"/>
                  </a:lnTo>
                  <a:lnTo>
                    <a:pt x="495" y="548"/>
                  </a:lnTo>
                  <a:lnTo>
                    <a:pt x="509" y="548"/>
                  </a:lnTo>
                  <a:lnTo>
                    <a:pt x="523" y="548"/>
                  </a:lnTo>
                  <a:lnTo>
                    <a:pt x="537" y="548"/>
                  </a:lnTo>
                  <a:lnTo>
                    <a:pt x="550" y="550"/>
                  </a:lnTo>
                  <a:lnTo>
                    <a:pt x="564" y="551"/>
                  </a:lnTo>
                  <a:lnTo>
                    <a:pt x="577" y="551"/>
                  </a:lnTo>
                  <a:lnTo>
                    <a:pt x="591" y="552"/>
                  </a:lnTo>
                  <a:lnTo>
                    <a:pt x="605" y="553"/>
                  </a:lnTo>
                  <a:lnTo>
                    <a:pt x="619" y="554"/>
                  </a:lnTo>
                  <a:lnTo>
                    <a:pt x="633" y="554"/>
                  </a:lnTo>
                  <a:lnTo>
                    <a:pt x="631" y="525"/>
                  </a:lnTo>
                  <a:lnTo>
                    <a:pt x="627" y="497"/>
                  </a:lnTo>
                  <a:lnTo>
                    <a:pt x="624" y="467"/>
                  </a:lnTo>
                  <a:lnTo>
                    <a:pt x="621" y="439"/>
                  </a:lnTo>
                  <a:lnTo>
                    <a:pt x="623" y="410"/>
                  </a:lnTo>
                  <a:lnTo>
                    <a:pt x="625" y="381"/>
                  </a:lnTo>
                  <a:lnTo>
                    <a:pt x="626" y="351"/>
                  </a:lnTo>
                  <a:lnTo>
                    <a:pt x="627" y="323"/>
                  </a:lnTo>
                  <a:lnTo>
                    <a:pt x="628" y="297"/>
                  </a:lnTo>
                  <a:lnTo>
                    <a:pt x="631" y="271"/>
                  </a:lnTo>
                  <a:lnTo>
                    <a:pt x="632" y="246"/>
                  </a:lnTo>
                  <a:lnTo>
                    <a:pt x="633" y="219"/>
                  </a:lnTo>
                  <a:lnTo>
                    <a:pt x="631" y="192"/>
                  </a:lnTo>
                  <a:lnTo>
                    <a:pt x="627" y="164"/>
                  </a:lnTo>
                  <a:lnTo>
                    <a:pt x="624" y="136"/>
                  </a:lnTo>
                  <a:lnTo>
                    <a:pt x="621" y="110"/>
                  </a:lnTo>
                  <a:lnTo>
                    <a:pt x="624" y="82"/>
                  </a:lnTo>
                  <a:lnTo>
                    <a:pt x="627" y="54"/>
                  </a:lnTo>
                  <a:lnTo>
                    <a:pt x="631" y="27"/>
                  </a:lnTo>
                  <a:lnTo>
                    <a:pt x="633" y="0"/>
                  </a:lnTo>
                  <a:lnTo>
                    <a:pt x="629" y="14"/>
                  </a:lnTo>
                  <a:lnTo>
                    <a:pt x="626" y="28"/>
                  </a:lnTo>
                  <a:lnTo>
                    <a:pt x="621" y="42"/>
                  </a:lnTo>
                  <a:lnTo>
                    <a:pt x="614" y="53"/>
                  </a:lnTo>
                  <a:lnTo>
                    <a:pt x="610" y="60"/>
                  </a:lnTo>
                  <a:lnTo>
                    <a:pt x="605" y="66"/>
                  </a:lnTo>
                  <a:lnTo>
                    <a:pt x="599" y="72"/>
                  </a:lnTo>
                  <a:lnTo>
                    <a:pt x="594" y="77"/>
                  </a:lnTo>
                  <a:lnTo>
                    <a:pt x="588" y="83"/>
                  </a:lnTo>
                  <a:lnTo>
                    <a:pt x="582" y="88"/>
                  </a:lnTo>
                  <a:lnTo>
                    <a:pt x="575" y="92"/>
                  </a:lnTo>
                  <a:lnTo>
                    <a:pt x="569" y="97"/>
                  </a:lnTo>
                  <a:lnTo>
                    <a:pt x="561" y="103"/>
                  </a:lnTo>
                  <a:lnTo>
                    <a:pt x="552" y="109"/>
                  </a:lnTo>
                  <a:lnTo>
                    <a:pt x="543" y="114"/>
                  </a:lnTo>
                  <a:lnTo>
                    <a:pt x="535" y="119"/>
                  </a:lnTo>
                  <a:lnTo>
                    <a:pt x="524" y="124"/>
                  </a:lnTo>
                  <a:lnTo>
                    <a:pt x="515" y="128"/>
                  </a:lnTo>
                  <a:lnTo>
                    <a:pt x="506" y="131"/>
                  </a:lnTo>
                  <a:lnTo>
                    <a:pt x="495" y="133"/>
                  </a:lnTo>
                  <a:lnTo>
                    <a:pt x="480" y="135"/>
                  </a:lnTo>
                  <a:lnTo>
                    <a:pt x="465" y="135"/>
                  </a:lnTo>
                  <a:lnTo>
                    <a:pt x="450" y="135"/>
                  </a:lnTo>
                  <a:lnTo>
                    <a:pt x="435" y="135"/>
                  </a:lnTo>
                  <a:lnTo>
                    <a:pt x="420" y="135"/>
                  </a:lnTo>
                  <a:lnTo>
                    <a:pt x="405" y="134"/>
                  </a:lnTo>
                  <a:lnTo>
                    <a:pt x="389" y="134"/>
                  </a:lnTo>
                  <a:lnTo>
                    <a:pt x="374" y="135"/>
                  </a:lnTo>
                  <a:lnTo>
                    <a:pt x="369" y="136"/>
                  </a:lnTo>
                  <a:lnTo>
                    <a:pt x="365" y="141"/>
                  </a:lnTo>
                  <a:lnTo>
                    <a:pt x="361" y="147"/>
                  </a:lnTo>
                  <a:lnTo>
                    <a:pt x="360" y="152"/>
                  </a:lnTo>
                  <a:lnTo>
                    <a:pt x="360" y="187"/>
                  </a:lnTo>
                  <a:lnTo>
                    <a:pt x="361" y="219"/>
                  </a:lnTo>
                  <a:lnTo>
                    <a:pt x="363" y="253"/>
                  </a:lnTo>
                  <a:lnTo>
                    <a:pt x="363" y="286"/>
                  </a:lnTo>
                  <a:lnTo>
                    <a:pt x="363" y="309"/>
                  </a:lnTo>
                  <a:lnTo>
                    <a:pt x="360" y="333"/>
                  </a:lnTo>
                  <a:lnTo>
                    <a:pt x="357" y="356"/>
                  </a:lnTo>
                  <a:lnTo>
                    <a:pt x="348" y="376"/>
                  </a:lnTo>
                  <a:lnTo>
                    <a:pt x="342" y="385"/>
                  </a:lnTo>
                  <a:lnTo>
                    <a:pt x="335" y="393"/>
                  </a:lnTo>
                  <a:lnTo>
                    <a:pt x="327" y="400"/>
                  </a:lnTo>
                  <a:lnTo>
                    <a:pt x="319" y="405"/>
                  </a:lnTo>
                  <a:lnTo>
                    <a:pt x="309" y="411"/>
                  </a:lnTo>
                  <a:lnTo>
                    <a:pt x="300" y="417"/>
                  </a:lnTo>
                  <a:lnTo>
                    <a:pt x="290" y="421"/>
                  </a:lnTo>
                  <a:lnTo>
                    <a:pt x="280" y="426"/>
                  </a:lnTo>
                  <a:lnTo>
                    <a:pt x="272" y="430"/>
                  </a:lnTo>
                  <a:lnTo>
                    <a:pt x="264" y="432"/>
                  </a:lnTo>
                  <a:lnTo>
                    <a:pt x="256" y="434"/>
                  </a:lnTo>
                  <a:lnTo>
                    <a:pt x="248" y="435"/>
                  </a:lnTo>
                  <a:lnTo>
                    <a:pt x="239" y="436"/>
                  </a:lnTo>
                  <a:lnTo>
                    <a:pt x="230" y="438"/>
                  </a:lnTo>
                  <a:lnTo>
                    <a:pt x="222" y="438"/>
                  </a:lnTo>
                  <a:lnTo>
                    <a:pt x="212" y="438"/>
                  </a:lnTo>
                  <a:lnTo>
                    <a:pt x="202" y="438"/>
                  </a:lnTo>
                  <a:lnTo>
                    <a:pt x="192" y="436"/>
                  </a:lnTo>
                  <a:lnTo>
                    <a:pt x="181" y="436"/>
                  </a:lnTo>
                  <a:lnTo>
                    <a:pt x="171" y="435"/>
                  </a:lnTo>
                  <a:lnTo>
                    <a:pt x="160" y="434"/>
                  </a:lnTo>
                  <a:lnTo>
                    <a:pt x="150" y="432"/>
                  </a:lnTo>
                  <a:lnTo>
                    <a:pt x="139" y="431"/>
                  </a:lnTo>
                  <a:lnTo>
                    <a:pt x="129" y="430"/>
                  </a:lnTo>
                  <a:lnTo>
                    <a:pt x="120" y="428"/>
                  </a:lnTo>
                  <a:lnTo>
                    <a:pt x="111" y="426"/>
                  </a:lnTo>
                  <a:lnTo>
                    <a:pt x="101" y="425"/>
                  </a:lnTo>
                  <a:lnTo>
                    <a:pt x="92" y="423"/>
                  </a:lnTo>
                  <a:lnTo>
                    <a:pt x="83" y="420"/>
                  </a:lnTo>
                  <a:lnTo>
                    <a:pt x="74" y="418"/>
                  </a:lnTo>
                  <a:lnTo>
                    <a:pt x="64" y="417"/>
                  </a:lnTo>
                  <a:lnTo>
                    <a:pt x="55" y="417"/>
                  </a:lnTo>
                  <a:lnTo>
                    <a:pt x="48" y="417"/>
                  </a:lnTo>
                  <a:lnTo>
                    <a:pt x="40" y="419"/>
                  </a:lnTo>
                  <a:lnTo>
                    <a:pt x="32" y="421"/>
                  </a:lnTo>
                  <a:lnTo>
                    <a:pt x="26" y="426"/>
                  </a:lnTo>
                  <a:lnTo>
                    <a:pt x="17" y="434"/>
                  </a:lnTo>
                  <a:lnTo>
                    <a:pt x="10" y="443"/>
                  </a:lnTo>
                  <a:lnTo>
                    <a:pt x="3" y="454"/>
                  </a:lnTo>
                  <a:lnTo>
                    <a:pt x="0" y="465"/>
                  </a:lnTo>
                  <a:lnTo>
                    <a:pt x="1" y="471"/>
                  </a:lnTo>
                  <a:lnTo>
                    <a:pt x="5" y="477"/>
                  </a:lnTo>
                  <a:lnTo>
                    <a:pt x="9" y="483"/>
                  </a:lnTo>
                  <a:lnTo>
                    <a:pt x="11" y="488"/>
                  </a:lnTo>
                  <a:lnTo>
                    <a:pt x="8" y="546"/>
                  </a:lnTo>
                  <a:close/>
                </a:path>
              </a:pathLst>
            </a:custGeom>
            <a:solidFill>
              <a:srgbClr val="c4a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676520" y="3033720"/>
              <a:ext cx="149688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057400" y="3081240"/>
              <a:ext cx="1068480" cy="1109880"/>
            </a:xfrm>
            <a:custGeom>
              <a:avLst/>
              <a:gdLst/>
              <a:ahLst/>
              <a:rect l="l" t="t" r="r" b="b"/>
              <a:pathLst>
                <a:path w="878" h="884">
                  <a:moveTo>
                    <a:pt x="109" y="884"/>
                  </a:moveTo>
                  <a:lnTo>
                    <a:pt x="96" y="884"/>
                  </a:lnTo>
                  <a:lnTo>
                    <a:pt x="82" y="884"/>
                  </a:lnTo>
                  <a:lnTo>
                    <a:pt x="68" y="884"/>
                  </a:lnTo>
                  <a:lnTo>
                    <a:pt x="54" y="884"/>
                  </a:lnTo>
                  <a:lnTo>
                    <a:pt x="40" y="884"/>
                  </a:lnTo>
                  <a:lnTo>
                    <a:pt x="26" y="884"/>
                  </a:lnTo>
                  <a:lnTo>
                    <a:pt x="14" y="884"/>
                  </a:lnTo>
                  <a:lnTo>
                    <a:pt x="0" y="884"/>
                  </a:lnTo>
                  <a:lnTo>
                    <a:pt x="0" y="871"/>
                  </a:lnTo>
                  <a:lnTo>
                    <a:pt x="1" y="858"/>
                  </a:lnTo>
                  <a:lnTo>
                    <a:pt x="3" y="844"/>
                  </a:lnTo>
                  <a:lnTo>
                    <a:pt x="5" y="831"/>
                  </a:lnTo>
                  <a:lnTo>
                    <a:pt x="11" y="833"/>
                  </a:lnTo>
                  <a:lnTo>
                    <a:pt x="17" y="834"/>
                  </a:lnTo>
                  <a:lnTo>
                    <a:pt x="23" y="835"/>
                  </a:lnTo>
                  <a:lnTo>
                    <a:pt x="29" y="837"/>
                  </a:lnTo>
                  <a:lnTo>
                    <a:pt x="34" y="838"/>
                  </a:lnTo>
                  <a:lnTo>
                    <a:pt x="40" y="838"/>
                  </a:lnTo>
                  <a:lnTo>
                    <a:pt x="45" y="838"/>
                  </a:lnTo>
                  <a:lnTo>
                    <a:pt x="49" y="836"/>
                  </a:lnTo>
                  <a:lnTo>
                    <a:pt x="57" y="830"/>
                  </a:lnTo>
                  <a:lnTo>
                    <a:pt x="66" y="824"/>
                  </a:lnTo>
                  <a:lnTo>
                    <a:pt x="72" y="818"/>
                  </a:lnTo>
                  <a:lnTo>
                    <a:pt x="79" y="809"/>
                  </a:lnTo>
                  <a:lnTo>
                    <a:pt x="85" y="800"/>
                  </a:lnTo>
                  <a:lnTo>
                    <a:pt x="91" y="792"/>
                  </a:lnTo>
                  <a:lnTo>
                    <a:pt x="96" y="783"/>
                  </a:lnTo>
                  <a:lnTo>
                    <a:pt x="99" y="774"/>
                  </a:lnTo>
                  <a:lnTo>
                    <a:pt x="103" y="759"/>
                  </a:lnTo>
                  <a:lnTo>
                    <a:pt x="103" y="742"/>
                  </a:lnTo>
                  <a:lnTo>
                    <a:pt x="103" y="727"/>
                  </a:lnTo>
                  <a:lnTo>
                    <a:pt x="103" y="712"/>
                  </a:lnTo>
                  <a:lnTo>
                    <a:pt x="104" y="689"/>
                  </a:lnTo>
                  <a:lnTo>
                    <a:pt x="106" y="667"/>
                  </a:lnTo>
                  <a:lnTo>
                    <a:pt x="108" y="644"/>
                  </a:lnTo>
                  <a:lnTo>
                    <a:pt x="112" y="622"/>
                  </a:lnTo>
                  <a:lnTo>
                    <a:pt x="114" y="614"/>
                  </a:lnTo>
                  <a:lnTo>
                    <a:pt x="118" y="606"/>
                  </a:lnTo>
                  <a:lnTo>
                    <a:pt x="122" y="599"/>
                  </a:lnTo>
                  <a:lnTo>
                    <a:pt x="129" y="596"/>
                  </a:lnTo>
                  <a:lnTo>
                    <a:pt x="134" y="595"/>
                  </a:lnTo>
                  <a:lnTo>
                    <a:pt x="138" y="596"/>
                  </a:lnTo>
                  <a:lnTo>
                    <a:pt x="143" y="597"/>
                  </a:lnTo>
                  <a:lnTo>
                    <a:pt x="148" y="598"/>
                  </a:lnTo>
                  <a:lnTo>
                    <a:pt x="152" y="600"/>
                  </a:lnTo>
                  <a:lnTo>
                    <a:pt x="158" y="602"/>
                  </a:lnTo>
                  <a:lnTo>
                    <a:pt x="163" y="604"/>
                  </a:lnTo>
                  <a:lnTo>
                    <a:pt x="167" y="605"/>
                  </a:lnTo>
                  <a:lnTo>
                    <a:pt x="175" y="607"/>
                  </a:lnTo>
                  <a:lnTo>
                    <a:pt x="183" y="609"/>
                  </a:lnTo>
                  <a:lnTo>
                    <a:pt x="192" y="611"/>
                  </a:lnTo>
                  <a:lnTo>
                    <a:pt x="200" y="613"/>
                  </a:lnTo>
                  <a:lnTo>
                    <a:pt x="208" y="615"/>
                  </a:lnTo>
                  <a:lnTo>
                    <a:pt x="216" y="617"/>
                  </a:lnTo>
                  <a:lnTo>
                    <a:pt x="224" y="619"/>
                  </a:lnTo>
                  <a:lnTo>
                    <a:pt x="232" y="620"/>
                  </a:lnTo>
                  <a:lnTo>
                    <a:pt x="241" y="621"/>
                  </a:lnTo>
                  <a:lnTo>
                    <a:pt x="250" y="624"/>
                  </a:lnTo>
                  <a:lnTo>
                    <a:pt x="260" y="625"/>
                  </a:lnTo>
                  <a:lnTo>
                    <a:pt x="269" y="626"/>
                  </a:lnTo>
                  <a:lnTo>
                    <a:pt x="278" y="627"/>
                  </a:lnTo>
                  <a:lnTo>
                    <a:pt x="287" y="628"/>
                  </a:lnTo>
                  <a:lnTo>
                    <a:pt x="297" y="629"/>
                  </a:lnTo>
                  <a:lnTo>
                    <a:pt x="306" y="629"/>
                  </a:lnTo>
                  <a:lnTo>
                    <a:pt x="317" y="629"/>
                  </a:lnTo>
                  <a:lnTo>
                    <a:pt x="330" y="629"/>
                  </a:lnTo>
                  <a:lnTo>
                    <a:pt x="342" y="629"/>
                  </a:lnTo>
                  <a:lnTo>
                    <a:pt x="354" y="629"/>
                  </a:lnTo>
                  <a:lnTo>
                    <a:pt x="366" y="628"/>
                  </a:lnTo>
                  <a:lnTo>
                    <a:pt x="378" y="626"/>
                  </a:lnTo>
                  <a:lnTo>
                    <a:pt x="388" y="624"/>
                  </a:lnTo>
                  <a:lnTo>
                    <a:pt x="398" y="620"/>
                  </a:lnTo>
                  <a:lnTo>
                    <a:pt x="405" y="613"/>
                  </a:lnTo>
                  <a:lnTo>
                    <a:pt x="410" y="602"/>
                  </a:lnTo>
                  <a:lnTo>
                    <a:pt x="412" y="590"/>
                  </a:lnTo>
                  <a:lnTo>
                    <a:pt x="416" y="579"/>
                  </a:lnTo>
                  <a:lnTo>
                    <a:pt x="423" y="565"/>
                  </a:lnTo>
                  <a:lnTo>
                    <a:pt x="431" y="550"/>
                  </a:lnTo>
                  <a:lnTo>
                    <a:pt x="438" y="536"/>
                  </a:lnTo>
                  <a:lnTo>
                    <a:pt x="442" y="522"/>
                  </a:lnTo>
                  <a:lnTo>
                    <a:pt x="445" y="507"/>
                  </a:lnTo>
                  <a:lnTo>
                    <a:pt x="445" y="491"/>
                  </a:lnTo>
                  <a:lnTo>
                    <a:pt x="443" y="475"/>
                  </a:lnTo>
                  <a:lnTo>
                    <a:pt x="442" y="460"/>
                  </a:lnTo>
                  <a:lnTo>
                    <a:pt x="438" y="443"/>
                  </a:lnTo>
                  <a:lnTo>
                    <a:pt x="432" y="428"/>
                  </a:lnTo>
                  <a:lnTo>
                    <a:pt x="426" y="412"/>
                  </a:lnTo>
                  <a:lnTo>
                    <a:pt x="421" y="397"/>
                  </a:lnTo>
                  <a:lnTo>
                    <a:pt x="419" y="379"/>
                  </a:lnTo>
                  <a:lnTo>
                    <a:pt x="417" y="360"/>
                  </a:lnTo>
                  <a:lnTo>
                    <a:pt x="416" y="342"/>
                  </a:lnTo>
                  <a:lnTo>
                    <a:pt x="416" y="323"/>
                  </a:lnTo>
                  <a:lnTo>
                    <a:pt x="416" y="311"/>
                  </a:lnTo>
                  <a:lnTo>
                    <a:pt x="416" y="297"/>
                  </a:lnTo>
                  <a:lnTo>
                    <a:pt x="418" y="285"/>
                  </a:lnTo>
                  <a:lnTo>
                    <a:pt x="421" y="274"/>
                  </a:lnTo>
                  <a:lnTo>
                    <a:pt x="425" y="271"/>
                  </a:lnTo>
                  <a:lnTo>
                    <a:pt x="431" y="271"/>
                  </a:lnTo>
                  <a:lnTo>
                    <a:pt x="437" y="273"/>
                  </a:lnTo>
                  <a:lnTo>
                    <a:pt x="442" y="274"/>
                  </a:lnTo>
                  <a:lnTo>
                    <a:pt x="449" y="275"/>
                  </a:lnTo>
                  <a:lnTo>
                    <a:pt x="455" y="276"/>
                  </a:lnTo>
                  <a:lnTo>
                    <a:pt x="462" y="278"/>
                  </a:lnTo>
                  <a:lnTo>
                    <a:pt x="468" y="279"/>
                  </a:lnTo>
                  <a:lnTo>
                    <a:pt x="475" y="282"/>
                  </a:lnTo>
                  <a:lnTo>
                    <a:pt x="480" y="284"/>
                  </a:lnTo>
                  <a:lnTo>
                    <a:pt x="486" y="285"/>
                  </a:lnTo>
                  <a:lnTo>
                    <a:pt x="492" y="288"/>
                  </a:lnTo>
                  <a:lnTo>
                    <a:pt x="500" y="291"/>
                  </a:lnTo>
                  <a:lnTo>
                    <a:pt x="509" y="294"/>
                  </a:lnTo>
                  <a:lnTo>
                    <a:pt x="517" y="298"/>
                  </a:lnTo>
                  <a:lnTo>
                    <a:pt x="527" y="301"/>
                  </a:lnTo>
                  <a:lnTo>
                    <a:pt x="535" y="306"/>
                  </a:lnTo>
                  <a:lnTo>
                    <a:pt x="544" y="309"/>
                  </a:lnTo>
                  <a:lnTo>
                    <a:pt x="552" y="312"/>
                  </a:lnTo>
                  <a:lnTo>
                    <a:pt x="560" y="314"/>
                  </a:lnTo>
                  <a:lnTo>
                    <a:pt x="567" y="315"/>
                  </a:lnTo>
                  <a:lnTo>
                    <a:pt x="574" y="316"/>
                  </a:lnTo>
                  <a:lnTo>
                    <a:pt x="581" y="318"/>
                  </a:lnTo>
                  <a:lnTo>
                    <a:pt x="589" y="318"/>
                  </a:lnTo>
                  <a:lnTo>
                    <a:pt x="596" y="318"/>
                  </a:lnTo>
                  <a:lnTo>
                    <a:pt x="603" y="318"/>
                  </a:lnTo>
                  <a:lnTo>
                    <a:pt x="610" y="318"/>
                  </a:lnTo>
                  <a:lnTo>
                    <a:pt x="617" y="318"/>
                  </a:lnTo>
                  <a:lnTo>
                    <a:pt x="626" y="318"/>
                  </a:lnTo>
                  <a:lnTo>
                    <a:pt x="634" y="316"/>
                  </a:lnTo>
                  <a:lnTo>
                    <a:pt x="643" y="316"/>
                  </a:lnTo>
                  <a:lnTo>
                    <a:pt x="653" y="315"/>
                  </a:lnTo>
                  <a:lnTo>
                    <a:pt x="661" y="314"/>
                  </a:lnTo>
                  <a:lnTo>
                    <a:pt x="669" y="313"/>
                  </a:lnTo>
                  <a:lnTo>
                    <a:pt x="677" y="311"/>
                  </a:lnTo>
                  <a:lnTo>
                    <a:pt x="685" y="308"/>
                  </a:lnTo>
                  <a:lnTo>
                    <a:pt x="692" y="305"/>
                  </a:lnTo>
                  <a:lnTo>
                    <a:pt x="700" y="301"/>
                  </a:lnTo>
                  <a:lnTo>
                    <a:pt x="708" y="297"/>
                  </a:lnTo>
                  <a:lnTo>
                    <a:pt x="715" y="292"/>
                  </a:lnTo>
                  <a:lnTo>
                    <a:pt x="722" y="286"/>
                  </a:lnTo>
                  <a:lnTo>
                    <a:pt x="728" y="281"/>
                  </a:lnTo>
                  <a:lnTo>
                    <a:pt x="733" y="274"/>
                  </a:lnTo>
                  <a:lnTo>
                    <a:pt x="738" y="267"/>
                  </a:lnTo>
                  <a:lnTo>
                    <a:pt x="742" y="254"/>
                  </a:lnTo>
                  <a:lnTo>
                    <a:pt x="742" y="240"/>
                  </a:lnTo>
                  <a:lnTo>
                    <a:pt x="739" y="225"/>
                  </a:lnTo>
                  <a:lnTo>
                    <a:pt x="738" y="211"/>
                  </a:lnTo>
                  <a:lnTo>
                    <a:pt x="736" y="181"/>
                  </a:lnTo>
                  <a:lnTo>
                    <a:pt x="735" y="151"/>
                  </a:lnTo>
                  <a:lnTo>
                    <a:pt x="731" y="121"/>
                  </a:lnTo>
                  <a:lnTo>
                    <a:pt x="727" y="92"/>
                  </a:lnTo>
                  <a:lnTo>
                    <a:pt x="722" y="74"/>
                  </a:lnTo>
                  <a:lnTo>
                    <a:pt x="715" y="54"/>
                  </a:lnTo>
                  <a:lnTo>
                    <a:pt x="707" y="36"/>
                  </a:lnTo>
                  <a:lnTo>
                    <a:pt x="699" y="17"/>
                  </a:lnTo>
                  <a:lnTo>
                    <a:pt x="710" y="18"/>
                  </a:lnTo>
                  <a:lnTo>
                    <a:pt x="722" y="18"/>
                  </a:lnTo>
                  <a:lnTo>
                    <a:pt x="731" y="17"/>
                  </a:lnTo>
                  <a:lnTo>
                    <a:pt x="739" y="16"/>
                  </a:lnTo>
                  <a:lnTo>
                    <a:pt x="747" y="14"/>
                  </a:lnTo>
                  <a:lnTo>
                    <a:pt x="754" y="12"/>
                  </a:lnTo>
                  <a:lnTo>
                    <a:pt x="761" y="9"/>
                  </a:lnTo>
                  <a:lnTo>
                    <a:pt x="768" y="7"/>
                  </a:lnTo>
                  <a:lnTo>
                    <a:pt x="780" y="5"/>
                  </a:lnTo>
                  <a:lnTo>
                    <a:pt x="791" y="2"/>
                  </a:lnTo>
                  <a:lnTo>
                    <a:pt x="803" y="1"/>
                  </a:lnTo>
                  <a:lnTo>
                    <a:pt x="817" y="0"/>
                  </a:lnTo>
                  <a:lnTo>
                    <a:pt x="831" y="1"/>
                  </a:lnTo>
                  <a:lnTo>
                    <a:pt x="844" y="2"/>
                  </a:lnTo>
                  <a:lnTo>
                    <a:pt x="861" y="3"/>
                  </a:lnTo>
                  <a:lnTo>
                    <a:pt x="878" y="7"/>
                  </a:lnTo>
                  <a:lnTo>
                    <a:pt x="878" y="34"/>
                  </a:lnTo>
                  <a:lnTo>
                    <a:pt x="878" y="61"/>
                  </a:lnTo>
                  <a:lnTo>
                    <a:pt x="878" y="89"/>
                  </a:lnTo>
                  <a:lnTo>
                    <a:pt x="878" y="117"/>
                  </a:lnTo>
                  <a:lnTo>
                    <a:pt x="873" y="112"/>
                  </a:lnTo>
                  <a:lnTo>
                    <a:pt x="868" y="109"/>
                  </a:lnTo>
                  <a:lnTo>
                    <a:pt x="863" y="104"/>
                  </a:lnTo>
                  <a:lnTo>
                    <a:pt x="857" y="100"/>
                  </a:lnTo>
                  <a:lnTo>
                    <a:pt x="853" y="96"/>
                  </a:lnTo>
                  <a:lnTo>
                    <a:pt x="848" y="91"/>
                  </a:lnTo>
                  <a:lnTo>
                    <a:pt x="843" y="87"/>
                  </a:lnTo>
                  <a:lnTo>
                    <a:pt x="840" y="82"/>
                  </a:lnTo>
                  <a:lnTo>
                    <a:pt x="834" y="68"/>
                  </a:lnTo>
                  <a:lnTo>
                    <a:pt x="831" y="53"/>
                  </a:lnTo>
                  <a:lnTo>
                    <a:pt x="826" y="40"/>
                  </a:lnTo>
                  <a:lnTo>
                    <a:pt x="817" y="32"/>
                  </a:lnTo>
                  <a:lnTo>
                    <a:pt x="809" y="34"/>
                  </a:lnTo>
                  <a:lnTo>
                    <a:pt x="802" y="42"/>
                  </a:lnTo>
                  <a:lnTo>
                    <a:pt x="797" y="53"/>
                  </a:lnTo>
                  <a:lnTo>
                    <a:pt x="792" y="65"/>
                  </a:lnTo>
                  <a:lnTo>
                    <a:pt x="788" y="77"/>
                  </a:lnTo>
                  <a:lnTo>
                    <a:pt x="786" y="90"/>
                  </a:lnTo>
                  <a:lnTo>
                    <a:pt x="783" y="104"/>
                  </a:lnTo>
                  <a:lnTo>
                    <a:pt x="781" y="118"/>
                  </a:lnTo>
                  <a:lnTo>
                    <a:pt x="779" y="137"/>
                  </a:lnTo>
                  <a:lnTo>
                    <a:pt x="777" y="157"/>
                  </a:lnTo>
                  <a:lnTo>
                    <a:pt x="776" y="178"/>
                  </a:lnTo>
                  <a:lnTo>
                    <a:pt x="775" y="197"/>
                  </a:lnTo>
                  <a:lnTo>
                    <a:pt x="776" y="204"/>
                  </a:lnTo>
                  <a:lnTo>
                    <a:pt x="777" y="212"/>
                  </a:lnTo>
                  <a:lnTo>
                    <a:pt x="779" y="221"/>
                  </a:lnTo>
                  <a:lnTo>
                    <a:pt x="779" y="227"/>
                  </a:lnTo>
                  <a:lnTo>
                    <a:pt x="775" y="253"/>
                  </a:lnTo>
                  <a:lnTo>
                    <a:pt x="769" y="278"/>
                  </a:lnTo>
                  <a:lnTo>
                    <a:pt x="762" y="304"/>
                  </a:lnTo>
                  <a:lnTo>
                    <a:pt x="754" y="328"/>
                  </a:lnTo>
                  <a:lnTo>
                    <a:pt x="751" y="337"/>
                  </a:lnTo>
                  <a:lnTo>
                    <a:pt x="746" y="345"/>
                  </a:lnTo>
                  <a:lnTo>
                    <a:pt x="742" y="353"/>
                  </a:lnTo>
                  <a:lnTo>
                    <a:pt x="736" y="363"/>
                  </a:lnTo>
                  <a:lnTo>
                    <a:pt x="730" y="370"/>
                  </a:lnTo>
                  <a:lnTo>
                    <a:pt x="724" y="378"/>
                  </a:lnTo>
                  <a:lnTo>
                    <a:pt x="717" y="385"/>
                  </a:lnTo>
                  <a:lnTo>
                    <a:pt x="710" y="390"/>
                  </a:lnTo>
                  <a:lnTo>
                    <a:pt x="706" y="393"/>
                  </a:lnTo>
                  <a:lnTo>
                    <a:pt x="701" y="395"/>
                  </a:lnTo>
                  <a:lnTo>
                    <a:pt x="695" y="395"/>
                  </a:lnTo>
                  <a:lnTo>
                    <a:pt x="691" y="396"/>
                  </a:lnTo>
                  <a:lnTo>
                    <a:pt x="684" y="396"/>
                  </a:lnTo>
                  <a:lnTo>
                    <a:pt x="678" y="396"/>
                  </a:lnTo>
                  <a:lnTo>
                    <a:pt x="672" y="396"/>
                  </a:lnTo>
                  <a:lnTo>
                    <a:pt x="666" y="396"/>
                  </a:lnTo>
                  <a:lnTo>
                    <a:pt x="657" y="397"/>
                  </a:lnTo>
                  <a:lnTo>
                    <a:pt x="648" y="398"/>
                  </a:lnTo>
                  <a:lnTo>
                    <a:pt x="638" y="400"/>
                  </a:lnTo>
                  <a:lnTo>
                    <a:pt x="628" y="401"/>
                  </a:lnTo>
                  <a:lnTo>
                    <a:pt x="619" y="402"/>
                  </a:lnTo>
                  <a:lnTo>
                    <a:pt x="609" y="403"/>
                  </a:lnTo>
                  <a:lnTo>
                    <a:pt x="599" y="404"/>
                  </a:lnTo>
                  <a:lnTo>
                    <a:pt x="590" y="405"/>
                  </a:lnTo>
                  <a:lnTo>
                    <a:pt x="581" y="406"/>
                  </a:lnTo>
                  <a:lnTo>
                    <a:pt x="572" y="408"/>
                  </a:lnTo>
                  <a:lnTo>
                    <a:pt x="562" y="409"/>
                  </a:lnTo>
                  <a:lnTo>
                    <a:pt x="553" y="410"/>
                  </a:lnTo>
                  <a:lnTo>
                    <a:pt x="544" y="412"/>
                  </a:lnTo>
                  <a:lnTo>
                    <a:pt x="534" y="415"/>
                  </a:lnTo>
                  <a:lnTo>
                    <a:pt x="525" y="417"/>
                  </a:lnTo>
                  <a:lnTo>
                    <a:pt x="516" y="420"/>
                  </a:lnTo>
                  <a:lnTo>
                    <a:pt x="512" y="424"/>
                  </a:lnTo>
                  <a:lnTo>
                    <a:pt x="506" y="427"/>
                  </a:lnTo>
                  <a:lnTo>
                    <a:pt x="501" y="431"/>
                  </a:lnTo>
                  <a:lnTo>
                    <a:pt x="497" y="435"/>
                  </a:lnTo>
                  <a:lnTo>
                    <a:pt x="492" y="440"/>
                  </a:lnTo>
                  <a:lnTo>
                    <a:pt x="487" y="446"/>
                  </a:lnTo>
                  <a:lnTo>
                    <a:pt x="484" y="450"/>
                  </a:lnTo>
                  <a:lnTo>
                    <a:pt x="480" y="456"/>
                  </a:lnTo>
                  <a:lnTo>
                    <a:pt x="473" y="471"/>
                  </a:lnTo>
                  <a:lnTo>
                    <a:pt x="469" y="486"/>
                  </a:lnTo>
                  <a:lnTo>
                    <a:pt x="465" y="502"/>
                  </a:lnTo>
                  <a:lnTo>
                    <a:pt x="463" y="518"/>
                  </a:lnTo>
                  <a:lnTo>
                    <a:pt x="463" y="544"/>
                  </a:lnTo>
                  <a:lnTo>
                    <a:pt x="465" y="568"/>
                  </a:lnTo>
                  <a:lnTo>
                    <a:pt x="468" y="594"/>
                  </a:lnTo>
                  <a:lnTo>
                    <a:pt x="469" y="619"/>
                  </a:lnTo>
                  <a:lnTo>
                    <a:pt x="469" y="633"/>
                  </a:lnTo>
                  <a:lnTo>
                    <a:pt x="469" y="648"/>
                  </a:lnTo>
                  <a:lnTo>
                    <a:pt x="467" y="662"/>
                  </a:lnTo>
                  <a:lnTo>
                    <a:pt x="463" y="675"/>
                  </a:lnTo>
                  <a:lnTo>
                    <a:pt x="460" y="682"/>
                  </a:lnTo>
                  <a:lnTo>
                    <a:pt x="454" y="691"/>
                  </a:lnTo>
                  <a:lnTo>
                    <a:pt x="447" y="696"/>
                  </a:lnTo>
                  <a:lnTo>
                    <a:pt x="439" y="699"/>
                  </a:lnTo>
                  <a:lnTo>
                    <a:pt x="432" y="699"/>
                  </a:lnTo>
                  <a:lnTo>
                    <a:pt x="424" y="699"/>
                  </a:lnTo>
                  <a:lnTo>
                    <a:pt x="416" y="697"/>
                  </a:lnTo>
                  <a:lnTo>
                    <a:pt x="409" y="695"/>
                  </a:lnTo>
                  <a:lnTo>
                    <a:pt x="401" y="693"/>
                  </a:lnTo>
                  <a:lnTo>
                    <a:pt x="393" y="691"/>
                  </a:lnTo>
                  <a:lnTo>
                    <a:pt x="384" y="688"/>
                  </a:lnTo>
                  <a:lnTo>
                    <a:pt x="378" y="687"/>
                  </a:lnTo>
                  <a:lnTo>
                    <a:pt x="371" y="686"/>
                  </a:lnTo>
                  <a:lnTo>
                    <a:pt x="364" y="684"/>
                  </a:lnTo>
                  <a:lnTo>
                    <a:pt x="357" y="682"/>
                  </a:lnTo>
                  <a:lnTo>
                    <a:pt x="350" y="680"/>
                  </a:lnTo>
                  <a:lnTo>
                    <a:pt x="343" y="678"/>
                  </a:lnTo>
                  <a:lnTo>
                    <a:pt x="336" y="677"/>
                  </a:lnTo>
                  <a:lnTo>
                    <a:pt x="328" y="675"/>
                  </a:lnTo>
                  <a:lnTo>
                    <a:pt x="321" y="675"/>
                  </a:lnTo>
                  <a:lnTo>
                    <a:pt x="311" y="677"/>
                  </a:lnTo>
                  <a:lnTo>
                    <a:pt x="300" y="678"/>
                  </a:lnTo>
                  <a:lnTo>
                    <a:pt x="289" y="679"/>
                  </a:lnTo>
                  <a:lnTo>
                    <a:pt x="278" y="681"/>
                  </a:lnTo>
                  <a:lnTo>
                    <a:pt x="268" y="684"/>
                  </a:lnTo>
                  <a:lnTo>
                    <a:pt x="256" y="687"/>
                  </a:lnTo>
                  <a:lnTo>
                    <a:pt x="246" y="689"/>
                  </a:lnTo>
                  <a:lnTo>
                    <a:pt x="235" y="693"/>
                  </a:lnTo>
                  <a:lnTo>
                    <a:pt x="227" y="695"/>
                  </a:lnTo>
                  <a:lnTo>
                    <a:pt x="218" y="697"/>
                  </a:lnTo>
                  <a:lnTo>
                    <a:pt x="209" y="701"/>
                  </a:lnTo>
                  <a:lnTo>
                    <a:pt x="200" y="704"/>
                  </a:lnTo>
                  <a:lnTo>
                    <a:pt x="192" y="708"/>
                  </a:lnTo>
                  <a:lnTo>
                    <a:pt x="182" y="712"/>
                  </a:lnTo>
                  <a:lnTo>
                    <a:pt x="174" y="717"/>
                  </a:lnTo>
                  <a:lnTo>
                    <a:pt x="167" y="723"/>
                  </a:lnTo>
                  <a:lnTo>
                    <a:pt x="159" y="730"/>
                  </a:lnTo>
                  <a:lnTo>
                    <a:pt x="152" y="737"/>
                  </a:lnTo>
                  <a:lnTo>
                    <a:pt x="145" y="746"/>
                  </a:lnTo>
                  <a:lnTo>
                    <a:pt x="138" y="754"/>
                  </a:lnTo>
                  <a:lnTo>
                    <a:pt x="131" y="763"/>
                  </a:lnTo>
                  <a:lnTo>
                    <a:pt x="127" y="772"/>
                  </a:lnTo>
                  <a:lnTo>
                    <a:pt x="121" y="783"/>
                  </a:lnTo>
                  <a:lnTo>
                    <a:pt x="118" y="793"/>
                  </a:lnTo>
                  <a:lnTo>
                    <a:pt x="113" y="815"/>
                  </a:lnTo>
                  <a:lnTo>
                    <a:pt x="112" y="837"/>
                  </a:lnTo>
                  <a:lnTo>
                    <a:pt x="111" y="861"/>
                  </a:lnTo>
                  <a:lnTo>
                    <a:pt x="109" y="884"/>
                  </a:lnTo>
                  <a:close/>
                </a:path>
              </a:pathLst>
            </a:custGeom>
            <a:solidFill>
              <a:srgbClr val="c4a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722600" y="3073320"/>
              <a:ext cx="993600" cy="909720"/>
            </a:xfrm>
            <a:custGeom>
              <a:avLst/>
              <a:gdLst/>
              <a:ahLst/>
              <a:rect l="l" t="t" r="r" b="b"/>
              <a:pathLst>
                <a:path w="626" h="573">
                  <a:moveTo>
                    <a:pt x="605" y="6"/>
                  </a:moveTo>
                  <a:lnTo>
                    <a:pt x="599" y="5"/>
                  </a:lnTo>
                  <a:lnTo>
                    <a:pt x="590" y="4"/>
                  </a:lnTo>
                  <a:lnTo>
                    <a:pt x="583" y="4"/>
                  </a:lnTo>
                  <a:lnTo>
                    <a:pt x="577" y="3"/>
                  </a:lnTo>
                  <a:lnTo>
                    <a:pt x="570" y="2"/>
                  </a:lnTo>
                  <a:lnTo>
                    <a:pt x="563" y="0"/>
                  </a:lnTo>
                  <a:lnTo>
                    <a:pt x="556" y="0"/>
                  </a:lnTo>
                  <a:lnTo>
                    <a:pt x="549" y="0"/>
                  </a:lnTo>
                  <a:lnTo>
                    <a:pt x="535" y="0"/>
                  </a:lnTo>
                  <a:lnTo>
                    <a:pt x="522" y="3"/>
                  </a:lnTo>
                  <a:lnTo>
                    <a:pt x="510" y="4"/>
                  </a:lnTo>
                  <a:lnTo>
                    <a:pt x="497" y="6"/>
                  </a:lnTo>
                  <a:lnTo>
                    <a:pt x="484" y="8"/>
                  </a:lnTo>
                  <a:lnTo>
                    <a:pt x="471" y="10"/>
                  </a:lnTo>
                  <a:lnTo>
                    <a:pt x="458" y="12"/>
                  </a:lnTo>
                  <a:lnTo>
                    <a:pt x="445" y="12"/>
                  </a:lnTo>
                  <a:lnTo>
                    <a:pt x="431" y="12"/>
                  </a:lnTo>
                  <a:lnTo>
                    <a:pt x="417" y="12"/>
                  </a:lnTo>
                  <a:lnTo>
                    <a:pt x="403" y="12"/>
                  </a:lnTo>
                  <a:lnTo>
                    <a:pt x="389" y="12"/>
                  </a:lnTo>
                  <a:lnTo>
                    <a:pt x="375" y="12"/>
                  </a:lnTo>
                  <a:lnTo>
                    <a:pt x="362" y="12"/>
                  </a:lnTo>
                  <a:lnTo>
                    <a:pt x="349" y="12"/>
                  </a:lnTo>
                  <a:lnTo>
                    <a:pt x="335" y="12"/>
                  </a:lnTo>
                  <a:lnTo>
                    <a:pt x="321" y="12"/>
                  </a:lnTo>
                  <a:lnTo>
                    <a:pt x="310" y="13"/>
                  </a:lnTo>
                  <a:lnTo>
                    <a:pt x="298" y="14"/>
                  </a:lnTo>
                  <a:lnTo>
                    <a:pt x="286" y="14"/>
                  </a:lnTo>
                  <a:lnTo>
                    <a:pt x="275" y="15"/>
                  </a:lnTo>
                  <a:lnTo>
                    <a:pt x="263" y="17"/>
                  </a:lnTo>
                  <a:lnTo>
                    <a:pt x="251" y="18"/>
                  </a:lnTo>
                  <a:lnTo>
                    <a:pt x="238" y="18"/>
                  </a:lnTo>
                  <a:lnTo>
                    <a:pt x="224" y="18"/>
                  </a:lnTo>
                  <a:lnTo>
                    <a:pt x="208" y="15"/>
                  </a:lnTo>
                  <a:lnTo>
                    <a:pt x="193" y="14"/>
                  </a:lnTo>
                  <a:lnTo>
                    <a:pt x="177" y="12"/>
                  </a:lnTo>
                  <a:lnTo>
                    <a:pt x="161" y="10"/>
                  </a:lnTo>
                  <a:lnTo>
                    <a:pt x="144" y="8"/>
                  </a:lnTo>
                  <a:lnTo>
                    <a:pt x="129" y="6"/>
                  </a:lnTo>
                  <a:lnTo>
                    <a:pt x="115" y="6"/>
                  </a:lnTo>
                  <a:lnTo>
                    <a:pt x="102" y="6"/>
                  </a:lnTo>
                  <a:lnTo>
                    <a:pt x="88" y="7"/>
                  </a:lnTo>
                  <a:lnTo>
                    <a:pt x="74" y="8"/>
                  </a:lnTo>
                  <a:lnTo>
                    <a:pt x="60" y="8"/>
                  </a:lnTo>
                  <a:lnTo>
                    <a:pt x="46" y="10"/>
                  </a:lnTo>
                  <a:lnTo>
                    <a:pt x="32" y="11"/>
                  </a:lnTo>
                  <a:lnTo>
                    <a:pt x="20" y="12"/>
                  </a:lnTo>
                  <a:lnTo>
                    <a:pt x="6" y="12"/>
                  </a:lnTo>
                  <a:lnTo>
                    <a:pt x="6" y="39"/>
                  </a:lnTo>
                  <a:lnTo>
                    <a:pt x="6" y="66"/>
                  </a:lnTo>
                  <a:lnTo>
                    <a:pt x="6" y="94"/>
                  </a:lnTo>
                  <a:lnTo>
                    <a:pt x="6" y="122"/>
                  </a:lnTo>
                  <a:lnTo>
                    <a:pt x="5" y="148"/>
                  </a:lnTo>
                  <a:lnTo>
                    <a:pt x="3" y="176"/>
                  </a:lnTo>
                  <a:lnTo>
                    <a:pt x="1" y="204"/>
                  </a:lnTo>
                  <a:lnTo>
                    <a:pt x="0" y="231"/>
                  </a:lnTo>
                  <a:lnTo>
                    <a:pt x="1" y="258"/>
                  </a:lnTo>
                  <a:lnTo>
                    <a:pt x="3" y="286"/>
                  </a:lnTo>
                  <a:lnTo>
                    <a:pt x="5" y="313"/>
                  </a:lnTo>
                  <a:lnTo>
                    <a:pt x="6" y="341"/>
                  </a:lnTo>
                  <a:lnTo>
                    <a:pt x="6" y="368"/>
                  </a:lnTo>
                  <a:lnTo>
                    <a:pt x="6" y="395"/>
                  </a:lnTo>
                  <a:lnTo>
                    <a:pt x="6" y="423"/>
                  </a:lnTo>
                  <a:lnTo>
                    <a:pt x="6" y="451"/>
                  </a:lnTo>
                  <a:lnTo>
                    <a:pt x="8" y="477"/>
                  </a:lnTo>
                  <a:lnTo>
                    <a:pt x="11" y="505"/>
                  </a:lnTo>
                  <a:lnTo>
                    <a:pt x="15" y="533"/>
                  </a:lnTo>
                  <a:lnTo>
                    <a:pt x="17" y="560"/>
                  </a:lnTo>
                  <a:lnTo>
                    <a:pt x="17" y="563"/>
                  </a:lnTo>
                  <a:lnTo>
                    <a:pt x="17" y="566"/>
                  </a:lnTo>
                  <a:lnTo>
                    <a:pt x="16" y="570"/>
                  </a:lnTo>
                  <a:lnTo>
                    <a:pt x="16" y="573"/>
                  </a:lnTo>
                  <a:lnTo>
                    <a:pt x="26" y="568"/>
                  </a:lnTo>
                  <a:lnTo>
                    <a:pt x="37" y="564"/>
                  </a:lnTo>
                  <a:lnTo>
                    <a:pt x="46" y="558"/>
                  </a:lnTo>
                  <a:lnTo>
                    <a:pt x="57" y="552"/>
                  </a:lnTo>
                  <a:lnTo>
                    <a:pt x="67" y="548"/>
                  </a:lnTo>
                  <a:lnTo>
                    <a:pt x="76" y="543"/>
                  </a:lnTo>
                  <a:lnTo>
                    <a:pt x="87" y="540"/>
                  </a:lnTo>
                  <a:lnTo>
                    <a:pt x="97" y="536"/>
                  </a:lnTo>
                  <a:lnTo>
                    <a:pt x="106" y="534"/>
                  </a:lnTo>
                  <a:lnTo>
                    <a:pt x="114" y="530"/>
                  </a:lnTo>
                  <a:lnTo>
                    <a:pt x="124" y="528"/>
                  </a:lnTo>
                  <a:lnTo>
                    <a:pt x="132" y="526"/>
                  </a:lnTo>
                  <a:lnTo>
                    <a:pt x="141" y="525"/>
                  </a:lnTo>
                  <a:lnTo>
                    <a:pt x="150" y="522"/>
                  </a:lnTo>
                  <a:lnTo>
                    <a:pt x="159" y="521"/>
                  </a:lnTo>
                  <a:lnTo>
                    <a:pt x="169" y="521"/>
                  </a:lnTo>
                  <a:lnTo>
                    <a:pt x="176" y="521"/>
                  </a:lnTo>
                  <a:lnTo>
                    <a:pt x="182" y="522"/>
                  </a:lnTo>
                  <a:lnTo>
                    <a:pt x="188" y="523"/>
                  </a:lnTo>
                  <a:lnTo>
                    <a:pt x="195" y="526"/>
                  </a:lnTo>
                  <a:lnTo>
                    <a:pt x="202" y="528"/>
                  </a:lnTo>
                  <a:lnTo>
                    <a:pt x="208" y="529"/>
                  </a:lnTo>
                  <a:lnTo>
                    <a:pt x="214" y="532"/>
                  </a:lnTo>
                  <a:lnTo>
                    <a:pt x="219" y="533"/>
                  </a:lnTo>
                  <a:lnTo>
                    <a:pt x="228" y="535"/>
                  </a:lnTo>
                  <a:lnTo>
                    <a:pt x="234" y="537"/>
                  </a:lnTo>
                  <a:lnTo>
                    <a:pt x="243" y="541"/>
                  </a:lnTo>
                  <a:lnTo>
                    <a:pt x="251" y="544"/>
                  </a:lnTo>
                  <a:lnTo>
                    <a:pt x="259" y="548"/>
                  </a:lnTo>
                  <a:lnTo>
                    <a:pt x="266" y="551"/>
                  </a:lnTo>
                  <a:lnTo>
                    <a:pt x="274" y="552"/>
                  </a:lnTo>
                  <a:lnTo>
                    <a:pt x="281" y="553"/>
                  </a:lnTo>
                  <a:lnTo>
                    <a:pt x="286" y="552"/>
                  </a:lnTo>
                  <a:lnTo>
                    <a:pt x="292" y="549"/>
                  </a:lnTo>
                  <a:lnTo>
                    <a:pt x="297" y="544"/>
                  </a:lnTo>
                  <a:lnTo>
                    <a:pt x="299" y="540"/>
                  </a:lnTo>
                  <a:lnTo>
                    <a:pt x="297" y="518"/>
                  </a:lnTo>
                  <a:lnTo>
                    <a:pt x="290" y="495"/>
                  </a:lnTo>
                  <a:lnTo>
                    <a:pt x="284" y="473"/>
                  </a:lnTo>
                  <a:lnTo>
                    <a:pt x="281" y="451"/>
                  </a:lnTo>
                  <a:lnTo>
                    <a:pt x="278" y="426"/>
                  </a:lnTo>
                  <a:lnTo>
                    <a:pt x="277" y="401"/>
                  </a:lnTo>
                  <a:lnTo>
                    <a:pt x="277" y="377"/>
                  </a:lnTo>
                  <a:lnTo>
                    <a:pt x="278" y="353"/>
                  </a:lnTo>
                  <a:lnTo>
                    <a:pt x="282" y="326"/>
                  </a:lnTo>
                  <a:lnTo>
                    <a:pt x="289" y="299"/>
                  </a:lnTo>
                  <a:lnTo>
                    <a:pt x="298" y="274"/>
                  </a:lnTo>
                  <a:lnTo>
                    <a:pt x="312" y="251"/>
                  </a:lnTo>
                  <a:lnTo>
                    <a:pt x="319" y="243"/>
                  </a:lnTo>
                  <a:lnTo>
                    <a:pt x="327" y="236"/>
                  </a:lnTo>
                  <a:lnTo>
                    <a:pt x="336" y="229"/>
                  </a:lnTo>
                  <a:lnTo>
                    <a:pt x="347" y="224"/>
                  </a:lnTo>
                  <a:lnTo>
                    <a:pt x="357" y="220"/>
                  </a:lnTo>
                  <a:lnTo>
                    <a:pt x="369" y="215"/>
                  </a:lnTo>
                  <a:lnTo>
                    <a:pt x="379" y="212"/>
                  </a:lnTo>
                  <a:lnTo>
                    <a:pt x="389" y="209"/>
                  </a:lnTo>
                  <a:lnTo>
                    <a:pt x="400" y="207"/>
                  </a:lnTo>
                  <a:lnTo>
                    <a:pt x="410" y="206"/>
                  </a:lnTo>
                  <a:lnTo>
                    <a:pt x="422" y="205"/>
                  </a:lnTo>
                  <a:lnTo>
                    <a:pt x="432" y="205"/>
                  </a:lnTo>
                  <a:lnTo>
                    <a:pt x="444" y="206"/>
                  </a:lnTo>
                  <a:lnTo>
                    <a:pt x="454" y="206"/>
                  </a:lnTo>
                  <a:lnTo>
                    <a:pt x="464" y="208"/>
                  </a:lnTo>
                  <a:lnTo>
                    <a:pt x="475" y="209"/>
                  </a:lnTo>
                  <a:lnTo>
                    <a:pt x="486" y="212"/>
                  </a:lnTo>
                  <a:lnTo>
                    <a:pt x="497" y="215"/>
                  </a:lnTo>
                  <a:lnTo>
                    <a:pt x="508" y="220"/>
                  </a:lnTo>
                  <a:lnTo>
                    <a:pt x="519" y="224"/>
                  </a:lnTo>
                  <a:lnTo>
                    <a:pt x="529" y="229"/>
                  </a:lnTo>
                  <a:lnTo>
                    <a:pt x="540" y="232"/>
                  </a:lnTo>
                  <a:lnTo>
                    <a:pt x="550" y="237"/>
                  </a:lnTo>
                  <a:lnTo>
                    <a:pt x="560" y="239"/>
                  </a:lnTo>
                  <a:lnTo>
                    <a:pt x="566" y="241"/>
                  </a:lnTo>
                  <a:lnTo>
                    <a:pt x="572" y="242"/>
                  </a:lnTo>
                  <a:lnTo>
                    <a:pt x="578" y="244"/>
                  </a:lnTo>
                  <a:lnTo>
                    <a:pt x="583" y="244"/>
                  </a:lnTo>
                  <a:lnTo>
                    <a:pt x="589" y="245"/>
                  </a:lnTo>
                  <a:lnTo>
                    <a:pt x="595" y="245"/>
                  </a:lnTo>
                  <a:lnTo>
                    <a:pt x="601" y="244"/>
                  </a:lnTo>
                  <a:lnTo>
                    <a:pt x="605" y="243"/>
                  </a:lnTo>
                  <a:lnTo>
                    <a:pt x="612" y="237"/>
                  </a:lnTo>
                  <a:lnTo>
                    <a:pt x="617" y="229"/>
                  </a:lnTo>
                  <a:lnTo>
                    <a:pt x="620" y="219"/>
                  </a:lnTo>
                  <a:lnTo>
                    <a:pt x="623" y="209"/>
                  </a:lnTo>
                  <a:lnTo>
                    <a:pt x="625" y="192"/>
                  </a:lnTo>
                  <a:lnTo>
                    <a:pt x="626" y="175"/>
                  </a:lnTo>
                  <a:lnTo>
                    <a:pt x="626" y="156"/>
                  </a:lnTo>
                  <a:lnTo>
                    <a:pt x="625" y="139"/>
                  </a:lnTo>
                  <a:lnTo>
                    <a:pt x="622" y="123"/>
                  </a:lnTo>
                  <a:lnTo>
                    <a:pt x="617" y="105"/>
                  </a:lnTo>
                  <a:lnTo>
                    <a:pt x="611" y="88"/>
                  </a:lnTo>
                  <a:lnTo>
                    <a:pt x="608" y="71"/>
                  </a:lnTo>
                  <a:lnTo>
                    <a:pt x="607" y="56"/>
                  </a:lnTo>
                  <a:lnTo>
                    <a:pt x="607" y="40"/>
                  </a:lnTo>
                  <a:lnTo>
                    <a:pt x="605" y="22"/>
                  </a:lnTo>
                  <a:lnTo>
                    <a:pt x="605" y="6"/>
                  </a:lnTo>
                  <a:close/>
                </a:path>
              </a:pathLst>
            </a:custGeom>
            <a:solidFill>
              <a:srgbClr val="c4a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120760" y="3429000"/>
              <a:ext cx="1005120" cy="1076400"/>
            </a:xfrm>
            <a:custGeom>
              <a:avLst/>
              <a:gdLst/>
              <a:ahLst/>
              <a:rect l="l" t="t" r="r" b="b"/>
              <a:pathLst>
                <a:path w="633" h="561">
                  <a:moveTo>
                    <a:pt x="8" y="546"/>
                  </a:moveTo>
                  <a:lnTo>
                    <a:pt x="17" y="545"/>
                  </a:lnTo>
                  <a:lnTo>
                    <a:pt x="26" y="545"/>
                  </a:lnTo>
                  <a:lnTo>
                    <a:pt x="35" y="544"/>
                  </a:lnTo>
                  <a:lnTo>
                    <a:pt x="46" y="544"/>
                  </a:lnTo>
                  <a:lnTo>
                    <a:pt x="55" y="543"/>
                  </a:lnTo>
                  <a:lnTo>
                    <a:pt x="64" y="543"/>
                  </a:lnTo>
                  <a:lnTo>
                    <a:pt x="75" y="543"/>
                  </a:lnTo>
                  <a:lnTo>
                    <a:pt x="84" y="543"/>
                  </a:lnTo>
                  <a:lnTo>
                    <a:pt x="98" y="543"/>
                  </a:lnTo>
                  <a:lnTo>
                    <a:pt x="111" y="544"/>
                  </a:lnTo>
                  <a:lnTo>
                    <a:pt x="124" y="545"/>
                  </a:lnTo>
                  <a:lnTo>
                    <a:pt x="138" y="545"/>
                  </a:lnTo>
                  <a:lnTo>
                    <a:pt x="152" y="546"/>
                  </a:lnTo>
                  <a:lnTo>
                    <a:pt x="166" y="547"/>
                  </a:lnTo>
                  <a:lnTo>
                    <a:pt x="180" y="548"/>
                  </a:lnTo>
                  <a:lnTo>
                    <a:pt x="194" y="548"/>
                  </a:lnTo>
                  <a:lnTo>
                    <a:pt x="208" y="548"/>
                  </a:lnTo>
                  <a:lnTo>
                    <a:pt x="220" y="551"/>
                  </a:lnTo>
                  <a:lnTo>
                    <a:pt x="234" y="552"/>
                  </a:lnTo>
                  <a:lnTo>
                    <a:pt x="248" y="554"/>
                  </a:lnTo>
                  <a:lnTo>
                    <a:pt x="262" y="558"/>
                  </a:lnTo>
                  <a:lnTo>
                    <a:pt x="276" y="559"/>
                  </a:lnTo>
                  <a:lnTo>
                    <a:pt x="290" y="561"/>
                  </a:lnTo>
                  <a:lnTo>
                    <a:pt x="304" y="561"/>
                  </a:lnTo>
                  <a:lnTo>
                    <a:pt x="317" y="561"/>
                  </a:lnTo>
                  <a:lnTo>
                    <a:pt x="330" y="559"/>
                  </a:lnTo>
                  <a:lnTo>
                    <a:pt x="344" y="558"/>
                  </a:lnTo>
                  <a:lnTo>
                    <a:pt x="358" y="554"/>
                  </a:lnTo>
                  <a:lnTo>
                    <a:pt x="372" y="552"/>
                  </a:lnTo>
                  <a:lnTo>
                    <a:pt x="386" y="551"/>
                  </a:lnTo>
                  <a:lnTo>
                    <a:pt x="400" y="548"/>
                  </a:lnTo>
                  <a:lnTo>
                    <a:pt x="413" y="548"/>
                  </a:lnTo>
                  <a:lnTo>
                    <a:pt x="427" y="548"/>
                  </a:lnTo>
                  <a:lnTo>
                    <a:pt x="440" y="548"/>
                  </a:lnTo>
                  <a:lnTo>
                    <a:pt x="454" y="548"/>
                  </a:lnTo>
                  <a:lnTo>
                    <a:pt x="468" y="548"/>
                  </a:lnTo>
                  <a:lnTo>
                    <a:pt x="482" y="548"/>
                  </a:lnTo>
                  <a:lnTo>
                    <a:pt x="495" y="548"/>
                  </a:lnTo>
                  <a:lnTo>
                    <a:pt x="509" y="548"/>
                  </a:lnTo>
                  <a:lnTo>
                    <a:pt x="523" y="548"/>
                  </a:lnTo>
                  <a:lnTo>
                    <a:pt x="537" y="548"/>
                  </a:lnTo>
                  <a:lnTo>
                    <a:pt x="550" y="550"/>
                  </a:lnTo>
                  <a:lnTo>
                    <a:pt x="564" y="551"/>
                  </a:lnTo>
                  <a:lnTo>
                    <a:pt x="577" y="551"/>
                  </a:lnTo>
                  <a:lnTo>
                    <a:pt x="591" y="552"/>
                  </a:lnTo>
                  <a:lnTo>
                    <a:pt x="605" y="553"/>
                  </a:lnTo>
                  <a:lnTo>
                    <a:pt x="619" y="554"/>
                  </a:lnTo>
                  <a:lnTo>
                    <a:pt x="633" y="554"/>
                  </a:lnTo>
                  <a:lnTo>
                    <a:pt x="631" y="525"/>
                  </a:lnTo>
                  <a:lnTo>
                    <a:pt x="627" y="497"/>
                  </a:lnTo>
                  <a:lnTo>
                    <a:pt x="624" y="467"/>
                  </a:lnTo>
                  <a:lnTo>
                    <a:pt x="621" y="439"/>
                  </a:lnTo>
                  <a:lnTo>
                    <a:pt x="623" y="410"/>
                  </a:lnTo>
                  <a:lnTo>
                    <a:pt x="625" y="381"/>
                  </a:lnTo>
                  <a:lnTo>
                    <a:pt x="626" y="351"/>
                  </a:lnTo>
                  <a:lnTo>
                    <a:pt x="627" y="323"/>
                  </a:lnTo>
                  <a:lnTo>
                    <a:pt x="628" y="297"/>
                  </a:lnTo>
                  <a:lnTo>
                    <a:pt x="631" y="271"/>
                  </a:lnTo>
                  <a:lnTo>
                    <a:pt x="632" y="246"/>
                  </a:lnTo>
                  <a:lnTo>
                    <a:pt x="633" y="219"/>
                  </a:lnTo>
                  <a:lnTo>
                    <a:pt x="631" y="192"/>
                  </a:lnTo>
                  <a:lnTo>
                    <a:pt x="627" y="164"/>
                  </a:lnTo>
                  <a:lnTo>
                    <a:pt x="624" y="136"/>
                  </a:lnTo>
                  <a:lnTo>
                    <a:pt x="621" y="110"/>
                  </a:lnTo>
                  <a:lnTo>
                    <a:pt x="624" y="82"/>
                  </a:lnTo>
                  <a:lnTo>
                    <a:pt x="627" y="54"/>
                  </a:lnTo>
                  <a:lnTo>
                    <a:pt x="631" y="27"/>
                  </a:lnTo>
                  <a:lnTo>
                    <a:pt x="633" y="0"/>
                  </a:lnTo>
                  <a:lnTo>
                    <a:pt x="629" y="14"/>
                  </a:lnTo>
                  <a:lnTo>
                    <a:pt x="626" y="28"/>
                  </a:lnTo>
                  <a:lnTo>
                    <a:pt x="621" y="42"/>
                  </a:lnTo>
                  <a:lnTo>
                    <a:pt x="614" y="53"/>
                  </a:lnTo>
                  <a:lnTo>
                    <a:pt x="610" y="60"/>
                  </a:lnTo>
                  <a:lnTo>
                    <a:pt x="605" y="66"/>
                  </a:lnTo>
                  <a:lnTo>
                    <a:pt x="599" y="72"/>
                  </a:lnTo>
                  <a:lnTo>
                    <a:pt x="594" y="77"/>
                  </a:lnTo>
                  <a:lnTo>
                    <a:pt x="588" y="83"/>
                  </a:lnTo>
                  <a:lnTo>
                    <a:pt x="582" y="88"/>
                  </a:lnTo>
                  <a:lnTo>
                    <a:pt x="575" y="92"/>
                  </a:lnTo>
                  <a:lnTo>
                    <a:pt x="569" y="97"/>
                  </a:lnTo>
                  <a:lnTo>
                    <a:pt x="561" y="103"/>
                  </a:lnTo>
                  <a:lnTo>
                    <a:pt x="552" y="109"/>
                  </a:lnTo>
                  <a:lnTo>
                    <a:pt x="543" y="114"/>
                  </a:lnTo>
                  <a:lnTo>
                    <a:pt x="535" y="119"/>
                  </a:lnTo>
                  <a:lnTo>
                    <a:pt x="524" y="124"/>
                  </a:lnTo>
                  <a:lnTo>
                    <a:pt x="515" y="128"/>
                  </a:lnTo>
                  <a:lnTo>
                    <a:pt x="506" y="131"/>
                  </a:lnTo>
                  <a:lnTo>
                    <a:pt x="495" y="133"/>
                  </a:lnTo>
                  <a:lnTo>
                    <a:pt x="480" y="135"/>
                  </a:lnTo>
                  <a:lnTo>
                    <a:pt x="465" y="135"/>
                  </a:lnTo>
                  <a:lnTo>
                    <a:pt x="450" y="135"/>
                  </a:lnTo>
                  <a:lnTo>
                    <a:pt x="435" y="135"/>
                  </a:lnTo>
                  <a:lnTo>
                    <a:pt x="420" y="135"/>
                  </a:lnTo>
                  <a:lnTo>
                    <a:pt x="405" y="134"/>
                  </a:lnTo>
                  <a:lnTo>
                    <a:pt x="389" y="134"/>
                  </a:lnTo>
                  <a:lnTo>
                    <a:pt x="374" y="135"/>
                  </a:lnTo>
                  <a:lnTo>
                    <a:pt x="369" y="136"/>
                  </a:lnTo>
                  <a:lnTo>
                    <a:pt x="365" y="141"/>
                  </a:lnTo>
                  <a:lnTo>
                    <a:pt x="361" y="147"/>
                  </a:lnTo>
                  <a:lnTo>
                    <a:pt x="360" y="152"/>
                  </a:lnTo>
                  <a:lnTo>
                    <a:pt x="360" y="187"/>
                  </a:lnTo>
                  <a:lnTo>
                    <a:pt x="361" y="219"/>
                  </a:lnTo>
                  <a:lnTo>
                    <a:pt x="363" y="253"/>
                  </a:lnTo>
                  <a:lnTo>
                    <a:pt x="363" y="286"/>
                  </a:lnTo>
                  <a:lnTo>
                    <a:pt x="363" y="309"/>
                  </a:lnTo>
                  <a:lnTo>
                    <a:pt x="360" y="333"/>
                  </a:lnTo>
                  <a:lnTo>
                    <a:pt x="357" y="356"/>
                  </a:lnTo>
                  <a:lnTo>
                    <a:pt x="348" y="376"/>
                  </a:lnTo>
                  <a:lnTo>
                    <a:pt x="342" y="385"/>
                  </a:lnTo>
                  <a:lnTo>
                    <a:pt x="335" y="393"/>
                  </a:lnTo>
                  <a:lnTo>
                    <a:pt x="327" y="400"/>
                  </a:lnTo>
                  <a:lnTo>
                    <a:pt x="319" y="405"/>
                  </a:lnTo>
                  <a:lnTo>
                    <a:pt x="309" y="411"/>
                  </a:lnTo>
                  <a:lnTo>
                    <a:pt x="300" y="417"/>
                  </a:lnTo>
                  <a:lnTo>
                    <a:pt x="290" y="421"/>
                  </a:lnTo>
                  <a:lnTo>
                    <a:pt x="280" y="426"/>
                  </a:lnTo>
                  <a:lnTo>
                    <a:pt x="272" y="430"/>
                  </a:lnTo>
                  <a:lnTo>
                    <a:pt x="264" y="432"/>
                  </a:lnTo>
                  <a:lnTo>
                    <a:pt x="256" y="434"/>
                  </a:lnTo>
                  <a:lnTo>
                    <a:pt x="248" y="435"/>
                  </a:lnTo>
                  <a:lnTo>
                    <a:pt x="239" y="436"/>
                  </a:lnTo>
                  <a:lnTo>
                    <a:pt x="230" y="438"/>
                  </a:lnTo>
                  <a:lnTo>
                    <a:pt x="222" y="438"/>
                  </a:lnTo>
                  <a:lnTo>
                    <a:pt x="212" y="438"/>
                  </a:lnTo>
                  <a:lnTo>
                    <a:pt x="202" y="438"/>
                  </a:lnTo>
                  <a:lnTo>
                    <a:pt x="192" y="436"/>
                  </a:lnTo>
                  <a:lnTo>
                    <a:pt x="181" y="436"/>
                  </a:lnTo>
                  <a:lnTo>
                    <a:pt x="171" y="435"/>
                  </a:lnTo>
                  <a:lnTo>
                    <a:pt x="160" y="434"/>
                  </a:lnTo>
                  <a:lnTo>
                    <a:pt x="150" y="432"/>
                  </a:lnTo>
                  <a:lnTo>
                    <a:pt x="139" y="431"/>
                  </a:lnTo>
                  <a:lnTo>
                    <a:pt x="129" y="430"/>
                  </a:lnTo>
                  <a:lnTo>
                    <a:pt x="120" y="428"/>
                  </a:lnTo>
                  <a:lnTo>
                    <a:pt x="111" y="426"/>
                  </a:lnTo>
                  <a:lnTo>
                    <a:pt x="101" y="425"/>
                  </a:lnTo>
                  <a:lnTo>
                    <a:pt x="92" y="423"/>
                  </a:lnTo>
                  <a:lnTo>
                    <a:pt x="83" y="420"/>
                  </a:lnTo>
                  <a:lnTo>
                    <a:pt x="74" y="418"/>
                  </a:lnTo>
                  <a:lnTo>
                    <a:pt x="64" y="417"/>
                  </a:lnTo>
                  <a:lnTo>
                    <a:pt x="55" y="417"/>
                  </a:lnTo>
                  <a:lnTo>
                    <a:pt x="48" y="417"/>
                  </a:lnTo>
                  <a:lnTo>
                    <a:pt x="40" y="419"/>
                  </a:lnTo>
                  <a:lnTo>
                    <a:pt x="32" y="421"/>
                  </a:lnTo>
                  <a:lnTo>
                    <a:pt x="26" y="426"/>
                  </a:lnTo>
                  <a:lnTo>
                    <a:pt x="17" y="434"/>
                  </a:lnTo>
                  <a:lnTo>
                    <a:pt x="10" y="443"/>
                  </a:lnTo>
                  <a:lnTo>
                    <a:pt x="3" y="454"/>
                  </a:lnTo>
                  <a:lnTo>
                    <a:pt x="0" y="465"/>
                  </a:lnTo>
                  <a:lnTo>
                    <a:pt x="1" y="471"/>
                  </a:lnTo>
                  <a:lnTo>
                    <a:pt x="5" y="477"/>
                  </a:lnTo>
                  <a:lnTo>
                    <a:pt x="9" y="483"/>
                  </a:lnTo>
                  <a:lnTo>
                    <a:pt x="11" y="488"/>
                  </a:lnTo>
                  <a:lnTo>
                    <a:pt x="8" y="546"/>
                  </a:lnTo>
                  <a:close/>
                </a:path>
              </a:pathLst>
            </a:custGeom>
            <a:solidFill>
              <a:srgbClr val="c4a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531800" y="2914560"/>
              <a:ext cx="1700280" cy="1623960"/>
            </a:xfrm>
            <a:custGeom>
              <a:avLst/>
              <a:gdLst/>
              <a:ahLst/>
              <a:rect l="l" t="t" r="r" b="b"/>
              <a:pathLst>
                <a:path w="1071" h="1023">
                  <a:moveTo>
                    <a:pt x="0" y="580"/>
                  </a:moveTo>
                  <a:lnTo>
                    <a:pt x="221" y="121"/>
                  </a:lnTo>
                  <a:lnTo>
                    <a:pt x="206" y="107"/>
                  </a:lnTo>
                  <a:lnTo>
                    <a:pt x="221" y="77"/>
                  </a:lnTo>
                  <a:lnTo>
                    <a:pt x="274" y="69"/>
                  </a:lnTo>
                  <a:lnTo>
                    <a:pt x="320" y="0"/>
                  </a:lnTo>
                  <a:lnTo>
                    <a:pt x="351" y="0"/>
                  </a:lnTo>
                  <a:lnTo>
                    <a:pt x="351" y="69"/>
                  </a:lnTo>
                  <a:lnTo>
                    <a:pt x="612" y="54"/>
                  </a:lnTo>
                  <a:lnTo>
                    <a:pt x="604" y="22"/>
                  </a:lnTo>
                  <a:lnTo>
                    <a:pt x="665" y="22"/>
                  </a:lnTo>
                  <a:lnTo>
                    <a:pt x="704" y="54"/>
                  </a:lnTo>
                  <a:lnTo>
                    <a:pt x="780" y="84"/>
                  </a:lnTo>
                  <a:lnTo>
                    <a:pt x="795" y="100"/>
                  </a:lnTo>
                  <a:lnTo>
                    <a:pt x="856" y="115"/>
                  </a:lnTo>
                  <a:lnTo>
                    <a:pt x="825" y="152"/>
                  </a:lnTo>
                  <a:lnTo>
                    <a:pt x="1071" y="450"/>
                  </a:lnTo>
                  <a:lnTo>
                    <a:pt x="1040" y="481"/>
                  </a:lnTo>
                  <a:lnTo>
                    <a:pt x="1048" y="519"/>
                  </a:lnTo>
                  <a:lnTo>
                    <a:pt x="930" y="361"/>
                  </a:lnTo>
                  <a:lnTo>
                    <a:pt x="727" y="190"/>
                  </a:lnTo>
                  <a:lnTo>
                    <a:pt x="718" y="174"/>
                  </a:lnTo>
                  <a:lnTo>
                    <a:pt x="698" y="155"/>
                  </a:lnTo>
                  <a:lnTo>
                    <a:pt x="676" y="143"/>
                  </a:lnTo>
                  <a:lnTo>
                    <a:pt x="653" y="137"/>
                  </a:lnTo>
                  <a:lnTo>
                    <a:pt x="630" y="135"/>
                  </a:lnTo>
                  <a:lnTo>
                    <a:pt x="606" y="136"/>
                  </a:lnTo>
                  <a:lnTo>
                    <a:pt x="581" y="140"/>
                  </a:lnTo>
                  <a:lnTo>
                    <a:pt x="558" y="146"/>
                  </a:lnTo>
                  <a:lnTo>
                    <a:pt x="535" y="152"/>
                  </a:lnTo>
                  <a:lnTo>
                    <a:pt x="294" y="113"/>
                  </a:lnTo>
                  <a:lnTo>
                    <a:pt x="229" y="366"/>
                  </a:lnTo>
                  <a:lnTo>
                    <a:pt x="206" y="374"/>
                  </a:lnTo>
                  <a:lnTo>
                    <a:pt x="114" y="580"/>
                  </a:lnTo>
                  <a:lnTo>
                    <a:pt x="175" y="649"/>
                  </a:lnTo>
                  <a:lnTo>
                    <a:pt x="191" y="641"/>
                  </a:lnTo>
                  <a:lnTo>
                    <a:pt x="334" y="629"/>
                  </a:lnTo>
                  <a:lnTo>
                    <a:pt x="389" y="855"/>
                  </a:lnTo>
                  <a:lnTo>
                    <a:pt x="711" y="855"/>
                  </a:lnTo>
                  <a:lnTo>
                    <a:pt x="734" y="855"/>
                  </a:lnTo>
                  <a:lnTo>
                    <a:pt x="843" y="870"/>
                  </a:lnTo>
                  <a:lnTo>
                    <a:pt x="656" y="830"/>
                  </a:lnTo>
                  <a:lnTo>
                    <a:pt x="856" y="847"/>
                  </a:lnTo>
                  <a:lnTo>
                    <a:pt x="842" y="901"/>
                  </a:lnTo>
                  <a:lnTo>
                    <a:pt x="802" y="916"/>
                  </a:lnTo>
                  <a:lnTo>
                    <a:pt x="818" y="932"/>
                  </a:lnTo>
                  <a:lnTo>
                    <a:pt x="795" y="970"/>
                  </a:lnTo>
                  <a:lnTo>
                    <a:pt x="589" y="978"/>
                  </a:lnTo>
                  <a:lnTo>
                    <a:pt x="489" y="978"/>
                  </a:lnTo>
                  <a:lnTo>
                    <a:pt x="489" y="1001"/>
                  </a:lnTo>
                  <a:lnTo>
                    <a:pt x="473" y="1023"/>
                  </a:lnTo>
                  <a:lnTo>
                    <a:pt x="320" y="961"/>
                  </a:lnTo>
                  <a:lnTo>
                    <a:pt x="69" y="680"/>
                  </a:lnTo>
                  <a:lnTo>
                    <a:pt x="31" y="626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"/>
          <p:cNvSpPr/>
          <p:nvPr/>
        </p:nvSpPr>
        <p:spPr>
          <a:xfrm>
            <a:off x="2092320" y="944640"/>
            <a:ext cx="4957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1371600" y="3027240"/>
            <a:ext cx="1563840" cy="1565280"/>
            <a:chOff x="1371600" y="3027240"/>
            <a:chExt cx="1563840" cy="1565280"/>
          </a:xfrm>
        </p:grpSpPr>
        <p:sp>
          <p:nvSpPr>
            <p:cNvPr id="2422" name=""/>
            <p:cNvSpPr/>
            <p:nvPr/>
          </p:nvSpPr>
          <p:spPr>
            <a:xfrm>
              <a:off x="1371600" y="3027240"/>
              <a:ext cx="1563840" cy="782640"/>
            </a:xfrm>
            <a:custGeom>
              <a:avLst/>
              <a:gdLst/>
              <a:ahLst/>
              <a:rect l="l" t="t" r="r" b="b"/>
              <a:pathLst>
                <a:path w="1969" h="985">
                  <a:moveTo>
                    <a:pt x="0" y="985"/>
                  </a:moveTo>
                  <a:lnTo>
                    <a:pt x="985" y="0"/>
                  </a:lnTo>
                  <a:lnTo>
                    <a:pt x="1969" y="985"/>
                  </a:lnTo>
                  <a:lnTo>
                    <a:pt x="1969" y="985"/>
                  </a:lnTo>
                  <a:lnTo>
                    <a:pt x="1903" y="985"/>
                  </a:lnTo>
                  <a:lnTo>
                    <a:pt x="1903" y="985"/>
                  </a:lnTo>
                  <a:lnTo>
                    <a:pt x="985" y="66"/>
                  </a:lnTo>
                  <a:lnTo>
                    <a:pt x="66" y="985"/>
                  </a:lnTo>
                  <a:lnTo>
                    <a:pt x="0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371600" y="3809880"/>
              <a:ext cx="1563840" cy="782640"/>
            </a:xfrm>
            <a:custGeom>
              <a:avLst/>
              <a:gdLst/>
              <a:ahLst/>
              <a:rect l="l" t="t" r="r" b="b"/>
              <a:pathLst>
                <a:path w="1969" h="986">
                  <a:moveTo>
                    <a:pt x="0" y="0"/>
                  </a:moveTo>
                  <a:lnTo>
                    <a:pt x="0" y="0"/>
                  </a:lnTo>
                  <a:lnTo>
                    <a:pt x="985" y="986"/>
                  </a:lnTo>
                  <a:lnTo>
                    <a:pt x="1969" y="0"/>
                  </a:lnTo>
                  <a:lnTo>
                    <a:pt x="1903" y="0"/>
                  </a:lnTo>
                  <a:lnTo>
                    <a:pt x="985" y="92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54240" y="3129120"/>
              <a:ext cx="679320" cy="1361880"/>
            </a:xfrm>
            <a:custGeom>
              <a:avLst/>
              <a:gdLst/>
              <a:ahLst/>
              <a:rect l="l" t="t" r="r" b="b"/>
              <a:pathLst>
                <a:path w="857" h="1717">
                  <a:moveTo>
                    <a:pt x="0" y="1717"/>
                  </a:moveTo>
                  <a:lnTo>
                    <a:pt x="857" y="858"/>
                  </a:lnTo>
                  <a:lnTo>
                    <a:pt x="0" y="0"/>
                  </a:lnTo>
                  <a:lnTo>
                    <a:pt x="0" y="17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154240" y="3471840"/>
              <a:ext cx="338040" cy="676440"/>
            </a:xfrm>
            <a:custGeom>
              <a:avLst/>
              <a:gdLst/>
              <a:ahLst/>
              <a:rect l="l" t="t" r="r" b="b"/>
              <a:pathLst>
                <a:path w="427" h="853">
                  <a:moveTo>
                    <a:pt x="0" y="853"/>
                  </a:moveTo>
                  <a:lnTo>
                    <a:pt x="427" y="426"/>
                  </a:lnTo>
                  <a:lnTo>
                    <a:pt x="0" y="0"/>
                  </a:lnTo>
                  <a:lnTo>
                    <a:pt x="0" y="85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816200" y="3471840"/>
              <a:ext cx="338040" cy="676440"/>
            </a:xfrm>
            <a:custGeom>
              <a:avLst/>
              <a:gdLst/>
              <a:ahLst/>
              <a:rect l="l" t="t" r="r" b="b"/>
              <a:pathLst>
                <a:path w="426" h="853">
                  <a:moveTo>
                    <a:pt x="426" y="0"/>
                  </a:moveTo>
                  <a:lnTo>
                    <a:pt x="0" y="426"/>
                  </a:lnTo>
                  <a:lnTo>
                    <a:pt x="426" y="853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7" name=""/>
          <p:cNvSpPr/>
          <p:nvPr/>
        </p:nvSpPr>
        <p:spPr>
          <a:xfrm>
            <a:off x="2590920" y="1371600"/>
            <a:ext cx="5386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982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631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724280" y="3508200"/>
            <a:ext cx="266868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1" name=""/>
          <p:cNvGrpSpPr/>
          <p:nvPr/>
        </p:nvGrpSpPr>
        <p:grpSpPr>
          <a:xfrm>
            <a:off x="6019920" y="3200400"/>
            <a:ext cx="1438200" cy="1219320"/>
            <a:chOff x="6019920" y="3200400"/>
            <a:chExt cx="1438200" cy="1219320"/>
          </a:xfrm>
        </p:grpSpPr>
        <p:sp>
          <p:nvSpPr>
            <p:cNvPr id="2432" name=""/>
            <p:cNvSpPr/>
            <p:nvPr/>
          </p:nvSpPr>
          <p:spPr>
            <a:xfrm>
              <a:off x="6019920" y="3200400"/>
              <a:ext cx="1438200" cy="1216080"/>
            </a:xfrm>
            <a:custGeom>
              <a:avLst/>
              <a:gdLst/>
              <a:ahLst/>
              <a:rect l="l" t="t" r="r" b="b"/>
              <a:pathLst>
                <a:path w="3336" h="2885">
                  <a:moveTo>
                    <a:pt x="3336" y="1447"/>
                  </a:moveTo>
                  <a:lnTo>
                    <a:pt x="2503" y="2885"/>
                  </a:lnTo>
                  <a:lnTo>
                    <a:pt x="831" y="2885"/>
                  </a:lnTo>
                  <a:lnTo>
                    <a:pt x="0" y="1447"/>
                  </a:lnTo>
                  <a:lnTo>
                    <a:pt x="831" y="0"/>
                  </a:lnTo>
                  <a:lnTo>
                    <a:pt x="2503" y="0"/>
                  </a:lnTo>
                  <a:lnTo>
                    <a:pt x="3336" y="1447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201000" y="3352680"/>
              <a:ext cx="1076400" cy="912960"/>
            </a:xfrm>
            <a:custGeom>
              <a:avLst/>
              <a:gdLst/>
              <a:ahLst/>
              <a:rect l="l" t="t" r="r" b="b"/>
              <a:pathLst>
                <a:path w="2500" h="2153">
                  <a:moveTo>
                    <a:pt x="2500" y="1076"/>
                  </a:moveTo>
                  <a:lnTo>
                    <a:pt x="1872" y="0"/>
                  </a:lnTo>
                  <a:lnTo>
                    <a:pt x="623" y="0"/>
                  </a:lnTo>
                  <a:lnTo>
                    <a:pt x="0" y="1076"/>
                  </a:lnTo>
                  <a:lnTo>
                    <a:pt x="623" y="2153"/>
                  </a:lnTo>
                  <a:lnTo>
                    <a:pt x="1872" y="2153"/>
                  </a:lnTo>
                  <a:lnTo>
                    <a:pt x="2500" y="107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023160" y="3809880"/>
              <a:ext cx="444600" cy="609840"/>
            </a:xfrm>
            <a:custGeom>
              <a:avLst/>
              <a:gdLst/>
              <a:ahLst/>
              <a:rect l="l" t="t" r="r" b="b"/>
              <a:pathLst>
                <a:path w="1026" h="1447">
                  <a:moveTo>
                    <a:pt x="0" y="4"/>
                  </a:moveTo>
                  <a:lnTo>
                    <a:pt x="399" y="0"/>
                  </a:lnTo>
                  <a:lnTo>
                    <a:pt x="1026" y="1084"/>
                  </a:lnTo>
                  <a:lnTo>
                    <a:pt x="827" y="144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3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384960" y="4267080"/>
              <a:ext cx="716040" cy="147600"/>
            </a:xfrm>
            <a:custGeom>
              <a:avLst/>
              <a:gdLst/>
              <a:ahLst/>
              <a:rect l="l" t="t" r="r" b="b"/>
              <a:pathLst>
                <a:path w="1663" h="354">
                  <a:moveTo>
                    <a:pt x="0" y="349"/>
                  </a:moveTo>
                  <a:lnTo>
                    <a:pt x="196" y="0"/>
                  </a:lnTo>
                  <a:lnTo>
                    <a:pt x="1449" y="0"/>
                  </a:lnTo>
                  <a:lnTo>
                    <a:pt x="1663" y="354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002720" y="3814920"/>
              <a:ext cx="450720" cy="599760"/>
            </a:xfrm>
            <a:custGeom>
              <a:avLst/>
              <a:gdLst/>
              <a:ahLst/>
              <a:rect l="l" t="t" r="r" b="b"/>
              <a:pathLst>
                <a:path w="1040" h="1424">
                  <a:moveTo>
                    <a:pt x="1040" y="0"/>
                  </a:moveTo>
                  <a:lnTo>
                    <a:pt x="637" y="0"/>
                  </a:lnTo>
                  <a:lnTo>
                    <a:pt x="0" y="1076"/>
                  </a:lnTo>
                  <a:lnTo>
                    <a:pt x="227" y="1424"/>
                  </a:lnTo>
                  <a:lnTo>
                    <a:pt x="104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7" name=""/>
          <p:cNvSpPr/>
          <p:nvPr/>
        </p:nvSpPr>
        <p:spPr>
          <a:xfrm>
            <a:off x="1219320" y="2209680"/>
            <a:ext cx="971712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8" name=""/>
          <p:cNvGrpSpPr/>
          <p:nvPr/>
        </p:nvGrpSpPr>
        <p:grpSpPr>
          <a:xfrm>
            <a:off x="6095880" y="2376360"/>
            <a:ext cx="1292400" cy="2865600"/>
            <a:chOff x="6095880" y="2376360"/>
            <a:chExt cx="1292400" cy="2865600"/>
          </a:xfrm>
        </p:grpSpPr>
        <p:sp>
          <p:nvSpPr>
            <p:cNvPr id="2439" name=""/>
            <p:cNvSpPr/>
            <p:nvPr/>
          </p:nvSpPr>
          <p:spPr>
            <a:xfrm>
              <a:off x="6095880" y="2376360"/>
              <a:ext cx="1292400" cy="2865600"/>
            </a:xfrm>
            <a:custGeom>
              <a:avLst/>
              <a:gdLst/>
              <a:ahLst/>
              <a:rect l="l" t="t" r="r" b="b"/>
              <a:pathLst>
                <a:path w="2815" h="5931">
                  <a:moveTo>
                    <a:pt x="879" y="5931"/>
                  </a:moveTo>
                  <a:lnTo>
                    <a:pt x="1680" y="5931"/>
                  </a:lnTo>
                  <a:lnTo>
                    <a:pt x="1631" y="3896"/>
                  </a:lnTo>
                  <a:lnTo>
                    <a:pt x="2531" y="3825"/>
                  </a:lnTo>
                  <a:lnTo>
                    <a:pt x="2590" y="3814"/>
                  </a:lnTo>
                  <a:lnTo>
                    <a:pt x="2645" y="3792"/>
                  </a:lnTo>
                  <a:lnTo>
                    <a:pt x="2670" y="3779"/>
                  </a:lnTo>
                  <a:lnTo>
                    <a:pt x="2693" y="3762"/>
                  </a:lnTo>
                  <a:lnTo>
                    <a:pt x="2735" y="3725"/>
                  </a:lnTo>
                  <a:lnTo>
                    <a:pt x="2769" y="3683"/>
                  </a:lnTo>
                  <a:lnTo>
                    <a:pt x="2794" y="3639"/>
                  </a:lnTo>
                  <a:lnTo>
                    <a:pt x="2809" y="3591"/>
                  </a:lnTo>
                  <a:lnTo>
                    <a:pt x="2815" y="3547"/>
                  </a:lnTo>
                  <a:lnTo>
                    <a:pt x="2815" y="2483"/>
                  </a:lnTo>
                  <a:lnTo>
                    <a:pt x="2809" y="2430"/>
                  </a:lnTo>
                  <a:lnTo>
                    <a:pt x="2792" y="2384"/>
                  </a:lnTo>
                  <a:lnTo>
                    <a:pt x="2766" y="2344"/>
                  </a:lnTo>
                  <a:lnTo>
                    <a:pt x="2732" y="2311"/>
                  </a:lnTo>
                  <a:lnTo>
                    <a:pt x="2691" y="2285"/>
                  </a:lnTo>
                  <a:lnTo>
                    <a:pt x="2645" y="2266"/>
                  </a:lnTo>
                  <a:lnTo>
                    <a:pt x="2597" y="2254"/>
                  </a:lnTo>
                  <a:lnTo>
                    <a:pt x="2548" y="2251"/>
                  </a:lnTo>
                  <a:lnTo>
                    <a:pt x="2497" y="2255"/>
                  </a:lnTo>
                  <a:lnTo>
                    <a:pt x="2449" y="2267"/>
                  </a:lnTo>
                  <a:lnTo>
                    <a:pt x="2403" y="2288"/>
                  </a:lnTo>
                  <a:lnTo>
                    <a:pt x="2363" y="2319"/>
                  </a:lnTo>
                  <a:lnTo>
                    <a:pt x="2329" y="2358"/>
                  </a:lnTo>
                  <a:lnTo>
                    <a:pt x="2315" y="2381"/>
                  </a:lnTo>
                  <a:lnTo>
                    <a:pt x="2303" y="2406"/>
                  </a:lnTo>
                  <a:lnTo>
                    <a:pt x="2285" y="2464"/>
                  </a:lnTo>
                  <a:lnTo>
                    <a:pt x="2281" y="2497"/>
                  </a:lnTo>
                  <a:lnTo>
                    <a:pt x="2280" y="2532"/>
                  </a:lnTo>
                  <a:lnTo>
                    <a:pt x="2271" y="3319"/>
                  </a:lnTo>
                  <a:lnTo>
                    <a:pt x="1612" y="3332"/>
                  </a:lnTo>
                  <a:lnTo>
                    <a:pt x="1595" y="2054"/>
                  </a:lnTo>
                  <a:lnTo>
                    <a:pt x="2320" y="1977"/>
                  </a:lnTo>
                  <a:lnTo>
                    <a:pt x="2351" y="1970"/>
                  </a:lnTo>
                  <a:lnTo>
                    <a:pt x="2379" y="1953"/>
                  </a:lnTo>
                  <a:lnTo>
                    <a:pt x="2404" y="1930"/>
                  </a:lnTo>
                  <a:lnTo>
                    <a:pt x="2427" y="1903"/>
                  </a:lnTo>
                  <a:lnTo>
                    <a:pt x="2446" y="1872"/>
                  </a:lnTo>
                  <a:lnTo>
                    <a:pt x="2461" y="1841"/>
                  </a:lnTo>
                  <a:lnTo>
                    <a:pt x="2470" y="1810"/>
                  </a:lnTo>
                  <a:lnTo>
                    <a:pt x="2473" y="1780"/>
                  </a:lnTo>
                  <a:lnTo>
                    <a:pt x="2464" y="668"/>
                  </a:lnTo>
                  <a:lnTo>
                    <a:pt x="2459" y="628"/>
                  </a:lnTo>
                  <a:lnTo>
                    <a:pt x="2448" y="594"/>
                  </a:lnTo>
                  <a:lnTo>
                    <a:pt x="2431" y="566"/>
                  </a:lnTo>
                  <a:lnTo>
                    <a:pt x="2409" y="542"/>
                  </a:lnTo>
                  <a:lnTo>
                    <a:pt x="2383" y="523"/>
                  </a:lnTo>
                  <a:lnTo>
                    <a:pt x="2352" y="510"/>
                  </a:lnTo>
                  <a:lnTo>
                    <a:pt x="2320" y="502"/>
                  </a:lnTo>
                  <a:lnTo>
                    <a:pt x="2288" y="500"/>
                  </a:lnTo>
                  <a:lnTo>
                    <a:pt x="2256" y="503"/>
                  </a:lnTo>
                  <a:lnTo>
                    <a:pt x="2224" y="513"/>
                  </a:lnTo>
                  <a:lnTo>
                    <a:pt x="2193" y="528"/>
                  </a:lnTo>
                  <a:lnTo>
                    <a:pt x="2167" y="548"/>
                  </a:lnTo>
                  <a:lnTo>
                    <a:pt x="2145" y="576"/>
                  </a:lnTo>
                  <a:lnTo>
                    <a:pt x="2128" y="609"/>
                  </a:lnTo>
                  <a:lnTo>
                    <a:pt x="2117" y="648"/>
                  </a:lnTo>
                  <a:lnTo>
                    <a:pt x="2112" y="694"/>
                  </a:lnTo>
                  <a:lnTo>
                    <a:pt x="2103" y="1628"/>
                  </a:lnTo>
                  <a:lnTo>
                    <a:pt x="1581" y="1637"/>
                  </a:lnTo>
                  <a:lnTo>
                    <a:pt x="1584" y="1637"/>
                  </a:lnTo>
                  <a:lnTo>
                    <a:pt x="1583" y="1637"/>
                  </a:lnTo>
                  <a:lnTo>
                    <a:pt x="1581" y="1637"/>
                  </a:lnTo>
                  <a:lnTo>
                    <a:pt x="1563" y="305"/>
                  </a:lnTo>
                  <a:lnTo>
                    <a:pt x="1556" y="240"/>
                  </a:lnTo>
                  <a:lnTo>
                    <a:pt x="1538" y="181"/>
                  </a:lnTo>
                  <a:lnTo>
                    <a:pt x="1509" y="129"/>
                  </a:lnTo>
                  <a:lnTo>
                    <a:pt x="1473" y="87"/>
                  </a:lnTo>
                  <a:lnTo>
                    <a:pt x="1430" y="52"/>
                  </a:lnTo>
                  <a:lnTo>
                    <a:pt x="1383" y="25"/>
                  </a:lnTo>
                  <a:lnTo>
                    <a:pt x="1332" y="8"/>
                  </a:lnTo>
                  <a:lnTo>
                    <a:pt x="1279" y="0"/>
                  </a:lnTo>
                  <a:lnTo>
                    <a:pt x="1253" y="0"/>
                  </a:lnTo>
                  <a:lnTo>
                    <a:pt x="1227" y="2"/>
                  </a:lnTo>
                  <a:lnTo>
                    <a:pt x="1177" y="15"/>
                  </a:lnTo>
                  <a:lnTo>
                    <a:pt x="1128" y="38"/>
                  </a:lnTo>
                  <a:lnTo>
                    <a:pt x="1085" y="73"/>
                  </a:lnTo>
                  <a:lnTo>
                    <a:pt x="1049" y="119"/>
                  </a:lnTo>
                  <a:lnTo>
                    <a:pt x="1032" y="147"/>
                  </a:lnTo>
                  <a:lnTo>
                    <a:pt x="1019" y="177"/>
                  </a:lnTo>
                  <a:lnTo>
                    <a:pt x="1008" y="211"/>
                  </a:lnTo>
                  <a:lnTo>
                    <a:pt x="999" y="248"/>
                  </a:lnTo>
                  <a:lnTo>
                    <a:pt x="994" y="288"/>
                  </a:lnTo>
                  <a:lnTo>
                    <a:pt x="992" y="332"/>
                  </a:lnTo>
                  <a:lnTo>
                    <a:pt x="941" y="2487"/>
                  </a:lnTo>
                  <a:lnTo>
                    <a:pt x="424" y="2496"/>
                  </a:lnTo>
                  <a:lnTo>
                    <a:pt x="419" y="1330"/>
                  </a:lnTo>
                  <a:lnTo>
                    <a:pt x="415" y="1275"/>
                  </a:lnTo>
                  <a:lnTo>
                    <a:pt x="402" y="1228"/>
                  </a:lnTo>
                  <a:lnTo>
                    <a:pt x="381" y="1188"/>
                  </a:lnTo>
                  <a:lnTo>
                    <a:pt x="354" y="1157"/>
                  </a:lnTo>
                  <a:lnTo>
                    <a:pt x="322" y="1133"/>
                  </a:lnTo>
                  <a:lnTo>
                    <a:pt x="287" y="1116"/>
                  </a:lnTo>
                  <a:lnTo>
                    <a:pt x="249" y="1107"/>
                  </a:lnTo>
                  <a:lnTo>
                    <a:pt x="210" y="1106"/>
                  </a:lnTo>
                  <a:lnTo>
                    <a:pt x="171" y="1112"/>
                  </a:lnTo>
                  <a:lnTo>
                    <a:pt x="133" y="1125"/>
                  </a:lnTo>
                  <a:lnTo>
                    <a:pt x="97" y="1145"/>
                  </a:lnTo>
                  <a:lnTo>
                    <a:pt x="66" y="1172"/>
                  </a:lnTo>
                  <a:lnTo>
                    <a:pt x="38" y="1207"/>
                  </a:lnTo>
                  <a:lnTo>
                    <a:pt x="18" y="1249"/>
                  </a:lnTo>
                  <a:lnTo>
                    <a:pt x="4" y="1297"/>
                  </a:lnTo>
                  <a:lnTo>
                    <a:pt x="0" y="1352"/>
                  </a:lnTo>
                  <a:lnTo>
                    <a:pt x="4" y="2657"/>
                  </a:lnTo>
                  <a:lnTo>
                    <a:pt x="7" y="2705"/>
                  </a:lnTo>
                  <a:lnTo>
                    <a:pt x="15" y="2751"/>
                  </a:lnTo>
                  <a:lnTo>
                    <a:pt x="30" y="2793"/>
                  </a:lnTo>
                  <a:lnTo>
                    <a:pt x="50" y="2830"/>
                  </a:lnTo>
                  <a:lnTo>
                    <a:pt x="79" y="2863"/>
                  </a:lnTo>
                  <a:lnTo>
                    <a:pt x="114" y="2888"/>
                  </a:lnTo>
                  <a:lnTo>
                    <a:pt x="157" y="2906"/>
                  </a:lnTo>
                  <a:lnTo>
                    <a:pt x="207" y="2916"/>
                  </a:lnTo>
                  <a:lnTo>
                    <a:pt x="928" y="2993"/>
                  </a:lnTo>
                  <a:lnTo>
                    <a:pt x="879" y="5931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095880" y="2376360"/>
              <a:ext cx="1292400" cy="2865600"/>
            </a:xfrm>
            <a:custGeom>
              <a:avLst/>
              <a:gdLst/>
              <a:ahLst/>
              <a:rect l="l" t="t" r="r" b="b"/>
              <a:pathLst>
                <a:path w="2815" h="5931">
                  <a:moveTo>
                    <a:pt x="879" y="5931"/>
                  </a:moveTo>
                  <a:lnTo>
                    <a:pt x="1680" y="5931"/>
                  </a:lnTo>
                  <a:lnTo>
                    <a:pt x="1631" y="3896"/>
                  </a:lnTo>
                  <a:lnTo>
                    <a:pt x="2531" y="3825"/>
                  </a:lnTo>
                  <a:lnTo>
                    <a:pt x="2590" y="3814"/>
                  </a:lnTo>
                  <a:lnTo>
                    <a:pt x="2645" y="3792"/>
                  </a:lnTo>
                  <a:lnTo>
                    <a:pt x="2670" y="3779"/>
                  </a:lnTo>
                  <a:lnTo>
                    <a:pt x="2693" y="3762"/>
                  </a:lnTo>
                  <a:lnTo>
                    <a:pt x="2735" y="3725"/>
                  </a:lnTo>
                  <a:lnTo>
                    <a:pt x="2769" y="3683"/>
                  </a:lnTo>
                  <a:lnTo>
                    <a:pt x="2794" y="3639"/>
                  </a:lnTo>
                  <a:lnTo>
                    <a:pt x="2809" y="3591"/>
                  </a:lnTo>
                  <a:lnTo>
                    <a:pt x="2815" y="3547"/>
                  </a:lnTo>
                  <a:lnTo>
                    <a:pt x="2815" y="2483"/>
                  </a:lnTo>
                  <a:lnTo>
                    <a:pt x="2809" y="2430"/>
                  </a:lnTo>
                  <a:lnTo>
                    <a:pt x="2792" y="2384"/>
                  </a:lnTo>
                  <a:lnTo>
                    <a:pt x="2766" y="2344"/>
                  </a:lnTo>
                  <a:lnTo>
                    <a:pt x="2732" y="2311"/>
                  </a:lnTo>
                  <a:lnTo>
                    <a:pt x="2691" y="2285"/>
                  </a:lnTo>
                  <a:lnTo>
                    <a:pt x="2645" y="2266"/>
                  </a:lnTo>
                  <a:lnTo>
                    <a:pt x="2597" y="2254"/>
                  </a:lnTo>
                  <a:lnTo>
                    <a:pt x="2548" y="2251"/>
                  </a:lnTo>
                  <a:lnTo>
                    <a:pt x="2497" y="2255"/>
                  </a:lnTo>
                  <a:lnTo>
                    <a:pt x="2449" y="2267"/>
                  </a:lnTo>
                  <a:lnTo>
                    <a:pt x="2403" y="2288"/>
                  </a:lnTo>
                  <a:lnTo>
                    <a:pt x="2363" y="2319"/>
                  </a:lnTo>
                  <a:lnTo>
                    <a:pt x="2329" y="2358"/>
                  </a:lnTo>
                  <a:lnTo>
                    <a:pt x="2315" y="2381"/>
                  </a:lnTo>
                  <a:lnTo>
                    <a:pt x="2303" y="2406"/>
                  </a:lnTo>
                  <a:lnTo>
                    <a:pt x="2285" y="2464"/>
                  </a:lnTo>
                  <a:lnTo>
                    <a:pt x="2281" y="2497"/>
                  </a:lnTo>
                  <a:lnTo>
                    <a:pt x="2280" y="2532"/>
                  </a:lnTo>
                  <a:lnTo>
                    <a:pt x="2271" y="3319"/>
                  </a:lnTo>
                  <a:lnTo>
                    <a:pt x="1612" y="3332"/>
                  </a:lnTo>
                  <a:lnTo>
                    <a:pt x="1595" y="2054"/>
                  </a:lnTo>
                  <a:lnTo>
                    <a:pt x="2320" y="1977"/>
                  </a:lnTo>
                  <a:lnTo>
                    <a:pt x="2351" y="1970"/>
                  </a:lnTo>
                  <a:lnTo>
                    <a:pt x="2379" y="1953"/>
                  </a:lnTo>
                  <a:lnTo>
                    <a:pt x="2404" y="1930"/>
                  </a:lnTo>
                  <a:lnTo>
                    <a:pt x="2427" y="1903"/>
                  </a:lnTo>
                  <a:lnTo>
                    <a:pt x="2446" y="1872"/>
                  </a:lnTo>
                  <a:lnTo>
                    <a:pt x="2461" y="1841"/>
                  </a:lnTo>
                  <a:lnTo>
                    <a:pt x="2470" y="1810"/>
                  </a:lnTo>
                  <a:lnTo>
                    <a:pt x="2473" y="1780"/>
                  </a:lnTo>
                  <a:lnTo>
                    <a:pt x="2464" y="668"/>
                  </a:lnTo>
                  <a:lnTo>
                    <a:pt x="2459" y="628"/>
                  </a:lnTo>
                  <a:lnTo>
                    <a:pt x="2448" y="594"/>
                  </a:lnTo>
                  <a:lnTo>
                    <a:pt x="2431" y="566"/>
                  </a:lnTo>
                  <a:lnTo>
                    <a:pt x="2409" y="542"/>
                  </a:lnTo>
                  <a:lnTo>
                    <a:pt x="2383" y="523"/>
                  </a:lnTo>
                  <a:lnTo>
                    <a:pt x="2352" y="510"/>
                  </a:lnTo>
                  <a:lnTo>
                    <a:pt x="2320" y="502"/>
                  </a:lnTo>
                  <a:lnTo>
                    <a:pt x="2288" y="500"/>
                  </a:lnTo>
                  <a:lnTo>
                    <a:pt x="2256" y="503"/>
                  </a:lnTo>
                  <a:lnTo>
                    <a:pt x="2224" y="513"/>
                  </a:lnTo>
                  <a:lnTo>
                    <a:pt x="2193" y="528"/>
                  </a:lnTo>
                  <a:lnTo>
                    <a:pt x="2167" y="548"/>
                  </a:lnTo>
                  <a:lnTo>
                    <a:pt x="2145" y="576"/>
                  </a:lnTo>
                  <a:lnTo>
                    <a:pt x="2128" y="609"/>
                  </a:lnTo>
                  <a:lnTo>
                    <a:pt x="2117" y="648"/>
                  </a:lnTo>
                  <a:lnTo>
                    <a:pt x="2112" y="694"/>
                  </a:lnTo>
                  <a:lnTo>
                    <a:pt x="2103" y="1628"/>
                  </a:lnTo>
                  <a:lnTo>
                    <a:pt x="1581" y="1637"/>
                  </a:lnTo>
                  <a:lnTo>
                    <a:pt x="1584" y="1637"/>
                  </a:lnTo>
                  <a:lnTo>
                    <a:pt x="1583" y="1637"/>
                  </a:lnTo>
                  <a:lnTo>
                    <a:pt x="1581" y="1637"/>
                  </a:lnTo>
                  <a:lnTo>
                    <a:pt x="1563" y="305"/>
                  </a:lnTo>
                  <a:lnTo>
                    <a:pt x="1556" y="240"/>
                  </a:lnTo>
                  <a:lnTo>
                    <a:pt x="1538" y="181"/>
                  </a:lnTo>
                  <a:lnTo>
                    <a:pt x="1509" y="129"/>
                  </a:lnTo>
                  <a:lnTo>
                    <a:pt x="1473" y="87"/>
                  </a:lnTo>
                  <a:lnTo>
                    <a:pt x="1430" y="52"/>
                  </a:lnTo>
                  <a:lnTo>
                    <a:pt x="1383" y="25"/>
                  </a:lnTo>
                  <a:lnTo>
                    <a:pt x="1332" y="8"/>
                  </a:lnTo>
                  <a:lnTo>
                    <a:pt x="1279" y="0"/>
                  </a:lnTo>
                  <a:lnTo>
                    <a:pt x="1253" y="0"/>
                  </a:lnTo>
                  <a:lnTo>
                    <a:pt x="1227" y="2"/>
                  </a:lnTo>
                  <a:lnTo>
                    <a:pt x="1177" y="15"/>
                  </a:lnTo>
                  <a:lnTo>
                    <a:pt x="1128" y="38"/>
                  </a:lnTo>
                  <a:lnTo>
                    <a:pt x="1085" y="73"/>
                  </a:lnTo>
                  <a:lnTo>
                    <a:pt x="1049" y="119"/>
                  </a:lnTo>
                  <a:lnTo>
                    <a:pt x="1032" y="147"/>
                  </a:lnTo>
                  <a:lnTo>
                    <a:pt x="1019" y="177"/>
                  </a:lnTo>
                  <a:lnTo>
                    <a:pt x="1008" y="211"/>
                  </a:lnTo>
                  <a:lnTo>
                    <a:pt x="999" y="248"/>
                  </a:lnTo>
                  <a:lnTo>
                    <a:pt x="994" y="288"/>
                  </a:lnTo>
                  <a:lnTo>
                    <a:pt x="992" y="332"/>
                  </a:lnTo>
                  <a:lnTo>
                    <a:pt x="941" y="2487"/>
                  </a:lnTo>
                  <a:lnTo>
                    <a:pt x="424" y="2496"/>
                  </a:lnTo>
                  <a:lnTo>
                    <a:pt x="419" y="1330"/>
                  </a:lnTo>
                  <a:lnTo>
                    <a:pt x="415" y="1275"/>
                  </a:lnTo>
                  <a:lnTo>
                    <a:pt x="402" y="1228"/>
                  </a:lnTo>
                  <a:lnTo>
                    <a:pt x="381" y="1188"/>
                  </a:lnTo>
                  <a:lnTo>
                    <a:pt x="354" y="1157"/>
                  </a:lnTo>
                  <a:lnTo>
                    <a:pt x="322" y="1133"/>
                  </a:lnTo>
                  <a:lnTo>
                    <a:pt x="287" y="1116"/>
                  </a:lnTo>
                  <a:lnTo>
                    <a:pt x="249" y="1107"/>
                  </a:lnTo>
                  <a:lnTo>
                    <a:pt x="210" y="1106"/>
                  </a:lnTo>
                  <a:lnTo>
                    <a:pt x="171" y="1112"/>
                  </a:lnTo>
                  <a:lnTo>
                    <a:pt x="133" y="1125"/>
                  </a:lnTo>
                  <a:lnTo>
                    <a:pt x="97" y="1145"/>
                  </a:lnTo>
                  <a:lnTo>
                    <a:pt x="66" y="1172"/>
                  </a:lnTo>
                  <a:lnTo>
                    <a:pt x="38" y="1207"/>
                  </a:lnTo>
                  <a:lnTo>
                    <a:pt x="18" y="1249"/>
                  </a:lnTo>
                  <a:lnTo>
                    <a:pt x="4" y="1297"/>
                  </a:lnTo>
                  <a:lnTo>
                    <a:pt x="0" y="1352"/>
                  </a:lnTo>
                  <a:lnTo>
                    <a:pt x="4" y="2657"/>
                  </a:lnTo>
                  <a:lnTo>
                    <a:pt x="7" y="2705"/>
                  </a:lnTo>
                  <a:lnTo>
                    <a:pt x="15" y="2751"/>
                  </a:lnTo>
                  <a:lnTo>
                    <a:pt x="30" y="2793"/>
                  </a:lnTo>
                  <a:lnTo>
                    <a:pt x="50" y="2830"/>
                  </a:lnTo>
                  <a:lnTo>
                    <a:pt x="79" y="2863"/>
                  </a:lnTo>
                  <a:lnTo>
                    <a:pt x="114" y="2888"/>
                  </a:lnTo>
                  <a:lnTo>
                    <a:pt x="157" y="2906"/>
                  </a:lnTo>
                  <a:lnTo>
                    <a:pt x="207" y="2916"/>
                  </a:lnTo>
                  <a:lnTo>
                    <a:pt x="928" y="2993"/>
                  </a:lnTo>
                  <a:lnTo>
                    <a:pt x="879" y="593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1" name=""/>
          <p:cNvSpPr/>
          <p:nvPr/>
        </p:nvSpPr>
        <p:spPr>
          <a:xfrm>
            <a:off x="213552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63120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3" name="CACTUS4" descr=""/>
          <p:cNvPicPr/>
          <p:nvPr/>
        </p:nvPicPr>
        <p:blipFill>
          <a:blip r:embed="rId1"/>
          <a:stretch/>
        </p:blipFill>
        <p:spPr>
          <a:xfrm>
            <a:off x="1752480" y="2314440"/>
            <a:ext cx="9352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4" name=""/>
          <p:cNvGrpSpPr/>
          <p:nvPr/>
        </p:nvGrpSpPr>
        <p:grpSpPr>
          <a:xfrm>
            <a:off x="5996880" y="2984760"/>
            <a:ext cx="2267280" cy="1649880"/>
            <a:chOff x="5996880" y="2984760"/>
            <a:chExt cx="2267280" cy="1649880"/>
          </a:xfrm>
        </p:grpSpPr>
        <p:sp>
          <p:nvSpPr>
            <p:cNvPr id="2445" name=""/>
            <p:cNvSpPr/>
            <p:nvPr/>
          </p:nvSpPr>
          <p:spPr>
            <a:xfrm flipH="1" flipV="1" rot="20995800">
              <a:off x="6095160" y="3156120"/>
              <a:ext cx="2070360" cy="1307880"/>
            </a:xfrm>
            <a:custGeom>
              <a:avLst/>
              <a:gdLst/>
              <a:ahLst/>
              <a:rect l="l" t="t" r="r" b="b"/>
              <a:pathLst>
                <a:path w="3487" h="2452">
                  <a:moveTo>
                    <a:pt x="1325" y="93"/>
                  </a:moveTo>
                  <a:lnTo>
                    <a:pt x="1337" y="87"/>
                  </a:lnTo>
                  <a:lnTo>
                    <a:pt x="1350" y="84"/>
                  </a:lnTo>
                  <a:lnTo>
                    <a:pt x="1363" y="80"/>
                  </a:lnTo>
                  <a:lnTo>
                    <a:pt x="1377" y="76"/>
                  </a:lnTo>
                  <a:lnTo>
                    <a:pt x="1390" y="72"/>
                  </a:lnTo>
                  <a:lnTo>
                    <a:pt x="1403" y="68"/>
                  </a:lnTo>
                  <a:lnTo>
                    <a:pt x="1417" y="65"/>
                  </a:lnTo>
                  <a:lnTo>
                    <a:pt x="1430" y="63"/>
                  </a:lnTo>
                  <a:lnTo>
                    <a:pt x="1441" y="59"/>
                  </a:lnTo>
                  <a:lnTo>
                    <a:pt x="1455" y="55"/>
                  </a:lnTo>
                  <a:lnTo>
                    <a:pt x="1468" y="53"/>
                  </a:lnTo>
                  <a:lnTo>
                    <a:pt x="1481" y="51"/>
                  </a:lnTo>
                  <a:lnTo>
                    <a:pt x="1493" y="48"/>
                  </a:lnTo>
                  <a:lnTo>
                    <a:pt x="1506" y="46"/>
                  </a:lnTo>
                  <a:lnTo>
                    <a:pt x="1519" y="42"/>
                  </a:lnTo>
                  <a:lnTo>
                    <a:pt x="1533" y="42"/>
                  </a:lnTo>
                  <a:lnTo>
                    <a:pt x="1544" y="38"/>
                  </a:lnTo>
                  <a:lnTo>
                    <a:pt x="1557" y="36"/>
                  </a:lnTo>
                  <a:lnTo>
                    <a:pt x="1569" y="34"/>
                  </a:lnTo>
                  <a:lnTo>
                    <a:pt x="1582" y="32"/>
                  </a:lnTo>
                  <a:lnTo>
                    <a:pt x="1595" y="30"/>
                  </a:lnTo>
                  <a:lnTo>
                    <a:pt x="1609" y="29"/>
                  </a:lnTo>
                  <a:lnTo>
                    <a:pt x="1620" y="27"/>
                  </a:lnTo>
                  <a:lnTo>
                    <a:pt x="1635" y="27"/>
                  </a:lnTo>
                  <a:lnTo>
                    <a:pt x="1649" y="25"/>
                  </a:lnTo>
                  <a:lnTo>
                    <a:pt x="1662" y="23"/>
                  </a:lnTo>
                  <a:lnTo>
                    <a:pt x="1675" y="23"/>
                  </a:lnTo>
                  <a:lnTo>
                    <a:pt x="1688" y="23"/>
                  </a:lnTo>
                  <a:lnTo>
                    <a:pt x="1702" y="21"/>
                  </a:lnTo>
                  <a:lnTo>
                    <a:pt x="1717" y="19"/>
                  </a:lnTo>
                  <a:lnTo>
                    <a:pt x="1730" y="19"/>
                  </a:lnTo>
                  <a:lnTo>
                    <a:pt x="1745" y="19"/>
                  </a:lnTo>
                  <a:lnTo>
                    <a:pt x="1759" y="19"/>
                  </a:lnTo>
                  <a:lnTo>
                    <a:pt x="1772" y="17"/>
                  </a:lnTo>
                  <a:lnTo>
                    <a:pt x="1787" y="17"/>
                  </a:lnTo>
                  <a:lnTo>
                    <a:pt x="1801" y="17"/>
                  </a:lnTo>
                  <a:lnTo>
                    <a:pt x="1816" y="15"/>
                  </a:lnTo>
                  <a:lnTo>
                    <a:pt x="1829" y="13"/>
                  </a:lnTo>
                  <a:lnTo>
                    <a:pt x="1846" y="13"/>
                  </a:lnTo>
                  <a:lnTo>
                    <a:pt x="1861" y="13"/>
                  </a:lnTo>
                  <a:lnTo>
                    <a:pt x="1877" y="13"/>
                  </a:lnTo>
                  <a:lnTo>
                    <a:pt x="1892" y="13"/>
                  </a:lnTo>
                  <a:lnTo>
                    <a:pt x="1907" y="11"/>
                  </a:lnTo>
                  <a:lnTo>
                    <a:pt x="1926" y="11"/>
                  </a:lnTo>
                  <a:lnTo>
                    <a:pt x="1941" y="10"/>
                  </a:lnTo>
                  <a:lnTo>
                    <a:pt x="1958" y="10"/>
                  </a:lnTo>
                  <a:lnTo>
                    <a:pt x="1977" y="10"/>
                  </a:lnTo>
                  <a:lnTo>
                    <a:pt x="1995" y="10"/>
                  </a:lnTo>
                  <a:lnTo>
                    <a:pt x="2012" y="10"/>
                  </a:lnTo>
                  <a:lnTo>
                    <a:pt x="2029" y="10"/>
                  </a:lnTo>
                  <a:lnTo>
                    <a:pt x="2048" y="8"/>
                  </a:lnTo>
                  <a:lnTo>
                    <a:pt x="2067" y="8"/>
                  </a:lnTo>
                  <a:lnTo>
                    <a:pt x="2086" y="8"/>
                  </a:lnTo>
                  <a:lnTo>
                    <a:pt x="2107" y="8"/>
                  </a:lnTo>
                  <a:lnTo>
                    <a:pt x="2126" y="6"/>
                  </a:lnTo>
                  <a:lnTo>
                    <a:pt x="2147" y="6"/>
                  </a:lnTo>
                  <a:lnTo>
                    <a:pt x="2168" y="4"/>
                  </a:lnTo>
                  <a:lnTo>
                    <a:pt x="2187" y="4"/>
                  </a:lnTo>
                  <a:lnTo>
                    <a:pt x="2209" y="4"/>
                  </a:lnTo>
                  <a:lnTo>
                    <a:pt x="2232" y="4"/>
                  </a:lnTo>
                  <a:lnTo>
                    <a:pt x="2253" y="2"/>
                  </a:lnTo>
                  <a:lnTo>
                    <a:pt x="2276" y="2"/>
                  </a:lnTo>
                  <a:lnTo>
                    <a:pt x="2299" y="2"/>
                  </a:lnTo>
                  <a:lnTo>
                    <a:pt x="2323" y="2"/>
                  </a:lnTo>
                  <a:lnTo>
                    <a:pt x="2346" y="0"/>
                  </a:lnTo>
                  <a:lnTo>
                    <a:pt x="2369" y="0"/>
                  </a:lnTo>
                  <a:lnTo>
                    <a:pt x="2392" y="0"/>
                  </a:lnTo>
                  <a:lnTo>
                    <a:pt x="2417" y="0"/>
                  </a:lnTo>
                  <a:lnTo>
                    <a:pt x="2438" y="0"/>
                  </a:lnTo>
                  <a:lnTo>
                    <a:pt x="2460" y="0"/>
                  </a:lnTo>
                  <a:lnTo>
                    <a:pt x="2483" y="2"/>
                  </a:lnTo>
                  <a:lnTo>
                    <a:pt x="2506" y="4"/>
                  </a:lnTo>
                  <a:lnTo>
                    <a:pt x="2527" y="4"/>
                  </a:lnTo>
                  <a:lnTo>
                    <a:pt x="2550" y="8"/>
                  </a:lnTo>
                  <a:lnTo>
                    <a:pt x="2571" y="10"/>
                  </a:lnTo>
                  <a:lnTo>
                    <a:pt x="2593" y="13"/>
                  </a:lnTo>
                  <a:lnTo>
                    <a:pt x="2614" y="15"/>
                  </a:lnTo>
                  <a:lnTo>
                    <a:pt x="2635" y="19"/>
                  </a:lnTo>
                  <a:lnTo>
                    <a:pt x="2656" y="23"/>
                  </a:lnTo>
                  <a:lnTo>
                    <a:pt x="2679" y="27"/>
                  </a:lnTo>
                  <a:lnTo>
                    <a:pt x="2698" y="30"/>
                  </a:lnTo>
                  <a:lnTo>
                    <a:pt x="2717" y="34"/>
                  </a:lnTo>
                  <a:lnTo>
                    <a:pt x="2738" y="40"/>
                  </a:lnTo>
                  <a:lnTo>
                    <a:pt x="2759" y="46"/>
                  </a:lnTo>
                  <a:lnTo>
                    <a:pt x="2778" y="49"/>
                  </a:lnTo>
                  <a:lnTo>
                    <a:pt x="2797" y="55"/>
                  </a:lnTo>
                  <a:lnTo>
                    <a:pt x="2816" y="61"/>
                  </a:lnTo>
                  <a:lnTo>
                    <a:pt x="2837" y="68"/>
                  </a:lnTo>
                  <a:lnTo>
                    <a:pt x="2854" y="74"/>
                  </a:lnTo>
                  <a:lnTo>
                    <a:pt x="2873" y="80"/>
                  </a:lnTo>
                  <a:lnTo>
                    <a:pt x="2892" y="87"/>
                  </a:lnTo>
                  <a:lnTo>
                    <a:pt x="2911" y="95"/>
                  </a:lnTo>
                  <a:lnTo>
                    <a:pt x="2926" y="103"/>
                  </a:lnTo>
                  <a:lnTo>
                    <a:pt x="2945" y="110"/>
                  </a:lnTo>
                  <a:lnTo>
                    <a:pt x="2962" y="118"/>
                  </a:lnTo>
                  <a:lnTo>
                    <a:pt x="2981" y="127"/>
                  </a:lnTo>
                  <a:lnTo>
                    <a:pt x="2996" y="135"/>
                  </a:lnTo>
                  <a:lnTo>
                    <a:pt x="3014" y="144"/>
                  </a:lnTo>
                  <a:lnTo>
                    <a:pt x="3029" y="152"/>
                  </a:lnTo>
                  <a:lnTo>
                    <a:pt x="3046" y="163"/>
                  </a:lnTo>
                  <a:lnTo>
                    <a:pt x="3061" y="171"/>
                  </a:lnTo>
                  <a:lnTo>
                    <a:pt x="3078" y="181"/>
                  </a:lnTo>
                  <a:lnTo>
                    <a:pt x="3092" y="192"/>
                  </a:lnTo>
                  <a:lnTo>
                    <a:pt x="3109" y="203"/>
                  </a:lnTo>
                  <a:lnTo>
                    <a:pt x="3122" y="213"/>
                  </a:lnTo>
                  <a:lnTo>
                    <a:pt x="3135" y="224"/>
                  </a:lnTo>
                  <a:lnTo>
                    <a:pt x="3150" y="236"/>
                  </a:lnTo>
                  <a:lnTo>
                    <a:pt x="3164" y="247"/>
                  </a:lnTo>
                  <a:lnTo>
                    <a:pt x="3177" y="259"/>
                  </a:lnTo>
                  <a:lnTo>
                    <a:pt x="3192" y="270"/>
                  </a:lnTo>
                  <a:lnTo>
                    <a:pt x="3206" y="281"/>
                  </a:lnTo>
                  <a:lnTo>
                    <a:pt x="3219" y="295"/>
                  </a:lnTo>
                  <a:lnTo>
                    <a:pt x="3230" y="306"/>
                  </a:lnTo>
                  <a:lnTo>
                    <a:pt x="3242" y="319"/>
                  </a:lnTo>
                  <a:lnTo>
                    <a:pt x="3255" y="333"/>
                  </a:lnTo>
                  <a:lnTo>
                    <a:pt x="3266" y="346"/>
                  </a:lnTo>
                  <a:lnTo>
                    <a:pt x="3276" y="359"/>
                  </a:lnTo>
                  <a:lnTo>
                    <a:pt x="3287" y="373"/>
                  </a:lnTo>
                  <a:lnTo>
                    <a:pt x="3299" y="388"/>
                  </a:lnTo>
                  <a:lnTo>
                    <a:pt x="3310" y="401"/>
                  </a:lnTo>
                  <a:lnTo>
                    <a:pt x="3320" y="416"/>
                  </a:lnTo>
                  <a:lnTo>
                    <a:pt x="3331" y="430"/>
                  </a:lnTo>
                  <a:lnTo>
                    <a:pt x="3341" y="445"/>
                  </a:lnTo>
                  <a:lnTo>
                    <a:pt x="3350" y="460"/>
                  </a:lnTo>
                  <a:lnTo>
                    <a:pt x="3358" y="475"/>
                  </a:lnTo>
                  <a:lnTo>
                    <a:pt x="3367" y="490"/>
                  </a:lnTo>
                  <a:lnTo>
                    <a:pt x="3375" y="508"/>
                  </a:lnTo>
                  <a:lnTo>
                    <a:pt x="3384" y="523"/>
                  </a:lnTo>
                  <a:lnTo>
                    <a:pt x="3390" y="538"/>
                  </a:lnTo>
                  <a:lnTo>
                    <a:pt x="3398" y="555"/>
                  </a:lnTo>
                  <a:lnTo>
                    <a:pt x="3405" y="570"/>
                  </a:lnTo>
                  <a:lnTo>
                    <a:pt x="3413" y="587"/>
                  </a:lnTo>
                  <a:lnTo>
                    <a:pt x="3419" y="604"/>
                  </a:lnTo>
                  <a:lnTo>
                    <a:pt x="3424" y="620"/>
                  </a:lnTo>
                  <a:lnTo>
                    <a:pt x="3430" y="637"/>
                  </a:lnTo>
                  <a:lnTo>
                    <a:pt x="3436" y="656"/>
                  </a:lnTo>
                  <a:lnTo>
                    <a:pt x="3441" y="671"/>
                  </a:lnTo>
                  <a:lnTo>
                    <a:pt x="3445" y="688"/>
                  </a:lnTo>
                  <a:lnTo>
                    <a:pt x="3449" y="707"/>
                  </a:lnTo>
                  <a:lnTo>
                    <a:pt x="3455" y="724"/>
                  </a:lnTo>
                  <a:lnTo>
                    <a:pt x="3457" y="743"/>
                  </a:lnTo>
                  <a:lnTo>
                    <a:pt x="3460" y="760"/>
                  </a:lnTo>
                  <a:lnTo>
                    <a:pt x="3464" y="777"/>
                  </a:lnTo>
                  <a:lnTo>
                    <a:pt x="3470" y="796"/>
                  </a:lnTo>
                  <a:lnTo>
                    <a:pt x="3472" y="815"/>
                  </a:lnTo>
                  <a:lnTo>
                    <a:pt x="3474" y="833"/>
                  </a:lnTo>
                  <a:lnTo>
                    <a:pt x="3477" y="852"/>
                  </a:lnTo>
                  <a:lnTo>
                    <a:pt x="3479" y="871"/>
                  </a:lnTo>
                  <a:lnTo>
                    <a:pt x="3479" y="888"/>
                  </a:lnTo>
                  <a:lnTo>
                    <a:pt x="3481" y="907"/>
                  </a:lnTo>
                  <a:lnTo>
                    <a:pt x="3483" y="926"/>
                  </a:lnTo>
                  <a:lnTo>
                    <a:pt x="3485" y="947"/>
                  </a:lnTo>
                  <a:lnTo>
                    <a:pt x="3485" y="966"/>
                  </a:lnTo>
                  <a:lnTo>
                    <a:pt x="3485" y="985"/>
                  </a:lnTo>
                  <a:lnTo>
                    <a:pt x="3485" y="1004"/>
                  </a:lnTo>
                  <a:lnTo>
                    <a:pt x="3487" y="1023"/>
                  </a:lnTo>
                  <a:lnTo>
                    <a:pt x="3485" y="1042"/>
                  </a:lnTo>
                  <a:lnTo>
                    <a:pt x="3485" y="1061"/>
                  </a:lnTo>
                  <a:lnTo>
                    <a:pt x="3483" y="1080"/>
                  </a:lnTo>
                  <a:lnTo>
                    <a:pt x="3483" y="1101"/>
                  </a:lnTo>
                  <a:lnTo>
                    <a:pt x="3481" y="1118"/>
                  </a:lnTo>
                  <a:lnTo>
                    <a:pt x="3479" y="1137"/>
                  </a:lnTo>
                  <a:lnTo>
                    <a:pt x="3477" y="1156"/>
                  </a:lnTo>
                  <a:lnTo>
                    <a:pt x="3477" y="1175"/>
                  </a:lnTo>
                  <a:lnTo>
                    <a:pt x="3474" y="1194"/>
                  </a:lnTo>
                  <a:lnTo>
                    <a:pt x="3472" y="1213"/>
                  </a:lnTo>
                  <a:lnTo>
                    <a:pt x="3468" y="1232"/>
                  </a:lnTo>
                  <a:lnTo>
                    <a:pt x="3466" y="1253"/>
                  </a:lnTo>
                  <a:lnTo>
                    <a:pt x="3464" y="1270"/>
                  </a:lnTo>
                  <a:lnTo>
                    <a:pt x="3460" y="1289"/>
                  </a:lnTo>
                  <a:lnTo>
                    <a:pt x="3457" y="1308"/>
                  </a:lnTo>
                  <a:lnTo>
                    <a:pt x="3453" y="1327"/>
                  </a:lnTo>
                  <a:lnTo>
                    <a:pt x="3447" y="1346"/>
                  </a:lnTo>
                  <a:lnTo>
                    <a:pt x="3443" y="1365"/>
                  </a:lnTo>
                  <a:lnTo>
                    <a:pt x="3439" y="1384"/>
                  </a:lnTo>
                  <a:lnTo>
                    <a:pt x="3436" y="1403"/>
                  </a:lnTo>
                  <a:lnTo>
                    <a:pt x="3430" y="1422"/>
                  </a:lnTo>
                  <a:lnTo>
                    <a:pt x="3424" y="1439"/>
                  </a:lnTo>
                  <a:lnTo>
                    <a:pt x="3419" y="1458"/>
                  </a:lnTo>
                  <a:lnTo>
                    <a:pt x="3415" y="1477"/>
                  </a:lnTo>
                  <a:lnTo>
                    <a:pt x="3409" y="1494"/>
                  </a:lnTo>
                  <a:lnTo>
                    <a:pt x="3403" y="1513"/>
                  </a:lnTo>
                  <a:lnTo>
                    <a:pt x="3396" y="1530"/>
                  </a:lnTo>
                  <a:lnTo>
                    <a:pt x="3390" y="1549"/>
                  </a:lnTo>
                  <a:lnTo>
                    <a:pt x="3382" y="1566"/>
                  </a:lnTo>
                  <a:lnTo>
                    <a:pt x="3377" y="1585"/>
                  </a:lnTo>
                  <a:lnTo>
                    <a:pt x="3371" y="1602"/>
                  </a:lnTo>
                  <a:lnTo>
                    <a:pt x="3363" y="1619"/>
                  </a:lnTo>
                  <a:lnTo>
                    <a:pt x="3358" y="1637"/>
                  </a:lnTo>
                  <a:lnTo>
                    <a:pt x="3350" y="1654"/>
                  </a:lnTo>
                  <a:lnTo>
                    <a:pt x="3342" y="1671"/>
                  </a:lnTo>
                  <a:lnTo>
                    <a:pt x="3335" y="1688"/>
                  </a:lnTo>
                  <a:lnTo>
                    <a:pt x="3327" y="1703"/>
                  </a:lnTo>
                  <a:lnTo>
                    <a:pt x="3320" y="1720"/>
                  </a:lnTo>
                  <a:lnTo>
                    <a:pt x="3310" y="1735"/>
                  </a:lnTo>
                  <a:lnTo>
                    <a:pt x="3303" y="1751"/>
                  </a:lnTo>
                  <a:lnTo>
                    <a:pt x="3295" y="1764"/>
                  </a:lnTo>
                  <a:lnTo>
                    <a:pt x="3287" y="1779"/>
                  </a:lnTo>
                  <a:lnTo>
                    <a:pt x="3278" y="1794"/>
                  </a:lnTo>
                  <a:lnTo>
                    <a:pt x="3270" y="1808"/>
                  </a:lnTo>
                  <a:lnTo>
                    <a:pt x="3261" y="1821"/>
                  </a:lnTo>
                  <a:lnTo>
                    <a:pt x="3253" y="1834"/>
                  </a:lnTo>
                  <a:lnTo>
                    <a:pt x="3246" y="1848"/>
                  </a:lnTo>
                  <a:lnTo>
                    <a:pt x="3236" y="1861"/>
                  </a:lnTo>
                  <a:lnTo>
                    <a:pt x="3227" y="1872"/>
                  </a:lnTo>
                  <a:lnTo>
                    <a:pt x="3219" y="1886"/>
                  </a:lnTo>
                  <a:lnTo>
                    <a:pt x="3209" y="1897"/>
                  </a:lnTo>
                  <a:lnTo>
                    <a:pt x="3200" y="1910"/>
                  </a:lnTo>
                  <a:lnTo>
                    <a:pt x="3190" y="1922"/>
                  </a:lnTo>
                  <a:lnTo>
                    <a:pt x="3181" y="1933"/>
                  </a:lnTo>
                  <a:lnTo>
                    <a:pt x="3171" y="1943"/>
                  </a:lnTo>
                  <a:lnTo>
                    <a:pt x="3162" y="1956"/>
                  </a:lnTo>
                  <a:lnTo>
                    <a:pt x="3152" y="1965"/>
                  </a:lnTo>
                  <a:lnTo>
                    <a:pt x="3143" y="1977"/>
                  </a:lnTo>
                  <a:lnTo>
                    <a:pt x="3131" y="1988"/>
                  </a:lnTo>
                  <a:lnTo>
                    <a:pt x="3122" y="1998"/>
                  </a:lnTo>
                  <a:lnTo>
                    <a:pt x="3112" y="2007"/>
                  </a:lnTo>
                  <a:lnTo>
                    <a:pt x="3101" y="2017"/>
                  </a:lnTo>
                  <a:lnTo>
                    <a:pt x="3090" y="2026"/>
                  </a:lnTo>
                  <a:lnTo>
                    <a:pt x="3080" y="2036"/>
                  </a:lnTo>
                  <a:lnTo>
                    <a:pt x="3069" y="2045"/>
                  </a:lnTo>
                  <a:lnTo>
                    <a:pt x="3059" y="2055"/>
                  </a:lnTo>
                  <a:lnTo>
                    <a:pt x="3048" y="2062"/>
                  </a:lnTo>
                  <a:lnTo>
                    <a:pt x="3036" y="2072"/>
                  </a:lnTo>
                  <a:lnTo>
                    <a:pt x="3023" y="2079"/>
                  </a:lnTo>
                  <a:lnTo>
                    <a:pt x="3014" y="2087"/>
                  </a:lnTo>
                  <a:lnTo>
                    <a:pt x="3000" y="2097"/>
                  </a:lnTo>
                  <a:lnTo>
                    <a:pt x="2989" y="2104"/>
                  </a:lnTo>
                  <a:lnTo>
                    <a:pt x="2976" y="2112"/>
                  </a:lnTo>
                  <a:lnTo>
                    <a:pt x="2964" y="2119"/>
                  </a:lnTo>
                  <a:lnTo>
                    <a:pt x="2953" y="2127"/>
                  </a:lnTo>
                  <a:lnTo>
                    <a:pt x="2939" y="2136"/>
                  </a:lnTo>
                  <a:lnTo>
                    <a:pt x="2926" y="2142"/>
                  </a:lnTo>
                  <a:lnTo>
                    <a:pt x="2913" y="2148"/>
                  </a:lnTo>
                  <a:lnTo>
                    <a:pt x="2901" y="2155"/>
                  </a:lnTo>
                  <a:lnTo>
                    <a:pt x="2888" y="2163"/>
                  </a:lnTo>
                  <a:lnTo>
                    <a:pt x="2875" y="2171"/>
                  </a:lnTo>
                  <a:lnTo>
                    <a:pt x="2861" y="2178"/>
                  </a:lnTo>
                  <a:lnTo>
                    <a:pt x="2848" y="2184"/>
                  </a:lnTo>
                  <a:lnTo>
                    <a:pt x="2835" y="2192"/>
                  </a:lnTo>
                  <a:lnTo>
                    <a:pt x="2820" y="2197"/>
                  </a:lnTo>
                  <a:lnTo>
                    <a:pt x="2804" y="2203"/>
                  </a:lnTo>
                  <a:lnTo>
                    <a:pt x="2791" y="2211"/>
                  </a:lnTo>
                  <a:lnTo>
                    <a:pt x="2776" y="2216"/>
                  </a:lnTo>
                  <a:lnTo>
                    <a:pt x="2761" y="2224"/>
                  </a:lnTo>
                  <a:lnTo>
                    <a:pt x="2746" y="2230"/>
                  </a:lnTo>
                  <a:lnTo>
                    <a:pt x="2730" y="2235"/>
                  </a:lnTo>
                  <a:lnTo>
                    <a:pt x="2715" y="2243"/>
                  </a:lnTo>
                  <a:lnTo>
                    <a:pt x="2698" y="2249"/>
                  </a:lnTo>
                  <a:lnTo>
                    <a:pt x="2683" y="2254"/>
                  </a:lnTo>
                  <a:lnTo>
                    <a:pt x="2668" y="2262"/>
                  </a:lnTo>
                  <a:lnTo>
                    <a:pt x="2652" y="2270"/>
                  </a:lnTo>
                  <a:lnTo>
                    <a:pt x="2635" y="2275"/>
                  </a:lnTo>
                  <a:lnTo>
                    <a:pt x="2618" y="2281"/>
                  </a:lnTo>
                  <a:lnTo>
                    <a:pt x="2601" y="2289"/>
                  </a:lnTo>
                  <a:lnTo>
                    <a:pt x="2586" y="2296"/>
                  </a:lnTo>
                  <a:lnTo>
                    <a:pt x="2569" y="2300"/>
                  </a:lnTo>
                  <a:lnTo>
                    <a:pt x="2550" y="2308"/>
                  </a:lnTo>
                  <a:lnTo>
                    <a:pt x="2533" y="2313"/>
                  </a:lnTo>
                  <a:lnTo>
                    <a:pt x="2515" y="2319"/>
                  </a:lnTo>
                  <a:lnTo>
                    <a:pt x="2498" y="2325"/>
                  </a:lnTo>
                  <a:lnTo>
                    <a:pt x="2479" y="2330"/>
                  </a:lnTo>
                  <a:lnTo>
                    <a:pt x="2462" y="2336"/>
                  </a:lnTo>
                  <a:lnTo>
                    <a:pt x="2445" y="2342"/>
                  </a:lnTo>
                  <a:lnTo>
                    <a:pt x="2428" y="2347"/>
                  </a:lnTo>
                  <a:lnTo>
                    <a:pt x="2409" y="2351"/>
                  </a:lnTo>
                  <a:lnTo>
                    <a:pt x="2392" y="2357"/>
                  </a:lnTo>
                  <a:lnTo>
                    <a:pt x="2373" y="2363"/>
                  </a:lnTo>
                  <a:lnTo>
                    <a:pt x="2356" y="2366"/>
                  </a:lnTo>
                  <a:lnTo>
                    <a:pt x="2339" y="2372"/>
                  </a:lnTo>
                  <a:lnTo>
                    <a:pt x="2320" y="2376"/>
                  </a:lnTo>
                  <a:lnTo>
                    <a:pt x="2303" y="2382"/>
                  </a:lnTo>
                  <a:lnTo>
                    <a:pt x="2284" y="2385"/>
                  </a:lnTo>
                  <a:lnTo>
                    <a:pt x="2266" y="2391"/>
                  </a:lnTo>
                  <a:lnTo>
                    <a:pt x="2247" y="2393"/>
                  </a:lnTo>
                  <a:lnTo>
                    <a:pt x="2230" y="2399"/>
                  </a:lnTo>
                  <a:lnTo>
                    <a:pt x="2213" y="2403"/>
                  </a:lnTo>
                  <a:lnTo>
                    <a:pt x="2194" y="2406"/>
                  </a:lnTo>
                  <a:lnTo>
                    <a:pt x="2177" y="2410"/>
                  </a:lnTo>
                  <a:lnTo>
                    <a:pt x="2160" y="2414"/>
                  </a:lnTo>
                  <a:lnTo>
                    <a:pt x="2141" y="2416"/>
                  </a:lnTo>
                  <a:lnTo>
                    <a:pt x="2124" y="2420"/>
                  </a:lnTo>
                  <a:lnTo>
                    <a:pt x="2107" y="2423"/>
                  </a:lnTo>
                  <a:lnTo>
                    <a:pt x="2090" y="2425"/>
                  </a:lnTo>
                  <a:lnTo>
                    <a:pt x="2071" y="2429"/>
                  </a:lnTo>
                  <a:lnTo>
                    <a:pt x="2055" y="2433"/>
                  </a:lnTo>
                  <a:lnTo>
                    <a:pt x="2038" y="2435"/>
                  </a:lnTo>
                  <a:lnTo>
                    <a:pt x="2021" y="2439"/>
                  </a:lnTo>
                  <a:lnTo>
                    <a:pt x="2004" y="2439"/>
                  </a:lnTo>
                  <a:lnTo>
                    <a:pt x="1987" y="2442"/>
                  </a:lnTo>
                  <a:lnTo>
                    <a:pt x="1970" y="2442"/>
                  </a:lnTo>
                  <a:lnTo>
                    <a:pt x="1953" y="2446"/>
                  </a:lnTo>
                  <a:lnTo>
                    <a:pt x="1936" y="2446"/>
                  </a:lnTo>
                  <a:lnTo>
                    <a:pt x="1920" y="2448"/>
                  </a:lnTo>
                  <a:lnTo>
                    <a:pt x="1903" y="2448"/>
                  </a:lnTo>
                  <a:lnTo>
                    <a:pt x="1888" y="2450"/>
                  </a:lnTo>
                  <a:lnTo>
                    <a:pt x="1871" y="2450"/>
                  </a:lnTo>
                  <a:lnTo>
                    <a:pt x="1856" y="2452"/>
                  </a:lnTo>
                  <a:lnTo>
                    <a:pt x="1839" y="2452"/>
                  </a:lnTo>
                  <a:lnTo>
                    <a:pt x="1823" y="2452"/>
                  </a:lnTo>
                  <a:lnTo>
                    <a:pt x="1808" y="2452"/>
                  </a:lnTo>
                  <a:lnTo>
                    <a:pt x="1795" y="2452"/>
                  </a:lnTo>
                  <a:lnTo>
                    <a:pt x="1780" y="2452"/>
                  </a:lnTo>
                  <a:lnTo>
                    <a:pt x="1765" y="2452"/>
                  </a:lnTo>
                  <a:lnTo>
                    <a:pt x="1751" y="2452"/>
                  </a:lnTo>
                  <a:lnTo>
                    <a:pt x="1736" y="2450"/>
                  </a:lnTo>
                  <a:lnTo>
                    <a:pt x="1723" y="2448"/>
                  </a:lnTo>
                  <a:lnTo>
                    <a:pt x="1709" y="2448"/>
                  </a:lnTo>
                  <a:lnTo>
                    <a:pt x="1694" y="2446"/>
                  </a:lnTo>
                  <a:lnTo>
                    <a:pt x="1681" y="2446"/>
                  </a:lnTo>
                  <a:lnTo>
                    <a:pt x="1669" y="2442"/>
                  </a:lnTo>
                  <a:lnTo>
                    <a:pt x="1656" y="2442"/>
                  </a:lnTo>
                  <a:lnTo>
                    <a:pt x="1643" y="2439"/>
                  </a:lnTo>
                  <a:lnTo>
                    <a:pt x="1631" y="2437"/>
                  </a:lnTo>
                  <a:lnTo>
                    <a:pt x="1618" y="2435"/>
                  </a:lnTo>
                  <a:lnTo>
                    <a:pt x="1609" y="2433"/>
                  </a:lnTo>
                  <a:lnTo>
                    <a:pt x="1595" y="2429"/>
                  </a:lnTo>
                  <a:lnTo>
                    <a:pt x="1586" y="2425"/>
                  </a:lnTo>
                  <a:lnTo>
                    <a:pt x="1574" y="2423"/>
                  </a:lnTo>
                  <a:lnTo>
                    <a:pt x="1565" y="2420"/>
                  </a:lnTo>
                  <a:lnTo>
                    <a:pt x="1553" y="2416"/>
                  </a:lnTo>
                  <a:lnTo>
                    <a:pt x="1544" y="2410"/>
                  </a:lnTo>
                  <a:lnTo>
                    <a:pt x="1533" y="2406"/>
                  </a:lnTo>
                  <a:lnTo>
                    <a:pt x="1525" y="2403"/>
                  </a:lnTo>
                  <a:lnTo>
                    <a:pt x="1514" y="2397"/>
                  </a:lnTo>
                  <a:lnTo>
                    <a:pt x="1504" y="2393"/>
                  </a:lnTo>
                  <a:lnTo>
                    <a:pt x="1495" y="2389"/>
                  </a:lnTo>
                  <a:lnTo>
                    <a:pt x="1487" y="2385"/>
                  </a:lnTo>
                  <a:lnTo>
                    <a:pt x="1477" y="2382"/>
                  </a:lnTo>
                  <a:lnTo>
                    <a:pt x="1470" y="2376"/>
                  </a:lnTo>
                  <a:lnTo>
                    <a:pt x="1460" y="2372"/>
                  </a:lnTo>
                  <a:lnTo>
                    <a:pt x="1453" y="2368"/>
                  </a:lnTo>
                  <a:lnTo>
                    <a:pt x="1445" y="2363"/>
                  </a:lnTo>
                  <a:lnTo>
                    <a:pt x="1438" y="2359"/>
                  </a:lnTo>
                  <a:lnTo>
                    <a:pt x="1430" y="2353"/>
                  </a:lnTo>
                  <a:lnTo>
                    <a:pt x="1424" y="2349"/>
                  </a:lnTo>
                  <a:lnTo>
                    <a:pt x="1415" y="2344"/>
                  </a:lnTo>
                  <a:lnTo>
                    <a:pt x="1409" y="2340"/>
                  </a:lnTo>
                  <a:lnTo>
                    <a:pt x="1401" y="2332"/>
                  </a:lnTo>
                  <a:lnTo>
                    <a:pt x="1396" y="2328"/>
                  </a:lnTo>
                  <a:lnTo>
                    <a:pt x="1388" y="2323"/>
                  </a:lnTo>
                  <a:lnTo>
                    <a:pt x="1380" y="2317"/>
                  </a:lnTo>
                  <a:lnTo>
                    <a:pt x="1375" y="2313"/>
                  </a:lnTo>
                  <a:lnTo>
                    <a:pt x="1369" y="2308"/>
                  </a:lnTo>
                  <a:lnTo>
                    <a:pt x="1358" y="2296"/>
                  </a:lnTo>
                  <a:lnTo>
                    <a:pt x="1346" y="2287"/>
                  </a:lnTo>
                  <a:lnTo>
                    <a:pt x="1337" y="2275"/>
                  </a:lnTo>
                  <a:lnTo>
                    <a:pt x="1327" y="2264"/>
                  </a:lnTo>
                  <a:lnTo>
                    <a:pt x="1316" y="2252"/>
                  </a:lnTo>
                  <a:lnTo>
                    <a:pt x="1308" y="2241"/>
                  </a:lnTo>
                  <a:lnTo>
                    <a:pt x="1299" y="2230"/>
                  </a:lnTo>
                  <a:lnTo>
                    <a:pt x="1291" y="2218"/>
                  </a:lnTo>
                  <a:lnTo>
                    <a:pt x="1284" y="2205"/>
                  </a:lnTo>
                  <a:lnTo>
                    <a:pt x="1276" y="2193"/>
                  </a:lnTo>
                  <a:lnTo>
                    <a:pt x="1268" y="2180"/>
                  </a:lnTo>
                  <a:lnTo>
                    <a:pt x="1263" y="2169"/>
                  </a:lnTo>
                  <a:lnTo>
                    <a:pt x="1259" y="2161"/>
                  </a:lnTo>
                  <a:lnTo>
                    <a:pt x="1255" y="2155"/>
                  </a:lnTo>
                  <a:lnTo>
                    <a:pt x="1251" y="2148"/>
                  </a:lnTo>
                  <a:lnTo>
                    <a:pt x="1249" y="2142"/>
                  </a:lnTo>
                  <a:lnTo>
                    <a:pt x="1245" y="2136"/>
                  </a:lnTo>
                  <a:lnTo>
                    <a:pt x="1244" y="2129"/>
                  </a:lnTo>
                  <a:lnTo>
                    <a:pt x="1242" y="2123"/>
                  </a:lnTo>
                  <a:lnTo>
                    <a:pt x="1240" y="2116"/>
                  </a:lnTo>
                  <a:lnTo>
                    <a:pt x="1236" y="2110"/>
                  </a:lnTo>
                  <a:lnTo>
                    <a:pt x="1234" y="2104"/>
                  </a:lnTo>
                  <a:lnTo>
                    <a:pt x="1232" y="2097"/>
                  </a:lnTo>
                  <a:lnTo>
                    <a:pt x="1228" y="2091"/>
                  </a:lnTo>
                  <a:lnTo>
                    <a:pt x="1226" y="2083"/>
                  </a:lnTo>
                  <a:lnTo>
                    <a:pt x="1225" y="2078"/>
                  </a:lnTo>
                  <a:lnTo>
                    <a:pt x="1223" y="2070"/>
                  </a:lnTo>
                  <a:lnTo>
                    <a:pt x="1221" y="2064"/>
                  </a:lnTo>
                  <a:lnTo>
                    <a:pt x="1217" y="2057"/>
                  </a:lnTo>
                  <a:lnTo>
                    <a:pt x="1215" y="2049"/>
                  </a:lnTo>
                  <a:lnTo>
                    <a:pt x="1213" y="2041"/>
                  </a:lnTo>
                  <a:lnTo>
                    <a:pt x="1209" y="2036"/>
                  </a:lnTo>
                  <a:lnTo>
                    <a:pt x="1206" y="2022"/>
                  </a:lnTo>
                  <a:lnTo>
                    <a:pt x="1200" y="2011"/>
                  </a:lnTo>
                  <a:lnTo>
                    <a:pt x="1194" y="2000"/>
                  </a:lnTo>
                  <a:lnTo>
                    <a:pt x="1188" y="1988"/>
                  </a:lnTo>
                  <a:lnTo>
                    <a:pt x="1181" y="1977"/>
                  </a:lnTo>
                  <a:lnTo>
                    <a:pt x="1175" y="1967"/>
                  </a:lnTo>
                  <a:lnTo>
                    <a:pt x="1168" y="1956"/>
                  </a:lnTo>
                  <a:lnTo>
                    <a:pt x="1160" y="1946"/>
                  </a:lnTo>
                  <a:lnTo>
                    <a:pt x="1152" y="1935"/>
                  </a:lnTo>
                  <a:lnTo>
                    <a:pt x="1145" y="1927"/>
                  </a:lnTo>
                  <a:lnTo>
                    <a:pt x="1135" y="1920"/>
                  </a:lnTo>
                  <a:lnTo>
                    <a:pt x="1126" y="1912"/>
                  </a:lnTo>
                  <a:lnTo>
                    <a:pt x="1116" y="1905"/>
                  </a:lnTo>
                  <a:lnTo>
                    <a:pt x="1109" y="1899"/>
                  </a:lnTo>
                  <a:lnTo>
                    <a:pt x="1097" y="1891"/>
                  </a:lnTo>
                  <a:lnTo>
                    <a:pt x="1088" y="1887"/>
                  </a:lnTo>
                  <a:lnTo>
                    <a:pt x="1076" y="1882"/>
                  </a:lnTo>
                  <a:lnTo>
                    <a:pt x="1065" y="1878"/>
                  </a:lnTo>
                  <a:lnTo>
                    <a:pt x="1053" y="1874"/>
                  </a:lnTo>
                  <a:lnTo>
                    <a:pt x="1042" y="1872"/>
                  </a:lnTo>
                  <a:lnTo>
                    <a:pt x="1029" y="1868"/>
                  </a:lnTo>
                  <a:lnTo>
                    <a:pt x="1017" y="1868"/>
                  </a:lnTo>
                  <a:lnTo>
                    <a:pt x="1010" y="1868"/>
                  </a:lnTo>
                  <a:lnTo>
                    <a:pt x="1004" y="1868"/>
                  </a:lnTo>
                  <a:lnTo>
                    <a:pt x="996" y="1868"/>
                  </a:lnTo>
                  <a:lnTo>
                    <a:pt x="991" y="1868"/>
                  </a:lnTo>
                  <a:lnTo>
                    <a:pt x="985" y="1868"/>
                  </a:lnTo>
                  <a:lnTo>
                    <a:pt x="977" y="1868"/>
                  </a:lnTo>
                  <a:lnTo>
                    <a:pt x="970" y="1868"/>
                  </a:lnTo>
                  <a:lnTo>
                    <a:pt x="964" y="1872"/>
                  </a:lnTo>
                  <a:lnTo>
                    <a:pt x="955" y="1872"/>
                  </a:lnTo>
                  <a:lnTo>
                    <a:pt x="949" y="1874"/>
                  </a:lnTo>
                  <a:lnTo>
                    <a:pt x="941" y="1874"/>
                  </a:lnTo>
                  <a:lnTo>
                    <a:pt x="934" y="1878"/>
                  </a:lnTo>
                  <a:lnTo>
                    <a:pt x="926" y="1880"/>
                  </a:lnTo>
                  <a:lnTo>
                    <a:pt x="918" y="1882"/>
                  </a:lnTo>
                  <a:lnTo>
                    <a:pt x="911" y="1886"/>
                  </a:lnTo>
                  <a:lnTo>
                    <a:pt x="903" y="1889"/>
                  </a:lnTo>
                  <a:lnTo>
                    <a:pt x="894" y="1891"/>
                  </a:lnTo>
                  <a:lnTo>
                    <a:pt x="886" y="1895"/>
                  </a:lnTo>
                  <a:lnTo>
                    <a:pt x="879" y="1897"/>
                  </a:lnTo>
                  <a:lnTo>
                    <a:pt x="869" y="1901"/>
                  </a:lnTo>
                  <a:lnTo>
                    <a:pt x="858" y="1905"/>
                  </a:lnTo>
                  <a:lnTo>
                    <a:pt x="850" y="1908"/>
                  </a:lnTo>
                  <a:lnTo>
                    <a:pt x="839" y="1912"/>
                  </a:lnTo>
                  <a:lnTo>
                    <a:pt x="831" y="1916"/>
                  </a:lnTo>
                  <a:lnTo>
                    <a:pt x="820" y="1918"/>
                  </a:lnTo>
                  <a:lnTo>
                    <a:pt x="810" y="1922"/>
                  </a:lnTo>
                  <a:lnTo>
                    <a:pt x="801" y="1925"/>
                  </a:lnTo>
                  <a:lnTo>
                    <a:pt x="791" y="1929"/>
                  </a:lnTo>
                  <a:lnTo>
                    <a:pt x="780" y="1931"/>
                  </a:lnTo>
                  <a:lnTo>
                    <a:pt x="768" y="1935"/>
                  </a:lnTo>
                  <a:lnTo>
                    <a:pt x="759" y="1939"/>
                  </a:lnTo>
                  <a:lnTo>
                    <a:pt x="747" y="1943"/>
                  </a:lnTo>
                  <a:lnTo>
                    <a:pt x="736" y="1944"/>
                  </a:lnTo>
                  <a:lnTo>
                    <a:pt x="725" y="1946"/>
                  </a:lnTo>
                  <a:lnTo>
                    <a:pt x="711" y="1948"/>
                  </a:lnTo>
                  <a:lnTo>
                    <a:pt x="702" y="1952"/>
                  </a:lnTo>
                  <a:lnTo>
                    <a:pt x="688" y="1956"/>
                  </a:lnTo>
                  <a:lnTo>
                    <a:pt x="677" y="1958"/>
                  </a:lnTo>
                  <a:lnTo>
                    <a:pt x="664" y="1960"/>
                  </a:lnTo>
                  <a:lnTo>
                    <a:pt x="652" y="1963"/>
                  </a:lnTo>
                  <a:lnTo>
                    <a:pt x="641" y="1965"/>
                  </a:lnTo>
                  <a:lnTo>
                    <a:pt x="628" y="1967"/>
                  </a:lnTo>
                  <a:lnTo>
                    <a:pt x="616" y="1969"/>
                  </a:lnTo>
                  <a:lnTo>
                    <a:pt x="605" y="1971"/>
                  </a:lnTo>
                  <a:lnTo>
                    <a:pt x="591" y="1973"/>
                  </a:lnTo>
                  <a:lnTo>
                    <a:pt x="578" y="1975"/>
                  </a:lnTo>
                  <a:lnTo>
                    <a:pt x="567" y="1977"/>
                  </a:lnTo>
                  <a:lnTo>
                    <a:pt x="555" y="1979"/>
                  </a:lnTo>
                  <a:lnTo>
                    <a:pt x="542" y="1979"/>
                  </a:lnTo>
                  <a:lnTo>
                    <a:pt x="529" y="1981"/>
                  </a:lnTo>
                  <a:lnTo>
                    <a:pt x="515" y="1981"/>
                  </a:lnTo>
                  <a:lnTo>
                    <a:pt x="504" y="1981"/>
                  </a:lnTo>
                  <a:lnTo>
                    <a:pt x="491" y="1981"/>
                  </a:lnTo>
                  <a:lnTo>
                    <a:pt x="479" y="1981"/>
                  </a:lnTo>
                  <a:lnTo>
                    <a:pt x="466" y="1981"/>
                  </a:lnTo>
                  <a:lnTo>
                    <a:pt x="453" y="1981"/>
                  </a:lnTo>
                  <a:lnTo>
                    <a:pt x="439" y="1981"/>
                  </a:lnTo>
                  <a:lnTo>
                    <a:pt x="428" y="1979"/>
                  </a:lnTo>
                  <a:lnTo>
                    <a:pt x="415" y="1979"/>
                  </a:lnTo>
                  <a:lnTo>
                    <a:pt x="403" y="1977"/>
                  </a:lnTo>
                  <a:lnTo>
                    <a:pt x="390" y="1975"/>
                  </a:lnTo>
                  <a:lnTo>
                    <a:pt x="379" y="1973"/>
                  </a:lnTo>
                  <a:lnTo>
                    <a:pt x="367" y="1971"/>
                  </a:lnTo>
                  <a:lnTo>
                    <a:pt x="356" y="1969"/>
                  </a:lnTo>
                  <a:lnTo>
                    <a:pt x="342" y="1965"/>
                  </a:lnTo>
                  <a:lnTo>
                    <a:pt x="331" y="1962"/>
                  </a:lnTo>
                  <a:lnTo>
                    <a:pt x="318" y="1958"/>
                  </a:lnTo>
                  <a:lnTo>
                    <a:pt x="306" y="1956"/>
                  </a:lnTo>
                  <a:lnTo>
                    <a:pt x="295" y="1950"/>
                  </a:lnTo>
                  <a:lnTo>
                    <a:pt x="283" y="1946"/>
                  </a:lnTo>
                  <a:lnTo>
                    <a:pt x="272" y="1943"/>
                  </a:lnTo>
                  <a:lnTo>
                    <a:pt x="261" y="1937"/>
                  </a:lnTo>
                  <a:lnTo>
                    <a:pt x="249" y="1931"/>
                  </a:lnTo>
                  <a:lnTo>
                    <a:pt x="238" y="1925"/>
                  </a:lnTo>
                  <a:lnTo>
                    <a:pt x="228" y="1918"/>
                  </a:lnTo>
                  <a:lnTo>
                    <a:pt x="217" y="1912"/>
                  </a:lnTo>
                  <a:lnTo>
                    <a:pt x="206" y="1905"/>
                  </a:lnTo>
                  <a:lnTo>
                    <a:pt x="196" y="1897"/>
                  </a:lnTo>
                  <a:lnTo>
                    <a:pt x="187" y="1891"/>
                  </a:lnTo>
                  <a:lnTo>
                    <a:pt x="177" y="1884"/>
                  </a:lnTo>
                  <a:lnTo>
                    <a:pt x="168" y="1874"/>
                  </a:lnTo>
                  <a:lnTo>
                    <a:pt x="158" y="1865"/>
                  </a:lnTo>
                  <a:lnTo>
                    <a:pt x="149" y="1855"/>
                  </a:lnTo>
                  <a:lnTo>
                    <a:pt x="141" y="1848"/>
                  </a:lnTo>
                  <a:lnTo>
                    <a:pt x="131" y="1838"/>
                  </a:lnTo>
                  <a:lnTo>
                    <a:pt x="122" y="1829"/>
                  </a:lnTo>
                  <a:lnTo>
                    <a:pt x="116" y="1819"/>
                  </a:lnTo>
                  <a:lnTo>
                    <a:pt x="109" y="1810"/>
                  </a:lnTo>
                  <a:lnTo>
                    <a:pt x="101" y="1800"/>
                  </a:lnTo>
                  <a:lnTo>
                    <a:pt x="93" y="1791"/>
                  </a:lnTo>
                  <a:lnTo>
                    <a:pt x="86" y="1781"/>
                  </a:lnTo>
                  <a:lnTo>
                    <a:pt x="80" y="1772"/>
                  </a:lnTo>
                  <a:lnTo>
                    <a:pt x="74" y="1760"/>
                  </a:lnTo>
                  <a:lnTo>
                    <a:pt x="69" y="1751"/>
                  </a:lnTo>
                  <a:lnTo>
                    <a:pt x="63" y="1741"/>
                  </a:lnTo>
                  <a:lnTo>
                    <a:pt x="59" y="1732"/>
                  </a:lnTo>
                  <a:lnTo>
                    <a:pt x="53" y="1720"/>
                  </a:lnTo>
                  <a:lnTo>
                    <a:pt x="48" y="1709"/>
                  </a:lnTo>
                  <a:lnTo>
                    <a:pt x="44" y="1697"/>
                  </a:lnTo>
                  <a:lnTo>
                    <a:pt x="40" y="1688"/>
                  </a:lnTo>
                  <a:lnTo>
                    <a:pt x="34" y="1675"/>
                  </a:lnTo>
                  <a:lnTo>
                    <a:pt x="33" y="1665"/>
                  </a:lnTo>
                  <a:lnTo>
                    <a:pt x="29" y="1654"/>
                  </a:lnTo>
                  <a:lnTo>
                    <a:pt x="25" y="1642"/>
                  </a:lnTo>
                  <a:lnTo>
                    <a:pt x="23" y="1631"/>
                  </a:lnTo>
                  <a:lnTo>
                    <a:pt x="19" y="1619"/>
                  </a:lnTo>
                  <a:lnTo>
                    <a:pt x="15" y="1606"/>
                  </a:lnTo>
                  <a:lnTo>
                    <a:pt x="15" y="1597"/>
                  </a:lnTo>
                  <a:lnTo>
                    <a:pt x="12" y="1583"/>
                  </a:lnTo>
                  <a:lnTo>
                    <a:pt x="10" y="1572"/>
                  </a:lnTo>
                  <a:lnTo>
                    <a:pt x="8" y="1559"/>
                  </a:lnTo>
                  <a:lnTo>
                    <a:pt x="8" y="1549"/>
                  </a:lnTo>
                  <a:lnTo>
                    <a:pt x="6" y="1536"/>
                  </a:lnTo>
                  <a:lnTo>
                    <a:pt x="4" y="1523"/>
                  </a:lnTo>
                  <a:lnTo>
                    <a:pt x="2" y="1509"/>
                  </a:lnTo>
                  <a:lnTo>
                    <a:pt x="2" y="1498"/>
                  </a:lnTo>
                  <a:lnTo>
                    <a:pt x="0" y="1485"/>
                  </a:lnTo>
                  <a:lnTo>
                    <a:pt x="0" y="1471"/>
                  </a:lnTo>
                  <a:lnTo>
                    <a:pt x="0" y="1458"/>
                  </a:lnTo>
                  <a:lnTo>
                    <a:pt x="0" y="1445"/>
                  </a:lnTo>
                  <a:lnTo>
                    <a:pt x="0" y="1431"/>
                  </a:lnTo>
                  <a:lnTo>
                    <a:pt x="0" y="1418"/>
                  </a:lnTo>
                  <a:lnTo>
                    <a:pt x="0" y="1403"/>
                  </a:lnTo>
                  <a:lnTo>
                    <a:pt x="0" y="1391"/>
                  </a:lnTo>
                  <a:lnTo>
                    <a:pt x="0" y="1376"/>
                  </a:lnTo>
                  <a:lnTo>
                    <a:pt x="2" y="1363"/>
                  </a:lnTo>
                  <a:lnTo>
                    <a:pt x="4" y="1350"/>
                  </a:lnTo>
                  <a:lnTo>
                    <a:pt x="6" y="1336"/>
                  </a:lnTo>
                  <a:lnTo>
                    <a:pt x="6" y="1319"/>
                  </a:lnTo>
                  <a:lnTo>
                    <a:pt x="6" y="1306"/>
                  </a:lnTo>
                  <a:lnTo>
                    <a:pt x="8" y="1291"/>
                  </a:lnTo>
                  <a:lnTo>
                    <a:pt x="10" y="1277"/>
                  </a:lnTo>
                  <a:lnTo>
                    <a:pt x="10" y="1262"/>
                  </a:lnTo>
                  <a:lnTo>
                    <a:pt x="12" y="1247"/>
                  </a:lnTo>
                  <a:lnTo>
                    <a:pt x="14" y="1234"/>
                  </a:lnTo>
                  <a:lnTo>
                    <a:pt x="15" y="1218"/>
                  </a:lnTo>
                  <a:lnTo>
                    <a:pt x="15" y="1203"/>
                  </a:lnTo>
                  <a:lnTo>
                    <a:pt x="19" y="1188"/>
                  </a:lnTo>
                  <a:lnTo>
                    <a:pt x="19" y="1171"/>
                  </a:lnTo>
                  <a:lnTo>
                    <a:pt x="23" y="1158"/>
                  </a:lnTo>
                  <a:lnTo>
                    <a:pt x="23" y="1142"/>
                  </a:lnTo>
                  <a:lnTo>
                    <a:pt x="27" y="1127"/>
                  </a:lnTo>
                  <a:lnTo>
                    <a:pt x="29" y="1110"/>
                  </a:lnTo>
                  <a:lnTo>
                    <a:pt x="33" y="1097"/>
                  </a:lnTo>
                  <a:lnTo>
                    <a:pt x="33" y="1080"/>
                  </a:lnTo>
                  <a:lnTo>
                    <a:pt x="34" y="1064"/>
                  </a:lnTo>
                  <a:lnTo>
                    <a:pt x="38" y="1049"/>
                  </a:lnTo>
                  <a:lnTo>
                    <a:pt x="42" y="1036"/>
                  </a:lnTo>
                  <a:lnTo>
                    <a:pt x="44" y="1019"/>
                  </a:lnTo>
                  <a:lnTo>
                    <a:pt x="48" y="1006"/>
                  </a:lnTo>
                  <a:lnTo>
                    <a:pt x="52" y="992"/>
                  </a:lnTo>
                  <a:lnTo>
                    <a:pt x="55" y="979"/>
                  </a:lnTo>
                  <a:lnTo>
                    <a:pt x="57" y="966"/>
                  </a:lnTo>
                  <a:lnTo>
                    <a:pt x="61" y="950"/>
                  </a:lnTo>
                  <a:lnTo>
                    <a:pt x="65" y="937"/>
                  </a:lnTo>
                  <a:lnTo>
                    <a:pt x="71" y="926"/>
                  </a:lnTo>
                  <a:lnTo>
                    <a:pt x="74" y="912"/>
                  </a:lnTo>
                  <a:lnTo>
                    <a:pt x="80" y="901"/>
                  </a:lnTo>
                  <a:lnTo>
                    <a:pt x="86" y="888"/>
                  </a:lnTo>
                  <a:lnTo>
                    <a:pt x="91" y="876"/>
                  </a:lnTo>
                  <a:lnTo>
                    <a:pt x="97" y="863"/>
                  </a:lnTo>
                  <a:lnTo>
                    <a:pt x="103" y="852"/>
                  </a:lnTo>
                  <a:lnTo>
                    <a:pt x="107" y="838"/>
                  </a:lnTo>
                  <a:lnTo>
                    <a:pt x="114" y="829"/>
                  </a:lnTo>
                  <a:lnTo>
                    <a:pt x="120" y="815"/>
                  </a:lnTo>
                  <a:lnTo>
                    <a:pt x="126" y="806"/>
                  </a:lnTo>
                  <a:lnTo>
                    <a:pt x="133" y="795"/>
                  </a:lnTo>
                  <a:lnTo>
                    <a:pt x="141" y="785"/>
                  </a:lnTo>
                  <a:lnTo>
                    <a:pt x="149" y="774"/>
                  </a:lnTo>
                  <a:lnTo>
                    <a:pt x="154" y="762"/>
                  </a:lnTo>
                  <a:lnTo>
                    <a:pt x="162" y="753"/>
                  </a:lnTo>
                  <a:lnTo>
                    <a:pt x="169" y="743"/>
                  </a:lnTo>
                  <a:lnTo>
                    <a:pt x="177" y="732"/>
                  </a:lnTo>
                  <a:lnTo>
                    <a:pt x="187" y="722"/>
                  </a:lnTo>
                  <a:lnTo>
                    <a:pt x="194" y="713"/>
                  </a:lnTo>
                  <a:lnTo>
                    <a:pt x="204" y="703"/>
                  </a:lnTo>
                  <a:lnTo>
                    <a:pt x="211" y="692"/>
                  </a:lnTo>
                  <a:lnTo>
                    <a:pt x="221" y="680"/>
                  </a:lnTo>
                  <a:lnTo>
                    <a:pt x="228" y="671"/>
                  </a:lnTo>
                  <a:lnTo>
                    <a:pt x="238" y="661"/>
                  </a:lnTo>
                  <a:lnTo>
                    <a:pt x="247" y="652"/>
                  </a:lnTo>
                  <a:lnTo>
                    <a:pt x="257" y="642"/>
                  </a:lnTo>
                  <a:lnTo>
                    <a:pt x="266" y="633"/>
                  </a:lnTo>
                  <a:lnTo>
                    <a:pt x="276" y="623"/>
                  </a:lnTo>
                  <a:lnTo>
                    <a:pt x="285" y="614"/>
                  </a:lnTo>
                  <a:lnTo>
                    <a:pt x="295" y="604"/>
                  </a:lnTo>
                  <a:lnTo>
                    <a:pt x="306" y="593"/>
                  </a:lnTo>
                  <a:lnTo>
                    <a:pt x="318" y="585"/>
                  </a:lnTo>
                  <a:lnTo>
                    <a:pt x="327" y="576"/>
                  </a:lnTo>
                  <a:lnTo>
                    <a:pt x="339" y="566"/>
                  </a:lnTo>
                  <a:lnTo>
                    <a:pt x="350" y="557"/>
                  </a:lnTo>
                  <a:lnTo>
                    <a:pt x="361" y="549"/>
                  </a:lnTo>
                  <a:lnTo>
                    <a:pt x="373" y="538"/>
                  </a:lnTo>
                  <a:lnTo>
                    <a:pt x="382" y="528"/>
                  </a:lnTo>
                  <a:lnTo>
                    <a:pt x="396" y="519"/>
                  </a:lnTo>
                  <a:lnTo>
                    <a:pt x="407" y="509"/>
                  </a:lnTo>
                  <a:lnTo>
                    <a:pt x="418" y="500"/>
                  </a:lnTo>
                  <a:lnTo>
                    <a:pt x="430" y="490"/>
                  </a:lnTo>
                  <a:lnTo>
                    <a:pt x="443" y="481"/>
                  </a:lnTo>
                  <a:lnTo>
                    <a:pt x="456" y="471"/>
                  </a:lnTo>
                  <a:lnTo>
                    <a:pt x="468" y="462"/>
                  </a:lnTo>
                  <a:lnTo>
                    <a:pt x="481" y="452"/>
                  </a:lnTo>
                  <a:lnTo>
                    <a:pt x="493" y="441"/>
                  </a:lnTo>
                  <a:lnTo>
                    <a:pt x="508" y="431"/>
                  </a:lnTo>
                  <a:lnTo>
                    <a:pt x="521" y="420"/>
                  </a:lnTo>
                  <a:lnTo>
                    <a:pt x="534" y="411"/>
                  </a:lnTo>
                  <a:lnTo>
                    <a:pt x="548" y="401"/>
                  </a:lnTo>
                  <a:lnTo>
                    <a:pt x="563" y="392"/>
                  </a:lnTo>
                  <a:lnTo>
                    <a:pt x="574" y="382"/>
                  </a:lnTo>
                  <a:lnTo>
                    <a:pt x="588" y="371"/>
                  </a:lnTo>
                  <a:lnTo>
                    <a:pt x="601" y="359"/>
                  </a:lnTo>
                  <a:lnTo>
                    <a:pt x="614" y="352"/>
                  </a:lnTo>
                  <a:lnTo>
                    <a:pt x="626" y="340"/>
                  </a:lnTo>
                  <a:lnTo>
                    <a:pt x="639" y="333"/>
                  </a:lnTo>
                  <a:lnTo>
                    <a:pt x="652" y="323"/>
                  </a:lnTo>
                  <a:lnTo>
                    <a:pt x="666" y="316"/>
                  </a:lnTo>
                  <a:lnTo>
                    <a:pt x="677" y="308"/>
                  </a:lnTo>
                  <a:lnTo>
                    <a:pt x="688" y="300"/>
                  </a:lnTo>
                  <a:lnTo>
                    <a:pt x="702" y="293"/>
                  </a:lnTo>
                  <a:lnTo>
                    <a:pt x="713" y="287"/>
                  </a:lnTo>
                  <a:lnTo>
                    <a:pt x="725" y="279"/>
                  </a:lnTo>
                  <a:lnTo>
                    <a:pt x="736" y="272"/>
                  </a:lnTo>
                  <a:lnTo>
                    <a:pt x="749" y="266"/>
                  </a:lnTo>
                  <a:lnTo>
                    <a:pt x="761" y="262"/>
                  </a:lnTo>
                  <a:lnTo>
                    <a:pt x="772" y="255"/>
                  </a:lnTo>
                  <a:lnTo>
                    <a:pt x="783" y="249"/>
                  </a:lnTo>
                  <a:lnTo>
                    <a:pt x="795" y="243"/>
                  </a:lnTo>
                  <a:lnTo>
                    <a:pt x="806" y="240"/>
                  </a:lnTo>
                  <a:lnTo>
                    <a:pt x="818" y="234"/>
                  </a:lnTo>
                  <a:lnTo>
                    <a:pt x="829" y="230"/>
                  </a:lnTo>
                  <a:lnTo>
                    <a:pt x="839" y="224"/>
                  </a:lnTo>
                  <a:lnTo>
                    <a:pt x="852" y="221"/>
                  </a:lnTo>
                  <a:lnTo>
                    <a:pt x="861" y="217"/>
                  </a:lnTo>
                  <a:lnTo>
                    <a:pt x="873" y="213"/>
                  </a:lnTo>
                  <a:lnTo>
                    <a:pt x="884" y="209"/>
                  </a:lnTo>
                  <a:lnTo>
                    <a:pt x="896" y="205"/>
                  </a:lnTo>
                  <a:lnTo>
                    <a:pt x="907" y="201"/>
                  </a:lnTo>
                  <a:lnTo>
                    <a:pt x="917" y="198"/>
                  </a:lnTo>
                  <a:lnTo>
                    <a:pt x="928" y="194"/>
                  </a:lnTo>
                  <a:lnTo>
                    <a:pt x="939" y="192"/>
                  </a:lnTo>
                  <a:lnTo>
                    <a:pt x="951" y="188"/>
                  </a:lnTo>
                  <a:lnTo>
                    <a:pt x="962" y="184"/>
                  </a:lnTo>
                  <a:lnTo>
                    <a:pt x="972" y="181"/>
                  </a:lnTo>
                  <a:lnTo>
                    <a:pt x="983" y="179"/>
                  </a:lnTo>
                  <a:lnTo>
                    <a:pt x="995" y="175"/>
                  </a:lnTo>
                  <a:lnTo>
                    <a:pt x="1006" y="171"/>
                  </a:lnTo>
                  <a:lnTo>
                    <a:pt x="1015" y="169"/>
                  </a:lnTo>
                  <a:lnTo>
                    <a:pt x="1029" y="167"/>
                  </a:lnTo>
                  <a:lnTo>
                    <a:pt x="1038" y="163"/>
                  </a:lnTo>
                  <a:lnTo>
                    <a:pt x="1050" y="162"/>
                  </a:lnTo>
                  <a:lnTo>
                    <a:pt x="1061" y="158"/>
                  </a:lnTo>
                  <a:lnTo>
                    <a:pt x="1074" y="156"/>
                  </a:lnTo>
                  <a:lnTo>
                    <a:pt x="1084" y="152"/>
                  </a:lnTo>
                  <a:lnTo>
                    <a:pt x="1097" y="152"/>
                  </a:lnTo>
                  <a:lnTo>
                    <a:pt x="1109" y="148"/>
                  </a:lnTo>
                  <a:lnTo>
                    <a:pt x="1120" y="146"/>
                  </a:lnTo>
                  <a:lnTo>
                    <a:pt x="1131" y="143"/>
                  </a:lnTo>
                  <a:lnTo>
                    <a:pt x="1143" y="141"/>
                  </a:lnTo>
                  <a:lnTo>
                    <a:pt x="1154" y="137"/>
                  </a:lnTo>
                  <a:lnTo>
                    <a:pt x="1168" y="135"/>
                  </a:lnTo>
                  <a:lnTo>
                    <a:pt x="1179" y="131"/>
                  </a:lnTo>
                  <a:lnTo>
                    <a:pt x="1192" y="129"/>
                  </a:lnTo>
                  <a:lnTo>
                    <a:pt x="1204" y="125"/>
                  </a:lnTo>
                  <a:lnTo>
                    <a:pt x="1219" y="124"/>
                  </a:lnTo>
                  <a:lnTo>
                    <a:pt x="1230" y="118"/>
                  </a:lnTo>
                  <a:lnTo>
                    <a:pt x="1244" y="114"/>
                  </a:lnTo>
                  <a:lnTo>
                    <a:pt x="1255" y="110"/>
                  </a:lnTo>
                  <a:lnTo>
                    <a:pt x="1270" y="106"/>
                  </a:lnTo>
                  <a:lnTo>
                    <a:pt x="1284" y="103"/>
                  </a:lnTo>
                  <a:lnTo>
                    <a:pt x="1297" y="101"/>
                  </a:lnTo>
                  <a:lnTo>
                    <a:pt x="1310" y="97"/>
                  </a:lnTo>
                  <a:lnTo>
                    <a:pt x="1325" y="93"/>
                  </a:lnTo>
                  <a:lnTo>
                    <a:pt x="132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H="1" flipV="1" rot="20995800">
              <a:off x="6133680" y="3231000"/>
              <a:ext cx="1966680" cy="1152720"/>
            </a:xfrm>
            <a:custGeom>
              <a:avLst/>
              <a:gdLst/>
              <a:ahLst/>
              <a:rect l="l" t="t" r="r" b="b"/>
              <a:pathLst>
                <a:path w="2992" h="1997">
                  <a:moveTo>
                    <a:pt x="1137" y="76"/>
                  </a:moveTo>
                  <a:lnTo>
                    <a:pt x="1148" y="72"/>
                  </a:lnTo>
                  <a:lnTo>
                    <a:pt x="1160" y="68"/>
                  </a:lnTo>
                  <a:lnTo>
                    <a:pt x="1171" y="64"/>
                  </a:lnTo>
                  <a:lnTo>
                    <a:pt x="1182" y="62"/>
                  </a:lnTo>
                  <a:lnTo>
                    <a:pt x="1194" y="59"/>
                  </a:lnTo>
                  <a:lnTo>
                    <a:pt x="1205" y="55"/>
                  </a:lnTo>
                  <a:lnTo>
                    <a:pt x="1217" y="53"/>
                  </a:lnTo>
                  <a:lnTo>
                    <a:pt x="1228" y="51"/>
                  </a:lnTo>
                  <a:lnTo>
                    <a:pt x="1239" y="47"/>
                  </a:lnTo>
                  <a:lnTo>
                    <a:pt x="1251" y="45"/>
                  </a:lnTo>
                  <a:lnTo>
                    <a:pt x="1260" y="43"/>
                  </a:lnTo>
                  <a:lnTo>
                    <a:pt x="1274" y="41"/>
                  </a:lnTo>
                  <a:lnTo>
                    <a:pt x="1283" y="40"/>
                  </a:lnTo>
                  <a:lnTo>
                    <a:pt x="1295" y="38"/>
                  </a:lnTo>
                  <a:lnTo>
                    <a:pt x="1306" y="36"/>
                  </a:lnTo>
                  <a:lnTo>
                    <a:pt x="1317" y="36"/>
                  </a:lnTo>
                  <a:lnTo>
                    <a:pt x="1329" y="32"/>
                  </a:lnTo>
                  <a:lnTo>
                    <a:pt x="1338" y="32"/>
                  </a:lnTo>
                  <a:lnTo>
                    <a:pt x="1350" y="30"/>
                  </a:lnTo>
                  <a:lnTo>
                    <a:pt x="1361" y="28"/>
                  </a:lnTo>
                  <a:lnTo>
                    <a:pt x="1371" y="26"/>
                  </a:lnTo>
                  <a:lnTo>
                    <a:pt x="1382" y="26"/>
                  </a:lnTo>
                  <a:lnTo>
                    <a:pt x="1393" y="22"/>
                  </a:lnTo>
                  <a:lnTo>
                    <a:pt x="1405" y="22"/>
                  </a:lnTo>
                  <a:lnTo>
                    <a:pt x="1414" y="22"/>
                  </a:lnTo>
                  <a:lnTo>
                    <a:pt x="1426" y="21"/>
                  </a:lnTo>
                  <a:lnTo>
                    <a:pt x="1437" y="21"/>
                  </a:lnTo>
                  <a:lnTo>
                    <a:pt x="1450" y="21"/>
                  </a:lnTo>
                  <a:lnTo>
                    <a:pt x="1460" y="19"/>
                  </a:lnTo>
                  <a:lnTo>
                    <a:pt x="1473" y="17"/>
                  </a:lnTo>
                  <a:lnTo>
                    <a:pt x="1485" y="17"/>
                  </a:lnTo>
                  <a:lnTo>
                    <a:pt x="1498" y="17"/>
                  </a:lnTo>
                  <a:lnTo>
                    <a:pt x="1509" y="17"/>
                  </a:lnTo>
                  <a:lnTo>
                    <a:pt x="1521" y="15"/>
                  </a:lnTo>
                  <a:lnTo>
                    <a:pt x="1534" y="13"/>
                  </a:lnTo>
                  <a:lnTo>
                    <a:pt x="1547" y="13"/>
                  </a:lnTo>
                  <a:lnTo>
                    <a:pt x="1559" y="13"/>
                  </a:lnTo>
                  <a:lnTo>
                    <a:pt x="1572" y="13"/>
                  </a:lnTo>
                  <a:lnTo>
                    <a:pt x="1584" y="13"/>
                  </a:lnTo>
                  <a:lnTo>
                    <a:pt x="1599" y="13"/>
                  </a:lnTo>
                  <a:lnTo>
                    <a:pt x="1612" y="11"/>
                  </a:lnTo>
                  <a:lnTo>
                    <a:pt x="1625" y="11"/>
                  </a:lnTo>
                  <a:lnTo>
                    <a:pt x="1639" y="9"/>
                  </a:lnTo>
                  <a:lnTo>
                    <a:pt x="1654" y="9"/>
                  </a:lnTo>
                  <a:lnTo>
                    <a:pt x="1667" y="9"/>
                  </a:lnTo>
                  <a:lnTo>
                    <a:pt x="1682" y="9"/>
                  </a:lnTo>
                  <a:lnTo>
                    <a:pt x="1698" y="9"/>
                  </a:lnTo>
                  <a:lnTo>
                    <a:pt x="1713" y="9"/>
                  </a:lnTo>
                  <a:lnTo>
                    <a:pt x="1728" y="9"/>
                  </a:lnTo>
                  <a:lnTo>
                    <a:pt x="1743" y="9"/>
                  </a:lnTo>
                  <a:lnTo>
                    <a:pt x="1758" y="7"/>
                  </a:lnTo>
                  <a:lnTo>
                    <a:pt x="1776" y="7"/>
                  </a:lnTo>
                  <a:lnTo>
                    <a:pt x="1791" y="7"/>
                  </a:lnTo>
                  <a:lnTo>
                    <a:pt x="1808" y="7"/>
                  </a:lnTo>
                  <a:lnTo>
                    <a:pt x="1825" y="7"/>
                  </a:lnTo>
                  <a:lnTo>
                    <a:pt x="1844" y="7"/>
                  </a:lnTo>
                  <a:lnTo>
                    <a:pt x="1859" y="5"/>
                  </a:lnTo>
                  <a:lnTo>
                    <a:pt x="1878" y="5"/>
                  </a:lnTo>
                  <a:lnTo>
                    <a:pt x="1897" y="3"/>
                  </a:lnTo>
                  <a:lnTo>
                    <a:pt x="1916" y="3"/>
                  </a:lnTo>
                  <a:lnTo>
                    <a:pt x="1933" y="3"/>
                  </a:lnTo>
                  <a:lnTo>
                    <a:pt x="1954" y="3"/>
                  </a:lnTo>
                  <a:lnTo>
                    <a:pt x="1975" y="3"/>
                  </a:lnTo>
                  <a:lnTo>
                    <a:pt x="1996" y="3"/>
                  </a:lnTo>
                  <a:lnTo>
                    <a:pt x="2015" y="1"/>
                  </a:lnTo>
                  <a:lnTo>
                    <a:pt x="2036" y="0"/>
                  </a:lnTo>
                  <a:lnTo>
                    <a:pt x="2055" y="0"/>
                  </a:lnTo>
                  <a:lnTo>
                    <a:pt x="2074" y="0"/>
                  </a:lnTo>
                  <a:lnTo>
                    <a:pt x="2093" y="0"/>
                  </a:lnTo>
                  <a:lnTo>
                    <a:pt x="2114" y="0"/>
                  </a:lnTo>
                  <a:lnTo>
                    <a:pt x="2133" y="1"/>
                  </a:lnTo>
                  <a:lnTo>
                    <a:pt x="2154" y="3"/>
                  </a:lnTo>
                  <a:lnTo>
                    <a:pt x="2171" y="3"/>
                  </a:lnTo>
                  <a:lnTo>
                    <a:pt x="2190" y="7"/>
                  </a:lnTo>
                  <a:lnTo>
                    <a:pt x="2209" y="7"/>
                  </a:lnTo>
                  <a:lnTo>
                    <a:pt x="2228" y="11"/>
                  </a:lnTo>
                  <a:lnTo>
                    <a:pt x="2245" y="13"/>
                  </a:lnTo>
                  <a:lnTo>
                    <a:pt x="2264" y="15"/>
                  </a:lnTo>
                  <a:lnTo>
                    <a:pt x="2281" y="19"/>
                  </a:lnTo>
                  <a:lnTo>
                    <a:pt x="2300" y="22"/>
                  </a:lnTo>
                  <a:lnTo>
                    <a:pt x="2317" y="24"/>
                  </a:lnTo>
                  <a:lnTo>
                    <a:pt x="2335" y="28"/>
                  </a:lnTo>
                  <a:lnTo>
                    <a:pt x="2352" y="32"/>
                  </a:lnTo>
                  <a:lnTo>
                    <a:pt x="2369" y="36"/>
                  </a:lnTo>
                  <a:lnTo>
                    <a:pt x="2386" y="40"/>
                  </a:lnTo>
                  <a:lnTo>
                    <a:pt x="2403" y="43"/>
                  </a:lnTo>
                  <a:lnTo>
                    <a:pt x="2418" y="49"/>
                  </a:lnTo>
                  <a:lnTo>
                    <a:pt x="2435" y="55"/>
                  </a:lnTo>
                  <a:lnTo>
                    <a:pt x="2451" y="59"/>
                  </a:lnTo>
                  <a:lnTo>
                    <a:pt x="2468" y="64"/>
                  </a:lnTo>
                  <a:lnTo>
                    <a:pt x="2483" y="68"/>
                  </a:lnTo>
                  <a:lnTo>
                    <a:pt x="2498" y="76"/>
                  </a:lnTo>
                  <a:lnTo>
                    <a:pt x="2511" y="81"/>
                  </a:lnTo>
                  <a:lnTo>
                    <a:pt x="2528" y="87"/>
                  </a:lnTo>
                  <a:lnTo>
                    <a:pt x="2544" y="95"/>
                  </a:lnTo>
                  <a:lnTo>
                    <a:pt x="2559" y="102"/>
                  </a:lnTo>
                  <a:lnTo>
                    <a:pt x="2572" y="108"/>
                  </a:lnTo>
                  <a:lnTo>
                    <a:pt x="2585" y="114"/>
                  </a:lnTo>
                  <a:lnTo>
                    <a:pt x="2601" y="121"/>
                  </a:lnTo>
                  <a:lnTo>
                    <a:pt x="2616" y="129"/>
                  </a:lnTo>
                  <a:lnTo>
                    <a:pt x="2627" y="136"/>
                  </a:lnTo>
                  <a:lnTo>
                    <a:pt x="2641" y="144"/>
                  </a:lnTo>
                  <a:lnTo>
                    <a:pt x="2654" y="152"/>
                  </a:lnTo>
                  <a:lnTo>
                    <a:pt x="2667" y="161"/>
                  </a:lnTo>
                  <a:lnTo>
                    <a:pt x="2679" y="169"/>
                  </a:lnTo>
                  <a:lnTo>
                    <a:pt x="2692" y="176"/>
                  </a:lnTo>
                  <a:lnTo>
                    <a:pt x="2703" y="184"/>
                  </a:lnTo>
                  <a:lnTo>
                    <a:pt x="2717" y="195"/>
                  </a:lnTo>
                  <a:lnTo>
                    <a:pt x="2728" y="203"/>
                  </a:lnTo>
                  <a:lnTo>
                    <a:pt x="2739" y="212"/>
                  </a:lnTo>
                  <a:lnTo>
                    <a:pt x="2751" y="222"/>
                  </a:lnTo>
                  <a:lnTo>
                    <a:pt x="2762" y="233"/>
                  </a:lnTo>
                  <a:lnTo>
                    <a:pt x="2772" y="243"/>
                  </a:lnTo>
                  <a:lnTo>
                    <a:pt x="2783" y="252"/>
                  </a:lnTo>
                  <a:lnTo>
                    <a:pt x="2793" y="264"/>
                  </a:lnTo>
                  <a:lnTo>
                    <a:pt x="2802" y="275"/>
                  </a:lnTo>
                  <a:lnTo>
                    <a:pt x="2812" y="285"/>
                  </a:lnTo>
                  <a:lnTo>
                    <a:pt x="2821" y="294"/>
                  </a:lnTo>
                  <a:lnTo>
                    <a:pt x="2831" y="308"/>
                  </a:lnTo>
                  <a:lnTo>
                    <a:pt x="2840" y="319"/>
                  </a:lnTo>
                  <a:lnTo>
                    <a:pt x="2850" y="328"/>
                  </a:lnTo>
                  <a:lnTo>
                    <a:pt x="2857" y="340"/>
                  </a:lnTo>
                  <a:lnTo>
                    <a:pt x="2867" y="351"/>
                  </a:lnTo>
                  <a:lnTo>
                    <a:pt x="2874" y="365"/>
                  </a:lnTo>
                  <a:lnTo>
                    <a:pt x="2882" y="376"/>
                  </a:lnTo>
                  <a:lnTo>
                    <a:pt x="2888" y="389"/>
                  </a:lnTo>
                  <a:lnTo>
                    <a:pt x="2895" y="401"/>
                  </a:lnTo>
                  <a:lnTo>
                    <a:pt x="2905" y="414"/>
                  </a:lnTo>
                  <a:lnTo>
                    <a:pt x="2911" y="427"/>
                  </a:lnTo>
                  <a:lnTo>
                    <a:pt x="2916" y="439"/>
                  </a:lnTo>
                  <a:lnTo>
                    <a:pt x="2922" y="452"/>
                  </a:lnTo>
                  <a:lnTo>
                    <a:pt x="2928" y="465"/>
                  </a:lnTo>
                  <a:lnTo>
                    <a:pt x="2933" y="477"/>
                  </a:lnTo>
                  <a:lnTo>
                    <a:pt x="2939" y="490"/>
                  </a:lnTo>
                  <a:lnTo>
                    <a:pt x="2943" y="503"/>
                  </a:lnTo>
                  <a:lnTo>
                    <a:pt x="2951" y="518"/>
                  </a:lnTo>
                  <a:lnTo>
                    <a:pt x="2952" y="532"/>
                  </a:lnTo>
                  <a:lnTo>
                    <a:pt x="2956" y="545"/>
                  </a:lnTo>
                  <a:lnTo>
                    <a:pt x="2960" y="558"/>
                  </a:lnTo>
                  <a:lnTo>
                    <a:pt x="2966" y="574"/>
                  </a:lnTo>
                  <a:lnTo>
                    <a:pt x="2968" y="587"/>
                  </a:lnTo>
                  <a:lnTo>
                    <a:pt x="2971" y="602"/>
                  </a:lnTo>
                  <a:lnTo>
                    <a:pt x="2975" y="615"/>
                  </a:lnTo>
                  <a:lnTo>
                    <a:pt x="2979" y="631"/>
                  </a:lnTo>
                  <a:lnTo>
                    <a:pt x="2979" y="646"/>
                  </a:lnTo>
                  <a:lnTo>
                    <a:pt x="2981" y="659"/>
                  </a:lnTo>
                  <a:lnTo>
                    <a:pt x="2985" y="674"/>
                  </a:lnTo>
                  <a:lnTo>
                    <a:pt x="2987" y="688"/>
                  </a:lnTo>
                  <a:lnTo>
                    <a:pt x="2987" y="703"/>
                  </a:lnTo>
                  <a:lnTo>
                    <a:pt x="2989" y="718"/>
                  </a:lnTo>
                  <a:lnTo>
                    <a:pt x="2989" y="733"/>
                  </a:lnTo>
                  <a:lnTo>
                    <a:pt x="2990" y="748"/>
                  </a:lnTo>
                  <a:lnTo>
                    <a:pt x="2990" y="762"/>
                  </a:lnTo>
                  <a:lnTo>
                    <a:pt x="2990" y="777"/>
                  </a:lnTo>
                  <a:lnTo>
                    <a:pt x="2990" y="794"/>
                  </a:lnTo>
                  <a:lnTo>
                    <a:pt x="2992" y="809"/>
                  </a:lnTo>
                  <a:lnTo>
                    <a:pt x="2990" y="823"/>
                  </a:lnTo>
                  <a:lnTo>
                    <a:pt x="2990" y="840"/>
                  </a:lnTo>
                  <a:lnTo>
                    <a:pt x="2990" y="855"/>
                  </a:lnTo>
                  <a:lnTo>
                    <a:pt x="2990" y="870"/>
                  </a:lnTo>
                  <a:lnTo>
                    <a:pt x="2989" y="883"/>
                  </a:lnTo>
                  <a:lnTo>
                    <a:pt x="2989" y="901"/>
                  </a:lnTo>
                  <a:lnTo>
                    <a:pt x="2985" y="914"/>
                  </a:lnTo>
                  <a:lnTo>
                    <a:pt x="2985" y="929"/>
                  </a:lnTo>
                  <a:lnTo>
                    <a:pt x="2981" y="944"/>
                  </a:lnTo>
                  <a:lnTo>
                    <a:pt x="2979" y="959"/>
                  </a:lnTo>
                  <a:lnTo>
                    <a:pt x="2977" y="975"/>
                  </a:lnTo>
                  <a:lnTo>
                    <a:pt x="2975" y="990"/>
                  </a:lnTo>
                  <a:lnTo>
                    <a:pt x="2971" y="1005"/>
                  </a:lnTo>
                  <a:lnTo>
                    <a:pt x="2970" y="1020"/>
                  </a:lnTo>
                  <a:lnTo>
                    <a:pt x="2966" y="1036"/>
                  </a:lnTo>
                  <a:lnTo>
                    <a:pt x="2964" y="1051"/>
                  </a:lnTo>
                  <a:lnTo>
                    <a:pt x="2960" y="1064"/>
                  </a:lnTo>
                  <a:lnTo>
                    <a:pt x="2956" y="1081"/>
                  </a:lnTo>
                  <a:lnTo>
                    <a:pt x="2952" y="1094"/>
                  </a:lnTo>
                  <a:lnTo>
                    <a:pt x="2951" y="1110"/>
                  </a:lnTo>
                  <a:lnTo>
                    <a:pt x="2945" y="1125"/>
                  </a:lnTo>
                  <a:lnTo>
                    <a:pt x="2939" y="1140"/>
                  </a:lnTo>
                  <a:lnTo>
                    <a:pt x="2935" y="1153"/>
                  </a:lnTo>
                  <a:lnTo>
                    <a:pt x="2932" y="1169"/>
                  </a:lnTo>
                  <a:lnTo>
                    <a:pt x="2926" y="1182"/>
                  </a:lnTo>
                  <a:lnTo>
                    <a:pt x="2920" y="1197"/>
                  </a:lnTo>
                  <a:lnTo>
                    <a:pt x="2916" y="1210"/>
                  </a:lnTo>
                  <a:lnTo>
                    <a:pt x="2911" y="1226"/>
                  </a:lnTo>
                  <a:lnTo>
                    <a:pt x="2905" y="1239"/>
                  </a:lnTo>
                  <a:lnTo>
                    <a:pt x="2899" y="1254"/>
                  </a:lnTo>
                  <a:lnTo>
                    <a:pt x="2893" y="1267"/>
                  </a:lnTo>
                  <a:lnTo>
                    <a:pt x="2888" y="1281"/>
                  </a:lnTo>
                  <a:lnTo>
                    <a:pt x="2882" y="1294"/>
                  </a:lnTo>
                  <a:lnTo>
                    <a:pt x="2876" y="1309"/>
                  </a:lnTo>
                  <a:lnTo>
                    <a:pt x="2869" y="1323"/>
                  </a:lnTo>
                  <a:lnTo>
                    <a:pt x="2865" y="1336"/>
                  </a:lnTo>
                  <a:lnTo>
                    <a:pt x="2857" y="1349"/>
                  </a:lnTo>
                  <a:lnTo>
                    <a:pt x="2850" y="1362"/>
                  </a:lnTo>
                  <a:lnTo>
                    <a:pt x="2844" y="1374"/>
                  </a:lnTo>
                  <a:lnTo>
                    <a:pt x="2836" y="1387"/>
                  </a:lnTo>
                  <a:lnTo>
                    <a:pt x="2827" y="1399"/>
                  </a:lnTo>
                  <a:lnTo>
                    <a:pt x="2821" y="1410"/>
                  </a:lnTo>
                  <a:lnTo>
                    <a:pt x="2814" y="1423"/>
                  </a:lnTo>
                  <a:lnTo>
                    <a:pt x="2806" y="1437"/>
                  </a:lnTo>
                  <a:lnTo>
                    <a:pt x="2798" y="1446"/>
                  </a:lnTo>
                  <a:lnTo>
                    <a:pt x="2789" y="1457"/>
                  </a:lnTo>
                  <a:lnTo>
                    <a:pt x="2781" y="1469"/>
                  </a:lnTo>
                  <a:lnTo>
                    <a:pt x="2774" y="1480"/>
                  </a:lnTo>
                  <a:lnTo>
                    <a:pt x="2764" y="1492"/>
                  </a:lnTo>
                  <a:lnTo>
                    <a:pt x="2757" y="1503"/>
                  </a:lnTo>
                  <a:lnTo>
                    <a:pt x="2747" y="1514"/>
                  </a:lnTo>
                  <a:lnTo>
                    <a:pt x="2739" y="1526"/>
                  </a:lnTo>
                  <a:lnTo>
                    <a:pt x="2730" y="1535"/>
                  </a:lnTo>
                  <a:lnTo>
                    <a:pt x="2720" y="1547"/>
                  </a:lnTo>
                  <a:lnTo>
                    <a:pt x="2711" y="1558"/>
                  </a:lnTo>
                  <a:lnTo>
                    <a:pt x="2703" y="1568"/>
                  </a:lnTo>
                  <a:lnTo>
                    <a:pt x="2692" y="1577"/>
                  </a:lnTo>
                  <a:lnTo>
                    <a:pt x="2682" y="1587"/>
                  </a:lnTo>
                  <a:lnTo>
                    <a:pt x="2673" y="1596"/>
                  </a:lnTo>
                  <a:lnTo>
                    <a:pt x="2663" y="1608"/>
                  </a:lnTo>
                  <a:lnTo>
                    <a:pt x="2654" y="1617"/>
                  </a:lnTo>
                  <a:lnTo>
                    <a:pt x="2644" y="1627"/>
                  </a:lnTo>
                  <a:lnTo>
                    <a:pt x="2633" y="1636"/>
                  </a:lnTo>
                  <a:lnTo>
                    <a:pt x="2624" y="1646"/>
                  </a:lnTo>
                  <a:lnTo>
                    <a:pt x="2612" y="1655"/>
                  </a:lnTo>
                  <a:lnTo>
                    <a:pt x="2603" y="1665"/>
                  </a:lnTo>
                  <a:lnTo>
                    <a:pt x="2591" y="1674"/>
                  </a:lnTo>
                  <a:lnTo>
                    <a:pt x="2582" y="1684"/>
                  </a:lnTo>
                  <a:lnTo>
                    <a:pt x="2570" y="1691"/>
                  </a:lnTo>
                  <a:lnTo>
                    <a:pt x="2557" y="1701"/>
                  </a:lnTo>
                  <a:lnTo>
                    <a:pt x="2546" y="1706"/>
                  </a:lnTo>
                  <a:lnTo>
                    <a:pt x="2534" y="1716"/>
                  </a:lnTo>
                  <a:lnTo>
                    <a:pt x="2523" y="1724"/>
                  </a:lnTo>
                  <a:lnTo>
                    <a:pt x="2511" y="1733"/>
                  </a:lnTo>
                  <a:lnTo>
                    <a:pt x="2500" y="1741"/>
                  </a:lnTo>
                  <a:lnTo>
                    <a:pt x="2489" y="1748"/>
                  </a:lnTo>
                  <a:lnTo>
                    <a:pt x="2475" y="1756"/>
                  </a:lnTo>
                  <a:lnTo>
                    <a:pt x="2464" y="1763"/>
                  </a:lnTo>
                  <a:lnTo>
                    <a:pt x="2451" y="1771"/>
                  </a:lnTo>
                  <a:lnTo>
                    <a:pt x="2439" y="1779"/>
                  </a:lnTo>
                  <a:lnTo>
                    <a:pt x="2426" y="1786"/>
                  </a:lnTo>
                  <a:lnTo>
                    <a:pt x="2414" y="1794"/>
                  </a:lnTo>
                  <a:lnTo>
                    <a:pt x="2401" y="1800"/>
                  </a:lnTo>
                  <a:lnTo>
                    <a:pt x="2390" y="1807"/>
                  </a:lnTo>
                  <a:lnTo>
                    <a:pt x="2374" y="1813"/>
                  </a:lnTo>
                  <a:lnTo>
                    <a:pt x="2361" y="1819"/>
                  </a:lnTo>
                  <a:lnTo>
                    <a:pt x="2348" y="1826"/>
                  </a:lnTo>
                  <a:lnTo>
                    <a:pt x="2335" y="1832"/>
                  </a:lnTo>
                  <a:lnTo>
                    <a:pt x="2321" y="1840"/>
                  </a:lnTo>
                  <a:lnTo>
                    <a:pt x="2310" y="1845"/>
                  </a:lnTo>
                  <a:lnTo>
                    <a:pt x="2297" y="1853"/>
                  </a:lnTo>
                  <a:lnTo>
                    <a:pt x="2283" y="1859"/>
                  </a:lnTo>
                  <a:lnTo>
                    <a:pt x="2268" y="1864"/>
                  </a:lnTo>
                  <a:lnTo>
                    <a:pt x="2255" y="1870"/>
                  </a:lnTo>
                  <a:lnTo>
                    <a:pt x="2239" y="1874"/>
                  </a:lnTo>
                  <a:lnTo>
                    <a:pt x="2226" y="1881"/>
                  </a:lnTo>
                  <a:lnTo>
                    <a:pt x="2211" y="1885"/>
                  </a:lnTo>
                  <a:lnTo>
                    <a:pt x="2198" y="1891"/>
                  </a:lnTo>
                  <a:lnTo>
                    <a:pt x="2182" y="1897"/>
                  </a:lnTo>
                  <a:lnTo>
                    <a:pt x="2169" y="1904"/>
                  </a:lnTo>
                  <a:lnTo>
                    <a:pt x="2154" y="1906"/>
                  </a:lnTo>
                  <a:lnTo>
                    <a:pt x="2139" y="1912"/>
                  </a:lnTo>
                  <a:lnTo>
                    <a:pt x="2124" y="1916"/>
                  </a:lnTo>
                  <a:lnTo>
                    <a:pt x="2110" y="1919"/>
                  </a:lnTo>
                  <a:lnTo>
                    <a:pt x="2093" y="1923"/>
                  </a:lnTo>
                  <a:lnTo>
                    <a:pt x="2080" y="1929"/>
                  </a:lnTo>
                  <a:lnTo>
                    <a:pt x="2065" y="1933"/>
                  </a:lnTo>
                  <a:lnTo>
                    <a:pt x="2051" y="1936"/>
                  </a:lnTo>
                  <a:lnTo>
                    <a:pt x="2036" y="1940"/>
                  </a:lnTo>
                  <a:lnTo>
                    <a:pt x="2021" y="1944"/>
                  </a:lnTo>
                  <a:lnTo>
                    <a:pt x="2006" y="1948"/>
                  </a:lnTo>
                  <a:lnTo>
                    <a:pt x="1990" y="1952"/>
                  </a:lnTo>
                  <a:lnTo>
                    <a:pt x="1977" y="1954"/>
                  </a:lnTo>
                  <a:lnTo>
                    <a:pt x="1962" y="1957"/>
                  </a:lnTo>
                  <a:lnTo>
                    <a:pt x="1949" y="1961"/>
                  </a:lnTo>
                  <a:lnTo>
                    <a:pt x="1933" y="1965"/>
                  </a:lnTo>
                  <a:lnTo>
                    <a:pt x="1920" y="1965"/>
                  </a:lnTo>
                  <a:lnTo>
                    <a:pt x="1905" y="1969"/>
                  </a:lnTo>
                  <a:lnTo>
                    <a:pt x="1892" y="1971"/>
                  </a:lnTo>
                  <a:lnTo>
                    <a:pt x="1876" y="1974"/>
                  </a:lnTo>
                  <a:lnTo>
                    <a:pt x="1863" y="1974"/>
                  </a:lnTo>
                  <a:lnTo>
                    <a:pt x="1848" y="1978"/>
                  </a:lnTo>
                  <a:lnTo>
                    <a:pt x="1833" y="1980"/>
                  </a:lnTo>
                  <a:lnTo>
                    <a:pt x="1821" y="1982"/>
                  </a:lnTo>
                  <a:lnTo>
                    <a:pt x="1806" y="1984"/>
                  </a:lnTo>
                  <a:lnTo>
                    <a:pt x="1793" y="1986"/>
                  </a:lnTo>
                  <a:lnTo>
                    <a:pt x="1777" y="1988"/>
                  </a:lnTo>
                  <a:lnTo>
                    <a:pt x="1764" y="1990"/>
                  </a:lnTo>
                  <a:lnTo>
                    <a:pt x="1749" y="1990"/>
                  </a:lnTo>
                  <a:lnTo>
                    <a:pt x="1738" y="1992"/>
                  </a:lnTo>
                  <a:lnTo>
                    <a:pt x="1724" y="1992"/>
                  </a:lnTo>
                  <a:lnTo>
                    <a:pt x="1711" y="1993"/>
                  </a:lnTo>
                  <a:lnTo>
                    <a:pt x="1696" y="1993"/>
                  </a:lnTo>
                  <a:lnTo>
                    <a:pt x="1682" y="1993"/>
                  </a:lnTo>
                  <a:lnTo>
                    <a:pt x="1669" y="1993"/>
                  </a:lnTo>
                  <a:lnTo>
                    <a:pt x="1656" y="1995"/>
                  </a:lnTo>
                  <a:lnTo>
                    <a:pt x="1643" y="1995"/>
                  </a:lnTo>
                  <a:lnTo>
                    <a:pt x="1631" y="1995"/>
                  </a:lnTo>
                  <a:lnTo>
                    <a:pt x="1618" y="1995"/>
                  </a:lnTo>
                  <a:lnTo>
                    <a:pt x="1604" y="1997"/>
                  </a:lnTo>
                  <a:lnTo>
                    <a:pt x="1593" y="1995"/>
                  </a:lnTo>
                  <a:lnTo>
                    <a:pt x="1580" y="1995"/>
                  </a:lnTo>
                  <a:lnTo>
                    <a:pt x="1566" y="1995"/>
                  </a:lnTo>
                  <a:lnTo>
                    <a:pt x="1555" y="1995"/>
                  </a:lnTo>
                  <a:lnTo>
                    <a:pt x="1544" y="1993"/>
                  </a:lnTo>
                  <a:lnTo>
                    <a:pt x="1532" y="1993"/>
                  </a:lnTo>
                  <a:lnTo>
                    <a:pt x="1519" y="1993"/>
                  </a:lnTo>
                  <a:lnTo>
                    <a:pt x="1509" y="1993"/>
                  </a:lnTo>
                  <a:lnTo>
                    <a:pt x="1496" y="1992"/>
                  </a:lnTo>
                  <a:lnTo>
                    <a:pt x="1485" y="1990"/>
                  </a:lnTo>
                  <a:lnTo>
                    <a:pt x="1473" y="1988"/>
                  </a:lnTo>
                  <a:lnTo>
                    <a:pt x="1462" y="1988"/>
                  </a:lnTo>
                  <a:lnTo>
                    <a:pt x="1450" y="1984"/>
                  </a:lnTo>
                  <a:lnTo>
                    <a:pt x="1441" y="1984"/>
                  </a:lnTo>
                  <a:lnTo>
                    <a:pt x="1430" y="1980"/>
                  </a:lnTo>
                  <a:lnTo>
                    <a:pt x="1420" y="1980"/>
                  </a:lnTo>
                  <a:lnTo>
                    <a:pt x="1409" y="1978"/>
                  </a:lnTo>
                  <a:lnTo>
                    <a:pt x="1399" y="1974"/>
                  </a:lnTo>
                  <a:lnTo>
                    <a:pt x="1390" y="1973"/>
                  </a:lnTo>
                  <a:lnTo>
                    <a:pt x="1380" y="1971"/>
                  </a:lnTo>
                  <a:lnTo>
                    <a:pt x="1371" y="1969"/>
                  </a:lnTo>
                  <a:lnTo>
                    <a:pt x="1361" y="1965"/>
                  </a:lnTo>
                  <a:lnTo>
                    <a:pt x="1352" y="1963"/>
                  </a:lnTo>
                  <a:lnTo>
                    <a:pt x="1344" y="1961"/>
                  </a:lnTo>
                  <a:lnTo>
                    <a:pt x="1333" y="1957"/>
                  </a:lnTo>
                  <a:lnTo>
                    <a:pt x="1325" y="1954"/>
                  </a:lnTo>
                  <a:lnTo>
                    <a:pt x="1315" y="1950"/>
                  </a:lnTo>
                  <a:lnTo>
                    <a:pt x="1308" y="1946"/>
                  </a:lnTo>
                  <a:lnTo>
                    <a:pt x="1300" y="1942"/>
                  </a:lnTo>
                  <a:lnTo>
                    <a:pt x="1291" y="1938"/>
                  </a:lnTo>
                  <a:lnTo>
                    <a:pt x="1283" y="1936"/>
                  </a:lnTo>
                  <a:lnTo>
                    <a:pt x="1277" y="1933"/>
                  </a:lnTo>
                  <a:lnTo>
                    <a:pt x="1268" y="1927"/>
                  </a:lnTo>
                  <a:lnTo>
                    <a:pt x="1260" y="1923"/>
                  </a:lnTo>
                  <a:lnTo>
                    <a:pt x="1255" y="1919"/>
                  </a:lnTo>
                  <a:lnTo>
                    <a:pt x="1247" y="1916"/>
                  </a:lnTo>
                  <a:lnTo>
                    <a:pt x="1239" y="1910"/>
                  </a:lnTo>
                  <a:lnTo>
                    <a:pt x="1232" y="1906"/>
                  </a:lnTo>
                  <a:lnTo>
                    <a:pt x="1226" y="1902"/>
                  </a:lnTo>
                  <a:lnTo>
                    <a:pt x="1220" y="1898"/>
                  </a:lnTo>
                  <a:lnTo>
                    <a:pt x="1207" y="1887"/>
                  </a:lnTo>
                  <a:lnTo>
                    <a:pt x="1196" y="1878"/>
                  </a:lnTo>
                  <a:lnTo>
                    <a:pt x="1184" y="1868"/>
                  </a:lnTo>
                  <a:lnTo>
                    <a:pt x="1175" y="1859"/>
                  </a:lnTo>
                  <a:lnTo>
                    <a:pt x="1165" y="1849"/>
                  </a:lnTo>
                  <a:lnTo>
                    <a:pt x="1154" y="1838"/>
                  </a:lnTo>
                  <a:lnTo>
                    <a:pt x="1144" y="1826"/>
                  </a:lnTo>
                  <a:lnTo>
                    <a:pt x="1139" y="1817"/>
                  </a:lnTo>
                  <a:lnTo>
                    <a:pt x="1129" y="1803"/>
                  </a:lnTo>
                  <a:lnTo>
                    <a:pt x="1122" y="1792"/>
                  </a:lnTo>
                  <a:lnTo>
                    <a:pt x="1114" y="1781"/>
                  </a:lnTo>
                  <a:lnTo>
                    <a:pt x="1106" y="1769"/>
                  </a:lnTo>
                  <a:lnTo>
                    <a:pt x="1101" y="1758"/>
                  </a:lnTo>
                  <a:lnTo>
                    <a:pt x="1093" y="1746"/>
                  </a:lnTo>
                  <a:lnTo>
                    <a:pt x="1087" y="1733"/>
                  </a:lnTo>
                  <a:lnTo>
                    <a:pt x="1084" y="1724"/>
                  </a:lnTo>
                  <a:lnTo>
                    <a:pt x="1078" y="1710"/>
                  </a:lnTo>
                  <a:lnTo>
                    <a:pt x="1072" y="1699"/>
                  </a:lnTo>
                  <a:lnTo>
                    <a:pt x="1068" y="1687"/>
                  </a:lnTo>
                  <a:lnTo>
                    <a:pt x="1065" y="1676"/>
                  </a:lnTo>
                  <a:lnTo>
                    <a:pt x="1059" y="1665"/>
                  </a:lnTo>
                  <a:lnTo>
                    <a:pt x="1055" y="1653"/>
                  </a:lnTo>
                  <a:lnTo>
                    <a:pt x="1051" y="1642"/>
                  </a:lnTo>
                  <a:lnTo>
                    <a:pt x="1049" y="1632"/>
                  </a:lnTo>
                  <a:lnTo>
                    <a:pt x="1044" y="1619"/>
                  </a:lnTo>
                  <a:lnTo>
                    <a:pt x="1040" y="1610"/>
                  </a:lnTo>
                  <a:lnTo>
                    <a:pt x="1034" y="1598"/>
                  </a:lnTo>
                  <a:lnTo>
                    <a:pt x="1030" y="1589"/>
                  </a:lnTo>
                  <a:lnTo>
                    <a:pt x="1025" y="1577"/>
                  </a:lnTo>
                  <a:lnTo>
                    <a:pt x="1021" y="1570"/>
                  </a:lnTo>
                  <a:lnTo>
                    <a:pt x="1013" y="1560"/>
                  </a:lnTo>
                  <a:lnTo>
                    <a:pt x="1009" y="1553"/>
                  </a:lnTo>
                  <a:lnTo>
                    <a:pt x="1002" y="1545"/>
                  </a:lnTo>
                  <a:lnTo>
                    <a:pt x="994" y="1535"/>
                  </a:lnTo>
                  <a:lnTo>
                    <a:pt x="988" y="1530"/>
                  </a:lnTo>
                  <a:lnTo>
                    <a:pt x="981" y="1524"/>
                  </a:lnTo>
                  <a:lnTo>
                    <a:pt x="973" y="1516"/>
                  </a:lnTo>
                  <a:lnTo>
                    <a:pt x="966" y="1511"/>
                  </a:lnTo>
                  <a:lnTo>
                    <a:pt x="958" y="1503"/>
                  </a:lnTo>
                  <a:lnTo>
                    <a:pt x="952" y="1501"/>
                  </a:lnTo>
                  <a:lnTo>
                    <a:pt x="943" y="1494"/>
                  </a:lnTo>
                  <a:lnTo>
                    <a:pt x="933" y="1490"/>
                  </a:lnTo>
                  <a:lnTo>
                    <a:pt x="924" y="1488"/>
                  </a:lnTo>
                  <a:lnTo>
                    <a:pt x="914" y="1484"/>
                  </a:lnTo>
                  <a:lnTo>
                    <a:pt x="905" y="1480"/>
                  </a:lnTo>
                  <a:lnTo>
                    <a:pt x="895" y="1478"/>
                  </a:lnTo>
                  <a:lnTo>
                    <a:pt x="886" y="1478"/>
                  </a:lnTo>
                  <a:lnTo>
                    <a:pt x="876" y="1478"/>
                  </a:lnTo>
                  <a:lnTo>
                    <a:pt x="863" y="1476"/>
                  </a:lnTo>
                  <a:lnTo>
                    <a:pt x="852" y="1476"/>
                  </a:lnTo>
                  <a:lnTo>
                    <a:pt x="840" y="1476"/>
                  </a:lnTo>
                  <a:lnTo>
                    <a:pt x="827" y="1480"/>
                  </a:lnTo>
                  <a:lnTo>
                    <a:pt x="814" y="1480"/>
                  </a:lnTo>
                  <a:lnTo>
                    <a:pt x="802" y="1484"/>
                  </a:lnTo>
                  <a:lnTo>
                    <a:pt x="789" y="1488"/>
                  </a:lnTo>
                  <a:lnTo>
                    <a:pt x="777" y="1494"/>
                  </a:lnTo>
                  <a:lnTo>
                    <a:pt x="770" y="1495"/>
                  </a:lnTo>
                  <a:lnTo>
                    <a:pt x="762" y="1497"/>
                  </a:lnTo>
                  <a:lnTo>
                    <a:pt x="755" y="1501"/>
                  </a:lnTo>
                  <a:lnTo>
                    <a:pt x="747" y="1503"/>
                  </a:lnTo>
                  <a:lnTo>
                    <a:pt x="739" y="1507"/>
                  </a:lnTo>
                  <a:lnTo>
                    <a:pt x="730" y="1509"/>
                  </a:lnTo>
                  <a:lnTo>
                    <a:pt x="722" y="1513"/>
                  </a:lnTo>
                  <a:lnTo>
                    <a:pt x="715" y="1516"/>
                  </a:lnTo>
                  <a:lnTo>
                    <a:pt x="705" y="1518"/>
                  </a:lnTo>
                  <a:lnTo>
                    <a:pt x="698" y="1522"/>
                  </a:lnTo>
                  <a:lnTo>
                    <a:pt x="688" y="1524"/>
                  </a:lnTo>
                  <a:lnTo>
                    <a:pt x="681" y="1528"/>
                  </a:lnTo>
                  <a:lnTo>
                    <a:pt x="671" y="1532"/>
                  </a:lnTo>
                  <a:lnTo>
                    <a:pt x="663" y="1535"/>
                  </a:lnTo>
                  <a:lnTo>
                    <a:pt x="654" y="1539"/>
                  </a:lnTo>
                  <a:lnTo>
                    <a:pt x="646" y="1543"/>
                  </a:lnTo>
                  <a:lnTo>
                    <a:pt x="635" y="1545"/>
                  </a:lnTo>
                  <a:lnTo>
                    <a:pt x="627" y="1549"/>
                  </a:lnTo>
                  <a:lnTo>
                    <a:pt x="616" y="1551"/>
                  </a:lnTo>
                  <a:lnTo>
                    <a:pt x="608" y="1554"/>
                  </a:lnTo>
                  <a:lnTo>
                    <a:pt x="597" y="1556"/>
                  </a:lnTo>
                  <a:lnTo>
                    <a:pt x="587" y="1560"/>
                  </a:lnTo>
                  <a:lnTo>
                    <a:pt x="578" y="1562"/>
                  </a:lnTo>
                  <a:lnTo>
                    <a:pt x="568" y="1566"/>
                  </a:lnTo>
                  <a:lnTo>
                    <a:pt x="557" y="1568"/>
                  </a:lnTo>
                  <a:lnTo>
                    <a:pt x="547" y="1572"/>
                  </a:lnTo>
                  <a:lnTo>
                    <a:pt x="538" y="1573"/>
                  </a:lnTo>
                  <a:lnTo>
                    <a:pt x="528" y="1575"/>
                  </a:lnTo>
                  <a:lnTo>
                    <a:pt x="517" y="1577"/>
                  </a:lnTo>
                  <a:lnTo>
                    <a:pt x="507" y="1581"/>
                  </a:lnTo>
                  <a:lnTo>
                    <a:pt x="498" y="1583"/>
                  </a:lnTo>
                  <a:lnTo>
                    <a:pt x="488" y="1587"/>
                  </a:lnTo>
                  <a:lnTo>
                    <a:pt x="477" y="1587"/>
                  </a:lnTo>
                  <a:lnTo>
                    <a:pt x="468" y="1589"/>
                  </a:lnTo>
                  <a:lnTo>
                    <a:pt x="456" y="1591"/>
                  </a:lnTo>
                  <a:lnTo>
                    <a:pt x="447" y="1592"/>
                  </a:lnTo>
                  <a:lnTo>
                    <a:pt x="435" y="1592"/>
                  </a:lnTo>
                  <a:lnTo>
                    <a:pt x="426" y="1594"/>
                  </a:lnTo>
                  <a:lnTo>
                    <a:pt x="414" y="1594"/>
                  </a:lnTo>
                  <a:lnTo>
                    <a:pt x="405" y="1596"/>
                  </a:lnTo>
                  <a:lnTo>
                    <a:pt x="393" y="1596"/>
                  </a:lnTo>
                  <a:lnTo>
                    <a:pt x="384" y="1596"/>
                  </a:lnTo>
                  <a:lnTo>
                    <a:pt x="373" y="1596"/>
                  </a:lnTo>
                  <a:lnTo>
                    <a:pt x="363" y="1596"/>
                  </a:lnTo>
                  <a:lnTo>
                    <a:pt x="352" y="1594"/>
                  </a:lnTo>
                  <a:lnTo>
                    <a:pt x="342" y="1594"/>
                  </a:lnTo>
                  <a:lnTo>
                    <a:pt x="333" y="1592"/>
                  </a:lnTo>
                  <a:lnTo>
                    <a:pt x="323" y="1592"/>
                  </a:lnTo>
                  <a:lnTo>
                    <a:pt x="312" y="1591"/>
                  </a:lnTo>
                  <a:lnTo>
                    <a:pt x="302" y="1587"/>
                  </a:lnTo>
                  <a:lnTo>
                    <a:pt x="293" y="1585"/>
                  </a:lnTo>
                  <a:lnTo>
                    <a:pt x="283" y="1585"/>
                  </a:lnTo>
                  <a:lnTo>
                    <a:pt x="272" y="1581"/>
                  </a:lnTo>
                  <a:lnTo>
                    <a:pt x="262" y="1577"/>
                  </a:lnTo>
                  <a:lnTo>
                    <a:pt x="253" y="1573"/>
                  </a:lnTo>
                  <a:lnTo>
                    <a:pt x="245" y="1572"/>
                  </a:lnTo>
                  <a:lnTo>
                    <a:pt x="234" y="1568"/>
                  </a:lnTo>
                  <a:lnTo>
                    <a:pt x="226" y="1564"/>
                  </a:lnTo>
                  <a:lnTo>
                    <a:pt x="217" y="1558"/>
                  </a:lnTo>
                  <a:lnTo>
                    <a:pt x="207" y="1554"/>
                  </a:lnTo>
                  <a:lnTo>
                    <a:pt x="198" y="1549"/>
                  </a:lnTo>
                  <a:lnTo>
                    <a:pt x="190" y="1543"/>
                  </a:lnTo>
                  <a:lnTo>
                    <a:pt x="180" y="1537"/>
                  </a:lnTo>
                  <a:lnTo>
                    <a:pt x="173" y="1532"/>
                  </a:lnTo>
                  <a:lnTo>
                    <a:pt x="163" y="1524"/>
                  </a:lnTo>
                  <a:lnTo>
                    <a:pt x="154" y="1516"/>
                  </a:lnTo>
                  <a:lnTo>
                    <a:pt x="148" y="1511"/>
                  </a:lnTo>
                  <a:lnTo>
                    <a:pt x="141" y="1503"/>
                  </a:lnTo>
                  <a:lnTo>
                    <a:pt x="133" y="1497"/>
                  </a:lnTo>
                  <a:lnTo>
                    <a:pt x="125" y="1490"/>
                  </a:lnTo>
                  <a:lnTo>
                    <a:pt x="118" y="1482"/>
                  </a:lnTo>
                  <a:lnTo>
                    <a:pt x="112" y="1476"/>
                  </a:lnTo>
                  <a:lnTo>
                    <a:pt x="104" y="1469"/>
                  </a:lnTo>
                  <a:lnTo>
                    <a:pt x="99" y="1461"/>
                  </a:lnTo>
                  <a:lnTo>
                    <a:pt x="93" y="1456"/>
                  </a:lnTo>
                  <a:lnTo>
                    <a:pt x="87" y="1448"/>
                  </a:lnTo>
                  <a:lnTo>
                    <a:pt x="80" y="1442"/>
                  </a:lnTo>
                  <a:lnTo>
                    <a:pt x="76" y="1437"/>
                  </a:lnTo>
                  <a:lnTo>
                    <a:pt x="70" y="1429"/>
                  </a:lnTo>
                  <a:lnTo>
                    <a:pt x="68" y="1423"/>
                  </a:lnTo>
                  <a:lnTo>
                    <a:pt x="61" y="1414"/>
                  </a:lnTo>
                  <a:lnTo>
                    <a:pt x="57" y="1406"/>
                  </a:lnTo>
                  <a:lnTo>
                    <a:pt x="51" y="1400"/>
                  </a:lnTo>
                  <a:lnTo>
                    <a:pt x="49" y="1393"/>
                  </a:lnTo>
                  <a:lnTo>
                    <a:pt x="46" y="1385"/>
                  </a:lnTo>
                  <a:lnTo>
                    <a:pt x="42" y="1378"/>
                  </a:lnTo>
                  <a:lnTo>
                    <a:pt x="38" y="1372"/>
                  </a:lnTo>
                  <a:lnTo>
                    <a:pt x="34" y="1364"/>
                  </a:lnTo>
                  <a:lnTo>
                    <a:pt x="30" y="1355"/>
                  </a:lnTo>
                  <a:lnTo>
                    <a:pt x="26" y="1349"/>
                  </a:lnTo>
                  <a:lnTo>
                    <a:pt x="25" y="1342"/>
                  </a:lnTo>
                  <a:lnTo>
                    <a:pt x="23" y="1334"/>
                  </a:lnTo>
                  <a:lnTo>
                    <a:pt x="19" y="1326"/>
                  </a:lnTo>
                  <a:lnTo>
                    <a:pt x="17" y="1319"/>
                  </a:lnTo>
                  <a:lnTo>
                    <a:pt x="15" y="1309"/>
                  </a:lnTo>
                  <a:lnTo>
                    <a:pt x="13" y="1304"/>
                  </a:lnTo>
                  <a:lnTo>
                    <a:pt x="9" y="1294"/>
                  </a:lnTo>
                  <a:lnTo>
                    <a:pt x="9" y="1286"/>
                  </a:lnTo>
                  <a:lnTo>
                    <a:pt x="7" y="1277"/>
                  </a:lnTo>
                  <a:lnTo>
                    <a:pt x="6" y="1269"/>
                  </a:lnTo>
                  <a:lnTo>
                    <a:pt x="4" y="1260"/>
                  </a:lnTo>
                  <a:lnTo>
                    <a:pt x="4" y="1252"/>
                  </a:lnTo>
                  <a:lnTo>
                    <a:pt x="2" y="1243"/>
                  </a:lnTo>
                  <a:lnTo>
                    <a:pt x="2" y="1235"/>
                  </a:lnTo>
                  <a:lnTo>
                    <a:pt x="0" y="1226"/>
                  </a:lnTo>
                  <a:lnTo>
                    <a:pt x="0" y="1216"/>
                  </a:lnTo>
                  <a:lnTo>
                    <a:pt x="0" y="1207"/>
                  </a:lnTo>
                  <a:lnTo>
                    <a:pt x="0" y="1197"/>
                  </a:lnTo>
                  <a:lnTo>
                    <a:pt x="0" y="1188"/>
                  </a:lnTo>
                  <a:lnTo>
                    <a:pt x="0" y="1178"/>
                  </a:lnTo>
                  <a:lnTo>
                    <a:pt x="0" y="1169"/>
                  </a:lnTo>
                  <a:lnTo>
                    <a:pt x="2" y="1159"/>
                  </a:lnTo>
                  <a:lnTo>
                    <a:pt x="2" y="1150"/>
                  </a:lnTo>
                  <a:lnTo>
                    <a:pt x="2" y="1138"/>
                  </a:lnTo>
                  <a:lnTo>
                    <a:pt x="2" y="1127"/>
                  </a:lnTo>
                  <a:lnTo>
                    <a:pt x="4" y="1117"/>
                  </a:lnTo>
                  <a:lnTo>
                    <a:pt x="4" y="1106"/>
                  </a:lnTo>
                  <a:lnTo>
                    <a:pt x="4" y="1096"/>
                  </a:lnTo>
                  <a:lnTo>
                    <a:pt x="6" y="1085"/>
                  </a:lnTo>
                  <a:lnTo>
                    <a:pt x="7" y="1075"/>
                  </a:lnTo>
                  <a:lnTo>
                    <a:pt x="7" y="1064"/>
                  </a:lnTo>
                  <a:lnTo>
                    <a:pt x="9" y="1053"/>
                  </a:lnTo>
                  <a:lnTo>
                    <a:pt x="9" y="1039"/>
                  </a:lnTo>
                  <a:lnTo>
                    <a:pt x="13" y="1030"/>
                  </a:lnTo>
                  <a:lnTo>
                    <a:pt x="13" y="1016"/>
                  </a:lnTo>
                  <a:lnTo>
                    <a:pt x="17" y="1005"/>
                  </a:lnTo>
                  <a:lnTo>
                    <a:pt x="17" y="994"/>
                  </a:lnTo>
                  <a:lnTo>
                    <a:pt x="21" y="982"/>
                  </a:lnTo>
                  <a:lnTo>
                    <a:pt x="23" y="969"/>
                  </a:lnTo>
                  <a:lnTo>
                    <a:pt x="25" y="958"/>
                  </a:lnTo>
                  <a:lnTo>
                    <a:pt x="26" y="944"/>
                  </a:lnTo>
                  <a:lnTo>
                    <a:pt x="28" y="933"/>
                  </a:lnTo>
                  <a:lnTo>
                    <a:pt x="30" y="920"/>
                  </a:lnTo>
                  <a:lnTo>
                    <a:pt x="32" y="908"/>
                  </a:lnTo>
                  <a:lnTo>
                    <a:pt x="36" y="897"/>
                  </a:lnTo>
                  <a:lnTo>
                    <a:pt x="40" y="885"/>
                  </a:lnTo>
                  <a:lnTo>
                    <a:pt x="42" y="874"/>
                  </a:lnTo>
                  <a:lnTo>
                    <a:pt x="46" y="861"/>
                  </a:lnTo>
                  <a:lnTo>
                    <a:pt x="49" y="851"/>
                  </a:lnTo>
                  <a:lnTo>
                    <a:pt x="53" y="840"/>
                  </a:lnTo>
                  <a:lnTo>
                    <a:pt x="57" y="828"/>
                  </a:lnTo>
                  <a:lnTo>
                    <a:pt x="61" y="819"/>
                  </a:lnTo>
                  <a:lnTo>
                    <a:pt x="65" y="807"/>
                  </a:lnTo>
                  <a:lnTo>
                    <a:pt x="70" y="798"/>
                  </a:lnTo>
                  <a:lnTo>
                    <a:pt x="74" y="787"/>
                  </a:lnTo>
                  <a:lnTo>
                    <a:pt x="78" y="775"/>
                  </a:lnTo>
                  <a:lnTo>
                    <a:pt x="84" y="766"/>
                  </a:lnTo>
                  <a:lnTo>
                    <a:pt x="87" y="754"/>
                  </a:lnTo>
                  <a:lnTo>
                    <a:pt x="93" y="743"/>
                  </a:lnTo>
                  <a:lnTo>
                    <a:pt x="99" y="733"/>
                  </a:lnTo>
                  <a:lnTo>
                    <a:pt x="103" y="722"/>
                  </a:lnTo>
                  <a:lnTo>
                    <a:pt x="110" y="712"/>
                  </a:lnTo>
                  <a:lnTo>
                    <a:pt x="114" y="703"/>
                  </a:lnTo>
                  <a:lnTo>
                    <a:pt x="120" y="693"/>
                  </a:lnTo>
                  <a:lnTo>
                    <a:pt x="125" y="684"/>
                  </a:lnTo>
                  <a:lnTo>
                    <a:pt x="133" y="674"/>
                  </a:lnTo>
                  <a:lnTo>
                    <a:pt x="139" y="665"/>
                  </a:lnTo>
                  <a:lnTo>
                    <a:pt x="146" y="655"/>
                  </a:lnTo>
                  <a:lnTo>
                    <a:pt x="154" y="646"/>
                  </a:lnTo>
                  <a:lnTo>
                    <a:pt x="161" y="636"/>
                  </a:lnTo>
                  <a:lnTo>
                    <a:pt x="167" y="627"/>
                  </a:lnTo>
                  <a:lnTo>
                    <a:pt x="175" y="617"/>
                  </a:lnTo>
                  <a:lnTo>
                    <a:pt x="180" y="606"/>
                  </a:lnTo>
                  <a:lnTo>
                    <a:pt x="188" y="598"/>
                  </a:lnTo>
                  <a:lnTo>
                    <a:pt x="196" y="589"/>
                  </a:lnTo>
                  <a:lnTo>
                    <a:pt x="203" y="581"/>
                  </a:lnTo>
                  <a:lnTo>
                    <a:pt x="213" y="572"/>
                  </a:lnTo>
                  <a:lnTo>
                    <a:pt x="220" y="562"/>
                  </a:lnTo>
                  <a:lnTo>
                    <a:pt x="228" y="553"/>
                  </a:lnTo>
                  <a:lnTo>
                    <a:pt x="236" y="545"/>
                  </a:lnTo>
                  <a:lnTo>
                    <a:pt x="245" y="536"/>
                  </a:lnTo>
                  <a:lnTo>
                    <a:pt x="253" y="526"/>
                  </a:lnTo>
                  <a:lnTo>
                    <a:pt x="260" y="517"/>
                  </a:lnTo>
                  <a:lnTo>
                    <a:pt x="270" y="511"/>
                  </a:lnTo>
                  <a:lnTo>
                    <a:pt x="279" y="499"/>
                  </a:lnTo>
                  <a:lnTo>
                    <a:pt x="291" y="494"/>
                  </a:lnTo>
                  <a:lnTo>
                    <a:pt x="298" y="484"/>
                  </a:lnTo>
                  <a:lnTo>
                    <a:pt x="308" y="475"/>
                  </a:lnTo>
                  <a:lnTo>
                    <a:pt x="317" y="467"/>
                  </a:lnTo>
                  <a:lnTo>
                    <a:pt x="329" y="458"/>
                  </a:lnTo>
                  <a:lnTo>
                    <a:pt x="338" y="448"/>
                  </a:lnTo>
                  <a:lnTo>
                    <a:pt x="348" y="442"/>
                  </a:lnTo>
                  <a:lnTo>
                    <a:pt x="357" y="433"/>
                  </a:lnTo>
                  <a:lnTo>
                    <a:pt x="369" y="425"/>
                  </a:lnTo>
                  <a:lnTo>
                    <a:pt x="380" y="416"/>
                  </a:lnTo>
                  <a:lnTo>
                    <a:pt x="390" y="408"/>
                  </a:lnTo>
                  <a:lnTo>
                    <a:pt x="401" y="399"/>
                  </a:lnTo>
                  <a:lnTo>
                    <a:pt x="412" y="391"/>
                  </a:lnTo>
                  <a:lnTo>
                    <a:pt x="422" y="384"/>
                  </a:lnTo>
                  <a:lnTo>
                    <a:pt x="435" y="374"/>
                  </a:lnTo>
                  <a:lnTo>
                    <a:pt x="447" y="366"/>
                  </a:lnTo>
                  <a:lnTo>
                    <a:pt x="460" y="359"/>
                  </a:lnTo>
                  <a:lnTo>
                    <a:pt x="469" y="349"/>
                  </a:lnTo>
                  <a:lnTo>
                    <a:pt x="483" y="342"/>
                  </a:lnTo>
                  <a:lnTo>
                    <a:pt x="492" y="332"/>
                  </a:lnTo>
                  <a:lnTo>
                    <a:pt x="506" y="327"/>
                  </a:lnTo>
                  <a:lnTo>
                    <a:pt x="515" y="319"/>
                  </a:lnTo>
                  <a:lnTo>
                    <a:pt x="527" y="311"/>
                  </a:lnTo>
                  <a:lnTo>
                    <a:pt x="538" y="304"/>
                  </a:lnTo>
                  <a:lnTo>
                    <a:pt x="549" y="298"/>
                  </a:lnTo>
                  <a:lnTo>
                    <a:pt x="559" y="290"/>
                  </a:lnTo>
                  <a:lnTo>
                    <a:pt x="570" y="283"/>
                  </a:lnTo>
                  <a:lnTo>
                    <a:pt x="580" y="277"/>
                  </a:lnTo>
                  <a:lnTo>
                    <a:pt x="591" y="271"/>
                  </a:lnTo>
                  <a:lnTo>
                    <a:pt x="603" y="266"/>
                  </a:lnTo>
                  <a:lnTo>
                    <a:pt x="612" y="260"/>
                  </a:lnTo>
                  <a:lnTo>
                    <a:pt x="623" y="254"/>
                  </a:lnTo>
                  <a:lnTo>
                    <a:pt x="635" y="249"/>
                  </a:lnTo>
                  <a:lnTo>
                    <a:pt x="644" y="243"/>
                  </a:lnTo>
                  <a:lnTo>
                    <a:pt x="654" y="237"/>
                  </a:lnTo>
                  <a:lnTo>
                    <a:pt x="663" y="231"/>
                  </a:lnTo>
                  <a:lnTo>
                    <a:pt x="675" y="226"/>
                  </a:lnTo>
                  <a:lnTo>
                    <a:pt x="684" y="222"/>
                  </a:lnTo>
                  <a:lnTo>
                    <a:pt x="696" y="216"/>
                  </a:lnTo>
                  <a:lnTo>
                    <a:pt x="705" y="212"/>
                  </a:lnTo>
                  <a:lnTo>
                    <a:pt x="715" y="209"/>
                  </a:lnTo>
                  <a:lnTo>
                    <a:pt x="724" y="203"/>
                  </a:lnTo>
                  <a:lnTo>
                    <a:pt x="734" y="199"/>
                  </a:lnTo>
                  <a:lnTo>
                    <a:pt x="745" y="195"/>
                  </a:lnTo>
                  <a:lnTo>
                    <a:pt x="757" y="192"/>
                  </a:lnTo>
                  <a:lnTo>
                    <a:pt x="766" y="188"/>
                  </a:lnTo>
                  <a:lnTo>
                    <a:pt x="776" y="184"/>
                  </a:lnTo>
                  <a:lnTo>
                    <a:pt x="785" y="182"/>
                  </a:lnTo>
                  <a:lnTo>
                    <a:pt x="796" y="178"/>
                  </a:lnTo>
                  <a:lnTo>
                    <a:pt x="806" y="173"/>
                  </a:lnTo>
                  <a:lnTo>
                    <a:pt x="815" y="169"/>
                  </a:lnTo>
                  <a:lnTo>
                    <a:pt x="825" y="165"/>
                  </a:lnTo>
                  <a:lnTo>
                    <a:pt x="836" y="161"/>
                  </a:lnTo>
                  <a:lnTo>
                    <a:pt x="846" y="159"/>
                  </a:lnTo>
                  <a:lnTo>
                    <a:pt x="855" y="155"/>
                  </a:lnTo>
                  <a:lnTo>
                    <a:pt x="865" y="152"/>
                  </a:lnTo>
                  <a:lnTo>
                    <a:pt x="876" y="148"/>
                  </a:lnTo>
                  <a:lnTo>
                    <a:pt x="886" y="146"/>
                  </a:lnTo>
                  <a:lnTo>
                    <a:pt x="895" y="142"/>
                  </a:lnTo>
                  <a:lnTo>
                    <a:pt x="905" y="138"/>
                  </a:lnTo>
                  <a:lnTo>
                    <a:pt x="916" y="136"/>
                  </a:lnTo>
                  <a:lnTo>
                    <a:pt x="926" y="133"/>
                  </a:lnTo>
                  <a:lnTo>
                    <a:pt x="937" y="129"/>
                  </a:lnTo>
                  <a:lnTo>
                    <a:pt x="949" y="127"/>
                  </a:lnTo>
                  <a:lnTo>
                    <a:pt x="958" y="125"/>
                  </a:lnTo>
                  <a:lnTo>
                    <a:pt x="969" y="121"/>
                  </a:lnTo>
                  <a:lnTo>
                    <a:pt x="979" y="117"/>
                  </a:lnTo>
                  <a:lnTo>
                    <a:pt x="990" y="116"/>
                  </a:lnTo>
                  <a:lnTo>
                    <a:pt x="1000" y="114"/>
                  </a:lnTo>
                  <a:lnTo>
                    <a:pt x="1011" y="110"/>
                  </a:lnTo>
                  <a:lnTo>
                    <a:pt x="1023" y="106"/>
                  </a:lnTo>
                  <a:lnTo>
                    <a:pt x="1032" y="104"/>
                  </a:lnTo>
                  <a:lnTo>
                    <a:pt x="1046" y="100"/>
                  </a:lnTo>
                  <a:lnTo>
                    <a:pt x="1055" y="97"/>
                  </a:lnTo>
                  <a:lnTo>
                    <a:pt x="1066" y="95"/>
                  </a:lnTo>
                  <a:lnTo>
                    <a:pt x="1078" y="91"/>
                  </a:lnTo>
                  <a:lnTo>
                    <a:pt x="1089" y="87"/>
                  </a:lnTo>
                  <a:lnTo>
                    <a:pt x="1101" y="85"/>
                  </a:lnTo>
                  <a:lnTo>
                    <a:pt x="1112" y="81"/>
                  </a:lnTo>
                  <a:lnTo>
                    <a:pt x="1123" y="78"/>
                  </a:lnTo>
                  <a:lnTo>
                    <a:pt x="1137" y="76"/>
                  </a:lnTo>
                  <a:lnTo>
                    <a:pt x="1137" y="76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 flipV="1" rot="20995800">
              <a:off x="6881040" y="3333960"/>
              <a:ext cx="409680" cy="284760"/>
            </a:xfrm>
            <a:custGeom>
              <a:avLst/>
              <a:gdLst/>
              <a:ahLst/>
              <a:rect l="l" t="t" r="r" b="b"/>
              <a:pathLst>
                <a:path w="626" h="495">
                  <a:moveTo>
                    <a:pt x="219" y="424"/>
                  </a:moveTo>
                  <a:lnTo>
                    <a:pt x="227" y="428"/>
                  </a:lnTo>
                  <a:lnTo>
                    <a:pt x="234" y="432"/>
                  </a:lnTo>
                  <a:lnTo>
                    <a:pt x="242" y="436"/>
                  </a:lnTo>
                  <a:lnTo>
                    <a:pt x="250" y="439"/>
                  </a:lnTo>
                  <a:lnTo>
                    <a:pt x="257" y="443"/>
                  </a:lnTo>
                  <a:lnTo>
                    <a:pt x="265" y="447"/>
                  </a:lnTo>
                  <a:lnTo>
                    <a:pt x="272" y="451"/>
                  </a:lnTo>
                  <a:lnTo>
                    <a:pt x="280" y="455"/>
                  </a:lnTo>
                  <a:lnTo>
                    <a:pt x="288" y="458"/>
                  </a:lnTo>
                  <a:lnTo>
                    <a:pt x="295" y="460"/>
                  </a:lnTo>
                  <a:lnTo>
                    <a:pt x="303" y="462"/>
                  </a:lnTo>
                  <a:lnTo>
                    <a:pt x="312" y="466"/>
                  </a:lnTo>
                  <a:lnTo>
                    <a:pt x="318" y="468"/>
                  </a:lnTo>
                  <a:lnTo>
                    <a:pt x="326" y="472"/>
                  </a:lnTo>
                  <a:lnTo>
                    <a:pt x="335" y="474"/>
                  </a:lnTo>
                  <a:lnTo>
                    <a:pt x="343" y="477"/>
                  </a:lnTo>
                  <a:lnTo>
                    <a:pt x="350" y="477"/>
                  </a:lnTo>
                  <a:lnTo>
                    <a:pt x="356" y="481"/>
                  </a:lnTo>
                  <a:lnTo>
                    <a:pt x="364" y="481"/>
                  </a:lnTo>
                  <a:lnTo>
                    <a:pt x="373" y="483"/>
                  </a:lnTo>
                  <a:lnTo>
                    <a:pt x="379" y="485"/>
                  </a:lnTo>
                  <a:lnTo>
                    <a:pt x="386" y="487"/>
                  </a:lnTo>
                  <a:lnTo>
                    <a:pt x="394" y="487"/>
                  </a:lnTo>
                  <a:lnTo>
                    <a:pt x="402" y="491"/>
                  </a:lnTo>
                  <a:lnTo>
                    <a:pt x="409" y="491"/>
                  </a:lnTo>
                  <a:lnTo>
                    <a:pt x="415" y="491"/>
                  </a:lnTo>
                  <a:lnTo>
                    <a:pt x="423" y="491"/>
                  </a:lnTo>
                  <a:lnTo>
                    <a:pt x="430" y="493"/>
                  </a:lnTo>
                  <a:lnTo>
                    <a:pt x="438" y="493"/>
                  </a:lnTo>
                  <a:lnTo>
                    <a:pt x="443" y="493"/>
                  </a:lnTo>
                  <a:lnTo>
                    <a:pt x="451" y="493"/>
                  </a:lnTo>
                  <a:lnTo>
                    <a:pt x="459" y="495"/>
                  </a:lnTo>
                  <a:lnTo>
                    <a:pt x="470" y="493"/>
                  </a:lnTo>
                  <a:lnTo>
                    <a:pt x="483" y="493"/>
                  </a:lnTo>
                  <a:lnTo>
                    <a:pt x="495" y="491"/>
                  </a:lnTo>
                  <a:lnTo>
                    <a:pt x="508" y="491"/>
                  </a:lnTo>
                  <a:lnTo>
                    <a:pt x="518" y="487"/>
                  </a:lnTo>
                  <a:lnTo>
                    <a:pt x="531" y="483"/>
                  </a:lnTo>
                  <a:lnTo>
                    <a:pt x="540" y="479"/>
                  </a:lnTo>
                  <a:lnTo>
                    <a:pt x="552" y="476"/>
                  </a:lnTo>
                  <a:lnTo>
                    <a:pt x="559" y="470"/>
                  </a:lnTo>
                  <a:lnTo>
                    <a:pt x="569" y="464"/>
                  </a:lnTo>
                  <a:lnTo>
                    <a:pt x="578" y="458"/>
                  </a:lnTo>
                  <a:lnTo>
                    <a:pt x="586" y="453"/>
                  </a:lnTo>
                  <a:lnTo>
                    <a:pt x="594" y="445"/>
                  </a:lnTo>
                  <a:lnTo>
                    <a:pt x="601" y="437"/>
                  </a:lnTo>
                  <a:lnTo>
                    <a:pt x="607" y="430"/>
                  </a:lnTo>
                  <a:lnTo>
                    <a:pt x="613" y="422"/>
                  </a:lnTo>
                  <a:lnTo>
                    <a:pt x="616" y="413"/>
                  </a:lnTo>
                  <a:lnTo>
                    <a:pt x="620" y="403"/>
                  </a:lnTo>
                  <a:lnTo>
                    <a:pt x="622" y="392"/>
                  </a:lnTo>
                  <a:lnTo>
                    <a:pt x="624" y="382"/>
                  </a:lnTo>
                  <a:lnTo>
                    <a:pt x="624" y="371"/>
                  </a:lnTo>
                  <a:lnTo>
                    <a:pt x="626" y="361"/>
                  </a:lnTo>
                  <a:lnTo>
                    <a:pt x="624" y="350"/>
                  </a:lnTo>
                  <a:lnTo>
                    <a:pt x="624" y="339"/>
                  </a:lnTo>
                  <a:lnTo>
                    <a:pt x="622" y="327"/>
                  </a:lnTo>
                  <a:lnTo>
                    <a:pt x="620" y="316"/>
                  </a:lnTo>
                  <a:lnTo>
                    <a:pt x="616" y="304"/>
                  </a:lnTo>
                  <a:lnTo>
                    <a:pt x="613" y="293"/>
                  </a:lnTo>
                  <a:lnTo>
                    <a:pt x="607" y="282"/>
                  </a:lnTo>
                  <a:lnTo>
                    <a:pt x="601" y="270"/>
                  </a:lnTo>
                  <a:lnTo>
                    <a:pt x="596" y="259"/>
                  </a:lnTo>
                  <a:lnTo>
                    <a:pt x="592" y="247"/>
                  </a:lnTo>
                  <a:lnTo>
                    <a:pt x="582" y="234"/>
                  </a:lnTo>
                  <a:lnTo>
                    <a:pt x="575" y="223"/>
                  </a:lnTo>
                  <a:lnTo>
                    <a:pt x="567" y="209"/>
                  </a:lnTo>
                  <a:lnTo>
                    <a:pt x="558" y="198"/>
                  </a:lnTo>
                  <a:lnTo>
                    <a:pt x="546" y="187"/>
                  </a:lnTo>
                  <a:lnTo>
                    <a:pt x="537" y="175"/>
                  </a:lnTo>
                  <a:lnTo>
                    <a:pt x="527" y="164"/>
                  </a:lnTo>
                  <a:lnTo>
                    <a:pt x="516" y="152"/>
                  </a:lnTo>
                  <a:lnTo>
                    <a:pt x="502" y="141"/>
                  </a:lnTo>
                  <a:lnTo>
                    <a:pt x="491" y="130"/>
                  </a:lnTo>
                  <a:lnTo>
                    <a:pt x="478" y="120"/>
                  </a:lnTo>
                  <a:lnTo>
                    <a:pt x="466" y="111"/>
                  </a:lnTo>
                  <a:lnTo>
                    <a:pt x="459" y="103"/>
                  </a:lnTo>
                  <a:lnTo>
                    <a:pt x="451" y="99"/>
                  </a:lnTo>
                  <a:lnTo>
                    <a:pt x="443" y="93"/>
                  </a:lnTo>
                  <a:lnTo>
                    <a:pt x="438" y="90"/>
                  </a:lnTo>
                  <a:lnTo>
                    <a:pt x="430" y="84"/>
                  </a:lnTo>
                  <a:lnTo>
                    <a:pt x="423" y="80"/>
                  </a:lnTo>
                  <a:lnTo>
                    <a:pt x="415" y="74"/>
                  </a:lnTo>
                  <a:lnTo>
                    <a:pt x="409" y="71"/>
                  </a:lnTo>
                  <a:lnTo>
                    <a:pt x="400" y="67"/>
                  </a:lnTo>
                  <a:lnTo>
                    <a:pt x="392" y="61"/>
                  </a:lnTo>
                  <a:lnTo>
                    <a:pt x="383" y="57"/>
                  </a:lnTo>
                  <a:lnTo>
                    <a:pt x="377" y="54"/>
                  </a:lnTo>
                  <a:lnTo>
                    <a:pt x="367" y="50"/>
                  </a:lnTo>
                  <a:lnTo>
                    <a:pt x="360" y="46"/>
                  </a:lnTo>
                  <a:lnTo>
                    <a:pt x="352" y="42"/>
                  </a:lnTo>
                  <a:lnTo>
                    <a:pt x="345" y="38"/>
                  </a:lnTo>
                  <a:lnTo>
                    <a:pt x="337" y="36"/>
                  </a:lnTo>
                  <a:lnTo>
                    <a:pt x="329" y="33"/>
                  </a:lnTo>
                  <a:lnTo>
                    <a:pt x="322" y="29"/>
                  </a:lnTo>
                  <a:lnTo>
                    <a:pt x="314" y="27"/>
                  </a:lnTo>
                  <a:lnTo>
                    <a:pt x="307" y="23"/>
                  </a:lnTo>
                  <a:lnTo>
                    <a:pt x="299" y="21"/>
                  </a:lnTo>
                  <a:lnTo>
                    <a:pt x="291" y="19"/>
                  </a:lnTo>
                  <a:lnTo>
                    <a:pt x="284" y="17"/>
                  </a:lnTo>
                  <a:lnTo>
                    <a:pt x="276" y="14"/>
                  </a:lnTo>
                  <a:lnTo>
                    <a:pt x="269" y="14"/>
                  </a:lnTo>
                  <a:lnTo>
                    <a:pt x="261" y="10"/>
                  </a:lnTo>
                  <a:lnTo>
                    <a:pt x="253" y="10"/>
                  </a:lnTo>
                  <a:lnTo>
                    <a:pt x="246" y="6"/>
                  </a:lnTo>
                  <a:lnTo>
                    <a:pt x="238" y="6"/>
                  </a:lnTo>
                  <a:lnTo>
                    <a:pt x="232" y="2"/>
                  </a:lnTo>
                  <a:lnTo>
                    <a:pt x="225" y="2"/>
                  </a:lnTo>
                  <a:lnTo>
                    <a:pt x="217" y="2"/>
                  </a:lnTo>
                  <a:lnTo>
                    <a:pt x="210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83" y="0"/>
                  </a:lnTo>
                  <a:lnTo>
                    <a:pt x="175" y="0"/>
                  </a:lnTo>
                  <a:lnTo>
                    <a:pt x="170" y="0"/>
                  </a:lnTo>
                  <a:lnTo>
                    <a:pt x="162" y="0"/>
                  </a:lnTo>
                  <a:lnTo>
                    <a:pt x="154" y="0"/>
                  </a:lnTo>
                  <a:lnTo>
                    <a:pt x="149" y="0"/>
                  </a:lnTo>
                  <a:lnTo>
                    <a:pt x="141" y="0"/>
                  </a:lnTo>
                  <a:lnTo>
                    <a:pt x="128" y="0"/>
                  </a:lnTo>
                  <a:lnTo>
                    <a:pt x="118" y="2"/>
                  </a:lnTo>
                  <a:lnTo>
                    <a:pt x="107" y="6"/>
                  </a:lnTo>
                  <a:lnTo>
                    <a:pt x="96" y="10"/>
                  </a:lnTo>
                  <a:lnTo>
                    <a:pt x="84" y="14"/>
                  </a:lnTo>
                  <a:lnTo>
                    <a:pt x="75" y="17"/>
                  </a:lnTo>
                  <a:lnTo>
                    <a:pt x="65" y="21"/>
                  </a:lnTo>
                  <a:lnTo>
                    <a:pt x="56" y="27"/>
                  </a:lnTo>
                  <a:lnTo>
                    <a:pt x="46" y="33"/>
                  </a:lnTo>
                  <a:lnTo>
                    <a:pt x="39" y="40"/>
                  </a:lnTo>
                  <a:lnTo>
                    <a:pt x="33" y="48"/>
                  </a:lnTo>
                  <a:lnTo>
                    <a:pt x="25" y="55"/>
                  </a:lnTo>
                  <a:lnTo>
                    <a:pt x="20" y="63"/>
                  </a:lnTo>
                  <a:lnTo>
                    <a:pt x="16" y="74"/>
                  </a:lnTo>
                  <a:lnTo>
                    <a:pt x="10" y="80"/>
                  </a:lnTo>
                  <a:lnTo>
                    <a:pt x="6" y="90"/>
                  </a:lnTo>
                  <a:lnTo>
                    <a:pt x="2" y="101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0" y="141"/>
                  </a:lnTo>
                  <a:lnTo>
                    <a:pt x="2" y="154"/>
                  </a:lnTo>
                  <a:lnTo>
                    <a:pt x="2" y="164"/>
                  </a:lnTo>
                  <a:lnTo>
                    <a:pt x="6" y="175"/>
                  </a:lnTo>
                  <a:lnTo>
                    <a:pt x="8" y="187"/>
                  </a:lnTo>
                  <a:lnTo>
                    <a:pt x="12" y="200"/>
                  </a:lnTo>
                  <a:lnTo>
                    <a:pt x="16" y="209"/>
                  </a:lnTo>
                  <a:lnTo>
                    <a:pt x="23" y="223"/>
                  </a:lnTo>
                  <a:lnTo>
                    <a:pt x="29" y="234"/>
                  </a:lnTo>
                  <a:lnTo>
                    <a:pt x="37" y="247"/>
                  </a:lnTo>
                  <a:lnTo>
                    <a:pt x="42" y="259"/>
                  </a:lnTo>
                  <a:lnTo>
                    <a:pt x="50" y="270"/>
                  </a:lnTo>
                  <a:lnTo>
                    <a:pt x="58" y="282"/>
                  </a:lnTo>
                  <a:lnTo>
                    <a:pt x="67" y="293"/>
                  </a:lnTo>
                  <a:lnTo>
                    <a:pt x="77" y="304"/>
                  </a:lnTo>
                  <a:lnTo>
                    <a:pt x="88" y="316"/>
                  </a:lnTo>
                  <a:lnTo>
                    <a:pt x="99" y="329"/>
                  </a:lnTo>
                  <a:lnTo>
                    <a:pt x="111" y="341"/>
                  </a:lnTo>
                  <a:lnTo>
                    <a:pt x="122" y="352"/>
                  </a:lnTo>
                  <a:lnTo>
                    <a:pt x="135" y="361"/>
                  </a:lnTo>
                  <a:lnTo>
                    <a:pt x="141" y="367"/>
                  </a:lnTo>
                  <a:lnTo>
                    <a:pt x="147" y="373"/>
                  </a:lnTo>
                  <a:lnTo>
                    <a:pt x="154" y="377"/>
                  </a:lnTo>
                  <a:lnTo>
                    <a:pt x="160" y="384"/>
                  </a:lnTo>
                  <a:lnTo>
                    <a:pt x="168" y="388"/>
                  </a:lnTo>
                  <a:lnTo>
                    <a:pt x="173" y="394"/>
                  </a:lnTo>
                  <a:lnTo>
                    <a:pt x="181" y="398"/>
                  </a:lnTo>
                  <a:lnTo>
                    <a:pt x="189" y="403"/>
                  </a:lnTo>
                  <a:lnTo>
                    <a:pt x="196" y="409"/>
                  </a:lnTo>
                  <a:lnTo>
                    <a:pt x="202" y="413"/>
                  </a:lnTo>
                  <a:lnTo>
                    <a:pt x="212" y="418"/>
                  </a:lnTo>
                  <a:lnTo>
                    <a:pt x="219" y="424"/>
                  </a:lnTo>
                  <a:lnTo>
                    <a:pt x="219" y="424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 flipV="1" rot="20995800">
              <a:off x="7463880" y="3753360"/>
              <a:ext cx="424080" cy="334800"/>
            </a:xfrm>
            <a:custGeom>
              <a:avLst/>
              <a:gdLst/>
              <a:ahLst/>
              <a:rect l="l" t="t" r="r" b="b"/>
              <a:pathLst>
                <a:path w="646" h="579">
                  <a:moveTo>
                    <a:pt x="450" y="7"/>
                  </a:moveTo>
                  <a:lnTo>
                    <a:pt x="447" y="5"/>
                  </a:lnTo>
                  <a:lnTo>
                    <a:pt x="445" y="5"/>
                  </a:lnTo>
                  <a:lnTo>
                    <a:pt x="441" y="5"/>
                  </a:lnTo>
                  <a:lnTo>
                    <a:pt x="435" y="3"/>
                  </a:lnTo>
                  <a:lnTo>
                    <a:pt x="426" y="3"/>
                  </a:lnTo>
                  <a:lnTo>
                    <a:pt x="418" y="1"/>
                  </a:lnTo>
                  <a:lnTo>
                    <a:pt x="407" y="1"/>
                  </a:lnTo>
                  <a:lnTo>
                    <a:pt x="397" y="1"/>
                  </a:lnTo>
                  <a:lnTo>
                    <a:pt x="386" y="0"/>
                  </a:lnTo>
                  <a:lnTo>
                    <a:pt x="374" y="0"/>
                  </a:lnTo>
                  <a:lnTo>
                    <a:pt x="363" y="0"/>
                  </a:lnTo>
                  <a:lnTo>
                    <a:pt x="352" y="1"/>
                  </a:lnTo>
                  <a:lnTo>
                    <a:pt x="342" y="1"/>
                  </a:lnTo>
                  <a:lnTo>
                    <a:pt x="331" y="3"/>
                  </a:lnTo>
                  <a:lnTo>
                    <a:pt x="321" y="7"/>
                  </a:lnTo>
                  <a:lnTo>
                    <a:pt x="315" y="11"/>
                  </a:lnTo>
                  <a:lnTo>
                    <a:pt x="306" y="15"/>
                  </a:lnTo>
                  <a:lnTo>
                    <a:pt x="298" y="19"/>
                  </a:lnTo>
                  <a:lnTo>
                    <a:pt x="291" y="22"/>
                  </a:lnTo>
                  <a:lnTo>
                    <a:pt x="285" y="28"/>
                  </a:lnTo>
                  <a:lnTo>
                    <a:pt x="277" y="32"/>
                  </a:lnTo>
                  <a:lnTo>
                    <a:pt x="270" y="38"/>
                  </a:lnTo>
                  <a:lnTo>
                    <a:pt x="264" y="41"/>
                  </a:lnTo>
                  <a:lnTo>
                    <a:pt x="258" y="47"/>
                  </a:lnTo>
                  <a:lnTo>
                    <a:pt x="247" y="57"/>
                  </a:lnTo>
                  <a:lnTo>
                    <a:pt x="236" y="66"/>
                  </a:lnTo>
                  <a:lnTo>
                    <a:pt x="226" y="74"/>
                  </a:lnTo>
                  <a:lnTo>
                    <a:pt x="218" y="81"/>
                  </a:lnTo>
                  <a:lnTo>
                    <a:pt x="207" y="83"/>
                  </a:lnTo>
                  <a:lnTo>
                    <a:pt x="196" y="87"/>
                  </a:lnTo>
                  <a:lnTo>
                    <a:pt x="190" y="87"/>
                  </a:lnTo>
                  <a:lnTo>
                    <a:pt x="184" y="89"/>
                  </a:lnTo>
                  <a:lnTo>
                    <a:pt x="177" y="91"/>
                  </a:lnTo>
                  <a:lnTo>
                    <a:pt x="169" y="93"/>
                  </a:lnTo>
                  <a:lnTo>
                    <a:pt x="161" y="93"/>
                  </a:lnTo>
                  <a:lnTo>
                    <a:pt x="152" y="95"/>
                  </a:lnTo>
                  <a:lnTo>
                    <a:pt x="142" y="96"/>
                  </a:lnTo>
                  <a:lnTo>
                    <a:pt x="135" y="98"/>
                  </a:lnTo>
                  <a:lnTo>
                    <a:pt x="125" y="100"/>
                  </a:lnTo>
                  <a:lnTo>
                    <a:pt x="116" y="102"/>
                  </a:lnTo>
                  <a:lnTo>
                    <a:pt x="106" y="106"/>
                  </a:lnTo>
                  <a:lnTo>
                    <a:pt x="97" y="112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64" y="127"/>
                  </a:lnTo>
                  <a:lnTo>
                    <a:pt x="59" y="134"/>
                  </a:lnTo>
                  <a:lnTo>
                    <a:pt x="49" y="142"/>
                  </a:lnTo>
                  <a:lnTo>
                    <a:pt x="42" y="153"/>
                  </a:lnTo>
                  <a:lnTo>
                    <a:pt x="36" y="163"/>
                  </a:lnTo>
                  <a:lnTo>
                    <a:pt x="30" y="174"/>
                  </a:lnTo>
                  <a:lnTo>
                    <a:pt x="26" y="180"/>
                  </a:lnTo>
                  <a:lnTo>
                    <a:pt x="25" y="186"/>
                  </a:lnTo>
                  <a:lnTo>
                    <a:pt x="23" y="192"/>
                  </a:lnTo>
                  <a:lnTo>
                    <a:pt x="19" y="199"/>
                  </a:lnTo>
                  <a:lnTo>
                    <a:pt x="17" y="205"/>
                  </a:lnTo>
                  <a:lnTo>
                    <a:pt x="17" y="212"/>
                  </a:lnTo>
                  <a:lnTo>
                    <a:pt x="13" y="218"/>
                  </a:lnTo>
                  <a:lnTo>
                    <a:pt x="13" y="226"/>
                  </a:lnTo>
                  <a:lnTo>
                    <a:pt x="9" y="233"/>
                  </a:lnTo>
                  <a:lnTo>
                    <a:pt x="9" y="241"/>
                  </a:lnTo>
                  <a:lnTo>
                    <a:pt x="7" y="249"/>
                  </a:lnTo>
                  <a:lnTo>
                    <a:pt x="6" y="254"/>
                  </a:lnTo>
                  <a:lnTo>
                    <a:pt x="4" y="262"/>
                  </a:lnTo>
                  <a:lnTo>
                    <a:pt x="4" y="269"/>
                  </a:lnTo>
                  <a:lnTo>
                    <a:pt x="2" y="279"/>
                  </a:lnTo>
                  <a:lnTo>
                    <a:pt x="2" y="288"/>
                  </a:lnTo>
                  <a:lnTo>
                    <a:pt x="0" y="296"/>
                  </a:lnTo>
                  <a:lnTo>
                    <a:pt x="0" y="304"/>
                  </a:lnTo>
                  <a:lnTo>
                    <a:pt x="0" y="313"/>
                  </a:lnTo>
                  <a:lnTo>
                    <a:pt x="0" y="321"/>
                  </a:lnTo>
                  <a:lnTo>
                    <a:pt x="0" y="328"/>
                  </a:lnTo>
                  <a:lnTo>
                    <a:pt x="0" y="338"/>
                  </a:lnTo>
                  <a:lnTo>
                    <a:pt x="0" y="345"/>
                  </a:lnTo>
                  <a:lnTo>
                    <a:pt x="2" y="355"/>
                  </a:lnTo>
                  <a:lnTo>
                    <a:pt x="2" y="363"/>
                  </a:lnTo>
                  <a:lnTo>
                    <a:pt x="4" y="372"/>
                  </a:lnTo>
                  <a:lnTo>
                    <a:pt x="4" y="380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9" y="406"/>
                  </a:lnTo>
                  <a:lnTo>
                    <a:pt x="13" y="412"/>
                  </a:lnTo>
                  <a:lnTo>
                    <a:pt x="17" y="421"/>
                  </a:lnTo>
                  <a:lnTo>
                    <a:pt x="19" y="429"/>
                  </a:lnTo>
                  <a:lnTo>
                    <a:pt x="21" y="439"/>
                  </a:lnTo>
                  <a:lnTo>
                    <a:pt x="23" y="444"/>
                  </a:lnTo>
                  <a:lnTo>
                    <a:pt x="26" y="454"/>
                  </a:lnTo>
                  <a:lnTo>
                    <a:pt x="30" y="461"/>
                  </a:lnTo>
                  <a:lnTo>
                    <a:pt x="34" y="467"/>
                  </a:lnTo>
                  <a:lnTo>
                    <a:pt x="38" y="475"/>
                  </a:lnTo>
                  <a:lnTo>
                    <a:pt x="42" y="482"/>
                  </a:lnTo>
                  <a:lnTo>
                    <a:pt x="45" y="488"/>
                  </a:lnTo>
                  <a:lnTo>
                    <a:pt x="51" y="496"/>
                  </a:lnTo>
                  <a:lnTo>
                    <a:pt x="55" y="501"/>
                  </a:lnTo>
                  <a:lnTo>
                    <a:pt x="61" y="509"/>
                  </a:lnTo>
                  <a:lnTo>
                    <a:pt x="70" y="520"/>
                  </a:lnTo>
                  <a:lnTo>
                    <a:pt x="82" y="532"/>
                  </a:lnTo>
                  <a:lnTo>
                    <a:pt x="91" y="541"/>
                  </a:lnTo>
                  <a:lnTo>
                    <a:pt x="102" y="551"/>
                  </a:lnTo>
                  <a:lnTo>
                    <a:pt x="114" y="558"/>
                  </a:lnTo>
                  <a:lnTo>
                    <a:pt x="127" y="564"/>
                  </a:lnTo>
                  <a:lnTo>
                    <a:pt x="139" y="568"/>
                  </a:lnTo>
                  <a:lnTo>
                    <a:pt x="152" y="574"/>
                  </a:lnTo>
                  <a:lnTo>
                    <a:pt x="158" y="574"/>
                  </a:lnTo>
                  <a:lnTo>
                    <a:pt x="163" y="575"/>
                  </a:lnTo>
                  <a:lnTo>
                    <a:pt x="171" y="577"/>
                  </a:lnTo>
                  <a:lnTo>
                    <a:pt x="177" y="579"/>
                  </a:lnTo>
                  <a:lnTo>
                    <a:pt x="190" y="577"/>
                  </a:lnTo>
                  <a:lnTo>
                    <a:pt x="201" y="577"/>
                  </a:lnTo>
                  <a:lnTo>
                    <a:pt x="213" y="577"/>
                  </a:lnTo>
                  <a:lnTo>
                    <a:pt x="226" y="574"/>
                  </a:lnTo>
                  <a:lnTo>
                    <a:pt x="237" y="570"/>
                  </a:lnTo>
                  <a:lnTo>
                    <a:pt x="247" y="564"/>
                  </a:lnTo>
                  <a:lnTo>
                    <a:pt x="258" y="556"/>
                  </a:lnTo>
                  <a:lnTo>
                    <a:pt x="270" y="551"/>
                  </a:lnTo>
                  <a:lnTo>
                    <a:pt x="277" y="539"/>
                  </a:lnTo>
                  <a:lnTo>
                    <a:pt x="285" y="532"/>
                  </a:lnTo>
                  <a:lnTo>
                    <a:pt x="293" y="520"/>
                  </a:lnTo>
                  <a:lnTo>
                    <a:pt x="298" y="513"/>
                  </a:lnTo>
                  <a:lnTo>
                    <a:pt x="306" y="503"/>
                  </a:lnTo>
                  <a:lnTo>
                    <a:pt x="312" y="494"/>
                  </a:lnTo>
                  <a:lnTo>
                    <a:pt x="317" y="482"/>
                  </a:lnTo>
                  <a:lnTo>
                    <a:pt x="323" y="475"/>
                  </a:lnTo>
                  <a:lnTo>
                    <a:pt x="327" y="465"/>
                  </a:lnTo>
                  <a:lnTo>
                    <a:pt x="331" y="458"/>
                  </a:lnTo>
                  <a:lnTo>
                    <a:pt x="336" y="448"/>
                  </a:lnTo>
                  <a:lnTo>
                    <a:pt x="342" y="441"/>
                  </a:lnTo>
                  <a:lnTo>
                    <a:pt x="344" y="431"/>
                  </a:lnTo>
                  <a:lnTo>
                    <a:pt x="350" y="423"/>
                  </a:lnTo>
                  <a:lnTo>
                    <a:pt x="353" y="416"/>
                  </a:lnTo>
                  <a:lnTo>
                    <a:pt x="357" y="410"/>
                  </a:lnTo>
                  <a:lnTo>
                    <a:pt x="361" y="402"/>
                  </a:lnTo>
                  <a:lnTo>
                    <a:pt x="367" y="397"/>
                  </a:lnTo>
                  <a:lnTo>
                    <a:pt x="371" y="393"/>
                  </a:lnTo>
                  <a:lnTo>
                    <a:pt x="376" y="389"/>
                  </a:lnTo>
                  <a:lnTo>
                    <a:pt x="382" y="385"/>
                  </a:lnTo>
                  <a:lnTo>
                    <a:pt x="388" y="383"/>
                  </a:lnTo>
                  <a:lnTo>
                    <a:pt x="395" y="380"/>
                  </a:lnTo>
                  <a:lnTo>
                    <a:pt x="403" y="380"/>
                  </a:lnTo>
                  <a:lnTo>
                    <a:pt x="409" y="376"/>
                  </a:lnTo>
                  <a:lnTo>
                    <a:pt x="414" y="376"/>
                  </a:lnTo>
                  <a:lnTo>
                    <a:pt x="424" y="376"/>
                  </a:lnTo>
                  <a:lnTo>
                    <a:pt x="431" y="376"/>
                  </a:lnTo>
                  <a:lnTo>
                    <a:pt x="441" y="374"/>
                  </a:lnTo>
                  <a:lnTo>
                    <a:pt x="450" y="374"/>
                  </a:lnTo>
                  <a:lnTo>
                    <a:pt x="462" y="374"/>
                  </a:lnTo>
                  <a:lnTo>
                    <a:pt x="473" y="374"/>
                  </a:lnTo>
                  <a:lnTo>
                    <a:pt x="485" y="370"/>
                  </a:lnTo>
                  <a:lnTo>
                    <a:pt x="498" y="366"/>
                  </a:lnTo>
                  <a:lnTo>
                    <a:pt x="509" y="363"/>
                  </a:lnTo>
                  <a:lnTo>
                    <a:pt x="521" y="359"/>
                  </a:lnTo>
                  <a:lnTo>
                    <a:pt x="534" y="351"/>
                  </a:lnTo>
                  <a:lnTo>
                    <a:pt x="545" y="345"/>
                  </a:lnTo>
                  <a:lnTo>
                    <a:pt x="557" y="338"/>
                  </a:lnTo>
                  <a:lnTo>
                    <a:pt x="568" y="332"/>
                  </a:lnTo>
                  <a:lnTo>
                    <a:pt x="578" y="323"/>
                  </a:lnTo>
                  <a:lnTo>
                    <a:pt x="589" y="313"/>
                  </a:lnTo>
                  <a:lnTo>
                    <a:pt x="597" y="302"/>
                  </a:lnTo>
                  <a:lnTo>
                    <a:pt x="606" y="292"/>
                  </a:lnTo>
                  <a:lnTo>
                    <a:pt x="614" y="281"/>
                  </a:lnTo>
                  <a:lnTo>
                    <a:pt x="621" y="269"/>
                  </a:lnTo>
                  <a:lnTo>
                    <a:pt x="627" y="258"/>
                  </a:lnTo>
                  <a:lnTo>
                    <a:pt x="635" y="245"/>
                  </a:lnTo>
                  <a:lnTo>
                    <a:pt x="637" y="239"/>
                  </a:lnTo>
                  <a:lnTo>
                    <a:pt x="639" y="231"/>
                  </a:lnTo>
                  <a:lnTo>
                    <a:pt x="641" y="226"/>
                  </a:lnTo>
                  <a:lnTo>
                    <a:pt x="642" y="218"/>
                  </a:lnTo>
                  <a:lnTo>
                    <a:pt x="642" y="212"/>
                  </a:lnTo>
                  <a:lnTo>
                    <a:pt x="642" y="205"/>
                  </a:lnTo>
                  <a:lnTo>
                    <a:pt x="644" y="197"/>
                  </a:lnTo>
                  <a:lnTo>
                    <a:pt x="646" y="192"/>
                  </a:lnTo>
                  <a:lnTo>
                    <a:pt x="646" y="184"/>
                  </a:lnTo>
                  <a:lnTo>
                    <a:pt x="646" y="176"/>
                  </a:lnTo>
                  <a:lnTo>
                    <a:pt x="646" y="171"/>
                  </a:lnTo>
                  <a:lnTo>
                    <a:pt x="646" y="163"/>
                  </a:lnTo>
                  <a:lnTo>
                    <a:pt x="644" y="155"/>
                  </a:lnTo>
                  <a:lnTo>
                    <a:pt x="642" y="148"/>
                  </a:lnTo>
                  <a:lnTo>
                    <a:pt x="642" y="142"/>
                  </a:lnTo>
                  <a:lnTo>
                    <a:pt x="642" y="134"/>
                  </a:lnTo>
                  <a:lnTo>
                    <a:pt x="641" y="129"/>
                  </a:lnTo>
                  <a:lnTo>
                    <a:pt x="637" y="121"/>
                  </a:lnTo>
                  <a:lnTo>
                    <a:pt x="635" y="114"/>
                  </a:lnTo>
                  <a:lnTo>
                    <a:pt x="633" y="106"/>
                  </a:lnTo>
                  <a:lnTo>
                    <a:pt x="627" y="93"/>
                  </a:lnTo>
                  <a:lnTo>
                    <a:pt x="621" y="83"/>
                  </a:lnTo>
                  <a:lnTo>
                    <a:pt x="612" y="70"/>
                  </a:lnTo>
                  <a:lnTo>
                    <a:pt x="604" y="60"/>
                  </a:lnTo>
                  <a:lnTo>
                    <a:pt x="595" y="51"/>
                  </a:lnTo>
                  <a:lnTo>
                    <a:pt x="585" y="45"/>
                  </a:lnTo>
                  <a:lnTo>
                    <a:pt x="574" y="36"/>
                  </a:lnTo>
                  <a:lnTo>
                    <a:pt x="563" y="30"/>
                  </a:lnTo>
                  <a:lnTo>
                    <a:pt x="549" y="24"/>
                  </a:lnTo>
                  <a:lnTo>
                    <a:pt x="540" y="20"/>
                  </a:lnTo>
                  <a:lnTo>
                    <a:pt x="528" y="17"/>
                  </a:lnTo>
                  <a:lnTo>
                    <a:pt x="517" y="13"/>
                  </a:lnTo>
                  <a:lnTo>
                    <a:pt x="506" y="11"/>
                  </a:lnTo>
                  <a:lnTo>
                    <a:pt x="496" y="11"/>
                  </a:lnTo>
                  <a:lnTo>
                    <a:pt x="487" y="9"/>
                  </a:lnTo>
                  <a:lnTo>
                    <a:pt x="475" y="7"/>
                  </a:lnTo>
                  <a:lnTo>
                    <a:pt x="467" y="7"/>
                  </a:lnTo>
                  <a:lnTo>
                    <a:pt x="462" y="7"/>
                  </a:lnTo>
                  <a:lnTo>
                    <a:pt x="452" y="5"/>
                  </a:lnTo>
                  <a:lnTo>
                    <a:pt x="450" y="7"/>
                  </a:lnTo>
                  <a:lnTo>
                    <a:pt x="450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 flipV="1" rot="20995800">
              <a:off x="6991560" y="4057920"/>
              <a:ext cx="479520" cy="258480"/>
            </a:xfrm>
            <a:custGeom>
              <a:avLst/>
              <a:gdLst/>
              <a:ahLst/>
              <a:rect l="l" t="t" r="r" b="b"/>
              <a:pathLst>
                <a:path w="730" h="446">
                  <a:moveTo>
                    <a:pt x="36" y="382"/>
                  </a:moveTo>
                  <a:lnTo>
                    <a:pt x="34" y="380"/>
                  </a:lnTo>
                  <a:lnTo>
                    <a:pt x="32" y="376"/>
                  </a:lnTo>
                  <a:lnTo>
                    <a:pt x="30" y="368"/>
                  </a:lnTo>
                  <a:lnTo>
                    <a:pt x="28" y="363"/>
                  </a:lnTo>
                  <a:lnTo>
                    <a:pt x="24" y="351"/>
                  </a:lnTo>
                  <a:lnTo>
                    <a:pt x="21" y="340"/>
                  </a:lnTo>
                  <a:lnTo>
                    <a:pt x="19" y="334"/>
                  </a:lnTo>
                  <a:lnTo>
                    <a:pt x="17" y="327"/>
                  </a:lnTo>
                  <a:lnTo>
                    <a:pt x="15" y="321"/>
                  </a:lnTo>
                  <a:lnTo>
                    <a:pt x="13" y="313"/>
                  </a:lnTo>
                  <a:lnTo>
                    <a:pt x="11" y="306"/>
                  </a:lnTo>
                  <a:lnTo>
                    <a:pt x="9" y="298"/>
                  </a:lnTo>
                  <a:lnTo>
                    <a:pt x="7" y="289"/>
                  </a:lnTo>
                  <a:lnTo>
                    <a:pt x="7" y="281"/>
                  </a:lnTo>
                  <a:lnTo>
                    <a:pt x="4" y="272"/>
                  </a:lnTo>
                  <a:lnTo>
                    <a:pt x="4" y="264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0" y="237"/>
                  </a:lnTo>
                  <a:lnTo>
                    <a:pt x="0" y="230"/>
                  </a:lnTo>
                  <a:lnTo>
                    <a:pt x="0" y="220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2" y="196"/>
                  </a:lnTo>
                  <a:lnTo>
                    <a:pt x="4" y="184"/>
                  </a:lnTo>
                  <a:lnTo>
                    <a:pt x="5" y="178"/>
                  </a:lnTo>
                  <a:lnTo>
                    <a:pt x="5" y="169"/>
                  </a:lnTo>
                  <a:lnTo>
                    <a:pt x="7" y="159"/>
                  </a:lnTo>
                  <a:lnTo>
                    <a:pt x="11" y="152"/>
                  </a:lnTo>
                  <a:lnTo>
                    <a:pt x="15" y="146"/>
                  </a:lnTo>
                  <a:lnTo>
                    <a:pt x="17" y="138"/>
                  </a:lnTo>
                  <a:lnTo>
                    <a:pt x="21" y="131"/>
                  </a:lnTo>
                  <a:lnTo>
                    <a:pt x="26" y="125"/>
                  </a:lnTo>
                  <a:lnTo>
                    <a:pt x="32" y="119"/>
                  </a:lnTo>
                  <a:lnTo>
                    <a:pt x="42" y="108"/>
                  </a:lnTo>
                  <a:lnTo>
                    <a:pt x="55" y="99"/>
                  </a:lnTo>
                  <a:lnTo>
                    <a:pt x="61" y="93"/>
                  </a:lnTo>
                  <a:lnTo>
                    <a:pt x="68" y="89"/>
                  </a:lnTo>
                  <a:lnTo>
                    <a:pt x="74" y="85"/>
                  </a:lnTo>
                  <a:lnTo>
                    <a:pt x="83" y="81"/>
                  </a:lnTo>
                  <a:lnTo>
                    <a:pt x="91" y="78"/>
                  </a:lnTo>
                  <a:lnTo>
                    <a:pt x="97" y="74"/>
                  </a:lnTo>
                  <a:lnTo>
                    <a:pt x="104" y="70"/>
                  </a:lnTo>
                  <a:lnTo>
                    <a:pt x="114" y="66"/>
                  </a:lnTo>
                  <a:lnTo>
                    <a:pt x="121" y="62"/>
                  </a:lnTo>
                  <a:lnTo>
                    <a:pt x="129" y="59"/>
                  </a:lnTo>
                  <a:lnTo>
                    <a:pt x="139" y="57"/>
                  </a:lnTo>
                  <a:lnTo>
                    <a:pt x="148" y="55"/>
                  </a:lnTo>
                  <a:lnTo>
                    <a:pt x="156" y="51"/>
                  </a:lnTo>
                  <a:lnTo>
                    <a:pt x="165" y="49"/>
                  </a:lnTo>
                  <a:lnTo>
                    <a:pt x="171" y="45"/>
                  </a:lnTo>
                  <a:lnTo>
                    <a:pt x="180" y="43"/>
                  </a:lnTo>
                  <a:lnTo>
                    <a:pt x="190" y="40"/>
                  </a:lnTo>
                  <a:lnTo>
                    <a:pt x="197" y="38"/>
                  </a:lnTo>
                  <a:lnTo>
                    <a:pt x="207" y="36"/>
                  </a:lnTo>
                  <a:lnTo>
                    <a:pt x="216" y="34"/>
                  </a:lnTo>
                  <a:lnTo>
                    <a:pt x="222" y="30"/>
                  </a:lnTo>
                  <a:lnTo>
                    <a:pt x="232" y="30"/>
                  </a:lnTo>
                  <a:lnTo>
                    <a:pt x="239" y="26"/>
                  </a:lnTo>
                  <a:lnTo>
                    <a:pt x="249" y="24"/>
                  </a:lnTo>
                  <a:lnTo>
                    <a:pt x="254" y="23"/>
                  </a:lnTo>
                  <a:lnTo>
                    <a:pt x="264" y="21"/>
                  </a:lnTo>
                  <a:lnTo>
                    <a:pt x="272" y="19"/>
                  </a:lnTo>
                  <a:lnTo>
                    <a:pt x="281" y="19"/>
                  </a:lnTo>
                  <a:lnTo>
                    <a:pt x="289" y="17"/>
                  </a:lnTo>
                  <a:lnTo>
                    <a:pt x="296" y="15"/>
                  </a:lnTo>
                  <a:lnTo>
                    <a:pt x="306" y="13"/>
                  </a:lnTo>
                  <a:lnTo>
                    <a:pt x="313" y="13"/>
                  </a:lnTo>
                  <a:lnTo>
                    <a:pt x="321" y="11"/>
                  </a:lnTo>
                  <a:lnTo>
                    <a:pt x="331" y="11"/>
                  </a:lnTo>
                  <a:lnTo>
                    <a:pt x="338" y="9"/>
                  </a:lnTo>
                  <a:lnTo>
                    <a:pt x="348" y="9"/>
                  </a:lnTo>
                  <a:lnTo>
                    <a:pt x="353" y="7"/>
                  </a:lnTo>
                  <a:lnTo>
                    <a:pt x="363" y="7"/>
                  </a:lnTo>
                  <a:lnTo>
                    <a:pt x="370" y="5"/>
                  </a:lnTo>
                  <a:lnTo>
                    <a:pt x="378" y="5"/>
                  </a:lnTo>
                  <a:lnTo>
                    <a:pt x="386" y="4"/>
                  </a:lnTo>
                  <a:lnTo>
                    <a:pt x="393" y="4"/>
                  </a:lnTo>
                  <a:lnTo>
                    <a:pt x="403" y="4"/>
                  </a:lnTo>
                  <a:lnTo>
                    <a:pt x="410" y="4"/>
                  </a:lnTo>
                  <a:lnTo>
                    <a:pt x="418" y="2"/>
                  </a:lnTo>
                  <a:lnTo>
                    <a:pt x="426" y="2"/>
                  </a:lnTo>
                  <a:lnTo>
                    <a:pt x="435" y="2"/>
                  </a:lnTo>
                  <a:lnTo>
                    <a:pt x="443" y="2"/>
                  </a:lnTo>
                  <a:lnTo>
                    <a:pt x="450" y="2"/>
                  </a:lnTo>
                  <a:lnTo>
                    <a:pt x="458" y="2"/>
                  </a:lnTo>
                  <a:lnTo>
                    <a:pt x="467" y="2"/>
                  </a:lnTo>
                  <a:lnTo>
                    <a:pt x="475" y="2"/>
                  </a:lnTo>
                  <a:lnTo>
                    <a:pt x="483" y="0"/>
                  </a:lnTo>
                  <a:lnTo>
                    <a:pt x="490" y="0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11" y="0"/>
                  </a:lnTo>
                  <a:lnTo>
                    <a:pt x="519" y="0"/>
                  </a:lnTo>
                  <a:lnTo>
                    <a:pt x="524" y="0"/>
                  </a:lnTo>
                  <a:lnTo>
                    <a:pt x="534" y="2"/>
                  </a:lnTo>
                  <a:lnTo>
                    <a:pt x="542" y="2"/>
                  </a:lnTo>
                  <a:lnTo>
                    <a:pt x="547" y="2"/>
                  </a:lnTo>
                  <a:lnTo>
                    <a:pt x="555" y="2"/>
                  </a:lnTo>
                  <a:lnTo>
                    <a:pt x="562" y="4"/>
                  </a:lnTo>
                  <a:lnTo>
                    <a:pt x="568" y="4"/>
                  </a:lnTo>
                  <a:lnTo>
                    <a:pt x="576" y="5"/>
                  </a:lnTo>
                  <a:lnTo>
                    <a:pt x="583" y="7"/>
                  </a:lnTo>
                  <a:lnTo>
                    <a:pt x="589" y="9"/>
                  </a:lnTo>
                  <a:lnTo>
                    <a:pt x="602" y="13"/>
                  </a:lnTo>
                  <a:lnTo>
                    <a:pt x="616" y="17"/>
                  </a:lnTo>
                  <a:lnTo>
                    <a:pt x="627" y="23"/>
                  </a:lnTo>
                  <a:lnTo>
                    <a:pt x="640" y="30"/>
                  </a:lnTo>
                  <a:lnTo>
                    <a:pt x="650" y="36"/>
                  </a:lnTo>
                  <a:lnTo>
                    <a:pt x="663" y="45"/>
                  </a:lnTo>
                  <a:lnTo>
                    <a:pt x="673" y="57"/>
                  </a:lnTo>
                  <a:lnTo>
                    <a:pt x="686" y="68"/>
                  </a:lnTo>
                  <a:lnTo>
                    <a:pt x="694" y="80"/>
                  </a:lnTo>
                  <a:lnTo>
                    <a:pt x="701" y="93"/>
                  </a:lnTo>
                  <a:lnTo>
                    <a:pt x="705" y="99"/>
                  </a:lnTo>
                  <a:lnTo>
                    <a:pt x="709" y="106"/>
                  </a:lnTo>
                  <a:lnTo>
                    <a:pt x="713" y="114"/>
                  </a:lnTo>
                  <a:lnTo>
                    <a:pt x="716" y="119"/>
                  </a:lnTo>
                  <a:lnTo>
                    <a:pt x="718" y="127"/>
                  </a:lnTo>
                  <a:lnTo>
                    <a:pt x="720" y="135"/>
                  </a:lnTo>
                  <a:lnTo>
                    <a:pt x="722" y="142"/>
                  </a:lnTo>
                  <a:lnTo>
                    <a:pt x="724" y="150"/>
                  </a:lnTo>
                  <a:lnTo>
                    <a:pt x="724" y="156"/>
                  </a:lnTo>
                  <a:lnTo>
                    <a:pt x="728" y="165"/>
                  </a:lnTo>
                  <a:lnTo>
                    <a:pt x="728" y="173"/>
                  </a:lnTo>
                  <a:lnTo>
                    <a:pt x="730" y="180"/>
                  </a:lnTo>
                  <a:lnTo>
                    <a:pt x="730" y="188"/>
                  </a:lnTo>
                  <a:lnTo>
                    <a:pt x="730" y="196"/>
                  </a:lnTo>
                  <a:lnTo>
                    <a:pt x="730" y="203"/>
                  </a:lnTo>
                  <a:lnTo>
                    <a:pt x="730" y="211"/>
                  </a:lnTo>
                  <a:lnTo>
                    <a:pt x="728" y="218"/>
                  </a:lnTo>
                  <a:lnTo>
                    <a:pt x="728" y="226"/>
                  </a:lnTo>
                  <a:lnTo>
                    <a:pt x="726" y="234"/>
                  </a:lnTo>
                  <a:lnTo>
                    <a:pt x="726" y="243"/>
                  </a:lnTo>
                  <a:lnTo>
                    <a:pt x="724" y="249"/>
                  </a:lnTo>
                  <a:lnTo>
                    <a:pt x="722" y="258"/>
                  </a:lnTo>
                  <a:lnTo>
                    <a:pt x="720" y="266"/>
                  </a:lnTo>
                  <a:lnTo>
                    <a:pt x="718" y="273"/>
                  </a:lnTo>
                  <a:lnTo>
                    <a:pt x="715" y="281"/>
                  </a:lnTo>
                  <a:lnTo>
                    <a:pt x="715" y="289"/>
                  </a:lnTo>
                  <a:lnTo>
                    <a:pt x="711" y="294"/>
                  </a:lnTo>
                  <a:lnTo>
                    <a:pt x="709" y="304"/>
                  </a:lnTo>
                  <a:lnTo>
                    <a:pt x="705" y="310"/>
                  </a:lnTo>
                  <a:lnTo>
                    <a:pt x="701" y="317"/>
                  </a:lnTo>
                  <a:lnTo>
                    <a:pt x="696" y="323"/>
                  </a:lnTo>
                  <a:lnTo>
                    <a:pt x="692" y="330"/>
                  </a:lnTo>
                  <a:lnTo>
                    <a:pt x="686" y="336"/>
                  </a:lnTo>
                  <a:lnTo>
                    <a:pt x="680" y="344"/>
                  </a:lnTo>
                  <a:lnTo>
                    <a:pt x="673" y="351"/>
                  </a:lnTo>
                  <a:lnTo>
                    <a:pt x="667" y="359"/>
                  </a:lnTo>
                  <a:lnTo>
                    <a:pt x="659" y="365"/>
                  </a:lnTo>
                  <a:lnTo>
                    <a:pt x="652" y="372"/>
                  </a:lnTo>
                  <a:lnTo>
                    <a:pt x="644" y="378"/>
                  </a:lnTo>
                  <a:lnTo>
                    <a:pt x="635" y="384"/>
                  </a:lnTo>
                  <a:lnTo>
                    <a:pt x="625" y="391"/>
                  </a:lnTo>
                  <a:lnTo>
                    <a:pt x="618" y="397"/>
                  </a:lnTo>
                  <a:lnTo>
                    <a:pt x="608" y="403"/>
                  </a:lnTo>
                  <a:lnTo>
                    <a:pt x="601" y="408"/>
                  </a:lnTo>
                  <a:lnTo>
                    <a:pt x="589" y="414"/>
                  </a:lnTo>
                  <a:lnTo>
                    <a:pt x="582" y="418"/>
                  </a:lnTo>
                  <a:lnTo>
                    <a:pt x="570" y="422"/>
                  </a:lnTo>
                  <a:lnTo>
                    <a:pt x="562" y="427"/>
                  </a:lnTo>
                  <a:lnTo>
                    <a:pt x="553" y="429"/>
                  </a:lnTo>
                  <a:lnTo>
                    <a:pt x="543" y="433"/>
                  </a:lnTo>
                  <a:lnTo>
                    <a:pt x="534" y="437"/>
                  </a:lnTo>
                  <a:lnTo>
                    <a:pt x="526" y="441"/>
                  </a:lnTo>
                  <a:lnTo>
                    <a:pt x="517" y="443"/>
                  </a:lnTo>
                  <a:lnTo>
                    <a:pt x="509" y="445"/>
                  </a:lnTo>
                  <a:lnTo>
                    <a:pt x="500" y="446"/>
                  </a:lnTo>
                  <a:lnTo>
                    <a:pt x="492" y="446"/>
                  </a:lnTo>
                  <a:lnTo>
                    <a:pt x="486" y="446"/>
                  </a:lnTo>
                  <a:lnTo>
                    <a:pt x="479" y="446"/>
                  </a:lnTo>
                  <a:lnTo>
                    <a:pt x="471" y="446"/>
                  </a:lnTo>
                  <a:lnTo>
                    <a:pt x="466" y="446"/>
                  </a:lnTo>
                  <a:lnTo>
                    <a:pt x="452" y="443"/>
                  </a:lnTo>
                  <a:lnTo>
                    <a:pt x="441" y="437"/>
                  </a:lnTo>
                  <a:lnTo>
                    <a:pt x="429" y="431"/>
                  </a:lnTo>
                  <a:lnTo>
                    <a:pt x="420" y="427"/>
                  </a:lnTo>
                  <a:lnTo>
                    <a:pt x="408" y="420"/>
                  </a:lnTo>
                  <a:lnTo>
                    <a:pt x="399" y="414"/>
                  </a:lnTo>
                  <a:lnTo>
                    <a:pt x="389" y="406"/>
                  </a:lnTo>
                  <a:lnTo>
                    <a:pt x="384" y="403"/>
                  </a:lnTo>
                  <a:lnTo>
                    <a:pt x="374" y="395"/>
                  </a:lnTo>
                  <a:lnTo>
                    <a:pt x="365" y="391"/>
                  </a:lnTo>
                  <a:lnTo>
                    <a:pt x="357" y="386"/>
                  </a:lnTo>
                  <a:lnTo>
                    <a:pt x="350" y="382"/>
                  </a:lnTo>
                  <a:lnTo>
                    <a:pt x="342" y="378"/>
                  </a:lnTo>
                  <a:lnTo>
                    <a:pt x="334" y="376"/>
                  </a:lnTo>
                  <a:lnTo>
                    <a:pt x="327" y="374"/>
                  </a:lnTo>
                  <a:lnTo>
                    <a:pt x="319" y="376"/>
                  </a:lnTo>
                  <a:lnTo>
                    <a:pt x="310" y="376"/>
                  </a:lnTo>
                  <a:lnTo>
                    <a:pt x="304" y="378"/>
                  </a:lnTo>
                  <a:lnTo>
                    <a:pt x="296" y="382"/>
                  </a:lnTo>
                  <a:lnTo>
                    <a:pt x="291" y="386"/>
                  </a:lnTo>
                  <a:lnTo>
                    <a:pt x="277" y="393"/>
                  </a:lnTo>
                  <a:lnTo>
                    <a:pt x="264" y="405"/>
                  </a:lnTo>
                  <a:lnTo>
                    <a:pt x="258" y="406"/>
                  </a:lnTo>
                  <a:lnTo>
                    <a:pt x="251" y="414"/>
                  </a:lnTo>
                  <a:lnTo>
                    <a:pt x="241" y="418"/>
                  </a:lnTo>
                  <a:lnTo>
                    <a:pt x="235" y="424"/>
                  </a:lnTo>
                  <a:lnTo>
                    <a:pt x="224" y="429"/>
                  </a:lnTo>
                  <a:lnTo>
                    <a:pt x="215" y="433"/>
                  </a:lnTo>
                  <a:lnTo>
                    <a:pt x="203" y="439"/>
                  </a:lnTo>
                  <a:lnTo>
                    <a:pt x="190" y="443"/>
                  </a:lnTo>
                  <a:lnTo>
                    <a:pt x="184" y="445"/>
                  </a:lnTo>
                  <a:lnTo>
                    <a:pt x="177" y="446"/>
                  </a:lnTo>
                  <a:lnTo>
                    <a:pt x="169" y="446"/>
                  </a:lnTo>
                  <a:lnTo>
                    <a:pt x="163" y="446"/>
                  </a:lnTo>
                  <a:lnTo>
                    <a:pt x="156" y="446"/>
                  </a:lnTo>
                  <a:lnTo>
                    <a:pt x="150" y="446"/>
                  </a:lnTo>
                  <a:lnTo>
                    <a:pt x="142" y="445"/>
                  </a:lnTo>
                  <a:lnTo>
                    <a:pt x="137" y="443"/>
                  </a:lnTo>
                  <a:lnTo>
                    <a:pt x="129" y="441"/>
                  </a:lnTo>
                  <a:lnTo>
                    <a:pt x="123" y="439"/>
                  </a:lnTo>
                  <a:lnTo>
                    <a:pt x="116" y="437"/>
                  </a:lnTo>
                  <a:lnTo>
                    <a:pt x="110" y="433"/>
                  </a:lnTo>
                  <a:lnTo>
                    <a:pt x="97" y="427"/>
                  </a:lnTo>
                  <a:lnTo>
                    <a:pt x="87" y="422"/>
                  </a:lnTo>
                  <a:lnTo>
                    <a:pt x="74" y="414"/>
                  </a:lnTo>
                  <a:lnTo>
                    <a:pt x="64" y="406"/>
                  </a:lnTo>
                  <a:lnTo>
                    <a:pt x="55" y="401"/>
                  </a:lnTo>
                  <a:lnTo>
                    <a:pt x="49" y="395"/>
                  </a:lnTo>
                  <a:lnTo>
                    <a:pt x="43" y="387"/>
                  </a:lnTo>
                  <a:lnTo>
                    <a:pt x="40" y="384"/>
                  </a:lnTo>
                  <a:lnTo>
                    <a:pt x="36" y="382"/>
                  </a:lnTo>
                  <a:lnTo>
                    <a:pt x="36" y="382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 flipV="1" rot="20995800">
              <a:off x="6460200" y="4121280"/>
              <a:ext cx="472680" cy="286200"/>
            </a:xfrm>
            <a:custGeom>
              <a:avLst/>
              <a:gdLst/>
              <a:ahLst/>
              <a:rect l="l" t="t" r="r" b="b"/>
              <a:pathLst>
                <a:path w="718" h="497">
                  <a:moveTo>
                    <a:pt x="304" y="54"/>
                  </a:moveTo>
                  <a:lnTo>
                    <a:pt x="302" y="54"/>
                  </a:lnTo>
                  <a:lnTo>
                    <a:pt x="300" y="52"/>
                  </a:lnTo>
                  <a:lnTo>
                    <a:pt x="294" y="48"/>
                  </a:lnTo>
                  <a:lnTo>
                    <a:pt x="287" y="46"/>
                  </a:lnTo>
                  <a:lnTo>
                    <a:pt x="277" y="40"/>
                  </a:lnTo>
                  <a:lnTo>
                    <a:pt x="270" y="37"/>
                  </a:lnTo>
                  <a:lnTo>
                    <a:pt x="258" y="31"/>
                  </a:lnTo>
                  <a:lnTo>
                    <a:pt x="249" y="29"/>
                  </a:lnTo>
                  <a:lnTo>
                    <a:pt x="235" y="21"/>
                  </a:lnTo>
                  <a:lnTo>
                    <a:pt x="224" y="18"/>
                  </a:lnTo>
                  <a:lnTo>
                    <a:pt x="211" y="12"/>
                  </a:lnTo>
                  <a:lnTo>
                    <a:pt x="197" y="8"/>
                  </a:lnTo>
                  <a:lnTo>
                    <a:pt x="184" y="6"/>
                  </a:lnTo>
                  <a:lnTo>
                    <a:pt x="173" y="2"/>
                  </a:lnTo>
                  <a:lnTo>
                    <a:pt x="161" y="2"/>
                  </a:lnTo>
                  <a:lnTo>
                    <a:pt x="152" y="2"/>
                  </a:lnTo>
                  <a:lnTo>
                    <a:pt x="140" y="0"/>
                  </a:lnTo>
                  <a:lnTo>
                    <a:pt x="133" y="2"/>
                  </a:lnTo>
                  <a:lnTo>
                    <a:pt x="123" y="4"/>
                  </a:lnTo>
                  <a:lnTo>
                    <a:pt x="118" y="8"/>
                  </a:lnTo>
                  <a:lnTo>
                    <a:pt x="110" y="12"/>
                  </a:lnTo>
                  <a:lnTo>
                    <a:pt x="104" y="18"/>
                  </a:lnTo>
                  <a:lnTo>
                    <a:pt x="99" y="23"/>
                  </a:lnTo>
                  <a:lnTo>
                    <a:pt x="95" y="31"/>
                  </a:lnTo>
                  <a:lnTo>
                    <a:pt x="89" y="38"/>
                  </a:lnTo>
                  <a:lnTo>
                    <a:pt x="85" y="44"/>
                  </a:lnTo>
                  <a:lnTo>
                    <a:pt x="80" y="54"/>
                  </a:lnTo>
                  <a:lnTo>
                    <a:pt x="76" y="63"/>
                  </a:lnTo>
                  <a:lnTo>
                    <a:pt x="72" y="73"/>
                  </a:lnTo>
                  <a:lnTo>
                    <a:pt x="68" y="84"/>
                  </a:lnTo>
                  <a:lnTo>
                    <a:pt x="64" y="95"/>
                  </a:lnTo>
                  <a:lnTo>
                    <a:pt x="60" y="105"/>
                  </a:lnTo>
                  <a:lnTo>
                    <a:pt x="55" y="116"/>
                  </a:lnTo>
                  <a:lnTo>
                    <a:pt x="49" y="128"/>
                  </a:lnTo>
                  <a:lnTo>
                    <a:pt x="43" y="137"/>
                  </a:lnTo>
                  <a:lnTo>
                    <a:pt x="38" y="151"/>
                  </a:lnTo>
                  <a:lnTo>
                    <a:pt x="30" y="160"/>
                  </a:lnTo>
                  <a:lnTo>
                    <a:pt x="26" y="173"/>
                  </a:lnTo>
                  <a:lnTo>
                    <a:pt x="21" y="185"/>
                  </a:lnTo>
                  <a:lnTo>
                    <a:pt x="17" y="198"/>
                  </a:lnTo>
                  <a:lnTo>
                    <a:pt x="11" y="210"/>
                  </a:lnTo>
                  <a:lnTo>
                    <a:pt x="7" y="223"/>
                  </a:lnTo>
                  <a:lnTo>
                    <a:pt x="5" y="234"/>
                  </a:lnTo>
                  <a:lnTo>
                    <a:pt x="2" y="248"/>
                  </a:lnTo>
                  <a:lnTo>
                    <a:pt x="0" y="261"/>
                  </a:lnTo>
                  <a:lnTo>
                    <a:pt x="0" y="272"/>
                  </a:lnTo>
                  <a:lnTo>
                    <a:pt x="0" y="286"/>
                  </a:lnTo>
                  <a:lnTo>
                    <a:pt x="2" y="299"/>
                  </a:lnTo>
                  <a:lnTo>
                    <a:pt x="3" y="310"/>
                  </a:lnTo>
                  <a:lnTo>
                    <a:pt x="7" y="322"/>
                  </a:lnTo>
                  <a:lnTo>
                    <a:pt x="11" y="335"/>
                  </a:lnTo>
                  <a:lnTo>
                    <a:pt x="17" y="348"/>
                  </a:lnTo>
                  <a:lnTo>
                    <a:pt x="22" y="360"/>
                  </a:lnTo>
                  <a:lnTo>
                    <a:pt x="30" y="371"/>
                  </a:lnTo>
                  <a:lnTo>
                    <a:pt x="38" y="382"/>
                  </a:lnTo>
                  <a:lnTo>
                    <a:pt x="47" y="394"/>
                  </a:lnTo>
                  <a:lnTo>
                    <a:pt x="57" y="403"/>
                  </a:lnTo>
                  <a:lnTo>
                    <a:pt x="66" y="415"/>
                  </a:lnTo>
                  <a:lnTo>
                    <a:pt x="76" y="424"/>
                  </a:lnTo>
                  <a:lnTo>
                    <a:pt x="89" y="434"/>
                  </a:lnTo>
                  <a:lnTo>
                    <a:pt x="99" y="443"/>
                  </a:lnTo>
                  <a:lnTo>
                    <a:pt x="110" y="453"/>
                  </a:lnTo>
                  <a:lnTo>
                    <a:pt x="123" y="460"/>
                  </a:lnTo>
                  <a:lnTo>
                    <a:pt x="137" y="470"/>
                  </a:lnTo>
                  <a:lnTo>
                    <a:pt x="148" y="474"/>
                  </a:lnTo>
                  <a:lnTo>
                    <a:pt x="161" y="479"/>
                  </a:lnTo>
                  <a:lnTo>
                    <a:pt x="167" y="481"/>
                  </a:lnTo>
                  <a:lnTo>
                    <a:pt x="175" y="483"/>
                  </a:lnTo>
                  <a:lnTo>
                    <a:pt x="182" y="487"/>
                  </a:lnTo>
                  <a:lnTo>
                    <a:pt x="188" y="489"/>
                  </a:lnTo>
                  <a:lnTo>
                    <a:pt x="194" y="489"/>
                  </a:lnTo>
                  <a:lnTo>
                    <a:pt x="201" y="491"/>
                  </a:lnTo>
                  <a:lnTo>
                    <a:pt x="207" y="493"/>
                  </a:lnTo>
                  <a:lnTo>
                    <a:pt x="214" y="493"/>
                  </a:lnTo>
                  <a:lnTo>
                    <a:pt x="220" y="493"/>
                  </a:lnTo>
                  <a:lnTo>
                    <a:pt x="228" y="495"/>
                  </a:lnTo>
                  <a:lnTo>
                    <a:pt x="234" y="497"/>
                  </a:lnTo>
                  <a:lnTo>
                    <a:pt x="241" y="497"/>
                  </a:lnTo>
                  <a:lnTo>
                    <a:pt x="253" y="497"/>
                  </a:lnTo>
                  <a:lnTo>
                    <a:pt x="266" y="497"/>
                  </a:lnTo>
                  <a:lnTo>
                    <a:pt x="275" y="493"/>
                  </a:lnTo>
                  <a:lnTo>
                    <a:pt x="287" y="493"/>
                  </a:lnTo>
                  <a:lnTo>
                    <a:pt x="298" y="489"/>
                  </a:lnTo>
                  <a:lnTo>
                    <a:pt x="308" y="485"/>
                  </a:lnTo>
                  <a:lnTo>
                    <a:pt x="315" y="481"/>
                  </a:lnTo>
                  <a:lnTo>
                    <a:pt x="325" y="478"/>
                  </a:lnTo>
                  <a:lnTo>
                    <a:pt x="330" y="470"/>
                  </a:lnTo>
                  <a:lnTo>
                    <a:pt x="336" y="464"/>
                  </a:lnTo>
                  <a:lnTo>
                    <a:pt x="342" y="457"/>
                  </a:lnTo>
                  <a:lnTo>
                    <a:pt x="348" y="451"/>
                  </a:lnTo>
                  <a:lnTo>
                    <a:pt x="351" y="445"/>
                  </a:lnTo>
                  <a:lnTo>
                    <a:pt x="355" y="438"/>
                  </a:lnTo>
                  <a:lnTo>
                    <a:pt x="359" y="430"/>
                  </a:lnTo>
                  <a:lnTo>
                    <a:pt x="365" y="424"/>
                  </a:lnTo>
                  <a:lnTo>
                    <a:pt x="368" y="417"/>
                  </a:lnTo>
                  <a:lnTo>
                    <a:pt x="370" y="409"/>
                  </a:lnTo>
                  <a:lnTo>
                    <a:pt x="374" y="403"/>
                  </a:lnTo>
                  <a:lnTo>
                    <a:pt x="382" y="400"/>
                  </a:lnTo>
                  <a:lnTo>
                    <a:pt x="384" y="396"/>
                  </a:lnTo>
                  <a:lnTo>
                    <a:pt x="391" y="392"/>
                  </a:lnTo>
                  <a:lnTo>
                    <a:pt x="397" y="390"/>
                  </a:lnTo>
                  <a:lnTo>
                    <a:pt x="405" y="390"/>
                  </a:lnTo>
                  <a:lnTo>
                    <a:pt x="412" y="388"/>
                  </a:lnTo>
                  <a:lnTo>
                    <a:pt x="422" y="390"/>
                  </a:lnTo>
                  <a:lnTo>
                    <a:pt x="431" y="392"/>
                  </a:lnTo>
                  <a:lnTo>
                    <a:pt x="443" y="396"/>
                  </a:lnTo>
                  <a:lnTo>
                    <a:pt x="454" y="400"/>
                  </a:lnTo>
                  <a:lnTo>
                    <a:pt x="465" y="405"/>
                  </a:lnTo>
                  <a:lnTo>
                    <a:pt x="477" y="409"/>
                  </a:lnTo>
                  <a:lnTo>
                    <a:pt x="488" y="415"/>
                  </a:lnTo>
                  <a:lnTo>
                    <a:pt x="500" y="420"/>
                  </a:lnTo>
                  <a:lnTo>
                    <a:pt x="511" y="424"/>
                  </a:lnTo>
                  <a:lnTo>
                    <a:pt x="522" y="430"/>
                  </a:lnTo>
                  <a:lnTo>
                    <a:pt x="536" y="436"/>
                  </a:lnTo>
                  <a:lnTo>
                    <a:pt x="545" y="440"/>
                  </a:lnTo>
                  <a:lnTo>
                    <a:pt x="557" y="445"/>
                  </a:lnTo>
                  <a:lnTo>
                    <a:pt x="568" y="447"/>
                  </a:lnTo>
                  <a:lnTo>
                    <a:pt x="578" y="451"/>
                  </a:lnTo>
                  <a:lnTo>
                    <a:pt x="585" y="451"/>
                  </a:lnTo>
                  <a:lnTo>
                    <a:pt x="593" y="451"/>
                  </a:lnTo>
                  <a:lnTo>
                    <a:pt x="599" y="447"/>
                  </a:lnTo>
                  <a:lnTo>
                    <a:pt x="606" y="447"/>
                  </a:lnTo>
                  <a:lnTo>
                    <a:pt x="616" y="440"/>
                  </a:lnTo>
                  <a:lnTo>
                    <a:pt x="625" y="432"/>
                  </a:lnTo>
                  <a:lnTo>
                    <a:pt x="629" y="424"/>
                  </a:lnTo>
                  <a:lnTo>
                    <a:pt x="633" y="417"/>
                  </a:lnTo>
                  <a:lnTo>
                    <a:pt x="635" y="409"/>
                  </a:lnTo>
                  <a:lnTo>
                    <a:pt x="640" y="401"/>
                  </a:lnTo>
                  <a:lnTo>
                    <a:pt x="644" y="392"/>
                  </a:lnTo>
                  <a:lnTo>
                    <a:pt x="648" y="384"/>
                  </a:lnTo>
                  <a:lnTo>
                    <a:pt x="652" y="375"/>
                  </a:lnTo>
                  <a:lnTo>
                    <a:pt x="657" y="365"/>
                  </a:lnTo>
                  <a:lnTo>
                    <a:pt x="661" y="354"/>
                  </a:lnTo>
                  <a:lnTo>
                    <a:pt x="667" y="344"/>
                  </a:lnTo>
                  <a:lnTo>
                    <a:pt x="671" y="333"/>
                  </a:lnTo>
                  <a:lnTo>
                    <a:pt x="676" y="324"/>
                  </a:lnTo>
                  <a:lnTo>
                    <a:pt x="682" y="312"/>
                  </a:lnTo>
                  <a:lnTo>
                    <a:pt x="686" y="301"/>
                  </a:lnTo>
                  <a:lnTo>
                    <a:pt x="692" y="289"/>
                  </a:lnTo>
                  <a:lnTo>
                    <a:pt x="697" y="280"/>
                  </a:lnTo>
                  <a:lnTo>
                    <a:pt x="701" y="267"/>
                  </a:lnTo>
                  <a:lnTo>
                    <a:pt x="705" y="257"/>
                  </a:lnTo>
                  <a:lnTo>
                    <a:pt x="709" y="244"/>
                  </a:lnTo>
                  <a:lnTo>
                    <a:pt x="713" y="234"/>
                  </a:lnTo>
                  <a:lnTo>
                    <a:pt x="714" y="223"/>
                  </a:lnTo>
                  <a:lnTo>
                    <a:pt x="716" y="211"/>
                  </a:lnTo>
                  <a:lnTo>
                    <a:pt x="718" y="202"/>
                  </a:lnTo>
                  <a:lnTo>
                    <a:pt x="718" y="192"/>
                  </a:lnTo>
                  <a:lnTo>
                    <a:pt x="716" y="181"/>
                  </a:lnTo>
                  <a:lnTo>
                    <a:pt x="716" y="170"/>
                  </a:lnTo>
                  <a:lnTo>
                    <a:pt x="713" y="160"/>
                  </a:lnTo>
                  <a:lnTo>
                    <a:pt x="709" y="152"/>
                  </a:lnTo>
                  <a:lnTo>
                    <a:pt x="705" y="141"/>
                  </a:lnTo>
                  <a:lnTo>
                    <a:pt x="699" y="133"/>
                  </a:lnTo>
                  <a:lnTo>
                    <a:pt x="694" y="124"/>
                  </a:lnTo>
                  <a:lnTo>
                    <a:pt x="690" y="118"/>
                  </a:lnTo>
                  <a:lnTo>
                    <a:pt x="682" y="109"/>
                  </a:lnTo>
                  <a:lnTo>
                    <a:pt x="675" y="101"/>
                  </a:lnTo>
                  <a:lnTo>
                    <a:pt x="667" y="94"/>
                  </a:lnTo>
                  <a:lnTo>
                    <a:pt x="661" y="88"/>
                  </a:lnTo>
                  <a:lnTo>
                    <a:pt x="652" y="80"/>
                  </a:lnTo>
                  <a:lnTo>
                    <a:pt x="644" y="75"/>
                  </a:lnTo>
                  <a:lnTo>
                    <a:pt x="635" y="69"/>
                  </a:lnTo>
                  <a:lnTo>
                    <a:pt x="627" y="63"/>
                  </a:lnTo>
                  <a:lnTo>
                    <a:pt x="616" y="57"/>
                  </a:lnTo>
                  <a:lnTo>
                    <a:pt x="606" y="54"/>
                  </a:lnTo>
                  <a:lnTo>
                    <a:pt x="597" y="48"/>
                  </a:lnTo>
                  <a:lnTo>
                    <a:pt x="589" y="44"/>
                  </a:lnTo>
                  <a:lnTo>
                    <a:pt x="578" y="40"/>
                  </a:lnTo>
                  <a:lnTo>
                    <a:pt x="570" y="37"/>
                  </a:lnTo>
                  <a:lnTo>
                    <a:pt x="561" y="33"/>
                  </a:lnTo>
                  <a:lnTo>
                    <a:pt x="553" y="31"/>
                  </a:lnTo>
                  <a:lnTo>
                    <a:pt x="543" y="27"/>
                  </a:lnTo>
                  <a:lnTo>
                    <a:pt x="536" y="23"/>
                  </a:lnTo>
                  <a:lnTo>
                    <a:pt x="526" y="21"/>
                  </a:lnTo>
                  <a:lnTo>
                    <a:pt x="519" y="18"/>
                  </a:lnTo>
                  <a:lnTo>
                    <a:pt x="511" y="16"/>
                  </a:lnTo>
                  <a:lnTo>
                    <a:pt x="503" y="16"/>
                  </a:lnTo>
                  <a:lnTo>
                    <a:pt x="498" y="12"/>
                  </a:lnTo>
                  <a:lnTo>
                    <a:pt x="494" y="12"/>
                  </a:lnTo>
                  <a:lnTo>
                    <a:pt x="481" y="8"/>
                  </a:lnTo>
                  <a:lnTo>
                    <a:pt x="471" y="8"/>
                  </a:lnTo>
                  <a:lnTo>
                    <a:pt x="462" y="8"/>
                  </a:lnTo>
                  <a:lnTo>
                    <a:pt x="452" y="10"/>
                  </a:lnTo>
                  <a:lnTo>
                    <a:pt x="443" y="12"/>
                  </a:lnTo>
                  <a:lnTo>
                    <a:pt x="433" y="16"/>
                  </a:lnTo>
                  <a:lnTo>
                    <a:pt x="422" y="18"/>
                  </a:lnTo>
                  <a:lnTo>
                    <a:pt x="410" y="23"/>
                  </a:lnTo>
                  <a:lnTo>
                    <a:pt x="401" y="25"/>
                  </a:lnTo>
                  <a:lnTo>
                    <a:pt x="393" y="27"/>
                  </a:lnTo>
                  <a:lnTo>
                    <a:pt x="384" y="29"/>
                  </a:lnTo>
                  <a:lnTo>
                    <a:pt x="376" y="31"/>
                  </a:lnTo>
                  <a:lnTo>
                    <a:pt x="367" y="35"/>
                  </a:lnTo>
                  <a:lnTo>
                    <a:pt x="359" y="37"/>
                  </a:lnTo>
                  <a:lnTo>
                    <a:pt x="349" y="38"/>
                  </a:lnTo>
                  <a:lnTo>
                    <a:pt x="342" y="42"/>
                  </a:lnTo>
                  <a:lnTo>
                    <a:pt x="334" y="44"/>
                  </a:lnTo>
                  <a:lnTo>
                    <a:pt x="327" y="46"/>
                  </a:lnTo>
                  <a:lnTo>
                    <a:pt x="319" y="48"/>
                  </a:lnTo>
                  <a:lnTo>
                    <a:pt x="315" y="50"/>
                  </a:lnTo>
                  <a:lnTo>
                    <a:pt x="308" y="52"/>
                  </a:lnTo>
                  <a:lnTo>
                    <a:pt x="304" y="54"/>
                  </a:lnTo>
                  <a:lnTo>
                    <a:pt x="304" y="54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 flipV="1" rot="20995800">
              <a:off x="6608520" y="3707280"/>
              <a:ext cx="439920" cy="368640"/>
            </a:xfrm>
            <a:custGeom>
              <a:avLst/>
              <a:gdLst/>
              <a:ahLst/>
              <a:rect l="l" t="t" r="r" b="b"/>
              <a:pathLst>
                <a:path w="669" h="639">
                  <a:moveTo>
                    <a:pt x="36" y="333"/>
                  </a:moveTo>
                  <a:lnTo>
                    <a:pt x="26" y="327"/>
                  </a:lnTo>
                  <a:lnTo>
                    <a:pt x="19" y="323"/>
                  </a:lnTo>
                  <a:lnTo>
                    <a:pt x="13" y="317"/>
                  </a:lnTo>
                  <a:lnTo>
                    <a:pt x="9" y="314"/>
                  </a:lnTo>
                  <a:lnTo>
                    <a:pt x="5" y="306"/>
                  </a:lnTo>
                  <a:lnTo>
                    <a:pt x="4" y="300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79"/>
                  </a:lnTo>
                  <a:lnTo>
                    <a:pt x="0" y="272"/>
                  </a:lnTo>
                  <a:lnTo>
                    <a:pt x="0" y="260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2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4" y="165"/>
                  </a:lnTo>
                  <a:lnTo>
                    <a:pt x="7" y="154"/>
                  </a:lnTo>
                  <a:lnTo>
                    <a:pt x="7" y="146"/>
                  </a:lnTo>
                  <a:lnTo>
                    <a:pt x="9" y="139"/>
                  </a:lnTo>
                  <a:lnTo>
                    <a:pt x="11" y="133"/>
                  </a:lnTo>
                  <a:lnTo>
                    <a:pt x="15" y="127"/>
                  </a:lnTo>
                  <a:lnTo>
                    <a:pt x="21" y="116"/>
                  </a:lnTo>
                  <a:lnTo>
                    <a:pt x="28" y="105"/>
                  </a:lnTo>
                  <a:lnTo>
                    <a:pt x="36" y="93"/>
                  </a:lnTo>
                  <a:lnTo>
                    <a:pt x="42" y="82"/>
                  </a:lnTo>
                  <a:lnTo>
                    <a:pt x="51" y="70"/>
                  </a:lnTo>
                  <a:lnTo>
                    <a:pt x="61" y="61"/>
                  </a:lnTo>
                  <a:lnTo>
                    <a:pt x="70" y="51"/>
                  </a:lnTo>
                  <a:lnTo>
                    <a:pt x="82" y="44"/>
                  </a:lnTo>
                  <a:lnTo>
                    <a:pt x="93" y="36"/>
                  </a:lnTo>
                  <a:lnTo>
                    <a:pt x="102" y="29"/>
                  </a:lnTo>
                  <a:lnTo>
                    <a:pt x="114" y="23"/>
                  </a:lnTo>
                  <a:lnTo>
                    <a:pt x="125" y="17"/>
                  </a:lnTo>
                  <a:lnTo>
                    <a:pt x="135" y="13"/>
                  </a:lnTo>
                  <a:lnTo>
                    <a:pt x="148" y="10"/>
                  </a:lnTo>
                  <a:lnTo>
                    <a:pt x="158" y="6"/>
                  </a:lnTo>
                  <a:lnTo>
                    <a:pt x="171" y="4"/>
                  </a:lnTo>
                  <a:lnTo>
                    <a:pt x="182" y="2"/>
                  </a:lnTo>
                  <a:lnTo>
                    <a:pt x="194" y="2"/>
                  </a:lnTo>
                  <a:lnTo>
                    <a:pt x="205" y="0"/>
                  </a:lnTo>
                  <a:lnTo>
                    <a:pt x="215" y="2"/>
                  </a:lnTo>
                  <a:lnTo>
                    <a:pt x="226" y="2"/>
                  </a:lnTo>
                  <a:lnTo>
                    <a:pt x="237" y="6"/>
                  </a:lnTo>
                  <a:lnTo>
                    <a:pt x="247" y="8"/>
                  </a:lnTo>
                  <a:lnTo>
                    <a:pt x="258" y="13"/>
                  </a:lnTo>
                  <a:lnTo>
                    <a:pt x="270" y="15"/>
                  </a:lnTo>
                  <a:lnTo>
                    <a:pt x="279" y="23"/>
                  </a:lnTo>
                  <a:lnTo>
                    <a:pt x="289" y="29"/>
                  </a:lnTo>
                  <a:lnTo>
                    <a:pt x="296" y="36"/>
                  </a:lnTo>
                  <a:lnTo>
                    <a:pt x="306" y="42"/>
                  </a:lnTo>
                  <a:lnTo>
                    <a:pt x="313" y="51"/>
                  </a:lnTo>
                  <a:lnTo>
                    <a:pt x="321" y="59"/>
                  </a:lnTo>
                  <a:lnTo>
                    <a:pt x="329" y="68"/>
                  </a:lnTo>
                  <a:lnTo>
                    <a:pt x="336" y="74"/>
                  </a:lnTo>
                  <a:lnTo>
                    <a:pt x="344" y="84"/>
                  </a:lnTo>
                  <a:lnTo>
                    <a:pt x="352" y="91"/>
                  </a:lnTo>
                  <a:lnTo>
                    <a:pt x="357" y="99"/>
                  </a:lnTo>
                  <a:lnTo>
                    <a:pt x="365" y="106"/>
                  </a:lnTo>
                  <a:lnTo>
                    <a:pt x="372" y="112"/>
                  </a:lnTo>
                  <a:lnTo>
                    <a:pt x="380" y="118"/>
                  </a:lnTo>
                  <a:lnTo>
                    <a:pt x="386" y="122"/>
                  </a:lnTo>
                  <a:lnTo>
                    <a:pt x="393" y="125"/>
                  </a:lnTo>
                  <a:lnTo>
                    <a:pt x="403" y="129"/>
                  </a:lnTo>
                  <a:lnTo>
                    <a:pt x="409" y="129"/>
                  </a:lnTo>
                  <a:lnTo>
                    <a:pt x="416" y="131"/>
                  </a:lnTo>
                  <a:lnTo>
                    <a:pt x="424" y="129"/>
                  </a:lnTo>
                  <a:lnTo>
                    <a:pt x="431" y="129"/>
                  </a:lnTo>
                  <a:lnTo>
                    <a:pt x="439" y="125"/>
                  </a:lnTo>
                  <a:lnTo>
                    <a:pt x="447" y="122"/>
                  </a:lnTo>
                  <a:lnTo>
                    <a:pt x="454" y="120"/>
                  </a:lnTo>
                  <a:lnTo>
                    <a:pt x="464" y="116"/>
                  </a:lnTo>
                  <a:lnTo>
                    <a:pt x="469" y="112"/>
                  </a:lnTo>
                  <a:lnTo>
                    <a:pt x="479" y="106"/>
                  </a:lnTo>
                  <a:lnTo>
                    <a:pt x="486" y="103"/>
                  </a:lnTo>
                  <a:lnTo>
                    <a:pt x="494" y="99"/>
                  </a:lnTo>
                  <a:lnTo>
                    <a:pt x="500" y="95"/>
                  </a:lnTo>
                  <a:lnTo>
                    <a:pt x="507" y="91"/>
                  </a:lnTo>
                  <a:lnTo>
                    <a:pt x="515" y="87"/>
                  </a:lnTo>
                  <a:lnTo>
                    <a:pt x="521" y="87"/>
                  </a:lnTo>
                  <a:lnTo>
                    <a:pt x="534" y="86"/>
                  </a:lnTo>
                  <a:lnTo>
                    <a:pt x="545" y="87"/>
                  </a:lnTo>
                  <a:lnTo>
                    <a:pt x="557" y="91"/>
                  </a:lnTo>
                  <a:lnTo>
                    <a:pt x="566" y="99"/>
                  </a:lnTo>
                  <a:lnTo>
                    <a:pt x="572" y="103"/>
                  </a:lnTo>
                  <a:lnTo>
                    <a:pt x="576" y="110"/>
                  </a:lnTo>
                  <a:lnTo>
                    <a:pt x="582" y="118"/>
                  </a:lnTo>
                  <a:lnTo>
                    <a:pt x="587" y="125"/>
                  </a:lnTo>
                  <a:lnTo>
                    <a:pt x="591" y="135"/>
                  </a:lnTo>
                  <a:lnTo>
                    <a:pt x="599" y="144"/>
                  </a:lnTo>
                  <a:lnTo>
                    <a:pt x="601" y="150"/>
                  </a:lnTo>
                  <a:lnTo>
                    <a:pt x="602" y="156"/>
                  </a:lnTo>
                  <a:lnTo>
                    <a:pt x="606" y="164"/>
                  </a:lnTo>
                  <a:lnTo>
                    <a:pt x="610" y="171"/>
                  </a:lnTo>
                  <a:lnTo>
                    <a:pt x="616" y="181"/>
                  </a:lnTo>
                  <a:lnTo>
                    <a:pt x="621" y="194"/>
                  </a:lnTo>
                  <a:lnTo>
                    <a:pt x="623" y="202"/>
                  </a:lnTo>
                  <a:lnTo>
                    <a:pt x="627" y="209"/>
                  </a:lnTo>
                  <a:lnTo>
                    <a:pt x="631" y="217"/>
                  </a:lnTo>
                  <a:lnTo>
                    <a:pt x="635" y="222"/>
                  </a:lnTo>
                  <a:lnTo>
                    <a:pt x="637" y="230"/>
                  </a:lnTo>
                  <a:lnTo>
                    <a:pt x="640" y="238"/>
                  </a:lnTo>
                  <a:lnTo>
                    <a:pt x="642" y="245"/>
                  </a:lnTo>
                  <a:lnTo>
                    <a:pt x="646" y="251"/>
                  </a:lnTo>
                  <a:lnTo>
                    <a:pt x="648" y="259"/>
                  </a:lnTo>
                  <a:lnTo>
                    <a:pt x="650" y="268"/>
                  </a:lnTo>
                  <a:lnTo>
                    <a:pt x="654" y="276"/>
                  </a:lnTo>
                  <a:lnTo>
                    <a:pt x="656" y="283"/>
                  </a:lnTo>
                  <a:lnTo>
                    <a:pt x="658" y="291"/>
                  </a:lnTo>
                  <a:lnTo>
                    <a:pt x="659" y="298"/>
                  </a:lnTo>
                  <a:lnTo>
                    <a:pt x="661" y="306"/>
                  </a:lnTo>
                  <a:lnTo>
                    <a:pt x="663" y="314"/>
                  </a:lnTo>
                  <a:lnTo>
                    <a:pt x="663" y="321"/>
                  </a:lnTo>
                  <a:lnTo>
                    <a:pt x="665" y="329"/>
                  </a:lnTo>
                  <a:lnTo>
                    <a:pt x="665" y="335"/>
                  </a:lnTo>
                  <a:lnTo>
                    <a:pt x="669" y="344"/>
                  </a:lnTo>
                  <a:lnTo>
                    <a:pt x="669" y="352"/>
                  </a:lnTo>
                  <a:lnTo>
                    <a:pt x="669" y="357"/>
                  </a:lnTo>
                  <a:lnTo>
                    <a:pt x="669" y="365"/>
                  </a:lnTo>
                  <a:lnTo>
                    <a:pt x="669" y="373"/>
                  </a:lnTo>
                  <a:lnTo>
                    <a:pt x="669" y="378"/>
                  </a:lnTo>
                  <a:lnTo>
                    <a:pt x="669" y="386"/>
                  </a:lnTo>
                  <a:lnTo>
                    <a:pt x="667" y="392"/>
                  </a:lnTo>
                  <a:lnTo>
                    <a:pt x="667" y="399"/>
                  </a:lnTo>
                  <a:lnTo>
                    <a:pt x="665" y="403"/>
                  </a:lnTo>
                  <a:lnTo>
                    <a:pt x="663" y="411"/>
                  </a:lnTo>
                  <a:lnTo>
                    <a:pt x="661" y="416"/>
                  </a:lnTo>
                  <a:lnTo>
                    <a:pt x="661" y="424"/>
                  </a:lnTo>
                  <a:lnTo>
                    <a:pt x="659" y="430"/>
                  </a:lnTo>
                  <a:lnTo>
                    <a:pt x="659" y="437"/>
                  </a:lnTo>
                  <a:lnTo>
                    <a:pt x="658" y="445"/>
                  </a:lnTo>
                  <a:lnTo>
                    <a:pt x="658" y="452"/>
                  </a:lnTo>
                  <a:lnTo>
                    <a:pt x="656" y="460"/>
                  </a:lnTo>
                  <a:lnTo>
                    <a:pt x="656" y="468"/>
                  </a:lnTo>
                  <a:lnTo>
                    <a:pt x="654" y="473"/>
                  </a:lnTo>
                  <a:lnTo>
                    <a:pt x="654" y="483"/>
                  </a:lnTo>
                  <a:lnTo>
                    <a:pt x="652" y="490"/>
                  </a:lnTo>
                  <a:lnTo>
                    <a:pt x="650" y="496"/>
                  </a:lnTo>
                  <a:lnTo>
                    <a:pt x="650" y="506"/>
                  </a:lnTo>
                  <a:lnTo>
                    <a:pt x="648" y="513"/>
                  </a:lnTo>
                  <a:lnTo>
                    <a:pt x="646" y="521"/>
                  </a:lnTo>
                  <a:lnTo>
                    <a:pt x="642" y="528"/>
                  </a:lnTo>
                  <a:lnTo>
                    <a:pt x="640" y="536"/>
                  </a:lnTo>
                  <a:lnTo>
                    <a:pt x="639" y="542"/>
                  </a:lnTo>
                  <a:lnTo>
                    <a:pt x="635" y="549"/>
                  </a:lnTo>
                  <a:lnTo>
                    <a:pt x="631" y="555"/>
                  </a:lnTo>
                  <a:lnTo>
                    <a:pt x="627" y="563"/>
                  </a:lnTo>
                  <a:lnTo>
                    <a:pt x="623" y="570"/>
                  </a:lnTo>
                  <a:lnTo>
                    <a:pt x="614" y="580"/>
                  </a:lnTo>
                  <a:lnTo>
                    <a:pt x="604" y="593"/>
                  </a:lnTo>
                  <a:lnTo>
                    <a:pt x="597" y="597"/>
                  </a:lnTo>
                  <a:lnTo>
                    <a:pt x="591" y="603"/>
                  </a:lnTo>
                  <a:lnTo>
                    <a:pt x="583" y="606"/>
                  </a:lnTo>
                  <a:lnTo>
                    <a:pt x="576" y="612"/>
                  </a:lnTo>
                  <a:lnTo>
                    <a:pt x="566" y="614"/>
                  </a:lnTo>
                  <a:lnTo>
                    <a:pt x="557" y="616"/>
                  </a:lnTo>
                  <a:lnTo>
                    <a:pt x="547" y="620"/>
                  </a:lnTo>
                  <a:lnTo>
                    <a:pt x="540" y="622"/>
                  </a:lnTo>
                  <a:lnTo>
                    <a:pt x="528" y="625"/>
                  </a:lnTo>
                  <a:lnTo>
                    <a:pt x="519" y="627"/>
                  </a:lnTo>
                  <a:lnTo>
                    <a:pt x="509" y="629"/>
                  </a:lnTo>
                  <a:lnTo>
                    <a:pt x="500" y="633"/>
                  </a:lnTo>
                  <a:lnTo>
                    <a:pt x="488" y="633"/>
                  </a:lnTo>
                  <a:lnTo>
                    <a:pt x="479" y="635"/>
                  </a:lnTo>
                  <a:lnTo>
                    <a:pt x="467" y="635"/>
                  </a:lnTo>
                  <a:lnTo>
                    <a:pt x="458" y="637"/>
                  </a:lnTo>
                  <a:lnTo>
                    <a:pt x="447" y="637"/>
                  </a:lnTo>
                  <a:lnTo>
                    <a:pt x="437" y="639"/>
                  </a:lnTo>
                  <a:lnTo>
                    <a:pt x="428" y="639"/>
                  </a:lnTo>
                  <a:lnTo>
                    <a:pt x="418" y="639"/>
                  </a:lnTo>
                  <a:lnTo>
                    <a:pt x="407" y="639"/>
                  </a:lnTo>
                  <a:lnTo>
                    <a:pt x="397" y="639"/>
                  </a:lnTo>
                  <a:lnTo>
                    <a:pt x="388" y="637"/>
                  </a:lnTo>
                  <a:lnTo>
                    <a:pt x="380" y="637"/>
                  </a:lnTo>
                  <a:lnTo>
                    <a:pt x="371" y="635"/>
                  </a:lnTo>
                  <a:lnTo>
                    <a:pt x="361" y="635"/>
                  </a:lnTo>
                  <a:lnTo>
                    <a:pt x="353" y="633"/>
                  </a:lnTo>
                  <a:lnTo>
                    <a:pt x="346" y="633"/>
                  </a:lnTo>
                  <a:lnTo>
                    <a:pt x="338" y="629"/>
                  </a:lnTo>
                  <a:lnTo>
                    <a:pt x="331" y="627"/>
                  </a:lnTo>
                  <a:lnTo>
                    <a:pt x="325" y="625"/>
                  </a:lnTo>
                  <a:lnTo>
                    <a:pt x="319" y="622"/>
                  </a:lnTo>
                  <a:lnTo>
                    <a:pt x="308" y="616"/>
                  </a:lnTo>
                  <a:lnTo>
                    <a:pt x="302" y="612"/>
                  </a:lnTo>
                  <a:lnTo>
                    <a:pt x="294" y="603"/>
                  </a:lnTo>
                  <a:lnTo>
                    <a:pt x="289" y="593"/>
                  </a:lnTo>
                  <a:lnTo>
                    <a:pt x="285" y="585"/>
                  </a:lnTo>
                  <a:lnTo>
                    <a:pt x="283" y="580"/>
                  </a:lnTo>
                  <a:lnTo>
                    <a:pt x="279" y="572"/>
                  </a:lnTo>
                  <a:lnTo>
                    <a:pt x="277" y="566"/>
                  </a:lnTo>
                  <a:lnTo>
                    <a:pt x="274" y="559"/>
                  </a:lnTo>
                  <a:lnTo>
                    <a:pt x="274" y="549"/>
                  </a:lnTo>
                  <a:lnTo>
                    <a:pt x="270" y="542"/>
                  </a:lnTo>
                  <a:lnTo>
                    <a:pt x="270" y="532"/>
                  </a:lnTo>
                  <a:lnTo>
                    <a:pt x="268" y="523"/>
                  </a:lnTo>
                  <a:lnTo>
                    <a:pt x="266" y="515"/>
                  </a:lnTo>
                  <a:lnTo>
                    <a:pt x="264" y="506"/>
                  </a:lnTo>
                  <a:lnTo>
                    <a:pt x="262" y="496"/>
                  </a:lnTo>
                  <a:lnTo>
                    <a:pt x="258" y="487"/>
                  </a:lnTo>
                  <a:lnTo>
                    <a:pt x="258" y="477"/>
                  </a:lnTo>
                  <a:lnTo>
                    <a:pt x="255" y="468"/>
                  </a:lnTo>
                  <a:lnTo>
                    <a:pt x="253" y="458"/>
                  </a:lnTo>
                  <a:lnTo>
                    <a:pt x="251" y="449"/>
                  </a:lnTo>
                  <a:lnTo>
                    <a:pt x="247" y="441"/>
                  </a:lnTo>
                  <a:lnTo>
                    <a:pt x="245" y="432"/>
                  </a:lnTo>
                  <a:lnTo>
                    <a:pt x="245" y="426"/>
                  </a:lnTo>
                  <a:lnTo>
                    <a:pt x="241" y="416"/>
                  </a:lnTo>
                  <a:lnTo>
                    <a:pt x="237" y="409"/>
                  </a:lnTo>
                  <a:lnTo>
                    <a:pt x="236" y="401"/>
                  </a:lnTo>
                  <a:lnTo>
                    <a:pt x="232" y="395"/>
                  </a:lnTo>
                  <a:lnTo>
                    <a:pt x="228" y="388"/>
                  </a:lnTo>
                  <a:lnTo>
                    <a:pt x="226" y="382"/>
                  </a:lnTo>
                  <a:lnTo>
                    <a:pt x="222" y="376"/>
                  </a:lnTo>
                  <a:lnTo>
                    <a:pt x="218" y="374"/>
                  </a:lnTo>
                  <a:lnTo>
                    <a:pt x="209" y="365"/>
                  </a:lnTo>
                  <a:lnTo>
                    <a:pt x="199" y="357"/>
                  </a:lnTo>
                  <a:lnTo>
                    <a:pt x="190" y="352"/>
                  </a:lnTo>
                  <a:lnTo>
                    <a:pt x="178" y="348"/>
                  </a:lnTo>
                  <a:lnTo>
                    <a:pt x="165" y="344"/>
                  </a:lnTo>
                  <a:lnTo>
                    <a:pt x="154" y="344"/>
                  </a:lnTo>
                  <a:lnTo>
                    <a:pt x="142" y="342"/>
                  </a:lnTo>
                  <a:lnTo>
                    <a:pt x="129" y="342"/>
                  </a:lnTo>
                  <a:lnTo>
                    <a:pt x="121" y="342"/>
                  </a:lnTo>
                  <a:lnTo>
                    <a:pt x="116" y="342"/>
                  </a:lnTo>
                  <a:lnTo>
                    <a:pt x="110" y="342"/>
                  </a:lnTo>
                  <a:lnTo>
                    <a:pt x="102" y="342"/>
                  </a:lnTo>
                  <a:lnTo>
                    <a:pt x="91" y="340"/>
                  </a:lnTo>
                  <a:lnTo>
                    <a:pt x="78" y="340"/>
                  </a:lnTo>
                  <a:lnTo>
                    <a:pt x="66" y="338"/>
                  </a:lnTo>
                  <a:lnTo>
                    <a:pt x="55" y="336"/>
                  </a:lnTo>
                  <a:lnTo>
                    <a:pt x="45" y="335"/>
                  </a:lnTo>
                  <a:lnTo>
                    <a:pt x="36" y="333"/>
                  </a:lnTo>
                  <a:lnTo>
                    <a:pt x="36" y="333"/>
                  </a:lnTo>
                  <a:close/>
                </a:path>
              </a:pathLst>
            </a:custGeom>
            <a:solidFill>
              <a:srgbClr val="ff4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H="1" flipV="1" rot="20995800">
              <a:off x="6188040" y="3750120"/>
              <a:ext cx="384840" cy="408600"/>
            </a:xfrm>
            <a:custGeom>
              <a:avLst/>
              <a:gdLst/>
              <a:ahLst/>
              <a:rect l="l" t="t" r="r" b="b"/>
              <a:pathLst>
                <a:path w="585" h="709">
                  <a:moveTo>
                    <a:pt x="496" y="44"/>
                  </a:moveTo>
                  <a:lnTo>
                    <a:pt x="492" y="40"/>
                  </a:lnTo>
                  <a:lnTo>
                    <a:pt x="483" y="37"/>
                  </a:lnTo>
                  <a:lnTo>
                    <a:pt x="473" y="33"/>
                  </a:lnTo>
                  <a:lnTo>
                    <a:pt x="466" y="29"/>
                  </a:lnTo>
                  <a:lnTo>
                    <a:pt x="456" y="25"/>
                  </a:lnTo>
                  <a:lnTo>
                    <a:pt x="449" y="21"/>
                  </a:lnTo>
                  <a:lnTo>
                    <a:pt x="437" y="18"/>
                  </a:lnTo>
                  <a:lnTo>
                    <a:pt x="426" y="14"/>
                  </a:lnTo>
                  <a:lnTo>
                    <a:pt x="412" y="10"/>
                  </a:lnTo>
                  <a:lnTo>
                    <a:pt x="401" y="8"/>
                  </a:lnTo>
                  <a:lnTo>
                    <a:pt x="393" y="4"/>
                  </a:lnTo>
                  <a:lnTo>
                    <a:pt x="386" y="4"/>
                  </a:lnTo>
                  <a:lnTo>
                    <a:pt x="380" y="2"/>
                  </a:lnTo>
                  <a:lnTo>
                    <a:pt x="372" y="2"/>
                  </a:lnTo>
                  <a:lnTo>
                    <a:pt x="367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6" y="0"/>
                  </a:lnTo>
                  <a:lnTo>
                    <a:pt x="338" y="0"/>
                  </a:lnTo>
                  <a:lnTo>
                    <a:pt x="331" y="0"/>
                  </a:lnTo>
                  <a:lnTo>
                    <a:pt x="325" y="0"/>
                  </a:lnTo>
                  <a:lnTo>
                    <a:pt x="317" y="4"/>
                  </a:lnTo>
                  <a:lnTo>
                    <a:pt x="310" y="4"/>
                  </a:lnTo>
                  <a:lnTo>
                    <a:pt x="302" y="6"/>
                  </a:lnTo>
                  <a:lnTo>
                    <a:pt x="296" y="8"/>
                  </a:lnTo>
                  <a:lnTo>
                    <a:pt x="289" y="10"/>
                  </a:lnTo>
                  <a:lnTo>
                    <a:pt x="283" y="12"/>
                  </a:lnTo>
                  <a:lnTo>
                    <a:pt x="276" y="14"/>
                  </a:lnTo>
                  <a:lnTo>
                    <a:pt x="268" y="14"/>
                  </a:lnTo>
                  <a:lnTo>
                    <a:pt x="262" y="18"/>
                  </a:lnTo>
                  <a:lnTo>
                    <a:pt x="255" y="18"/>
                  </a:lnTo>
                  <a:lnTo>
                    <a:pt x="247" y="21"/>
                  </a:lnTo>
                  <a:lnTo>
                    <a:pt x="241" y="23"/>
                  </a:lnTo>
                  <a:lnTo>
                    <a:pt x="236" y="27"/>
                  </a:lnTo>
                  <a:lnTo>
                    <a:pt x="228" y="27"/>
                  </a:lnTo>
                  <a:lnTo>
                    <a:pt x="220" y="31"/>
                  </a:lnTo>
                  <a:lnTo>
                    <a:pt x="213" y="33"/>
                  </a:lnTo>
                  <a:lnTo>
                    <a:pt x="207" y="37"/>
                  </a:lnTo>
                  <a:lnTo>
                    <a:pt x="199" y="37"/>
                  </a:lnTo>
                  <a:lnTo>
                    <a:pt x="194" y="40"/>
                  </a:lnTo>
                  <a:lnTo>
                    <a:pt x="186" y="42"/>
                  </a:lnTo>
                  <a:lnTo>
                    <a:pt x="180" y="46"/>
                  </a:lnTo>
                  <a:lnTo>
                    <a:pt x="167" y="50"/>
                  </a:lnTo>
                  <a:lnTo>
                    <a:pt x="156" y="54"/>
                  </a:lnTo>
                  <a:lnTo>
                    <a:pt x="142" y="56"/>
                  </a:lnTo>
                  <a:lnTo>
                    <a:pt x="131" y="59"/>
                  </a:lnTo>
                  <a:lnTo>
                    <a:pt x="120" y="59"/>
                  </a:lnTo>
                  <a:lnTo>
                    <a:pt x="108" y="63"/>
                  </a:lnTo>
                  <a:lnTo>
                    <a:pt x="97" y="67"/>
                  </a:lnTo>
                  <a:lnTo>
                    <a:pt x="87" y="73"/>
                  </a:lnTo>
                  <a:lnTo>
                    <a:pt x="78" y="78"/>
                  </a:lnTo>
                  <a:lnTo>
                    <a:pt x="70" y="86"/>
                  </a:lnTo>
                  <a:lnTo>
                    <a:pt x="61" y="94"/>
                  </a:lnTo>
                  <a:lnTo>
                    <a:pt x="55" y="101"/>
                  </a:lnTo>
                  <a:lnTo>
                    <a:pt x="45" y="109"/>
                  </a:lnTo>
                  <a:lnTo>
                    <a:pt x="38" y="118"/>
                  </a:lnTo>
                  <a:lnTo>
                    <a:pt x="32" y="128"/>
                  </a:lnTo>
                  <a:lnTo>
                    <a:pt x="28" y="139"/>
                  </a:lnTo>
                  <a:lnTo>
                    <a:pt x="23" y="149"/>
                  </a:lnTo>
                  <a:lnTo>
                    <a:pt x="17" y="160"/>
                  </a:lnTo>
                  <a:lnTo>
                    <a:pt x="13" y="170"/>
                  </a:lnTo>
                  <a:lnTo>
                    <a:pt x="9" y="181"/>
                  </a:lnTo>
                  <a:lnTo>
                    <a:pt x="7" y="191"/>
                  </a:lnTo>
                  <a:lnTo>
                    <a:pt x="6" y="200"/>
                  </a:lnTo>
                  <a:lnTo>
                    <a:pt x="4" y="210"/>
                  </a:lnTo>
                  <a:lnTo>
                    <a:pt x="2" y="221"/>
                  </a:lnTo>
                  <a:lnTo>
                    <a:pt x="0" y="230"/>
                  </a:lnTo>
                  <a:lnTo>
                    <a:pt x="0" y="240"/>
                  </a:lnTo>
                  <a:lnTo>
                    <a:pt x="0" y="249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80"/>
                  </a:lnTo>
                  <a:lnTo>
                    <a:pt x="2" y="289"/>
                  </a:lnTo>
                  <a:lnTo>
                    <a:pt x="4" y="299"/>
                  </a:lnTo>
                  <a:lnTo>
                    <a:pt x="4" y="308"/>
                  </a:lnTo>
                  <a:lnTo>
                    <a:pt x="4" y="318"/>
                  </a:lnTo>
                  <a:lnTo>
                    <a:pt x="6" y="329"/>
                  </a:lnTo>
                  <a:lnTo>
                    <a:pt x="7" y="341"/>
                  </a:lnTo>
                  <a:lnTo>
                    <a:pt x="7" y="350"/>
                  </a:lnTo>
                  <a:lnTo>
                    <a:pt x="9" y="360"/>
                  </a:lnTo>
                  <a:lnTo>
                    <a:pt x="9" y="369"/>
                  </a:lnTo>
                  <a:lnTo>
                    <a:pt x="9" y="381"/>
                  </a:lnTo>
                  <a:lnTo>
                    <a:pt x="11" y="390"/>
                  </a:lnTo>
                  <a:lnTo>
                    <a:pt x="13" y="401"/>
                  </a:lnTo>
                  <a:lnTo>
                    <a:pt x="13" y="411"/>
                  </a:lnTo>
                  <a:lnTo>
                    <a:pt x="17" y="421"/>
                  </a:lnTo>
                  <a:lnTo>
                    <a:pt x="19" y="428"/>
                  </a:lnTo>
                  <a:lnTo>
                    <a:pt x="21" y="438"/>
                  </a:lnTo>
                  <a:lnTo>
                    <a:pt x="25" y="443"/>
                  </a:lnTo>
                  <a:lnTo>
                    <a:pt x="28" y="453"/>
                  </a:lnTo>
                  <a:lnTo>
                    <a:pt x="32" y="459"/>
                  </a:lnTo>
                  <a:lnTo>
                    <a:pt x="38" y="464"/>
                  </a:lnTo>
                  <a:lnTo>
                    <a:pt x="44" y="470"/>
                  </a:lnTo>
                  <a:lnTo>
                    <a:pt x="51" y="474"/>
                  </a:lnTo>
                  <a:lnTo>
                    <a:pt x="57" y="476"/>
                  </a:lnTo>
                  <a:lnTo>
                    <a:pt x="64" y="478"/>
                  </a:lnTo>
                  <a:lnTo>
                    <a:pt x="72" y="478"/>
                  </a:lnTo>
                  <a:lnTo>
                    <a:pt x="82" y="479"/>
                  </a:lnTo>
                  <a:lnTo>
                    <a:pt x="91" y="478"/>
                  </a:lnTo>
                  <a:lnTo>
                    <a:pt x="101" y="478"/>
                  </a:lnTo>
                  <a:lnTo>
                    <a:pt x="110" y="476"/>
                  </a:lnTo>
                  <a:lnTo>
                    <a:pt x="122" y="476"/>
                  </a:lnTo>
                  <a:lnTo>
                    <a:pt x="129" y="476"/>
                  </a:lnTo>
                  <a:lnTo>
                    <a:pt x="139" y="476"/>
                  </a:lnTo>
                  <a:lnTo>
                    <a:pt x="148" y="476"/>
                  </a:lnTo>
                  <a:lnTo>
                    <a:pt x="158" y="476"/>
                  </a:lnTo>
                  <a:lnTo>
                    <a:pt x="163" y="478"/>
                  </a:lnTo>
                  <a:lnTo>
                    <a:pt x="171" y="481"/>
                  </a:lnTo>
                  <a:lnTo>
                    <a:pt x="177" y="483"/>
                  </a:lnTo>
                  <a:lnTo>
                    <a:pt x="184" y="489"/>
                  </a:lnTo>
                  <a:lnTo>
                    <a:pt x="186" y="495"/>
                  </a:lnTo>
                  <a:lnTo>
                    <a:pt x="190" y="502"/>
                  </a:lnTo>
                  <a:lnTo>
                    <a:pt x="192" y="510"/>
                  </a:lnTo>
                  <a:lnTo>
                    <a:pt x="194" y="519"/>
                  </a:lnTo>
                  <a:lnTo>
                    <a:pt x="194" y="529"/>
                  </a:lnTo>
                  <a:lnTo>
                    <a:pt x="196" y="540"/>
                  </a:lnTo>
                  <a:lnTo>
                    <a:pt x="196" y="550"/>
                  </a:lnTo>
                  <a:lnTo>
                    <a:pt x="198" y="563"/>
                  </a:lnTo>
                  <a:lnTo>
                    <a:pt x="198" y="573"/>
                  </a:lnTo>
                  <a:lnTo>
                    <a:pt x="199" y="586"/>
                  </a:lnTo>
                  <a:lnTo>
                    <a:pt x="199" y="595"/>
                  </a:lnTo>
                  <a:lnTo>
                    <a:pt x="203" y="609"/>
                  </a:lnTo>
                  <a:lnTo>
                    <a:pt x="203" y="618"/>
                  </a:lnTo>
                  <a:lnTo>
                    <a:pt x="207" y="630"/>
                  </a:lnTo>
                  <a:lnTo>
                    <a:pt x="211" y="641"/>
                  </a:lnTo>
                  <a:lnTo>
                    <a:pt x="218" y="650"/>
                  </a:lnTo>
                  <a:lnTo>
                    <a:pt x="222" y="660"/>
                  </a:lnTo>
                  <a:lnTo>
                    <a:pt x="230" y="668"/>
                  </a:lnTo>
                  <a:lnTo>
                    <a:pt x="237" y="675"/>
                  </a:lnTo>
                  <a:lnTo>
                    <a:pt x="247" y="683"/>
                  </a:lnTo>
                  <a:lnTo>
                    <a:pt x="255" y="689"/>
                  </a:lnTo>
                  <a:lnTo>
                    <a:pt x="266" y="694"/>
                  </a:lnTo>
                  <a:lnTo>
                    <a:pt x="277" y="698"/>
                  </a:lnTo>
                  <a:lnTo>
                    <a:pt x="289" y="702"/>
                  </a:lnTo>
                  <a:lnTo>
                    <a:pt x="300" y="704"/>
                  </a:lnTo>
                  <a:lnTo>
                    <a:pt x="312" y="708"/>
                  </a:lnTo>
                  <a:lnTo>
                    <a:pt x="325" y="708"/>
                  </a:lnTo>
                  <a:lnTo>
                    <a:pt x="338" y="709"/>
                  </a:lnTo>
                  <a:lnTo>
                    <a:pt x="348" y="708"/>
                  </a:lnTo>
                  <a:lnTo>
                    <a:pt x="361" y="708"/>
                  </a:lnTo>
                  <a:lnTo>
                    <a:pt x="371" y="704"/>
                  </a:lnTo>
                  <a:lnTo>
                    <a:pt x="382" y="702"/>
                  </a:lnTo>
                  <a:lnTo>
                    <a:pt x="391" y="698"/>
                  </a:lnTo>
                  <a:lnTo>
                    <a:pt x="401" y="694"/>
                  </a:lnTo>
                  <a:lnTo>
                    <a:pt x="409" y="689"/>
                  </a:lnTo>
                  <a:lnTo>
                    <a:pt x="418" y="683"/>
                  </a:lnTo>
                  <a:lnTo>
                    <a:pt x="428" y="675"/>
                  </a:lnTo>
                  <a:lnTo>
                    <a:pt x="435" y="670"/>
                  </a:lnTo>
                  <a:lnTo>
                    <a:pt x="443" y="660"/>
                  </a:lnTo>
                  <a:lnTo>
                    <a:pt x="450" y="652"/>
                  </a:lnTo>
                  <a:lnTo>
                    <a:pt x="456" y="641"/>
                  </a:lnTo>
                  <a:lnTo>
                    <a:pt x="464" y="631"/>
                  </a:lnTo>
                  <a:lnTo>
                    <a:pt x="469" y="620"/>
                  </a:lnTo>
                  <a:lnTo>
                    <a:pt x="477" y="611"/>
                  </a:lnTo>
                  <a:lnTo>
                    <a:pt x="483" y="597"/>
                  </a:lnTo>
                  <a:lnTo>
                    <a:pt x="488" y="586"/>
                  </a:lnTo>
                  <a:lnTo>
                    <a:pt x="494" y="574"/>
                  </a:lnTo>
                  <a:lnTo>
                    <a:pt x="502" y="563"/>
                  </a:lnTo>
                  <a:lnTo>
                    <a:pt x="504" y="555"/>
                  </a:lnTo>
                  <a:lnTo>
                    <a:pt x="507" y="550"/>
                  </a:lnTo>
                  <a:lnTo>
                    <a:pt x="509" y="542"/>
                  </a:lnTo>
                  <a:lnTo>
                    <a:pt x="513" y="536"/>
                  </a:lnTo>
                  <a:lnTo>
                    <a:pt x="515" y="529"/>
                  </a:lnTo>
                  <a:lnTo>
                    <a:pt x="519" y="521"/>
                  </a:lnTo>
                  <a:lnTo>
                    <a:pt x="521" y="514"/>
                  </a:lnTo>
                  <a:lnTo>
                    <a:pt x="525" y="508"/>
                  </a:lnTo>
                  <a:lnTo>
                    <a:pt x="528" y="500"/>
                  </a:lnTo>
                  <a:lnTo>
                    <a:pt x="530" y="493"/>
                  </a:lnTo>
                  <a:lnTo>
                    <a:pt x="532" y="485"/>
                  </a:lnTo>
                  <a:lnTo>
                    <a:pt x="536" y="479"/>
                  </a:lnTo>
                  <a:lnTo>
                    <a:pt x="538" y="472"/>
                  </a:lnTo>
                  <a:lnTo>
                    <a:pt x="542" y="464"/>
                  </a:lnTo>
                  <a:lnTo>
                    <a:pt x="544" y="457"/>
                  </a:lnTo>
                  <a:lnTo>
                    <a:pt x="547" y="449"/>
                  </a:lnTo>
                  <a:lnTo>
                    <a:pt x="549" y="441"/>
                  </a:lnTo>
                  <a:lnTo>
                    <a:pt x="553" y="434"/>
                  </a:lnTo>
                  <a:lnTo>
                    <a:pt x="553" y="426"/>
                  </a:lnTo>
                  <a:lnTo>
                    <a:pt x="557" y="419"/>
                  </a:lnTo>
                  <a:lnTo>
                    <a:pt x="559" y="411"/>
                  </a:lnTo>
                  <a:lnTo>
                    <a:pt x="563" y="403"/>
                  </a:lnTo>
                  <a:lnTo>
                    <a:pt x="563" y="396"/>
                  </a:lnTo>
                  <a:lnTo>
                    <a:pt x="566" y="388"/>
                  </a:lnTo>
                  <a:lnTo>
                    <a:pt x="568" y="381"/>
                  </a:lnTo>
                  <a:lnTo>
                    <a:pt x="568" y="373"/>
                  </a:lnTo>
                  <a:lnTo>
                    <a:pt x="570" y="365"/>
                  </a:lnTo>
                  <a:lnTo>
                    <a:pt x="572" y="358"/>
                  </a:lnTo>
                  <a:lnTo>
                    <a:pt x="574" y="350"/>
                  </a:lnTo>
                  <a:lnTo>
                    <a:pt x="576" y="343"/>
                  </a:lnTo>
                  <a:lnTo>
                    <a:pt x="578" y="335"/>
                  </a:lnTo>
                  <a:lnTo>
                    <a:pt x="580" y="327"/>
                  </a:lnTo>
                  <a:lnTo>
                    <a:pt x="580" y="320"/>
                  </a:lnTo>
                  <a:lnTo>
                    <a:pt x="582" y="312"/>
                  </a:lnTo>
                  <a:lnTo>
                    <a:pt x="582" y="303"/>
                  </a:lnTo>
                  <a:lnTo>
                    <a:pt x="582" y="295"/>
                  </a:lnTo>
                  <a:lnTo>
                    <a:pt x="582" y="287"/>
                  </a:lnTo>
                  <a:lnTo>
                    <a:pt x="584" y="280"/>
                  </a:lnTo>
                  <a:lnTo>
                    <a:pt x="584" y="272"/>
                  </a:lnTo>
                  <a:lnTo>
                    <a:pt x="585" y="267"/>
                  </a:lnTo>
                  <a:lnTo>
                    <a:pt x="585" y="259"/>
                  </a:lnTo>
                  <a:lnTo>
                    <a:pt x="585" y="251"/>
                  </a:lnTo>
                  <a:lnTo>
                    <a:pt x="585" y="244"/>
                  </a:lnTo>
                  <a:lnTo>
                    <a:pt x="585" y="236"/>
                  </a:lnTo>
                  <a:lnTo>
                    <a:pt x="585" y="230"/>
                  </a:lnTo>
                  <a:lnTo>
                    <a:pt x="585" y="223"/>
                  </a:lnTo>
                  <a:lnTo>
                    <a:pt x="585" y="215"/>
                  </a:lnTo>
                  <a:lnTo>
                    <a:pt x="585" y="210"/>
                  </a:lnTo>
                  <a:lnTo>
                    <a:pt x="584" y="202"/>
                  </a:lnTo>
                  <a:lnTo>
                    <a:pt x="582" y="194"/>
                  </a:lnTo>
                  <a:lnTo>
                    <a:pt x="582" y="189"/>
                  </a:lnTo>
                  <a:lnTo>
                    <a:pt x="580" y="183"/>
                  </a:lnTo>
                  <a:lnTo>
                    <a:pt x="578" y="170"/>
                  </a:lnTo>
                  <a:lnTo>
                    <a:pt x="576" y="156"/>
                  </a:lnTo>
                  <a:lnTo>
                    <a:pt x="572" y="145"/>
                  </a:lnTo>
                  <a:lnTo>
                    <a:pt x="568" y="133"/>
                  </a:lnTo>
                  <a:lnTo>
                    <a:pt x="566" y="124"/>
                  </a:lnTo>
                  <a:lnTo>
                    <a:pt x="563" y="116"/>
                  </a:lnTo>
                  <a:lnTo>
                    <a:pt x="557" y="105"/>
                  </a:lnTo>
                  <a:lnTo>
                    <a:pt x="551" y="97"/>
                  </a:lnTo>
                  <a:lnTo>
                    <a:pt x="545" y="88"/>
                  </a:lnTo>
                  <a:lnTo>
                    <a:pt x="540" y="82"/>
                  </a:lnTo>
                  <a:lnTo>
                    <a:pt x="534" y="76"/>
                  </a:lnTo>
                  <a:lnTo>
                    <a:pt x="530" y="69"/>
                  </a:lnTo>
                  <a:lnTo>
                    <a:pt x="525" y="63"/>
                  </a:lnTo>
                  <a:lnTo>
                    <a:pt x="519" y="59"/>
                  </a:lnTo>
                  <a:lnTo>
                    <a:pt x="507" y="52"/>
                  </a:lnTo>
                  <a:lnTo>
                    <a:pt x="502" y="46"/>
                  </a:lnTo>
                  <a:lnTo>
                    <a:pt x="496" y="44"/>
                  </a:lnTo>
                  <a:lnTo>
                    <a:pt x="496" y="44"/>
                  </a:lnTo>
                  <a:lnTo>
                    <a:pt x="496" y="4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 flipV="1" rot="20995800">
              <a:off x="7495560" y="3899520"/>
              <a:ext cx="217800" cy="187920"/>
            </a:xfrm>
            <a:custGeom>
              <a:avLst/>
              <a:gdLst/>
              <a:ahLst/>
              <a:rect l="l" t="t" r="r" b="b"/>
              <a:pathLst>
                <a:path w="333" h="325">
                  <a:moveTo>
                    <a:pt x="0" y="40"/>
                  </a:moveTo>
                  <a:lnTo>
                    <a:pt x="2" y="38"/>
                  </a:lnTo>
                  <a:lnTo>
                    <a:pt x="8" y="34"/>
                  </a:lnTo>
                  <a:lnTo>
                    <a:pt x="12" y="31"/>
                  </a:lnTo>
                  <a:lnTo>
                    <a:pt x="15" y="29"/>
                  </a:lnTo>
                  <a:lnTo>
                    <a:pt x="21" y="25"/>
                  </a:lnTo>
                  <a:lnTo>
                    <a:pt x="29" y="23"/>
                  </a:lnTo>
                  <a:lnTo>
                    <a:pt x="34" y="19"/>
                  </a:lnTo>
                  <a:lnTo>
                    <a:pt x="44" y="15"/>
                  </a:lnTo>
                  <a:lnTo>
                    <a:pt x="50" y="12"/>
                  </a:lnTo>
                  <a:lnTo>
                    <a:pt x="61" y="10"/>
                  </a:lnTo>
                  <a:lnTo>
                    <a:pt x="71" y="6"/>
                  </a:lnTo>
                  <a:lnTo>
                    <a:pt x="82" y="6"/>
                  </a:lnTo>
                  <a:lnTo>
                    <a:pt x="91" y="2"/>
                  </a:lnTo>
                  <a:lnTo>
                    <a:pt x="105" y="2"/>
                  </a:lnTo>
                  <a:lnTo>
                    <a:pt x="114" y="0"/>
                  </a:lnTo>
                  <a:lnTo>
                    <a:pt x="126" y="0"/>
                  </a:lnTo>
                  <a:lnTo>
                    <a:pt x="137" y="0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3" y="6"/>
                  </a:lnTo>
                  <a:lnTo>
                    <a:pt x="185" y="10"/>
                  </a:lnTo>
                  <a:lnTo>
                    <a:pt x="198" y="12"/>
                  </a:lnTo>
                  <a:lnTo>
                    <a:pt x="207" y="15"/>
                  </a:lnTo>
                  <a:lnTo>
                    <a:pt x="219" y="19"/>
                  </a:lnTo>
                  <a:lnTo>
                    <a:pt x="230" y="23"/>
                  </a:lnTo>
                  <a:lnTo>
                    <a:pt x="240" y="29"/>
                  </a:lnTo>
                  <a:lnTo>
                    <a:pt x="249" y="32"/>
                  </a:lnTo>
                  <a:lnTo>
                    <a:pt x="259" y="38"/>
                  </a:lnTo>
                  <a:lnTo>
                    <a:pt x="268" y="44"/>
                  </a:lnTo>
                  <a:lnTo>
                    <a:pt x="278" y="51"/>
                  </a:lnTo>
                  <a:lnTo>
                    <a:pt x="285" y="57"/>
                  </a:lnTo>
                  <a:lnTo>
                    <a:pt x="291" y="65"/>
                  </a:lnTo>
                  <a:lnTo>
                    <a:pt x="299" y="70"/>
                  </a:lnTo>
                  <a:lnTo>
                    <a:pt x="304" y="80"/>
                  </a:lnTo>
                  <a:lnTo>
                    <a:pt x="308" y="86"/>
                  </a:lnTo>
                  <a:lnTo>
                    <a:pt x="312" y="93"/>
                  </a:lnTo>
                  <a:lnTo>
                    <a:pt x="316" y="103"/>
                  </a:lnTo>
                  <a:lnTo>
                    <a:pt x="320" y="110"/>
                  </a:lnTo>
                  <a:lnTo>
                    <a:pt x="321" y="118"/>
                  </a:lnTo>
                  <a:lnTo>
                    <a:pt x="323" y="126"/>
                  </a:lnTo>
                  <a:lnTo>
                    <a:pt x="325" y="135"/>
                  </a:lnTo>
                  <a:lnTo>
                    <a:pt x="327" y="143"/>
                  </a:lnTo>
                  <a:lnTo>
                    <a:pt x="329" y="150"/>
                  </a:lnTo>
                  <a:lnTo>
                    <a:pt x="331" y="160"/>
                  </a:lnTo>
                  <a:lnTo>
                    <a:pt x="331" y="167"/>
                  </a:lnTo>
                  <a:lnTo>
                    <a:pt x="333" y="177"/>
                  </a:lnTo>
                  <a:lnTo>
                    <a:pt x="333" y="183"/>
                  </a:lnTo>
                  <a:lnTo>
                    <a:pt x="333" y="192"/>
                  </a:lnTo>
                  <a:lnTo>
                    <a:pt x="333" y="200"/>
                  </a:lnTo>
                  <a:lnTo>
                    <a:pt x="333" y="209"/>
                  </a:lnTo>
                  <a:lnTo>
                    <a:pt x="331" y="215"/>
                  </a:lnTo>
                  <a:lnTo>
                    <a:pt x="331" y="223"/>
                  </a:lnTo>
                  <a:lnTo>
                    <a:pt x="329" y="230"/>
                  </a:lnTo>
                  <a:lnTo>
                    <a:pt x="327" y="238"/>
                  </a:lnTo>
                  <a:lnTo>
                    <a:pt x="321" y="251"/>
                  </a:lnTo>
                  <a:lnTo>
                    <a:pt x="312" y="264"/>
                  </a:lnTo>
                  <a:lnTo>
                    <a:pt x="306" y="268"/>
                  </a:lnTo>
                  <a:lnTo>
                    <a:pt x="301" y="274"/>
                  </a:lnTo>
                  <a:lnTo>
                    <a:pt x="291" y="280"/>
                  </a:lnTo>
                  <a:lnTo>
                    <a:pt x="285" y="287"/>
                  </a:lnTo>
                  <a:lnTo>
                    <a:pt x="272" y="289"/>
                  </a:lnTo>
                  <a:lnTo>
                    <a:pt x="263" y="293"/>
                  </a:lnTo>
                  <a:lnTo>
                    <a:pt x="249" y="297"/>
                  </a:lnTo>
                  <a:lnTo>
                    <a:pt x="240" y="302"/>
                  </a:lnTo>
                  <a:lnTo>
                    <a:pt x="226" y="304"/>
                  </a:lnTo>
                  <a:lnTo>
                    <a:pt x="215" y="308"/>
                  </a:lnTo>
                  <a:lnTo>
                    <a:pt x="202" y="312"/>
                  </a:lnTo>
                  <a:lnTo>
                    <a:pt x="192" y="316"/>
                  </a:lnTo>
                  <a:lnTo>
                    <a:pt x="179" y="316"/>
                  </a:lnTo>
                  <a:lnTo>
                    <a:pt x="169" y="319"/>
                  </a:lnTo>
                  <a:lnTo>
                    <a:pt x="160" y="319"/>
                  </a:lnTo>
                  <a:lnTo>
                    <a:pt x="152" y="321"/>
                  </a:lnTo>
                  <a:lnTo>
                    <a:pt x="145" y="323"/>
                  </a:lnTo>
                  <a:lnTo>
                    <a:pt x="137" y="325"/>
                  </a:lnTo>
                  <a:lnTo>
                    <a:pt x="139" y="323"/>
                  </a:lnTo>
                  <a:lnTo>
                    <a:pt x="145" y="318"/>
                  </a:lnTo>
                  <a:lnTo>
                    <a:pt x="150" y="308"/>
                  </a:lnTo>
                  <a:lnTo>
                    <a:pt x="160" y="297"/>
                  </a:lnTo>
                  <a:lnTo>
                    <a:pt x="171" y="283"/>
                  </a:lnTo>
                  <a:lnTo>
                    <a:pt x="183" y="272"/>
                  </a:lnTo>
                  <a:lnTo>
                    <a:pt x="188" y="264"/>
                  </a:lnTo>
                  <a:lnTo>
                    <a:pt x="194" y="257"/>
                  </a:lnTo>
                  <a:lnTo>
                    <a:pt x="202" y="251"/>
                  </a:lnTo>
                  <a:lnTo>
                    <a:pt x="207" y="247"/>
                  </a:lnTo>
                  <a:lnTo>
                    <a:pt x="215" y="234"/>
                  </a:lnTo>
                  <a:lnTo>
                    <a:pt x="221" y="224"/>
                  </a:lnTo>
                  <a:lnTo>
                    <a:pt x="221" y="213"/>
                  </a:lnTo>
                  <a:lnTo>
                    <a:pt x="221" y="202"/>
                  </a:lnTo>
                  <a:lnTo>
                    <a:pt x="219" y="194"/>
                  </a:lnTo>
                  <a:lnTo>
                    <a:pt x="217" y="188"/>
                  </a:lnTo>
                  <a:lnTo>
                    <a:pt x="217" y="181"/>
                  </a:lnTo>
                  <a:lnTo>
                    <a:pt x="215" y="175"/>
                  </a:lnTo>
                  <a:lnTo>
                    <a:pt x="213" y="167"/>
                  </a:lnTo>
                  <a:lnTo>
                    <a:pt x="211" y="162"/>
                  </a:lnTo>
                  <a:lnTo>
                    <a:pt x="211" y="154"/>
                  </a:lnTo>
                  <a:lnTo>
                    <a:pt x="211" y="148"/>
                  </a:lnTo>
                  <a:lnTo>
                    <a:pt x="207" y="135"/>
                  </a:lnTo>
                  <a:lnTo>
                    <a:pt x="204" y="124"/>
                  </a:lnTo>
                  <a:lnTo>
                    <a:pt x="196" y="112"/>
                  </a:lnTo>
                  <a:lnTo>
                    <a:pt x="190" y="103"/>
                  </a:lnTo>
                  <a:lnTo>
                    <a:pt x="181" y="93"/>
                  </a:lnTo>
                  <a:lnTo>
                    <a:pt x="171" y="84"/>
                  </a:lnTo>
                  <a:lnTo>
                    <a:pt x="160" y="76"/>
                  </a:lnTo>
                  <a:lnTo>
                    <a:pt x="150" y="70"/>
                  </a:lnTo>
                  <a:lnTo>
                    <a:pt x="139" y="63"/>
                  </a:lnTo>
                  <a:lnTo>
                    <a:pt x="131" y="57"/>
                  </a:lnTo>
                  <a:lnTo>
                    <a:pt x="124" y="55"/>
                  </a:lnTo>
                  <a:lnTo>
                    <a:pt x="118" y="53"/>
                  </a:lnTo>
                  <a:lnTo>
                    <a:pt x="110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90" y="48"/>
                  </a:lnTo>
                  <a:lnTo>
                    <a:pt x="82" y="48"/>
                  </a:lnTo>
                  <a:lnTo>
                    <a:pt x="74" y="48"/>
                  </a:lnTo>
                  <a:lnTo>
                    <a:pt x="65" y="46"/>
                  </a:lnTo>
                  <a:lnTo>
                    <a:pt x="57" y="44"/>
                  </a:lnTo>
                  <a:lnTo>
                    <a:pt x="50" y="44"/>
                  </a:lnTo>
                  <a:lnTo>
                    <a:pt x="42" y="44"/>
                  </a:lnTo>
                  <a:lnTo>
                    <a:pt x="29" y="42"/>
                  </a:lnTo>
                  <a:lnTo>
                    <a:pt x="19" y="42"/>
                  </a:lnTo>
                  <a:lnTo>
                    <a:pt x="10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 flipV="1" rot="20995800">
              <a:off x="7008480" y="4090680"/>
              <a:ext cx="288720" cy="227160"/>
            </a:xfrm>
            <a:custGeom>
              <a:avLst/>
              <a:gdLst/>
              <a:ahLst/>
              <a:rect l="l" t="t" r="r" b="b"/>
              <a:pathLst>
                <a:path w="441" h="395">
                  <a:moveTo>
                    <a:pt x="0" y="34"/>
                  </a:moveTo>
                  <a:lnTo>
                    <a:pt x="0" y="34"/>
                  </a:lnTo>
                  <a:lnTo>
                    <a:pt x="6" y="32"/>
                  </a:lnTo>
                  <a:lnTo>
                    <a:pt x="13" y="30"/>
                  </a:lnTo>
                  <a:lnTo>
                    <a:pt x="23" y="28"/>
                  </a:lnTo>
                  <a:lnTo>
                    <a:pt x="28" y="24"/>
                  </a:lnTo>
                  <a:lnTo>
                    <a:pt x="36" y="24"/>
                  </a:lnTo>
                  <a:lnTo>
                    <a:pt x="42" y="22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6" y="19"/>
                  </a:lnTo>
                  <a:lnTo>
                    <a:pt x="74" y="15"/>
                  </a:lnTo>
                  <a:lnTo>
                    <a:pt x="85" y="15"/>
                  </a:lnTo>
                  <a:lnTo>
                    <a:pt x="93" y="13"/>
                  </a:lnTo>
                  <a:lnTo>
                    <a:pt x="102" y="13"/>
                  </a:lnTo>
                  <a:lnTo>
                    <a:pt x="112" y="9"/>
                  </a:lnTo>
                  <a:lnTo>
                    <a:pt x="123" y="9"/>
                  </a:lnTo>
                  <a:lnTo>
                    <a:pt x="133" y="5"/>
                  </a:lnTo>
                  <a:lnTo>
                    <a:pt x="144" y="5"/>
                  </a:lnTo>
                  <a:lnTo>
                    <a:pt x="154" y="2"/>
                  </a:lnTo>
                  <a:lnTo>
                    <a:pt x="165" y="2"/>
                  </a:lnTo>
                  <a:lnTo>
                    <a:pt x="175" y="2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0"/>
                  </a:lnTo>
                  <a:lnTo>
                    <a:pt x="236" y="0"/>
                  </a:lnTo>
                  <a:lnTo>
                    <a:pt x="247" y="2"/>
                  </a:lnTo>
                  <a:lnTo>
                    <a:pt x="255" y="2"/>
                  </a:lnTo>
                  <a:lnTo>
                    <a:pt x="264" y="2"/>
                  </a:lnTo>
                  <a:lnTo>
                    <a:pt x="272" y="2"/>
                  </a:lnTo>
                  <a:lnTo>
                    <a:pt x="281" y="3"/>
                  </a:lnTo>
                  <a:lnTo>
                    <a:pt x="289" y="3"/>
                  </a:lnTo>
                  <a:lnTo>
                    <a:pt x="296" y="5"/>
                  </a:lnTo>
                  <a:lnTo>
                    <a:pt x="304" y="7"/>
                  </a:lnTo>
                  <a:lnTo>
                    <a:pt x="312" y="11"/>
                  </a:lnTo>
                  <a:lnTo>
                    <a:pt x="317" y="13"/>
                  </a:lnTo>
                  <a:lnTo>
                    <a:pt x="325" y="15"/>
                  </a:lnTo>
                  <a:lnTo>
                    <a:pt x="333" y="19"/>
                  </a:lnTo>
                  <a:lnTo>
                    <a:pt x="340" y="22"/>
                  </a:lnTo>
                  <a:lnTo>
                    <a:pt x="352" y="28"/>
                  </a:lnTo>
                  <a:lnTo>
                    <a:pt x="365" y="36"/>
                  </a:lnTo>
                  <a:lnTo>
                    <a:pt x="374" y="43"/>
                  </a:lnTo>
                  <a:lnTo>
                    <a:pt x="384" y="51"/>
                  </a:lnTo>
                  <a:lnTo>
                    <a:pt x="391" y="59"/>
                  </a:lnTo>
                  <a:lnTo>
                    <a:pt x="401" y="70"/>
                  </a:lnTo>
                  <a:lnTo>
                    <a:pt x="409" y="79"/>
                  </a:lnTo>
                  <a:lnTo>
                    <a:pt x="414" y="89"/>
                  </a:lnTo>
                  <a:lnTo>
                    <a:pt x="420" y="100"/>
                  </a:lnTo>
                  <a:lnTo>
                    <a:pt x="426" y="112"/>
                  </a:lnTo>
                  <a:lnTo>
                    <a:pt x="429" y="121"/>
                  </a:lnTo>
                  <a:lnTo>
                    <a:pt x="433" y="131"/>
                  </a:lnTo>
                  <a:lnTo>
                    <a:pt x="435" y="142"/>
                  </a:lnTo>
                  <a:lnTo>
                    <a:pt x="439" y="154"/>
                  </a:lnTo>
                  <a:lnTo>
                    <a:pt x="441" y="163"/>
                  </a:lnTo>
                  <a:lnTo>
                    <a:pt x="441" y="175"/>
                  </a:lnTo>
                  <a:lnTo>
                    <a:pt x="441" y="186"/>
                  </a:lnTo>
                  <a:lnTo>
                    <a:pt x="441" y="197"/>
                  </a:lnTo>
                  <a:lnTo>
                    <a:pt x="439" y="209"/>
                  </a:lnTo>
                  <a:lnTo>
                    <a:pt x="437" y="218"/>
                  </a:lnTo>
                  <a:lnTo>
                    <a:pt x="433" y="230"/>
                  </a:lnTo>
                  <a:lnTo>
                    <a:pt x="429" y="241"/>
                  </a:lnTo>
                  <a:lnTo>
                    <a:pt x="424" y="252"/>
                  </a:lnTo>
                  <a:lnTo>
                    <a:pt x="418" y="264"/>
                  </a:lnTo>
                  <a:lnTo>
                    <a:pt x="410" y="273"/>
                  </a:lnTo>
                  <a:lnTo>
                    <a:pt x="405" y="285"/>
                  </a:lnTo>
                  <a:lnTo>
                    <a:pt x="395" y="292"/>
                  </a:lnTo>
                  <a:lnTo>
                    <a:pt x="386" y="302"/>
                  </a:lnTo>
                  <a:lnTo>
                    <a:pt x="374" y="313"/>
                  </a:lnTo>
                  <a:lnTo>
                    <a:pt x="363" y="323"/>
                  </a:lnTo>
                  <a:lnTo>
                    <a:pt x="352" y="330"/>
                  </a:lnTo>
                  <a:lnTo>
                    <a:pt x="340" y="338"/>
                  </a:lnTo>
                  <a:lnTo>
                    <a:pt x="331" y="346"/>
                  </a:lnTo>
                  <a:lnTo>
                    <a:pt x="319" y="353"/>
                  </a:lnTo>
                  <a:lnTo>
                    <a:pt x="308" y="361"/>
                  </a:lnTo>
                  <a:lnTo>
                    <a:pt x="296" y="366"/>
                  </a:lnTo>
                  <a:lnTo>
                    <a:pt x="287" y="372"/>
                  </a:lnTo>
                  <a:lnTo>
                    <a:pt x="275" y="378"/>
                  </a:lnTo>
                  <a:lnTo>
                    <a:pt x="266" y="384"/>
                  </a:lnTo>
                  <a:lnTo>
                    <a:pt x="260" y="387"/>
                  </a:lnTo>
                  <a:lnTo>
                    <a:pt x="251" y="391"/>
                  </a:lnTo>
                  <a:lnTo>
                    <a:pt x="247" y="395"/>
                  </a:lnTo>
                  <a:lnTo>
                    <a:pt x="247" y="389"/>
                  </a:lnTo>
                  <a:lnTo>
                    <a:pt x="249" y="380"/>
                  </a:lnTo>
                  <a:lnTo>
                    <a:pt x="251" y="374"/>
                  </a:lnTo>
                  <a:lnTo>
                    <a:pt x="253" y="366"/>
                  </a:lnTo>
                  <a:lnTo>
                    <a:pt x="255" y="357"/>
                  </a:lnTo>
                  <a:lnTo>
                    <a:pt x="258" y="347"/>
                  </a:lnTo>
                  <a:lnTo>
                    <a:pt x="260" y="336"/>
                  </a:lnTo>
                  <a:lnTo>
                    <a:pt x="264" y="325"/>
                  </a:lnTo>
                  <a:lnTo>
                    <a:pt x="268" y="313"/>
                  </a:lnTo>
                  <a:lnTo>
                    <a:pt x="272" y="302"/>
                  </a:lnTo>
                  <a:lnTo>
                    <a:pt x="275" y="290"/>
                  </a:lnTo>
                  <a:lnTo>
                    <a:pt x="279" y="279"/>
                  </a:lnTo>
                  <a:lnTo>
                    <a:pt x="283" y="270"/>
                  </a:lnTo>
                  <a:lnTo>
                    <a:pt x="287" y="258"/>
                  </a:lnTo>
                  <a:lnTo>
                    <a:pt x="289" y="247"/>
                  </a:lnTo>
                  <a:lnTo>
                    <a:pt x="291" y="235"/>
                  </a:lnTo>
                  <a:lnTo>
                    <a:pt x="293" y="226"/>
                  </a:lnTo>
                  <a:lnTo>
                    <a:pt x="294" y="218"/>
                  </a:lnTo>
                  <a:lnTo>
                    <a:pt x="294" y="209"/>
                  </a:lnTo>
                  <a:lnTo>
                    <a:pt x="294" y="199"/>
                  </a:lnTo>
                  <a:lnTo>
                    <a:pt x="293" y="194"/>
                  </a:lnTo>
                  <a:lnTo>
                    <a:pt x="293" y="186"/>
                  </a:lnTo>
                  <a:lnTo>
                    <a:pt x="289" y="178"/>
                  </a:lnTo>
                  <a:lnTo>
                    <a:pt x="287" y="171"/>
                  </a:lnTo>
                  <a:lnTo>
                    <a:pt x="283" y="165"/>
                  </a:lnTo>
                  <a:lnTo>
                    <a:pt x="281" y="161"/>
                  </a:lnTo>
                  <a:lnTo>
                    <a:pt x="275" y="150"/>
                  </a:lnTo>
                  <a:lnTo>
                    <a:pt x="270" y="142"/>
                  </a:lnTo>
                  <a:lnTo>
                    <a:pt x="264" y="135"/>
                  </a:lnTo>
                  <a:lnTo>
                    <a:pt x="256" y="127"/>
                  </a:lnTo>
                  <a:lnTo>
                    <a:pt x="251" y="121"/>
                  </a:lnTo>
                  <a:lnTo>
                    <a:pt x="243" y="116"/>
                  </a:lnTo>
                  <a:lnTo>
                    <a:pt x="237" y="112"/>
                  </a:lnTo>
                  <a:lnTo>
                    <a:pt x="232" y="108"/>
                  </a:lnTo>
                  <a:lnTo>
                    <a:pt x="224" y="106"/>
                  </a:lnTo>
                  <a:lnTo>
                    <a:pt x="218" y="102"/>
                  </a:lnTo>
                  <a:lnTo>
                    <a:pt x="209" y="98"/>
                  </a:lnTo>
                  <a:lnTo>
                    <a:pt x="199" y="97"/>
                  </a:lnTo>
                  <a:lnTo>
                    <a:pt x="188" y="93"/>
                  </a:lnTo>
                  <a:lnTo>
                    <a:pt x="177" y="89"/>
                  </a:lnTo>
                  <a:lnTo>
                    <a:pt x="167" y="87"/>
                  </a:lnTo>
                  <a:lnTo>
                    <a:pt x="160" y="85"/>
                  </a:lnTo>
                  <a:lnTo>
                    <a:pt x="154" y="81"/>
                  </a:lnTo>
                  <a:lnTo>
                    <a:pt x="146" y="79"/>
                  </a:lnTo>
                  <a:lnTo>
                    <a:pt x="139" y="78"/>
                  </a:lnTo>
                  <a:lnTo>
                    <a:pt x="131" y="76"/>
                  </a:lnTo>
                  <a:lnTo>
                    <a:pt x="123" y="74"/>
                  </a:lnTo>
                  <a:lnTo>
                    <a:pt x="116" y="72"/>
                  </a:lnTo>
                  <a:lnTo>
                    <a:pt x="108" y="68"/>
                  </a:lnTo>
                  <a:lnTo>
                    <a:pt x="101" y="66"/>
                  </a:lnTo>
                  <a:lnTo>
                    <a:pt x="93" y="64"/>
                  </a:lnTo>
                  <a:lnTo>
                    <a:pt x="85" y="60"/>
                  </a:lnTo>
                  <a:lnTo>
                    <a:pt x="80" y="59"/>
                  </a:lnTo>
                  <a:lnTo>
                    <a:pt x="72" y="57"/>
                  </a:lnTo>
                  <a:lnTo>
                    <a:pt x="66" y="55"/>
                  </a:lnTo>
                  <a:lnTo>
                    <a:pt x="61" y="55"/>
                  </a:lnTo>
                  <a:lnTo>
                    <a:pt x="53" y="51"/>
                  </a:lnTo>
                  <a:lnTo>
                    <a:pt x="45" y="49"/>
                  </a:lnTo>
                  <a:lnTo>
                    <a:pt x="40" y="47"/>
                  </a:lnTo>
                  <a:lnTo>
                    <a:pt x="36" y="45"/>
                  </a:lnTo>
                  <a:lnTo>
                    <a:pt x="25" y="41"/>
                  </a:lnTo>
                  <a:lnTo>
                    <a:pt x="15" y="40"/>
                  </a:lnTo>
                  <a:lnTo>
                    <a:pt x="7" y="36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 rot="20995800">
              <a:off x="6487560" y="4201920"/>
              <a:ext cx="227160" cy="198360"/>
            </a:xfrm>
            <a:custGeom>
              <a:avLst/>
              <a:gdLst/>
              <a:ahLst/>
              <a:rect l="l" t="t" r="r" b="b"/>
              <a:pathLst>
                <a:path w="344" h="344">
                  <a:moveTo>
                    <a:pt x="0" y="29"/>
                  </a:moveTo>
                  <a:lnTo>
                    <a:pt x="2" y="25"/>
                  </a:lnTo>
                  <a:lnTo>
                    <a:pt x="9" y="23"/>
                  </a:lnTo>
                  <a:lnTo>
                    <a:pt x="13" y="21"/>
                  </a:lnTo>
                  <a:lnTo>
                    <a:pt x="21" y="19"/>
                  </a:lnTo>
                  <a:lnTo>
                    <a:pt x="28" y="15"/>
                  </a:lnTo>
                  <a:lnTo>
                    <a:pt x="38" y="14"/>
                  </a:lnTo>
                  <a:lnTo>
                    <a:pt x="44" y="10"/>
                  </a:lnTo>
                  <a:lnTo>
                    <a:pt x="53" y="8"/>
                  </a:lnTo>
                  <a:lnTo>
                    <a:pt x="65" y="6"/>
                  </a:lnTo>
                  <a:lnTo>
                    <a:pt x="76" y="4"/>
                  </a:lnTo>
                  <a:lnTo>
                    <a:pt x="86" y="2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9" y="0"/>
                  </a:lnTo>
                  <a:lnTo>
                    <a:pt x="141" y="0"/>
                  </a:lnTo>
                  <a:lnTo>
                    <a:pt x="150" y="2"/>
                  </a:lnTo>
                  <a:lnTo>
                    <a:pt x="160" y="6"/>
                  </a:lnTo>
                  <a:lnTo>
                    <a:pt x="169" y="6"/>
                  </a:lnTo>
                  <a:lnTo>
                    <a:pt x="179" y="10"/>
                  </a:lnTo>
                  <a:lnTo>
                    <a:pt x="188" y="14"/>
                  </a:lnTo>
                  <a:lnTo>
                    <a:pt x="200" y="19"/>
                  </a:lnTo>
                  <a:lnTo>
                    <a:pt x="209" y="21"/>
                  </a:lnTo>
                  <a:lnTo>
                    <a:pt x="217" y="25"/>
                  </a:lnTo>
                  <a:lnTo>
                    <a:pt x="224" y="31"/>
                  </a:lnTo>
                  <a:lnTo>
                    <a:pt x="234" y="34"/>
                  </a:lnTo>
                  <a:lnTo>
                    <a:pt x="243" y="40"/>
                  </a:lnTo>
                  <a:lnTo>
                    <a:pt x="251" y="44"/>
                  </a:lnTo>
                  <a:lnTo>
                    <a:pt x="259" y="50"/>
                  </a:lnTo>
                  <a:lnTo>
                    <a:pt x="270" y="55"/>
                  </a:lnTo>
                  <a:lnTo>
                    <a:pt x="276" y="59"/>
                  </a:lnTo>
                  <a:lnTo>
                    <a:pt x="281" y="65"/>
                  </a:lnTo>
                  <a:lnTo>
                    <a:pt x="289" y="69"/>
                  </a:lnTo>
                  <a:lnTo>
                    <a:pt x="297" y="74"/>
                  </a:lnTo>
                  <a:lnTo>
                    <a:pt x="308" y="86"/>
                  </a:lnTo>
                  <a:lnTo>
                    <a:pt x="321" y="97"/>
                  </a:lnTo>
                  <a:lnTo>
                    <a:pt x="329" y="109"/>
                  </a:lnTo>
                  <a:lnTo>
                    <a:pt x="336" y="122"/>
                  </a:lnTo>
                  <a:lnTo>
                    <a:pt x="338" y="128"/>
                  </a:lnTo>
                  <a:lnTo>
                    <a:pt x="340" y="135"/>
                  </a:lnTo>
                  <a:lnTo>
                    <a:pt x="342" y="141"/>
                  </a:lnTo>
                  <a:lnTo>
                    <a:pt x="344" y="150"/>
                  </a:lnTo>
                  <a:lnTo>
                    <a:pt x="342" y="158"/>
                  </a:lnTo>
                  <a:lnTo>
                    <a:pt x="342" y="164"/>
                  </a:lnTo>
                  <a:lnTo>
                    <a:pt x="342" y="171"/>
                  </a:lnTo>
                  <a:lnTo>
                    <a:pt x="340" y="181"/>
                  </a:lnTo>
                  <a:lnTo>
                    <a:pt x="336" y="188"/>
                  </a:lnTo>
                  <a:lnTo>
                    <a:pt x="335" y="198"/>
                  </a:lnTo>
                  <a:lnTo>
                    <a:pt x="331" y="206"/>
                  </a:lnTo>
                  <a:lnTo>
                    <a:pt x="329" y="215"/>
                  </a:lnTo>
                  <a:lnTo>
                    <a:pt x="323" y="225"/>
                  </a:lnTo>
                  <a:lnTo>
                    <a:pt x="321" y="234"/>
                  </a:lnTo>
                  <a:lnTo>
                    <a:pt x="316" y="242"/>
                  </a:lnTo>
                  <a:lnTo>
                    <a:pt x="312" y="251"/>
                  </a:lnTo>
                  <a:lnTo>
                    <a:pt x="308" y="261"/>
                  </a:lnTo>
                  <a:lnTo>
                    <a:pt x="304" y="270"/>
                  </a:lnTo>
                  <a:lnTo>
                    <a:pt x="300" y="280"/>
                  </a:lnTo>
                  <a:lnTo>
                    <a:pt x="297" y="289"/>
                  </a:lnTo>
                  <a:lnTo>
                    <a:pt x="293" y="297"/>
                  </a:lnTo>
                  <a:lnTo>
                    <a:pt x="289" y="306"/>
                  </a:lnTo>
                  <a:lnTo>
                    <a:pt x="285" y="312"/>
                  </a:lnTo>
                  <a:lnTo>
                    <a:pt x="281" y="318"/>
                  </a:lnTo>
                  <a:lnTo>
                    <a:pt x="272" y="329"/>
                  </a:lnTo>
                  <a:lnTo>
                    <a:pt x="262" y="337"/>
                  </a:lnTo>
                  <a:lnTo>
                    <a:pt x="253" y="340"/>
                  </a:lnTo>
                  <a:lnTo>
                    <a:pt x="241" y="344"/>
                  </a:lnTo>
                  <a:lnTo>
                    <a:pt x="236" y="344"/>
                  </a:lnTo>
                  <a:lnTo>
                    <a:pt x="230" y="344"/>
                  </a:lnTo>
                  <a:lnTo>
                    <a:pt x="222" y="344"/>
                  </a:lnTo>
                  <a:lnTo>
                    <a:pt x="217" y="344"/>
                  </a:lnTo>
                  <a:lnTo>
                    <a:pt x="209" y="342"/>
                  </a:lnTo>
                  <a:lnTo>
                    <a:pt x="200" y="340"/>
                  </a:lnTo>
                  <a:lnTo>
                    <a:pt x="192" y="339"/>
                  </a:lnTo>
                  <a:lnTo>
                    <a:pt x="182" y="337"/>
                  </a:lnTo>
                  <a:lnTo>
                    <a:pt x="173" y="335"/>
                  </a:lnTo>
                  <a:lnTo>
                    <a:pt x="165" y="331"/>
                  </a:lnTo>
                  <a:lnTo>
                    <a:pt x="156" y="329"/>
                  </a:lnTo>
                  <a:lnTo>
                    <a:pt x="150" y="327"/>
                  </a:lnTo>
                  <a:lnTo>
                    <a:pt x="141" y="323"/>
                  </a:lnTo>
                  <a:lnTo>
                    <a:pt x="135" y="321"/>
                  </a:lnTo>
                  <a:lnTo>
                    <a:pt x="127" y="318"/>
                  </a:lnTo>
                  <a:lnTo>
                    <a:pt x="124" y="318"/>
                  </a:lnTo>
                  <a:lnTo>
                    <a:pt x="116" y="314"/>
                  </a:lnTo>
                  <a:lnTo>
                    <a:pt x="114" y="314"/>
                  </a:lnTo>
                  <a:lnTo>
                    <a:pt x="114" y="312"/>
                  </a:lnTo>
                  <a:lnTo>
                    <a:pt x="122" y="306"/>
                  </a:lnTo>
                  <a:lnTo>
                    <a:pt x="127" y="297"/>
                  </a:lnTo>
                  <a:lnTo>
                    <a:pt x="141" y="287"/>
                  </a:lnTo>
                  <a:lnTo>
                    <a:pt x="146" y="280"/>
                  </a:lnTo>
                  <a:lnTo>
                    <a:pt x="152" y="274"/>
                  </a:lnTo>
                  <a:lnTo>
                    <a:pt x="160" y="268"/>
                  </a:lnTo>
                  <a:lnTo>
                    <a:pt x="165" y="263"/>
                  </a:lnTo>
                  <a:lnTo>
                    <a:pt x="173" y="255"/>
                  </a:lnTo>
                  <a:lnTo>
                    <a:pt x="181" y="249"/>
                  </a:lnTo>
                  <a:lnTo>
                    <a:pt x="188" y="244"/>
                  </a:lnTo>
                  <a:lnTo>
                    <a:pt x="196" y="238"/>
                  </a:lnTo>
                  <a:lnTo>
                    <a:pt x="205" y="226"/>
                  </a:lnTo>
                  <a:lnTo>
                    <a:pt x="215" y="215"/>
                  </a:lnTo>
                  <a:lnTo>
                    <a:pt x="221" y="202"/>
                  </a:lnTo>
                  <a:lnTo>
                    <a:pt x="224" y="190"/>
                  </a:lnTo>
                  <a:lnTo>
                    <a:pt x="224" y="177"/>
                  </a:lnTo>
                  <a:lnTo>
                    <a:pt x="221" y="168"/>
                  </a:lnTo>
                  <a:lnTo>
                    <a:pt x="215" y="154"/>
                  </a:lnTo>
                  <a:lnTo>
                    <a:pt x="209" y="147"/>
                  </a:lnTo>
                  <a:lnTo>
                    <a:pt x="198" y="137"/>
                  </a:lnTo>
                  <a:lnTo>
                    <a:pt x="192" y="131"/>
                  </a:lnTo>
                  <a:lnTo>
                    <a:pt x="186" y="128"/>
                  </a:lnTo>
                  <a:lnTo>
                    <a:pt x="181" y="126"/>
                  </a:lnTo>
                  <a:lnTo>
                    <a:pt x="173" y="120"/>
                  </a:lnTo>
                  <a:lnTo>
                    <a:pt x="163" y="116"/>
                  </a:lnTo>
                  <a:lnTo>
                    <a:pt x="156" y="112"/>
                  </a:lnTo>
                  <a:lnTo>
                    <a:pt x="150" y="109"/>
                  </a:lnTo>
                  <a:lnTo>
                    <a:pt x="143" y="105"/>
                  </a:lnTo>
                  <a:lnTo>
                    <a:pt x="135" y="101"/>
                  </a:lnTo>
                  <a:lnTo>
                    <a:pt x="124" y="93"/>
                  </a:lnTo>
                  <a:lnTo>
                    <a:pt x="112" y="88"/>
                  </a:lnTo>
                  <a:lnTo>
                    <a:pt x="101" y="82"/>
                  </a:lnTo>
                  <a:lnTo>
                    <a:pt x="89" y="76"/>
                  </a:lnTo>
                  <a:lnTo>
                    <a:pt x="78" y="69"/>
                  </a:lnTo>
                  <a:lnTo>
                    <a:pt x="67" y="63"/>
                  </a:lnTo>
                  <a:lnTo>
                    <a:pt x="57" y="57"/>
                  </a:lnTo>
                  <a:lnTo>
                    <a:pt x="47" y="52"/>
                  </a:lnTo>
                  <a:lnTo>
                    <a:pt x="36" y="46"/>
                  </a:lnTo>
                  <a:lnTo>
                    <a:pt x="28" y="42"/>
                  </a:lnTo>
                  <a:lnTo>
                    <a:pt x="19" y="38"/>
                  </a:lnTo>
                  <a:lnTo>
                    <a:pt x="13" y="34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 flipV="1" rot="20995800">
              <a:off x="6205680" y="3775320"/>
              <a:ext cx="240120" cy="371520"/>
            </a:xfrm>
            <a:custGeom>
              <a:avLst/>
              <a:gdLst/>
              <a:ahLst/>
              <a:rect l="l" t="t" r="r" b="b"/>
              <a:pathLst>
                <a:path w="365" h="645">
                  <a:moveTo>
                    <a:pt x="0" y="31"/>
                  </a:moveTo>
                  <a:lnTo>
                    <a:pt x="0" y="29"/>
                  </a:lnTo>
                  <a:lnTo>
                    <a:pt x="4" y="29"/>
                  </a:lnTo>
                  <a:lnTo>
                    <a:pt x="9" y="25"/>
                  </a:lnTo>
                  <a:lnTo>
                    <a:pt x="19" y="25"/>
                  </a:lnTo>
                  <a:lnTo>
                    <a:pt x="28" y="21"/>
                  </a:lnTo>
                  <a:lnTo>
                    <a:pt x="38" y="18"/>
                  </a:lnTo>
                  <a:lnTo>
                    <a:pt x="43" y="16"/>
                  </a:lnTo>
                  <a:lnTo>
                    <a:pt x="51" y="16"/>
                  </a:lnTo>
                  <a:lnTo>
                    <a:pt x="59" y="14"/>
                  </a:lnTo>
                  <a:lnTo>
                    <a:pt x="66" y="14"/>
                  </a:lnTo>
                  <a:lnTo>
                    <a:pt x="74" y="12"/>
                  </a:lnTo>
                  <a:lnTo>
                    <a:pt x="80" y="10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6"/>
                  </a:lnTo>
                  <a:lnTo>
                    <a:pt x="112" y="6"/>
                  </a:lnTo>
                  <a:lnTo>
                    <a:pt x="120" y="4"/>
                  </a:lnTo>
                  <a:lnTo>
                    <a:pt x="129" y="4"/>
                  </a:lnTo>
                  <a:lnTo>
                    <a:pt x="137" y="2"/>
                  </a:lnTo>
                  <a:lnTo>
                    <a:pt x="146" y="2"/>
                  </a:lnTo>
                  <a:lnTo>
                    <a:pt x="154" y="2"/>
                  </a:lnTo>
                  <a:lnTo>
                    <a:pt x="163" y="2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6" y="2"/>
                  </a:lnTo>
                  <a:lnTo>
                    <a:pt x="196" y="2"/>
                  </a:lnTo>
                  <a:lnTo>
                    <a:pt x="201" y="2"/>
                  </a:lnTo>
                  <a:lnTo>
                    <a:pt x="209" y="2"/>
                  </a:lnTo>
                  <a:lnTo>
                    <a:pt x="216" y="2"/>
                  </a:lnTo>
                  <a:lnTo>
                    <a:pt x="224" y="6"/>
                  </a:lnTo>
                  <a:lnTo>
                    <a:pt x="236" y="8"/>
                  </a:lnTo>
                  <a:lnTo>
                    <a:pt x="249" y="12"/>
                  </a:lnTo>
                  <a:lnTo>
                    <a:pt x="260" y="16"/>
                  </a:lnTo>
                  <a:lnTo>
                    <a:pt x="270" y="21"/>
                  </a:lnTo>
                  <a:lnTo>
                    <a:pt x="279" y="29"/>
                  </a:lnTo>
                  <a:lnTo>
                    <a:pt x="291" y="35"/>
                  </a:lnTo>
                  <a:lnTo>
                    <a:pt x="298" y="42"/>
                  </a:lnTo>
                  <a:lnTo>
                    <a:pt x="306" y="50"/>
                  </a:lnTo>
                  <a:lnTo>
                    <a:pt x="313" y="59"/>
                  </a:lnTo>
                  <a:lnTo>
                    <a:pt x="321" y="69"/>
                  </a:lnTo>
                  <a:lnTo>
                    <a:pt x="327" y="80"/>
                  </a:lnTo>
                  <a:lnTo>
                    <a:pt x="332" y="92"/>
                  </a:lnTo>
                  <a:lnTo>
                    <a:pt x="338" y="103"/>
                  </a:lnTo>
                  <a:lnTo>
                    <a:pt x="344" y="114"/>
                  </a:lnTo>
                  <a:lnTo>
                    <a:pt x="348" y="128"/>
                  </a:lnTo>
                  <a:lnTo>
                    <a:pt x="351" y="141"/>
                  </a:lnTo>
                  <a:lnTo>
                    <a:pt x="353" y="147"/>
                  </a:lnTo>
                  <a:lnTo>
                    <a:pt x="353" y="154"/>
                  </a:lnTo>
                  <a:lnTo>
                    <a:pt x="355" y="160"/>
                  </a:lnTo>
                  <a:lnTo>
                    <a:pt x="357" y="168"/>
                  </a:lnTo>
                  <a:lnTo>
                    <a:pt x="357" y="175"/>
                  </a:lnTo>
                  <a:lnTo>
                    <a:pt x="359" y="183"/>
                  </a:lnTo>
                  <a:lnTo>
                    <a:pt x="359" y="189"/>
                  </a:lnTo>
                  <a:lnTo>
                    <a:pt x="361" y="196"/>
                  </a:lnTo>
                  <a:lnTo>
                    <a:pt x="361" y="204"/>
                  </a:lnTo>
                  <a:lnTo>
                    <a:pt x="363" y="211"/>
                  </a:lnTo>
                  <a:lnTo>
                    <a:pt x="363" y="219"/>
                  </a:lnTo>
                  <a:lnTo>
                    <a:pt x="365" y="229"/>
                  </a:lnTo>
                  <a:lnTo>
                    <a:pt x="365" y="234"/>
                  </a:lnTo>
                  <a:lnTo>
                    <a:pt x="365" y="242"/>
                  </a:lnTo>
                  <a:lnTo>
                    <a:pt x="365" y="251"/>
                  </a:lnTo>
                  <a:lnTo>
                    <a:pt x="365" y="259"/>
                  </a:lnTo>
                  <a:lnTo>
                    <a:pt x="363" y="267"/>
                  </a:lnTo>
                  <a:lnTo>
                    <a:pt x="363" y="274"/>
                  </a:lnTo>
                  <a:lnTo>
                    <a:pt x="363" y="284"/>
                  </a:lnTo>
                  <a:lnTo>
                    <a:pt x="363" y="293"/>
                  </a:lnTo>
                  <a:lnTo>
                    <a:pt x="361" y="299"/>
                  </a:lnTo>
                  <a:lnTo>
                    <a:pt x="361" y="308"/>
                  </a:lnTo>
                  <a:lnTo>
                    <a:pt x="359" y="318"/>
                  </a:lnTo>
                  <a:lnTo>
                    <a:pt x="359" y="327"/>
                  </a:lnTo>
                  <a:lnTo>
                    <a:pt x="355" y="335"/>
                  </a:lnTo>
                  <a:lnTo>
                    <a:pt x="355" y="346"/>
                  </a:lnTo>
                  <a:lnTo>
                    <a:pt x="353" y="354"/>
                  </a:lnTo>
                  <a:lnTo>
                    <a:pt x="353" y="365"/>
                  </a:lnTo>
                  <a:lnTo>
                    <a:pt x="350" y="373"/>
                  </a:lnTo>
                  <a:lnTo>
                    <a:pt x="346" y="383"/>
                  </a:lnTo>
                  <a:lnTo>
                    <a:pt x="344" y="392"/>
                  </a:lnTo>
                  <a:lnTo>
                    <a:pt x="342" y="402"/>
                  </a:lnTo>
                  <a:lnTo>
                    <a:pt x="338" y="409"/>
                  </a:lnTo>
                  <a:lnTo>
                    <a:pt x="336" y="421"/>
                  </a:lnTo>
                  <a:lnTo>
                    <a:pt x="332" y="428"/>
                  </a:lnTo>
                  <a:lnTo>
                    <a:pt x="331" y="440"/>
                  </a:lnTo>
                  <a:lnTo>
                    <a:pt x="327" y="447"/>
                  </a:lnTo>
                  <a:lnTo>
                    <a:pt x="323" y="457"/>
                  </a:lnTo>
                  <a:lnTo>
                    <a:pt x="319" y="466"/>
                  </a:lnTo>
                  <a:lnTo>
                    <a:pt x="315" y="476"/>
                  </a:lnTo>
                  <a:lnTo>
                    <a:pt x="312" y="485"/>
                  </a:lnTo>
                  <a:lnTo>
                    <a:pt x="308" y="495"/>
                  </a:lnTo>
                  <a:lnTo>
                    <a:pt x="302" y="502"/>
                  </a:lnTo>
                  <a:lnTo>
                    <a:pt x="298" y="512"/>
                  </a:lnTo>
                  <a:lnTo>
                    <a:pt x="293" y="519"/>
                  </a:lnTo>
                  <a:lnTo>
                    <a:pt x="289" y="529"/>
                  </a:lnTo>
                  <a:lnTo>
                    <a:pt x="283" y="536"/>
                  </a:lnTo>
                  <a:lnTo>
                    <a:pt x="279" y="544"/>
                  </a:lnTo>
                  <a:lnTo>
                    <a:pt x="274" y="552"/>
                  </a:lnTo>
                  <a:lnTo>
                    <a:pt x="270" y="559"/>
                  </a:lnTo>
                  <a:lnTo>
                    <a:pt x="264" y="567"/>
                  </a:lnTo>
                  <a:lnTo>
                    <a:pt x="260" y="576"/>
                  </a:lnTo>
                  <a:lnTo>
                    <a:pt x="251" y="588"/>
                  </a:lnTo>
                  <a:lnTo>
                    <a:pt x="239" y="601"/>
                  </a:lnTo>
                  <a:lnTo>
                    <a:pt x="228" y="612"/>
                  </a:lnTo>
                  <a:lnTo>
                    <a:pt x="218" y="622"/>
                  </a:lnTo>
                  <a:lnTo>
                    <a:pt x="207" y="628"/>
                  </a:lnTo>
                  <a:lnTo>
                    <a:pt x="196" y="633"/>
                  </a:lnTo>
                  <a:lnTo>
                    <a:pt x="186" y="637"/>
                  </a:lnTo>
                  <a:lnTo>
                    <a:pt x="177" y="641"/>
                  </a:lnTo>
                  <a:lnTo>
                    <a:pt x="165" y="643"/>
                  </a:lnTo>
                  <a:lnTo>
                    <a:pt x="154" y="645"/>
                  </a:lnTo>
                  <a:lnTo>
                    <a:pt x="144" y="645"/>
                  </a:lnTo>
                  <a:lnTo>
                    <a:pt x="137" y="645"/>
                  </a:lnTo>
                  <a:lnTo>
                    <a:pt x="127" y="643"/>
                  </a:lnTo>
                  <a:lnTo>
                    <a:pt x="121" y="641"/>
                  </a:lnTo>
                  <a:lnTo>
                    <a:pt x="114" y="641"/>
                  </a:lnTo>
                  <a:lnTo>
                    <a:pt x="110" y="639"/>
                  </a:lnTo>
                  <a:lnTo>
                    <a:pt x="102" y="637"/>
                  </a:lnTo>
                  <a:lnTo>
                    <a:pt x="101" y="637"/>
                  </a:lnTo>
                  <a:lnTo>
                    <a:pt x="102" y="635"/>
                  </a:lnTo>
                  <a:lnTo>
                    <a:pt x="112" y="628"/>
                  </a:lnTo>
                  <a:lnTo>
                    <a:pt x="116" y="622"/>
                  </a:lnTo>
                  <a:lnTo>
                    <a:pt x="123" y="618"/>
                  </a:lnTo>
                  <a:lnTo>
                    <a:pt x="131" y="612"/>
                  </a:lnTo>
                  <a:lnTo>
                    <a:pt x="139" y="605"/>
                  </a:lnTo>
                  <a:lnTo>
                    <a:pt x="146" y="597"/>
                  </a:lnTo>
                  <a:lnTo>
                    <a:pt x="156" y="590"/>
                  </a:lnTo>
                  <a:lnTo>
                    <a:pt x="163" y="580"/>
                  </a:lnTo>
                  <a:lnTo>
                    <a:pt x="173" y="571"/>
                  </a:lnTo>
                  <a:lnTo>
                    <a:pt x="180" y="559"/>
                  </a:lnTo>
                  <a:lnTo>
                    <a:pt x="188" y="550"/>
                  </a:lnTo>
                  <a:lnTo>
                    <a:pt x="196" y="538"/>
                  </a:lnTo>
                  <a:lnTo>
                    <a:pt x="203" y="527"/>
                  </a:lnTo>
                  <a:lnTo>
                    <a:pt x="205" y="519"/>
                  </a:lnTo>
                  <a:lnTo>
                    <a:pt x="209" y="514"/>
                  </a:lnTo>
                  <a:lnTo>
                    <a:pt x="211" y="506"/>
                  </a:lnTo>
                  <a:lnTo>
                    <a:pt x="213" y="500"/>
                  </a:lnTo>
                  <a:lnTo>
                    <a:pt x="216" y="487"/>
                  </a:lnTo>
                  <a:lnTo>
                    <a:pt x="220" y="476"/>
                  </a:lnTo>
                  <a:lnTo>
                    <a:pt x="220" y="468"/>
                  </a:lnTo>
                  <a:lnTo>
                    <a:pt x="222" y="460"/>
                  </a:lnTo>
                  <a:lnTo>
                    <a:pt x="224" y="453"/>
                  </a:lnTo>
                  <a:lnTo>
                    <a:pt x="224" y="447"/>
                  </a:lnTo>
                  <a:lnTo>
                    <a:pt x="226" y="441"/>
                  </a:lnTo>
                  <a:lnTo>
                    <a:pt x="228" y="434"/>
                  </a:lnTo>
                  <a:lnTo>
                    <a:pt x="228" y="426"/>
                  </a:lnTo>
                  <a:lnTo>
                    <a:pt x="230" y="421"/>
                  </a:lnTo>
                  <a:lnTo>
                    <a:pt x="230" y="413"/>
                  </a:lnTo>
                  <a:lnTo>
                    <a:pt x="230" y="405"/>
                  </a:lnTo>
                  <a:lnTo>
                    <a:pt x="230" y="400"/>
                  </a:lnTo>
                  <a:lnTo>
                    <a:pt x="230" y="392"/>
                  </a:lnTo>
                  <a:lnTo>
                    <a:pt x="230" y="384"/>
                  </a:lnTo>
                  <a:lnTo>
                    <a:pt x="230" y="377"/>
                  </a:lnTo>
                  <a:lnTo>
                    <a:pt x="230" y="369"/>
                  </a:lnTo>
                  <a:lnTo>
                    <a:pt x="232" y="363"/>
                  </a:lnTo>
                  <a:lnTo>
                    <a:pt x="232" y="358"/>
                  </a:lnTo>
                  <a:lnTo>
                    <a:pt x="232" y="350"/>
                  </a:lnTo>
                  <a:lnTo>
                    <a:pt x="232" y="344"/>
                  </a:lnTo>
                  <a:lnTo>
                    <a:pt x="232" y="337"/>
                  </a:lnTo>
                  <a:lnTo>
                    <a:pt x="234" y="325"/>
                  </a:lnTo>
                  <a:lnTo>
                    <a:pt x="234" y="314"/>
                  </a:lnTo>
                  <a:lnTo>
                    <a:pt x="234" y="301"/>
                  </a:lnTo>
                  <a:lnTo>
                    <a:pt x="234" y="289"/>
                  </a:lnTo>
                  <a:lnTo>
                    <a:pt x="234" y="280"/>
                  </a:lnTo>
                  <a:lnTo>
                    <a:pt x="236" y="268"/>
                  </a:lnTo>
                  <a:lnTo>
                    <a:pt x="234" y="257"/>
                  </a:lnTo>
                  <a:lnTo>
                    <a:pt x="234" y="248"/>
                  </a:lnTo>
                  <a:lnTo>
                    <a:pt x="234" y="238"/>
                  </a:lnTo>
                  <a:lnTo>
                    <a:pt x="234" y="230"/>
                  </a:lnTo>
                  <a:lnTo>
                    <a:pt x="232" y="219"/>
                  </a:lnTo>
                  <a:lnTo>
                    <a:pt x="230" y="211"/>
                  </a:lnTo>
                  <a:lnTo>
                    <a:pt x="224" y="202"/>
                  </a:lnTo>
                  <a:lnTo>
                    <a:pt x="220" y="192"/>
                  </a:lnTo>
                  <a:lnTo>
                    <a:pt x="215" y="183"/>
                  </a:lnTo>
                  <a:lnTo>
                    <a:pt x="207" y="173"/>
                  </a:lnTo>
                  <a:lnTo>
                    <a:pt x="197" y="164"/>
                  </a:lnTo>
                  <a:lnTo>
                    <a:pt x="188" y="154"/>
                  </a:lnTo>
                  <a:lnTo>
                    <a:pt x="182" y="149"/>
                  </a:lnTo>
                  <a:lnTo>
                    <a:pt x="177" y="145"/>
                  </a:lnTo>
                  <a:lnTo>
                    <a:pt x="169" y="137"/>
                  </a:lnTo>
                  <a:lnTo>
                    <a:pt x="163" y="134"/>
                  </a:lnTo>
                  <a:lnTo>
                    <a:pt x="156" y="128"/>
                  </a:lnTo>
                  <a:lnTo>
                    <a:pt x="148" y="122"/>
                  </a:lnTo>
                  <a:lnTo>
                    <a:pt x="140" y="116"/>
                  </a:lnTo>
                  <a:lnTo>
                    <a:pt x="135" y="113"/>
                  </a:lnTo>
                  <a:lnTo>
                    <a:pt x="125" y="105"/>
                  </a:lnTo>
                  <a:lnTo>
                    <a:pt x="118" y="101"/>
                  </a:lnTo>
                  <a:lnTo>
                    <a:pt x="108" y="95"/>
                  </a:lnTo>
                  <a:lnTo>
                    <a:pt x="102" y="90"/>
                  </a:lnTo>
                  <a:lnTo>
                    <a:pt x="93" y="84"/>
                  </a:lnTo>
                  <a:lnTo>
                    <a:pt x="85" y="80"/>
                  </a:lnTo>
                  <a:lnTo>
                    <a:pt x="80" y="75"/>
                  </a:lnTo>
                  <a:lnTo>
                    <a:pt x="72" y="71"/>
                  </a:lnTo>
                  <a:lnTo>
                    <a:pt x="64" y="67"/>
                  </a:lnTo>
                  <a:lnTo>
                    <a:pt x="57" y="61"/>
                  </a:lnTo>
                  <a:lnTo>
                    <a:pt x="49" y="57"/>
                  </a:lnTo>
                  <a:lnTo>
                    <a:pt x="42" y="54"/>
                  </a:lnTo>
                  <a:lnTo>
                    <a:pt x="28" y="46"/>
                  </a:lnTo>
                  <a:lnTo>
                    <a:pt x="19" y="40"/>
                  </a:lnTo>
                  <a:lnTo>
                    <a:pt x="9" y="35"/>
                  </a:lnTo>
                  <a:lnTo>
                    <a:pt x="4" y="3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 flipV="1" rot="20995800">
              <a:off x="6626160" y="3736080"/>
              <a:ext cx="309960" cy="334800"/>
            </a:xfrm>
            <a:custGeom>
              <a:avLst/>
              <a:gdLst/>
              <a:ahLst/>
              <a:rect l="l" t="t" r="r" b="b"/>
              <a:pathLst>
                <a:path w="471" h="580">
                  <a:moveTo>
                    <a:pt x="0" y="4"/>
                  </a:moveTo>
                  <a:lnTo>
                    <a:pt x="0" y="4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2"/>
                  </a:lnTo>
                  <a:lnTo>
                    <a:pt x="65" y="2"/>
                  </a:lnTo>
                  <a:lnTo>
                    <a:pt x="70" y="6"/>
                  </a:lnTo>
                  <a:lnTo>
                    <a:pt x="78" y="7"/>
                  </a:lnTo>
                  <a:lnTo>
                    <a:pt x="85" y="13"/>
                  </a:lnTo>
                  <a:lnTo>
                    <a:pt x="97" y="19"/>
                  </a:lnTo>
                  <a:lnTo>
                    <a:pt x="106" y="32"/>
                  </a:lnTo>
                  <a:lnTo>
                    <a:pt x="112" y="36"/>
                  </a:lnTo>
                  <a:lnTo>
                    <a:pt x="116" y="44"/>
                  </a:lnTo>
                  <a:lnTo>
                    <a:pt x="122" y="51"/>
                  </a:lnTo>
                  <a:lnTo>
                    <a:pt x="125" y="57"/>
                  </a:lnTo>
                  <a:lnTo>
                    <a:pt x="129" y="64"/>
                  </a:lnTo>
                  <a:lnTo>
                    <a:pt x="135" y="70"/>
                  </a:lnTo>
                  <a:lnTo>
                    <a:pt x="139" y="78"/>
                  </a:lnTo>
                  <a:lnTo>
                    <a:pt x="144" y="85"/>
                  </a:lnTo>
                  <a:lnTo>
                    <a:pt x="148" y="91"/>
                  </a:lnTo>
                  <a:lnTo>
                    <a:pt x="154" y="99"/>
                  </a:lnTo>
                  <a:lnTo>
                    <a:pt x="158" y="104"/>
                  </a:lnTo>
                  <a:lnTo>
                    <a:pt x="163" y="110"/>
                  </a:lnTo>
                  <a:lnTo>
                    <a:pt x="175" y="120"/>
                  </a:lnTo>
                  <a:lnTo>
                    <a:pt x="188" y="129"/>
                  </a:lnTo>
                  <a:lnTo>
                    <a:pt x="194" y="131"/>
                  </a:lnTo>
                  <a:lnTo>
                    <a:pt x="201" y="135"/>
                  </a:lnTo>
                  <a:lnTo>
                    <a:pt x="209" y="137"/>
                  </a:lnTo>
                  <a:lnTo>
                    <a:pt x="215" y="139"/>
                  </a:lnTo>
                  <a:lnTo>
                    <a:pt x="220" y="141"/>
                  </a:lnTo>
                  <a:lnTo>
                    <a:pt x="228" y="142"/>
                  </a:lnTo>
                  <a:lnTo>
                    <a:pt x="236" y="142"/>
                  </a:lnTo>
                  <a:lnTo>
                    <a:pt x="243" y="142"/>
                  </a:lnTo>
                  <a:lnTo>
                    <a:pt x="249" y="142"/>
                  </a:lnTo>
                  <a:lnTo>
                    <a:pt x="257" y="142"/>
                  </a:lnTo>
                  <a:lnTo>
                    <a:pt x="264" y="142"/>
                  </a:lnTo>
                  <a:lnTo>
                    <a:pt x="270" y="141"/>
                  </a:lnTo>
                  <a:lnTo>
                    <a:pt x="281" y="135"/>
                  </a:lnTo>
                  <a:lnTo>
                    <a:pt x="293" y="131"/>
                  </a:lnTo>
                  <a:lnTo>
                    <a:pt x="304" y="127"/>
                  </a:lnTo>
                  <a:lnTo>
                    <a:pt x="315" y="123"/>
                  </a:lnTo>
                  <a:lnTo>
                    <a:pt x="325" y="120"/>
                  </a:lnTo>
                  <a:lnTo>
                    <a:pt x="335" y="116"/>
                  </a:lnTo>
                  <a:lnTo>
                    <a:pt x="344" y="112"/>
                  </a:lnTo>
                  <a:lnTo>
                    <a:pt x="354" y="110"/>
                  </a:lnTo>
                  <a:lnTo>
                    <a:pt x="359" y="110"/>
                  </a:lnTo>
                  <a:lnTo>
                    <a:pt x="365" y="110"/>
                  </a:lnTo>
                  <a:lnTo>
                    <a:pt x="371" y="112"/>
                  </a:lnTo>
                  <a:lnTo>
                    <a:pt x="376" y="120"/>
                  </a:lnTo>
                  <a:lnTo>
                    <a:pt x="382" y="125"/>
                  </a:lnTo>
                  <a:lnTo>
                    <a:pt x="388" y="131"/>
                  </a:lnTo>
                  <a:lnTo>
                    <a:pt x="395" y="142"/>
                  </a:lnTo>
                  <a:lnTo>
                    <a:pt x="401" y="154"/>
                  </a:lnTo>
                  <a:lnTo>
                    <a:pt x="405" y="160"/>
                  </a:lnTo>
                  <a:lnTo>
                    <a:pt x="407" y="165"/>
                  </a:lnTo>
                  <a:lnTo>
                    <a:pt x="411" y="173"/>
                  </a:lnTo>
                  <a:lnTo>
                    <a:pt x="414" y="180"/>
                  </a:lnTo>
                  <a:lnTo>
                    <a:pt x="416" y="186"/>
                  </a:lnTo>
                  <a:lnTo>
                    <a:pt x="420" y="196"/>
                  </a:lnTo>
                  <a:lnTo>
                    <a:pt x="424" y="203"/>
                  </a:lnTo>
                  <a:lnTo>
                    <a:pt x="428" y="211"/>
                  </a:lnTo>
                  <a:lnTo>
                    <a:pt x="430" y="218"/>
                  </a:lnTo>
                  <a:lnTo>
                    <a:pt x="433" y="226"/>
                  </a:lnTo>
                  <a:lnTo>
                    <a:pt x="437" y="236"/>
                  </a:lnTo>
                  <a:lnTo>
                    <a:pt x="441" y="243"/>
                  </a:lnTo>
                  <a:lnTo>
                    <a:pt x="443" y="251"/>
                  </a:lnTo>
                  <a:lnTo>
                    <a:pt x="445" y="258"/>
                  </a:lnTo>
                  <a:lnTo>
                    <a:pt x="447" y="268"/>
                  </a:lnTo>
                  <a:lnTo>
                    <a:pt x="450" y="275"/>
                  </a:lnTo>
                  <a:lnTo>
                    <a:pt x="452" y="281"/>
                  </a:lnTo>
                  <a:lnTo>
                    <a:pt x="456" y="289"/>
                  </a:lnTo>
                  <a:lnTo>
                    <a:pt x="458" y="296"/>
                  </a:lnTo>
                  <a:lnTo>
                    <a:pt x="460" y="302"/>
                  </a:lnTo>
                  <a:lnTo>
                    <a:pt x="464" y="315"/>
                  </a:lnTo>
                  <a:lnTo>
                    <a:pt x="469" y="329"/>
                  </a:lnTo>
                  <a:lnTo>
                    <a:pt x="469" y="340"/>
                  </a:lnTo>
                  <a:lnTo>
                    <a:pt x="471" y="351"/>
                  </a:lnTo>
                  <a:lnTo>
                    <a:pt x="469" y="365"/>
                  </a:lnTo>
                  <a:lnTo>
                    <a:pt x="466" y="376"/>
                  </a:lnTo>
                  <a:lnTo>
                    <a:pt x="462" y="382"/>
                  </a:lnTo>
                  <a:lnTo>
                    <a:pt x="460" y="391"/>
                  </a:lnTo>
                  <a:lnTo>
                    <a:pt x="456" y="401"/>
                  </a:lnTo>
                  <a:lnTo>
                    <a:pt x="454" y="412"/>
                  </a:lnTo>
                  <a:lnTo>
                    <a:pt x="450" y="422"/>
                  </a:lnTo>
                  <a:lnTo>
                    <a:pt x="447" y="435"/>
                  </a:lnTo>
                  <a:lnTo>
                    <a:pt x="443" y="441"/>
                  </a:lnTo>
                  <a:lnTo>
                    <a:pt x="441" y="448"/>
                  </a:lnTo>
                  <a:lnTo>
                    <a:pt x="439" y="456"/>
                  </a:lnTo>
                  <a:lnTo>
                    <a:pt x="437" y="464"/>
                  </a:lnTo>
                  <a:lnTo>
                    <a:pt x="431" y="475"/>
                  </a:lnTo>
                  <a:lnTo>
                    <a:pt x="426" y="488"/>
                  </a:lnTo>
                  <a:lnTo>
                    <a:pt x="418" y="500"/>
                  </a:lnTo>
                  <a:lnTo>
                    <a:pt x="411" y="513"/>
                  </a:lnTo>
                  <a:lnTo>
                    <a:pt x="403" y="523"/>
                  </a:lnTo>
                  <a:lnTo>
                    <a:pt x="395" y="532"/>
                  </a:lnTo>
                  <a:lnTo>
                    <a:pt x="384" y="540"/>
                  </a:lnTo>
                  <a:lnTo>
                    <a:pt x="374" y="547"/>
                  </a:lnTo>
                  <a:lnTo>
                    <a:pt x="367" y="547"/>
                  </a:lnTo>
                  <a:lnTo>
                    <a:pt x="361" y="551"/>
                  </a:lnTo>
                  <a:lnTo>
                    <a:pt x="354" y="553"/>
                  </a:lnTo>
                  <a:lnTo>
                    <a:pt x="348" y="555"/>
                  </a:lnTo>
                  <a:lnTo>
                    <a:pt x="338" y="557"/>
                  </a:lnTo>
                  <a:lnTo>
                    <a:pt x="331" y="559"/>
                  </a:lnTo>
                  <a:lnTo>
                    <a:pt x="325" y="561"/>
                  </a:lnTo>
                  <a:lnTo>
                    <a:pt x="317" y="562"/>
                  </a:lnTo>
                  <a:lnTo>
                    <a:pt x="308" y="564"/>
                  </a:lnTo>
                  <a:lnTo>
                    <a:pt x="300" y="564"/>
                  </a:lnTo>
                  <a:lnTo>
                    <a:pt x="291" y="566"/>
                  </a:lnTo>
                  <a:lnTo>
                    <a:pt x="283" y="568"/>
                  </a:lnTo>
                  <a:lnTo>
                    <a:pt x="276" y="568"/>
                  </a:lnTo>
                  <a:lnTo>
                    <a:pt x="266" y="570"/>
                  </a:lnTo>
                  <a:lnTo>
                    <a:pt x="258" y="570"/>
                  </a:lnTo>
                  <a:lnTo>
                    <a:pt x="251" y="574"/>
                  </a:lnTo>
                  <a:lnTo>
                    <a:pt x="243" y="574"/>
                  </a:lnTo>
                  <a:lnTo>
                    <a:pt x="234" y="574"/>
                  </a:lnTo>
                  <a:lnTo>
                    <a:pt x="228" y="574"/>
                  </a:lnTo>
                  <a:lnTo>
                    <a:pt x="220" y="576"/>
                  </a:lnTo>
                  <a:lnTo>
                    <a:pt x="207" y="578"/>
                  </a:lnTo>
                  <a:lnTo>
                    <a:pt x="198" y="578"/>
                  </a:lnTo>
                  <a:lnTo>
                    <a:pt x="188" y="578"/>
                  </a:lnTo>
                  <a:lnTo>
                    <a:pt x="181" y="580"/>
                  </a:lnTo>
                  <a:lnTo>
                    <a:pt x="177" y="580"/>
                  </a:lnTo>
                  <a:lnTo>
                    <a:pt x="177" y="580"/>
                  </a:lnTo>
                  <a:lnTo>
                    <a:pt x="177" y="578"/>
                  </a:lnTo>
                  <a:lnTo>
                    <a:pt x="179" y="574"/>
                  </a:lnTo>
                  <a:lnTo>
                    <a:pt x="182" y="566"/>
                  </a:lnTo>
                  <a:lnTo>
                    <a:pt x="190" y="561"/>
                  </a:lnTo>
                  <a:lnTo>
                    <a:pt x="196" y="549"/>
                  </a:lnTo>
                  <a:lnTo>
                    <a:pt x="203" y="538"/>
                  </a:lnTo>
                  <a:lnTo>
                    <a:pt x="211" y="526"/>
                  </a:lnTo>
                  <a:lnTo>
                    <a:pt x="222" y="513"/>
                  </a:lnTo>
                  <a:lnTo>
                    <a:pt x="226" y="505"/>
                  </a:lnTo>
                  <a:lnTo>
                    <a:pt x="232" y="500"/>
                  </a:lnTo>
                  <a:lnTo>
                    <a:pt x="236" y="492"/>
                  </a:lnTo>
                  <a:lnTo>
                    <a:pt x="241" y="485"/>
                  </a:lnTo>
                  <a:lnTo>
                    <a:pt x="243" y="477"/>
                  </a:lnTo>
                  <a:lnTo>
                    <a:pt x="249" y="471"/>
                  </a:lnTo>
                  <a:lnTo>
                    <a:pt x="255" y="464"/>
                  </a:lnTo>
                  <a:lnTo>
                    <a:pt x="258" y="458"/>
                  </a:lnTo>
                  <a:lnTo>
                    <a:pt x="262" y="450"/>
                  </a:lnTo>
                  <a:lnTo>
                    <a:pt x="266" y="443"/>
                  </a:lnTo>
                  <a:lnTo>
                    <a:pt x="270" y="435"/>
                  </a:lnTo>
                  <a:lnTo>
                    <a:pt x="274" y="429"/>
                  </a:lnTo>
                  <a:lnTo>
                    <a:pt x="279" y="418"/>
                  </a:lnTo>
                  <a:lnTo>
                    <a:pt x="283" y="409"/>
                  </a:lnTo>
                  <a:lnTo>
                    <a:pt x="285" y="399"/>
                  </a:lnTo>
                  <a:lnTo>
                    <a:pt x="287" y="390"/>
                  </a:lnTo>
                  <a:lnTo>
                    <a:pt x="287" y="378"/>
                  </a:lnTo>
                  <a:lnTo>
                    <a:pt x="289" y="369"/>
                  </a:lnTo>
                  <a:lnTo>
                    <a:pt x="287" y="357"/>
                  </a:lnTo>
                  <a:lnTo>
                    <a:pt x="285" y="348"/>
                  </a:lnTo>
                  <a:lnTo>
                    <a:pt x="283" y="338"/>
                  </a:lnTo>
                  <a:lnTo>
                    <a:pt x="281" y="331"/>
                  </a:lnTo>
                  <a:lnTo>
                    <a:pt x="276" y="319"/>
                  </a:lnTo>
                  <a:lnTo>
                    <a:pt x="274" y="310"/>
                  </a:lnTo>
                  <a:lnTo>
                    <a:pt x="266" y="300"/>
                  </a:lnTo>
                  <a:lnTo>
                    <a:pt x="262" y="293"/>
                  </a:lnTo>
                  <a:lnTo>
                    <a:pt x="257" y="283"/>
                  </a:lnTo>
                  <a:lnTo>
                    <a:pt x="251" y="275"/>
                  </a:lnTo>
                  <a:lnTo>
                    <a:pt x="243" y="268"/>
                  </a:lnTo>
                  <a:lnTo>
                    <a:pt x="238" y="262"/>
                  </a:lnTo>
                  <a:lnTo>
                    <a:pt x="228" y="255"/>
                  </a:lnTo>
                  <a:lnTo>
                    <a:pt x="219" y="251"/>
                  </a:lnTo>
                  <a:lnTo>
                    <a:pt x="211" y="245"/>
                  </a:lnTo>
                  <a:lnTo>
                    <a:pt x="201" y="241"/>
                  </a:lnTo>
                  <a:lnTo>
                    <a:pt x="192" y="236"/>
                  </a:lnTo>
                  <a:lnTo>
                    <a:pt x="182" y="232"/>
                  </a:lnTo>
                  <a:lnTo>
                    <a:pt x="173" y="228"/>
                  </a:lnTo>
                  <a:lnTo>
                    <a:pt x="165" y="226"/>
                  </a:lnTo>
                  <a:lnTo>
                    <a:pt x="156" y="222"/>
                  </a:lnTo>
                  <a:lnTo>
                    <a:pt x="148" y="218"/>
                  </a:lnTo>
                  <a:lnTo>
                    <a:pt x="139" y="215"/>
                  </a:lnTo>
                  <a:lnTo>
                    <a:pt x="131" y="213"/>
                  </a:lnTo>
                  <a:lnTo>
                    <a:pt x="122" y="209"/>
                  </a:lnTo>
                  <a:lnTo>
                    <a:pt x="116" y="205"/>
                  </a:lnTo>
                  <a:lnTo>
                    <a:pt x="108" y="201"/>
                  </a:lnTo>
                  <a:lnTo>
                    <a:pt x="103" y="199"/>
                  </a:lnTo>
                  <a:lnTo>
                    <a:pt x="93" y="190"/>
                  </a:lnTo>
                  <a:lnTo>
                    <a:pt x="87" y="180"/>
                  </a:lnTo>
                  <a:lnTo>
                    <a:pt x="82" y="171"/>
                  </a:lnTo>
                  <a:lnTo>
                    <a:pt x="78" y="161"/>
                  </a:lnTo>
                  <a:lnTo>
                    <a:pt x="76" y="154"/>
                  </a:lnTo>
                  <a:lnTo>
                    <a:pt x="74" y="148"/>
                  </a:lnTo>
                  <a:lnTo>
                    <a:pt x="72" y="141"/>
                  </a:lnTo>
                  <a:lnTo>
                    <a:pt x="70" y="135"/>
                  </a:lnTo>
                  <a:lnTo>
                    <a:pt x="66" y="125"/>
                  </a:lnTo>
                  <a:lnTo>
                    <a:pt x="65" y="120"/>
                  </a:lnTo>
                  <a:lnTo>
                    <a:pt x="63" y="112"/>
                  </a:lnTo>
                  <a:lnTo>
                    <a:pt x="61" y="104"/>
                  </a:lnTo>
                  <a:lnTo>
                    <a:pt x="55" y="95"/>
                  </a:lnTo>
                  <a:lnTo>
                    <a:pt x="51" y="87"/>
                  </a:lnTo>
                  <a:lnTo>
                    <a:pt x="46" y="78"/>
                  </a:lnTo>
                  <a:lnTo>
                    <a:pt x="42" y="70"/>
                  </a:lnTo>
                  <a:lnTo>
                    <a:pt x="36" y="61"/>
                  </a:lnTo>
                  <a:lnTo>
                    <a:pt x="32" y="53"/>
                  </a:lnTo>
                  <a:lnTo>
                    <a:pt x="25" y="45"/>
                  </a:lnTo>
                  <a:lnTo>
                    <a:pt x="23" y="38"/>
                  </a:lnTo>
                  <a:lnTo>
                    <a:pt x="17" y="30"/>
                  </a:lnTo>
                  <a:lnTo>
                    <a:pt x="13" y="23"/>
                  </a:lnTo>
                  <a:lnTo>
                    <a:pt x="9" y="17"/>
                  </a:lnTo>
                  <a:lnTo>
                    <a:pt x="6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9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8" name=""/>
          <p:cNvSpPr/>
          <p:nvPr/>
        </p:nvSpPr>
        <p:spPr>
          <a:xfrm>
            <a:off x="2135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0120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0" name=""/>
          <p:cNvGrpSpPr/>
          <p:nvPr/>
        </p:nvGrpSpPr>
        <p:grpSpPr>
          <a:xfrm>
            <a:off x="896400" y="2884680"/>
            <a:ext cx="2858040" cy="2229480"/>
            <a:chOff x="896400" y="2884680"/>
            <a:chExt cx="2858040" cy="2229480"/>
          </a:xfrm>
        </p:grpSpPr>
        <p:sp>
          <p:nvSpPr>
            <p:cNvPr id="2461" name=""/>
            <p:cNvSpPr/>
            <p:nvPr/>
          </p:nvSpPr>
          <p:spPr>
            <a:xfrm rot="14788200">
              <a:off x="2043360" y="3012840"/>
              <a:ext cx="782640" cy="2394360"/>
            </a:xfrm>
            <a:custGeom>
              <a:avLst/>
              <a:gdLst/>
              <a:ahLst/>
              <a:rect l="l" t="t" r="r" b="b"/>
              <a:pathLst>
                <a:path w="2488" h="3816">
                  <a:moveTo>
                    <a:pt x="1770" y="0"/>
                  </a:moveTo>
                  <a:lnTo>
                    <a:pt x="2192" y="1382"/>
                  </a:lnTo>
                  <a:lnTo>
                    <a:pt x="2000" y="1524"/>
                  </a:lnTo>
                  <a:lnTo>
                    <a:pt x="1988" y="1705"/>
                  </a:lnTo>
                  <a:lnTo>
                    <a:pt x="2038" y="1878"/>
                  </a:lnTo>
                  <a:lnTo>
                    <a:pt x="2161" y="1945"/>
                  </a:lnTo>
                  <a:lnTo>
                    <a:pt x="2365" y="1926"/>
                  </a:lnTo>
                  <a:lnTo>
                    <a:pt x="2488" y="2283"/>
                  </a:lnTo>
                  <a:lnTo>
                    <a:pt x="2268" y="2483"/>
                  </a:lnTo>
                  <a:lnTo>
                    <a:pt x="2142" y="2998"/>
                  </a:lnTo>
                  <a:lnTo>
                    <a:pt x="1962" y="3500"/>
                  </a:lnTo>
                  <a:lnTo>
                    <a:pt x="1597" y="3726"/>
                  </a:lnTo>
                  <a:lnTo>
                    <a:pt x="1270" y="3816"/>
                  </a:lnTo>
                  <a:lnTo>
                    <a:pt x="798" y="3719"/>
                  </a:lnTo>
                  <a:lnTo>
                    <a:pt x="415" y="3403"/>
                  </a:lnTo>
                  <a:lnTo>
                    <a:pt x="145" y="2941"/>
                  </a:lnTo>
                  <a:lnTo>
                    <a:pt x="0" y="2272"/>
                  </a:lnTo>
                  <a:lnTo>
                    <a:pt x="50" y="1629"/>
                  </a:lnTo>
                  <a:lnTo>
                    <a:pt x="242" y="1101"/>
                  </a:lnTo>
                  <a:lnTo>
                    <a:pt x="549" y="671"/>
                  </a:lnTo>
                  <a:lnTo>
                    <a:pt x="1171" y="180"/>
                  </a:lnTo>
                  <a:lnTo>
                    <a:pt x="1770" y="0"/>
                  </a:lnTo>
                  <a:lnTo>
                    <a:pt x="177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rot="14788200">
              <a:off x="1555920" y="3006000"/>
              <a:ext cx="736920" cy="1779480"/>
            </a:xfrm>
            <a:custGeom>
              <a:avLst/>
              <a:gdLst/>
              <a:ahLst/>
              <a:rect l="l" t="t" r="r" b="b"/>
              <a:pathLst>
                <a:path w="2341" h="2836">
                  <a:moveTo>
                    <a:pt x="0" y="87"/>
                  </a:moveTo>
                  <a:lnTo>
                    <a:pt x="661" y="0"/>
                  </a:lnTo>
                  <a:lnTo>
                    <a:pt x="1467" y="199"/>
                  </a:lnTo>
                  <a:lnTo>
                    <a:pt x="1997" y="699"/>
                  </a:lnTo>
                  <a:lnTo>
                    <a:pt x="2284" y="1226"/>
                  </a:lnTo>
                  <a:lnTo>
                    <a:pt x="2341" y="1736"/>
                  </a:lnTo>
                  <a:lnTo>
                    <a:pt x="2254" y="2310"/>
                  </a:lnTo>
                  <a:lnTo>
                    <a:pt x="2140" y="2606"/>
                  </a:lnTo>
                  <a:lnTo>
                    <a:pt x="1946" y="2779"/>
                  </a:lnTo>
                  <a:lnTo>
                    <a:pt x="1728" y="2836"/>
                  </a:lnTo>
                  <a:lnTo>
                    <a:pt x="1505" y="2787"/>
                  </a:lnTo>
                  <a:lnTo>
                    <a:pt x="1287" y="2587"/>
                  </a:lnTo>
                  <a:lnTo>
                    <a:pt x="1083" y="2412"/>
                  </a:lnTo>
                  <a:lnTo>
                    <a:pt x="910" y="2386"/>
                  </a:lnTo>
                  <a:lnTo>
                    <a:pt x="711" y="2395"/>
                  </a:lnTo>
                  <a:lnTo>
                    <a:pt x="576" y="2059"/>
                  </a:lnTo>
                  <a:lnTo>
                    <a:pt x="834" y="1924"/>
                  </a:lnTo>
                  <a:lnTo>
                    <a:pt x="891" y="1755"/>
                  </a:lnTo>
                  <a:lnTo>
                    <a:pt x="834" y="1562"/>
                  </a:lnTo>
                  <a:lnTo>
                    <a:pt x="673" y="1447"/>
                  </a:lnTo>
                  <a:lnTo>
                    <a:pt x="429" y="1447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rot="14788200">
              <a:off x="1779480" y="3528000"/>
              <a:ext cx="208800" cy="431640"/>
            </a:xfrm>
            <a:custGeom>
              <a:avLst/>
              <a:gdLst/>
              <a:ahLst/>
              <a:rect l="l" t="t" r="r" b="b"/>
              <a:pathLst>
                <a:path w="665" h="688">
                  <a:moveTo>
                    <a:pt x="204" y="0"/>
                  </a:moveTo>
                  <a:lnTo>
                    <a:pt x="50" y="76"/>
                  </a:lnTo>
                  <a:lnTo>
                    <a:pt x="0" y="239"/>
                  </a:lnTo>
                  <a:lnTo>
                    <a:pt x="38" y="382"/>
                  </a:lnTo>
                  <a:lnTo>
                    <a:pt x="173" y="508"/>
                  </a:lnTo>
                  <a:lnTo>
                    <a:pt x="251" y="643"/>
                  </a:lnTo>
                  <a:lnTo>
                    <a:pt x="357" y="688"/>
                  </a:lnTo>
                  <a:lnTo>
                    <a:pt x="519" y="669"/>
                  </a:lnTo>
                  <a:lnTo>
                    <a:pt x="635" y="546"/>
                  </a:lnTo>
                  <a:lnTo>
                    <a:pt x="665" y="257"/>
                  </a:lnTo>
                  <a:lnTo>
                    <a:pt x="568" y="65"/>
                  </a:lnTo>
                  <a:lnTo>
                    <a:pt x="396" y="0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607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rot="14788200">
              <a:off x="1478880" y="3963240"/>
              <a:ext cx="239040" cy="461520"/>
            </a:xfrm>
            <a:custGeom>
              <a:avLst/>
              <a:gdLst/>
              <a:ahLst/>
              <a:rect l="l" t="t" r="r" b="b"/>
              <a:pathLst>
                <a:path w="761" h="735">
                  <a:moveTo>
                    <a:pt x="154" y="0"/>
                  </a:moveTo>
                  <a:lnTo>
                    <a:pt x="31" y="85"/>
                  </a:lnTo>
                  <a:lnTo>
                    <a:pt x="0" y="230"/>
                  </a:lnTo>
                  <a:lnTo>
                    <a:pt x="50" y="344"/>
                  </a:lnTo>
                  <a:lnTo>
                    <a:pt x="147" y="420"/>
                  </a:lnTo>
                  <a:lnTo>
                    <a:pt x="211" y="526"/>
                  </a:lnTo>
                  <a:lnTo>
                    <a:pt x="261" y="669"/>
                  </a:lnTo>
                  <a:lnTo>
                    <a:pt x="358" y="735"/>
                  </a:lnTo>
                  <a:lnTo>
                    <a:pt x="519" y="735"/>
                  </a:lnTo>
                  <a:lnTo>
                    <a:pt x="671" y="623"/>
                  </a:lnTo>
                  <a:lnTo>
                    <a:pt x="761" y="450"/>
                  </a:lnTo>
                  <a:lnTo>
                    <a:pt x="749" y="230"/>
                  </a:lnTo>
                  <a:lnTo>
                    <a:pt x="576" y="19"/>
                  </a:lnTo>
                  <a:lnTo>
                    <a:pt x="377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rot="14788200">
              <a:off x="1775160" y="4200120"/>
              <a:ext cx="176040" cy="452880"/>
            </a:xfrm>
            <a:custGeom>
              <a:avLst/>
              <a:gdLst/>
              <a:ahLst/>
              <a:rect l="l" t="t" r="r" b="b"/>
              <a:pathLst>
                <a:path w="559" h="720">
                  <a:moveTo>
                    <a:pt x="431" y="19"/>
                  </a:moveTo>
                  <a:lnTo>
                    <a:pt x="540" y="135"/>
                  </a:lnTo>
                  <a:lnTo>
                    <a:pt x="559" y="241"/>
                  </a:lnTo>
                  <a:lnTo>
                    <a:pt x="509" y="346"/>
                  </a:lnTo>
                  <a:lnTo>
                    <a:pt x="490" y="450"/>
                  </a:lnTo>
                  <a:lnTo>
                    <a:pt x="502" y="585"/>
                  </a:lnTo>
                  <a:lnTo>
                    <a:pt x="462" y="681"/>
                  </a:lnTo>
                  <a:lnTo>
                    <a:pt x="374" y="720"/>
                  </a:lnTo>
                  <a:lnTo>
                    <a:pt x="232" y="720"/>
                  </a:lnTo>
                  <a:lnTo>
                    <a:pt x="68" y="595"/>
                  </a:lnTo>
                  <a:lnTo>
                    <a:pt x="0" y="414"/>
                  </a:lnTo>
                  <a:lnTo>
                    <a:pt x="28" y="211"/>
                  </a:lnTo>
                  <a:lnTo>
                    <a:pt x="163" y="68"/>
                  </a:lnTo>
                  <a:lnTo>
                    <a:pt x="298" y="0"/>
                  </a:lnTo>
                  <a:lnTo>
                    <a:pt x="431" y="19"/>
                  </a:lnTo>
                  <a:lnTo>
                    <a:pt x="431" y="19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rot="14788200">
              <a:off x="2268360" y="4192920"/>
              <a:ext cx="235080" cy="322560"/>
            </a:xfrm>
            <a:custGeom>
              <a:avLst/>
              <a:gdLst/>
              <a:ahLst/>
              <a:rect l="l" t="t" r="r" b="b"/>
              <a:pathLst>
                <a:path w="748" h="516">
                  <a:moveTo>
                    <a:pt x="296" y="27"/>
                  </a:moveTo>
                  <a:lnTo>
                    <a:pt x="66" y="162"/>
                  </a:lnTo>
                  <a:lnTo>
                    <a:pt x="0" y="335"/>
                  </a:lnTo>
                  <a:lnTo>
                    <a:pt x="47" y="489"/>
                  </a:lnTo>
                  <a:lnTo>
                    <a:pt x="154" y="516"/>
                  </a:lnTo>
                  <a:lnTo>
                    <a:pt x="345" y="459"/>
                  </a:lnTo>
                  <a:lnTo>
                    <a:pt x="585" y="497"/>
                  </a:lnTo>
                  <a:lnTo>
                    <a:pt x="722" y="489"/>
                  </a:lnTo>
                  <a:lnTo>
                    <a:pt x="748" y="326"/>
                  </a:lnTo>
                  <a:lnTo>
                    <a:pt x="615" y="103"/>
                  </a:lnTo>
                  <a:lnTo>
                    <a:pt x="442" y="0"/>
                  </a:lnTo>
                  <a:lnTo>
                    <a:pt x="296" y="27"/>
                  </a:lnTo>
                  <a:lnTo>
                    <a:pt x="296" y="27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rot="14788200">
              <a:off x="2891520" y="3674160"/>
              <a:ext cx="219960" cy="524160"/>
            </a:xfrm>
            <a:custGeom>
              <a:avLst/>
              <a:gdLst/>
              <a:ahLst/>
              <a:rect l="l" t="t" r="r" b="b"/>
              <a:pathLst>
                <a:path w="702" h="837">
                  <a:moveTo>
                    <a:pt x="280" y="0"/>
                  </a:moveTo>
                  <a:lnTo>
                    <a:pt x="86" y="78"/>
                  </a:lnTo>
                  <a:lnTo>
                    <a:pt x="0" y="221"/>
                  </a:lnTo>
                  <a:lnTo>
                    <a:pt x="0" y="405"/>
                  </a:lnTo>
                  <a:lnTo>
                    <a:pt x="38" y="605"/>
                  </a:lnTo>
                  <a:lnTo>
                    <a:pt x="86" y="759"/>
                  </a:lnTo>
                  <a:lnTo>
                    <a:pt x="299" y="837"/>
                  </a:lnTo>
                  <a:lnTo>
                    <a:pt x="538" y="767"/>
                  </a:lnTo>
                  <a:lnTo>
                    <a:pt x="671" y="605"/>
                  </a:lnTo>
                  <a:lnTo>
                    <a:pt x="702" y="375"/>
                  </a:lnTo>
                  <a:lnTo>
                    <a:pt x="626" y="154"/>
                  </a:lnTo>
                  <a:lnTo>
                    <a:pt x="479" y="31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rot="14788200">
              <a:off x="1662480" y="2729160"/>
              <a:ext cx="1325520" cy="2540160"/>
            </a:xfrm>
            <a:custGeom>
              <a:avLst/>
              <a:gdLst/>
              <a:ahLst/>
              <a:rect l="l" t="t" r="r" b="b"/>
              <a:pathLst>
                <a:path w="4212" h="4048">
                  <a:moveTo>
                    <a:pt x="2186" y="2974"/>
                  </a:moveTo>
                  <a:lnTo>
                    <a:pt x="2211" y="2706"/>
                  </a:lnTo>
                  <a:lnTo>
                    <a:pt x="2271" y="2535"/>
                  </a:lnTo>
                  <a:lnTo>
                    <a:pt x="2380" y="2401"/>
                  </a:lnTo>
                  <a:lnTo>
                    <a:pt x="2564" y="2329"/>
                  </a:lnTo>
                  <a:lnTo>
                    <a:pt x="2733" y="2329"/>
                  </a:lnTo>
                  <a:lnTo>
                    <a:pt x="2918" y="2390"/>
                  </a:lnTo>
                  <a:lnTo>
                    <a:pt x="3077" y="2535"/>
                  </a:lnTo>
                  <a:lnTo>
                    <a:pt x="3188" y="2683"/>
                  </a:lnTo>
                  <a:lnTo>
                    <a:pt x="3345" y="2791"/>
                  </a:lnTo>
                  <a:lnTo>
                    <a:pt x="3469" y="2816"/>
                  </a:lnTo>
                  <a:lnTo>
                    <a:pt x="3590" y="2791"/>
                  </a:lnTo>
                  <a:lnTo>
                    <a:pt x="3724" y="2683"/>
                  </a:lnTo>
                  <a:lnTo>
                    <a:pt x="3834" y="2510"/>
                  </a:lnTo>
                  <a:lnTo>
                    <a:pt x="3919" y="2280"/>
                  </a:lnTo>
                  <a:lnTo>
                    <a:pt x="3957" y="2025"/>
                  </a:lnTo>
                  <a:lnTo>
                    <a:pt x="3969" y="1768"/>
                  </a:lnTo>
                  <a:lnTo>
                    <a:pt x="3933" y="1500"/>
                  </a:lnTo>
                  <a:lnTo>
                    <a:pt x="3847" y="1185"/>
                  </a:lnTo>
                  <a:lnTo>
                    <a:pt x="3689" y="903"/>
                  </a:lnTo>
                  <a:lnTo>
                    <a:pt x="3505" y="669"/>
                  </a:lnTo>
                  <a:lnTo>
                    <a:pt x="3226" y="475"/>
                  </a:lnTo>
                  <a:lnTo>
                    <a:pt x="2881" y="329"/>
                  </a:lnTo>
                  <a:lnTo>
                    <a:pt x="2479" y="255"/>
                  </a:lnTo>
                  <a:lnTo>
                    <a:pt x="2076" y="255"/>
                  </a:lnTo>
                  <a:lnTo>
                    <a:pt x="1697" y="318"/>
                  </a:lnTo>
                  <a:lnTo>
                    <a:pt x="1344" y="451"/>
                  </a:lnTo>
                  <a:lnTo>
                    <a:pt x="1011" y="658"/>
                  </a:lnTo>
                  <a:lnTo>
                    <a:pt x="743" y="903"/>
                  </a:lnTo>
                  <a:lnTo>
                    <a:pt x="525" y="1219"/>
                  </a:lnTo>
                  <a:lnTo>
                    <a:pt x="378" y="1510"/>
                  </a:lnTo>
                  <a:lnTo>
                    <a:pt x="279" y="1915"/>
                  </a:lnTo>
                  <a:lnTo>
                    <a:pt x="243" y="2268"/>
                  </a:lnTo>
                  <a:lnTo>
                    <a:pt x="279" y="2620"/>
                  </a:lnTo>
                  <a:lnTo>
                    <a:pt x="378" y="3010"/>
                  </a:lnTo>
                  <a:lnTo>
                    <a:pt x="488" y="3255"/>
                  </a:lnTo>
                  <a:lnTo>
                    <a:pt x="696" y="3535"/>
                  </a:lnTo>
                  <a:lnTo>
                    <a:pt x="952" y="3730"/>
                  </a:lnTo>
                  <a:lnTo>
                    <a:pt x="1245" y="3814"/>
                  </a:lnTo>
                  <a:lnTo>
                    <a:pt x="1464" y="3829"/>
                  </a:lnTo>
                  <a:lnTo>
                    <a:pt x="1464" y="4048"/>
                  </a:lnTo>
                  <a:lnTo>
                    <a:pt x="1123" y="4023"/>
                  </a:lnTo>
                  <a:lnTo>
                    <a:pt x="855" y="3924"/>
                  </a:lnTo>
                  <a:lnTo>
                    <a:pt x="608" y="3765"/>
                  </a:lnTo>
                  <a:lnTo>
                    <a:pt x="378" y="3535"/>
                  </a:lnTo>
                  <a:lnTo>
                    <a:pt x="205" y="3255"/>
                  </a:lnTo>
                  <a:lnTo>
                    <a:pt x="108" y="2998"/>
                  </a:lnTo>
                  <a:lnTo>
                    <a:pt x="36" y="2683"/>
                  </a:lnTo>
                  <a:lnTo>
                    <a:pt x="0" y="2316"/>
                  </a:lnTo>
                  <a:lnTo>
                    <a:pt x="11" y="2034"/>
                  </a:lnTo>
                  <a:lnTo>
                    <a:pt x="74" y="1669"/>
                  </a:lnTo>
                  <a:lnTo>
                    <a:pt x="184" y="1329"/>
                  </a:lnTo>
                  <a:lnTo>
                    <a:pt x="365" y="1000"/>
                  </a:lnTo>
                  <a:lnTo>
                    <a:pt x="707" y="586"/>
                  </a:lnTo>
                  <a:lnTo>
                    <a:pt x="1000" y="340"/>
                  </a:lnTo>
                  <a:lnTo>
                    <a:pt x="1429" y="135"/>
                  </a:lnTo>
                  <a:lnTo>
                    <a:pt x="1832" y="36"/>
                  </a:lnTo>
                  <a:lnTo>
                    <a:pt x="2235" y="0"/>
                  </a:lnTo>
                  <a:lnTo>
                    <a:pt x="2724" y="49"/>
                  </a:lnTo>
                  <a:lnTo>
                    <a:pt x="3115" y="146"/>
                  </a:lnTo>
                  <a:lnTo>
                    <a:pt x="3469" y="329"/>
                  </a:lnTo>
                  <a:lnTo>
                    <a:pt x="3748" y="574"/>
                  </a:lnTo>
                  <a:lnTo>
                    <a:pt x="3919" y="793"/>
                  </a:lnTo>
                  <a:lnTo>
                    <a:pt x="4077" y="1099"/>
                  </a:lnTo>
                  <a:lnTo>
                    <a:pt x="4176" y="1439"/>
                  </a:lnTo>
                  <a:lnTo>
                    <a:pt x="4212" y="1730"/>
                  </a:lnTo>
                  <a:lnTo>
                    <a:pt x="4202" y="2025"/>
                  </a:lnTo>
                  <a:lnTo>
                    <a:pt x="4142" y="2365"/>
                  </a:lnTo>
                  <a:lnTo>
                    <a:pt x="4043" y="2620"/>
                  </a:lnTo>
                  <a:lnTo>
                    <a:pt x="3908" y="2829"/>
                  </a:lnTo>
                  <a:lnTo>
                    <a:pt x="3739" y="2985"/>
                  </a:lnTo>
                  <a:lnTo>
                    <a:pt x="3530" y="3074"/>
                  </a:lnTo>
                  <a:lnTo>
                    <a:pt x="3345" y="3059"/>
                  </a:lnTo>
                  <a:lnTo>
                    <a:pt x="3163" y="2985"/>
                  </a:lnTo>
                  <a:lnTo>
                    <a:pt x="2992" y="2841"/>
                  </a:lnTo>
                  <a:lnTo>
                    <a:pt x="2857" y="2658"/>
                  </a:lnTo>
                  <a:lnTo>
                    <a:pt x="2748" y="2573"/>
                  </a:lnTo>
                  <a:lnTo>
                    <a:pt x="2589" y="2573"/>
                  </a:lnTo>
                  <a:lnTo>
                    <a:pt x="2479" y="2658"/>
                  </a:lnTo>
                  <a:lnTo>
                    <a:pt x="2420" y="2841"/>
                  </a:lnTo>
                  <a:lnTo>
                    <a:pt x="2380" y="3181"/>
                  </a:lnTo>
                  <a:lnTo>
                    <a:pt x="2186" y="2974"/>
                  </a:lnTo>
                  <a:lnTo>
                    <a:pt x="2186" y="29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4788200">
              <a:off x="2984040" y="3310920"/>
              <a:ext cx="322200" cy="810720"/>
            </a:xfrm>
            <a:custGeom>
              <a:avLst/>
              <a:gdLst/>
              <a:ahLst/>
              <a:rect l="l" t="t" r="r" b="b"/>
              <a:pathLst>
                <a:path w="1024" h="1293">
                  <a:moveTo>
                    <a:pt x="0" y="1074"/>
                  </a:moveTo>
                  <a:lnTo>
                    <a:pt x="133" y="1074"/>
                  </a:lnTo>
                  <a:lnTo>
                    <a:pt x="317" y="1025"/>
                  </a:lnTo>
                  <a:lnTo>
                    <a:pt x="511" y="890"/>
                  </a:lnTo>
                  <a:lnTo>
                    <a:pt x="646" y="719"/>
                  </a:lnTo>
                  <a:lnTo>
                    <a:pt x="756" y="489"/>
                  </a:lnTo>
                  <a:lnTo>
                    <a:pt x="831" y="0"/>
                  </a:lnTo>
                  <a:lnTo>
                    <a:pt x="1024" y="255"/>
                  </a:lnTo>
                  <a:lnTo>
                    <a:pt x="1000" y="439"/>
                  </a:lnTo>
                  <a:lnTo>
                    <a:pt x="950" y="620"/>
                  </a:lnTo>
                  <a:lnTo>
                    <a:pt x="855" y="840"/>
                  </a:lnTo>
                  <a:lnTo>
                    <a:pt x="745" y="1000"/>
                  </a:lnTo>
                  <a:lnTo>
                    <a:pt x="561" y="1160"/>
                  </a:lnTo>
                  <a:lnTo>
                    <a:pt x="391" y="1244"/>
                  </a:lnTo>
                  <a:lnTo>
                    <a:pt x="182" y="1293"/>
                  </a:lnTo>
                  <a:lnTo>
                    <a:pt x="59" y="1293"/>
                  </a:lnTo>
                  <a:lnTo>
                    <a:pt x="0" y="1074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rot="14788200">
              <a:off x="2136960" y="3794400"/>
              <a:ext cx="120600" cy="473040"/>
            </a:xfrm>
            <a:custGeom>
              <a:avLst/>
              <a:gdLst/>
              <a:ahLst/>
              <a:rect l="l" t="t" r="r" b="b"/>
              <a:pathLst>
                <a:path w="384" h="755">
                  <a:moveTo>
                    <a:pt x="384" y="571"/>
                  </a:moveTo>
                  <a:lnTo>
                    <a:pt x="369" y="571"/>
                  </a:lnTo>
                  <a:lnTo>
                    <a:pt x="329" y="567"/>
                  </a:lnTo>
                  <a:lnTo>
                    <a:pt x="291" y="552"/>
                  </a:lnTo>
                  <a:lnTo>
                    <a:pt x="255" y="533"/>
                  </a:lnTo>
                  <a:lnTo>
                    <a:pt x="225" y="502"/>
                  </a:lnTo>
                  <a:lnTo>
                    <a:pt x="202" y="470"/>
                  </a:lnTo>
                  <a:lnTo>
                    <a:pt x="187" y="432"/>
                  </a:lnTo>
                  <a:lnTo>
                    <a:pt x="177" y="390"/>
                  </a:lnTo>
                  <a:lnTo>
                    <a:pt x="181" y="348"/>
                  </a:lnTo>
                  <a:lnTo>
                    <a:pt x="190" y="310"/>
                  </a:lnTo>
                  <a:lnTo>
                    <a:pt x="207" y="272"/>
                  </a:lnTo>
                  <a:lnTo>
                    <a:pt x="236" y="242"/>
                  </a:lnTo>
                  <a:lnTo>
                    <a:pt x="268" y="213"/>
                  </a:lnTo>
                  <a:lnTo>
                    <a:pt x="304" y="198"/>
                  </a:lnTo>
                  <a:lnTo>
                    <a:pt x="342" y="187"/>
                  </a:lnTo>
                  <a:lnTo>
                    <a:pt x="384" y="185"/>
                  </a:lnTo>
                  <a:lnTo>
                    <a:pt x="384" y="0"/>
                  </a:lnTo>
                  <a:lnTo>
                    <a:pt x="325" y="2"/>
                  </a:lnTo>
                  <a:lnTo>
                    <a:pt x="270" y="14"/>
                  </a:lnTo>
                  <a:lnTo>
                    <a:pt x="215" y="33"/>
                  </a:lnTo>
                  <a:lnTo>
                    <a:pt x="166" y="61"/>
                  </a:lnTo>
                  <a:lnTo>
                    <a:pt x="120" y="95"/>
                  </a:lnTo>
                  <a:lnTo>
                    <a:pt x="82" y="137"/>
                  </a:lnTo>
                  <a:lnTo>
                    <a:pt x="48" y="187"/>
                  </a:lnTo>
                  <a:lnTo>
                    <a:pt x="25" y="238"/>
                  </a:lnTo>
                  <a:lnTo>
                    <a:pt x="8" y="293"/>
                  </a:lnTo>
                  <a:lnTo>
                    <a:pt x="0" y="348"/>
                  </a:lnTo>
                  <a:lnTo>
                    <a:pt x="0" y="405"/>
                  </a:lnTo>
                  <a:lnTo>
                    <a:pt x="8" y="464"/>
                  </a:lnTo>
                  <a:lnTo>
                    <a:pt x="25" y="519"/>
                  </a:lnTo>
                  <a:lnTo>
                    <a:pt x="52" y="571"/>
                  </a:lnTo>
                  <a:lnTo>
                    <a:pt x="84" y="618"/>
                  </a:lnTo>
                  <a:lnTo>
                    <a:pt x="124" y="658"/>
                  </a:lnTo>
                  <a:lnTo>
                    <a:pt x="169" y="694"/>
                  </a:lnTo>
                  <a:lnTo>
                    <a:pt x="219" y="723"/>
                  </a:lnTo>
                  <a:lnTo>
                    <a:pt x="274" y="742"/>
                  </a:lnTo>
                  <a:lnTo>
                    <a:pt x="331" y="753"/>
                  </a:lnTo>
                  <a:lnTo>
                    <a:pt x="384" y="755"/>
                  </a:lnTo>
                  <a:lnTo>
                    <a:pt x="384" y="571"/>
                  </a:lnTo>
                  <a:lnTo>
                    <a:pt x="38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rot="14788200">
              <a:off x="2090520" y="3688200"/>
              <a:ext cx="120600" cy="473040"/>
            </a:xfrm>
            <a:custGeom>
              <a:avLst/>
              <a:gdLst/>
              <a:ahLst/>
              <a:rect l="l" t="t" r="r" b="b"/>
              <a:pathLst>
                <a:path w="384" h="755">
                  <a:moveTo>
                    <a:pt x="0" y="571"/>
                  </a:moveTo>
                  <a:lnTo>
                    <a:pt x="13" y="571"/>
                  </a:lnTo>
                  <a:lnTo>
                    <a:pt x="55" y="567"/>
                  </a:lnTo>
                  <a:lnTo>
                    <a:pt x="93" y="552"/>
                  </a:lnTo>
                  <a:lnTo>
                    <a:pt x="129" y="533"/>
                  </a:lnTo>
                  <a:lnTo>
                    <a:pt x="160" y="502"/>
                  </a:lnTo>
                  <a:lnTo>
                    <a:pt x="181" y="470"/>
                  </a:lnTo>
                  <a:lnTo>
                    <a:pt x="198" y="432"/>
                  </a:lnTo>
                  <a:lnTo>
                    <a:pt x="205" y="390"/>
                  </a:lnTo>
                  <a:lnTo>
                    <a:pt x="203" y="348"/>
                  </a:lnTo>
                  <a:lnTo>
                    <a:pt x="192" y="310"/>
                  </a:lnTo>
                  <a:lnTo>
                    <a:pt x="175" y="272"/>
                  </a:lnTo>
                  <a:lnTo>
                    <a:pt x="148" y="242"/>
                  </a:lnTo>
                  <a:lnTo>
                    <a:pt x="114" y="213"/>
                  </a:lnTo>
                  <a:lnTo>
                    <a:pt x="80" y="198"/>
                  </a:lnTo>
                  <a:lnTo>
                    <a:pt x="42" y="187"/>
                  </a:lnTo>
                  <a:lnTo>
                    <a:pt x="0" y="185"/>
                  </a:lnTo>
                  <a:lnTo>
                    <a:pt x="0" y="0"/>
                  </a:lnTo>
                  <a:lnTo>
                    <a:pt x="57" y="2"/>
                  </a:lnTo>
                  <a:lnTo>
                    <a:pt x="112" y="14"/>
                  </a:lnTo>
                  <a:lnTo>
                    <a:pt x="167" y="33"/>
                  </a:lnTo>
                  <a:lnTo>
                    <a:pt x="217" y="61"/>
                  </a:lnTo>
                  <a:lnTo>
                    <a:pt x="262" y="95"/>
                  </a:lnTo>
                  <a:lnTo>
                    <a:pt x="302" y="137"/>
                  </a:lnTo>
                  <a:lnTo>
                    <a:pt x="335" y="187"/>
                  </a:lnTo>
                  <a:lnTo>
                    <a:pt x="359" y="238"/>
                  </a:lnTo>
                  <a:lnTo>
                    <a:pt x="376" y="293"/>
                  </a:lnTo>
                  <a:lnTo>
                    <a:pt x="384" y="348"/>
                  </a:lnTo>
                  <a:lnTo>
                    <a:pt x="384" y="405"/>
                  </a:lnTo>
                  <a:lnTo>
                    <a:pt x="376" y="464"/>
                  </a:lnTo>
                  <a:lnTo>
                    <a:pt x="359" y="519"/>
                  </a:lnTo>
                  <a:lnTo>
                    <a:pt x="333" y="571"/>
                  </a:lnTo>
                  <a:lnTo>
                    <a:pt x="299" y="618"/>
                  </a:lnTo>
                  <a:lnTo>
                    <a:pt x="260" y="658"/>
                  </a:lnTo>
                  <a:lnTo>
                    <a:pt x="215" y="694"/>
                  </a:lnTo>
                  <a:lnTo>
                    <a:pt x="164" y="723"/>
                  </a:lnTo>
                  <a:lnTo>
                    <a:pt x="108" y="742"/>
                  </a:lnTo>
                  <a:lnTo>
                    <a:pt x="51" y="753"/>
                  </a:lnTo>
                  <a:lnTo>
                    <a:pt x="0" y="755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rot="14788200">
              <a:off x="2873160" y="3622680"/>
              <a:ext cx="275040" cy="626040"/>
            </a:xfrm>
            <a:custGeom>
              <a:avLst/>
              <a:gdLst/>
              <a:ahLst/>
              <a:rect l="l" t="t" r="r" b="b"/>
              <a:pathLst>
                <a:path w="875" h="996">
                  <a:moveTo>
                    <a:pt x="377" y="152"/>
                  </a:moveTo>
                  <a:lnTo>
                    <a:pt x="251" y="192"/>
                  </a:lnTo>
                  <a:lnTo>
                    <a:pt x="192" y="249"/>
                  </a:lnTo>
                  <a:lnTo>
                    <a:pt x="162" y="323"/>
                  </a:lnTo>
                  <a:lnTo>
                    <a:pt x="173" y="391"/>
                  </a:lnTo>
                  <a:lnTo>
                    <a:pt x="183" y="469"/>
                  </a:lnTo>
                  <a:lnTo>
                    <a:pt x="192" y="536"/>
                  </a:lnTo>
                  <a:lnTo>
                    <a:pt x="192" y="593"/>
                  </a:lnTo>
                  <a:lnTo>
                    <a:pt x="192" y="669"/>
                  </a:lnTo>
                  <a:lnTo>
                    <a:pt x="240" y="755"/>
                  </a:lnTo>
                  <a:lnTo>
                    <a:pt x="316" y="804"/>
                  </a:lnTo>
                  <a:lnTo>
                    <a:pt x="422" y="812"/>
                  </a:lnTo>
                  <a:lnTo>
                    <a:pt x="538" y="793"/>
                  </a:lnTo>
                  <a:lnTo>
                    <a:pt x="635" y="728"/>
                  </a:lnTo>
                  <a:lnTo>
                    <a:pt x="704" y="631"/>
                  </a:lnTo>
                  <a:lnTo>
                    <a:pt x="730" y="496"/>
                  </a:lnTo>
                  <a:lnTo>
                    <a:pt x="711" y="334"/>
                  </a:lnTo>
                  <a:lnTo>
                    <a:pt x="839" y="285"/>
                  </a:lnTo>
                  <a:lnTo>
                    <a:pt x="865" y="410"/>
                  </a:lnTo>
                  <a:lnTo>
                    <a:pt x="875" y="536"/>
                  </a:lnTo>
                  <a:lnTo>
                    <a:pt x="846" y="680"/>
                  </a:lnTo>
                  <a:lnTo>
                    <a:pt x="787" y="804"/>
                  </a:lnTo>
                  <a:lnTo>
                    <a:pt x="673" y="920"/>
                  </a:lnTo>
                  <a:lnTo>
                    <a:pt x="538" y="977"/>
                  </a:lnTo>
                  <a:lnTo>
                    <a:pt x="365" y="996"/>
                  </a:lnTo>
                  <a:lnTo>
                    <a:pt x="211" y="958"/>
                  </a:lnTo>
                  <a:lnTo>
                    <a:pt x="116" y="890"/>
                  </a:lnTo>
                  <a:lnTo>
                    <a:pt x="59" y="793"/>
                  </a:lnTo>
                  <a:lnTo>
                    <a:pt x="29" y="680"/>
                  </a:lnTo>
                  <a:lnTo>
                    <a:pt x="38" y="545"/>
                  </a:lnTo>
                  <a:lnTo>
                    <a:pt x="10" y="429"/>
                  </a:lnTo>
                  <a:lnTo>
                    <a:pt x="0" y="296"/>
                  </a:lnTo>
                  <a:lnTo>
                    <a:pt x="29" y="180"/>
                  </a:lnTo>
                  <a:lnTo>
                    <a:pt x="105" y="85"/>
                  </a:lnTo>
                  <a:lnTo>
                    <a:pt x="211" y="26"/>
                  </a:lnTo>
                  <a:lnTo>
                    <a:pt x="358" y="0"/>
                  </a:lnTo>
                  <a:lnTo>
                    <a:pt x="500" y="0"/>
                  </a:lnTo>
                  <a:lnTo>
                    <a:pt x="614" y="38"/>
                  </a:lnTo>
                  <a:lnTo>
                    <a:pt x="512" y="161"/>
                  </a:lnTo>
                  <a:lnTo>
                    <a:pt x="377" y="152"/>
                  </a:lnTo>
                  <a:lnTo>
                    <a:pt x="377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rot="14788200">
              <a:off x="2764440" y="3814560"/>
              <a:ext cx="149040" cy="266040"/>
            </a:xfrm>
            <a:custGeom>
              <a:avLst/>
              <a:gdLst/>
              <a:ahLst/>
              <a:rect l="l" t="t" r="r" b="b"/>
              <a:pathLst>
                <a:path w="474" h="424">
                  <a:moveTo>
                    <a:pt x="0" y="107"/>
                  </a:moveTo>
                  <a:lnTo>
                    <a:pt x="154" y="154"/>
                  </a:lnTo>
                  <a:lnTo>
                    <a:pt x="242" y="211"/>
                  </a:lnTo>
                  <a:lnTo>
                    <a:pt x="308" y="278"/>
                  </a:lnTo>
                  <a:lnTo>
                    <a:pt x="358" y="424"/>
                  </a:lnTo>
                  <a:lnTo>
                    <a:pt x="474" y="346"/>
                  </a:lnTo>
                  <a:lnTo>
                    <a:pt x="443" y="242"/>
                  </a:lnTo>
                  <a:lnTo>
                    <a:pt x="377" y="116"/>
                  </a:lnTo>
                  <a:lnTo>
                    <a:pt x="230" y="12"/>
                  </a:lnTo>
                  <a:lnTo>
                    <a:pt x="147" y="0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rot="14788200">
              <a:off x="2260080" y="4138560"/>
              <a:ext cx="293040" cy="416520"/>
            </a:xfrm>
            <a:custGeom>
              <a:avLst/>
              <a:gdLst/>
              <a:ahLst/>
              <a:rect l="l" t="t" r="r" b="b"/>
              <a:pathLst>
                <a:path w="931" h="663">
                  <a:moveTo>
                    <a:pt x="469" y="0"/>
                  </a:moveTo>
                  <a:lnTo>
                    <a:pt x="315" y="28"/>
                  </a:lnTo>
                  <a:lnTo>
                    <a:pt x="172" y="104"/>
                  </a:lnTo>
                  <a:lnTo>
                    <a:pt x="76" y="192"/>
                  </a:lnTo>
                  <a:lnTo>
                    <a:pt x="19" y="296"/>
                  </a:lnTo>
                  <a:lnTo>
                    <a:pt x="0" y="420"/>
                  </a:lnTo>
                  <a:lnTo>
                    <a:pt x="19" y="536"/>
                  </a:lnTo>
                  <a:lnTo>
                    <a:pt x="76" y="623"/>
                  </a:lnTo>
                  <a:lnTo>
                    <a:pt x="172" y="663"/>
                  </a:lnTo>
                  <a:lnTo>
                    <a:pt x="268" y="652"/>
                  </a:lnTo>
                  <a:lnTo>
                    <a:pt x="372" y="614"/>
                  </a:lnTo>
                  <a:lnTo>
                    <a:pt x="478" y="585"/>
                  </a:lnTo>
                  <a:lnTo>
                    <a:pt x="564" y="585"/>
                  </a:lnTo>
                  <a:lnTo>
                    <a:pt x="642" y="614"/>
                  </a:lnTo>
                  <a:lnTo>
                    <a:pt x="737" y="642"/>
                  </a:lnTo>
                  <a:lnTo>
                    <a:pt x="824" y="642"/>
                  </a:lnTo>
                  <a:lnTo>
                    <a:pt x="881" y="604"/>
                  </a:lnTo>
                  <a:lnTo>
                    <a:pt x="931" y="528"/>
                  </a:lnTo>
                  <a:lnTo>
                    <a:pt x="931" y="420"/>
                  </a:lnTo>
                  <a:lnTo>
                    <a:pt x="902" y="315"/>
                  </a:lnTo>
                  <a:lnTo>
                    <a:pt x="748" y="336"/>
                  </a:lnTo>
                  <a:lnTo>
                    <a:pt x="775" y="431"/>
                  </a:lnTo>
                  <a:lnTo>
                    <a:pt x="767" y="479"/>
                  </a:lnTo>
                  <a:lnTo>
                    <a:pt x="729" y="488"/>
                  </a:lnTo>
                  <a:lnTo>
                    <a:pt x="632" y="450"/>
                  </a:lnTo>
                  <a:lnTo>
                    <a:pt x="537" y="431"/>
                  </a:lnTo>
                  <a:lnTo>
                    <a:pt x="431" y="441"/>
                  </a:lnTo>
                  <a:lnTo>
                    <a:pt x="315" y="488"/>
                  </a:lnTo>
                  <a:lnTo>
                    <a:pt x="237" y="517"/>
                  </a:lnTo>
                  <a:lnTo>
                    <a:pt x="180" y="488"/>
                  </a:lnTo>
                  <a:lnTo>
                    <a:pt x="161" y="450"/>
                  </a:lnTo>
                  <a:lnTo>
                    <a:pt x="161" y="374"/>
                  </a:lnTo>
                  <a:lnTo>
                    <a:pt x="199" y="277"/>
                  </a:lnTo>
                  <a:lnTo>
                    <a:pt x="288" y="201"/>
                  </a:lnTo>
                  <a:lnTo>
                    <a:pt x="402" y="154"/>
                  </a:lnTo>
                  <a:lnTo>
                    <a:pt x="526" y="135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rot="14788200">
              <a:off x="2237400" y="4182480"/>
              <a:ext cx="171720" cy="282240"/>
            </a:xfrm>
            <a:custGeom>
              <a:avLst/>
              <a:gdLst/>
              <a:ahLst/>
              <a:rect l="l" t="t" r="r" b="b"/>
              <a:pathLst>
                <a:path w="548" h="450">
                  <a:moveTo>
                    <a:pt x="19" y="142"/>
                  </a:moveTo>
                  <a:lnTo>
                    <a:pt x="192" y="163"/>
                  </a:lnTo>
                  <a:lnTo>
                    <a:pt x="268" y="201"/>
                  </a:lnTo>
                  <a:lnTo>
                    <a:pt x="335" y="258"/>
                  </a:lnTo>
                  <a:lnTo>
                    <a:pt x="392" y="374"/>
                  </a:lnTo>
                  <a:lnTo>
                    <a:pt x="441" y="450"/>
                  </a:lnTo>
                  <a:lnTo>
                    <a:pt x="548" y="355"/>
                  </a:lnTo>
                  <a:lnTo>
                    <a:pt x="517" y="258"/>
                  </a:lnTo>
                  <a:lnTo>
                    <a:pt x="460" y="173"/>
                  </a:lnTo>
                  <a:lnTo>
                    <a:pt x="384" y="85"/>
                  </a:lnTo>
                  <a:lnTo>
                    <a:pt x="287" y="39"/>
                  </a:lnTo>
                  <a:lnTo>
                    <a:pt x="162" y="0"/>
                  </a:lnTo>
                  <a:lnTo>
                    <a:pt x="95" y="0"/>
                  </a:lnTo>
                  <a:lnTo>
                    <a:pt x="0" y="20"/>
                  </a:lnTo>
                  <a:lnTo>
                    <a:pt x="19" y="142"/>
                  </a:lnTo>
                  <a:lnTo>
                    <a:pt x="19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rot="14788200">
              <a:off x="1758960" y="4155120"/>
              <a:ext cx="223920" cy="529560"/>
            </a:xfrm>
            <a:custGeom>
              <a:avLst/>
              <a:gdLst/>
              <a:ahLst/>
              <a:rect l="l" t="t" r="r" b="b"/>
              <a:pathLst>
                <a:path w="711" h="844">
                  <a:moveTo>
                    <a:pt x="403" y="0"/>
                  </a:moveTo>
                  <a:lnTo>
                    <a:pt x="242" y="31"/>
                  </a:lnTo>
                  <a:lnTo>
                    <a:pt x="116" y="105"/>
                  </a:lnTo>
                  <a:lnTo>
                    <a:pt x="29" y="251"/>
                  </a:lnTo>
                  <a:lnTo>
                    <a:pt x="0" y="384"/>
                  </a:lnTo>
                  <a:lnTo>
                    <a:pt x="8" y="517"/>
                  </a:lnTo>
                  <a:lnTo>
                    <a:pt x="46" y="633"/>
                  </a:lnTo>
                  <a:lnTo>
                    <a:pt x="105" y="709"/>
                  </a:lnTo>
                  <a:lnTo>
                    <a:pt x="173" y="778"/>
                  </a:lnTo>
                  <a:lnTo>
                    <a:pt x="249" y="816"/>
                  </a:lnTo>
                  <a:lnTo>
                    <a:pt x="337" y="844"/>
                  </a:lnTo>
                  <a:lnTo>
                    <a:pt x="434" y="844"/>
                  </a:lnTo>
                  <a:lnTo>
                    <a:pt x="519" y="825"/>
                  </a:lnTo>
                  <a:lnTo>
                    <a:pt x="607" y="748"/>
                  </a:lnTo>
                  <a:lnTo>
                    <a:pt x="645" y="624"/>
                  </a:lnTo>
                  <a:lnTo>
                    <a:pt x="633" y="517"/>
                  </a:lnTo>
                  <a:lnTo>
                    <a:pt x="633" y="451"/>
                  </a:lnTo>
                  <a:lnTo>
                    <a:pt x="692" y="365"/>
                  </a:lnTo>
                  <a:lnTo>
                    <a:pt x="711" y="297"/>
                  </a:lnTo>
                  <a:lnTo>
                    <a:pt x="692" y="202"/>
                  </a:lnTo>
                  <a:lnTo>
                    <a:pt x="652" y="124"/>
                  </a:lnTo>
                  <a:lnTo>
                    <a:pt x="538" y="192"/>
                  </a:lnTo>
                  <a:lnTo>
                    <a:pt x="557" y="297"/>
                  </a:lnTo>
                  <a:lnTo>
                    <a:pt x="538" y="337"/>
                  </a:lnTo>
                  <a:lnTo>
                    <a:pt x="498" y="394"/>
                  </a:lnTo>
                  <a:lnTo>
                    <a:pt x="479" y="491"/>
                  </a:lnTo>
                  <a:lnTo>
                    <a:pt x="498" y="605"/>
                  </a:lnTo>
                  <a:lnTo>
                    <a:pt x="479" y="664"/>
                  </a:lnTo>
                  <a:lnTo>
                    <a:pt x="422" y="702"/>
                  </a:lnTo>
                  <a:lnTo>
                    <a:pt x="337" y="690"/>
                  </a:lnTo>
                  <a:lnTo>
                    <a:pt x="249" y="652"/>
                  </a:lnTo>
                  <a:lnTo>
                    <a:pt x="181" y="567"/>
                  </a:lnTo>
                  <a:lnTo>
                    <a:pt x="143" y="462"/>
                  </a:lnTo>
                  <a:lnTo>
                    <a:pt x="154" y="337"/>
                  </a:lnTo>
                  <a:lnTo>
                    <a:pt x="211" y="232"/>
                  </a:lnTo>
                  <a:lnTo>
                    <a:pt x="299" y="164"/>
                  </a:lnTo>
                  <a:lnTo>
                    <a:pt x="422" y="145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rot="14788200">
              <a:off x="1618560" y="4378680"/>
              <a:ext cx="129600" cy="156600"/>
            </a:xfrm>
            <a:custGeom>
              <a:avLst/>
              <a:gdLst/>
              <a:ahLst/>
              <a:rect l="l" t="t" r="r" b="b"/>
              <a:pathLst>
                <a:path w="412" h="251">
                  <a:moveTo>
                    <a:pt x="66" y="135"/>
                  </a:moveTo>
                  <a:lnTo>
                    <a:pt x="154" y="145"/>
                  </a:lnTo>
                  <a:lnTo>
                    <a:pt x="230" y="173"/>
                  </a:lnTo>
                  <a:lnTo>
                    <a:pt x="277" y="251"/>
                  </a:lnTo>
                  <a:lnTo>
                    <a:pt x="412" y="213"/>
                  </a:lnTo>
                  <a:lnTo>
                    <a:pt x="372" y="124"/>
                  </a:lnTo>
                  <a:lnTo>
                    <a:pt x="308" y="59"/>
                  </a:lnTo>
                  <a:lnTo>
                    <a:pt x="230" y="19"/>
                  </a:lnTo>
                  <a:lnTo>
                    <a:pt x="173" y="12"/>
                  </a:lnTo>
                  <a:lnTo>
                    <a:pt x="116" y="0"/>
                  </a:lnTo>
                  <a:lnTo>
                    <a:pt x="0" y="105"/>
                  </a:lnTo>
                  <a:lnTo>
                    <a:pt x="66" y="135"/>
                  </a:lnTo>
                  <a:lnTo>
                    <a:pt x="6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rot="14788200">
              <a:off x="1476360" y="3930120"/>
              <a:ext cx="287640" cy="509400"/>
            </a:xfrm>
            <a:custGeom>
              <a:avLst/>
              <a:gdLst/>
              <a:ahLst/>
              <a:rect l="l" t="t" r="r" b="b"/>
              <a:pathLst>
                <a:path w="915" h="812">
                  <a:moveTo>
                    <a:pt x="40" y="97"/>
                  </a:moveTo>
                  <a:lnTo>
                    <a:pt x="12" y="161"/>
                  </a:lnTo>
                  <a:lnTo>
                    <a:pt x="0" y="247"/>
                  </a:lnTo>
                  <a:lnTo>
                    <a:pt x="31" y="323"/>
                  </a:lnTo>
                  <a:lnTo>
                    <a:pt x="90" y="391"/>
                  </a:lnTo>
                  <a:lnTo>
                    <a:pt x="194" y="469"/>
                  </a:lnTo>
                  <a:lnTo>
                    <a:pt x="232" y="526"/>
                  </a:lnTo>
                  <a:lnTo>
                    <a:pt x="244" y="583"/>
                  </a:lnTo>
                  <a:lnTo>
                    <a:pt x="270" y="678"/>
                  </a:lnTo>
                  <a:lnTo>
                    <a:pt x="308" y="735"/>
                  </a:lnTo>
                  <a:lnTo>
                    <a:pt x="417" y="804"/>
                  </a:lnTo>
                  <a:lnTo>
                    <a:pt x="540" y="812"/>
                  </a:lnTo>
                  <a:lnTo>
                    <a:pt x="647" y="774"/>
                  </a:lnTo>
                  <a:lnTo>
                    <a:pt x="742" y="716"/>
                  </a:lnTo>
                  <a:lnTo>
                    <a:pt x="858" y="583"/>
                  </a:lnTo>
                  <a:lnTo>
                    <a:pt x="903" y="450"/>
                  </a:lnTo>
                  <a:lnTo>
                    <a:pt x="915" y="315"/>
                  </a:lnTo>
                  <a:lnTo>
                    <a:pt x="877" y="180"/>
                  </a:lnTo>
                  <a:lnTo>
                    <a:pt x="808" y="85"/>
                  </a:lnTo>
                  <a:lnTo>
                    <a:pt x="723" y="0"/>
                  </a:lnTo>
                  <a:lnTo>
                    <a:pt x="628" y="104"/>
                  </a:lnTo>
                  <a:lnTo>
                    <a:pt x="730" y="211"/>
                  </a:lnTo>
                  <a:lnTo>
                    <a:pt x="770" y="323"/>
                  </a:lnTo>
                  <a:lnTo>
                    <a:pt x="761" y="431"/>
                  </a:lnTo>
                  <a:lnTo>
                    <a:pt x="730" y="507"/>
                  </a:lnTo>
                  <a:lnTo>
                    <a:pt x="673" y="593"/>
                  </a:lnTo>
                  <a:lnTo>
                    <a:pt x="588" y="661"/>
                  </a:lnTo>
                  <a:lnTo>
                    <a:pt x="500" y="678"/>
                  </a:lnTo>
                  <a:lnTo>
                    <a:pt x="417" y="650"/>
                  </a:lnTo>
                  <a:lnTo>
                    <a:pt x="377" y="593"/>
                  </a:lnTo>
                  <a:lnTo>
                    <a:pt x="358" y="477"/>
                  </a:lnTo>
                  <a:lnTo>
                    <a:pt x="320" y="412"/>
                  </a:lnTo>
                  <a:lnTo>
                    <a:pt x="251" y="344"/>
                  </a:lnTo>
                  <a:lnTo>
                    <a:pt x="185" y="296"/>
                  </a:lnTo>
                  <a:lnTo>
                    <a:pt x="156" y="247"/>
                  </a:lnTo>
                  <a:lnTo>
                    <a:pt x="166" y="180"/>
                  </a:lnTo>
                  <a:lnTo>
                    <a:pt x="213" y="123"/>
                  </a:lnTo>
                  <a:lnTo>
                    <a:pt x="128" y="7"/>
                  </a:lnTo>
                  <a:lnTo>
                    <a:pt x="40" y="97"/>
                  </a:lnTo>
                  <a:lnTo>
                    <a:pt x="4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rot="14788200">
              <a:off x="1316520" y="4207320"/>
              <a:ext cx="199440" cy="162720"/>
            </a:xfrm>
            <a:custGeom>
              <a:avLst/>
              <a:gdLst/>
              <a:ahLst/>
              <a:rect l="l" t="t" r="r" b="b"/>
              <a:pathLst>
                <a:path w="633" h="261">
                  <a:moveTo>
                    <a:pt x="76" y="261"/>
                  </a:moveTo>
                  <a:lnTo>
                    <a:pt x="147" y="192"/>
                  </a:lnTo>
                  <a:lnTo>
                    <a:pt x="249" y="154"/>
                  </a:lnTo>
                  <a:lnTo>
                    <a:pt x="346" y="145"/>
                  </a:lnTo>
                  <a:lnTo>
                    <a:pt x="443" y="164"/>
                  </a:lnTo>
                  <a:lnTo>
                    <a:pt x="576" y="230"/>
                  </a:lnTo>
                  <a:lnTo>
                    <a:pt x="633" y="107"/>
                  </a:lnTo>
                  <a:lnTo>
                    <a:pt x="595" y="69"/>
                  </a:lnTo>
                  <a:lnTo>
                    <a:pt x="510" y="31"/>
                  </a:lnTo>
                  <a:lnTo>
                    <a:pt x="422" y="12"/>
                  </a:lnTo>
                  <a:lnTo>
                    <a:pt x="327" y="0"/>
                  </a:lnTo>
                  <a:lnTo>
                    <a:pt x="211" y="12"/>
                  </a:lnTo>
                  <a:lnTo>
                    <a:pt x="107" y="50"/>
                  </a:lnTo>
                  <a:lnTo>
                    <a:pt x="0" y="114"/>
                  </a:lnTo>
                  <a:lnTo>
                    <a:pt x="76" y="261"/>
                  </a:lnTo>
                  <a:lnTo>
                    <a:pt x="76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rot="14788200">
              <a:off x="1763640" y="3461400"/>
              <a:ext cx="259200" cy="558360"/>
            </a:xfrm>
            <a:custGeom>
              <a:avLst/>
              <a:gdLst/>
              <a:ahLst/>
              <a:rect l="l" t="t" r="r" b="b"/>
              <a:pathLst>
                <a:path w="824" h="890">
                  <a:moveTo>
                    <a:pt x="363" y="151"/>
                  </a:moveTo>
                  <a:lnTo>
                    <a:pt x="545" y="200"/>
                  </a:lnTo>
                  <a:lnTo>
                    <a:pt x="632" y="286"/>
                  </a:lnTo>
                  <a:lnTo>
                    <a:pt x="659" y="392"/>
                  </a:lnTo>
                  <a:lnTo>
                    <a:pt x="651" y="517"/>
                  </a:lnTo>
                  <a:lnTo>
                    <a:pt x="621" y="601"/>
                  </a:lnTo>
                  <a:lnTo>
                    <a:pt x="575" y="670"/>
                  </a:lnTo>
                  <a:lnTo>
                    <a:pt x="505" y="717"/>
                  </a:lnTo>
                  <a:lnTo>
                    <a:pt x="448" y="717"/>
                  </a:lnTo>
                  <a:lnTo>
                    <a:pt x="402" y="698"/>
                  </a:lnTo>
                  <a:lnTo>
                    <a:pt x="363" y="601"/>
                  </a:lnTo>
                  <a:lnTo>
                    <a:pt x="287" y="517"/>
                  </a:lnTo>
                  <a:lnTo>
                    <a:pt x="211" y="468"/>
                  </a:lnTo>
                  <a:lnTo>
                    <a:pt x="172" y="413"/>
                  </a:lnTo>
                  <a:lnTo>
                    <a:pt x="161" y="343"/>
                  </a:lnTo>
                  <a:lnTo>
                    <a:pt x="180" y="278"/>
                  </a:lnTo>
                  <a:lnTo>
                    <a:pt x="26" y="221"/>
                  </a:lnTo>
                  <a:lnTo>
                    <a:pt x="0" y="325"/>
                  </a:lnTo>
                  <a:lnTo>
                    <a:pt x="7" y="440"/>
                  </a:lnTo>
                  <a:lnTo>
                    <a:pt x="64" y="536"/>
                  </a:lnTo>
                  <a:lnTo>
                    <a:pt x="152" y="594"/>
                  </a:lnTo>
                  <a:lnTo>
                    <a:pt x="230" y="670"/>
                  </a:lnTo>
                  <a:lnTo>
                    <a:pt x="268" y="774"/>
                  </a:lnTo>
                  <a:lnTo>
                    <a:pt x="353" y="864"/>
                  </a:lnTo>
                  <a:lnTo>
                    <a:pt x="467" y="890"/>
                  </a:lnTo>
                  <a:lnTo>
                    <a:pt x="583" y="864"/>
                  </a:lnTo>
                  <a:lnTo>
                    <a:pt x="708" y="755"/>
                  </a:lnTo>
                  <a:lnTo>
                    <a:pt x="794" y="613"/>
                  </a:lnTo>
                  <a:lnTo>
                    <a:pt x="824" y="459"/>
                  </a:lnTo>
                  <a:lnTo>
                    <a:pt x="805" y="266"/>
                  </a:lnTo>
                  <a:lnTo>
                    <a:pt x="718" y="132"/>
                  </a:lnTo>
                  <a:lnTo>
                    <a:pt x="564" y="27"/>
                  </a:lnTo>
                  <a:lnTo>
                    <a:pt x="421" y="0"/>
                  </a:lnTo>
                  <a:lnTo>
                    <a:pt x="306" y="19"/>
                  </a:lnTo>
                  <a:lnTo>
                    <a:pt x="363" y="151"/>
                  </a:lnTo>
                  <a:lnTo>
                    <a:pt x="363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rot="14788200">
              <a:off x="1684800" y="3765240"/>
              <a:ext cx="130320" cy="198000"/>
            </a:xfrm>
            <a:custGeom>
              <a:avLst/>
              <a:gdLst/>
              <a:ahLst/>
              <a:rect l="l" t="t" r="r" b="b"/>
              <a:pathLst>
                <a:path w="414" h="316">
                  <a:moveTo>
                    <a:pt x="146" y="316"/>
                  </a:moveTo>
                  <a:lnTo>
                    <a:pt x="185" y="228"/>
                  </a:lnTo>
                  <a:lnTo>
                    <a:pt x="289" y="170"/>
                  </a:lnTo>
                  <a:lnTo>
                    <a:pt x="414" y="151"/>
                  </a:lnTo>
                  <a:lnTo>
                    <a:pt x="384" y="0"/>
                  </a:lnTo>
                  <a:lnTo>
                    <a:pt x="261" y="19"/>
                  </a:lnTo>
                  <a:lnTo>
                    <a:pt x="154" y="55"/>
                  </a:lnTo>
                  <a:lnTo>
                    <a:pt x="69" y="112"/>
                  </a:lnTo>
                  <a:lnTo>
                    <a:pt x="0" y="228"/>
                  </a:lnTo>
                  <a:lnTo>
                    <a:pt x="0" y="297"/>
                  </a:lnTo>
                  <a:lnTo>
                    <a:pt x="146" y="316"/>
                  </a:lnTo>
                  <a:lnTo>
                    <a:pt x="146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2" name=""/>
          <p:cNvGrpSpPr/>
          <p:nvPr/>
        </p:nvGrpSpPr>
        <p:grpSpPr>
          <a:xfrm>
            <a:off x="6095880" y="2873520"/>
            <a:ext cx="2078280" cy="1873080"/>
            <a:chOff x="6095880" y="2873520"/>
            <a:chExt cx="2078280" cy="1873080"/>
          </a:xfrm>
        </p:grpSpPr>
        <p:sp>
          <p:nvSpPr>
            <p:cNvPr id="2483" name=""/>
            <p:cNvSpPr/>
            <p:nvPr/>
          </p:nvSpPr>
          <p:spPr>
            <a:xfrm>
              <a:off x="6095880" y="2873520"/>
              <a:ext cx="2078280" cy="1873080"/>
            </a:xfrm>
            <a:custGeom>
              <a:avLst/>
              <a:gdLst/>
              <a:ahLst/>
              <a:rect l="l" t="t" r="r" b="b"/>
              <a:pathLst>
                <a:path w="1453" h="1304">
                  <a:moveTo>
                    <a:pt x="981" y="169"/>
                  </a:moveTo>
                  <a:lnTo>
                    <a:pt x="981" y="167"/>
                  </a:lnTo>
                  <a:lnTo>
                    <a:pt x="973" y="169"/>
                  </a:lnTo>
                  <a:lnTo>
                    <a:pt x="967" y="171"/>
                  </a:lnTo>
                  <a:lnTo>
                    <a:pt x="962" y="173"/>
                  </a:lnTo>
                  <a:lnTo>
                    <a:pt x="962" y="173"/>
                  </a:lnTo>
                  <a:lnTo>
                    <a:pt x="962" y="175"/>
                  </a:lnTo>
                  <a:lnTo>
                    <a:pt x="937" y="171"/>
                  </a:lnTo>
                  <a:lnTo>
                    <a:pt x="935" y="169"/>
                  </a:lnTo>
                  <a:lnTo>
                    <a:pt x="935" y="169"/>
                  </a:lnTo>
                  <a:lnTo>
                    <a:pt x="935" y="169"/>
                  </a:lnTo>
                  <a:lnTo>
                    <a:pt x="935" y="169"/>
                  </a:lnTo>
                  <a:lnTo>
                    <a:pt x="916" y="165"/>
                  </a:lnTo>
                  <a:lnTo>
                    <a:pt x="896" y="159"/>
                  </a:lnTo>
                  <a:lnTo>
                    <a:pt x="879" y="154"/>
                  </a:lnTo>
                  <a:lnTo>
                    <a:pt x="879" y="154"/>
                  </a:lnTo>
                  <a:lnTo>
                    <a:pt x="868" y="148"/>
                  </a:lnTo>
                  <a:lnTo>
                    <a:pt x="862" y="136"/>
                  </a:lnTo>
                  <a:lnTo>
                    <a:pt x="852" y="131"/>
                  </a:lnTo>
                  <a:lnTo>
                    <a:pt x="852" y="131"/>
                  </a:lnTo>
                  <a:lnTo>
                    <a:pt x="829" y="121"/>
                  </a:lnTo>
                  <a:lnTo>
                    <a:pt x="806" y="113"/>
                  </a:lnTo>
                  <a:lnTo>
                    <a:pt x="783" y="106"/>
                  </a:lnTo>
                  <a:lnTo>
                    <a:pt x="758" y="100"/>
                  </a:lnTo>
                  <a:lnTo>
                    <a:pt x="733" y="96"/>
                  </a:lnTo>
                  <a:lnTo>
                    <a:pt x="708" y="92"/>
                  </a:lnTo>
                  <a:lnTo>
                    <a:pt x="683" y="88"/>
                  </a:lnTo>
                  <a:lnTo>
                    <a:pt x="658" y="88"/>
                  </a:lnTo>
                  <a:lnTo>
                    <a:pt x="633" y="88"/>
                  </a:lnTo>
                  <a:lnTo>
                    <a:pt x="608" y="88"/>
                  </a:lnTo>
                  <a:lnTo>
                    <a:pt x="584" y="90"/>
                  </a:lnTo>
                  <a:lnTo>
                    <a:pt x="584" y="90"/>
                  </a:lnTo>
                  <a:lnTo>
                    <a:pt x="562" y="100"/>
                  </a:lnTo>
                  <a:lnTo>
                    <a:pt x="541" y="104"/>
                  </a:lnTo>
                  <a:lnTo>
                    <a:pt x="518" y="104"/>
                  </a:lnTo>
                  <a:lnTo>
                    <a:pt x="518" y="104"/>
                  </a:lnTo>
                  <a:lnTo>
                    <a:pt x="518" y="104"/>
                  </a:lnTo>
                  <a:lnTo>
                    <a:pt x="499" y="108"/>
                  </a:lnTo>
                  <a:lnTo>
                    <a:pt x="499" y="108"/>
                  </a:lnTo>
                  <a:lnTo>
                    <a:pt x="491" y="109"/>
                  </a:lnTo>
                  <a:lnTo>
                    <a:pt x="482" y="109"/>
                  </a:lnTo>
                  <a:lnTo>
                    <a:pt x="474" y="109"/>
                  </a:lnTo>
                  <a:lnTo>
                    <a:pt x="474" y="109"/>
                  </a:lnTo>
                  <a:lnTo>
                    <a:pt x="472" y="111"/>
                  </a:lnTo>
                  <a:lnTo>
                    <a:pt x="499" y="115"/>
                  </a:lnTo>
                  <a:lnTo>
                    <a:pt x="499" y="108"/>
                  </a:lnTo>
                  <a:lnTo>
                    <a:pt x="518" y="104"/>
                  </a:lnTo>
                  <a:lnTo>
                    <a:pt x="516" y="119"/>
                  </a:lnTo>
                  <a:lnTo>
                    <a:pt x="520" y="119"/>
                  </a:lnTo>
                  <a:lnTo>
                    <a:pt x="522" y="121"/>
                  </a:lnTo>
                  <a:lnTo>
                    <a:pt x="524" y="121"/>
                  </a:lnTo>
                  <a:lnTo>
                    <a:pt x="524" y="121"/>
                  </a:lnTo>
                  <a:lnTo>
                    <a:pt x="576" y="129"/>
                  </a:lnTo>
                  <a:lnTo>
                    <a:pt x="628" y="136"/>
                  </a:lnTo>
                  <a:lnTo>
                    <a:pt x="678" y="142"/>
                  </a:lnTo>
                  <a:lnTo>
                    <a:pt x="729" y="150"/>
                  </a:lnTo>
                  <a:lnTo>
                    <a:pt x="781" y="156"/>
                  </a:lnTo>
                  <a:lnTo>
                    <a:pt x="833" y="163"/>
                  </a:lnTo>
                  <a:lnTo>
                    <a:pt x="885" y="169"/>
                  </a:lnTo>
                  <a:lnTo>
                    <a:pt x="937" y="175"/>
                  </a:lnTo>
                  <a:lnTo>
                    <a:pt x="937" y="175"/>
                  </a:lnTo>
                  <a:lnTo>
                    <a:pt x="937" y="173"/>
                  </a:lnTo>
                  <a:lnTo>
                    <a:pt x="937" y="171"/>
                  </a:lnTo>
                  <a:lnTo>
                    <a:pt x="937" y="171"/>
                  </a:lnTo>
                  <a:lnTo>
                    <a:pt x="937" y="171"/>
                  </a:lnTo>
                  <a:lnTo>
                    <a:pt x="962" y="175"/>
                  </a:lnTo>
                  <a:lnTo>
                    <a:pt x="962" y="175"/>
                  </a:lnTo>
                  <a:lnTo>
                    <a:pt x="967" y="177"/>
                  </a:lnTo>
                  <a:lnTo>
                    <a:pt x="973" y="179"/>
                  </a:lnTo>
                  <a:lnTo>
                    <a:pt x="981" y="179"/>
                  </a:lnTo>
                  <a:lnTo>
                    <a:pt x="981" y="179"/>
                  </a:lnTo>
                  <a:lnTo>
                    <a:pt x="981" y="169"/>
                  </a:lnTo>
                  <a:lnTo>
                    <a:pt x="1002" y="156"/>
                  </a:lnTo>
                  <a:lnTo>
                    <a:pt x="1000" y="181"/>
                  </a:lnTo>
                  <a:lnTo>
                    <a:pt x="1083" y="192"/>
                  </a:lnTo>
                  <a:lnTo>
                    <a:pt x="1165" y="202"/>
                  </a:lnTo>
                  <a:lnTo>
                    <a:pt x="1246" y="215"/>
                  </a:lnTo>
                  <a:lnTo>
                    <a:pt x="1246" y="215"/>
                  </a:lnTo>
                  <a:lnTo>
                    <a:pt x="1409" y="242"/>
                  </a:lnTo>
                  <a:lnTo>
                    <a:pt x="1417" y="246"/>
                  </a:lnTo>
                  <a:lnTo>
                    <a:pt x="1426" y="250"/>
                  </a:lnTo>
                  <a:lnTo>
                    <a:pt x="1432" y="255"/>
                  </a:lnTo>
                  <a:lnTo>
                    <a:pt x="1432" y="255"/>
                  </a:lnTo>
                  <a:lnTo>
                    <a:pt x="1440" y="278"/>
                  </a:lnTo>
                  <a:lnTo>
                    <a:pt x="1441" y="378"/>
                  </a:lnTo>
                  <a:lnTo>
                    <a:pt x="1443" y="480"/>
                  </a:lnTo>
                  <a:lnTo>
                    <a:pt x="1445" y="582"/>
                  </a:lnTo>
                  <a:lnTo>
                    <a:pt x="1445" y="582"/>
                  </a:lnTo>
                  <a:lnTo>
                    <a:pt x="1449" y="770"/>
                  </a:lnTo>
                  <a:lnTo>
                    <a:pt x="1449" y="860"/>
                  </a:lnTo>
                  <a:lnTo>
                    <a:pt x="1451" y="1081"/>
                  </a:lnTo>
                  <a:lnTo>
                    <a:pt x="1453" y="1129"/>
                  </a:lnTo>
                  <a:lnTo>
                    <a:pt x="1453" y="1177"/>
                  </a:lnTo>
                  <a:lnTo>
                    <a:pt x="1453" y="1225"/>
                  </a:lnTo>
                  <a:lnTo>
                    <a:pt x="1453" y="1225"/>
                  </a:lnTo>
                  <a:lnTo>
                    <a:pt x="1441" y="1227"/>
                  </a:lnTo>
                  <a:lnTo>
                    <a:pt x="1430" y="1225"/>
                  </a:lnTo>
                  <a:lnTo>
                    <a:pt x="1418" y="1223"/>
                  </a:lnTo>
                  <a:lnTo>
                    <a:pt x="1418" y="1223"/>
                  </a:lnTo>
                  <a:lnTo>
                    <a:pt x="1409" y="1229"/>
                  </a:lnTo>
                  <a:lnTo>
                    <a:pt x="1401" y="1235"/>
                  </a:lnTo>
                  <a:lnTo>
                    <a:pt x="1393" y="1243"/>
                  </a:lnTo>
                  <a:lnTo>
                    <a:pt x="1386" y="1250"/>
                  </a:lnTo>
                  <a:lnTo>
                    <a:pt x="1380" y="1258"/>
                  </a:lnTo>
                  <a:lnTo>
                    <a:pt x="1374" y="1266"/>
                  </a:lnTo>
                  <a:lnTo>
                    <a:pt x="1374" y="1266"/>
                  </a:lnTo>
                  <a:lnTo>
                    <a:pt x="1372" y="1279"/>
                  </a:lnTo>
                  <a:lnTo>
                    <a:pt x="1372" y="1291"/>
                  </a:lnTo>
                  <a:lnTo>
                    <a:pt x="1372" y="1304"/>
                  </a:lnTo>
                  <a:lnTo>
                    <a:pt x="1372" y="1304"/>
                  </a:lnTo>
                  <a:lnTo>
                    <a:pt x="1357" y="1300"/>
                  </a:lnTo>
                  <a:lnTo>
                    <a:pt x="1342" y="1296"/>
                  </a:lnTo>
                  <a:lnTo>
                    <a:pt x="1326" y="1294"/>
                  </a:lnTo>
                  <a:lnTo>
                    <a:pt x="1326" y="1294"/>
                  </a:lnTo>
                  <a:lnTo>
                    <a:pt x="845" y="1200"/>
                  </a:lnTo>
                  <a:lnTo>
                    <a:pt x="739" y="1181"/>
                  </a:lnTo>
                  <a:lnTo>
                    <a:pt x="250" y="1085"/>
                  </a:lnTo>
                  <a:lnTo>
                    <a:pt x="2" y="1037"/>
                  </a:lnTo>
                  <a:lnTo>
                    <a:pt x="2" y="1006"/>
                  </a:lnTo>
                  <a:lnTo>
                    <a:pt x="2" y="484"/>
                  </a:lnTo>
                  <a:lnTo>
                    <a:pt x="2" y="378"/>
                  </a:lnTo>
                  <a:lnTo>
                    <a:pt x="0" y="273"/>
                  </a:lnTo>
                  <a:lnTo>
                    <a:pt x="2" y="165"/>
                  </a:lnTo>
                  <a:lnTo>
                    <a:pt x="2" y="165"/>
                  </a:lnTo>
                  <a:lnTo>
                    <a:pt x="4" y="146"/>
                  </a:lnTo>
                  <a:lnTo>
                    <a:pt x="8" y="127"/>
                  </a:lnTo>
                  <a:lnTo>
                    <a:pt x="19" y="109"/>
                  </a:lnTo>
                  <a:lnTo>
                    <a:pt x="19" y="109"/>
                  </a:lnTo>
                  <a:lnTo>
                    <a:pt x="36" y="98"/>
                  </a:lnTo>
                  <a:lnTo>
                    <a:pt x="56" y="90"/>
                  </a:lnTo>
                  <a:lnTo>
                    <a:pt x="75" y="83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9" y="73"/>
                  </a:lnTo>
                  <a:lnTo>
                    <a:pt x="144" y="75"/>
                  </a:lnTo>
                  <a:lnTo>
                    <a:pt x="169" y="79"/>
                  </a:lnTo>
                  <a:lnTo>
                    <a:pt x="194" y="81"/>
                  </a:lnTo>
                  <a:lnTo>
                    <a:pt x="194" y="81"/>
                  </a:lnTo>
                  <a:lnTo>
                    <a:pt x="280" y="90"/>
                  </a:lnTo>
                  <a:lnTo>
                    <a:pt x="365" y="100"/>
                  </a:lnTo>
                  <a:lnTo>
                    <a:pt x="451" y="109"/>
                  </a:lnTo>
                  <a:lnTo>
                    <a:pt x="451" y="109"/>
                  </a:lnTo>
                  <a:lnTo>
                    <a:pt x="451" y="102"/>
                  </a:lnTo>
                  <a:lnTo>
                    <a:pt x="447" y="94"/>
                  </a:lnTo>
                  <a:lnTo>
                    <a:pt x="443" y="86"/>
                  </a:lnTo>
                  <a:lnTo>
                    <a:pt x="443" y="86"/>
                  </a:lnTo>
                  <a:lnTo>
                    <a:pt x="441" y="79"/>
                  </a:lnTo>
                  <a:lnTo>
                    <a:pt x="441" y="69"/>
                  </a:lnTo>
                  <a:lnTo>
                    <a:pt x="441" y="60"/>
                  </a:lnTo>
                  <a:lnTo>
                    <a:pt x="441" y="60"/>
                  </a:lnTo>
                  <a:lnTo>
                    <a:pt x="449" y="52"/>
                  </a:lnTo>
                  <a:lnTo>
                    <a:pt x="455" y="42"/>
                  </a:lnTo>
                  <a:lnTo>
                    <a:pt x="463" y="35"/>
                  </a:lnTo>
                  <a:lnTo>
                    <a:pt x="470" y="27"/>
                  </a:lnTo>
                  <a:lnTo>
                    <a:pt x="478" y="21"/>
                  </a:lnTo>
                  <a:lnTo>
                    <a:pt x="488" y="17"/>
                  </a:lnTo>
                  <a:lnTo>
                    <a:pt x="497" y="13"/>
                  </a:lnTo>
                  <a:lnTo>
                    <a:pt x="497" y="13"/>
                  </a:lnTo>
                  <a:lnTo>
                    <a:pt x="511" y="13"/>
                  </a:lnTo>
                  <a:lnTo>
                    <a:pt x="524" y="12"/>
                  </a:lnTo>
                  <a:lnTo>
                    <a:pt x="537" y="6"/>
                  </a:lnTo>
                  <a:lnTo>
                    <a:pt x="537" y="6"/>
                  </a:lnTo>
                  <a:lnTo>
                    <a:pt x="557" y="4"/>
                  </a:lnTo>
                  <a:lnTo>
                    <a:pt x="576" y="2"/>
                  </a:lnTo>
                  <a:lnTo>
                    <a:pt x="593" y="0"/>
                  </a:lnTo>
                  <a:lnTo>
                    <a:pt x="593" y="0"/>
                  </a:lnTo>
                  <a:lnTo>
                    <a:pt x="597" y="2"/>
                  </a:lnTo>
                  <a:lnTo>
                    <a:pt x="601" y="4"/>
                  </a:lnTo>
                  <a:lnTo>
                    <a:pt x="603" y="6"/>
                  </a:lnTo>
                  <a:lnTo>
                    <a:pt x="603" y="6"/>
                  </a:lnTo>
                  <a:lnTo>
                    <a:pt x="681" y="6"/>
                  </a:lnTo>
                  <a:lnTo>
                    <a:pt x="760" y="13"/>
                  </a:lnTo>
                  <a:lnTo>
                    <a:pt x="835" y="33"/>
                  </a:lnTo>
                  <a:lnTo>
                    <a:pt x="835" y="33"/>
                  </a:lnTo>
                  <a:lnTo>
                    <a:pt x="841" y="33"/>
                  </a:lnTo>
                  <a:lnTo>
                    <a:pt x="866" y="42"/>
                  </a:lnTo>
                  <a:lnTo>
                    <a:pt x="893" y="50"/>
                  </a:lnTo>
                  <a:lnTo>
                    <a:pt x="917" y="58"/>
                  </a:lnTo>
                  <a:lnTo>
                    <a:pt x="917" y="58"/>
                  </a:lnTo>
                  <a:lnTo>
                    <a:pt x="933" y="58"/>
                  </a:lnTo>
                  <a:lnTo>
                    <a:pt x="946" y="61"/>
                  </a:lnTo>
                  <a:lnTo>
                    <a:pt x="962" y="67"/>
                  </a:lnTo>
                  <a:lnTo>
                    <a:pt x="975" y="75"/>
                  </a:lnTo>
                  <a:lnTo>
                    <a:pt x="975" y="75"/>
                  </a:lnTo>
                  <a:lnTo>
                    <a:pt x="979" y="77"/>
                  </a:lnTo>
                  <a:lnTo>
                    <a:pt x="981" y="81"/>
                  </a:lnTo>
                  <a:lnTo>
                    <a:pt x="983" y="86"/>
                  </a:lnTo>
                  <a:lnTo>
                    <a:pt x="983" y="86"/>
                  </a:lnTo>
                  <a:lnTo>
                    <a:pt x="992" y="92"/>
                  </a:lnTo>
                  <a:lnTo>
                    <a:pt x="1002" y="102"/>
                  </a:lnTo>
                  <a:lnTo>
                    <a:pt x="1008" y="111"/>
                  </a:lnTo>
                  <a:lnTo>
                    <a:pt x="1010" y="123"/>
                  </a:lnTo>
                  <a:lnTo>
                    <a:pt x="1010" y="123"/>
                  </a:lnTo>
                  <a:lnTo>
                    <a:pt x="1008" y="134"/>
                  </a:lnTo>
                  <a:lnTo>
                    <a:pt x="1006" y="144"/>
                  </a:lnTo>
                  <a:lnTo>
                    <a:pt x="1002" y="154"/>
                  </a:lnTo>
                  <a:lnTo>
                    <a:pt x="1002" y="154"/>
                  </a:lnTo>
                  <a:lnTo>
                    <a:pt x="1002" y="156"/>
                  </a:lnTo>
                  <a:lnTo>
                    <a:pt x="981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896520" y="2887560"/>
              <a:ext cx="450360" cy="99000"/>
            </a:xfrm>
            <a:custGeom>
              <a:avLst/>
              <a:gdLst/>
              <a:ahLst/>
              <a:rect l="l" t="t" r="r" b="b"/>
              <a:pathLst>
                <a:path w="315" h="69">
                  <a:moveTo>
                    <a:pt x="112" y="3"/>
                  </a:moveTo>
                  <a:lnTo>
                    <a:pt x="108" y="3"/>
                  </a:lnTo>
                  <a:lnTo>
                    <a:pt x="104" y="3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54" y="15"/>
                  </a:lnTo>
                  <a:lnTo>
                    <a:pt x="204" y="26"/>
                  </a:lnTo>
                  <a:lnTo>
                    <a:pt x="252" y="38"/>
                  </a:lnTo>
                  <a:lnTo>
                    <a:pt x="252" y="38"/>
                  </a:lnTo>
                  <a:lnTo>
                    <a:pt x="267" y="48"/>
                  </a:lnTo>
                  <a:lnTo>
                    <a:pt x="283" y="55"/>
                  </a:lnTo>
                  <a:lnTo>
                    <a:pt x="298" y="61"/>
                  </a:lnTo>
                  <a:lnTo>
                    <a:pt x="315" y="67"/>
                  </a:lnTo>
                  <a:lnTo>
                    <a:pt x="315" y="67"/>
                  </a:lnTo>
                  <a:lnTo>
                    <a:pt x="313" y="69"/>
                  </a:lnTo>
                  <a:lnTo>
                    <a:pt x="292" y="63"/>
                  </a:lnTo>
                  <a:lnTo>
                    <a:pt x="271" y="55"/>
                  </a:lnTo>
                  <a:lnTo>
                    <a:pt x="250" y="50"/>
                  </a:lnTo>
                  <a:lnTo>
                    <a:pt x="227" y="42"/>
                  </a:lnTo>
                  <a:lnTo>
                    <a:pt x="206" y="36"/>
                  </a:lnTo>
                  <a:lnTo>
                    <a:pt x="183" y="32"/>
                  </a:lnTo>
                  <a:lnTo>
                    <a:pt x="160" y="28"/>
                  </a:lnTo>
                  <a:lnTo>
                    <a:pt x="135" y="26"/>
                  </a:lnTo>
                  <a:lnTo>
                    <a:pt x="135" y="26"/>
                  </a:lnTo>
                  <a:lnTo>
                    <a:pt x="91" y="25"/>
                  </a:lnTo>
                  <a:lnTo>
                    <a:pt x="45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29" y="5"/>
                  </a:lnTo>
                  <a:lnTo>
                    <a:pt x="52" y="3"/>
                  </a:lnTo>
                  <a:lnTo>
                    <a:pt x="75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889320" y="2881800"/>
              <a:ext cx="48600" cy="1584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25" y="2"/>
                  </a:lnTo>
                  <a:lnTo>
                    <a:pt x="15" y="7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863760" y="2887560"/>
              <a:ext cx="2268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lnTo>
                    <a:pt x="4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847920" y="28947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34880" y="2894760"/>
              <a:ext cx="101520" cy="11340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71" y="0"/>
                  </a:moveTo>
                  <a:lnTo>
                    <a:pt x="60" y="8"/>
                  </a:lnTo>
                  <a:lnTo>
                    <a:pt x="46" y="12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1" y="23"/>
                  </a:lnTo>
                  <a:lnTo>
                    <a:pt x="27" y="25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7" y="31"/>
                  </a:lnTo>
                  <a:lnTo>
                    <a:pt x="31" y="31"/>
                  </a:lnTo>
                  <a:lnTo>
                    <a:pt x="35" y="29"/>
                  </a:lnTo>
                  <a:lnTo>
                    <a:pt x="35" y="29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39" y="33"/>
                  </a:lnTo>
                  <a:lnTo>
                    <a:pt x="21" y="43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6" y="79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6" y="45"/>
                  </a:lnTo>
                  <a:lnTo>
                    <a:pt x="14" y="39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25" y="18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58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827760" y="2909160"/>
              <a:ext cx="1152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0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973920" y="2930760"/>
              <a:ext cx="348840" cy="61560"/>
            </a:xfrm>
            <a:custGeom>
              <a:avLst/>
              <a:gdLst/>
              <a:ahLst/>
              <a:rect l="l" t="t" r="r" b="b"/>
              <a:pathLst>
                <a:path w="244" h="43">
                  <a:moveTo>
                    <a:pt x="244" y="41"/>
                  </a:moveTo>
                  <a:lnTo>
                    <a:pt x="242" y="43"/>
                  </a:lnTo>
                  <a:lnTo>
                    <a:pt x="236" y="43"/>
                  </a:lnTo>
                  <a:lnTo>
                    <a:pt x="232" y="41"/>
                  </a:lnTo>
                  <a:lnTo>
                    <a:pt x="232" y="41"/>
                  </a:lnTo>
                  <a:lnTo>
                    <a:pt x="221" y="37"/>
                  </a:lnTo>
                  <a:lnTo>
                    <a:pt x="208" y="33"/>
                  </a:lnTo>
                  <a:lnTo>
                    <a:pt x="196" y="31"/>
                  </a:lnTo>
                  <a:lnTo>
                    <a:pt x="196" y="31"/>
                  </a:lnTo>
                  <a:lnTo>
                    <a:pt x="163" y="20"/>
                  </a:lnTo>
                  <a:lnTo>
                    <a:pt x="127" y="14"/>
                  </a:lnTo>
                  <a:lnTo>
                    <a:pt x="90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37" y="0"/>
                  </a:lnTo>
                  <a:lnTo>
                    <a:pt x="17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" y="0"/>
                  </a:lnTo>
                  <a:lnTo>
                    <a:pt x="100" y="2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81" y="20"/>
                  </a:lnTo>
                  <a:lnTo>
                    <a:pt x="211" y="29"/>
                  </a:lnTo>
                  <a:lnTo>
                    <a:pt x="244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418880" y="2963880"/>
              <a:ext cx="32760" cy="828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3" y="4"/>
                  </a:moveTo>
                  <a:lnTo>
                    <a:pt x="17" y="6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818040" y="2921040"/>
              <a:ext cx="68400" cy="90000"/>
            </a:xfrm>
            <a:custGeom>
              <a:avLst/>
              <a:gdLst/>
              <a:ahLst/>
              <a:rect l="l" t="t" r="r" b="b"/>
              <a:pathLst>
                <a:path w="48" h="63">
                  <a:moveTo>
                    <a:pt x="44" y="0"/>
                  </a:moveTo>
                  <a:lnTo>
                    <a:pt x="44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8" y="2"/>
                  </a:lnTo>
                  <a:lnTo>
                    <a:pt x="48" y="7"/>
                  </a:lnTo>
                  <a:lnTo>
                    <a:pt x="42" y="11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6" y="17"/>
                  </a:lnTo>
                  <a:lnTo>
                    <a:pt x="46" y="15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8" y="13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0" y="38"/>
                  </a:lnTo>
                  <a:lnTo>
                    <a:pt x="34" y="32"/>
                  </a:lnTo>
                  <a:lnTo>
                    <a:pt x="29" y="28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8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9" y="44"/>
                  </a:lnTo>
                  <a:lnTo>
                    <a:pt x="15" y="5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19" y="61"/>
                  </a:lnTo>
                  <a:lnTo>
                    <a:pt x="15" y="59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55"/>
                  </a:lnTo>
                  <a:lnTo>
                    <a:pt x="11" y="52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6" y="40"/>
                  </a:lnTo>
                  <a:lnTo>
                    <a:pt x="6" y="36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5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403040" y="2966760"/>
              <a:ext cx="3960" cy="54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466040" y="2975400"/>
              <a:ext cx="2880" cy="5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895440" y="2933640"/>
              <a:ext cx="21240" cy="576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9" y="2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2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895440" y="2950920"/>
              <a:ext cx="412920" cy="54720"/>
            </a:xfrm>
            <a:custGeom>
              <a:avLst/>
              <a:gdLst/>
              <a:ahLst/>
              <a:rect l="l" t="t" r="r" b="b"/>
              <a:pathLst>
                <a:path w="289" h="38">
                  <a:moveTo>
                    <a:pt x="207" y="13"/>
                  </a:moveTo>
                  <a:lnTo>
                    <a:pt x="234" y="21"/>
                  </a:lnTo>
                  <a:lnTo>
                    <a:pt x="263" y="29"/>
                  </a:lnTo>
                  <a:lnTo>
                    <a:pt x="289" y="38"/>
                  </a:lnTo>
                  <a:lnTo>
                    <a:pt x="289" y="38"/>
                  </a:lnTo>
                  <a:lnTo>
                    <a:pt x="255" y="29"/>
                  </a:lnTo>
                  <a:lnTo>
                    <a:pt x="222" y="21"/>
                  </a:lnTo>
                  <a:lnTo>
                    <a:pt x="190" y="13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03" y="6"/>
                  </a:lnTo>
                  <a:lnTo>
                    <a:pt x="49" y="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51" y="4"/>
                  </a:lnTo>
                  <a:lnTo>
                    <a:pt x="180" y="7"/>
                  </a:lnTo>
                  <a:lnTo>
                    <a:pt x="20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341480" y="2978280"/>
              <a:ext cx="94320" cy="12024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52" y="8"/>
                  </a:moveTo>
                  <a:lnTo>
                    <a:pt x="52" y="12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8" y="12"/>
                  </a:lnTo>
                  <a:lnTo>
                    <a:pt x="62" y="10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58" y="12"/>
                  </a:lnTo>
                  <a:lnTo>
                    <a:pt x="52" y="19"/>
                  </a:lnTo>
                  <a:lnTo>
                    <a:pt x="50" y="27"/>
                  </a:lnTo>
                  <a:lnTo>
                    <a:pt x="48" y="35"/>
                  </a:lnTo>
                  <a:lnTo>
                    <a:pt x="48" y="44"/>
                  </a:lnTo>
                  <a:lnTo>
                    <a:pt x="48" y="5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8" y="84"/>
                  </a:lnTo>
                  <a:lnTo>
                    <a:pt x="48" y="81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37" y="65"/>
                  </a:lnTo>
                  <a:lnTo>
                    <a:pt x="33" y="5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0" y="38"/>
                  </a:lnTo>
                  <a:lnTo>
                    <a:pt x="14" y="33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4" y="36"/>
                  </a:lnTo>
                  <a:lnTo>
                    <a:pt x="2" y="4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7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45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424280" y="2992680"/>
              <a:ext cx="107280" cy="10476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3" y="28"/>
                  </a:moveTo>
                  <a:lnTo>
                    <a:pt x="73" y="32"/>
                  </a:lnTo>
                  <a:lnTo>
                    <a:pt x="73" y="36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1" y="36"/>
                  </a:lnTo>
                  <a:lnTo>
                    <a:pt x="65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6" y="38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8" y="50"/>
                  </a:lnTo>
                  <a:lnTo>
                    <a:pt x="48" y="55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2" y="65"/>
                  </a:lnTo>
                  <a:lnTo>
                    <a:pt x="38" y="69"/>
                  </a:lnTo>
                  <a:lnTo>
                    <a:pt x="33" y="73"/>
                  </a:lnTo>
                  <a:lnTo>
                    <a:pt x="33" y="73"/>
                  </a:lnTo>
                  <a:lnTo>
                    <a:pt x="35" y="63"/>
                  </a:lnTo>
                  <a:lnTo>
                    <a:pt x="40" y="53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1" y="36"/>
                  </a:lnTo>
                  <a:lnTo>
                    <a:pt x="21" y="28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3" y="19"/>
                  </a:lnTo>
                  <a:lnTo>
                    <a:pt x="27" y="28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4" y="3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60" y="32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3" y="26"/>
                  </a:lnTo>
                  <a:lnTo>
                    <a:pt x="38" y="28"/>
                  </a:lnTo>
                  <a:lnTo>
                    <a:pt x="10" y="7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54" y="9"/>
                  </a:lnTo>
                  <a:lnTo>
                    <a:pt x="65" y="17"/>
                  </a:lnTo>
                  <a:lnTo>
                    <a:pt x="73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878160" y="2953800"/>
              <a:ext cx="2880" cy="100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407000" y="299988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2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899400" y="2975400"/>
              <a:ext cx="432000" cy="7740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142" y="6"/>
                  </a:moveTo>
                  <a:lnTo>
                    <a:pt x="173" y="10"/>
                  </a:lnTo>
                  <a:lnTo>
                    <a:pt x="204" y="15"/>
                  </a:lnTo>
                  <a:lnTo>
                    <a:pt x="233" y="25"/>
                  </a:lnTo>
                  <a:lnTo>
                    <a:pt x="233" y="25"/>
                  </a:lnTo>
                  <a:lnTo>
                    <a:pt x="256" y="31"/>
                  </a:lnTo>
                  <a:lnTo>
                    <a:pt x="279" y="38"/>
                  </a:lnTo>
                  <a:lnTo>
                    <a:pt x="300" y="46"/>
                  </a:lnTo>
                  <a:lnTo>
                    <a:pt x="300" y="46"/>
                  </a:lnTo>
                  <a:lnTo>
                    <a:pt x="300" y="48"/>
                  </a:lnTo>
                  <a:lnTo>
                    <a:pt x="300" y="52"/>
                  </a:lnTo>
                  <a:lnTo>
                    <a:pt x="302" y="54"/>
                  </a:lnTo>
                  <a:lnTo>
                    <a:pt x="302" y="54"/>
                  </a:lnTo>
                  <a:lnTo>
                    <a:pt x="281" y="46"/>
                  </a:lnTo>
                  <a:lnTo>
                    <a:pt x="258" y="38"/>
                  </a:lnTo>
                  <a:lnTo>
                    <a:pt x="235" y="31"/>
                  </a:lnTo>
                  <a:lnTo>
                    <a:pt x="212" y="25"/>
                  </a:lnTo>
                  <a:lnTo>
                    <a:pt x="188" y="19"/>
                  </a:lnTo>
                  <a:lnTo>
                    <a:pt x="164" y="15"/>
                  </a:lnTo>
                  <a:lnTo>
                    <a:pt x="141" y="14"/>
                  </a:lnTo>
                  <a:lnTo>
                    <a:pt x="116" y="12"/>
                  </a:lnTo>
                  <a:lnTo>
                    <a:pt x="93" y="10"/>
                  </a:lnTo>
                  <a:lnTo>
                    <a:pt x="93" y="10"/>
                  </a:lnTo>
                  <a:lnTo>
                    <a:pt x="89" y="6"/>
                  </a:lnTo>
                  <a:lnTo>
                    <a:pt x="60" y="6"/>
                  </a:lnTo>
                  <a:lnTo>
                    <a:pt x="33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33" y="4"/>
                  </a:lnTo>
                  <a:lnTo>
                    <a:pt x="69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6" y="2"/>
                  </a:lnTo>
                  <a:lnTo>
                    <a:pt x="129" y="4"/>
                  </a:lnTo>
                  <a:lnTo>
                    <a:pt x="14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795000" y="2959560"/>
              <a:ext cx="14040" cy="126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3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314480" y="300852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403040" y="3020040"/>
              <a:ext cx="3960" cy="126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3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746400" y="2969280"/>
              <a:ext cx="32760" cy="11628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9" y="29"/>
                  </a:moveTo>
                  <a:lnTo>
                    <a:pt x="4" y="75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7" y="8"/>
                  </a:lnTo>
                  <a:lnTo>
                    <a:pt x="11" y="18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424280" y="3028320"/>
              <a:ext cx="32760" cy="24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3"/>
                  </a:moveTo>
                  <a:lnTo>
                    <a:pt x="21" y="17"/>
                  </a:lnTo>
                  <a:lnTo>
                    <a:pt x="13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3"/>
                  </a:lnTo>
                  <a:lnTo>
                    <a:pt x="15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403040" y="3041280"/>
              <a:ext cx="3960" cy="169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0"/>
                  </a:moveTo>
                  <a:lnTo>
                    <a:pt x="3" y="4"/>
                  </a:lnTo>
                  <a:lnTo>
                    <a:pt x="3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776640" y="3002760"/>
              <a:ext cx="43920" cy="201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31" y="6"/>
                  </a:moveTo>
                  <a:lnTo>
                    <a:pt x="29" y="10"/>
                  </a:lnTo>
                  <a:lnTo>
                    <a:pt x="23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445880" y="3058560"/>
              <a:ext cx="25920" cy="13752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18" y="4"/>
                  </a:moveTo>
                  <a:lnTo>
                    <a:pt x="12" y="21"/>
                  </a:lnTo>
                  <a:lnTo>
                    <a:pt x="10" y="38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69"/>
                  </a:lnTo>
                  <a:lnTo>
                    <a:pt x="8" y="80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2" y="94"/>
                  </a:lnTo>
                  <a:lnTo>
                    <a:pt x="10" y="94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4" y="92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2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403040" y="3065760"/>
              <a:ext cx="3960" cy="201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0"/>
                  </a:moveTo>
                  <a:lnTo>
                    <a:pt x="3" y="4"/>
                  </a:lnTo>
                  <a:lnTo>
                    <a:pt x="3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421400" y="3065760"/>
              <a:ext cx="16920" cy="356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14"/>
                  </a:moveTo>
                  <a:lnTo>
                    <a:pt x="12" y="18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10" y="8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815160" y="3030120"/>
              <a:ext cx="11160" cy="255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0"/>
                  </a:moveTo>
                  <a:lnTo>
                    <a:pt x="6" y="6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235920" y="298404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8" y="0"/>
                  </a:lnTo>
                  <a:lnTo>
                    <a:pt x="9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317280" y="2992680"/>
              <a:ext cx="104400" cy="100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7"/>
                  </a:moveTo>
                  <a:lnTo>
                    <a:pt x="48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2"/>
                  </a:lnTo>
                  <a:lnTo>
                    <a:pt x="48" y="3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686280" y="3032640"/>
              <a:ext cx="54000" cy="864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8" y="6"/>
                  </a:moveTo>
                  <a:lnTo>
                    <a:pt x="27" y="6"/>
                  </a:lnTo>
                  <a:lnTo>
                    <a:pt x="1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770880" y="3044520"/>
              <a:ext cx="35640" cy="540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25" y="4"/>
                  </a:moveTo>
                  <a:lnTo>
                    <a:pt x="25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2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507440" y="3107520"/>
              <a:ext cx="9720" cy="4140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7" y="29"/>
                  </a:moveTo>
                  <a:lnTo>
                    <a:pt x="2" y="29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833520" y="3055680"/>
              <a:ext cx="164160" cy="2412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115" y="17"/>
                  </a:moveTo>
                  <a:lnTo>
                    <a:pt x="79" y="13"/>
                  </a:lnTo>
                  <a:lnTo>
                    <a:pt x="41" y="9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397280" y="3643560"/>
              <a:ext cx="244440" cy="3852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171" y="0"/>
                  </a:moveTo>
                  <a:lnTo>
                    <a:pt x="167" y="9"/>
                  </a:lnTo>
                  <a:lnTo>
                    <a:pt x="163" y="17"/>
                  </a:lnTo>
                  <a:lnTo>
                    <a:pt x="159" y="27"/>
                  </a:lnTo>
                  <a:lnTo>
                    <a:pt x="159" y="27"/>
                  </a:lnTo>
                  <a:lnTo>
                    <a:pt x="159" y="27"/>
                  </a:lnTo>
                  <a:lnTo>
                    <a:pt x="150" y="27"/>
                  </a:lnTo>
                  <a:lnTo>
                    <a:pt x="150" y="25"/>
                  </a:lnTo>
                  <a:lnTo>
                    <a:pt x="151" y="25"/>
                  </a:lnTo>
                  <a:lnTo>
                    <a:pt x="151" y="25"/>
                  </a:lnTo>
                  <a:lnTo>
                    <a:pt x="153" y="23"/>
                  </a:lnTo>
                  <a:lnTo>
                    <a:pt x="153" y="23"/>
                  </a:lnTo>
                  <a:lnTo>
                    <a:pt x="151" y="21"/>
                  </a:lnTo>
                  <a:lnTo>
                    <a:pt x="148" y="21"/>
                  </a:lnTo>
                  <a:lnTo>
                    <a:pt x="146" y="19"/>
                  </a:lnTo>
                  <a:lnTo>
                    <a:pt x="146" y="19"/>
                  </a:lnTo>
                  <a:lnTo>
                    <a:pt x="144" y="23"/>
                  </a:lnTo>
                  <a:lnTo>
                    <a:pt x="142" y="25"/>
                  </a:lnTo>
                  <a:lnTo>
                    <a:pt x="138" y="23"/>
                  </a:lnTo>
                  <a:lnTo>
                    <a:pt x="138" y="23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2" y="19"/>
                  </a:lnTo>
                  <a:lnTo>
                    <a:pt x="128" y="19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88" y="15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2" y="13"/>
                  </a:lnTo>
                  <a:lnTo>
                    <a:pt x="92" y="13"/>
                  </a:lnTo>
                  <a:lnTo>
                    <a:pt x="90" y="11"/>
                  </a:lnTo>
                  <a:lnTo>
                    <a:pt x="88" y="9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79" y="13"/>
                  </a:lnTo>
                  <a:lnTo>
                    <a:pt x="79" y="9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7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0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633440" y="3643560"/>
              <a:ext cx="38520" cy="4104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7" y="0"/>
                  </a:moveTo>
                  <a:lnTo>
                    <a:pt x="19" y="7"/>
                  </a:lnTo>
                  <a:lnTo>
                    <a:pt x="13" y="1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8" y="9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803720" y="3643560"/>
              <a:ext cx="238680" cy="239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67" y="0"/>
                  </a:moveTo>
                  <a:lnTo>
                    <a:pt x="163" y="32"/>
                  </a:lnTo>
                  <a:lnTo>
                    <a:pt x="155" y="65"/>
                  </a:lnTo>
                  <a:lnTo>
                    <a:pt x="148" y="98"/>
                  </a:lnTo>
                  <a:lnTo>
                    <a:pt x="148" y="98"/>
                  </a:lnTo>
                  <a:lnTo>
                    <a:pt x="142" y="105"/>
                  </a:lnTo>
                  <a:lnTo>
                    <a:pt x="138" y="113"/>
                  </a:lnTo>
                  <a:lnTo>
                    <a:pt x="132" y="119"/>
                  </a:lnTo>
                  <a:lnTo>
                    <a:pt x="127" y="125"/>
                  </a:lnTo>
                  <a:lnTo>
                    <a:pt x="121" y="130"/>
                  </a:lnTo>
                  <a:lnTo>
                    <a:pt x="113" y="136"/>
                  </a:lnTo>
                  <a:lnTo>
                    <a:pt x="107" y="142"/>
                  </a:lnTo>
                  <a:lnTo>
                    <a:pt x="100" y="148"/>
                  </a:lnTo>
                  <a:lnTo>
                    <a:pt x="92" y="152"/>
                  </a:lnTo>
                  <a:lnTo>
                    <a:pt x="84" y="155"/>
                  </a:lnTo>
                  <a:lnTo>
                    <a:pt x="77" y="159"/>
                  </a:lnTo>
                  <a:lnTo>
                    <a:pt x="67" y="161"/>
                  </a:lnTo>
                  <a:lnTo>
                    <a:pt x="59" y="163"/>
                  </a:lnTo>
                  <a:lnTo>
                    <a:pt x="52" y="165"/>
                  </a:lnTo>
                  <a:lnTo>
                    <a:pt x="42" y="167"/>
                  </a:lnTo>
                  <a:lnTo>
                    <a:pt x="34" y="167"/>
                  </a:lnTo>
                  <a:lnTo>
                    <a:pt x="27" y="167"/>
                  </a:lnTo>
                  <a:lnTo>
                    <a:pt x="27" y="167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2" y="163"/>
                  </a:lnTo>
                  <a:lnTo>
                    <a:pt x="4" y="163"/>
                  </a:lnTo>
                  <a:lnTo>
                    <a:pt x="4" y="163"/>
                  </a:lnTo>
                  <a:lnTo>
                    <a:pt x="0" y="159"/>
                  </a:lnTo>
                  <a:lnTo>
                    <a:pt x="2" y="159"/>
                  </a:lnTo>
                  <a:lnTo>
                    <a:pt x="4" y="157"/>
                  </a:lnTo>
                  <a:lnTo>
                    <a:pt x="6" y="159"/>
                  </a:lnTo>
                  <a:lnTo>
                    <a:pt x="6" y="159"/>
                  </a:lnTo>
                  <a:lnTo>
                    <a:pt x="8" y="161"/>
                  </a:lnTo>
                  <a:lnTo>
                    <a:pt x="9" y="163"/>
                  </a:lnTo>
                  <a:lnTo>
                    <a:pt x="11" y="163"/>
                  </a:lnTo>
                  <a:lnTo>
                    <a:pt x="11" y="163"/>
                  </a:lnTo>
                  <a:lnTo>
                    <a:pt x="19" y="159"/>
                  </a:lnTo>
                  <a:lnTo>
                    <a:pt x="27" y="159"/>
                  </a:lnTo>
                  <a:lnTo>
                    <a:pt x="36" y="161"/>
                  </a:lnTo>
                  <a:lnTo>
                    <a:pt x="42" y="157"/>
                  </a:lnTo>
                  <a:lnTo>
                    <a:pt x="42" y="157"/>
                  </a:lnTo>
                  <a:lnTo>
                    <a:pt x="44" y="157"/>
                  </a:lnTo>
                  <a:lnTo>
                    <a:pt x="44" y="157"/>
                  </a:lnTo>
                  <a:lnTo>
                    <a:pt x="46" y="157"/>
                  </a:lnTo>
                  <a:lnTo>
                    <a:pt x="46" y="157"/>
                  </a:lnTo>
                  <a:lnTo>
                    <a:pt x="46" y="159"/>
                  </a:lnTo>
                  <a:lnTo>
                    <a:pt x="50" y="159"/>
                  </a:lnTo>
                  <a:lnTo>
                    <a:pt x="52" y="159"/>
                  </a:lnTo>
                  <a:lnTo>
                    <a:pt x="52" y="159"/>
                  </a:lnTo>
                  <a:lnTo>
                    <a:pt x="54" y="157"/>
                  </a:lnTo>
                  <a:lnTo>
                    <a:pt x="54" y="155"/>
                  </a:lnTo>
                  <a:lnTo>
                    <a:pt x="54" y="153"/>
                  </a:lnTo>
                  <a:lnTo>
                    <a:pt x="54" y="153"/>
                  </a:lnTo>
                  <a:lnTo>
                    <a:pt x="77" y="144"/>
                  </a:lnTo>
                  <a:lnTo>
                    <a:pt x="100" y="132"/>
                  </a:lnTo>
                  <a:lnTo>
                    <a:pt x="121" y="115"/>
                  </a:lnTo>
                  <a:lnTo>
                    <a:pt x="121" y="115"/>
                  </a:lnTo>
                  <a:lnTo>
                    <a:pt x="123" y="117"/>
                  </a:lnTo>
                  <a:lnTo>
                    <a:pt x="127" y="115"/>
                  </a:lnTo>
                  <a:lnTo>
                    <a:pt x="128" y="113"/>
                  </a:lnTo>
                  <a:lnTo>
                    <a:pt x="128" y="113"/>
                  </a:lnTo>
                  <a:lnTo>
                    <a:pt x="128" y="107"/>
                  </a:lnTo>
                  <a:lnTo>
                    <a:pt x="134" y="104"/>
                  </a:lnTo>
                  <a:lnTo>
                    <a:pt x="136" y="98"/>
                  </a:lnTo>
                  <a:lnTo>
                    <a:pt x="136" y="98"/>
                  </a:lnTo>
                  <a:lnTo>
                    <a:pt x="138" y="92"/>
                  </a:lnTo>
                  <a:lnTo>
                    <a:pt x="142" y="86"/>
                  </a:lnTo>
                  <a:lnTo>
                    <a:pt x="144" y="79"/>
                  </a:lnTo>
                  <a:lnTo>
                    <a:pt x="144" y="79"/>
                  </a:lnTo>
                  <a:lnTo>
                    <a:pt x="150" y="67"/>
                  </a:lnTo>
                  <a:lnTo>
                    <a:pt x="152" y="54"/>
                  </a:lnTo>
                  <a:lnTo>
                    <a:pt x="155" y="40"/>
                  </a:lnTo>
                  <a:lnTo>
                    <a:pt x="155" y="40"/>
                  </a:lnTo>
                  <a:lnTo>
                    <a:pt x="157" y="38"/>
                  </a:lnTo>
                  <a:lnTo>
                    <a:pt x="157" y="32"/>
                  </a:lnTo>
                  <a:lnTo>
                    <a:pt x="159" y="29"/>
                  </a:lnTo>
                  <a:lnTo>
                    <a:pt x="159" y="29"/>
                  </a:lnTo>
                  <a:lnTo>
                    <a:pt x="159" y="19"/>
                  </a:lnTo>
                  <a:lnTo>
                    <a:pt x="161" y="9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143920" y="3643560"/>
              <a:ext cx="18720" cy="636120"/>
            </a:xfrm>
            <a:custGeom>
              <a:avLst/>
              <a:gdLst/>
              <a:ahLst/>
              <a:rect l="l" t="t" r="r" b="b"/>
              <a:pathLst>
                <a:path w="13" h="443">
                  <a:moveTo>
                    <a:pt x="8" y="0"/>
                  </a:moveTo>
                  <a:lnTo>
                    <a:pt x="9" y="54"/>
                  </a:lnTo>
                  <a:lnTo>
                    <a:pt x="9" y="109"/>
                  </a:lnTo>
                  <a:lnTo>
                    <a:pt x="9" y="163"/>
                  </a:lnTo>
                  <a:lnTo>
                    <a:pt x="9" y="163"/>
                  </a:lnTo>
                  <a:lnTo>
                    <a:pt x="11" y="309"/>
                  </a:lnTo>
                  <a:lnTo>
                    <a:pt x="13" y="353"/>
                  </a:lnTo>
                  <a:lnTo>
                    <a:pt x="13" y="399"/>
                  </a:lnTo>
                  <a:lnTo>
                    <a:pt x="13" y="443"/>
                  </a:lnTo>
                  <a:lnTo>
                    <a:pt x="13" y="443"/>
                  </a:lnTo>
                  <a:lnTo>
                    <a:pt x="9" y="443"/>
                  </a:lnTo>
                  <a:lnTo>
                    <a:pt x="9" y="413"/>
                  </a:lnTo>
                  <a:lnTo>
                    <a:pt x="8" y="382"/>
                  </a:lnTo>
                  <a:lnTo>
                    <a:pt x="4" y="353"/>
                  </a:lnTo>
                  <a:lnTo>
                    <a:pt x="4" y="353"/>
                  </a:lnTo>
                  <a:lnTo>
                    <a:pt x="0" y="188"/>
                  </a:lnTo>
                  <a:lnTo>
                    <a:pt x="2" y="125"/>
                  </a:lnTo>
                  <a:lnTo>
                    <a:pt x="2" y="63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107040" y="3005640"/>
              <a:ext cx="2048400" cy="637560"/>
            </a:xfrm>
            <a:custGeom>
              <a:avLst/>
              <a:gdLst/>
              <a:ahLst/>
              <a:rect l="l" t="t" r="r" b="b"/>
              <a:pathLst>
                <a:path w="1432" h="444">
                  <a:moveTo>
                    <a:pt x="902" y="444"/>
                  </a:moveTo>
                  <a:lnTo>
                    <a:pt x="742" y="417"/>
                  </a:lnTo>
                  <a:lnTo>
                    <a:pt x="691" y="407"/>
                  </a:lnTo>
                  <a:lnTo>
                    <a:pt x="528" y="380"/>
                  </a:lnTo>
                  <a:lnTo>
                    <a:pt x="251" y="334"/>
                  </a:lnTo>
                  <a:lnTo>
                    <a:pt x="247" y="334"/>
                  </a:lnTo>
                  <a:lnTo>
                    <a:pt x="243" y="323"/>
                  </a:lnTo>
                  <a:lnTo>
                    <a:pt x="242" y="309"/>
                  </a:lnTo>
                  <a:lnTo>
                    <a:pt x="238" y="298"/>
                  </a:lnTo>
                  <a:lnTo>
                    <a:pt x="234" y="286"/>
                  </a:lnTo>
                  <a:lnTo>
                    <a:pt x="230" y="275"/>
                  </a:lnTo>
                  <a:lnTo>
                    <a:pt x="224" y="265"/>
                  </a:lnTo>
                  <a:lnTo>
                    <a:pt x="218" y="254"/>
                  </a:lnTo>
                  <a:lnTo>
                    <a:pt x="213" y="242"/>
                  </a:lnTo>
                  <a:lnTo>
                    <a:pt x="205" y="231"/>
                  </a:lnTo>
                  <a:lnTo>
                    <a:pt x="199" y="221"/>
                  </a:lnTo>
                  <a:lnTo>
                    <a:pt x="192" y="210"/>
                  </a:lnTo>
                  <a:lnTo>
                    <a:pt x="182" y="200"/>
                  </a:lnTo>
                  <a:lnTo>
                    <a:pt x="174" y="190"/>
                  </a:lnTo>
                  <a:lnTo>
                    <a:pt x="167" y="181"/>
                  </a:lnTo>
                  <a:lnTo>
                    <a:pt x="157" y="171"/>
                  </a:lnTo>
                  <a:lnTo>
                    <a:pt x="147" y="163"/>
                  </a:lnTo>
                  <a:lnTo>
                    <a:pt x="138" y="154"/>
                  </a:lnTo>
                  <a:lnTo>
                    <a:pt x="128" y="146"/>
                  </a:lnTo>
                  <a:lnTo>
                    <a:pt x="119" y="138"/>
                  </a:lnTo>
                  <a:lnTo>
                    <a:pt x="107" y="133"/>
                  </a:lnTo>
                  <a:lnTo>
                    <a:pt x="98" y="125"/>
                  </a:lnTo>
                  <a:lnTo>
                    <a:pt x="86" y="119"/>
                  </a:lnTo>
                  <a:lnTo>
                    <a:pt x="76" y="113"/>
                  </a:lnTo>
                  <a:lnTo>
                    <a:pt x="65" y="108"/>
                  </a:lnTo>
                  <a:lnTo>
                    <a:pt x="53" y="104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28" y="96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5" y="81"/>
                  </a:lnTo>
                  <a:lnTo>
                    <a:pt x="5" y="75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2" y="79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2" y="56"/>
                  </a:lnTo>
                  <a:lnTo>
                    <a:pt x="7" y="31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38" y="10"/>
                  </a:lnTo>
                  <a:lnTo>
                    <a:pt x="52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7" y="6"/>
                  </a:lnTo>
                  <a:lnTo>
                    <a:pt x="50" y="8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2" y="16"/>
                  </a:lnTo>
                  <a:lnTo>
                    <a:pt x="46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69" y="23"/>
                  </a:lnTo>
                  <a:lnTo>
                    <a:pt x="92" y="25"/>
                  </a:lnTo>
                  <a:lnTo>
                    <a:pt x="117" y="27"/>
                  </a:lnTo>
                  <a:lnTo>
                    <a:pt x="140" y="27"/>
                  </a:lnTo>
                  <a:lnTo>
                    <a:pt x="140" y="27"/>
                  </a:lnTo>
                  <a:lnTo>
                    <a:pt x="345" y="44"/>
                  </a:lnTo>
                  <a:lnTo>
                    <a:pt x="347" y="41"/>
                  </a:lnTo>
                  <a:lnTo>
                    <a:pt x="351" y="39"/>
                  </a:lnTo>
                  <a:lnTo>
                    <a:pt x="355" y="37"/>
                  </a:lnTo>
                  <a:lnTo>
                    <a:pt x="355" y="37"/>
                  </a:lnTo>
                  <a:lnTo>
                    <a:pt x="362" y="39"/>
                  </a:lnTo>
                  <a:lnTo>
                    <a:pt x="359" y="42"/>
                  </a:lnTo>
                  <a:lnTo>
                    <a:pt x="355" y="46"/>
                  </a:lnTo>
                  <a:lnTo>
                    <a:pt x="353" y="52"/>
                  </a:lnTo>
                  <a:lnTo>
                    <a:pt x="353" y="52"/>
                  </a:lnTo>
                  <a:lnTo>
                    <a:pt x="355" y="56"/>
                  </a:lnTo>
                  <a:lnTo>
                    <a:pt x="393" y="60"/>
                  </a:lnTo>
                  <a:lnTo>
                    <a:pt x="430" y="65"/>
                  </a:lnTo>
                  <a:lnTo>
                    <a:pt x="470" y="71"/>
                  </a:lnTo>
                  <a:lnTo>
                    <a:pt x="470" y="71"/>
                  </a:lnTo>
                  <a:lnTo>
                    <a:pt x="470" y="69"/>
                  </a:lnTo>
                  <a:lnTo>
                    <a:pt x="472" y="69"/>
                  </a:lnTo>
                  <a:lnTo>
                    <a:pt x="474" y="69"/>
                  </a:lnTo>
                  <a:lnTo>
                    <a:pt x="474" y="69"/>
                  </a:lnTo>
                  <a:lnTo>
                    <a:pt x="472" y="71"/>
                  </a:lnTo>
                  <a:lnTo>
                    <a:pt x="474" y="75"/>
                  </a:lnTo>
                  <a:lnTo>
                    <a:pt x="474" y="77"/>
                  </a:lnTo>
                  <a:lnTo>
                    <a:pt x="474" y="77"/>
                  </a:lnTo>
                  <a:lnTo>
                    <a:pt x="476" y="79"/>
                  </a:lnTo>
                  <a:lnTo>
                    <a:pt x="512" y="87"/>
                  </a:lnTo>
                  <a:lnTo>
                    <a:pt x="551" y="92"/>
                  </a:lnTo>
                  <a:lnTo>
                    <a:pt x="589" y="96"/>
                  </a:lnTo>
                  <a:lnTo>
                    <a:pt x="589" y="96"/>
                  </a:lnTo>
                  <a:lnTo>
                    <a:pt x="671" y="104"/>
                  </a:lnTo>
                  <a:lnTo>
                    <a:pt x="754" y="112"/>
                  </a:lnTo>
                  <a:lnTo>
                    <a:pt x="838" y="123"/>
                  </a:lnTo>
                  <a:lnTo>
                    <a:pt x="921" y="133"/>
                  </a:lnTo>
                  <a:lnTo>
                    <a:pt x="921" y="133"/>
                  </a:lnTo>
                  <a:lnTo>
                    <a:pt x="921" y="135"/>
                  </a:lnTo>
                  <a:lnTo>
                    <a:pt x="923" y="137"/>
                  </a:lnTo>
                  <a:lnTo>
                    <a:pt x="925" y="138"/>
                  </a:lnTo>
                  <a:lnTo>
                    <a:pt x="925" y="138"/>
                  </a:lnTo>
                  <a:lnTo>
                    <a:pt x="963" y="142"/>
                  </a:lnTo>
                  <a:lnTo>
                    <a:pt x="1002" y="148"/>
                  </a:lnTo>
                  <a:lnTo>
                    <a:pt x="1040" y="154"/>
                  </a:lnTo>
                  <a:lnTo>
                    <a:pt x="1040" y="154"/>
                  </a:lnTo>
                  <a:lnTo>
                    <a:pt x="1044" y="158"/>
                  </a:lnTo>
                  <a:lnTo>
                    <a:pt x="1088" y="162"/>
                  </a:lnTo>
                  <a:lnTo>
                    <a:pt x="1130" y="169"/>
                  </a:lnTo>
                  <a:lnTo>
                    <a:pt x="1174" y="179"/>
                  </a:lnTo>
                  <a:lnTo>
                    <a:pt x="1174" y="179"/>
                  </a:lnTo>
                  <a:lnTo>
                    <a:pt x="1178" y="181"/>
                  </a:lnTo>
                  <a:lnTo>
                    <a:pt x="1226" y="190"/>
                  </a:lnTo>
                  <a:lnTo>
                    <a:pt x="1274" y="196"/>
                  </a:lnTo>
                  <a:lnTo>
                    <a:pt x="1322" y="206"/>
                  </a:lnTo>
                  <a:lnTo>
                    <a:pt x="1322" y="206"/>
                  </a:lnTo>
                  <a:lnTo>
                    <a:pt x="1328" y="206"/>
                  </a:lnTo>
                  <a:lnTo>
                    <a:pt x="1336" y="208"/>
                  </a:lnTo>
                  <a:lnTo>
                    <a:pt x="1339" y="204"/>
                  </a:lnTo>
                  <a:lnTo>
                    <a:pt x="1339" y="204"/>
                  </a:lnTo>
                  <a:lnTo>
                    <a:pt x="1336" y="194"/>
                  </a:lnTo>
                  <a:lnTo>
                    <a:pt x="1322" y="192"/>
                  </a:lnTo>
                  <a:lnTo>
                    <a:pt x="1309" y="190"/>
                  </a:lnTo>
                  <a:lnTo>
                    <a:pt x="1295" y="185"/>
                  </a:lnTo>
                  <a:lnTo>
                    <a:pt x="1295" y="185"/>
                  </a:lnTo>
                  <a:lnTo>
                    <a:pt x="1276" y="183"/>
                  </a:lnTo>
                  <a:lnTo>
                    <a:pt x="1303" y="183"/>
                  </a:lnTo>
                  <a:lnTo>
                    <a:pt x="1332" y="185"/>
                  </a:lnTo>
                  <a:lnTo>
                    <a:pt x="1361" y="188"/>
                  </a:lnTo>
                  <a:lnTo>
                    <a:pt x="1361" y="188"/>
                  </a:lnTo>
                  <a:lnTo>
                    <a:pt x="1366" y="188"/>
                  </a:lnTo>
                  <a:lnTo>
                    <a:pt x="1372" y="186"/>
                  </a:lnTo>
                  <a:lnTo>
                    <a:pt x="1378" y="186"/>
                  </a:lnTo>
                  <a:lnTo>
                    <a:pt x="1378" y="186"/>
                  </a:lnTo>
                  <a:lnTo>
                    <a:pt x="1385" y="181"/>
                  </a:lnTo>
                  <a:lnTo>
                    <a:pt x="1393" y="173"/>
                  </a:lnTo>
                  <a:lnTo>
                    <a:pt x="1405" y="169"/>
                  </a:lnTo>
                  <a:lnTo>
                    <a:pt x="1405" y="169"/>
                  </a:lnTo>
                  <a:lnTo>
                    <a:pt x="1407" y="167"/>
                  </a:lnTo>
                  <a:lnTo>
                    <a:pt x="1407" y="163"/>
                  </a:lnTo>
                  <a:lnTo>
                    <a:pt x="1407" y="160"/>
                  </a:lnTo>
                  <a:lnTo>
                    <a:pt x="1407" y="160"/>
                  </a:lnTo>
                  <a:lnTo>
                    <a:pt x="1414" y="163"/>
                  </a:lnTo>
                  <a:lnTo>
                    <a:pt x="1420" y="169"/>
                  </a:lnTo>
                  <a:lnTo>
                    <a:pt x="1424" y="179"/>
                  </a:lnTo>
                  <a:lnTo>
                    <a:pt x="1424" y="179"/>
                  </a:lnTo>
                  <a:lnTo>
                    <a:pt x="1426" y="190"/>
                  </a:lnTo>
                  <a:lnTo>
                    <a:pt x="1426" y="204"/>
                  </a:lnTo>
                  <a:lnTo>
                    <a:pt x="1426" y="215"/>
                  </a:lnTo>
                  <a:lnTo>
                    <a:pt x="1426" y="215"/>
                  </a:lnTo>
                  <a:lnTo>
                    <a:pt x="1428" y="290"/>
                  </a:lnTo>
                  <a:lnTo>
                    <a:pt x="1430" y="367"/>
                  </a:lnTo>
                  <a:lnTo>
                    <a:pt x="1432" y="444"/>
                  </a:lnTo>
                  <a:lnTo>
                    <a:pt x="1432" y="444"/>
                  </a:lnTo>
                  <a:lnTo>
                    <a:pt x="1424" y="444"/>
                  </a:lnTo>
                  <a:lnTo>
                    <a:pt x="1424" y="438"/>
                  </a:lnTo>
                  <a:lnTo>
                    <a:pt x="1424" y="430"/>
                  </a:lnTo>
                  <a:lnTo>
                    <a:pt x="1424" y="425"/>
                  </a:lnTo>
                  <a:lnTo>
                    <a:pt x="1424" y="425"/>
                  </a:lnTo>
                  <a:lnTo>
                    <a:pt x="1426" y="382"/>
                  </a:lnTo>
                  <a:lnTo>
                    <a:pt x="1424" y="340"/>
                  </a:lnTo>
                  <a:lnTo>
                    <a:pt x="1424" y="296"/>
                  </a:lnTo>
                  <a:lnTo>
                    <a:pt x="1424" y="296"/>
                  </a:lnTo>
                  <a:lnTo>
                    <a:pt x="1422" y="261"/>
                  </a:lnTo>
                  <a:lnTo>
                    <a:pt x="1420" y="227"/>
                  </a:lnTo>
                  <a:lnTo>
                    <a:pt x="1416" y="194"/>
                  </a:lnTo>
                  <a:lnTo>
                    <a:pt x="1416" y="194"/>
                  </a:lnTo>
                  <a:lnTo>
                    <a:pt x="1416" y="194"/>
                  </a:lnTo>
                  <a:lnTo>
                    <a:pt x="1418" y="194"/>
                  </a:lnTo>
                  <a:lnTo>
                    <a:pt x="1418" y="194"/>
                  </a:lnTo>
                  <a:lnTo>
                    <a:pt x="1418" y="194"/>
                  </a:lnTo>
                  <a:lnTo>
                    <a:pt x="1418" y="186"/>
                  </a:lnTo>
                  <a:lnTo>
                    <a:pt x="1416" y="183"/>
                  </a:lnTo>
                  <a:lnTo>
                    <a:pt x="1410" y="179"/>
                  </a:lnTo>
                  <a:lnTo>
                    <a:pt x="1410" y="179"/>
                  </a:lnTo>
                  <a:lnTo>
                    <a:pt x="1414" y="175"/>
                  </a:lnTo>
                  <a:lnTo>
                    <a:pt x="1416" y="173"/>
                  </a:lnTo>
                  <a:lnTo>
                    <a:pt x="1416" y="169"/>
                  </a:lnTo>
                  <a:lnTo>
                    <a:pt x="1416" y="169"/>
                  </a:lnTo>
                  <a:lnTo>
                    <a:pt x="1412" y="167"/>
                  </a:lnTo>
                  <a:lnTo>
                    <a:pt x="1407" y="169"/>
                  </a:lnTo>
                  <a:lnTo>
                    <a:pt x="1403" y="171"/>
                  </a:lnTo>
                  <a:lnTo>
                    <a:pt x="1403" y="171"/>
                  </a:lnTo>
                  <a:lnTo>
                    <a:pt x="1395" y="177"/>
                  </a:lnTo>
                  <a:lnTo>
                    <a:pt x="1387" y="185"/>
                  </a:lnTo>
                  <a:lnTo>
                    <a:pt x="1382" y="192"/>
                  </a:lnTo>
                  <a:lnTo>
                    <a:pt x="1374" y="200"/>
                  </a:lnTo>
                  <a:lnTo>
                    <a:pt x="1368" y="208"/>
                  </a:lnTo>
                  <a:lnTo>
                    <a:pt x="1364" y="215"/>
                  </a:lnTo>
                  <a:lnTo>
                    <a:pt x="1364" y="215"/>
                  </a:lnTo>
                  <a:lnTo>
                    <a:pt x="1362" y="238"/>
                  </a:lnTo>
                  <a:lnTo>
                    <a:pt x="1364" y="261"/>
                  </a:lnTo>
                  <a:lnTo>
                    <a:pt x="1362" y="282"/>
                  </a:lnTo>
                  <a:lnTo>
                    <a:pt x="1362" y="282"/>
                  </a:lnTo>
                  <a:lnTo>
                    <a:pt x="1359" y="286"/>
                  </a:lnTo>
                  <a:lnTo>
                    <a:pt x="1362" y="290"/>
                  </a:lnTo>
                  <a:lnTo>
                    <a:pt x="1361" y="342"/>
                  </a:lnTo>
                  <a:lnTo>
                    <a:pt x="1359" y="392"/>
                  </a:lnTo>
                  <a:lnTo>
                    <a:pt x="1353" y="444"/>
                  </a:lnTo>
                  <a:lnTo>
                    <a:pt x="1353" y="444"/>
                  </a:lnTo>
                  <a:lnTo>
                    <a:pt x="1347" y="444"/>
                  </a:lnTo>
                  <a:lnTo>
                    <a:pt x="1351" y="407"/>
                  </a:lnTo>
                  <a:lnTo>
                    <a:pt x="1355" y="373"/>
                  </a:lnTo>
                  <a:lnTo>
                    <a:pt x="1357" y="336"/>
                  </a:lnTo>
                  <a:lnTo>
                    <a:pt x="1357" y="336"/>
                  </a:lnTo>
                  <a:lnTo>
                    <a:pt x="1355" y="336"/>
                  </a:lnTo>
                  <a:lnTo>
                    <a:pt x="1353" y="334"/>
                  </a:lnTo>
                  <a:lnTo>
                    <a:pt x="1353" y="332"/>
                  </a:lnTo>
                  <a:lnTo>
                    <a:pt x="1353" y="332"/>
                  </a:lnTo>
                  <a:lnTo>
                    <a:pt x="1355" y="331"/>
                  </a:lnTo>
                  <a:lnTo>
                    <a:pt x="1357" y="331"/>
                  </a:lnTo>
                  <a:lnTo>
                    <a:pt x="1359" y="329"/>
                  </a:lnTo>
                  <a:lnTo>
                    <a:pt x="1359" y="329"/>
                  </a:lnTo>
                  <a:lnTo>
                    <a:pt x="1357" y="325"/>
                  </a:lnTo>
                  <a:lnTo>
                    <a:pt x="1355" y="321"/>
                  </a:lnTo>
                  <a:lnTo>
                    <a:pt x="1351" y="321"/>
                  </a:lnTo>
                  <a:lnTo>
                    <a:pt x="1351" y="321"/>
                  </a:lnTo>
                  <a:lnTo>
                    <a:pt x="1349" y="321"/>
                  </a:lnTo>
                  <a:lnTo>
                    <a:pt x="1349" y="319"/>
                  </a:lnTo>
                  <a:lnTo>
                    <a:pt x="1349" y="317"/>
                  </a:lnTo>
                  <a:lnTo>
                    <a:pt x="1347" y="315"/>
                  </a:lnTo>
                  <a:lnTo>
                    <a:pt x="1347" y="315"/>
                  </a:lnTo>
                  <a:lnTo>
                    <a:pt x="1345" y="315"/>
                  </a:lnTo>
                  <a:lnTo>
                    <a:pt x="1343" y="317"/>
                  </a:lnTo>
                  <a:lnTo>
                    <a:pt x="1341" y="319"/>
                  </a:lnTo>
                  <a:lnTo>
                    <a:pt x="1341" y="319"/>
                  </a:lnTo>
                  <a:lnTo>
                    <a:pt x="1338" y="317"/>
                  </a:lnTo>
                  <a:lnTo>
                    <a:pt x="1332" y="317"/>
                  </a:lnTo>
                  <a:lnTo>
                    <a:pt x="1328" y="319"/>
                  </a:lnTo>
                  <a:lnTo>
                    <a:pt x="1328" y="319"/>
                  </a:lnTo>
                  <a:lnTo>
                    <a:pt x="1309" y="325"/>
                  </a:lnTo>
                  <a:lnTo>
                    <a:pt x="1291" y="332"/>
                  </a:lnTo>
                  <a:lnTo>
                    <a:pt x="1274" y="342"/>
                  </a:lnTo>
                  <a:lnTo>
                    <a:pt x="1274" y="342"/>
                  </a:lnTo>
                  <a:lnTo>
                    <a:pt x="1272" y="332"/>
                  </a:lnTo>
                  <a:lnTo>
                    <a:pt x="1272" y="325"/>
                  </a:lnTo>
                  <a:lnTo>
                    <a:pt x="1272" y="315"/>
                  </a:lnTo>
                  <a:lnTo>
                    <a:pt x="1272" y="315"/>
                  </a:lnTo>
                  <a:lnTo>
                    <a:pt x="1268" y="315"/>
                  </a:lnTo>
                  <a:lnTo>
                    <a:pt x="1266" y="315"/>
                  </a:lnTo>
                  <a:lnTo>
                    <a:pt x="1265" y="313"/>
                  </a:lnTo>
                  <a:lnTo>
                    <a:pt x="1265" y="313"/>
                  </a:lnTo>
                  <a:lnTo>
                    <a:pt x="1251" y="317"/>
                  </a:lnTo>
                  <a:lnTo>
                    <a:pt x="1238" y="323"/>
                  </a:lnTo>
                  <a:lnTo>
                    <a:pt x="1226" y="327"/>
                  </a:lnTo>
                  <a:lnTo>
                    <a:pt x="1213" y="332"/>
                  </a:lnTo>
                  <a:lnTo>
                    <a:pt x="1201" y="340"/>
                  </a:lnTo>
                  <a:lnTo>
                    <a:pt x="1190" y="348"/>
                  </a:lnTo>
                  <a:lnTo>
                    <a:pt x="1176" y="355"/>
                  </a:lnTo>
                  <a:lnTo>
                    <a:pt x="1165" y="363"/>
                  </a:lnTo>
                  <a:lnTo>
                    <a:pt x="1155" y="373"/>
                  </a:lnTo>
                  <a:lnTo>
                    <a:pt x="1144" y="382"/>
                  </a:lnTo>
                  <a:lnTo>
                    <a:pt x="1134" y="392"/>
                  </a:lnTo>
                  <a:lnTo>
                    <a:pt x="1124" y="402"/>
                  </a:lnTo>
                  <a:lnTo>
                    <a:pt x="1115" y="413"/>
                  </a:lnTo>
                  <a:lnTo>
                    <a:pt x="1107" y="423"/>
                  </a:lnTo>
                  <a:lnTo>
                    <a:pt x="1100" y="434"/>
                  </a:lnTo>
                  <a:lnTo>
                    <a:pt x="1100" y="434"/>
                  </a:lnTo>
                  <a:lnTo>
                    <a:pt x="1098" y="438"/>
                  </a:lnTo>
                  <a:lnTo>
                    <a:pt x="1096" y="440"/>
                  </a:lnTo>
                  <a:lnTo>
                    <a:pt x="1094" y="444"/>
                  </a:lnTo>
                  <a:lnTo>
                    <a:pt x="1094" y="444"/>
                  </a:lnTo>
                  <a:lnTo>
                    <a:pt x="1078" y="444"/>
                  </a:lnTo>
                  <a:lnTo>
                    <a:pt x="1082" y="436"/>
                  </a:lnTo>
                  <a:lnTo>
                    <a:pt x="1088" y="428"/>
                  </a:lnTo>
                  <a:lnTo>
                    <a:pt x="1092" y="423"/>
                  </a:lnTo>
                  <a:lnTo>
                    <a:pt x="1096" y="415"/>
                  </a:lnTo>
                  <a:lnTo>
                    <a:pt x="1101" y="407"/>
                  </a:lnTo>
                  <a:lnTo>
                    <a:pt x="1107" y="402"/>
                  </a:lnTo>
                  <a:lnTo>
                    <a:pt x="1111" y="396"/>
                  </a:lnTo>
                  <a:lnTo>
                    <a:pt x="1117" y="388"/>
                  </a:lnTo>
                  <a:lnTo>
                    <a:pt x="1123" y="382"/>
                  </a:lnTo>
                  <a:lnTo>
                    <a:pt x="1130" y="377"/>
                  </a:lnTo>
                  <a:lnTo>
                    <a:pt x="1136" y="371"/>
                  </a:lnTo>
                  <a:lnTo>
                    <a:pt x="1142" y="365"/>
                  </a:lnTo>
                  <a:lnTo>
                    <a:pt x="1149" y="359"/>
                  </a:lnTo>
                  <a:lnTo>
                    <a:pt x="1155" y="354"/>
                  </a:lnTo>
                  <a:lnTo>
                    <a:pt x="1163" y="348"/>
                  </a:lnTo>
                  <a:lnTo>
                    <a:pt x="1169" y="344"/>
                  </a:lnTo>
                  <a:lnTo>
                    <a:pt x="1176" y="338"/>
                  </a:lnTo>
                  <a:lnTo>
                    <a:pt x="1184" y="334"/>
                  </a:lnTo>
                  <a:lnTo>
                    <a:pt x="1192" y="329"/>
                  </a:lnTo>
                  <a:lnTo>
                    <a:pt x="1199" y="325"/>
                  </a:lnTo>
                  <a:lnTo>
                    <a:pt x="1207" y="321"/>
                  </a:lnTo>
                  <a:lnTo>
                    <a:pt x="1215" y="317"/>
                  </a:lnTo>
                  <a:lnTo>
                    <a:pt x="1222" y="315"/>
                  </a:lnTo>
                  <a:lnTo>
                    <a:pt x="1230" y="311"/>
                  </a:lnTo>
                  <a:lnTo>
                    <a:pt x="1238" y="307"/>
                  </a:lnTo>
                  <a:lnTo>
                    <a:pt x="1245" y="306"/>
                  </a:lnTo>
                  <a:lnTo>
                    <a:pt x="1255" y="304"/>
                  </a:lnTo>
                  <a:lnTo>
                    <a:pt x="1263" y="302"/>
                  </a:lnTo>
                  <a:lnTo>
                    <a:pt x="1270" y="300"/>
                  </a:lnTo>
                  <a:lnTo>
                    <a:pt x="1278" y="298"/>
                  </a:lnTo>
                  <a:lnTo>
                    <a:pt x="1286" y="296"/>
                  </a:lnTo>
                  <a:lnTo>
                    <a:pt x="1295" y="296"/>
                  </a:lnTo>
                  <a:lnTo>
                    <a:pt x="1295" y="296"/>
                  </a:lnTo>
                  <a:lnTo>
                    <a:pt x="1303" y="296"/>
                  </a:lnTo>
                  <a:lnTo>
                    <a:pt x="1313" y="296"/>
                  </a:lnTo>
                  <a:lnTo>
                    <a:pt x="1320" y="294"/>
                  </a:lnTo>
                  <a:lnTo>
                    <a:pt x="1320" y="294"/>
                  </a:lnTo>
                  <a:lnTo>
                    <a:pt x="1332" y="294"/>
                  </a:lnTo>
                  <a:lnTo>
                    <a:pt x="1343" y="294"/>
                  </a:lnTo>
                  <a:lnTo>
                    <a:pt x="1353" y="294"/>
                  </a:lnTo>
                  <a:lnTo>
                    <a:pt x="1353" y="294"/>
                  </a:lnTo>
                  <a:lnTo>
                    <a:pt x="1353" y="298"/>
                  </a:lnTo>
                  <a:lnTo>
                    <a:pt x="1353" y="300"/>
                  </a:lnTo>
                  <a:lnTo>
                    <a:pt x="1355" y="302"/>
                  </a:lnTo>
                  <a:lnTo>
                    <a:pt x="1355" y="302"/>
                  </a:lnTo>
                  <a:lnTo>
                    <a:pt x="1359" y="300"/>
                  </a:lnTo>
                  <a:lnTo>
                    <a:pt x="1359" y="296"/>
                  </a:lnTo>
                  <a:lnTo>
                    <a:pt x="1362" y="294"/>
                  </a:lnTo>
                  <a:lnTo>
                    <a:pt x="1362" y="294"/>
                  </a:lnTo>
                  <a:lnTo>
                    <a:pt x="1362" y="292"/>
                  </a:lnTo>
                  <a:lnTo>
                    <a:pt x="1362" y="290"/>
                  </a:lnTo>
                  <a:lnTo>
                    <a:pt x="1361" y="290"/>
                  </a:lnTo>
                  <a:lnTo>
                    <a:pt x="1361" y="290"/>
                  </a:lnTo>
                  <a:lnTo>
                    <a:pt x="1355" y="288"/>
                  </a:lnTo>
                  <a:lnTo>
                    <a:pt x="1359" y="286"/>
                  </a:lnTo>
                  <a:lnTo>
                    <a:pt x="1359" y="284"/>
                  </a:lnTo>
                  <a:lnTo>
                    <a:pt x="1359" y="281"/>
                  </a:lnTo>
                  <a:lnTo>
                    <a:pt x="1359" y="281"/>
                  </a:lnTo>
                  <a:lnTo>
                    <a:pt x="1355" y="281"/>
                  </a:lnTo>
                  <a:lnTo>
                    <a:pt x="1351" y="282"/>
                  </a:lnTo>
                  <a:lnTo>
                    <a:pt x="1347" y="284"/>
                  </a:lnTo>
                  <a:lnTo>
                    <a:pt x="1347" y="284"/>
                  </a:lnTo>
                  <a:lnTo>
                    <a:pt x="1349" y="286"/>
                  </a:lnTo>
                  <a:lnTo>
                    <a:pt x="1351" y="288"/>
                  </a:lnTo>
                  <a:lnTo>
                    <a:pt x="1355" y="288"/>
                  </a:lnTo>
                  <a:lnTo>
                    <a:pt x="1355" y="288"/>
                  </a:lnTo>
                  <a:lnTo>
                    <a:pt x="1338" y="288"/>
                  </a:lnTo>
                  <a:lnTo>
                    <a:pt x="1339" y="286"/>
                  </a:lnTo>
                  <a:lnTo>
                    <a:pt x="1343" y="286"/>
                  </a:lnTo>
                  <a:lnTo>
                    <a:pt x="1345" y="286"/>
                  </a:lnTo>
                  <a:lnTo>
                    <a:pt x="1345" y="286"/>
                  </a:lnTo>
                  <a:lnTo>
                    <a:pt x="1345" y="284"/>
                  </a:lnTo>
                  <a:lnTo>
                    <a:pt x="1343" y="282"/>
                  </a:lnTo>
                  <a:lnTo>
                    <a:pt x="1343" y="282"/>
                  </a:lnTo>
                  <a:lnTo>
                    <a:pt x="1343" y="282"/>
                  </a:lnTo>
                  <a:lnTo>
                    <a:pt x="1341" y="275"/>
                  </a:lnTo>
                  <a:lnTo>
                    <a:pt x="1341" y="269"/>
                  </a:lnTo>
                  <a:lnTo>
                    <a:pt x="1338" y="263"/>
                  </a:lnTo>
                  <a:lnTo>
                    <a:pt x="1338" y="263"/>
                  </a:lnTo>
                  <a:lnTo>
                    <a:pt x="1297" y="252"/>
                  </a:lnTo>
                  <a:lnTo>
                    <a:pt x="1253" y="244"/>
                  </a:lnTo>
                  <a:lnTo>
                    <a:pt x="1211" y="238"/>
                  </a:lnTo>
                  <a:lnTo>
                    <a:pt x="1167" y="233"/>
                  </a:lnTo>
                  <a:lnTo>
                    <a:pt x="1167" y="233"/>
                  </a:lnTo>
                  <a:lnTo>
                    <a:pt x="1082" y="227"/>
                  </a:lnTo>
                  <a:lnTo>
                    <a:pt x="996" y="225"/>
                  </a:lnTo>
                  <a:lnTo>
                    <a:pt x="911" y="227"/>
                  </a:lnTo>
                  <a:lnTo>
                    <a:pt x="911" y="227"/>
                  </a:lnTo>
                  <a:lnTo>
                    <a:pt x="906" y="231"/>
                  </a:lnTo>
                  <a:lnTo>
                    <a:pt x="906" y="234"/>
                  </a:lnTo>
                  <a:lnTo>
                    <a:pt x="904" y="240"/>
                  </a:lnTo>
                  <a:lnTo>
                    <a:pt x="904" y="240"/>
                  </a:lnTo>
                  <a:lnTo>
                    <a:pt x="902" y="256"/>
                  </a:lnTo>
                  <a:lnTo>
                    <a:pt x="904" y="269"/>
                  </a:lnTo>
                  <a:lnTo>
                    <a:pt x="911" y="281"/>
                  </a:lnTo>
                  <a:lnTo>
                    <a:pt x="911" y="281"/>
                  </a:lnTo>
                  <a:lnTo>
                    <a:pt x="921" y="286"/>
                  </a:lnTo>
                  <a:lnTo>
                    <a:pt x="956" y="290"/>
                  </a:lnTo>
                  <a:lnTo>
                    <a:pt x="992" y="292"/>
                  </a:lnTo>
                  <a:lnTo>
                    <a:pt x="1028" y="294"/>
                  </a:lnTo>
                  <a:lnTo>
                    <a:pt x="1028" y="294"/>
                  </a:lnTo>
                  <a:lnTo>
                    <a:pt x="1013" y="300"/>
                  </a:lnTo>
                  <a:lnTo>
                    <a:pt x="998" y="304"/>
                  </a:lnTo>
                  <a:lnTo>
                    <a:pt x="982" y="306"/>
                  </a:lnTo>
                  <a:lnTo>
                    <a:pt x="982" y="306"/>
                  </a:lnTo>
                  <a:lnTo>
                    <a:pt x="981" y="315"/>
                  </a:lnTo>
                  <a:lnTo>
                    <a:pt x="982" y="323"/>
                  </a:lnTo>
                  <a:lnTo>
                    <a:pt x="981" y="331"/>
                  </a:lnTo>
                  <a:lnTo>
                    <a:pt x="981" y="331"/>
                  </a:lnTo>
                  <a:lnTo>
                    <a:pt x="954" y="340"/>
                  </a:lnTo>
                  <a:lnTo>
                    <a:pt x="929" y="348"/>
                  </a:lnTo>
                  <a:lnTo>
                    <a:pt x="904" y="357"/>
                  </a:lnTo>
                  <a:lnTo>
                    <a:pt x="904" y="357"/>
                  </a:lnTo>
                  <a:lnTo>
                    <a:pt x="902" y="369"/>
                  </a:lnTo>
                  <a:lnTo>
                    <a:pt x="896" y="371"/>
                  </a:lnTo>
                  <a:lnTo>
                    <a:pt x="890" y="371"/>
                  </a:lnTo>
                  <a:lnTo>
                    <a:pt x="886" y="373"/>
                  </a:lnTo>
                  <a:lnTo>
                    <a:pt x="886" y="373"/>
                  </a:lnTo>
                  <a:lnTo>
                    <a:pt x="879" y="388"/>
                  </a:lnTo>
                  <a:lnTo>
                    <a:pt x="875" y="403"/>
                  </a:lnTo>
                  <a:lnTo>
                    <a:pt x="875" y="421"/>
                  </a:lnTo>
                  <a:lnTo>
                    <a:pt x="875" y="421"/>
                  </a:lnTo>
                  <a:lnTo>
                    <a:pt x="885" y="430"/>
                  </a:lnTo>
                  <a:lnTo>
                    <a:pt x="894" y="434"/>
                  </a:lnTo>
                  <a:lnTo>
                    <a:pt x="906" y="434"/>
                  </a:lnTo>
                  <a:lnTo>
                    <a:pt x="906" y="434"/>
                  </a:lnTo>
                  <a:lnTo>
                    <a:pt x="917" y="434"/>
                  </a:lnTo>
                  <a:lnTo>
                    <a:pt x="929" y="432"/>
                  </a:lnTo>
                  <a:lnTo>
                    <a:pt x="938" y="430"/>
                  </a:lnTo>
                  <a:lnTo>
                    <a:pt x="938" y="430"/>
                  </a:lnTo>
                  <a:lnTo>
                    <a:pt x="963" y="428"/>
                  </a:lnTo>
                  <a:lnTo>
                    <a:pt x="986" y="423"/>
                  </a:lnTo>
                  <a:lnTo>
                    <a:pt x="1009" y="415"/>
                  </a:lnTo>
                  <a:lnTo>
                    <a:pt x="1032" y="405"/>
                  </a:lnTo>
                  <a:lnTo>
                    <a:pt x="1053" y="394"/>
                  </a:lnTo>
                  <a:lnTo>
                    <a:pt x="1075" y="380"/>
                  </a:lnTo>
                  <a:lnTo>
                    <a:pt x="1096" y="367"/>
                  </a:lnTo>
                  <a:lnTo>
                    <a:pt x="1115" y="350"/>
                  </a:lnTo>
                  <a:lnTo>
                    <a:pt x="1115" y="350"/>
                  </a:lnTo>
                  <a:lnTo>
                    <a:pt x="1134" y="340"/>
                  </a:lnTo>
                  <a:lnTo>
                    <a:pt x="1153" y="332"/>
                  </a:lnTo>
                  <a:lnTo>
                    <a:pt x="1172" y="325"/>
                  </a:lnTo>
                  <a:lnTo>
                    <a:pt x="1190" y="317"/>
                  </a:lnTo>
                  <a:lnTo>
                    <a:pt x="1190" y="317"/>
                  </a:lnTo>
                  <a:lnTo>
                    <a:pt x="1190" y="317"/>
                  </a:lnTo>
                  <a:lnTo>
                    <a:pt x="1188" y="319"/>
                  </a:lnTo>
                  <a:lnTo>
                    <a:pt x="1188" y="321"/>
                  </a:lnTo>
                  <a:lnTo>
                    <a:pt x="1188" y="321"/>
                  </a:lnTo>
                  <a:lnTo>
                    <a:pt x="1190" y="323"/>
                  </a:lnTo>
                  <a:lnTo>
                    <a:pt x="1192" y="321"/>
                  </a:lnTo>
                  <a:lnTo>
                    <a:pt x="1195" y="321"/>
                  </a:lnTo>
                  <a:lnTo>
                    <a:pt x="1195" y="321"/>
                  </a:lnTo>
                  <a:lnTo>
                    <a:pt x="1197" y="319"/>
                  </a:lnTo>
                  <a:lnTo>
                    <a:pt x="1197" y="317"/>
                  </a:lnTo>
                  <a:lnTo>
                    <a:pt x="1197" y="317"/>
                  </a:lnTo>
                  <a:lnTo>
                    <a:pt x="1197" y="317"/>
                  </a:lnTo>
                  <a:lnTo>
                    <a:pt x="1197" y="315"/>
                  </a:lnTo>
                  <a:lnTo>
                    <a:pt x="1201" y="315"/>
                  </a:lnTo>
                  <a:lnTo>
                    <a:pt x="1205" y="315"/>
                  </a:lnTo>
                  <a:lnTo>
                    <a:pt x="1209" y="313"/>
                  </a:lnTo>
                  <a:lnTo>
                    <a:pt x="1209" y="313"/>
                  </a:lnTo>
                  <a:lnTo>
                    <a:pt x="1215" y="309"/>
                  </a:lnTo>
                  <a:lnTo>
                    <a:pt x="1222" y="307"/>
                  </a:lnTo>
                  <a:lnTo>
                    <a:pt x="1228" y="306"/>
                  </a:lnTo>
                  <a:lnTo>
                    <a:pt x="1228" y="306"/>
                  </a:lnTo>
                  <a:lnTo>
                    <a:pt x="1213" y="313"/>
                  </a:lnTo>
                  <a:lnTo>
                    <a:pt x="1199" y="319"/>
                  </a:lnTo>
                  <a:lnTo>
                    <a:pt x="1184" y="329"/>
                  </a:lnTo>
                  <a:lnTo>
                    <a:pt x="1184" y="329"/>
                  </a:lnTo>
                  <a:lnTo>
                    <a:pt x="1184" y="327"/>
                  </a:lnTo>
                  <a:lnTo>
                    <a:pt x="1186" y="325"/>
                  </a:lnTo>
                  <a:lnTo>
                    <a:pt x="1184" y="323"/>
                  </a:lnTo>
                  <a:lnTo>
                    <a:pt x="1184" y="323"/>
                  </a:lnTo>
                  <a:lnTo>
                    <a:pt x="1182" y="323"/>
                  </a:lnTo>
                  <a:lnTo>
                    <a:pt x="1178" y="325"/>
                  </a:lnTo>
                  <a:lnTo>
                    <a:pt x="1176" y="327"/>
                  </a:lnTo>
                  <a:lnTo>
                    <a:pt x="1176" y="327"/>
                  </a:lnTo>
                  <a:lnTo>
                    <a:pt x="1176" y="329"/>
                  </a:lnTo>
                  <a:lnTo>
                    <a:pt x="1176" y="329"/>
                  </a:lnTo>
                  <a:lnTo>
                    <a:pt x="1176" y="331"/>
                  </a:lnTo>
                  <a:lnTo>
                    <a:pt x="1176" y="331"/>
                  </a:lnTo>
                  <a:lnTo>
                    <a:pt x="1178" y="331"/>
                  </a:lnTo>
                  <a:lnTo>
                    <a:pt x="1174" y="332"/>
                  </a:lnTo>
                  <a:lnTo>
                    <a:pt x="1176" y="332"/>
                  </a:lnTo>
                  <a:lnTo>
                    <a:pt x="1176" y="331"/>
                  </a:lnTo>
                  <a:lnTo>
                    <a:pt x="1176" y="331"/>
                  </a:lnTo>
                  <a:lnTo>
                    <a:pt x="1176" y="331"/>
                  </a:lnTo>
                  <a:lnTo>
                    <a:pt x="1174" y="329"/>
                  </a:lnTo>
                  <a:lnTo>
                    <a:pt x="1172" y="329"/>
                  </a:lnTo>
                  <a:lnTo>
                    <a:pt x="1171" y="331"/>
                  </a:lnTo>
                  <a:lnTo>
                    <a:pt x="1171" y="331"/>
                  </a:lnTo>
                  <a:lnTo>
                    <a:pt x="1169" y="332"/>
                  </a:lnTo>
                  <a:lnTo>
                    <a:pt x="1167" y="332"/>
                  </a:lnTo>
                  <a:lnTo>
                    <a:pt x="1167" y="336"/>
                  </a:lnTo>
                  <a:lnTo>
                    <a:pt x="1167" y="336"/>
                  </a:lnTo>
                  <a:lnTo>
                    <a:pt x="1167" y="336"/>
                  </a:lnTo>
                  <a:lnTo>
                    <a:pt x="1169" y="336"/>
                  </a:lnTo>
                  <a:lnTo>
                    <a:pt x="1169" y="336"/>
                  </a:lnTo>
                  <a:lnTo>
                    <a:pt x="1169" y="336"/>
                  </a:lnTo>
                  <a:lnTo>
                    <a:pt x="1171" y="336"/>
                  </a:lnTo>
                  <a:lnTo>
                    <a:pt x="1161" y="342"/>
                  </a:lnTo>
                  <a:lnTo>
                    <a:pt x="1153" y="348"/>
                  </a:lnTo>
                  <a:lnTo>
                    <a:pt x="1146" y="354"/>
                  </a:lnTo>
                  <a:lnTo>
                    <a:pt x="1138" y="361"/>
                  </a:lnTo>
                  <a:lnTo>
                    <a:pt x="1130" y="367"/>
                  </a:lnTo>
                  <a:lnTo>
                    <a:pt x="1124" y="375"/>
                  </a:lnTo>
                  <a:lnTo>
                    <a:pt x="1117" y="380"/>
                  </a:lnTo>
                  <a:lnTo>
                    <a:pt x="1111" y="388"/>
                  </a:lnTo>
                  <a:lnTo>
                    <a:pt x="1105" y="396"/>
                  </a:lnTo>
                  <a:lnTo>
                    <a:pt x="1100" y="403"/>
                  </a:lnTo>
                  <a:lnTo>
                    <a:pt x="1094" y="411"/>
                  </a:lnTo>
                  <a:lnTo>
                    <a:pt x="1088" y="419"/>
                  </a:lnTo>
                  <a:lnTo>
                    <a:pt x="1082" y="427"/>
                  </a:lnTo>
                  <a:lnTo>
                    <a:pt x="1078" y="436"/>
                  </a:lnTo>
                  <a:lnTo>
                    <a:pt x="1073" y="444"/>
                  </a:lnTo>
                  <a:lnTo>
                    <a:pt x="1073" y="444"/>
                  </a:lnTo>
                  <a:lnTo>
                    <a:pt x="902" y="4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200280" y="3011040"/>
              <a:ext cx="828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764760" y="3058560"/>
              <a:ext cx="41400" cy="18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9" y="2"/>
                  </a:moveTo>
                  <a:lnTo>
                    <a:pt x="20" y="7"/>
                  </a:lnTo>
                  <a:lnTo>
                    <a:pt x="12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5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647760" y="3058560"/>
              <a:ext cx="51480" cy="1008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36" y="7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21" y="4"/>
                  </a:lnTo>
                  <a:lnTo>
                    <a:pt x="29" y="5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779520" y="3077280"/>
              <a:ext cx="29520" cy="169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0"/>
                  </a:moveTo>
                  <a:lnTo>
                    <a:pt x="15" y="6"/>
                  </a:lnTo>
                  <a:lnTo>
                    <a:pt x="8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624720" y="3068640"/>
              <a:ext cx="101520" cy="2268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71" y="10"/>
                  </a:moveTo>
                  <a:lnTo>
                    <a:pt x="66" y="1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9" y="2"/>
                  </a:lnTo>
                  <a:lnTo>
                    <a:pt x="50" y="6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468920" y="3137400"/>
              <a:ext cx="27000" cy="169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6"/>
                  </a:moveTo>
                  <a:lnTo>
                    <a:pt x="13" y="8"/>
                  </a:lnTo>
                  <a:lnTo>
                    <a:pt x="5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9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528680" y="3143520"/>
              <a:ext cx="54360" cy="1692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12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7" y="10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139800" y="3032640"/>
              <a:ext cx="9720" cy="86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759360" y="3085920"/>
              <a:ext cx="1116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6"/>
                  </a:moveTo>
                  <a:lnTo>
                    <a:pt x="8" y="8"/>
                  </a:lnTo>
                  <a:lnTo>
                    <a:pt x="0" y="8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594560" y="316080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2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149880" y="3044520"/>
              <a:ext cx="1892160" cy="333000"/>
            </a:xfrm>
            <a:custGeom>
              <a:avLst/>
              <a:gdLst/>
              <a:ahLst/>
              <a:rect l="l" t="t" r="r" b="b"/>
              <a:pathLst>
                <a:path w="1323" h="232">
                  <a:moveTo>
                    <a:pt x="146" y="25"/>
                  </a:moveTo>
                  <a:lnTo>
                    <a:pt x="296" y="48"/>
                  </a:lnTo>
                  <a:lnTo>
                    <a:pt x="346" y="54"/>
                  </a:lnTo>
                  <a:lnTo>
                    <a:pt x="396" y="62"/>
                  </a:lnTo>
                  <a:lnTo>
                    <a:pt x="446" y="69"/>
                  </a:lnTo>
                  <a:lnTo>
                    <a:pt x="496" y="75"/>
                  </a:lnTo>
                  <a:lnTo>
                    <a:pt x="546" y="81"/>
                  </a:lnTo>
                  <a:lnTo>
                    <a:pt x="546" y="81"/>
                  </a:lnTo>
                  <a:lnTo>
                    <a:pt x="597" y="86"/>
                  </a:lnTo>
                  <a:lnTo>
                    <a:pt x="647" y="94"/>
                  </a:lnTo>
                  <a:lnTo>
                    <a:pt x="699" y="102"/>
                  </a:lnTo>
                  <a:lnTo>
                    <a:pt x="749" y="110"/>
                  </a:lnTo>
                  <a:lnTo>
                    <a:pt x="801" y="117"/>
                  </a:lnTo>
                  <a:lnTo>
                    <a:pt x="853" y="123"/>
                  </a:lnTo>
                  <a:lnTo>
                    <a:pt x="853" y="123"/>
                  </a:lnTo>
                  <a:lnTo>
                    <a:pt x="943" y="136"/>
                  </a:lnTo>
                  <a:lnTo>
                    <a:pt x="1083" y="158"/>
                  </a:lnTo>
                  <a:lnTo>
                    <a:pt x="1125" y="165"/>
                  </a:lnTo>
                  <a:lnTo>
                    <a:pt x="1165" y="171"/>
                  </a:lnTo>
                  <a:lnTo>
                    <a:pt x="1208" y="179"/>
                  </a:lnTo>
                  <a:lnTo>
                    <a:pt x="1250" y="184"/>
                  </a:lnTo>
                  <a:lnTo>
                    <a:pt x="1292" y="190"/>
                  </a:lnTo>
                  <a:lnTo>
                    <a:pt x="1292" y="190"/>
                  </a:lnTo>
                  <a:lnTo>
                    <a:pt x="1302" y="192"/>
                  </a:lnTo>
                  <a:lnTo>
                    <a:pt x="1309" y="196"/>
                  </a:lnTo>
                  <a:lnTo>
                    <a:pt x="1317" y="204"/>
                  </a:lnTo>
                  <a:lnTo>
                    <a:pt x="1317" y="204"/>
                  </a:lnTo>
                  <a:lnTo>
                    <a:pt x="1317" y="213"/>
                  </a:lnTo>
                  <a:lnTo>
                    <a:pt x="1321" y="223"/>
                  </a:lnTo>
                  <a:lnTo>
                    <a:pt x="1323" y="231"/>
                  </a:lnTo>
                  <a:lnTo>
                    <a:pt x="1323" y="231"/>
                  </a:lnTo>
                  <a:lnTo>
                    <a:pt x="1319" y="232"/>
                  </a:lnTo>
                  <a:lnTo>
                    <a:pt x="1313" y="231"/>
                  </a:lnTo>
                  <a:lnTo>
                    <a:pt x="1308" y="229"/>
                  </a:lnTo>
                  <a:lnTo>
                    <a:pt x="1308" y="229"/>
                  </a:lnTo>
                  <a:lnTo>
                    <a:pt x="1269" y="219"/>
                  </a:lnTo>
                  <a:lnTo>
                    <a:pt x="1229" y="211"/>
                  </a:lnTo>
                  <a:lnTo>
                    <a:pt x="1189" y="206"/>
                  </a:lnTo>
                  <a:lnTo>
                    <a:pt x="1148" y="198"/>
                  </a:lnTo>
                  <a:lnTo>
                    <a:pt x="1108" y="192"/>
                  </a:lnTo>
                  <a:lnTo>
                    <a:pt x="1108" y="192"/>
                  </a:lnTo>
                  <a:lnTo>
                    <a:pt x="1106" y="194"/>
                  </a:lnTo>
                  <a:lnTo>
                    <a:pt x="1045" y="186"/>
                  </a:lnTo>
                  <a:lnTo>
                    <a:pt x="981" y="183"/>
                  </a:lnTo>
                  <a:lnTo>
                    <a:pt x="920" y="175"/>
                  </a:lnTo>
                  <a:lnTo>
                    <a:pt x="920" y="175"/>
                  </a:lnTo>
                  <a:lnTo>
                    <a:pt x="874" y="167"/>
                  </a:lnTo>
                  <a:lnTo>
                    <a:pt x="828" y="159"/>
                  </a:lnTo>
                  <a:lnTo>
                    <a:pt x="780" y="154"/>
                  </a:lnTo>
                  <a:lnTo>
                    <a:pt x="734" y="146"/>
                  </a:lnTo>
                  <a:lnTo>
                    <a:pt x="686" y="142"/>
                  </a:lnTo>
                  <a:lnTo>
                    <a:pt x="686" y="142"/>
                  </a:lnTo>
                  <a:lnTo>
                    <a:pt x="647" y="131"/>
                  </a:lnTo>
                  <a:lnTo>
                    <a:pt x="607" y="121"/>
                  </a:lnTo>
                  <a:lnTo>
                    <a:pt x="567" y="111"/>
                  </a:lnTo>
                  <a:lnTo>
                    <a:pt x="567" y="111"/>
                  </a:lnTo>
                  <a:lnTo>
                    <a:pt x="499" y="104"/>
                  </a:lnTo>
                  <a:lnTo>
                    <a:pt x="432" y="94"/>
                  </a:lnTo>
                  <a:lnTo>
                    <a:pt x="363" y="83"/>
                  </a:lnTo>
                  <a:lnTo>
                    <a:pt x="363" y="83"/>
                  </a:lnTo>
                  <a:lnTo>
                    <a:pt x="336" y="77"/>
                  </a:lnTo>
                  <a:lnTo>
                    <a:pt x="307" y="71"/>
                  </a:lnTo>
                  <a:lnTo>
                    <a:pt x="281" y="63"/>
                  </a:lnTo>
                  <a:lnTo>
                    <a:pt x="252" y="58"/>
                  </a:lnTo>
                  <a:lnTo>
                    <a:pt x="223" y="54"/>
                  </a:lnTo>
                  <a:lnTo>
                    <a:pt x="223" y="54"/>
                  </a:lnTo>
                  <a:lnTo>
                    <a:pt x="206" y="50"/>
                  </a:lnTo>
                  <a:lnTo>
                    <a:pt x="188" y="48"/>
                  </a:lnTo>
                  <a:lnTo>
                    <a:pt x="173" y="46"/>
                  </a:lnTo>
                  <a:lnTo>
                    <a:pt x="173" y="46"/>
                  </a:lnTo>
                  <a:lnTo>
                    <a:pt x="125" y="35"/>
                  </a:lnTo>
                  <a:lnTo>
                    <a:pt x="77" y="2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18" y="14"/>
                  </a:ln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" y="6"/>
                  </a:lnTo>
                  <a:lnTo>
                    <a:pt x="96" y="15"/>
                  </a:lnTo>
                  <a:lnTo>
                    <a:pt x="14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487280" y="3154680"/>
              <a:ext cx="1152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510320" y="3160800"/>
              <a:ext cx="12960" cy="108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525800" y="3160800"/>
              <a:ext cx="5760" cy="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534800" y="3163680"/>
              <a:ext cx="56880" cy="684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40" y="3"/>
                  </a:moveTo>
                  <a:lnTo>
                    <a:pt x="4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3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468920" y="3160800"/>
              <a:ext cx="147240" cy="51480"/>
            </a:xfrm>
            <a:custGeom>
              <a:avLst/>
              <a:gdLst/>
              <a:ahLst/>
              <a:rect l="l" t="t" r="r" b="b"/>
              <a:pathLst>
                <a:path w="103" h="36">
                  <a:moveTo>
                    <a:pt x="11" y="4"/>
                  </a:moveTo>
                  <a:lnTo>
                    <a:pt x="88" y="13"/>
                  </a:lnTo>
                  <a:lnTo>
                    <a:pt x="90" y="13"/>
                  </a:lnTo>
                  <a:lnTo>
                    <a:pt x="92" y="11"/>
                  </a:lnTo>
                  <a:lnTo>
                    <a:pt x="92" y="9"/>
                  </a:lnTo>
                  <a:lnTo>
                    <a:pt x="92" y="9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6" y="7"/>
                  </a:lnTo>
                  <a:lnTo>
                    <a:pt x="92" y="7"/>
                  </a:lnTo>
                  <a:lnTo>
                    <a:pt x="98" y="7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8" y="11"/>
                  </a:lnTo>
                  <a:lnTo>
                    <a:pt x="90" y="17"/>
                  </a:lnTo>
                  <a:lnTo>
                    <a:pt x="84" y="21"/>
                  </a:lnTo>
                  <a:lnTo>
                    <a:pt x="84" y="21"/>
                  </a:lnTo>
                  <a:lnTo>
                    <a:pt x="88" y="25"/>
                  </a:lnTo>
                  <a:lnTo>
                    <a:pt x="92" y="29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88" y="29"/>
                  </a:lnTo>
                  <a:lnTo>
                    <a:pt x="80" y="25"/>
                  </a:lnTo>
                  <a:lnTo>
                    <a:pt x="82" y="17"/>
                  </a:lnTo>
                  <a:lnTo>
                    <a:pt x="82" y="17"/>
                  </a:lnTo>
                  <a:lnTo>
                    <a:pt x="80" y="15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120000" y="3049920"/>
              <a:ext cx="8280" cy="158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139800" y="3068640"/>
              <a:ext cx="455040" cy="307080"/>
            </a:xfrm>
            <a:custGeom>
              <a:avLst/>
              <a:gdLst/>
              <a:ahLst/>
              <a:rect l="l" t="t" r="r" b="b"/>
              <a:pathLst>
                <a:path w="318" h="214">
                  <a:moveTo>
                    <a:pt x="128" y="27"/>
                  </a:moveTo>
                  <a:lnTo>
                    <a:pt x="159" y="37"/>
                  </a:lnTo>
                  <a:lnTo>
                    <a:pt x="190" y="46"/>
                  </a:lnTo>
                  <a:lnTo>
                    <a:pt x="220" y="54"/>
                  </a:lnTo>
                  <a:lnTo>
                    <a:pt x="251" y="64"/>
                  </a:lnTo>
                  <a:lnTo>
                    <a:pt x="282" y="73"/>
                  </a:lnTo>
                  <a:lnTo>
                    <a:pt x="311" y="85"/>
                  </a:lnTo>
                  <a:lnTo>
                    <a:pt x="311" y="85"/>
                  </a:lnTo>
                  <a:lnTo>
                    <a:pt x="314" y="96"/>
                  </a:lnTo>
                  <a:lnTo>
                    <a:pt x="316" y="108"/>
                  </a:lnTo>
                  <a:lnTo>
                    <a:pt x="318" y="119"/>
                  </a:lnTo>
                  <a:lnTo>
                    <a:pt x="318" y="119"/>
                  </a:lnTo>
                  <a:lnTo>
                    <a:pt x="314" y="129"/>
                  </a:lnTo>
                  <a:lnTo>
                    <a:pt x="313" y="137"/>
                  </a:lnTo>
                  <a:lnTo>
                    <a:pt x="305" y="142"/>
                  </a:lnTo>
                  <a:lnTo>
                    <a:pt x="305" y="142"/>
                  </a:lnTo>
                  <a:lnTo>
                    <a:pt x="295" y="139"/>
                  </a:lnTo>
                  <a:lnTo>
                    <a:pt x="286" y="135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76" y="150"/>
                  </a:lnTo>
                  <a:lnTo>
                    <a:pt x="282" y="167"/>
                  </a:lnTo>
                  <a:lnTo>
                    <a:pt x="284" y="185"/>
                  </a:lnTo>
                  <a:lnTo>
                    <a:pt x="284" y="185"/>
                  </a:lnTo>
                  <a:lnTo>
                    <a:pt x="288" y="194"/>
                  </a:lnTo>
                  <a:lnTo>
                    <a:pt x="286" y="204"/>
                  </a:lnTo>
                  <a:lnTo>
                    <a:pt x="282" y="214"/>
                  </a:lnTo>
                  <a:lnTo>
                    <a:pt x="282" y="214"/>
                  </a:lnTo>
                  <a:lnTo>
                    <a:pt x="276" y="210"/>
                  </a:lnTo>
                  <a:lnTo>
                    <a:pt x="268" y="206"/>
                  </a:lnTo>
                  <a:lnTo>
                    <a:pt x="263" y="202"/>
                  </a:lnTo>
                  <a:lnTo>
                    <a:pt x="263" y="202"/>
                  </a:lnTo>
                  <a:lnTo>
                    <a:pt x="255" y="194"/>
                  </a:lnTo>
                  <a:lnTo>
                    <a:pt x="245" y="187"/>
                  </a:lnTo>
                  <a:lnTo>
                    <a:pt x="238" y="179"/>
                  </a:lnTo>
                  <a:lnTo>
                    <a:pt x="228" y="173"/>
                  </a:lnTo>
                  <a:lnTo>
                    <a:pt x="220" y="166"/>
                  </a:lnTo>
                  <a:lnTo>
                    <a:pt x="211" y="160"/>
                  </a:lnTo>
                  <a:lnTo>
                    <a:pt x="203" y="154"/>
                  </a:lnTo>
                  <a:lnTo>
                    <a:pt x="194" y="146"/>
                  </a:lnTo>
                  <a:lnTo>
                    <a:pt x="184" y="141"/>
                  </a:lnTo>
                  <a:lnTo>
                    <a:pt x="176" y="133"/>
                  </a:lnTo>
                  <a:lnTo>
                    <a:pt x="167" y="127"/>
                  </a:lnTo>
                  <a:lnTo>
                    <a:pt x="159" y="119"/>
                  </a:lnTo>
                  <a:lnTo>
                    <a:pt x="159" y="119"/>
                  </a:lnTo>
                  <a:lnTo>
                    <a:pt x="148" y="114"/>
                  </a:lnTo>
                  <a:lnTo>
                    <a:pt x="138" y="106"/>
                  </a:lnTo>
                  <a:lnTo>
                    <a:pt x="126" y="98"/>
                  </a:lnTo>
                  <a:lnTo>
                    <a:pt x="117" y="93"/>
                  </a:lnTo>
                  <a:lnTo>
                    <a:pt x="105" y="85"/>
                  </a:lnTo>
                  <a:lnTo>
                    <a:pt x="94" y="81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82" y="79"/>
                  </a:lnTo>
                  <a:lnTo>
                    <a:pt x="78" y="79"/>
                  </a:lnTo>
                  <a:lnTo>
                    <a:pt x="76" y="77"/>
                  </a:lnTo>
                  <a:lnTo>
                    <a:pt x="76" y="77"/>
                  </a:lnTo>
                  <a:lnTo>
                    <a:pt x="75" y="77"/>
                  </a:lnTo>
                  <a:lnTo>
                    <a:pt x="73" y="75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1"/>
                  </a:lnTo>
                  <a:lnTo>
                    <a:pt x="71" y="69"/>
                  </a:lnTo>
                  <a:lnTo>
                    <a:pt x="69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57" y="66"/>
                  </a:lnTo>
                  <a:lnTo>
                    <a:pt x="48" y="6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30" y="52"/>
                  </a:lnTo>
                  <a:lnTo>
                    <a:pt x="21" y="48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7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5" y="41"/>
                  </a:lnTo>
                  <a:lnTo>
                    <a:pt x="9" y="39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23"/>
                  </a:lnTo>
                  <a:lnTo>
                    <a:pt x="15" y="1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48" y="8"/>
                  </a:lnTo>
                  <a:lnTo>
                    <a:pt x="75" y="16"/>
                  </a:lnTo>
                  <a:lnTo>
                    <a:pt x="101" y="21"/>
                  </a:lnTo>
                  <a:lnTo>
                    <a:pt x="1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611840" y="3191040"/>
              <a:ext cx="6840" cy="111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4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114240" y="3074400"/>
              <a:ext cx="5760" cy="115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479000" y="3188160"/>
              <a:ext cx="112680" cy="273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68" y="10"/>
                  </a:moveTo>
                  <a:lnTo>
                    <a:pt x="71" y="11"/>
                  </a:lnTo>
                  <a:lnTo>
                    <a:pt x="75" y="15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8" y="10"/>
                  </a:lnTo>
                  <a:lnTo>
                    <a:pt x="6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112800" y="3094560"/>
              <a:ext cx="3960" cy="100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1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099640" y="3278520"/>
              <a:ext cx="29520" cy="169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4"/>
                  </a:moveTo>
                  <a:lnTo>
                    <a:pt x="16" y="0"/>
                  </a:lnTo>
                  <a:lnTo>
                    <a:pt x="10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0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8063640" y="3272760"/>
              <a:ext cx="1152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122520" y="3121920"/>
              <a:ext cx="1440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4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8053920" y="3292920"/>
              <a:ext cx="3960" cy="111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3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104160" y="3140640"/>
              <a:ext cx="1511640" cy="817200"/>
            </a:xfrm>
            <a:custGeom>
              <a:avLst/>
              <a:gdLst/>
              <a:ahLst/>
              <a:rect l="l" t="t" r="r" b="b"/>
              <a:pathLst>
                <a:path w="1057" h="569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42" y="10"/>
                  </a:lnTo>
                  <a:lnTo>
                    <a:pt x="54" y="14"/>
                  </a:lnTo>
                  <a:lnTo>
                    <a:pt x="65" y="18"/>
                  </a:lnTo>
                  <a:lnTo>
                    <a:pt x="75" y="23"/>
                  </a:lnTo>
                  <a:lnTo>
                    <a:pt x="86" y="29"/>
                  </a:lnTo>
                  <a:lnTo>
                    <a:pt x="96" y="35"/>
                  </a:lnTo>
                  <a:lnTo>
                    <a:pt x="105" y="41"/>
                  </a:lnTo>
                  <a:lnTo>
                    <a:pt x="117" y="48"/>
                  </a:lnTo>
                  <a:lnTo>
                    <a:pt x="126" y="54"/>
                  </a:lnTo>
                  <a:lnTo>
                    <a:pt x="136" y="62"/>
                  </a:lnTo>
                  <a:lnTo>
                    <a:pt x="146" y="69"/>
                  </a:lnTo>
                  <a:lnTo>
                    <a:pt x="153" y="79"/>
                  </a:lnTo>
                  <a:lnTo>
                    <a:pt x="163" y="87"/>
                  </a:lnTo>
                  <a:lnTo>
                    <a:pt x="171" y="96"/>
                  </a:lnTo>
                  <a:lnTo>
                    <a:pt x="178" y="106"/>
                  </a:lnTo>
                  <a:lnTo>
                    <a:pt x="186" y="114"/>
                  </a:lnTo>
                  <a:lnTo>
                    <a:pt x="194" y="123"/>
                  </a:lnTo>
                  <a:lnTo>
                    <a:pt x="199" y="135"/>
                  </a:lnTo>
                  <a:lnTo>
                    <a:pt x="207" y="144"/>
                  </a:lnTo>
                  <a:lnTo>
                    <a:pt x="213" y="154"/>
                  </a:lnTo>
                  <a:lnTo>
                    <a:pt x="219" y="165"/>
                  </a:lnTo>
                  <a:lnTo>
                    <a:pt x="224" y="175"/>
                  </a:lnTo>
                  <a:lnTo>
                    <a:pt x="228" y="187"/>
                  </a:lnTo>
                  <a:lnTo>
                    <a:pt x="232" y="196"/>
                  </a:lnTo>
                  <a:lnTo>
                    <a:pt x="236" y="208"/>
                  </a:lnTo>
                  <a:lnTo>
                    <a:pt x="240" y="219"/>
                  </a:lnTo>
                  <a:lnTo>
                    <a:pt x="240" y="219"/>
                  </a:lnTo>
                  <a:lnTo>
                    <a:pt x="242" y="227"/>
                  </a:lnTo>
                  <a:lnTo>
                    <a:pt x="242" y="237"/>
                  </a:lnTo>
                  <a:lnTo>
                    <a:pt x="244" y="244"/>
                  </a:lnTo>
                  <a:lnTo>
                    <a:pt x="244" y="244"/>
                  </a:lnTo>
                  <a:lnTo>
                    <a:pt x="278" y="250"/>
                  </a:lnTo>
                  <a:lnTo>
                    <a:pt x="311" y="256"/>
                  </a:lnTo>
                  <a:lnTo>
                    <a:pt x="345" y="261"/>
                  </a:lnTo>
                  <a:lnTo>
                    <a:pt x="345" y="261"/>
                  </a:lnTo>
                  <a:lnTo>
                    <a:pt x="530" y="292"/>
                  </a:lnTo>
                  <a:lnTo>
                    <a:pt x="758" y="331"/>
                  </a:lnTo>
                  <a:lnTo>
                    <a:pt x="1057" y="382"/>
                  </a:lnTo>
                  <a:lnTo>
                    <a:pt x="1054" y="384"/>
                  </a:lnTo>
                  <a:lnTo>
                    <a:pt x="944" y="382"/>
                  </a:lnTo>
                  <a:lnTo>
                    <a:pt x="835" y="373"/>
                  </a:lnTo>
                  <a:lnTo>
                    <a:pt x="729" y="354"/>
                  </a:lnTo>
                  <a:lnTo>
                    <a:pt x="729" y="354"/>
                  </a:lnTo>
                  <a:lnTo>
                    <a:pt x="685" y="348"/>
                  </a:lnTo>
                  <a:lnTo>
                    <a:pt x="639" y="342"/>
                  </a:lnTo>
                  <a:lnTo>
                    <a:pt x="595" y="344"/>
                  </a:lnTo>
                  <a:lnTo>
                    <a:pt x="595" y="344"/>
                  </a:lnTo>
                  <a:lnTo>
                    <a:pt x="589" y="350"/>
                  </a:lnTo>
                  <a:lnTo>
                    <a:pt x="587" y="357"/>
                  </a:lnTo>
                  <a:lnTo>
                    <a:pt x="589" y="363"/>
                  </a:lnTo>
                  <a:lnTo>
                    <a:pt x="591" y="371"/>
                  </a:lnTo>
                  <a:lnTo>
                    <a:pt x="593" y="379"/>
                  </a:lnTo>
                  <a:lnTo>
                    <a:pt x="597" y="384"/>
                  </a:lnTo>
                  <a:lnTo>
                    <a:pt x="601" y="392"/>
                  </a:lnTo>
                  <a:lnTo>
                    <a:pt x="601" y="392"/>
                  </a:lnTo>
                  <a:lnTo>
                    <a:pt x="601" y="394"/>
                  </a:lnTo>
                  <a:lnTo>
                    <a:pt x="602" y="394"/>
                  </a:lnTo>
                  <a:lnTo>
                    <a:pt x="604" y="394"/>
                  </a:lnTo>
                  <a:lnTo>
                    <a:pt x="604" y="394"/>
                  </a:lnTo>
                  <a:lnTo>
                    <a:pt x="606" y="392"/>
                  </a:lnTo>
                  <a:lnTo>
                    <a:pt x="604" y="388"/>
                  </a:lnTo>
                  <a:lnTo>
                    <a:pt x="604" y="384"/>
                  </a:lnTo>
                  <a:lnTo>
                    <a:pt x="604" y="384"/>
                  </a:lnTo>
                  <a:lnTo>
                    <a:pt x="599" y="373"/>
                  </a:lnTo>
                  <a:lnTo>
                    <a:pt x="593" y="363"/>
                  </a:lnTo>
                  <a:lnTo>
                    <a:pt x="597" y="350"/>
                  </a:lnTo>
                  <a:lnTo>
                    <a:pt x="597" y="350"/>
                  </a:lnTo>
                  <a:lnTo>
                    <a:pt x="631" y="348"/>
                  </a:lnTo>
                  <a:lnTo>
                    <a:pt x="666" y="350"/>
                  </a:lnTo>
                  <a:lnTo>
                    <a:pt x="698" y="359"/>
                  </a:lnTo>
                  <a:lnTo>
                    <a:pt x="729" y="371"/>
                  </a:lnTo>
                  <a:lnTo>
                    <a:pt x="729" y="371"/>
                  </a:lnTo>
                  <a:lnTo>
                    <a:pt x="731" y="379"/>
                  </a:lnTo>
                  <a:lnTo>
                    <a:pt x="727" y="386"/>
                  </a:lnTo>
                  <a:lnTo>
                    <a:pt x="721" y="392"/>
                  </a:lnTo>
                  <a:lnTo>
                    <a:pt x="721" y="392"/>
                  </a:lnTo>
                  <a:lnTo>
                    <a:pt x="700" y="427"/>
                  </a:lnTo>
                  <a:lnTo>
                    <a:pt x="693" y="425"/>
                  </a:lnTo>
                  <a:lnTo>
                    <a:pt x="685" y="425"/>
                  </a:lnTo>
                  <a:lnTo>
                    <a:pt x="679" y="427"/>
                  </a:lnTo>
                  <a:lnTo>
                    <a:pt x="679" y="427"/>
                  </a:lnTo>
                  <a:lnTo>
                    <a:pt x="618" y="415"/>
                  </a:lnTo>
                  <a:lnTo>
                    <a:pt x="616" y="415"/>
                  </a:lnTo>
                  <a:lnTo>
                    <a:pt x="616" y="417"/>
                  </a:lnTo>
                  <a:lnTo>
                    <a:pt x="616" y="419"/>
                  </a:lnTo>
                  <a:lnTo>
                    <a:pt x="616" y="419"/>
                  </a:lnTo>
                  <a:lnTo>
                    <a:pt x="618" y="421"/>
                  </a:lnTo>
                  <a:lnTo>
                    <a:pt x="652" y="427"/>
                  </a:lnTo>
                  <a:lnTo>
                    <a:pt x="685" y="432"/>
                  </a:lnTo>
                  <a:lnTo>
                    <a:pt x="716" y="440"/>
                  </a:lnTo>
                  <a:lnTo>
                    <a:pt x="716" y="440"/>
                  </a:lnTo>
                  <a:lnTo>
                    <a:pt x="716" y="482"/>
                  </a:lnTo>
                  <a:lnTo>
                    <a:pt x="714" y="526"/>
                  </a:lnTo>
                  <a:lnTo>
                    <a:pt x="712" y="569"/>
                  </a:lnTo>
                  <a:lnTo>
                    <a:pt x="712" y="569"/>
                  </a:lnTo>
                  <a:lnTo>
                    <a:pt x="675" y="565"/>
                  </a:lnTo>
                  <a:lnTo>
                    <a:pt x="641" y="559"/>
                  </a:lnTo>
                  <a:lnTo>
                    <a:pt x="606" y="551"/>
                  </a:lnTo>
                  <a:lnTo>
                    <a:pt x="606" y="551"/>
                  </a:lnTo>
                  <a:lnTo>
                    <a:pt x="604" y="550"/>
                  </a:lnTo>
                  <a:lnTo>
                    <a:pt x="604" y="502"/>
                  </a:lnTo>
                  <a:lnTo>
                    <a:pt x="604" y="454"/>
                  </a:lnTo>
                  <a:lnTo>
                    <a:pt x="606" y="407"/>
                  </a:lnTo>
                  <a:lnTo>
                    <a:pt x="606" y="407"/>
                  </a:lnTo>
                  <a:lnTo>
                    <a:pt x="612" y="396"/>
                  </a:lnTo>
                  <a:lnTo>
                    <a:pt x="643" y="400"/>
                  </a:lnTo>
                  <a:lnTo>
                    <a:pt x="673" y="406"/>
                  </a:lnTo>
                  <a:lnTo>
                    <a:pt x="704" y="411"/>
                  </a:lnTo>
                  <a:lnTo>
                    <a:pt x="704" y="411"/>
                  </a:lnTo>
                  <a:lnTo>
                    <a:pt x="708" y="398"/>
                  </a:lnTo>
                  <a:lnTo>
                    <a:pt x="716" y="386"/>
                  </a:lnTo>
                  <a:lnTo>
                    <a:pt x="723" y="373"/>
                  </a:lnTo>
                  <a:lnTo>
                    <a:pt x="723" y="373"/>
                  </a:lnTo>
                  <a:lnTo>
                    <a:pt x="702" y="361"/>
                  </a:lnTo>
                  <a:lnTo>
                    <a:pt x="677" y="356"/>
                  </a:lnTo>
                  <a:lnTo>
                    <a:pt x="652" y="352"/>
                  </a:lnTo>
                  <a:lnTo>
                    <a:pt x="625" y="350"/>
                  </a:lnTo>
                  <a:lnTo>
                    <a:pt x="625" y="350"/>
                  </a:lnTo>
                  <a:lnTo>
                    <a:pt x="618" y="352"/>
                  </a:lnTo>
                  <a:lnTo>
                    <a:pt x="610" y="354"/>
                  </a:lnTo>
                  <a:lnTo>
                    <a:pt x="606" y="359"/>
                  </a:lnTo>
                  <a:lnTo>
                    <a:pt x="606" y="359"/>
                  </a:lnTo>
                  <a:lnTo>
                    <a:pt x="604" y="369"/>
                  </a:lnTo>
                  <a:lnTo>
                    <a:pt x="604" y="377"/>
                  </a:lnTo>
                  <a:lnTo>
                    <a:pt x="604" y="386"/>
                  </a:lnTo>
                  <a:lnTo>
                    <a:pt x="604" y="386"/>
                  </a:lnTo>
                  <a:lnTo>
                    <a:pt x="606" y="392"/>
                  </a:lnTo>
                  <a:lnTo>
                    <a:pt x="604" y="398"/>
                  </a:lnTo>
                  <a:lnTo>
                    <a:pt x="601" y="404"/>
                  </a:lnTo>
                  <a:lnTo>
                    <a:pt x="601" y="404"/>
                  </a:lnTo>
                  <a:lnTo>
                    <a:pt x="599" y="404"/>
                  </a:lnTo>
                  <a:lnTo>
                    <a:pt x="595" y="404"/>
                  </a:lnTo>
                  <a:lnTo>
                    <a:pt x="593" y="406"/>
                  </a:lnTo>
                  <a:lnTo>
                    <a:pt x="593" y="406"/>
                  </a:lnTo>
                  <a:lnTo>
                    <a:pt x="595" y="407"/>
                  </a:lnTo>
                  <a:lnTo>
                    <a:pt x="597" y="407"/>
                  </a:lnTo>
                  <a:lnTo>
                    <a:pt x="601" y="407"/>
                  </a:lnTo>
                  <a:lnTo>
                    <a:pt x="601" y="407"/>
                  </a:lnTo>
                  <a:lnTo>
                    <a:pt x="601" y="409"/>
                  </a:lnTo>
                  <a:lnTo>
                    <a:pt x="601" y="413"/>
                  </a:lnTo>
                  <a:lnTo>
                    <a:pt x="601" y="415"/>
                  </a:lnTo>
                  <a:lnTo>
                    <a:pt x="601" y="415"/>
                  </a:lnTo>
                  <a:lnTo>
                    <a:pt x="445" y="384"/>
                  </a:lnTo>
                  <a:lnTo>
                    <a:pt x="278" y="356"/>
                  </a:lnTo>
                  <a:lnTo>
                    <a:pt x="109" y="329"/>
                  </a:lnTo>
                  <a:lnTo>
                    <a:pt x="98" y="329"/>
                  </a:lnTo>
                  <a:lnTo>
                    <a:pt x="88" y="325"/>
                  </a:lnTo>
                  <a:lnTo>
                    <a:pt x="78" y="321"/>
                  </a:lnTo>
                  <a:lnTo>
                    <a:pt x="69" y="315"/>
                  </a:lnTo>
                  <a:lnTo>
                    <a:pt x="61" y="309"/>
                  </a:lnTo>
                  <a:lnTo>
                    <a:pt x="54" y="302"/>
                  </a:lnTo>
                  <a:lnTo>
                    <a:pt x="46" y="294"/>
                  </a:lnTo>
                  <a:lnTo>
                    <a:pt x="40" y="286"/>
                  </a:lnTo>
                  <a:lnTo>
                    <a:pt x="34" y="277"/>
                  </a:lnTo>
                  <a:lnTo>
                    <a:pt x="29" y="267"/>
                  </a:lnTo>
                  <a:lnTo>
                    <a:pt x="23" y="258"/>
                  </a:lnTo>
                  <a:lnTo>
                    <a:pt x="17" y="248"/>
                  </a:lnTo>
                  <a:lnTo>
                    <a:pt x="13" y="240"/>
                  </a:lnTo>
                  <a:lnTo>
                    <a:pt x="9" y="231"/>
                  </a:lnTo>
                  <a:lnTo>
                    <a:pt x="4" y="221"/>
                  </a:lnTo>
                  <a:lnTo>
                    <a:pt x="4" y="221"/>
                  </a:lnTo>
                  <a:lnTo>
                    <a:pt x="0" y="171"/>
                  </a:lnTo>
                  <a:lnTo>
                    <a:pt x="0" y="119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44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8058240" y="3307320"/>
              <a:ext cx="32760" cy="495360"/>
            </a:xfrm>
            <a:custGeom>
              <a:avLst/>
              <a:gdLst/>
              <a:ahLst/>
              <a:rect l="l" t="t" r="r" b="b"/>
              <a:pathLst>
                <a:path w="23" h="345">
                  <a:moveTo>
                    <a:pt x="23" y="5"/>
                  </a:moveTo>
                  <a:lnTo>
                    <a:pt x="23" y="7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4" y="11"/>
                  </a:lnTo>
                  <a:lnTo>
                    <a:pt x="18" y="19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2" y="288"/>
                  </a:lnTo>
                  <a:lnTo>
                    <a:pt x="12" y="345"/>
                  </a:lnTo>
                  <a:lnTo>
                    <a:pt x="10" y="324"/>
                  </a:lnTo>
                  <a:lnTo>
                    <a:pt x="8" y="303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28"/>
                  </a:lnTo>
                  <a:lnTo>
                    <a:pt x="4" y="174"/>
                  </a:lnTo>
                  <a:lnTo>
                    <a:pt x="4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4" y="86"/>
                  </a:lnTo>
                  <a:lnTo>
                    <a:pt x="6" y="5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10" y="9"/>
                  </a:lnTo>
                  <a:lnTo>
                    <a:pt x="14" y="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8045280" y="330840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112800" y="3151800"/>
              <a:ext cx="1080" cy="864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8045280" y="332892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112800" y="3173760"/>
              <a:ext cx="1080" cy="828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260040" y="318492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6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282720" y="3199320"/>
              <a:ext cx="12960" cy="12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5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0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042400" y="335016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4"/>
                  </a:move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105400" y="3356280"/>
              <a:ext cx="21240" cy="356040"/>
            </a:xfrm>
            <a:custGeom>
              <a:avLst/>
              <a:gdLst/>
              <a:ahLst/>
              <a:rect l="l" t="t" r="r" b="b"/>
              <a:pathLst>
                <a:path w="15" h="248">
                  <a:moveTo>
                    <a:pt x="12" y="42"/>
                  </a:moveTo>
                  <a:lnTo>
                    <a:pt x="13" y="83"/>
                  </a:lnTo>
                  <a:lnTo>
                    <a:pt x="13" y="125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2" y="171"/>
                  </a:lnTo>
                  <a:lnTo>
                    <a:pt x="8" y="198"/>
                  </a:lnTo>
                  <a:lnTo>
                    <a:pt x="6" y="223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2" y="46"/>
                  </a:lnTo>
                  <a:lnTo>
                    <a:pt x="2" y="0"/>
                  </a:lnTo>
                  <a:lnTo>
                    <a:pt x="4" y="15"/>
                  </a:lnTo>
                  <a:lnTo>
                    <a:pt x="6" y="29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304320" y="3218040"/>
              <a:ext cx="1152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4"/>
                  </a:moveTo>
                  <a:lnTo>
                    <a:pt x="8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109920" y="320652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317280" y="3229560"/>
              <a:ext cx="11160" cy="9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7"/>
                  </a:moveTo>
                  <a:lnTo>
                    <a:pt x="6" y="7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8048160" y="3373560"/>
              <a:ext cx="288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109920" y="3226680"/>
              <a:ext cx="2880" cy="82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334560" y="3242520"/>
              <a:ext cx="1116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8"/>
                  </a:move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8045280" y="3389040"/>
              <a:ext cx="5760" cy="140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348600" y="3262680"/>
              <a:ext cx="12960" cy="100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6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112800" y="3242520"/>
              <a:ext cx="1080" cy="115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" y="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364440" y="3275640"/>
              <a:ext cx="1116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6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109920" y="3262680"/>
              <a:ext cx="2880" cy="100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6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378840" y="3292920"/>
              <a:ext cx="9720" cy="11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6"/>
                  </a:moveTo>
                  <a:lnTo>
                    <a:pt x="7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109920" y="327852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391440" y="3311640"/>
              <a:ext cx="11520" cy="14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6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8042400" y="3446280"/>
              <a:ext cx="5760" cy="144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0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099640" y="3461040"/>
              <a:ext cx="1080" cy="828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406200" y="3331800"/>
              <a:ext cx="8280" cy="12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4" y="7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418800" y="3353040"/>
              <a:ext cx="8640" cy="140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4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109920" y="3337200"/>
              <a:ext cx="2880" cy="100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427440" y="3370320"/>
              <a:ext cx="8280" cy="12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4" y="9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5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761960" y="3488040"/>
              <a:ext cx="11160" cy="86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2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747920" y="3496680"/>
              <a:ext cx="828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2"/>
                  </a:move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436080" y="3391920"/>
              <a:ext cx="8640" cy="140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4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734960" y="3505320"/>
              <a:ext cx="11160" cy="10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0"/>
                  </a:moveTo>
                  <a:lnTo>
                    <a:pt x="8" y="4"/>
                  </a:lnTo>
                  <a:lnTo>
                    <a:pt x="6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109920" y="337608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158520" y="3391920"/>
              <a:ext cx="455760" cy="218160"/>
            </a:xfrm>
            <a:custGeom>
              <a:avLst/>
              <a:gdLst/>
              <a:ahLst/>
              <a:rect l="l" t="t" r="r" b="b"/>
              <a:pathLst>
                <a:path w="319" h="152">
                  <a:moveTo>
                    <a:pt x="161" y="92"/>
                  </a:moveTo>
                  <a:lnTo>
                    <a:pt x="207" y="104"/>
                  </a:lnTo>
                  <a:lnTo>
                    <a:pt x="254" y="113"/>
                  </a:lnTo>
                  <a:lnTo>
                    <a:pt x="300" y="123"/>
                  </a:lnTo>
                  <a:lnTo>
                    <a:pt x="300" y="123"/>
                  </a:lnTo>
                  <a:lnTo>
                    <a:pt x="307" y="123"/>
                  </a:lnTo>
                  <a:lnTo>
                    <a:pt x="313" y="123"/>
                  </a:lnTo>
                  <a:lnTo>
                    <a:pt x="319" y="127"/>
                  </a:lnTo>
                  <a:lnTo>
                    <a:pt x="319" y="127"/>
                  </a:lnTo>
                  <a:lnTo>
                    <a:pt x="319" y="134"/>
                  </a:lnTo>
                  <a:lnTo>
                    <a:pt x="317" y="144"/>
                  </a:lnTo>
                  <a:lnTo>
                    <a:pt x="313" y="150"/>
                  </a:lnTo>
                  <a:lnTo>
                    <a:pt x="313" y="150"/>
                  </a:lnTo>
                  <a:lnTo>
                    <a:pt x="301" y="152"/>
                  </a:lnTo>
                  <a:lnTo>
                    <a:pt x="290" y="148"/>
                  </a:lnTo>
                  <a:lnTo>
                    <a:pt x="278" y="146"/>
                  </a:lnTo>
                  <a:lnTo>
                    <a:pt x="278" y="146"/>
                  </a:lnTo>
                  <a:lnTo>
                    <a:pt x="219" y="140"/>
                  </a:lnTo>
                  <a:lnTo>
                    <a:pt x="159" y="136"/>
                  </a:lnTo>
                  <a:lnTo>
                    <a:pt x="100" y="131"/>
                  </a:lnTo>
                  <a:lnTo>
                    <a:pt x="100" y="131"/>
                  </a:lnTo>
                  <a:lnTo>
                    <a:pt x="83" y="125"/>
                  </a:lnTo>
                  <a:lnTo>
                    <a:pt x="65" y="117"/>
                  </a:lnTo>
                  <a:lnTo>
                    <a:pt x="50" y="108"/>
                  </a:lnTo>
                  <a:lnTo>
                    <a:pt x="33" y="100"/>
                  </a:lnTo>
                  <a:lnTo>
                    <a:pt x="33" y="100"/>
                  </a:lnTo>
                  <a:lnTo>
                    <a:pt x="23" y="92"/>
                  </a:lnTo>
                  <a:lnTo>
                    <a:pt x="16" y="85"/>
                  </a:lnTo>
                  <a:lnTo>
                    <a:pt x="8" y="75"/>
                  </a:lnTo>
                  <a:lnTo>
                    <a:pt x="2" y="65"/>
                  </a:lnTo>
                  <a:lnTo>
                    <a:pt x="2" y="65"/>
                  </a:lnTo>
                  <a:lnTo>
                    <a:pt x="0" y="44"/>
                  </a:lnTo>
                  <a:lnTo>
                    <a:pt x="0" y="21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9" y="23"/>
                  </a:lnTo>
                  <a:lnTo>
                    <a:pt x="48" y="31"/>
                  </a:lnTo>
                  <a:lnTo>
                    <a:pt x="56" y="38"/>
                  </a:lnTo>
                  <a:lnTo>
                    <a:pt x="65" y="44"/>
                  </a:lnTo>
                  <a:lnTo>
                    <a:pt x="75" y="50"/>
                  </a:lnTo>
                  <a:lnTo>
                    <a:pt x="83" y="56"/>
                  </a:lnTo>
                  <a:lnTo>
                    <a:pt x="92" y="60"/>
                  </a:lnTo>
                  <a:lnTo>
                    <a:pt x="102" y="65"/>
                  </a:lnTo>
                  <a:lnTo>
                    <a:pt x="113" y="69"/>
                  </a:lnTo>
                  <a:lnTo>
                    <a:pt x="123" y="73"/>
                  </a:lnTo>
                  <a:lnTo>
                    <a:pt x="133" y="79"/>
                  </a:lnTo>
                  <a:lnTo>
                    <a:pt x="142" y="83"/>
                  </a:lnTo>
                  <a:lnTo>
                    <a:pt x="152" y="86"/>
                  </a:lnTo>
                  <a:lnTo>
                    <a:pt x="16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720560" y="3521160"/>
              <a:ext cx="11160" cy="82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0"/>
                  </a:moveTo>
                  <a:lnTo>
                    <a:pt x="8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447240" y="3416400"/>
              <a:ext cx="5760" cy="11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710480" y="3532680"/>
              <a:ext cx="6840" cy="86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109920" y="3400560"/>
              <a:ext cx="3960" cy="129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0"/>
                  </a:lnTo>
                  <a:lnTo>
                    <a:pt x="3" y="2"/>
                  </a:lnTo>
                  <a:lnTo>
                    <a:pt x="2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454800" y="3439080"/>
              <a:ext cx="5400" cy="158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9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696080" y="3544200"/>
              <a:ext cx="11160" cy="10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0"/>
                  </a:moveTo>
                  <a:lnTo>
                    <a:pt x="6" y="4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112800" y="3427920"/>
              <a:ext cx="3960" cy="86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6"/>
                  </a:moveTo>
                  <a:lnTo>
                    <a:pt x="1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684920" y="3557160"/>
              <a:ext cx="828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2"/>
                  </a:moveTo>
                  <a:lnTo>
                    <a:pt x="4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8099640" y="3596040"/>
              <a:ext cx="2880" cy="864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457320" y="3461040"/>
              <a:ext cx="36000" cy="24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6" y="10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15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117120" y="3445200"/>
              <a:ext cx="2880" cy="6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3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671960" y="3574440"/>
              <a:ext cx="8640" cy="100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501960" y="348264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526080" y="348552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551640" y="3488040"/>
              <a:ext cx="12960" cy="86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9" y="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576120" y="349380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597360" y="349992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627600" y="350244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656400" y="350532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2"/>
                  </a:moveTo>
                  <a:lnTo>
                    <a:pt x="11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7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122520" y="3461040"/>
              <a:ext cx="288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4"/>
                  </a:moveTo>
                  <a:lnTo>
                    <a:pt x="2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660440" y="3589920"/>
              <a:ext cx="828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2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683400" y="3511080"/>
              <a:ext cx="15840" cy="68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3"/>
                  </a:moveTo>
                  <a:lnTo>
                    <a:pt x="7" y="5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707880" y="3515400"/>
              <a:ext cx="21240" cy="86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6"/>
                  </a:moveTo>
                  <a:lnTo>
                    <a:pt x="10" y="6"/>
                  </a:lnTo>
                  <a:lnTo>
                    <a:pt x="6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734880" y="352116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757920" y="352692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7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782040" y="352980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128640" y="3477960"/>
              <a:ext cx="5760" cy="100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803640" y="353556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649280" y="3604680"/>
              <a:ext cx="828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833520" y="354132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856560" y="3547080"/>
              <a:ext cx="12600" cy="3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2"/>
                  </a:moveTo>
                  <a:lnTo>
                    <a:pt x="7" y="3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878160" y="3549960"/>
              <a:ext cx="18360" cy="396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1"/>
                  </a:moveTo>
                  <a:lnTo>
                    <a:pt x="13" y="3"/>
                  </a:lnTo>
                  <a:lnTo>
                    <a:pt x="8" y="3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908040" y="355140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932160" y="3557160"/>
              <a:ext cx="19800" cy="576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2"/>
                  </a:moveTo>
                  <a:lnTo>
                    <a:pt x="14" y="4"/>
                  </a:lnTo>
                  <a:lnTo>
                    <a:pt x="10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963840" y="3560040"/>
              <a:ext cx="1584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096760" y="3653280"/>
              <a:ext cx="2880" cy="259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2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6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990840" y="356544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139800" y="3496680"/>
              <a:ext cx="2880" cy="54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012440" y="356868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642080" y="3620160"/>
              <a:ext cx="3960" cy="169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3" y="0"/>
                  </a:moveTo>
                  <a:lnTo>
                    <a:pt x="3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109920" y="3496680"/>
              <a:ext cx="1803240" cy="1210680"/>
            </a:xfrm>
            <a:custGeom>
              <a:avLst/>
              <a:gdLst/>
              <a:ahLst/>
              <a:rect l="l" t="t" r="r" b="b"/>
              <a:pathLst>
                <a:path w="1261" h="843">
                  <a:moveTo>
                    <a:pt x="7" y="25"/>
                  </a:moveTo>
                  <a:lnTo>
                    <a:pt x="7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11" y="29"/>
                  </a:lnTo>
                  <a:lnTo>
                    <a:pt x="17" y="44"/>
                  </a:lnTo>
                  <a:lnTo>
                    <a:pt x="23" y="58"/>
                  </a:lnTo>
                  <a:lnTo>
                    <a:pt x="32" y="71"/>
                  </a:lnTo>
                  <a:lnTo>
                    <a:pt x="42" y="83"/>
                  </a:lnTo>
                  <a:lnTo>
                    <a:pt x="53" y="94"/>
                  </a:lnTo>
                  <a:lnTo>
                    <a:pt x="65" y="104"/>
                  </a:lnTo>
                  <a:lnTo>
                    <a:pt x="65" y="104"/>
                  </a:lnTo>
                  <a:lnTo>
                    <a:pt x="101" y="113"/>
                  </a:lnTo>
                  <a:lnTo>
                    <a:pt x="138" y="121"/>
                  </a:lnTo>
                  <a:lnTo>
                    <a:pt x="176" y="127"/>
                  </a:lnTo>
                  <a:lnTo>
                    <a:pt x="176" y="127"/>
                  </a:lnTo>
                  <a:lnTo>
                    <a:pt x="178" y="127"/>
                  </a:lnTo>
                  <a:lnTo>
                    <a:pt x="145" y="127"/>
                  </a:lnTo>
                  <a:lnTo>
                    <a:pt x="113" y="127"/>
                  </a:lnTo>
                  <a:lnTo>
                    <a:pt x="80" y="129"/>
                  </a:lnTo>
                  <a:lnTo>
                    <a:pt x="80" y="129"/>
                  </a:lnTo>
                  <a:lnTo>
                    <a:pt x="78" y="133"/>
                  </a:lnTo>
                  <a:lnTo>
                    <a:pt x="78" y="136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3" y="140"/>
                  </a:lnTo>
                  <a:lnTo>
                    <a:pt x="67" y="140"/>
                  </a:lnTo>
                  <a:lnTo>
                    <a:pt x="63" y="144"/>
                  </a:lnTo>
                  <a:lnTo>
                    <a:pt x="63" y="144"/>
                  </a:lnTo>
                  <a:lnTo>
                    <a:pt x="65" y="154"/>
                  </a:lnTo>
                  <a:lnTo>
                    <a:pt x="65" y="163"/>
                  </a:lnTo>
                  <a:lnTo>
                    <a:pt x="73" y="169"/>
                  </a:lnTo>
                  <a:lnTo>
                    <a:pt x="73" y="169"/>
                  </a:lnTo>
                  <a:lnTo>
                    <a:pt x="115" y="175"/>
                  </a:lnTo>
                  <a:lnTo>
                    <a:pt x="157" y="182"/>
                  </a:lnTo>
                  <a:lnTo>
                    <a:pt x="199" y="188"/>
                  </a:lnTo>
                  <a:lnTo>
                    <a:pt x="241" y="196"/>
                  </a:lnTo>
                  <a:lnTo>
                    <a:pt x="284" y="204"/>
                  </a:lnTo>
                  <a:lnTo>
                    <a:pt x="326" y="209"/>
                  </a:lnTo>
                  <a:lnTo>
                    <a:pt x="368" y="217"/>
                  </a:lnTo>
                  <a:lnTo>
                    <a:pt x="410" y="223"/>
                  </a:lnTo>
                  <a:lnTo>
                    <a:pt x="453" y="230"/>
                  </a:lnTo>
                  <a:lnTo>
                    <a:pt x="495" y="238"/>
                  </a:lnTo>
                  <a:lnTo>
                    <a:pt x="495" y="238"/>
                  </a:lnTo>
                  <a:lnTo>
                    <a:pt x="522" y="242"/>
                  </a:lnTo>
                  <a:lnTo>
                    <a:pt x="549" y="246"/>
                  </a:lnTo>
                  <a:lnTo>
                    <a:pt x="575" y="250"/>
                  </a:lnTo>
                  <a:lnTo>
                    <a:pt x="575" y="250"/>
                  </a:lnTo>
                  <a:lnTo>
                    <a:pt x="579" y="255"/>
                  </a:lnTo>
                  <a:lnTo>
                    <a:pt x="579" y="277"/>
                  </a:lnTo>
                  <a:lnTo>
                    <a:pt x="579" y="298"/>
                  </a:lnTo>
                  <a:lnTo>
                    <a:pt x="579" y="319"/>
                  </a:lnTo>
                  <a:lnTo>
                    <a:pt x="579" y="319"/>
                  </a:lnTo>
                  <a:lnTo>
                    <a:pt x="597" y="323"/>
                  </a:lnTo>
                  <a:lnTo>
                    <a:pt x="614" y="327"/>
                  </a:lnTo>
                  <a:lnTo>
                    <a:pt x="633" y="328"/>
                  </a:lnTo>
                  <a:lnTo>
                    <a:pt x="633" y="328"/>
                  </a:lnTo>
                  <a:lnTo>
                    <a:pt x="733" y="348"/>
                  </a:lnTo>
                  <a:lnTo>
                    <a:pt x="735" y="346"/>
                  </a:lnTo>
                  <a:lnTo>
                    <a:pt x="735" y="344"/>
                  </a:lnTo>
                  <a:lnTo>
                    <a:pt x="735" y="342"/>
                  </a:lnTo>
                  <a:lnTo>
                    <a:pt x="735" y="342"/>
                  </a:lnTo>
                  <a:lnTo>
                    <a:pt x="737" y="284"/>
                  </a:lnTo>
                  <a:lnTo>
                    <a:pt x="739" y="284"/>
                  </a:lnTo>
                  <a:lnTo>
                    <a:pt x="769" y="288"/>
                  </a:lnTo>
                  <a:lnTo>
                    <a:pt x="798" y="298"/>
                  </a:lnTo>
                  <a:lnTo>
                    <a:pt x="829" y="307"/>
                  </a:lnTo>
                  <a:lnTo>
                    <a:pt x="858" y="317"/>
                  </a:lnTo>
                  <a:lnTo>
                    <a:pt x="858" y="317"/>
                  </a:lnTo>
                  <a:lnTo>
                    <a:pt x="875" y="325"/>
                  </a:lnTo>
                  <a:lnTo>
                    <a:pt x="892" y="330"/>
                  </a:lnTo>
                  <a:lnTo>
                    <a:pt x="911" y="336"/>
                  </a:lnTo>
                  <a:lnTo>
                    <a:pt x="911" y="336"/>
                  </a:lnTo>
                  <a:lnTo>
                    <a:pt x="913" y="340"/>
                  </a:lnTo>
                  <a:lnTo>
                    <a:pt x="919" y="336"/>
                  </a:lnTo>
                  <a:lnTo>
                    <a:pt x="925" y="330"/>
                  </a:lnTo>
                  <a:lnTo>
                    <a:pt x="929" y="323"/>
                  </a:lnTo>
                  <a:lnTo>
                    <a:pt x="929" y="323"/>
                  </a:lnTo>
                  <a:lnTo>
                    <a:pt x="927" y="319"/>
                  </a:lnTo>
                  <a:lnTo>
                    <a:pt x="927" y="315"/>
                  </a:lnTo>
                  <a:lnTo>
                    <a:pt x="927" y="313"/>
                  </a:lnTo>
                  <a:lnTo>
                    <a:pt x="927" y="313"/>
                  </a:lnTo>
                  <a:lnTo>
                    <a:pt x="925" y="313"/>
                  </a:lnTo>
                  <a:lnTo>
                    <a:pt x="913" y="303"/>
                  </a:lnTo>
                  <a:lnTo>
                    <a:pt x="896" y="296"/>
                  </a:lnTo>
                  <a:lnTo>
                    <a:pt x="879" y="288"/>
                  </a:lnTo>
                  <a:lnTo>
                    <a:pt x="861" y="280"/>
                  </a:lnTo>
                  <a:lnTo>
                    <a:pt x="844" y="275"/>
                  </a:lnTo>
                  <a:lnTo>
                    <a:pt x="827" y="267"/>
                  </a:lnTo>
                  <a:lnTo>
                    <a:pt x="810" y="261"/>
                  </a:lnTo>
                  <a:lnTo>
                    <a:pt x="792" y="255"/>
                  </a:lnTo>
                  <a:lnTo>
                    <a:pt x="775" y="250"/>
                  </a:lnTo>
                  <a:lnTo>
                    <a:pt x="756" y="244"/>
                  </a:lnTo>
                  <a:lnTo>
                    <a:pt x="739" y="238"/>
                  </a:lnTo>
                  <a:lnTo>
                    <a:pt x="739" y="238"/>
                  </a:lnTo>
                  <a:lnTo>
                    <a:pt x="764" y="244"/>
                  </a:lnTo>
                  <a:lnTo>
                    <a:pt x="788" y="250"/>
                  </a:lnTo>
                  <a:lnTo>
                    <a:pt x="812" y="257"/>
                  </a:lnTo>
                  <a:lnTo>
                    <a:pt x="835" y="265"/>
                  </a:lnTo>
                  <a:lnTo>
                    <a:pt x="859" y="273"/>
                  </a:lnTo>
                  <a:lnTo>
                    <a:pt x="883" y="282"/>
                  </a:lnTo>
                  <a:lnTo>
                    <a:pt x="904" y="292"/>
                  </a:lnTo>
                  <a:lnTo>
                    <a:pt x="927" y="303"/>
                  </a:lnTo>
                  <a:lnTo>
                    <a:pt x="948" y="317"/>
                  </a:lnTo>
                  <a:lnTo>
                    <a:pt x="969" y="330"/>
                  </a:lnTo>
                  <a:lnTo>
                    <a:pt x="988" y="346"/>
                  </a:lnTo>
                  <a:lnTo>
                    <a:pt x="988" y="346"/>
                  </a:lnTo>
                  <a:lnTo>
                    <a:pt x="996" y="353"/>
                  </a:lnTo>
                  <a:lnTo>
                    <a:pt x="1003" y="361"/>
                  </a:lnTo>
                  <a:lnTo>
                    <a:pt x="1011" y="369"/>
                  </a:lnTo>
                  <a:lnTo>
                    <a:pt x="1021" y="375"/>
                  </a:lnTo>
                  <a:lnTo>
                    <a:pt x="1028" y="382"/>
                  </a:lnTo>
                  <a:lnTo>
                    <a:pt x="1036" y="388"/>
                  </a:lnTo>
                  <a:lnTo>
                    <a:pt x="1044" y="396"/>
                  </a:lnTo>
                  <a:lnTo>
                    <a:pt x="1053" y="401"/>
                  </a:lnTo>
                  <a:lnTo>
                    <a:pt x="1061" y="409"/>
                  </a:lnTo>
                  <a:lnTo>
                    <a:pt x="1069" y="415"/>
                  </a:lnTo>
                  <a:lnTo>
                    <a:pt x="1078" y="423"/>
                  </a:lnTo>
                  <a:lnTo>
                    <a:pt x="1086" y="430"/>
                  </a:lnTo>
                  <a:lnTo>
                    <a:pt x="1094" y="438"/>
                  </a:lnTo>
                  <a:lnTo>
                    <a:pt x="1099" y="446"/>
                  </a:lnTo>
                  <a:lnTo>
                    <a:pt x="1099" y="446"/>
                  </a:lnTo>
                  <a:lnTo>
                    <a:pt x="1107" y="453"/>
                  </a:lnTo>
                  <a:lnTo>
                    <a:pt x="1113" y="461"/>
                  </a:lnTo>
                  <a:lnTo>
                    <a:pt x="1119" y="469"/>
                  </a:lnTo>
                  <a:lnTo>
                    <a:pt x="1124" y="474"/>
                  </a:lnTo>
                  <a:lnTo>
                    <a:pt x="1130" y="482"/>
                  </a:lnTo>
                  <a:lnTo>
                    <a:pt x="1136" y="490"/>
                  </a:lnTo>
                  <a:lnTo>
                    <a:pt x="1144" y="497"/>
                  </a:lnTo>
                  <a:lnTo>
                    <a:pt x="1149" y="505"/>
                  </a:lnTo>
                  <a:lnTo>
                    <a:pt x="1155" y="513"/>
                  </a:lnTo>
                  <a:lnTo>
                    <a:pt x="1161" y="520"/>
                  </a:lnTo>
                  <a:lnTo>
                    <a:pt x="1167" y="528"/>
                  </a:lnTo>
                  <a:lnTo>
                    <a:pt x="1172" y="536"/>
                  </a:lnTo>
                  <a:lnTo>
                    <a:pt x="1178" y="544"/>
                  </a:lnTo>
                  <a:lnTo>
                    <a:pt x="1184" y="551"/>
                  </a:lnTo>
                  <a:lnTo>
                    <a:pt x="1190" y="559"/>
                  </a:lnTo>
                  <a:lnTo>
                    <a:pt x="1193" y="567"/>
                  </a:lnTo>
                  <a:lnTo>
                    <a:pt x="1199" y="574"/>
                  </a:lnTo>
                  <a:lnTo>
                    <a:pt x="1205" y="582"/>
                  </a:lnTo>
                  <a:lnTo>
                    <a:pt x="1209" y="590"/>
                  </a:lnTo>
                  <a:lnTo>
                    <a:pt x="1215" y="597"/>
                  </a:lnTo>
                  <a:lnTo>
                    <a:pt x="1218" y="607"/>
                  </a:lnTo>
                  <a:lnTo>
                    <a:pt x="1224" y="615"/>
                  </a:lnTo>
                  <a:lnTo>
                    <a:pt x="1228" y="622"/>
                  </a:lnTo>
                  <a:lnTo>
                    <a:pt x="1228" y="622"/>
                  </a:lnTo>
                  <a:lnTo>
                    <a:pt x="1232" y="628"/>
                  </a:lnTo>
                  <a:lnTo>
                    <a:pt x="1236" y="634"/>
                  </a:lnTo>
                  <a:lnTo>
                    <a:pt x="1240" y="641"/>
                  </a:lnTo>
                  <a:lnTo>
                    <a:pt x="1240" y="641"/>
                  </a:lnTo>
                  <a:lnTo>
                    <a:pt x="1232" y="634"/>
                  </a:lnTo>
                  <a:lnTo>
                    <a:pt x="1224" y="624"/>
                  </a:lnTo>
                  <a:lnTo>
                    <a:pt x="1217" y="616"/>
                  </a:lnTo>
                  <a:lnTo>
                    <a:pt x="1211" y="607"/>
                  </a:lnTo>
                  <a:lnTo>
                    <a:pt x="1203" y="597"/>
                  </a:lnTo>
                  <a:lnTo>
                    <a:pt x="1197" y="588"/>
                  </a:lnTo>
                  <a:lnTo>
                    <a:pt x="1190" y="580"/>
                  </a:lnTo>
                  <a:lnTo>
                    <a:pt x="1182" y="570"/>
                  </a:lnTo>
                  <a:lnTo>
                    <a:pt x="1176" y="563"/>
                  </a:lnTo>
                  <a:lnTo>
                    <a:pt x="1169" y="555"/>
                  </a:lnTo>
                  <a:lnTo>
                    <a:pt x="1161" y="547"/>
                  </a:lnTo>
                  <a:lnTo>
                    <a:pt x="1151" y="540"/>
                  </a:lnTo>
                  <a:lnTo>
                    <a:pt x="1144" y="534"/>
                  </a:lnTo>
                  <a:lnTo>
                    <a:pt x="1134" y="528"/>
                  </a:lnTo>
                  <a:lnTo>
                    <a:pt x="1124" y="524"/>
                  </a:lnTo>
                  <a:lnTo>
                    <a:pt x="1115" y="520"/>
                  </a:lnTo>
                  <a:lnTo>
                    <a:pt x="1103" y="519"/>
                  </a:lnTo>
                  <a:lnTo>
                    <a:pt x="1103" y="519"/>
                  </a:lnTo>
                  <a:lnTo>
                    <a:pt x="1096" y="520"/>
                  </a:lnTo>
                  <a:lnTo>
                    <a:pt x="1090" y="524"/>
                  </a:lnTo>
                  <a:lnTo>
                    <a:pt x="1086" y="530"/>
                  </a:lnTo>
                  <a:lnTo>
                    <a:pt x="1086" y="530"/>
                  </a:lnTo>
                  <a:lnTo>
                    <a:pt x="1086" y="534"/>
                  </a:lnTo>
                  <a:lnTo>
                    <a:pt x="1094" y="544"/>
                  </a:lnTo>
                  <a:lnTo>
                    <a:pt x="1101" y="551"/>
                  </a:lnTo>
                  <a:lnTo>
                    <a:pt x="1109" y="561"/>
                  </a:lnTo>
                  <a:lnTo>
                    <a:pt x="1117" y="570"/>
                  </a:lnTo>
                  <a:lnTo>
                    <a:pt x="1124" y="580"/>
                  </a:lnTo>
                  <a:lnTo>
                    <a:pt x="1130" y="590"/>
                  </a:lnTo>
                  <a:lnTo>
                    <a:pt x="1138" y="599"/>
                  </a:lnTo>
                  <a:lnTo>
                    <a:pt x="1144" y="609"/>
                  </a:lnTo>
                  <a:lnTo>
                    <a:pt x="1149" y="618"/>
                  </a:lnTo>
                  <a:lnTo>
                    <a:pt x="1155" y="628"/>
                  </a:lnTo>
                  <a:lnTo>
                    <a:pt x="1161" y="640"/>
                  </a:lnTo>
                  <a:lnTo>
                    <a:pt x="1165" y="649"/>
                  </a:lnTo>
                  <a:lnTo>
                    <a:pt x="1170" y="659"/>
                  </a:lnTo>
                  <a:lnTo>
                    <a:pt x="1176" y="670"/>
                  </a:lnTo>
                  <a:lnTo>
                    <a:pt x="1180" y="680"/>
                  </a:lnTo>
                  <a:lnTo>
                    <a:pt x="1184" y="689"/>
                  </a:lnTo>
                  <a:lnTo>
                    <a:pt x="1190" y="701"/>
                  </a:lnTo>
                  <a:lnTo>
                    <a:pt x="1193" y="711"/>
                  </a:lnTo>
                  <a:lnTo>
                    <a:pt x="1197" y="722"/>
                  </a:lnTo>
                  <a:lnTo>
                    <a:pt x="1203" y="732"/>
                  </a:lnTo>
                  <a:lnTo>
                    <a:pt x="1207" y="741"/>
                  </a:lnTo>
                  <a:lnTo>
                    <a:pt x="1211" y="753"/>
                  </a:lnTo>
                  <a:lnTo>
                    <a:pt x="1211" y="753"/>
                  </a:lnTo>
                  <a:lnTo>
                    <a:pt x="1217" y="774"/>
                  </a:lnTo>
                  <a:lnTo>
                    <a:pt x="1222" y="795"/>
                  </a:lnTo>
                  <a:lnTo>
                    <a:pt x="1226" y="816"/>
                  </a:lnTo>
                  <a:lnTo>
                    <a:pt x="1226" y="816"/>
                  </a:lnTo>
                  <a:lnTo>
                    <a:pt x="1222" y="816"/>
                  </a:lnTo>
                  <a:lnTo>
                    <a:pt x="1217" y="816"/>
                  </a:lnTo>
                  <a:lnTo>
                    <a:pt x="1215" y="818"/>
                  </a:lnTo>
                  <a:lnTo>
                    <a:pt x="1215" y="818"/>
                  </a:lnTo>
                  <a:lnTo>
                    <a:pt x="1218" y="820"/>
                  </a:lnTo>
                  <a:lnTo>
                    <a:pt x="1224" y="820"/>
                  </a:lnTo>
                  <a:lnTo>
                    <a:pt x="1228" y="822"/>
                  </a:lnTo>
                  <a:lnTo>
                    <a:pt x="1228" y="822"/>
                  </a:lnTo>
                  <a:lnTo>
                    <a:pt x="1234" y="830"/>
                  </a:lnTo>
                  <a:lnTo>
                    <a:pt x="1241" y="837"/>
                  </a:lnTo>
                  <a:lnTo>
                    <a:pt x="1251" y="839"/>
                  </a:lnTo>
                  <a:lnTo>
                    <a:pt x="1251" y="839"/>
                  </a:lnTo>
                  <a:lnTo>
                    <a:pt x="1261" y="839"/>
                  </a:lnTo>
                  <a:lnTo>
                    <a:pt x="1261" y="843"/>
                  </a:lnTo>
                  <a:lnTo>
                    <a:pt x="1132" y="818"/>
                  </a:lnTo>
                  <a:lnTo>
                    <a:pt x="984" y="789"/>
                  </a:lnTo>
                  <a:lnTo>
                    <a:pt x="393" y="674"/>
                  </a:lnTo>
                  <a:lnTo>
                    <a:pt x="84" y="615"/>
                  </a:lnTo>
                  <a:lnTo>
                    <a:pt x="82" y="605"/>
                  </a:lnTo>
                  <a:lnTo>
                    <a:pt x="80" y="595"/>
                  </a:lnTo>
                  <a:lnTo>
                    <a:pt x="76" y="588"/>
                  </a:lnTo>
                  <a:lnTo>
                    <a:pt x="76" y="588"/>
                  </a:lnTo>
                  <a:lnTo>
                    <a:pt x="59" y="582"/>
                  </a:lnTo>
                  <a:lnTo>
                    <a:pt x="42" y="578"/>
                  </a:lnTo>
                  <a:lnTo>
                    <a:pt x="25" y="574"/>
                  </a:lnTo>
                  <a:lnTo>
                    <a:pt x="25" y="574"/>
                  </a:lnTo>
                  <a:lnTo>
                    <a:pt x="25" y="551"/>
                  </a:lnTo>
                  <a:lnTo>
                    <a:pt x="25" y="526"/>
                  </a:lnTo>
                  <a:lnTo>
                    <a:pt x="13" y="507"/>
                  </a:lnTo>
                  <a:lnTo>
                    <a:pt x="13" y="507"/>
                  </a:lnTo>
                  <a:lnTo>
                    <a:pt x="13" y="505"/>
                  </a:lnTo>
                  <a:lnTo>
                    <a:pt x="13" y="503"/>
                  </a:lnTo>
                  <a:lnTo>
                    <a:pt x="11" y="501"/>
                  </a:lnTo>
                  <a:lnTo>
                    <a:pt x="11" y="501"/>
                  </a:lnTo>
                  <a:lnTo>
                    <a:pt x="9" y="505"/>
                  </a:lnTo>
                  <a:lnTo>
                    <a:pt x="3" y="505"/>
                  </a:lnTo>
                  <a:lnTo>
                    <a:pt x="0" y="503"/>
                  </a:lnTo>
                  <a:lnTo>
                    <a:pt x="0" y="50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3" y="8"/>
                  </a:lnTo>
                  <a:lnTo>
                    <a:pt x="7" y="1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036560" y="3574440"/>
              <a:ext cx="19800" cy="82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4"/>
                  </a:moveTo>
                  <a:lnTo>
                    <a:pt x="10" y="6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065360" y="3580200"/>
              <a:ext cx="18720" cy="396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3"/>
                  </a:moveTo>
                  <a:lnTo>
                    <a:pt x="13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092360" y="3582720"/>
              <a:ext cx="15840" cy="68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3"/>
                  </a:moveTo>
                  <a:lnTo>
                    <a:pt x="7" y="5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116840" y="358740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135560" y="3589920"/>
              <a:ext cx="1656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147000" y="3511080"/>
              <a:ext cx="8640" cy="129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3"/>
                  </a:lnTo>
                  <a:lnTo>
                    <a:pt x="4" y="5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161120" y="359604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182720" y="3598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203960" y="360180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224120" y="3604680"/>
              <a:ext cx="1548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30200" y="3640680"/>
              <a:ext cx="5760" cy="12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248600" y="3610080"/>
              <a:ext cx="16920" cy="86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4"/>
                  </a:moveTo>
                  <a:lnTo>
                    <a:pt x="12" y="6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275960" y="3616200"/>
              <a:ext cx="14040" cy="39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2"/>
                  </a:moveTo>
                  <a:lnTo>
                    <a:pt x="1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301520" y="3620160"/>
              <a:ext cx="1296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4"/>
                  </a:ln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325640" y="36234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344360" y="362916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2"/>
                  </a:move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161400" y="3532680"/>
              <a:ext cx="11160" cy="11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367400" y="3631680"/>
              <a:ext cx="1548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2"/>
                  </a:moveTo>
                  <a:lnTo>
                    <a:pt x="9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391520" y="363744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lnTo>
                    <a:pt x="1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410240" y="36406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19040" y="3659040"/>
              <a:ext cx="8280" cy="169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4" y="10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433280" y="364356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479000" y="365184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120000" y="3544200"/>
              <a:ext cx="5400" cy="158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7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8088120" y="3706560"/>
              <a:ext cx="14400" cy="730800"/>
            </a:xfrm>
            <a:custGeom>
              <a:avLst/>
              <a:gdLst/>
              <a:ahLst/>
              <a:rect l="l" t="t" r="r" b="b"/>
              <a:pathLst>
                <a:path w="10" h="509">
                  <a:moveTo>
                    <a:pt x="6" y="58"/>
                  </a:moveTo>
                  <a:lnTo>
                    <a:pt x="6" y="192"/>
                  </a:lnTo>
                  <a:lnTo>
                    <a:pt x="4" y="376"/>
                  </a:lnTo>
                  <a:lnTo>
                    <a:pt x="6" y="378"/>
                  </a:lnTo>
                  <a:lnTo>
                    <a:pt x="10" y="344"/>
                  </a:lnTo>
                  <a:lnTo>
                    <a:pt x="10" y="399"/>
                  </a:lnTo>
                  <a:lnTo>
                    <a:pt x="6" y="453"/>
                  </a:lnTo>
                  <a:lnTo>
                    <a:pt x="6" y="507"/>
                  </a:lnTo>
                  <a:lnTo>
                    <a:pt x="6" y="507"/>
                  </a:lnTo>
                  <a:lnTo>
                    <a:pt x="4" y="507"/>
                  </a:lnTo>
                  <a:lnTo>
                    <a:pt x="4" y="509"/>
                  </a:lnTo>
                  <a:lnTo>
                    <a:pt x="2" y="509"/>
                  </a:lnTo>
                  <a:lnTo>
                    <a:pt x="2" y="509"/>
                  </a:lnTo>
                  <a:lnTo>
                    <a:pt x="0" y="505"/>
                  </a:lnTo>
                  <a:lnTo>
                    <a:pt x="0" y="442"/>
                  </a:lnTo>
                  <a:lnTo>
                    <a:pt x="4" y="380"/>
                  </a:lnTo>
                  <a:lnTo>
                    <a:pt x="4" y="317"/>
                  </a:lnTo>
                  <a:lnTo>
                    <a:pt x="4" y="317"/>
                  </a:lnTo>
                  <a:lnTo>
                    <a:pt x="4" y="267"/>
                  </a:lnTo>
                  <a:lnTo>
                    <a:pt x="6" y="215"/>
                  </a:lnTo>
                  <a:lnTo>
                    <a:pt x="6" y="165"/>
                  </a:lnTo>
                  <a:lnTo>
                    <a:pt x="6" y="165"/>
                  </a:lnTo>
                  <a:lnTo>
                    <a:pt x="4" y="163"/>
                  </a:lnTo>
                  <a:lnTo>
                    <a:pt x="6" y="146"/>
                  </a:lnTo>
                  <a:lnTo>
                    <a:pt x="6" y="129"/>
                  </a:lnTo>
                  <a:lnTo>
                    <a:pt x="4" y="113"/>
                  </a:lnTo>
                  <a:lnTo>
                    <a:pt x="4" y="113"/>
                  </a:lnTo>
                  <a:lnTo>
                    <a:pt x="4" y="75"/>
                  </a:lnTo>
                  <a:lnTo>
                    <a:pt x="6" y="36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19"/>
                  </a:lnTo>
                  <a:lnTo>
                    <a:pt x="8" y="36"/>
                  </a:lnTo>
                  <a:lnTo>
                    <a:pt x="6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178320" y="3549960"/>
              <a:ext cx="4320" cy="100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543080" y="366192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558920" y="366480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188400" y="3565440"/>
              <a:ext cx="864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4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122520" y="356292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205680" y="3580200"/>
              <a:ext cx="12960" cy="972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5"/>
                  </a:moveTo>
                  <a:lnTo>
                    <a:pt x="6" y="7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3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985440" y="3651840"/>
              <a:ext cx="104040" cy="2412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73" y="17"/>
                  </a:moveTo>
                  <a:lnTo>
                    <a:pt x="15" y="7"/>
                  </a:lnTo>
                  <a:lnTo>
                    <a:pt x="11" y="3"/>
                  </a:lnTo>
                  <a:lnTo>
                    <a:pt x="6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9" y="0"/>
                  </a:lnTo>
                  <a:lnTo>
                    <a:pt x="34" y="5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7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230160" y="35928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122520" y="358740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2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254280" y="35989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976800" y="3659040"/>
              <a:ext cx="5760" cy="86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4"/>
                  </a:moveTo>
                  <a:lnTo>
                    <a:pt x="2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277320" y="3601800"/>
              <a:ext cx="9720" cy="82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2"/>
                  </a:moveTo>
                  <a:lnTo>
                    <a:pt x="5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295680" y="360720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320160" y="361008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340320" y="361620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092360" y="3676320"/>
              <a:ext cx="21240" cy="82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2" y="0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361560" y="3619080"/>
              <a:ext cx="11160" cy="108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1"/>
                  </a:moveTo>
                  <a:lnTo>
                    <a:pt x="8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381720" y="362016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4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018200" y="3673440"/>
              <a:ext cx="27000" cy="576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0" y="0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414480" y="362628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5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430320" y="3629160"/>
              <a:ext cx="8280" cy="25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lnTo>
                    <a:pt x="6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444720" y="362916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457320" y="36316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477480" y="363456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976800" y="3676320"/>
              <a:ext cx="112680" cy="3276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9" y="11"/>
                  </a:moveTo>
                  <a:lnTo>
                    <a:pt x="73" y="17"/>
                  </a:lnTo>
                  <a:lnTo>
                    <a:pt x="67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2" y="21"/>
                  </a:lnTo>
                  <a:lnTo>
                    <a:pt x="44" y="19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499080" y="364068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518880" y="364356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531840" y="364356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979680" y="3682080"/>
              <a:ext cx="65520" cy="126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46" y="7"/>
                  </a:moveTo>
                  <a:lnTo>
                    <a:pt x="46" y="9"/>
                  </a:lnTo>
                  <a:lnTo>
                    <a:pt x="31" y="9"/>
                  </a:lnTo>
                  <a:lnTo>
                    <a:pt x="15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7" y="2"/>
                  </a:lnTo>
                  <a:lnTo>
                    <a:pt x="33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554880" y="364608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122520" y="3612960"/>
              <a:ext cx="2880" cy="158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573600" y="3651840"/>
              <a:ext cx="11160" cy="3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1"/>
                  </a:moveTo>
                  <a:lnTo>
                    <a:pt x="6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946560" y="3697920"/>
              <a:ext cx="570600" cy="287280"/>
            </a:xfrm>
            <a:custGeom>
              <a:avLst/>
              <a:gdLst/>
              <a:ahLst/>
              <a:rect l="l" t="t" r="r" b="b"/>
              <a:pathLst>
                <a:path w="399" h="200">
                  <a:moveTo>
                    <a:pt x="179" y="16"/>
                  </a:moveTo>
                  <a:lnTo>
                    <a:pt x="180" y="23"/>
                  </a:lnTo>
                  <a:lnTo>
                    <a:pt x="182" y="31"/>
                  </a:lnTo>
                  <a:lnTo>
                    <a:pt x="184" y="37"/>
                  </a:lnTo>
                  <a:lnTo>
                    <a:pt x="184" y="37"/>
                  </a:lnTo>
                  <a:lnTo>
                    <a:pt x="205" y="42"/>
                  </a:lnTo>
                  <a:lnTo>
                    <a:pt x="228" y="44"/>
                  </a:lnTo>
                  <a:lnTo>
                    <a:pt x="250" y="48"/>
                  </a:lnTo>
                  <a:lnTo>
                    <a:pt x="250" y="48"/>
                  </a:lnTo>
                  <a:lnTo>
                    <a:pt x="276" y="52"/>
                  </a:lnTo>
                  <a:lnTo>
                    <a:pt x="301" y="58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71"/>
                  </a:lnTo>
                  <a:lnTo>
                    <a:pt x="332" y="75"/>
                  </a:lnTo>
                  <a:lnTo>
                    <a:pt x="336" y="75"/>
                  </a:lnTo>
                  <a:lnTo>
                    <a:pt x="336" y="75"/>
                  </a:lnTo>
                  <a:lnTo>
                    <a:pt x="338" y="75"/>
                  </a:lnTo>
                  <a:lnTo>
                    <a:pt x="338" y="77"/>
                  </a:lnTo>
                  <a:lnTo>
                    <a:pt x="340" y="77"/>
                  </a:lnTo>
                  <a:lnTo>
                    <a:pt x="340" y="77"/>
                  </a:lnTo>
                  <a:lnTo>
                    <a:pt x="332" y="77"/>
                  </a:lnTo>
                  <a:lnTo>
                    <a:pt x="332" y="79"/>
                  </a:lnTo>
                  <a:lnTo>
                    <a:pt x="334" y="79"/>
                  </a:lnTo>
                  <a:lnTo>
                    <a:pt x="334" y="81"/>
                  </a:lnTo>
                  <a:lnTo>
                    <a:pt x="334" y="81"/>
                  </a:lnTo>
                  <a:lnTo>
                    <a:pt x="342" y="81"/>
                  </a:lnTo>
                  <a:lnTo>
                    <a:pt x="346" y="77"/>
                  </a:lnTo>
                  <a:lnTo>
                    <a:pt x="351" y="79"/>
                  </a:lnTo>
                  <a:lnTo>
                    <a:pt x="351" y="79"/>
                  </a:lnTo>
                  <a:lnTo>
                    <a:pt x="344" y="79"/>
                  </a:lnTo>
                  <a:lnTo>
                    <a:pt x="349" y="83"/>
                  </a:lnTo>
                  <a:lnTo>
                    <a:pt x="357" y="85"/>
                  </a:lnTo>
                  <a:lnTo>
                    <a:pt x="363" y="83"/>
                  </a:lnTo>
                  <a:lnTo>
                    <a:pt x="363" y="83"/>
                  </a:lnTo>
                  <a:lnTo>
                    <a:pt x="374" y="87"/>
                  </a:lnTo>
                  <a:lnTo>
                    <a:pt x="388" y="87"/>
                  </a:lnTo>
                  <a:lnTo>
                    <a:pt x="399" y="92"/>
                  </a:lnTo>
                  <a:lnTo>
                    <a:pt x="399" y="92"/>
                  </a:lnTo>
                  <a:lnTo>
                    <a:pt x="370" y="89"/>
                  </a:lnTo>
                  <a:lnTo>
                    <a:pt x="173" y="54"/>
                  </a:lnTo>
                  <a:lnTo>
                    <a:pt x="165" y="52"/>
                  </a:lnTo>
                  <a:lnTo>
                    <a:pt x="155" y="50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8" y="100"/>
                  </a:lnTo>
                  <a:lnTo>
                    <a:pt x="146" y="150"/>
                  </a:lnTo>
                  <a:lnTo>
                    <a:pt x="144" y="200"/>
                  </a:lnTo>
                  <a:lnTo>
                    <a:pt x="144" y="200"/>
                  </a:lnTo>
                  <a:lnTo>
                    <a:pt x="96" y="192"/>
                  </a:lnTo>
                  <a:lnTo>
                    <a:pt x="48" y="185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27"/>
                  </a:lnTo>
                  <a:lnTo>
                    <a:pt x="2" y="8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2" y="35"/>
                  </a:lnTo>
                  <a:lnTo>
                    <a:pt x="10" y="79"/>
                  </a:lnTo>
                  <a:lnTo>
                    <a:pt x="10" y="123"/>
                  </a:lnTo>
                  <a:lnTo>
                    <a:pt x="10" y="167"/>
                  </a:lnTo>
                  <a:lnTo>
                    <a:pt x="10" y="167"/>
                  </a:lnTo>
                  <a:lnTo>
                    <a:pt x="50" y="175"/>
                  </a:lnTo>
                  <a:lnTo>
                    <a:pt x="90" y="183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31" y="188"/>
                  </a:lnTo>
                  <a:lnTo>
                    <a:pt x="132" y="188"/>
                  </a:lnTo>
                  <a:lnTo>
                    <a:pt x="132" y="187"/>
                  </a:lnTo>
                  <a:lnTo>
                    <a:pt x="132" y="187"/>
                  </a:lnTo>
                  <a:lnTo>
                    <a:pt x="134" y="140"/>
                  </a:lnTo>
                  <a:lnTo>
                    <a:pt x="136" y="94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34" y="46"/>
                  </a:lnTo>
                  <a:lnTo>
                    <a:pt x="127" y="44"/>
                  </a:lnTo>
                  <a:lnTo>
                    <a:pt x="119" y="41"/>
                  </a:lnTo>
                  <a:lnTo>
                    <a:pt x="119" y="41"/>
                  </a:lnTo>
                  <a:lnTo>
                    <a:pt x="121" y="37"/>
                  </a:lnTo>
                  <a:lnTo>
                    <a:pt x="123" y="39"/>
                  </a:lnTo>
                  <a:lnTo>
                    <a:pt x="127" y="39"/>
                  </a:lnTo>
                  <a:lnTo>
                    <a:pt x="131" y="41"/>
                  </a:lnTo>
                  <a:lnTo>
                    <a:pt x="131" y="41"/>
                  </a:lnTo>
                  <a:lnTo>
                    <a:pt x="132" y="39"/>
                  </a:lnTo>
                  <a:lnTo>
                    <a:pt x="131" y="35"/>
                  </a:lnTo>
                  <a:lnTo>
                    <a:pt x="127" y="35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31" y="23"/>
                  </a:lnTo>
                  <a:lnTo>
                    <a:pt x="136" y="1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54" y="8"/>
                  </a:lnTo>
                  <a:lnTo>
                    <a:pt x="165" y="14"/>
                  </a:lnTo>
                  <a:lnTo>
                    <a:pt x="179" y="1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591960" y="3653280"/>
              <a:ext cx="828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609240" y="365616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624720" y="366192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644880" y="3661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666120" y="366804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692400" y="367056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707880" y="367344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29120" y="36763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749280" y="367920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62240" y="36849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lnTo>
                    <a:pt x="6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782040" y="3687840"/>
              <a:ext cx="1152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1"/>
                  </a:moveTo>
                  <a:lnTo>
                    <a:pt x="8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795000" y="36892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812280" y="369216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122520" y="363744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826680" y="369792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0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842520" y="37008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862320" y="3706560"/>
              <a:ext cx="684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875280" y="370908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889320" y="371232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905520" y="371520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8" y="2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922080" y="371808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935040" y="372096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lnTo>
                    <a:pt x="8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962120" y="3814200"/>
              <a:ext cx="11520" cy="11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6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122520" y="366480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141320" y="3753720"/>
              <a:ext cx="16920" cy="39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2"/>
                  </a:moveTo>
                  <a:lnTo>
                    <a:pt x="8" y="3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167240" y="375804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182720" y="3760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200000" y="376380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3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949520" y="3827160"/>
              <a:ext cx="9720" cy="86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lnTo>
                    <a:pt x="5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215480" y="3767040"/>
              <a:ext cx="864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230240" y="376992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248600" y="377244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268760" y="377820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284240" y="37810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304400" y="378108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lnTo>
                    <a:pt x="3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5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319880" y="3787200"/>
              <a:ext cx="1152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337160" y="3789720"/>
              <a:ext cx="9720" cy="43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2"/>
                  </a:moveTo>
                  <a:lnTo>
                    <a:pt x="5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355880" y="3792600"/>
              <a:ext cx="11160" cy="3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1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935120" y="384156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8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373160" y="3794400"/>
              <a:ext cx="1260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5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122520" y="369216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388640" y="379692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405920" y="379980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5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976800" y="3772440"/>
              <a:ext cx="142920" cy="143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2" y="25"/>
                  </a:moveTo>
                  <a:lnTo>
                    <a:pt x="100" y="40"/>
                  </a:lnTo>
                  <a:lnTo>
                    <a:pt x="100" y="58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87" y="85"/>
                  </a:lnTo>
                  <a:lnTo>
                    <a:pt x="77" y="92"/>
                  </a:lnTo>
                  <a:lnTo>
                    <a:pt x="65" y="98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39" y="98"/>
                  </a:lnTo>
                  <a:lnTo>
                    <a:pt x="23" y="92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4" y="67"/>
                  </a:lnTo>
                  <a:lnTo>
                    <a:pt x="0" y="52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8" y="23"/>
                  </a:lnTo>
                  <a:lnTo>
                    <a:pt x="15" y="14"/>
                  </a:lnTo>
                  <a:lnTo>
                    <a:pt x="27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62" y="0"/>
                  </a:lnTo>
                  <a:lnTo>
                    <a:pt x="79" y="10"/>
                  </a:lnTo>
                  <a:lnTo>
                    <a:pt x="9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460280" y="380844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998120" y="3861720"/>
              <a:ext cx="74160" cy="725400"/>
            </a:xfrm>
            <a:custGeom>
              <a:avLst/>
              <a:gdLst/>
              <a:ahLst/>
              <a:rect l="l" t="t" r="r" b="b"/>
              <a:pathLst>
                <a:path w="52" h="505">
                  <a:moveTo>
                    <a:pt x="42" y="372"/>
                  </a:moveTo>
                  <a:lnTo>
                    <a:pt x="39" y="505"/>
                  </a:lnTo>
                  <a:lnTo>
                    <a:pt x="37" y="505"/>
                  </a:lnTo>
                  <a:lnTo>
                    <a:pt x="35" y="505"/>
                  </a:lnTo>
                  <a:lnTo>
                    <a:pt x="31" y="505"/>
                  </a:lnTo>
                  <a:lnTo>
                    <a:pt x="31" y="505"/>
                  </a:lnTo>
                  <a:lnTo>
                    <a:pt x="37" y="487"/>
                  </a:lnTo>
                  <a:lnTo>
                    <a:pt x="33" y="466"/>
                  </a:lnTo>
                  <a:lnTo>
                    <a:pt x="31" y="447"/>
                  </a:lnTo>
                  <a:lnTo>
                    <a:pt x="31" y="447"/>
                  </a:lnTo>
                  <a:lnTo>
                    <a:pt x="27" y="432"/>
                  </a:lnTo>
                  <a:lnTo>
                    <a:pt x="25" y="418"/>
                  </a:lnTo>
                  <a:lnTo>
                    <a:pt x="23" y="403"/>
                  </a:lnTo>
                  <a:lnTo>
                    <a:pt x="23" y="403"/>
                  </a:lnTo>
                  <a:lnTo>
                    <a:pt x="23" y="403"/>
                  </a:lnTo>
                  <a:lnTo>
                    <a:pt x="25" y="401"/>
                  </a:lnTo>
                  <a:lnTo>
                    <a:pt x="25" y="401"/>
                  </a:lnTo>
                  <a:lnTo>
                    <a:pt x="25" y="401"/>
                  </a:lnTo>
                  <a:lnTo>
                    <a:pt x="25" y="395"/>
                  </a:lnTo>
                  <a:lnTo>
                    <a:pt x="27" y="391"/>
                  </a:lnTo>
                  <a:lnTo>
                    <a:pt x="25" y="387"/>
                  </a:lnTo>
                  <a:lnTo>
                    <a:pt x="25" y="387"/>
                  </a:lnTo>
                  <a:lnTo>
                    <a:pt x="23" y="387"/>
                  </a:lnTo>
                  <a:lnTo>
                    <a:pt x="23" y="387"/>
                  </a:lnTo>
                  <a:lnTo>
                    <a:pt x="21" y="389"/>
                  </a:lnTo>
                  <a:lnTo>
                    <a:pt x="21" y="389"/>
                  </a:lnTo>
                  <a:lnTo>
                    <a:pt x="21" y="391"/>
                  </a:lnTo>
                  <a:lnTo>
                    <a:pt x="16" y="347"/>
                  </a:lnTo>
                  <a:lnTo>
                    <a:pt x="8" y="301"/>
                  </a:lnTo>
                  <a:lnTo>
                    <a:pt x="0" y="257"/>
                  </a:lnTo>
                  <a:lnTo>
                    <a:pt x="0" y="257"/>
                  </a:lnTo>
                  <a:lnTo>
                    <a:pt x="6" y="257"/>
                  </a:lnTo>
                  <a:lnTo>
                    <a:pt x="14" y="261"/>
                  </a:lnTo>
                  <a:lnTo>
                    <a:pt x="19" y="257"/>
                  </a:lnTo>
                  <a:lnTo>
                    <a:pt x="19" y="257"/>
                  </a:lnTo>
                  <a:lnTo>
                    <a:pt x="23" y="257"/>
                  </a:lnTo>
                  <a:lnTo>
                    <a:pt x="25" y="257"/>
                  </a:lnTo>
                  <a:lnTo>
                    <a:pt x="27" y="259"/>
                  </a:lnTo>
                  <a:lnTo>
                    <a:pt x="27" y="259"/>
                  </a:lnTo>
                  <a:lnTo>
                    <a:pt x="27" y="261"/>
                  </a:lnTo>
                  <a:lnTo>
                    <a:pt x="29" y="261"/>
                  </a:lnTo>
                  <a:lnTo>
                    <a:pt x="31" y="261"/>
                  </a:lnTo>
                  <a:lnTo>
                    <a:pt x="31" y="261"/>
                  </a:lnTo>
                  <a:lnTo>
                    <a:pt x="31" y="251"/>
                  </a:lnTo>
                  <a:lnTo>
                    <a:pt x="33" y="243"/>
                  </a:lnTo>
                  <a:lnTo>
                    <a:pt x="33" y="236"/>
                  </a:lnTo>
                  <a:lnTo>
                    <a:pt x="33" y="236"/>
                  </a:lnTo>
                  <a:lnTo>
                    <a:pt x="35" y="178"/>
                  </a:lnTo>
                  <a:lnTo>
                    <a:pt x="39" y="11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40"/>
                  </a:lnTo>
                  <a:lnTo>
                    <a:pt x="50" y="1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205"/>
                  </a:lnTo>
                  <a:lnTo>
                    <a:pt x="42" y="3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476120" y="38116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920720" y="3850200"/>
              <a:ext cx="8640" cy="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498800" y="381708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517520" y="38199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556040" y="3825720"/>
              <a:ext cx="11160" cy="3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1"/>
                  </a:moveTo>
                  <a:lnTo>
                    <a:pt x="6" y="3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905240" y="3855960"/>
              <a:ext cx="828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0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577640" y="3830040"/>
              <a:ext cx="8640" cy="10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985440" y="3784320"/>
              <a:ext cx="104040" cy="12312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9" y="32"/>
                  </a:moveTo>
                  <a:lnTo>
                    <a:pt x="9" y="42"/>
                  </a:lnTo>
                  <a:lnTo>
                    <a:pt x="13" y="52"/>
                  </a:lnTo>
                  <a:lnTo>
                    <a:pt x="17" y="59"/>
                  </a:lnTo>
                  <a:lnTo>
                    <a:pt x="17" y="59"/>
                  </a:lnTo>
                  <a:lnTo>
                    <a:pt x="15" y="61"/>
                  </a:lnTo>
                  <a:lnTo>
                    <a:pt x="15" y="65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23" y="75"/>
                  </a:lnTo>
                  <a:lnTo>
                    <a:pt x="34" y="77"/>
                  </a:lnTo>
                  <a:lnTo>
                    <a:pt x="46" y="75"/>
                  </a:lnTo>
                  <a:lnTo>
                    <a:pt x="46" y="75"/>
                  </a:lnTo>
                  <a:lnTo>
                    <a:pt x="57" y="71"/>
                  </a:lnTo>
                  <a:lnTo>
                    <a:pt x="67" y="61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69" y="63"/>
                  </a:lnTo>
                  <a:lnTo>
                    <a:pt x="61" y="75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2" y="86"/>
                  </a:lnTo>
                  <a:lnTo>
                    <a:pt x="36" y="86"/>
                  </a:lnTo>
                  <a:lnTo>
                    <a:pt x="23" y="82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4" y="61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13" y="15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9" y="0"/>
                  </a:lnTo>
                  <a:lnTo>
                    <a:pt x="19" y="9"/>
                  </a:lnTo>
                  <a:lnTo>
                    <a:pt x="11" y="19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007040" y="3789720"/>
              <a:ext cx="77040" cy="7596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2" y="17"/>
                  </a:moveTo>
                  <a:lnTo>
                    <a:pt x="54" y="25"/>
                  </a:lnTo>
                  <a:lnTo>
                    <a:pt x="54" y="34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44" y="48"/>
                  </a:lnTo>
                  <a:lnTo>
                    <a:pt x="39" y="51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3" y="53"/>
                  </a:lnTo>
                  <a:lnTo>
                    <a:pt x="16" y="51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4" y="13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44" y="5"/>
                  </a:lnTo>
                  <a:lnTo>
                    <a:pt x="5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597440" y="383292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621920" y="3835800"/>
              <a:ext cx="11160" cy="25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887960" y="3861720"/>
              <a:ext cx="864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1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651800" y="384156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671960" y="384444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012440" y="3794400"/>
              <a:ext cx="47160" cy="442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4"/>
                  </a:moveTo>
                  <a:lnTo>
                    <a:pt x="25" y="6"/>
                  </a:lnTo>
                  <a:lnTo>
                    <a:pt x="17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8" y="23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690680" y="384732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714800" y="3852720"/>
              <a:ext cx="86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734960" y="3858840"/>
              <a:ext cx="12960" cy="28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9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122520" y="372528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023960" y="3802680"/>
              <a:ext cx="54000" cy="558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12"/>
                  </a:moveTo>
                  <a:lnTo>
                    <a:pt x="38" y="19"/>
                  </a:lnTo>
                  <a:lnTo>
                    <a:pt x="36" y="27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27" y="37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9" y="37"/>
                  </a:lnTo>
                  <a:lnTo>
                    <a:pt x="4" y="35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6" y="33"/>
                  </a:lnTo>
                  <a:lnTo>
                    <a:pt x="13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7" y="31"/>
                  </a:lnTo>
                  <a:lnTo>
                    <a:pt x="32" y="25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759080" y="3863160"/>
              <a:ext cx="140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036560" y="3805560"/>
              <a:ext cx="22680" cy="4428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14"/>
                  </a:moveTo>
                  <a:lnTo>
                    <a:pt x="16" y="17"/>
                  </a:lnTo>
                  <a:lnTo>
                    <a:pt x="12" y="23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6" y="31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782120" y="3866040"/>
              <a:ext cx="1260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5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122520" y="3753720"/>
              <a:ext cx="2880" cy="158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0"/>
                  </a:move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122520" y="3781080"/>
              <a:ext cx="5760" cy="12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2" y="9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092360" y="3863160"/>
              <a:ext cx="15840" cy="284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0"/>
                  </a:moveTo>
                  <a:lnTo>
                    <a:pt x="4" y="14"/>
                  </a:lnTo>
                  <a:lnTo>
                    <a:pt x="7" y="8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9" y="8"/>
                  </a:lnTo>
                  <a:lnTo>
                    <a:pt x="6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131240" y="3868920"/>
              <a:ext cx="2880" cy="50040"/>
            </a:xfrm>
            <a:custGeom>
              <a:avLst/>
              <a:gdLst/>
              <a:ahLst/>
              <a:rect l="l" t="t" r="r" b="b"/>
              <a:pathLst>
                <a:path w="2" h="35">
                  <a:moveTo>
                    <a:pt x="2" y="0"/>
                  </a:moveTo>
                  <a:lnTo>
                    <a:pt x="2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122520" y="380844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122520" y="383292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0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102520" y="3999600"/>
              <a:ext cx="2520" cy="156600"/>
            </a:xfrm>
            <a:custGeom>
              <a:avLst/>
              <a:gdLst/>
              <a:ahLst/>
              <a:rect l="l" t="t" r="r" b="b"/>
              <a:pathLst>
                <a:path w="2" h="109">
                  <a:moveTo>
                    <a:pt x="0" y="107"/>
                  </a:moveTo>
                  <a:lnTo>
                    <a:pt x="0" y="109"/>
                  </a:lnTo>
                  <a:lnTo>
                    <a:pt x="2" y="0"/>
                  </a:lnTo>
                  <a:lnTo>
                    <a:pt x="2" y="36"/>
                  </a:lnTo>
                  <a:lnTo>
                    <a:pt x="2" y="71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122520" y="385884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142680" y="3874680"/>
              <a:ext cx="1099800" cy="653400"/>
            </a:xfrm>
            <a:custGeom>
              <a:avLst/>
              <a:gdLst/>
              <a:ahLst/>
              <a:rect l="l" t="t" r="r" b="b"/>
              <a:pathLst>
                <a:path w="769" h="455">
                  <a:moveTo>
                    <a:pt x="9" y="0"/>
                  </a:moveTo>
                  <a:lnTo>
                    <a:pt x="15" y="21"/>
                  </a:lnTo>
                  <a:lnTo>
                    <a:pt x="23" y="40"/>
                  </a:lnTo>
                  <a:lnTo>
                    <a:pt x="27" y="60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40" y="106"/>
                  </a:lnTo>
                  <a:lnTo>
                    <a:pt x="50" y="131"/>
                  </a:lnTo>
                  <a:lnTo>
                    <a:pt x="61" y="154"/>
                  </a:lnTo>
                  <a:lnTo>
                    <a:pt x="80" y="175"/>
                  </a:lnTo>
                  <a:lnTo>
                    <a:pt x="80" y="175"/>
                  </a:lnTo>
                  <a:lnTo>
                    <a:pt x="92" y="184"/>
                  </a:lnTo>
                  <a:lnTo>
                    <a:pt x="103" y="192"/>
                  </a:lnTo>
                  <a:lnTo>
                    <a:pt x="115" y="202"/>
                  </a:lnTo>
                  <a:lnTo>
                    <a:pt x="128" y="209"/>
                  </a:lnTo>
                  <a:lnTo>
                    <a:pt x="140" y="217"/>
                  </a:lnTo>
                  <a:lnTo>
                    <a:pt x="153" y="225"/>
                  </a:lnTo>
                  <a:lnTo>
                    <a:pt x="165" y="233"/>
                  </a:lnTo>
                  <a:lnTo>
                    <a:pt x="178" y="238"/>
                  </a:lnTo>
                  <a:lnTo>
                    <a:pt x="192" y="244"/>
                  </a:lnTo>
                  <a:lnTo>
                    <a:pt x="205" y="252"/>
                  </a:lnTo>
                  <a:lnTo>
                    <a:pt x="218" y="257"/>
                  </a:lnTo>
                  <a:lnTo>
                    <a:pt x="232" y="263"/>
                  </a:lnTo>
                  <a:lnTo>
                    <a:pt x="245" y="267"/>
                  </a:lnTo>
                  <a:lnTo>
                    <a:pt x="259" y="273"/>
                  </a:lnTo>
                  <a:lnTo>
                    <a:pt x="272" y="279"/>
                  </a:lnTo>
                  <a:lnTo>
                    <a:pt x="286" y="282"/>
                  </a:lnTo>
                  <a:lnTo>
                    <a:pt x="301" y="286"/>
                  </a:lnTo>
                  <a:lnTo>
                    <a:pt x="314" y="292"/>
                  </a:lnTo>
                  <a:lnTo>
                    <a:pt x="328" y="296"/>
                  </a:lnTo>
                  <a:lnTo>
                    <a:pt x="343" y="300"/>
                  </a:lnTo>
                  <a:lnTo>
                    <a:pt x="357" y="304"/>
                  </a:lnTo>
                  <a:lnTo>
                    <a:pt x="372" y="307"/>
                  </a:lnTo>
                  <a:lnTo>
                    <a:pt x="385" y="311"/>
                  </a:lnTo>
                  <a:lnTo>
                    <a:pt x="401" y="315"/>
                  </a:lnTo>
                  <a:lnTo>
                    <a:pt x="414" y="319"/>
                  </a:lnTo>
                  <a:lnTo>
                    <a:pt x="430" y="323"/>
                  </a:lnTo>
                  <a:lnTo>
                    <a:pt x="443" y="327"/>
                  </a:lnTo>
                  <a:lnTo>
                    <a:pt x="458" y="330"/>
                  </a:lnTo>
                  <a:lnTo>
                    <a:pt x="472" y="334"/>
                  </a:lnTo>
                  <a:lnTo>
                    <a:pt x="487" y="338"/>
                  </a:lnTo>
                  <a:lnTo>
                    <a:pt x="501" y="342"/>
                  </a:lnTo>
                  <a:lnTo>
                    <a:pt x="516" y="346"/>
                  </a:lnTo>
                  <a:lnTo>
                    <a:pt x="516" y="346"/>
                  </a:lnTo>
                  <a:lnTo>
                    <a:pt x="547" y="352"/>
                  </a:lnTo>
                  <a:lnTo>
                    <a:pt x="575" y="357"/>
                  </a:lnTo>
                  <a:lnTo>
                    <a:pt x="604" y="367"/>
                  </a:lnTo>
                  <a:lnTo>
                    <a:pt x="604" y="367"/>
                  </a:lnTo>
                  <a:lnTo>
                    <a:pt x="614" y="377"/>
                  </a:lnTo>
                  <a:lnTo>
                    <a:pt x="620" y="390"/>
                  </a:lnTo>
                  <a:lnTo>
                    <a:pt x="633" y="394"/>
                  </a:lnTo>
                  <a:lnTo>
                    <a:pt x="633" y="394"/>
                  </a:lnTo>
                  <a:lnTo>
                    <a:pt x="752" y="417"/>
                  </a:lnTo>
                  <a:lnTo>
                    <a:pt x="760" y="428"/>
                  </a:lnTo>
                  <a:lnTo>
                    <a:pt x="765" y="440"/>
                  </a:lnTo>
                  <a:lnTo>
                    <a:pt x="769" y="453"/>
                  </a:lnTo>
                  <a:lnTo>
                    <a:pt x="769" y="453"/>
                  </a:lnTo>
                  <a:lnTo>
                    <a:pt x="765" y="453"/>
                  </a:lnTo>
                  <a:lnTo>
                    <a:pt x="760" y="453"/>
                  </a:lnTo>
                  <a:lnTo>
                    <a:pt x="756" y="455"/>
                  </a:lnTo>
                  <a:lnTo>
                    <a:pt x="756" y="455"/>
                  </a:lnTo>
                  <a:lnTo>
                    <a:pt x="714" y="444"/>
                  </a:lnTo>
                  <a:lnTo>
                    <a:pt x="671" y="438"/>
                  </a:lnTo>
                  <a:lnTo>
                    <a:pt x="627" y="432"/>
                  </a:lnTo>
                  <a:lnTo>
                    <a:pt x="585" y="428"/>
                  </a:lnTo>
                  <a:lnTo>
                    <a:pt x="541" y="421"/>
                  </a:lnTo>
                  <a:lnTo>
                    <a:pt x="541" y="421"/>
                  </a:lnTo>
                  <a:lnTo>
                    <a:pt x="526" y="419"/>
                  </a:lnTo>
                  <a:lnTo>
                    <a:pt x="508" y="417"/>
                  </a:lnTo>
                  <a:lnTo>
                    <a:pt x="491" y="417"/>
                  </a:lnTo>
                  <a:lnTo>
                    <a:pt x="491" y="417"/>
                  </a:lnTo>
                  <a:lnTo>
                    <a:pt x="493" y="419"/>
                  </a:lnTo>
                  <a:lnTo>
                    <a:pt x="497" y="419"/>
                  </a:lnTo>
                  <a:lnTo>
                    <a:pt x="499" y="419"/>
                  </a:lnTo>
                  <a:lnTo>
                    <a:pt x="499" y="419"/>
                  </a:lnTo>
                  <a:lnTo>
                    <a:pt x="499" y="423"/>
                  </a:lnTo>
                  <a:lnTo>
                    <a:pt x="487" y="421"/>
                  </a:lnTo>
                  <a:lnTo>
                    <a:pt x="487" y="419"/>
                  </a:lnTo>
                  <a:lnTo>
                    <a:pt x="487" y="417"/>
                  </a:lnTo>
                  <a:lnTo>
                    <a:pt x="489" y="417"/>
                  </a:lnTo>
                  <a:lnTo>
                    <a:pt x="489" y="417"/>
                  </a:lnTo>
                  <a:lnTo>
                    <a:pt x="485" y="415"/>
                  </a:lnTo>
                  <a:lnTo>
                    <a:pt x="483" y="415"/>
                  </a:lnTo>
                  <a:lnTo>
                    <a:pt x="481" y="415"/>
                  </a:lnTo>
                  <a:lnTo>
                    <a:pt x="481" y="415"/>
                  </a:lnTo>
                  <a:lnTo>
                    <a:pt x="479" y="419"/>
                  </a:lnTo>
                  <a:lnTo>
                    <a:pt x="476" y="419"/>
                  </a:lnTo>
                  <a:lnTo>
                    <a:pt x="472" y="417"/>
                  </a:lnTo>
                  <a:lnTo>
                    <a:pt x="472" y="417"/>
                  </a:lnTo>
                  <a:lnTo>
                    <a:pt x="472" y="415"/>
                  </a:lnTo>
                  <a:lnTo>
                    <a:pt x="470" y="413"/>
                  </a:lnTo>
                  <a:lnTo>
                    <a:pt x="470" y="413"/>
                  </a:lnTo>
                  <a:lnTo>
                    <a:pt x="470" y="413"/>
                  </a:lnTo>
                  <a:lnTo>
                    <a:pt x="466" y="413"/>
                  </a:lnTo>
                  <a:lnTo>
                    <a:pt x="464" y="413"/>
                  </a:lnTo>
                  <a:lnTo>
                    <a:pt x="462" y="415"/>
                  </a:lnTo>
                  <a:lnTo>
                    <a:pt x="462" y="415"/>
                  </a:lnTo>
                  <a:lnTo>
                    <a:pt x="458" y="415"/>
                  </a:lnTo>
                  <a:lnTo>
                    <a:pt x="455" y="415"/>
                  </a:lnTo>
                  <a:lnTo>
                    <a:pt x="453" y="411"/>
                  </a:lnTo>
                  <a:lnTo>
                    <a:pt x="453" y="411"/>
                  </a:lnTo>
                  <a:lnTo>
                    <a:pt x="451" y="409"/>
                  </a:lnTo>
                  <a:lnTo>
                    <a:pt x="449" y="409"/>
                  </a:lnTo>
                  <a:lnTo>
                    <a:pt x="447" y="409"/>
                  </a:lnTo>
                  <a:lnTo>
                    <a:pt x="447" y="409"/>
                  </a:lnTo>
                  <a:lnTo>
                    <a:pt x="443" y="411"/>
                  </a:lnTo>
                  <a:lnTo>
                    <a:pt x="439" y="411"/>
                  </a:lnTo>
                  <a:lnTo>
                    <a:pt x="435" y="409"/>
                  </a:lnTo>
                  <a:lnTo>
                    <a:pt x="435" y="409"/>
                  </a:lnTo>
                  <a:lnTo>
                    <a:pt x="431" y="407"/>
                  </a:lnTo>
                  <a:lnTo>
                    <a:pt x="428" y="407"/>
                  </a:lnTo>
                  <a:lnTo>
                    <a:pt x="422" y="407"/>
                  </a:lnTo>
                  <a:lnTo>
                    <a:pt x="422" y="407"/>
                  </a:lnTo>
                  <a:lnTo>
                    <a:pt x="418" y="405"/>
                  </a:lnTo>
                  <a:lnTo>
                    <a:pt x="414" y="403"/>
                  </a:lnTo>
                  <a:lnTo>
                    <a:pt x="408" y="403"/>
                  </a:lnTo>
                  <a:lnTo>
                    <a:pt x="408" y="403"/>
                  </a:lnTo>
                  <a:lnTo>
                    <a:pt x="401" y="403"/>
                  </a:lnTo>
                  <a:lnTo>
                    <a:pt x="395" y="402"/>
                  </a:lnTo>
                  <a:lnTo>
                    <a:pt x="391" y="398"/>
                  </a:lnTo>
                  <a:lnTo>
                    <a:pt x="391" y="398"/>
                  </a:lnTo>
                  <a:lnTo>
                    <a:pt x="387" y="400"/>
                  </a:lnTo>
                  <a:lnTo>
                    <a:pt x="384" y="400"/>
                  </a:lnTo>
                  <a:lnTo>
                    <a:pt x="380" y="400"/>
                  </a:lnTo>
                  <a:lnTo>
                    <a:pt x="380" y="400"/>
                  </a:lnTo>
                  <a:lnTo>
                    <a:pt x="380" y="396"/>
                  </a:lnTo>
                  <a:lnTo>
                    <a:pt x="378" y="396"/>
                  </a:lnTo>
                  <a:lnTo>
                    <a:pt x="376" y="394"/>
                  </a:lnTo>
                  <a:lnTo>
                    <a:pt x="376" y="394"/>
                  </a:lnTo>
                  <a:lnTo>
                    <a:pt x="374" y="398"/>
                  </a:lnTo>
                  <a:lnTo>
                    <a:pt x="370" y="398"/>
                  </a:lnTo>
                  <a:lnTo>
                    <a:pt x="366" y="396"/>
                  </a:lnTo>
                  <a:lnTo>
                    <a:pt x="366" y="396"/>
                  </a:lnTo>
                  <a:lnTo>
                    <a:pt x="364" y="396"/>
                  </a:lnTo>
                  <a:lnTo>
                    <a:pt x="364" y="394"/>
                  </a:lnTo>
                  <a:lnTo>
                    <a:pt x="364" y="394"/>
                  </a:lnTo>
                  <a:lnTo>
                    <a:pt x="364" y="394"/>
                  </a:lnTo>
                  <a:lnTo>
                    <a:pt x="366" y="394"/>
                  </a:lnTo>
                  <a:lnTo>
                    <a:pt x="366" y="394"/>
                  </a:lnTo>
                  <a:lnTo>
                    <a:pt x="368" y="392"/>
                  </a:lnTo>
                  <a:lnTo>
                    <a:pt x="368" y="392"/>
                  </a:lnTo>
                  <a:lnTo>
                    <a:pt x="347" y="388"/>
                  </a:lnTo>
                  <a:lnTo>
                    <a:pt x="326" y="382"/>
                  </a:lnTo>
                  <a:lnTo>
                    <a:pt x="305" y="378"/>
                  </a:lnTo>
                  <a:lnTo>
                    <a:pt x="305" y="378"/>
                  </a:lnTo>
                  <a:lnTo>
                    <a:pt x="272" y="371"/>
                  </a:lnTo>
                  <a:lnTo>
                    <a:pt x="241" y="361"/>
                  </a:lnTo>
                  <a:lnTo>
                    <a:pt x="209" y="353"/>
                  </a:lnTo>
                  <a:lnTo>
                    <a:pt x="209" y="353"/>
                  </a:lnTo>
                  <a:lnTo>
                    <a:pt x="180" y="346"/>
                  </a:lnTo>
                  <a:lnTo>
                    <a:pt x="153" y="338"/>
                  </a:lnTo>
                  <a:lnTo>
                    <a:pt x="126" y="330"/>
                  </a:lnTo>
                  <a:lnTo>
                    <a:pt x="99" y="321"/>
                  </a:lnTo>
                  <a:lnTo>
                    <a:pt x="73" y="309"/>
                  </a:lnTo>
                  <a:lnTo>
                    <a:pt x="48" y="298"/>
                  </a:lnTo>
                  <a:lnTo>
                    <a:pt x="23" y="284"/>
                  </a:lnTo>
                  <a:lnTo>
                    <a:pt x="23" y="284"/>
                  </a:lnTo>
                  <a:lnTo>
                    <a:pt x="17" y="271"/>
                  </a:lnTo>
                  <a:lnTo>
                    <a:pt x="11" y="259"/>
                  </a:lnTo>
                  <a:lnTo>
                    <a:pt x="5" y="248"/>
                  </a:lnTo>
                  <a:lnTo>
                    <a:pt x="3" y="234"/>
                  </a:lnTo>
                  <a:lnTo>
                    <a:pt x="3" y="234"/>
                  </a:lnTo>
                  <a:lnTo>
                    <a:pt x="2" y="160"/>
                  </a:lnTo>
                  <a:lnTo>
                    <a:pt x="2" y="8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086680" y="4042800"/>
              <a:ext cx="1080" cy="140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1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122520" y="388332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8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086680" y="4059720"/>
              <a:ext cx="1080" cy="2160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1" y="0"/>
                  </a:moveTo>
                  <a:lnTo>
                    <a:pt x="1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122520" y="390168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126640" y="4072680"/>
              <a:ext cx="14400" cy="532800"/>
            </a:xfrm>
            <a:custGeom>
              <a:avLst/>
              <a:gdLst/>
              <a:ahLst/>
              <a:rect l="l" t="t" r="r" b="b"/>
              <a:pathLst>
                <a:path w="10" h="371">
                  <a:moveTo>
                    <a:pt x="6" y="204"/>
                  </a:moveTo>
                  <a:lnTo>
                    <a:pt x="8" y="260"/>
                  </a:lnTo>
                  <a:lnTo>
                    <a:pt x="10" y="315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2" y="365"/>
                  </a:lnTo>
                  <a:lnTo>
                    <a:pt x="2" y="360"/>
                  </a:lnTo>
                  <a:lnTo>
                    <a:pt x="4" y="354"/>
                  </a:lnTo>
                  <a:lnTo>
                    <a:pt x="4" y="354"/>
                  </a:lnTo>
                  <a:lnTo>
                    <a:pt x="4" y="315"/>
                  </a:lnTo>
                  <a:lnTo>
                    <a:pt x="2" y="277"/>
                  </a:lnTo>
                  <a:lnTo>
                    <a:pt x="6" y="235"/>
                  </a:lnTo>
                  <a:lnTo>
                    <a:pt x="6" y="235"/>
                  </a:lnTo>
                  <a:lnTo>
                    <a:pt x="4" y="204"/>
                  </a:lnTo>
                  <a:lnTo>
                    <a:pt x="6" y="171"/>
                  </a:lnTo>
                  <a:lnTo>
                    <a:pt x="6" y="139"/>
                  </a:lnTo>
                  <a:lnTo>
                    <a:pt x="6" y="139"/>
                  </a:lnTo>
                  <a:lnTo>
                    <a:pt x="6" y="93"/>
                  </a:lnTo>
                  <a:lnTo>
                    <a:pt x="6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70"/>
                  </a:lnTo>
                  <a:lnTo>
                    <a:pt x="10" y="137"/>
                  </a:lnTo>
                  <a:lnTo>
                    <a:pt x="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086680" y="4084200"/>
              <a:ext cx="1080" cy="864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122520" y="3927960"/>
              <a:ext cx="2880" cy="126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0" y="9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086680" y="4096080"/>
              <a:ext cx="1080" cy="1008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083800" y="4108680"/>
              <a:ext cx="2880" cy="209520"/>
            </a:xfrm>
            <a:custGeom>
              <a:avLst/>
              <a:gdLst/>
              <a:ahLst/>
              <a:rect l="l" t="t" r="r" b="b"/>
              <a:pathLst>
                <a:path w="2" h="146">
                  <a:moveTo>
                    <a:pt x="0" y="146"/>
                  </a:moveTo>
                  <a:lnTo>
                    <a:pt x="2" y="9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122520" y="395208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122520" y="3976560"/>
              <a:ext cx="288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122520" y="3999600"/>
              <a:ext cx="2880" cy="158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11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122520" y="4026960"/>
              <a:ext cx="2880" cy="129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122520" y="405144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122520" y="407268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2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036640" y="4243680"/>
              <a:ext cx="252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122520" y="4101480"/>
              <a:ext cx="5760" cy="12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7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033760" y="4278240"/>
              <a:ext cx="5400" cy="183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3"/>
                  </a:move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7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120000" y="4120200"/>
              <a:ext cx="5400" cy="169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12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122520" y="4147560"/>
              <a:ext cx="2880" cy="16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033760" y="4308480"/>
              <a:ext cx="540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13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9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122520" y="4174920"/>
              <a:ext cx="5760" cy="140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4" y="6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030880" y="4338720"/>
              <a:ext cx="5760" cy="12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2"/>
                  </a:lnTo>
                  <a:lnTo>
                    <a:pt x="4" y="6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122520" y="4197960"/>
              <a:ext cx="2880" cy="126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061120" y="4359960"/>
              <a:ext cx="49680" cy="295560"/>
            </a:xfrm>
            <a:custGeom>
              <a:avLst/>
              <a:gdLst/>
              <a:ahLst/>
              <a:rect l="l" t="t" r="r" b="b"/>
              <a:pathLst>
                <a:path w="35" h="206">
                  <a:moveTo>
                    <a:pt x="14" y="106"/>
                  </a:moveTo>
                  <a:lnTo>
                    <a:pt x="19" y="119"/>
                  </a:lnTo>
                  <a:lnTo>
                    <a:pt x="25" y="131"/>
                  </a:lnTo>
                  <a:lnTo>
                    <a:pt x="31" y="142"/>
                  </a:lnTo>
                  <a:lnTo>
                    <a:pt x="35" y="154"/>
                  </a:lnTo>
                  <a:lnTo>
                    <a:pt x="35" y="167"/>
                  </a:lnTo>
                  <a:lnTo>
                    <a:pt x="35" y="167"/>
                  </a:lnTo>
                  <a:lnTo>
                    <a:pt x="31" y="171"/>
                  </a:lnTo>
                  <a:lnTo>
                    <a:pt x="31" y="175"/>
                  </a:lnTo>
                  <a:lnTo>
                    <a:pt x="33" y="181"/>
                  </a:lnTo>
                  <a:lnTo>
                    <a:pt x="33" y="181"/>
                  </a:lnTo>
                  <a:lnTo>
                    <a:pt x="35" y="184"/>
                  </a:lnTo>
                  <a:lnTo>
                    <a:pt x="10" y="206"/>
                  </a:lnTo>
                  <a:lnTo>
                    <a:pt x="10" y="194"/>
                  </a:lnTo>
                  <a:lnTo>
                    <a:pt x="14" y="184"/>
                  </a:lnTo>
                  <a:lnTo>
                    <a:pt x="18" y="175"/>
                  </a:lnTo>
                  <a:lnTo>
                    <a:pt x="18" y="175"/>
                  </a:lnTo>
                  <a:lnTo>
                    <a:pt x="18" y="179"/>
                  </a:lnTo>
                  <a:lnTo>
                    <a:pt x="16" y="184"/>
                  </a:lnTo>
                  <a:lnTo>
                    <a:pt x="19" y="186"/>
                  </a:lnTo>
                  <a:lnTo>
                    <a:pt x="19" y="186"/>
                  </a:lnTo>
                  <a:lnTo>
                    <a:pt x="21" y="173"/>
                  </a:lnTo>
                  <a:lnTo>
                    <a:pt x="23" y="158"/>
                  </a:lnTo>
                  <a:lnTo>
                    <a:pt x="23" y="142"/>
                  </a:lnTo>
                  <a:lnTo>
                    <a:pt x="23" y="142"/>
                  </a:lnTo>
                  <a:lnTo>
                    <a:pt x="21" y="133"/>
                  </a:lnTo>
                  <a:lnTo>
                    <a:pt x="19" y="123"/>
                  </a:lnTo>
                  <a:lnTo>
                    <a:pt x="14" y="117"/>
                  </a:lnTo>
                  <a:lnTo>
                    <a:pt x="14" y="117"/>
                  </a:lnTo>
                  <a:lnTo>
                    <a:pt x="10" y="115"/>
                  </a:lnTo>
                  <a:lnTo>
                    <a:pt x="8" y="115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8" y="127"/>
                  </a:lnTo>
                  <a:lnTo>
                    <a:pt x="12" y="135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14" y="163"/>
                  </a:lnTo>
                  <a:lnTo>
                    <a:pt x="8" y="183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108"/>
                  </a:lnTo>
                  <a:lnTo>
                    <a:pt x="4" y="110"/>
                  </a:lnTo>
                  <a:lnTo>
                    <a:pt x="6" y="112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2" y="110"/>
                  </a:lnTo>
                  <a:lnTo>
                    <a:pt x="12" y="104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6" y="0"/>
                  </a:lnTo>
                  <a:lnTo>
                    <a:pt x="14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030880" y="4359960"/>
              <a:ext cx="5760" cy="21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2" y="15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1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107040" y="4230720"/>
              <a:ext cx="114480" cy="143640"/>
            </a:xfrm>
            <a:custGeom>
              <a:avLst/>
              <a:gdLst/>
              <a:ahLst/>
              <a:rect l="l" t="t" r="r" b="b"/>
              <a:pathLst>
                <a:path w="80" h="100">
                  <a:moveTo>
                    <a:pt x="19" y="13"/>
                  </a:moveTo>
                  <a:lnTo>
                    <a:pt x="21" y="31"/>
                  </a:lnTo>
                  <a:lnTo>
                    <a:pt x="21" y="48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5" y="69"/>
                  </a:lnTo>
                  <a:lnTo>
                    <a:pt x="71" y="79"/>
                  </a:lnTo>
                  <a:lnTo>
                    <a:pt x="76" y="84"/>
                  </a:lnTo>
                  <a:lnTo>
                    <a:pt x="78" y="92"/>
                  </a:lnTo>
                  <a:lnTo>
                    <a:pt x="80" y="100"/>
                  </a:lnTo>
                  <a:lnTo>
                    <a:pt x="80" y="100"/>
                  </a:lnTo>
                  <a:lnTo>
                    <a:pt x="53" y="96"/>
                  </a:lnTo>
                  <a:lnTo>
                    <a:pt x="28" y="92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73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0"/>
                  </a:lnTo>
                  <a:lnTo>
                    <a:pt x="9" y="2"/>
                  </a:lnTo>
                  <a:lnTo>
                    <a:pt x="15" y="8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030880" y="4393080"/>
              <a:ext cx="5760" cy="169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2" y="8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132400" y="4479480"/>
              <a:ext cx="32760" cy="14760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23" y="7"/>
                  </a:moveTo>
                  <a:lnTo>
                    <a:pt x="23" y="38"/>
                  </a:lnTo>
                  <a:lnTo>
                    <a:pt x="23" y="71"/>
                  </a:lnTo>
                  <a:lnTo>
                    <a:pt x="21" y="101"/>
                  </a:lnTo>
                  <a:lnTo>
                    <a:pt x="21" y="101"/>
                  </a:lnTo>
                  <a:lnTo>
                    <a:pt x="16" y="103"/>
                  </a:lnTo>
                  <a:lnTo>
                    <a:pt x="8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6" y="82"/>
                  </a:lnTo>
                  <a:lnTo>
                    <a:pt x="10" y="65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4" y="32"/>
                  </a:lnTo>
                  <a:lnTo>
                    <a:pt x="12" y="17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226920" y="4351680"/>
              <a:ext cx="1152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247080" y="435708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265800" y="4359960"/>
              <a:ext cx="1152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287400" y="436608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07200" y="436896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328440" y="4374360"/>
              <a:ext cx="1440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351480" y="4377240"/>
              <a:ext cx="21240" cy="684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3"/>
                  </a:moveTo>
                  <a:lnTo>
                    <a:pt x="11" y="5"/>
                  </a:lnTo>
                  <a:lnTo>
                    <a:pt x="5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378840" y="438156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394320" y="438444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421680" y="4390560"/>
              <a:ext cx="16920" cy="82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447240" y="4395960"/>
              <a:ext cx="18720" cy="86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6"/>
                  </a:moveTo>
                  <a:lnTo>
                    <a:pt x="7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471720" y="4401720"/>
              <a:ext cx="1440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493320" y="440784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518880" y="4413240"/>
              <a:ext cx="15480" cy="3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2"/>
                  </a:moveTo>
                  <a:lnTo>
                    <a:pt x="7" y="3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546240" y="4416120"/>
              <a:ext cx="12600" cy="3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9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570720" y="442044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594840" y="442620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617520" y="4429080"/>
              <a:ext cx="9720" cy="54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2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639120" y="443484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863760" y="44794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886440" y="4485240"/>
              <a:ext cx="972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7" y="1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908040" y="44863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932160" y="4492440"/>
              <a:ext cx="864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952320" y="449532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979680" y="45007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00920" y="450684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2"/>
                  </a:moveTo>
                  <a:lnTo>
                    <a:pt x="10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923600" y="4594320"/>
              <a:ext cx="130320" cy="13752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91" y="0"/>
                  </a:moveTo>
                  <a:lnTo>
                    <a:pt x="91" y="33"/>
                  </a:lnTo>
                  <a:lnTo>
                    <a:pt x="89" y="64"/>
                  </a:lnTo>
                  <a:lnTo>
                    <a:pt x="89" y="96"/>
                  </a:lnTo>
                  <a:lnTo>
                    <a:pt x="89" y="96"/>
                  </a:lnTo>
                  <a:lnTo>
                    <a:pt x="60" y="93"/>
                  </a:lnTo>
                  <a:lnTo>
                    <a:pt x="31" y="87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6" y="70"/>
                  </a:lnTo>
                  <a:lnTo>
                    <a:pt x="10" y="66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64" y="71"/>
                  </a:lnTo>
                  <a:lnTo>
                    <a:pt x="66" y="68"/>
                  </a:lnTo>
                  <a:lnTo>
                    <a:pt x="68" y="48"/>
                  </a:lnTo>
                  <a:lnTo>
                    <a:pt x="68" y="27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75" y="2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023960" y="4509720"/>
              <a:ext cx="15480" cy="54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048440" y="45151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072560" y="4520880"/>
              <a:ext cx="14040" cy="39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1"/>
                  </a:moveTo>
                  <a:lnTo>
                    <a:pt x="10" y="3"/>
                  </a:lnTo>
                  <a:lnTo>
                    <a:pt x="6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092360" y="4522320"/>
              <a:ext cx="18720" cy="576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119720" y="4528080"/>
              <a:ext cx="828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138440" y="4530960"/>
              <a:ext cx="57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155360" y="453672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1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200000" y="4545360"/>
              <a:ext cx="1548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2"/>
                  </a:moveTo>
                  <a:lnTo>
                    <a:pt x="7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221240" y="4548240"/>
              <a:ext cx="864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239960" y="4551480"/>
              <a:ext cx="16920" cy="39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263000" y="455544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268760" y="4555440"/>
              <a:ext cx="1548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295760" y="456120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7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308720" y="456408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325640" y="4566960"/>
              <a:ext cx="15840" cy="57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347240" y="4572720"/>
              <a:ext cx="1404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377480" y="457848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6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405920" y="458424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427160" y="4590000"/>
              <a:ext cx="1404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454520" y="459144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474680" y="4597200"/>
              <a:ext cx="68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495920" y="4599720"/>
              <a:ext cx="140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523280" y="460584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537680" y="4608720"/>
              <a:ext cx="9720" cy="5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5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556040" y="4614480"/>
              <a:ext cx="11160" cy="25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6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577640" y="4617000"/>
              <a:ext cx="16920" cy="5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8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608960" y="4623120"/>
              <a:ext cx="12960" cy="3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5" y="3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627320" y="462420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639200" y="4627080"/>
              <a:ext cx="12600" cy="5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5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654680" y="4630320"/>
              <a:ext cx="1152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2"/>
                  </a:moveTo>
                  <a:lnTo>
                    <a:pt x="8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677720" y="4636080"/>
              <a:ext cx="1296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5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702200" y="464148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726320" y="4644360"/>
              <a:ext cx="11160" cy="5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740720" y="4647600"/>
              <a:ext cx="15480" cy="82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6"/>
                  </a:moveTo>
                  <a:lnTo>
                    <a:pt x="7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9" y="2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767720" y="4653360"/>
              <a:ext cx="1116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789320" y="4658760"/>
              <a:ext cx="22680" cy="432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0" y="3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816680" y="466344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824960" y="4665960"/>
              <a:ext cx="11160" cy="2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7" name=""/>
          <p:cNvSpPr/>
          <p:nvPr/>
        </p:nvSpPr>
        <p:spPr>
          <a:xfrm>
            <a:off x="2287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70120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9" name="sl00710_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30589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0" name="3DCLOUD" descr=""/>
          <p:cNvPicPr/>
          <p:nvPr/>
        </p:nvPicPr>
        <p:blipFill>
          <a:blip r:embed="rId1"/>
          <a:stretch/>
        </p:blipFill>
        <p:spPr>
          <a:xfrm>
            <a:off x="762120" y="2997360"/>
            <a:ext cx="3306600" cy="1623960"/>
          </a:xfrm>
          <a:prstGeom prst="rect">
            <a:avLst/>
          </a:prstGeom>
          <a:ln w="0">
            <a:noFill/>
          </a:ln>
        </p:spPr>
      </p:pic>
      <p:sp>
        <p:nvSpPr>
          <p:cNvPr id="2861" name=""/>
          <p:cNvSpPr/>
          <p:nvPr/>
        </p:nvSpPr>
        <p:spPr>
          <a:xfrm>
            <a:off x="2211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3" name="j0331321" descr=""/>
          <p:cNvPicPr/>
          <p:nvPr/>
        </p:nvPicPr>
        <p:blipFill>
          <a:blip r:embed="rId2"/>
          <a:stretch/>
        </p:blipFill>
        <p:spPr>
          <a:xfrm>
            <a:off x="6095880" y="3060720"/>
            <a:ext cx="18162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4" name=""/>
          <p:cNvGrpSpPr/>
          <p:nvPr/>
        </p:nvGrpSpPr>
        <p:grpSpPr>
          <a:xfrm>
            <a:off x="914400" y="2824200"/>
            <a:ext cx="2666880" cy="1969920"/>
            <a:chOff x="914400" y="2824200"/>
            <a:chExt cx="2666880" cy="1969920"/>
          </a:xfrm>
        </p:grpSpPr>
        <p:sp>
          <p:nvSpPr>
            <p:cNvPr id="2865" name=""/>
            <p:cNvSpPr/>
            <p:nvPr/>
          </p:nvSpPr>
          <p:spPr>
            <a:xfrm>
              <a:off x="914400" y="2824200"/>
              <a:ext cx="2666880" cy="19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925560" y="2833560"/>
              <a:ext cx="2642400" cy="195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982800" y="2872440"/>
              <a:ext cx="2540520" cy="1883880"/>
            </a:xfrm>
            <a:custGeom>
              <a:avLst/>
              <a:gdLst/>
              <a:ahLst/>
              <a:rect l="l" t="t" r="r" b="b"/>
              <a:pathLst>
                <a:path w="3625" h="2728">
                  <a:moveTo>
                    <a:pt x="3625" y="2693"/>
                  </a:moveTo>
                  <a:lnTo>
                    <a:pt x="3611" y="1386"/>
                  </a:lnTo>
                  <a:lnTo>
                    <a:pt x="3612" y="862"/>
                  </a:lnTo>
                  <a:lnTo>
                    <a:pt x="3611" y="756"/>
                  </a:lnTo>
                  <a:lnTo>
                    <a:pt x="3605" y="397"/>
                  </a:lnTo>
                  <a:lnTo>
                    <a:pt x="3413" y="585"/>
                  </a:lnTo>
                  <a:lnTo>
                    <a:pt x="3405" y="672"/>
                  </a:lnTo>
                  <a:lnTo>
                    <a:pt x="3494" y="747"/>
                  </a:lnTo>
                  <a:lnTo>
                    <a:pt x="3535" y="833"/>
                  </a:lnTo>
                  <a:lnTo>
                    <a:pt x="3544" y="854"/>
                  </a:lnTo>
                  <a:lnTo>
                    <a:pt x="3498" y="922"/>
                  </a:lnTo>
                  <a:lnTo>
                    <a:pt x="3527" y="960"/>
                  </a:lnTo>
                  <a:lnTo>
                    <a:pt x="3537" y="979"/>
                  </a:lnTo>
                  <a:lnTo>
                    <a:pt x="3548" y="1058"/>
                  </a:lnTo>
                  <a:lnTo>
                    <a:pt x="3558" y="1096"/>
                  </a:lnTo>
                  <a:lnTo>
                    <a:pt x="3520" y="1163"/>
                  </a:lnTo>
                  <a:lnTo>
                    <a:pt x="3503" y="1176"/>
                  </a:lnTo>
                  <a:lnTo>
                    <a:pt x="3463" y="1176"/>
                  </a:lnTo>
                  <a:lnTo>
                    <a:pt x="3355" y="1099"/>
                  </a:lnTo>
                  <a:lnTo>
                    <a:pt x="3180" y="1102"/>
                  </a:lnTo>
                  <a:lnTo>
                    <a:pt x="3114" y="1123"/>
                  </a:lnTo>
                  <a:lnTo>
                    <a:pt x="2838" y="1496"/>
                  </a:lnTo>
                  <a:lnTo>
                    <a:pt x="2848" y="1517"/>
                  </a:lnTo>
                  <a:lnTo>
                    <a:pt x="2839" y="1563"/>
                  </a:lnTo>
                  <a:lnTo>
                    <a:pt x="2839" y="1603"/>
                  </a:lnTo>
                  <a:lnTo>
                    <a:pt x="3171" y="1151"/>
                  </a:lnTo>
                  <a:lnTo>
                    <a:pt x="3165" y="1181"/>
                  </a:lnTo>
                  <a:lnTo>
                    <a:pt x="3155" y="1209"/>
                  </a:lnTo>
                  <a:lnTo>
                    <a:pt x="3142" y="1237"/>
                  </a:lnTo>
                  <a:lnTo>
                    <a:pt x="3127" y="1266"/>
                  </a:lnTo>
                  <a:lnTo>
                    <a:pt x="3110" y="1294"/>
                  </a:lnTo>
                  <a:lnTo>
                    <a:pt x="3091" y="1322"/>
                  </a:lnTo>
                  <a:lnTo>
                    <a:pt x="3071" y="1350"/>
                  </a:lnTo>
                  <a:lnTo>
                    <a:pt x="3050" y="1379"/>
                  </a:lnTo>
                  <a:lnTo>
                    <a:pt x="3026" y="1407"/>
                  </a:lnTo>
                  <a:lnTo>
                    <a:pt x="3003" y="1437"/>
                  </a:lnTo>
                  <a:lnTo>
                    <a:pt x="2979" y="1466"/>
                  </a:lnTo>
                  <a:lnTo>
                    <a:pt x="2956" y="1496"/>
                  </a:lnTo>
                  <a:lnTo>
                    <a:pt x="2933" y="1526"/>
                  </a:lnTo>
                  <a:lnTo>
                    <a:pt x="2910" y="1557"/>
                  </a:lnTo>
                  <a:lnTo>
                    <a:pt x="2890" y="1589"/>
                  </a:lnTo>
                  <a:lnTo>
                    <a:pt x="2869" y="1622"/>
                  </a:lnTo>
                  <a:lnTo>
                    <a:pt x="2840" y="1650"/>
                  </a:lnTo>
                  <a:lnTo>
                    <a:pt x="2840" y="1669"/>
                  </a:lnTo>
                  <a:lnTo>
                    <a:pt x="2890" y="1668"/>
                  </a:lnTo>
                  <a:lnTo>
                    <a:pt x="2955" y="1572"/>
                  </a:lnTo>
                  <a:lnTo>
                    <a:pt x="2976" y="1551"/>
                  </a:lnTo>
                  <a:lnTo>
                    <a:pt x="3157" y="1336"/>
                  </a:lnTo>
                  <a:lnTo>
                    <a:pt x="2938" y="1659"/>
                  </a:lnTo>
                  <a:lnTo>
                    <a:pt x="3072" y="1646"/>
                  </a:lnTo>
                  <a:lnTo>
                    <a:pt x="3139" y="1578"/>
                  </a:lnTo>
                  <a:lnTo>
                    <a:pt x="3122" y="1635"/>
                  </a:lnTo>
                  <a:lnTo>
                    <a:pt x="3191" y="1683"/>
                  </a:lnTo>
                  <a:lnTo>
                    <a:pt x="3229" y="1682"/>
                  </a:lnTo>
                  <a:lnTo>
                    <a:pt x="3248" y="1672"/>
                  </a:lnTo>
                  <a:lnTo>
                    <a:pt x="3268" y="1662"/>
                  </a:lnTo>
                  <a:lnTo>
                    <a:pt x="3285" y="1586"/>
                  </a:lnTo>
                  <a:lnTo>
                    <a:pt x="3265" y="1528"/>
                  </a:lnTo>
                  <a:lnTo>
                    <a:pt x="3451" y="1534"/>
                  </a:lnTo>
                  <a:lnTo>
                    <a:pt x="3468" y="1524"/>
                  </a:lnTo>
                  <a:lnTo>
                    <a:pt x="3508" y="1483"/>
                  </a:lnTo>
                  <a:lnTo>
                    <a:pt x="3515" y="1435"/>
                  </a:lnTo>
                  <a:lnTo>
                    <a:pt x="3514" y="1366"/>
                  </a:lnTo>
                  <a:lnTo>
                    <a:pt x="3573" y="1406"/>
                  </a:lnTo>
                  <a:lnTo>
                    <a:pt x="3573" y="1454"/>
                  </a:lnTo>
                  <a:lnTo>
                    <a:pt x="3488" y="1582"/>
                  </a:lnTo>
                  <a:lnTo>
                    <a:pt x="3452" y="1600"/>
                  </a:lnTo>
                  <a:lnTo>
                    <a:pt x="3344" y="1614"/>
                  </a:lnTo>
                  <a:lnTo>
                    <a:pt x="3317" y="1710"/>
                  </a:lnTo>
                  <a:lnTo>
                    <a:pt x="3269" y="1711"/>
                  </a:lnTo>
                  <a:lnTo>
                    <a:pt x="3250" y="1748"/>
                  </a:lnTo>
                  <a:lnTo>
                    <a:pt x="3231" y="1759"/>
                  </a:lnTo>
                  <a:lnTo>
                    <a:pt x="3233" y="1904"/>
                  </a:lnTo>
                  <a:lnTo>
                    <a:pt x="3186" y="1993"/>
                  </a:lnTo>
                  <a:lnTo>
                    <a:pt x="3130" y="2034"/>
                  </a:lnTo>
                  <a:lnTo>
                    <a:pt x="3090" y="2034"/>
                  </a:lnTo>
                  <a:lnTo>
                    <a:pt x="3091" y="2168"/>
                  </a:lnTo>
                  <a:lnTo>
                    <a:pt x="3084" y="2365"/>
                  </a:lnTo>
                  <a:lnTo>
                    <a:pt x="2968" y="2366"/>
                  </a:lnTo>
                  <a:lnTo>
                    <a:pt x="2950" y="2375"/>
                  </a:lnTo>
                  <a:lnTo>
                    <a:pt x="2872" y="2377"/>
                  </a:lnTo>
                  <a:lnTo>
                    <a:pt x="2823" y="2377"/>
                  </a:lnTo>
                  <a:lnTo>
                    <a:pt x="1565" y="2439"/>
                  </a:lnTo>
                  <a:lnTo>
                    <a:pt x="1546" y="2457"/>
                  </a:lnTo>
                  <a:lnTo>
                    <a:pt x="1548" y="2496"/>
                  </a:lnTo>
                  <a:lnTo>
                    <a:pt x="1530" y="2564"/>
                  </a:lnTo>
                  <a:lnTo>
                    <a:pt x="1549" y="2564"/>
                  </a:lnTo>
                  <a:lnTo>
                    <a:pt x="1572" y="2557"/>
                  </a:lnTo>
                  <a:lnTo>
                    <a:pt x="1596" y="2551"/>
                  </a:lnTo>
                  <a:lnTo>
                    <a:pt x="1618" y="2546"/>
                  </a:lnTo>
                  <a:lnTo>
                    <a:pt x="1640" y="2542"/>
                  </a:lnTo>
                  <a:lnTo>
                    <a:pt x="1662" y="2540"/>
                  </a:lnTo>
                  <a:lnTo>
                    <a:pt x="1684" y="2538"/>
                  </a:lnTo>
                  <a:lnTo>
                    <a:pt x="1707" y="2537"/>
                  </a:lnTo>
                  <a:lnTo>
                    <a:pt x="1727" y="2538"/>
                  </a:lnTo>
                  <a:lnTo>
                    <a:pt x="1750" y="2540"/>
                  </a:lnTo>
                  <a:lnTo>
                    <a:pt x="1772" y="2542"/>
                  </a:lnTo>
                  <a:lnTo>
                    <a:pt x="1794" y="2546"/>
                  </a:lnTo>
                  <a:lnTo>
                    <a:pt x="1816" y="2551"/>
                  </a:lnTo>
                  <a:lnTo>
                    <a:pt x="1838" y="2556"/>
                  </a:lnTo>
                  <a:lnTo>
                    <a:pt x="1862" y="2563"/>
                  </a:lnTo>
                  <a:lnTo>
                    <a:pt x="1885" y="2569"/>
                  </a:lnTo>
                  <a:lnTo>
                    <a:pt x="1908" y="2578"/>
                  </a:lnTo>
                  <a:lnTo>
                    <a:pt x="1889" y="2636"/>
                  </a:lnTo>
                  <a:lnTo>
                    <a:pt x="1510" y="2585"/>
                  </a:lnTo>
                  <a:lnTo>
                    <a:pt x="1463" y="2624"/>
                  </a:lnTo>
                  <a:lnTo>
                    <a:pt x="1268" y="2607"/>
                  </a:lnTo>
                  <a:lnTo>
                    <a:pt x="1101" y="2457"/>
                  </a:lnTo>
                  <a:lnTo>
                    <a:pt x="1098" y="2312"/>
                  </a:lnTo>
                  <a:lnTo>
                    <a:pt x="760" y="2306"/>
                  </a:lnTo>
                  <a:lnTo>
                    <a:pt x="734" y="2530"/>
                  </a:lnTo>
                  <a:lnTo>
                    <a:pt x="823" y="2557"/>
                  </a:lnTo>
                  <a:lnTo>
                    <a:pt x="851" y="2548"/>
                  </a:lnTo>
                  <a:lnTo>
                    <a:pt x="888" y="2479"/>
                  </a:lnTo>
                  <a:lnTo>
                    <a:pt x="927" y="2478"/>
                  </a:lnTo>
                  <a:lnTo>
                    <a:pt x="946" y="2496"/>
                  </a:lnTo>
                  <a:lnTo>
                    <a:pt x="946" y="2517"/>
                  </a:lnTo>
                  <a:lnTo>
                    <a:pt x="889" y="2606"/>
                  </a:lnTo>
                  <a:lnTo>
                    <a:pt x="842" y="2615"/>
                  </a:lnTo>
                  <a:lnTo>
                    <a:pt x="686" y="2588"/>
                  </a:lnTo>
                  <a:lnTo>
                    <a:pt x="677" y="2560"/>
                  </a:lnTo>
                  <a:lnTo>
                    <a:pt x="701" y="2297"/>
                  </a:lnTo>
                  <a:lnTo>
                    <a:pt x="498" y="2292"/>
                  </a:lnTo>
                  <a:lnTo>
                    <a:pt x="391" y="2275"/>
                  </a:lnTo>
                  <a:lnTo>
                    <a:pt x="389" y="2245"/>
                  </a:lnTo>
                  <a:lnTo>
                    <a:pt x="700" y="2231"/>
                  </a:lnTo>
                  <a:lnTo>
                    <a:pt x="767" y="1675"/>
                  </a:lnTo>
                  <a:lnTo>
                    <a:pt x="729" y="1698"/>
                  </a:lnTo>
                  <a:lnTo>
                    <a:pt x="671" y="1757"/>
                  </a:lnTo>
                  <a:lnTo>
                    <a:pt x="642" y="1757"/>
                  </a:lnTo>
                  <a:lnTo>
                    <a:pt x="605" y="1787"/>
                  </a:lnTo>
                  <a:lnTo>
                    <a:pt x="569" y="1818"/>
                  </a:lnTo>
                  <a:lnTo>
                    <a:pt x="533" y="1848"/>
                  </a:lnTo>
                  <a:lnTo>
                    <a:pt x="499" y="1877"/>
                  </a:lnTo>
                  <a:lnTo>
                    <a:pt x="466" y="1907"/>
                  </a:lnTo>
                  <a:lnTo>
                    <a:pt x="432" y="1935"/>
                  </a:lnTo>
                  <a:lnTo>
                    <a:pt x="400" y="1965"/>
                  </a:lnTo>
                  <a:lnTo>
                    <a:pt x="368" y="1994"/>
                  </a:lnTo>
                  <a:lnTo>
                    <a:pt x="338" y="2025"/>
                  </a:lnTo>
                  <a:lnTo>
                    <a:pt x="307" y="2057"/>
                  </a:lnTo>
                  <a:lnTo>
                    <a:pt x="277" y="2089"/>
                  </a:lnTo>
                  <a:lnTo>
                    <a:pt x="249" y="2122"/>
                  </a:lnTo>
                  <a:lnTo>
                    <a:pt x="221" y="2157"/>
                  </a:lnTo>
                  <a:lnTo>
                    <a:pt x="192" y="2192"/>
                  </a:lnTo>
                  <a:lnTo>
                    <a:pt x="165" y="2231"/>
                  </a:lnTo>
                  <a:lnTo>
                    <a:pt x="138" y="2270"/>
                  </a:lnTo>
                  <a:lnTo>
                    <a:pt x="88" y="2260"/>
                  </a:lnTo>
                  <a:lnTo>
                    <a:pt x="127" y="1650"/>
                  </a:lnTo>
                  <a:lnTo>
                    <a:pt x="88" y="1631"/>
                  </a:lnTo>
                  <a:lnTo>
                    <a:pt x="133" y="1534"/>
                  </a:lnTo>
                  <a:lnTo>
                    <a:pt x="143" y="1476"/>
                  </a:lnTo>
                  <a:lnTo>
                    <a:pt x="142" y="1401"/>
                  </a:lnTo>
                  <a:lnTo>
                    <a:pt x="141" y="1325"/>
                  </a:lnTo>
                  <a:lnTo>
                    <a:pt x="139" y="1250"/>
                  </a:lnTo>
                  <a:lnTo>
                    <a:pt x="138" y="1174"/>
                  </a:lnTo>
                  <a:lnTo>
                    <a:pt x="62" y="1235"/>
                  </a:lnTo>
                  <a:lnTo>
                    <a:pt x="137" y="1107"/>
                  </a:lnTo>
                  <a:lnTo>
                    <a:pt x="125" y="1038"/>
                  </a:lnTo>
                  <a:lnTo>
                    <a:pt x="123" y="950"/>
                  </a:lnTo>
                  <a:lnTo>
                    <a:pt x="133" y="893"/>
                  </a:lnTo>
                  <a:lnTo>
                    <a:pt x="152" y="884"/>
                  </a:lnTo>
                  <a:lnTo>
                    <a:pt x="210" y="873"/>
                  </a:lnTo>
                  <a:lnTo>
                    <a:pt x="201" y="847"/>
                  </a:lnTo>
                  <a:lnTo>
                    <a:pt x="196" y="821"/>
                  </a:lnTo>
                  <a:lnTo>
                    <a:pt x="196" y="797"/>
                  </a:lnTo>
                  <a:lnTo>
                    <a:pt x="198" y="771"/>
                  </a:lnTo>
                  <a:lnTo>
                    <a:pt x="206" y="745"/>
                  </a:lnTo>
                  <a:lnTo>
                    <a:pt x="216" y="720"/>
                  </a:lnTo>
                  <a:lnTo>
                    <a:pt x="229" y="694"/>
                  </a:lnTo>
                  <a:lnTo>
                    <a:pt x="245" y="669"/>
                  </a:lnTo>
                  <a:lnTo>
                    <a:pt x="254" y="621"/>
                  </a:lnTo>
                  <a:lnTo>
                    <a:pt x="245" y="639"/>
                  </a:lnTo>
                  <a:lnTo>
                    <a:pt x="226" y="582"/>
                  </a:lnTo>
                  <a:lnTo>
                    <a:pt x="195" y="534"/>
                  </a:lnTo>
                  <a:lnTo>
                    <a:pt x="191" y="490"/>
                  </a:lnTo>
                  <a:lnTo>
                    <a:pt x="191" y="446"/>
                  </a:lnTo>
                  <a:lnTo>
                    <a:pt x="195" y="401"/>
                  </a:lnTo>
                  <a:lnTo>
                    <a:pt x="205" y="357"/>
                  </a:lnTo>
                  <a:lnTo>
                    <a:pt x="222" y="313"/>
                  </a:lnTo>
                  <a:lnTo>
                    <a:pt x="246" y="271"/>
                  </a:lnTo>
                  <a:lnTo>
                    <a:pt x="280" y="230"/>
                  </a:lnTo>
                  <a:lnTo>
                    <a:pt x="324" y="191"/>
                  </a:lnTo>
                  <a:lnTo>
                    <a:pt x="345" y="179"/>
                  </a:lnTo>
                  <a:lnTo>
                    <a:pt x="366" y="166"/>
                  </a:lnTo>
                  <a:lnTo>
                    <a:pt x="387" y="154"/>
                  </a:lnTo>
                  <a:lnTo>
                    <a:pt x="408" y="143"/>
                  </a:lnTo>
                  <a:lnTo>
                    <a:pt x="427" y="133"/>
                  </a:lnTo>
                  <a:lnTo>
                    <a:pt x="447" y="123"/>
                  </a:lnTo>
                  <a:lnTo>
                    <a:pt x="467" y="113"/>
                  </a:lnTo>
                  <a:lnTo>
                    <a:pt x="487" y="105"/>
                  </a:lnTo>
                  <a:lnTo>
                    <a:pt x="506" y="97"/>
                  </a:lnTo>
                  <a:lnTo>
                    <a:pt x="526" y="91"/>
                  </a:lnTo>
                  <a:lnTo>
                    <a:pt x="546" y="85"/>
                  </a:lnTo>
                  <a:lnTo>
                    <a:pt x="564" y="80"/>
                  </a:lnTo>
                  <a:lnTo>
                    <a:pt x="584" y="76"/>
                  </a:lnTo>
                  <a:lnTo>
                    <a:pt x="603" y="73"/>
                  </a:lnTo>
                  <a:lnTo>
                    <a:pt x="623" y="72"/>
                  </a:lnTo>
                  <a:lnTo>
                    <a:pt x="643" y="70"/>
                  </a:lnTo>
                  <a:lnTo>
                    <a:pt x="1514" y="44"/>
                  </a:lnTo>
                  <a:lnTo>
                    <a:pt x="2019" y="56"/>
                  </a:lnTo>
                  <a:lnTo>
                    <a:pt x="2000" y="116"/>
                  </a:lnTo>
                  <a:lnTo>
                    <a:pt x="2025" y="415"/>
                  </a:lnTo>
                  <a:lnTo>
                    <a:pt x="2180" y="413"/>
                  </a:lnTo>
                  <a:lnTo>
                    <a:pt x="2209" y="403"/>
                  </a:lnTo>
                  <a:lnTo>
                    <a:pt x="2226" y="197"/>
                  </a:lnTo>
                  <a:lnTo>
                    <a:pt x="2274" y="208"/>
                  </a:lnTo>
                  <a:lnTo>
                    <a:pt x="2260" y="499"/>
                  </a:lnTo>
                  <a:lnTo>
                    <a:pt x="2279" y="517"/>
                  </a:lnTo>
                  <a:lnTo>
                    <a:pt x="2270" y="595"/>
                  </a:lnTo>
                  <a:lnTo>
                    <a:pt x="2212" y="576"/>
                  </a:lnTo>
                  <a:lnTo>
                    <a:pt x="2210" y="470"/>
                  </a:lnTo>
                  <a:lnTo>
                    <a:pt x="2046" y="481"/>
                  </a:lnTo>
                  <a:lnTo>
                    <a:pt x="2028" y="608"/>
                  </a:lnTo>
                  <a:lnTo>
                    <a:pt x="2067" y="608"/>
                  </a:lnTo>
                  <a:lnTo>
                    <a:pt x="2029" y="677"/>
                  </a:lnTo>
                  <a:lnTo>
                    <a:pt x="2033" y="869"/>
                  </a:lnTo>
                  <a:lnTo>
                    <a:pt x="2061" y="880"/>
                  </a:lnTo>
                  <a:lnTo>
                    <a:pt x="2112" y="868"/>
                  </a:lnTo>
                  <a:lnTo>
                    <a:pt x="2158" y="867"/>
                  </a:lnTo>
                  <a:lnTo>
                    <a:pt x="2238" y="925"/>
                  </a:lnTo>
                  <a:lnTo>
                    <a:pt x="2285" y="877"/>
                  </a:lnTo>
                  <a:lnTo>
                    <a:pt x="2622" y="870"/>
                  </a:lnTo>
                  <a:lnTo>
                    <a:pt x="2789" y="868"/>
                  </a:lnTo>
                  <a:lnTo>
                    <a:pt x="2811" y="1049"/>
                  </a:lnTo>
                  <a:lnTo>
                    <a:pt x="2887" y="1019"/>
                  </a:lnTo>
                  <a:lnTo>
                    <a:pt x="2986" y="1038"/>
                  </a:lnTo>
                  <a:lnTo>
                    <a:pt x="3003" y="1028"/>
                  </a:lnTo>
                  <a:lnTo>
                    <a:pt x="2981" y="806"/>
                  </a:lnTo>
                  <a:lnTo>
                    <a:pt x="2998" y="747"/>
                  </a:lnTo>
                  <a:lnTo>
                    <a:pt x="3057" y="784"/>
                  </a:lnTo>
                  <a:lnTo>
                    <a:pt x="3096" y="774"/>
                  </a:lnTo>
                  <a:lnTo>
                    <a:pt x="3115" y="725"/>
                  </a:lnTo>
                  <a:lnTo>
                    <a:pt x="3164" y="694"/>
                  </a:lnTo>
                  <a:lnTo>
                    <a:pt x="3173" y="646"/>
                  </a:lnTo>
                  <a:lnTo>
                    <a:pt x="3152" y="607"/>
                  </a:lnTo>
                  <a:lnTo>
                    <a:pt x="3104" y="580"/>
                  </a:lnTo>
                  <a:lnTo>
                    <a:pt x="2822" y="605"/>
                  </a:lnTo>
                  <a:lnTo>
                    <a:pt x="2812" y="537"/>
                  </a:lnTo>
                  <a:lnTo>
                    <a:pt x="2806" y="159"/>
                  </a:lnTo>
                  <a:lnTo>
                    <a:pt x="2853" y="159"/>
                  </a:lnTo>
                  <a:lnTo>
                    <a:pt x="2865" y="245"/>
                  </a:lnTo>
                  <a:lnTo>
                    <a:pt x="2867" y="331"/>
                  </a:lnTo>
                  <a:lnTo>
                    <a:pt x="2874" y="321"/>
                  </a:lnTo>
                  <a:lnTo>
                    <a:pt x="2882" y="309"/>
                  </a:lnTo>
                  <a:lnTo>
                    <a:pt x="2893" y="294"/>
                  </a:lnTo>
                  <a:lnTo>
                    <a:pt x="2906" y="280"/>
                  </a:lnTo>
                  <a:lnTo>
                    <a:pt x="2920" y="262"/>
                  </a:lnTo>
                  <a:lnTo>
                    <a:pt x="2935" y="245"/>
                  </a:lnTo>
                  <a:lnTo>
                    <a:pt x="2952" y="227"/>
                  </a:lnTo>
                  <a:lnTo>
                    <a:pt x="2971" y="208"/>
                  </a:lnTo>
                  <a:lnTo>
                    <a:pt x="2991" y="191"/>
                  </a:lnTo>
                  <a:lnTo>
                    <a:pt x="3010" y="174"/>
                  </a:lnTo>
                  <a:lnTo>
                    <a:pt x="3031" y="158"/>
                  </a:lnTo>
                  <a:lnTo>
                    <a:pt x="3051" y="143"/>
                  </a:lnTo>
                  <a:lnTo>
                    <a:pt x="3073" y="129"/>
                  </a:lnTo>
                  <a:lnTo>
                    <a:pt x="3094" y="118"/>
                  </a:lnTo>
                  <a:lnTo>
                    <a:pt x="3114" y="110"/>
                  </a:lnTo>
                  <a:lnTo>
                    <a:pt x="3135" y="105"/>
                  </a:lnTo>
                  <a:lnTo>
                    <a:pt x="3201" y="113"/>
                  </a:lnTo>
                  <a:lnTo>
                    <a:pt x="3173" y="161"/>
                  </a:lnTo>
                  <a:lnTo>
                    <a:pt x="3039" y="223"/>
                  </a:lnTo>
                  <a:lnTo>
                    <a:pt x="2991" y="262"/>
                  </a:lnTo>
                  <a:lnTo>
                    <a:pt x="3137" y="230"/>
                  </a:lnTo>
                  <a:lnTo>
                    <a:pt x="3167" y="326"/>
                  </a:lnTo>
                  <a:lnTo>
                    <a:pt x="3252" y="180"/>
                  </a:lnTo>
                  <a:lnTo>
                    <a:pt x="3252" y="140"/>
                  </a:lnTo>
                  <a:lnTo>
                    <a:pt x="3231" y="152"/>
                  </a:lnTo>
                  <a:lnTo>
                    <a:pt x="3202" y="142"/>
                  </a:lnTo>
                  <a:lnTo>
                    <a:pt x="3229" y="83"/>
                  </a:lnTo>
                  <a:lnTo>
                    <a:pt x="3317" y="81"/>
                  </a:lnTo>
                  <a:lnTo>
                    <a:pt x="3332" y="296"/>
                  </a:lnTo>
                  <a:lnTo>
                    <a:pt x="3339" y="702"/>
                  </a:lnTo>
                  <a:lnTo>
                    <a:pt x="3300" y="702"/>
                  </a:lnTo>
                  <a:lnTo>
                    <a:pt x="3272" y="267"/>
                  </a:lnTo>
                  <a:lnTo>
                    <a:pt x="3265" y="282"/>
                  </a:lnTo>
                  <a:lnTo>
                    <a:pt x="3256" y="297"/>
                  </a:lnTo>
                  <a:lnTo>
                    <a:pt x="3247" y="312"/>
                  </a:lnTo>
                  <a:lnTo>
                    <a:pt x="3236" y="326"/>
                  </a:lnTo>
                  <a:lnTo>
                    <a:pt x="3224" y="342"/>
                  </a:lnTo>
                  <a:lnTo>
                    <a:pt x="3212" y="357"/>
                  </a:lnTo>
                  <a:lnTo>
                    <a:pt x="3200" y="372"/>
                  </a:lnTo>
                  <a:lnTo>
                    <a:pt x="3186" y="387"/>
                  </a:lnTo>
                  <a:lnTo>
                    <a:pt x="3171" y="401"/>
                  </a:lnTo>
                  <a:lnTo>
                    <a:pt x="3157" y="416"/>
                  </a:lnTo>
                  <a:lnTo>
                    <a:pt x="3142" y="430"/>
                  </a:lnTo>
                  <a:lnTo>
                    <a:pt x="3127" y="443"/>
                  </a:lnTo>
                  <a:lnTo>
                    <a:pt x="3111" y="457"/>
                  </a:lnTo>
                  <a:lnTo>
                    <a:pt x="3095" y="470"/>
                  </a:lnTo>
                  <a:lnTo>
                    <a:pt x="3079" y="483"/>
                  </a:lnTo>
                  <a:lnTo>
                    <a:pt x="3063" y="494"/>
                  </a:lnTo>
                  <a:lnTo>
                    <a:pt x="3121" y="512"/>
                  </a:lnTo>
                  <a:lnTo>
                    <a:pt x="3219" y="587"/>
                  </a:lnTo>
                  <a:lnTo>
                    <a:pt x="3231" y="675"/>
                  </a:lnTo>
                  <a:lnTo>
                    <a:pt x="3175" y="763"/>
                  </a:lnTo>
                  <a:lnTo>
                    <a:pt x="3058" y="863"/>
                  </a:lnTo>
                  <a:lnTo>
                    <a:pt x="3082" y="1026"/>
                  </a:lnTo>
                  <a:lnTo>
                    <a:pt x="3354" y="1022"/>
                  </a:lnTo>
                  <a:lnTo>
                    <a:pt x="3429" y="894"/>
                  </a:lnTo>
                  <a:lnTo>
                    <a:pt x="3447" y="884"/>
                  </a:lnTo>
                  <a:lnTo>
                    <a:pt x="3487" y="856"/>
                  </a:lnTo>
                  <a:lnTo>
                    <a:pt x="3456" y="787"/>
                  </a:lnTo>
                  <a:lnTo>
                    <a:pt x="3386" y="730"/>
                  </a:lnTo>
                  <a:lnTo>
                    <a:pt x="3339" y="713"/>
                  </a:lnTo>
                  <a:lnTo>
                    <a:pt x="3361" y="352"/>
                  </a:lnTo>
                  <a:lnTo>
                    <a:pt x="3375" y="91"/>
                  </a:lnTo>
                  <a:lnTo>
                    <a:pt x="3414" y="110"/>
                  </a:lnTo>
                  <a:lnTo>
                    <a:pt x="3428" y="224"/>
                  </a:lnTo>
                  <a:lnTo>
                    <a:pt x="3570" y="96"/>
                  </a:lnTo>
                  <a:lnTo>
                    <a:pt x="3607" y="48"/>
                  </a:lnTo>
                  <a:lnTo>
                    <a:pt x="3606" y="9"/>
                  </a:lnTo>
                  <a:lnTo>
                    <a:pt x="3558" y="10"/>
                  </a:lnTo>
                  <a:lnTo>
                    <a:pt x="3472" y="11"/>
                  </a:lnTo>
                  <a:lnTo>
                    <a:pt x="2938" y="0"/>
                  </a:lnTo>
                  <a:lnTo>
                    <a:pt x="2599" y="6"/>
                  </a:lnTo>
                  <a:lnTo>
                    <a:pt x="1436" y="9"/>
                  </a:lnTo>
                  <a:lnTo>
                    <a:pt x="1020" y="5"/>
                  </a:lnTo>
                  <a:lnTo>
                    <a:pt x="583" y="24"/>
                  </a:lnTo>
                  <a:lnTo>
                    <a:pt x="31" y="4"/>
                  </a:lnTo>
                  <a:lnTo>
                    <a:pt x="24" y="1322"/>
                  </a:lnTo>
                  <a:lnTo>
                    <a:pt x="35" y="2504"/>
                  </a:lnTo>
                  <a:lnTo>
                    <a:pt x="19" y="2658"/>
                  </a:lnTo>
                  <a:lnTo>
                    <a:pt x="0" y="2717"/>
                  </a:lnTo>
                  <a:lnTo>
                    <a:pt x="1018" y="2728"/>
                  </a:lnTo>
                  <a:lnTo>
                    <a:pt x="1153" y="2725"/>
                  </a:lnTo>
                  <a:lnTo>
                    <a:pt x="2269" y="2706"/>
                  </a:lnTo>
                  <a:lnTo>
                    <a:pt x="2771" y="2697"/>
                  </a:lnTo>
                  <a:lnTo>
                    <a:pt x="2859" y="2707"/>
                  </a:lnTo>
                  <a:lnTo>
                    <a:pt x="2945" y="2706"/>
                  </a:lnTo>
                  <a:lnTo>
                    <a:pt x="3120" y="2702"/>
                  </a:lnTo>
                  <a:lnTo>
                    <a:pt x="3586" y="2703"/>
                  </a:lnTo>
                  <a:lnTo>
                    <a:pt x="3625" y="2693"/>
                  </a:lnTo>
                  <a:close/>
                </a:path>
              </a:pathLst>
            </a:custGeom>
            <a:solidFill>
              <a:srgbClr val="dac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910960" y="4342320"/>
              <a:ext cx="492120" cy="379800"/>
            </a:xfrm>
            <a:custGeom>
              <a:avLst/>
              <a:gdLst/>
              <a:ahLst/>
              <a:rect l="l" t="t" r="r" b="b"/>
              <a:pathLst>
                <a:path w="701" h="549">
                  <a:moveTo>
                    <a:pt x="107" y="549"/>
                  </a:moveTo>
                  <a:lnTo>
                    <a:pt x="0" y="542"/>
                  </a:lnTo>
                  <a:lnTo>
                    <a:pt x="58" y="474"/>
                  </a:lnTo>
                  <a:lnTo>
                    <a:pt x="97" y="473"/>
                  </a:lnTo>
                  <a:lnTo>
                    <a:pt x="58" y="453"/>
                  </a:lnTo>
                  <a:lnTo>
                    <a:pt x="56" y="405"/>
                  </a:lnTo>
                  <a:lnTo>
                    <a:pt x="386" y="381"/>
                  </a:lnTo>
                  <a:lnTo>
                    <a:pt x="364" y="360"/>
                  </a:lnTo>
                  <a:lnTo>
                    <a:pt x="528" y="194"/>
                  </a:lnTo>
                  <a:lnTo>
                    <a:pt x="552" y="0"/>
                  </a:lnTo>
                  <a:lnTo>
                    <a:pt x="573" y="66"/>
                  </a:lnTo>
                  <a:lnTo>
                    <a:pt x="576" y="221"/>
                  </a:lnTo>
                  <a:lnTo>
                    <a:pt x="577" y="269"/>
                  </a:lnTo>
                  <a:lnTo>
                    <a:pt x="628" y="298"/>
                  </a:lnTo>
                  <a:lnTo>
                    <a:pt x="632" y="123"/>
                  </a:lnTo>
                  <a:lnTo>
                    <a:pt x="672" y="94"/>
                  </a:lnTo>
                  <a:lnTo>
                    <a:pt x="673" y="219"/>
                  </a:lnTo>
                  <a:lnTo>
                    <a:pt x="701" y="210"/>
                  </a:lnTo>
                  <a:lnTo>
                    <a:pt x="687" y="404"/>
                  </a:lnTo>
                  <a:lnTo>
                    <a:pt x="657" y="336"/>
                  </a:lnTo>
                  <a:lnTo>
                    <a:pt x="639" y="442"/>
                  </a:lnTo>
                  <a:lnTo>
                    <a:pt x="599" y="377"/>
                  </a:lnTo>
                  <a:lnTo>
                    <a:pt x="581" y="453"/>
                  </a:lnTo>
                  <a:lnTo>
                    <a:pt x="543" y="455"/>
                  </a:lnTo>
                  <a:lnTo>
                    <a:pt x="522" y="473"/>
                  </a:lnTo>
                  <a:lnTo>
                    <a:pt x="134" y="492"/>
                  </a:lnTo>
                  <a:lnTo>
                    <a:pt x="165" y="519"/>
                  </a:lnTo>
                  <a:lnTo>
                    <a:pt x="107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081080" y="4456800"/>
              <a:ext cx="236520" cy="194760"/>
            </a:xfrm>
            <a:custGeom>
              <a:avLst/>
              <a:gdLst/>
              <a:ahLst/>
              <a:rect l="l" t="t" r="r" b="b"/>
              <a:pathLst>
                <a:path w="338" h="281">
                  <a:moveTo>
                    <a:pt x="187" y="280"/>
                  </a:moveTo>
                  <a:lnTo>
                    <a:pt x="129" y="281"/>
                  </a:lnTo>
                  <a:lnTo>
                    <a:pt x="21" y="235"/>
                  </a:lnTo>
                  <a:lnTo>
                    <a:pt x="9" y="205"/>
                  </a:lnTo>
                  <a:lnTo>
                    <a:pt x="1" y="187"/>
                  </a:lnTo>
                  <a:lnTo>
                    <a:pt x="0" y="149"/>
                  </a:lnTo>
                  <a:lnTo>
                    <a:pt x="46" y="60"/>
                  </a:lnTo>
                  <a:lnTo>
                    <a:pt x="65" y="20"/>
                  </a:lnTo>
                  <a:lnTo>
                    <a:pt x="201" y="0"/>
                  </a:lnTo>
                  <a:lnTo>
                    <a:pt x="318" y="93"/>
                  </a:lnTo>
                  <a:lnTo>
                    <a:pt x="338" y="162"/>
                  </a:lnTo>
                  <a:lnTo>
                    <a:pt x="274" y="261"/>
                  </a:lnTo>
                  <a:lnTo>
                    <a:pt x="187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1864800" y="4600800"/>
              <a:ext cx="10800" cy="2628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0" y="40"/>
                  </a:moveTo>
                  <a:lnTo>
                    <a:pt x="18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121760" y="4505400"/>
              <a:ext cx="162720" cy="114480"/>
            </a:xfrm>
            <a:custGeom>
              <a:avLst/>
              <a:gdLst/>
              <a:ahLst/>
              <a:rect l="l" t="t" r="r" b="b"/>
              <a:pathLst>
                <a:path w="231" h="167">
                  <a:moveTo>
                    <a:pt x="87" y="167"/>
                  </a:moveTo>
                  <a:lnTo>
                    <a:pt x="0" y="110"/>
                  </a:lnTo>
                  <a:lnTo>
                    <a:pt x="0" y="71"/>
                  </a:lnTo>
                  <a:lnTo>
                    <a:pt x="27" y="31"/>
                  </a:lnTo>
                  <a:lnTo>
                    <a:pt x="96" y="30"/>
                  </a:lnTo>
                  <a:lnTo>
                    <a:pt x="114" y="0"/>
                  </a:lnTo>
                  <a:lnTo>
                    <a:pt x="192" y="20"/>
                  </a:lnTo>
                  <a:lnTo>
                    <a:pt x="220" y="57"/>
                  </a:lnTo>
                  <a:lnTo>
                    <a:pt x="231" y="77"/>
                  </a:lnTo>
                  <a:lnTo>
                    <a:pt x="186" y="156"/>
                  </a:lnTo>
                  <a:lnTo>
                    <a:pt x="87" y="16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337760" y="4506840"/>
              <a:ext cx="102240" cy="20520"/>
            </a:xfrm>
            <a:custGeom>
              <a:avLst/>
              <a:gdLst/>
              <a:ahLst/>
              <a:rect l="l" t="t" r="r" b="b"/>
              <a:pathLst>
                <a:path w="146" h="29">
                  <a:moveTo>
                    <a:pt x="108" y="29"/>
                  </a:moveTo>
                  <a:lnTo>
                    <a:pt x="40" y="2"/>
                  </a:lnTo>
                  <a:lnTo>
                    <a:pt x="0" y="4"/>
                  </a:lnTo>
                  <a:lnTo>
                    <a:pt x="146" y="0"/>
                  </a:lnTo>
                  <a:lnTo>
                    <a:pt x="10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595520" y="4476240"/>
              <a:ext cx="75960" cy="468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30" y="68"/>
                  </a:moveTo>
                  <a:lnTo>
                    <a:pt x="1" y="39"/>
                  </a:lnTo>
                  <a:lnTo>
                    <a:pt x="0" y="0"/>
                  </a:lnTo>
                  <a:lnTo>
                    <a:pt x="76" y="8"/>
                  </a:lnTo>
                  <a:lnTo>
                    <a:pt x="107" y="66"/>
                  </a:lnTo>
                  <a:lnTo>
                    <a:pt x="3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505880" y="3423600"/>
              <a:ext cx="1605240" cy="1081440"/>
            </a:xfrm>
            <a:custGeom>
              <a:avLst/>
              <a:gdLst/>
              <a:ahLst/>
              <a:rect l="l" t="t" r="r" b="b"/>
              <a:pathLst>
                <a:path w="2288" h="1565">
                  <a:moveTo>
                    <a:pt x="1146" y="1557"/>
                  </a:moveTo>
                  <a:lnTo>
                    <a:pt x="1011" y="1559"/>
                  </a:lnTo>
                  <a:lnTo>
                    <a:pt x="999" y="1490"/>
                  </a:lnTo>
                  <a:lnTo>
                    <a:pt x="950" y="1434"/>
                  </a:lnTo>
                  <a:lnTo>
                    <a:pt x="968" y="1317"/>
                  </a:lnTo>
                  <a:lnTo>
                    <a:pt x="956" y="1279"/>
                  </a:lnTo>
                  <a:lnTo>
                    <a:pt x="1101" y="1286"/>
                  </a:lnTo>
                  <a:lnTo>
                    <a:pt x="1122" y="1265"/>
                  </a:lnTo>
                  <a:lnTo>
                    <a:pt x="1122" y="1245"/>
                  </a:lnTo>
                  <a:lnTo>
                    <a:pt x="1091" y="1228"/>
                  </a:lnTo>
                  <a:lnTo>
                    <a:pt x="1024" y="1220"/>
                  </a:lnTo>
                  <a:lnTo>
                    <a:pt x="1023" y="1121"/>
                  </a:lnTo>
                  <a:lnTo>
                    <a:pt x="1031" y="1055"/>
                  </a:lnTo>
                  <a:lnTo>
                    <a:pt x="1010" y="987"/>
                  </a:lnTo>
                  <a:lnTo>
                    <a:pt x="982" y="1026"/>
                  </a:lnTo>
                  <a:lnTo>
                    <a:pt x="1005" y="1229"/>
                  </a:lnTo>
                  <a:lnTo>
                    <a:pt x="936" y="1210"/>
                  </a:lnTo>
                  <a:lnTo>
                    <a:pt x="945" y="1104"/>
                  </a:lnTo>
                  <a:lnTo>
                    <a:pt x="914" y="988"/>
                  </a:lnTo>
                  <a:lnTo>
                    <a:pt x="885" y="989"/>
                  </a:lnTo>
                  <a:lnTo>
                    <a:pt x="887" y="1163"/>
                  </a:lnTo>
                  <a:lnTo>
                    <a:pt x="878" y="1232"/>
                  </a:lnTo>
                  <a:lnTo>
                    <a:pt x="238" y="1213"/>
                  </a:lnTo>
                  <a:lnTo>
                    <a:pt x="189" y="1243"/>
                  </a:lnTo>
                  <a:lnTo>
                    <a:pt x="190" y="1261"/>
                  </a:lnTo>
                  <a:lnTo>
                    <a:pt x="433" y="1258"/>
                  </a:lnTo>
                  <a:lnTo>
                    <a:pt x="376" y="1367"/>
                  </a:lnTo>
                  <a:lnTo>
                    <a:pt x="368" y="1455"/>
                  </a:lnTo>
                  <a:lnTo>
                    <a:pt x="0" y="1440"/>
                  </a:lnTo>
                  <a:lnTo>
                    <a:pt x="77" y="848"/>
                  </a:lnTo>
                  <a:lnTo>
                    <a:pt x="145" y="780"/>
                  </a:lnTo>
                  <a:lnTo>
                    <a:pt x="152" y="741"/>
                  </a:lnTo>
                  <a:lnTo>
                    <a:pt x="84" y="694"/>
                  </a:lnTo>
                  <a:lnTo>
                    <a:pt x="55" y="636"/>
                  </a:lnTo>
                  <a:lnTo>
                    <a:pt x="24" y="540"/>
                  </a:lnTo>
                  <a:lnTo>
                    <a:pt x="24" y="508"/>
                  </a:lnTo>
                  <a:lnTo>
                    <a:pt x="28" y="476"/>
                  </a:lnTo>
                  <a:lnTo>
                    <a:pt x="32" y="444"/>
                  </a:lnTo>
                  <a:lnTo>
                    <a:pt x="39" y="411"/>
                  </a:lnTo>
                  <a:lnTo>
                    <a:pt x="49" y="378"/>
                  </a:lnTo>
                  <a:lnTo>
                    <a:pt x="60" y="344"/>
                  </a:lnTo>
                  <a:lnTo>
                    <a:pt x="73" y="311"/>
                  </a:lnTo>
                  <a:lnTo>
                    <a:pt x="88" y="278"/>
                  </a:lnTo>
                  <a:lnTo>
                    <a:pt x="107" y="246"/>
                  </a:lnTo>
                  <a:lnTo>
                    <a:pt x="126" y="213"/>
                  </a:lnTo>
                  <a:lnTo>
                    <a:pt x="147" y="181"/>
                  </a:lnTo>
                  <a:lnTo>
                    <a:pt x="171" y="149"/>
                  </a:lnTo>
                  <a:lnTo>
                    <a:pt x="196" y="118"/>
                  </a:lnTo>
                  <a:lnTo>
                    <a:pt x="225" y="88"/>
                  </a:lnTo>
                  <a:lnTo>
                    <a:pt x="254" y="59"/>
                  </a:lnTo>
                  <a:lnTo>
                    <a:pt x="285" y="31"/>
                  </a:lnTo>
                  <a:lnTo>
                    <a:pt x="306" y="21"/>
                  </a:lnTo>
                  <a:lnTo>
                    <a:pt x="328" y="12"/>
                  </a:lnTo>
                  <a:lnTo>
                    <a:pt x="348" y="6"/>
                  </a:lnTo>
                  <a:lnTo>
                    <a:pt x="369" y="2"/>
                  </a:lnTo>
                  <a:lnTo>
                    <a:pt x="389" y="0"/>
                  </a:lnTo>
                  <a:lnTo>
                    <a:pt x="409" y="0"/>
                  </a:lnTo>
                  <a:lnTo>
                    <a:pt x="429" y="1"/>
                  </a:lnTo>
                  <a:lnTo>
                    <a:pt x="449" y="3"/>
                  </a:lnTo>
                  <a:lnTo>
                    <a:pt x="469" y="8"/>
                  </a:lnTo>
                  <a:lnTo>
                    <a:pt x="488" y="13"/>
                  </a:lnTo>
                  <a:lnTo>
                    <a:pt x="508" y="19"/>
                  </a:lnTo>
                  <a:lnTo>
                    <a:pt x="528" y="27"/>
                  </a:lnTo>
                  <a:lnTo>
                    <a:pt x="547" y="35"/>
                  </a:lnTo>
                  <a:lnTo>
                    <a:pt x="567" y="44"/>
                  </a:lnTo>
                  <a:lnTo>
                    <a:pt x="587" y="54"/>
                  </a:lnTo>
                  <a:lnTo>
                    <a:pt x="608" y="64"/>
                  </a:lnTo>
                  <a:lnTo>
                    <a:pt x="640" y="86"/>
                  </a:lnTo>
                  <a:lnTo>
                    <a:pt x="670" y="111"/>
                  </a:lnTo>
                  <a:lnTo>
                    <a:pt x="698" y="138"/>
                  </a:lnTo>
                  <a:lnTo>
                    <a:pt x="723" y="165"/>
                  </a:lnTo>
                  <a:lnTo>
                    <a:pt x="746" y="193"/>
                  </a:lnTo>
                  <a:lnTo>
                    <a:pt x="764" y="220"/>
                  </a:lnTo>
                  <a:lnTo>
                    <a:pt x="781" y="247"/>
                  </a:lnTo>
                  <a:lnTo>
                    <a:pt x="794" y="273"/>
                  </a:lnTo>
                  <a:lnTo>
                    <a:pt x="807" y="316"/>
                  </a:lnTo>
                  <a:lnTo>
                    <a:pt x="818" y="357"/>
                  </a:lnTo>
                  <a:lnTo>
                    <a:pt x="824" y="397"/>
                  </a:lnTo>
                  <a:lnTo>
                    <a:pt x="829" y="437"/>
                  </a:lnTo>
                  <a:lnTo>
                    <a:pt x="829" y="476"/>
                  </a:lnTo>
                  <a:lnTo>
                    <a:pt x="828" y="514"/>
                  </a:lnTo>
                  <a:lnTo>
                    <a:pt x="826" y="554"/>
                  </a:lnTo>
                  <a:lnTo>
                    <a:pt x="819" y="594"/>
                  </a:lnTo>
                  <a:lnTo>
                    <a:pt x="684" y="644"/>
                  </a:lnTo>
                  <a:lnTo>
                    <a:pt x="608" y="704"/>
                  </a:lnTo>
                  <a:lnTo>
                    <a:pt x="568" y="744"/>
                  </a:lnTo>
                  <a:lnTo>
                    <a:pt x="569" y="773"/>
                  </a:lnTo>
                  <a:lnTo>
                    <a:pt x="620" y="772"/>
                  </a:lnTo>
                  <a:lnTo>
                    <a:pt x="599" y="811"/>
                  </a:lnTo>
                  <a:lnTo>
                    <a:pt x="717" y="895"/>
                  </a:lnTo>
                  <a:lnTo>
                    <a:pt x="913" y="901"/>
                  </a:lnTo>
                  <a:lnTo>
                    <a:pt x="978" y="870"/>
                  </a:lnTo>
                  <a:lnTo>
                    <a:pt x="1046" y="802"/>
                  </a:lnTo>
                  <a:lnTo>
                    <a:pt x="1046" y="773"/>
                  </a:lnTo>
                  <a:lnTo>
                    <a:pt x="869" y="623"/>
                  </a:lnTo>
                  <a:lnTo>
                    <a:pt x="882" y="370"/>
                  </a:lnTo>
                  <a:lnTo>
                    <a:pt x="1223" y="364"/>
                  </a:lnTo>
                  <a:lnTo>
                    <a:pt x="1233" y="480"/>
                  </a:lnTo>
                  <a:lnTo>
                    <a:pt x="1227" y="538"/>
                  </a:lnTo>
                  <a:lnTo>
                    <a:pt x="1259" y="741"/>
                  </a:lnTo>
                  <a:lnTo>
                    <a:pt x="1564" y="455"/>
                  </a:lnTo>
                  <a:lnTo>
                    <a:pt x="1601" y="464"/>
                  </a:lnTo>
                  <a:lnTo>
                    <a:pt x="1403" y="730"/>
                  </a:lnTo>
                  <a:lnTo>
                    <a:pt x="1365" y="768"/>
                  </a:lnTo>
                  <a:lnTo>
                    <a:pt x="1641" y="502"/>
                  </a:lnTo>
                  <a:lnTo>
                    <a:pt x="1689" y="520"/>
                  </a:lnTo>
                  <a:lnTo>
                    <a:pt x="1701" y="550"/>
                  </a:lnTo>
                  <a:lnTo>
                    <a:pt x="1521" y="786"/>
                  </a:lnTo>
                  <a:lnTo>
                    <a:pt x="1521" y="805"/>
                  </a:lnTo>
                  <a:lnTo>
                    <a:pt x="1579" y="756"/>
                  </a:lnTo>
                  <a:lnTo>
                    <a:pt x="1771" y="760"/>
                  </a:lnTo>
                  <a:lnTo>
                    <a:pt x="1648" y="946"/>
                  </a:lnTo>
                  <a:lnTo>
                    <a:pt x="1535" y="977"/>
                  </a:lnTo>
                  <a:lnTo>
                    <a:pt x="1213" y="972"/>
                  </a:lnTo>
                  <a:lnTo>
                    <a:pt x="1184" y="954"/>
                  </a:lnTo>
                  <a:lnTo>
                    <a:pt x="1126" y="955"/>
                  </a:lnTo>
                  <a:lnTo>
                    <a:pt x="1117" y="1003"/>
                  </a:lnTo>
                  <a:lnTo>
                    <a:pt x="1088" y="1004"/>
                  </a:lnTo>
                  <a:lnTo>
                    <a:pt x="1090" y="1149"/>
                  </a:lnTo>
                  <a:lnTo>
                    <a:pt x="1121" y="1178"/>
                  </a:lnTo>
                  <a:lnTo>
                    <a:pt x="1107" y="1003"/>
                  </a:lnTo>
                  <a:lnTo>
                    <a:pt x="1448" y="1047"/>
                  </a:lnTo>
                  <a:lnTo>
                    <a:pt x="1658" y="1004"/>
                  </a:lnTo>
                  <a:lnTo>
                    <a:pt x="1679" y="993"/>
                  </a:lnTo>
                  <a:lnTo>
                    <a:pt x="1708" y="973"/>
                  </a:lnTo>
                  <a:lnTo>
                    <a:pt x="1733" y="950"/>
                  </a:lnTo>
                  <a:lnTo>
                    <a:pt x="1754" y="924"/>
                  </a:lnTo>
                  <a:lnTo>
                    <a:pt x="1771" y="898"/>
                  </a:lnTo>
                  <a:lnTo>
                    <a:pt x="1786" y="870"/>
                  </a:lnTo>
                  <a:lnTo>
                    <a:pt x="1798" y="843"/>
                  </a:lnTo>
                  <a:lnTo>
                    <a:pt x="1809" y="815"/>
                  </a:lnTo>
                  <a:lnTo>
                    <a:pt x="1820" y="789"/>
                  </a:lnTo>
                  <a:lnTo>
                    <a:pt x="2014" y="757"/>
                  </a:lnTo>
                  <a:lnTo>
                    <a:pt x="2053" y="765"/>
                  </a:lnTo>
                  <a:lnTo>
                    <a:pt x="2064" y="881"/>
                  </a:lnTo>
                  <a:lnTo>
                    <a:pt x="2016" y="882"/>
                  </a:lnTo>
                  <a:lnTo>
                    <a:pt x="1890" y="999"/>
                  </a:lnTo>
                  <a:lnTo>
                    <a:pt x="1886" y="1194"/>
                  </a:lnTo>
                  <a:lnTo>
                    <a:pt x="1894" y="1213"/>
                  </a:lnTo>
                  <a:lnTo>
                    <a:pt x="1946" y="1252"/>
                  </a:lnTo>
                  <a:lnTo>
                    <a:pt x="2080" y="1249"/>
                  </a:lnTo>
                  <a:lnTo>
                    <a:pt x="2148" y="1189"/>
                  </a:lnTo>
                  <a:lnTo>
                    <a:pt x="2164" y="1065"/>
                  </a:lnTo>
                  <a:lnTo>
                    <a:pt x="2144" y="1015"/>
                  </a:lnTo>
                  <a:lnTo>
                    <a:pt x="2114" y="967"/>
                  </a:lnTo>
                  <a:lnTo>
                    <a:pt x="2288" y="917"/>
                  </a:lnTo>
                  <a:lnTo>
                    <a:pt x="2252" y="1120"/>
                  </a:lnTo>
                  <a:lnTo>
                    <a:pt x="2283" y="1168"/>
                  </a:lnTo>
                  <a:lnTo>
                    <a:pt x="1951" y="1522"/>
                  </a:lnTo>
                  <a:lnTo>
                    <a:pt x="1165" y="1565"/>
                  </a:lnTo>
                  <a:lnTo>
                    <a:pt x="1146" y="155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827000" y="4479120"/>
              <a:ext cx="27720" cy="1368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19"/>
                  </a:moveTo>
                  <a:lnTo>
                    <a:pt x="4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2546280" y="4250880"/>
              <a:ext cx="57240" cy="222120"/>
            </a:xfrm>
            <a:custGeom>
              <a:avLst/>
              <a:gdLst/>
              <a:ahLst/>
              <a:rect l="l" t="t" r="r" b="b"/>
              <a:pathLst>
                <a:path w="81" h="321">
                  <a:moveTo>
                    <a:pt x="42" y="321"/>
                  </a:moveTo>
                  <a:lnTo>
                    <a:pt x="1" y="128"/>
                  </a:lnTo>
                  <a:lnTo>
                    <a:pt x="0" y="40"/>
                  </a:lnTo>
                  <a:lnTo>
                    <a:pt x="7" y="0"/>
                  </a:lnTo>
                  <a:lnTo>
                    <a:pt x="81" y="300"/>
                  </a:lnTo>
                  <a:lnTo>
                    <a:pt x="42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2604960" y="4259520"/>
              <a:ext cx="43200" cy="17244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12" y="242"/>
                  </a:moveTo>
                  <a:lnTo>
                    <a:pt x="4" y="224"/>
                  </a:lnTo>
                  <a:lnTo>
                    <a:pt x="0" y="0"/>
                  </a:lnTo>
                  <a:lnTo>
                    <a:pt x="36" y="18"/>
                  </a:lnTo>
                  <a:lnTo>
                    <a:pt x="60" y="251"/>
                  </a:lnTo>
                  <a:lnTo>
                    <a:pt x="12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498400" y="4240080"/>
              <a:ext cx="33480" cy="181080"/>
            </a:xfrm>
            <a:custGeom>
              <a:avLst/>
              <a:gdLst/>
              <a:ahLst/>
              <a:rect l="l" t="t" r="r" b="b"/>
              <a:pathLst>
                <a:path w="47" h="262">
                  <a:moveTo>
                    <a:pt x="9" y="253"/>
                  </a:moveTo>
                  <a:lnTo>
                    <a:pt x="0" y="242"/>
                  </a:lnTo>
                  <a:lnTo>
                    <a:pt x="4" y="0"/>
                  </a:lnTo>
                  <a:lnTo>
                    <a:pt x="47" y="193"/>
                  </a:lnTo>
                  <a:lnTo>
                    <a:pt x="30" y="262"/>
                  </a:lnTo>
                  <a:lnTo>
                    <a:pt x="9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804680" y="4291200"/>
              <a:ext cx="340200" cy="118800"/>
            </a:xfrm>
            <a:custGeom>
              <a:avLst/>
              <a:gdLst/>
              <a:ahLst/>
              <a:rect l="l" t="t" r="r" b="b"/>
              <a:pathLst>
                <a:path w="486" h="171">
                  <a:moveTo>
                    <a:pt x="370" y="171"/>
                  </a:moveTo>
                  <a:lnTo>
                    <a:pt x="0" y="168"/>
                  </a:lnTo>
                  <a:lnTo>
                    <a:pt x="37" y="50"/>
                  </a:lnTo>
                  <a:lnTo>
                    <a:pt x="164" y="29"/>
                  </a:lnTo>
                  <a:lnTo>
                    <a:pt x="164" y="0"/>
                  </a:lnTo>
                  <a:lnTo>
                    <a:pt x="473" y="14"/>
                  </a:lnTo>
                  <a:lnTo>
                    <a:pt x="486" y="168"/>
                  </a:lnTo>
                  <a:lnTo>
                    <a:pt x="370" y="17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2637360" y="4265280"/>
              <a:ext cx="91080" cy="13356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34" y="195"/>
                  </a:moveTo>
                  <a:lnTo>
                    <a:pt x="0" y="10"/>
                  </a:lnTo>
                  <a:lnTo>
                    <a:pt x="50" y="31"/>
                  </a:lnTo>
                  <a:lnTo>
                    <a:pt x="72" y="136"/>
                  </a:lnTo>
                  <a:lnTo>
                    <a:pt x="78" y="0"/>
                  </a:lnTo>
                  <a:lnTo>
                    <a:pt x="119" y="19"/>
                  </a:lnTo>
                  <a:lnTo>
                    <a:pt x="130" y="96"/>
                  </a:lnTo>
                  <a:lnTo>
                    <a:pt x="111" y="164"/>
                  </a:lnTo>
                  <a:lnTo>
                    <a:pt x="34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415960" y="4255560"/>
              <a:ext cx="40680" cy="95040"/>
            </a:xfrm>
            <a:custGeom>
              <a:avLst/>
              <a:gdLst/>
              <a:ahLst/>
              <a:rect l="l" t="t" r="r" b="b"/>
              <a:pathLst>
                <a:path w="58" h="136">
                  <a:moveTo>
                    <a:pt x="30" y="136"/>
                  </a:moveTo>
                  <a:lnTo>
                    <a:pt x="1" y="117"/>
                  </a:lnTo>
                  <a:lnTo>
                    <a:pt x="0" y="39"/>
                  </a:lnTo>
                  <a:lnTo>
                    <a:pt x="36" y="0"/>
                  </a:lnTo>
                  <a:lnTo>
                    <a:pt x="58" y="79"/>
                  </a:lnTo>
                  <a:lnTo>
                    <a:pt x="3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2732760" y="4263480"/>
              <a:ext cx="40680" cy="6048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2" y="76"/>
                  </a:moveTo>
                  <a:lnTo>
                    <a:pt x="0" y="29"/>
                  </a:lnTo>
                  <a:lnTo>
                    <a:pt x="21" y="0"/>
                  </a:lnTo>
                  <a:lnTo>
                    <a:pt x="58" y="17"/>
                  </a:lnTo>
                  <a:lnTo>
                    <a:pt x="40" y="87"/>
                  </a:lnTo>
                  <a:lnTo>
                    <a:pt x="2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082880" y="4023360"/>
              <a:ext cx="121680" cy="314640"/>
            </a:xfrm>
            <a:custGeom>
              <a:avLst/>
              <a:gdLst/>
              <a:ahLst/>
              <a:rect l="l" t="t" r="r" b="b"/>
              <a:pathLst>
                <a:path w="174" h="455">
                  <a:moveTo>
                    <a:pt x="0" y="455"/>
                  </a:moveTo>
                  <a:lnTo>
                    <a:pt x="16" y="204"/>
                  </a:lnTo>
                  <a:lnTo>
                    <a:pt x="15" y="69"/>
                  </a:lnTo>
                  <a:lnTo>
                    <a:pt x="71" y="48"/>
                  </a:lnTo>
                  <a:lnTo>
                    <a:pt x="74" y="145"/>
                  </a:lnTo>
                  <a:lnTo>
                    <a:pt x="91" y="106"/>
                  </a:lnTo>
                  <a:lnTo>
                    <a:pt x="101" y="1"/>
                  </a:lnTo>
                  <a:lnTo>
                    <a:pt x="149" y="0"/>
                  </a:lnTo>
                  <a:lnTo>
                    <a:pt x="174" y="289"/>
                  </a:lnTo>
                  <a:lnTo>
                    <a:pt x="86" y="367"/>
                  </a:lnTo>
                  <a:lnTo>
                    <a:pt x="83" y="173"/>
                  </a:lnTo>
                  <a:lnTo>
                    <a:pt x="68" y="396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2857320" y="4085280"/>
              <a:ext cx="138600" cy="16164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47" y="234"/>
                  </a:moveTo>
                  <a:lnTo>
                    <a:pt x="8" y="216"/>
                  </a:lnTo>
                  <a:lnTo>
                    <a:pt x="1" y="190"/>
                  </a:lnTo>
                  <a:lnTo>
                    <a:pt x="0" y="165"/>
                  </a:lnTo>
                  <a:lnTo>
                    <a:pt x="0" y="140"/>
                  </a:lnTo>
                  <a:lnTo>
                    <a:pt x="5" y="114"/>
                  </a:lnTo>
                  <a:lnTo>
                    <a:pt x="12" y="88"/>
                  </a:lnTo>
                  <a:lnTo>
                    <a:pt x="22" y="64"/>
                  </a:lnTo>
                  <a:lnTo>
                    <a:pt x="36" y="38"/>
                  </a:lnTo>
                  <a:lnTo>
                    <a:pt x="52" y="12"/>
                  </a:lnTo>
                  <a:lnTo>
                    <a:pt x="110" y="0"/>
                  </a:lnTo>
                  <a:lnTo>
                    <a:pt x="169" y="49"/>
                  </a:lnTo>
                  <a:lnTo>
                    <a:pt x="198" y="125"/>
                  </a:lnTo>
                  <a:lnTo>
                    <a:pt x="182" y="213"/>
                  </a:lnTo>
                  <a:lnTo>
                    <a:pt x="47" y="23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900880" y="4154400"/>
              <a:ext cx="54360" cy="78480"/>
            </a:xfrm>
            <a:custGeom>
              <a:avLst/>
              <a:gdLst/>
              <a:ahLst/>
              <a:rect l="l" t="t" r="r" b="b"/>
              <a:pathLst>
                <a:path w="79" h="116">
                  <a:moveTo>
                    <a:pt x="61" y="116"/>
                  </a:moveTo>
                  <a:lnTo>
                    <a:pt x="50" y="106"/>
                  </a:lnTo>
                  <a:lnTo>
                    <a:pt x="1" y="78"/>
                  </a:lnTo>
                  <a:lnTo>
                    <a:pt x="0" y="1"/>
                  </a:lnTo>
                  <a:lnTo>
                    <a:pt x="77" y="0"/>
                  </a:lnTo>
                  <a:lnTo>
                    <a:pt x="79" y="76"/>
                  </a:lnTo>
                  <a:lnTo>
                    <a:pt x="6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126960" y="4063320"/>
              <a:ext cx="93600" cy="159840"/>
            </a:xfrm>
            <a:custGeom>
              <a:avLst/>
              <a:gdLst/>
              <a:ahLst/>
              <a:rect l="l" t="t" r="r" b="b"/>
              <a:pathLst>
                <a:path w="136" h="233">
                  <a:moveTo>
                    <a:pt x="30" y="233"/>
                  </a:moveTo>
                  <a:lnTo>
                    <a:pt x="0" y="204"/>
                  </a:lnTo>
                  <a:lnTo>
                    <a:pt x="8" y="68"/>
                  </a:lnTo>
                  <a:lnTo>
                    <a:pt x="54" y="0"/>
                  </a:lnTo>
                  <a:lnTo>
                    <a:pt x="105" y="19"/>
                  </a:lnTo>
                  <a:lnTo>
                    <a:pt x="125" y="67"/>
                  </a:lnTo>
                  <a:lnTo>
                    <a:pt x="136" y="172"/>
                  </a:lnTo>
                  <a:lnTo>
                    <a:pt x="30" y="23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563200" y="4159800"/>
              <a:ext cx="60120" cy="4680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48" y="67"/>
                  </a:moveTo>
                  <a:lnTo>
                    <a:pt x="0" y="40"/>
                  </a:lnTo>
                  <a:lnTo>
                    <a:pt x="57" y="0"/>
                  </a:lnTo>
                  <a:lnTo>
                    <a:pt x="86" y="66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207440" y="3995640"/>
              <a:ext cx="91080" cy="20700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6" y="299"/>
                  </a:moveTo>
                  <a:lnTo>
                    <a:pt x="0" y="0"/>
                  </a:lnTo>
                  <a:lnTo>
                    <a:pt x="131" y="209"/>
                  </a:lnTo>
                  <a:lnTo>
                    <a:pt x="16" y="299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242360" y="3962520"/>
              <a:ext cx="162720" cy="158760"/>
            </a:xfrm>
            <a:custGeom>
              <a:avLst/>
              <a:gdLst/>
              <a:ahLst/>
              <a:rect l="l" t="t" r="r" b="b"/>
              <a:pathLst>
                <a:path w="232" h="230">
                  <a:moveTo>
                    <a:pt x="88" y="230"/>
                  </a:moveTo>
                  <a:lnTo>
                    <a:pt x="0" y="58"/>
                  </a:lnTo>
                  <a:lnTo>
                    <a:pt x="17" y="0"/>
                  </a:lnTo>
                  <a:lnTo>
                    <a:pt x="106" y="67"/>
                  </a:lnTo>
                  <a:lnTo>
                    <a:pt x="232" y="131"/>
                  </a:lnTo>
                  <a:lnTo>
                    <a:pt x="88" y="23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1281600" y="3927960"/>
              <a:ext cx="243720" cy="103320"/>
            </a:xfrm>
            <a:custGeom>
              <a:avLst/>
              <a:gdLst/>
              <a:ahLst/>
              <a:rect l="l" t="t" r="r" b="b"/>
              <a:pathLst>
                <a:path w="350" h="150">
                  <a:moveTo>
                    <a:pt x="185" y="150"/>
                  </a:moveTo>
                  <a:lnTo>
                    <a:pt x="0" y="39"/>
                  </a:lnTo>
                  <a:lnTo>
                    <a:pt x="29" y="0"/>
                  </a:lnTo>
                  <a:lnTo>
                    <a:pt x="350" y="43"/>
                  </a:lnTo>
                  <a:lnTo>
                    <a:pt x="282" y="112"/>
                  </a:lnTo>
                  <a:lnTo>
                    <a:pt x="235" y="149"/>
                  </a:lnTo>
                  <a:lnTo>
                    <a:pt x="185" y="150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652840" y="3837960"/>
              <a:ext cx="100800" cy="7992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19" y="117"/>
                  </a:moveTo>
                  <a:lnTo>
                    <a:pt x="0" y="117"/>
                  </a:lnTo>
                  <a:lnTo>
                    <a:pt x="75" y="0"/>
                  </a:lnTo>
                  <a:lnTo>
                    <a:pt x="146" y="115"/>
                  </a:lnTo>
                  <a:lnTo>
                    <a:pt x="19" y="117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519640" y="3506760"/>
              <a:ext cx="417960" cy="401760"/>
            </a:xfrm>
            <a:custGeom>
              <a:avLst/>
              <a:gdLst/>
              <a:ahLst/>
              <a:rect l="l" t="t" r="r" b="b"/>
              <a:pathLst>
                <a:path w="597" h="584">
                  <a:moveTo>
                    <a:pt x="383" y="584"/>
                  </a:moveTo>
                  <a:lnTo>
                    <a:pt x="332" y="431"/>
                  </a:lnTo>
                  <a:lnTo>
                    <a:pt x="315" y="410"/>
                  </a:lnTo>
                  <a:lnTo>
                    <a:pt x="296" y="392"/>
                  </a:lnTo>
                  <a:lnTo>
                    <a:pt x="278" y="374"/>
                  </a:lnTo>
                  <a:lnTo>
                    <a:pt x="260" y="358"/>
                  </a:lnTo>
                  <a:lnTo>
                    <a:pt x="240" y="344"/>
                  </a:lnTo>
                  <a:lnTo>
                    <a:pt x="220" y="330"/>
                  </a:lnTo>
                  <a:lnTo>
                    <a:pt x="199" y="318"/>
                  </a:lnTo>
                  <a:lnTo>
                    <a:pt x="180" y="307"/>
                  </a:lnTo>
                  <a:lnTo>
                    <a:pt x="159" y="297"/>
                  </a:lnTo>
                  <a:lnTo>
                    <a:pt x="139" y="288"/>
                  </a:lnTo>
                  <a:lnTo>
                    <a:pt x="118" y="280"/>
                  </a:lnTo>
                  <a:lnTo>
                    <a:pt x="98" y="271"/>
                  </a:lnTo>
                  <a:lnTo>
                    <a:pt x="77" y="264"/>
                  </a:lnTo>
                  <a:lnTo>
                    <a:pt x="59" y="256"/>
                  </a:lnTo>
                  <a:lnTo>
                    <a:pt x="39" y="249"/>
                  </a:lnTo>
                  <a:lnTo>
                    <a:pt x="21" y="241"/>
                  </a:lnTo>
                  <a:lnTo>
                    <a:pt x="0" y="202"/>
                  </a:lnTo>
                  <a:lnTo>
                    <a:pt x="19" y="173"/>
                  </a:lnTo>
                  <a:lnTo>
                    <a:pt x="79" y="201"/>
                  </a:lnTo>
                  <a:lnTo>
                    <a:pt x="212" y="160"/>
                  </a:lnTo>
                  <a:lnTo>
                    <a:pt x="268" y="93"/>
                  </a:lnTo>
                  <a:lnTo>
                    <a:pt x="285" y="22"/>
                  </a:lnTo>
                  <a:lnTo>
                    <a:pt x="518" y="0"/>
                  </a:lnTo>
                  <a:lnTo>
                    <a:pt x="549" y="97"/>
                  </a:lnTo>
                  <a:lnTo>
                    <a:pt x="560" y="133"/>
                  </a:lnTo>
                  <a:lnTo>
                    <a:pt x="530" y="174"/>
                  </a:lnTo>
                  <a:lnTo>
                    <a:pt x="571" y="202"/>
                  </a:lnTo>
                  <a:lnTo>
                    <a:pt x="571" y="232"/>
                  </a:lnTo>
                  <a:lnTo>
                    <a:pt x="581" y="271"/>
                  </a:lnTo>
                  <a:lnTo>
                    <a:pt x="524" y="369"/>
                  </a:lnTo>
                  <a:lnTo>
                    <a:pt x="524" y="398"/>
                  </a:lnTo>
                  <a:lnTo>
                    <a:pt x="582" y="347"/>
                  </a:lnTo>
                  <a:lnTo>
                    <a:pt x="582" y="387"/>
                  </a:lnTo>
                  <a:lnTo>
                    <a:pt x="556" y="515"/>
                  </a:lnTo>
                  <a:lnTo>
                    <a:pt x="596" y="502"/>
                  </a:lnTo>
                  <a:lnTo>
                    <a:pt x="597" y="561"/>
                  </a:lnTo>
                  <a:lnTo>
                    <a:pt x="383" y="58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332880" y="3853080"/>
              <a:ext cx="40680" cy="4572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10" y="67"/>
                  </a:moveTo>
                  <a:lnTo>
                    <a:pt x="0" y="58"/>
                  </a:lnTo>
                  <a:lnTo>
                    <a:pt x="39" y="0"/>
                  </a:lnTo>
                  <a:lnTo>
                    <a:pt x="58" y="4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110600" y="3405960"/>
              <a:ext cx="581760" cy="505440"/>
            </a:xfrm>
            <a:custGeom>
              <a:avLst/>
              <a:gdLst/>
              <a:ahLst/>
              <a:rect l="l" t="t" r="r" b="b"/>
              <a:pathLst>
                <a:path w="831" h="731">
                  <a:moveTo>
                    <a:pt x="553" y="731"/>
                  </a:moveTo>
                  <a:lnTo>
                    <a:pt x="0" y="665"/>
                  </a:lnTo>
                  <a:lnTo>
                    <a:pt x="16" y="538"/>
                  </a:lnTo>
                  <a:lnTo>
                    <a:pt x="5" y="480"/>
                  </a:lnTo>
                  <a:lnTo>
                    <a:pt x="186" y="244"/>
                  </a:lnTo>
                  <a:lnTo>
                    <a:pt x="253" y="173"/>
                  </a:lnTo>
                  <a:lnTo>
                    <a:pt x="339" y="77"/>
                  </a:lnTo>
                  <a:lnTo>
                    <a:pt x="397" y="65"/>
                  </a:lnTo>
                  <a:lnTo>
                    <a:pt x="130" y="380"/>
                  </a:lnTo>
                  <a:lnTo>
                    <a:pt x="73" y="470"/>
                  </a:lnTo>
                  <a:lnTo>
                    <a:pt x="444" y="54"/>
                  </a:lnTo>
                  <a:lnTo>
                    <a:pt x="570" y="34"/>
                  </a:lnTo>
                  <a:lnTo>
                    <a:pt x="268" y="446"/>
                  </a:lnTo>
                  <a:lnTo>
                    <a:pt x="296" y="406"/>
                  </a:lnTo>
                  <a:lnTo>
                    <a:pt x="391" y="308"/>
                  </a:lnTo>
                  <a:lnTo>
                    <a:pt x="534" y="140"/>
                  </a:lnTo>
                  <a:lnTo>
                    <a:pt x="628" y="22"/>
                  </a:lnTo>
                  <a:lnTo>
                    <a:pt x="831" y="0"/>
                  </a:lnTo>
                  <a:lnTo>
                    <a:pt x="807" y="21"/>
                  </a:lnTo>
                  <a:lnTo>
                    <a:pt x="783" y="43"/>
                  </a:lnTo>
                  <a:lnTo>
                    <a:pt x="761" y="68"/>
                  </a:lnTo>
                  <a:lnTo>
                    <a:pt x="740" y="92"/>
                  </a:lnTo>
                  <a:lnTo>
                    <a:pt x="721" y="118"/>
                  </a:lnTo>
                  <a:lnTo>
                    <a:pt x="701" y="144"/>
                  </a:lnTo>
                  <a:lnTo>
                    <a:pt x="684" y="171"/>
                  </a:lnTo>
                  <a:lnTo>
                    <a:pt x="666" y="198"/>
                  </a:lnTo>
                  <a:lnTo>
                    <a:pt x="650" y="226"/>
                  </a:lnTo>
                  <a:lnTo>
                    <a:pt x="634" y="255"/>
                  </a:lnTo>
                  <a:lnTo>
                    <a:pt x="620" y="282"/>
                  </a:lnTo>
                  <a:lnTo>
                    <a:pt x="606" y="309"/>
                  </a:lnTo>
                  <a:lnTo>
                    <a:pt x="594" y="336"/>
                  </a:lnTo>
                  <a:lnTo>
                    <a:pt x="582" y="362"/>
                  </a:lnTo>
                  <a:lnTo>
                    <a:pt x="570" y="388"/>
                  </a:lnTo>
                  <a:lnTo>
                    <a:pt x="559" y="412"/>
                  </a:lnTo>
                  <a:lnTo>
                    <a:pt x="563" y="694"/>
                  </a:lnTo>
                  <a:lnTo>
                    <a:pt x="553" y="731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2407680" y="3717720"/>
              <a:ext cx="162360" cy="157320"/>
            </a:xfrm>
            <a:custGeom>
              <a:avLst/>
              <a:gdLst/>
              <a:ahLst/>
              <a:rect l="l" t="t" r="r" b="b"/>
              <a:pathLst>
                <a:path w="230" h="226">
                  <a:moveTo>
                    <a:pt x="10" y="226"/>
                  </a:moveTo>
                  <a:lnTo>
                    <a:pt x="10" y="218"/>
                  </a:lnTo>
                  <a:lnTo>
                    <a:pt x="0" y="178"/>
                  </a:lnTo>
                  <a:lnTo>
                    <a:pt x="161" y="1"/>
                  </a:lnTo>
                  <a:lnTo>
                    <a:pt x="230" y="0"/>
                  </a:lnTo>
                  <a:lnTo>
                    <a:pt x="10" y="22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957040" y="3635280"/>
              <a:ext cx="179280" cy="223560"/>
            </a:xfrm>
            <a:custGeom>
              <a:avLst/>
              <a:gdLst/>
              <a:ahLst/>
              <a:rect l="l" t="t" r="r" b="b"/>
              <a:pathLst>
                <a:path w="256" h="325">
                  <a:moveTo>
                    <a:pt x="11" y="325"/>
                  </a:moveTo>
                  <a:lnTo>
                    <a:pt x="0" y="295"/>
                  </a:lnTo>
                  <a:lnTo>
                    <a:pt x="2" y="263"/>
                  </a:lnTo>
                  <a:lnTo>
                    <a:pt x="13" y="231"/>
                  </a:lnTo>
                  <a:lnTo>
                    <a:pt x="29" y="199"/>
                  </a:lnTo>
                  <a:lnTo>
                    <a:pt x="49" y="167"/>
                  </a:lnTo>
                  <a:lnTo>
                    <a:pt x="73" y="137"/>
                  </a:lnTo>
                  <a:lnTo>
                    <a:pt x="98" y="105"/>
                  </a:lnTo>
                  <a:lnTo>
                    <a:pt x="126" y="73"/>
                  </a:lnTo>
                  <a:lnTo>
                    <a:pt x="151" y="41"/>
                  </a:lnTo>
                  <a:lnTo>
                    <a:pt x="256" y="0"/>
                  </a:lnTo>
                  <a:lnTo>
                    <a:pt x="11" y="32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597320" y="3654360"/>
              <a:ext cx="189000" cy="168480"/>
            </a:xfrm>
            <a:custGeom>
              <a:avLst/>
              <a:gdLst/>
              <a:ahLst/>
              <a:rect l="l" t="t" r="r" b="b"/>
              <a:pathLst>
                <a:path w="271" h="244">
                  <a:moveTo>
                    <a:pt x="59" y="244"/>
                  </a:moveTo>
                  <a:lnTo>
                    <a:pt x="0" y="196"/>
                  </a:lnTo>
                  <a:lnTo>
                    <a:pt x="0" y="171"/>
                  </a:lnTo>
                  <a:lnTo>
                    <a:pt x="2" y="147"/>
                  </a:lnTo>
                  <a:lnTo>
                    <a:pt x="6" y="123"/>
                  </a:lnTo>
                  <a:lnTo>
                    <a:pt x="12" y="100"/>
                  </a:lnTo>
                  <a:lnTo>
                    <a:pt x="22" y="78"/>
                  </a:lnTo>
                  <a:lnTo>
                    <a:pt x="35" y="56"/>
                  </a:lnTo>
                  <a:lnTo>
                    <a:pt x="53" y="32"/>
                  </a:lnTo>
                  <a:lnTo>
                    <a:pt x="75" y="10"/>
                  </a:lnTo>
                  <a:lnTo>
                    <a:pt x="114" y="0"/>
                  </a:lnTo>
                  <a:lnTo>
                    <a:pt x="271" y="66"/>
                  </a:lnTo>
                  <a:lnTo>
                    <a:pt x="262" y="143"/>
                  </a:lnTo>
                  <a:lnTo>
                    <a:pt x="176" y="242"/>
                  </a:lnTo>
                  <a:lnTo>
                    <a:pt x="59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2397600" y="3694320"/>
              <a:ext cx="88200" cy="9396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3" y="137"/>
                  </a:moveTo>
                  <a:lnTo>
                    <a:pt x="11" y="97"/>
                  </a:lnTo>
                  <a:lnTo>
                    <a:pt x="48" y="48"/>
                  </a:lnTo>
                  <a:lnTo>
                    <a:pt x="0" y="40"/>
                  </a:lnTo>
                  <a:lnTo>
                    <a:pt x="19" y="0"/>
                  </a:lnTo>
                  <a:lnTo>
                    <a:pt x="126" y="9"/>
                  </a:lnTo>
                  <a:lnTo>
                    <a:pt x="13" y="13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623960" y="3694320"/>
              <a:ext cx="135720" cy="93960"/>
            </a:xfrm>
            <a:custGeom>
              <a:avLst/>
              <a:gdLst/>
              <a:ahLst/>
              <a:rect l="l" t="t" r="r" b="b"/>
              <a:pathLst>
                <a:path w="193" h="137">
                  <a:moveTo>
                    <a:pt x="39" y="137"/>
                  </a:moveTo>
                  <a:lnTo>
                    <a:pt x="0" y="100"/>
                  </a:lnTo>
                  <a:lnTo>
                    <a:pt x="47" y="11"/>
                  </a:lnTo>
                  <a:lnTo>
                    <a:pt x="105" y="0"/>
                  </a:lnTo>
                  <a:lnTo>
                    <a:pt x="182" y="9"/>
                  </a:lnTo>
                  <a:lnTo>
                    <a:pt x="193" y="47"/>
                  </a:lnTo>
                  <a:lnTo>
                    <a:pt x="146" y="126"/>
                  </a:lnTo>
                  <a:lnTo>
                    <a:pt x="39" y="137"/>
                  </a:lnTo>
                  <a:close/>
                </a:path>
              </a:pathLst>
            </a:custGeom>
            <a:solidFill>
              <a:srgbClr val="cc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2954160" y="3643200"/>
              <a:ext cx="81360" cy="101880"/>
            </a:xfrm>
            <a:custGeom>
              <a:avLst/>
              <a:gdLst/>
              <a:ahLst/>
              <a:rect l="l" t="t" r="r" b="b"/>
              <a:pathLst>
                <a:path w="116" h="148">
                  <a:moveTo>
                    <a:pt x="1" y="148"/>
                  </a:moveTo>
                  <a:lnTo>
                    <a:pt x="0" y="82"/>
                  </a:lnTo>
                  <a:lnTo>
                    <a:pt x="38" y="31"/>
                  </a:lnTo>
                  <a:lnTo>
                    <a:pt x="116" y="0"/>
                  </a:lnTo>
                  <a:lnTo>
                    <a:pt x="31" y="139"/>
                  </a:lnTo>
                  <a:lnTo>
                    <a:pt x="1" y="148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671480" y="3720600"/>
              <a:ext cx="40320" cy="3996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11" y="57"/>
                  </a:moveTo>
                  <a:lnTo>
                    <a:pt x="0" y="48"/>
                  </a:lnTo>
                  <a:lnTo>
                    <a:pt x="19" y="0"/>
                  </a:lnTo>
                  <a:lnTo>
                    <a:pt x="59" y="56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112040" y="3471840"/>
              <a:ext cx="173880" cy="223920"/>
            </a:xfrm>
            <a:custGeom>
              <a:avLst/>
              <a:gdLst/>
              <a:ahLst/>
              <a:rect l="l" t="t" r="r" b="b"/>
              <a:pathLst>
                <a:path w="247" h="325">
                  <a:moveTo>
                    <a:pt x="1" y="325"/>
                  </a:moveTo>
                  <a:lnTo>
                    <a:pt x="0" y="238"/>
                  </a:lnTo>
                  <a:lnTo>
                    <a:pt x="172" y="21"/>
                  </a:lnTo>
                  <a:lnTo>
                    <a:pt x="247" y="0"/>
                  </a:lnTo>
                  <a:lnTo>
                    <a:pt x="1" y="32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367800" y="3543840"/>
              <a:ext cx="74160" cy="99000"/>
            </a:xfrm>
            <a:custGeom>
              <a:avLst/>
              <a:gdLst/>
              <a:ahLst/>
              <a:rect l="l" t="t" r="r" b="b"/>
              <a:pathLst>
                <a:path w="106" h="144">
                  <a:moveTo>
                    <a:pt x="49" y="136"/>
                  </a:moveTo>
                  <a:lnTo>
                    <a:pt x="20" y="117"/>
                  </a:lnTo>
                  <a:lnTo>
                    <a:pt x="0" y="79"/>
                  </a:lnTo>
                  <a:lnTo>
                    <a:pt x="27" y="0"/>
                  </a:lnTo>
                  <a:lnTo>
                    <a:pt x="57" y="0"/>
                  </a:lnTo>
                  <a:lnTo>
                    <a:pt x="106" y="37"/>
                  </a:lnTo>
                  <a:lnTo>
                    <a:pt x="98" y="144"/>
                  </a:lnTo>
                  <a:lnTo>
                    <a:pt x="49" y="13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2019240" y="3200040"/>
              <a:ext cx="353160" cy="434880"/>
            </a:xfrm>
            <a:custGeom>
              <a:avLst/>
              <a:gdLst/>
              <a:ahLst/>
              <a:rect l="l" t="t" r="r" b="b"/>
              <a:pathLst>
                <a:path w="502" h="629">
                  <a:moveTo>
                    <a:pt x="140" y="625"/>
                  </a:moveTo>
                  <a:lnTo>
                    <a:pt x="90" y="539"/>
                  </a:lnTo>
                  <a:lnTo>
                    <a:pt x="59" y="511"/>
                  </a:lnTo>
                  <a:lnTo>
                    <a:pt x="0" y="425"/>
                  </a:lnTo>
                  <a:lnTo>
                    <a:pt x="78" y="318"/>
                  </a:lnTo>
                  <a:lnTo>
                    <a:pt x="352" y="11"/>
                  </a:lnTo>
                  <a:lnTo>
                    <a:pt x="486" y="0"/>
                  </a:lnTo>
                  <a:lnTo>
                    <a:pt x="412" y="137"/>
                  </a:lnTo>
                  <a:lnTo>
                    <a:pt x="202" y="373"/>
                  </a:lnTo>
                  <a:lnTo>
                    <a:pt x="155" y="414"/>
                  </a:lnTo>
                  <a:lnTo>
                    <a:pt x="108" y="393"/>
                  </a:lnTo>
                  <a:lnTo>
                    <a:pt x="145" y="422"/>
                  </a:lnTo>
                  <a:lnTo>
                    <a:pt x="118" y="471"/>
                  </a:lnTo>
                  <a:lnTo>
                    <a:pt x="155" y="432"/>
                  </a:lnTo>
                  <a:lnTo>
                    <a:pt x="214" y="421"/>
                  </a:lnTo>
                  <a:lnTo>
                    <a:pt x="203" y="401"/>
                  </a:lnTo>
                  <a:lnTo>
                    <a:pt x="422" y="137"/>
                  </a:lnTo>
                  <a:lnTo>
                    <a:pt x="489" y="106"/>
                  </a:lnTo>
                  <a:lnTo>
                    <a:pt x="501" y="212"/>
                  </a:lnTo>
                  <a:lnTo>
                    <a:pt x="473" y="281"/>
                  </a:lnTo>
                  <a:lnTo>
                    <a:pt x="473" y="291"/>
                  </a:lnTo>
                  <a:lnTo>
                    <a:pt x="502" y="281"/>
                  </a:lnTo>
                  <a:lnTo>
                    <a:pt x="490" y="629"/>
                  </a:lnTo>
                  <a:lnTo>
                    <a:pt x="140" y="625"/>
                  </a:lnTo>
                  <a:close/>
                </a:path>
              </a:pathLst>
            </a:custGeom>
            <a:solidFill>
              <a:srgbClr val="f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408760" y="3525840"/>
              <a:ext cx="109080" cy="100800"/>
            </a:xfrm>
            <a:custGeom>
              <a:avLst/>
              <a:gdLst/>
              <a:ahLst/>
              <a:rect l="l" t="t" r="r" b="b"/>
              <a:pathLst>
                <a:path w="155" h="145">
                  <a:moveTo>
                    <a:pt x="41" y="145"/>
                  </a:moveTo>
                  <a:lnTo>
                    <a:pt x="11" y="115"/>
                  </a:lnTo>
                  <a:lnTo>
                    <a:pt x="0" y="80"/>
                  </a:lnTo>
                  <a:lnTo>
                    <a:pt x="38" y="0"/>
                  </a:lnTo>
                  <a:lnTo>
                    <a:pt x="154" y="18"/>
                  </a:lnTo>
                  <a:lnTo>
                    <a:pt x="155" y="95"/>
                  </a:lnTo>
                  <a:lnTo>
                    <a:pt x="109" y="144"/>
                  </a:lnTo>
                  <a:lnTo>
                    <a:pt x="41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567160" y="3517560"/>
              <a:ext cx="113760" cy="85320"/>
            </a:xfrm>
            <a:custGeom>
              <a:avLst/>
              <a:gdLst/>
              <a:ahLst/>
              <a:rect l="l" t="t" r="r" b="b"/>
              <a:pathLst>
                <a:path w="161" h="125">
                  <a:moveTo>
                    <a:pt x="18" y="125"/>
                  </a:moveTo>
                  <a:lnTo>
                    <a:pt x="0" y="106"/>
                  </a:lnTo>
                  <a:lnTo>
                    <a:pt x="8" y="58"/>
                  </a:lnTo>
                  <a:lnTo>
                    <a:pt x="37" y="0"/>
                  </a:lnTo>
                  <a:lnTo>
                    <a:pt x="112" y="8"/>
                  </a:lnTo>
                  <a:lnTo>
                    <a:pt x="161" y="46"/>
                  </a:lnTo>
                  <a:lnTo>
                    <a:pt x="124" y="115"/>
                  </a:lnTo>
                  <a:lnTo>
                    <a:pt x="18" y="125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109160" y="3507840"/>
              <a:ext cx="61560" cy="6732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1" y="98"/>
                  </a:moveTo>
                  <a:lnTo>
                    <a:pt x="0" y="11"/>
                  </a:lnTo>
                  <a:lnTo>
                    <a:pt x="89" y="0"/>
                  </a:lnTo>
                  <a:lnTo>
                    <a:pt x="1" y="9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1985400" y="3201120"/>
              <a:ext cx="253800" cy="265320"/>
            </a:xfrm>
            <a:custGeom>
              <a:avLst/>
              <a:gdLst/>
              <a:ahLst/>
              <a:rect l="l" t="t" r="r" b="b"/>
              <a:pathLst>
                <a:path w="362" h="384">
                  <a:moveTo>
                    <a:pt x="18" y="384"/>
                  </a:moveTo>
                  <a:lnTo>
                    <a:pt x="0" y="384"/>
                  </a:lnTo>
                  <a:lnTo>
                    <a:pt x="284" y="9"/>
                  </a:lnTo>
                  <a:lnTo>
                    <a:pt x="362" y="0"/>
                  </a:lnTo>
                  <a:lnTo>
                    <a:pt x="18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515320" y="3294000"/>
              <a:ext cx="440280" cy="165600"/>
            </a:xfrm>
            <a:custGeom>
              <a:avLst/>
              <a:gdLst/>
              <a:ahLst/>
              <a:rect l="l" t="t" r="r" b="b"/>
              <a:pathLst>
                <a:path w="629" h="240">
                  <a:moveTo>
                    <a:pt x="21" y="240"/>
                  </a:moveTo>
                  <a:lnTo>
                    <a:pt x="0" y="221"/>
                  </a:lnTo>
                  <a:lnTo>
                    <a:pt x="131" y="44"/>
                  </a:lnTo>
                  <a:lnTo>
                    <a:pt x="131" y="14"/>
                  </a:lnTo>
                  <a:lnTo>
                    <a:pt x="237" y="42"/>
                  </a:lnTo>
                  <a:lnTo>
                    <a:pt x="285" y="3"/>
                  </a:lnTo>
                  <a:lnTo>
                    <a:pt x="325" y="3"/>
                  </a:lnTo>
                  <a:lnTo>
                    <a:pt x="382" y="40"/>
                  </a:lnTo>
                  <a:lnTo>
                    <a:pt x="431" y="39"/>
                  </a:lnTo>
                  <a:lnTo>
                    <a:pt x="451" y="0"/>
                  </a:lnTo>
                  <a:lnTo>
                    <a:pt x="509" y="19"/>
                  </a:lnTo>
                  <a:lnTo>
                    <a:pt x="629" y="151"/>
                  </a:lnTo>
                  <a:lnTo>
                    <a:pt x="608" y="191"/>
                  </a:lnTo>
                  <a:lnTo>
                    <a:pt x="501" y="125"/>
                  </a:lnTo>
                  <a:lnTo>
                    <a:pt x="482" y="87"/>
                  </a:lnTo>
                  <a:lnTo>
                    <a:pt x="365" y="98"/>
                  </a:lnTo>
                  <a:lnTo>
                    <a:pt x="307" y="69"/>
                  </a:lnTo>
                  <a:lnTo>
                    <a:pt x="278" y="90"/>
                  </a:lnTo>
                  <a:lnTo>
                    <a:pt x="258" y="100"/>
                  </a:lnTo>
                  <a:lnTo>
                    <a:pt x="190" y="83"/>
                  </a:lnTo>
                  <a:lnTo>
                    <a:pt x="162" y="64"/>
                  </a:lnTo>
                  <a:lnTo>
                    <a:pt x="57" y="220"/>
                  </a:lnTo>
                  <a:lnTo>
                    <a:pt x="21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1143000" y="2940120"/>
              <a:ext cx="691200" cy="521640"/>
            </a:xfrm>
            <a:custGeom>
              <a:avLst/>
              <a:gdLst/>
              <a:ahLst/>
              <a:rect l="l" t="t" r="r" b="b"/>
              <a:pathLst>
                <a:path w="987" h="757">
                  <a:moveTo>
                    <a:pt x="30" y="757"/>
                  </a:moveTo>
                  <a:lnTo>
                    <a:pt x="20" y="736"/>
                  </a:lnTo>
                  <a:lnTo>
                    <a:pt x="0" y="718"/>
                  </a:lnTo>
                  <a:lnTo>
                    <a:pt x="74" y="560"/>
                  </a:lnTo>
                  <a:lnTo>
                    <a:pt x="100" y="560"/>
                  </a:lnTo>
                  <a:lnTo>
                    <a:pt x="124" y="559"/>
                  </a:lnTo>
                  <a:lnTo>
                    <a:pt x="150" y="559"/>
                  </a:lnTo>
                  <a:lnTo>
                    <a:pt x="176" y="559"/>
                  </a:lnTo>
                  <a:lnTo>
                    <a:pt x="201" y="558"/>
                  </a:lnTo>
                  <a:lnTo>
                    <a:pt x="227" y="558"/>
                  </a:lnTo>
                  <a:lnTo>
                    <a:pt x="252" y="558"/>
                  </a:lnTo>
                  <a:lnTo>
                    <a:pt x="278" y="557"/>
                  </a:lnTo>
                  <a:lnTo>
                    <a:pt x="303" y="557"/>
                  </a:lnTo>
                  <a:lnTo>
                    <a:pt x="329" y="557"/>
                  </a:lnTo>
                  <a:lnTo>
                    <a:pt x="355" y="557"/>
                  </a:lnTo>
                  <a:lnTo>
                    <a:pt x="379" y="556"/>
                  </a:lnTo>
                  <a:lnTo>
                    <a:pt x="405" y="556"/>
                  </a:lnTo>
                  <a:lnTo>
                    <a:pt x="431" y="556"/>
                  </a:lnTo>
                  <a:lnTo>
                    <a:pt x="455" y="554"/>
                  </a:lnTo>
                  <a:lnTo>
                    <a:pt x="481" y="554"/>
                  </a:lnTo>
                  <a:lnTo>
                    <a:pt x="568" y="494"/>
                  </a:lnTo>
                  <a:lnTo>
                    <a:pt x="566" y="407"/>
                  </a:lnTo>
                  <a:lnTo>
                    <a:pt x="558" y="389"/>
                  </a:lnTo>
                  <a:lnTo>
                    <a:pt x="469" y="303"/>
                  </a:lnTo>
                  <a:lnTo>
                    <a:pt x="439" y="303"/>
                  </a:lnTo>
                  <a:lnTo>
                    <a:pt x="421" y="329"/>
                  </a:lnTo>
                  <a:lnTo>
                    <a:pt x="407" y="355"/>
                  </a:lnTo>
                  <a:lnTo>
                    <a:pt x="398" y="381"/>
                  </a:lnTo>
                  <a:lnTo>
                    <a:pt x="390" y="407"/>
                  </a:lnTo>
                  <a:lnTo>
                    <a:pt x="387" y="431"/>
                  </a:lnTo>
                  <a:lnTo>
                    <a:pt x="385" y="457"/>
                  </a:lnTo>
                  <a:lnTo>
                    <a:pt x="385" y="482"/>
                  </a:lnTo>
                  <a:lnTo>
                    <a:pt x="385" y="508"/>
                  </a:lnTo>
                  <a:lnTo>
                    <a:pt x="133" y="512"/>
                  </a:lnTo>
                  <a:lnTo>
                    <a:pt x="64" y="473"/>
                  </a:lnTo>
                  <a:lnTo>
                    <a:pt x="92" y="415"/>
                  </a:lnTo>
                  <a:lnTo>
                    <a:pt x="378" y="130"/>
                  </a:lnTo>
                  <a:lnTo>
                    <a:pt x="435" y="61"/>
                  </a:lnTo>
                  <a:lnTo>
                    <a:pt x="473" y="21"/>
                  </a:lnTo>
                  <a:lnTo>
                    <a:pt x="506" y="19"/>
                  </a:lnTo>
                  <a:lnTo>
                    <a:pt x="538" y="16"/>
                  </a:lnTo>
                  <a:lnTo>
                    <a:pt x="570" y="13"/>
                  </a:lnTo>
                  <a:lnTo>
                    <a:pt x="602" y="10"/>
                  </a:lnTo>
                  <a:lnTo>
                    <a:pt x="634" y="8"/>
                  </a:lnTo>
                  <a:lnTo>
                    <a:pt x="666" y="5"/>
                  </a:lnTo>
                  <a:lnTo>
                    <a:pt x="698" y="3"/>
                  </a:lnTo>
                  <a:lnTo>
                    <a:pt x="730" y="2"/>
                  </a:lnTo>
                  <a:lnTo>
                    <a:pt x="761" y="0"/>
                  </a:lnTo>
                  <a:lnTo>
                    <a:pt x="793" y="2"/>
                  </a:lnTo>
                  <a:lnTo>
                    <a:pt x="825" y="3"/>
                  </a:lnTo>
                  <a:lnTo>
                    <a:pt x="857" y="5"/>
                  </a:lnTo>
                  <a:lnTo>
                    <a:pt x="889" y="10"/>
                  </a:lnTo>
                  <a:lnTo>
                    <a:pt x="922" y="15"/>
                  </a:lnTo>
                  <a:lnTo>
                    <a:pt x="954" y="23"/>
                  </a:lnTo>
                  <a:lnTo>
                    <a:pt x="987" y="32"/>
                  </a:lnTo>
                  <a:lnTo>
                    <a:pt x="970" y="120"/>
                  </a:lnTo>
                  <a:lnTo>
                    <a:pt x="923" y="352"/>
                  </a:lnTo>
                  <a:lnTo>
                    <a:pt x="877" y="383"/>
                  </a:lnTo>
                  <a:lnTo>
                    <a:pt x="906" y="402"/>
                  </a:lnTo>
                  <a:lnTo>
                    <a:pt x="880" y="597"/>
                  </a:lnTo>
                  <a:lnTo>
                    <a:pt x="900" y="616"/>
                  </a:lnTo>
                  <a:lnTo>
                    <a:pt x="505" y="680"/>
                  </a:lnTo>
                  <a:lnTo>
                    <a:pt x="436" y="663"/>
                  </a:lnTo>
                  <a:lnTo>
                    <a:pt x="417" y="672"/>
                  </a:lnTo>
                  <a:lnTo>
                    <a:pt x="30" y="7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916640" y="3209760"/>
              <a:ext cx="227160" cy="230400"/>
            </a:xfrm>
            <a:custGeom>
              <a:avLst/>
              <a:gdLst/>
              <a:ahLst/>
              <a:rect l="l" t="t" r="r" b="b"/>
              <a:pathLst>
                <a:path w="325" h="334">
                  <a:moveTo>
                    <a:pt x="51" y="325"/>
                  </a:moveTo>
                  <a:lnTo>
                    <a:pt x="0" y="288"/>
                  </a:lnTo>
                  <a:lnTo>
                    <a:pt x="221" y="13"/>
                  </a:lnTo>
                  <a:lnTo>
                    <a:pt x="325" y="0"/>
                  </a:lnTo>
                  <a:lnTo>
                    <a:pt x="80" y="334"/>
                  </a:lnTo>
                  <a:lnTo>
                    <a:pt x="51" y="325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849680" y="3219120"/>
              <a:ext cx="182160" cy="175320"/>
            </a:xfrm>
            <a:custGeom>
              <a:avLst/>
              <a:gdLst/>
              <a:ahLst/>
              <a:rect l="l" t="t" r="r" b="b"/>
              <a:pathLst>
                <a:path w="259" h="254">
                  <a:moveTo>
                    <a:pt x="20" y="247"/>
                  </a:moveTo>
                  <a:lnTo>
                    <a:pt x="0" y="247"/>
                  </a:lnTo>
                  <a:lnTo>
                    <a:pt x="209" y="0"/>
                  </a:lnTo>
                  <a:lnTo>
                    <a:pt x="259" y="0"/>
                  </a:lnTo>
                  <a:lnTo>
                    <a:pt x="97" y="224"/>
                  </a:lnTo>
                  <a:lnTo>
                    <a:pt x="58" y="254"/>
                  </a:lnTo>
                  <a:lnTo>
                    <a:pt x="2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1812960" y="3220560"/>
              <a:ext cx="134280" cy="135000"/>
            </a:xfrm>
            <a:custGeom>
              <a:avLst/>
              <a:gdLst/>
              <a:ahLst/>
              <a:rect l="l" t="t" r="r" b="b"/>
              <a:pathLst>
                <a:path w="192" h="194">
                  <a:moveTo>
                    <a:pt x="30" y="194"/>
                  </a:moveTo>
                  <a:lnTo>
                    <a:pt x="11" y="176"/>
                  </a:lnTo>
                  <a:lnTo>
                    <a:pt x="0" y="157"/>
                  </a:lnTo>
                  <a:lnTo>
                    <a:pt x="0" y="118"/>
                  </a:lnTo>
                  <a:lnTo>
                    <a:pt x="84" y="11"/>
                  </a:lnTo>
                  <a:lnTo>
                    <a:pt x="192" y="0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693520" y="2973240"/>
              <a:ext cx="48960" cy="306360"/>
            </a:xfrm>
            <a:custGeom>
              <a:avLst/>
              <a:gdLst/>
              <a:ahLst/>
              <a:rect l="l" t="t" r="r" b="b"/>
              <a:pathLst>
                <a:path w="70" h="445">
                  <a:moveTo>
                    <a:pt x="14" y="437"/>
                  </a:moveTo>
                  <a:lnTo>
                    <a:pt x="17" y="48"/>
                  </a:lnTo>
                  <a:lnTo>
                    <a:pt x="6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0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6" y="9"/>
                  </a:lnTo>
                  <a:lnTo>
                    <a:pt x="70" y="367"/>
                  </a:lnTo>
                  <a:lnTo>
                    <a:pt x="62" y="445"/>
                  </a:lnTo>
                  <a:lnTo>
                    <a:pt x="14" y="4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850480" y="2976120"/>
              <a:ext cx="48960" cy="295560"/>
            </a:xfrm>
            <a:custGeom>
              <a:avLst/>
              <a:gdLst/>
              <a:ahLst/>
              <a:rect l="l" t="t" r="r" b="b"/>
              <a:pathLst>
                <a:path w="70" h="429">
                  <a:moveTo>
                    <a:pt x="22" y="429"/>
                  </a:moveTo>
                  <a:lnTo>
                    <a:pt x="0" y="205"/>
                  </a:lnTo>
                  <a:lnTo>
                    <a:pt x="4" y="0"/>
                  </a:lnTo>
                  <a:lnTo>
                    <a:pt x="54" y="0"/>
                  </a:lnTo>
                  <a:lnTo>
                    <a:pt x="70" y="398"/>
                  </a:lnTo>
                  <a:lnTo>
                    <a:pt x="22" y="4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770560" y="2977560"/>
              <a:ext cx="40680" cy="288360"/>
            </a:xfrm>
            <a:custGeom>
              <a:avLst/>
              <a:gdLst/>
              <a:ahLst/>
              <a:rect l="l" t="t" r="r" b="b"/>
              <a:pathLst>
                <a:path w="58" h="417">
                  <a:moveTo>
                    <a:pt x="0" y="417"/>
                  </a:moveTo>
                  <a:lnTo>
                    <a:pt x="11" y="0"/>
                  </a:lnTo>
                  <a:lnTo>
                    <a:pt x="47" y="330"/>
                  </a:lnTo>
                  <a:lnTo>
                    <a:pt x="58" y="388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613600" y="2954160"/>
              <a:ext cx="50400" cy="314640"/>
            </a:xfrm>
            <a:custGeom>
              <a:avLst/>
              <a:gdLst/>
              <a:ahLst/>
              <a:rect l="l" t="t" r="r" b="b"/>
              <a:pathLst>
                <a:path w="71" h="457">
                  <a:moveTo>
                    <a:pt x="0" y="447"/>
                  </a:moveTo>
                  <a:lnTo>
                    <a:pt x="15" y="90"/>
                  </a:lnTo>
                  <a:lnTo>
                    <a:pt x="33" y="58"/>
                  </a:lnTo>
                  <a:lnTo>
                    <a:pt x="22" y="39"/>
                  </a:lnTo>
                  <a:lnTo>
                    <a:pt x="71" y="0"/>
                  </a:lnTo>
                  <a:lnTo>
                    <a:pt x="71" y="38"/>
                  </a:lnTo>
                  <a:lnTo>
                    <a:pt x="50" y="49"/>
                  </a:lnTo>
                  <a:lnTo>
                    <a:pt x="30" y="457"/>
                  </a:lnTo>
                  <a:lnTo>
                    <a:pt x="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62400" y="3046320"/>
              <a:ext cx="152280" cy="202680"/>
            </a:xfrm>
            <a:custGeom>
              <a:avLst/>
              <a:gdLst/>
              <a:ahLst/>
              <a:rect l="l" t="t" r="r" b="b"/>
              <a:pathLst>
                <a:path w="218" h="294">
                  <a:moveTo>
                    <a:pt x="0" y="294"/>
                  </a:moveTo>
                  <a:lnTo>
                    <a:pt x="26" y="179"/>
                  </a:lnTo>
                  <a:lnTo>
                    <a:pt x="199" y="0"/>
                  </a:lnTo>
                  <a:lnTo>
                    <a:pt x="218" y="58"/>
                  </a:lnTo>
                  <a:lnTo>
                    <a:pt x="40" y="275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988000" y="3099240"/>
              <a:ext cx="146880" cy="122760"/>
            </a:xfrm>
            <a:custGeom>
              <a:avLst/>
              <a:gdLst/>
              <a:ahLst/>
              <a:rect l="l" t="t" r="r" b="b"/>
              <a:pathLst>
                <a:path w="212" h="177">
                  <a:moveTo>
                    <a:pt x="0" y="177"/>
                  </a:moveTo>
                  <a:lnTo>
                    <a:pt x="75" y="12"/>
                  </a:lnTo>
                  <a:lnTo>
                    <a:pt x="105" y="1"/>
                  </a:lnTo>
                  <a:lnTo>
                    <a:pt x="154" y="0"/>
                  </a:lnTo>
                  <a:lnTo>
                    <a:pt x="154" y="29"/>
                  </a:lnTo>
                  <a:lnTo>
                    <a:pt x="212" y="58"/>
                  </a:lnTo>
                  <a:lnTo>
                    <a:pt x="174" y="135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1159560" y="2961000"/>
              <a:ext cx="280080" cy="280080"/>
            </a:xfrm>
            <a:custGeom>
              <a:avLst/>
              <a:gdLst/>
              <a:ahLst/>
              <a:rect l="l" t="t" r="r" b="b"/>
              <a:pathLst>
                <a:path w="401" h="406">
                  <a:moveTo>
                    <a:pt x="12" y="406"/>
                  </a:moveTo>
                  <a:lnTo>
                    <a:pt x="0" y="337"/>
                  </a:lnTo>
                  <a:lnTo>
                    <a:pt x="296" y="22"/>
                  </a:lnTo>
                  <a:lnTo>
                    <a:pt x="332" y="12"/>
                  </a:lnTo>
                  <a:lnTo>
                    <a:pt x="401" y="0"/>
                  </a:lnTo>
                  <a:lnTo>
                    <a:pt x="363" y="49"/>
                  </a:lnTo>
                  <a:lnTo>
                    <a:pt x="326" y="111"/>
                  </a:lnTo>
                  <a:lnTo>
                    <a:pt x="232" y="198"/>
                  </a:lnTo>
                  <a:lnTo>
                    <a:pt x="189" y="234"/>
                  </a:lnTo>
                  <a:lnTo>
                    <a:pt x="131" y="285"/>
                  </a:lnTo>
                  <a:lnTo>
                    <a:pt x="12" y="40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825920" y="2985840"/>
              <a:ext cx="194760" cy="200160"/>
            </a:xfrm>
            <a:custGeom>
              <a:avLst/>
              <a:gdLst/>
              <a:ahLst/>
              <a:rect l="l" t="t" r="r" b="b"/>
              <a:pathLst>
                <a:path w="278" h="290">
                  <a:moveTo>
                    <a:pt x="0" y="284"/>
                  </a:moveTo>
                  <a:lnTo>
                    <a:pt x="81" y="1"/>
                  </a:lnTo>
                  <a:lnTo>
                    <a:pt x="140" y="0"/>
                  </a:lnTo>
                  <a:lnTo>
                    <a:pt x="166" y="22"/>
                  </a:lnTo>
                  <a:lnTo>
                    <a:pt x="191" y="45"/>
                  </a:lnTo>
                  <a:lnTo>
                    <a:pt x="213" y="69"/>
                  </a:lnTo>
                  <a:lnTo>
                    <a:pt x="234" y="93"/>
                  </a:lnTo>
                  <a:lnTo>
                    <a:pt x="252" y="119"/>
                  </a:lnTo>
                  <a:lnTo>
                    <a:pt x="266" y="146"/>
                  </a:lnTo>
                  <a:lnTo>
                    <a:pt x="275" y="175"/>
                  </a:lnTo>
                  <a:lnTo>
                    <a:pt x="278" y="203"/>
                  </a:lnTo>
                  <a:lnTo>
                    <a:pt x="261" y="29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72120" y="2964960"/>
              <a:ext cx="140040" cy="190440"/>
            </a:xfrm>
            <a:custGeom>
              <a:avLst/>
              <a:gdLst/>
              <a:ahLst/>
              <a:rect l="l" t="t" r="r" b="b"/>
              <a:pathLst>
                <a:path w="201" h="276">
                  <a:moveTo>
                    <a:pt x="1" y="276"/>
                  </a:moveTo>
                  <a:lnTo>
                    <a:pt x="0" y="189"/>
                  </a:lnTo>
                  <a:lnTo>
                    <a:pt x="171" y="2"/>
                  </a:lnTo>
                  <a:lnTo>
                    <a:pt x="200" y="0"/>
                  </a:lnTo>
                  <a:lnTo>
                    <a:pt x="201" y="30"/>
                  </a:lnTo>
                  <a:lnTo>
                    <a:pt x="126" y="148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055600" y="2944440"/>
              <a:ext cx="315360" cy="227520"/>
            </a:xfrm>
            <a:custGeom>
              <a:avLst/>
              <a:gdLst/>
              <a:ahLst/>
              <a:rect l="l" t="t" r="r" b="b"/>
              <a:pathLst>
                <a:path w="451" h="330">
                  <a:moveTo>
                    <a:pt x="0" y="327"/>
                  </a:moveTo>
                  <a:lnTo>
                    <a:pt x="10" y="289"/>
                  </a:lnTo>
                  <a:lnTo>
                    <a:pt x="209" y="3"/>
                  </a:lnTo>
                  <a:lnTo>
                    <a:pt x="451" y="0"/>
                  </a:lnTo>
                  <a:lnTo>
                    <a:pt x="418" y="330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148400" y="2996640"/>
              <a:ext cx="156960" cy="161640"/>
            </a:xfrm>
            <a:custGeom>
              <a:avLst/>
              <a:gdLst/>
              <a:ahLst/>
              <a:rect l="l" t="t" r="r" b="b"/>
              <a:pathLst>
                <a:path w="223" h="234">
                  <a:moveTo>
                    <a:pt x="0" y="214"/>
                  </a:moveTo>
                  <a:lnTo>
                    <a:pt x="108" y="63"/>
                  </a:lnTo>
                  <a:lnTo>
                    <a:pt x="165" y="22"/>
                  </a:lnTo>
                  <a:lnTo>
                    <a:pt x="223" y="0"/>
                  </a:lnTo>
                  <a:lnTo>
                    <a:pt x="11" y="23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115800" y="3065760"/>
              <a:ext cx="59760" cy="468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30" y="68"/>
                  </a:moveTo>
                  <a:lnTo>
                    <a:pt x="0" y="68"/>
                  </a:lnTo>
                  <a:lnTo>
                    <a:pt x="19" y="29"/>
                  </a:lnTo>
                  <a:lnTo>
                    <a:pt x="86" y="0"/>
                  </a:lnTo>
                  <a:lnTo>
                    <a:pt x="30" y="68"/>
                  </a:lnTo>
                  <a:close/>
                </a:path>
              </a:pathLst>
            </a:custGeom>
            <a:solidFill>
              <a:srgbClr val="66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040120" y="2948400"/>
              <a:ext cx="120600" cy="142200"/>
            </a:xfrm>
            <a:custGeom>
              <a:avLst/>
              <a:gdLst/>
              <a:ahLst/>
              <a:rect l="l" t="t" r="r" b="b"/>
              <a:pathLst>
                <a:path w="173" h="207">
                  <a:moveTo>
                    <a:pt x="20" y="207"/>
                  </a:moveTo>
                  <a:lnTo>
                    <a:pt x="11" y="177"/>
                  </a:lnTo>
                  <a:lnTo>
                    <a:pt x="0" y="158"/>
                  </a:lnTo>
                  <a:lnTo>
                    <a:pt x="114" y="12"/>
                  </a:lnTo>
                  <a:lnTo>
                    <a:pt x="173" y="0"/>
                  </a:lnTo>
                  <a:lnTo>
                    <a:pt x="20" y="20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006640" y="2948400"/>
              <a:ext cx="79560" cy="77040"/>
            </a:xfrm>
            <a:custGeom>
              <a:avLst/>
              <a:gdLst/>
              <a:ahLst/>
              <a:rect l="l" t="t" r="r" b="b"/>
              <a:pathLst>
                <a:path w="115" h="111">
                  <a:moveTo>
                    <a:pt x="9" y="111"/>
                  </a:moveTo>
                  <a:lnTo>
                    <a:pt x="0" y="100"/>
                  </a:lnTo>
                  <a:lnTo>
                    <a:pt x="64" y="1"/>
                  </a:lnTo>
                  <a:lnTo>
                    <a:pt x="115" y="0"/>
                  </a:lnTo>
                  <a:lnTo>
                    <a:pt x="9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536200" y="2968920"/>
              <a:ext cx="42120" cy="331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10" y="49"/>
                  </a:moveTo>
                  <a:lnTo>
                    <a:pt x="0" y="40"/>
                  </a:lnTo>
                  <a:lnTo>
                    <a:pt x="47" y="0"/>
                  </a:lnTo>
                  <a:lnTo>
                    <a:pt x="57" y="15"/>
                  </a:lnTo>
                  <a:lnTo>
                    <a:pt x="60" y="26"/>
                  </a:lnTo>
                  <a:lnTo>
                    <a:pt x="58" y="35"/>
                  </a:lnTo>
                  <a:lnTo>
                    <a:pt x="52" y="41"/>
                  </a:lnTo>
                  <a:lnTo>
                    <a:pt x="43" y="46"/>
                  </a:lnTo>
                  <a:lnTo>
                    <a:pt x="32" y="48"/>
                  </a:lnTo>
                  <a:lnTo>
                    <a:pt x="21" y="49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970280" y="2951280"/>
              <a:ext cx="40680" cy="399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11" y="57"/>
                  </a:moveTo>
                  <a:lnTo>
                    <a:pt x="0" y="0"/>
                  </a:lnTo>
                  <a:lnTo>
                    <a:pt x="58" y="18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0" name=""/>
          <p:cNvSpPr/>
          <p:nvPr/>
        </p:nvSpPr>
        <p:spPr>
          <a:xfrm>
            <a:off x="2135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2" name="bd00390_" descr=""/>
          <p:cNvPicPr/>
          <p:nvPr/>
        </p:nvPicPr>
        <p:blipFill>
          <a:blip r:embed="rId1"/>
          <a:stretch/>
        </p:blipFill>
        <p:spPr>
          <a:xfrm>
            <a:off x="6248520" y="2685960"/>
            <a:ext cx="1299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"/>
          <p:cNvSpPr/>
          <p:nvPr/>
        </p:nvSpPr>
        <p:spPr>
          <a:xfrm>
            <a:off x="533520" y="1905120"/>
            <a:ext cx="584496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424480" y="930240"/>
            <a:ext cx="77760" cy="138240"/>
          </a:xfrm>
          <a:custGeom>
            <a:avLst/>
            <a:gdLst/>
            <a:ahLst/>
            <a:rect l="l" t="t" r="r" b="b"/>
            <a:pathLst>
              <a:path w="83" h="150">
                <a:moveTo>
                  <a:pt x="79" y="68"/>
                </a:moveTo>
                <a:lnTo>
                  <a:pt x="70" y="86"/>
                </a:lnTo>
                <a:lnTo>
                  <a:pt x="72" y="107"/>
                </a:lnTo>
                <a:lnTo>
                  <a:pt x="72" y="117"/>
                </a:lnTo>
                <a:lnTo>
                  <a:pt x="76" y="128"/>
                </a:lnTo>
                <a:lnTo>
                  <a:pt x="77" y="138"/>
                </a:lnTo>
                <a:lnTo>
                  <a:pt x="79" y="150"/>
                </a:lnTo>
                <a:lnTo>
                  <a:pt x="66" y="142"/>
                </a:lnTo>
                <a:lnTo>
                  <a:pt x="54" y="134"/>
                </a:lnTo>
                <a:lnTo>
                  <a:pt x="41" y="132"/>
                </a:lnTo>
                <a:lnTo>
                  <a:pt x="29" y="142"/>
                </a:lnTo>
                <a:lnTo>
                  <a:pt x="19" y="123"/>
                </a:lnTo>
                <a:lnTo>
                  <a:pt x="13" y="105"/>
                </a:lnTo>
                <a:lnTo>
                  <a:pt x="8" y="86"/>
                </a:lnTo>
                <a:lnTo>
                  <a:pt x="4" y="68"/>
                </a:lnTo>
                <a:lnTo>
                  <a:pt x="0" y="49"/>
                </a:lnTo>
                <a:lnTo>
                  <a:pt x="2" y="31"/>
                </a:lnTo>
                <a:lnTo>
                  <a:pt x="8" y="14"/>
                </a:lnTo>
                <a:lnTo>
                  <a:pt x="19" y="0"/>
                </a:lnTo>
                <a:lnTo>
                  <a:pt x="27" y="6"/>
                </a:lnTo>
                <a:lnTo>
                  <a:pt x="39" y="12"/>
                </a:lnTo>
                <a:lnTo>
                  <a:pt x="52" y="18"/>
                </a:lnTo>
                <a:lnTo>
                  <a:pt x="66" y="26"/>
                </a:lnTo>
                <a:lnTo>
                  <a:pt x="76" y="31"/>
                </a:lnTo>
                <a:lnTo>
                  <a:pt x="83" y="43"/>
                </a:lnTo>
                <a:lnTo>
                  <a:pt x="83" y="53"/>
                </a:lnTo>
                <a:lnTo>
                  <a:pt x="79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6143760" y="4417920"/>
            <a:ext cx="74520" cy="74880"/>
          </a:xfrm>
          <a:custGeom>
            <a:avLst/>
            <a:gdLst/>
            <a:ahLst/>
            <a:rect l="l" t="t" r="r" b="b"/>
            <a:pathLst>
              <a:path w="0" h="13">
                <a:moveTo>
                  <a:pt x="0" y="0"/>
                </a:move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6" name=""/>
          <p:cNvGrpSpPr/>
          <p:nvPr/>
        </p:nvGrpSpPr>
        <p:grpSpPr>
          <a:xfrm>
            <a:off x="1752480" y="3051000"/>
            <a:ext cx="1231920" cy="1516320"/>
            <a:chOff x="1752480" y="3051000"/>
            <a:chExt cx="1231920" cy="1516320"/>
          </a:xfrm>
        </p:grpSpPr>
        <p:grpSp>
          <p:nvGrpSpPr>
            <p:cNvPr id="2937" name=""/>
            <p:cNvGrpSpPr/>
            <p:nvPr/>
          </p:nvGrpSpPr>
          <p:grpSpPr>
            <a:xfrm>
              <a:off x="1752480" y="3051000"/>
              <a:ext cx="1231920" cy="1516320"/>
              <a:chOff x="1752480" y="3051000"/>
              <a:chExt cx="1231920" cy="1516320"/>
            </a:xfrm>
          </p:grpSpPr>
          <p:sp>
            <p:nvSpPr>
              <p:cNvPr id="2938" name=""/>
              <p:cNvSpPr/>
              <p:nvPr/>
            </p:nvSpPr>
            <p:spPr>
              <a:xfrm>
                <a:off x="1969200" y="3051000"/>
                <a:ext cx="420840" cy="330840"/>
              </a:xfrm>
              <a:custGeom>
                <a:avLst/>
                <a:gdLst/>
                <a:ahLst/>
                <a:rect l="l" t="t" r="r" b="b"/>
                <a:pathLst>
                  <a:path w="1021" h="780">
                    <a:moveTo>
                      <a:pt x="591" y="71"/>
                    </a:moveTo>
                    <a:lnTo>
                      <a:pt x="675" y="112"/>
                    </a:lnTo>
                    <a:lnTo>
                      <a:pt x="749" y="158"/>
                    </a:lnTo>
                    <a:lnTo>
                      <a:pt x="813" y="208"/>
                    </a:lnTo>
                    <a:lnTo>
                      <a:pt x="869" y="260"/>
                    </a:lnTo>
                    <a:lnTo>
                      <a:pt x="915" y="314"/>
                    </a:lnTo>
                    <a:lnTo>
                      <a:pt x="956" y="371"/>
                    </a:lnTo>
                    <a:lnTo>
                      <a:pt x="990" y="429"/>
                    </a:lnTo>
                    <a:lnTo>
                      <a:pt x="1021" y="489"/>
                    </a:lnTo>
                    <a:lnTo>
                      <a:pt x="1004" y="524"/>
                    </a:lnTo>
                    <a:lnTo>
                      <a:pt x="992" y="560"/>
                    </a:lnTo>
                    <a:lnTo>
                      <a:pt x="978" y="595"/>
                    </a:lnTo>
                    <a:lnTo>
                      <a:pt x="969" y="631"/>
                    </a:lnTo>
                    <a:lnTo>
                      <a:pt x="958" y="667"/>
                    </a:lnTo>
                    <a:lnTo>
                      <a:pt x="949" y="704"/>
                    </a:lnTo>
                    <a:lnTo>
                      <a:pt x="939" y="741"/>
                    </a:lnTo>
                    <a:lnTo>
                      <a:pt x="931" y="780"/>
                    </a:lnTo>
                    <a:lnTo>
                      <a:pt x="892" y="780"/>
                    </a:lnTo>
                    <a:lnTo>
                      <a:pt x="853" y="780"/>
                    </a:lnTo>
                    <a:lnTo>
                      <a:pt x="813" y="778"/>
                    </a:lnTo>
                    <a:lnTo>
                      <a:pt x="775" y="775"/>
                    </a:lnTo>
                    <a:lnTo>
                      <a:pt x="735" y="768"/>
                    </a:lnTo>
                    <a:lnTo>
                      <a:pt x="698" y="760"/>
                    </a:lnTo>
                    <a:lnTo>
                      <a:pt x="660" y="749"/>
                    </a:lnTo>
                    <a:lnTo>
                      <a:pt x="624" y="735"/>
                    </a:lnTo>
                    <a:lnTo>
                      <a:pt x="538" y="685"/>
                    </a:lnTo>
                    <a:lnTo>
                      <a:pt x="467" y="630"/>
                    </a:lnTo>
                    <a:lnTo>
                      <a:pt x="406" y="567"/>
                    </a:lnTo>
                    <a:lnTo>
                      <a:pt x="352" y="502"/>
                    </a:lnTo>
                    <a:lnTo>
                      <a:pt x="300" y="433"/>
                    </a:lnTo>
                    <a:lnTo>
                      <a:pt x="248" y="366"/>
                    </a:lnTo>
                    <a:lnTo>
                      <a:pt x="192" y="299"/>
                    </a:lnTo>
                    <a:lnTo>
                      <a:pt x="128" y="235"/>
                    </a:lnTo>
                    <a:lnTo>
                      <a:pt x="112" y="223"/>
                    </a:lnTo>
                    <a:lnTo>
                      <a:pt x="95" y="214"/>
                    </a:lnTo>
                    <a:lnTo>
                      <a:pt x="78" y="205"/>
                    </a:lnTo>
                    <a:lnTo>
                      <a:pt x="62" y="198"/>
                    </a:lnTo>
                    <a:lnTo>
                      <a:pt x="46" y="189"/>
                    </a:lnTo>
                    <a:lnTo>
                      <a:pt x="32" y="180"/>
                    </a:lnTo>
                    <a:lnTo>
                      <a:pt x="18" y="167"/>
                    </a:lnTo>
                    <a:lnTo>
                      <a:pt x="9" y="153"/>
                    </a:lnTo>
                    <a:lnTo>
                      <a:pt x="3" y="142"/>
                    </a:lnTo>
                    <a:lnTo>
                      <a:pt x="1" y="132"/>
                    </a:lnTo>
                    <a:lnTo>
                      <a:pt x="0" y="120"/>
                    </a:lnTo>
                    <a:lnTo>
                      <a:pt x="3" y="110"/>
                    </a:lnTo>
                    <a:lnTo>
                      <a:pt x="6" y="99"/>
                    </a:lnTo>
                    <a:lnTo>
                      <a:pt x="12" y="88"/>
                    </a:lnTo>
                    <a:lnTo>
                      <a:pt x="19" y="78"/>
                    </a:lnTo>
                    <a:lnTo>
                      <a:pt x="31" y="69"/>
                    </a:lnTo>
                    <a:lnTo>
                      <a:pt x="97" y="31"/>
                    </a:lnTo>
                    <a:lnTo>
                      <a:pt x="166" y="9"/>
                    </a:lnTo>
                    <a:lnTo>
                      <a:pt x="236" y="0"/>
                    </a:lnTo>
                    <a:lnTo>
                      <a:pt x="307" y="2"/>
                    </a:lnTo>
                    <a:lnTo>
                      <a:pt x="378" y="11"/>
                    </a:lnTo>
                    <a:lnTo>
                      <a:pt x="449" y="28"/>
                    </a:lnTo>
                    <a:lnTo>
                      <a:pt x="519" y="47"/>
                    </a:lnTo>
                    <a:lnTo>
                      <a:pt x="591" y="7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072880" y="3113280"/>
                <a:ext cx="288000" cy="216000"/>
              </a:xfrm>
              <a:custGeom>
                <a:avLst/>
                <a:gdLst/>
                <a:ahLst/>
                <a:rect l="l" t="t" r="r" b="b"/>
                <a:pathLst>
                  <a:path w="698" h="511">
                    <a:moveTo>
                      <a:pt x="304" y="125"/>
                    </a:moveTo>
                    <a:lnTo>
                      <a:pt x="358" y="160"/>
                    </a:lnTo>
                    <a:lnTo>
                      <a:pt x="412" y="197"/>
                    </a:lnTo>
                    <a:lnTo>
                      <a:pt x="466" y="234"/>
                    </a:lnTo>
                    <a:lnTo>
                      <a:pt x="518" y="275"/>
                    </a:lnTo>
                    <a:lnTo>
                      <a:pt x="567" y="316"/>
                    </a:lnTo>
                    <a:lnTo>
                      <a:pt x="616" y="362"/>
                    </a:lnTo>
                    <a:lnTo>
                      <a:pt x="658" y="412"/>
                    </a:lnTo>
                    <a:lnTo>
                      <a:pt x="698" y="467"/>
                    </a:lnTo>
                    <a:lnTo>
                      <a:pt x="698" y="471"/>
                    </a:lnTo>
                    <a:lnTo>
                      <a:pt x="698" y="478"/>
                    </a:lnTo>
                    <a:lnTo>
                      <a:pt x="697" y="483"/>
                    </a:lnTo>
                    <a:lnTo>
                      <a:pt x="696" y="489"/>
                    </a:lnTo>
                    <a:lnTo>
                      <a:pt x="693" y="494"/>
                    </a:lnTo>
                    <a:lnTo>
                      <a:pt x="691" y="500"/>
                    </a:lnTo>
                    <a:lnTo>
                      <a:pt x="687" y="505"/>
                    </a:lnTo>
                    <a:lnTo>
                      <a:pt x="685" y="511"/>
                    </a:lnTo>
                    <a:lnTo>
                      <a:pt x="673" y="506"/>
                    </a:lnTo>
                    <a:lnTo>
                      <a:pt x="665" y="499"/>
                    </a:lnTo>
                    <a:lnTo>
                      <a:pt x="657" y="488"/>
                    </a:lnTo>
                    <a:lnTo>
                      <a:pt x="650" y="478"/>
                    </a:lnTo>
                    <a:lnTo>
                      <a:pt x="642" y="465"/>
                    </a:lnTo>
                    <a:lnTo>
                      <a:pt x="633" y="455"/>
                    </a:lnTo>
                    <a:lnTo>
                      <a:pt x="622" y="446"/>
                    </a:lnTo>
                    <a:lnTo>
                      <a:pt x="608" y="442"/>
                    </a:lnTo>
                    <a:lnTo>
                      <a:pt x="587" y="432"/>
                    </a:lnTo>
                    <a:lnTo>
                      <a:pt x="561" y="427"/>
                    </a:lnTo>
                    <a:lnTo>
                      <a:pt x="531" y="424"/>
                    </a:lnTo>
                    <a:lnTo>
                      <a:pt x="500" y="425"/>
                    </a:lnTo>
                    <a:lnTo>
                      <a:pt x="466" y="425"/>
                    </a:lnTo>
                    <a:lnTo>
                      <a:pt x="433" y="428"/>
                    </a:lnTo>
                    <a:lnTo>
                      <a:pt x="403" y="430"/>
                    </a:lnTo>
                    <a:lnTo>
                      <a:pt x="376" y="434"/>
                    </a:lnTo>
                    <a:lnTo>
                      <a:pt x="393" y="425"/>
                    </a:lnTo>
                    <a:lnTo>
                      <a:pt x="413" y="418"/>
                    </a:lnTo>
                    <a:lnTo>
                      <a:pt x="437" y="412"/>
                    </a:lnTo>
                    <a:lnTo>
                      <a:pt x="464" y="408"/>
                    </a:lnTo>
                    <a:lnTo>
                      <a:pt x="490" y="403"/>
                    </a:lnTo>
                    <a:lnTo>
                      <a:pt x="519" y="400"/>
                    </a:lnTo>
                    <a:lnTo>
                      <a:pt x="547" y="397"/>
                    </a:lnTo>
                    <a:lnTo>
                      <a:pt x="576" y="396"/>
                    </a:lnTo>
                    <a:lnTo>
                      <a:pt x="571" y="387"/>
                    </a:lnTo>
                    <a:lnTo>
                      <a:pt x="568" y="378"/>
                    </a:lnTo>
                    <a:lnTo>
                      <a:pt x="562" y="369"/>
                    </a:lnTo>
                    <a:lnTo>
                      <a:pt x="557" y="361"/>
                    </a:lnTo>
                    <a:lnTo>
                      <a:pt x="550" y="353"/>
                    </a:lnTo>
                    <a:lnTo>
                      <a:pt x="543" y="347"/>
                    </a:lnTo>
                    <a:lnTo>
                      <a:pt x="534" y="341"/>
                    </a:lnTo>
                    <a:lnTo>
                      <a:pt x="527" y="338"/>
                    </a:lnTo>
                    <a:lnTo>
                      <a:pt x="483" y="325"/>
                    </a:lnTo>
                    <a:lnTo>
                      <a:pt x="442" y="318"/>
                    </a:lnTo>
                    <a:lnTo>
                      <a:pt x="404" y="314"/>
                    </a:lnTo>
                    <a:lnTo>
                      <a:pt x="368" y="313"/>
                    </a:lnTo>
                    <a:lnTo>
                      <a:pt x="331" y="313"/>
                    </a:lnTo>
                    <a:lnTo>
                      <a:pt x="295" y="316"/>
                    </a:lnTo>
                    <a:lnTo>
                      <a:pt x="258" y="320"/>
                    </a:lnTo>
                    <a:lnTo>
                      <a:pt x="220" y="327"/>
                    </a:lnTo>
                    <a:lnTo>
                      <a:pt x="244" y="311"/>
                    </a:lnTo>
                    <a:lnTo>
                      <a:pt x="272" y="300"/>
                    </a:lnTo>
                    <a:lnTo>
                      <a:pt x="301" y="291"/>
                    </a:lnTo>
                    <a:lnTo>
                      <a:pt x="335" y="284"/>
                    </a:lnTo>
                    <a:lnTo>
                      <a:pt x="367" y="279"/>
                    </a:lnTo>
                    <a:lnTo>
                      <a:pt x="400" y="278"/>
                    </a:lnTo>
                    <a:lnTo>
                      <a:pt x="431" y="279"/>
                    </a:lnTo>
                    <a:lnTo>
                      <a:pt x="460" y="285"/>
                    </a:lnTo>
                    <a:lnTo>
                      <a:pt x="464" y="278"/>
                    </a:lnTo>
                    <a:lnTo>
                      <a:pt x="456" y="274"/>
                    </a:lnTo>
                    <a:lnTo>
                      <a:pt x="450" y="271"/>
                    </a:lnTo>
                    <a:lnTo>
                      <a:pt x="445" y="269"/>
                    </a:lnTo>
                    <a:lnTo>
                      <a:pt x="439" y="267"/>
                    </a:lnTo>
                    <a:lnTo>
                      <a:pt x="437" y="265"/>
                    </a:lnTo>
                    <a:lnTo>
                      <a:pt x="415" y="247"/>
                    </a:lnTo>
                    <a:lnTo>
                      <a:pt x="394" y="231"/>
                    </a:lnTo>
                    <a:lnTo>
                      <a:pt x="373" y="216"/>
                    </a:lnTo>
                    <a:lnTo>
                      <a:pt x="355" y="201"/>
                    </a:lnTo>
                    <a:lnTo>
                      <a:pt x="334" y="187"/>
                    </a:lnTo>
                    <a:lnTo>
                      <a:pt x="316" y="173"/>
                    </a:lnTo>
                    <a:lnTo>
                      <a:pt x="297" y="160"/>
                    </a:lnTo>
                    <a:lnTo>
                      <a:pt x="279" y="148"/>
                    </a:lnTo>
                    <a:lnTo>
                      <a:pt x="241" y="124"/>
                    </a:lnTo>
                    <a:lnTo>
                      <a:pt x="205" y="104"/>
                    </a:lnTo>
                    <a:lnTo>
                      <a:pt x="171" y="83"/>
                    </a:lnTo>
                    <a:lnTo>
                      <a:pt x="138" y="65"/>
                    </a:lnTo>
                    <a:lnTo>
                      <a:pt x="104" y="46"/>
                    </a:lnTo>
                    <a:lnTo>
                      <a:pt x="70" y="30"/>
                    </a:lnTo>
                    <a:lnTo>
                      <a:pt x="35" y="13"/>
                    </a:lnTo>
                    <a:lnTo>
                      <a:pt x="0" y="0"/>
                    </a:lnTo>
                    <a:lnTo>
                      <a:pt x="42" y="5"/>
                    </a:lnTo>
                    <a:lnTo>
                      <a:pt x="84" y="14"/>
                    </a:lnTo>
                    <a:lnTo>
                      <a:pt x="124" y="28"/>
                    </a:lnTo>
                    <a:lnTo>
                      <a:pt x="164" y="45"/>
                    </a:lnTo>
                    <a:lnTo>
                      <a:pt x="201" y="63"/>
                    </a:lnTo>
                    <a:lnTo>
                      <a:pt x="237" y="83"/>
                    </a:lnTo>
                    <a:lnTo>
                      <a:pt x="270" y="104"/>
                    </a:lnTo>
                    <a:lnTo>
                      <a:pt x="30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368800" y="3128400"/>
                <a:ext cx="149760" cy="265680"/>
              </a:xfrm>
              <a:custGeom>
                <a:avLst/>
                <a:gdLst/>
                <a:ahLst/>
                <a:rect l="l" t="t" r="r" b="b"/>
                <a:pathLst>
                  <a:path w="364" h="628">
                    <a:moveTo>
                      <a:pt x="364" y="124"/>
                    </a:moveTo>
                    <a:lnTo>
                      <a:pt x="345" y="143"/>
                    </a:lnTo>
                    <a:lnTo>
                      <a:pt x="294" y="190"/>
                    </a:lnTo>
                    <a:lnTo>
                      <a:pt x="249" y="241"/>
                    </a:lnTo>
                    <a:lnTo>
                      <a:pt x="208" y="295"/>
                    </a:lnTo>
                    <a:lnTo>
                      <a:pt x="174" y="352"/>
                    </a:lnTo>
                    <a:lnTo>
                      <a:pt x="143" y="411"/>
                    </a:lnTo>
                    <a:lnTo>
                      <a:pt x="119" y="473"/>
                    </a:lnTo>
                    <a:lnTo>
                      <a:pt x="101" y="538"/>
                    </a:lnTo>
                    <a:lnTo>
                      <a:pt x="90" y="606"/>
                    </a:lnTo>
                    <a:lnTo>
                      <a:pt x="85" y="612"/>
                    </a:lnTo>
                    <a:lnTo>
                      <a:pt x="80" y="619"/>
                    </a:lnTo>
                    <a:lnTo>
                      <a:pt x="73" y="624"/>
                    </a:lnTo>
                    <a:lnTo>
                      <a:pt x="67" y="628"/>
                    </a:lnTo>
                    <a:lnTo>
                      <a:pt x="57" y="627"/>
                    </a:lnTo>
                    <a:lnTo>
                      <a:pt x="46" y="627"/>
                    </a:lnTo>
                    <a:lnTo>
                      <a:pt x="37" y="625"/>
                    </a:lnTo>
                    <a:lnTo>
                      <a:pt x="29" y="624"/>
                    </a:lnTo>
                    <a:lnTo>
                      <a:pt x="20" y="620"/>
                    </a:lnTo>
                    <a:lnTo>
                      <a:pt x="13" y="617"/>
                    </a:lnTo>
                    <a:lnTo>
                      <a:pt x="5" y="613"/>
                    </a:lnTo>
                    <a:lnTo>
                      <a:pt x="0" y="610"/>
                    </a:lnTo>
                    <a:lnTo>
                      <a:pt x="14" y="539"/>
                    </a:lnTo>
                    <a:lnTo>
                      <a:pt x="31" y="470"/>
                    </a:lnTo>
                    <a:lnTo>
                      <a:pt x="53" y="402"/>
                    </a:lnTo>
                    <a:lnTo>
                      <a:pt x="78" y="338"/>
                    </a:lnTo>
                    <a:lnTo>
                      <a:pt x="105" y="273"/>
                    </a:lnTo>
                    <a:lnTo>
                      <a:pt x="136" y="210"/>
                    </a:lnTo>
                    <a:lnTo>
                      <a:pt x="168" y="148"/>
                    </a:lnTo>
                    <a:lnTo>
                      <a:pt x="201" y="87"/>
                    </a:lnTo>
                    <a:lnTo>
                      <a:pt x="210" y="73"/>
                    </a:lnTo>
                    <a:lnTo>
                      <a:pt x="219" y="59"/>
                    </a:lnTo>
                    <a:lnTo>
                      <a:pt x="229" y="46"/>
                    </a:lnTo>
                    <a:lnTo>
                      <a:pt x="241" y="35"/>
                    </a:lnTo>
                    <a:lnTo>
                      <a:pt x="250" y="22"/>
                    </a:lnTo>
                    <a:lnTo>
                      <a:pt x="260" y="14"/>
                    </a:lnTo>
                    <a:lnTo>
                      <a:pt x="268" y="5"/>
                    </a:lnTo>
                    <a:lnTo>
                      <a:pt x="275" y="0"/>
                    </a:lnTo>
                    <a:lnTo>
                      <a:pt x="297" y="6"/>
                    </a:lnTo>
                    <a:lnTo>
                      <a:pt x="317" y="17"/>
                    </a:lnTo>
                    <a:lnTo>
                      <a:pt x="332" y="32"/>
                    </a:lnTo>
                    <a:lnTo>
                      <a:pt x="345" y="50"/>
                    </a:lnTo>
                    <a:lnTo>
                      <a:pt x="353" y="68"/>
                    </a:lnTo>
                    <a:lnTo>
                      <a:pt x="360" y="87"/>
                    </a:lnTo>
                    <a:lnTo>
                      <a:pt x="363" y="106"/>
                    </a:lnTo>
                    <a:lnTo>
                      <a:pt x="364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1752480" y="3320640"/>
                <a:ext cx="1231920" cy="1246680"/>
              </a:xfrm>
              <a:custGeom>
                <a:avLst/>
                <a:gdLst/>
                <a:ahLst/>
                <a:rect l="l" t="t" r="r" b="b"/>
                <a:pathLst>
                  <a:path w="2985" h="2940">
                    <a:moveTo>
                      <a:pt x="2698" y="352"/>
                    </a:moveTo>
                    <a:lnTo>
                      <a:pt x="2731" y="390"/>
                    </a:lnTo>
                    <a:lnTo>
                      <a:pt x="2763" y="431"/>
                    </a:lnTo>
                    <a:lnTo>
                      <a:pt x="2790" y="473"/>
                    </a:lnTo>
                    <a:lnTo>
                      <a:pt x="2818" y="519"/>
                    </a:lnTo>
                    <a:lnTo>
                      <a:pt x="2843" y="564"/>
                    </a:lnTo>
                    <a:lnTo>
                      <a:pt x="2865" y="611"/>
                    </a:lnTo>
                    <a:lnTo>
                      <a:pt x="2886" y="657"/>
                    </a:lnTo>
                    <a:lnTo>
                      <a:pt x="2905" y="704"/>
                    </a:lnTo>
                    <a:lnTo>
                      <a:pt x="2911" y="716"/>
                    </a:lnTo>
                    <a:lnTo>
                      <a:pt x="2918" y="730"/>
                    </a:lnTo>
                    <a:lnTo>
                      <a:pt x="2925" y="747"/>
                    </a:lnTo>
                    <a:lnTo>
                      <a:pt x="2933" y="765"/>
                    </a:lnTo>
                    <a:lnTo>
                      <a:pt x="2939" y="783"/>
                    </a:lnTo>
                    <a:lnTo>
                      <a:pt x="2945" y="800"/>
                    </a:lnTo>
                    <a:lnTo>
                      <a:pt x="2950" y="816"/>
                    </a:lnTo>
                    <a:lnTo>
                      <a:pt x="2954" y="832"/>
                    </a:lnTo>
                    <a:lnTo>
                      <a:pt x="2971" y="917"/>
                    </a:lnTo>
                    <a:lnTo>
                      <a:pt x="2982" y="1011"/>
                    </a:lnTo>
                    <a:lnTo>
                      <a:pt x="2985" y="1107"/>
                    </a:lnTo>
                    <a:lnTo>
                      <a:pt x="2983" y="1206"/>
                    </a:lnTo>
                    <a:lnTo>
                      <a:pt x="2974" y="1300"/>
                    </a:lnTo>
                    <a:lnTo>
                      <a:pt x="2962" y="1391"/>
                    </a:lnTo>
                    <a:lnTo>
                      <a:pt x="2944" y="1471"/>
                    </a:lnTo>
                    <a:lnTo>
                      <a:pt x="2924" y="1540"/>
                    </a:lnTo>
                    <a:lnTo>
                      <a:pt x="2894" y="1612"/>
                    </a:lnTo>
                    <a:lnTo>
                      <a:pt x="2862" y="1686"/>
                    </a:lnTo>
                    <a:lnTo>
                      <a:pt x="2825" y="1759"/>
                    </a:lnTo>
                    <a:lnTo>
                      <a:pt x="2788" y="1831"/>
                    </a:lnTo>
                    <a:lnTo>
                      <a:pt x="2746" y="1901"/>
                    </a:lnTo>
                    <a:lnTo>
                      <a:pt x="2704" y="1971"/>
                    </a:lnTo>
                    <a:lnTo>
                      <a:pt x="2660" y="2039"/>
                    </a:lnTo>
                    <a:lnTo>
                      <a:pt x="2617" y="2104"/>
                    </a:lnTo>
                    <a:lnTo>
                      <a:pt x="2548" y="2203"/>
                    </a:lnTo>
                    <a:lnTo>
                      <a:pt x="2479" y="2305"/>
                    </a:lnTo>
                    <a:lnTo>
                      <a:pt x="2409" y="2406"/>
                    </a:lnTo>
                    <a:lnTo>
                      <a:pt x="2337" y="2508"/>
                    </a:lnTo>
                    <a:lnTo>
                      <a:pt x="2261" y="2605"/>
                    </a:lnTo>
                    <a:lnTo>
                      <a:pt x="2181" y="2698"/>
                    </a:lnTo>
                    <a:lnTo>
                      <a:pt x="2094" y="2783"/>
                    </a:lnTo>
                    <a:lnTo>
                      <a:pt x="2001" y="2861"/>
                    </a:lnTo>
                    <a:lnTo>
                      <a:pt x="1974" y="2877"/>
                    </a:lnTo>
                    <a:lnTo>
                      <a:pt x="1944" y="2892"/>
                    </a:lnTo>
                    <a:lnTo>
                      <a:pt x="1911" y="2907"/>
                    </a:lnTo>
                    <a:lnTo>
                      <a:pt x="1876" y="2920"/>
                    </a:lnTo>
                    <a:lnTo>
                      <a:pt x="1838" y="2929"/>
                    </a:lnTo>
                    <a:lnTo>
                      <a:pt x="1797" y="2936"/>
                    </a:lnTo>
                    <a:lnTo>
                      <a:pt x="1754" y="2940"/>
                    </a:lnTo>
                    <a:lnTo>
                      <a:pt x="1710" y="2939"/>
                    </a:lnTo>
                    <a:lnTo>
                      <a:pt x="1653" y="2926"/>
                    </a:lnTo>
                    <a:lnTo>
                      <a:pt x="1599" y="2908"/>
                    </a:lnTo>
                    <a:lnTo>
                      <a:pt x="1544" y="2884"/>
                    </a:lnTo>
                    <a:lnTo>
                      <a:pt x="1490" y="2861"/>
                    </a:lnTo>
                    <a:lnTo>
                      <a:pt x="1435" y="2841"/>
                    </a:lnTo>
                    <a:lnTo>
                      <a:pt x="1380" y="2831"/>
                    </a:lnTo>
                    <a:lnTo>
                      <a:pt x="1325" y="2833"/>
                    </a:lnTo>
                    <a:lnTo>
                      <a:pt x="1269" y="2853"/>
                    </a:lnTo>
                    <a:lnTo>
                      <a:pt x="1231" y="2865"/>
                    </a:lnTo>
                    <a:lnTo>
                      <a:pt x="1193" y="2872"/>
                    </a:lnTo>
                    <a:lnTo>
                      <a:pt x="1154" y="2874"/>
                    </a:lnTo>
                    <a:lnTo>
                      <a:pt x="1116" y="2874"/>
                    </a:lnTo>
                    <a:lnTo>
                      <a:pt x="1076" y="2869"/>
                    </a:lnTo>
                    <a:lnTo>
                      <a:pt x="1037" y="2860"/>
                    </a:lnTo>
                    <a:lnTo>
                      <a:pt x="998" y="2849"/>
                    </a:lnTo>
                    <a:lnTo>
                      <a:pt x="961" y="2836"/>
                    </a:lnTo>
                    <a:lnTo>
                      <a:pt x="923" y="2818"/>
                    </a:lnTo>
                    <a:lnTo>
                      <a:pt x="889" y="2800"/>
                    </a:lnTo>
                    <a:lnTo>
                      <a:pt x="858" y="2778"/>
                    </a:lnTo>
                    <a:lnTo>
                      <a:pt x="828" y="2757"/>
                    </a:lnTo>
                    <a:lnTo>
                      <a:pt x="798" y="2733"/>
                    </a:lnTo>
                    <a:lnTo>
                      <a:pt x="770" y="2709"/>
                    </a:lnTo>
                    <a:lnTo>
                      <a:pt x="741" y="2686"/>
                    </a:lnTo>
                    <a:lnTo>
                      <a:pt x="713" y="2664"/>
                    </a:lnTo>
                    <a:lnTo>
                      <a:pt x="653" y="2612"/>
                    </a:lnTo>
                    <a:lnTo>
                      <a:pt x="601" y="2557"/>
                    </a:lnTo>
                    <a:lnTo>
                      <a:pt x="552" y="2500"/>
                    </a:lnTo>
                    <a:lnTo>
                      <a:pt x="508" y="2441"/>
                    </a:lnTo>
                    <a:lnTo>
                      <a:pt x="466" y="2380"/>
                    </a:lnTo>
                    <a:lnTo>
                      <a:pt x="428" y="2318"/>
                    </a:lnTo>
                    <a:lnTo>
                      <a:pt x="390" y="2253"/>
                    </a:lnTo>
                    <a:lnTo>
                      <a:pt x="354" y="2189"/>
                    </a:lnTo>
                    <a:lnTo>
                      <a:pt x="324" y="2137"/>
                    </a:lnTo>
                    <a:lnTo>
                      <a:pt x="299" y="2088"/>
                    </a:lnTo>
                    <a:lnTo>
                      <a:pt x="274" y="2039"/>
                    </a:lnTo>
                    <a:lnTo>
                      <a:pt x="253" y="1990"/>
                    </a:lnTo>
                    <a:lnTo>
                      <a:pt x="232" y="1940"/>
                    </a:lnTo>
                    <a:lnTo>
                      <a:pt x="214" y="1891"/>
                    </a:lnTo>
                    <a:lnTo>
                      <a:pt x="196" y="1839"/>
                    </a:lnTo>
                    <a:lnTo>
                      <a:pt x="182" y="1788"/>
                    </a:lnTo>
                    <a:lnTo>
                      <a:pt x="161" y="1718"/>
                    </a:lnTo>
                    <a:lnTo>
                      <a:pt x="139" y="1645"/>
                    </a:lnTo>
                    <a:lnTo>
                      <a:pt x="114" y="1570"/>
                    </a:lnTo>
                    <a:lnTo>
                      <a:pt x="90" y="1495"/>
                    </a:lnTo>
                    <a:lnTo>
                      <a:pt x="67" y="1422"/>
                    </a:lnTo>
                    <a:lnTo>
                      <a:pt x="46" y="1355"/>
                    </a:lnTo>
                    <a:lnTo>
                      <a:pt x="30" y="1293"/>
                    </a:lnTo>
                    <a:lnTo>
                      <a:pt x="20" y="1242"/>
                    </a:lnTo>
                    <a:lnTo>
                      <a:pt x="11" y="1194"/>
                    </a:lnTo>
                    <a:lnTo>
                      <a:pt x="5" y="1150"/>
                    </a:lnTo>
                    <a:lnTo>
                      <a:pt x="1" y="1108"/>
                    </a:lnTo>
                    <a:lnTo>
                      <a:pt x="0" y="1065"/>
                    </a:lnTo>
                    <a:lnTo>
                      <a:pt x="0" y="1018"/>
                    </a:lnTo>
                    <a:lnTo>
                      <a:pt x="5" y="966"/>
                    </a:lnTo>
                    <a:lnTo>
                      <a:pt x="14" y="908"/>
                    </a:lnTo>
                    <a:lnTo>
                      <a:pt x="30" y="842"/>
                    </a:lnTo>
                    <a:lnTo>
                      <a:pt x="38" y="804"/>
                    </a:lnTo>
                    <a:lnTo>
                      <a:pt x="47" y="768"/>
                    </a:lnTo>
                    <a:lnTo>
                      <a:pt x="58" y="733"/>
                    </a:lnTo>
                    <a:lnTo>
                      <a:pt x="71" y="700"/>
                    </a:lnTo>
                    <a:lnTo>
                      <a:pt x="83" y="666"/>
                    </a:lnTo>
                    <a:lnTo>
                      <a:pt x="99" y="635"/>
                    </a:lnTo>
                    <a:lnTo>
                      <a:pt x="114" y="603"/>
                    </a:lnTo>
                    <a:lnTo>
                      <a:pt x="130" y="572"/>
                    </a:lnTo>
                    <a:lnTo>
                      <a:pt x="163" y="502"/>
                    </a:lnTo>
                    <a:lnTo>
                      <a:pt x="206" y="435"/>
                    </a:lnTo>
                    <a:lnTo>
                      <a:pt x="257" y="372"/>
                    </a:lnTo>
                    <a:lnTo>
                      <a:pt x="315" y="312"/>
                    </a:lnTo>
                    <a:lnTo>
                      <a:pt x="378" y="258"/>
                    </a:lnTo>
                    <a:lnTo>
                      <a:pt x="448" y="210"/>
                    </a:lnTo>
                    <a:lnTo>
                      <a:pt x="521" y="171"/>
                    </a:lnTo>
                    <a:lnTo>
                      <a:pt x="598" y="142"/>
                    </a:lnTo>
                    <a:lnTo>
                      <a:pt x="635" y="128"/>
                    </a:lnTo>
                    <a:lnTo>
                      <a:pt x="672" y="117"/>
                    </a:lnTo>
                    <a:lnTo>
                      <a:pt x="707" y="107"/>
                    </a:lnTo>
                    <a:lnTo>
                      <a:pt x="742" y="98"/>
                    </a:lnTo>
                    <a:lnTo>
                      <a:pt x="777" y="89"/>
                    </a:lnTo>
                    <a:lnTo>
                      <a:pt x="812" y="83"/>
                    </a:lnTo>
                    <a:lnTo>
                      <a:pt x="847" y="77"/>
                    </a:lnTo>
                    <a:lnTo>
                      <a:pt x="884" y="74"/>
                    </a:lnTo>
                    <a:lnTo>
                      <a:pt x="907" y="70"/>
                    </a:lnTo>
                    <a:lnTo>
                      <a:pt x="929" y="67"/>
                    </a:lnTo>
                    <a:lnTo>
                      <a:pt x="951" y="65"/>
                    </a:lnTo>
                    <a:lnTo>
                      <a:pt x="974" y="67"/>
                    </a:lnTo>
                    <a:lnTo>
                      <a:pt x="995" y="70"/>
                    </a:lnTo>
                    <a:lnTo>
                      <a:pt x="1020" y="78"/>
                    </a:lnTo>
                    <a:lnTo>
                      <a:pt x="1044" y="90"/>
                    </a:lnTo>
                    <a:lnTo>
                      <a:pt x="1073" y="109"/>
                    </a:lnTo>
                    <a:lnTo>
                      <a:pt x="1116" y="133"/>
                    </a:lnTo>
                    <a:lnTo>
                      <a:pt x="1164" y="153"/>
                    </a:lnTo>
                    <a:lnTo>
                      <a:pt x="1213" y="167"/>
                    </a:lnTo>
                    <a:lnTo>
                      <a:pt x="1265" y="180"/>
                    </a:lnTo>
                    <a:lnTo>
                      <a:pt x="1318" y="187"/>
                    </a:lnTo>
                    <a:lnTo>
                      <a:pt x="1372" y="193"/>
                    </a:lnTo>
                    <a:lnTo>
                      <a:pt x="1425" y="197"/>
                    </a:lnTo>
                    <a:lnTo>
                      <a:pt x="1480" y="201"/>
                    </a:lnTo>
                    <a:lnTo>
                      <a:pt x="1489" y="208"/>
                    </a:lnTo>
                    <a:lnTo>
                      <a:pt x="1500" y="214"/>
                    </a:lnTo>
                    <a:lnTo>
                      <a:pt x="1513" y="218"/>
                    </a:lnTo>
                    <a:lnTo>
                      <a:pt x="1526" y="220"/>
                    </a:lnTo>
                    <a:lnTo>
                      <a:pt x="1538" y="219"/>
                    </a:lnTo>
                    <a:lnTo>
                      <a:pt x="1552" y="219"/>
                    </a:lnTo>
                    <a:lnTo>
                      <a:pt x="1565" y="217"/>
                    </a:lnTo>
                    <a:lnTo>
                      <a:pt x="1578" y="216"/>
                    </a:lnTo>
                    <a:lnTo>
                      <a:pt x="1597" y="199"/>
                    </a:lnTo>
                    <a:lnTo>
                      <a:pt x="1611" y="181"/>
                    </a:lnTo>
                    <a:lnTo>
                      <a:pt x="1622" y="159"/>
                    </a:lnTo>
                    <a:lnTo>
                      <a:pt x="1631" y="137"/>
                    </a:lnTo>
                    <a:lnTo>
                      <a:pt x="1636" y="112"/>
                    </a:lnTo>
                    <a:lnTo>
                      <a:pt x="1642" y="85"/>
                    </a:lnTo>
                    <a:lnTo>
                      <a:pt x="1648" y="56"/>
                    </a:lnTo>
                    <a:lnTo>
                      <a:pt x="1655" y="27"/>
                    </a:lnTo>
                    <a:lnTo>
                      <a:pt x="1668" y="17"/>
                    </a:lnTo>
                    <a:lnTo>
                      <a:pt x="1681" y="12"/>
                    </a:lnTo>
                    <a:lnTo>
                      <a:pt x="1693" y="7"/>
                    </a:lnTo>
                    <a:lnTo>
                      <a:pt x="1707" y="4"/>
                    </a:lnTo>
                    <a:lnTo>
                      <a:pt x="1719" y="1"/>
                    </a:lnTo>
                    <a:lnTo>
                      <a:pt x="1735" y="1"/>
                    </a:lnTo>
                    <a:lnTo>
                      <a:pt x="1751" y="1"/>
                    </a:lnTo>
                    <a:lnTo>
                      <a:pt x="1771" y="1"/>
                    </a:lnTo>
                    <a:lnTo>
                      <a:pt x="1903" y="0"/>
                    </a:lnTo>
                    <a:lnTo>
                      <a:pt x="2033" y="11"/>
                    </a:lnTo>
                    <a:lnTo>
                      <a:pt x="2159" y="34"/>
                    </a:lnTo>
                    <a:lnTo>
                      <a:pt x="2280" y="71"/>
                    </a:lnTo>
                    <a:lnTo>
                      <a:pt x="2394" y="119"/>
                    </a:lnTo>
                    <a:lnTo>
                      <a:pt x="2502" y="182"/>
                    </a:lnTo>
                    <a:lnTo>
                      <a:pt x="2602" y="259"/>
                    </a:lnTo>
                    <a:lnTo>
                      <a:pt x="2698" y="352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2" name=""/>
            <p:cNvSpPr/>
            <p:nvPr/>
          </p:nvSpPr>
          <p:spPr>
            <a:xfrm>
              <a:off x="2508840" y="3621960"/>
              <a:ext cx="231480" cy="145080"/>
            </a:xfrm>
            <a:custGeom>
              <a:avLst/>
              <a:gdLst/>
              <a:ahLst/>
              <a:rect l="l" t="t" r="r" b="b"/>
              <a:pathLst>
                <a:path w="187" h="114">
                  <a:moveTo>
                    <a:pt x="5" y="0"/>
                  </a:moveTo>
                  <a:cubicBezTo>
                    <a:pt x="16" y="108"/>
                    <a:pt x="0" y="83"/>
                    <a:pt x="101" y="96"/>
                  </a:cubicBezTo>
                  <a:cubicBezTo>
                    <a:pt x="109" y="101"/>
                    <a:pt x="116" y="114"/>
                    <a:pt x="125" y="112"/>
                  </a:cubicBezTo>
                  <a:cubicBezTo>
                    <a:pt x="144" y="108"/>
                    <a:pt x="173" y="80"/>
                    <a:pt x="173" y="80"/>
                  </a:cubicBezTo>
                  <a:cubicBezTo>
                    <a:pt x="187" y="38"/>
                    <a:pt x="169" y="44"/>
                    <a:pt x="133" y="32"/>
                  </a:cubicBezTo>
                  <a:cubicBezTo>
                    <a:pt x="35" y="46"/>
                    <a:pt x="108" y="42"/>
                    <a:pt x="45" y="0"/>
                  </a:cubicBezTo>
                  <a:cubicBezTo>
                    <a:pt x="15" y="10"/>
                    <a:pt x="29" y="1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3" name=""/>
          <p:cNvSpPr/>
          <p:nvPr/>
        </p:nvSpPr>
        <p:spPr>
          <a:xfrm>
            <a:off x="2059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6936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5" name=""/>
          <p:cNvGrpSpPr/>
          <p:nvPr/>
        </p:nvGrpSpPr>
        <p:grpSpPr>
          <a:xfrm>
            <a:off x="6324480" y="3033720"/>
            <a:ext cx="1486080" cy="1550880"/>
            <a:chOff x="6324480" y="3033720"/>
            <a:chExt cx="1486080" cy="1550880"/>
          </a:xfrm>
        </p:grpSpPr>
        <p:sp>
          <p:nvSpPr>
            <p:cNvPr id="2946" name=""/>
            <p:cNvSpPr/>
            <p:nvPr/>
          </p:nvSpPr>
          <p:spPr>
            <a:xfrm>
              <a:off x="6324480" y="3033720"/>
              <a:ext cx="1486080" cy="1550880"/>
            </a:xfrm>
            <a:custGeom>
              <a:avLst/>
              <a:gdLst/>
              <a:ahLst/>
              <a:rect l="l" t="t" r="r" b="b"/>
              <a:pathLst>
                <a:path w="1588" h="1691">
                  <a:moveTo>
                    <a:pt x="599" y="78"/>
                  </a:moveTo>
                  <a:lnTo>
                    <a:pt x="599" y="64"/>
                  </a:lnTo>
                  <a:lnTo>
                    <a:pt x="596" y="57"/>
                  </a:lnTo>
                  <a:lnTo>
                    <a:pt x="588" y="55"/>
                  </a:lnTo>
                  <a:lnTo>
                    <a:pt x="578" y="55"/>
                  </a:lnTo>
                  <a:lnTo>
                    <a:pt x="566" y="53"/>
                  </a:lnTo>
                  <a:lnTo>
                    <a:pt x="559" y="53"/>
                  </a:lnTo>
                  <a:lnTo>
                    <a:pt x="553" y="45"/>
                  </a:lnTo>
                  <a:lnTo>
                    <a:pt x="553" y="33"/>
                  </a:lnTo>
                  <a:lnTo>
                    <a:pt x="564" y="41"/>
                  </a:lnTo>
                  <a:lnTo>
                    <a:pt x="578" y="49"/>
                  </a:lnTo>
                  <a:lnTo>
                    <a:pt x="592" y="51"/>
                  </a:lnTo>
                  <a:lnTo>
                    <a:pt x="609" y="51"/>
                  </a:lnTo>
                  <a:lnTo>
                    <a:pt x="621" y="37"/>
                  </a:lnTo>
                  <a:lnTo>
                    <a:pt x="764" y="105"/>
                  </a:lnTo>
                  <a:lnTo>
                    <a:pt x="747" y="113"/>
                  </a:lnTo>
                  <a:lnTo>
                    <a:pt x="737" y="126"/>
                  </a:lnTo>
                  <a:lnTo>
                    <a:pt x="731" y="142"/>
                  </a:lnTo>
                  <a:lnTo>
                    <a:pt x="725" y="157"/>
                  </a:lnTo>
                  <a:lnTo>
                    <a:pt x="712" y="140"/>
                  </a:lnTo>
                  <a:lnTo>
                    <a:pt x="698" y="124"/>
                  </a:lnTo>
                  <a:lnTo>
                    <a:pt x="685" y="109"/>
                  </a:lnTo>
                  <a:lnTo>
                    <a:pt x="673" y="97"/>
                  </a:lnTo>
                  <a:lnTo>
                    <a:pt x="658" y="84"/>
                  </a:lnTo>
                  <a:lnTo>
                    <a:pt x="642" y="74"/>
                  </a:lnTo>
                  <a:lnTo>
                    <a:pt x="625" y="62"/>
                  </a:lnTo>
                  <a:lnTo>
                    <a:pt x="609" y="57"/>
                  </a:lnTo>
                  <a:lnTo>
                    <a:pt x="601" y="66"/>
                  </a:lnTo>
                  <a:lnTo>
                    <a:pt x="603" y="78"/>
                  </a:lnTo>
                  <a:lnTo>
                    <a:pt x="609" y="86"/>
                  </a:lnTo>
                  <a:lnTo>
                    <a:pt x="621" y="95"/>
                  </a:lnTo>
                  <a:lnTo>
                    <a:pt x="632" y="101"/>
                  </a:lnTo>
                  <a:lnTo>
                    <a:pt x="644" y="109"/>
                  </a:lnTo>
                  <a:lnTo>
                    <a:pt x="654" y="117"/>
                  </a:lnTo>
                  <a:lnTo>
                    <a:pt x="665" y="128"/>
                  </a:lnTo>
                  <a:lnTo>
                    <a:pt x="679" y="138"/>
                  </a:lnTo>
                  <a:lnTo>
                    <a:pt x="689" y="154"/>
                  </a:lnTo>
                  <a:lnTo>
                    <a:pt x="696" y="171"/>
                  </a:lnTo>
                  <a:lnTo>
                    <a:pt x="704" y="190"/>
                  </a:lnTo>
                  <a:lnTo>
                    <a:pt x="710" y="204"/>
                  </a:lnTo>
                  <a:lnTo>
                    <a:pt x="724" y="216"/>
                  </a:lnTo>
                  <a:lnTo>
                    <a:pt x="739" y="219"/>
                  </a:lnTo>
                  <a:lnTo>
                    <a:pt x="764" y="219"/>
                  </a:lnTo>
                  <a:lnTo>
                    <a:pt x="844" y="216"/>
                  </a:lnTo>
                  <a:lnTo>
                    <a:pt x="929" y="214"/>
                  </a:lnTo>
                  <a:lnTo>
                    <a:pt x="1012" y="208"/>
                  </a:lnTo>
                  <a:lnTo>
                    <a:pt x="1098" y="208"/>
                  </a:lnTo>
                  <a:lnTo>
                    <a:pt x="1179" y="214"/>
                  </a:lnTo>
                  <a:lnTo>
                    <a:pt x="1259" y="231"/>
                  </a:lnTo>
                  <a:lnTo>
                    <a:pt x="1332" y="262"/>
                  </a:lnTo>
                  <a:lnTo>
                    <a:pt x="1400" y="314"/>
                  </a:lnTo>
                  <a:lnTo>
                    <a:pt x="1410" y="318"/>
                  </a:lnTo>
                  <a:lnTo>
                    <a:pt x="1422" y="326"/>
                  </a:lnTo>
                  <a:lnTo>
                    <a:pt x="1429" y="336"/>
                  </a:lnTo>
                  <a:lnTo>
                    <a:pt x="1439" y="349"/>
                  </a:lnTo>
                  <a:lnTo>
                    <a:pt x="1445" y="361"/>
                  </a:lnTo>
                  <a:lnTo>
                    <a:pt x="1453" y="375"/>
                  </a:lnTo>
                  <a:lnTo>
                    <a:pt x="1460" y="386"/>
                  </a:lnTo>
                  <a:lnTo>
                    <a:pt x="1470" y="400"/>
                  </a:lnTo>
                  <a:lnTo>
                    <a:pt x="1491" y="442"/>
                  </a:lnTo>
                  <a:lnTo>
                    <a:pt x="1509" y="491"/>
                  </a:lnTo>
                  <a:lnTo>
                    <a:pt x="1523" y="537"/>
                  </a:lnTo>
                  <a:lnTo>
                    <a:pt x="1536" y="588"/>
                  </a:lnTo>
                  <a:lnTo>
                    <a:pt x="1544" y="636"/>
                  </a:lnTo>
                  <a:lnTo>
                    <a:pt x="1554" y="689"/>
                  </a:lnTo>
                  <a:lnTo>
                    <a:pt x="1561" y="739"/>
                  </a:lnTo>
                  <a:lnTo>
                    <a:pt x="1573" y="791"/>
                  </a:lnTo>
                  <a:lnTo>
                    <a:pt x="1587" y="871"/>
                  </a:lnTo>
                  <a:lnTo>
                    <a:pt x="1588" y="950"/>
                  </a:lnTo>
                  <a:lnTo>
                    <a:pt x="1575" y="1026"/>
                  </a:lnTo>
                  <a:lnTo>
                    <a:pt x="1554" y="1103"/>
                  </a:lnTo>
                  <a:lnTo>
                    <a:pt x="1523" y="1175"/>
                  </a:lnTo>
                  <a:lnTo>
                    <a:pt x="1491" y="1249"/>
                  </a:lnTo>
                  <a:lnTo>
                    <a:pt x="1457" y="1321"/>
                  </a:lnTo>
                  <a:lnTo>
                    <a:pt x="1427" y="1392"/>
                  </a:lnTo>
                  <a:lnTo>
                    <a:pt x="1408" y="1421"/>
                  </a:lnTo>
                  <a:lnTo>
                    <a:pt x="1387" y="1450"/>
                  </a:lnTo>
                  <a:lnTo>
                    <a:pt x="1362" y="1474"/>
                  </a:lnTo>
                  <a:lnTo>
                    <a:pt x="1336" y="1499"/>
                  </a:lnTo>
                  <a:lnTo>
                    <a:pt x="1307" y="1518"/>
                  </a:lnTo>
                  <a:lnTo>
                    <a:pt x="1278" y="1542"/>
                  </a:lnTo>
                  <a:lnTo>
                    <a:pt x="1249" y="1563"/>
                  </a:lnTo>
                  <a:lnTo>
                    <a:pt x="1224" y="1586"/>
                  </a:lnTo>
                  <a:lnTo>
                    <a:pt x="1162" y="1623"/>
                  </a:lnTo>
                  <a:lnTo>
                    <a:pt x="1098" y="1646"/>
                  </a:lnTo>
                  <a:lnTo>
                    <a:pt x="1028" y="1656"/>
                  </a:lnTo>
                  <a:lnTo>
                    <a:pt x="958" y="1662"/>
                  </a:lnTo>
                  <a:lnTo>
                    <a:pt x="884" y="1662"/>
                  </a:lnTo>
                  <a:lnTo>
                    <a:pt x="813" y="1666"/>
                  </a:lnTo>
                  <a:lnTo>
                    <a:pt x="741" y="1671"/>
                  </a:lnTo>
                  <a:lnTo>
                    <a:pt x="673" y="1691"/>
                  </a:lnTo>
                  <a:lnTo>
                    <a:pt x="607" y="1683"/>
                  </a:lnTo>
                  <a:lnTo>
                    <a:pt x="545" y="1669"/>
                  </a:lnTo>
                  <a:lnTo>
                    <a:pt x="483" y="1650"/>
                  </a:lnTo>
                  <a:lnTo>
                    <a:pt x="425" y="1627"/>
                  </a:lnTo>
                  <a:lnTo>
                    <a:pt x="367" y="1596"/>
                  </a:lnTo>
                  <a:lnTo>
                    <a:pt x="314" y="1561"/>
                  </a:lnTo>
                  <a:lnTo>
                    <a:pt x="262" y="1522"/>
                  </a:lnTo>
                  <a:lnTo>
                    <a:pt x="213" y="1483"/>
                  </a:lnTo>
                  <a:lnTo>
                    <a:pt x="161" y="1412"/>
                  </a:lnTo>
                  <a:lnTo>
                    <a:pt x="116" y="1338"/>
                  </a:lnTo>
                  <a:lnTo>
                    <a:pt x="80" y="1262"/>
                  </a:lnTo>
                  <a:lnTo>
                    <a:pt x="51" y="1183"/>
                  </a:lnTo>
                  <a:lnTo>
                    <a:pt x="27" y="1100"/>
                  </a:lnTo>
                  <a:lnTo>
                    <a:pt x="12" y="1016"/>
                  </a:lnTo>
                  <a:lnTo>
                    <a:pt x="2" y="931"/>
                  </a:lnTo>
                  <a:lnTo>
                    <a:pt x="0" y="846"/>
                  </a:lnTo>
                  <a:lnTo>
                    <a:pt x="8" y="789"/>
                  </a:lnTo>
                  <a:lnTo>
                    <a:pt x="16" y="735"/>
                  </a:lnTo>
                  <a:lnTo>
                    <a:pt x="23" y="679"/>
                  </a:lnTo>
                  <a:lnTo>
                    <a:pt x="37" y="627"/>
                  </a:lnTo>
                  <a:lnTo>
                    <a:pt x="54" y="576"/>
                  </a:lnTo>
                  <a:lnTo>
                    <a:pt x="84" y="532"/>
                  </a:lnTo>
                  <a:lnTo>
                    <a:pt x="120" y="495"/>
                  </a:lnTo>
                  <a:lnTo>
                    <a:pt x="173" y="468"/>
                  </a:lnTo>
                  <a:lnTo>
                    <a:pt x="188" y="446"/>
                  </a:lnTo>
                  <a:lnTo>
                    <a:pt x="204" y="427"/>
                  </a:lnTo>
                  <a:lnTo>
                    <a:pt x="219" y="407"/>
                  </a:lnTo>
                  <a:lnTo>
                    <a:pt x="237" y="388"/>
                  </a:lnTo>
                  <a:lnTo>
                    <a:pt x="246" y="367"/>
                  </a:lnTo>
                  <a:lnTo>
                    <a:pt x="254" y="345"/>
                  </a:lnTo>
                  <a:lnTo>
                    <a:pt x="256" y="320"/>
                  </a:lnTo>
                  <a:lnTo>
                    <a:pt x="252" y="297"/>
                  </a:lnTo>
                  <a:lnTo>
                    <a:pt x="243" y="262"/>
                  </a:lnTo>
                  <a:lnTo>
                    <a:pt x="233" y="227"/>
                  </a:lnTo>
                  <a:lnTo>
                    <a:pt x="221" y="192"/>
                  </a:lnTo>
                  <a:lnTo>
                    <a:pt x="210" y="163"/>
                  </a:lnTo>
                  <a:lnTo>
                    <a:pt x="192" y="130"/>
                  </a:lnTo>
                  <a:lnTo>
                    <a:pt x="177" y="101"/>
                  </a:lnTo>
                  <a:lnTo>
                    <a:pt x="157" y="72"/>
                  </a:lnTo>
                  <a:lnTo>
                    <a:pt x="140" y="47"/>
                  </a:lnTo>
                  <a:lnTo>
                    <a:pt x="151" y="20"/>
                  </a:lnTo>
                  <a:lnTo>
                    <a:pt x="169" y="6"/>
                  </a:lnTo>
                  <a:lnTo>
                    <a:pt x="190" y="0"/>
                  </a:lnTo>
                  <a:lnTo>
                    <a:pt x="213" y="2"/>
                  </a:lnTo>
                  <a:lnTo>
                    <a:pt x="237" y="6"/>
                  </a:lnTo>
                  <a:lnTo>
                    <a:pt x="260" y="16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36" y="49"/>
                  </a:lnTo>
                  <a:lnTo>
                    <a:pt x="372" y="62"/>
                  </a:lnTo>
                  <a:lnTo>
                    <a:pt x="411" y="74"/>
                  </a:lnTo>
                  <a:lnTo>
                    <a:pt x="450" y="86"/>
                  </a:lnTo>
                  <a:lnTo>
                    <a:pt x="487" y="91"/>
                  </a:lnTo>
                  <a:lnTo>
                    <a:pt x="526" y="93"/>
                  </a:lnTo>
                  <a:lnTo>
                    <a:pt x="563" y="88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378840" y="3087000"/>
              <a:ext cx="1388160" cy="1451880"/>
            </a:xfrm>
            <a:custGeom>
              <a:avLst/>
              <a:gdLst/>
              <a:ahLst/>
              <a:rect l="l" t="t" r="r" b="b"/>
              <a:pathLst>
                <a:path w="1484" h="1581">
                  <a:moveTo>
                    <a:pt x="173" y="0"/>
                  </a:moveTo>
                  <a:lnTo>
                    <a:pt x="185" y="23"/>
                  </a:lnTo>
                  <a:lnTo>
                    <a:pt x="198" y="48"/>
                  </a:lnTo>
                  <a:lnTo>
                    <a:pt x="208" y="73"/>
                  </a:lnTo>
                  <a:lnTo>
                    <a:pt x="218" y="100"/>
                  </a:lnTo>
                  <a:lnTo>
                    <a:pt x="225" y="126"/>
                  </a:lnTo>
                  <a:lnTo>
                    <a:pt x="235" y="153"/>
                  </a:lnTo>
                  <a:lnTo>
                    <a:pt x="243" y="180"/>
                  </a:lnTo>
                  <a:lnTo>
                    <a:pt x="252" y="207"/>
                  </a:lnTo>
                  <a:lnTo>
                    <a:pt x="264" y="203"/>
                  </a:lnTo>
                  <a:lnTo>
                    <a:pt x="278" y="199"/>
                  </a:lnTo>
                  <a:lnTo>
                    <a:pt x="291" y="195"/>
                  </a:lnTo>
                  <a:lnTo>
                    <a:pt x="305" y="191"/>
                  </a:lnTo>
                  <a:lnTo>
                    <a:pt x="316" y="186"/>
                  </a:lnTo>
                  <a:lnTo>
                    <a:pt x="328" y="180"/>
                  </a:lnTo>
                  <a:lnTo>
                    <a:pt x="340" y="176"/>
                  </a:lnTo>
                  <a:lnTo>
                    <a:pt x="351" y="172"/>
                  </a:lnTo>
                  <a:lnTo>
                    <a:pt x="330" y="155"/>
                  </a:lnTo>
                  <a:lnTo>
                    <a:pt x="311" y="139"/>
                  </a:lnTo>
                  <a:lnTo>
                    <a:pt x="291" y="122"/>
                  </a:lnTo>
                  <a:lnTo>
                    <a:pt x="274" y="106"/>
                  </a:lnTo>
                  <a:lnTo>
                    <a:pt x="254" y="89"/>
                  </a:lnTo>
                  <a:lnTo>
                    <a:pt x="239" y="71"/>
                  </a:lnTo>
                  <a:lnTo>
                    <a:pt x="225" y="50"/>
                  </a:lnTo>
                  <a:lnTo>
                    <a:pt x="219" y="31"/>
                  </a:lnTo>
                  <a:lnTo>
                    <a:pt x="194" y="13"/>
                  </a:lnTo>
                  <a:lnTo>
                    <a:pt x="202" y="0"/>
                  </a:lnTo>
                  <a:lnTo>
                    <a:pt x="241" y="15"/>
                  </a:lnTo>
                  <a:lnTo>
                    <a:pt x="280" y="31"/>
                  </a:lnTo>
                  <a:lnTo>
                    <a:pt x="320" y="44"/>
                  </a:lnTo>
                  <a:lnTo>
                    <a:pt x="361" y="58"/>
                  </a:lnTo>
                  <a:lnTo>
                    <a:pt x="402" y="65"/>
                  </a:lnTo>
                  <a:lnTo>
                    <a:pt x="444" y="71"/>
                  </a:lnTo>
                  <a:lnTo>
                    <a:pt x="487" y="71"/>
                  </a:lnTo>
                  <a:lnTo>
                    <a:pt x="534" y="69"/>
                  </a:lnTo>
                  <a:lnTo>
                    <a:pt x="549" y="87"/>
                  </a:lnTo>
                  <a:lnTo>
                    <a:pt x="567" y="104"/>
                  </a:lnTo>
                  <a:lnTo>
                    <a:pt x="580" y="122"/>
                  </a:lnTo>
                  <a:lnTo>
                    <a:pt x="596" y="141"/>
                  </a:lnTo>
                  <a:lnTo>
                    <a:pt x="609" y="158"/>
                  </a:lnTo>
                  <a:lnTo>
                    <a:pt x="623" y="178"/>
                  </a:lnTo>
                  <a:lnTo>
                    <a:pt x="636" y="197"/>
                  </a:lnTo>
                  <a:lnTo>
                    <a:pt x="650" y="219"/>
                  </a:lnTo>
                  <a:lnTo>
                    <a:pt x="652" y="209"/>
                  </a:lnTo>
                  <a:lnTo>
                    <a:pt x="656" y="201"/>
                  </a:lnTo>
                  <a:lnTo>
                    <a:pt x="662" y="195"/>
                  </a:lnTo>
                  <a:lnTo>
                    <a:pt x="671" y="193"/>
                  </a:lnTo>
                  <a:lnTo>
                    <a:pt x="743" y="195"/>
                  </a:lnTo>
                  <a:lnTo>
                    <a:pt x="817" y="193"/>
                  </a:lnTo>
                  <a:lnTo>
                    <a:pt x="892" y="184"/>
                  </a:lnTo>
                  <a:lnTo>
                    <a:pt x="968" y="178"/>
                  </a:lnTo>
                  <a:lnTo>
                    <a:pt x="1042" y="174"/>
                  </a:lnTo>
                  <a:lnTo>
                    <a:pt x="1114" y="180"/>
                  </a:lnTo>
                  <a:lnTo>
                    <a:pt x="1183" y="201"/>
                  </a:lnTo>
                  <a:lnTo>
                    <a:pt x="1249" y="240"/>
                  </a:lnTo>
                  <a:lnTo>
                    <a:pt x="1284" y="259"/>
                  </a:lnTo>
                  <a:lnTo>
                    <a:pt x="1315" y="286"/>
                  </a:lnTo>
                  <a:lnTo>
                    <a:pt x="1340" y="319"/>
                  </a:lnTo>
                  <a:lnTo>
                    <a:pt x="1364" y="358"/>
                  </a:lnTo>
                  <a:lnTo>
                    <a:pt x="1381" y="397"/>
                  </a:lnTo>
                  <a:lnTo>
                    <a:pt x="1401" y="438"/>
                  </a:lnTo>
                  <a:lnTo>
                    <a:pt x="1416" y="476"/>
                  </a:lnTo>
                  <a:lnTo>
                    <a:pt x="1433" y="517"/>
                  </a:lnTo>
                  <a:lnTo>
                    <a:pt x="1447" y="579"/>
                  </a:lnTo>
                  <a:lnTo>
                    <a:pt x="1463" y="643"/>
                  </a:lnTo>
                  <a:lnTo>
                    <a:pt x="1472" y="707"/>
                  </a:lnTo>
                  <a:lnTo>
                    <a:pt x="1482" y="771"/>
                  </a:lnTo>
                  <a:lnTo>
                    <a:pt x="1484" y="835"/>
                  </a:lnTo>
                  <a:lnTo>
                    <a:pt x="1482" y="901"/>
                  </a:lnTo>
                  <a:lnTo>
                    <a:pt x="1470" y="967"/>
                  </a:lnTo>
                  <a:lnTo>
                    <a:pt x="1455" y="1033"/>
                  </a:lnTo>
                  <a:lnTo>
                    <a:pt x="1472" y="1037"/>
                  </a:lnTo>
                  <a:lnTo>
                    <a:pt x="1432" y="1118"/>
                  </a:lnTo>
                  <a:lnTo>
                    <a:pt x="1385" y="1203"/>
                  </a:lnTo>
                  <a:lnTo>
                    <a:pt x="1331" y="1287"/>
                  </a:lnTo>
                  <a:lnTo>
                    <a:pt x="1271" y="1364"/>
                  </a:lnTo>
                  <a:lnTo>
                    <a:pt x="1199" y="1432"/>
                  </a:lnTo>
                  <a:lnTo>
                    <a:pt x="1123" y="1488"/>
                  </a:lnTo>
                  <a:lnTo>
                    <a:pt x="1036" y="1527"/>
                  </a:lnTo>
                  <a:lnTo>
                    <a:pt x="943" y="1548"/>
                  </a:lnTo>
                  <a:lnTo>
                    <a:pt x="879" y="1560"/>
                  </a:lnTo>
                  <a:lnTo>
                    <a:pt x="815" y="1570"/>
                  </a:lnTo>
                  <a:lnTo>
                    <a:pt x="749" y="1576"/>
                  </a:lnTo>
                  <a:lnTo>
                    <a:pt x="683" y="1581"/>
                  </a:lnTo>
                  <a:lnTo>
                    <a:pt x="617" y="1578"/>
                  </a:lnTo>
                  <a:lnTo>
                    <a:pt x="553" y="1574"/>
                  </a:lnTo>
                  <a:lnTo>
                    <a:pt x="489" y="1562"/>
                  </a:lnTo>
                  <a:lnTo>
                    <a:pt x="431" y="1548"/>
                  </a:lnTo>
                  <a:lnTo>
                    <a:pt x="322" y="1483"/>
                  </a:lnTo>
                  <a:lnTo>
                    <a:pt x="231" y="1403"/>
                  </a:lnTo>
                  <a:lnTo>
                    <a:pt x="154" y="1312"/>
                  </a:lnTo>
                  <a:lnTo>
                    <a:pt x="91" y="1209"/>
                  </a:lnTo>
                  <a:lnTo>
                    <a:pt x="43" y="1097"/>
                  </a:lnTo>
                  <a:lnTo>
                    <a:pt x="14" y="980"/>
                  </a:lnTo>
                  <a:lnTo>
                    <a:pt x="0" y="856"/>
                  </a:lnTo>
                  <a:lnTo>
                    <a:pt x="4" y="732"/>
                  </a:lnTo>
                  <a:lnTo>
                    <a:pt x="0" y="663"/>
                  </a:lnTo>
                  <a:lnTo>
                    <a:pt x="16" y="600"/>
                  </a:lnTo>
                  <a:lnTo>
                    <a:pt x="43" y="542"/>
                  </a:lnTo>
                  <a:lnTo>
                    <a:pt x="82" y="494"/>
                  </a:lnTo>
                  <a:lnTo>
                    <a:pt x="126" y="445"/>
                  </a:lnTo>
                  <a:lnTo>
                    <a:pt x="177" y="405"/>
                  </a:lnTo>
                  <a:lnTo>
                    <a:pt x="227" y="364"/>
                  </a:lnTo>
                  <a:lnTo>
                    <a:pt x="280" y="327"/>
                  </a:lnTo>
                  <a:lnTo>
                    <a:pt x="260" y="308"/>
                  </a:lnTo>
                  <a:lnTo>
                    <a:pt x="249" y="288"/>
                  </a:lnTo>
                  <a:lnTo>
                    <a:pt x="241" y="265"/>
                  </a:lnTo>
                  <a:lnTo>
                    <a:pt x="237" y="244"/>
                  </a:lnTo>
                  <a:lnTo>
                    <a:pt x="231" y="219"/>
                  </a:lnTo>
                  <a:lnTo>
                    <a:pt x="229" y="195"/>
                  </a:lnTo>
                  <a:lnTo>
                    <a:pt x="223" y="172"/>
                  </a:lnTo>
                  <a:lnTo>
                    <a:pt x="219" y="151"/>
                  </a:lnTo>
                  <a:lnTo>
                    <a:pt x="163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614280" y="3133800"/>
              <a:ext cx="179280" cy="130680"/>
            </a:xfrm>
            <a:custGeom>
              <a:avLst/>
              <a:gdLst/>
              <a:ahLst/>
              <a:rect l="l" t="t" r="r" b="b"/>
              <a:pathLst>
                <a:path w="192" h="141">
                  <a:moveTo>
                    <a:pt x="192" y="43"/>
                  </a:moveTo>
                  <a:lnTo>
                    <a:pt x="192" y="141"/>
                  </a:lnTo>
                  <a:lnTo>
                    <a:pt x="163" y="128"/>
                  </a:lnTo>
                  <a:lnTo>
                    <a:pt x="136" y="114"/>
                  </a:lnTo>
                  <a:lnTo>
                    <a:pt x="111" y="97"/>
                  </a:lnTo>
                  <a:lnTo>
                    <a:pt x="88" y="79"/>
                  </a:lnTo>
                  <a:lnTo>
                    <a:pt x="62" y="58"/>
                  </a:lnTo>
                  <a:lnTo>
                    <a:pt x="41" y="39"/>
                  </a:lnTo>
                  <a:lnTo>
                    <a:pt x="18" y="17"/>
                  </a:lnTo>
                  <a:lnTo>
                    <a:pt x="0" y="0"/>
                  </a:lnTo>
                  <a:lnTo>
                    <a:pt x="24" y="6"/>
                  </a:lnTo>
                  <a:lnTo>
                    <a:pt x="47" y="13"/>
                  </a:lnTo>
                  <a:lnTo>
                    <a:pt x="70" y="19"/>
                  </a:lnTo>
                  <a:lnTo>
                    <a:pt x="94" y="27"/>
                  </a:lnTo>
                  <a:lnTo>
                    <a:pt x="117" y="33"/>
                  </a:lnTo>
                  <a:lnTo>
                    <a:pt x="140" y="39"/>
                  </a:lnTo>
                  <a:lnTo>
                    <a:pt x="163" y="41"/>
                  </a:lnTo>
                  <a:lnTo>
                    <a:pt x="192" y="43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756480" y="3167280"/>
              <a:ext cx="412200" cy="400680"/>
            </a:xfrm>
            <a:custGeom>
              <a:avLst/>
              <a:gdLst/>
              <a:ahLst/>
              <a:rect l="l" t="t" r="r" b="b"/>
              <a:pathLst>
                <a:path w="440" h="436">
                  <a:moveTo>
                    <a:pt x="203" y="108"/>
                  </a:moveTo>
                  <a:lnTo>
                    <a:pt x="211" y="126"/>
                  </a:lnTo>
                  <a:lnTo>
                    <a:pt x="221" y="147"/>
                  </a:lnTo>
                  <a:lnTo>
                    <a:pt x="230" y="166"/>
                  </a:lnTo>
                  <a:lnTo>
                    <a:pt x="240" y="188"/>
                  </a:lnTo>
                  <a:lnTo>
                    <a:pt x="246" y="207"/>
                  </a:lnTo>
                  <a:lnTo>
                    <a:pt x="254" y="228"/>
                  </a:lnTo>
                  <a:lnTo>
                    <a:pt x="256" y="250"/>
                  </a:lnTo>
                  <a:lnTo>
                    <a:pt x="256" y="273"/>
                  </a:lnTo>
                  <a:lnTo>
                    <a:pt x="260" y="287"/>
                  </a:lnTo>
                  <a:lnTo>
                    <a:pt x="263" y="304"/>
                  </a:lnTo>
                  <a:lnTo>
                    <a:pt x="263" y="312"/>
                  </a:lnTo>
                  <a:lnTo>
                    <a:pt x="267" y="320"/>
                  </a:lnTo>
                  <a:lnTo>
                    <a:pt x="273" y="323"/>
                  </a:lnTo>
                  <a:lnTo>
                    <a:pt x="285" y="329"/>
                  </a:lnTo>
                  <a:lnTo>
                    <a:pt x="293" y="323"/>
                  </a:lnTo>
                  <a:lnTo>
                    <a:pt x="296" y="318"/>
                  </a:lnTo>
                  <a:lnTo>
                    <a:pt x="296" y="308"/>
                  </a:lnTo>
                  <a:lnTo>
                    <a:pt x="298" y="298"/>
                  </a:lnTo>
                  <a:lnTo>
                    <a:pt x="312" y="281"/>
                  </a:lnTo>
                  <a:lnTo>
                    <a:pt x="324" y="259"/>
                  </a:lnTo>
                  <a:lnTo>
                    <a:pt x="333" y="236"/>
                  </a:lnTo>
                  <a:lnTo>
                    <a:pt x="345" y="215"/>
                  </a:lnTo>
                  <a:lnTo>
                    <a:pt x="355" y="194"/>
                  </a:lnTo>
                  <a:lnTo>
                    <a:pt x="370" y="178"/>
                  </a:lnTo>
                  <a:lnTo>
                    <a:pt x="388" y="166"/>
                  </a:lnTo>
                  <a:lnTo>
                    <a:pt x="415" y="166"/>
                  </a:lnTo>
                  <a:lnTo>
                    <a:pt x="422" y="174"/>
                  </a:lnTo>
                  <a:lnTo>
                    <a:pt x="430" y="186"/>
                  </a:lnTo>
                  <a:lnTo>
                    <a:pt x="434" y="197"/>
                  </a:lnTo>
                  <a:lnTo>
                    <a:pt x="440" y="213"/>
                  </a:lnTo>
                  <a:lnTo>
                    <a:pt x="405" y="238"/>
                  </a:lnTo>
                  <a:lnTo>
                    <a:pt x="409" y="244"/>
                  </a:lnTo>
                  <a:lnTo>
                    <a:pt x="393" y="263"/>
                  </a:lnTo>
                  <a:lnTo>
                    <a:pt x="376" y="283"/>
                  </a:lnTo>
                  <a:lnTo>
                    <a:pt x="357" y="304"/>
                  </a:lnTo>
                  <a:lnTo>
                    <a:pt x="341" y="327"/>
                  </a:lnTo>
                  <a:lnTo>
                    <a:pt x="326" y="349"/>
                  </a:lnTo>
                  <a:lnTo>
                    <a:pt x="316" y="374"/>
                  </a:lnTo>
                  <a:lnTo>
                    <a:pt x="312" y="401"/>
                  </a:lnTo>
                  <a:lnTo>
                    <a:pt x="320" y="432"/>
                  </a:lnTo>
                  <a:lnTo>
                    <a:pt x="302" y="434"/>
                  </a:lnTo>
                  <a:lnTo>
                    <a:pt x="285" y="436"/>
                  </a:lnTo>
                  <a:lnTo>
                    <a:pt x="279" y="416"/>
                  </a:lnTo>
                  <a:lnTo>
                    <a:pt x="275" y="399"/>
                  </a:lnTo>
                  <a:lnTo>
                    <a:pt x="267" y="382"/>
                  </a:lnTo>
                  <a:lnTo>
                    <a:pt x="262" y="366"/>
                  </a:lnTo>
                  <a:lnTo>
                    <a:pt x="248" y="349"/>
                  </a:lnTo>
                  <a:lnTo>
                    <a:pt x="236" y="335"/>
                  </a:lnTo>
                  <a:lnTo>
                    <a:pt x="219" y="323"/>
                  </a:lnTo>
                  <a:lnTo>
                    <a:pt x="203" y="316"/>
                  </a:lnTo>
                  <a:lnTo>
                    <a:pt x="176" y="312"/>
                  </a:lnTo>
                  <a:lnTo>
                    <a:pt x="151" y="314"/>
                  </a:lnTo>
                  <a:lnTo>
                    <a:pt x="124" y="314"/>
                  </a:lnTo>
                  <a:lnTo>
                    <a:pt x="99" y="318"/>
                  </a:lnTo>
                  <a:lnTo>
                    <a:pt x="70" y="318"/>
                  </a:lnTo>
                  <a:lnTo>
                    <a:pt x="46" y="316"/>
                  </a:lnTo>
                  <a:lnTo>
                    <a:pt x="21" y="310"/>
                  </a:lnTo>
                  <a:lnTo>
                    <a:pt x="0" y="298"/>
                  </a:lnTo>
                  <a:lnTo>
                    <a:pt x="15" y="285"/>
                  </a:lnTo>
                  <a:lnTo>
                    <a:pt x="35" y="273"/>
                  </a:lnTo>
                  <a:lnTo>
                    <a:pt x="52" y="263"/>
                  </a:lnTo>
                  <a:lnTo>
                    <a:pt x="73" y="256"/>
                  </a:lnTo>
                  <a:lnTo>
                    <a:pt x="91" y="246"/>
                  </a:lnTo>
                  <a:lnTo>
                    <a:pt x="108" y="236"/>
                  </a:lnTo>
                  <a:lnTo>
                    <a:pt x="124" y="223"/>
                  </a:lnTo>
                  <a:lnTo>
                    <a:pt x="137" y="209"/>
                  </a:lnTo>
                  <a:lnTo>
                    <a:pt x="151" y="213"/>
                  </a:lnTo>
                  <a:lnTo>
                    <a:pt x="165" y="225"/>
                  </a:lnTo>
                  <a:lnTo>
                    <a:pt x="174" y="236"/>
                  </a:lnTo>
                  <a:lnTo>
                    <a:pt x="186" y="252"/>
                  </a:lnTo>
                  <a:lnTo>
                    <a:pt x="196" y="265"/>
                  </a:lnTo>
                  <a:lnTo>
                    <a:pt x="205" y="279"/>
                  </a:lnTo>
                  <a:lnTo>
                    <a:pt x="217" y="289"/>
                  </a:lnTo>
                  <a:lnTo>
                    <a:pt x="232" y="298"/>
                  </a:lnTo>
                  <a:lnTo>
                    <a:pt x="223" y="269"/>
                  </a:lnTo>
                  <a:lnTo>
                    <a:pt x="207" y="244"/>
                  </a:lnTo>
                  <a:lnTo>
                    <a:pt x="188" y="219"/>
                  </a:lnTo>
                  <a:lnTo>
                    <a:pt x="166" y="197"/>
                  </a:lnTo>
                  <a:lnTo>
                    <a:pt x="139" y="174"/>
                  </a:lnTo>
                  <a:lnTo>
                    <a:pt x="114" y="155"/>
                  </a:lnTo>
                  <a:lnTo>
                    <a:pt x="87" y="135"/>
                  </a:lnTo>
                  <a:lnTo>
                    <a:pt x="64" y="118"/>
                  </a:lnTo>
                  <a:lnTo>
                    <a:pt x="52" y="15"/>
                  </a:lnTo>
                  <a:lnTo>
                    <a:pt x="75" y="2"/>
                  </a:lnTo>
                  <a:lnTo>
                    <a:pt x="99" y="0"/>
                  </a:lnTo>
                  <a:lnTo>
                    <a:pt x="120" y="7"/>
                  </a:lnTo>
                  <a:lnTo>
                    <a:pt x="139" y="25"/>
                  </a:lnTo>
                  <a:lnTo>
                    <a:pt x="155" y="42"/>
                  </a:lnTo>
                  <a:lnTo>
                    <a:pt x="172" y="66"/>
                  </a:lnTo>
                  <a:lnTo>
                    <a:pt x="188" y="87"/>
                  </a:lnTo>
                  <a:lnTo>
                    <a:pt x="203" y="108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836760" y="3182400"/>
              <a:ext cx="17280" cy="99000"/>
            </a:xfrm>
            <a:custGeom>
              <a:avLst/>
              <a:gdLst/>
              <a:ahLst/>
              <a:rect l="l" t="t" r="r" b="b"/>
              <a:pathLst>
                <a:path w="17" h="109">
                  <a:moveTo>
                    <a:pt x="12" y="109"/>
                  </a:moveTo>
                  <a:lnTo>
                    <a:pt x="0" y="103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2" y="10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624000" y="3270240"/>
              <a:ext cx="245160" cy="156240"/>
            </a:xfrm>
            <a:custGeom>
              <a:avLst/>
              <a:gdLst/>
              <a:ahLst/>
              <a:rect l="l" t="t" r="r" b="b"/>
              <a:pathLst>
                <a:path w="262" h="171">
                  <a:moveTo>
                    <a:pt x="134" y="8"/>
                  </a:moveTo>
                  <a:lnTo>
                    <a:pt x="120" y="16"/>
                  </a:lnTo>
                  <a:lnTo>
                    <a:pt x="109" y="23"/>
                  </a:lnTo>
                  <a:lnTo>
                    <a:pt x="95" y="27"/>
                  </a:lnTo>
                  <a:lnTo>
                    <a:pt x="82" y="33"/>
                  </a:lnTo>
                  <a:lnTo>
                    <a:pt x="68" y="39"/>
                  </a:lnTo>
                  <a:lnTo>
                    <a:pt x="56" y="47"/>
                  </a:lnTo>
                  <a:lnTo>
                    <a:pt x="47" y="56"/>
                  </a:lnTo>
                  <a:lnTo>
                    <a:pt x="43" y="72"/>
                  </a:lnTo>
                  <a:lnTo>
                    <a:pt x="66" y="70"/>
                  </a:lnTo>
                  <a:lnTo>
                    <a:pt x="91" y="62"/>
                  </a:lnTo>
                  <a:lnTo>
                    <a:pt x="115" y="49"/>
                  </a:lnTo>
                  <a:lnTo>
                    <a:pt x="138" y="35"/>
                  </a:lnTo>
                  <a:lnTo>
                    <a:pt x="159" y="25"/>
                  </a:lnTo>
                  <a:lnTo>
                    <a:pt x="180" y="23"/>
                  </a:lnTo>
                  <a:lnTo>
                    <a:pt x="204" y="33"/>
                  </a:lnTo>
                  <a:lnTo>
                    <a:pt x="229" y="60"/>
                  </a:lnTo>
                  <a:lnTo>
                    <a:pt x="210" y="68"/>
                  </a:lnTo>
                  <a:lnTo>
                    <a:pt x="192" y="78"/>
                  </a:lnTo>
                  <a:lnTo>
                    <a:pt x="175" y="86"/>
                  </a:lnTo>
                  <a:lnTo>
                    <a:pt x="157" y="95"/>
                  </a:lnTo>
                  <a:lnTo>
                    <a:pt x="140" y="105"/>
                  </a:lnTo>
                  <a:lnTo>
                    <a:pt x="124" y="118"/>
                  </a:lnTo>
                  <a:lnTo>
                    <a:pt x="113" y="132"/>
                  </a:lnTo>
                  <a:lnTo>
                    <a:pt x="105" y="149"/>
                  </a:lnTo>
                  <a:lnTo>
                    <a:pt x="116" y="157"/>
                  </a:lnTo>
                  <a:lnTo>
                    <a:pt x="132" y="144"/>
                  </a:lnTo>
                  <a:lnTo>
                    <a:pt x="149" y="130"/>
                  </a:lnTo>
                  <a:lnTo>
                    <a:pt x="167" y="118"/>
                  </a:lnTo>
                  <a:lnTo>
                    <a:pt x="186" y="109"/>
                  </a:lnTo>
                  <a:lnTo>
                    <a:pt x="204" y="97"/>
                  </a:lnTo>
                  <a:lnTo>
                    <a:pt x="221" y="91"/>
                  </a:lnTo>
                  <a:lnTo>
                    <a:pt x="241" y="86"/>
                  </a:lnTo>
                  <a:lnTo>
                    <a:pt x="262" y="86"/>
                  </a:lnTo>
                  <a:lnTo>
                    <a:pt x="243" y="99"/>
                  </a:lnTo>
                  <a:lnTo>
                    <a:pt x="225" y="111"/>
                  </a:lnTo>
                  <a:lnTo>
                    <a:pt x="206" y="120"/>
                  </a:lnTo>
                  <a:lnTo>
                    <a:pt x="188" y="132"/>
                  </a:lnTo>
                  <a:lnTo>
                    <a:pt x="167" y="140"/>
                  </a:lnTo>
                  <a:lnTo>
                    <a:pt x="148" y="149"/>
                  </a:lnTo>
                  <a:lnTo>
                    <a:pt x="128" y="159"/>
                  </a:lnTo>
                  <a:lnTo>
                    <a:pt x="111" y="171"/>
                  </a:lnTo>
                  <a:lnTo>
                    <a:pt x="93" y="155"/>
                  </a:lnTo>
                  <a:lnTo>
                    <a:pt x="76" y="142"/>
                  </a:lnTo>
                  <a:lnTo>
                    <a:pt x="56" y="128"/>
                  </a:lnTo>
                  <a:lnTo>
                    <a:pt x="39" y="115"/>
                  </a:lnTo>
                  <a:lnTo>
                    <a:pt x="21" y="97"/>
                  </a:lnTo>
                  <a:lnTo>
                    <a:pt x="10" y="80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14" y="25"/>
                  </a:lnTo>
                  <a:lnTo>
                    <a:pt x="31" y="20"/>
                  </a:lnTo>
                  <a:lnTo>
                    <a:pt x="47" y="12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4" y="8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990480" y="3291840"/>
              <a:ext cx="17280" cy="3024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31"/>
                  </a:moveTo>
                  <a:lnTo>
                    <a:pt x="0" y="0"/>
                  </a:lnTo>
                  <a:lnTo>
                    <a:pt x="17" y="22"/>
                  </a:lnTo>
                  <a:lnTo>
                    <a:pt x="17" y="31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751440" y="3387240"/>
              <a:ext cx="466560" cy="268200"/>
            </a:xfrm>
            <a:custGeom>
              <a:avLst/>
              <a:gdLst/>
              <a:ahLst/>
              <a:rect l="l" t="t" r="r" b="b"/>
              <a:pathLst>
                <a:path w="500" h="293">
                  <a:moveTo>
                    <a:pt x="485" y="124"/>
                  </a:moveTo>
                  <a:lnTo>
                    <a:pt x="434" y="165"/>
                  </a:lnTo>
                  <a:lnTo>
                    <a:pt x="384" y="204"/>
                  </a:lnTo>
                  <a:lnTo>
                    <a:pt x="328" y="237"/>
                  </a:lnTo>
                  <a:lnTo>
                    <a:pt x="271" y="266"/>
                  </a:lnTo>
                  <a:lnTo>
                    <a:pt x="211" y="283"/>
                  </a:lnTo>
                  <a:lnTo>
                    <a:pt x="149" y="293"/>
                  </a:lnTo>
                  <a:lnTo>
                    <a:pt x="85" y="289"/>
                  </a:lnTo>
                  <a:lnTo>
                    <a:pt x="23" y="275"/>
                  </a:lnTo>
                  <a:lnTo>
                    <a:pt x="13" y="264"/>
                  </a:lnTo>
                  <a:lnTo>
                    <a:pt x="6" y="250"/>
                  </a:lnTo>
                  <a:lnTo>
                    <a:pt x="0" y="235"/>
                  </a:lnTo>
                  <a:lnTo>
                    <a:pt x="6" y="221"/>
                  </a:lnTo>
                  <a:lnTo>
                    <a:pt x="8" y="196"/>
                  </a:lnTo>
                  <a:lnTo>
                    <a:pt x="17" y="178"/>
                  </a:lnTo>
                  <a:lnTo>
                    <a:pt x="31" y="165"/>
                  </a:lnTo>
                  <a:lnTo>
                    <a:pt x="48" y="155"/>
                  </a:lnTo>
                  <a:lnTo>
                    <a:pt x="66" y="146"/>
                  </a:lnTo>
                  <a:lnTo>
                    <a:pt x="83" y="136"/>
                  </a:lnTo>
                  <a:lnTo>
                    <a:pt x="99" y="124"/>
                  </a:lnTo>
                  <a:lnTo>
                    <a:pt x="114" y="113"/>
                  </a:lnTo>
                  <a:lnTo>
                    <a:pt x="128" y="111"/>
                  </a:lnTo>
                  <a:lnTo>
                    <a:pt x="141" y="111"/>
                  </a:lnTo>
                  <a:lnTo>
                    <a:pt x="155" y="111"/>
                  </a:lnTo>
                  <a:lnTo>
                    <a:pt x="169" y="116"/>
                  </a:lnTo>
                  <a:lnTo>
                    <a:pt x="157" y="118"/>
                  </a:lnTo>
                  <a:lnTo>
                    <a:pt x="145" y="126"/>
                  </a:lnTo>
                  <a:lnTo>
                    <a:pt x="136" y="132"/>
                  </a:lnTo>
                  <a:lnTo>
                    <a:pt x="130" y="144"/>
                  </a:lnTo>
                  <a:lnTo>
                    <a:pt x="124" y="153"/>
                  </a:lnTo>
                  <a:lnTo>
                    <a:pt x="118" y="165"/>
                  </a:lnTo>
                  <a:lnTo>
                    <a:pt x="114" y="177"/>
                  </a:lnTo>
                  <a:lnTo>
                    <a:pt x="114" y="190"/>
                  </a:lnTo>
                  <a:lnTo>
                    <a:pt x="114" y="200"/>
                  </a:lnTo>
                  <a:lnTo>
                    <a:pt x="120" y="211"/>
                  </a:lnTo>
                  <a:lnTo>
                    <a:pt x="126" y="219"/>
                  </a:lnTo>
                  <a:lnTo>
                    <a:pt x="136" y="227"/>
                  </a:lnTo>
                  <a:lnTo>
                    <a:pt x="145" y="231"/>
                  </a:lnTo>
                  <a:lnTo>
                    <a:pt x="157" y="237"/>
                  </a:lnTo>
                  <a:lnTo>
                    <a:pt x="167" y="241"/>
                  </a:lnTo>
                  <a:lnTo>
                    <a:pt x="178" y="244"/>
                  </a:lnTo>
                  <a:lnTo>
                    <a:pt x="223" y="244"/>
                  </a:lnTo>
                  <a:lnTo>
                    <a:pt x="269" y="239"/>
                  </a:lnTo>
                  <a:lnTo>
                    <a:pt x="314" y="227"/>
                  </a:lnTo>
                  <a:lnTo>
                    <a:pt x="357" y="210"/>
                  </a:lnTo>
                  <a:lnTo>
                    <a:pt x="396" y="184"/>
                  </a:lnTo>
                  <a:lnTo>
                    <a:pt x="430" y="155"/>
                  </a:lnTo>
                  <a:lnTo>
                    <a:pt x="461" y="120"/>
                  </a:lnTo>
                  <a:lnTo>
                    <a:pt x="489" y="82"/>
                  </a:lnTo>
                  <a:lnTo>
                    <a:pt x="491" y="70"/>
                  </a:lnTo>
                  <a:lnTo>
                    <a:pt x="489" y="58"/>
                  </a:lnTo>
                  <a:lnTo>
                    <a:pt x="479" y="49"/>
                  </a:lnTo>
                  <a:lnTo>
                    <a:pt x="471" y="43"/>
                  </a:lnTo>
                  <a:lnTo>
                    <a:pt x="454" y="43"/>
                  </a:lnTo>
                  <a:lnTo>
                    <a:pt x="442" y="35"/>
                  </a:lnTo>
                  <a:lnTo>
                    <a:pt x="450" y="23"/>
                  </a:lnTo>
                  <a:lnTo>
                    <a:pt x="463" y="16"/>
                  </a:lnTo>
                  <a:lnTo>
                    <a:pt x="477" y="8"/>
                  </a:lnTo>
                  <a:lnTo>
                    <a:pt x="492" y="0"/>
                  </a:lnTo>
                  <a:lnTo>
                    <a:pt x="491" y="12"/>
                  </a:lnTo>
                  <a:lnTo>
                    <a:pt x="492" y="29"/>
                  </a:lnTo>
                  <a:lnTo>
                    <a:pt x="496" y="45"/>
                  </a:lnTo>
                  <a:lnTo>
                    <a:pt x="500" y="62"/>
                  </a:lnTo>
                  <a:lnTo>
                    <a:pt x="500" y="78"/>
                  </a:lnTo>
                  <a:lnTo>
                    <a:pt x="500" y="93"/>
                  </a:lnTo>
                  <a:lnTo>
                    <a:pt x="494" y="109"/>
                  </a:lnTo>
                  <a:lnTo>
                    <a:pt x="485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067520" y="3403800"/>
              <a:ext cx="555840" cy="441360"/>
            </a:xfrm>
            <a:custGeom>
              <a:avLst/>
              <a:gdLst/>
              <a:ahLst/>
              <a:rect l="l" t="t" r="r" b="b"/>
              <a:pathLst>
                <a:path w="596" h="478">
                  <a:moveTo>
                    <a:pt x="571" y="87"/>
                  </a:moveTo>
                  <a:lnTo>
                    <a:pt x="576" y="116"/>
                  </a:lnTo>
                  <a:lnTo>
                    <a:pt x="586" y="149"/>
                  </a:lnTo>
                  <a:lnTo>
                    <a:pt x="590" y="182"/>
                  </a:lnTo>
                  <a:lnTo>
                    <a:pt x="596" y="215"/>
                  </a:lnTo>
                  <a:lnTo>
                    <a:pt x="596" y="246"/>
                  </a:lnTo>
                  <a:lnTo>
                    <a:pt x="590" y="277"/>
                  </a:lnTo>
                  <a:lnTo>
                    <a:pt x="576" y="304"/>
                  </a:lnTo>
                  <a:lnTo>
                    <a:pt x="557" y="333"/>
                  </a:lnTo>
                  <a:lnTo>
                    <a:pt x="545" y="341"/>
                  </a:lnTo>
                  <a:lnTo>
                    <a:pt x="536" y="350"/>
                  </a:lnTo>
                  <a:lnTo>
                    <a:pt x="526" y="360"/>
                  </a:lnTo>
                  <a:lnTo>
                    <a:pt x="516" y="370"/>
                  </a:lnTo>
                  <a:lnTo>
                    <a:pt x="505" y="379"/>
                  </a:lnTo>
                  <a:lnTo>
                    <a:pt x="499" y="391"/>
                  </a:lnTo>
                  <a:lnTo>
                    <a:pt x="493" y="403"/>
                  </a:lnTo>
                  <a:lnTo>
                    <a:pt x="493" y="418"/>
                  </a:lnTo>
                  <a:lnTo>
                    <a:pt x="468" y="432"/>
                  </a:lnTo>
                  <a:lnTo>
                    <a:pt x="443" y="447"/>
                  </a:lnTo>
                  <a:lnTo>
                    <a:pt x="417" y="461"/>
                  </a:lnTo>
                  <a:lnTo>
                    <a:pt x="392" y="473"/>
                  </a:lnTo>
                  <a:lnTo>
                    <a:pt x="363" y="476"/>
                  </a:lnTo>
                  <a:lnTo>
                    <a:pt x="336" y="478"/>
                  </a:lnTo>
                  <a:lnTo>
                    <a:pt x="309" y="473"/>
                  </a:lnTo>
                  <a:lnTo>
                    <a:pt x="282" y="463"/>
                  </a:lnTo>
                  <a:lnTo>
                    <a:pt x="266" y="445"/>
                  </a:lnTo>
                  <a:lnTo>
                    <a:pt x="254" y="428"/>
                  </a:lnTo>
                  <a:lnTo>
                    <a:pt x="241" y="409"/>
                  </a:lnTo>
                  <a:lnTo>
                    <a:pt x="229" y="393"/>
                  </a:lnTo>
                  <a:lnTo>
                    <a:pt x="198" y="397"/>
                  </a:lnTo>
                  <a:lnTo>
                    <a:pt x="169" y="403"/>
                  </a:lnTo>
                  <a:lnTo>
                    <a:pt x="142" y="411"/>
                  </a:lnTo>
                  <a:lnTo>
                    <a:pt x="117" y="422"/>
                  </a:lnTo>
                  <a:lnTo>
                    <a:pt x="90" y="432"/>
                  </a:lnTo>
                  <a:lnTo>
                    <a:pt x="62" y="442"/>
                  </a:lnTo>
                  <a:lnTo>
                    <a:pt x="35" y="451"/>
                  </a:lnTo>
                  <a:lnTo>
                    <a:pt x="10" y="463"/>
                  </a:lnTo>
                  <a:lnTo>
                    <a:pt x="2" y="449"/>
                  </a:lnTo>
                  <a:lnTo>
                    <a:pt x="0" y="438"/>
                  </a:lnTo>
                  <a:lnTo>
                    <a:pt x="0" y="426"/>
                  </a:lnTo>
                  <a:lnTo>
                    <a:pt x="2" y="414"/>
                  </a:lnTo>
                  <a:lnTo>
                    <a:pt x="4" y="403"/>
                  </a:lnTo>
                  <a:lnTo>
                    <a:pt x="8" y="391"/>
                  </a:lnTo>
                  <a:lnTo>
                    <a:pt x="14" y="379"/>
                  </a:lnTo>
                  <a:lnTo>
                    <a:pt x="20" y="372"/>
                  </a:lnTo>
                  <a:lnTo>
                    <a:pt x="72" y="358"/>
                  </a:lnTo>
                  <a:lnTo>
                    <a:pt x="124" y="341"/>
                  </a:lnTo>
                  <a:lnTo>
                    <a:pt x="175" y="321"/>
                  </a:lnTo>
                  <a:lnTo>
                    <a:pt x="225" y="298"/>
                  </a:lnTo>
                  <a:lnTo>
                    <a:pt x="272" y="269"/>
                  </a:lnTo>
                  <a:lnTo>
                    <a:pt x="318" y="236"/>
                  </a:lnTo>
                  <a:lnTo>
                    <a:pt x="359" y="199"/>
                  </a:lnTo>
                  <a:lnTo>
                    <a:pt x="398" y="160"/>
                  </a:lnTo>
                  <a:lnTo>
                    <a:pt x="406" y="141"/>
                  </a:lnTo>
                  <a:lnTo>
                    <a:pt x="415" y="124"/>
                  </a:lnTo>
                  <a:lnTo>
                    <a:pt x="423" y="104"/>
                  </a:lnTo>
                  <a:lnTo>
                    <a:pt x="433" y="87"/>
                  </a:lnTo>
                  <a:lnTo>
                    <a:pt x="437" y="65"/>
                  </a:lnTo>
                  <a:lnTo>
                    <a:pt x="443" y="46"/>
                  </a:lnTo>
                  <a:lnTo>
                    <a:pt x="446" y="27"/>
                  </a:lnTo>
                  <a:lnTo>
                    <a:pt x="450" y="7"/>
                  </a:lnTo>
                  <a:lnTo>
                    <a:pt x="472" y="0"/>
                  </a:lnTo>
                  <a:lnTo>
                    <a:pt x="493" y="1"/>
                  </a:lnTo>
                  <a:lnTo>
                    <a:pt x="510" y="7"/>
                  </a:lnTo>
                  <a:lnTo>
                    <a:pt x="526" y="21"/>
                  </a:lnTo>
                  <a:lnTo>
                    <a:pt x="538" y="34"/>
                  </a:lnTo>
                  <a:lnTo>
                    <a:pt x="551" y="50"/>
                  </a:lnTo>
                  <a:lnTo>
                    <a:pt x="561" y="67"/>
                  </a:lnTo>
                  <a:lnTo>
                    <a:pt x="571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5" name="BUTN011" descr=""/>
          <p:cNvPicPr/>
          <p:nvPr/>
        </p:nvPicPr>
        <p:blipFill>
          <a:blip r:embed="rId1"/>
          <a:stretch/>
        </p:blipFill>
        <p:spPr>
          <a:xfrm>
            <a:off x="6019920" y="2871720"/>
            <a:ext cx="1747800" cy="1874880"/>
          </a:xfrm>
          <a:prstGeom prst="rect">
            <a:avLst/>
          </a:prstGeom>
          <a:ln w="0">
            <a:noFill/>
          </a:ln>
        </p:spPr>
      </p:pic>
      <p:sp>
        <p:nvSpPr>
          <p:cNvPr id="2956" name=""/>
          <p:cNvSpPr/>
          <p:nvPr/>
        </p:nvSpPr>
        <p:spPr>
          <a:xfrm>
            <a:off x="17542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8" name="BUTN003" descr=""/>
          <p:cNvPicPr/>
          <p:nvPr/>
        </p:nvPicPr>
        <p:blipFill>
          <a:blip r:embed="rId2"/>
          <a:stretch/>
        </p:blipFill>
        <p:spPr>
          <a:xfrm>
            <a:off x="1066680" y="2871720"/>
            <a:ext cx="17496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"/>
          <p:cNvGrpSpPr/>
          <p:nvPr/>
        </p:nvGrpSpPr>
        <p:grpSpPr>
          <a:xfrm>
            <a:off x="990720" y="3100320"/>
            <a:ext cx="2600280" cy="1417680"/>
            <a:chOff x="990720" y="3100320"/>
            <a:chExt cx="2600280" cy="1417680"/>
          </a:xfrm>
        </p:grpSpPr>
        <p:sp>
          <p:nvSpPr>
            <p:cNvPr id="2960" name=""/>
            <p:cNvSpPr/>
            <p:nvPr/>
          </p:nvSpPr>
          <p:spPr>
            <a:xfrm>
              <a:off x="990720" y="3100320"/>
              <a:ext cx="260028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263960" y="3587760"/>
              <a:ext cx="27000" cy="585720"/>
            </a:xfrm>
            <a:custGeom>
              <a:avLst/>
              <a:gdLst/>
              <a:ahLst/>
              <a:rect l="l" t="t" r="r" b="b"/>
              <a:pathLst>
                <a:path w="49" h="1107">
                  <a:moveTo>
                    <a:pt x="0" y="0"/>
                  </a:moveTo>
                  <a:lnTo>
                    <a:pt x="16" y="72"/>
                  </a:lnTo>
                  <a:lnTo>
                    <a:pt x="35" y="123"/>
                  </a:lnTo>
                  <a:lnTo>
                    <a:pt x="49" y="173"/>
                  </a:lnTo>
                  <a:lnTo>
                    <a:pt x="49" y="1107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302120" y="3584520"/>
              <a:ext cx="2000160" cy="80640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254240" y="3252600"/>
              <a:ext cx="2124360" cy="338040"/>
            </a:xfrm>
            <a:custGeom>
              <a:avLst/>
              <a:gdLst/>
              <a:ahLst/>
              <a:rect l="l" t="t" r="r" b="b"/>
              <a:pathLst>
                <a:path w="4016" h="640">
                  <a:moveTo>
                    <a:pt x="4016" y="640"/>
                  </a:moveTo>
                  <a:lnTo>
                    <a:pt x="3688" y="0"/>
                  </a:lnTo>
                  <a:lnTo>
                    <a:pt x="309" y="10"/>
                  </a:lnTo>
                  <a:lnTo>
                    <a:pt x="0" y="630"/>
                  </a:lnTo>
                  <a:lnTo>
                    <a:pt x="4016" y="64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1949760" y="3830400"/>
              <a:ext cx="3189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011680" y="3886200"/>
              <a:ext cx="193680" cy="436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249640" y="4035240"/>
              <a:ext cx="10008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3316680" y="3590640"/>
              <a:ext cx="29880" cy="801720"/>
            </a:xfrm>
            <a:custGeom>
              <a:avLst/>
              <a:gdLst/>
              <a:ahLst/>
              <a:rect l="l" t="t" r="r" b="b"/>
              <a:pathLst>
                <a:path w="56" h="1514">
                  <a:moveTo>
                    <a:pt x="56" y="0"/>
                  </a:moveTo>
                  <a:lnTo>
                    <a:pt x="38" y="76"/>
                  </a:lnTo>
                  <a:lnTo>
                    <a:pt x="1" y="154"/>
                  </a:lnTo>
                  <a:lnTo>
                    <a:pt x="0" y="151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H="1">
              <a:off x="1410120" y="3274920"/>
              <a:ext cx="180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H="1" flipV="1">
              <a:off x="1391040" y="3313080"/>
              <a:ext cx="1846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1368360" y="3357360"/>
              <a:ext cx="1887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H="1" flipV="1">
              <a:off x="1349640" y="3396600"/>
              <a:ext cx="1928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H="1" flipV="1">
              <a:off x="1329120" y="3436920"/>
              <a:ext cx="1969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H="1">
              <a:off x="1306800" y="3479760"/>
              <a:ext cx="2014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H="1" flipV="1">
              <a:off x="1290960" y="3514680"/>
              <a:ext cx="2047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H="1" flipV="1">
              <a:off x="1270080" y="3554280"/>
              <a:ext cx="208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954520" y="3638520"/>
              <a:ext cx="19368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992680" y="3666960"/>
              <a:ext cx="11592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11652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298476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026160" y="3666960"/>
              <a:ext cx="612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992680" y="3708360"/>
              <a:ext cx="11592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311652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116520" y="3657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11652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3116520" y="3673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116520" y="3681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311652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3116520" y="3697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116520" y="3705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311652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311652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116520" y="372888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311652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3116520" y="374472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116520" y="3752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11652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116520" y="376848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95452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954520" y="365580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95452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954520" y="3671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954520" y="367956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95452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954520" y="36957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954520" y="3703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295452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295452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954520" y="3727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295452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2954520" y="3743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954520" y="3751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95452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954520" y="37670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954520" y="3776400"/>
              <a:ext cx="193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008440" y="3638520"/>
              <a:ext cx="19224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2046600" y="3666960"/>
              <a:ext cx="11592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168640" y="3639960"/>
              <a:ext cx="180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03868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2124360" y="3666960"/>
              <a:ext cx="46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046600" y="3708360"/>
              <a:ext cx="11592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2168640" y="364968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168640" y="365760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168640" y="36655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168640" y="367344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2168640" y="368136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168640" y="368928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168640" y="369720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168640" y="37051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168640" y="371160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2168640" y="37195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168640" y="372888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168640" y="373536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168640" y="374472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168640" y="375264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2168640" y="3759120"/>
              <a:ext cx="320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2168640" y="3768480"/>
              <a:ext cx="320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00844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008440" y="365580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00844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008440" y="3671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2008440" y="367956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00844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2008440" y="36957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008440" y="3703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00844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00844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008440" y="3727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00844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008440" y="3743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008440" y="3751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00844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008440" y="37670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008440" y="3776400"/>
              <a:ext cx="192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524240" y="3638520"/>
              <a:ext cx="19368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563840" y="3666960"/>
              <a:ext cx="11592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68624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1555920" y="3639960"/>
              <a:ext cx="180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640160" y="3666960"/>
              <a:ext cx="64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563840" y="3708360"/>
              <a:ext cx="11592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686240" y="3649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686240" y="3657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686240" y="3665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1686240" y="36734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686240" y="3681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686240" y="3689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686240" y="36972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686240" y="3705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1686240" y="3711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1686240" y="3719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1686240" y="37288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1686240" y="3735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686240" y="374472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1686240" y="375264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1686240" y="3759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1686240" y="37684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524240" y="3649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1524240" y="365580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1524240" y="3665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524240" y="367164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1524240" y="367956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1524240" y="3689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524240" y="36957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1524240" y="3703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524240" y="3711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524240" y="3719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524240" y="37274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1524240" y="3735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1524240" y="3743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1524240" y="37512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1524240" y="3759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524240" y="37670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524240" y="3776400"/>
              <a:ext cx="193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422800" y="3638520"/>
              <a:ext cx="19368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462400" y="3666960"/>
              <a:ext cx="11448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583000" y="3639960"/>
              <a:ext cx="180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453040" y="3639960"/>
              <a:ext cx="1440" cy="1350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494080" y="3666960"/>
              <a:ext cx="64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462400" y="3708360"/>
              <a:ext cx="11448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583000" y="36496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583000" y="3657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583000" y="3665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583000" y="367344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583000" y="3681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583000" y="368928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583000" y="36972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583000" y="3705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583000" y="371160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583000" y="37195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583000" y="37288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583000" y="373536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583000" y="374472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583000" y="375264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583000" y="3759120"/>
              <a:ext cx="3168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583000" y="3768480"/>
              <a:ext cx="3168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422800" y="3649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422800" y="365580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422800" y="3665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422800" y="367164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422800" y="3679560"/>
              <a:ext cx="3024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422800" y="3689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422800" y="36957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422800" y="37036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422800" y="37116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422800" y="37195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422800" y="37274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422800" y="373536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422800" y="374328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422800" y="375120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422800" y="375912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422800" y="3767040"/>
              <a:ext cx="30240" cy="144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422800" y="3776400"/>
              <a:ext cx="193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5440" y="3870360"/>
              <a:ext cx="21276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73600" y="3913200"/>
              <a:ext cx="135000" cy="25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138840" y="3897360"/>
              <a:ext cx="75960" cy="290520"/>
            </a:xfrm>
            <a:custGeom>
              <a:avLst/>
              <a:gdLst/>
              <a:ahLst/>
              <a:rect l="l" t="t" r="r" b="b"/>
              <a:pathLst>
                <a:path w="145" h="548">
                  <a:moveTo>
                    <a:pt x="0" y="0"/>
                  </a:moveTo>
                  <a:lnTo>
                    <a:pt x="145" y="7"/>
                  </a:lnTo>
                  <a:lnTo>
                    <a:pt x="145" y="548"/>
                  </a:lnTo>
                  <a:lnTo>
                    <a:pt x="0" y="5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 flipH="1" flipV="1">
              <a:off x="3149640" y="390492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 flipH="1" flipV="1">
              <a:off x="3149640" y="391428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 flipH="1" flipV="1">
              <a:off x="3149640" y="392400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 flipV="1">
              <a:off x="3149640" y="393336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 flipV="1">
              <a:off x="3149640" y="3943080"/>
              <a:ext cx="536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 flipV="1">
              <a:off x="3149640" y="395244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H="1" flipV="1">
              <a:off x="3149640" y="3962160"/>
              <a:ext cx="536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H="1" flipV="1">
              <a:off x="3149640" y="3972960"/>
              <a:ext cx="536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 flipV="1">
              <a:off x="3149640" y="398268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H="1" flipV="1">
              <a:off x="3149640" y="399204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H="1" flipV="1">
              <a:off x="3149640" y="4002120"/>
              <a:ext cx="536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H="1" flipV="1">
              <a:off x="3149640" y="4011120"/>
              <a:ext cx="536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H="1" flipV="1">
              <a:off x="3178440" y="4050720"/>
              <a:ext cx="25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H="1" flipV="1">
              <a:off x="3178440" y="405864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H="1" flipV="1">
              <a:off x="3178440" y="406836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 flipV="1">
              <a:off x="3178440" y="407772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H="1" flipV="1">
              <a:off x="3178440" y="4088880"/>
              <a:ext cx="25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H="1" flipV="1">
              <a:off x="3178440" y="409680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3" name=""/>
            <p:cNvGrpSpPr/>
            <p:nvPr/>
          </p:nvGrpSpPr>
          <p:grpSpPr>
            <a:xfrm>
              <a:off x="1516320" y="3857400"/>
              <a:ext cx="1687320" cy="335160"/>
              <a:chOff x="1516320" y="3857400"/>
              <a:chExt cx="1687320" cy="335160"/>
            </a:xfrm>
          </p:grpSpPr>
          <p:sp>
            <p:nvSpPr>
              <p:cNvPr id="3154" name=""/>
              <p:cNvSpPr/>
              <p:nvPr/>
            </p:nvSpPr>
            <p:spPr>
              <a:xfrm flipH="1" flipV="1">
                <a:off x="3178440" y="410688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H="1" flipV="1">
                <a:off x="3178440" y="411804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H="1" flipV="1">
                <a:off x="3178440" y="41259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H="1" flipV="1">
                <a:off x="3178440" y="4134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 flipV="1">
                <a:off x="3178440" y="41443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H="1" flipV="1">
                <a:off x="3178440" y="41540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 flipH="1" flipV="1">
                <a:off x="3178440" y="41634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 flipV="1">
                <a:off x="3178440" y="41731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H="1" flipV="1">
                <a:off x="3146760" y="40474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H="1" flipV="1">
                <a:off x="3146760" y="405756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 flipV="1">
                <a:off x="3146760" y="40651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H="1" flipV="1">
                <a:off x="3146760" y="40762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H="1" flipV="1">
                <a:off x="3146760" y="40856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H="1" flipV="1">
                <a:off x="3146760" y="409572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H="1" flipV="1">
                <a:off x="3146760" y="410472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H="1" flipV="1">
                <a:off x="3146760" y="41144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H="1" flipV="1">
                <a:off x="3146760" y="412380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H="1" flipV="1">
                <a:off x="3146760" y="413388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H="1" flipV="1">
                <a:off x="3146760" y="41432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H="1" flipV="1">
                <a:off x="3146760" y="41508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H="1" flipV="1">
                <a:off x="3146760" y="416088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 flipV="1">
                <a:off x="3146760" y="417132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2870280" y="3898800"/>
                <a:ext cx="76320" cy="290520"/>
              </a:xfrm>
              <a:custGeom>
                <a:avLst/>
                <a:gdLst/>
                <a:ahLst/>
                <a:rect l="l" t="t" r="r" b="b"/>
                <a:pathLst>
                  <a:path w="144" h="550">
                    <a:moveTo>
                      <a:pt x="144" y="0"/>
                    </a:moveTo>
                    <a:lnTo>
                      <a:pt x="0" y="7"/>
                    </a:lnTo>
                    <a:lnTo>
                      <a:pt x="0" y="550"/>
                    </a:lnTo>
                    <a:lnTo>
                      <a:pt x="144" y="543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2881440" y="390636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2881440" y="39157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2881440" y="39254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2881440" y="393516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2881440" y="394452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2881440" y="395424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2881440" y="396360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2881440" y="397296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V="1">
                <a:off x="2881440" y="398268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2881440" y="3994200"/>
                <a:ext cx="540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V="1">
                <a:off x="2881440" y="400320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V="1">
                <a:off x="2881440" y="401256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flipV="1">
                <a:off x="2881440" y="405072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2881440" y="406044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V="1">
                <a:off x="2881440" y="40698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 flipV="1">
                <a:off x="2881440" y="4079880"/>
                <a:ext cx="255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2881440" y="408888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flipV="1">
                <a:off x="2881440" y="4098960"/>
                <a:ext cx="255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 flipV="1">
                <a:off x="2881440" y="410796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 flipV="1">
                <a:off x="2881440" y="4118040"/>
                <a:ext cx="255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 flipV="1">
                <a:off x="2881440" y="412704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flipV="1">
                <a:off x="2881440" y="41364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 flipV="1">
                <a:off x="2881440" y="414612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V="1">
                <a:off x="2881440" y="415548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flipV="1">
                <a:off x="2881440" y="416556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 flipV="1">
                <a:off x="2881440" y="417456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flipV="1">
                <a:off x="2911680" y="40492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V="1">
                <a:off x="2911680" y="40586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V="1">
                <a:off x="2911680" y="40683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flipV="1">
                <a:off x="2911680" y="40777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V="1">
                <a:off x="2911680" y="40874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V="1">
                <a:off x="2911680" y="40968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flipV="1">
                <a:off x="2911680" y="410688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 flipV="1">
                <a:off x="2911680" y="41158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 flipV="1">
                <a:off x="2911680" y="412596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V="1">
                <a:off x="2911680" y="41349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 flipV="1">
                <a:off x="2911680" y="41443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flipV="1">
                <a:off x="2911680" y="415440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flipV="1">
                <a:off x="2911680" y="4163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 flipV="1">
                <a:off x="2911680" y="41731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3008520" y="3902040"/>
                <a:ext cx="972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3059280" y="3902040"/>
                <a:ext cx="972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2967120" y="3967200"/>
                <a:ext cx="1479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2967120" y="4037040"/>
                <a:ext cx="1479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2967120" y="4106880"/>
                <a:ext cx="1479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2914920" y="3863880"/>
                <a:ext cx="249120" cy="2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2914920" y="3863880"/>
                <a:ext cx="249120" cy="223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2414880" y="3865320"/>
                <a:ext cx="210960" cy="32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2453040" y="3906720"/>
                <a:ext cx="135000" cy="26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2606760" y="3892320"/>
                <a:ext cx="76320" cy="292320"/>
              </a:xfrm>
              <a:custGeom>
                <a:avLst/>
                <a:gdLst/>
                <a:ahLst/>
                <a:rect l="l" t="t" r="r" b="b"/>
                <a:pathLst>
                  <a:path w="143" h="550">
                    <a:moveTo>
                      <a:pt x="0" y="0"/>
                    </a:moveTo>
                    <a:lnTo>
                      <a:pt x="143" y="7"/>
                    </a:lnTo>
                    <a:lnTo>
                      <a:pt x="143" y="550"/>
                    </a:lnTo>
                    <a:lnTo>
                      <a:pt x="0" y="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 flipH="1" flipV="1">
                <a:off x="2617920" y="390024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flipH="1" flipV="1">
                <a:off x="2617920" y="390960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flipH="1" flipV="1">
                <a:off x="2617920" y="391932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H="1" flipV="1">
                <a:off x="2617920" y="39301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H="1" flipV="1">
                <a:off x="2617920" y="39380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H="1" flipV="1">
                <a:off x="2617920" y="394920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H="1" flipV="1">
                <a:off x="2617920" y="395712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H="1" flipV="1">
                <a:off x="2617920" y="3966840"/>
                <a:ext cx="54000" cy="6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H="1" flipV="1">
                <a:off x="2617920" y="397764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flipH="1" flipV="1">
                <a:off x="2617920" y="398736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flipH="1" flipV="1">
                <a:off x="2617920" y="39967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flipH="1" flipV="1">
                <a:off x="2617920" y="40064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H="1" flipV="1">
                <a:off x="2646720" y="404496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 flipV="1">
                <a:off x="2646720" y="4053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flipH="1" flipV="1">
                <a:off x="2646720" y="406404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H="1" flipV="1">
                <a:off x="2646720" y="40730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 flipV="1">
                <a:off x="2646720" y="40845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flipH="1" flipV="1">
                <a:off x="2646720" y="40921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flipH="1" flipV="1">
                <a:off x="2646720" y="41014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 flipV="1">
                <a:off x="2646720" y="41112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H="1" flipV="1">
                <a:off x="2646720" y="41205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H="1" flipV="1">
                <a:off x="2646720" y="41302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 flipV="1">
                <a:off x="2646720" y="414180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 flipH="1" flipV="1">
                <a:off x="2646720" y="41493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 flipH="1" flipV="1">
                <a:off x="2646720" y="41587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 flipV="1">
                <a:off x="2646720" y="416880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 flipH="1" flipV="1">
                <a:off x="2614320" y="404280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 flipH="1" flipV="1">
                <a:off x="2614320" y="405288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 flipV="1">
                <a:off x="2614320" y="406044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 flipH="1" flipV="1">
                <a:off x="2614320" y="407196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 flipH="1" flipV="1">
                <a:off x="2614320" y="408096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 flipV="1">
                <a:off x="2614320" y="409104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 flipH="1" flipV="1">
                <a:off x="2614320" y="410040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flipH="1" flipV="1">
                <a:off x="2614320" y="41094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 flipV="1">
                <a:off x="2614320" y="4119480"/>
                <a:ext cx="255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 flipH="1" flipV="1">
                <a:off x="2614320" y="412848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H="1" flipV="1">
                <a:off x="2614320" y="413640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 flipH="1" flipV="1">
                <a:off x="2614320" y="414612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H="1" flipV="1">
                <a:off x="2614320" y="4155480"/>
                <a:ext cx="255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H="1" flipV="1">
                <a:off x="2614320" y="4166640"/>
                <a:ext cx="255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2356200" y="3892320"/>
                <a:ext cx="74520" cy="289080"/>
              </a:xfrm>
              <a:custGeom>
                <a:avLst/>
                <a:gdLst/>
                <a:ahLst/>
                <a:rect l="l" t="t" r="r" b="b"/>
                <a:pathLst>
                  <a:path w="143" h="548">
                    <a:moveTo>
                      <a:pt x="143" y="0"/>
                    </a:moveTo>
                    <a:lnTo>
                      <a:pt x="0" y="7"/>
                    </a:lnTo>
                    <a:lnTo>
                      <a:pt x="0" y="548"/>
                    </a:lnTo>
                    <a:lnTo>
                      <a:pt x="143" y="542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V="1">
                <a:off x="2367360" y="389844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V="1">
                <a:off x="2367360" y="3908160"/>
                <a:ext cx="5364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V="1">
                <a:off x="2367360" y="3918960"/>
                <a:ext cx="5364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 flipV="1">
                <a:off x="2367360" y="3927240"/>
                <a:ext cx="5364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 flipV="1">
                <a:off x="2367360" y="3938040"/>
                <a:ext cx="5364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V="1">
                <a:off x="2367360" y="3948120"/>
                <a:ext cx="5364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V="1">
                <a:off x="2367360" y="395712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V="1">
                <a:off x="2367360" y="396684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V="1">
                <a:off x="2367360" y="397620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V="1">
                <a:off x="2367360" y="398592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 flipV="1">
                <a:off x="2367360" y="3995280"/>
                <a:ext cx="5364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2367360" y="4005000"/>
                <a:ext cx="5364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V="1">
                <a:off x="2367360" y="40428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 flipV="1">
                <a:off x="2367360" y="40539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 flipV="1">
                <a:off x="2367360" y="40640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2367360" y="407196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 flipV="1">
                <a:off x="2367360" y="4082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 flipV="1">
                <a:off x="2367360" y="409104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V="1">
                <a:off x="2367360" y="410148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2367360" y="411156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 flipV="1">
                <a:off x="2367360" y="41205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V="1">
                <a:off x="2367360" y="41306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V="1">
                <a:off x="2367360" y="41396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2367360" y="414972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V="1">
                <a:off x="2367360" y="41572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 flipV="1">
                <a:off x="2367360" y="4168800"/>
                <a:ext cx="2376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 flipV="1">
                <a:off x="2397240" y="404280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2397240" y="405288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 flipV="1">
                <a:off x="2397240" y="406044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 flipV="1">
                <a:off x="2397240" y="407196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V="1">
                <a:off x="2397240" y="408096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2397240" y="409104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 flipV="1">
                <a:off x="2397240" y="410040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V="1">
                <a:off x="2397240" y="4109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 flipV="1">
                <a:off x="2397240" y="4119480"/>
                <a:ext cx="23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 flipV="1">
                <a:off x="2397240" y="412848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V="1">
                <a:off x="2397240" y="413640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 flipV="1">
                <a:off x="2397240" y="414612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 flipV="1">
                <a:off x="2397240" y="4155480"/>
                <a:ext cx="2376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V="1">
                <a:off x="2397240" y="4166640"/>
                <a:ext cx="237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2489400" y="3895560"/>
                <a:ext cx="9720" cy="27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2538720" y="3895560"/>
                <a:ext cx="11160" cy="27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2446560" y="3962160"/>
                <a:ext cx="14760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2446560" y="4030560"/>
                <a:ext cx="1476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2446560" y="4100400"/>
                <a:ext cx="1476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2394360" y="3857400"/>
                <a:ext cx="249120" cy="2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394360" y="3857400"/>
                <a:ext cx="249120" cy="223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1516320" y="3865320"/>
                <a:ext cx="212760" cy="32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1554480" y="3906720"/>
                <a:ext cx="135000" cy="26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1708560" y="3892320"/>
                <a:ext cx="77760" cy="292320"/>
              </a:xfrm>
              <a:custGeom>
                <a:avLst/>
                <a:gdLst/>
                <a:ahLst/>
                <a:rect l="l" t="t" r="r" b="b"/>
                <a:pathLst>
                  <a:path w="145" h="550">
                    <a:moveTo>
                      <a:pt x="0" y="0"/>
                    </a:moveTo>
                    <a:lnTo>
                      <a:pt x="145" y="7"/>
                    </a:lnTo>
                    <a:lnTo>
                      <a:pt x="145" y="550"/>
                    </a:lnTo>
                    <a:lnTo>
                      <a:pt x="0" y="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 flipH="1" flipV="1">
                <a:off x="1719360" y="390024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 flipV="1">
                <a:off x="1719360" y="390960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 flipH="1" flipV="1">
                <a:off x="1719360" y="3919320"/>
                <a:ext cx="54000" cy="5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 flipH="1" flipV="1">
                <a:off x="1719360" y="39301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 flipV="1">
                <a:off x="1719360" y="39380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 flipH="1" flipV="1">
                <a:off x="1719360" y="394920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flipH="1" flipV="1">
                <a:off x="1719360" y="395712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 flipV="1">
                <a:off x="1719360" y="3966840"/>
                <a:ext cx="54000" cy="6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 flipH="1" flipV="1">
                <a:off x="1719360" y="397764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 flipH="1" flipV="1">
                <a:off x="1719360" y="398736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 flipV="1">
                <a:off x="1719360" y="3996720"/>
                <a:ext cx="540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flipH="1" flipV="1">
                <a:off x="1719360" y="4006440"/>
                <a:ext cx="54000" cy="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 flipH="1" flipV="1">
                <a:off x="1748160" y="404496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 flipV="1">
                <a:off x="1748160" y="4053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 flipH="1" flipV="1">
                <a:off x="1748160" y="406404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 flipH="1" flipV="1">
                <a:off x="1748160" y="40730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 flipV="1">
                <a:off x="1748160" y="40845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flipH="1" flipV="1">
                <a:off x="1748160" y="40921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H="1" flipV="1">
                <a:off x="1748160" y="41014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 flipV="1">
                <a:off x="1748160" y="41112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 flipV="1">
                <a:off x="1748160" y="41205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 flipV="1">
                <a:off x="1748160" y="413028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 flipV="1">
                <a:off x="1748160" y="414180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 flipV="1">
                <a:off x="1748160" y="41493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 flipV="1">
                <a:off x="1748160" y="415872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 flipV="1">
                <a:off x="1748160" y="4168800"/>
                <a:ext cx="2520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 flipV="1">
                <a:off x="1716480" y="4042800"/>
                <a:ext cx="2520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 flipV="1">
                <a:off x="1716480" y="405288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 flipV="1">
                <a:off x="1716480" y="406044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 flipV="1">
                <a:off x="1716480" y="407196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 flipV="1">
                <a:off x="1716480" y="408096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 flipV="1">
                <a:off x="1716480" y="409104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 flipV="1">
                <a:off x="1716480" y="410040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 flipH="1" flipV="1">
                <a:off x="1716480" y="4109400"/>
                <a:ext cx="2520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 flipV="1">
                <a:off x="1716480" y="4119480"/>
                <a:ext cx="25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H="1" flipV="1">
                <a:off x="1716480" y="4128480"/>
                <a:ext cx="2520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4" name=""/>
            <p:cNvSpPr/>
            <p:nvPr/>
          </p:nvSpPr>
          <p:spPr>
            <a:xfrm flipH="1" flipV="1">
              <a:off x="1716480" y="413640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H="1" flipV="1">
              <a:off x="1716480" y="414612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 flipV="1">
              <a:off x="1716480" y="4155480"/>
              <a:ext cx="25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H="1" flipV="1">
              <a:off x="1716480" y="4166640"/>
              <a:ext cx="25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1457640" y="3892320"/>
              <a:ext cx="75960" cy="289080"/>
            </a:xfrm>
            <a:custGeom>
              <a:avLst/>
              <a:gdLst/>
              <a:ahLst/>
              <a:rect l="l" t="t" r="r" b="b"/>
              <a:pathLst>
                <a:path w="144" h="548">
                  <a:moveTo>
                    <a:pt x="144" y="0"/>
                  </a:moveTo>
                  <a:lnTo>
                    <a:pt x="0" y="7"/>
                  </a:lnTo>
                  <a:lnTo>
                    <a:pt x="0" y="548"/>
                  </a:lnTo>
                  <a:lnTo>
                    <a:pt x="144" y="542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V="1">
              <a:off x="1468800" y="389844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flipV="1">
              <a:off x="1468800" y="3908160"/>
              <a:ext cx="52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V="1">
              <a:off x="1468800" y="3918960"/>
              <a:ext cx="52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 flipV="1">
              <a:off x="1468800" y="3927240"/>
              <a:ext cx="52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V="1">
              <a:off x="1468800" y="3938040"/>
              <a:ext cx="522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1468800" y="3948120"/>
              <a:ext cx="522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V="1">
              <a:off x="1468800" y="395712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V="1">
              <a:off x="1468800" y="396684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1468800" y="397620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V="1">
              <a:off x="1468800" y="398592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1468800" y="3995280"/>
              <a:ext cx="52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1468800" y="4005000"/>
              <a:ext cx="52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V="1">
              <a:off x="1468800" y="4042800"/>
              <a:ext cx="237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1468800" y="4053960"/>
              <a:ext cx="237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V="1">
              <a:off x="1468800" y="4064040"/>
              <a:ext cx="23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 flipV="1">
              <a:off x="1468800" y="4071960"/>
              <a:ext cx="237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 flipV="1">
              <a:off x="1468800" y="4082400"/>
              <a:ext cx="237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 flipV="1">
              <a:off x="1468800" y="4091040"/>
              <a:ext cx="237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V="1">
              <a:off x="1498680" y="4042800"/>
              <a:ext cx="24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V="1">
              <a:off x="1498680" y="405288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V="1">
              <a:off x="1498680" y="406044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V="1">
              <a:off x="1498680" y="407196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V="1">
              <a:off x="1498680" y="408096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V="1">
              <a:off x="1498680" y="409104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 flipV="1">
              <a:off x="1498680" y="410040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V="1">
              <a:off x="1498680" y="410940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1498680" y="4119480"/>
              <a:ext cx="24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V="1">
              <a:off x="1498680" y="4128480"/>
              <a:ext cx="24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1498680" y="413640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V="1">
              <a:off x="1498680" y="414612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V="1">
              <a:off x="1498680" y="4155480"/>
              <a:ext cx="24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1498680" y="4166640"/>
              <a:ext cx="24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1590840" y="3895560"/>
              <a:ext cx="972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1640160" y="3895560"/>
              <a:ext cx="1116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1548000" y="3962160"/>
              <a:ext cx="1476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1548000" y="4030560"/>
              <a:ext cx="1476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1548000" y="4100400"/>
              <a:ext cx="1476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1495800" y="3857400"/>
              <a:ext cx="24912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1495800" y="3857400"/>
              <a:ext cx="249120" cy="22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1943280" y="3816360"/>
              <a:ext cx="33192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943280" y="3816360"/>
              <a:ext cx="33192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1957680" y="3846240"/>
              <a:ext cx="49320" cy="30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208600" y="3846240"/>
              <a:ext cx="48960" cy="30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007000" y="3868560"/>
              <a:ext cx="198360" cy="1800"/>
            </a:xfrm>
            <a:prstGeom prst="line">
              <a:avLst/>
            </a:prstGeom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038680" y="3908160"/>
              <a:ext cx="142920" cy="29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021040" y="4092480"/>
              <a:ext cx="171360" cy="1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021040" y="4114800"/>
              <a:ext cx="171360" cy="1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027520" y="4224240"/>
              <a:ext cx="158760" cy="74520"/>
            </a:xfrm>
            <a:prstGeom prst="rect">
              <a:avLst/>
            </a:prstGeom>
            <a:noFill/>
            <a:ln w="144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1932120" y="4346640"/>
              <a:ext cx="354240" cy="31680"/>
            </a:xfrm>
            <a:custGeom>
              <a:avLst/>
              <a:gdLst/>
              <a:ahLst/>
              <a:rect l="l" t="t" r="r" b="b"/>
              <a:pathLst>
                <a:path w="668" h="61">
                  <a:moveTo>
                    <a:pt x="630" y="0"/>
                  </a:moveTo>
                  <a:lnTo>
                    <a:pt x="668" y="61"/>
                  </a:lnTo>
                  <a:lnTo>
                    <a:pt x="0" y="61"/>
                  </a:lnTo>
                  <a:lnTo>
                    <a:pt x="37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1933920" y="4378320"/>
              <a:ext cx="352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2249640" y="4025880"/>
              <a:ext cx="100080" cy="15840"/>
            </a:xfrm>
            <a:custGeom>
              <a:avLst/>
              <a:gdLst/>
              <a:ahLst/>
              <a:rect l="l" t="t" r="r" b="b"/>
              <a:pathLst>
                <a:path w="189" h="30">
                  <a:moveTo>
                    <a:pt x="189" y="30"/>
                  </a:moveTo>
                  <a:lnTo>
                    <a:pt x="0" y="30"/>
                  </a:lnTo>
                  <a:lnTo>
                    <a:pt x="4" y="0"/>
                  </a:lnTo>
                  <a:lnTo>
                    <a:pt x="184" y="0"/>
                  </a:lnTo>
                  <a:lnTo>
                    <a:pt x="189" y="30"/>
                  </a:lnTo>
                  <a:close/>
                </a:path>
              </a:pathLst>
            </a:custGeom>
            <a:solidFill>
              <a:srgbClr val="6e6e6e"/>
            </a:solidFill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254240" y="3252600"/>
              <a:ext cx="2124360" cy="338040"/>
            </a:xfrm>
            <a:custGeom>
              <a:avLst/>
              <a:gdLst/>
              <a:ahLst/>
              <a:rect l="l" t="t" r="r" b="b"/>
              <a:pathLst>
                <a:path w="4016" h="640">
                  <a:moveTo>
                    <a:pt x="4016" y="640"/>
                  </a:moveTo>
                  <a:lnTo>
                    <a:pt x="3688" y="0"/>
                  </a:lnTo>
                  <a:lnTo>
                    <a:pt x="309" y="10"/>
                  </a:lnTo>
                  <a:lnTo>
                    <a:pt x="0" y="630"/>
                  </a:lnTo>
                  <a:lnTo>
                    <a:pt x="4016" y="640"/>
                  </a:lnTo>
                  <a:close/>
                </a:path>
              </a:pathLst>
            </a:custGeom>
            <a:noFill/>
            <a:ln w="144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1600560" y="3106800"/>
              <a:ext cx="64800" cy="410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40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1495800" y="3106800"/>
              <a:ext cx="64800" cy="41040"/>
            </a:xfrm>
            <a:prstGeom prst="rect">
              <a:avLst/>
            </a:prstGeom>
            <a:solidFill>
              <a:srgbClr val="cc3300"/>
            </a:solidFill>
            <a:ln w="1440">
              <a:solidFill>
                <a:srgbClr val="40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1432080" y="3274920"/>
              <a:ext cx="281160" cy="46080"/>
            </a:xfrm>
            <a:custGeom>
              <a:avLst/>
              <a:gdLst/>
              <a:ahLst/>
              <a:rect l="l" t="t" r="r" b="b"/>
              <a:pathLst>
                <a:path w="531" h="87">
                  <a:moveTo>
                    <a:pt x="531" y="0"/>
                  </a:moveTo>
                  <a:lnTo>
                    <a:pt x="515" y="87"/>
                  </a:lnTo>
                  <a:lnTo>
                    <a:pt x="0" y="87"/>
                  </a:lnTo>
                  <a:lnTo>
                    <a:pt x="38" y="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1473480" y="3133440"/>
              <a:ext cx="201600" cy="163800"/>
            </a:xfrm>
            <a:prstGeom prst="rect">
              <a:avLst/>
            </a:prstGeom>
            <a:solidFill>
              <a:srgbClr val="cc6633"/>
            </a:solidFill>
            <a:ln w="1440">
              <a:solidFill>
                <a:srgbClr val="40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flipH="1">
              <a:off x="1473480" y="313344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H="1">
              <a:off x="1473480" y="31464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H="1">
              <a:off x="1473480" y="31590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H="1">
              <a:off x="1473480" y="317160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H="1">
              <a:off x="1473480" y="318276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flipH="1">
              <a:off x="1473480" y="319536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H="1">
              <a:off x="1473480" y="320832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H="1">
              <a:off x="1473480" y="321948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1473480" y="323208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H="1">
              <a:off x="1473480" y="324468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 flipH="1">
              <a:off x="1473480" y="3257280"/>
              <a:ext cx="201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flipH="1">
              <a:off x="1473480" y="327024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>
              <a:off x="1473480" y="32814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flipH="1">
              <a:off x="1473480" y="32940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665360" y="3135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629000" y="3135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592640" y="3135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1555920" y="3135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1519560" y="3135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1482840" y="3135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494000" y="31464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528920" y="31464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565640" y="31464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602000" y="31464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636920" y="31464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675080" y="31464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665360" y="3157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629000" y="3157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592640" y="3157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555920" y="3157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519560" y="3157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482840" y="3157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494000" y="31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528920" y="31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563840" y="31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602000" y="31716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640160" y="31716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675080" y="31716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665360" y="3184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629000" y="3184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1592640" y="3184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1555920" y="3184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519560" y="318456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1482840" y="31845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1494000" y="319536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152748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56240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60200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67508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640160" y="31953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48284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519560" y="3208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155592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159084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1629000" y="3208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665360" y="32083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67508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63872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603440" y="32209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56240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1524240" y="32209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494000" y="32209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1482840" y="32335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1519560" y="32335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1555920" y="32335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1590840" y="323352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1627560" y="32335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1663920" y="32335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167508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163872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160524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1563840" y="324648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52424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492560" y="324648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1482840" y="32572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1519560" y="3257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555920" y="32572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1590840" y="32572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1627560" y="3257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1663920" y="3257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167364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163872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160524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1563840" y="32702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152424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1492560" y="32702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1482840" y="3281400"/>
              <a:ext cx="18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1519560" y="328140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1555920" y="3281400"/>
              <a:ext cx="18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1590840" y="3281400"/>
              <a:ext cx="18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1627560" y="328140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1663920" y="328140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1249560" y="3584520"/>
              <a:ext cx="21304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2287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70884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0" name="HOUSE2" descr=""/>
          <p:cNvPicPr/>
          <p:nvPr/>
        </p:nvPicPr>
        <p:blipFill>
          <a:blip r:embed="rId1"/>
          <a:stretch/>
        </p:blipFill>
        <p:spPr>
          <a:xfrm>
            <a:off x="5791320" y="3100320"/>
            <a:ext cx="26017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VEGTBL7" descr=""/>
          <p:cNvPicPr/>
          <p:nvPr/>
        </p:nvPicPr>
        <p:blipFill>
          <a:blip r:embed="rId1"/>
          <a:stretch/>
        </p:blipFill>
        <p:spPr>
          <a:xfrm>
            <a:off x="5943600" y="2911320"/>
            <a:ext cx="1712880" cy="1795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8320" y="5486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3480" y="5486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en00769_" descr=""/>
          <p:cNvPicPr/>
          <p:nvPr/>
        </p:nvPicPr>
        <p:blipFill>
          <a:blip r:embed="rId2"/>
          <a:stretch/>
        </p:blipFill>
        <p:spPr>
          <a:xfrm>
            <a:off x="1447920" y="2538360"/>
            <a:ext cx="176832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1" name=""/>
          <p:cNvGrpSpPr/>
          <p:nvPr/>
        </p:nvGrpSpPr>
        <p:grpSpPr>
          <a:xfrm>
            <a:off x="6095880" y="3279600"/>
            <a:ext cx="1397160" cy="1060200"/>
            <a:chOff x="6095880" y="3279600"/>
            <a:chExt cx="1397160" cy="1060200"/>
          </a:xfrm>
        </p:grpSpPr>
        <p:sp>
          <p:nvSpPr>
            <p:cNvPr id="3512" name=""/>
            <p:cNvSpPr/>
            <p:nvPr/>
          </p:nvSpPr>
          <p:spPr>
            <a:xfrm>
              <a:off x="6095880" y="3293640"/>
              <a:ext cx="1168560" cy="1046160"/>
            </a:xfrm>
            <a:custGeom>
              <a:avLst/>
              <a:gdLst/>
              <a:ahLst/>
              <a:rect l="l" t="t" r="r" b="b"/>
              <a:pathLst>
                <a:path w="298" h="363">
                  <a:moveTo>
                    <a:pt x="0" y="363"/>
                  </a:moveTo>
                  <a:lnTo>
                    <a:pt x="0" y="0"/>
                  </a:lnTo>
                  <a:lnTo>
                    <a:pt x="49" y="0"/>
                  </a:lnTo>
                  <a:lnTo>
                    <a:pt x="298" y="215"/>
                  </a:lnTo>
                  <a:lnTo>
                    <a:pt x="298" y="306"/>
                  </a:lnTo>
                  <a:lnTo>
                    <a:pt x="49" y="85"/>
                  </a:lnTo>
                  <a:lnTo>
                    <a:pt x="49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ffcc00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75240" y="3279600"/>
              <a:ext cx="217800" cy="10508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6275160" y="3539880"/>
              <a:ext cx="801720" cy="495360"/>
            </a:xfrm>
            <a:custGeom>
              <a:avLst/>
              <a:gdLst/>
              <a:ahLst/>
              <a:rect l="l" t="t" r="r" b="b"/>
              <a:pathLst>
                <a:path w="206" h="173">
                  <a:moveTo>
                    <a:pt x="0" y="173"/>
                  </a:moveTo>
                  <a:lnTo>
                    <a:pt x="0" y="0"/>
                  </a:lnTo>
                  <a:lnTo>
                    <a:pt x="206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5" name=""/>
          <p:cNvSpPr/>
          <p:nvPr/>
        </p:nvSpPr>
        <p:spPr>
          <a:xfrm>
            <a:off x="16020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7" name=""/>
          <p:cNvGrpSpPr/>
          <p:nvPr/>
        </p:nvGrpSpPr>
        <p:grpSpPr>
          <a:xfrm>
            <a:off x="1295280" y="3278160"/>
            <a:ext cx="1397160" cy="1062000"/>
            <a:chOff x="1295280" y="3278160"/>
            <a:chExt cx="1397160" cy="1062000"/>
          </a:xfrm>
        </p:grpSpPr>
        <p:sp>
          <p:nvSpPr>
            <p:cNvPr id="3518" name=""/>
            <p:cNvSpPr/>
            <p:nvPr/>
          </p:nvSpPr>
          <p:spPr>
            <a:xfrm>
              <a:off x="1295280" y="3278160"/>
              <a:ext cx="1397160" cy="1062000"/>
            </a:xfrm>
            <a:prstGeom prst="rect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330200" y="3308400"/>
              <a:ext cx="1319400" cy="135000"/>
            </a:xfrm>
            <a:custGeom>
              <a:avLst/>
              <a:gdLst/>
              <a:ahLst/>
              <a:rect l="l" t="t" r="r" b="b"/>
              <a:pathLst>
                <a:path w="3325" h="425">
                  <a:moveTo>
                    <a:pt x="462" y="425"/>
                  </a:moveTo>
                  <a:lnTo>
                    <a:pt x="2851" y="425"/>
                  </a:lnTo>
                  <a:lnTo>
                    <a:pt x="3325" y="0"/>
                  </a:lnTo>
                  <a:lnTo>
                    <a:pt x="0" y="0"/>
                  </a:lnTo>
                  <a:lnTo>
                    <a:pt x="462" y="425"/>
                  </a:lnTo>
                  <a:close/>
                </a:path>
              </a:pathLst>
            </a:cu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327320" y="3308400"/>
              <a:ext cx="188640" cy="995400"/>
            </a:xfrm>
            <a:custGeom>
              <a:avLst/>
              <a:gdLst/>
              <a:ahLst/>
              <a:rect l="l" t="t" r="r" b="b"/>
              <a:pathLst>
                <a:path w="475" h="3135">
                  <a:moveTo>
                    <a:pt x="0" y="0"/>
                  </a:moveTo>
                  <a:lnTo>
                    <a:pt x="469" y="425"/>
                  </a:lnTo>
                  <a:lnTo>
                    <a:pt x="475" y="2694"/>
                  </a:lnTo>
                  <a:lnTo>
                    <a:pt x="0" y="31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655640" y="3552840"/>
              <a:ext cx="674640" cy="51264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2" name=""/>
          <p:cNvGrpSpPr/>
          <p:nvPr/>
        </p:nvGrpSpPr>
        <p:grpSpPr>
          <a:xfrm>
            <a:off x="5791680" y="3067200"/>
            <a:ext cx="1915560" cy="1485360"/>
            <a:chOff x="5791680" y="3067200"/>
            <a:chExt cx="1915560" cy="1485360"/>
          </a:xfrm>
        </p:grpSpPr>
        <p:sp>
          <p:nvSpPr>
            <p:cNvPr id="3523" name=""/>
            <p:cNvSpPr/>
            <p:nvPr/>
          </p:nvSpPr>
          <p:spPr>
            <a:xfrm flipH="1">
              <a:off x="5791320" y="3067200"/>
              <a:ext cx="1915560" cy="1485360"/>
            </a:xfrm>
            <a:custGeom>
              <a:avLst/>
              <a:gdLst/>
              <a:ahLst/>
              <a:rect l="l" t="t" r="r" b="b"/>
              <a:pathLst>
                <a:path w="1795" h="1461">
                  <a:moveTo>
                    <a:pt x="40" y="596"/>
                  </a:moveTo>
                  <a:lnTo>
                    <a:pt x="34" y="554"/>
                  </a:lnTo>
                  <a:lnTo>
                    <a:pt x="30" y="514"/>
                  </a:lnTo>
                  <a:lnTo>
                    <a:pt x="27" y="475"/>
                  </a:lnTo>
                  <a:lnTo>
                    <a:pt x="30" y="437"/>
                  </a:lnTo>
                  <a:lnTo>
                    <a:pt x="38" y="399"/>
                  </a:lnTo>
                  <a:lnTo>
                    <a:pt x="53" y="362"/>
                  </a:lnTo>
                  <a:lnTo>
                    <a:pt x="78" y="325"/>
                  </a:lnTo>
                  <a:lnTo>
                    <a:pt x="114" y="288"/>
                  </a:lnTo>
                  <a:lnTo>
                    <a:pt x="137" y="268"/>
                  </a:lnTo>
                  <a:lnTo>
                    <a:pt x="162" y="247"/>
                  </a:lnTo>
                  <a:lnTo>
                    <a:pt x="190" y="222"/>
                  </a:lnTo>
                  <a:lnTo>
                    <a:pt x="220" y="197"/>
                  </a:lnTo>
                  <a:lnTo>
                    <a:pt x="251" y="172"/>
                  </a:lnTo>
                  <a:lnTo>
                    <a:pt x="283" y="146"/>
                  </a:lnTo>
                  <a:lnTo>
                    <a:pt x="315" y="121"/>
                  </a:lnTo>
                  <a:lnTo>
                    <a:pt x="349" y="96"/>
                  </a:lnTo>
                  <a:lnTo>
                    <a:pt x="381" y="74"/>
                  </a:lnTo>
                  <a:lnTo>
                    <a:pt x="413" y="53"/>
                  </a:lnTo>
                  <a:lnTo>
                    <a:pt x="445" y="35"/>
                  </a:lnTo>
                  <a:lnTo>
                    <a:pt x="475" y="20"/>
                  </a:lnTo>
                  <a:lnTo>
                    <a:pt x="504" y="8"/>
                  </a:lnTo>
                  <a:lnTo>
                    <a:pt x="529" y="2"/>
                  </a:lnTo>
                  <a:lnTo>
                    <a:pt x="554" y="0"/>
                  </a:lnTo>
                  <a:lnTo>
                    <a:pt x="574" y="4"/>
                  </a:lnTo>
                  <a:lnTo>
                    <a:pt x="582" y="6"/>
                  </a:lnTo>
                  <a:lnTo>
                    <a:pt x="592" y="9"/>
                  </a:lnTo>
                  <a:lnTo>
                    <a:pt x="602" y="12"/>
                  </a:lnTo>
                  <a:lnTo>
                    <a:pt x="614" y="15"/>
                  </a:lnTo>
                  <a:lnTo>
                    <a:pt x="627" y="19"/>
                  </a:lnTo>
                  <a:lnTo>
                    <a:pt x="640" y="22"/>
                  </a:lnTo>
                  <a:lnTo>
                    <a:pt x="655" y="25"/>
                  </a:lnTo>
                  <a:lnTo>
                    <a:pt x="670" y="29"/>
                  </a:lnTo>
                  <a:lnTo>
                    <a:pt x="685" y="32"/>
                  </a:lnTo>
                  <a:lnTo>
                    <a:pt x="700" y="35"/>
                  </a:lnTo>
                  <a:lnTo>
                    <a:pt x="716" y="37"/>
                  </a:lnTo>
                  <a:lnTo>
                    <a:pt x="731" y="38"/>
                  </a:lnTo>
                  <a:lnTo>
                    <a:pt x="745" y="39"/>
                  </a:lnTo>
                  <a:lnTo>
                    <a:pt x="760" y="39"/>
                  </a:lnTo>
                  <a:lnTo>
                    <a:pt x="772" y="38"/>
                  </a:lnTo>
                  <a:lnTo>
                    <a:pt x="785" y="36"/>
                  </a:lnTo>
                  <a:lnTo>
                    <a:pt x="798" y="32"/>
                  </a:lnTo>
                  <a:lnTo>
                    <a:pt x="810" y="29"/>
                  </a:lnTo>
                  <a:lnTo>
                    <a:pt x="825" y="25"/>
                  </a:lnTo>
                  <a:lnTo>
                    <a:pt x="840" y="22"/>
                  </a:lnTo>
                  <a:lnTo>
                    <a:pt x="856" y="19"/>
                  </a:lnTo>
                  <a:lnTo>
                    <a:pt x="873" y="15"/>
                  </a:lnTo>
                  <a:lnTo>
                    <a:pt x="891" y="12"/>
                  </a:lnTo>
                  <a:lnTo>
                    <a:pt x="909" y="9"/>
                  </a:lnTo>
                  <a:lnTo>
                    <a:pt x="929" y="7"/>
                  </a:lnTo>
                  <a:lnTo>
                    <a:pt x="951" y="6"/>
                  </a:lnTo>
                  <a:lnTo>
                    <a:pt x="973" y="6"/>
                  </a:lnTo>
                  <a:lnTo>
                    <a:pt x="996" y="7"/>
                  </a:lnTo>
                  <a:lnTo>
                    <a:pt x="1019" y="8"/>
                  </a:lnTo>
                  <a:lnTo>
                    <a:pt x="1044" y="12"/>
                  </a:lnTo>
                  <a:lnTo>
                    <a:pt x="1071" y="16"/>
                  </a:lnTo>
                  <a:lnTo>
                    <a:pt x="1098" y="23"/>
                  </a:lnTo>
                  <a:lnTo>
                    <a:pt x="1137" y="21"/>
                  </a:lnTo>
                  <a:lnTo>
                    <a:pt x="1177" y="21"/>
                  </a:lnTo>
                  <a:lnTo>
                    <a:pt x="1217" y="23"/>
                  </a:lnTo>
                  <a:lnTo>
                    <a:pt x="1256" y="29"/>
                  </a:lnTo>
                  <a:lnTo>
                    <a:pt x="1296" y="36"/>
                  </a:lnTo>
                  <a:lnTo>
                    <a:pt x="1334" y="45"/>
                  </a:lnTo>
                  <a:lnTo>
                    <a:pt x="1372" y="57"/>
                  </a:lnTo>
                  <a:lnTo>
                    <a:pt x="1408" y="68"/>
                  </a:lnTo>
                  <a:lnTo>
                    <a:pt x="1443" y="82"/>
                  </a:lnTo>
                  <a:lnTo>
                    <a:pt x="1475" y="96"/>
                  </a:lnTo>
                  <a:lnTo>
                    <a:pt x="1504" y="110"/>
                  </a:lnTo>
                  <a:lnTo>
                    <a:pt x="1530" y="125"/>
                  </a:lnTo>
                  <a:lnTo>
                    <a:pt x="1553" y="141"/>
                  </a:lnTo>
                  <a:lnTo>
                    <a:pt x="1574" y="154"/>
                  </a:lnTo>
                  <a:lnTo>
                    <a:pt x="1589" y="169"/>
                  </a:lnTo>
                  <a:lnTo>
                    <a:pt x="1600" y="183"/>
                  </a:lnTo>
                  <a:lnTo>
                    <a:pt x="1619" y="217"/>
                  </a:lnTo>
                  <a:lnTo>
                    <a:pt x="1640" y="265"/>
                  </a:lnTo>
                  <a:lnTo>
                    <a:pt x="1661" y="326"/>
                  </a:lnTo>
                  <a:lnTo>
                    <a:pt x="1681" y="398"/>
                  </a:lnTo>
                  <a:lnTo>
                    <a:pt x="1698" y="477"/>
                  </a:lnTo>
                  <a:lnTo>
                    <a:pt x="1710" y="561"/>
                  </a:lnTo>
                  <a:lnTo>
                    <a:pt x="1717" y="651"/>
                  </a:lnTo>
                  <a:lnTo>
                    <a:pt x="1716" y="741"/>
                  </a:lnTo>
                  <a:lnTo>
                    <a:pt x="1724" y="751"/>
                  </a:lnTo>
                  <a:lnTo>
                    <a:pt x="1732" y="759"/>
                  </a:lnTo>
                  <a:lnTo>
                    <a:pt x="1740" y="767"/>
                  </a:lnTo>
                  <a:lnTo>
                    <a:pt x="1748" y="775"/>
                  </a:lnTo>
                  <a:lnTo>
                    <a:pt x="1756" y="781"/>
                  </a:lnTo>
                  <a:lnTo>
                    <a:pt x="1764" y="787"/>
                  </a:lnTo>
                  <a:lnTo>
                    <a:pt x="1771" y="791"/>
                  </a:lnTo>
                  <a:lnTo>
                    <a:pt x="1778" y="796"/>
                  </a:lnTo>
                  <a:lnTo>
                    <a:pt x="1770" y="796"/>
                  </a:lnTo>
                  <a:lnTo>
                    <a:pt x="1760" y="795"/>
                  </a:lnTo>
                  <a:lnTo>
                    <a:pt x="1752" y="794"/>
                  </a:lnTo>
                  <a:lnTo>
                    <a:pt x="1744" y="791"/>
                  </a:lnTo>
                  <a:lnTo>
                    <a:pt x="1736" y="789"/>
                  </a:lnTo>
                  <a:lnTo>
                    <a:pt x="1728" y="786"/>
                  </a:lnTo>
                  <a:lnTo>
                    <a:pt x="1720" y="782"/>
                  </a:lnTo>
                  <a:lnTo>
                    <a:pt x="1713" y="779"/>
                  </a:lnTo>
                  <a:lnTo>
                    <a:pt x="1711" y="802"/>
                  </a:lnTo>
                  <a:lnTo>
                    <a:pt x="1717" y="809"/>
                  </a:lnTo>
                  <a:lnTo>
                    <a:pt x="1725" y="817"/>
                  </a:lnTo>
                  <a:lnTo>
                    <a:pt x="1734" y="827"/>
                  </a:lnTo>
                  <a:lnTo>
                    <a:pt x="1744" y="839"/>
                  </a:lnTo>
                  <a:lnTo>
                    <a:pt x="1756" y="850"/>
                  </a:lnTo>
                  <a:lnTo>
                    <a:pt x="1769" y="863"/>
                  </a:lnTo>
                  <a:lnTo>
                    <a:pt x="1781" y="876"/>
                  </a:lnTo>
                  <a:lnTo>
                    <a:pt x="1795" y="887"/>
                  </a:lnTo>
                  <a:lnTo>
                    <a:pt x="1785" y="886"/>
                  </a:lnTo>
                  <a:lnTo>
                    <a:pt x="1773" y="884"/>
                  </a:lnTo>
                  <a:lnTo>
                    <a:pt x="1762" y="880"/>
                  </a:lnTo>
                  <a:lnTo>
                    <a:pt x="1749" y="876"/>
                  </a:lnTo>
                  <a:lnTo>
                    <a:pt x="1737" y="871"/>
                  </a:lnTo>
                  <a:lnTo>
                    <a:pt x="1726" y="864"/>
                  </a:lnTo>
                  <a:lnTo>
                    <a:pt x="1714" y="857"/>
                  </a:lnTo>
                  <a:lnTo>
                    <a:pt x="1704" y="850"/>
                  </a:lnTo>
                  <a:lnTo>
                    <a:pt x="1698" y="914"/>
                  </a:lnTo>
                  <a:lnTo>
                    <a:pt x="1690" y="992"/>
                  </a:lnTo>
                  <a:lnTo>
                    <a:pt x="1678" y="1078"/>
                  </a:lnTo>
                  <a:lnTo>
                    <a:pt x="1661" y="1165"/>
                  </a:lnTo>
                  <a:lnTo>
                    <a:pt x="1642" y="1246"/>
                  </a:lnTo>
                  <a:lnTo>
                    <a:pt x="1617" y="1316"/>
                  </a:lnTo>
                  <a:lnTo>
                    <a:pt x="1587" y="1366"/>
                  </a:lnTo>
                  <a:lnTo>
                    <a:pt x="1551" y="1392"/>
                  </a:lnTo>
                  <a:lnTo>
                    <a:pt x="1526" y="1397"/>
                  </a:lnTo>
                  <a:lnTo>
                    <a:pt x="1506" y="1401"/>
                  </a:lnTo>
                  <a:lnTo>
                    <a:pt x="1491" y="1402"/>
                  </a:lnTo>
                  <a:lnTo>
                    <a:pt x="1481" y="1401"/>
                  </a:lnTo>
                  <a:lnTo>
                    <a:pt x="1475" y="1397"/>
                  </a:lnTo>
                  <a:lnTo>
                    <a:pt x="1471" y="1392"/>
                  </a:lnTo>
                  <a:lnTo>
                    <a:pt x="1470" y="1385"/>
                  </a:lnTo>
                  <a:lnTo>
                    <a:pt x="1471" y="1377"/>
                  </a:lnTo>
                  <a:lnTo>
                    <a:pt x="1473" y="1367"/>
                  </a:lnTo>
                  <a:lnTo>
                    <a:pt x="1473" y="1359"/>
                  </a:lnTo>
                  <a:lnTo>
                    <a:pt x="1473" y="1354"/>
                  </a:lnTo>
                  <a:lnTo>
                    <a:pt x="1474" y="1349"/>
                  </a:lnTo>
                  <a:lnTo>
                    <a:pt x="1477" y="1346"/>
                  </a:lnTo>
                  <a:lnTo>
                    <a:pt x="1483" y="1343"/>
                  </a:lnTo>
                  <a:lnTo>
                    <a:pt x="1493" y="1340"/>
                  </a:lnTo>
                  <a:lnTo>
                    <a:pt x="1507" y="1337"/>
                  </a:lnTo>
                  <a:lnTo>
                    <a:pt x="1516" y="1335"/>
                  </a:lnTo>
                  <a:lnTo>
                    <a:pt x="1527" y="1331"/>
                  </a:lnTo>
                  <a:lnTo>
                    <a:pt x="1537" y="1325"/>
                  </a:lnTo>
                  <a:lnTo>
                    <a:pt x="1547" y="1317"/>
                  </a:lnTo>
                  <a:lnTo>
                    <a:pt x="1557" y="1307"/>
                  </a:lnTo>
                  <a:lnTo>
                    <a:pt x="1564" y="1295"/>
                  </a:lnTo>
                  <a:lnTo>
                    <a:pt x="1569" y="1280"/>
                  </a:lnTo>
                  <a:lnTo>
                    <a:pt x="1573" y="1261"/>
                  </a:lnTo>
                  <a:lnTo>
                    <a:pt x="1577" y="1206"/>
                  </a:lnTo>
                  <a:lnTo>
                    <a:pt x="1580" y="1129"/>
                  </a:lnTo>
                  <a:lnTo>
                    <a:pt x="1579" y="1046"/>
                  </a:lnTo>
                  <a:lnTo>
                    <a:pt x="1573" y="976"/>
                  </a:lnTo>
                  <a:lnTo>
                    <a:pt x="1564" y="914"/>
                  </a:lnTo>
                  <a:lnTo>
                    <a:pt x="1557" y="844"/>
                  </a:lnTo>
                  <a:lnTo>
                    <a:pt x="1553" y="774"/>
                  </a:lnTo>
                  <a:lnTo>
                    <a:pt x="1557" y="704"/>
                  </a:lnTo>
                  <a:lnTo>
                    <a:pt x="1538" y="687"/>
                  </a:lnTo>
                  <a:lnTo>
                    <a:pt x="1519" y="668"/>
                  </a:lnTo>
                  <a:lnTo>
                    <a:pt x="1499" y="650"/>
                  </a:lnTo>
                  <a:lnTo>
                    <a:pt x="1479" y="630"/>
                  </a:lnTo>
                  <a:lnTo>
                    <a:pt x="1461" y="611"/>
                  </a:lnTo>
                  <a:lnTo>
                    <a:pt x="1443" y="590"/>
                  </a:lnTo>
                  <a:lnTo>
                    <a:pt x="1427" y="570"/>
                  </a:lnTo>
                  <a:lnTo>
                    <a:pt x="1412" y="552"/>
                  </a:lnTo>
                  <a:lnTo>
                    <a:pt x="1403" y="551"/>
                  </a:lnTo>
                  <a:lnTo>
                    <a:pt x="1394" y="548"/>
                  </a:lnTo>
                  <a:lnTo>
                    <a:pt x="1384" y="547"/>
                  </a:lnTo>
                  <a:lnTo>
                    <a:pt x="1374" y="545"/>
                  </a:lnTo>
                  <a:lnTo>
                    <a:pt x="1364" y="543"/>
                  </a:lnTo>
                  <a:lnTo>
                    <a:pt x="1356" y="540"/>
                  </a:lnTo>
                  <a:lnTo>
                    <a:pt x="1352" y="539"/>
                  </a:lnTo>
                  <a:lnTo>
                    <a:pt x="1349" y="539"/>
                  </a:lnTo>
                  <a:lnTo>
                    <a:pt x="1342" y="553"/>
                  </a:lnTo>
                  <a:lnTo>
                    <a:pt x="1336" y="566"/>
                  </a:lnTo>
                  <a:lnTo>
                    <a:pt x="1329" y="580"/>
                  </a:lnTo>
                  <a:lnTo>
                    <a:pt x="1323" y="593"/>
                  </a:lnTo>
                  <a:lnTo>
                    <a:pt x="1317" y="592"/>
                  </a:lnTo>
                  <a:lnTo>
                    <a:pt x="1311" y="591"/>
                  </a:lnTo>
                  <a:lnTo>
                    <a:pt x="1306" y="589"/>
                  </a:lnTo>
                  <a:lnTo>
                    <a:pt x="1301" y="586"/>
                  </a:lnTo>
                  <a:lnTo>
                    <a:pt x="1295" y="584"/>
                  </a:lnTo>
                  <a:lnTo>
                    <a:pt x="1291" y="581"/>
                  </a:lnTo>
                  <a:lnTo>
                    <a:pt x="1285" y="577"/>
                  </a:lnTo>
                  <a:lnTo>
                    <a:pt x="1280" y="574"/>
                  </a:lnTo>
                  <a:lnTo>
                    <a:pt x="1277" y="580"/>
                  </a:lnTo>
                  <a:lnTo>
                    <a:pt x="1272" y="584"/>
                  </a:lnTo>
                  <a:lnTo>
                    <a:pt x="1266" y="590"/>
                  </a:lnTo>
                  <a:lnTo>
                    <a:pt x="1261" y="594"/>
                  </a:lnTo>
                  <a:lnTo>
                    <a:pt x="1255" y="600"/>
                  </a:lnTo>
                  <a:lnTo>
                    <a:pt x="1247" y="605"/>
                  </a:lnTo>
                  <a:lnTo>
                    <a:pt x="1240" y="611"/>
                  </a:lnTo>
                  <a:lnTo>
                    <a:pt x="1232" y="615"/>
                  </a:lnTo>
                  <a:lnTo>
                    <a:pt x="1227" y="611"/>
                  </a:lnTo>
                  <a:lnTo>
                    <a:pt x="1223" y="605"/>
                  </a:lnTo>
                  <a:lnTo>
                    <a:pt x="1218" y="598"/>
                  </a:lnTo>
                  <a:lnTo>
                    <a:pt x="1212" y="591"/>
                  </a:lnTo>
                  <a:lnTo>
                    <a:pt x="1207" y="584"/>
                  </a:lnTo>
                  <a:lnTo>
                    <a:pt x="1200" y="577"/>
                  </a:lnTo>
                  <a:lnTo>
                    <a:pt x="1194" y="571"/>
                  </a:lnTo>
                  <a:lnTo>
                    <a:pt x="1187" y="567"/>
                  </a:lnTo>
                  <a:lnTo>
                    <a:pt x="1174" y="597"/>
                  </a:lnTo>
                  <a:lnTo>
                    <a:pt x="1167" y="631"/>
                  </a:lnTo>
                  <a:lnTo>
                    <a:pt x="1166" y="673"/>
                  </a:lnTo>
                  <a:lnTo>
                    <a:pt x="1170" y="721"/>
                  </a:lnTo>
                  <a:lnTo>
                    <a:pt x="1175" y="781"/>
                  </a:lnTo>
                  <a:lnTo>
                    <a:pt x="1178" y="856"/>
                  </a:lnTo>
                  <a:lnTo>
                    <a:pt x="1173" y="929"/>
                  </a:lnTo>
                  <a:lnTo>
                    <a:pt x="1160" y="984"/>
                  </a:lnTo>
                  <a:lnTo>
                    <a:pt x="1170" y="1010"/>
                  </a:lnTo>
                  <a:lnTo>
                    <a:pt x="1180" y="1046"/>
                  </a:lnTo>
                  <a:lnTo>
                    <a:pt x="1190" y="1087"/>
                  </a:lnTo>
                  <a:lnTo>
                    <a:pt x="1200" y="1134"/>
                  </a:lnTo>
                  <a:lnTo>
                    <a:pt x="1207" y="1183"/>
                  </a:lnTo>
                  <a:lnTo>
                    <a:pt x="1210" y="1233"/>
                  </a:lnTo>
                  <a:lnTo>
                    <a:pt x="1209" y="1280"/>
                  </a:lnTo>
                  <a:lnTo>
                    <a:pt x="1202" y="1325"/>
                  </a:lnTo>
                  <a:lnTo>
                    <a:pt x="1215" y="1337"/>
                  </a:lnTo>
                  <a:lnTo>
                    <a:pt x="1227" y="1351"/>
                  </a:lnTo>
                  <a:lnTo>
                    <a:pt x="1240" y="1365"/>
                  </a:lnTo>
                  <a:lnTo>
                    <a:pt x="1250" y="1379"/>
                  </a:lnTo>
                  <a:lnTo>
                    <a:pt x="1260" y="1393"/>
                  </a:lnTo>
                  <a:lnTo>
                    <a:pt x="1268" y="1407"/>
                  </a:lnTo>
                  <a:lnTo>
                    <a:pt x="1272" y="1420"/>
                  </a:lnTo>
                  <a:lnTo>
                    <a:pt x="1273" y="1433"/>
                  </a:lnTo>
                  <a:lnTo>
                    <a:pt x="1263" y="1433"/>
                  </a:lnTo>
                  <a:lnTo>
                    <a:pt x="1251" y="1434"/>
                  </a:lnTo>
                  <a:lnTo>
                    <a:pt x="1238" y="1434"/>
                  </a:lnTo>
                  <a:lnTo>
                    <a:pt x="1223" y="1434"/>
                  </a:lnTo>
                  <a:lnTo>
                    <a:pt x="1207" y="1434"/>
                  </a:lnTo>
                  <a:lnTo>
                    <a:pt x="1190" y="1435"/>
                  </a:lnTo>
                  <a:lnTo>
                    <a:pt x="1173" y="1434"/>
                  </a:lnTo>
                  <a:lnTo>
                    <a:pt x="1156" y="1434"/>
                  </a:lnTo>
                  <a:lnTo>
                    <a:pt x="1139" y="1434"/>
                  </a:lnTo>
                  <a:lnTo>
                    <a:pt x="1121" y="1433"/>
                  </a:lnTo>
                  <a:lnTo>
                    <a:pt x="1105" y="1433"/>
                  </a:lnTo>
                  <a:lnTo>
                    <a:pt x="1090" y="1432"/>
                  </a:lnTo>
                  <a:lnTo>
                    <a:pt x="1076" y="1430"/>
                  </a:lnTo>
                  <a:lnTo>
                    <a:pt x="1065" y="1428"/>
                  </a:lnTo>
                  <a:lnTo>
                    <a:pt x="1056" y="1426"/>
                  </a:lnTo>
                  <a:lnTo>
                    <a:pt x="1048" y="1424"/>
                  </a:lnTo>
                  <a:lnTo>
                    <a:pt x="1044" y="1411"/>
                  </a:lnTo>
                  <a:lnTo>
                    <a:pt x="1041" y="1394"/>
                  </a:lnTo>
                  <a:lnTo>
                    <a:pt x="1040" y="1379"/>
                  </a:lnTo>
                  <a:lnTo>
                    <a:pt x="1042" y="1372"/>
                  </a:lnTo>
                  <a:lnTo>
                    <a:pt x="1049" y="1370"/>
                  </a:lnTo>
                  <a:lnTo>
                    <a:pt x="1055" y="1365"/>
                  </a:lnTo>
                  <a:lnTo>
                    <a:pt x="1059" y="1360"/>
                  </a:lnTo>
                  <a:lnTo>
                    <a:pt x="1061" y="1355"/>
                  </a:lnTo>
                  <a:lnTo>
                    <a:pt x="1059" y="1339"/>
                  </a:lnTo>
                  <a:lnTo>
                    <a:pt x="1055" y="1314"/>
                  </a:lnTo>
                  <a:lnTo>
                    <a:pt x="1050" y="1284"/>
                  </a:lnTo>
                  <a:lnTo>
                    <a:pt x="1044" y="1251"/>
                  </a:lnTo>
                  <a:lnTo>
                    <a:pt x="1037" y="1218"/>
                  </a:lnTo>
                  <a:lnTo>
                    <a:pt x="1030" y="1187"/>
                  </a:lnTo>
                  <a:lnTo>
                    <a:pt x="1022" y="1159"/>
                  </a:lnTo>
                  <a:lnTo>
                    <a:pt x="1015" y="1138"/>
                  </a:lnTo>
                  <a:lnTo>
                    <a:pt x="1007" y="1159"/>
                  </a:lnTo>
                  <a:lnTo>
                    <a:pt x="997" y="1182"/>
                  </a:lnTo>
                  <a:lnTo>
                    <a:pt x="985" y="1207"/>
                  </a:lnTo>
                  <a:lnTo>
                    <a:pt x="973" y="1233"/>
                  </a:lnTo>
                  <a:lnTo>
                    <a:pt x="962" y="1256"/>
                  </a:lnTo>
                  <a:lnTo>
                    <a:pt x="953" y="1276"/>
                  </a:lnTo>
                  <a:lnTo>
                    <a:pt x="946" y="1291"/>
                  </a:lnTo>
                  <a:lnTo>
                    <a:pt x="944" y="1301"/>
                  </a:lnTo>
                  <a:lnTo>
                    <a:pt x="951" y="1320"/>
                  </a:lnTo>
                  <a:lnTo>
                    <a:pt x="960" y="1340"/>
                  </a:lnTo>
                  <a:lnTo>
                    <a:pt x="968" y="1358"/>
                  </a:lnTo>
                  <a:lnTo>
                    <a:pt x="975" y="1377"/>
                  </a:lnTo>
                  <a:lnTo>
                    <a:pt x="981" y="1393"/>
                  </a:lnTo>
                  <a:lnTo>
                    <a:pt x="983" y="1409"/>
                  </a:lnTo>
                  <a:lnTo>
                    <a:pt x="981" y="1422"/>
                  </a:lnTo>
                  <a:lnTo>
                    <a:pt x="974" y="1433"/>
                  </a:lnTo>
                  <a:lnTo>
                    <a:pt x="962" y="1432"/>
                  </a:lnTo>
                  <a:lnTo>
                    <a:pt x="951" y="1431"/>
                  </a:lnTo>
                  <a:lnTo>
                    <a:pt x="938" y="1428"/>
                  </a:lnTo>
                  <a:lnTo>
                    <a:pt x="927" y="1426"/>
                  </a:lnTo>
                  <a:lnTo>
                    <a:pt x="914" y="1424"/>
                  </a:lnTo>
                  <a:lnTo>
                    <a:pt x="903" y="1422"/>
                  </a:lnTo>
                  <a:lnTo>
                    <a:pt x="890" y="1418"/>
                  </a:lnTo>
                  <a:lnTo>
                    <a:pt x="878" y="1413"/>
                  </a:lnTo>
                  <a:lnTo>
                    <a:pt x="867" y="1409"/>
                  </a:lnTo>
                  <a:lnTo>
                    <a:pt x="854" y="1404"/>
                  </a:lnTo>
                  <a:lnTo>
                    <a:pt x="843" y="1397"/>
                  </a:lnTo>
                  <a:lnTo>
                    <a:pt x="832" y="1390"/>
                  </a:lnTo>
                  <a:lnTo>
                    <a:pt x="821" y="1382"/>
                  </a:lnTo>
                  <a:lnTo>
                    <a:pt x="810" y="1374"/>
                  </a:lnTo>
                  <a:lnTo>
                    <a:pt x="800" y="1364"/>
                  </a:lnTo>
                  <a:lnTo>
                    <a:pt x="790" y="1352"/>
                  </a:lnTo>
                  <a:lnTo>
                    <a:pt x="793" y="1340"/>
                  </a:lnTo>
                  <a:lnTo>
                    <a:pt x="798" y="1327"/>
                  </a:lnTo>
                  <a:lnTo>
                    <a:pt x="804" y="1314"/>
                  </a:lnTo>
                  <a:lnTo>
                    <a:pt x="810" y="1302"/>
                  </a:lnTo>
                  <a:lnTo>
                    <a:pt x="817" y="1289"/>
                  </a:lnTo>
                  <a:lnTo>
                    <a:pt x="824" y="1279"/>
                  </a:lnTo>
                  <a:lnTo>
                    <a:pt x="831" y="1269"/>
                  </a:lnTo>
                  <a:lnTo>
                    <a:pt x="837" y="1261"/>
                  </a:lnTo>
                  <a:lnTo>
                    <a:pt x="838" y="1203"/>
                  </a:lnTo>
                  <a:lnTo>
                    <a:pt x="837" y="1116"/>
                  </a:lnTo>
                  <a:lnTo>
                    <a:pt x="838" y="1026"/>
                  </a:lnTo>
                  <a:lnTo>
                    <a:pt x="850" y="954"/>
                  </a:lnTo>
                  <a:lnTo>
                    <a:pt x="840" y="932"/>
                  </a:lnTo>
                  <a:lnTo>
                    <a:pt x="832" y="909"/>
                  </a:lnTo>
                  <a:lnTo>
                    <a:pt x="827" y="886"/>
                  </a:lnTo>
                  <a:lnTo>
                    <a:pt x="821" y="863"/>
                  </a:lnTo>
                  <a:lnTo>
                    <a:pt x="816" y="842"/>
                  </a:lnTo>
                  <a:lnTo>
                    <a:pt x="814" y="823"/>
                  </a:lnTo>
                  <a:lnTo>
                    <a:pt x="813" y="804"/>
                  </a:lnTo>
                  <a:lnTo>
                    <a:pt x="813" y="790"/>
                  </a:lnTo>
                  <a:lnTo>
                    <a:pt x="795" y="797"/>
                  </a:lnTo>
                  <a:lnTo>
                    <a:pt x="776" y="804"/>
                  </a:lnTo>
                  <a:lnTo>
                    <a:pt x="756" y="811"/>
                  </a:lnTo>
                  <a:lnTo>
                    <a:pt x="736" y="817"/>
                  </a:lnTo>
                  <a:lnTo>
                    <a:pt x="714" y="824"/>
                  </a:lnTo>
                  <a:lnTo>
                    <a:pt x="692" y="831"/>
                  </a:lnTo>
                  <a:lnTo>
                    <a:pt x="670" y="836"/>
                  </a:lnTo>
                  <a:lnTo>
                    <a:pt x="648" y="843"/>
                  </a:lnTo>
                  <a:lnTo>
                    <a:pt x="627" y="849"/>
                  </a:lnTo>
                  <a:lnTo>
                    <a:pt x="605" y="855"/>
                  </a:lnTo>
                  <a:lnTo>
                    <a:pt x="585" y="859"/>
                  </a:lnTo>
                  <a:lnTo>
                    <a:pt x="565" y="865"/>
                  </a:lnTo>
                  <a:lnTo>
                    <a:pt x="546" y="870"/>
                  </a:lnTo>
                  <a:lnTo>
                    <a:pt x="528" y="873"/>
                  </a:lnTo>
                  <a:lnTo>
                    <a:pt x="512" y="877"/>
                  </a:lnTo>
                  <a:lnTo>
                    <a:pt x="497" y="880"/>
                  </a:lnTo>
                  <a:lnTo>
                    <a:pt x="495" y="901"/>
                  </a:lnTo>
                  <a:lnTo>
                    <a:pt x="489" y="923"/>
                  </a:lnTo>
                  <a:lnTo>
                    <a:pt x="480" y="946"/>
                  </a:lnTo>
                  <a:lnTo>
                    <a:pt x="468" y="969"/>
                  </a:lnTo>
                  <a:lnTo>
                    <a:pt x="453" y="991"/>
                  </a:lnTo>
                  <a:lnTo>
                    <a:pt x="436" y="1013"/>
                  </a:lnTo>
                  <a:lnTo>
                    <a:pt x="417" y="1032"/>
                  </a:lnTo>
                  <a:lnTo>
                    <a:pt x="395" y="1049"/>
                  </a:lnTo>
                  <a:lnTo>
                    <a:pt x="396" y="1091"/>
                  </a:lnTo>
                  <a:lnTo>
                    <a:pt x="395" y="1142"/>
                  </a:lnTo>
                  <a:lnTo>
                    <a:pt x="391" y="1189"/>
                  </a:lnTo>
                  <a:lnTo>
                    <a:pt x="387" y="1222"/>
                  </a:lnTo>
                  <a:lnTo>
                    <a:pt x="396" y="1231"/>
                  </a:lnTo>
                  <a:lnTo>
                    <a:pt x="404" y="1242"/>
                  </a:lnTo>
                  <a:lnTo>
                    <a:pt x="411" y="1256"/>
                  </a:lnTo>
                  <a:lnTo>
                    <a:pt x="415" y="1269"/>
                  </a:lnTo>
                  <a:lnTo>
                    <a:pt x="419" y="1284"/>
                  </a:lnTo>
                  <a:lnTo>
                    <a:pt x="421" y="1299"/>
                  </a:lnTo>
                  <a:lnTo>
                    <a:pt x="420" y="1313"/>
                  </a:lnTo>
                  <a:lnTo>
                    <a:pt x="417" y="1327"/>
                  </a:lnTo>
                  <a:lnTo>
                    <a:pt x="427" y="1337"/>
                  </a:lnTo>
                  <a:lnTo>
                    <a:pt x="441" y="1350"/>
                  </a:lnTo>
                  <a:lnTo>
                    <a:pt x="453" y="1365"/>
                  </a:lnTo>
                  <a:lnTo>
                    <a:pt x="466" y="1379"/>
                  </a:lnTo>
                  <a:lnTo>
                    <a:pt x="475" y="1394"/>
                  </a:lnTo>
                  <a:lnTo>
                    <a:pt x="480" y="1408"/>
                  </a:lnTo>
                  <a:lnTo>
                    <a:pt x="479" y="1420"/>
                  </a:lnTo>
                  <a:lnTo>
                    <a:pt x="468" y="1431"/>
                  </a:lnTo>
                  <a:lnTo>
                    <a:pt x="457" y="1431"/>
                  </a:lnTo>
                  <a:lnTo>
                    <a:pt x="445" y="1431"/>
                  </a:lnTo>
                  <a:lnTo>
                    <a:pt x="432" y="1431"/>
                  </a:lnTo>
                  <a:lnTo>
                    <a:pt x="418" y="1430"/>
                  </a:lnTo>
                  <a:lnTo>
                    <a:pt x="404" y="1428"/>
                  </a:lnTo>
                  <a:lnTo>
                    <a:pt x="389" y="1427"/>
                  </a:lnTo>
                  <a:lnTo>
                    <a:pt x="375" y="1426"/>
                  </a:lnTo>
                  <a:lnTo>
                    <a:pt x="360" y="1425"/>
                  </a:lnTo>
                  <a:lnTo>
                    <a:pt x="345" y="1424"/>
                  </a:lnTo>
                  <a:lnTo>
                    <a:pt x="331" y="1423"/>
                  </a:lnTo>
                  <a:lnTo>
                    <a:pt x="318" y="1422"/>
                  </a:lnTo>
                  <a:lnTo>
                    <a:pt x="305" y="1420"/>
                  </a:lnTo>
                  <a:lnTo>
                    <a:pt x="293" y="1419"/>
                  </a:lnTo>
                  <a:lnTo>
                    <a:pt x="282" y="1419"/>
                  </a:lnTo>
                  <a:lnTo>
                    <a:pt x="273" y="1418"/>
                  </a:lnTo>
                  <a:lnTo>
                    <a:pt x="265" y="1418"/>
                  </a:lnTo>
                  <a:lnTo>
                    <a:pt x="259" y="1410"/>
                  </a:lnTo>
                  <a:lnTo>
                    <a:pt x="259" y="1400"/>
                  </a:lnTo>
                  <a:lnTo>
                    <a:pt x="261" y="1390"/>
                  </a:lnTo>
                  <a:lnTo>
                    <a:pt x="269" y="1385"/>
                  </a:lnTo>
                  <a:lnTo>
                    <a:pt x="261" y="1375"/>
                  </a:lnTo>
                  <a:lnTo>
                    <a:pt x="254" y="1362"/>
                  </a:lnTo>
                  <a:lnTo>
                    <a:pt x="246" y="1344"/>
                  </a:lnTo>
                  <a:lnTo>
                    <a:pt x="240" y="1324"/>
                  </a:lnTo>
                  <a:lnTo>
                    <a:pt x="236" y="1302"/>
                  </a:lnTo>
                  <a:lnTo>
                    <a:pt x="233" y="1280"/>
                  </a:lnTo>
                  <a:lnTo>
                    <a:pt x="233" y="1259"/>
                  </a:lnTo>
                  <a:lnTo>
                    <a:pt x="237" y="1242"/>
                  </a:lnTo>
                  <a:lnTo>
                    <a:pt x="227" y="1258"/>
                  </a:lnTo>
                  <a:lnTo>
                    <a:pt x="216" y="1278"/>
                  </a:lnTo>
                  <a:lnTo>
                    <a:pt x="209" y="1298"/>
                  </a:lnTo>
                  <a:lnTo>
                    <a:pt x="206" y="1321"/>
                  </a:lnTo>
                  <a:lnTo>
                    <a:pt x="207" y="1347"/>
                  </a:lnTo>
                  <a:lnTo>
                    <a:pt x="214" y="1372"/>
                  </a:lnTo>
                  <a:lnTo>
                    <a:pt x="228" y="1397"/>
                  </a:lnTo>
                  <a:lnTo>
                    <a:pt x="250" y="1424"/>
                  </a:lnTo>
                  <a:lnTo>
                    <a:pt x="245" y="1431"/>
                  </a:lnTo>
                  <a:lnTo>
                    <a:pt x="239" y="1437"/>
                  </a:lnTo>
                  <a:lnTo>
                    <a:pt x="235" y="1442"/>
                  </a:lnTo>
                  <a:lnTo>
                    <a:pt x="229" y="1448"/>
                  </a:lnTo>
                  <a:lnTo>
                    <a:pt x="222" y="1453"/>
                  </a:lnTo>
                  <a:lnTo>
                    <a:pt x="215" y="1456"/>
                  </a:lnTo>
                  <a:lnTo>
                    <a:pt x="208" y="1460"/>
                  </a:lnTo>
                  <a:lnTo>
                    <a:pt x="200" y="1461"/>
                  </a:lnTo>
                  <a:lnTo>
                    <a:pt x="189" y="1461"/>
                  </a:lnTo>
                  <a:lnTo>
                    <a:pt x="169" y="1460"/>
                  </a:lnTo>
                  <a:lnTo>
                    <a:pt x="146" y="1456"/>
                  </a:lnTo>
                  <a:lnTo>
                    <a:pt x="121" y="1451"/>
                  </a:lnTo>
                  <a:lnTo>
                    <a:pt x="93" y="1446"/>
                  </a:lnTo>
                  <a:lnTo>
                    <a:pt x="67" y="1437"/>
                  </a:lnTo>
                  <a:lnTo>
                    <a:pt x="42" y="1426"/>
                  </a:lnTo>
                  <a:lnTo>
                    <a:pt x="23" y="1413"/>
                  </a:lnTo>
                  <a:lnTo>
                    <a:pt x="10" y="1400"/>
                  </a:lnTo>
                  <a:lnTo>
                    <a:pt x="2" y="1385"/>
                  </a:lnTo>
                  <a:lnTo>
                    <a:pt x="0" y="1371"/>
                  </a:lnTo>
                  <a:lnTo>
                    <a:pt x="2" y="1355"/>
                  </a:lnTo>
                  <a:lnTo>
                    <a:pt x="5" y="1340"/>
                  </a:lnTo>
                  <a:lnTo>
                    <a:pt x="12" y="1325"/>
                  </a:lnTo>
                  <a:lnTo>
                    <a:pt x="19" y="1309"/>
                  </a:lnTo>
                  <a:lnTo>
                    <a:pt x="26" y="1294"/>
                  </a:lnTo>
                  <a:lnTo>
                    <a:pt x="17" y="1280"/>
                  </a:lnTo>
                  <a:lnTo>
                    <a:pt x="15" y="1265"/>
                  </a:lnTo>
                  <a:lnTo>
                    <a:pt x="19" y="1252"/>
                  </a:lnTo>
                  <a:lnTo>
                    <a:pt x="31" y="1246"/>
                  </a:lnTo>
                  <a:lnTo>
                    <a:pt x="34" y="1230"/>
                  </a:lnTo>
                  <a:lnTo>
                    <a:pt x="40" y="1212"/>
                  </a:lnTo>
                  <a:lnTo>
                    <a:pt x="49" y="1192"/>
                  </a:lnTo>
                  <a:lnTo>
                    <a:pt x="61" y="1170"/>
                  </a:lnTo>
                  <a:lnTo>
                    <a:pt x="75" y="1147"/>
                  </a:lnTo>
                  <a:lnTo>
                    <a:pt x="90" y="1124"/>
                  </a:lnTo>
                  <a:lnTo>
                    <a:pt x="106" y="1099"/>
                  </a:lnTo>
                  <a:lnTo>
                    <a:pt x="124" y="1075"/>
                  </a:lnTo>
                  <a:lnTo>
                    <a:pt x="113" y="1053"/>
                  </a:lnTo>
                  <a:lnTo>
                    <a:pt x="106" y="1011"/>
                  </a:lnTo>
                  <a:lnTo>
                    <a:pt x="101" y="957"/>
                  </a:lnTo>
                  <a:lnTo>
                    <a:pt x="99" y="895"/>
                  </a:lnTo>
                  <a:lnTo>
                    <a:pt x="99" y="831"/>
                  </a:lnTo>
                  <a:lnTo>
                    <a:pt x="100" y="767"/>
                  </a:lnTo>
                  <a:lnTo>
                    <a:pt x="103" y="711"/>
                  </a:lnTo>
                  <a:lnTo>
                    <a:pt x="107" y="667"/>
                  </a:lnTo>
                  <a:lnTo>
                    <a:pt x="98" y="677"/>
                  </a:lnTo>
                  <a:lnTo>
                    <a:pt x="94" y="720"/>
                  </a:lnTo>
                  <a:lnTo>
                    <a:pt x="91" y="775"/>
                  </a:lnTo>
                  <a:lnTo>
                    <a:pt x="85" y="826"/>
                  </a:lnTo>
                  <a:lnTo>
                    <a:pt x="79" y="849"/>
                  </a:lnTo>
                  <a:lnTo>
                    <a:pt x="73" y="877"/>
                  </a:lnTo>
                  <a:lnTo>
                    <a:pt x="67" y="907"/>
                  </a:lnTo>
                  <a:lnTo>
                    <a:pt x="61" y="938"/>
                  </a:lnTo>
                  <a:lnTo>
                    <a:pt x="55" y="968"/>
                  </a:lnTo>
                  <a:lnTo>
                    <a:pt x="50" y="996"/>
                  </a:lnTo>
                  <a:lnTo>
                    <a:pt x="47" y="1022"/>
                  </a:lnTo>
                  <a:lnTo>
                    <a:pt x="46" y="1043"/>
                  </a:lnTo>
                  <a:lnTo>
                    <a:pt x="46" y="1071"/>
                  </a:lnTo>
                  <a:lnTo>
                    <a:pt x="45" y="1089"/>
                  </a:lnTo>
                  <a:lnTo>
                    <a:pt x="41" y="1099"/>
                  </a:lnTo>
                  <a:lnTo>
                    <a:pt x="33" y="1101"/>
                  </a:lnTo>
                  <a:lnTo>
                    <a:pt x="25" y="1096"/>
                  </a:lnTo>
                  <a:lnTo>
                    <a:pt x="20" y="1081"/>
                  </a:lnTo>
                  <a:lnTo>
                    <a:pt x="20" y="1059"/>
                  </a:lnTo>
                  <a:lnTo>
                    <a:pt x="23" y="1032"/>
                  </a:lnTo>
                  <a:lnTo>
                    <a:pt x="27" y="993"/>
                  </a:lnTo>
                  <a:lnTo>
                    <a:pt x="34" y="938"/>
                  </a:lnTo>
                  <a:lnTo>
                    <a:pt x="39" y="876"/>
                  </a:lnTo>
                  <a:lnTo>
                    <a:pt x="42" y="819"/>
                  </a:lnTo>
                  <a:lnTo>
                    <a:pt x="46" y="766"/>
                  </a:lnTo>
                  <a:lnTo>
                    <a:pt x="47" y="710"/>
                  </a:lnTo>
                  <a:lnTo>
                    <a:pt x="46" y="652"/>
                  </a:lnTo>
                  <a:lnTo>
                    <a:pt x="40" y="59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H="1">
              <a:off x="5791680" y="3700080"/>
              <a:ext cx="304920" cy="268560"/>
            </a:xfrm>
            <a:custGeom>
              <a:avLst/>
              <a:gdLst/>
              <a:ahLst/>
              <a:rect l="l" t="t" r="r" b="b"/>
              <a:pathLst>
                <a:path w="286" h="264">
                  <a:moveTo>
                    <a:pt x="195" y="227"/>
                  </a:moveTo>
                  <a:lnTo>
                    <a:pt x="205" y="234"/>
                  </a:lnTo>
                  <a:lnTo>
                    <a:pt x="217" y="241"/>
                  </a:lnTo>
                  <a:lnTo>
                    <a:pt x="228" y="248"/>
                  </a:lnTo>
                  <a:lnTo>
                    <a:pt x="240" y="253"/>
                  </a:lnTo>
                  <a:lnTo>
                    <a:pt x="253" y="257"/>
                  </a:lnTo>
                  <a:lnTo>
                    <a:pt x="264" y="261"/>
                  </a:lnTo>
                  <a:lnTo>
                    <a:pt x="276" y="263"/>
                  </a:lnTo>
                  <a:lnTo>
                    <a:pt x="286" y="264"/>
                  </a:lnTo>
                  <a:lnTo>
                    <a:pt x="272" y="253"/>
                  </a:lnTo>
                  <a:lnTo>
                    <a:pt x="260" y="240"/>
                  </a:lnTo>
                  <a:lnTo>
                    <a:pt x="247" y="227"/>
                  </a:lnTo>
                  <a:lnTo>
                    <a:pt x="235" y="216"/>
                  </a:lnTo>
                  <a:lnTo>
                    <a:pt x="225" y="204"/>
                  </a:lnTo>
                  <a:lnTo>
                    <a:pt x="216" y="194"/>
                  </a:lnTo>
                  <a:lnTo>
                    <a:pt x="208" y="186"/>
                  </a:lnTo>
                  <a:lnTo>
                    <a:pt x="202" y="179"/>
                  </a:lnTo>
                  <a:lnTo>
                    <a:pt x="185" y="160"/>
                  </a:lnTo>
                  <a:lnTo>
                    <a:pt x="165" y="138"/>
                  </a:lnTo>
                  <a:lnTo>
                    <a:pt x="143" y="115"/>
                  </a:lnTo>
                  <a:lnTo>
                    <a:pt x="121" y="90"/>
                  </a:lnTo>
                  <a:lnTo>
                    <a:pt x="99" y="66"/>
                  </a:lnTo>
                  <a:lnTo>
                    <a:pt x="79" y="42"/>
                  </a:lnTo>
                  <a:lnTo>
                    <a:pt x="61" y="20"/>
                  </a:lnTo>
                  <a:lnTo>
                    <a:pt x="48" y="0"/>
                  </a:lnTo>
                  <a:lnTo>
                    <a:pt x="0" y="7"/>
                  </a:lnTo>
                  <a:lnTo>
                    <a:pt x="7" y="18"/>
                  </a:lnTo>
                  <a:lnTo>
                    <a:pt x="15" y="29"/>
                  </a:lnTo>
                  <a:lnTo>
                    <a:pt x="25" y="42"/>
                  </a:lnTo>
                  <a:lnTo>
                    <a:pt x="35" y="56"/>
                  </a:lnTo>
                  <a:lnTo>
                    <a:pt x="46" y="71"/>
                  </a:lnTo>
                  <a:lnTo>
                    <a:pt x="58" y="86"/>
                  </a:lnTo>
                  <a:lnTo>
                    <a:pt x="71" y="102"/>
                  </a:lnTo>
                  <a:lnTo>
                    <a:pt x="83" y="118"/>
                  </a:lnTo>
                  <a:lnTo>
                    <a:pt x="96" y="134"/>
                  </a:lnTo>
                  <a:lnTo>
                    <a:pt x="110" y="149"/>
                  </a:lnTo>
                  <a:lnTo>
                    <a:pt x="124" y="165"/>
                  </a:lnTo>
                  <a:lnTo>
                    <a:pt x="139" y="179"/>
                  </a:lnTo>
                  <a:lnTo>
                    <a:pt x="152" y="193"/>
                  </a:lnTo>
                  <a:lnTo>
                    <a:pt x="167" y="205"/>
                  </a:lnTo>
                  <a:lnTo>
                    <a:pt x="181" y="217"/>
                  </a:lnTo>
                  <a:lnTo>
                    <a:pt x="195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H="1">
              <a:off x="6371640" y="3174840"/>
              <a:ext cx="304920" cy="443160"/>
            </a:xfrm>
            <a:custGeom>
              <a:avLst/>
              <a:gdLst/>
              <a:ahLst/>
              <a:rect l="l" t="t" r="r" b="b"/>
              <a:pathLst>
                <a:path w="285" h="438">
                  <a:moveTo>
                    <a:pt x="14" y="0"/>
                  </a:moveTo>
                  <a:lnTo>
                    <a:pt x="24" y="2"/>
                  </a:lnTo>
                  <a:lnTo>
                    <a:pt x="35" y="6"/>
                  </a:lnTo>
                  <a:lnTo>
                    <a:pt x="49" y="10"/>
                  </a:lnTo>
                  <a:lnTo>
                    <a:pt x="62" y="16"/>
                  </a:lnTo>
                  <a:lnTo>
                    <a:pt x="73" y="25"/>
                  </a:lnTo>
                  <a:lnTo>
                    <a:pt x="83" y="36"/>
                  </a:lnTo>
                  <a:lnTo>
                    <a:pt x="90" y="48"/>
                  </a:lnTo>
                  <a:lnTo>
                    <a:pt x="92" y="65"/>
                  </a:lnTo>
                  <a:lnTo>
                    <a:pt x="93" y="85"/>
                  </a:lnTo>
                  <a:lnTo>
                    <a:pt x="99" y="111"/>
                  </a:lnTo>
                  <a:lnTo>
                    <a:pt x="106" y="139"/>
                  </a:lnTo>
                  <a:lnTo>
                    <a:pt x="115" y="169"/>
                  </a:lnTo>
                  <a:lnTo>
                    <a:pt x="125" y="199"/>
                  </a:lnTo>
                  <a:lnTo>
                    <a:pt x="136" y="226"/>
                  </a:lnTo>
                  <a:lnTo>
                    <a:pt x="147" y="248"/>
                  </a:lnTo>
                  <a:lnTo>
                    <a:pt x="159" y="264"/>
                  </a:lnTo>
                  <a:lnTo>
                    <a:pt x="176" y="281"/>
                  </a:lnTo>
                  <a:lnTo>
                    <a:pt x="197" y="300"/>
                  </a:lnTo>
                  <a:lnTo>
                    <a:pt x="220" y="319"/>
                  </a:lnTo>
                  <a:lnTo>
                    <a:pt x="243" y="341"/>
                  </a:lnTo>
                  <a:lnTo>
                    <a:pt x="262" y="363"/>
                  </a:lnTo>
                  <a:lnTo>
                    <a:pt x="277" y="387"/>
                  </a:lnTo>
                  <a:lnTo>
                    <a:pt x="285" y="412"/>
                  </a:lnTo>
                  <a:lnTo>
                    <a:pt x="284" y="438"/>
                  </a:lnTo>
                  <a:lnTo>
                    <a:pt x="276" y="424"/>
                  </a:lnTo>
                  <a:lnTo>
                    <a:pt x="265" y="410"/>
                  </a:lnTo>
                  <a:lnTo>
                    <a:pt x="251" y="395"/>
                  </a:lnTo>
                  <a:lnTo>
                    <a:pt x="235" y="380"/>
                  </a:lnTo>
                  <a:lnTo>
                    <a:pt x="217" y="366"/>
                  </a:lnTo>
                  <a:lnTo>
                    <a:pt x="200" y="354"/>
                  </a:lnTo>
                  <a:lnTo>
                    <a:pt x="182" y="343"/>
                  </a:lnTo>
                  <a:lnTo>
                    <a:pt x="163" y="335"/>
                  </a:lnTo>
                  <a:lnTo>
                    <a:pt x="145" y="326"/>
                  </a:lnTo>
                  <a:lnTo>
                    <a:pt x="125" y="313"/>
                  </a:lnTo>
                  <a:lnTo>
                    <a:pt x="106" y="298"/>
                  </a:lnTo>
                  <a:lnTo>
                    <a:pt x="87" y="281"/>
                  </a:lnTo>
                  <a:lnTo>
                    <a:pt x="70" y="263"/>
                  </a:lnTo>
                  <a:lnTo>
                    <a:pt x="55" y="245"/>
                  </a:lnTo>
                  <a:lnTo>
                    <a:pt x="43" y="229"/>
                  </a:lnTo>
                  <a:lnTo>
                    <a:pt x="35" y="217"/>
                  </a:lnTo>
                  <a:lnTo>
                    <a:pt x="24" y="196"/>
                  </a:lnTo>
                  <a:lnTo>
                    <a:pt x="15" y="175"/>
                  </a:lnTo>
                  <a:lnTo>
                    <a:pt x="8" y="154"/>
                  </a:lnTo>
                  <a:lnTo>
                    <a:pt x="5" y="131"/>
                  </a:lnTo>
                  <a:lnTo>
                    <a:pt x="3" y="97"/>
                  </a:lnTo>
                  <a:lnTo>
                    <a:pt x="0" y="55"/>
                  </a:lnTo>
                  <a:lnTo>
                    <a:pt x="2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flipH="1">
              <a:off x="6226920" y="3114000"/>
              <a:ext cx="325800" cy="313200"/>
            </a:xfrm>
            <a:custGeom>
              <a:avLst/>
              <a:gdLst/>
              <a:ahLst/>
              <a:rect l="l" t="t" r="r" b="b"/>
              <a:pathLst>
                <a:path w="305" h="308">
                  <a:moveTo>
                    <a:pt x="0" y="5"/>
                  </a:moveTo>
                  <a:lnTo>
                    <a:pt x="12" y="12"/>
                  </a:lnTo>
                  <a:lnTo>
                    <a:pt x="25" y="21"/>
                  </a:lnTo>
                  <a:lnTo>
                    <a:pt x="41" y="31"/>
                  </a:lnTo>
                  <a:lnTo>
                    <a:pt x="60" y="44"/>
                  </a:lnTo>
                  <a:lnTo>
                    <a:pt x="81" y="59"/>
                  </a:lnTo>
                  <a:lnTo>
                    <a:pt x="101" y="74"/>
                  </a:lnTo>
                  <a:lnTo>
                    <a:pt x="122" y="90"/>
                  </a:lnTo>
                  <a:lnTo>
                    <a:pt x="144" y="106"/>
                  </a:lnTo>
                  <a:lnTo>
                    <a:pt x="165" y="122"/>
                  </a:lnTo>
                  <a:lnTo>
                    <a:pt x="184" y="139"/>
                  </a:lnTo>
                  <a:lnTo>
                    <a:pt x="204" y="154"/>
                  </a:lnTo>
                  <a:lnTo>
                    <a:pt x="221" y="166"/>
                  </a:lnTo>
                  <a:lnTo>
                    <a:pt x="235" y="179"/>
                  </a:lnTo>
                  <a:lnTo>
                    <a:pt x="248" y="189"/>
                  </a:lnTo>
                  <a:lnTo>
                    <a:pt x="256" y="197"/>
                  </a:lnTo>
                  <a:lnTo>
                    <a:pt x="261" y="202"/>
                  </a:lnTo>
                  <a:lnTo>
                    <a:pt x="265" y="224"/>
                  </a:lnTo>
                  <a:lnTo>
                    <a:pt x="267" y="251"/>
                  </a:lnTo>
                  <a:lnTo>
                    <a:pt x="265" y="280"/>
                  </a:lnTo>
                  <a:lnTo>
                    <a:pt x="257" y="308"/>
                  </a:lnTo>
                  <a:lnTo>
                    <a:pt x="270" y="301"/>
                  </a:lnTo>
                  <a:lnTo>
                    <a:pt x="280" y="293"/>
                  </a:lnTo>
                  <a:lnTo>
                    <a:pt x="286" y="283"/>
                  </a:lnTo>
                  <a:lnTo>
                    <a:pt x="288" y="273"/>
                  </a:lnTo>
                  <a:lnTo>
                    <a:pt x="288" y="258"/>
                  </a:lnTo>
                  <a:lnTo>
                    <a:pt x="287" y="238"/>
                  </a:lnTo>
                  <a:lnTo>
                    <a:pt x="287" y="217"/>
                  </a:lnTo>
                  <a:lnTo>
                    <a:pt x="288" y="202"/>
                  </a:lnTo>
                  <a:lnTo>
                    <a:pt x="301" y="185"/>
                  </a:lnTo>
                  <a:lnTo>
                    <a:pt x="305" y="163"/>
                  </a:lnTo>
                  <a:lnTo>
                    <a:pt x="304" y="140"/>
                  </a:lnTo>
                  <a:lnTo>
                    <a:pt x="298" y="117"/>
                  </a:lnTo>
                  <a:lnTo>
                    <a:pt x="295" y="122"/>
                  </a:lnTo>
                  <a:lnTo>
                    <a:pt x="291" y="129"/>
                  </a:lnTo>
                  <a:lnTo>
                    <a:pt x="288" y="136"/>
                  </a:lnTo>
                  <a:lnTo>
                    <a:pt x="283" y="142"/>
                  </a:lnTo>
                  <a:lnTo>
                    <a:pt x="279" y="149"/>
                  </a:lnTo>
                  <a:lnTo>
                    <a:pt x="273" y="154"/>
                  </a:lnTo>
                  <a:lnTo>
                    <a:pt x="267" y="157"/>
                  </a:lnTo>
                  <a:lnTo>
                    <a:pt x="261" y="158"/>
                  </a:lnTo>
                  <a:lnTo>
                    <a:pt x="248" y="149"/>
                  </a:lnTo>
                  <a:lnTo>
                    <a:pt x="230" y="136"/>
                  </a:lnTo>
                  <a:lnTo>
                    <a:pt x="211" y="120"/>
                  </a:lnTo>
                  <a:lnTo>
                    <a:pt x="190" y="103"/>
                  </a:lnTo>
                  <a:lnTo>
                    <a:pt x="170" y="87"/>
                  </a:lnTo>
                  <a:lnTo>
                    <a:pt x="154" y="72"/>
                  </a:lnTo>
                  <a:lnTo>
                    <a:pt x="142" y="59"/>
                  </a:lnTo>
                  <a:lnTo>
                    <a:pt x="136" y="52"/>
                  </a:lnTo>
                  <a:lnTo>
                    <a:pt x="141" y="46"/>
                  </a:lnTo>
                  <a:lnTo>
                    <a:pt x="144" y="38"/>
                  </a:lnTo>
                  <a:lnTo>
                    <a:pt x="145" y="30"/>
                  </a:lnTo>
                  <a:lnTo>
                    <a:pt x="141" y="22"/>
                  </a:lnTo>
                  <a:lnTo>
                    <a:pt x="135" y="19"/>
                  </a:lnTo>
                  <a:lnTo>
                    <a:pt x="123" y="14"/>
                  </a:lnTo>
                  <a:lnTo>
                    <a:pt x="108" y="10"/>
                  </a:lnTo>
                  <a:lnTo>
                    <a:pt x="90" y="5"/>
                  </a:lnTo>
                  <a:lnTo>
                    <a:pt x="68" y="1"/>
                  </a:lnTo>
                  <a:lnTo>
                    <a:pt x="46" y="0"/>
                  </a:lnTo>
                  <a:lnTo>
                    <a:pt x="23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 flipH="1">
              <a:off x="6043680" y="3386880"/>
              <a:ext cx="102240" cy="82800"/>
            </a:xfrm>
            <a:custGeom>
              <a:avLst/>
              <a:gdLst/>
              <a:ahLst/>
              <a:rect l="l" t="t" r="r" b="b"/>
              <a:pathLst>
                <a:path w="97" h="80">
                  <a:moveTo>
                    <a:pt x="69" y="0"/>
                  </a:moveTo>
                  <a:lnTo>
                    <a:pt x="77" y="9"/>
                  </a:lnTo>
                  <a:lnTo>
                    <a:pt x="82" y="19"/>
                  </a:lnTo>
                  <a:lnTo>
                    <a:pt x="84" y="29"/>
                  </a:lnTo>
                  <a:lnTo>
                    <a:pt x="84" y="32"/>
                  </a:lnTo>
                  <a:lnTo>
                    <a:pt x="73" y="35"/>
                  </a:lnTo>
                  <a:lnTo>
                    <a:pt x="64" y="38"/>
                  </a:lnTo>
                  <a:lnTo>
                    <a:pt x="59" y="41"/>
                  </a:lnTo>
                  <a:lnTo>
                    <a:pt x="57" y="46"/>
                  </a:lnTo>
                  <a:lnTo>
                    <a:pt x="64" y="48"/>
                  </a:lnTo>
                  <a:lnTo>
                    <a:pt x="70" y="50"/>
                  </a:lnTo>
                  <a:lnTo>
                    <a:pt x="77" y="53"/>
                  </a:lnTo>
                  <a:lnTo>
                    <a:pt x="83" y="56"/>
                  </a:lnTo>
                  <a:lnTo>
                    <a:pt x="89" y="58"/>
                  </a:lnTo>
                  <a:lnTo>
                    <a:pt x="93" y="61"/>
                  </a:lnTo>
                  <a:lnTo>
                    <a:pt x="96" y="62"/>
                  </a:lnTo>
                  <a:lnTo>
                    <a:pt x="97" y="63"/>
                  </a:lnTo>
                  <a:lnTo>
                    <a:pt x="93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5" y="78"/>
                  </a:lnTo>
                  <a:lnTo>
                    <a:pt x="67" y="80"/>
                  </a:lnTo>
                  <a:lnTo>
                    <a:pt x="59" y="80"/>
                  </a:lnTo>
                  <a:lnTo>
                    <a:pt x="50" y="80"/>
                  </a:lnTo>
                  <a:lnTo>
                    <a:pt x="41" y="78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0" y="68"/>
                  </a:lnTo>
                  <a:lnTo>
                    <a:pt x="15" y="63"/>
                  </a:lnTo>
                  <a:lnTo>
                    <a:pt x="12" y="58"/>
                  </a:lnTo>
                  <a:lnTo>
                    <a:pt x="8" y="54"/>
                  </a:lnTo>
                  <a:lnTo>
                    <a:pt x="5" y="50"/>
                  </a:lnTo>
                  <a:lnTo>
                    <a:pt x="0" y="46"/>
                  </a:lnTo>
                  <a:lnTo>
                    <a:pt x="7" y="46"/>
                  </a:lnTo>
                  <a:lnTo>
                    <a:pt x="13" y="46"/>
                  </a:lnTo>
                  <a:lnTo>
                    <a:pt x="19" y="45"/>
                  </a:lnTo>
                  <a:lnTo>
                    <a:pt x="24" y="45"/>
                  </a:lnTo>
                  <a:lnTo>
                    <a:pt x="28" y="45"/>
                  </a:lnTo>
                  <a:lnTo>
                    <a:pt x="32" y="45"/>
                  </a:lnTo>
                  <a:lnTo>
                    <a:pt x="37" y="45"/>
                  </a:lnTo>
                  <a:lnTo>
                    <a:pt x="41" y="46"/>
                  </a:lnTo>
                  <a:lnTo>
                    <a:pt x="44" y="33"/>
                  </a:lnTo>
                  <a:lnTo>
                    <a:pt x="52" y="19"/>
                  </a:lnTo>
                  <a:lnTo>
                    <a:pt x="62" y="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8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17542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0" name=""/>
          <p:cNvGrpSpPr/>
          <p:nvPr/>
        </p:nvGrpSpPr>
        <p:grpSpPr>
          <a:xfrm>
            <a:off x="609480" y="2925720"/>
            <a:ext cx="2617920" cy="1768680"/>
            <a:chOff x="609480" y="2925720"/>
            <a:chExt cx="2617920" cy="1768680"/>
          </a:xfrm>
        </p:grpSpPr>
        <p:sp>
          <p:nvSpPr>
            <p:cNvPr id="3531" name=""/>
            <p:cNvSpPr/>
            <p:nvPr/>
          </p:nvSpPr>
          <p:spPr>
            <a:xfrm>
              <a:off x="609480" y="2925720"/>
              <a:ext cx="2617920" cy="1768680"/>
            </a:xfrm>
            <a:custGeom>
              <a:avLst/>
              <a:gdLst/>
              <a:ahLst/>
              <a:rect l="l" t="t" r="r" b="b"/>
              <a:pathLst>
                <a:path w="3297" h="2229">
                  <a:moveTo>
                    <a:pt x="1412" y="77"/>
                  </a:moveTo>
                  <a:lnTo>
                    <a:pt x="1441" y="86"/>
                  </a:lnTo>
                  <a:lnTo>
                    <a:pt x="1471" y="94"/>
                  </a:lnTo>
                  <a:lnTo>
                    <a:pt x="1500" y="104"/>
                  </a:lnTo>
                  <a:lnTo>
                    <a:pt x="1530" y="112"/>
                  </a:lnTo>
                  <a:lnTo>
                    <a:pt x="1561" y="120"/>
                  </a:lnTo>
                  <a:lnTo>
                    <a:pt x="1593" y="126"/>
                  </a:lnTo>
                  <a:lnTo>
                    <a:pt x="1624" y="133"/>
                  </a:lnTo>
                  <a:lnTo>
                    <a:pt x="1655" y="139"/>
                  </a:lnTo>
                  <a:lnTo>
                    <a:pt x="1686" y="142"/>
                  </a:lnTo>
                  <a:lnTo>
                    <a:pt x="1718" y="145"/>
                  </a:lnTo>
                  <a:lnTo>
                    <a:pt x="1749" y="145"/>
                  </a:lnTo>
                  <a:lnTo>
                    <a:pt x="1780" y="144"/>
                  </a:lnTo>
                  <a:lnTo>
                    <a:pt x="1811" y="141"/>
                  </a:lnTo>
                  <a:lnTo>
                    <a:pt x="1843" y="134"/>
                  </a:lnTo>
                  <a:lnTo>
                    <a:pt x="1874" y="126"/>
                  </a:lnTo>
                  <a:lnTo>
                    <a:pt x="1904" y="115"/>
                  </a:lnTo>
                  <a:lnTo>
                    <a:pt x="1936" y="109"/>
                  </a:lnTo>
                  <a:lnTo>
                    <a:pt x="1967" y="104"/>
                  </a:lnTo>
                  <a:lnTo>
                    <a:pt x="2000" y="101"/>
                  </a:lnTo>
                  <a:lnTo>
                    <a:pt x="2031" y="97"/>
                  </a:lnTo>
                  <a:lnTo>
                    <a:pt x="2063" y="96"/>
                  </a:lnTo>
                  <a:lnTo>
                    <a:pt x="2095" y="94"/>
                  </a:lnTo>
                  <a:lnTo>
                    <a:pt x="2126" y="94"/>
                  </a:lnTo>
                  <a:lnTo>
                    <a:pt x="2158" y="94"/>
                  </a:lnTo>
                  <a:lnTo>
                    <a:pt x="2189" y="96"/>
                  </a:lnTo>
                  <a:lnTo>
                    <a:pt x="2220" y="97"/>
                  </a:lnTo>
                  <a:lnTo>
                    <a:pt x="2251" y="101"/>
                  </a:lnTo>
                  <a:lnTo>
                    <a:pt x="2281" y="104"/>
                  </a:lnTo>
                  <a:lnTo>
                    <a:pt x="2312" y="109"/>
                  </a:lnTo>
                  <a:lnTo>
                    <a:pt x="2342" y="113"/>
                  </a:lnTo>
                  <a:lnTo>
                    <a:pt x="2373" y="120"/>
                  </a:lnTo>
                  <a:lnTo>
                    <a:pt x="2403" y="126"/>
                  </a:lnTo>
                  <a:lnTo>
                    <a:pt x="2433" y="134"/>
                  </a:lnTo>
                  <a:lnTo>
                    <a:pt x="2463" y="142"/>
                  </a:lnTo>
                  <a:lnTo>
                    <a:pt x="2493" y="150"/>
                  </a:lnTo>
                  <a:lnTo>
                    <a:pt x="2522" y="160"/>
                  </a:lnTo>
                  <a:lnTo>
                    <a:pt x="2551" y="169"/>
                  </a:lnTo>
                  <a:lnTo>
                    <a:pt x="2581" y="179"/>
                  </a:lnTo>
                  <a:lnTo>
                    <a:pt x="2609" y="190"/>
                  </a:lnTo>
                  <a:lnTo>
                    <a:pt x="2637" y="201"/>
                  </a:lnTo>
                  <a:lnTo>
                    <a:pt x="2666" y="214"/>
                  </a:lnTo>
                  <a:lnTo>
                    <a:pt x="2694" y="227"/>
                  </a:lnTo>
                  <a:lnTo>
                    <a:pt x="2721" y="239"/>
                  </a:lnTo>
                  <a:lnTo>
                    <a:pt x="2748" y="252"/>
                  </a:lnTo>
                  <a:lnTo>
                    <a:pt x="2777" y="267"/>
                  </a:lnTo>
                  <a:lnTo>
                    <a:pt x="2803" y="281"/>
                  </a:lnTo>
                  <a:lnTo>
                    <a:pt x="2829" y="295"/>
                  </a:lnTo>
                  <a:lnTo>
                    <a:pt x="2856" y="311"/>
                  </a:lnTo>
                  <a:lnTo>
                    <a:pt x="2883" y="332"/>
                  </a:lnTo>
                  <a:lnTo>
                    <a:pt x="2906" y="354"/>
                  </a:lnTo>
                  <a:lnTo>
                    <a:pt x="2926" y="380"/>
                  </a:lnTo>
                  <a:lnTo>
                    <a:pt x="2944" y="407"/>
                  </a:lnTo>
                  <a:lnTo>
                    <a:pt x="2960" y="434"/>
                  </a:lnTo>
                  <a:lnTo>
                    <a:pt x="2974" y="463"/>
                  </a:lnTo>
                  <a:lnTo>
                    <a:pt x="2987" y="493"/>
                  </a:lnTo>
                  <a:lnTo>
                    <a:pt x="2999" y="523"/>
                  </a:lnTo>
                  <a:lnTo>
                    <a:pt x="3012" y="554"/>
                  </a:lnTo>
                  <a:lnTo>
                    <a:pt x="3025" y="582"/>
                  </a:lnTo>
                  <a:lnTo>
                    <a:pt x="3041" y="611"/>
                  </a:lnTo>
                  <a:lnTo>
                    <a:pt x="3056" y="640"/>
                  </a:lnTo>
                  <a:lnTo>
                    <a:pt x="3075" y="665"/>
                  </a:lnTo>
                  <a:lnTo>
                    <a:pt x="3094" y="689"/>
                  </a:lnTo>
                  <a:lnTo>
                    <a:pt x="3119" y="713"/>
                  </a:lnTo>
                  <a:lnTo>
                    <a:pt x="3147" y="732"/>
                  </a:lnTo>
                  <a:lnTo>
                    <a:pt x="3157" y="734"/>
                  </a:lnTo>
                  <a:lnTo>
                    <a:pt x="3168" y="736"/>
                  </a:lnTo>
                  <a:lnTo>
                    <a:pt x="3178" y="736"/>
                  </a:lnTo>
                  <a:lnTo>
                    <a:pt x="3190" y="736"/>
                  </a:lnTo>
                  <a:lnTo>
                    <a:pt x="3200" y="732"/>
                  </a:lnTo>
                  <a:lnTo>
                    <a:pt x="3209" y="729"/>
                  </a:lnTo>
                  <a:lnTo>
                    <a:pt x="3219" y="723"/>
                  </a:lnTo>
                  <a:lnTo>
                    <a:pt x="3227" y="713"/>
                  </a:lnTo>
                  <a:lnTo>
                    <a:pt x="3241" y="689"/>
                  </a:lnTo>
                  <a:lnTo>
                    <a:pt x="3252" y="665"/>
                  </a:lnTo>
                  <a:lnTo>
                    <a:pt x="3259" y="638"/>
                  </a:lnTo>
                  <a:lnTo>
                    <a:pt x="3261" y="610"/>
                  </a:lnTo>
                  <a:lnTo>
                    <a:pt x="3245" y="595"/>
                  </a:lnTo>
                  <a:lnTo>
                    <a:pt x="3227" y="587"/>
                  </a:lnTo>
                  <a:lnTo>
                    <a:pt x="3208" y="584"/>
                  </a:lnTo>
                  <a:lnTo>
                    <a:pt x="3188" y="584"/>
                  </a:lnTo>
                  <a:lnTo>
                    <a:pt x="3167" y="587"/>
                  </a:lnTo>
                  <a:lnTo>
                    <a:pt x="3147" y="590"/>
                  </a:lnTo>
                  <a:lnTo>
                    <a:pt x="3126" y="592"/>
                  </a:lnTo>
                  <a:lnTo>
                    <a:pt x="3106" y="592"/>
                  </a:lnTo>
                  <a:lnTo>
                    <a:pt x="3126" y="573"/>
                  </a:lnTo>
                  <a:lnTo>
                    <a:pt x="3119" y="566"/>
                  </a:lnTo>
                  <a:lnTo>
                    <a:pt x="3110" y="563"/>
                  </a:lnTo>
                  <a:lnTo>
                    <a:pt x="3102" y="558"/>
                  </a:lnTo>
                  <a:lnTo>
                    <a:pt x="3096" y="551"/>
                  </a:lnTo>
                  <a:lnTo>
                    <a:pt x="3123" y="531"/>
                  </a:lnTo>
                  <a:lnTo>
                    <a:pt x="3096" y="504"/>
                  </a:lnTo>
                  <a:lnTo>
                    <a:pt x="3119" y="495"/>
                  </a:lnTo>
                  <a:lnTo>
                    <a:pt x="3141" y="496"/>
                  </a:lnTo>
                  <a:lnTo>
                    <a:pt x="3164" y="504"/>
                  </a:lnTo>
                  <a:lnTo>
                    <a:pt x="3185" y="517"/>
                  </a:lnTo>
                  <a:lnTo>
                    <a:pt x="3207" y="535"/>
                  </a:lnTo>
                  <a:lnTo>
                    <a:pt x="3229" y="549"/>
                  </a:lnTo>
                  <a:lnTo>
                    <a:pt x="3252" y="562"/>
                  </a:lnTo>
                  <a:lnTo>
                    <a:pt x="3275" y="570"/>
                  </a:lnTo>
                  <a:lnTo>
                    <a:pt x="3292" y="587"/>
                  </a:lnTo>
                  <a:lnTo>
                    <a:pt x="3297" y="613"/>
                  </a:lnTo>
                  <a:lnTo>
                    <a:pt x="3297" y="640"/>
                  </a:lnTo>
                  <a:lnTo>
                    <a:pt x="3295" y="667"/>
                  </a:lnTo>
                  <a:lnTo>
                    <a:pt x="3286" y="689"/>
                  </a:lnTo>
                  <a:lnTo>
                    <a:pt x="3276" y="712"/>
                  </a:lnTo>
                  <a:lnTo>
                    <a:pt x="3262" y="732"/>
                  </a:lnTo>
                  <a:lnTo>
                    <a:pt x="3246" y="752"/>
                  </a:lnTo>
                  <a:lnTo>
                    <a:pt x="3228" y="769"/>
                  </a:lnTo>
                  <a:lnTo>
                    <a:pt x="3209" y="783"/>
                  </a:lnTo>
                  <a:lnTo>
                    <a:pt x="3190" y="795"/>
                  </a:lnTo>
                  <a:lnTo>
                    <a:pt x="3170" y="804"/>
                  </a:lnTo>
                  <a:lnTo>
                    <a:pt x="3157" y="806"/>
                  </a:lnTo>
                  <a:lnTo>
                    <a:pt x="3143" y="807"/>
                  </a:lnTo>
                  <a:lnTo>
                    <a:pt x="3129" y="807"/>
                  </a:lnTo>
                  <a:lnTo>
                    <a:pt x="3114" y="807"/>
                  </a:lnTo>
                  <a:lnTo>
                    <a:pt x="3100" y="804"/>
                  </a:lnTo>
                  <a:lnTo>
                    <a:pt x="3087" y="801"/>
                  </a:lnTo>
                  <a:lnTo>
                    <a:pt x="3076" y="795"/>
                  </a:lnTo>
                  <a:lnTo>
                    <a:pt x="3065" y="785"/>
                  </a:lnTo>
                  <a:lnTo>
                    <a:pt x="3066" y="849"/>
                  </a:lnTo>
                  <a:lnTo>
                    <a:pt x="3063" y="911"/>
                  </a:lnTo>
                  <a:lnTo>
                    <a:pt x="3056" y="973"/>
                  </a:lnTo>
                  <a:lnTo>
                    <a:pt x="3045" y="1032"/>
                  </a:lnTo>
                  <a:lnTo>
                    <a:pt x="3028" y="1091"/>
                  </a:lnTo>
                  <a:lnTo>
                    <a:pt x="3006" y="1147"/>
                  </a:lnTo>
                  <a:lnTo>
                    <a:pt x="2980" y="1200"/>
                  </a:lnTo>
                  <a:lnTo>
                    <a:pt x="2947" y="1251"/>
                  </a:lnTo>
                  <a:lnTo>
                    <a:pt x="2938" y="1313"/>
                  </a:lnTo>
                  <a:lnTo>
                    <a:pt x="2936" y="1374"/>
                  </a:lnTo>
                  <a:lnTo>
                    <a:pt x="2938" y="1436"/>
                  </a:lnTo>
                  <a:lnTo>
                    <a:pt x="2945" y="1498"/>
                  </a:lnTo>
                  <a:lnTo>
                    <a:pt x="2957" y="1559"/>
                  </a:lnTo>
                  <a:lnTo>
                    <a:pt x="2971" y="1616"/>
                  </a:lnTo>
                  <a:lnTo>
                    <a:pt x="2991" y="1674"/>
                  </a:lnTo>
                  <a:lnTo>
                    <a:pt x="3012" y="1728"/>
                  </a:lnTo>
                  <a:lnTo>
                    <a:pt x="3041" y="1755"/>
                  </a:lnTo>
                  <a:lnTo>
                    <a:pt x="3063" y="1784"/>
                  </a:lnTo>
                  <a:lnTo>
                    <a:pt x="3083" y="1815"/>
                  </a:lnTo>
                  <a:lnTo>
                    <a:pt x="3097" y="1849"/>
                  </a:lnTo>
                  <a:lnTo>
                    <a:pt x="3109" y="1884"/>
                  </a:lnTo>
                  <a:lnTo>
                    <a:pt x="3117" y="1919"/>
                  </a:lnTo>
                  <a:lnTo>
                    <a:pt x="3123" y="1957"/>
                  </a:lnTo>
                  <a:lnTo>
                    <a:pt x="3126" y="1996"/>
                  </a:lnTo>
                  <a:lnTo>
                    <a:pt x="3123" y="2020"/>
                  </a:lnTo>
                  <a:lnTo>
                    <a:pt x="3119" y="2044"/>
                  </a:lnTo>
                  <a:lnTo>
                    <a:pt x="3107" y="2064"/>
                  </a:lnTo>
                  <a:lnTo>
                    <a:pt x="3089" y="2080"/>
                  </a:lnTo>
                  <a:lnTo>
                    <a:pt x="3070" y="2085"/>
                  </a:lnTo>
                  <a:lnTo>
                    <a:pt x="3052" y="2091"/>
                  </a:lnTo>
                  <a:lnTo>
                    <a:pt x="3032" y="2096"/>
                  </a:lnTo>
                  <a:lnTo>
                    <a:pt x="3012" y="2101"/>
                  </a:lnTo>
                  <a:lnTo>
                    <a:pt x="2992" y="2104"/>
                  </a:lnTo>
                  <a:lnTo>
                    <a:pt x="2971" y="2109"/>
                  </a:lnTo>
                  <a:lnTo>
                    <a:pt x="2950" y="2112"/>
                  </a:lnTo>
                  <a:lnTo>
                    <a:pt x="2930" y="2114"/>
                  </a:lnTo>
                  <a:lnTo>
                    <a:pt x="2909" y="2115"/>
                  </a:lnTo>
                  <a:lnTo>
                    <a:pt x="2887" y="2114"/>
                  </a:lnTo>
                  <a:lnTo>
                    <a:pt x="2867" y="2114"/>
                  </a:lnTo>
                  <a:lnTo>
                    <a:pt x="2848" y="2111"/>
                  </a:lnTo>
                  <a:lnTo>
                    <a:pt x="2828" y="2106"/>
                  </a:lnTo>
                  <a:lnTo>
                    <a:pt x="2808" y="2101"/>
                  </a:lnTo>
                  <a:lnTo>
                    <a:pt x="2789" y="2093"/>
                  </a:lnTo>
                  <a:lnTo>
                    <a:pt x="2772" y="2083"/>
                  </a:lnTo>
                  <a:lnTo>
                    <a:pt x="2771" y="2056"/>
                  </a:lnTo>
                  <a:lnTo>
                    <a:pt x="2775" y="2028"/>
                  </a:lnTo>
                  <a:lnTo>
                    <a:pt x="2781" y="2001"/>
                  </a:lnTo>
                  <a:lnTo>
                    <a:pt x="2789" y="1973"/>
                  </a:lnTo>
                  <a:lnTo>
                    <a:pt x="2759" y="1949"/>
                  </a:lnTo>
                  <a:lnTo>
                    <a:pt x="2730" y="1926"/>
                  </a:lnTo>
                  <a:lnTo>
                    <a:pt x="2701" y="1902"/>
                  </a:lnTo>
                  <a:lnTo>
                    <a:pt x="2674" y="1874"/>
                  </a:lnTo>
                  <a:lnTo>
                    <a:pt x="2647" y="1847"/>
                  </a:lnTo>
                  <a:lnTo>
                    <a:pt x="2620" y="1819"/>
                  </a:lnTo>
                  <a:lnTo>
                    <a:pt x="2596" y="1787"/>
                  </a:lnTo>
                  <a:lnTo>
                    <a:pt x="2572" y="1755"/>
                  </a:lnTo>
                  <a:lnTo>
                    <a:pt x="2565" y="1793"/>
                  </a:lnTo>
                  <a:lnTo>
                    <a:pt x="2561" y="1831"/>
                  </a:lnTo>
                  <a:lnTo>
                    <a:pt x="2557" y="1871"/>
                  </a:lnTo>
                  <a:lnTo>
                    <a:pt x="2554" y="1911"/>
                  </a:lnTo>
                  <a:lnTo>
                    <a:pt x="2549" y="1951"/>
                  </a:lnTo>
                  <a:lnTo>
                    <a:pt x="2544" y="1989"/>
                  </a:lnTo>
                  <a:lnTo>
                    <a:pt x="2537" y="2028"/>
                  </a:lnTo>
                  <a:lnTo>
                    <a:pt x="2527" y="2064"/>
                  </a:lnTo>
                  <a:lnTo>
                    <a:pt x="2505" y="2090"/>
                  </a:lnTo>
                  <a:lnTo>
                    <a:pt x="2484" y="2119"/>
                  </a:lnTo>
                  <a:lnTo>
                    <a:pt x="2463" y="2146"/>
                  </a:lnTo>
                  <a:lnTo>
                    <a:pt x="2442" y="2171"/>
                  </a:lnTo>
                  <a:lnTo>
                    <a:pt x="2419" y="2194"/>
                  </a:lnTo>
                  <a:lnTo>
                    <a:pt x="2393" y="2213"/>
                  </a:lnTo>
                  <a:lnTo>
                    <a:pt x="2365" y="2224"/>
                  </a:lnTo>
                  <a:lnTo>
                    <a:pt x="2332" y="2227"/>
                  </a:lnTo>
                  <a:lnTo>
                    <a:pt x="2307" y="2229"/>
                  </a:lnTo>
                  <a:lnTo>
                    <a:pt x="2281" y="2227"/>
                  </a:lnTo>
                  <a:lnTo>
                    <a:pt x="2258" y="2224"/>
                  </a:lnTo>
                  <a:lnTo>
                    <a:pt x="2236" y="2216"/>
                  </a:lnTo>
                  <a:lnTo>
                    <a:pt x="2214" y="2208"/>
                  </a:lnTo>
                  <a:lnTo>
                    <a:pt x="2193" y="2195"/>
                  </a:lnTo>
                  <a:lnTo>
                    <a:pt x="2173" y="2182"/>
                  </a:lnTo>
                  <a:lnTo>
                    <a:pt x="2153" y="2166"/>
                  </a:lnTo>
                  <a:lnTo>
                    <a:pt x="2151" y="2104"/>
                  </a:lnTo>
                  <a:lnTo>
                    <a:pt x="2156" y="2044"/>
                  </a:lnTo>
                  <a:lnTo>
                    <a:pt x="2160" y="1983"/>
                  </a:lnTo>
                  <a:lnTo>
                    <a:pt x="2153" y="1921"/>
                  </a:lnTo>
                  <a:lnTo>
                    <a:pt x="2142" y="1847"/>
                  </a:lnTo>
                  <a:lnTo>
                    <a:pt x="2133" y="1771"/>
                  </a:lnTo>
                  <a:lnTo>
                    <a:pt x="2128" y="1696"/>
                  </a:lnTo>
                  <a:lnTo>
                    <a:pt x="2129" y="1618"/>
                  </a:lnTo>
                  <a:lnTo>
                    <a:pt x="2116" y="1607"/>
                  </a:lnTo>
                  <a:lnTo>
                    <a:pt x="1861" y="1576"/>
                  </a:lnTo>
                  <a:lnTo>
                    <a:pt x="1739" y="1543"/>
                  </a:lnTo>
                  <a:lnTo>
                    <a:pt x="1732" y="1568"/>
                  </a:lnTo>
                  <a:lnTo>
                    <a:pt x="1725" y="1594"/>
                  </a:lnTo>
                  <a:lnTo>
                    <a:pt x="1716" y="1618"/>
                  </a:lnTo>
                  <a:lnTo>
                    <a:pt x="1708" y="1642"/>
                  </a:lnTo>
                  <a:lnTo>
                    <a:pt x="1701" y="1667"/>
                  </a:lnTo>
                  <a:lnTo>
                    <a:pt x="1695" y="1693"/>
                  </a:lnTo>
                  <a:lnTo>
                    <a:pt x="1693" y="1720"/>
                  </a:lnTo>
                  <a:lnTo>
                    <a:pt x="1695" y="1747"/>
                  </a:lnTo>
                  <a:lnTo>
                    <a:pt x="1705" y="1777"/>
                  </a:lnTo>
                  <a:lnTo>
                    <a:pt x="1713" y="1806"/>
                  </a:lnTo>
                  <a:lnTo>
                    <a:pt x="1722" y="1838"/>
                  </a:lnTo>
                  <a:lnTo>
                    <a:pt x="1729" y="1868"/>
                  </a:lnTo>
                  <a:lnTo>
                    <a:pt x="1735" y="1900"/>
                  </a:lnTo>
                  <a:lnTo>
                    <a:pt x="1737" y="1932"/>
                  </a:lnTo>
                  <a:lnTo>
                    <a:pt x="1740" y="1964"/>
                  </a:lnTo>
                  <a:lnTo>
                    <a:pt x="1739" y="1996"/>
                  </a:lnTo>
                  <a:lnTo>
                    <a:pt x="1726" y="2007"/>
                  </a:lnTo>
                  <a:lnTo>
                    <a:pt x="1712" y="2015"/>
                  </a:lnTo>
                  <a:lnTo>
                    <a:pt x="1698" y="2021"/>
                  </a:lnTo>
                  <a:lnTo>
                    <a:pt x="1684" y="2026"/>
                  </a:lnTo>
                  <a:lnTo>
                    <a:pt x="1668" y="2029"/>
                  </a:lnTo>
                  <a:lnTo>
                    <a:pt x="1652" y="2032"/>
                  </a:lnTo>
                  <a:lnTo>
                    <a:pt x="1637" y="2036"/>
                  </a:lnTo>
                  <a:lnTo>
                    <a:pt x="1621" y="2039"/>
                  </a:lnTo>
                  <a:lnTo>
                    <a:pt x="1596" y="2044"/>
                  </a:lnTo>
                  <a:lnTo>
                    <a:pt x="1570" y="2045"/>
                  </a:lnTo>
                  <a:lnTo>
                    <a:pt x="1546" y="2047"/>
                  </a:lnTo>
                  <a:lnTo>
                    <a:pt x="1520" y="2047"/>
                  </a:lnTo>
                  <a:lnTo>
                    <a:pt x="1496" y="2044"/>
                  </a:lnTo>
                  <a:lnTo>
                    <a:pt x="1472" y="2039"/>
                  </a:lnTo>
                  <a:lnTo>
                    <a:pt x="1448" y="2032"/>
                  </a:lnTo>
                  <a:lnTo>
                    <a:pt x="1425" y="2023"/>
                  </a:lnTo>
                  <a:lnTo>
                    <a:pt x="1414" y="1989"/>
                  </a:lnTo>
                  <a:lnTo>
                    <a:pt x="1414" y="1953"/>
                  </a:lnTo>
                  <a:lnTo>
                    <a:pt x="1417" y="1916"/>
                  </a:lnTo>
                  <a:lnTo>
                    <a:pt x="1412" y="1882"/>
                  </a:lnTo>
                  <a:lnTo>
                    <a:pt x="1388" y="1859"/>
                  </a:lnTo>
                  <a:lnTo>
                    <a:pt x="1371" y="1830"/>
                  </a:lnTo>
                  <a:lnTo>
                    <a:pt x="1357" y="1800"/>
                  </a:lnTo>
                  <a:lnTo>
                    <a:pt x="1347" y="1768"/>
                  </a:lnTo>
                  <a:lnTo>
                    <a:pt x="1339" y="1736"/>
                  </a:lnTo>
                  <a:lnTo>
                    <a:pt x="1330" y="1702"/>
                  </a:lnTo>
                  <a:lnTo>
                    <a:pt x="1322" y="1669"/>
                  </a:lnTo>
                  <a:lnTo>
                    <a:pt x="1312" y="1637"/>
                  </a:lnTo>
                  <a:lnTo>
                    <a:pt x="1300" y="1654"/>
                  </a:lnTo>
                  <a:lnTo>
                    <a:pt x="1290" y="1672"/>
                  </a:lnTo>
                  <a:lnTo>
                    <a:pt x="1282" y="1691"/>
                  </a:lnTo>
                  <a:lnTo>
                    <a:pt x="1275" y="1710"/>
                  </a:lnTo>
                  <a:lnTo>
                    <a:pt x="1268" y="1731"/>
                  </a:lnTo>
                  <a:lnTo>
                    <a:pt x="1262" y="1752"/>
                  </a:lnTo>
                  <a:lnTo>
                    <a:pt x="1256" y="1771"/>
                  </a:lnTo>
                  <a:lnTo>
                    <a:pt x="1251" y="1792"/>
                  </a:lnTo>
                  <a:lnTo>
                    <a:pt x="1187" y="2064"/>
                  </a:lnTo>
                  <a:lnTo>
                    <a:pt x="1178" y="2083"/>
                  </a:lnTo>
                  <a:lnTo>
                    <a:pt x="1171" y="2103"/>
                  </a:lnTo>
                  <a:lnTo>
                    <a:pt x="1161" y="2120"/>
                  </a:lnTo>
                  <a:lnTo>
                    <a:pt x="1148" y="2136"/>
                  </a:lnTo>
                  <a:lnTo>
                    <a:pt x="1124" y="2138"/>
                  </a:lnTo>
                  <a:lnTo>
                    <a:pt x="1100" y="2139"/>
                  </a:lnTo>
                  <a:lnTo>
                    <a:pt x="1076" y="2141"/>
                  </a:lnTo>
                  <a:lnTo>
                    <a:pt x="1050" y="2142"/>
                  </a:lnTo>
                  <a:lnTo>
                    <a:pt x="1025" y="2144"/>
                  </a:lnTo>
                  <a:lnTo>
                    <a:pt x="1001" y="2144"/>
                  </a:lnTo>
                  <a:lnTo>
                    <a:pt x="975" y="2144"/>
                  </a:lnTo>
                  <a:lnTo>
                    <a:pt x="951" y="2142"/>
                  </a:lnTo>
                  <a:lnTo>
                    <a:pt x="927" y="2139"/>
                  </a:lnTo>
                  <a:lnTo>
                    <a:pt x="903" y="2136"/>
                  </a:lnTo>
                  <a:lnTo>
                    <a:pt x="880" y="2131"/>
                  </a:lnTo>
                  <a:lnTo>
                    <a:pt x="857" y="2123"/>
                  </a:lnTo>
                  <a:lnTo>
                    <a:pt x="835" y="2114"/>
                  </a:lnTo>
                  <a:lnTo>
                    <a:pt x="813" y="2103"/>
                  </a:lnTo>
                  <a:lnTo>
                    <a:pt x="793" y="2088"/>
                  </a:lnTo>
                  <a:lnTo>
                    <a:pt x="775" y="2072"/>
                  </a:lnTo>
                  <a:lnTo>
                    <a:pt x="796" y="2031"/>
                  </a:lnTo>
                  <a:lnTo>
                    <a:pt x="819" y="1989"/>
                  </a:lnTo>
                  <a:lnTo>
                    <a:pt x="842" y="1949"/>
                  </a:lnTo>
                  <a:lnTo>
                    <a:pt x="866" y="1910"/>
                  </a:lnTo>
                  <a:lnTo>
                    <a:pt x="887" y="1868"/>
                  </a:lnTo>
                  <a:lnTo>
                    <a:pt x="906" y="1827"/>
                  </a:lnTo>
                  <a:lnTo>
                    <a:pt x="921" y="1782"/>
                  </a:lnTo>
                  <a:lnTo>
                    <a:pt x="930" y="1736"/>
                  </a:lnTo>
                  <a:lnTo>
                    <a:pt x="944" y="1670"/>
                  </a:lnTo>
                  <a:lnTo>
                    <a:pt x="957" y="1603"/>
                  </a:lnTo>
                  <a:lnTo>
                    <a:pt x="968" y="1535"/>
                  </a:lnTo>
                  <a:lnTo>
                    <a:pt x="977" y="1466"/>
                  </a:lnTo>
                  <a:lnTo>
                    <a:pt x="982" y="1396"/>
                  </a:lnTo>
                  <a:lnTo>
                    <a:pt x="985" y="1326"/>
                  </a:lnTo>
                  <a:lnTo>
                    <a:pt x="984" y="1254"/>
                  </a:lnTo>
                  <a:lnTo>
                    <a:pt x="977" y="1182"/>
                  </a:lnTo>
                  <a:lnTo>
                    <a:pt x="981" y="1142"/>
                  </a:lnTo>
                  <a:lnTo>
                    <a:pt x="989" y="1106"/>
                  </a:lnTo>
                  <a:lnTo>
                    <a:pt x="1002" y="1069"/>
                  </a:lnTo>
                  <a:lnTo>
                    <a:pt x="1015" y="1034"/>
                  </a:lnTo>
                  <a:lnTo>
                    <a:pt x="1026" y="999"/>
                  </a:lnTo>
                  <a:lnTo>
                    <a:pt x="1036" y="962"/>
                  </a:lnTo>
                  <a:lnTo>
                    <a:pt x="1040" y="924"/>
                  </a:lnTo>
                  <a:lnTo>
                    <a:pt x="1038" y="884"/>
                  </a:lnTo>
                  <a:lnTo>
                    <a:pt x="1021" y="871"/>
                  </a:lnTo>
                  <a:lnTo>
                    <a:pt x="1002" y="860"/>
                  </a:lnTo>
                  <a:lnTo>
                    <a:pt x="982" y="852"/>
                  </a:lnTo>
                  <a:lnTo>
                    <a:pt x="962" y="844"/>
                  </a:lnTo>
                  <a:lnTo>
                    <a:pt x="941" y="839"/>
                  </a:lnTo>
                  <a:lnTo>
                    <a:pt x="920" y="836"/>
                  </a:lnTo>
                  <a:lnTo>
                    <a:pt x="899" y="833"/>
                  </a:lnTo>
                  <a:lnTo>
                    <a:pt x="877" y="831"/>
                  </a:lnTo>
                  <a:lnTo>
                    <a:pt x="855" y="833"/>
                  </a:lnTo>
                  <a:lnTo>
                    <a:pt x="832" y="834"/>
                  </a:lnTo>
                  <a:lnTo>
                    <a:pt x="811" y="836"/>
                  </a:lnTo>
                  <a:lnTo>
                    <a:pt x="789" y="841"/>
                  </a:lnTo>
                  <a:lnTo>
                    <a:pt x="768" y="846"/>
                  </a:lnTo>
                  <a:lnTo>
                    <a:pt x="747" y="850"/>
                  </a:lnTo>
                  <a:lnTo>
                    <a:pt x="727" y="857"/>
                  </a:lnTo>
                  <a:lnTo>
                    <a:pt x="707" y="865"/>
                  </a:lnTo>
                  <a:lnTo>
                    <a:pt x="643" y="901"/>
                  </a:lnTo>
                  <a:lnTo>
                    <a:pt x="629" y="870"/>
                  </a:lnTo>
                  <a:lnTo>
                    <a:pt x="623" y="831"/>
                  </a:lnTo>
                  <a:lnTo>
                    <a:pt x="625" y="793"/>
                  </a:lnTo>
                  <a:lnTo>
                    <a:pt x="633" y="758"/>
                  </a:lnTo>
                  <a:lnTo>
                    <a:pt x="622" y="761"/>
                  </a:lnTo>
                  <a:lnTo>
                    <a:pt x="610" y="766"/>
                  </a:lnTo>
                  <a:lnTo>
                    <a:pt x="600" y="772"/>
                  </a:lnTo>
                  <a:lnTo>
                    <a:pt x="589" y="780"/>
                  </a:lnTo>
                  <a:lnTo>
                    <a:pt x="579" y="788"/>
                  </a:lnTo>
                  <a:lnTo>
                    <a:pt x="569" y="799"/>
                  </a:lnTo>
                  <a:lnTo>
                    <a:pt x="559" y="809"/>
                  </a:lnTo>
                  <a:lnTo>
                    <a:pt x="549" y="819"/>
                  </a:lnTo>
                  <a:lnTo>
                    <a:pt x="529" y="839"/>
                  </a:lnTo>
                  <a:lnTo>
                    <a:pt x="510" y="860"/>
                  </a:lnTo>
                  <a:lnTo>
                    <a:pt x="490" y="881"/>
                  </a:lnTo>
                  <a:lnTo>
                    <a:pt x="470" y="901"/>
                  </a:lnTo>
                  <a:lnTo>
                    <a:pt x="449" y="919"/>
                  </a:lnTo>
                  <a:lnTo>
                    <a:pt x="427" y="935"/>
                  </a:lnTo>
                  <a:lnTo>
                    <a:pt x="403" y="945"/>
                  </a:lnTo>
                  <a:lnTo>
                    <a:pt x="378" y="951"/>
                  </a:lnTo>
                  <a:lnTo>
                    <a:pt x="351" y="992"/>
                  </a:lnTo>
                  <a:lnTo>
                    <a:pt x="331" y="1040"/>
                  </a:lnTo>
                  <a:lnTo>
                    <a:pt x="317" y="1091"/>
                  </a:lnTo>
                  <a:lnTo>
                    <a:pt x="308" y="1144"/>
                  </a:lnTo>
                  <a:lnTo>
                    <a:pt x="307" y="1200"/>
                  </a:lnTo>
                  <a:lnTo>
                    <a:pt x="309" y="1252"/>
                  </a:lnTo>
                  <a:lnTo>
                    <a:pt x="321" y="1305"/>
                  </a:lnTo>
                  <a:lnTo>
                    <a:pt x="336" y="1353"/>
                  </a:lnTo>
                  <a:lnTo>
                    <a:pt x="344" y="1362"/>
                  </a:lnTo>
                  <a:lnTo>
                    <a:pt x="355" y="1364"/>
                  </a:lnTo>
                  <a:lnTo>
                    <a:pt x="365" y="1361"/>
                  </a:lnTo>
                  <a:lnTo>
                    <a:pt x="373" y="1356"/>
                  </a:lnTo>
                  <a:lnTo>
                    <a:pt x="407" y="1303"/>
                  </a:lnTo>
                  <a:lnTo>
                    <a:pt x="430" y="1313"/>
                  </a:lnTo>
                  <a:lnTo>
                    <a:pt x="453" y="1321"/>
                  </a:lnTo>
                  <a:lnTo>
                    <a:pt x="477" y="1329"/>
                  </a:lnTo>
                  <a:lnTo>
                    <a:pt x="500" y="1335"/>
                  </a:lnTo>
                  <a:lnTo>
                    <a:pt x="524" y="1343"/>
                  </a:lnTo>
                  <a:lnTo>
                    <a:pt x="545" y="1353"/>
                  </a:lnTo>
                  <a:lnTo>
                    <a:pt x="566" y="1366"/>
                  </a:lnTo>
                  <a:lnTo>
                    <a:pt x="586" y="1383"/>
                  </a:lnTo>
                  <a:lnTo>
                    <a:pt x="586" y="1391"/>
                  </a:lnTo>
                  <a:lnTo>
                    <a:pt x="585" y="1399"/>
                  </a:lnTo>
                  <a:lnTo>
                    <a:pt x="581" y="1409"/>
                  </a:lnTo>
                  <a:lnTo>
                    <a:pt x="576" y="1417"/>
                  </a:lnTo>
                  <a:lnTo>
                    <a:pt x="556" y="1431"/>
                  </a:lnTo>
                  <a:lnTo>
                    <a:pt x="541" y="1449"/>
                  </a:lnTo>
                  <a:lnTo>
                    <a:pt x="529" y="1469"/>
                  </a:lnTo>
                  <a:lnTo>
                    <a:pt x="518" y="1492"/>
                  </a:lnTo>
                  <a:lnTo>
                    <a:pt x="508" y="1514"/>
                  </a:lnTo>
                  <a:lnTo>
                    <a:pt x="495" y="1535"/>
                  </a:lnTo>
                  <a:lnTo>
                    <a:pt x="481" y="1554"/>
                  </a:lnTo>
                  <a:lnTo>
                    <a:pt x="461" y="1568"/>
                  </a:lnTo>
                  <a:lnTo>
                    <a:pt x="437" y="1575"/>
                  </a:lnTo>
                  <a:lnTo>
                    <a:pt x="412" y="1581"/>
                  </a:lnTo>
                  <a:lnTo>
                    <a:pt x="385" y="1586"/>
                  </a:lnTo>
                  <a:lnTo>
                    <a:pt x="358" y="1587"/>
                  </a:lnTo>
                  <a:lnTo>
                    <a:pt x="329" y="1589"/>
                  </a:lnTo>
                  <a:lnTo>
                    <a:pt x="302" y="1586"/>
                  </a:lnTo>
                  <a:lnTo>
                    <a:pt x="277" y="1581"/>
                  </a:lnTo>
                  <a:lnTo>
                    <a:pt x="253" y="1573"/>
                  </a:lnTo>
                  <a:lnTo>
                    <a:pt x="219" y="1516"/>
                  </a:lnTo>
                  <a:lnTo>
                    <a:pt x="186" y="1457"/>
                  </a:lnTo>
                  <a:lnTo>
                    <a:pt x="156" y="1396"/>
                  </a:lnTo>
                  <a:lnTo>
                    <a:pt x="131" y="1334"/>
                  </a:lnTo>
                  <a:lnTo>
                    <a:pt x="109" y="1270"/>
                  </a:lnTo>
                  <a:lnTo>
                    <a:pt x="97" y="1203"/>
                  </a:lnTo>
                  <a:lnTo>
                    <a:pt x="92" y="1133"/>
                  </a:lnTo>
                  <a:lnTo>
                    <a:pt x="98" y="1058"/>
                  </a:lnTo>
                  <a:lnTo>
                    <a:pt x="105" y="1019"/>
                  </a:lnTo>
                  <a:lnTo>
                    <a:pt x="112" y="981"/>
                  </a:lnTo>
                  <a:lnTo>
                    <a:pt x="121" y="943"/>
                  </a:lnTo>
                  <a:lnTo>
                    <a:pt x="132" y="906"/>
                  </a:lnTo>
                  <a:lnTo>
                    <a:pt x="112" y="890"/>
                  </a:lnTo>
                  <a:lnTo>
                    <a:pt x="91" y="873"/>
                  </a:lnTo>
                  <a:lnTo>
                    <a:pt x="70" y="855"/>
                  </a:lnTo>
                  <a:lnTo>
                    <a:pt x="50" y="834"/>
                  </a:lnTo>
                  <a:lnTo>
                    <a:pt x="31" y="814"/>
                  </a:lnTo>
                  <a:lnTo>
                    <a:pt x="16" y="790"/>
                  </a:lnTo>
                  <a:lnTo>
                    <a:pt x="6" y="764"/>
                  </a:lnTo>
                  <a:lnTo>
                    <a:pt x="0" y="736"/>
                  </a:lnTo>
                  <a:lnTo>
                    <a:pt x="21" y="740"/>
                  </a:lnTo>
                  <a:lnTo>
                    <a:pt x="43" y="748"/>
                  </a:lnTo>
                  <a:lnTo>
                    <a:pt x="62" y="758"/>
                  </a:lnTo>
                  <a:lnTo>
                    <a:pt x="82" y="769"/>
                  </a:lnTo>
                  <a:lnTo>
                    <a:pt x="101" y="780"/>
                  </a:lnTo>
                  <a:lnTo>
                    <a:pt x="121" y="793"/>
                  </a:lnTo>
                  <a:lnTo>
                    <a:pt x="139" y="804"/>
                  </a:lnTo>
                  <a:lnTo>
                    <a:pt x="159" y="815"/>
                  </a:lnTo>
                  <a:lnTo>
                    <a:pt x="168" y="798"/>
                  </a:lnTo>
                  <a:lnTo>
                    <a:pt x="169" y="782"/>
                  </a:lnTo>
                  <a:lnTo>
                    <a:pt x="165" y="766"/>
                  </a:lnTo>
                  <a:lnTo>
                    <a:pt x="156" y="752"/>
                  </a:lnTo>
                  <a:lnTo>
                    <a:pt x="146" y="737"/>
                  </a:lnTo>
                  <a:lnTo>
                    <a:pt x="135" y="723"/>
                  </a:lnTo>
                  <a:lnTo>
                    <a:pt x="126" y="708"/>
                  </a:lnTo>
                  <a:lnTo>
                    <a:pt x="121" y="694"/>
                  </a:lnTo>
                  <a:lnTo>
                    <a:pt x="136" y="691"/>
                  </a:lnTo>
                  <a:lnTo>
                    <a:pt x="153" y="696"/>
                  </a:lnTo>
                  <a:lnTo>
                    <a:pt x="170" y="704"/>
                  </a:lnTo>
                  <a:lnTo>
                    <a:pt x="189" y="713"/>
                  </a:lnTo>
                  <a:lnTo>
                    <a:pt x="204" y="720"/>
                  </a:lnTo>
                  <a:lnTo>
                    <a:pt x="219" y="720"/>
                  </a:lnTo>
                  <a:lnTo>
                    <a:pt x="230" y="710"/>
                  </a:lnTo>
                  <a:lnTo>
                    <a:pt x="238" y="686"/>
                  </a:lnTo>
                  <a:lnTo>
                    <a:pt x="268" y="646"/>
                  </a:lnTo>
                  <a:lnTo>
                    <a:pt x="294" y="605"/>
                  </a:lnTo>
                  <a:lnTo>
                    <a:pt x="318" y="560"/>
                  </a:lnTo>
                  <a:lnTo>
                    <a:pt x="339" y="514"/>
                  </a:lnTo>
                  <a:lnTo>
                    <a:pt x="359" y="468"/>
                  </a:lnTo>
                  <a:lnTo>
                    <a:pt x="379" y="421"/>
                  </a:lnTo>
                  <a:lnTo>
                    <a:pt x="399" y="375"/>
                  </a:lnTo>
                  <a:lnTo>
                    <a:pt x="419" y="329"/>
                  </a:lnTo>
                  <a:lnTo>
                    <a:pt x="439" y="284"/>
                  </a:lnTo>
                  <a:lnTo>
                    <a:pt x="463" y="241"/>
                  </a:lnTo>
                  <a:lnTo>
                    <a:pt x="487" y="200"/>
                  </a:lnTo>
                  <a:lnTo>
                    <a:pt x="515" y="161"/>
                  </a:lnTo>
                  <a:lnTo>
                    <a:pt x="548" y="126"/>
                  </a:lnTo>
                  <a:lnTo>
                    <a:pt x="583" y="96"/>
                  </a:lnTo>
                  <a:lnTo>
                    <a:pt x="625" y="69"/>
                  </a:lnTo>
                  <a:lnTo>
                    <a:pt x="671" y="46"/>
                  </a:lnTo>
                  <a:lnTo>
                    <a:pt x="701" y="38"/>
                  </a:lnTo>
                  <a:lnTo>
                    <a:pt x="732" y="32"/>
                  </a:lnTo>
                  <a:lnTo>
                    <a:pt x="764" y="26"/>
                  </a:lnTo>
                  <a:lnTo>
                    <a:pt x="795" y="19"/>
                  </a:lnTo>
                  <a:lnTo>
                    <a:pt x="828" y="15"/>
                  </a:lnTo>
                  <a:lnTo>
                    <a:pt x="859" y="11"/>
                  </a:lnTo>
                  <a:lnTo>
                    <a:pt x="891" y="8"/>
                  </a:lnTo>
                  <a:lnTo>
                    <a:pt x="924" y="5"/>
                  </a:lnTo>
                  <a:lnTo>
                    <a:pt x="958" y="3"/>
                  </a:lnTo>
                  <a:lnTo>
                    <a:pt x="991" y="2"/>
                  </a:lnTo>
                  <a:lnTo>
                    <a:pt x="1023" y="2"/>
                  </a:lnTo>
                  <a:lnTo>
                    <a:pt x="1058" y="0"/>
                  </a:lnTo>
                  <a:lnTo>
                    <a:pt x="1090" y="0"/>
                  </a:lnTo>
                  <a:lnTo>
                    <a:pt x="1123" y="0"/>
                  </a:lnTo>
                  <a:lnTo>
                    <a:pt x="1157" y="2"/>
                  </a:lnTo>
                  <a:lnTo>
                    <a:pt x="1190" y="2"/>
                  </a:lnTo>
                  <a:lnTo>
                    <a:pt x="1412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868320" y="3011760"/>
              <a:ext cx="2265480" cy="1616040"/>
            </a:xfrm>
            <a:custGeom>
              <a:avLst/>
              <a:gdLst/>
              <a:ahLst/>
              <a:rect l="l" t="t" r="r" b="b"/>
              <a:pathLst>
                <a:path w="2854" h="2037">
                  <a:moveTo>
                    <a:pt x="658" y="12"/>
                  </a:moveTo>
                  <a:lnTo>
                    <a:pt x="648" y="22"/>
                  </a:lnTo>
                  <a:lnTo>
                    <a:pt x="635" y="28"/>
                  </a:lnTo>
                  <a:lnTo>
                    <a:pt x="622" y="33"/>
                  </a:lnTo>
                  <a:lnTo>
                    <a:pt x="609" y="38"/>
                  </a:lnTo>
                  <a:lnTo>
                    <a:pt x="598" y="44"/>
                  </a:lnTo>
                  <a:lnTo>
                    <a:pt x="587" y="52"/>
                  </a:lnTo>
                  <a:lnTo>
                    <a:pt x="580" y="65"/>
                  </a:lnTo>
                  <a:lnTo>
                    <a:pt x="574" y="81"/>
                  </a:lnTo>
                  <a:lnTo>
                    <a:pt x="567" y="86"/>
                  </a:lnTo>
                  <a:lnTo>
                    <a:pt x="560" y="84"/>
                  </a:lnTo>
                  <a:lnTo>
                    <a:pt x="551" y="79"/>
                  </a:lnTo>
                  <a:lnTo>
                    <a:pt x="544" y="78"/>
                  </a:lnTo>
                  <a:lnTo>
                    <a:pt x="538" y="92"/>
                  </a:lnTo>
                  <a:lnTo>
                    <a:pt x="537" y="110"/>
                  </a:lnTo>
                  <a:lnTo>
                    <a:pt x="540" y="126"/>
                  </a:lnTo>
                  <a:lnTo>
                    <a:pt x="544" y="142"/>
                  </a:lnTo>
                  <a:lnTo>
                    <a:pt x="560" y="153"/>
                  </a:lnTo>
                  <a:lnTo>
                    <a:pt x="574" y="145"/>
                  </a:lnTo>
                  <a:lnTo>
                    <a:pt x="587" y="137"/>
                  </a:lnTo>
                  <a:lnTo>
                    <a:pt x="601" y="129"/>
                  </a:lnTo>
                  <a:lnTo>
                    <a:pt x="615" y="121"/>
                  </a:lnTo>
                  <a:lnTo>
                    <a:pt x="629" y="113"/>
                  </a:lnTo>
                  <a:lnTo>
                    <a:pt x="644" y="107"/>
                  </a:lnTo>
                  <a:lnTo>
                    <a:pt x="658" y="100"/>
                  </a:lnTo>
                  <a:lnTo>
                    <a:pt x="673" y="94"/>
                  </a:lnTo>
                  <a:lnTo>
                    <a:pt x="688" y="87"/>
                  </a:lnTo>
                  <a:lnTo>
                    <a:pt x="702" y="81"/>
                  </a:lnTo>
                  <a:lnTo>
                    <a:pt x="716" y="75"/>
                  </a:lnTo>
                  <a:lnTo>
                    <a:pt x="732" y="70"/>
                  </a:lnTo>
                  <a:lnTo>
                    <a:pt x="746" y="63"/>
                  </a:lnTo>
                  <a:lnTo>
                    <a:pt x="760" y="59"/>
                  </a:lnTo>
                  <a:lnTo>
                    <a:pt x="776" y="52"/>
                  </a:lnTo>
                  <a:lnTo>
                    <a:pt x="790" y="48"/>
                  </a:lnTo>
                  <a:lnTo>
                    <a:pt x="800" y="44"/>
                  </a:lnTo>
                  <a:lnTo>
                    <a:pt x="810" y="43"/>
                  </a:lnTo>
                  <a:lnTo>
                    <a:pt x="818" y="44"/>
                  </a:lnTo>
                  <a:lnTo>
                    <a:pt x="828" y="46"/>
                  </a:lnTo>
                  <a:lnTo>
                    <a:pt x="837" y="49"/>
                  </a:lnTo>
                  <a:lnTo>
                    <a:pt x="845" y="52"/>
                  </a:lnTo>
                  <a:lnTo>
                    <a:pt x="854" y="59"/>
                  </a:lnTo>
                  <a:lnTo>
                    <a:pt x="861" y="65"/>
                  </a:lnTo>
                  <a:lnTo>
                    <a:pt x="881" y="105"/>
                  </a:lnTo>
                  <a:lnTo>
                    <a:pt x="893" y="148"/>
                  </a:lnTo>
                  <a:lnTo>
                    <a:pt x="902" y="193"/>
                  </a:lnTo>
                  <a:lnTo>
                    <a:pt x="909" y="239"/>
                  </a:lnTo>
                  <a:lnTo>
                    <a:pt x="915" y="285"/>
                  </a:lnTo>
                  <a:lnTo>
                    <a:pt x="922" y="330"/>
                  </a:lnTo>
                  <a:lnTo>
                    <a:pt x="935" y="375"/>
                  </a:lnTo>
                  <a:lnTo>
                    <a:pt x="952" y="414"/>
                  </a:lnTo>
                  <a:lnTo>
                    <a:pt x="943" y="421"/>
                  </a:lnTo>
                  <a:lnTo>
                    <a:pt x="935" y="426"/>
                  </a:lnTo>
                  <a:lnTo>
                    <a:pt x="926" y="430"/>
                  </a:lnTo>
                  <a:lnTo>
                    <a:pt x="916" y="435"/>
                  </a:lnTo>
                  <a:lnTo>
                    <a:pt x="906" y="440"/>
                  </a:lnTo>
                  <a:lnTo>
                    <a:pt x="896" y="443"/>
                  </a:lnTo>
                  <a:lnTo>
                    <a:pt x="888" y="448"/>
                  </a:lnTo>
                  <a:lnTo>
                    <a:pt x="878" y="453"/>
                  </a:lnTo>
                  <a:lnTo>
                    <a:pt x="802" y="418"/>
                  </a:lnTo>
                  <a:lnTo>
                    <a:pt x="807" y="432"/>
                  </a:lnTo>
                  <a:lnTo>
                    <a:pt x="810" y="448"/>
                  </a:lnTo>
                  <a:lnTo>
                    <a:pt x="814" y="462"/>
                  </a:lnTo>
                  <a:lnTo>
                    <a:pt x="820" y="478"/>
                  </a:lnTo>
                  <a:lnTo>
                    <a:pt x="825" y="493"/>
                  </a:lnTo>
                  <a:lnTo>
                    <a:pt x="831" y="509"/>
                  </a:lnTo>
                  <a:lnTo>
                    <a:pt x="838" y="521"/>
                  </a:lnTo>
                  <a:lnTo>
                    <a:pt x="847" y="536"/>
                  </a:lnTo>
                  <a:lnTo>
                    <a:pt x="866" y="518"/>
                  </a:lnTo>
                  <a:lnTo>
                    <a:pt x="888" y="505"/>
                  </a:lnTo>
                  <a:lnTo>
                    <a:pt x="910" y="494"/>
                  </a:lnTo>
                  <a:lnTo>
                    <a:pt x="933" y="486"/>
                  </a:lnTo>
                  <a:lnTo>
                    <a:pt x="956" y="478"/>
                  </a:lnTo>
                  <a:lnTo>
                    <a:pt x="979" y="470"/>
                  </a:lnTo>
                  <a:lnTo>
                    <a:pt x="1001" y="459"/>
                  </a:lnTo>
                  <a:lnTo>
                    <a:pt x="1021" y="445"/>
                  </a:lnTo>
                  <a:lnTo>
                    <a:pt x="998" y="395"/>
                  </a:lnTo>
                  <a:lnTo>
                    <a:pt x="984" y="343"/>
                  </a:lnTo>
                  <a:lnTo>
                    <a:pt x="977" y="287"/>
                  </a:lnTo>
                  <a:lnTo>
                    <a:pt x="971" y="229"/>
                  </a:lnTo>
                  <a:lnTo>
                    <a:pt x="964" y="172"/>
                  </a:lnTo>
                  <a:lnTo>
                    <a:pt x="953" y="118"/>
                  </a:lnTo>
                  <a:lnTo>
                    <a:pt x="935" y="67"/>
                  </a:lnTo>
                  <a:lnTo>
                    <a:pt x="903" y="20"/>
                  </a:lnTo>
                  <a:lnTo>
                    <a:pt x="919" y="25"/>
                  </a:lnTo>
                  <a:lnTo>
                    <a:pt x="936" y="32"/>
                  </a:lnTo>
                  <a:lnTo>
                    <a:pt x="953" y="38"/>
                  </a:lnTo>
                  <a:lnTo>
                    <a:pt x="971" y="44"/>
                  </a:lnTo>
                  <a:lnTo>
                    <a:pt x="988" y="52"/>
                  </a:lnTo>
                  <a:lnTo>
                    <a:pt x="1007" y="59"/>
                  </a:lnTo>
                  <a:lnTo>
                    <a:pt x="1025" y="67"/>
                  </a:lnTo>
                  <a:lnTo>
                    <a:pt x="1042" y="73"/>
                  </a:lnTo>
                  <a:lnTo>
                    <a:pt x="1061" y="76"/>
                  </a:lnTo>
                  <a:lnTo>
                    <a:pt x="1079" y="78"/>
                  </a:lnTo>
                  <a:lnTo>
                    <a:pt x="1098" y="79"/>
                  </a:lnTo>
                  <a:lnTo>
                    <a:pt x="1116" y="81"/>
                  </a:lnTo>
                  <a:lnTo>
                    <a:pt x="1135" y="81"/>
                  </a:lnTo>
                  <a:lnTo>
                    <a:pt x="1153" y="81"/>
                  </a:lnTo>
                  <a:lnTo>
                    <a:pt x="1173" y="81"/>
                  </a:lnTo>
                  <a:lnTo>
                    <a:pt x="1191" y="83"/>
                  </a:lnTo>
                  <a:lnTo>
                    <a:pt x="1210" y="83"/>
                  </a:lnTo>
                  <a:lnTo>
                    <a:pt x="1228" y="84"/>
                  </a:lnTo>
                  <a:lnTo>
                    <a:pt x="1247" y="86"/>
                  </a:lnTo>
                  <a:lnTo>
                    <a:pt x="1265" y="89"/>
                  </a:lnTo>
                  <a:lnTo>
                    <a:pt x="1282" y="92"/>
                  </a:lnTo>
                  <a:lnTo>
                    <a:pt x="1299" y="97"/>
                  </a:lnTo>
                  <a:lnTo>
                    <a:pt x="1316" y="103"/>
                  </a:lnTo>
                  <a:lnTo>
                    <a:pt x="1332" y="111"/>
                  </a:lnTo>
                  <a:lnTo>
                    <a:pt x="1349" y="122"/>
                  </a:lnTo>
                  <a:lnTo>
                    <a:pt x="1369" y="130"/>
                  </a:lnTo>
                  <a:lnTo>
                    <a:pt x="1387" y="135"/>
                  </a:lnTo>
                  <a:lnTo>
                    <a:pt x="1407" y="140"/>
                  </a:lnTo>
                  <a:lnTo>
                    <a:pt x="1428" y="142"/>
                  </a:lnTo>
                  <a:lnTo>
                    <a:pt x="1450" y="142"/>
                  </a:lnTo>
                  <a:lnTo>
                    <a:pt x="1470" y="142"/>
                  </a:lnTo>
                  <a:lnTo>
                    <a:pt x="1491" y="138"/>
                  </a:lnTo>
                  <a:lnTo>
                    <a:pt x="1781" y="78"/>
                  </a:lnTo>
                  <a:lnTo>
                    <a:pt x="1815" y="78"/>
                  </a:lnTo>
                  <a:lnTo>
                    <a:pt x="1849" y="79"/>
                  </a:lnTo>
                  <a:lnTo>
                    <a:pt x="1883" y="79"/>
                  </a:lnTo>
                  <a:lnTo>
                    <a:pt x="1917" y="81"/>
                  </a:lnTo>
                  <a:lnTo>
                    <a:pt x="1949" y="84"/>
                  </a:lnTo>
                  <a:lnTo>
                    <a:pt x="1982" y="87"/>
                  </a:lnTo>
                  <a:lnTo>
                    <a:pt x="2016" y="92"/>
                  </a:lnTo>
                  <a:lnTo>
                    <a:pt x="2047" y="97"/>
                  </a:lnTo>
                  <a:lnTo>
                    <a:pt x="2080" y="103"/>
                  </a:lnTo>
                  <a:lnTo>
                    <a:pt x="2111" y="111"/>
                  </a:lnTo>
                  <a:lnTo>
                    <a:pt x="2142" y="119"/>
                  </a:lnTo>
                  <a:lnTo>
                    <a:pt x="2172" y="130"/>
                  </a:lnTo>
                  <a:lnTo>
                    <a:pt x="2202" y="142"/>
                  </a:lnTo>
                  <a:lnTo>
                    <a:pt x="2231" y="156"/>
                  </a:lnTo>
                  <a:lnTo>
                    <a:pt x="2259" y="170"/>
                  </a:lnTo>
                  <a:lnTo>
                    <a:pt x="2287" y="188"/>
                  </a:lnTo>
                  <a:lnTo>
                    <a:pt x="2311" y="196"/>
                  </a:lnTo>
                  <a:lnTo>
                    <a:pt x="2337" y="205"/>
                  </a:lnTo>
                  <a:lnTo>
                    <a:pt x="2363" y="215"/>
                  </a:lnTo>
                  <a:lnTo>
                    <a:pt x="2387" y="226"/>
                  </a:lnTo>
                  <a:lnTo>
                    <a:pt x="2412" y="239"/>
                  </a:lnTo>
                  <a:lnTo>
                    <a:pt x="2436" y="253"/>
                  </a:lnTo>
                  <a:lnTo>
                    <a:pt x="2460" y="269"/>
                  </a:lnTo>
                  <a:lnTo>
                    <a:pt x="2483" y="285"/>
                  </a:lnTo>
                  <a:lnTo>
                    <a:pt x="2506" y="304"/>
                  </a:lnTo>
                  <a:lnTo>
                    <a:pt x="2527" y="323"/>
                  </a:lnTo>
                  <a:lnTo>
                    <a:pt x="2546" y="346"/>
                  </a:lnTo>
                  <a:lnTo>
                    <a:pt x="2564" y="368"/>
                  </a:lnTo>
                  <a:lnTo>
                    <a:pt x="2580" y="392"/>
                  </a:lnTo>
                  <a:lnTo>
                    <a:pt x="2594" y="418"/>
                  </a:lnTo>
                  <a:lnTo>
                    <a:pt x="2605" y="446"/>
                  </a:lnTo>
                  <a:lnTo>
                    <a:pt x="2615" y="475"/>
                  </a:lnTo>
                  <a:lnTo>
                    <a:pt x="2628" y="491"/>
                  </a:lnTo>
                  <a:lnTo>
                    <a:pt x="2641" y="507"/>
                  </a:lnTo>
                  <a:lnTo>
                    <a:pt x="2654" y="521"/>
                  </a:lnTo>
                  <a:lnTo>
                    <a:pt x="2668" y="536"/>
                  </a:lnTo>
                  <a:lnTo>
                    <a:pt x="2680" y="550"/>
                  </a:lnTo>
                  <a:lnTo>
                    <a:pt x="2695" y="563"/>
                  </a:lnTo>
                  <a:lnTo>
                    <a:pt x="2710" y="576"/>
                  </a:lnTo>
                  <a:lnTo>
                    <a:pt x="2724" y="587"/>
                  </a:lnTo>
                  <a:lnTo>
                    <a:pt x="2740" y="598"/>
                  </a:lnTo>
                  <a:lnTo>
                    <a:pt x="2756" y="609"/>
                  </a:lnTo>
                  <a:lnTo>
                    <a:pt x="2771" y="619"/>
                  </a:lnTo>
                  <a:lnTo>
                    <a:pt x="2787" y="627"/>
                  </a:lnTo>
                  <a:lnTo>
                    <a:pt x="2804" y="635"/>
                  </a:lnTo>
                  <a:lnTo>
                    <a:pt x="2820" y="641"/>
                  </a:lnTo>
                  <a:lnTo>
                    <a:pt x="2837" y="647"/>
                  </a:lnTo>
                  <a:lnTo>
                    <a:pt x="2854" y="652"/>
                  </a:lnTo>
                  <a:lnTo>
                    <a:pt x="2848" y="657"/>
                  </a:lnTo>
                  <a:lnTo>
                    <a:pt x="2842" y="658"/>
                  </a:lnTo>
                  <a:lnTo>
                    <a:pt x="2835" y="660"/>
                  </a:lnTo>
                  <a:lnTo>
                    <a:pt x="2828" y="662"/>
                  </a:lnTo>
                  <a:lnTo>
                    <a:pt x="2820" y="660"/>
                  </a:lnTo>
                  <a:lnTo>
                    <a:pt x="2811" y="660"/>
                  </a:lnTo>
                  <a:lnTo>
                    <a:pt x="2804" y="658"/>
                  </a:lnTo>
                  <a:lnTo>
                    <a:pt x="2797" y="657"/>
                  </a:lnTo>
                  <a:lnTo>
                    <a:pt x="2662" y="596"/>
                  </a:lnTo>
                  <a:lnTo>
                    <a:pt x="2666" y="662"/>
                  </a:lnTo>
                  <a:lnTo>
                    <a:pt x="2666" y="727"/>
                  </a:lnTo>
                  <a:lnTo>
                    <a:pt x="2663" y="792"/>
                  </a:lnTo>
                  <a:lnTo>
                    <a:pt x="2656" y="855"/>
                  </a:lnTo>
                  <a:lnTo>
                    <a:pt x="2642" y="917"/>
                  </a:lnTo>
                  <a:lnTo>
                    <a:pt x="2621" y="974"/>
                  </a:lnTo>
                  <a:lnTo>
                    <a:pt x="2592" y="1027"/>
                  </a:lnTo>
                  <a:lnTo>
                    <a:pt x="2554" y="1076"/>
                  </a:lnTo>
                  <a:lnTo>
                    <a:pt x="2382" y="1285"/>
                  </a:lnTo>
                  <a:lnTo>
                    <a:pt x="2304" y="1429"/>
                  </a:lnTo>
                  <a:lnTo>
                    <a:pt x="2259" y="1475"/>
                  </a:lnTo>
                  <a:lnTo>
                    <a:pt x="2219" y="1525"/>
                  </a:lnTo>
                  <a:lnTo>
                    <a:pt x="2187" y="1576"/>
                  </a:lnTo>
                  <a:lnTo>
                    <a:pt x="2161" y="1632"/>
                  </a:lnTo>
                  <a:lnTo>
                    <a:pt x="2142" y="1691"/>
                  </a:lnTo>
                  <a:lnTo>
                    <a:pt x="2131" y="1751"/>
                  </a:lnTo>
                  <a:lnTo>
                    <a:pt x="2127" y="1817"/>
                  </a:lnTo>
                  <a:lnTo>
                    <a:pt x="2131" y="1884"/>
                  </a:lnTo>
                  <a:lnTo>
                    <a:pt x="2134" y="1915"/>
                  </a:lnTo>
                  <a:lnTo>
                    <a:pt x="2134" y="1947"/>
                  </a:lnTo>
                  <a:lnTo>
                    <a:pt x="2128" y="1976"/>
                  </a:lnTo>
                  <a:lnTo>
                    <a:pt x="2111" y="2002"/>
                  </a:lnTo>
                  <a:lnTo>
                    <a:pt x="2096" y="2018"/>
                  </a:lnTo>
                  <a:lnTo>
                    <a:pt x="2079" y="2029"/>
                  </a:lnTo>
                  <a:lnTo>
                    <a:pt x="2059" y="2035"/>
                  </a:lnTo>
                  <a:lnTo>
                    <a:pt x="2037" y="2037"/>
                  </a:lnTo>
                  <a:lnTo>
                    <a:pt x="2016" y="2035"/>
                  </a:lnTo>
                  <a:lnTo>
                    <a:pt x="1995" y="2033"/>
                  </a:lnTo>
                  <a:lnTo>
                    <a:pt x="1975" y="2030"/>
                  </a:lnTo>
                  <a:lnTo>
                    <a:pt x="1955" y="2027"/>
                  </a:lnTo>
                  <a:lnTo>
                    <a:pt x="1948" y="2026"/>
                  </a:lnTo>
                  <a:lnTo>
                    <a:pt x="1941" y="2022"/>
                  </a:lnTo>
                  <a:lnTo>
                    <a:pt x="1934" y="2019"/>
                  </a:lnTo>
                  <a:lnTo>
                    <a:pt x="1928" y="2016"/>
                  </a:lnTo>
                  <a:lnTo>
                    <a:pt x="1921" y="2011"/>
                  </a:lnTo>
                  <a:lnTo>
                    <a:pt x="1914" y="2006"/>
                  </a:lnTo>
                  <a:lnTo>
                    <a:pt x="1908" y="2002"/>
                  </a:lnTo>
                  <a:lnTo>
                    <a:pt x="1901" y="1997"/>
                  </a:lnTo>
                  <a:lnTo>
                    <a:pt x="1901" y="1990"/>
                  </a:lnTo>
                  <a:lnTo>
                    <a:pt x="1907" y="1989"/>
                  </a:lnTo>
                  <a:lnTo>
                    <a:pt x="1914" y="1990"/>
                  </a:lnTo>
                  <a:lnTo>
                    <a:pt x="1921" y="1990"/>
                  </a:lnTo>
                  <a:lnTo>
                    <a:pt x="1928" y="1990"/>
                  </a:lnTo>
                  <a:lnTo>
                    <a:pt x="1935" y="1990"/>
                  </a:lnTo>
                  <a:lnTo>
                    <a:pt x="1942" y="1987"/>
                  </a:lnTo>
                  <a:lnTo>
                    <a:pt x="1948" y="1982"/>
                  </a:lnTo>
                  <a:lnTo>
                    <a:pt x="1952" y="1974"/>
                  </a:lnTo>
                  <a:lnTo>
                    <a:pt x="1952" y="1952"/>
                  </a:lnTo>
                  <a:lnTo>
                    <a:pt x="1947" y="1949"/>
                  </a:lnTo>
                  <a:lnTo>
                    <a:pt x="1941" y="1947"/>
                  </a:lnTo>
                  <a:lnTo>
                    <a:pt x="1935" y="1949"/>
                  </a:lnTo>
                  <a:lnTo>
                    <a:pt x="1930" y="1951"/>
                  </a:lnTo>
                  <a:lnTo>
                    <a:pt x="1924" y="1954"/>
                  </a:lnTo>
                  <a:lnTo>
                    <a:pt x="1920" y="1955"/>
                  </a:lnTo>
                  <a:lnTo>
                    <a:pt x="1914" y="1957"/>
                  </a:lnTo>
                  <a:lnTo>
                    <a:pt x="1908" y="1959"/>
                  </a:lnTo>
                  <a:lnTo>
                    <a:pt x="1913" y="1903"/>
                  </a:lnTo>
                  <a:lnTo>
                    <a:pt x="1917" y="1844"/>
                  </a:lnTo>
                  <a:lnTo>
                    <a:pt x="1918" y="1786"/>
                  </a:lnTo>
                  <a:lnTo>
                    <a:pt x="1913" y="1729"/>
                  </a:lnTo>
                  <a:lnTo>
                    <a:pt x="1921" y="1729"/>
                  </a:lnTo>
                  <a:lnTo>
                    <a:pt x="1930" y="1729"/>
                  </a:lnTo>
                  <a:lnTo>
                    <a:pt x="1938" y="1729"/>
                  </a:lnTo>
                  <a:lnTo>
                    <a:pt x="1945" y="1727"/>
                  </a:lnTo>
                  <a:lnTo>
                    <a:pt x="1954" y="1726"/>
                  </a:lnTo>
                  <a:lnTo>
                    <a:pt x="1961" y="1722"/>
                  </a:lnTo>
                  <a:lnTo>
                    <a:pt x="1969" y="1721"/>
                  </a:lnTo>
                  <a:lnTo>
                    <a:pt x="1976" y="1718"/>
                  </a:lnTo>
                  <a:lnTo>
                    <a:pt x="1971" y="1710"/>
                  </a:lnTo>
                  <a:lnTo>
                    <a:pt x="1964" y="1705"/>
                  </a:lnTo>
                  <a:lnTo>
                    <a:pt x="1957" y="1700"/>
                  </a:lnTo>
                  <a:lnTo>
                    <a:pt x="1948" y="1697"/>
                  </a:lnTo>
                  <a:lnTo>
                    <a:pt x="1940" y="1695"/>
                  </a:lnTo>
                  <a:lnTo>
                    <a:pt x="1931" y="1694"/>
                  </a:lnTo>
                  <a:lnTo>
                    <a:pt x="1922" y="1691"/>
                  </a:lnTo>
                  <a:lnTo>
                    <a:pt x="1915" y="1687"/>
                  </a:lnTo>
                  <a:lnTo>
                    <a:pt x="1924" y="1684"/>
                  </a:lnTo>
                  <a:lnTo>
                    <a:pt x="1934" y="1684"/>
                  </a:lnTo>
                  <a:lnTo>
                    <a:pt x="1944" y="1683"/>
                  </a:lnTo>
                  <a:lnTo>
                    <a:pt x="1954" y="1683"/>
                  </a:lnTo>
                  <a:lnTo>
                    <a:pt x="1965" y="1683"/>
                  </a:lnTo>
                  <a:lnTo>
                    <a:pt x="1974" y="1683"/>
                  </a:lnTo>
                  <a:lnTo>
                    <a:pt x="1984" y="1679"/>
                  </a:lnTo>
                  <a:lnTo>
                    <a:pt x="1992" y="1675"/>
                  </a:lnTo>
                  <a:lnTo>
                    <a:pt x="1979" y="1660"/>
                  </a:lnTo>
                  <a:lnTo>
                    <a:pt x="1965" y="1655"/>
                  </a:lnTo>
                  <a:lnTo>
                    <a:pt x="1949" y="1652"/>
                  </a:lnTo>
                  <a:lnTo>
                    <a:pt x="1934" y="1649"/>
                  </a:lnTo>
                  <a:lnTo>
                    <a:pt x="1918" y="1644"/>
                  </a:lnTo>
                  <a:lnTo>
                    <a:pt x="1905" y="1636"/>
                  </a:lnTo>
                  <a:lnTo>
                    <a:pt x="1894" y="1627"/>
                  </a:lnTo>
                  <a:lnTo>
                    <a:pt x="1887" y="1612"/>
                  </a:lnTo>
                  <a:lnTo>
                    <a:pt x="1884" y="1592"/>
                  </a:lnTo>
                  <a:lnTo>
                    <a:pt x="1878" y="1536"/>
                  </a:lnTo>
                  <a:lnTo>
                    <a:pt x="1883" y="1475"/>
                  </a:lnTo>
                  <a:lnTo>
                    <a:pt x="1891" y="1413"/>
                  </a:lnTo>
                  <a:lnTo>
                    <a:pt x="1900" y="1351"/>
                  </a:lnTo>
                  <a:lnTo>
                    <a:pt x="1903" y="1290"/>
                  </a:lnTo>
                  <a:lnTo>
                    <a:pt x="1896" y="1234"/>
                  </a:lnTo>
                  <a:lnTo>
                    <a:pt x="1871" y="1183"/>
                  </a:lnTo>
                  <a:lnTo>
                    <a:pt x="1825" y="1142"/>
                  </a:lnTo>
                  <a:lnTo>
                    <a:pt x="1826" y="1153"/>
                  </a:lnTo>
                  <a:lnTo>
                    <a:pt x="1833" y="1166"/>
                  </a:lnTo>
                  <a:lnTo>
                    <a:pt x="1842" y="1177"/>
                  </a:lnTo>
                  <a:lnTo>
                    <a:pt x="1847" y="1191"/>
                  </a:lnTo>
                  <a:lnTo>
                    <a:pt x="1852" y="1218"/>
                  </a:lnTo>
                  <a:lnTo>
                    <a:pt x="1853" y="1247"/>
                  </a:lnTo>
                  <a:lnTo>
                    <a:pt x="1850" y="1274"/>
                  </a:lnTo>
                  <a:lnTo>
                    <a:pt x="1844" y="1300"/>
                  </a:lnTo>
                  <a:lnTo>
                    <a:pt x="1837" y="1327"/>
                  </a:lnTo>
                  <a:lnTo>
                    <a:pt x="1829" y="1352"/>
                  </a:lnTo>
                  <a:lnTo>
                    <a:pt x="1819" y="1378"/>
                  </a:lnTo>
                  <a:lnTo>
                    <a:pt x="1810" y="1403"/>
                  </a:lnTo>
                  <a:lnTo>
                    <a:pt x="1768" y="1399"/>
                  </a:lnTo>
                  <a:lnTo>
                    <a:pt x="1724" y="1394"/>
                  </a:lnTo>
                  <a:lnTo>
                    <a:pt x="1681" y="1386"/>
                  </a:lnTo>
                  <a:lnTo>
                    <a:pt x="1639" y="1378"/>
                  </a:lnTo>
                  <a:lnTo>
                    <a:pt x="1596" y="1368"/>
                  </a:lnTo>
                  <a:lnTo>
                    <a:pt x="1555" y="1357"/>
                  </a:lnTo>
                  <a:lnTo>
                    <a:pt x="1512" y="1346"/>
                  </a:lnTo>
                  <a:lnTo>
                    <a:pt x="1471" y="1332"/>
                  </a:lnTo>
                  <a:lnTo>
                    <a:pt x="1430" y="1317"/>
                  </a:lnTo>
                  <a:lnTo>
                    <a:pt x="1390" y="1301"/>
                  </a:lnTo>
                  <a:lnTo>
                    <a:pt x="1350" y="1284"/>
                  </a:lnTo>
                  <a:lnTo>
                    <a:pt x="1311" y="1265"/>
                  </a:lnTo>
                  <a:lnTo>
                    <a:pt x="1272" y="1244"/>
                  </a:lnTo>
                  <a:lnTo>
                    <a:pt x="1234" y="1222"/>
                  </a:lnTo>
                  <a:lnTo>
                    <a:pt x="1197" y="1198"/>
                  </a:lnTo>
                  <a:lnTo>
                    <a:pt x="1160" y="1172"/>
                  </a:lnTo>
                  <a:lnTo>
                    <a:pt x="1159" y="1180"/>
                  </a:lnTo>
                  <a:lnTo>
                    <a:pt x="1162" y="1186"/>
                  </a:lnTo>
                  <a:lnTo>
                    <a:pt x="1166" y="1194"/>
                  </a:lnTo>
                  <a:lnTo>
                    <a:pt x="1170" y="1202"/>
                  </a:lnTo>
                  <a:lnTo>
                    <a:pt x="1079" y="1191"/>
                  </a:lnTo>
                  <a:lnTo>
                    <a:pt x="1092" y="1153"/>
                  </a:lnTo>
                  <a:lnTo>
                    <a:pt x="1109" y="1116"/>
                  </a:lnTo>
                  <a:lnTo>
                    <a:pt x="1126" y="1080"/>
                  </a:lnTo>
                  <a:lnTo>
                    <a:pt x="1143" y="1043"/>
                  </a:lnTo>
                  <a:lnTo>
                    <a:pt x="1159" y="1006"/>
                  </a:lnTo>
                  <a:lnTo>
                    <a:pt x="1172" y="968"/>
                  </a:lnTo>
                  <a:lnTo>
                    <a:pt x="1179" y="930"/>
                  </a:lnTo>
                  <a:lnTo>
                    <a:pt x="1180" y="888"/>
                  </a:lnTo>
                  <a:lnTo>
                    <a:pt x="1177" y="883"/>
                  </a:lnTo>
                  <a:lnTo>
                    <a:pt x="1166" y="898"/>
                  </a:lnTo>
                  <a:lnTo>
                    <a:pt x="1157" y="915"/>
                  </a:lnTo>
                  <a:lnTo>
                    <a:pt x="1149" y="934"/>
                  </a:lnTo>
                  <a:lnTo>
                    <a:pt x="1142" y="952"/>
                  </a:lnTo>
                  <a:lnTo>
                    <a:pt x="1132" y="968"/>
                  </a:lnTo>
                  <a:lnTo>
                    <a:pt x="1120" y="981"/>
                  </a:lnTo>
                  <a:lnTo>
                    <a:pt x="1106" y="987"/>
                  </a:lnTo>
                  <a:lnTo>
                    <a:pt x="1086" y="987"/>
                  </a:lnTo>
                  <a:lnTo>
                    <a:pt x="1072" y="998"/>
                  </a:lnTo>
                  <a:lnTo>
                    <a:pt x="1058" y="1011"/>
                  </a:lnTo>
                  <a:lnTo>
                    <a:pt x="1044" y="1025"/>
                  </a:lnTo>
                  <a:lnTo>
                    <a:pt x="1031" y="1040"/>
                  </a:lnTo>
                  <a:lnTo>
                    <a:pt x="1018" y="1056"/>
                  </a:lnTo>
                  <a:lnTo>
                    <a:pt x="1008" y="1073"/>
                  </a:lnTo>
                  <a:lnTo>
                    <a:pt x="998" y="1089"/>
                  </a:lnTo>
                  <a:lnTo>
                    <a:pt x="991" y="1107"/>
                  </a:lnTo>
                  <a:lnTo>
                    <a:pt x="1001" y="1111"/>
                  </a:lnTo>
                  <a:lnTo>
                    <a:pt x="1011" y="1108"/>
                  </a:lnTo>
                  <a:lnTo>
                    <a:pt x="1021" y="1100"/>
                  </a:lnTo>
                  <a:lnTo>
                    <a:pt x="1032" y="1096"/>
                  </a:lnTo>
                  <a:lnTo>
                    <a:pt x="932" y="1429"/>
                  </a:lnTo>
                  <a:lnTo>
                    <a:pt x="903" y="1488"/>
                  </a:lnTo>
                  <a:lnTo>
                    <a:pt x="878" y="1549"/>
                  </a:lnTo>
                  <a:lnTo>
                    <a:pt x="856" y="1611"/>
                  </a:lnTo>
                  <a:lnTo>
                    <a:pt x="839" y="1675"/>
                  </a:lnTo>
                  <a:lnTo>
                    <a:pt x="824" y="1740"/>
                  </a:lnTo>
                  <a:lnTo>
                    <a:pt x="811" y="1805"/>
                  </a:lnTo>
                  <a:lnTo>
                    <a:pt x="801" y="1872"/>
                  </a:lnTo>
                  <a:lnTo>
                    <a:pt x="793" y="1941"/>
                  </a:lnTo>
                  <a:lnTo>
                    <a:pt x="788" y="1946"/>
                  </a:lnTo>
                  <a:lnTo>
                    <a:pt x="784" y="1949"/>
                  </a:lnTo>
                  <a:lnTo>
                    <a:pt x="778" y="1952"/>
                  </a:lnTo>
                  <a:lnTo>
                    <a:pt x="773" y="1955"/>
                  </a:lnTo>
                  <a:lnTo>
                    <a:pt x="766" y="1957"/>
                  </a:lnTo>
                  <a:lnTo>
                    <a:pt x="760" y="1959"/>
                  </a:lnTo>
                  <a:lnTo>
                    <a:pt x="753" y="1959"/>
                  </a:lnTo>
                  <a:lnTo>
                    <a:pt x="746" y="1959"/>
                  </a:lnTo>
                  <a:lnTo>
                    <a:pt x="719" y="1960"/>
                  </a:lnTo>
                  <a:lnTo>
                    <a:pt x="693" y="1960"/>
                  </a:lnTo>
                  <a:lnTo>
                    <a:pt x="668" y="1959"/>
                  </a:lnTo>
                  <a:lnTo>
                    <a:pt x="644" y="1955"/>
                  </a:lnTo>
                  <a:lnTo>
                    <a:pt x="619" y="1951"/>
                  </a:lnTo>
                  <a:lnTo>
                    <a:pt x="595" y="1943"/>
                  </a:lnTo>
                  <a:lnTo>
                    <a:pt x="573" y="1935"/>
                  </a:lnTo>
                  <a:lnTo>
                    <a:pt x="550" y="1925"/>
                  </a:lnTo>
                  <a:lnTo>
                    <a:pt x="558" y="1920"/>
                  </a:lnTo>
                  <a:lnTo>
                    <a:pt x="567" y="1915"/>
                  </a:lnTo>
                  <a:lnTo>
                    <a:pt x="577" y="1912"/>
                  </a:lnTo>
                  <a:lnTo>
                    <a:pt x="587" y="1911"/>
                  </a:lnTo>
                  <a:lnTo>
                    <a:pt x="597" y="1907"/>
                  </a:lnTo>
                  <a:lnTo>
                    <a:pt x="604" y="1901"/>
                  </a:lnTo>
                  <a:lnTo>
                    <a:pt x="611" y="1895"/>
                  </a:lnTo>
                  <a:lnTo>
                    <a:pt x="615" y="1884"/>
                  </a:lnTo>
                  <a:lnTo>
                    <a:pt x="607" y="1877"/>
                  </a:lnTo>
                  <a:lnTo>
                    <a:pt x="597" y="1876"/>
                  </a:lnTo>
                  <a:lnTo>
                    <a:pt x="585" y="1877"/>
                  </a:lnTo>
                  <a:lnTo>
                    <a:pt x="577" y="1880"/>
                  </a:lnTo>
                  <a:lnTo>
                    <a:pt x="537" y="1914"/>
                  </a:lnTo>
                  <a:lnTo>
                    <a:pt x="560" y="1871"/>
                  </a:lnTo>
                  <a:lnTo>
                    <a:pt x="582" y="1825"/>
                  </a:lnTo>
                  <a:lnTo>
                    <a:pt x="605" y="1777"/>
                  </a:lnTo>
                  <a:lnTo>
                    <a:pt x="628" y="1727"/>
                  </a:lnTo>
                  <a:lnTo>
                    <a:pt x="648" y="1676"/>
                  </a:lnTo>
                  <a:lnTo>
                    <a:pt x="666" y="1625"/>
                  </a:lnTo>
                  <a:lnTo>
                    <a:pt x="682" y="1571"/>
                  </a:lnTo>
                  <a:lnTo>
                    <a:pt x="692" y="1517"/>
                  </a:lnTo>
                  <a:lnTo>
                    <a:pt x="692" y="1533"/>
                  </a:lnTo>
                  <a:lnTo>
                    <a:pt x="692" y="1549"/>
                  </a:lnTo>
                  <a:lnTo>
                    <a:pt x="692" y="1566"/>
                  </a:lnTo>
                  <a:lnTo>
                    <a:pt x="695" y="1580"/>
                  </a:lnTo>
                  <a:lnTo>
                    <a:pt x="705" y="1552"/>
                  </a:lnTo>
                  <a:lnTo>
                    <a:pt x="716" y="1525"/>
                  </a:lnTo>
                  <a:lnTo>
                    <a:pt x="724" y="1496"/>
                  </a:lnTo>
                  <a:lnTo>
                    <a:pt x="733" y="1467"/>
                  </a:lnTo>
                  <a:lnTo>
                    <a:pt x="734" y="1431"/>
                  </a:lnTo>
                  <a:lnTo>
                    <a:pt x="730" y="1395"/>
                  </a:lnTo>
                  <a:lnTo>
                    <a:pt x="723" y="1360"/>
                  </a:lnTo>
                  <a:lnTo>
                    <a:pt x="716" y="1325"/>
                  </a:lnTo>
                  <a:lnTo>
                    <a:pt x="707" y="1292"/>
                  </a:lnTo>
                  <a:lnTo>
                    <a:pt x="702" y="1257"/>
                  </a:lnTo>
                  <a:lnTo>
                    <a:pt x="699" y="1220"/>
                  </a:lnTo>
                  <a:lnTo>
                    <a:pt x="702" y="1183"/>
                  </a:lnTo>
                  <a:lnTo>
                    <a:pt x="720" y="1121"/>
                  </a:lnTo>
                  <a:lnTo>
                    <a:pt x="734" y="1056"/>
                  </a:lnTo>
                  <a:lnTo>
                    <a:pt x="746" y="989"/>
                  </a:lnTo>
                  <a:lnTo>
                    <a:pt x="754" y="920"/>
                  </a:lnTo>
                  <a:lnTo>
                    <a:pt x="760" y="851"/>
                  </a:lnTo>
                  <a:lnTo>
                    <a:pt x="763" y="783"/>
                  </a:lnTo>
                  <a:lnTo>
                    <a:pt x="764" y="716"/>
                  </a:lnTo>
                  <a:lnTo>
                    <a:pt x="763" y="649"/>
                  </a:lnTo>
                  <a:lnTo>
                    <a:pt x="764" y="636"/>
                  </a:lnTo>
                  <a:lnTo>
                    <a:pt x="768" y="623"/>
                  </a:lnTo>
                  <a:lnTo>
                    <a:pt x="773" y="612"/>
                  </a:lnTo>
                  <a:lnTo>
                    <a:pt x="776" y="599"/>
                  </a:lnTo>
                  <a:lnTo>
                    <a:pt x="768" y="599"/>
                  </a:lnTo>
                  <a:lnTo>
                    <a:pt x="761" y="603"/>
                  </a:lnTo>
                  <a:lnTo>
                    <a:pt x="754" y="609"/>
                  </a:lnTo>
                  <a:lnTo>
                    <a:pt x="746" y="612"/>
                  </a:lnTo>
                  <a:lnTo>
                    <a:pt x="723" y="615"/>
                  </a:lnTo>
                  <a:lnTo>
                    <a:pt x="699" y="617"/>
                  </a:lnTo>
                  <a:lnTo>
                    <a:pt x="675" y="617"/>
                  </a:lnTo>
                  <a:lnTo>
                    <a:pt x="651" y="617"/>
                  </a:lnTo>
                  <a:lnTo>
                    <a:pt x="625" y="615"/>
                  </a:lnTo>
                  <a:lnTo>
                    <a:pt x="601" y="614"/>
                  </a:lnTo>
                  <a:lnTo>
                    <a:pt x="575" y="614"/>
                  </a:lnTo>
                  <a:lnTo>
                    <a:pt x="551" y="612"/>
                  </a:lnTo>
                  <a:lnTo>
                    <a:pt x="526" y="612"/>
                  </a:lnTo>
                  <a:lnTo>
                    <a:pt x="502" y="614"/>
                  </a:lnTo>
                  <a:lnTo>
                    <a:pt x="477" y="617"/>
                  </a:lnTo>
                  <a:lnTo>
                    <a:pt x="455" y="620"/>
                  </a:lnTo>
                  <a:lnTo>
                    <a:pt x="432" y="627"/>
                  </a:lnTo>
                  <a:lnTo>
                    <a:pt x="409" y="636"/>
                  </a:lnTo>
                  <a:lnTo>
                    <a:pt x="388" y="646"/>
                  </a:lnTo>
                  <a:lnTo>
                    <a:pt x="368" y="660"/>
                  </a:lnTo>
                  <a:lnTo>
                    <a:pt x="362" y="668"/>
                  </a:lnTo>
                  <a:lnTo>
                    <a:pt x="368" y="655"/>
                  </a:lnTo>
                  <a:lnTo>
                    <a:pt x="377" y="644"/>
                  </a:lnTo>
                  <a:lnTo>
                    <a:pt x="387" y="633"/>
                  </a:lnTo>
                  <a:lnTo>
                    <a:pt x="398" y="622"/>
                  </a:lnTo>
                  <a:lnTo>
                    <a:pt x="409" y="611"/>
                  </a:lnTo>
                  <a:lnTo>
                    <a:pt x="421" y="598"/>
                  </a:lnTo>
                  <a:lnTo>
                    <a:pt x="429" y="585"/>
                  </a:lnTo>
                  <a:lnTo>
                    <a:pt x="435" y="569"/>
                  </a:lnTo>
                  <a:lnTo>
                    <a:pt x="426" y="561"/>
                  </a:lnTo>
                  <a:lnTo>
                    <a:pt x="418" y="556"/>
                  </a:lnTo>
                  <a:lnTo>
                    <a:pt x="408" y="553"/>
                  </a:lnTo>
                  <a:lnTo>
                    <a:pt x="398" y="552"/>
                  </a:lnTo>
                  <a:lnTo>
                    <a:pt x="387" y="552"/>
                  </a:lnTo>
                  <a:lnTo>
                    <a:pt x="375" y="550"/>
                  </a:lnTo>
                  <a:lnTo>
                    <a:pt x="365" y="548"/>
                  </a:lnTo>
                  <a:lnTo>
                    <a:pt x="355" y="547"/>
                  </a:lnTo>
                  <a:lnTo>
                    <a:pt x="358" y="542"/>
                  </a:lnTo>
                  <a:lnTo>
                    <a:pt x="362" y="539"/>
                  </a:lnTo>
                  <a:lnTo>
                    <a:pt x="365" y="534"/>
                  </a:lnTo>
                  <a:lnTo>
                    <a:pt x="365" y="528"/>
                  </a:lnTo>
                  <a:lnTo>
                    <a:pt x="354" y="523"/>
                  </a:lnTo>
                  <a:lnTo>
                    <a:pt x="341" y="523"/>
                  </a:lnTo>
                  <a:lnTo>
                    <a:pt x="330" y="524"/>
                  </a:lnTo>
                  <a:lnTo>
                    <a:pt x="318" y="529"/>
                  </a:lnTo>
                  <a:lnTo>
                    <a:pt x="306" y="534"/>
                  </a:lnTo>
                  <a:lnTo>
                    <a:pt x="294" y="539"/>
                  </a:lnTo>
                  <a:lnTo>
                    <a:pt x="282" y="544"/>
                  </a:lnTo>
                  <a:lnTo>
                    <a:pt x="270" y="547"/>
                  </a:lnTo>
                  <a:lnTo>
                    <a:pt x="249" y="556"/>
                  </a:lnTo>
                  <a:lnTo>
                    <a:pt x="229" y="572"/>
                  </a:lnTo>
                  <a:lnTo>
                    <a:pt x="211" y="590"/>
                  </a:lnTo>
                  <a:lnTo>
                    <a:pt x="194" y="609"/>
                  </a:lnTo>
                  <a:lnTo>
                    <a:pt x="175" y="627"/>
                  </a:lnTo>
                  <a:lnTo>
                    <a:pt x="155" y="639"/>
                  </a:lnTo>
                  <a:lnTo>
                    <a:pt x="132" y="644"/>
                  </a:lnTo>
                  <a:lnTo>
                    <a:pt x="108" y="641"/>
                  </a:lnTo>
                  <a:lnTo>
                    <a:pt x="96" y="635"/>
                  </a:lnTo>
                  <a:lnTo>
                    <a:pt x="81" y="628"/>
                  </a:lnTo>
                  <a:lnTo>
                    <a:pt x="69" y="622"/>
                  </a:lnTo>
                  <a:lnTo>
                    <a:pt x="54" y="614"/>
                  </a:lnTo>
                  <a:lnTo>
                    <a:pt x="40" y="607"/>
                  </a:lnTo>
                  <a:lnTo>
                    <a:pt x="27" y="599"/>
                  </a:lnTo>
                  <a:lnTo>
                    <a:pt x="13" y="590"/>
                  </a:lnTo>
                  <a:lnTo>
                    <a:pt x="0" y="580"/>
                  </a:lnTo>
                  <a:lnTo>
                    <a:pt x="40" y="540"/>
                  </a:lnTo>
                  <a:lnTo>
                    <a:pt x="69" y="496"/>
                  </a:lnTo>
                  <a:lnTo>
                    <a:pt x="87" y="446"/>
                  </a:lnTo>
                  <a:lnTo>
                    <a:pt x="101" y="394"/>
                  </a:lnTo>
                  <a:lnTo>
                    <a:pt x="114" y="343"/>
                  </a:lnTo>
                  <a:lnTo>
                    <a:pt x="130" y="292"/>
                  </a:lnTo>
                  <a:lnTo>
                    <a:pt x="151" y="242"/>
                  </a:lnTo>
                  <a:lnTo>
                    <a:pt x="182" y="199"/>
                  </a:lnTo>
                  <a:lnTo>
                    <a:pt x="199" y="175"/>
                  </a:lnTo>
                  <a:lnTo>
                    <a:pt x="216" y="151"/>
                  </a:lnTo>
                  <a:lnTo>
                    <a:pt x="235" y="130"/>
                  </a:lnTo>
                  <a:lnTo>
                    <a:pt x="255" y="110"/>
                  </a:lnTo>
                  <a:lnTo>
                    <a:pt x="274" y="91"/>
                  </a:lnTo>
                  <a:lnTo>
                    <a:pt x="296" y="73"/>
                  </a:lnTo>
                  <a:lnTo>
                    <a:pt x="317" y="59"/>
                  </a:lnTo>
                  <a:lnTo>
                    <a:pt x="338" y="44"/>
                  </a:lnTo>
                  <a:lnTo>
                    <a:pt x="361" y="33"/>
                  </a:lnTo>
                  <a:lnTo>
                    <a:pt x="385" y="22"/>
                  </a:lnTo>
                  <a:lnTo>
                    <a:pt x="409" y="14"/>
                  </a:lnTo>
                  <a:lnTo>
                    <a:pt x="433" y="8"/>
                  </a:lnTo>
                  <a:lnTo>
                    <a:pt x="459" y="3"/>
                  </a:lnTo>
                  <a:lnTo>
                    <a:pt x="486" y="0"/>
                  </a:lnTo>
                  <a:lnTo>
                    <a:pt x="513" y="0"/>
                  </a:lnTo>
                  <a:lnTo>
                    <a:pt x="540" y="1"/>
                  </a:lnTo>
                  <a:lnTo>
                    <a:pt x="556" y="3"/>
                  </a:lnTo>
                  <a:lnTo>
                    <a:pt x="571" y="3"/>
                  </a:lnTo>
                  <a:lnTo>
                    <a:pt x="587" y="1"/>
                  </a:lnTo>
                  <a:lnTo>
                    <a:pt x="601" y="1"/>
                  </a:lnTo>
                  <a:lnTo>
                    <a:pt x="617" y="1"/>
                  </a:lnTo>
                  <a:lnTo>
                    <a:pt x="631" y="3"/>
                  </a:lnTo>
                  <a:lnTo>
                    <a:pt x="645" y="6"/>
                  </a:lnTo>
                  <a:lnTo>
                    <a:pt x="658" y="1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341360" y="3057480"/>
              <a:ext cx="220680" cy="177840"/>
            </a:xfrm>
            <a:custGeom>
              <a:avLst/>
              <a:gdLst/>
              <a:ahLst/>
              <a:rect l="l" t="t" r="r" b="b"/>
              <a:pathLst>
                <a:path w="276" h="225">
                  <a:moveTo>
                    <a:pt x="267" y="54"/>
                  </a:moveTo>
                  <a:lnTo>
                    <a:pt x="269" y="65"/>
                  </a:lnTo>
                  <a:lnTo>
                    <a:pt x="272" y="77"/>
                  </a:lnTo>
                  <a:lnTo>
                    <a:pt x="274" y="89"/>
                  </a:lnTo>
                  <a:lnTo>
                    <a:pt x="276" y="101"/>
                  </a:lnTo>
                  <a:lnTo>
                    <a:pt x="267" y="94"/>
                  </a:lnTo>
                  <a:lnTo>
                    <a:pt x="257" y="88"/>
                  </a:lnTo>
                  <a:lnTo>
                    <a:pt x="248" y="80"/>
                  </a:lnTo>
                  <a:lnTo>
                    <a:pt x="240" y="72"/>
                  </a:lnTo>
                  <a:lnTo>
                    <a:pt x="231" y="64"/>
                  </a:lnTo>
                  <a:lnTo>
                    <a:pt x="223" y="54"/>
                  </a:lnTo>
                  <a:lnTo>
                    <a:pt x="214" y="45"/>
                  </a:lnTo>
                  <a:lnTo>
                    <a:pt x="205" y="35"/>
                  </a:lnTo>
                  <a:lnTo>
                    <a:pt x="187" y="54"/>
                  </a:lnTo>
                  <a:lnTo>
                    <a:pt x="167" y="73"/>
                  </a:lnTo>
                  <a:lnTo>
                    <a:pt x="147" y="93"/>
                  </a:lnTo>
                  <a:lnTo>
                    <a:pt x="129" y="112"/>
                  </a:lnTo>
                  <a:lnTo>
                    <a:pt x="110" y="132"/>
                  </a:lnTo>
                  <a:lnTo>
                    <a:pt x="95" y="155"/>
                  </a:lnTo>
                  <a:lnTo>
                    <a:pt x="81" y="177"/>
                  </a:lnTo>
                  <a:lnTo>
                    <a:pt x="71" y="203"/>
                  </a:lnTo>
                  <a:lnTo>
                    <a:pt x="44" y="225"/>
                  </a:lnTo>
                  <a:lnTo>
                    <a:pt x="47" y="214"/>
                  </a:lnTo>
                  <a:lnTo>
                    <a:pt x="49" y="204"/>
                  </a:lnTo>
                  <a:lnTo>
                    <a:pt x="52" y="195"/>
                  </a:lnTo>
                  <a:lnTo>
                    <a:pt x="54" y="184"/>
                  </a:lnTo>
                  <a:lnTo>
                    <a:pt x="48" y="182"/>
                  </a:lnTo>
                  <a:lnTo>
                    <a:pt x="42" y="182"/>
                  </a:lnTo>
                  <a:lnTo>
                    <a:pt x="37" y="184"/>
                  </a:lnTo>
                  <a:lnTo>
                    <a:pt x="31" y="187"/>
                  </a:lnTo>
                  <a:lnTo>
                    <a:pt x="25" y="190"/>
                  </a:lnTo>
                  <a:lnTo>
                    <a:pt x="20" y="193"/>
                  </a:lnTo>
                  <a:lnTo>
                    <a:pt x="12" y="196"/>
                  </a:lnTo>
                  <a:lnTo>
                    <a:pt x="7" y="198"/>
                  </a:lnTo>
                  <a:lnTo>
                    <a:pt x="17" y="185"/>
                  </a:lnTo>
                  <a:lnTo>
                    <a:pt x="20" y="176"/>
                  </a:lnTo>
                  <a:lnTo>
                    <a:pt x="17" y="168"/>
                  </a:lnTo>
                  <a:lnTo>
                    <a:pt x="11" y="161"/>
                  </a:lnTo>
                  <a:lnTo>
                    <a:pt x="4" y="155"/>
                  </a:lnTo>
                  <a:lnTo>
                    <a:pt x="0" y="147"/>
                  </a:lnTo>
                  <a:lnTo>
                    <a:pt x="0" y="136"/>
                  </a:lnTo>
                  <a:lnTo>
                    <a:pt x="7" y="123"/>
                  </a:lnTo>
                  <a:lnTo>
                    <a:pt x="29" y="101"/>
                  </a:lnTo>
                  <a:lnTo>
                    <a:pt x="52" y="81"/>
                  </a:lnTo>
                  <a:lnTo>
                    <a:pt x="75" y="64"/>
                  </a:lnTo>
                  <a:lnTo>
                    <a:pt x="100" y="48"/>
                  </a:lnTo>
                  <a:lnTo>
                    <a:pt x="125" y="35"/>
                  </a:lnTo>
                  <a:lnTo>
                    <a:pt x="150" y="22"/>
                  </a:lnTo>
                  <a:lnTo>
                    <a:pt x="176" y="11"/>
                  </a:lnTo>
                  <a:lnTo>
                    <a:pt x="203" y="2"/>
                  </a:lnTo>
                  <a:lnTo>
                    <a:pt x="214" y="0"/>
                  </a:lnTo>
                  <a:lnTo>
                    <a:pt x="225" y="2"/>
                  </a:lnTo>
                  <a:lnTo>
                    <a:pt x="235" y="6"/>
                  </a:lnTo>
                  <a:lnTo>
                    <a:pt x="244" y="14"/>
                  </a:lnTo>
                  <a:lnTo>
                    <a:pt x="251" y="24"/>
                  </a:lnTo>
                  <a:lnTo>
                    <a:pt x="257" y="34"/>
                  </a:lnTo>
                  <a:lnTo>
                    <a:pt x="262" y="43"/>
                  </a:lnTo>
                  <a:lnTo>
                    <a:pt x="26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1101600" y="3229200"/>
              <a:ext cx="32040" cy="6336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20" y="80"/>
                  </a:moveTo>
                  <a:lnTo>
                    <a:pt x="10" y="69"/>
                  </a:lnTo>
                  <a:lnTo>
                    <a:pt x="3" y="54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2" y="16"/>
                  </a:lnTo>
                  <a:lnTo>
                    <a:pt x="22" y="8"/>
                  </a:lnTo>
                  <a:lnTo>
                    <a:pt x="30" y="3"/>
                  </a:lnTo>
                  <a:lnTo>
                    <a:pt x="40" y="0"/>
                  </a:lnTo>
                  <a:lnTo>
                    <a:pt x="37" y="18"/>
                  </a:lnTo>
                  <a:lnTo>
                    <a:pt x="32" y="37"/>
                  </a:lnTo>
                  <a:lnTo>
                    <a:pt x="24" y="59"/>
                  </a:lnTo>
                  <a:lnTo>
                    <a:pt x="2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125360" y="3259440"/>
              <a:ext cx="71640" cy="53640"/>
            </a:xfrm>
            <a:custGeom>
              <a:avLst/>
              <a:gdLst/>
              <a:ahLst/>
              <a:rect l="l" t="t" r="r" b="b"/>
              <a:pathLst>
                <a:path w="91" h="67">
                  <a:moveTo>
                    <a:pt x="91" y="16"/>
                  </a:moveTo>
                  <a:lnTo>
                    <a:pt x="91" y="32"/>
                  </a:lnTo>
                  <a:lnTo>
                    <a:pt x="84" y="45"/>
                  </a:lnTo>
                  <a:lnTo>
                    <a:pt x="73" y="55"/>
                  </a:lnTo>
                  <a:lnTo>
                    <a:pt x="61" y="64"/>
                  </a:lnTo>
                  <a:lnTo>
                    <a:pt x="50" y="67"/>
                  </a:lnTo>
                  <a:lnTo>
                    <a:pt x="40" y="66"/>
                  </a:lnTo>
                  <a:lnTo>
                    <a:pt x="33" y="59"/>
                  </a:lnTo>
                  <a:lnTo>
                    <a:pt x="27" y="50"/>
                  </a:lnTo>
                  <a:lnTo>
                    <a:pt x="21" y="42"/>
                  </a:lnTo>
                  <a:lnTo>
                    <a:pt x="16" y="37"/>
                  </a:lnTo>
                  <a:lnTo>
                    <a:pt x="9" y="37"/>
                  </a:lnTo>
                  <a:lnTo>
                    <a:pt x="0" y="45"/>
                  </a:lnTo>
                  <a:lnTo>
                    <a:pt x="3" y="31"/>
                  </a:lnTo>
                  <a:lnTo>
                    <a:pt x="10" y="16"/>
                  </a:lnTo>
                  <a:lnTo>
                    <a:pt x="20" y="5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4" y="2"/>
                  </a:lnTo>
                  <a:lnTo>
                    <a:pt x="81" y="5"/>
                  </a:lnTo>
                  <a:lnTo>
                    <a:pt x="87" y="10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422360" y="3364200"/>
              <a:ext cx="93600" cy="9972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108" y="41"/>
                  </a:moveTo>
                  <a:lnTo>
                    <a:pt x="113" y="56"/>
                  </a:lnTo>
                  <a:lnTo>
                    <a:pt x="116" y="71"/>
                  </a:lnTo>
                  <a:lnTo>
                    <a:pt x="118" y="87"/>
                  </a:lnTo>
                  <a:lnTo>
                    <a:pt x="115" y="102"/>
                  </a:lnTo>
                  <a:lnTo>
                    <a:pt x="98" y="118"/>
                  </a:lnTo>
                  <a:lnTo>
                    <a:pt x="85" y="124"/>
                  </a:lnTo>
                  <a:lnTo>
                    <a:pt x="74" y="123"/>
                  </a:lnTo>
                  <a:lnTo>
                    <a:pt x="64" y="118"/>
                  </a:lnTo>
                  <a:lnTo>
                    <a:pt x="52" y="108"/>
                  </a:lnTo>
                  <a:lnTo>
                    <a:pt x="38" y="99"/>
                  </a:lnTo>
                  <a:lnTo>
                    <a:pt x="21" y="89"/>
                  </a:lnTo>
                  <a:lnTo>
                    <a:pt x="0" y="83"/>
                  </a:lnTo>
                  <a:lnTo>
                    <a:pt x="8" y="75"/>
                  </a:lnTo>
                  <a:lnTo>
                    <a:pt x="20" y="70"/>
                  </a:lnTo>
                  <a:lnTo>
                    <a:pt x="35" y="67"/>
                  </a:lnTo>
                  <a:lnTo>
                    <a:pt x="50" y="65"/>
                  </a:lnTo>
                  <a:lnTo>
                    <a:pt x="62" y="62"/>
                  </a:lnTo>
                  <a:lnTo>
                    <a:pt x="69" y="54"/>
                  </a:lnTo>
                  <a:lnTo>
                    <a:pt x="71" y="40"/>
                  </a:lnTo>
                  <a:lnTo>
                    <a:pt x="64" y="19"/>
                  </a:lnTo>
                  <a:lnTo>
                    <a:pt x="59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82" y="8"/>
                  </a:lnTo>
                  <a:lnTo>
                    <a:pt x="88" y="14"/>
                  </a:lnTo>
                  <a:lnTo>
                    <a:pt x="92" y="20"/>
                  </a:lnTo>
                  <a:lnTo>
                    <a:pt x="98" y="27"/>
                  </a:lnTo>
                  <a:lnTo>
                    <a:pt x="102" y="35"/>
                  </a:lnTo>
                  <a:lnTo>
                    <a:pt x="10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98480" y="3502080"/>
              <a:ext cx="95400" cy="73080"/>
            </a:xfrm>
            <a:custGeom>
              <a:avLst/>
              <a:gdLst/>
              <a:ahLst/>
              <a:rect l="l" t="t" r="r" b="b"/>
              <a:pathLst>
                <a:path w="120" h="91">
                  <a:moveTo>
                    <a:pt x="115" y="38"/>
                  </a:moveTo>
                  <a:lnTo>
                    <a:pt x="104" y="51"/>
                  </a:lnTo>
                  <a:lnTo>
                    <a:pt x="91" y="60"/>
                  </a:lnTo>
                  <a:lnTo>
                    <a:pt x="77" y="67"/>
                  </a:lnTo>
                  <a:lnTo>
                    <a:pt x="63" y="73"/>
                  </a:lnTo>
                  <a:lnTo>
                    <a:pt x="47" y="78"/>
                  </a:lnTo>
                  <a:lnTo>
                    <a:pt x="32" y="81"/>
                  </a:lnTo>
                  <a:lnTo>
                    <a:pt x="16" y="86"/>
                  </a:lnTo>
                  <a:lnTo>
                    <a:pt x="0" y="91"/>
                  </a:lnTo>
                  <a:lnTo>
                    <a:pt x="8" y="81"/>
                  </a:lnTo>
                  <a:lnTo>
                    <a:pt x="13" y="71"/>
                  </a:lnTo>
                  <a:lnTo>
                    <a:pt x="19" y="63"/>
                  </a:lnTo>
                  <a:lnTo>
                    <a:pt x="29" y="57"/>
                  </a:lnTo>
                  <a:lnTo>
                    <a:pt x="36" y="55"/>
                  </a:lnTo>
                  <a:lnTo>
                    <a:pt x="43" y="59"/>
                  </a:lnTo>
                  <a:lnTo>
                    <a:pt x="49" y="60"/>
                  </a:lnTo>
                  <a:lnTo>
                    <a:pt x="56" y="57"/>
                  </a:lnTo>
                  <a:lnTo>
                    <a:pt x="52" y="52"/>
                  </a:lnTo>
                  <a:lnTo>
                    <a:pt x="47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53" y="36"/>
                  </a:lnTo>
                  <a:lnTo>
                    <a:pt x="62" y="36"/>
                  </a:lnTo>
                  <a:lnTo>
                    <a:pt x="69" y="38"/>
                  </a:lnTo>
                  <a:lnTo>
                    <a:pt x="76" y="39"/>
                  </a:lnTo>
                  <a:lnTo>
                    <a:pt x="83" y="41"/>
                  </a:lnTo>
                  <a:lnTo>
                    <a:pt x="90" y="43"/>
                  </a:lnTo>
                  <a:lnTo>
                    <a:pt x="98" y="43"/>
                  </a:lnTo>
                  <a:lnTo>
                    <a:pt x="106" y="41"/>
                  </a:lnTo>
                  <a:lnTo>
                    <a:pt x="107" y="30"/>
                  </a:lnTo>
                  <a:lnTo>
                    <a:pt x="101" y="17"/>
                  </a:lnTo>
                  <a:lnTo>
                    <a:pt x="100" y="8"/>
                  </a:lnTo>
                  <a:lnTo>
                    <a:pt x="113" y="0"/>
                  </a:lnTo>
                  <a:lnTo>
                    <a:pt x="117" y="8"/>
                  </a:lnTo>
                  <a:lnTo>
                    <a:pt x="120" y="17"/>
                  </a:lnTo>
                  <a:lnTo>
                    <a:pt x="120" y="28"/>
                  </a:lnTo>
                  <a:lnTo>
                    <a:pt x="115" y="3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849240" y="3583080"/>
              <a:ext cx="96840" cy="42840"/>
            </a:xfrm>
            <a:custGeom>
              <a:avLst/>
              <a:gdLst/>
              <a:ahLst/>
              <a:rect l="l" t="t" r="r" b="b"/>
              <a:pathLst>
                <a:path w="122" h="54">
                  <a:moveTo>
                    <a:pt x="122" y="11"/>
                  </a:moveTo>
                  <a:lnTo>
                    <a:pt x="122" y="22"/>
                  </a:lnTo>
                  <a:lnTo>
                    <a:pt x="115" y="30"/>
                  </a:lnTo>
                  <a:lnTo>
                    <a:pt x="107" y="36"/>
                  </a:lnTo>
                  <a:lnTo>
                    <a:pt x="100" y="43"/>
                  </a:lnTo>
                  <a:lnTo>
                    <a:pt x="88" y="46"/>
                  </a:lnTo>
                  <a:lnTo>
                    <a:pt x="76" y="49"/>
                  </a:lnTo>
                  <a:lnTo>
                    <a:pt x="64" y="51"/>
                  </a:lnTo>
                  <a:lnTo>
                    <a:pt x="51" y="52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3" y="54"/>
                  </a:lnTo>
                  <a:lnTo>
                    <a:pt x="0" y="54"/>
                  </a:lnTo>
                  <a:lnTo>
                    <a:pt x="3" y="48"/>
                  </a:lnTo>
                  <a:lnTo>
                    <a:pt x="7" y="43"/>
                  </a:lnTo>
                  <a:lnTo>
                    <a:pt x="13" y="41"/>
                  </a:lnTo>
                  <a:lnTo>
                    <a:pt x="17" y="38"/>
                  </a:lnTo>
                  <a:lnTo>
                    <a:pt x="32" y="40"/>
                  </a:lnTo>
                  <a:lnTo>
                    <a:pt x="44" y="36"/>
                  </a:lnTo>
                  <a:lnTo>
                    <a:pt x="56" y="32"/>
                  </a:lnTo>
                  <a:lnTo>
                    <a:pt x="67" y="25"/>
                  </a:lnTo>
                  <a:lnTo>
                    <a:pt x="78" y="19"/>
                  </a:lnTo>
                  <a:lnTo>
                    <a:pt x="90" y="11"/>
                  </a:lnTo>
                  <a:lnTo>
                    <a:pt x="101" y="4"/>
                  </a:lnTo>
                  <a:lnTo>
                    <a:pt x="112" y="0"/>
                  </a:lnTo>
                  <a:lnTo>
                    <a:pt x="12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38360" y="3702240"/>
              <a:ext cx="285480" cy="419040"/>
            </a:xfrm>
            <a:custGeom>
              <a:avLst/>
              <a:gdLst/>
              <a:ahLst/>
              <a:rect l="l" t="t" r="r" b="b"/>
              <a:pathLst>
                <a:path w="360" h="528">
                  <a:moveTo>
                    <a:pt x="111" y="17"/>
                  </a:moveTo>
                  <a:lnTo>
                    <a:pt x="95" y="65"/>
                  </a:lnTo>
                  <a:lnTo>
                    <a:pt x="85" y="116"/>
                  </a:lnTo>
                  <a:lnTo>
                    <a:pt x="79" y="169"/>
                  </a:lnTo>
                  <a:lnTo>
                    <a:pt x="81" y="223"/>
                  </a:lnTo>
                  <a:lnTo>
                    <a:pt x="85" y="276"/>
                  </a:lnTo>
                  <a:lnTo>
                    <a:pt x="94" y="328"/>
                  </a:lnTo>
                  <a:lnTo>
                    <a:pt x="106" y="378"/>
                  </a:lnTo>
                  <a:lnTo>
                    <a:pt x="122" y="426"/>
                  </a:lnTo>
                  <a:lnTo>
                    <a:pt x="129" y="437"/>
                  </a:lnTo>
                  <a:lnTo>
                    <a:pt x="138" y="446"/>
                  </a:lnTo>
                  <a:lnTo>
                    <a:pt x="146" y="457"/>
                  </a:lnTo>
                  <a:lnTo>
                    <a:pt x="153" y="467"/>
                  </a:lnTo>
                  <a:lnTo>
                    <a:pt x="160" y="478"/>
                  </a:lnTo>
                  <a:lnTo>
                    <a:pt x="164" y="489"/>
                  </a:lnTo>
                  <a:lnTo>
                    <a:pt x="164" y="502"/>
                  </a:lnTo>
                  <a:lnTo>
                    <a:pt x="162" y="516"/>
                  </a:lnTo>
                  <a:lnTo>
                    <a:pt x="167" y="510"/>
                  </a:lnTo>
                  <a:lnTo>
                    <a:pt x="174" y="502"/>
                  </a:lnTo>
                  <a:lnTo>
                    <a:pt x="182" y="494"/>
                  </a:lnTo>
                  <a:lnTo>
                    <a:pt x="189" y="488"/>
                  </a:lnTo>
                  <a:lnTo>
                    <a:pt x="196" y="483"/>
                  </a:lnTo>
                  <a:lnTo>
                    <a:pt x="203" y="483"/>
                  </a:lnTo>
                  <a:lnTo>
                    <a:pt x="210" y="488"/>
                  </a:lnTo>
                  <a:lnTo>
                    <a:pt x="216" y="497"/>
                  </a:lnTo>
                  <a:lnTo>
                    <a:pt x="223" y="481"/>
                  </a:lnTo>
                  <a:lnTo>
                    <a:pt x="233" y="467"/>
                  </a:lnTo>
                  <a:lnTo>
                    <a:pt x="243" y="451"/>
                  </a:lnTo>
                  <a:lnTo>
                    <a:pt x="255" y="438"/>
                  </a:lnTo>
                  <a:lnTo>
                    <a:pt x="268" y="426"/>
                  </a:lnTo>
                  <a:lnTo>
                    <a:pt x="282" y="416"/>
                  </a:lnTo>
                  <a:lnTo>
                    <a:pt x="298" y="408"/>
                  </a:lnTo>
                  <a:lnTo>
                    <a:pt x="314" y="403"/>
                  </a:lnTo>
                  <a:lnTo>
                    <a:pt x="321" y="402"/>
                  </a:lnTo>
                  <a:lnTo>
                    <a:pt x="328" y="402"/>
                  </a:lnTo>
                  <a:lnTo>
                    <a:pt x="333" y="403"/>
                  </a:lnTo>
                  <a:lnTo>
                    <a:pt x="339" y="406"/>
                  </a:lnTo>
                  <a:lnTo>
                    <a:pt x="345" y="410"/>
                  </a:lnTo>
                  <a:lnTo>
                    <a:pt x="350" y="413"/>
                  </a:lnTo>
                  <a:lnTo>
                    <a:pt x="355" y="418"/>
                  </a:lnTo>
                  <a:lnTo>
                    <a:pt x="360" y="422"/>
                  </a:lnTo>
                  <a:lnTo>
                    <a:pt x="343" y="451"/>
                  </a:lnTo>
                  <a:lnTo>
                    <a:pt x="322" y="477"/>
                  </a:lnTo>
                  <a:lnTo>
                    <a:pt x="299" y="494"/>
                  </a:lnTo>
                  <a:lnTo>
                    <a:pt x="274" y="508"/>
                  </a:lnTo>
                  <a:lnTo>
                    <a:pt x="247" y="520"/>
                  </a:lnTo>
                  <a:lnTo>
                    <a:pt x="220" y="526"/>
                  </a:lnTo>
                  <a:lnTo>
                    <a:pt x="190" y="528"/>
                  </a:lnTo>
                  <a:lnTo>
                    <a:pt x="162" y="528"/>
                  </a:lnTo>
                  <a:lnTo>
                    <a:pt x="128" y="483"/>
                  </a:lnTo>
                  <a:lnTo>
                    <a:pt x="98" y="435"/>
                  </a:lnTo>
                  <a:lnTo>
                    <a:pt x="72" y="386"/>
                  </a:lnTo>
                  <a:lnTo>
                    <a:pt x="52" y="335"/>
                  </a:lnTo>
                  <a:lnTo>
                    <a:pt x="35" y="282"/>
                  </a:lnTo>
                  <a:lnTo>
                    <a:pt x="21" y="228"/>
                  </a:lnTo>
                  <a:lnTo>
                    <a:pt x="10" y="172"/>
                  </a:lnTo>
                  <a:lnTo>
                    <a:pt x="0" y="116"/>
                  </a:lnTo>
                  <a:lnTo>
                    <a:pt x="1" y="99"/>
                  </a:lnTo>
                  <a:lnTo>
                    <a:pt x="3" y="83"/>
                  </a:lnTo>
                  <a:lnTo>
                    <a:pt x="4" y="67"/>
                  </a:lnTo>
                  <a:lnTo>
                    <a:pt x="8" y="51"/>
                  </a:lnTo>
                  <a:lnTo>
                    <a:pt x="14" y="36"/>
                  </a:lnTo>
                  <a:lnTo>
                    <a:pt x="23" y="24"/>
                  </a:lnTo>
                  <a:lnTo>
                    <a:pt x="32" y="14"/>
                  </a:lnTo>
                  <a:lnTo>
                    <a:pt x="47" y="6"/>
                  </a:lnTo>
                  <a:lnTo>
                    <a:pt x="55" y="4"/>
                  </a:lnTo>
                  <a:lnTo>
                    <a:pt x="64" y="3"/>
                  </a:lnTo>
                  <a:lnTo>
                    <a:pt x="74" y="1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99" y="3"/>
                  </a:lnTo>
                  <a:lnTo>
                    <a:pt x="106" y="9"/>
                  </a:lnTo>
                  <a:lnTo>
                    <a:pt x="111" y="1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449360" y="3963960"/>
              <a:ext cx="81000" cy="52560"/>
            </a:xfrm>
            <a:custGeom>
              <a:avLst/>
              <a:gdLst/>
              <a:ahLst/>
              <a:rect l="l" t="t" r="r" b="b"/>
              <a:pathLst>
                <a:path w="101" h="67">
                  <a:moveTo>
                    <a:pt x="101" y="40"/>
                  </a:moveTo>
                  <a:lnTo>
                    <a:pt x="88" y="45"/>
                  </a:lnTo>
                  <a:lnTo>
                    <a:pt x="74" y="51"/>
                  </a:lnTo>
                  <a:lnTo>
                    <a:pt x="61" y="58"/>
                  </a:lnTo>
                  <a:lnTo>
                    <a:pt x="47" y="62"/>
                  </a:lnTo>
                  <a:lnTo>
                    <a:pt x="33" y="67"/>
                  </a:lnTo>
                  <a:lnTo>
                    <a:pt x="21" y="67"/>
                  </a:lnTo>
                  <a:lnTo>
                    <a:pt x="10" y="62"/>
                  </a:lnTo>
                  <a:lnTo>
                    <a:pt x="0" y="53"/>
                  </a:lnTo>
                  <a:lnTo>
                    <a:pt x="6" y="0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31" y="32"/>
                  </a:lnTo>
                  <a:lnTo>
                    <a:pt x="45" y="35"/>
                  </a:lnTo>
                  <a:lnTo>
                    <a:pt x="60" y="37"/>
                  </a:lnTo>
                  <a:lnTo>
                    <a:pt x="74" y="37"/>
                  </a:lnTo>
                  <a:lnTo>
                    <a:pt x="88" y="37"/>
                  </a:lnTo>
                  <a:lnTo>
                    <a:pt x="101" y="40"/>
                  </a:lnTo>
                  <a:close/>
                </a:path>
              </a:pathLst>
            </a:custGeom>
            <a:solidFill>
              <a:srgbClr val="cc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1959120" y="3975120"/>
              <a:ext cx="180720" cy="98640"/>
            </a:xfrm>
            <a:custGeom>
              <a:avLst/>
              <a:gdLst/>
              <a:ahLst/>
              <a:rect l="l" t="t" r="r" b="b"/>
              <a:pathLst>
                <a:path w="229" h="124">
                  <a:moveTo>
                    <a:pt x="229" y="124"/>
                  </a:moveTo>
                  <a:lnTo>
                    <a:pt x="212" y="122"/>
                  </a:lnTo>
                  <a:lnTo>
                    <a:pt x="196" y="119"/>
                  </a:lnTo>
                  <a:lnTo>
                    <a:pt x="180" y="114"/>
                  </a:lnTo>
                  <a:lnTo>
                    <a:pt x="165" y="110"/>
                  </a:lnTo>
                  <a:lnTo>
                    <a:pt x="149" y="103"/>
                  </a:lnTo>
                  <a:lnTo>
                    <a:pt x="135" y="97"/>
                  </a:lnTo>
                  <a:lnTo>
                    <a:pt x="121" y="90"/>
                  </a:lnTo>
                  <a:lnTo>
                    <a:pt x="107" y="83"/>
                  </a:lnTo>
                  <a:lnTo>
                    <a:pt x="92" y="73"/>
                  </a:lnTo>
                  <a:lnTo>
                    <a:pt x="78" y="65"/>
                  </a:lnTo>
                  <a:lnTo>
                    <a:pt x="64" y="55"/>
                  </a:lnTo>
                  <a:lnTo>
                    <a:pt x="51" y="44"/>
                  </a:lnTo>
                  <a:lnTo>
                    <a:pt x="38" y="35"/>
                  </a:lnTo>
                  <a:lnTo>
                    <a:pt x="26" y="23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17" y="1"/>
                  </a:lnTo>
                  <a:lnTo>
                    <a:pt x="33" y="3"/>
                  </a:lnTo>
                  <a:lnTo>
                    <a:pt x="48" y="8"/>
                  </a:lnTo>
                  <a:lnTo>
                    <a:pt x="64" y="14"/>
                  </a:lnTo>
                  <a:lnTo>
                    <a:pt x="78" y="20"/>
                  </a:lnTo>
                  <a:lnTo>
                    <a:pt x="92" y="27"/>
                  </a:lnTo>
                  <a:lnTo>
                    <a:pt x="107" y="36"/>
                  </a:lnTo>
                  <a:lnTo>
                    <a:pt x="121" y="44"/>
                  </a:lnTo>
                  <a:lnTo>
                    <a:pt x="135" y="55"/>
                  </a:lnTo>
                  <a:lnTo>
                    <a:pt x="148" y="65"/>
                  </a:lnTo>
                  <a:lnTo>
                    <a:pt x="162" y="75"/>
                  </a:lnTo>
                  <a:lnTo>
                    <a:pt x="175" y="86"/>
                  </a:lnTo>
                  <a:lnTo>
                    <a:pt x="188" y="95"/>
                  </a:lnTo>
                  <a:lnTo>
                    <a:pt x="202" y="105"/>
                  </a:lnTo>
                  <a:lnTo>
                    <a:pt x="214" y="114"/>
                  </a:lnTo>
                  <a:lnTo>
                    <a:pt x="229" y="124"/>
                  </a:lnTo>
                  <a:close/>
                </a:path>
              </a:pathLst>
            </a:custGeom>
            <a:solidFill>
              <a:srgbClr val="cc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062080" y="3988080"/>
              <a:ext cx="227160" cy="125280"/>
            </a:xfrm>
            <a:custGeom>
              <a:avLst/>
              <a:gdLst/>
              <a:ahLst/>
              <a:rect l="l" t="t" r="r" b="b"/>
              <a:pathLst>
                <a:path w="286" h="157">
                  <a:moveTo>
                    <a:pt x="149" y="78"/>
                  </a:moveTo>
                  <a:lnTo>
                    <a:pt x="286" y="121"/>
                  </a:lnTo>
                  <a:lnTo>
                    <a:pt x="284" y="129"/>
                  </a:lnTo>
                  <a:lnTo>
                    <a:pt x="282" y="138"/>
                  </a:lnTo>
                  <a:lnTo>
                    <a:pt x="281" y="148"/>
                  </a:lnTo>
                  <a:lnTo>
                    <a:pt x="279" y="157"/>
                  </a:lnTo>
                  <a:lnTo>
                    <a:pt x="259" y="156"/>
                  </a:lnTo>
                  <a:lnTo>
                    <a:pt x="238" y="153"/>
                  </a:lnTo>
                  <a:lnTo>
                    <a:pt x="220" y="149"/>
                  </a:lnTo>
                  <a:lnTo>
                    <a:pt x="200" y="143"/>
                  </a:lnTo>
                  <a:lnTo>
                    <a:pt x="181" y="137"/>
                  </a:lnTo>
                  <a:lnTo>
                    <a:pt x="163" y="130"/>
                  </a:lnTo>
                  <a:lnTo>
                    <a:pt x="146" y="121"/>
                  </a:lnTo>
                  <a:lnTo>
                    <a:pt x="127" y="111"/>
                  </a:lnTo>
                  <a:lnTo>
                    <a:pt x="110" y="100"/>
                  </a:lnTo>
                  <a:lnTo>
                    <a:pt x="93" y="89"/>
                  </a:lnTo>
                  <a:lnTo>
                    <a:pt x="78" y="76"/>
                  </a:lnTo>
                  <a:lnTo>
                    <a:pt x="61" y="63"/>
                  </a:lnTo>
                  <a:lnTo>
                    <a:pt x="45" y="51"/>
                  </a:lnTo>
                  <a:lnTo>
                    <a:pt x="30" y="36"/>
                  </a:lnTo>
                  <a:lnTo>
                    <a:pt x="15" y="20"/>
                  </a:lnTo>
                  <a:lnTo>
                    <a:pt x="0" y="6"/>
                  </a:lnTo>
                  <a:lnTo>
                    <a:pt x="8" y="0"/>
                  </a:lnTo>
                  <a:lnTo>
                    <a:pt x="20" y="0"/>
                  </a:lnTo>
                  <a:lnTo>
                    <a:pt x="31" y="4"/>
                  </a:lnTo>
                  <a:lnTo>
                    <a:pt x="39" y="9"/>
                  </a:lnTo>
                  <a:lnTo>
                    <a:pt x="149" y="78"/>
                  </a:lnTo>
                  <a:close/>
                </a:path>
              </a:pathLst>
            </a:custGeom>
            <a:solidFill>
              <a:srgbClr val="cc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751120" y="4019760"/>
              <a:ext cx="128520" cy="9360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62" y="33"/>
                  </a:moveTo>
                  <a:lnTo>
                    <a:pt x="140" y="38"/>
                  </a:lnTo>
                  <a:lnTo>
                    <a:pt x="118" y="46"/>
                  </a:lnTo>
                  <a:lnTo>
                    <a:pt x="98" y="56"/>
                  </a:lnTo>
                  <a:lnTo>
                    <a:pt x="79" y="67"/>
                  </a:lnTo>
                  <a:lnTo>
                    <a:pt x="59" y="78"/>
                  </a:lnTo>
                  <a:lnTo>
                    <a:pt x="39" y="91"/>
                  </a:lnTo>
                  <a:lnTo>
                    <a:pt x="20" y="104"/>
                  </a:lnTo>
                  <a:lnTo>
                    <a:pt x="0" y="116"/>
                  </a:lnTo>
                  <a:lnTo>
                    <a:pt x="17" y="97"/>
                  </a:lnTo>
                  <a:lnTo>
                    <a:pt x="36" y="81"/>
                  </a:lnTo>
                  <a:lnTo>
                    <a:pt x="54" y="65"/>
                  </a:lnTo>
                  <a:lnTo>
                    <a:pt x="74" y="51"/>
                  </a:lnTo>
                  <a:lnTo>
                    <a:pt x="94" y="38"/>
                  </a:lnTo>
                  <a:lnTo>
                    <a:pt x="114" y="26"/>
                  </a:lnTo>
                  <a:lnTo>
                    <a:pt x="135" y="13"/>
                  </a:lnTo>
                  <a:lnTo>
                    <a:pt x="155" y="0"/>
                  </a:lnTo>
                  <a:lnTo>
                    <a:pt x="158" y="8"/>
                  </a:lnTo>
                  <a:lnTo>
                    <a:pt x="159" y="16"/>
                  </a:lnTo>
                  <a:lnTo>
                    <a:pt x="162" y="24"/>
                  </a:lnTo>
                  <a:lnTo>
                    <a:pt x="162" y="3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1461960" y="4038840"/>
              <a:ext cx="38160" cy="381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8" y="0"/>
                  </a:moveTo>
                  <a:lnTo>
                    <a:pt x="38" y="13"/>
                  </a:lnTo>
                  <a:lnTo>
                    <a:pt x="28" y="26"/>
                  </a:lnTo>
                  <a:lnTo>
                    <a:pt x="17" y="37"/>
                  </a:lnTo>
                  <a:lnTo>
                    <a:pt x="7" y="50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1" y="23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c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751120" y="4073760"/>
              <a:ext cx="131760" cy="871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165" y="24"/>
                  </a:moveTo>
                  <a:lnTo>
                    <a:pt x="144" y="33"/>
                  </a:lnTo>
                  <a:lnTo>
                    <a:pt x="123" y="45"/>
                  </a:lnTo>
                  <a:lnTo>
                    <a:pt x="101" y="53"/>
                  </a:lnTo>
                  <a:lnTo>
                    <a:pt x="81" y="62"/>
                  </a:lnTo>
                  <a:lnTo>
                    <a:pt x="60" y="73"/>
                  </a:lnTo>
                  <a:lnTo>
                    <a:pt x="39" y="85"/>
                  </a:lnTo>
                  <a:lnTo>
                    <a:pt x="19" y="96"/>
                  </a:lnTo>
                  <a:lnTo>
                    <a:pt x="0" y="110"/>
                  </a:lnTo>
                  <a:lnTo>
                    <a:pt x="17" y="89"/>
                  </a:lnTo>
                  <a:lnTo>
                    <a:pt x="37" y="72"/>
                  </a:lnTo>
                  <a:lnTo>
                    <a:pt x="56" y="57"/>
                  </a:lnTo>
                  <a:lnTo>
                    <a:pt x="77" y="43"/>
                  </a:lnTo>
                  <a:lnTo>
                    <a:pt x="97" y="30"/>
                  </a:lnTo>
                  <a:lnTo>
                    <a:pt x="118" y="19"/>
                  </a:lnTo>
                  <a:lnTo>
                    <a:pt x="141" y="10"/>
                  </a:lnTo>
                  <a:lnTo>
                    <a:pt x="162" y="0"/>
                  </a:lnTo>
                  <a:lnTo>
                    <a:pt x="165" y="3"/>
                  </a:lnTo>
                  <a:lnTo>
                    <a:pt x="165" y="10"/>
                  </a:lnTo>
                  <a:lnTo>
                    <a:pt x="165" y="18"/>
                  </a:lnTo>
                  <a:lnTo>
                    <a:pt x="165" y="2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535120" y="4089600"/>
              <a:ext cx="165240" cy="171360"/>
            </a:xfrm>
            <a:custGeom>
              <a:avLst/>
              <a:gdLst/>
              <a:ahLst/>
              <a:rect l="l" t="t" r="r" b="b"/>
              <a:pathLst>
                <a:path w="209" h="217">
                  <a:moveTo>
                    <a:pt x="0" y="217"/>
                  </a:moveTo>
                  <a:lnTo>
                    <a:pt x="7" y="203"/>
                  </a:lnTo>
                  <a:lnTo>
                    <a:pt x="16" y="188"/>
                  </a:lnTo>
                  <a:lnTo>
                    <a:pt x="25" y="177"/>
                  </a:lnTo>
                  <a:lnTo>
                    <a:pt x="37" y="166"/>
                  </a:lnTo>
                  <a:lnTo>
                    <a:pt x="47" y="156"/>
                  </a:lnTo>
                  <a:lnTo>
                    <a:pt x="58" y="145"/>
                  </a:lnTo>
                  <a:lnTo>
                    <a:pt x="68" y="134"/>
                  </a:lnTo>
                  <a:lnTo>
                    <a:pt x="78" y="121"/>
                  </a:lnTo>
                  <a:lnTo>
                    <a:pt x="72" y="115"/>
                  </a:lnTo>
                  <a:lnTo>
                    <a:pt x="64" y="113"/>
                  </a:lnTo>
                  <a:lnTo>
                    <a:pt x="55" y="113"/>
                  </a:lnTo>
                  <a:lnTo>
                    <a:pt x="48" y="110"/>
                  </a:lnTo>
                  <a:lnTo>
                    <a:pt x="71" y="102"/>
                  </a:lnTo>
                  <a:lnTo>
                    <a:pt x="92" y="93"/>
                  </a:lnTo>
                  <a:lnTo>
                    <a:pt x="112" y="80"/>
                  </a:lnTo>
                  <a:lnTo>
                    <a:pt x="132" y="64"/>
                  </a:lnTo>
                  <a:lnTo>
                    <a:pt x="152" y="50"/>
                  </a:lnTo>
                  <a:lnTo>
                    <a:pt x="170" y="32"/>
                  </a:lnTo>
                  <a:lnTo>
                    <a:pt x="190" y="16"/>
                  </a:lnTo>
                  <a:lnTo>
                    <a:pt x="209" y="0"/>
                  </a:lnTo>
                  <a:lnTo>
                    <a:pt x="187" y="30"/>
                  </a:lnTo>
                  <a:lnTo>
                    <a:pt x="165" y="64"/>
                  </a:lnTo>
                  <a:lnTo>
                    <a:pt x="142" y="96"/>
                  </a:lnTo>
                  <a:lnTo>
                    <a:pt x="118" y="129"/>
                  </a:lnTo>
                  <a:lnTo>
                    <a:pt x="92" y="158"/>
                  </a:lnTo>
                  <a:lnTo>
                    <a:pt x="64" y="185"/>
                  </a:lnTo>
                  <a:lnTo>
                    <a:pt x="34" y="20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c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1719360" y="4114800"/>
              <a:ext cx="220680" cy="368280"/>
            </a:xfrm>
            <a:custGeom>
              <a:avLst/>
              <a:gdLst/>
              <a:ahLst/>
              <a:rect l="l" t="t" r="r" b="b"/>
              <a:pathLst>
                <a:path w="277" h="464">
                  <a:moveTo>
                    <a:pt x="250" y="29"/>
                  </a:moveTo>
                  <a:lnTo>
                    <a:pt x="242" y="69"/>
                  </a:lnTo>
                  <a:lnTo>
                    <a:pt x="236" y="112"/>
                  </a:lnTo>
                  <a:lnTo>
                    <a:pt x="232" y="156"/>
                  </a:lnTo>
                  <a:lnTo>
                    <a:pt x="232" y="203"/>
                  </a:lnTo>
                  <a:lnTo>
                    <a:pt x="234" y="247"/>
                  </a:lnTo>
                  <a:lnTo>
                    <a:pt x="242" y="290"/>
                  </a:lnTo>
                  <a:lnTo>
                    <a:pt x="254" y="332"/>
                  </a:lnTo>
                  <a:lnTo>
                    <a:pt x="273" y="370"/>
                  </a:lnTo>
                  <a:lnTo>
                    <a:pt x="276" y="383"/>
                  </a:lnTo>
                  <a:lnTo>
                    <a:pt x="277" y="397"/>
                  </a:lnTo>
                  <a:lnTo>
                    <a:pt x="276" y="410"/>
                  </a:lnTo>
                  <a:lnTo>
                    <a:pt x="274" y="423"/>
                  </a:lnTo>
                  <a:lnTo>
                    <a:pt x="268" y="436"/>
                  </a:lnTo>
                  <a:lnTo>
                    <a:pt x="261" y="445"/>
                  </a:lnTo>
                  <a:lnTo>
                    <a:pt x="251" y="451"/>
                  </a:lnTo>
                  <a:lnTo>
                    <a:pt x="240" y="456"/>
                  </a:lnTo>
                  <a:lnTo>
                    <a:pt x="222" y="461"/>
                  </a:lnTo>
                  <a:lnTo>
                    <a:pt x="203" y="464"/>
                  </a:lnTo>
                  <a:lnTo>
                    <a:pt x="183" y="464"/>
                  </a:lnTo>
                  <a:lnTo>
                    <a:pt x="165" y="464"/>
                  </a:lnTo>
                  <a:lnTo>
                    <a:pt x="145" y="461"/>
                  </a:lnTo>
                  <a:lnTo>
                    <a:pt x="127" y="459"/>
                  </a:lnTo>
                  <a:lnTo>
                    <a:pt x="107" y="456"/>
                  </a:lnTo>
                  <a:lnTo>
                    <a:pt x="88" y="453"/>
                  </a:lnTo>
                  <a:lnTo>
                    <a:pt x="92" y="442"/>
                  </a:lnTo>
                  <a:lnTo>
                    <a:pt x="101" y="442"/>
                  </a:lnTo>
                  <a:lnTo>
                    <a:pt x="110" y="445"/>
                  </a:lnTo>
                  <a:lnTo>
                    <a:pt x="118" y="442"/>
                  </a:lnTo>
                  <a:lnTo>
                    <a:pt x="125" y="434"/>
                  </a:lnTo>
                  <a:lnTo>
                    <a:pt x="131" y="426"/>
                  </a:lnTo>
                  <a:lnTo>
                    <a:pt x="135" y="418"/>
                  </a:lnTo>
                  <a:lnTo>
                    <a:pt x="138" y="408"/>
                  </a:lnTo>
                  <a:lnTo>
                    <a:pt x="132" y="404"/>
                  </a:lnTo>
                  <a:lnTo>
                    <a:pt x="127" y="402"/>
                  </a:lnTo>
                  <a:lnTo>
                    <a:pt x="121" y="400"/>
                  </a:lnTo>
                  <a:lnTo>
                    <a:pt x="115" y="400"/>
                  </a:lnTo>
                  <a:lnTo>
                    <a:pt x="108" y="402"/>
                  </a:lnTo>
                  <a:lnTo>
                    <a:pt x="102" y="404"/>
                  </a:lnTo>
                  <a:lnTo>
                    <a:pt x="97" y="407"/>
                  </a:lnTo>
                  <a:lnTo>
                    <a:pt x="91" y="412"/>
                  </a:lnTo>
                  <a:lnTo>
                    <a:pt x="88" y="416"/>
                  </a:lnTo>
                  <a:lnTo>
                    <a:pt x="80" y="372"/>
                  </a:lnTo>
                  <a:lnTo>
                    <a:pt x="63" y="329"/>
                  </a:lnTo>
                  <a:lnTo>
                    <a:pt x="41" y="284"/>
                  </a:lnTo>
                  <a:lnTo>
                    <a:pt x="23" y="241"/>
                  </a:lnTo>
                  <a:lnTo>
                    <a:pt x="10" y="196"/>
                  </a:lnTo>
                  <a:lnTo>
                    <a:pt x="7" y="155"/>
                  </a:lnTo>
                  <a:lnTo>
                    <a:pt x="20" y="112"/>
                  </a:lnTo>
                  <a:lnTo>
                    <a:pt x="51" y="70"/>
                  </a:lnTo>
                  <a:lnTo>
                    <a:pt x="46" y="65"/>
                  </a:lnTo>
                  <a:lnTo>
                    <a:pt x="40" y="64"/>
                  </a:lnTo>
                  <a:lnTo>
                    <a:pt x="34" y="62"/>
                  </a:lnTo>
                  <a:lnTo>
                    <a:pt x="27" y="62"/>
                  </a:lnTo>
                  <a:lnTo>
                    <a:pt x="20" y="62"/>
                  </a:lnTo>
                  <a:lnTo>
                    <a:pt x="13" y="62"/>
                  </a:lnTo>
                  <a:lnTo>
                    <a:pt x="7" y="62"/>
                  </a:lnTo>
                  <a:lnTo>
                    <a:pt x="0" y="62"/>
                  </a:lnTo>
                  <a:lnTo>
                    <a:pt x="13" y="53"/>
                  </a:lnTo>
                  <a:lnTo>
                    <a:pt x="27" y="43"/>
                  </a:lnTo>
                  <a:lnTo>
                    <a:pt x="43" y="35"/>
                  </a:lnTo>
                  <a:lnTo>
                    <a:pt x="58" y="27"/>
                  </a:lnTo>
                  <a:lnTo>
                    <a:pt x="74" y="19"/>
                  </a:lnTo>
                  <a:lnTo>
                    <a:pt x="90" y="13"/>
                  </a:lnTo>
                  <a:lnTo>
                    <a:pt x="105" y="8"/>
                  </a:lnTo>
                  <a:lnTo>
                    <a:pt x="122" y="3"/>
                  </a:lnTo>
                  <a:lnTo>
                    <a:pt x="139" y="0"/>
                  </a:lnTo>
                  <a:lnTo>
                    <a:pt x="156" y="0"/>
                  </a:lnTo>
                  <a:lnTo>
                    <a:pt x="172" y="0"/>
                  </a:lnTo>
                  <a:lnTo>
                    <a:pt x="189" y="2"/>
                  </a:lnTo>
                  <a:lnTo>
                    <a:pt x="205" y="5"/>
                  </a:lnTo>
                  <a:lnTo>
                    <a:pt x="220" y="11"/>
                  </a:lnTo>
                  <a:lnTo>
                    <a:pt x="236" y="19"/>
                  </a:lnTo>
                  <a:lnTo>
                    <a:pt x="250" y="2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695680" y="4130640"/>
              <a:ext cx="338040" cy="403560"/>
            </a:xfrm>
            <a:custGeom>
              <a:avLst/>
              <a:gdLst/>
              <a:ahLst/>
              <a:rect l="l" t="t" r="r" b="b"/>
              <a:pathLst>
                <a:path w="428" h="509">
                  <a:moveTo>
                    <a:pt x="246" y="19"/>
                  </a:moveTo>
                  <a:lnTo>
                    <a:pt x="243" y="49"/>
                  </a:lnTo>
                  <a:lnTo>
                    <a:pt x="148" y="110"/>
                  </a:lnTo>
                  <a:lnTo>
                    <a:pt x="161" y="118"/>
                  </a:lnTo>
                  <a:lnTo>
                    <a:pt x="175" y="121"/>
                  </a:lnTo>
                  <a:lnTo>
                    <a:pt x="189" y="121"/>
                  </a:lnTo>
                  <a:lnTo>
                    <a:pt x="205" y="119"/>
                  </a:lnTo>
                  <a:lnTo>
                    <a:pt x="221" y="116"/>
                  </a:lnTo>
                  <a:lnTo>
                    <a:pt x="236" y="113"/>
                  </a:lnTo>
                  <a:lnTo>
                    <a:pt x="252" y="110"/>
                  </a:lnTo>
                  <a:lnTo>
                    <a:pt x="267" y="110"/>
                  </a:lnTo>
                  <a:lnTo>
                    <a:pt x="290" y="156"/>
                  </a:lnTo>
                  <a:lnTo>
                    <a:pt x="316" y="199"/>
                  </a:lnTo>
                  <a:lnTo>
                    <a:pt x="344" y="242"/>
                  </a:lnTo>
                  <a:lnTo>
                    <a:pt x="371" y="287"/>
                  </a:lnTo>
                  <a:lnTo>
                    <a:pt x="395" y="332"/>
                  </a:lnTo>
                  <a:lnTo>
                    <a:pt x="415" y="378"/>
                  </a:lnTo>
                  <a:lnTo>
                    <a:pt x="426" y="427"/>
                  </a:lnTo>
                  <a:lnTo>
                    <a:pt x="428" y="482"/>
                  </a:lnTo>
                  <a:lnTo>
                    <a:pt x="404" y="493"/>
                  </a:lnTo>
                  <a:lnTo>
                    <a:pt x="377" y="501"/>
                  </a:lnTo>
                  <a:lnTo>
                    <a:pt x="350" y="505"/>
                  </a:lnTo>
                  <a:lnTo>
                    <a:pt x="321" y="509"/>
                  </a:lnTo>
                  <a:lnTo>
                    <a:pt x="291" y="509"/>
                  </a:lnTo>
                  <a:lnTo>
                    <a:pt x="263" y="507"/>
                  </a:lnTo>
                  <a:lnTo>
                    <a:pt x="236" y="502"/>
                  </a:lnTo>
                  <a:lnTo>
                    <a:pt x="209" y="496"/>
                  </a:lnTo>
                  <a:lnTo>
                    <a:pt x="219" y="488"/>
                  </a:lnTo>
                  <a:lnTo>
                    <a:pt x="230" y="489"/>
                  </a:lnTo>
                  <a:lnTo>
                    <a:pt x="240" y="491"/>
                  </a:lnTo>
                  <a:lnTo>
                    <a:pt x="250" y="482"/>
                  </a:lnTo>
                  <a:lnTo>
                    <a:pt x="247" y="459"/>
                  </a:lnTo>
                  <a:lnTo>
                    <a:pt x="240" y="440"/>
                  </a:lnTo>
                  <a:lnTo>
                    <a:pt x="228" y="422"/>
                  </a:lnTo>
                  <a:lnTo>
                    <a:pt x="212" y="410"/>
                  </a:lnTo>
                  <a:lnTo>
                    <a:pt x="185" y="386"/>
                  </a:lnTo>
                  <a:lnTo>
                    <a:pt x="157" y="362"/>
                  </a:lnTo>
                  <a:lnTo>
                    <a:pt x="130" y="338"/>
                  </a:lnTo>
                  <a:lnTo>
                    <a:pt x="101" y="312"/>
                  </a:lnTo>
                  <a:lnTo>
                    <a:pt x="74" y="287"/>
                  </a:lnTo>
                  <a:lnTo>
                    <a:pt x="49" y="260"/>
                  </a:lnTo>
                  <a:lnTo>
                    <a:pt x="23" y="231"/>
                  </a:lnTo>
                  <a:lnTo>
                    <a:pt x="0" y="201"/>
                  </a:lnTo>
                  <a:lnTo>
                    <a:pt x="15" y="164"/>
                  </a:lnTo>
                  <a:lnTo>
                    <a:pt x="33" y="131"/>
                  </a:lnTo>
                  <a:lnTo>
                    <a:pt x="57" y="99"/>
                  </a:lnTo>
                  <a:lnTo>
                    <a:pt x="84" y="70"/>
                  </a:lnTo>
                  <a:lnTo>
                    <a:pt x="114" y="46"/>
                  </a:lnTo>
                  <a:lnTo>
                    <a:pt x="145" y="25"/>
                  </a:lnTo>
                  <a:lnTo>
                    <a:pt x="179" y="9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3" y="3"/>
                  </a:lnTo>
                  <a:lnTo>
                    <a:pt x="242" y="9"/>
                  </a:lnTo>
                  <a:lnTo>
                    <a:pt x="246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1357200" y="4515120"/>
              <a:ext cx="46080" cy="298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1"/>
                  </a:moveTo>
                  <a:lnTo>
                    <a:pt x="60" y="24"/>
                  </a:lnTo>
                  <a:lnTo>
                    <a:pt x="54" y="32"/>
                  </a:lnTo>
                  <a:lnTo>
                    <a:pt x="47" y="35"/>
                  </a:lnTo>
                  <a:lnTo>
                    <a:pt x="38" y="35"/>
                  </a:lnTo>
                  <a:lnTo>
                    <a:pt x="27" y="35"/>
                  </a:lnTo>
                  <a:lnTo>
                    <a:pt x="17" y="33"/>
                  </a:lnTo>
                  <a:lnTo>
                    <a:pt x="7" y="35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6"/>
                  </a:lnTo>
                  <a:lnTo>
                    <a:pt x="17" y="8"/>
                  </a:lnTo>
                  <a:lnTo>
                    <a:pt x="26" y="0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440080" y="4565880"/>
              <a:ext cx="23760" cy="316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30" y="31"/>
                  </a:moveTo>
                  <a:lnTo>
                    <a:pt x="24" y="38"/>
                  </a:lnTo>
                  <a:lnTo>
                    <a:pt x="17" y="39"/>
                  </a:lnTo>
                  <a:lnTo>
                    <a:pt x="10" y="38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1" name=""/>
          <p:cNvGrpSpPr/>
          <p:nvPr/>
        </p:nvGrpSpPr>
        <p:grpSpPr>
          <a:xfrm>
            <a:off x="5715000" y="3176640"/>
            <a:ext cx="2844720" cy="1264680"/>
            <a:chOff x="5715000" y="3176640"/>
            <a:chExt cx="2844720" cy="1264680"/>
          </a:xfrm>
        </p:grpSpPr>
        <p:sp>
          <p:nvSpPr>
            <p:cNvPr id="3552" name=""/>
            <p:cNvSpPr/>
            <p:nvPr/>
          </p:nvSpPr>
          <p:spPr>
            <a:xfrm>
              <a:off x="5715000" y="3597120"/>
              <a:ext cx="2844720" cy="844200"/>
            </a:xfrm>
            <a:custGeom>
              <a:avLst/>
              <a:gdLst/>
              <a:ahLst/>
              <a:rect l="l" t="t" r="r" b="b"/>
              <a:pathLst>
                <a:path w="5378" h="1596">
                  <a:moveTo>
                    <a:pt x="2690" y="1596"/>
                  </a:moveTo>
                  <a:lnTo>
                    <a:pt x="4677" y="1596"/>
                  </a:lnTo>
                  <a:lnTo>
                    <a:pt x="4688" y="1595"/>
                  </a:lnTo>
                  <a:lnTo>
                    <a:pt x="4717" y="1589"/>
                  </a:lnTo>
                  <a:lnTo>
                    <a:pt x="4762" y="1582"/>
                  </a:lnTo>
                  <a:lnTo>
                    <a:pt x="4819" y="1568"/>
                  </a:lnTo>
                  <a:lnTo>
                    <a:pt x="4886" y="1552"/>
                  </a:lnTo>
                  <a:lnTo>
                    <a:pt x="4958" y="1530"/>
                  </a:lnTo>
                  <a:lnTo>
                    <a:pt x="5032" y="1502"/>
                  </a:lnTo>
                  <a:lnTo>
                    <a:pt x="5107" y="1470"/>
                  </a:lnTo>
                  <a:lnTo>
                    <a:pt x="5175" y="1432"/>
                  </a:lnTo>
                  <a:lnTo>
                    <a:pt x="5238" y="1386"/>
                  </a:lnTo>
                  <a:lnTo>
                    <a:pt x="5291" y="1336"/>
                  </a:lnTo>
                  <a:lnTo>
                    <a:pt x="5329" y="1277"/>
                  </a:lnTo>
                  <a:lnTo>
                    <a:pt x="5349" y="1212"/>
                  </a:lnTo>
                  <a:lnTo>
                    <a:pt x="5352" y="1139"/>
                  </a:lnTo>
                  <a:lnTo>
                    <a:pt x="5329" y="1057"/>
                  </a:lnTo>
                  <a:lnTo>
                    <a:pt x="5280" y="967"/>
                  </a:lnTo>
                  <a:lnTo>
                    <a:pt x="5140" y="739"/>
                  </a:lnTo>
                  <a:lnTo>
                    <a:pt x="5062" y="557"/>
                  </a:lnTo>
                  <a:lnTo>
                    <a:pt x="5034" y="414"/>
                  </a:lnTo>
                  <a:lnTo>
                    <a:pt x="5044" y="311"/>
                  </a:lnTo>
                  <a:lnTo>
                    <a:pt x="5083" y="236"/>
                  </a:lnTo>
                  <a:lnTo>
                    <a:pt x="5137" y="190"/>
                  </a:lnTo>
                  <a:lnTo>
                    <a:pt x="5198" y="166"/>
                  </a:lnTo>
                  <a:lnTo>
                    <a:pt x="5253" y="158"/>
                  </a:lnTo>
                  <a:lnTo>
                    <a:pt x="5299" y="152"/>
                  </a:lnTo>
                  <a:lnTo>
                    <a:pt x="5336" y="133"/>
                  </a:lnTo>
                  <a:lnTo>
                    <a:pt x="5365" y="107"/>
                  </a:lnTo>
                  <a:lnTo>
                    <a:pt x="5378" y="79"/>
                  </a:lnTo>
                  <a:lnTo>
                    <a:pt x="5373" y="49"/>
                  </a:lnTo>
                  <a:lnTo>
                    <a:pt x="5348" y="24"/>
                  </a:lnTo>
                  <a:lnTo>
                    <a:pt x="5301" y="6"/>
                  </a:lnTo>
                  <a:lnTo>
                    <a:pt x="5227" y="0"/>
                  </a:lnTo>
                  <a:lnTo>
                    <a:pt x="2690" y="0"/>
                  </a:lnTo>
                  <a:lnTo>
                    <a:pt x="150" y="0"/>
                  </a:lnTo>
                  <a:lnTo>
                    <a:pt x="77" y="6"/>
                  </a:lnTo>
                  <a:lnTo>
                    <a:pt x="27" y="24"/>
                  </a:lnTo>
                  <a:lnTo>
                    <a:pt x="5" y="49"/>
                  </a:lnTo>
                  <a:lnTo>
                    <a:pt x="0" y="79"/>
                  </a:lnTo>
                  <a:lnTo>
                    <a:pt x="13" y="107"/>
                  </a:lnTo>
                  <a:lnTo>
                    <a:pt x="41" y="133"/>
                  </a:lnTo>
                  <a:lnTo>
                    <a:pt x="79" y="152"/>
                  </a:lnTo>
                  <a:lnTo>
                    <a:pt x="123" y="158"/>
                  </a:lnTo>
                  <a:lnTo>
                    <a:pt x="180" y="166"/>
                  </a:lnTo>
                  <a:lnTo>
                    <a:pt x="240" y="190"/>
                  </a:lnTo>
                  <a:lnTo>
                    <a:pt x="296" y="236"/>
                  </a:lnTo>
                  <a:lnTo>
                    <a:pt x="334" y="311"/>
                  </a:lnTo>
                  <a:lnTo>
                    <a:pt x="343" y="414"/>
                  </a:lnTo>
                  <a:lnTo>
                    <a:pt x="314" y="557"/>
                  </a:lnTo>
                  <a:lnTo>
                    <a:pt x="236" y="739"/>
                  </a:lnTo>
                  <a:lnTo>
                    <a:pt x="97" y="967"/>
                  </a:lnTo>
                  <a:lnTo>
                    <a:pt x="49" y="1057"/>
                  </a:lnTo>
                  <a:lnTo>
                    <a:pt x="25" y="1139"/>
                  </a:lnTo>
                  <a:lnTo>
                    <a:pt x="27" y="1212"/>
                  </a:lnTo>
                  <a:lnTo>
                    <a:pt x="49" y="1277"/>
                  </a:lnTo>
                  <a:lnTo>
                    <a:pt x="86" y="1336"/>
                  </a:lnTo>
                  <a:lnTo>
                    <a:pt x="139" y="1386"/>
                  </a:lnTo>
                  <a:lnTo>
                    <a:pt x="203" y="1432"/>
                  </a:lnTo>
                  <a:lnTo>
                    <a:pt x="272" y="1470"/>
                  </a:lnTo>
                  <a:lnTo>
                    <a:pt x="346" y="1502"/>
                  </a:lnTo>
                  <a:lnTo>
                    <a:pt x="420" y="1530"/>
                  </a:lnTo>
                  <a:lnTo>
                    <a:pt x="492" y="1552"/>
                  </a:lnTo>
                  <a:lnTo>
                    <a:pt x="559" y="1568"/>
                  </a:lnTo>
                  <a:lnTo>
                    <a:pt x="617" y="1582"/>
                  </a:lnTo>
                  <a:lnTo>
                    <a:pt x="661" y="1589"/>
                  </a:lnTo>
                  <a:lnTo>
                    <a:pt x="690" y="1595"/>
                  </a:lnTo>
                  <a:lnTo>
                    <a:pt x="701" y="1596"/>
                  </a:lnTo>
                  <a:lnTo>
                    <a:pt x="2690" y="1596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3" name=""/>
            <p:cNvGrpSpPr/>
            <p:nvPr/>
          </p:nvGrpSpPr>
          <p:grpSpPr>
            <a:xfrm>
              <a:off x="5743440" y="3176640"/>
              <a:ext cx="2773440" cy="421560"/>
              <a:chOff x="5743440" y="3176640"/>
              <a:chExt cx="2773440" cy="421560"/>
            </a:xfrm>
          </p:grpSpPr>
          <p:sp>
            <p:nvSpPr>
              <p:cNvPr id="3554" name=""/>
              <p:cNvSpPr/>
              <p:nvPr/>
            </p:nvSpPr>
            <p:spPr>
              <a:xfrm>
                <a:off x="5743440" y="3336480"/>
                <a:ext cx="2773440" cy="261720"/>
              </a:xfrm>
              <a:custGeom>
                <a:avLst/>
                <a:gdLst/>
                <a:ahLst/>
                <a:rect l="l" t="t" r="r" b="b"/>
                <a:pathLst>
                  <a:path w="5241" h="497">
                    <a:moveTo>
                      <a:pt x="2620" y="497"/>
                    </a:moveTo>
                    <a:lnTo>
                      <a:pt x="5053" y="497"/>
                    </a:lnTo>
                    <a:lnTo>
                      <a:pt x="5131" y="490"/>
                    </a:lnTo>
                    <a:lnTo>
                      <a:pt x="5189" y="472"/>
                    </a:lnTo>
                    <a:lnTo>
                      <a:pt x="5225" y="446"/>
                    </a:lnTo>
                    <a:lnTo>
                      <a:pt x="5241" y="418"/>
                    </a:lnTo>
                    <a:lnTo>
                      <a:pt x="5231" y="389"/>
                    </a:lnTo>
                    <a:lnTo>
                      <a:pt x="5197" y="364"/>
                    </a:lnTo>
                    <a:lnTo>
                      <a:pt x="5137" y="347"/>
                    </a:lnTo>
                    <a:lnTo>
                      <a:pt x="5053" y="340"/>
                    </a:lnTo>
                    <a:lnTo>
                      <a:pt x="5010" y="336"/>
                    </a:lnTo>
                    <a:lnTo>
                      <a:pt x="4976" y="326"/>
                    </a:lnTo>
                    <a:lnTo>
                      <a:pt x="4944" y="308"/>
                    </a:lnTo>
                    <a:lnTo>
                      <a:pt x="4913" y="287"/>
                    </a:lnTo>
                    <a:lnTo>
                      <a:pt x="4876" y="262"/>
                    </a:lnTo>
                    <a:lnTo>
                      <a:pt x="4828" y="232"/>
                    </a:lnTo>
                    <a:lnTo>
                      <a:pt x="4766" y="202"/>
                    </a:lnTo>
                    <a:lnTo>
                      <a:pt x="4686" y="170"/>
                    </a:lnTo>
                    <a:lnTo>
                      <a:pt x="4584" y="139"/>
                    </a:lnTo>
                    <a:lnTo>
                      <a:pt x="4456" y="108"/>
                    </a:lnTo>
                    <a:lnTo>
                      <a:pt x="4295" y="79"/>
                    </a:lnTo>
                    <a:lnTo>
                      <a:pt x="4099" y="54"/>
                    </a:lnTo>
                    <a:lnTo>
                      <a:pt x="3864" y="31"/>
                    </a:lnTo>
                    <a:lnTo>
                      <a:pt x="3584" y="14"/>
                    </a:lnTo>
                    <a:lnTo>
                      <a:pt x="3258" y="5"/>
                    </a:lnTo>
                    <a:lnTo>
                      <a:pt x="2877" y="0"/>
                    </a:lnTo>
                    <a:lnTo>
                      <a:pt x="2620" y="0"/>
                    </a:lnTo>
                    <a:lnTo>
                      <a:pt x="2334" y="0"/>
                    </a:lnTo>
                    <a:lnTo>
                      <a:pt x="1953" y="5"/>
                    </a:lnTo>
                    <a:lnTo>
                      <a:pt x="1624" y="14"/>
                    </a:lnTo>
                    <a:lnTo>
                      <a:pt x="1347" y="31"/>
                    </a:lnTo>
                    <a:lnTo>
                      <a:pt x="1113" y="54"/>
                    </a:lnTo>
                    <a:lnTo>
                      <a:pt x="920" y="79"/>
                    </a:lnTo>
                    <a:lnTo>
                      <a:pt x="762" y="108"/>
                    </a:lnTo>
                    <a:lnTo>
                      <a:pt x="636" y="139"/>
                    </a:lnTo>
                    <a:lnTo>
                      <a:pt x="537" y="170"/>
                    </a:lnTo>
                    <a:lnTo>
                      <a:pt x="460" y="202"/>
                    </a:lnTo>
                    <a:lnTo>
                      <a:pt x="401" y="232"/>
                    </a:lnTo>
                    <a:lnTo>
                      <a:pt x="357" y="262"/>
                    </a:lnTo>
                    <a:lnTo>
                      <a:pt x="322" y="287"/>
                    </a:lnTo>
                    <a:lnTo>
                      <a:pt x="292" y="308"/>
                    </a:lnTo>
                    <a:lnTo>
                      <a:pt x="262" y="326"/>
                    </a:lnTo>
                    <a:lnTo>
                      <a:pt x="230" y="336"/>
                    </a:lnTo>
                    <a:lnTo>
                      <a:pt x="188" y="340"/>
                    </a:lnTo>
                    <a:lnTo>
                      <a:pt x="103" y="347"/>
                    </a:lnTo>
                    <a:lnTo>
                      <a:pt x="45" y="364"/>
                    </a:lnTo>
                    <a:lnTo>
                      <a:pt x="11" y="389"/>
                    </a:lnTo>
                    <a:lnTo>
                      <a:pt x="0" y="418"/>
                    </a:lnTo>
                    <a:lnTo>
                      <a:pt x="16" y="446"/>
                    </a:lnTo>
                    <a:lnTo>
                      <a:pt x="51" y="472"/>
                    </a:lnTo>
                    <a:lnTo>
                      <a:pt x="109" y="490"/>
                    </a:lnTo>
                    <a:lnTo>
                      <a:pt x="188" y="497"/>
                    </a:lnTo>
                    <a:lnTo>
                      <a:pt x="2620" y="49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935760" y="3176640"/>
                <a:ext cx="376200" cy="159840"/>
              </a:xfrm>
              <a:custGeom>
                <a:avLst/>
                <a:gdLst/>
                <a:ahLst/>
                <a:rect l="l" t="t" r="r" b="b"/>
                <a:pathLst>
                  <a:path w="709" h="301">
                    <a:moveTo>
                      <a:pt x="625" y="301"/>
                    </a:moveTo>
                    <a:lnTo>
                      <a:pt x="589" y="286"/>
                    </a:lnTo>
                    <a:lnTo>
                      <a:pt x="557" y="265"/>
                    </a:lnTo>
                    <a:lnTo>
                      <a:pt x="537" y="236"/>
                    </a:lnTo>
                    <a:lnTo>
                      <a:pt x="527" y="202"/>
                    </a:lnTo>
                    <a:lnTo>
                      <a:pt x="532" y="164"/>
                    </a:lnTo>
                    <a:lnTo>
                      <a:pt x="549" y="128"/>
                    </a:lnTo>
                    <a:lnTo>
                      <a:pt x="583" y="102"/>
                    </a:lnTo>
                    <a:lnTo>
                      <a:pt x="639" y="91"/>
                    </a:lnTo>
                    <a:lnTo>
                      <a:pt x="690" y="78"/>
                    </a:lnTo>
                    <a:lnTo>
                      <a:pt x="709" y="45"/>
                    </a:lnTo>
                    <a:lnTo>
                      <a:pt x="690" y="14"/>
                    </a:lnTo>
                    <a:lnTo>
                      <a:pt x="639" y="0"/>
                    </a:lnTo>
                    <a:lnTo>
                      <a:pt x="353" y="0"/>
                    </a:lnTo>
                    <a:lnTo>
                      <a:pt x="70" y="0"/>
                    </a:lnTo>
                    <a:lnTo>
                      <a:pt x="18" y="14"/>
                    </a:lnTo>
                    <a:lnTo>
                      <a:pt x="0" y="45"/>
                    </a:lnTo>
                    <a:lnTo>
                      <a:pt x="18" y="78"/>
                    </a:lnTo>
                    <a:lnTo>
                      <a:pt x="70" y="91"/>
                    </a:lnTo>
                    <a:lnTo>
                      <a:pt x="125" y="102"/>
                    </a:lnTo>
                    <a:lnTo>
                      <a:pt x="159" y="128"/>
                    </a:lnTo>
                    <a:lnTo>
                      <a:pt x="175" y="164"/>
                    </a:lnTo>
                    <a:lnTo>
                      <a:pt x="180" y="202"/>
                    </a:lnTo>
                    <a:lnTo>
                      <a:pt x="172" y="236"/>
                    </a:lnTo>
                    <a:lnTo>
                      <a:pt x="148" y="262"/>
                    </a:lnTo>
                    <a:lnTo>
                      <a:pt x="115" y="283"/>
                    </a:lnTo>
                    <a:lnTo>
                      <a:pt x="81" y="301"/>
                    </a:lnTo>
                    <a:lnTo>
                      <a:pt x="625" y="30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810040" y="3376080"/>
                <a:ext cx="1379520" cy="174240"/>
              </a:xfrm>
              <a:custGeom>
                <a:avLst/>
                <a:gdLst/>
                <a:ahLst/>
                <a:rect l="l" t="t" r="r" b="b"/>
                <a:pathLst>
                  <a:path w="2607" h="329">
                    <a:moveTo>
                      <a:pt x="2221" y="0"/>
                    </a:moveTo>
                    <a:lnTo>
                      <a:pt x="2023" y="0"/>
                    </a:lnTo>
                    <a:lnTo>
                      <a:pt x="1837" y="3"/>
                    </a:lnTo>
                    <a:lnTo>
                      <a:pt x="1664" y="8"/>
                    </a:lnTo>
                    <a:lnTo>
                      <a:pt x="1502" y="17"/>
                    </a:lnTo>
                    <a:lnTo>
                      <a:pt x="1349" y="26"/>
                    </a:lnTo>
                    <a:lnTo>
                      <a:pt x="1209" y="39"/>
                    </a:lnTo>
                    <a:lnTo>
                      <a:pt x="1077" y="55"/>
                    </a:lnTo>
                    <a:lnTo>
                      <a:pt x="956" y="72"/>
                    </a:lnTo>
                    <a:lnTo>
                      <a:pt x="842" y="91"/>
                    </a:lnTo>
                    <a:lnTo>
                      <a:pt x="736" y="114"/>
                    </a:lnTo>
                    <a:lnTo>
                      <a:pt x="638" y="138"/>
                    </a:lnTo>
                    <a:lnTo>
                      <a:pt x="545" y="164"/>
                    </a:lnTo>
                    <a:lnTo>
                      <a:pt x="459" y="192"/>
                    </a:lnTo>
                    <a:lnTo>
                      <a:pt x="378" y="221"/>
                    </a:lnTo>
                    <a:lnTo>
                      <a:pt x="303" y="253"/>
                    </a:lnTo>
                    <a:lnTo>
                      <a:pt x="232" y="287"/>
                    </a:lnTo>
                    <a:lnTo>
                      <a:pt x="212" y="294"/>
                    </a:lnTo>
                    <a:lnTo>
                      <a:pt x="184" y="297"/>
                    </a:lnTo>
                    <a:lnTo>
                      <a:pt x="152" y="300"/>
                    </a:lnTo>
                    <a:lnTo>
                      <a:pt x="114" y="300"/>
                    </a:lnTo>
                    <a:lnTo>
                      <a:pt x="80" y="301"/>
                    </a:lnTo>
                    <a:lnTo>
                      <a:pt x="46" y="301"/>
                    </a:lnTo>
                    <a:lnTo>
                      <a:pt x="19" y="303"/>
                    </a:lnTo>
                    <a:lnTo>
                      <a:pt x="1" y="308"/>
                    </a:lnTo>
                    <a:lnTo>
                      <a:pt x="0" y="312"/>
                    </a:lnTo>
                    <a:lnTo>
                      <a:pt x="11" y="312"/>
                    </a:lnTo>
                    <a:lnTo>
                      <a:pt x="32" y="315"/>
                    </a:lnTo>
                    <a:lnTo>
                      <a:pt x="58" y="317"/>
                    </a:lnTo>
                    <a:lnTo>
                      <a:pt x="94" y="319"/>
                    </a:lnTo>
                    <a:lnTo>
                      <a:pt x="136" y="323"/>
                    </a:lnTo>
                    <a:lnTo>
                      <a:pt x="185" y="324"/>
                    </a:lnTo>
                    <a:lnTo>
                      <a:pt x="239" y="324"/>
                    </a:lnTo>
                    <a:lnTo>
                      <a:pt x="296" y="326"/>
                    </a:lnTo>
                    <a:lnTo>
                      <a:pt x="356" y="327"/>
                    </a:lnTo>
                    <a:lnTo>
                      <a:pt x="418" y="329"/>
                    </a:lnTo>
                    <a:lnTo>
                      <a:pt x="482" y="329"/>
                    </a:lnTo>
                    <a:lnTo>
                      <a:pt x="546" y="329"/>
                    </a:lnTo>
                    <a:lnTo>
                      <a:pt x="609" y="329"/>
                    </a:lnTo>
                    <a:lnTo>
                      <a:pt x="671" y="327"/>
                    </a:lnTo>
                    <a:lnTo>
                      <a:pt x="730" y="326"/>
                    </a:lnTo>
                    <a:lnTo>
                      <a:pt x="783" y="323"/>
                    </a:lnTo>
                    <a:lnTo>
                      <a:pt x="827" y="313"/>
                    </a:lnTo>
                    <a:lnTo>
                      <a:pt x="867" y="300"/>
                    </a:lnTo>
                    <a:lnTo>
                      <a:pt x="904" y="282"/>
                    </a:lnTo>
                    <a:lnTo>
                      <a:pt x="941" y="260"/>
                    </a:lnTo>
                    <a:lnTo>
                      <a:pt x="980" y="236"/>
                    </a:lnTo>
                    <a:lnTo>
                      <a:pt x="1023" y="212"/>
                    </a:lnTo>
                    <a:lnTo>
                      <a:pt x="1073" y="186"/>
                    </a:lnTo>
                    <a:lnTo>
                      <a:pt x="1135" y="162"/>
                    </a:lnTo>
                    <a:lnTo>
                      <a:pt x="1209" y="137"/>
                    </a:lnTo>
                    <a:lnTo>
                      <a:pt x="1297" y="114"/>
                    </a:lnTo>
                    <a:lnTo>
                      <a:pt x="1402" y="93"/>
                    </a:lnTo>
                    <a:lnTo>
                      <a:pt x="1528" y="75"/>
                    </a:lnTo>
                    <a:lnTo>
                      <a:pt x="1677" y="62"/>
                    </a:lnTo>
                    <a:lnTo>
                      <a:pt x="1851" y="54"/>
                    </a:lnTo>
                    <a:lnTo>
                      <a:pt x="2053" y="51"/>
                    </a:lnTo>
                    <a:lnTo>
                      <a:pt x="2244" y="50"/>
                    </a:lnTo>
                    <a:lnTo>
                      <a:pt x="2390" y="49"/>
                    </a:lnTo>
                    <a:lnTo>
                      <a:pt x="2493" y="47"/>
                    </a:lnTo>
                    <a:lnTo>
                      <a:pt x="2560" y="43"/>
                    </a:lnTo>
                    <a:lnTo>
                      <a:pt x="2598" y="39"/>
                    </a:lnTo>
                    <a:lnTo>
                      <a:pt x="2607" y="36"/>
                    </a:lnTo>
                    <a:lnTo>
                      <a:pt x="2594" y="31"/>
                    </a:lnTo>
                    <a:lnTo>
                      <a:pt x="2565" y="26"/>
                    </a:lnTo>
                    <a:lnTo>
                      <a:pt x="2521" y="20"/>
                    </a:lnTo>
                    <a:lnTo>
                      <a:pt x="2470" y="17"/>
                    </a:lnTo>
                    <a:lnTo>
                      <a:pt x="2414" y="13"/>
                    </a:lnTo>
                    <a:lnTo>
                      <a:pt x="2356" y="7"/>
                    </a:lnTo>
                    <a:lnTo>
                      <a:pt x="2304" y="5"/>
                    </a:lnTo>
                    <a:lnTo>
                      <a:pt x="2260" y="2"/>
                    </a:lnTo>
                    <a:lnTo>
                      <a:pt x="2232" y="1"/>
                    </a:lnTo>
                    <a:lnTo>
                      <a:pt x="222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7" name=""/>
            <p:cNvSpPr/>
            <p:nvPr/>
          </p:nvSpPr>
          <p:spPr>
            <a:xfrm>
              <a:off x="5808600" y="3671640"/>
              <a:ext cx="2602080" cy="734760"/>
            </a:xfrm>
            <a:custGeom>
              <a:avLst/>
              <a:gdLst/>
              <a:ahLst/>
              <a:rect l="l" t="t" r="r" b="b"/>
              <a:pathLst>
                <a:path w="4917" h="1387">
                  <a:moveTo>
                    <a:pt x="155" y="0"/>
                  </a:moveTo>
                  <a:lnTo>
                    <a:pt x="4917" y="0"/>
                  </a:lnTo>
                  <a:lnTo>
                    <a:pt x="4863" y="13"/>
                  </a:lnTo>
                  <a:lnTo>
                    <a:pt x="4732" y="24"/>
                  </a:lnTo>
                  <a:lnTo>
                    <a:pt x="4538" y="33"/>
                  </a:lnTo>
                  <a:lnTo>
                    <a:pt x="4291" y="43"/>
                  </a:lnTo>
                  <a:lnTo>
                    <a:pt x="3999" y="51"/>
                  </a:lnTo>
                  <a:lnTo>
                    <a:pt x="3672" y="60"/>
                  </a:lnTo>
                  <a:lnTo>
                    <a:pt x="3324" y="68"/>
                  </a:lnTo>
                  <a:lnTo>
                    <a:pt x="2962" y="77"/>
                  </a:lnTo>
                  <a:lnTo>
                    <a:pt x="2597" y="89"/>
                  </a:lnTo>
                  <a:lnTo>
                    <a:pt x="2239" y="103"/>
                  </a:lnTo>
                  <a:lnTo>
                    <a:pt x="1900" y="120"/>
                  </a:lnTo>
                  <a:lnTo>
                    <a:pt x="1586" y="139"/>
                  </a:lnTo>
                  <a:lnTo>
                    <a:pt x="1310" y="163"/>
                  </a:lnTo>
                  <a:lnTo>
                    <a:pt x="1081" y="189"/>
                  </a:lnTo>
                  <a:lnTo>
                    <a:pt x="911" y="221"/>
                  </a:lnTo>
                  <a:lnTo>
                    <a:pt x="809" y="259"/>
                  </a:lnTo>
                  <a:lnTo>
                    <a:pt x="693" y="338"/>
                  </a:lnTo>
                  <a:lnTo>
                    <a:pt x="585" y="425"/>
                  </a:lnTo>
                  <a:lnTo>
                    <a:pt x="489" y="517"/>
                  </a:lnTo>
                  <a:lnTo>
                    <a:pt x="410" y="611"/>
                  </a:lnTo>
                  <a:lnTo>
                    <a:pt x="351" y="706"/>
                  </a:lnTo>
                  <a:lnTo>
                    <a:pt x="317" y="796"/>
                  </a:lnTo>
                  <a:lnTo>
                    <a:pt x="311" y="880"/>
                  </a:lnTo>
                  <a:lnTo>
                    <a:pt x="337" y="953"/>
                  </a:lnTo>
                  <a:lnTo>
                    <a:pt x="359" y="988"/>
                  </a:lnTo>
                  <a:lnTo>
                    <a:pt x="381" y="1024"/>
                  </a:lnTo>
                  <a:lnTo>
                    <a:pt x="405" y="1058"/>
                  </a:lnTo>
                  <a:lnTo>
                    <a:pt x="428" y="1093"/>
                  </a:lnTo>
                  <a:lnTo>
                    <a:pt x="457" y="1128"/>
                  </a:lnTo>
                  <a:lnTo>
                    <a:pt x="487" y="1159"/>
                  </a:lnTo>
                  <a:lnTo>
                    <a:pt x="521" y="1191"/>
                  </a:lnTo>
                  <a:lnTo>
                    <a:pt x="560" y="1221"/>
                  </a:lnTo>
                  <a:lnTo>
                    <a:pt x="602" y="1247"/>
                  </a:lnTo>
                  <a:lnTo>
                    <a:pt x="651" y="1272"/>
                  </a:lnTo>
                  <a:lnTo>
                    <a:pt x="707" y="1295"/>
                  </a:lnTo>
                  <a:lnTo>
                    <a:pt x="769" y="1312"/>
                  </a:lnTo>
                  <a:lnTo>
                    <a:pt x="837" y="1329"/>
                  </a:lnTo>
                  <a:lnTo>
                    <a:pt x="914" y="1339"/>
                  </a:lnTo>
                  <a:lnTo>
                    <a:pt x="1002" y="1345"/>
                  </a:lnTo>
                  <a:lnTo>
                    <a:pt x="1098" y="1349"/>
                  </a:lnTo>
                  <a:lnTo>
                    <a:pt x="1250" y="1350"/>
                  </a:lnTo>
                  <a:lnTo>
                    <a:pt x="1321" y="1355"/>
                  </a:lnTo>
                  <a:lnTo>
                    <a:pt x="1328" y="1361"/>
                  </a:lnTo>
                  <a:lnTo>
                    <a:pt x="1292" y="1368"/>
                  </a:lnTo>
                  <a:lnTo>
                    <a:pt x="1230" y="1375"/>
                  </a:lnTo>
                  <a:lnTo>
                    <a:pt x="1162" y="1381"/>
                  </a:lnTo>
                  <a:lnTo>
                    <a:pt x="1108" y="1386"/>
                  </a:lnTo>
                  <a:lnTo>
                    <a:pt x="1085" y="1387"/>
                  </a:lnTo>
                  <a:lnTo>
                    <a:pt x="942" y="1384"/>
                  </a:lnTo>
                  <a:lnTo>
                    <a:pt x="807" y="1378"/>
                  </a:lnTo>
                  <a:lnTo>
                    <a:pt x="684" y="1368"/>
                  </a:lnTo>
                  <a:lnTo>
                    <a:pt x="569" y="1355"/>
                  </a:lnTo>
                  <a:lnTo>
                    <a:pt x="463" y="1341"/>
                  </a:lnTo>
                  <a:lnTo>
                    <a:pt x="369" y="1323"/>
                  </a:lnTo>
                  <a:lnTo>
                    <a:pt x="284" y="1300"/>
                  </a:lnTo>
                  <a:lnTo>
                    <a:pt x="210" y="1277"/>
                  </a:lnTo>
                  <a:lnTo>
                    <a:pt x="147" y="1248"/>
                  </a:lnTo>
                  <a:lnTo>
                    <a:pt x="96" y="1218"/>
                  </a:lnTo>
                  <a:lnTo>
                    <a:pt x="55" y="1185"/>
                  </a:lnTo>
                  <a:lnTo>
                    <a:pt x="24" y="1147"/>
                  </a:lnTo>
                  <a:lnTo>
                    <a:pt x="6" y="1106"/>
                  </a:lnTo>
                  <a:lnTo>
                    <a:pt x="0" y="1062"/>
                  </a:lnTo>
                  <a:lnTo>
                    <a:pt x="6" y="1016"/>
                  </a:lnTo>
                  <a:lnTo>
                    <a:pt x="24" y="966"/>
                  </a:lnTo>
                  <a:lnTo>
                    <a:pt x="81" y="853"/>
                  </a:lnTo>
                  <a:lnTo>
                    <a:pt x="147" y="722"/>
                  </a:lnTo>
                  <a:lnTo>
                    <a:pt x="212" y="584"/>
                  </a:lnTo>
                  <a:lnTo>
                    <a:pt x="266" y="443"/>
                  </a:lnTo>
                  <a:lnTo>
                    <a:pt x="295" y="307"/>
                  </a:lnTo>
                  <a:lnTo>
                    <a:pt x="295" y="183"/>
                  </a:lnTo>
                  <a:lnTo>
                    <a:pt x="251" y="7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8" name=""/>
          <p:cNvSpPr/>
          <p:nvPr/>
        </p:nvSpPr>
        <p:spPr>
          <a:xfrm>
            <a:off x="2135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70884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0" name=""/>
          <p:cNvGrpSpPr/>
          <p:nvPr/>
        </p:nvGrpSpPr>
        <p:grpSpPr>
          <a:xfrm>
            <a:off x="1066680" y="3112920"/>
            <a:ext cx="2437920" cy="1393920"/>
            <a:chOff x="1066680" y="3112920"/>
            <a:chExt cx="2437920" cy="1393920"/>
          </a:xfrm>
        </p:grpSpPr>
        <p:grpSp>
          <p:nvGrpSpPr>
            <p:cNvPr id="3561" name=""/>
            <p:cNvGrpSpPr/>
            <p:nvPr/>
          </p:nvGrpSpPr>
          <p:grpSpPr>
            <a:xfrm>
              <a:off x="1066680" y="3112920"/>
              <a:ext cx="2437920" cy="1393920"/>
              <a:chOff x="1066680" y="3112920"/>
              <a:chExt cx="2437920" cy="1393920"/>
            </a:xfrm>
          </p:grpSpPr>
          <p:sp>
            <p:nvSpPr>
              <p:cNvPr id="3562" name=""/>
              <p:cNvSpPr/>
              <p:nvPr/>
            </p:nvSpPr>
            <p:spPr>
              <a:xfrm>
                <a:off x="1066680" y="3255840"/>
                <a:ext cx="2437920" cy="1251000"/>
              </a:xfrm>
              <a:custGeom>
                <a:avLst/>
                <a:gdLst/>
                <a:ahLst/>
                <a:rect l="l" t="t" r="r" b="b"/>
                <a:pathLst>
                  <a:path w="3107" h="2364">
                    <a:moveTo>
                      <a:pt x="1555" y="2364"/>
                    </a:moveTo>
                    <a:lnTo>
                      <a:pt x="2939" y="2364"/>
                    </a:lnTo>
                    <a:lnTo>
                      <a:pt x="2985" y="2350"/>
                    </a:lnTo>
                    <a:lnTo>
                      <a:pt x="3021" y="2309"/>
                    </a:lnTo>
                    <a:lnTo>
                      <a:pt x="3046" y="2250"/>
                    </a:lnTo>
                    <a:lnTo>
                      <a:pt x="3056" y="2183"/>
                    </a:lnTo>
                    <a:lnTo>
                      <a:pt x="3056" y="666"/>
                    </a:lnTo>
                    <a:lnTo>
                      <a:pt x="3092" y="653"/>
                    </a:lnTo>
                    <a:lnTo>
                      <a:pt x="3103" y="624"/>
                    </a:lnTo>
                    <a:lnTo>
                      <a:pt x="3092" y="595"/>
                    </a:lnTo>
                    <a:lnTo>
                      <a:pt x="3056" y="582"/>
                    </a:lnTo>
                    <a:lnTo>
                      <a:pt x="3094" y="566"/>
                    </a:lnTo>
                    <a:lnTo>
                      <a:pt x="3107" y="535"/>
                    </a:lnTo>
                    <a:lnTo>
                      <a:pt x="3097" y="504"/>
                    </a:lnTo>
                    <a:lnTo>
                      <a:pt x="3061" y="489"/>
                    </a:lnTo>
                    <a:lnTo>
                      <a:pt x="3043" y="483"/>
                    </a:lnTo>
                    <a:lnTo>
                      <a:pt x="3011" y="470"/>
                    </a:lnTo>
                    <a:lnTo>
                      <a:pt x="2971" y="447"/>
                    </a:lnTo>
                    <a:lnTo>
                      <a:pt x="2918" y="419"/>
                    </a:lnTo>
                    <a:lnTo>
                      <a:pt x="2855" y="383"/>
                    </a:lnTo>
                    <a:lnTo>
                      <a:pt x="2783" y="344"/>
                    </a:lnTo>
                    <a:lnTo>
                      <a:pt x="2703" y="301"/>
                    </a:lnTo>
                    <a:lnTo>
                      <a:pt x="2617" y="258"/>
                    </a:lnTo>
                    <a:lnTo>
                      <a:pt x="2518" y="215"/>
                    </a:lnTo>
                    <a:lnTo>
                      <a:pt x="2414" y="170"/>
                    </a:lnTo>
                    <a:lnTo>
                      <a:pt x="2304" y="128"/>
                    </a:lnTo>
                    <a:lnTo>
                      <a:pt x="2186" y="91"/>
                    </a:lnTo>
                    <a:lnTo>
                      <a:pt x="2064" y="60"/>
                    </a:lnTo>
                    <a:lnTo>
                      <a:pt x="1935" y="32"/>
                    </a:lnTo>
                    <a:lnTo>
                      <a:pt x="1804" y="13"/>
                    </a:lnTo>
                    <a:lnTo>
                      <a:pt x="1668" y="4"/>
                    </a:lnTo>
                    <a:lnTo>
                      <a:pt x="1555" y="0"/>
                    </a:lnTo>
                    <a:lnTo>
                      <a:pt x="1443" y="4"/>
                    </a:lnTo>
                    <a:lnTo>
                      <a:pt x="1306" y="13"/>
                    </a:lnTo>
                    <a:lnTo>
                      <a:pt x="1176" y="32"/>
                    </a:lnTo>
                    <a:lnTo>
                      <a:pt x="1047" y="60"/>
                    </a:lnTo>
                    <a:lnTo>
                      <a:pt x="925" y="91"/>
                    </a:lnTo>
                    <a:lnTo>
                      <a:pt x="807" y="130"/>
                    </a:lnTo>
                    <a:lnTo>
                      <a:pt x="696" y="170"/>
                    </a:lnTo>
                    <a:lnTo>
                      <a:pt x="593" y="215"/>
                    </a:lnTo>
                    <a:lnTo>
                      <a:pt x="494" y="258"/>
                    </a:lnTo>
                    <a:lnTo>
                      <a:pt x="405" y="301"/>
                    </a:lnTo>
                    <a:lnTo>
                      <a:pt x="324" y="344"/>
                    </a:lnTo>
                    <a:lnTo>
                      <a:pt x="252" y="383"/>
                    </a:lnTo>
                    <a:lnTo>
                      <a:pt x="189" y="419"/>
                    </a:lnTo>
                    <a:lnTo>
                      <a:pt x="137" y="449"/>
                    </a:lnTo>
                    <a:lnTo>
                      <a:pt x="96" y="470"/>
                    </a:lnTo>
                    <a:lnTo>
                      <a:pt x="66" y="483"/>
                    </a:lnTo>
                    <a:lnTo>
                      <a:pt x="47" y="489"/>
                    </a:lnTo>
                    <a:lnTo>
                      <a:pt x="11" y="504"/>
                    </a:lnTo>
                    <a:lnTo>
                      <a:pt x="0" y="535"/>
                    </a:lnTo>
                    <a:lnTo>
                      <a:pt x="14" y="566"/>
                    </a:lnTo>
                    <a:lnTo>
                      <a:pt x="51" y="582"/>
                    </a:lnTo>
                    <a:lnTo>
                      <a:pt x="18" y="595"/>
                    </a:lnTo>
                    <a:lnTo>
                      <a:pt x="5" y="624"/>
                    </a:lnTo>
                    <a:lnTo>
                      <a:pt x="18" y="653"/>
                    </a:lnTo>
                    <a:lnTo>
                      <a:pt x="51" y="666"/>
                    </a:lnTo>
                    <a:lnTo>
                      <a:pt x="51" y="2183"/>
                    </a:lnTo>
                    <a:lnTo>
                      <a:pt x="61" y="2250"/>
                    </a:lnTo>
                    <a:lnTo>
                      <a:pt x="86" y="2309"/>
                    </a:lnTo>
                    <a:lnTo>
                      <a:pt x="123" y="2350"/>
                    </a:lnTo>
                    <a:lnTo>
                      <a:pt x="168" y="2364"/>
                    </a:lnTo>
                    <a:lnTo>
                      <a:pt x="1555" y="236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1102680" y="3514680"/>
                <a:ext cx="2363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1106280" y="3608280"/>
                <a:ext cx="2358720" cy="31680"/>
              </a:xfrm>
              <a:custGeom>
                <a:avLst/>
                <a:gdLst/>
                <a:ahLst/>
                <a:rect l="l" t="t" r="r" b="b"/>
                <a:pathLst>
                  <a:path w="3005" h="59">
                    <a:moveTo>
                      <a:pt x="3005" y="30"/>
                    </a:moveTo>
                    <a:lnTo>
                      <a:pt x="3005" y="0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3005" y="59"/>
                    </a:lnTo>
                    <a:lnTo>
                      <a:pt x="300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1106280" y="3555720"/>
                <a:ext cx="2358720" cy="16200"/>
              </a:xfrm>
              <a:custGeom>
                <a:avLst/>
                <a:gdLst/>
                <a:ahLst/>
                <a:rect l="l" t="t" r="r" b="b"/>
                <a:pathLst>
                  <a:path w="3005" h="30">
                    <a:moveTo>
                      <a:pt x="3005" y="14"/>
                    </a:moveTo>
                    <a:lnTo>
                      <a:pt x="3005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3005" y="30"/>
                    </a:lnTo>
                    <a:lnTo>
                      <a:pt x="300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1229040" y="3628800"/>
                <a:ext cx="144360" cy="878040"/>
              </a:xfrm>
              <a:custGeom>
                <a:avLst/>
                <a:gdLst/>
                <a:ahLst/>
                <a:rect l="l" t="t" r="r" b="b"/>
                <a:pathLst>
                  <a:path w="183" h="1660">
                    <a:moveTo>
                      <a:pt x="92" y="1660"/>
                    </a:moveTo>
                    <a:lnTo>
                      <a:pt x="183" y="1660"/>
                    </a:lnTo>
                    <a:lnTo>
                      <a:pt x="183" y="0"/>
                    </a:lnTo>
                    <a:lnTo>
                      <a:pt x="0" y="0"/>
                    </a:lnTo>
                    <a:lnTo>
                      <a:pt x="0" y="1660"/>
                    </a:lnTo>
                    <a:lnTo>
                      <a:pt x="92" y="166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1453320" y="3628800"/>
                <a:ext cx="70200" cy="878040"/>
              </a:xfrm>
              <a:custGeom>
                <a:avLst/>
                <a:gdLst/>
                <a:ahLst/>
                <a:rect l="l" t="t" r="r" b="b"/>
                <a:pathLst>
                  <a:path w="90" h="1660">
                    <a:moveTo>
                      <a:pt x="46" y="1660"/>
                    </a:moveTo>
                    <a:lnTo>
                      <a:pt x="90" y="1660"/>
                    </a:lnTo>
                    <a:lnTo>
                      <a:pt x="90" y="0"/>
                    </a:lnTo>
                    <a:lnTo>
                      <a:pt x="0" y="0"/>
                    </a:lnTo>
                    <a:lnTo>
                      <a:pt x="0" y="1660"/>
                    </a:lnTo>
                    <a:lnTo>
                      <a:pt x="46" y="166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1226880" y="3290760"/>
                <a:ext cx="993600" cy="223920"/>
              </a:xfrm>
              <a:custGeom>
                <a:avLst/>
                <a:gdLst/>
                <a:ahLst/>
                <a:rect l="l" t="t" r="r" b="b"/>
                <a:pathLst>
                  <a:path w="1267" h="422">
                    <a:moveTo>
                      <a:pt x="0" y="422"/>
                    </a:moveTo>
                    <a:lnTo>
                      <a:pt x="212" y="422"/>
                    </a:lnTo>
                    <a:lnTo>
                      <a:pt x="218" y="417"/>
                    </a:lnTo>
                    <a:lnTo>
                      <a:pt x="234" y="404"/>
                    </a:lnTo>
                    <a:lnTo>
                      <a:pt x="260" y="385"/>
                    </a:lnTo>
                    <a:lnTo>
                      <a:pt x="296" y="359"/>
                    </a:lnTo>
                    <a:lnTo>
                      <a:pt x="341" y="327"/>
                    </a:lnTo>
                    <a:lnTo>
                      <a:pt x="395" y="293"/>
                    </a:lnTo>
                    <a:lnTo>
                      <a:pt x="453" y="255"/>
                    </a:lnTo>
                    <a:lnTo>
                      <a:pt x="520" y="217"/>
                    </a:lnTo>
                    <a:lnTo>
                      <a:pt x="594" y="179"/>
                    </a:lnTo>
                    <a:lnTo>
                      <a:pt x="672" y="143"/>
                    </a:lnTo>
                    <a:lnTo>
                      <a:pt x="754" y="107"/>
                    </a:lnTo>
                    <a:lnTo>
                      <a:pt x="841" y="76"/>
                    </a:lnTo>
                    <a:lnTo>
                      <a:pt x="931" y="50"/>
                    </a:lnTo>
                    <a:lnTo>
                      <a:pt x="1022" y="30"/>
                    </a:lnTo>
                    <a:lnTo>
                      <a:pt x="1118" y="17"/>
                    </a:lnTo>
                    <a:lnTo>
                      <a:pt x="1213" y="12"/>
                    </a:lnTo>
                    <a:lnTo>
                      <a:pt x="1249" y="12"/>
                    </a:lnTo>
                    <a:lnTo>
                      <a:pt x="1267" y="8"/>
                    </a:lnTo>
                    <a:lnTo>
                      <a:pt x="1267" y="6"/>
                    </a:lnTo>
                    <a:lnTo>
                      <a:pt x="1250" y="0"/>
                    </a:lnTo>
                    <a:lnTo>
                      <a:pt x="1218" y="0"/>
                    </a:lnTo>
                    <a:lnTo>
                      <a:pt x="1170" y="0"/>
                    </a:lnTo>
                    <a:lnTo>
                      <a:pt x="1106" y="7"/>
                    </a:lnTo>
                    <a:lnTo>
                      <a:pt x="1028" y="16"/>
                    </a:lnTo>
                    <a:lnTo>
                      <a:pt x="939" y="32"/>
                    </a:lnTo>
                    <a:lnTo>
                      <a:pt x="836" y="56"/>
                    </a:lnTo>
                    <a:lnTo>
                      <a:pt x="722" y="89"/>
                    </a:lnTo>
                    <a:lnTo>
                      <a:pt x="596" y="132"/>
                    </a:lnTo>
                    <a:lnTo>
                      <a:pt x="462" y="185"/>
                    </a:lnTo>
                    <a:lnTo>
                      <a:pt x="315" y="251"/>
                    </a:lnTo>
                    <a:lnTo>
                      <a:pt x="163" y="329"/>
                    </a:lnTo>
                    <a:lnTo>
                      <a:pt x="0" y="422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1463760" y="3346200"/>
                <a:ext cx="586800" cy="166680"/>
              </a:xfrm>
              <a:custGeom>
                <a:avLst/>
                <a:gdLst/>
                <a:ahLst/>
                <a:rect l="l" t="t" r="r" b="b"/>
                <a:pathLst>
                  <a:path w="745" h="316">
                    <a:moveTo>
                      <a:pt x="0" y="316"/>
                    </a:moveTo>
                    <a:lnTo>
                      <a:pt x="114" y="316"/>
                    </a:lnTo>
                    <a:lnTo>
                      <a:pt x="160" y="279"/>
                    </a:lnTo>
                    <a:lnTo>
                      <a:pt x="227" y="233"/>
                    </a:lnTo>
                    <a:lnTo>
                      <a:pt x="309" y="186"/>
                    </a:lnTo>
                    <a:lnTo>
                      <a:pt x="399" y="141"/>
                    </a:lnTo>
                    <a:lnTo>
                      <a:pt x="494" y="95"/>
                    </a:lnTo>
                    <a:lnTo>
                      <a:pt x="586" y="56"/>
                    </a:lnTo>
                    <a:lnTo>
                      <a:pt x="671" y="22"/>
                    </a:lnTo>
                    <a:lnTo>
                      <a:pt x="745" y="0"/>
                    </a:lnTo>
                    <a:lnTo>
                      <a:pt x="740" y="0"/>
                    </a:lnTo>
                    <a:lnTo>
                      <a:pt x="722" y="5"/>
                    </a:lnTo>
                    <a:lnTo>
                      <a:pt x="695" y="10"/>
                    </a:lnTo>
                    <a:lnTo>
                      <a:pt x="661" y="18"/>
                    </a:lnTo>
                    <a:lnTo>
                      <a:pt x="619" y="28"/>
                    </a:lnTo>
                    <a:lnTo>
                      <a:pt x="571" y="41"/>
                    </a:lnTo>
                    <a:lnTo>
                      <a:pt x="515" y="57"/>
                    </a:lnTo>
                    <a:lnTo>
                      <a:pt x="458" y="73"/>
                    </a:lnTo>
                    <a:lnTo>
                      <a:pt x="398" y="95"/>
                    </a:lnTo>
                    <a:lnTo>
                      <a:pt x="335" y="118"/>
                    </a:lnTo>
                    <a:lnTo>
                      <a:pt x="274" y="144"/>
                    </a:lnTo>
                    <a:lnTo>
                      <a:pt x="212" y="174"/>
                    </a:lnTo>
                    <a:lnTo>
                      <a:pt x="153" y="204"/>
                    </a:lnTo>
                    <a:lnTo>
                      <a:pt x="98" y="238"/>
                    </a:lnTo>
                    <a:lnTo>
                      <a:pt x="46" y="27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2059560" y="3112920"/>
                <a:ext cx="516240" cy="166680"/>
              </a:xfrm>
              <a:custGeom>
                <a:avLst/>
                <a:gdLst/>
                <a:ahLst/>
                <a:rect l="l" t="t" r="r" b="b"/>
                <a:pathLst>
                  <a:path w="859" h="314">
                    <a:moveTo>
                      <a:pt x="790" y="314"/>
                    </a:moveTo>
                    <a:lnTo>
                      <a:pt x="819" y="296"/>
                    </a:lnTo>
                    <a:lnTo>
                      <a:pt x="829" y="276"/>
                    </a:lnTo>
                    <a:lnTo>
                      <a:pt x="827" y="253"/>
                    </a:lnTo>
                    <a:lnTo>
                      <a:pt x="807" y="230"/>
                    </a:lnTo>
                    <a:lnTo>
                      <a:pt x="795" y="218"/>
                    </a:lnTo>
                    <a:lnTo>
                      <a:pt x="778" y="200"/>
                    </a:lnTo>
                    <a:lnTo>
                      <a:pt x="763" y="183"/>
                    </a:lnTo>
                    <a:lnTo>
                      <a:pt x="751" y="163"/>
                    </a:lnTo>
                    <a:lnTo>
                      <a:pt x="743" y="144"/>
                    </a:lnTo>
                    <a:lnTo>
                      <a:pt x="739" y="123"/>
                    </a:lnTo>
                    <a:lnTo>
                      <a:pt x="747" y="108"/>
                    </a:lnTo>
                    <a:lnTo>
                      <a:pt x="757" y="97"/>
                    </a:lnTo>
                    <a:lnTo>
                      <a:pt x="769" y="88"/>
                    </a:lnTo>
                    <a:lnTo>
                      <a:pt x="778" y="85"/>
                    </a:lnTo>
                    <a:lnTo>
                      <a:pt x="790" y="85"/>
                    </a:lnTo>
                    <a:lnTo>
                      <a:pt x="803" y="94"/>
                    </a:lnTo>
                    <a:lnTo>
                      <a:pt x="807" y="105"/>
                    </a:lnTo>
                    <a:lnTo>
                      <a:pt x="807" y="118"/>
                    </a:lnTo>
                    <a:lnTo>
                      <a:pt x="810" y="123"/>
                    </a:lnTo>
                    <a:lnTo>
                      <a:pt x="819" y="126"/>
                    </a:lnTo>
                    <a:lnTo>
                      <a:pt x="831" y="121"/>
                    </a:lnTo>
                    <a:lnTo>
                      <a:pt x="845" y="111"/>
                    </a:lnTo>
                    <a:lnTo>
                      <a:pt x="855" y="98"/>
                    </a:lnTo>
                    <a:lnTo>
                      <a:pt x="859" y="84"/>
                    </a:lnTo>
                    <a:lnTo>
                      <a:pt x="855" y="66"/>
                    </a:lnTo>
                    <a:lnTo>
                      <a:pt x="838" y="52"/>
                    </a:lnTo>
                    <a:lnTo>
                      <a:pt x="807" y="42"/>
                    </a:lnTo>
                    <a:lnTo>
                      <a:pt x="766" y="31"/>
                    </a:lnTo>
                    <a:lnTo>
                      <a:pt x="718" y="21"/>
                    </a:lnTo>
                    <a:lnTo>
                      <a:pt x="663" y="13"/>
                    </a:lnTo>
                    <a:lnTo>
                      <a:pt x="603" y="9"/>
                    </a:lnTo>
                    <a:lnTo>
                      <a:pt x="543" y="3"/>
                    </a:lnTo>
                    <a:lnTo>
                      <a:pt x="484" y="1"/>
                    </a:lnTo>
                    <a:lnTo>
                      <a:pt x="427" y="0"/>
                    </a:lnTo>
                    <a:lnTo>
                      <a:pt x="374" y="1"/>
                    </a:lnTo>
                    <a:lnTo>
                      <a:pt x="313" y="2"/>
                    </a:lnTo>
                    <a:lnTo>
                      <a:pt x="254" y="7"/>
                    </a:lnTo>
                    <a:lnTo>
                      <a:pt x="196" y="13"/>
                    </a:lnTo>
                    <a:lnTo>
                      <a:pt x="142" y="20"/>
                    </a:lnTo>
                    <a:lnTo>
                      <a:pt x="91" y="31"/>
                    </a:lnTo>
                    <a:lnTo>
                      <a:pt x="53" y="42"/>
                    </a:lnTo>
                    <a:lnTo>
                      <a:pt x="20" y="52"/>
                    </a:lnTo>
                    <a:lnTo>
                      <a:pt x="6" y="66"/>
                    </a:lnTo>
                    <a:lnTo>
                      <a:pt x="0" y="84"/>
                    </a:lnTo>
                    <a:lnTo>
                      <a:pt x="5" y="98"/>
                    </a:lnTo>
                    <a:lnTo>
                      <a:pt x="12" y="111"/>
                    </a:lnTo>
                    <a:lnTo>
                      <a:pt x="28" y="121"/>
                    </a:lnTo>
                    <a:lnTo>
                      <a:pt x="40" y="126"/>
                    </a:lnTo>
                    <a:lnTo>
                      <a:pt x="48" y="126"/>
                    </a:lnTo>
                    <a:lnTo>
                      <a:pt x="50" y="118"/>
                    </a:lnTo>
                    <a:lnTo>
                      <a:pt x="53" y="94"/>
                    </a:lnTo>
                    <a:lnTo>
                      <a:pt x="67" y="85"/>
                    </a:lnTo>
                    <a:lnTo>
                      <a:pt x="88" y="88"/>
                    </a:lnTo>
                    <a:lnTo>
                      <a:pt x="100" y="97"/>
                    </a:lnTo>
                    <a:lnTo>
                      <a:pt x="112" y="108"/>
                    </a:lnTo>
                    <a:lnTo>
                      <a:pt x="118" y="123"/>
                    </a:lnTo>
                    <a:lnTo>
                      <a:pt x="116" y="144"/>
                    </a:lnTo>
                    <a:lnTo>
                      <a:pt x="109" y="163"/>
                    </a:lnTo>
                    <a:lnTo>
                      <a:pt x="100" y="181"/>
                    </a:lnTo>
                    <a:lnTo>
                      <a:pt x="82" y="200"/>
                    </a:lnTo>
                    <a:lnTo>
                      <a:pt x="65" y="218"/>
                    </a:lnTo>
                    <a:lnTo>
                      <a:pt x="41" y="242"/>
                    </a:lnTo>
                    <a:lnTo>
                      <a:pt x="30" y="256"/>
                    </a:lnTo>
                    <a:lnTo>
                      <a:pt x="30" y="274"/>
                    </a:lnTo>
                    <a:lnTo>
                      <a:pt x="41" y="294"/>
                    </a:lnTo>
                    <a:lnTo>
                      <a:pt x="71" y="312"/>
                    </a:lnTo>
                    <a:lnTo>
                      <a:pt x="157" y="295"/>
                    </a:lnTo>
                    <a:lnTo>
                      <a:pt x="178" y="276"/>
                    </a:lnTo>
                    <a:lnTo>
                      <a:pt x="182" y="255"/>
                    </a:lnTo>
                    <a:lnTo>
                      <a:pt x="176" y="235"/>
                    </a:lnTo>
                    <a:lnTo>
                      <a:pt x="163" y="230"/>
                    </a:lnTo>
                    <a:lnTo>
                      <a:pt x="142" y="224"/>
                    </a:lnTo>
                    <a:lnTo>
                      <a:pt x="133" y="213"/>
                    </a:lnTo>
                    <a:lnTo>
                      <a:pt x="140" y="196"/>
                    </a:lnTo>
                    <a:lnTo>
                      <a:pt x="155" y="174"/>
                    </a:lnTo>
                    <a:lnTo>
                      <a:pt x="170" y="145"/>
                    </a:lnTo>
                    <a:lnTo>
                      <a:pt x="178" y="118"/>
                    </a:lnTo>
                    <a:lnTo>
                      <a:pt x="179" y="97"/>
                    </a:lnTo>
                    <a:lnTo>
                      <a:pt x="172" y="84"/>
                    </a:lnTo>
                    <a:lnTo>
                      <a:pt x="176" y="76"/>
                    </a:lnTo>
                    <a:lnTo>
                      <a:pt x="190" y="70"/>
                    </a:lnTo>
                    <a:lnTo>
                      <a:pt x="216" y="63"/>
                    </a:lnTo>
                    <a:lnTo>
                      <a:pt x="248" y="58"/>
                    </a:lnTo>
                    <a:lnTo>
                      <a:pt x="288" y="54"/>
                    </a:lnTo>
                    <a:lnTo>
                      <a:pt x="335" y="51"/>
                    </a:lnTo>
                    <a:lnTo>
                      <a:pt x="384" y="50"/>
                    </a:lnTo>
                    <a:lnTo>
                      <a:pt x="427" y="50"/>
                    </a:lnTo>
                    <a:lnTo>
                      <a:pt x="474" y="50"/>
                    </a:lnTo>
                    <a:lnTo>
                      <a:pt x="522" y="50"/>
                    </a:lnTo>
                    <a:lnTo>
                      <a:pt x="568" y="52"/>
                    </a:lnTo>
                    <a:lnTo>
                      <a:pt x="610" y="58"/>
                    </a:lnTo>
                    <a:lnTo>
                      <a:pt x="642" y="63"/>
                    </a:lnTo>
                    <a:lnTo>
                      <a:pt x="669" y="70"/>
                    </a:lnTo>
                    <a:lnTo>
                      <a:pt x="683" y="76"/>
                    </a:lnTo>
                    <a:lnTo>
                      <a:pt x="687" y="84"/>
                    </a:lnTo>
                    <a:lnTo>
                      <a:pt x="681" y="97"/>
                    </a:lnTo>
                    <a:lnTo>
                      <a:pt x="681" y="118"/>
                    </a:lnTo>
                    <a:lnTo>
                      <a:pt x="688" y="145"/>
                    </a:lnTo>
                    <a:lnTo>
                      <a:pt x="705" y="174"/>
                    </a:lnTo>
                    <a:lnTo>
                      <a:pt x="718" y="196"/>
                    </a:lnTo>
                    <a:lnTo>
                      <a:pt x="724" y="213"/>
                    </a:lnTo>
                    <a:lnTo>
                      <a:pt x="715" y="224"/>
                    </a:lnTo>
                    <a:lnTo>
                      <a:pt x="696" y="230"/>
                    </a:lnTo>
                    <a:lnTo>
                      <a:pt x="677" y="243"/>
                    </a:lnTo>
                    <a:lnTo>
                      <a:pt x="677" y="266"/>
                    </a:lnTo>
                    <a:lnTo>
                      <a:pt x="688" y="286"/>
                    </a:lnTo>
                    <a:lnTo>
                      <a:pt x="705" y="298"/>
                    </a:lnTo>
                    <a:lnTo>
                      <a:pt x="790" y="31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1" name=""/>
            <p:cNvSpPr/>
            <p:nvPr/>
          </p:nvSpPr>
          <p:spPr>
            <a:xfrm>
              <a:off x="1113480" y="3747960"/>
              <a:ext cx="234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109880" y="3833640"/>
              <a:ext cx="234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3" name=""/>
          <p:cNvGrpSpPr/>
          <p:nvPr/>
        </p:nvGrpSpPr>
        <p:grpSpPr>
          <a:xfrm>
            <a:off x="1447920" y="3095640"/>
            <a:ext cx="1320840" cy="1428840"/>
            <a:chOff x="1447920" y="3095640"/>
            <a:chExt cx="1320840" cy="1428840"/>
          </a:xfrm>
        </p:grpSpPr>
        <p:sp>
          <p:nvSpPr>
            <p:cNvPr id="3574" name=""/>
            <p:cNvSpPr/>
            <p:nvPr/>
          </p:nvSpPr>
          <p:spPr>
            <a:xfrm>
              <a:off x="1447920" y="3095640"/>
              <a:ext cx="1320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649520" y="3103560"/>
              <a:ext cx="1019160" cy="1327320"/>
            </a:xfrm>
            <a:prstGeom prst="rect">
              <a:avLst/>
            </a:prstGeom>
            <a:solidFill>
              <a:srgbClr val="caca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335320" y="4037040"/>
              <a:ext cx="425520" cy="112680"/>
            </a:xfrm>
            <a:custGeom>
              <a:avLst/>
              <a:gdLst/>
              <a:ahLst/>
              <a:rect l="l" t="t" r="r" b="b"/>
              <a:pathLst>
                <a:path w="268" h="71">
                  <a:moveTo>
                    <a:pt x="185" y="71"/>
                  </a:moveTo>
                  <a:lnTo>
                    <a:pt x="50" y="64"/>
                  </a:lnTo>
                  <a:lnTo>
                    <a:pt x="0" y="38"/>
                  </a:lnTo>
                  <a:lnTo>
                    <a:pt x="10" y="28"/>
                  </a:lnTo>
                  <a:lnTo>
                    <a:pt x="22" y="20"/>
                  </a:lnTo>
                  <a:lnTo>
                    <a:pt x="35" y="13"/>
                  </a:lnTo>
                  <a:lnTo>
                    <a:pt x="49" y="8"/>
                  </a:lnTo>
                  <a:lnTo>
                    <a:pt x="63" y="4"/>
                  </a:lnTo>
                  <a:lnTo>
                    <a:pt x="80" y="2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31" y="1"/>
                  </a:lnTo>
                  <a:lnTo>
                    <a:pt x="149" y="2"/>
                  </a:lnTo>
                  <a:lnTo>
                    <a:pt x="167" y="3"/>
                  </a:lnTo>
                  <a:lnTo>
                    <a:pt x="184" y="5"/>
                  </a:lnTo>
                  <a:lnTo>
                    <a:pt x="202" y="7"/>
                  </a:lnTo>
                  <a:lnTo>
                    <a:pt x="219" y="10"/>
                  </a:lnTo>
                  <a:lnTo>
                    <a:pt x="236" y="12"/>
                  </a:lnTo>
                  <a:lnTo>
                    <a:pt x="252" y="14"/>
                  </a:lnTo>
                  <a:lnTo>
                    <a:pt x="268" y="38"/>
                  </a:lnTo>
                  <a:lnTo>
                    <a:pt x="252" y="71"/>
                  </a:lnTo>
                  <a:lnTo>
                    <a:pt x="18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536840" y="3989520"/>
              <a:ext cx="601920" cy="118800"/>
            </a:xfrm>
            <a:custGeom>
              <a:avLst/>
              <a:gdLst/>
              <a:ahLst/>
              <a:rect l="l" t="t" r="r" b="b"/>
              <a:pathLst>
                <a:path w="379" h="75">
                  <a:moveTo>
                    <a:pt x="17" y="68"/>
                  </a:moveTo>
                  <a:lnTo>
                    <a:pt x="0" y="51"/>
                  </a:lnTo>
                  <a:lnTo>
                    <a:pt x="17" y="9"/>
                  </a:lnTo>
                  <a:lnTo>
                    <a:pt x="143" y="0"/>
                  </a:lnTo>
                  <a:lnTo>
                    <a:pt x="303" y="0"/>
                  </a:lnTo>
                  <a:lnTo>
                    <a:pt x="328" y="0"/>
                  </a:lnTo>
                  <a:lnTo>
                    <a:pt x="379" y="34"/>
                  </a:lnTo>
                  <a:lnTo>
                    <a:pt x="362" y="75"/>
                  </a:lnTo>
                  <a:lnTo>
                    <a:pt x="341" y="74"/>
                  </a:lnTo>
                  <a:lnTo>
                    <a:pt x="319" y="74"/>
                  </a:lnTo>
                  <a:lnTo>
                    <a:pt x="298" y="73"/>
                  </a:lnTo>
                  <a:lnTo>
                    <a:pt x="276" y="73"/>
                  </a:lnTo>
                  <a:lnTo>
                    <a:pt x="255" y="72"/>
                  </a:lnTo>
                  <a:lnTo>
                    <a:pt x="233" y="71"/>
                  </a:lnTo>
                  <a:lnTo>
                    <a:pt x="212" y="71"/>
                  </a:lnTo>
                  <a:lnTo>
                    <a:pt x="190" y="70"/>
                  </a:lnTo>
                  <a:lnTo>
                    <a:pt x="168" y="70"/>
                  </a:lnTo>
                  <a:lnTo>
                    <a:pt x="146" y="69"/>
                  </a:lnTo>
                  <a:lnTo>
                    <a:pt x="124" y="69"/>
                  </a:lnTo>
                  <a:lnTo>
                    <a:pt x="103" y="69"/>
                  </a:lnTo>
                  <a:lnTo>
                    <a:pt x="81" y="68"/>
                  </a:lnTo>
                  <a:lnTo>
                    <a:pt x="60" y="68"/>
                  </a:lnTo>
                  <a:lnTo>
                    <a:pt x="38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563840" y="3736800"/>
              <a:ext cx="1155960" cy="130320"/>
            </a:xfrm>
            <a:custGeom>
              <a:avLst/>
              <a:gdLst/>
              <a:ahLst/>
              <a:rect l="l" t="t" r="r" b="b"/>
              <a:pathLst>
                <a:path w="728" h="82">
                  <a:moveTo>
                    <a:pt x="671" y="76"/>
                  </a:moveTo>
                  <a:lnTo>
                    <a:pt x="185" y="50"/>
                  </a:lnTo>
                  <a:lnTo>
                    <a:pt x="24" y="58"/>
                  </a:lnTo>
                  <a:lnTo>
                    <a:pt x="0" y="0"/>
                  </a:lnTo>
                  <a:lnTo>
                    <a:pt x="260" y="0"/>
                  </a:lnTo>
                  <a:lnTo>
                    <a:pt x="612" y="8"/>
                  </a:lnTo>
                  <a:lnTo>
                    <a:pt x="697" y="8"/>
                  </a:lnTo>
                  <a:lnTo>
                    <a:pt x="728" y="32"/>
                  </a:lnTo>
                  <a:lnTo>
                    <a:pt x="721" y="82"/>
                  </a:lnTo>
                  <a:lnTo>
                    <a:pt x="67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563840" y="3411360"/>
              <a:ext cx="1185840" cy="136800"/>
            </a:xfrm>
            <a:custGeom>
              <a:avLst/>
              <a:gdLst/>
              <a:ahLst/>
              <a:rect l="l" t="t" r="r" b="b"/>
              <a:pathLst>
                <a:path w="747" h="86">
                  <a:moveTo>
                    <a:pt x="336" y="86"/>
                  </a:moveTo>
                  <a:lnTo>
                    <a:pt x="50" y="60"/>
                  </a:lnTo>
                  <a:lnTo>
                    <a:pt x="0" y="45"/>
                  </a:lnTo>
                  <a:lnTo>
                    <a:pt x="16" y="1"/>
                  </a:lnTo>
                  <a:lnTo>
                    <a:pt x="37" y="0"/>
                  </a:lnTo>
                  <a:lnTo>
                    <a:pt x="57" y="0"/>
                  </a:lnTo>
                  <a:lnTo>
                    <a:pt x="78" y="0"/>
                  </a:lnTo>
                  <a:lnTo>
                    <a:pt x="98" y="1"/>
                  </a:lnTo>
                  <a:lnTo>
                    <a:pt x="118" y="2"/>
                  </a:lnTo>
                  <a:lnTo>
                    <a:pt x="140" y="2"/>
                  </a:lnTo>
                  <a:lnTo>
                    <a:pt x="160" y="4"/>
                  </a:lnTo>
                  <a:lnTo>
                    <a:pt x="181" y="5"/>
                  </a:lnTo>
                  <a:lnTo>
                    <a:pt x="201" y="6"/>
                  </a:lnTo>
                  <a:lnTo>
                    <a:pt x="222" y="8"/>
                  </a:lnTo>
                  <a:lnTo>
                    <a:pt x="242" y="10"/>
                  </a:lnTo>
                  <a:lnTo>
                    <a:pt x="262" y="11"/>
                  </a:lnTo>
                  <a:lnTo>
                    <a:pt x="283" y="13"/>
                  </a:lnTo>
                  <a:lnTo>
                    <a:pt x="303" y="15"/>
                  </a:lnTo>
                  <a:lnTo>
                    <a:pt x="324" y="17"/>
                  </a:lnTo>
                  <a:lnTo>
                    <a:pt x="344" y="18"/>
                  </a:lnTo>
                  <a:lnTo>
                    <a:pt x="364" y="20"/>
                  </a:lnTo>
                  <a:lnTo>
                    <a:pt x="385" y="21"/>
                  </a:lnTo>
                  <a:lnTo>
                    <a:pt x="405" y="22"/>
                  </a:lnTo>
                  <a:lnTo>
                    <a:pt x="425" y="23"/>
                  </a:lnTo>
                  <a:lnTo>
                    <a:pt x="446" y="24"/>
                  </a:lnTo>
                  <a:lnTo>
                    <a:pt x="466" y="25"/>
                  </a:lnTo>
                  <a:lnTo>
                    <a:pt x="486" y="25"/>
                  </a:lnTo>
                  <a:lnTo>
                    <a:pt x="507" y="25"/>
                  </a:lnTo>
                  <a:lnTo>
                    <a:pt x="527" y="25"/>
                  </a:lnTo>
                  <a:lnTo>
                    <a:pt x="548" y="24"/>
                  </a:lnTo>
                  <a:lnTo>
                    <a:pt x="569" y="23"/>
                  </a:lnTo>
                  <a:lnTo>
                    <a:pt x="589" y="21"/>
                  </a:lnTo>
                  <a:lnTo>
                    <a:pt x="610" y="19"/>
                  </a:lnTo>
                  <a:lnTo>
                    <a:pt x="630" y="17"/>
                  </a:lnTo>
                  <a:lnTo>
                    <a:pt x="651" y="14"/>
                  </a:lnTo>
                  <a:lnTo>
                    <a:pt x="671" y="10"/>
                  </a:lnTo>
                  <a:lnTo>
                    <a:pt x="747" y="45"/>
                  </a:lnTo>
                  <a:lnTo>
                    <a:pt x="729" y="86"/>
                  </a:lnTo>
                  <a:lnTo>
                    <a:pt x="370" y="86"/>
                  </a:lnTo>
                  <a:lnTo>
                    <a:pt x="33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0" name=""/>
          <p:cNvSpPr/>
          <p:nvPr/>
        </p:nvSpPr>
        <p:spPr>
          <a:xfrm>
            <a:off x="18306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2" name="SCIBLE2" descr=""/>
          <p:cNvPicPr/>
          <p:nvPr/>
        </p:nvPicPr>
        <p:blipFill>
          <a:blip r:embed="rId1"/>
          <a:stretch/>
        </p:blipFill>
        <p:spPr>
          <a:xfrm>
            <a:off x="5486400" y="2808360"/>
            <a:ext cx="297180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3" name=""/>
          <p:cNvGrpSpPr/>
          <p:nvPr/>
        </p:nvGrpSpPr>
        <p:grpSpPr>
          <a:xfrm>
            <a:off x="6172200" y="2705040"/>
            <a:ext cx="1219320" cy="2209680"/>
            <a:chOff x="6172200" y="2705040"/>
            <a:chExt cx="1219320" cy="2209680"/>
          </a:xfrm>
        </p:grpSpPr>
        <p:sp>
          <p:nvSpPr>
            <p:cNvPr id="3584" name=""/>
            <p:cNvSpPr/>
            <p:nvPr/>
          </p:nvSpPr>
          <p:spPr>
            <a:xfrm>
              <a:off x="6623280" y="3054240"/>
              <a:ext cx="441360" cy="457200"/>
            </a:xfrm>
            <a:custGeom>
              <a:avLst/>
              <a:gdLst/>
              <a:ahLst/>
              <a:rect l="l" t="t" r="r" b="b"/>
              <a:pathLst>
                <a:path w="753" h="691">
                  <a:moveTo>
                    <a:pt x="703" y="540"/>
                  </a:moveTo>
                  <a:lnTo>
                    <a:pt x="675" y="556"/>
                  </a:lnTo>
                  <a:lnTo>
                    <a:pt x="654" y="568"/>
                  </a:lnTo>
                  <a:lnTo>
                    <a:pt x="606" y="590"/>
                  </a:lnTo>
                  <a:lnTo>
                    <a:pt x="590" y="597"/>
                  </a:lnTo>
                  <a:lnTo>
                    <a:pt x="530" y="622"/>
                  </a:lnTo>
                  <a:lnTo>
                    <a:pt x="523" y="625"/>
                  </a:lnTo>
                  <a:lnTo>
                    <a:pt x="424" y="674"/>
                  </a:lnTo>
                  <a:lnTo>
                    <a:pt x="421" y="675"/>
                  </a:lnTo>
                  <a:lnTo>
                    <a:pt x="388" y="687"/>
                  </a:lnTo>
                  <a:lnTo>
                    <a:pt x="327" y="691"/>
                  </a:lnTo>
                  <a:lnTo>
                    <a:pt x="234" y="682"/>
                  </a:lnTo>
                  <a:lnTo>
                    <a:pt x="197" y="674"/>
                  </a:lnTo>
                  <a:lnTo>
                    <a:pt x="116" y="587"/>
                  </a:lnTo>
                  <a:lnTo>
                    <a:pt x="54" y="513"/>
                  </a:lnTo>
                  <a:lnTo>
                    <a:pt x="45" y="499"/>
                  </a:lnTo>
                  <a:lnTo>
                    <a:pt x="62" y="490"/>
                  </a:lnTo>
                  <a:lnTo>
                    <a:pt x="78" y="481"/>
                  </a:lnTo>
                  <a:lnTo>
                    <a:pt x="85" y="485"/>
                  </a:lnTo>
                  <a:lnTo>
                    <a:pt x="97" y="487"/>
                  </a:lnTo>
                  <a:lnTo>
                    <a:pt x="111" y="485"/>
                  </a:lnTo>
                  <a:lnTo>
                    <a:pt x="125" y="478"/>
                  </a:lnTo>
                  <a:lnTo>
                    <a:pt x="132" y="480"/>
                  </a:lnTo>
                  <a:lnTo>
                    <a:pt x="140" y="480"/>
                  </a:lnTo>
                  <a:lnTo>
                    <a:pt x="158" y="473"/>
                  </a:lnTo>
                  <a:lnTo>
                    <a:pt x="166" y="468"/>
                  </a:lnTo>
                  <a:lnTo>
                    <a:pt x="173" y="454"/>
                  </a:lnTo>
                  <a:lnTo>
                    <a:pt x="170" y="466"/>
                  </a:lnTo>
                  <a:lnTo>
                    <a:pt x="177" y="469"/>
                  </a:lnTo>
                  <a:lnTo>
                    <a:pt x="189" y="471"/>
                  </a:lnTo>
                  <a:lnTo>
                    <a:pt x="203" y="466"/>
                  </a:lnTo>
                  <a:lnTo>
                    <a:pt x="213" y="457"/>
                  </a:lnTo>
                  <a:lnTo>
                    <a:pt x="218" y="461"/>
                  </a:lnTo>
                  <a:lnTo>
                    <a:pt x="236" y="459"/>
                  </a:lnTo>
                  <a:lnTo>
                    <a:pt x="249" y="454"/>
                  </a:lnTo>
                  <a:lnTo>
                    <a:pt x="270" y="454"/>
                  </a:lnTo>
                  <a:lnTo>
                    <a:pt x="289" y="442"/>
                  </a:lnTo>
                  <a:lnTo>
                    <a:pt x="313" y="443"/>
                  </a:lnTo>
                  <a:lnTo>
                    <a:pt x="326" y="438"/>
                  </a:lnTo>
                  <a:lnTo>
                    <a:pt x="339" y="438"/>
                  </a:lnTo>
                  <a:lnTo>
                    <a:pt x="362" y="433"/>
                  </a:lnTo>
                  <a:lnTo>
                    <a:pt x="374" y="419"/>
                  </a:lnTo>
                  <a:lnTo>
                    <a:pt x="383" y="379"/>
                  </a:lnTo>
                  <a:lnTo>
                    <a:pt x="374" y="341"/>
                  </a:lnTo>
                  <a:lnTo>
                    <a:pt x="353" y="317"/>
                  </a:lnTo>
                  <a:lnTo>
                    <a:pt x="338" y="312"/>
                  </a:lnTo>
                  <a:lnTo>
                    <a:pt x="326" y="322"/>
                  </a:lnTo>
                  <a:lnTo>
                    <a:pt x="327" y="339"/>
                  </a:lnTo>
                  <a:lnTo>
                    <a:pt x="324" y="322"/>
                  </a:lnTo>
                  <a:lnTo>
                    <a:pt x="303" y="308"/>
                  </a:lnTo>
                  <a:lnTo>
                    <a:pt x="279" y="310"/>
                  </a:lnTo>
                  <a:lnTo>
                    <a:pt x="267" y="320"/>
                  </a:lnTo>
                  <a:lnTo>
                    <a:pt x="261" y="332"/>
                  </a:lnTo>
                  <a:lnTo>
                    <a:pt x="249" y="331"/>
                  </a:lnTo>
                  <a:lnTo>
                    <a:pt x="237" y="334"/>
                  </a:lnTo>
                  <a:lnTo>
                    <a:pt x="230" y="345"/>
                  </a:lnTo>
                  <a:lnTo>
                    <a:pt x="215" y="345"/>
                  </a:lnTo>
                  <a:lnTo>
                    <a:pt x="197" y="346"/>
                  </a:lnTo>
                  <a:lnTo>
                    <a:pt x="185" y="360"/>
                  </a:lnTo>
                  <a:lnTo>
                    <a:pt x="168" y="369"/>
                  </a:lnTo>
                  <a:lnTo>
                    <a:pt x="156" y="376"/>
                  </a:lnTo>
                  <a:lnTo>
                    <a:pt x="145" y="384"/>
                  </a:lnTo>
                  <a:lnTo>
                    <a:pt x="137" y="395"/>
                  </a:lnTo>
                  <a:lnTo>
                    <a:pt x="128" y="410"/>
                  </a:lnTo>
                  <a:lnTo>
                    <a:pt x="130" y="421"/>
                  </a:lnTo>
                  <a:lnTo>
                    <a:pt x="123" y="410"/>
                  </a:lnTo>
                  <a:lnTo>
                    <a:pt x="116" y="410"/>
                  </a:lnTo>
                  <a:lnTo>
                    <a:pt x="107" y="416"/>
                  </a:lnTo>
                  <a:lnTo>
                    <a:pt x="88" y="436"/>
                  </a:lnTo>
                  <a:lnTo>
                    <a:pt x="73" y="436"/>
                  </a:lnTo>
                  <a:lnTo>
                    <a:pt x="55" y="438"/>
                  </a:lnTo>
                  <a:lnTo>
                    <a:pt x="24" y="454"/>
                  </a:lnTo>
                  <a:lnTo>
                    <a:pt x="12" y="428"/>
                  </a:lnTo>
                  <a:lnTo>
                    <a:pt x="0" y="358"/>
                  </a:lnTo>
                  <a:lnTo>
                    <a:pt x="2" y="263"/>
                  </a:lnTo>
                  <a:lnTo>
                    <a:pt x="36" y="152"/>
                  </a:lnTo>
                  <a:lnTo>
                    <a:pt x="109" y="152"/>
                  </a:lnTo>
                  <a:lnTo>
                    <a:pt x="249" y="140"/>
                  </a:lnTo>
                  <a:lnTo>
                    <a:pt x="308" y="130"/>
                  </a:lnTo>
                  <a:lnTo>
                    <a:pt x="407" y="106"/>
                  </a:lnTo>
                  <a:lnTo>
                    <a:pt x="493" y="71"/>
                  </a:lnTo>
                  <a:lnTo>
                    <a:pt x="615" y="0"/>
                  </a:lnTo>
                  <a:lnTo>
                    <a:pt x="628" y="9"/>
                  </a:lnTo>
                  <a:lnTo>
                    <a:pt x="658" y="42"/>
                  </a:lnTo>
                  <a:lnTo>
                    <a:pt x="687" y="90"/>
                  </a:lnTo>
                  <a:lnTo>
                    <a:pt x="715" y="149"/>
                  </a:lnTo>
                  <a:lnTo>
                    <a:pt x="736" y="225"/>
                  </a:lnTo>
                  <a:lnTo>
                    <a:pt x="753" y="332"/>
                  </a:lnTo>
                  <a:lnTo>
                    <a:pt x="753" y="424"/>
                  </a:lnTo>
                  <a:lnTo>
                    <a:pt x="720" y="509"/>
                  </a:lnTo>
                  <a:lnTo>
                    <a:pt x="703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680160" y="2933640"/>
              <a:ext cx="273240" cy="171360"/>
            </a:xfrm>
            <a:custGeom>
              <a:avLst/>
              <a:gdLst/>
              <a:ahLst/>
              <a:rect l="l" t="t" r="r" b="b"/>
              <a:pathLst>
                <a:path w="467" h="258">
                  <a:moveTo>
                    <a:pt x="439" y="14"/>
                  </a:moveTo>
                  <a:lnTo>
                    <a:pt x="438" y="0"/>
                  </a:lnTo>
                  <a:lnTo>
                    <a:pt x="433" y="16"/>
                  </a:lnTo>
                  <a:lnTo>
                    <a:pt x="420" y="28"/>
                  </a:lnTo>
                  <a:lnTo>
                    <a:pt x="391" y="47"/>
                  </a:lnTo>
                  <a:lnTo>
                    <a:pt x="358" y="57"/>
                  </a:lnTo>
                  <a:lnTo>
                    <a:pt x="272" y="97"/>
                  </a:lnTo>
                  <a:lnTo>
                    <a:pt x="183" y="126"/>
                  </a:lnTo>
                  <a:lnTo>
                    <a:pt x="112" y="145"/>
                  </a:lnTo>
                  <a:lnTo>
                    <a:pt x="52" y="152"/>
                  </a:lnTo>
                  <a:lnTo>
                    <a:pt x="24" y="149"/>
                  </a:lnTo>
                  <a:lnTo>
                    <a:pt x="12" y="139"/>
                  </a:lnTo>
                  <a:lnTo>
                    <a:pt x="0" y="128"/>
                  </a:lnTo>
                  <a:lnTo>
                    <a:pt x="12" y="164"/>
                  </a:lnTo>
                  <a:lnTo>
                    <a:pt x="24" y="203"/>
                  </a:lnTo>
                  <a:lnTo>
                    <a:pt x="34" y="248"/>
                  </a:lnTo>
                  <a:lnTo>
                    <a:pt x="46" y="256"/>
                  </a:lnTo>
                  <a:lnTo>
                    <a:pt x="72" y="258"/>
                  </a:lnTo>
                  <a:lnTo>
                    <a:pt x="138" y="251"/>
                  </a:lnTo>
                  <a:lnTo>
                    <a:pt x="240" y="225"/>
                  </a:lnTo>
                  <a:lnTo>
                    <a:pt x="349" y="182"/>
                  </a:lnTo>
                  <a:lnTo>
                    <a:pt x="436" y="139"/>
                  </a:lnTo>
                  <a:lnTo>
                    <a:pt x="462" y="116"/>
                  </a:lnTo>
                  <a:lnTo>
                    <a:pt x="467" y="104"/>
                  </a:lnTo>
                  <a:lnTo>
                    <a:pt x="439" y="14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564600" y="2906640"/>
              <a:ext cx="509400" cy="247680"/>
            </a:xfrm>
            <a:custGeom>
              <a:avLst/>
              <a:gdLst/>
              <a:ahLst/>
              <a:rect l="l" t="t" r="r" b="b"/>
              <a:pathLst>
                <a:path w="872" h="374">
                  <a:moveTo>
                    <a:pt x="211" y="206"/>
                  </a:moveTo>
                  <a:lnTo>
                    <a:pt x="133" y="206"/>
                  </a:lnTo>
                  <a:lnTo>
                    <a:pt x="48" y="215"/>
                  </a:lnTo>
                  <a:lnTo>
                    <a:pt x="17" y="227"/>
                  </a:lnTo>
                  <a:lnTo>
                    <a:pt x="0" y="250"/>
                  </a:lnTo>
                  <a:lnTo>
                    <a:pt x="0" y="291"/>
                  </a:lnTo>
                  <a:lnTo>
                    <a:pt x="12" y="326"/>
                  </a:lnTo>
                  <a:lnTo>
                    <a:pt x="39" y="345"/>
                  </a:lnTo>
                  <a:lnTo>
                    <a:pt x="90" y="366"/>
                  </a:lnTo>
                  <a:lnTo>
                    <a:pt x="136" y="374"/>
                  </a:lnTo>
                  <a:lnTo>
                    <a:pt x="209" y="374"/>
                  </a:lnTo>
                  <a:lnTo>
                    <a:pt x="349" y="362"/>
                  </a:lnTo>
                  <a:lnTo>
                    <a:pt x="408" y="352"/>
                  </a:lnTo>
                  <a:lnTo>
                    <a:pt x="507" y="328"/>
                  </a:lnTo>
                  <a:lnTo>
                    <a:pt x="593" y="293"/>
                  </a:lnTo>
                  <a:lnTo>
                    <a:pt x="715" y="222"/>
                  </a:lnTo>
                  <a:lnTo>
                    <a:pt x="810" y="153"/>
                  </a:lnTo>
                  <a:lnTo>
                    <a:pt x="853" y="116"/>
                  </a:lnTo>
                  <a:lnTo>
                    <a:pt x="872" y="78"/>
                  </a:lnTo>
                  <a:lnTo>
                    <a:pt x="872" y="42"/>
                  </a:lnTo>
                  <a:lnTo>
                    <a:pt x="853" y="18"/>
                  </a:lnTo>
                  <a:lnTo>
                    <a:pt x="812" y="0"/>
                  </a:lnTo>
                  <a:lnTo>
                    <a:pt x="780" y="0"/>
                  </a:lnTo>
                  <a:lnTo>
                    <a:pt x="728" y="14"/>
                  </a:lnTo>
                  <a:lnTo>
                    <a:pt x="682" y="37"/>
                  </a:lnTo>
                  <a:lnTo>
                    <a:pt x="638" y="56"/>
                  </a:lnTo>
                  <a:lnTo>
                    <a:pt x="666" y="146"/>
                  </a:lnTo>
                  <a:lnTo>
                    <a:pt x="661" y="158"/>
                  </a:lnTo>
                  <a:lnTo>
                    <a:pt x="635" y="181"/>
                  </a:lnTo>
                  <a:lnTo>
                    <a:pt x="548" y="224"/>
                  </a:lnTo>
                  <a:lnTo>
                    <a:pt x="439" y="267"/>
                  </a:lnTo>
                  <a:lnTo>
                    <a:pt x="337" y="293"/>
                  </a:lnTo>
                  <a:lnTo>
                    <a:pt x="271" y="300"/>
                  </a:lnTo>
                  <a:lnTo>
                    <a:pt x="245" y="298"/>
                  </a:lnTo>
                  <a:lnTo>
                    <a:pt x="233" y="290"/>
                  </a:lnTo>
                  <a:lnTo>
                    <a:pt x="223" y="245"/>
                  </a:lnTo>
                  <a:lnTo>
                    <a:pt x="211" y="206"/>
                  </a:lnTo>
                  <a:close/>
                </a:path>
              </a:pathLst>
            </a:custGeom>
            <a:solidFill>
              <a:srgbClr val="66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610320" y="2724120"/>
              <a:ext cx="325440" cy="311040"/>
            </a:xfrm>
            <a:custGeom>
              <a:avLst/>
              <a:gdLst/>
              <a:ahLst/>
              <a:rect l="l" t="t" r="r" b="b"/>
              <a:pathLst>
                <a:path w="559" h="471">
                  <a:moveTo>
                    <a:pt x="559" y="319"/>
                  </a:moveTo>
                  <a:lnTo>
                    <a:pt x="543" y="257"/>
                  </a:lnTo>
                  <a:lnTo>
                    <a:pt x="524" y="170"/>
                  </a:lnTo>
                  <a:lnTo>
                    <a:pt x="519" y="129"/>
                  </a:lnTo>
                  <a:lnTo>
                    <a:pt x="515" y="92"/>
                  </a:lnTo>
                  <a:lnTo>
                    <a:pt x="521" y="9"/>
                  </a:lnTo>
                  <a:lnTo>
                    <a:pt x="517" y="0"/>
                  </a:lnTo>
                  <a:lnTo>
                    <a:pt x="450" y="40"/>
                  </a:lnTo>
                  <a:lnTo>
                    <a:pt x="349" y="73"/>
                  </a:lnTo>
                  <a:lnTo>
                    <a:pt x="238" y="99"/>
                  </a:lnTo>
                  <a:lnTo>
                    <a:pt x="114" y="111"/>
                  </a:lnTo>
                  <a:lnTo>
                    <a:pt x="0" y="110"/>
                  </a:lnTo>
                  <a:lnTo>
                    <a:pt x="8" y="129"/>
                  </a:lnTo>
                  <a:lnTo>
                    <a:pt x="121" y="447"/>
                  </a:lnTo>
                  <a:lnTo>
                    <a:pt x="133" y="458"/>
                  </a:lnTo>
                  <a:lnTo>
                    <a:pt x="145" y="468"/>
                  </a:lnTo>
                  <a:lnTo>
                    <a:pt x="173" y="471"/>
                  </a:lnTo>
                  <a:lnTo>
                    <a:pt x="233" y="464"/>
                  </a:lnTo>
                  <a:lnTo>
                    <a:pt x="304" y="445"/>
                  </a:lnTo>
                  <a:lnTo>
                    <a:pt x="393" y="416"/>
                  </a:lnTo>
                  <a:lnTo>
                    <a:pt x="479" y="376"/>
                  </a:lnTo>
                  <a:lnTo>
                    <a:pt x="512" y="366"/>
                  </a:lnTo>
                  <a:lnTo>
                    <a:pt x="541" y="347"/>
                  </a:lnTo>
                  <a:lnTo>
                    <a:pt x="554" y="335"/>
                  </a:lnTo>
                  <a:lnTo>
                    <a:pt x="559" y="319"/>
                  </a:lnTo>
                  <a:close/>
                </a:path>
              </a:pathLst>
            </a:custGeom>
            <a:solidFill>
              <a:srgbClr val="66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605640" y="2705040"/>
              <a:ext cx="308160" cy="91800"/>
            </a:xfrm>
            <a:custGeom>
              <a:avLst/>
              <a:gdLst/>
              <a:ahLst/>
              <a:rect l="l" t="t" r="r" b="b"/>
              <a:pathLst>
                <a:path w="523" h="138">
                  <a:moveTo>
                    <a:pt x="523" y="27"/>
                  </a:moveTo>
                  <a:lnTo>
                    <a:pt x="456" y="67"/>
                  </a:lnTo>
                  <a:lnTo>
                    <a:pt x="355" y="100"/>
                  </a:lnTo>
                  <a:lnTo>
                    <a:pt x="244" y="126"/>
                  </a:lnTo>
                  <a:lnTo>
                    <a:pt x="120" y="138"/>
                  </a:lnTo>
                  <a:lnTo>
                    <a:pt x="6" y="137"/>
                  </a:lnTo>
                  <a:lnTo>
                    <a:pt x="0" y="128"/>
                  </a:lnTo>
                  <a:lnTo>
                    <a:pt x="2" y="119"/>
                  </a:lnTo>
                  <a:lnTo>
                    <a:pt x="6" y="112"/>
                  </a:lnTo>
                  <a:lnTo>
                    <a:pt x="30" y="93"/>
                  </a:lnTo>
                  <a:lnTo>
                    <a:pt x="90" y="66"/>
                  </a:lnTo>
                  <a:lnTo>
                    <a:pt x="257" y="19"/>
                  </a:lnTo>
                  <a:lnTo>
                    <a:pt x="359" y="5"/>
                  </a:lnTo>
                  <a:lnTo>
                    <a:pt x="428" y="0"/>
                  </a:lnTo>
                  <a:lnTo>
                    <a:pt x="485" y="5"/>
                  </a:lnTo>
                  <a:lnTo>
                    <a:pt x="515" y="15"/>
                  </a:lnTo>
                  <a:lnTo>
                    <a:pt x="523" y="27"/>
                  </a:lnTo>
                  <a:close/>
                </a:path>
              </a:pathLst>
            </a:custGeom>
            <a:solidFill>
              <a:srgbClr val="66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691320" y="3192120"/>
              <a:ext cx="54000" cy="669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90" y="32"/>
                  </a:moveTo>
                  <a:lnTo>
                    <a:pt x="87" y="20"/>
                  </a:lnTo>
                  <a:lnTo>
                    <a:pt x="78" y="8"/>
                  </a:lnTo>
                  <a:lnTo>
                    <a:pt x="68" y="3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28" y="3"/>
                  </a:lnTo>
                  <a:lnTo>
                    <a:pt x="17" y="8"/>
                  </a:lnTo>
                  <a:lnTo>
                    <a:pt x="10" y="19"/>
                  </a:lnTo>
                  <a:lnTo>
                    <a:pt x="4" y="29"/>
                  </a:lnTo>
                  <a:lnTo>
                    <a:pt x="0" y="45"/>
                  </a:lnTo>
                  <a:lnTo>
                    <a:pt x="0" y="60"/>
                  </a:lnTo>
                  <a:lnTo>
                    <a:pt x="4" y="72"/>
                  </a:lnTo>
                  <a:lnTo>
                    <a:pt x="7" y="81"/>
                  </a:lnTo>
                  <a:lnTo>
                    <a:pt x="17" y="91"/>
                  </a:lnTo>
                  <a:lnTo>
                    <a:pt x="31" y="98"/>
                  </a:lnTo>
                  <a:lnTo>
                    <a:pt x="47" y="100"/>
                  </a:lnTo>
                  <a:lnTo>
                    <a:pt x="61" y="98"/>
                  </a:lnTo>
                  <a:lnTo>
                    <a:pt x="71" y="95"/>
                  </a:lnTo>
                  <a:lnTo>
                    <a:pt x="80" y="90"/>
                  </a:lnTo>
                  <a:lnTo>
                    <a:pt x="85" y="81"/>
                  </a:lnTo>
                  <a:lnTo>
                    <a:pt x="94" y="65"/>
                  </a:lnTo>
                  <a:lnTo>
                    <a:pt x="94" y="46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881760" y="3189240"/>
              <a:ext cx="65160" cy="79200"/>
            </a:xfrm>
            <a:custGeom>
              <a:avLst/>
              <a:gdLst/>
              <a:ahLst/>
              <a:rect l="l" t="t" r="r" b="b"/>
              <a:pathLst>
                <a:path w="111" h="120">
                  <a:moveTo>
                    <a:pt x="108" y="40"/>
                  </a:moveTo>
                  <a:lnTo>
                    <a:pt x="104" y="25"/>
                  </a:lnTo>
                  <a:lnTo>
                    <a:pt x="92" y="12"/>
                  </a:lnTo>
                  <a:lnTo>
                    <a:pt x="82" y="4"/>
                  </a:lnTo>
                  <a:lnTo>
                    <a:pt x="64" y="0"/>
                  </a:lnTo>
                  <a:lnTo>
                    <a:pt x="47" y="0"/>
                  </a:lnTo>
                  <a:lnTo>
                    <a:pt x="33" y="4"/>
                  </a:lnTo>
                  <a:lnTo>
                    <a:pt x="21" y="12"/>
                  </a:lnTo>
                  <a:lnTo>
                    <a:pt x="11" y="21"/>
                  </a:lnTo>
                  <a:lnTo>
                    <a:pt x="4" y="35"/>
                  </a:lnTo>
                  <a:lnTo>
                    <a:pt x="0" y="54"/>
                  </a:lnTo>
                  <a:lnTo>
                    <a:pt x="0" y="73"/>
                  </a:lnTo>
                  <a:lnTo>
                    <a:pt x="4" y="87"/>
                  </a:lnTo>
                  <a:lnTo>
                    <a:pt x="9" y="99"/>
                  </a:lnTo>
                  <a:lnTo>
                    <a:pt x="21" y="111"/>
                  </a:lnTo>
                  <a:lnTo>
                    <a:pt x="37" y="116"/>
                  </a:lnTo>
                  <a:lnTo>
                    <a:pt x="54" y="120"/>
                  </a:lnTo>
                  <a:lnTo>
                    <a:pt x="71" y="118"/>
                  </a:lnTo>
                  <a:lnTo>
                    <a:pt x="85" y="113"/>
                  </a:lnTo>
                  <a:lnTo>
                    <a:pt x="95" y="108"/>
                  </a:lnTo>
                  <a:lnTo>
                    <a:pt x="102" y="99"/>
                  </a:lnTo>
                  <a:lnTo>
                    <a:pt x="111" y="80"/>
                  </a:lnTo>
                  <a:lnTo>
                    <a:pt x="111" y="56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605640" y="3257280"/>
              <a:ext cx="241200" cy="127080"/>
            </a:xfrm>
            <a:custGeom>
              <a:avLst/>
              <a:gdLst/>
              <a:ahLst/>
              <a:rect l="l" t="t" r="r" b="b"/>
              <a:pathLst>
                <a:path w="412" h="191">
                  <a:moveTo>
                    <a:pt x="197" y="61"/>
                  </a:moveTo>
                  <a:lnTo>
                    <a:pt x="185" y="68"/>
                  </a:lnTo>
                  <a:lnTo>
                    <a:pt x="174" y="76"/>
                  </a:lnTo>
                  <a:lnTo>
                    <a:pt x="166" y="87"/>
                  </a:lnTo>
                  <a:lnTo>
                    <a:pt x="157" y="102"/>
                  </a:lnTo>
                  <a:lnTo>
                    <a:pt x="159" y="113"/>
                  </a:lnTo>
                  <a:lnTo>
                    <a:pt x="152" y="102"/>
                  </a:lnTo>
                  <a:lnTo>
                    <a:pt x="145" y="102"/>
                  </a:lnTo>
                  <a:lnTo>
                    <a:pt x="136" y="108"/>
                  </a:lnTo>
                  <a:lnTo>
                    <a:pt x="117" y="128"/>
                  </a:lnTo>
                  <a:lnTo>
                    <a:pt x="102" y="128"/>
                  </a:lnTo>
                  <a:lnTo>
                    <a:pt x="84" y="130"/>
                  </a:lnTo>
                  <a:lnTo>
                    <a:pt x="53" y="146"/>
                  </a:lnTo>
                  <a:lnTo>
                    <a:pt x="12" y="151"/>
                  </a:lnTo>
                  <a:lnTo>
                    <a:pt x="0" y="154"/>
                  </a:lnTo>
                  <a:lnTo>
                    <a:pt x="7" y="165"/>
                  </a:lnTo>
                  <a:lnTo>
                    <a:pt x="46" y="182"/>
                  </a:lnTo>
                  <a:lnTo>
                    <a:pt x="74" y="191"/>
                  </a:lnTo>
                  <a:lnTo>
                    <a:pt x="91" y="182"/>
                  </a:lnTo>
                  <a:lnTo>
                    <a:pt x="107" y="173"/>
                  </a:lnTo>
                  <a:lnTo>
                    <a:pt x="114" y="177"/>
                  </a:lnTo>
                  <a:lnTo>
                    <a:pt x="126" y="179"/>
                  </a:lnTo>
                  <a:lnTo>
                    <a:pt x="140" y="177"/>
                  </a:lnTo>
                  <a:lnTo>
                    <a:pt x="154" y="170"/>
                  </a:lnTo>
                  <a:lnTo>
                    <a:pt x="161" y="172"/>
                  </a:lnTo>
                  <a:lnTo>
                    <a:pt x="169" y="172"/>
                  </a:lnTo>
                  <a:lnTo>
                    <a:pt x="187" y="165"/>
                  </a:lnTo>
                  <a:lnTo>
                    <a:pt x="195" y="160"/>
                  </a:lnTo>
                  <a:lnTo>
                    <a:pt x="202" y="146"/>
                  </a:lnTo>
                  <a:lnTo>
                    <a:pt x="199" y="158"/>
                  </a:lnTo>
                  <a:lnTo>
                    <a:pt x="206" y="161"/>
                  </a:lnTo>
                  <a:lnTo>
                    <a:pt x="218" y="163"/>
                  </a:lnTo>
                  <a:lnTo>
                    <a:pt x="232" y="158"/>
                  </a:lnTo>
                  <a:lnTo>
                    <a:pt x="242" y="149"/>
                  </a:lnTo>
                  <a:lnTo>
                    <a:pt x="247" y="153"/>
                  </a:lnTo>
                  <a:lnTo>
                    <a:pt x="265" y="151"/>
                  </a:lnTo>
                  <a:lnTo>
                    <a:pt x="278" y="146"/>
                  </a:lnTo>
                  <a:lnTo>
                    <a:pt x="299" y="146"/>
                  </a:lnTo>
                  <a:lnTo>
                    <a:pt x="318" y="134"/>
                  </a:lnTo>
                  <a:lnTo>
                    <a:pt x="342" y="135"/>
                  </a:lnTo>
                  <a:lnTo>
                    <a:pt x="355" y="130"/>
                  </a:lnTo>
                  <a:lnTo>
                    <a:pt x="368" y="130"/>
                  </a:lnTo>
                  <a:lnTo>
                    <a:pt x="391" y="125"/>
                  </a:lnTo>
                  <a:lnTo>
                    <a:pt x="403" y="111"/>
                  </a:lnTo>
                  <a:lnTo>
                    <a:pt x="412" y="71"/>
                  </a:lnTo>
                  <a:lnTo>
                    <a:pt x="403" y="33"/>
                  </a:lnTo>
                  <a:lnTo>
                    <a:pt x="382" y="9"/>
                  </a:lnTo>
                  <a:lnTo>
                    <a:pt x="367" y="4"/>
                  </a:lnTo>
                  <a:lnTo>
                    <a:pt x="355" y="14"/>
                  </a:lnTo>
                  <a:lnTo>
                    <a:pt x="356" y="31"/>
                  </a:lnTo>
                  <a:lnTo>
                    <a:pt x="353" y="14"/>
                  </a:lnTo>
                  <a:lnTo>
                    <a:pt x="332" y="0"/>
                  </a:lnTo>
                  <a:lnTo>
                    <a:pt x="308" y="2"/>
                  </a:lnTo>
                  <a:lnTo>
                    <a:pt x="296" y="12"/>
                  </a:lnTo>
                  <a:lnTo>
                    <a:pt x="290" y="24"/>
                  </a:lnTo>
                  <a:lnTo>
                    <a:pt x="278" y="23"/>
                  </a:lnTo>
                  <a:lnTo>
                    <a:pt x="266" y="26"/>
                  </a:lnTo>
                  <a:lnTo>
                    <a:pt x="259" y="37"/>
                  </a:lnTo>
                  <a:lnTo>
                    <a:pt x="244" y="37"/>
                  </a:lnTo>
                  <a:lnTo>
                    <a:pt x="226" y="38"/>
                  </a:lnTo>
                  <a:lnTo>
                    <a:pt x="214" y="52"/>
                  </a:lnTo>
                  <a:lnTo>
                    <a:pt x="197" y="61"/>
                  </a:lnTo>
                  <a:close/>
                </a:path>
              </a:pathLst>
            </a:custGeom>
            <a:solidFill>
              <a:srgbClr val="ff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726240" y="3377880"/>
              <a:ext cx="12960" cy="158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7" y="0"/>
                  </a:moveTo>
                  <a:lnTo>
                    <a:pt x="17" y="4"/>
                  </a:lnTo>
                  <a:lnTo>
                    <a:pt x="22" y="16"/>
                  </a:lnTo>
                  <a:lnTo>
                    <a:pt x="12" y="24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758280" y="3392280"/>
              <a:ext cx="14040" cy="158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7" y="1"/>
                  </a:moveTo>
                  <a:lnTo>
                    <a:pt x="24" y="6"/>
                  </a:lnTo>
                  <a:lnTo>
                    <a:pt x="24" y="22"/>
                  </a:lnTo>
                  <a:lnTo>
                    <a:pt x="14" y="24"/>
                  </a:lnTo>
                  <a:lnTo>
                    <a:pt x="4" y="24"/>
                  </a:lnTo>
                  <a:lnTo>
                    <a:pt x="0" y="13"/>
                  </a:lnTo>
                  <a:lnTo>
                    <a:pt x="2" y="5"/>
                  </a:lnTo>
                  <a:lnTo>
                    <a:pt x="10" y="0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88160" y="340020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9" y="0"/>
                  </a:moveTo>
                  <a:lnTo>
                    <a:pt x="16" y="2"/>
                  </a:lnTo>
                  <a:lnTo>
                    <a:pt x="24" y="5"/>
                  </a:lnTo>
                  <a:lnTo>
                    <a:pt x="28" y="16"/>
                  </a:lnTo>
                  <a:lnTo>
                    <a:pt x="24" y="30"/>
                  </a:lnTo>
                  <a:lnTo>
                    <a:pt x="14" y="30"/>
                  </a:lnTo>
                  <a:lnTo>
                    <a:pt x="3" y="26"/>
                  </a:lnTo>
                  <a:lnTo>
                    <a:pt x="0" y="16"/>
                  </a:lnTo>
                  <a:lnTo>
                    <a:pt x="3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826320" y="3398760"/>
              <a:ext cx="19080" cy="172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4" y="0"/>
                  </a:moveTo>
                  <a:lnTo>
                    <a:pt x="3" y="7"/>
                  </a:lnTo>
                  <a:lnTo>
                    <a:pt x="0" y="21"/>
                  </a:lnTo>
                  <a:lnTo>
                    <a:pt x="7" y="30"/>
                  </a:lnTo>
                  <a:lnTo>
                    <a:pt x="23" y="30"/>
                  </a:lnTo>
                  <a:lnTo>
                    <a:pt x="31" y="20"/>
                  </a:lnTo>
                  <a:lnTo>
                    <a:pt x="2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859800" y="3384360"/>
              <a:ext cx="19080" cy="22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0"/>
                  </a:moveTo>
                  <a:lnTo>
                    <a:pt x="24" y="1"/>
                  </a:lnTo>
                  <a:lnTo>
                    <a:pt x="30" y="7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19" y="33"/>
                  </a:lnTo>
                  <a:lnTo>
                    <a:pt x="9" y="31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5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894720" y="3367080"/>
              <a:ext cx="15840" cy="1728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10" y="0"/>
                  </a:moveTo>
                  <a:lnTo>
                    <a:pt x="17" y="0"/>
                  </a:lnTo>
                  <a:lnTo>
                    <a:pt x="23" y="3"/>
                  </a:lnTo>
                  <a:lnTo>
                    <a:pt x="28" y="8"/>
                  </a:lnTo>
                  <a:lnTo>
                    <a:pt x="26" y="17"/>
                  </a:lnTo>
                  <a:lnTo>
                    <a:pt x="21" y="26"/>
                  </a:lnTo>
                  <a:lnTo>
                    <a:pt x="12" y="26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916680" y="3332160"/>
              <a:ext cx="11160" cy="108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0" y="0"/>
                  </a:moveTo>
                  <a:lnTo>
                    <a:pt x="19" y="3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005600" y="3411360"/>
              <a:ext cx="46080" cy="181080"/>
            </a:xfrm>
            <a:custGeom>
              <a:avLst/>
              <a:gdLst/>
              <a:ahLst/>
              <a:rect l="l" t="t" r="r" b="b"/>
              <a:pathLst>
                <a:path w="80" h="272">
                  <a:moveTo>
                    <a:pt x="9" y="272"/>
                  </a:moveTo>
                  <a:lnTo>
                    <a:pt x="19" y="210"/>
                  </a:lnTo>
                  <a:lnTo>
                    <a:pt x="30" y="95"/>
                  </a:lnTo>
                  <a:lnTo>
                    <a:pt x="23" y="64"/>
                  </a:lnTo>
                  <a:lnTo>
                    <a:pt x="6" y="38"/>
                  </a:lnTo>
                  <a:lnTo>
                    <a:pt x="0" y="28"/>
                  </a:lnTo>
                  <a:lnTo>
                    <a:pt x="21" y="16"/>
                  </a:lnTo>
                  <a:lnTo>
                    <a:pt x="49" y="0"/>
                  </a:lnTo>
                  <a:lnTo>
                    <a:pt x="61" y="7"/>
                  </a:lnTo>
                  <a:lnTo>
                    <a:pt x="73" y="31"/>
                  </a:lnTo>
                  <a:lnTo>
                    <a:pt x="80" y="73"/>
                  </a:lnTo>
                  <a:lnTo>
                    <a:pt x="73" y="125"/>
                  </a:lnTo>
                  <a:lnTo>
                    <a:pt x="68" y="186"/>
                  </a:lnTo>
                  <a:lnTo>
                    <a:pt x="59" y="213"/>
                  </a:lnTo>
                  <a:lnTo>
                    <a:pt x="26" y="251"/>
                  </a:lnTo>
                  <a:lnTo>
                    <a:pt x="18" y="258"/>
                  </a:lnTo>
                  <a:lnTo>
                    <a:pt x="9" y="27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953400" y="3430440"/>
              <a:ext cx="69840" cy="228600"/>
            </a:xfrm>
            <a:custGeom>
              <a:avLst/>
              <a:gdLst/>
              <a:ahLst/>
              <a:rect l="l" t="t" r="r" b="b"/>
              <a:pathLst>
                <a:path w="118" h="346">
                  <a:moveTo>
                    <a:pt x="0" y="345"/>
                  </a:moveTo>
                  <a:lnTo>
                    <a:pt x="16" y="249"/>
                  </a:lnTo>
                  <a:lnTo>
                    <a:pt x="40" y="185"/>
                  </a:lnTo>
                  <a:lnTo>
                    <a:pt x="56" y="102"/>
                  </a:lnTo>
                  <a:lnTo>
                    <a:pt x="50" y="57"/>
                  </a:lnTo>
                  <a:lnTo>
                    <a:pt x="40" y="22"/>
                  </a:lnTo>
                  <a:lnTo>
                    <a:pt x="88" y="0"/>
                  </a:lnTo>
                  <a:lnTo>
                    <a:pt x="94" y="10"/>
                  </a:lnTo>
                  <a:lnTo>
                    <a:pt x="111" y="36"/>
                  </a:lnTo>
                  <a:lnTo>
                    <a:pt x="118" y="67"/>
                  </a:lnTo>
                  <a:lnTo>
                    <a:pt x="107" y="182"/>
                  </a:lnTo>
                  <a:lnTo>
                    <a:pt x="97" y="244"/>
                  </a:lnTo>
                  <a:lnTo>
                    <a:pt x="59" y="291"/>
                  </a:lnTo>
                  <a:lnTo>
                    <a:pt x="50" y="305"/>
                  </a:lnTo>
                  <a:lnTo>
                    <a:pt x="12" y="343"/>
                  </a:lnTo>
                  <a:lnTo>
                    <a:pt x="2" y="34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886800" y="3444840"/>
              <a:ext cx="100080" cy="257040"/>
            </a:xfrm>
            <a:custGeom>
              <a:avLst/>
              <a:gdLst/>
              <a:ahLst/>
              <a:rect l="l" t="t" r="r" b="b"/>
              <a:pathLst>
                <a:path w="170" h="388">
                  <a:moveTo>
                    <a:pt x="78" y="368"/>
                  </a:moveTo>
                  <a:lnTo>
                    <a:pt x="111" y="333"/>
                  </a:lnTo>
                  <a:lnTo>
                    <a:pt x="114" y="323"/>
                  </a:lnTo>
                  <a:lnTo>
                    <a:pt x="130" y="227"/>
                  </a:lnTo>
                  <a:lnTo>
                    <a:pt x="154" y="163"/>
                  </a:lnTo>
                  <a:lnTo>
                    <a:pt x="170" y="80"/>
                  </a:lnTo>
                  <a:lnTo>
                    <a:pt x="164" y="35"/>
                  </a:lnTo>
                  <a:lnTo>
                    <a:pt x="154" y="0"/>
                  </a:lnTo>
                  <a:lnTo>
                    <a:pt x="138" y="7"/>
                  </a:lnTo>
                  <a:lnTo>
                    <a:pt x="78" y="32"/>
                  </a:lnTo>
                  <a:lnTo>
                    <a:pt x="71" y="35"/>
                  </a:lnTo>
                  <a:lnTo>
                    <a:pt x="81" y="37"/>
                  </a:lnTo>
                  <a:lnTo>
                    <a:pt x="90" y="59"/>
                  </a:lnTo>
                  <a:lnTo>
                    <a:pt x="86" y="110"/>
                  </a:lnTo>
                  <a:lnTo>
                    <a:pt x="59" y="196"/>
                  </a:lnTo>
                  <a:lnTo>
                    <a:pt x="15" y="305"/>
                  </a:lnTo>
                  <a:lnTo>
                    <a:pt x="0" y="381"/>
                  </a:lnTo>
                  <a:lnTo>
                    <a:pt x="0" y="388"/>
                  </a:lnTo>
                  <a:lnTo>
                    <a:pt x="78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99320" y="3468600"/>
              <a:ext cx="141480" cy="247680"/>
            </a:xfrm>
            <a:custGeom>
              <a:avLst/>
              <a:gdLst/>
              <a:ahLst/>
              <a:rect l="l" t="t" r="r" b="b"/>
              <a:pathLst>
                <a:path w="241" h="376">
                  <a:moveTo>
                    <a:pt x="222" y="0"/>
                  </a:moveTo>
                  <a:lnTo>
                    <a:pt x="232" y="2"/>
                  </a:lnTo>
                  <a:lnTo>
                    <a:pt x="241" y="24"/>
                  </a:lnTo>
                  <a:lnTo>
                    <a:pt x="237" y="75"/>
                  </a:lnTo>
                  <a:lnTo>
                    <a:pt x="210" y="161"/>
                  </a:lnTo>
                  <a:lnTo>
                    <a:pt x="166" y="270"/>
                  </a:lnTo>
                  <a:lnTo>
                    <a:pt x="151" y="346"/>
                  </a:lnTo>
                  <a:lnTo>
                    <a:pt x="151" y="353"/>
                  </a:lnTo>
                  <a:lnTo>
                    <a:pt x="82" y="371"/>
                  </a:lnTo>
                  <a:lnTo>
                    <a:pt x="0" y="376"/>
                  </a:lnTo>
                  <a:lnTo>
                    <a:pt x="7" y="315"/>
                  </a:lnTo>
                  <a:lnTo>
                    <a:pt x="45" y="232"/>
                  </a:lnTo>
                  <a:lnTo>
                    <a:pt x="104" y="125"/>
                  </a:lnTo>
                  <a:lnTo>
                    <a:pt x="120" y="66"/>
                  </a:lnTo>
                  <a:lnTo>
                    <a:pt x="120" y="50"/>
                  </a:lnTo>
                  <a:lnTo>
                    <a:pt x="123" y="49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20120" y="3501720"/>
              <a:ext cx="149040" cy="217440"/>
            </a:xfrm>
            <a:custGeom>
              <a:avLst/>
              <a:gdLst/>
              <a:ahLst/>
              <a:rect l="l" t="t" r="r" b="b"/>
              <a:pathLst>
                <a:path w="255" h="329">
                  <a:moveTo>
                    <a:pt x="222" y="12"/>
                  </a:moveTo>
                  <a:lnTo>
                    <a:pt x="213" y="26"/>
                  </a:lnTo>
                  <a:lnTo>
                    <a:pt x="151" y="51"/>
                  </a:lnTo>
                  <a:lnTo>
                    <a:pt x="113" y="54"/>
                  </a:lnTo>
                  <a:lnTo>
                    <a:pt x="106" y="85"/>
                  </a:lnTo>
                  <a:lnTo>
                    <a:pt x="75" y="154"/>
                  </a:lnTo>
                  <a:lnTo>
                    <a:pt x="23" y="241"/>
                  </a:lnTo>
                  <a:lnTo>
                    <a:pt x="9" y="276"/>
                  </a:lnTo>
                  <a:lnTo>
                    <a:pt x="0" y="319"/>
                  </a:lnTo>
                  <a:lnTo>
                    <a:pt x="83" y="329"/>
                  </a:lnTo>
                  <a:lnTo>
                    <a:pt x="135" y="326"/>
                  </a:lnTo>
                  <a:lnTo>
                    <a:pt x="142" y="265"/>
                  </a:lnTo>
                  <a:lnTo>
                    <a:pt x="180" y="182"/>
                  </a:lnTo>
                  <a:lnTo>
                    <a:pt x="239" y="75"/>
                  </a:lnTo>
                  <a:lnTo>
                    <a:pt x="255" y="16"/>
                  </a:lnTo>
                  <a:lnTo>
                    <a:pt x="255" y="0"/>
                  </a:lnTo>
                  <a:lnTo>
                    <a:pt x="222" y="1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08960" y="3500280"/>
              <a:ext cx="141120" cy="36360"/>
            </a:xfrm>
            <a:custGeom>
              <a:avLst/>
              <a:gdLst/>
              <a:ahLst/>
              <a:rect l="l" t="t" r="r" b="b"/>
              <a:pathLst>
                <a:path w="239" h="55">
                  <a:moveTo>
                    <a:pt x="43" y="41"/>
                  </a:moveTo>
                  <a:lnTo>
                    <a:pt x="116" y="55"/>
                  </a:lnTo>
                  <a:lnTo>
                    <a:pt x="130" y="55"/>
                  </a:lnTo>
                  <a:lnTo>
                    <a:pt x="168" y="52"/>
                  </a:lnTo>
                  <a:lnTo>
                    <a:pt x="230" y="27"/>
                  </a:lnTo>
                  <a:lnTo>
                    <a:pt x="239" y="13"/>
                  </a:lnTo>
                  <a:lnTo>
                    <a:pt x="178" y="17"/>
                  </a:lnTo>
                  <a:lnTo>
                    <a:pt x="85" y="8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4" y="10"/>
                  </a:lnTo>
                  <a:lnTo>
                    <a:pt x="43" y="41"/>
                  </a:lnTo>
                  <a:lnTo>
                    <a:pt x="0" y="41"/>
                  </a:lnTo>
                  <a:lnTo>
                    <a:pt x="43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645240" y="3528720"/>
              <a:ext cx="139680" cy="184320"/>
            </a:xfrm>
            <a:custGeom>
              <a:avLst/>
              <a:gdLst/>
              <a:ahLst/>
              <a:rect l="l" t="t" r="r" b="b"/>
              <a:pathLst>
                <a:path w="241" h="279">
                  <a:moveTo>
                    <a:pt x="111" y="0"/>
                  </a:moveTo>
                  <a:lnTo>
                    <a:pt x="102" y="38"/>
                  </a:lnTo>
                  <a:lnTo>
                    <a:pt x="37" y="135"/>
                  </a:lnTo>
                  <a:lnTo>
                    <a:pt x="14" y="189"/>
                  </a:lnTo>
                  <a:lnTo>
                    <a:pt x="0" y="253"/>
                  </a:lnTo>
                  <a:lnTo>
                    <a:pt x="128" y="279"/>
                  </a:lnTo>
                  <a:lnTo>
                    <a:pt x="137" y="236"/>
                  </a:lnTo>
                  <a:lnTo>
                    <a:pt x="151" y="201"/>
                  </a:lnTo>
                  <a:lnTo>
                    <a:pt x="203" y="114"/>
                  </a:lnTo>
                  <a:lnTo>
                    <a:pt x="234" y="45"/>
                  </a:lnTo>
                  <a:lnTo>
                    <a:pt x="241" y="14"/>
                  </a:lnTo>
                  <a:lnTo>
                    <a:pt x="227" y="14"/>
                  </a:lnTo>
                  <a:lnTo>
                    <a:pt x="154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561360" y="3511440"/>
              <a:ext cx="147600" cy="183960"/>
            </a:xfrm>
            <a:custGeom>
              <a:avLst/>
              <a:gdLst/>
              <a:ahLst/>
              <a:rect l="l" t="t" r="r" b="b"/>
              <a:pathLst>
                <a:path w="255" h="277">
                  <a:moveTo>
                    <a:pt x="255" y="24"/>
                  </a:moveTo>
                  <a:lnTo>
                    <a:pt x="222" y="14"/>
                  </a:lnTo>
                  <a:lnTo>
                    <a:pt x="179" y="10"/>
                  </a:lnTo>
                  <a:lnTo>
                    <a:pt x="137" y="2"/>
                  </a:lnTo>
                  <a:lnTo>
                    <a:pt x="94" y="0"/>
                  </a:lnTo>
                  <a:lnTo>
                    <a:pt x="70" y="80"/>
                  </a:lnTo>
                  <a:lnTo>
                    <a:pt x="11" y="204"/>
                  </a:lnTo>
                  <a:lnTo>
                    <a:pt x="0" y="268"/>
                  </a:lnTo>
                  <a:lnTo>
                    <a:pt x="58" y="268"/>
                  </a:lnTo>
                  <a:lnTo>
                    <a:pt x="144" y="277"/>
                  </a:lnTo>
                  <a:lnTo>
                    <a:pt x="158" y="213"/>
                  </a:lnTo>
                  <a:lnTo>
                    <a:pt x="181" y="159"/>
                  </a:lnTo>
                  <a:lnTo>
                    <a:pt x="246" y="62"/>
                  </a:lnTo>
                  <a:lnTo>
                    <a:pt x="25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642360" y="3473280"/>
              <a:ext cx="98280" cy="5544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66" y="40"/>
                  </a:moveTo>
                  <a:lnTo>
                    <a:pt x="35" y="0"/>
                  </a:lnTo>
                  <a:lnTo>
                    <a:pt x="0" y="59"/>
                  </a:lnTo>
                  <a:lnTo>
                    <a:pt x="42" y="67"/>
                  </a:lnTo>
                  <a:lnTo>
                    <a:pt x="85" y="71"/>
                  </a:lnTo>
                  <a:lnTo>
                    <a:pt x="118" y="81"/>
                  </a:lnTo>
                  <a:lnTo>
                    <a:pt x="161" y="81"/>
                  </a:lnTo>
                  <a:lnTo>
                    <a:pt x="172" y="50"/>
                  </a:lnTo>
                  <a:lnTo>
                    <a:pt x="170" y="41"/>
                  </a:lnTo>
                  <a:lnTo>
                    <a:pt x="16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556320" y="3455640"/>
              <a:ext cx="105120" cy="63720"/>
            </a:xfrm>
            <a:custGeom>
              <a:avLst/>
              <a:gdLst/>
              <a:ahLst/>
              <a:rect l="l" t="t" r="r" b="b"/>
              <a:pathLst>
                <a:path w="178" h="95">
                  <a:moveTo>
                    <a:pt x="178" y="28"/>
                  </a:moveTo>
                  <a:lnTo>
                    <a:pt x="148" y="21"/>
                  </a:lnTo>
                  <a:lnTo>
                    <a:pt x="77" y="4"/>
                  </a:lnTo>
                  <a:lnTo>
                    <a:pt x="36" y="0"/>
                  </a:lnTo>
                  <a:lnTo>
                    <a:pt x="31" y="16"/>
                  </a:lnTo>
                  <a:lnTo>
                    <a:pt x="17" y="40"/>
                  </a:lnTo>
                  <a:lnTo>
                    <a:pt x="0" y="95"/>
                  </a:lnTo>
                  <a:lnTo>
                    <a:pt x="76" y="85"/>
                  </a:lnTo>
                  <a:lnTo>
                    <a:pt x="100" y="85"/>
                  </a:lnTo>
                  <a:lnTo>
                    <a:pt x="143" y="87"/>
                  </a:lnTo>
                  <a:lnTo>
                    <a:pt x="178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467760" y="3449520"/>
              <a:ext cx="110880" cy="95040"/>
            </a:xfrm>
            <a:custGeom>
              <a:avLst/>
              <a:gdLst/>
              <a:ahLst/>
              <a:rect l="l" t="t" r="r" b="b"/>
              <a:pathLst>
                <a:path w="189" h="146">
                  <a:moveTo>
                    <a:pt x="56" y="6"/>
                  </a:moveTo>
                  <a:lnTo>
                    <a:pt x="26" y="78"/>
                  </a:lnTo>
                  <a:lnTo>
                    <a:pt x="0" y="146"/>
                  </a:lnTo>
                  <a:lnTo>
                    <a:pt x="99" y="122"/>
                  </a:lnTo>
                  <a:lnTo>
                    <a:pt x="121" y="115"/>
                  </a:lnTo>
                  <a:lnTo>
                    <a:pt x="153" y="104"/>
                  </a:lnTo>
                  <a:lnTo>
                    <a:pt x="170" y="49"/>
                  </a:lnTo>
                  <a:lnTo>
                    <a:pt x="184" y="25"/>
                  </a:lnTo>
                  <a:lnTo>
                    <a:pt x="189" y="9"/>
                  </a:lnTo>
                  <a:lnTo>
                    <a:pt x="170" y="7"/>
                  </a:lnTo>
                  <a:lnTo>
                    <a:pt x="147" y="2"/>
                  </a:lnTo>
                  <a:lnTo>
                    <a:pt x="113" y="0"/>
                  </a:lnTo>
                  <a:lnTo>
                    <a:pt x="89" y="6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461280" y="3336840"/>
              <a:ext cx="82440" cy="115920"/>
            </a:xfrm>
            <a:custGeom>
              <a:avLst/>
              <a:gdLst/>
              <a:ahLst/>
              <a:rect l="l" t="t" r="r" b="b"/>
              <a:pathLst>
                <a:path w="144" h="175">
                  <a:moveTo>
                    <a:pt x="0" y="138"/>
                  </a:moveTo>
                  <a:lnTo>
                    <a:pt x="4" y="128"/>
                  </a:lnTo>
                  <a:lnTo>
                    <a:pt x="16" y="116"/>
                  </a:lnTo>
                  <a:lnTo>
                    <a:pt x="69" y="69"/>
                  </a:lnTo>
                  <a:lnTo>
                    <a:pt x="97" y="29"/>
                  </a:lnTo>
                  <a:lnTo>
                    <a:pt x="107" y="0"/>
                  </a:lnTo>
                  <a:lnTo>
                    <a:pt x="118" y="0"/>
                  </a:lnTo>
                  <a:lnTo>
                    <a:pt x="125" y="14"/>
                  </a:lnTo>
                  <a:lnTo>
                    <a:pt x="83" y="81"/>
                  </a:lnTo>
                  <a:lnTo>
                    <a:pt x="92" y="97"/>
                  </a:lnTo>
                  <a:lnTo>
                    <a:pt x="104" y="86"/>
                  </a:lnTo>
                  <a:lnTo>
                    <a:pt x="130" y="41"/>
                  </a:lnTo>
                  <a:lnTo>
                    <a:pt x="142" y="52"/>
                  </a:lnTo>
                  <a:lnTo>
                    <a:pt x="133" y="69"/>
                  </a:lnTo>
                  <a:lnTo>
                    <a:pt x="126" y="81"/>
                  </a:lnTo>
                  <a:lnTo>
                    <a:pt x="107" y="107"/>
                  </a:lnTo>
                  <a:lnTo>
                    <a:pt x="101" y="121"/>
                  </a:lnTo>
                  <a:lnTo>
                    <a:pt x="101" y="119"/>
                  </a:lnTo>
                  <a:lnTo>
                    <a:pt x="113" y="119"/>
                  </a:lnTo>
                  <a:lnTo>
                    <a:pt x="126" y="109"/>
                  </a:lnTo>
                  <a:lnTo>
                    <a:pt x="139" y="98"/>
                  </a:lnTo>
                  <a:lnTo>
                    <a:pt x="144" y="112"/>
                  </a:lnTo>
                  <a:lnTo>
                    <a:pt x="116" y="140"/>
                  </a:lnTo>
                  <a:lnTo>
                    <a:pt x="130" y="138"/>
                  </a:lnTo>
                  <a:lnTo>
                    <a:pt x="132" y="147"/>
                  </a:lnTo>
                  <a:lnTo>
                    <a:pt x="125" y="156"/>
                  </a:lnTo>
                  <a:lnTo>
                    <a:pt x="125" y="169"/>
                  </a:lnTo>
                  <a:lnTo>
                    <a:pt x="101" y="175"/>
                  </a:lnTo>
                  <a:lnTo>
                    <a:pt x="68" y="175"/>
                  </a:lnTo>
                  <a:lnTo>
                    <a:pt x="52" y="171"/>
                  </a:lnTo>
                  <a:lnTo>
                    <a:pt x="12" y="152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469200" y="3511440"/>
              <a:ext cx="146160" cy="196920"/>
            </a:xfrm>
            <a:custGeom>
              <a:avLst/>
              <a:gdLst/>
              <a:ahLst/>
              <a:rect l="l" t="t" r="r" b="b"/>
              <a:pathLst>
                <a:path w="249" h="298">
                  <a:moveTo>
                    <a:pt x="149" y="10"/>
                  </a:moveTo>
                  <a:lnTo>
                    <a:pt x="117" y="21"/>
                  </a:lnTo>
                  <a:lnTo>
                    <a:pt x="95" y="28"/>
                  </a:lnTo>
                  <a:lnTo>
                    <a:pt x="91" y="40"/>
                  </a:lnTo>
                  <a:lnTo>
                    <a:pt x="67" y="90"/>
                  </a:lnTo>
                  <a:lnTo>
                    <a:pt x="53" y="130"/>
                  </a:lnTo>
                  <a:lnTo>
                    <a:pt x="7" y="246"/>
                  </a:lnTo>
                  <a:lnTo>
                    <a:pt x="0" y="275"/>
                  </a:lnTo>
                  <a:lnTo>
                    <a:pt x="0" y="292"/>
                  </a:lnTo>
                  <a:lnTo>
                    <a:pt x="1" y="298"/>
                  </a:lnTo>
                  <a:lnTo>
                    <a:pt x="114" y="277"/>
                  </a:lnTo>
                  <a:lnTo>
                    <a:pt x="155" y="268"/>
                  </a:lnTo>
                  <a:lnTo>
                    <a:pt x="166" y="204"/>
                  </a:lnTo>
                  <a:lnTo>
                    <a:pt x="225" y="80"/>
                  </a:lnTo>
                  <a:lnTo>
                    <a:pt x="249" y="0"/>
                  </a:lnTo>
                  <a:lnTo>
                    <a:pt x="225" y="0"/>
                  </a:lnTo>
                  <a:lnTo>
                    <a:pt x="149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380280" y="3528720"/>
              <a:ext cx="146160" cy="227160"/>
            </a:xfrm>
            <a:custGeom>
              <a:avLst/>
              <a:gdLst/>
              <a:ahLst/>
              <a:rect l="l" t="t" r="r" b="b"/>
              <a:pathLst>
                <a:path w="248" h="341">
                  <a:moveTo>
                    <a:pt x="75" y="41"/>
                  </a:moveTo>
                  <a:lnTo>
                    <a:pt x="99" y="38"/>
                  </a:lnTo>
                  <a:lnTo>
                    <a:pt x="149" y="24"/>
                  </a:lnTo>
                  <a:lnTo>
                    <a:pt x="248" y="0"/>
                  </a:lnTo>
                  <a:lnTo>
                    <a:pt x="244" y="12"/>
                  </a:lnTo>
                  <a:lnTo>
                    <a:pt x="220" y="62"/>
                  </a:lnTo>
                  <a:lnTo>
                    <a:pt x="206" y="102"/>
                  </a:lnTo>
                  <a:lnTo>
                    <a:pt x="160" y="218"/>
                  </a:lnTo>
                  <a:lnTo>
                    <a:pt x="153" y="247"/>
                  </a:lnTo>
                  <a:lnTo>
                    <a:pt x="153" y="264"/>
                  </a:lnTo>
                  <a:lnTo>
                    <a:pt x="154" y="270"/>
                  </a:lnTo>
                  <a:lnTo>
                    <a:pt x="0" y="341"/>
                  </a:lnTo>
                  <a:lnTo>
                    <a:pt x="12" y="285"/>
                  </a:lnTo>
                  <a:lnTo>
                    <a:pt x="33" y="202"/>
                  </a:lnTo>
                  <a:lnTo>
                    <a:pt x="54" y="123"/>
                  </a:lnTo>
                  <a:lnTo>
                    <a:pt x="75" y="4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269040" y="3557520"/>
              <a:ext cx="154080" cy="234720"/>
            </a:xfrm>
            <a:custGeom>
              <a:avLst/>
              <a:gdLst/>
              <a:ahLst/>
              <a:rect l="l" t="t" r="r" b="b"/>
              <a:pathLst>
                <a:path w="265" h="353">
                  <a:moveTo>
                    <a:pt x="0" y="353"/>
                  </a:moveTo>
                  <a:lnTo>
                    <a:pt x="90" y="341"/>
                  </a:lnTo>
                  <a:lnTo>
                    <a:pt x="190" y="300"/>
                  </a:lnTo>
                  <a:lnTo>
                    <a:pt x="202" y="244"/>
                  </a:lnTo>
                  <a:lnTo>
                    <a:pt x="223" y="161"/>
                  </a:lnTo>
                  <a:lnTo>
                    <a:pt x="244" y="82"/>
                  </a:lnTo>
                  <a:lnTo>
                    <a:pt x="265" y="0"/>
                  </a:lnTo>
                  <a:lnTo>
                    <a:pt x="215" y="7"/>
                  </a:lnTo>
                  <a:lnTo>
                    <a:pt x="128" y="12"/>
                  </a:lnTo>
                  <a:lnTo>
                    <a:pt x="116" y="31"/>
                  </a:lnTo>
                  <a:lnTo>
                    <a:pt x="78" y="120"/>
                  </a:lnTo>
                  <a:lnTo>
                    <a:pt x="67" y="177"/>
                  </a:lnTo>
                  <a:lnTo>
                    <a:pt x="43" y="284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172200" y="3541680"/>
              <a:ext cx="171720" cy="250560"/>
            </a:xfrm>
            <a:custGeom>
              <a:avLst/>
              <a:gdLst/>
              <a:ahLst/>
              <a:rect l="l" t="t" r="r" b="b"/>
              <a:pathLst>
                <a:path w="294" h="377">
                  <a:moveTo>
                    <a:pt x="166" y="12"/>
                  </a:moveTo>
                  <a:lnTo>
                    <a:pt x="252" y="28"/>
                  </a:lnTo>
                  <a:lnTo>
                    <a:pt x="294" y="36"/>
                  </a:lnTo>
                  <a:lnTo>
                    <a:pt x="282" y="55"/>
                  </a:lnTo>
                  <a:lnTo>
                    <a:pt x="244" y="144"/>
                  </a:lnTo>
                  <a:lnTo>
                    <a:pt x="233" y="201"/>
                  </a:lnTo>
                  <a:lnTo>
                    <a:pt x="209" y="308"/>
                  </a:lnTo>
                  <a:lnTo>
                    <a:pt x="166" y="377"/>
                  </a:lnTo>
                  <a:lnTo>
                    <a:pt x="143" y="372"/>
                  </a:lnTo>
                  <a:lnTo>
                    <a:pt x="52" y="351"/>
                  </a:lnTo>
                  <a:lnTo>
                    <a:pt x="0" y="331"/>
                  </a:lnTo>
                  <a:lnTo>
                    <a:pt x="0" y="313"/>
                  </a:lnTo>
                  <a:lnTo>
                    <a:pt x="86" y="336"/>
                  </a:lnTo>
                  <a:lnTo>
                    <a:pt x="114" y="341"/>
                  </a:lnTo>
                  <a:lnTo>
                    <a:pt x="119" y="336"/>
                  </a:lnTo>
                  <a:lnTo>
                    <a:pt x="91" y="327"/>
                  </a:lnTo>
                  <a:lnTo>
                    <a:pt x="0" y="293"/>
                  </a:lnTo>
                  <a:lnTo>
                    <a:pt x="3" y="280"/>
                  </a:lnTo>
                  <a:lnTo>
                    <a:pt x="83" y="299"/>
                  </a:lnTo>
                  <a:lnTo>
                    <a:pt x="126" y="306"/>
                  </a:lnTo>
                  <a:lnTo>
                    <a:pt x="131" y="296"/>
                  </a:lnTo>
                  <a:lnTo>
                    <a:pt x="17" y="258"/>
                  </a:lnTo>
                  <a:lnTo>
                    <a:pt x="19" y="241"/>
                  </a:lnTo>
                  <a:lnTo>
                    <a:pt x="102" y="261"/>
                  </a:lnTo>
                  <a:lnTo>
                    <a:pt x="135" y="265"/>
                  </a:lnTo>
                  <a:lnTo>
                    <a:pt x="135" y="258"/>
                  </a:lnTo>
                  <a:lnTo>
                    <a:pt x="74" y="232"/>
                  </a:lnTo>
                  <a:lnTo>
                    <a:pt x="26" y="209"/>
                  </a:lnTo>
                  <a:lnTo>
                    <a:pt x="31" y="196"/>
                  </a:lnTo>
                  <a:lnTo>
                    <a:pt x="60" y="204"/>
                  </a:lnTo>
                  <a:lnTo>
                    <a:pt x="135" y="222"/>
                  </a:lnTo>
                  <a:lnTo>
                    <a:pt x="138" y="215"/>
                  </a:lnTo>
                  <a:lnTo>
                    <a:pt x="123" y="206"/>
                  </a:lnTo>
                  <a:lnTo>
                    <a:pt x="50" y="168"/>
                  </a:lnTo>
                  <a:lnTo>
                    <a:pt x="45" y="151"/>
                  </a:lnTo>
                  <a:lnTo>
                    <a:pt x="67" y="157"/>
                  </a:lnTo>
                  <a:lnTo>
                    <a:pt x="123" y="173"/>
                  </a:lnTo>
                  <a:lnTo>
                    <a:pt x="157" y="175"/>
                  </a:lnTo>
                  <a:lnTo>
                    <a:pt x="159" y="163"/>
                  </a:lnTo>
                  <a:lnTo>
                    <a:pt x="85" y="128"/>
                  </a:lnTo>
                  <a:lnTo>
                    <a:pt x="60" y="114"/>
                  </a:lnTo>
                  <a:lnTo>
                    <a:pt x="71" y="93"/>
                  </a:lnTo>
                  <a:lnTo>
                    <a:pt x="126" y="114"/>
                  </a:lnTo>
                  <a:lnTo>
                    <a:pt x="185" y="128"/>
                  </a:lnTo>
                  <a:lnTo>
                    <a:pt x="188" y="114"/>
                  </a:lnTo>
                  <a:lnTo>
                    <a:pt x="119" y="80"/>
                  </a:lnTo>
                  <a:lnTo>
                    <a:pt x="88" y="55"/>
                  </a:lnTo>
                  <a:lnTo>
                    <a:pt x="93" y="43"/>
                  </a:lnTo>
                  <a:lnTo>
                    <a:pt x="178" y="69"/>
                  </a:lnTo>
                  <a:lnTo>
                    <a:pt x="211" y="71"/>
                  </a:lnTo>
                  <a:lnTo>
                    <a:pt x="213" y="59"/>
                  </a:lnTo>
                  <a:lnTo>
                    <a:pt x="192" y="52"/>
                  </a:lnTo>
                  <a:lnTo>
                    <a:pt x="140" y="29"/>
                  </a:lnTo>
                  <a:lnTo>
                    <a:pt x="117" y="14"/>
                  </a:lnTo>
                  <a:lnTo>
                    <a:pt x="123" y="0"/>
                  </a:lnTo>
                  <a:lnTo>
                    <a:pt x="16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932880" y="3533760"/>
              <a:ext cx="128520" cy="155520"/>
            </a:xfrm>
            <a:custGeom>
              <a:avLst/>
              <a:gdLst/>
              <a:ahLst/>
              <a:rect l="l" t="t" r="r" b="b"/>
              <a:pathLst>
                <a:path w="220" h="234">
                  <a:moveTo>
                    <a:pt x="36" y="189"/>
                  </a:moveTo>
                  <a:lnTo>
                    <a:pt x="33" y="199"/>
                  </a:lnTo>
                  <a:lnTo>
                    <a:pt x="0" y="234"/>
                  </a:lnTo>
                  <a:lnTo>
                    <a:pt x="31" y="225"/>
                  </a:lnTo>
                  <a:lnTo>
                    <a:pt x="86" y="197"/>
                  </a:lnTo>
                  <a:lnTo>
                    <a:pt x="150" y="152"/>
                  </a:lnTo>
                  <a:lnTo>
                    <a:pt x="192" y="98"/>
                  </a:lnTo>
                  <a:lnTo>
                    <a:pt x="213" y="53"/>
                  </a:lnTo>
                  <a:lnTo>
                    <a:pt x="220" y="27"/>
                  </a:lnTo>
                  <a:lnTo>
                    <a:pt x="216" y="2"/>
                  </a:lnTo>
                  <a:lnTo>
                    <a:pt x="208" y="0"/>
                  </a:lnTo>
                  <a:lnTo>
                    <a:pt x="199" y="0"/>
                  </a:lnTo>
                  <a:lnTo>
                    <a:pt x="192" y="2"/>
                  </a:lnTo>
                  <a:lnTo>
                    <a:pt x="183" y="29"/>
                  </a:lnTo>
                  <a:lnTo>
                    <a:pt x="150" y="67"/>
                  </a:lnTo>
                  <a:lnTo>
                    <a:pt x="142" y="74"/>
                  </a:lnTo>
                  <a:lnTo>
                    <a:pt x="133" y="88"/>
                  </a:lnTo>
                  <a:lnTo>
                    <a:pt x="95" y="135"/>
                  </a:lnTo>
                  <a:lnTo>
                    <a:pt x="86" y="149"/>
                  </a:lnTo>
                  <a:lnTo>
                    <a:pt x="48" y="187"/>
                  </a:lnTo>
                  <a:lnTo>
                    <a:pt x="38" y="190"/>
                  </a:lnTo>
                  <a:lnTo>
                    <a:pt x="36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356520" y="3535200"/>
              <a:ext cx="1035000" cy="1379520"/>
            </a:xfrm>
            <a:custGeom>
              <a:avLst/>
              <a:gdLst/>
              <a:ahLst/>
              <a:rect l="l" t="t" r="r" b="b"/>
              <a:pathLst>
                <a:path w="1767" h="2082">
                  <a:moveTo>
                    <a:pt x="358" y="2082"/>
                  </a:moveTo>
                  <a:lnTo>
                    <a:pt x="249" y="2082"/>
                  </a:lnTo>
                  <a:lnTo>
                    <a:pt x="214" y="2036"/>
                  </a:lnTo>
                  <a:lnTo>
                    <a:pt x="138" y="1913"/>
                  </a:lnTo>
                  <a:lnTo>
                    <a:pt x="64" y="1776"/>
                  </a:lnTo>
                  <a:lnTo>
                    <a:pt x="32" y="1705"/>
                  </a:lnTo>
                  <a:lnTo>
                    <a:pt x="13" y="1630"/>
                  </a:lnTo>
                  <a:lnTo>
                    <a:pt x="0" y="1528"/>
                  </a:lnTo>
                  <a:lnTo>
                    <a:pt x="0" y="1405"/>
                  </a:lnTo>
                  <a:lnTo>
                    <a:pt x="20" y="1289"/>
                  </a:lnTo>
                  <a:lnTo>
                    <a:pt x="71" y="1144"/>
                  </a:lnTo>
                  <a:lnTo>
                    <a:pt x="112" y="1054"/>
                  </a:lnTo>
                  <a:lnTo>
                    <a:pt x="167" y="969"/>
                  </a:lnTo>
                  <a:lnTo>
                    <a:pt x="231" y="889"/>
                  </a:lnTo>
                  <a:lnTo>
                    <a:pt x="320" y="812"/>
                  </a:lnTo>
                  <a:lnTo>
                    <a:pt x="365" y="786"/>
                  </a:lnTo>
                  <a:lnTo>
                    <a:pt x="344" y="763"/>
                  </a:lnTo>
                  <a:lnTo>
                    <a:pt x="320" y="732"/>
                  </a:lnTo>
                  <a:lnTo>
                    <a:pt x="302" y="697"/>
                  </a:lnTo>
                  <a:lnTo>
                    <a:pt x="280" y="623"/>
                  </a:lnTo>
                  <a:lnTo>
                    <a:pt x="280" y="573"/>
                  </a:lnTo>
                  <a:lnTo>
                    <a:pt x="261" y="569"/>
                  </a:lnTo>
                  <a:lnTo>
                    <a:pt x="206" y="560"/>
                  </a:lnTo>
                  <a:lnTo>
                    <a:pt x="145" y="535"/>
                  </a:lnTo>
                  <a:lnTo>
                    <a:pt x="91" y="491"/>
                  </a:lnTo>
                  <a:lnTo>
                    <a:pt x="65" y="451"/>
                  </a:lnTo>
                  <a:lnTo>
                    <a:pt x="48" y="382"/>
                  </a:lnTo>
                  <a:lnTo>
                    <a:pt x="39" y="334"/>
                  </a:lnTo>
                  <a:lnTo>
                    <a:pt x="193" y="263"/>
                  </a:lnTo>
                  <a:lnTo>
                    <a:pt x="306" y="242"/>
                  </a:lnTo>
                  <a:lnTo>
                    <a:pt x="347" y="233"/>
                  </a:lnTo>
                  <a:lnTo>
                    <a:pt x="405" y="233"/>
                  </a:lnTo>
                  <a:lnTo>
                    <a:pt x="491" y="242"/>
                  </a:lnTo>
                  <a:lnTo>
                    <a:pt x="619" y="268"/>
                  </a:lnTo>
                  <a:lnTo>
                    <a:pt x="702" y="278"/>
                  </a:lnTo>
                  <a:lnTo>
                    <a:pt x="754" y="275"/>
                  </a:lnTo>
                  <a:lnTo>
                    <a:pt x="836" y="270"/>
                  </a:lnTo>
                  <a:lnTo>
                    <a:pt x="905" y="252"/>
                  </a:lnTo>
                  <a:lnTo>
                    <a:pt x="945" y="242"/>
                  </a:lnTo>
                  <a:lnTo>
                    <a:pt x="983" y="232"/>
                  </a:lnTo>
                  <a:lnTo>
                    <a:pt x="1014" y="223"/>
                  </a:lnTo>
                  <a:lnTo>
                    <a:pt x="1069" y="195"/>
                  </a:lnTo>
                  <a:lnTo>
                    <a:pt x="1133" y="150"/>
                  </a:lnTo>
                  <a:lnTo>
                    <a:pt x="1175" y="96"/>
                  </a:lnTo>
                  <a:lnTo>
                    <a:pt x="1196" y="51"/>
                  </a:lnTo>
                  <a:lnTo>
                    <a:pt x="1203" y="25"/>
                  </a:lnTo>
                  <a:lnTo>
                    <a:pt x="1199" y="0"/>
                  </a:lnTo>
                  <a:lnTo>
                    <a:pt x="1249" y="62"/>
                  </a:lnTo>
                  <a:lnTo>
                    <a:pt x="1284" y="103"/>
                  </a:lnTo>
                  <a:lnTo>
                    <a:pt x="1305" y="143"/>
                  </a:lnTo>
                  <a:lnTo>
                    <a:pt x="1319" y="133"/>
                  </a:lnTo>
                  <a:lnTo>
                    <a:pt x="1365" y="107"/>
                  </a:lnTo>
                  <a:lnTo>
                    <a:pt x="1421" y="96"/>
                  </a:lnTo>
                  <a:lnTo>
                    <a:pt x="1483" y="112"/>
                  </a:lnTo>
                  <a:lnTo>
                    <a:pt x="1499" y="121"/>
                  </a:lnTo>
                  <a:lnTo>
                    <a:pt x="1551" y="162"/>
                  </a:lnTo>
                  <a:lnTo>
                    <a:pt x="1594" y="211"/>
                  </a:lnTo>
                  <a:lnTo>
                    <a:pt x="1622" y="256"/>
                  </a:lnTo>
                  <a:lnTo>
                    <a:pt x="1634" y="289"/>
                  </a:lnTo>
                  <a:lnTo>
                    <a:pt x="1642" y="346"/>
                  </a:lnTo>
                  <a:lnTo>
                    <a:pt x="1641" y="389"/>
                  </a:lnTo>
                  <a:lnTo>
                    <a:pt x="1629" y="436"/>
                  </a:lnTo>
                  <a:lnTo>
                    <a:pt x="1604" y="493"/>
                  </a:lnTo>
                  <a:lnTo>
                    <a:pt x="1587" y="515"/>
                  </a:lnTo>
                  <a:lnTo>
                    <a:pt x="1577" y="528"/>
                  </a:lnTo>
                  <a:lnTo>
                    <a:pt x="1530" y="557"/>
                  </a:lnTo>
                  <a:lnTo>
                    <a:pt x="1473" y="571"/>
                  </a:lnTo>
                  <a:lnTo>
                    <a:pt x="1431" y="574"/>
                  </a:lnTo>
                  <a:lnTo>
                    <a:pt x="1421" y="663"/>
                  </a:lnTo>
                  <a:lnTo>
                    <a:pt x="1391" y="758"/>
                  </a:lnTo>
                  <a:lnTo>
                    <a:pt x="1371" y="794"/>
                  </a:lnTo>
                  <a:lnTo>
                    <a:pt x="1447" y="836"/>
                  </a:lnTo>
                  <a:lnTo>
                    <a:pt x="1544" y="914"/>
                  </a:lnTo>
                  <a:lnTo>
                    <a:pt x="1589" y="966"/>
                  </a:lnTo>
                  <a:lnTo>
                    <a:pt x="1634" y="1028"/>
                  </a:lnTo>
                  <a:lnTo>
                    <a:pt x="1665" y="1083"/>
                  </a:lnTo>
                  <a:lnTo>
                    <a:pt x="1689" y="1144"/>
                  </a:lnTo>
                  <a:lnTo>
                    <a:pt x="1736" y="1274"/>
                  </a:lnTo>
                  <a:lnTo>
                    <a:pt x="1758" y="1395"/>
                  </a:lnTo>
                  <a:lnTo>
                    <a:pt x="1767" y="1499"/>
                  </a:lnTo>
                  <a:lnTo>
                    <a:pt x="1767" y="1630"/>
                  </a:lnTo>
                  <a:lnTo>
                    <a:pt x="1755" y="1705"/>
                  </a:lnTo>
                  <a:lnTo>
                    <a:pt x="1722" y="1814"/>
                  </a:lnTo>
                  <a:lnTo>
                    <a:pt x="1712" y="1838"/>
                  </a:lnTo>
                  <a:lnTo>
                    <a:pt x="1680" y="1904"/>
                  </a:lnTo>
                  <a:lnTo>
                    <a:pt x="1634" y="1982"/>
                  </a:lnTo>
                  <a:lnTo>
                    <a:pt x="1623" y="1994"/>
                  </a:lnTo>
                  <a:lnTo>
                    <a:pt x="1585" y="2053"/>
                  </a:lnTo>
                  <a:lnTo>
                    <a:pt x="1582" y="2063"/>
                  </a:lnTo>
                  <a:lnTo>
                    <a:pt x="1206" y="2069"/>
                  </a:lnTo>
                  <a:lnTo>
                    <a:pt x="768" y="2079"/>
                  </a:lnTo>
                  <a:lnTo>
                    <a:pt x="657" y="2075"/>
                  </a:lnTo>
                  <a:lnTo>
                    <a:pt x="534" y="2077"/>
                  </a:lnTo>
                  <a:lnTo>
                    <a:pt x="463" y="2082"/>
                  </a:lnTo>
                  <a:lnTo>
                    <a:pt x="358" y="20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423120" y="3429000"/>
              <a:ext cx="76320" cy="128520"/>
            </a:xfrm>
            <a:custGeom>
              <a:avLst/>
              <a:gdLst/>
              <a:ahLst/>
              <a:rect l="l" t="t" r="r" b="b"/>
              <a:pathLst>
                <a:path w="130" h="194">
                  <a:moveTo>
                    <a:pt x="0" y="194"/>
                  </a:moveTo>
                  <a:lnTo>
                    <a:pt x="8" y="163"/>
                  </a:lnTo>
                  <a:lnTo>
                    <a:pt x="47" y="37"/>
                  </a:lnTo>
                  <a:lnTo>
                    <a:pt x="62" y="0"/>
                  </a:lnTo>
                  <a:lnTo>
                    <a:pt x="74" y="14"/>
                  </a:lnTo>
                  <a:lnTo>
                    <a:pt x="114" y="33"/>
                  </a:lnTo>
                  <a:lnTo>
                    <a:pt x="130" y="37"/>
                  </a:lnTo>
                  <a:lnTo>
                    <a:pt x="100" y="109"/>
                  </a:lnTo>
                  <a:lnTo>
                    <a:pt x="74" y="177"/>
                  </a:lnTo>
                  <a:lnTo>
                    <a:pt x="24" y="191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597720" y="3689280"/>
              <a:ext cx="7920" cy="68040"/>
            </a:xfrm>
            <a:custGeom>
              <a:avLst/>
              <a:gdLst/>
              <a:ahLst/>
              <a:rect l="l" t="t" r="r" b="b"/>
              <a:pathLst>
                <a:path w="16" h="102">
                  <a:moveTo>
                    <a:pt x="0" y="0"/>
                  </a:moveTo>
                  <a:lnTo>
                    <a:pt x="14" y="76"/>
                  </a:lnTo>
                  <a:lnTo>
                    <a:pt x="16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556320" y="3455640"/>
              <a:ext cx="22320" cy="63720"/>
            </a:xfrm>
            <a:custGeom>
              <a:avLst/>
              <a:gdLst/>
              <a:ahLst/>
              <a:rect l="l" t="t" r="r" b="b"/>
              <a:pathLst>
                <a:path w="36" h="95">
                  <a:moveTo>
                    <a:pt x="36" y="0"/>
                  </a:moveTo>
                  <a:lnTo>
                    <a:pt x="31" y="16"/>
                  </a:lnTo>
                  <a:lnTo>
                    <a:pt x="17" y="40"/>
                  </a:lnTo>
                  <a:lnTo>
                    <a:pt x="0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570720" y="4055760"/>
              <a:ext cx="63720" cy="4788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0" y="0"/>
                  </a:moveTo>
                  <a:lnTo>
                    <a:pt x="74" y="53"/>
                  </a:lnTo>
                  <a:lnTo>
                    <a:pt x="109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045560" y="4074840"/>
              <a:ext cx="101520" cy="47880"/>
            </a:xfrm>
            <a:custGeom>
              <a:avLst/>
              <a:gdLst/>
              <a:ahLst/>
              <a:rect l="l" t="t" r="r" b="b"/>
              <a:pathLst>
                <a:path w="175" h="73">
                  <a:moveTo>
                    <a:pt x="175" y="0"/>
                  </a:moveTo>
                  <a:lnTo>
                    <a:pt x="135" y="33"/>
                  </a:lnTo>
                  <a:lnTo>
                    <a:pt x="73" y="62"/>
                  </a:lnTo>
                  <a:lnTo>
                    <a:pt x="5" y="73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104240" y="3803400"/>
              <a:ext cx="468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7094520" y="3759120"/>
              <a:ext cx="648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086600" y="3630600"/>
              <a:ext cx="34920" cy="109440"/>
            </a:xfrm>
            <a:custGeom>
              <a:avLst/>
              <a:gdLst/>
              <a:ahLst/>
              <a:rect l="l" t="t" r="r" b="b"/>
              <a:pathLst>
                <a:path w="59" h="166">
                  <a:moveTo>
                    <a:pt x="59" y="0"/>
                  </a:moveTo>
                  <a:lnTo>
                    <a:pt x="50" y="12"/>
                  </a:lnTo>
                  <a:lnTo>
                    <a:pt x="22" y="54"/>
                  </a:lnTo>
                  <a:lnTo>
                    <a:pt x="3" y="102"/>
                  </a:lnTo>
                  <a:lnTo>
                    <a:pt x="0" y="134"/>
                  </a:lnTo>
                  <a:lnTo>
                    <a:pt x="3" y="1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748560" y="3342960"/>
              <a:ext cx="32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21560" y="3296880"/>
              <a:ext cx="468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6793200" y="3331800"/>
              <a:ext cx="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6821640" y="3332160"/>
              <a:ext cx="144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flipV="1">
              <a:off x="6770880" y="3342960"/>
              <a:ext cx="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756480" y="3281040"/>
              <a:ext cx="32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775560" y="3273120"/>
              <a:ext cx="1440" cy="1584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2" y="25"/>
                  </a:moveTo>
                  <a:lnTo>
                    <a:pt x="4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423120" y="3429000"/>
              <a:ext cx="38160" cy="128520"/>
            </a:xfrm>
            <a:custGeom>
              <a:avLst/>
              <a:gdLst/>
              <a:ahLst/>
              <a:rect l="l" t="t" r="r" b="b"/>
              <a:pathLst>
                <a:path w="62" h="194">
                  <a:moveTo>
                    <a:pt x="62" y="0"/>
                  </a:moveTo>
                  <a:lnTo>
                    <a:pt x="47" y="37"/>
                  </a:lnTo>
                  <a:lnTo>
                    <a:pt x="8" y="163"/>
                  </a:lnTo>
                  <a:lnTo>
                    <a:pt x="0" y="1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V="1">
              <a:off x="6694560" y="3358440"/>
              <a:ext cx="32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 flipV="1">
              <a:off x="6669360" y="336384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534360" y="3860640"/>
              <a:ext cx="41040" cy="4428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1" y="0"/>
                  </a:moveTo>
                  <a:lnTo>
                    <a:pt x="13" y="59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599520" y="3774960"/>
              <a:ext cx="4680" cy="3312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9" y="0"/>
                  </a:moveTo>
                  <a:lnTo>
                    <a:pt x="4" y="44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032600" y="3392280"/>
              <a:ext cx="38160" cy="142920"/>
            </a:xfrm>
            <a:custGeom>
              <a:avLst/>
              <a:gdLst/>
              <a:ahLst/>
              <a:rect l="l" t="t" r="r" b="b"/>
              <a:pathLst>
                <a:path w="64" h="217">
                  <a:moveTo>
                    <a:pt x="17" y="0"/>
                  </a:moveTo>
                  <a:lnTo>
                    <a:pt x="0" y="31"/>
                  </a:lnTo>
                  <a:lnTo>
                    <a:pt x="17" y="0"/>
                  </a:lnTo>
                  <a:lnTo>
                    <a:pt x="24" y="4"/>
                  </a:lnTo>
                  <a:lnTo>
                    <a:pt x="38" y="10"/>
                  </a:lnTo>
                  <a:lnTo>
                    <a:pt x="50" y="28"/>
                  </a:lnTo>
                  <a:lnTo>
                    <a:pt x="57" y="43"/>
                  </a:lnTo>
                  <a:lnTo>
                    <a:pt x="64" y="61"/>
                  </a:lnTo>
                  <a:lnTo>
                    <a:pt x="64" y="99"/>
                  </a:lnTo>
                  <a:lnTo>
                    <a:pt x="59" y="139"/>
                  </a:lnTo>
                  <a:lnTo>
                    <a:pt x="43" y="217"/>
                  </a:lnTo>
                  <a:lnTo>
                    <a:pt x="35" y="215"/>
                  </a:lnTo>
                  <a:lnTo>
                    <a:pt x="26" y="215"/>
                  </a:lnTo>
                  <a:lnTo>
                    <a:pt x="19" y="217"/>
                  </a:lnTo>
                  <a:lnTo>
                    <a:pt x="24" y="156"/>
                  </a:lnTo>
                  <a:lnTo>
                    <a:pt x="31" y="104"/>
                  </a:lnTo>
                  <a:lnTo>
                    <a:pt x="24" y="62"/>
                  </a:lnTo>
                  <a:lnTo>
                    <a:pt x="12" y="38"/>
                  </a:lnTo>
                  <a:lnTo>
                    <a:pt x="0" y="3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005600" y="3411360"/>
              <a:ext cx="27000" cy="1908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9" y="0"/>
                  </a:moveTo>
                  <a:lnTo>
                    <a:pt x="21" y="16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9" name=""/>
          <p:cNvSpPr/>
          <p:nvPr/>
        </p:nvSpPr>
        <p:spPr>
          <a:xfrm>
            <a:off x="2211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6783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1" name=""/>
          <p:cNvGrpSpPr/>
          <p:nvPr/>
        </p:nvGrpSpPr>
        <p:grpSpPr>
          <a:xfrm>
            <a:off x="1600200" y="2657520"/>
            <a:ext cx="1349280" cy="2303280"/>
            <a:chOff x="1600200" y="2657520"/>
            <a:chExt cx="1349280" cy="2303280"/>
          </a:xfrm>
        </p:grpSpPr>
        <p:sp>
          <p:nvSpPr>
            <p:cNvPr id="3642" name=""/>
            <p:cNvSpPr/>
            <p:nvPr/>
          </p:nvSpPr>
          <p:spPr>
            <a:xfrm>
              <a:off x="1600200" y="3041640"/>
              <a:ext cx="1349280" cy="1919160"/>
            </a:xfrm>
            <a:custGeom>
              <a:avLst/>
              <a:gdLst/>
              <a:ahLst/>
              <a:rect l="l" t="t" r="r" b="b"/>
              <a:pathLst>
                <a:path w="3459" h="4344">
                  <a:moveTo>
                    <a:pt x="2570" y="1236"/>
                  </a:moveTo>
                  <a:lnTo>
                    <a:pt x="2605" y="1264"/>
                  </a:lnTo>
                  <a:lnTo>
                    <a:pt x="2637" y="1292"/>
                  </a:lnTo>
                  <a:lnTo>
                    <a:pt x="2673" y="1321"/>
                  </a:lnTo>
                  <a:lnTo>
                    <a:pt x="2707" y="1349"/>
                  </a:lnTo>
                  <a:lnTo>
                    <a:pt x="2743" y="1377"/>
                  </a:lnTo>
                  <a:lnTo>
                    <a:pt x="2777" y="1407"/>
                  </a:lnTo>
                  <a:lnTo>
                    <a:pt x="2812" y="1436"/>
                  </a:lnTo>
                  <a:lnTo>
                    <a:pt x="2848" y="1466"/>
                  </a:lnTo>
                  <a:lnTo>
                    <a:pt x="2882" y="1496"/>
                  </a:lnTo>
                  <a:lnTo>
                    <a:pt x="2916" y="1527"/>
                  </a:lnTo>
                  <a:lnTo>
                    <a:pt x="2950" y="1556"/>
                  </a:lnTo>
                  <a:lnTo>
                    <a:pt x="2984" y="1588"/>
                  </a:lnTo>
                  <a:lnTo>
                    <a:pt x="3017" y="1619"/>
                  </a:lnTo>
                  <a:lnTo>
                    <a:pt x="3048" y="1650"/>
                  </a:lnTo>
                  <a:lnTo>
                    <a:pt x="3079" y="1683"/>
                  </a:lnTo>
                  <a:lnTo>
                    <a:pt x="3109" y="1714"/>
                  </a:lnTo>
                  <a:lnTo>
                    <a:pt x="3136" y="1742"/>
                  </a:lnTo>
                  <a:lnTo>
                    <a:pt x="3161" y="1772"/>
                  </a:lnTo>
                  <a:lnTo>
                    <a:pt x="3186" y="1801"/>
                  </a:lnTo>
                  <a:lnTo>
                    <a:pt x="3211" y="1832"/>
                  </a:lnTo>
                  <a:lnTo>
                    <a:pt x="3237" y="1864"/>
                  </a:lnTo>
                  <a:lnTo>
                    <a:pt x="3260" y="1895"/>
                  </a:lnTo>
                  <a:lnTo>
                    <a:pt x="3284" y="1926"/>
                  </a:lnTo>
                  <a:lnTo>
                    <a:pt x="3308" y="1958"/>
                  </a:lnTo>
                  <a:lnTo>
                    <a:pt x="3329" y="1991"/>
                  </a:lnTo>
                  <a:lnTo>
                    <a:pt x="3349" y="2025"/>
                  </a:lnTo>
                  <a:lnTo>
                    <a:pt x="3369" y="2058"/>
                  </a:lnTo>
                  <a:lnTo>
                    <a:pt x="3387" y="2093"/>
                  </a:lnTo>
                  <a:lnTo>
                    <a:pt x="3403" y="2128"/>
                  </a:lnTo>
                  <a:lnTo>
                    <a:pt x="3418" y="2165"/>
                  </a:lnTo>
                  <a:lnTo>
                    <a:pt x="3431" y="2200"/>
                  </a:lnTo>
                  <a:lnTo>
                    <a:pt x="3443" y="2237"/>
                  </a:lnTo>
                  <a:lnTo>
                    <a:pt x="3455" y="2292"/>
                  </a:lnTo>
                  <a:lnTo>
                    <a:pt x="3459" y="2347"/>
                  </a:lnTo>
                  <a:lnTo>
                    <a:pt x="3456" y="2403"/>
                  </a:lnTo>
                  <a:lnTo>
                    <a:pt x="3447" y="2460"/>
                  </a:lnTo>
                  <a:lnTo>
                    <a:pt x="3433" y="2515"/>
                  </a:lnTo>
                  <a:lnTo>
                    <a:pt x="3410" y="2568"/>
                  </a:lnTo>
                  <a:lnTo>
                    <a:pt x="3385" y="2617"/>
                  </a:lnTo>
                  <a:lnTo>
                    <a:pt x="3352" y="2663"/>
                  </a:lnTo>
                  <a:lnTo>
                    <a:pt x="3338" y="2679"/>
                  </a:lnTo>
                  <a:lnTo>
                    <a:pt x="3321" y="2696"/>
                  </a:lnTo>
                  <a:lnTo>
                    <a:pt x="3305" y="2709"/>
                  </a:lnTo>
                  <a:lnTo>
                    <a:pt x="3286" y="2722"/>
                  </a:lnTo>
                  <a:lnTo>
                    <a:pt x="3266" y="2734"/>
                  </a:lnTo>
                  <a:lnTo>
                    <a:pt x="3247" y="2743"/>
                  </a:lnTo>
                  <a:lnTo>
                    <a:pt x="3226" y="2752"/>
                  </a:lnTo>
                  <a:lnTo>
                    <a:pt x="3204" y="2759"/>
                  </a:lnTo>
                  <a:lnTo>
                    <a:pt x="3182" y="2765"/>
                  </a:lnTo>
                  <a:lnTo>
                    <a:pt x="3160" y="2770"/>
                  </a:lnTo>
                  <a:lnTo>
                    <a:pt x="3137" y="2773"/>
                  </a:lnTo>
                  <a:lnTo>
                    <a:pt x="3114" y="2774"/>
                  </a:lnTo>
                  <a:lnTo>
                    <a:pt x="3090" y="2776"/>
                  </a:lnTo>
                  <a:lnTo>
                    <a:pt x="3068" y="2776"/>
                  </a:lnTo>
                  <a:lnTo>
                    <a:pt x="3044" y="2774"/>
                  </a:lnTo>
                  <a:lnTo>
                    <a:pt x="3022" y="2771"/>
                  </a:lnTo>
                  <a:lnTo>
                    <a:pt x="3019" y="2951"/>
                  </a:lnTo>
                  <a:lnTo>
                    <a:pt x="3019" y="3130"/>
                  </a:lnTo>
                  <a:lnTo>
                    <a:pt x="3016" y="3311"/>
                  </a:lnTo>
                  <a:lnTo>
                    <a:pt x="3002" y="3489"/>
                  </a:lnTo>
                  <a:lnTo>
                    <a:pt x="2993" y="3559"/>
                  </a:lnTo>
                  <a:lnTo>
                    <a:pt x="2981" y="3629"/>
                  </a:lnTo>
                  <a:lnTo>
                    <a:pt x="2968" y="3698"/>
                  </a:lnTo>
                  <a:lnTo>
                    <a:pt x="2952" y="3768"/>
                  </a:lnTo>
                  <a:lnTo>
                    <a:pt x="2935" y="3838"/>
                  </a:lnTo>
                  <a:lnTo>
                    <a:pt x="2916" y="3906"/>
                  </a:lnTo>
                  <a:lnTo>
                    <a:pt x="2895" y="3974"/>
                  </a:lnTo>
                  <a:lnTo>
                    <a:pt x="2875" y="4041"/>
                  </a:lnTo>
                  <a:lnTo>
                    <a:pt x="2867" y="4065"/>
                  </a:lnTo>
                  <a:lnTo>
                    <a:pt x="2857" y="4090"/>
                  </a:lnTo>
                  <a:lnTo>
                    <a:pt x="2846" y="4117"/>
                  </a:lnTo>
                  <a:lnTo>
                    <a:pt x="2835" y="4142"/>
                  </a:lnTo>
                  <a:lnTo>
                    <a:pt x="2821" y="4167"/>
                  </a:lnTo>
                  <a:lnTo>
                    <a:pt x="2808" y="4191"/>
                  </a:lnTo>
                  <a:lnTo>
                    <a:pt x="2793" y="4213"/>
                  </a:lnTo>
                  <a:lnTo>
                    <a:pt x="2778" y="4234"/>
                  </a:lnTo>
                  <a:lnTo>
                    <a:pt x="2743" y="4231"/>
                  </a:lnTo>
                  <a:lnTo>
                    <a:pt x="2710" y="4231"/>
                  </a:lnTo>
                  <a:lnTo>
                    <a:pt x="2679" y="4232"/>
                  </a:lnTo>
                  <a:lnTo>
                    <a:pt x="2649" y="4235"/>
                  </a:lnTo>
                  <a:lnTo>
                    <a:pt x="2622" y="4240"/>
                  </a:lnTo>
                  <a:lnTo>
                    <a:pt x="2596" y="4246"/>
                  </a:lnTo>
                  <a:lnTo>
                    <a:pt x="2570" y="4252"/>
                  </a:lnTo>
                  <a:lnTo>
                    <a:pt x="2545" y="4259"/>
                  </a:lnTo>
                  <a:lnTo>
                    <a:pt x="2520" y="4267"/>
                  </a:lnTo>
                  <a:lnTo>
                    <a:pt x="2496" y="4274"/>
                  </a:lnTo>
                  <a:lnTo>
                    <a:pt x="2472" y="4281"/>
                  </a:lnTo>
                  <a:lnTo>
                    <a:pt x="2447" y="4287"/>
                  </a:lnTo>
                  <a:lnTo>
                    <a:pt x="2422" y="4293"/>
                  </a:lnTo>
                  <a:lnTo>
                    <a:pt x="2395" y="4298"/>
                  </a:lnTo>
                  <a:lnTo>
                    <a:pt x="2369" y="4302"/>
                  </a:lnTo>
                  <a:lnTo>
                    <a:pt x="2340" y="4304"/>
                  </a:lnTo>
                  <a:lnTo>
                    <a:pt x="2317" y="4304"/>
                  </a:lnTo>
                  <a:lnTo>
                    <a:pt x="2291" y="4304"/>
                  </a:lnTo>
                  <a:lnTo>
                    <a:pt x="2268" y="4301"/>
                  </a:lnTo>
                  <a:lnTo>
                    <a:pt x="2242" y="4299"/>
                  </a:lnTo>
                  <a:lnTo>
                    <a:pt x="2217" y="4295"/>
                  </a:lnTo>
                  <a:lnTo>
                    <a:pt x="2192" y="4292"/>
                  </a:lnTo>
                  <a:lnTo>
                    <a:pt x="2167" y="4287"/>
                  </a:lnTo>
                  <a:lnTo>
                    <a:pt x="2142" y="4283"/>
                  </a:lnTo>
                  <a:lnTo>
                    <a:pt x="2116" y="4280"/>
                  </a:lnTo>
                  <a:lnTo>
                    <a:pt x="2090" y="4275"/>
                  </a:lnTo>
                  <a:lnTo>
                    <a:pt x="2064" y="4273"/>
                  </a:lnTo>
                  <a:lnTo>
                    <a:pt x="2038" y="4270"/>
                  </a:lnTo>
                  <a:lnTo>
                    <a:pt x="2011" y="4268"/>
                  </a:lnTo>
                  <a:lnTo>
                    <a:pt x="1984" y="4267"/>
                  </a:lnTo>
                  <a:lnTo>
                    <a:pt x="1958" y="4267"/>
                  </a:lnTo>
                  <a:lnTo>
                    <a:pt x="1931" y="4268"/>
                  </a:lnTo>
                  <a:lnTo>
                    <a:pt x="1904" y="4271"/>
                  </a:lnTo>
                  <a:lnTo>
                    <a:pt x="1876" y="4274"/>
                  </a:lnTo>
                  <a:lnTo>
                    <a:pt x="1846" y="4278"/>
                  </a:lnTo>
                  <a:lnTo>
                    <a:pt x="1817" y="4283"/>
                  </a:lnTo>
                  <a:lnTo>
                    <a:pt x="1785" y="4289"/>
                  </a:lnTo>
                  <a:lnTo>
                    <a:pt x="1754" y="4295"/>
                  </a:lnTo>
                  <a:lnTo>
                    <a:pt x="1723" y="4301"/>
                  </a:lnTo>
                  <a:lnTo>
                    <a:pt x="1690" y="4308"/>
                  </a:lnTo>
                  <a:lnTo>
                    <a:pt x="1659" y="4314"/>
                  </a:lnTo>
                  <a:lnTo>
                    <a:pt x="1630" y="4320"/>
                  </a:lnTo>
                  <a:lnTo>
                    <a:pt x="1600" y="4326"/>
                  </a:lnTo>
                  <a:lnTo>
                    <a:pt x="1570" y="4330"/>
                  </a:lnTo>
                  <a:lnTo>
                    <a:pt x="1543" y="4335"/>
                  </a:lnTo>
                  <a:lnTo>
                    <a:pt x="1518" y="4339"/>
                  </a:lnTo>
                  <a:lnTo>
                    <a:pt x="1495" y="4342"/>
                  </a:lnTo>
                  <a:lnTo>
                    <a:pt x="1472" y="4344"/>
                  </a:lnTo>
                  <a:lnTo>
                    <a:pt x="1437" y="4344"/>
                  </a:lnTo>
                  <a:lnTo>
                    <a:pt x="1400" y="4342"/>
                  </a:lnTo>
                  <a:lnTo>
                    <a:pt x="1364" y="4339"/>
                  </a:lnTo>
                  <a:lnTo>
                    <a:pt x="1328" y="4335"/>
                  </a:lnTo>
                  <a:lnTo>
                    <a:pt x="1291" y="4327"/>
                  </a:lnTo>
                  <a:lnTo>
                    <a:pt x="1256" y="4320"/>
                  </a:lnTo>
                  <a:lnTo>
                    <a:pt x="1220" y="4311"/>
                  </a:lnTo>
                  <a:lnTo>
                    <a:pt x="1184" y="4302"/>
                  </a:lnTo>
                  <a:lnTo>
                    <a:pt x="1147" y="4293"/>
                  </a:lnTo>
                  <a:lnTo>
                    <a:pt x="1112" y="4284"/>
                  </a:lnTo>
                  <a:lnTo>
                    <a:pt x="1076" y="4275"/>
                  </a:lnTo>
                  <a:lnTo>
                    <a:pt x="1039" y="4267"/>
                  </a:lnTo>
                  <a:lnTo>
                    <a:pt x="1003" y="4259"/>
                  </a:lnTo>
                  <a:lnTo>
                    <a:pt x="968" y="4252"/>
                  </a:lnTo>
                  <a:lnTo>
                    <a:pt x="931" y="4246"/>
                  </a:lnTo>
                  <a:lnTo>
                    <a:pt x="895" y="4243"/>
                  </a:lnTo>
                  <a:lnTo>
                    <a:pt x="870" y="4241"/>
                  </a:lnTo>
                  <a:lnTo>
                    <a:pt x="846" y="4240"/>
                  </a:lnTo>
                  <a:lnTo>
                    <a:pt x="822" y="4238"/>
                  </a:lnTo>
                  <a:lnTo>
                    <a:pt x="801" y="4238"/>
                  </a:lnTo>
                  <a:lnTo>
                    <a:pt x="781" y="4237"/>
                  </a:lnTo>
                  <a:lnTo>
                    <a:pt x="761" y="4237"/>
                  </a:lnTo>
                  <a:lnTo>
                    <a:pt x="742" y="4238"/>
                  </a:lnTo>
                  <a:lnTo>
                    <a:pt x="724" y="4238"/>
                  </a:lnTo>
                  <a:lnTo>
                    <a:pt x="707" y="4240"/>
                  </a:lnTo>
                  <a:lnTo>
                    <a:pt x="690" y="4241"/>
                  </a:lnTo>
                  <a:lnTo>
                    <a:pt x="674" y="4243"/>
                  </a:lnTo>
                  <a:lnTo>
                    <a:pt x="658" y="4246"/>
                  </a:lnTo>
                  <a:lnTo>
                    <a:pt x="641" y="4247"/>
                  </a:lnTo>
                  <a:lnTo>
                    <a:pt x="623" y="4250"/>
                  </a:lnTo>
                  <a:lnTo>
                    <a:pt x="607" y="4255"/>
                  </a:lnTo>
                  <a:lnTo>
                    <a:pt x="591" y="4258"/>
                  </a:lnTo>
                  <a:lnTo>
                    <a:pt x="558" y="4164"/>
                  </a:lnTo>
                  <a:lnTo>
                    <a:pt x="534" y="4071"/>
                  </a:lnTo>
                  <a:lnTo>
                    <a:pt x="514" y="3979"/>
                  </a:lnTo>
                  <a:lnTo>
                    <a:pt x="500" y="3885"/>
                  </a:lnTo>
                  <a:lnTo>
                    <a:pt x="490" y="3792"/>
                  </a:lnTo>
                  <a:lnTo>
                    <a:pt x="482" y="3697"/>
                  </a:lnTo>
                  <a:lnTo>
                    <a:pt x="477" y="3604"/>
                  </a:lnTo>
                  <a:lnTo>
                    <a:pt x="474" y="3507"/>
                  </a:lnTo>
                  <a:lnTo>
                    <a:pt x="469" y="3314"/>
                  </a:lnTo>
                  <a:lnTo>
                    <a:pt x="471" y="3120"/>
                  </a:lnTo>
                  <a:lnTo>
                    <a:pt x="472" y="2927"/>
                  </a:lnTo>
                  <a:lnTo>
                    <a:pt x="474" y="2734"/>
                  </a:lnTo>
                  <a:lnTo>
                    <a:pt x="456" y="2737"/>
                  </a:lnTo>
                  <a:lnTo>
                    <a:pt x="439" y="2742"/>
                  </a:lnTo>
                  <a:lnTo>
                    <a:pt x="423" y="2743"/>
                  </a:lnTo>
                  <a:lnTo>
                    <a:pt x="407" y="2746"/>
                  </a:lnTo>
                  <a:lnTo>
                    <a:pt x="392" y="2749"/>
                  </a:lnTo>
                  <a:lnTo>
                    <a:pt x="376" y="2751"/>
                  </a:lnTo>
                  <a:lnTo>
                    <a:pt x="361" y="2752"/>
                  </a:lnTo>
                  <a:lnTo>
                    <a:pt x="346" y="2752"/>
                  </a:lnTo>
                  <a:lnTo>
                    <a:pt x="330" y="2752"/>
                  </a:lnTo>
                  <a:lnTo>
                    <a:pt x="315" y="2752"/>
                  </a:lnTo>
                  <a:lnTo>
                    <a:pt x="298" y="2752"/>
                  </a:lnTo>
                  <a:lnTo>
                    <a:pt x="284" y="2751"/>
                  </a:lnTo>
                  <a:lnTo>
                    <a:pt x="267" y="2748"/>
                  </a:lnTo>
                  <a:lnTo>
                    <a:pt x="251" y="2745"/>
                  </a:lnTo>
                  <a:lnTo>
                    <a:pt x="235" y="2742"/>
                  </a:lnTo>
                  <a:lnTo>
                    <a:pt x="217" y="2737"/>
                  </a:lnTo>
                  <a:lnTo>
                    <a:pt x="190" y="2728"/>
                  </a:lnTo>
                  <a:lnTo>
                    <a:pt x="163" y="2713"/>
                  </a:lnTo>
                  <a:lnTo>
                    <a:pt x="137" y="2697"/>
                  </a:lnTo>
                  <a:lnTo>
                    <a:pt x="110" y="2676"/>
                  </a:lnTo>
                  <a:lnTo>
                    <a:pt x="86" y="2656"/>
                  </a:lnTo>
                  <a:lnTo>
                    <a:pt x="64" y="2632"/>
                  </a:lnTo>
                  <a:lnTo>
                    <a:pt x="45" y="2608"/>
                  </a:lnTo>
                  <a:lnTo>
                    <a:pt x="30" y="2584"/>
                  </a:lnTo>
                  <a:lnTo>
                    <a:pt x="12" y="2546"/>
                  </a:lnTo>
                  <a:lnTo>
                    <a:pt x="3" y="2506"/>
                  </a:lnTo>
                  <a:lnTo>
                    <a:pt x="0" y="2464"/>
                  </a:lnTo>
                  <a:lnTo>
                    <a:pt x="3" y="2420"/>
                  </a:lnTo>
                  <a:lnTo>
                    <a:pt x="12" y="2377"/>
                  </a:lnTo>
                  <a:lnTo>
                    <a:pt x="24" y="2332"/>
                  </a:lnTo>
                  <a:lnTo>
                    <a:pt x="40" y="2289"/>
                  </a:lnTo>
                  <a:lnTo>
                    <a:pt x="58" y="2248"/>
                  </a:lnTo>
                  <a:lnTo>
                    <a:pt x="71" y="2221"/>
                  </a:lnTo>
                  <a:lnTo>
                    <a:pt x="86" y="2194"/>
                  </a:lnTo>
                  <a:lnTo>
                    <a:pt x="103" y="2169"/>
                  </a:lnTo>
                  <a:lnTo>
                    <a:pt x="119" y="2144"/>
                  </a:lnTo>
                  <a:lnTo>
                    <a:pt x="137" y="2120"/>
                  </a:lnTo>
                  <a:lnTo>
                    <a:pt x="154" y="2098"/>
                  </a:lnTo>
                  <a:lnTo>
                    <a:pt x="174" y="2076"/>
                  </a:lnTo>
                  <a:lnTo>
                    <a:pt x="193" y="2053"/>
                  </a:lnTo>
                  <a:lnTo>
                    <a:pt x="214" y="2031"/>
                  </a:lnTo>
                  <a:lnTo>
                    <a:pt x="235" y="2010"/>
                  </a:lnTo>
                  <a:lnTo>
                    <a:pt x="257" y="1990"/>
                  </a:lnTo>
                  <a:lnTo>
                    <a:pt x="278" y="1969"/>
                  </a:lnTo>
                  <a:lnTo>
                    <a:pt x="300" y="1948"/>
                  </a:lnTo>
                  <a:lnTo>
                    <a:pt x="324" y="1927"/>
                  </a:lnTo>
                  <a:lnTo>
                    <a:pt x="346" y="1905"/>
                  </a:lnTo>
                  <a:lnTo>
                    <a:pt x="370" y="1884"/>
                  </a:lnTo>
                  <a:lnTo>
                    <a:pt x="401" y="1856"/>
                  </a:lnTo>
                  <a:lnTo>
                    <a:pt x="431" y="1829"/>
                  </a:lnTo>
                  <a:lnTo>
                    <a:pt x="462" y="1803"/>
                  </a:lnTo>
                  <a:lnTo>
                    <a:pt x="493" y="1776"/>
                  </a:lnTo>
                  <a:lnTo>
                    <a:pt x="525" y="1751"/>
                  </a:lnTo>
                  <a:lnTo>
                    <a:pt x="557" y="1724"/>
                  </a:lnTo>
                  <a:lnTo>
                    <a:pt x="589" y="1699"/>
                  </a:lnTo>
                  <a:lnTo>
                    <a:pt x="620" y="1674"/>
                  </a:lnTo>
                  <a:lnTo>
                    <a:pt x="653" y="1648"/>
                  </a:lnTo>
                  <a:lnTo>
                    <a:pt x="687" y="1625"/>
                  </a:lnTo>
                  <a:lnTo>
                    <a:pt x="720" y="1599"/>
                  </a:lnTo>
                  <a:lnTo>
                    <a:pt x="753" y="1574"/>
                  </a:lnTo>
                  <a:lnTo>
                    <a:pt x="787" y="1549"/>
                  </a:lnTo>
                  <a:lnTo>
                    <a:pt x="821" y="1525"/>
                  </a:lnTo>
                  <a:lnTo>
                    <a:pt x="855" y="1500"/>
                  </a:lnTo>
                  <a:lnTo>
                    <a:pt x="889" y="1475"/>
                  </a:lnTo>
                  <a:lnTo>
                    <a:pt x="905" y="1463"/>
                  </a:lnTo>
                  <a:lnTo>
                    <a:pt x="923" y="1451"/>
                  </a:lnTo>
                  <a:lnTo>
                    <a:pt x="941" y="1439"/>
                  </a:lnTo>
                  <a:lnTo>
                    <a:pt x="960" y="1427"/>
                  </a:lnTo>
                  <a:lnTo>
                    <a:pt x="981" y="1416"/>
                  </a:lnTo>
                  <a:lnTo>
                    <a:pt x="1000" y="1404"/>
                  </a:lnTo>
                  <a:lnTo>
                    <a:pt x="1021" y="1393"/>
                  </a:lnTo>
                  <a:lnTo>
                    <a:pt x="1042" y="1381"/>
                  </a:lnTo>
                  <a:lnTo>
                    <a:pt x="1064" y="1370"/>
                  </a:lnTo>
                  <a:lnTo>
                    <a:pt x="1085" y="1359"/>
                  </a:lnTo>
                  <a:lnTo>
                    <a:pt x="1107" y="1349"/>
                  </a:lnTo>
                  <a:lnTo>
                    <a:pt x="1128" y="1338"/>
                  </a:lnTo>
                  <a:lnTo>
                    <a:pt x="1150" y="1330"/>
                  </a:lnTo>
                  <a:lnTo>
                    <a:pt x="1171" y="1321"/>
                  </a:lnTo>
                  <a:lnTo>
                    <a:pt x="1192" y="1312"/>
                  </a:lnTo>
                  <a:lnTo>
                    <a:pt x="1213" y="1304"/>
                  </a:lnTo>
                  <a:lnTo>
                    <a:pt x="1193" y="1264"/>
                  </a:lnTo>
                  <a:lnTo>
                    <a:pt x="1174" y="1227"/>
                  </a:lnTo>
                  <a:lnTo>
                    <a:pt x="1153" y="1192"/>
                  </a:lnTo>
                  <a:lnTo>
                    <a:pt x="1134" y="1157"/>
                  </a:lnTo>
                  <a:lnTo>
                    <a:pt x="1115" y="1122"/>
                  </a:lnTo>
                  <a:lnTo>
                    <a:pt x="1100" y="1085"/>
                  </a:lnTo>
                  <a:lnTo>
                    <a:pt x="1086" y="1046"/>
                  </a:lnTo>
                  <a:lnTo>
                    <a:pt x="1078" y="1003"/>
                  </a:lnTo>
                  <a:lnTo>
                    <a:pt x="1072" y="957"/>
                  </a:lnTo>
                  <a:lnTo>
                    <a:pt x="1069" y="911"/>
                  </a:lnTo>
                  <a:lnTo>
                    <a:pt x="1069" y="864"/>
                  </a:lnTo>
                  <a:lnTo>
                    <a:pt x="1072" y="816"/>
                  </a:lnTo>
                  <a:lnTo>
                    <a:pt x="1078" y="770"/>
                  </a:lnTo>
                  <a:lnTo>
                    <a:pt x="1086" y="724"/>
                  </a:lnTo>
                  <a:lnTo>
                    <a:pt x="1100" y="678"/>
                  </a:lnTo>
                  <a:lnTo>
                    <a:pt x="1115" y="635"/>
                  </a:lnTo>
                  <a:lnTo>
                    <a:pt x="1128" y="603"/>
                  </a:lnTo>
                  <a:lnTo>
                    <a:pt x="1143" y="570"/>
                  </a:lnTo>
                  <a:lnTo>
                    <a:pt x="1158" y="536"/>
                  </a:lnTo>
                  <a:lnTo>
                    <a:pt x="1172" y="503"/>
                  </a:lnTo>
                  <a:lnTo>
                    <a:pt x="1189" y="471"/>
                  </a:lnTo>
                  <a:lnTo>
                    <a:pt x="1205" y="438"/>
                  </a:lnTo>
                  <a:lnTo>
                    <a:pt x="1223" y="407"/>
                  </a:lnTo>
                  <a:lnTo>
                    <a:pt x="1242" y="376"/>
                  </a:lnTo>
                  <a:lnTo>
                    <a:pt x="1262" y="345"/>
                  </a:lnTo>
                  <a:lnTo>
                    <a:pt x="1282" y="315"/>
                  </a:lnTo>
                  <a:lnTo>
                    <a:pt x="1303" y="285"/>
                  </a:lnTo>
                  <a:lnTo>
                    <a:pt x="1325" y="257"/>
                  </a:lnTo>
                  <a:lnTo>
                    <a:pt x="1349" y="230"/>
                  </a:lnTo>
                  <a:lnTo>
                    <a:pt x="1374" y="204"/>
                  </a:lnTo>
                  <a:lnTo>
                    <a:pt x="1400" y="180"/>
                  </a:lnTo>
                  <a:lnTo>
                    <a:pt x="1426" y="156"/>
                  </a:lnTo>
                  <a:lnTo>
                    <a:pt x="1450" y="138"/>
                  </a:lnTo>
                  <a:lnTo>
                    <a:pt x="1475" y="122"/>
                  </a:lnTo>
                  <a:lnTo>
                    <a:pt x="1500" y="106"/>
                  </a:lnTo>
                  <a:lnTo>
                    <a:pt x="1527" y="92"/>
                  </a:lnTo>
                  <a:lnTo>
                    <a:pt x="1555" y="79"/>
                  </a:lnTo>
                  <a:lnTo>
                    <a:pt x="1584" y="69"/>
                  </a:lnTo>
                  <a:lnTo>
                    <a:pt x="1613" y="58"/>
                  </a:lnTo>
                  <a:lnTo>
                    <a:pt x="1643" y="49"/>
                  </a:lnTo>
                  <a:lnTo>
                    <a:pt x="1673" y="40"/>
                  </a:lnTo>
                  <a:lnTo>
                    <a:pt x="1702" y="33"/>
                  </a:lnTo>
                  <a:lnTo>
                    <a:pt x="1733" y="27"/>
                  </a:lnTo>
                  <a:lnTo>
                    <a:pt x="1763" y="23"/>
                  </a:lnTo>
                  <a:lnTo>
                    <a:pt x="1794" y="18"/>
                  </a:lnTo>
                  <a:lnTo>
                    <a:pt x="1824" y="14"/>
                  </a:lnTo>
                  <a:lnTo>
                    <a:pt x="1855" y="12"/>
                  </a:lnTo>
                  <a:lnTo>
                    <a:pt x="1885" y="9"/>
                  </a:lnTo>
                  <a:lnTo>
                    <a:pt x="1916" y="8"/>
                  </a:lnTo>
                  <a:lnTo>
                    <a:pt x="1947" y="5"/>
                  </a:lnTo>
                  <a:lnTo>
                    <a:pt x="1975" y="3"/>
                  </a:lnTo>
                  <a:lnTo>
                    <a:pt x="2004" y="2"/>
                  </a:lnTo>
                  <a:lnTo>
                    <a:pt x="2032" y="0"/>
                  </a:lnTo>
                  <a:lnTo>
                    <a:pt x="2058" y="0"/>
                  </a:lnTo>
                  <a:lnTo>
                    <a:pt x="2084" y="0"/>
                  </a:lnTo>
                  <a:lnTo>
                    <a:pt x="2110" y="2"/>
                  </a:lnTo>
                  <a:lnTo>
                    <a:pt x="2136" y="5"/>
                  </a:lnTo>
                  <a:lnTo>
                    <a:pt x="2161" y="8"/>
                  </a:lnTo>
                  <a:lnTo>
                    <a:pt x="2186" y="14"/>
                  </a:lnTo>
                  <a:lnTo>
                    <a:pt x="2213" y="20"/>
                  </a:lnTo>
                  <a:lnTo>
                    <a:pt x="2238" y="27"/>
                  </a:lnTo>
                  <a:lnTo>
                    <a:pt x="2265" y="37"/>
                  </a:lnTo>
                  <a:lnTo>
                    <a:pt x="2293" y="48"/>
                  </a:lnTo>
                  <a:lnTo>
                    <a:pt x="2321" y="61"/>
                  </a:lnTo>
                  <a:lnTo>
                    <a:pt x="2345" y="73"/>
                  </a:lnTo>
                  <a:lnTo>
                    <a:pt x="2369" y="86"/>
                  </a:lnTo>
                  <a:lnTo>
                    <a:pt x="2391" y="101"/>
                  </a:lnTo>
                  <a:lnTo>
                    <a:pt x="2415" y="116"/>
                  </a:lnTo>
                  <a:lnTo>
                    <a:pt x="2437" y="132"/>
                  </a:lnTo>
                  <a:lnTo>
                    <a:pt x="2459" y="150"/>
                  </a:lnTo>
                  <a:lnTo>
                    <a:pt x="2480" y="168"/>
                  </a:lnTo>
                  <a:lnTo>
                    <a:pt x="2501" y="187"/>
                  </a:lnTo>
                  <a:lnTo>
                    <a:pt x="2520" y="208"/>
                  </a:lnTo>
                  <a:lnTo>
                    <a:pt x="2538" y="229"/>
                  </a:lnTo>
                  <a:lnTo>
                    <a:pt x="2554" y="251"/>
                  </a:lnTo>
                  <a:lnTo>
                    <a:pt x="2569" y="275"/>
                  </a:lnTo>
                  <a:lnTo>
                    <a:pt x="2582" y="299"/>
                  </a:lnTo>
                  <a:lnTo>
                    <a:pt x="2593" y="322"/>
                  </a:lnTo>
                  <a:lnTo>
                    <a:pt x="2602" y="348"/>
                  </a:lnTo>
                  <a:lnTo>
                    <a:pt x="2609" y="373"/>
                  </a:lnTo>
                  <a:lnTo>
                    <a:pt x="2622" y="429"/>
                  </a:lnTo>
                  <a:lnTo>
                    <a:pt x="2636" y="485"/>
                  </a:lnTo>
                  <a:lnTo>
                    <a:pt x="2649" y="543"/>
                  </a:lnTo>
                  <a:lnTo>
                    <a:pt x="2662" y="601"/>
                  </a:lnTo>
                  <a:lnTo>
                    <a:pt x="2673" y="658"/>
                  </a:lnTo>
                  <a:lnTo>
                    <a:pt x="2679" y="715"/>
                  </a:lnTo>
                  <a:lnTo>
                    <a:pt x="2680" y="773"/>
                  </a:lnTo>
                  <a:lnTo>
                    <a:pt x="2677" y="830"/>
                  </a:lnTo>
                  <a:lnTo>
                    <a:pt x="2670" y="884"/>
                  </a:lnTo>
                  <a:lnTo>
                    <a:pt x="2662" y="936"/>
                  </a:lnTo>
                  <a:lnTo>
                    <a:pt x="2653" y="988"/>
                  </a:lnTo>
                  <a:lnTo>
                    <a:pt x="2643" y="1039"/>
                  </a:lnTo>
                  <a:lnTo>
                    <a:pt x="2630" y="1089"/>
                  </a:lnTo>
                  <a:lnTo>
                    <a:pt x="2613" y="1138"/>
                  </a:lnTo>
                  <a:lnTo>
                    <a:pt x="2594" y="1187"/>
                  </a:lnTo>
                  <a:lnTo>
                    <a:pt x="2570" y="1236"/>
                  </a:lnTo>
                  <a:close/>
                </a:path>
              </a:pathLst>
            </a:custGeom>
            <a:solidFill>
              <a:srgbClr val="ffffff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967040" y="2657520"/>
              <a:ext cx="604800" cy="504720"/>
            </a:xfrm>
            <a:custGeom>
              <a:avLst/>
              <a:gdLst/>
              <a:ahLst/>
              <a:rect l="l" t="t" r="r" b="b"/>
              <a:pathLst>
                <a:path w="1552" h="1142">
                  <a:moveTo>
                    <a:pt x="1442" y="865"/>
                  </a:moveTo>
                  <a:lnTo>
                    <a:pt x="1442" y="782"/>
                  </a:lnTo>
                  <a:lnTo>
                    <a:pt x="1442" y="697"/>
                  </a:lnTo>
                  <a:lnTo>
                    <a:pt x="1442" y="613"/>
                  </a:lnTo>
                  <a:lnTo>
                    <a:pt x="1442" y="528"/>
                  </a:lnTo>
                  <a:lnTo>
                    <a:pt x="1444" y="461"/>
                  </a:lnTo>
                  <a:lnTo>
                    <a:pt x="1448" y="395"/>
                  </a:lnTo>
                  <a:lnTo>
                    <a:pt x="1456" y="328"/>
                  </a:lnTo>
                  <a:lnTo>
                    <a:pt x="1468" y="263"/>
                  </a:lnTo>
                  <a:lnTo>
                    <a:pt x="1483" y="197"/>
                  </a:lnTo>
                  <a:lnTo>
                    <a:pt x="1502" y="135"/>
                  </a:lnTo>
                  <a:lnTo>
                    <a:pt x="1524" y="73"/>
                  </a:lnTo>
                  <a:lnTo>
                    <a:pt x="1552" y="12"/>
                  </a:lnTo>
                  <a:lnTo>
                    <a:pt x="1539" y="8"/>
                  </a:lnTo>
                  <a:lnTo>
                    <a:pt x="1524" y="3"/>
                  </a:lnTo>
                  <a:lnTo>
                    <a:pt x="1508" y="2"/>
                  </a:lnTo>
                  <a:lnTo>
                    <a:pt x="1493" y="0"/>
                  </a:lnTo>
                  <a:lnTo>
                    <a:pt x="1477" y="0"/>
                  </a:lnTo>
                  <a:lnTo>
                    <a:pt x="1460" y="0"/>
                  </a:lnTo>
                  <a:lnTo>
                    <a:pt x="1444" y="2"/>
                  </a:lnTo>
                  <a:lnTo>
                    <a:pt x="1428" y="3"/>
                  </a:lnTo>
                  <a:lnTo>
                    <a:pt x="1385" y="9"/>
                  </a:lnTo>
                  <a:lnTo>
                    <a:pt x="1343" y="16"/>
                  </a:lnTo>
                  <a:lnTo>
                    <a:pt x="1300" y="24"/>
                  </a:lnTo>
                  <a:lnTo>
                    <a:pt x="1258" y="31"/>
                  </a:lnTo>
                  <a:lnTo>
                    <a:pt x="1215" y="40"/>
                  </a:lnTo>
                  <a:lnTo>
                    <a:pt x="1174" y="49"/>
                  </a:lnTo>
                  <a:lnTo>
                    <a:pt x="1132" y="58"/>
                  </a:lnTo>
                  <a:lnTo>
                    <a:pt x="1089" y="67"/>
                  </a:lnTo>
                  <a:lnTo>
                    <a:pt x="1048" y="77"/>
                  </a:lnTo>
                  <a:lnTo>
                    <a:pt x="1006" y="86"/>
                  </a:lnTo>
                  <a:lnTo>
                    <a:pt x="965" y="97"/>
                  </a:lnTo>
                  <a:lnTo>
                    <a:pt x="923" y="108"/>
                  </a:lnTo>
                  <a:lnTo>
                    <a:pt x="882" y="119"/>
                  </a:lnTo>
                  <a:lnTo>
                    <a:pt x="840" y="131"/>
                  </a:lnTo>
                  <a:lnTo>
                    <a:pt x="800" y="141"/>
                  </a:lnTo>
                  <a:lnTo>
                    <a:pt x="758" y="153"/>
                  </a:lnTo>
                  <a:lnTo>
                    <a:pt x="717" y="166"/>
                  </a:lnTo>
                  <a:lnTo>
                    <a:pt x="677" y="178"/>
                  </a:lnTo>
                  <a:lnTo>
                    <a:pt x="635" y="192"/>
                  </a:lnTo>
                  <a:lnTo>
                    <a:pt x="595" y="205"/>
                  </a:lnTo>
                  <a:lnTo>
                    <a:pt x="554" y="218"/>
                  </a:lnTo>
                  <a:lnTo>
                    <a:pt x="513" y="232"/>
                  </a:lnTo>
                  <a:lnTo>
                    <a:pt x="473" y="245"/>
                  </a:lnTo>
                  <a:lnTo>
                    <a:pt x="433" y="260"/>
                  </a:lnTo>
                  <a:lnTo>
                    <a:pt x="393" y="273"/>
                  </a:lnTo>
                  <a:lnTo>
                    <a:pt x="353" y="288"/>
                  </a:lnTo>
                  <a:lnTo>
                    <a:pt x="313" y="303"/>
                  </a:lnTo>
                  <a:lnTo>
                    <a:pt x="273" y="318"/>
                  </a:lnTo>
                  <a:lnTo>
                    <a:pt x="233" y="332"/>
                  </a:lnTo>
                  <a:lnTo>
                    <a:pt x="193" y="349"/>
                  </a:lnTo>
                  <a:lnTo>
                    <a:pt x="154" y="364"/>
                  </a:lnTo>
                  <a:lnTo>
                    <a:pt x="114" y="380"/>
                  </a:lnTo>
                  <a:lnTo>
                    <a:pt x="98" y="387"/>
                  </a:lnTo>
                  <a:lnTo>
                    <a:pt x="82" y="398"/>
                  </a:lnTo>
                  <a:lnTo>
                    <a:pt x="65" y="410"/>
                  </a:lnTo>
                  <a:lnTo>
                    <a:pt x="50" y="423"/>
                  </a:lnTo>
                  <a:lnTo>
                    <a:pt x="36" y="438"/>
                  </a:lnTo>
                  <a:lnTo>
                    <a:pt x="22" y="453"/>
                  </a:lnTo>
                  <a:lnTo>
                    <a:pt x="10" y="469"/>
                  </a:lnTo>
                  <a:lnTo>
                    <a:pt x="0" y="484"/>
                  </a:lnTo>
                  <a:lnTo>
                    <a:pt x="22" y="499"/>
                  </a:lnTo>
                  <a:lnTo>
                    <a:pt x="45" y="515"/>
                  </a:lnTo>
                  <a:lnTo>
                    <a:pt x="67" y="531"/>
                  </a:lnTo>
                  <a:lnTo>
                    <a:pt x="89" y="549"/>
                  </a:lnTo>
                  <a:lnTo>
                    <a:pt x="110" y="567"/>
                  </a:lnTo>
                  <a:lnTo>
                    <a:pt x="131" y="586"/>
                  </a:lnTo>
                  <a:lnTo>
                    <a:pt x="151" y="605"/>
                  </a:lnTo>
                  <a:lnTo>
                    <a:pt x="171" y="626"/>
                  </a:lnTo>
                  <a:lnTo>
                    <a:pt x="188" y="647"/>
                  </a:lnTo>
                  <a:lnTo>
                    <a:pt x="206" y="669"/>
                  </a:lnTo>
                  <a:lnTo>
                    <a:pt x="223" y="691"/>
                  </a:lnTo>
                  <a:lnTo>
                    <a:pt x="236" y="714"/>
                  </a:lnTo>
                  <a:lnTo>
                    <a:pt x="249" y="737"/>
                  </a:lnTo>
                  <a:lnTo>
                    <a:pt x="261" y="761"/>
                  </a:lnTo>
                  <a:lnTo>
                    <a:pt x="270" y="785"/>
                  </a:lnTo>
                  <a:lnTo>
                    <a:pt x="278" y="810"/>
                  </a:lnTo>
                  <a:lnTo>
                    <a:pt x="278" y="893"/>
                  </a:lnTo>
                  <a:lnTo>
                    <a:pt x="278" y="976"/>
                  </a:lnTo>
                  <a:lnTo>
                    <a:pt x="278" y="1059"/>
                  </a:lnTo>
                  <a:lnTo>
                    <a:pt x="278" y="1142"/>
                  </a:lnTo>
                  <a:lnTo>
                    <a:pt x="315" y="1133"/>
                  </a:lnTo>
                  <a:lnTo>
                    <a:pt x="350" y="1125"/>
                  </a:lnTo>
                  <a:lnTo>
                    <a:pt x="387" y="1116"/>
                  </a:lnTo>
                  <a:lnTo>
                    <a:pt x="423" y="1107"/>
                  </a:lnTo>
                  <a:lnTo>
                    <a:pt x="460" y="1099"/>
                  </a:lnTo>
                  <a:lnTo>
                    <a:pt x="496" y="1090"/>
                  </a:lnTo>
                  <a:lnTo>
                    <a:pt x="533" y="1082"/>
                  </a:lnTo>
                  <a:lnTo>
                    <a:pt x="568" y="1073"/>
                  </a:lnTo>
                  <a:lnTo>
                    <a:pt x="605" y="1064"/>
                  </a:lnTo>
                  <a:lnTo>
                    <a:pt x="643" y="1055"/>
                  </a:lnTo>
                  <a:lnTo>
                    <a:pt x="678" y="1046"/>
                  </a:lnTo>
                  <a:lnTo>
                    <a:pt x="715" y="1037"/>
                  </a:lnTo>
                  <a:lnTo>
                    <a:pt x="751" y="1030"/>
                  </a:lnTo>
                  <a:lnTo>
                    <a:pt x="788" y="1021"/>
                  </a:lnTo>
                  <a:lnTo>
                    <a:pt x="824" y="1012"/>
                  </a:lnTo>
                  <a:lnTo>
                    <a:pt x="861" y="1003"/>
                  </a:lnTo>
                  <a:lnTo>
                    <a:pt x="896" y="994"/>
                  </a:lnTo>
                  <a:lnTo>
                    <a:pt x="933" y="985"/>
                  </a:lnTo>
                  <a:lnTo>
                    <a:pt x="969" y="978"/>
                  </a:lnTo>
                  <a:lnTo>
                    <a:pt x="1006" y="969"/>
                  </a:lnTo>
                  <a:lnTo>
                    <a:pt x="1043" y="960"/>
                  </a:lnTo>
                  <a:lnTo>
                    <a:pt x="1079" y="951"/>
                  </a:lnTo>
                  <a:lnTo>
                    <a:pt x="1116" y="942"/>
                  </a:lnTo>
                  <a:lnTo>
                    <a:pt x="1152" y="935"/>
                  </a:lnTo>
                  <a:lnTo>
                    <a:pt x="1189" y="926"/>
                  </a:lnTo>
                  <a:lnTo>
                    <a:pt x="1224" y="917"/>
                  </a:lnTo>
                  <a:lnTo>
                    <a:pt x="1261" y="908"/>
                  </a:lnTo>
                  <a:lnTo>
                    <a:pt x="1297" y="899"/>
                  </a:lnTo>
                  <a:lnTo>
                    <a:pt x="1334" y="890"/>
                  </a:lnTo>
                  <a:lnTo>
                    <a:pt x="1370" y="883"/>
                  </a:lnTo>
                  <a:lnTo>
                    <a:pt x="1407" y="874"/>
                  </a:lnTo>
                  <a:lnTo>
                    <a:pt x="1442" y="865"/>
                  </a:lnTo>
                  <a:close/>
                </a:path>
              </a:pathLst>
            </a:custGeom>
            <a:solidFill>
              <a:srgbClr val="ccccff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075040" y="2890800"/>
              <a:ext cx="453960" cy="271440"/>
            </a:xfrm>
            <a:custGeom>
              <a:avLst/>
              <a:gdLst/>
              <a:ahLst/>
              <a:rect l="l" t="t" r="r" b="b"/>
              <a:pathLst>
                <a:path w="1164" h="614">
                  <a:moveTo>
                    <a:pt x="1164" y="337"/>
                  </a:moveTo>
                  <a:lnTo>
                    <a:pt x="1164" y="254"/>
                  </a:lnTo>
                  <a:lnTo>
                    <a:pt x="1164" y="169"/>
                  </a:lnTo>
                  <a:lnTo>
                    <a:pt x="1164" y="85"/>
                  </a:lnTo>
                  <a:lnTo>
                    <a:pt x="1164" y="0"/>
                  </a:lnTo>
                  <a:lnTo>
                    <a:pt x="1139" y="0"/>
                  </a:lnTo>
                  <a:lnTo>
                    <a:pt x="1113" y="0"/>
                  </a:lnTo>
                  <a:lnTo>
                    <a:pt x="1083" y="2"/>
                  </a:lnTo>
                  <a:lnTo>
                    <a:pt x="1053" y="5"/>
                  </a:lnTo>
                  <a:lnTo>
                    <a:pt x="1022" y="9"/>
                  </a:lnTo>
                  <a:lnTo>
                    <a:pt x="988" y="14"/>
                  </a:lnTo>
                  <a:lnTo>
                    <a:pt x="954" y="20"/>
                  </a:lnTo>
                  <a:lnTo>
                    <a:pt x="918" y="25"/>
                  </a:lnTo>
                  <a:lnTo>
                    <a:pt x="882" y="33"/>
                  </a:lnTo>
                  <a:lnTo>
                    <a:pt x="845" y="40"/>
                  </a:lnTo>
                  <a:lnTo>
                    <a:pt x="807" y="49"/>
                  </a:lnTo>
                  <a:lnTo>
                    <a:pt x="768" y="58"/>
                  </a:lnTo>
                  <a:lnTo>
                    <a:pt x="730" y="67"/>
                  </a:lnTo>
                  <a:lnTo>
                    <a:pt x="690" y="77"/>
                  </a:lnTo>
                  <a:lnTo>
                    <a:pt x="648" y="88"/>
                  </a:lnTo>
                  <a:lnTo>
                    <a:pt x="608" y="98"/>
                  </a:lnTo>
                  <a:lnTo>
                    <a:pt x="568" y="110"/>
                  </a:lnTo>
                  <a:lnTo>
                    <a:pt x="526" y="120"/>
                  </a:lnTo>
                  <a:lnTo>
                    <a:pt x="485" y="132"/>
                  </a:lnTo>
                  <a:lnTo>
                    <a:pt x="445" y="144"/>
                  </a:lnTo>
                  <a:lnTo>
                    <a:pt x="405" y="156"/>
                  </a:lnTo>
                  <a:lnTo>
                    <a:pt x="363" y="169"/>
                  </a:lnTo>
                  <a:lnTo>
                    <a:pt x="325" y="181"/>
                  </a:lnTo>
                  <a:lnTo>
                    <a:pt x="284" y="193"/>
                  </a:lnTo>
                  <a:lnTo>
                    <a:pt x="246" y="205"/>
                  </a:lnTo>
                  <a:lnTo>
                    <a:pt x="207" y="217"/>
                  </a:lnTo>
                  <a:lnTo>
                    <a:pt x="170" y="229"/>
                  </a:lnTo>
                  <a:lnTo>
                    <a:pt x="135" y="239"/>
                  </a:lnTo>
                  <a:lnTo>
                    <a:pt x="99" y="251"/>
                  </a:lnTo>
                  <a:lnTo>
                    <a:pt x="65" y="261"/>
                  </a:lnTo>
                  <a:lnTo>
                    <a:pt x="31" y="272"/>
                  </a:lnTo>
                  <a:lnTo>
                    <a:pt x="0" y="282"/>
                  </a:lnTo>
                  <a:lnTo>
                    <a:pt x="0" y="365"/>
                  </a:lnTo>
                  <a:lnTo>
                    <a:pt x="0" y="448"/>
                  </a:lnTo>
                  <a:lnTo>
                    <a:pt x="0" y="531"/>
                  </a:lnTo>
                  <a:lnTo>
                    <a:pt x="0" y="614"/>
                  </a:lnTo>
                  <a:lnTo>
                    <a:pt x="37" y="605"/>
                  </a:lnTo>
                  <a:lnTo>
                    <a:pt x="72" y="597"/>
                  </a:lnTo>
                  <a:lnTo>
                    <a:pt x="109" y="588"/>
                  </a:lnTo>
                  <a:lnTo>
                    <a:pt x="145" y="579"/>
                  </a:lnTo>
                  <a:lnTo>
                    <a:pt x="182" y="571"/>
                  </a:lnTo>
                  <a:lnTo>
                    <a:pt x="218" y="562"/>
                  </a:lnTo>
                  <a:lnTo>
                    <a:pt x="255" y="554"/>
                  </a:lnTo>
                  <a:lnTo>
                    <a:pt x="290" y="545"/>
                  </a:lnTo>
                  <a:lnTo>
                    <a:pt x="327" y="536"/>
                  </a:lnTo>
                  <a:lnTo>
                    <a:pt x="365" y="527"/>
                  </a:lnTo>
                  <a:lnTo>
                    <a:pt x="400" y="518"/>
                  </a:lnTo>
                  <a:lnTo>
                    <a:pt x="437" y="509"/>
                  </a:lnTo>
                  <a:lnTo>
                    <a:pt x="473" y="502"/>
                  </a:lnTo>
                  <a:lnTo>
                    <a:pt x="510" y="493"/>
                  </a:lnTo>
                  <a:lnTo>
                    <a:pt x="546" y="484"/>
                  </a:lnTo>
                  <a:lnTo>
                    <a:pt x="583" y="475"/>
                  </a:lnTo>
                  <a:lnTo>
                    <a:pt x="618" y="466"/>
                  </a:lnTo>
                  <a:lnTo>
                    <a:pt x="655" y="457"/>
                  </a:lnTo>
                  <a:lnTo>
                    <a:pt x="691" y="450"/>
                  </a:lnTo>
                  <a:lnTo>
                    <a:pt x="728" y="441"/>
                  </a:lnTo>
                  <a:lnTo>
                    <a:pt x="765" y="432"/>
                  </a:lnTo>
                  <a:lnTo>
                    <a:pt x="801" y="423"/>
                  </a:lnTo>
                  <a:lnTo>
                    <a:pt x="838" y="414"/>
                  </a:lnTo>
                  <a:lnTo>
                    <a:pt x="874" y="407"/>
                  </a:lnTo>
                  <a:lnTo>
                    <a:pt x="911" y="398"/>
                  </a:lnTo>
                  <a:lnTo>
                    <a:pt x="946" y="389"/>
                  </a:lnTo>
                  <a:lnTo>
                    <a:pt x="983" y="380"/>
                  </a:lnTo>
                  <a:lnTo>
                    <a:pt x="1019" y="371"/>
                  </a:lnTo>
                  <a:lnTo>
                    <a:pt x="1056" y="362"/>
                  </a:lnTo>
                  <a:lnTo>
                    <a:pt x="1092" y="355"/>
                  </a:lnTo>
                  <a:lnTo>
                    <a:pt x="1129" y="346"/>
                  </a:lnTo>
                  <a:lnTo>
                    <a:pt x="1164" y="337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973160" y="3000240"/>
              <a:ext cx="676440" cy="270000"/>
            </a:xfrm>
            <a:custGeom>
              <a:avLst/>
              <a:gdLst/>
              <a:ahLst/>
              <a:rect l="l" t="t" r="r" b="b"/>
              <a:pathLst>
                <a:path w="1734" h="610">
                  <a:moveTo>
                    <a:pt x="1720" y="0"/>
                  </a:moveTo>
                  <a:lnTo>
                    <a:pt x="1729" y="39"/>
                  </a:lnTo>
                  <a:lnTo>
                    <a:pt x="1732" y="86"/>
                  </a:lnTo>
                  <a:lnTo>
                    <a:pt x="1734" y="136"/>
                  </a:lnTo>
                  <a:lnTo>
                    <a:pt x="1731" y="184"/>
                  </a:lnTo>
                  <a:lnTo>
                    <a:pt x="1679" y="197"/>
                  </a:lnTo>
                  <a:lnTo>
                    <a:pt x="1628" y="211"/>
                  </a:lnTo>
                  <a:lnTo>
                    <a:pt x="1576" y="222"/>
                  </a:lnTo>
                  <a:lnTo>
                    <a:pt x="1524" y="236"/>
                  </a:lnTo>
                  <a:lnTo>
                    <a:pt x="1474" y="249"/>
                  </a:lnTo>
                  <a:lnTo>
                    <a:pt x="1422" y="263"/>
                  </a:lnTo>
                  <a:lnTo>
                    <a:pt x="1370" y="276"/>
                  </a:lnTo>
                  <a:lnTo>
                    <a:pt x="1320" y="289"/>
                  </a:lnTo>
                  <a:lnTo>
                    <a:pt x="1268" y="303"/>
                  </a:lnTo>
                  <a:lnTo>
                    <a:pt x="1216" y="316"/>
                  </a:lnTo>
                  <a:lnTo>
                    <a:pt x="1164" y="329"/>
                  </a:lnTo>
                  <a:lnTo>
                    <a:pt x="1113" y="343"/>
                  </a:lnTo>
                  <a:lnTo>
                    <a:pt x="1061" y="356"/>
                  </a:lnTo>
                  <a:lnTo>
                    <a:pt x="1009" y="369"/>
                  </a:lnTo>
                  <a:lnTo>
                    <a:pt x="957" y="383"/>
                  </a:lnTo>
                  <a:lnTo>
                    <a:pt x="906" y="396"/>
                  </a:lnTo>
                  <a:lnTo>
                    <a:pt x="855" y="409"/>
                  </a:lnTo>
                  <a:lnTo>
                    <a:pt x="803" y="423"/>
                  </a:lnTo>
                  <a:lnTo>
                    <a:pt x="751" y="436"/>
                  </a:lnTo>
                  <a:lnTo>
                    <a:pt x="699" y="449"/>
                  </a:lnTo>
                  <a:lnTo>
                    <a:pt x="647" y="463"/>
                  </a:lnTo>
                  <a:lnTo>
                    <a:pt x="597" y="478"/>
                  </a:lnTo>
                  <a:lnTo>
                    <a:pt x="545" y="491"/>
                  </a:lnTo>
                  <a:lnTo>
                    <a:pt x="493" y="504"/>
                  </a:lnTo>
                  <a:lnTo>
                    <a:pt x="441" y="518"/>
                  </a:lnTo>
                  <a:lnTo>
                    <a:pt x="389" y="531"/>
                  </a:lnTo>
                  <a:lnTo>
                    <a:pt x="339" y="544"/>
                  </a:lnTo>
                  <a:lnTo>
                    <a:pt x="287" y="556"/>
                  </a:lnTo>
                  <a:lnTo>
                    <a:pt x="235" y="570"/>
                  </a:lnTo>
                  <a:lnTo>
                    <a:pt x="183" y="583"/>
                  </a:lnTo>
                  <a:lnTo>
                    <a:pt x="132" y="596"/>
                  </a:lnTo>
                  <a:lnTo>
                    <a:pt x="80" y="610"/>
                  </a:lnTo>
                  <a:lnTo>
                    <a:pt x="64" y="590"/>
                  </a:lnTo>
                  <a:lnTo>
                    <a:pt x="49" y="567"/>
                  </a:lnTo>
                  <a:lnTo>
                    <a:pt x="36" y="541"/>
                  </a:lnTo>
                  <a:lnTo>
                    <a:pt x="24" y="512"/>
                  </a:lnTo>
                  <a:lnTo>
                    <a:pt x="14" y="482"/>
                  </a:lnTo>
                  <a:lnTo>
                    <a:pt x="6" y="452"/>
                  </a:lnTo>
                  <a:lnTo>
                    <a:pt x="2" y="423"/>
                  </a:lnTo>
                  <a:lnTo>
                    <a:pt x="0" y="396"/>
                  </a:lnTo>
                  <a:lnTo>
                    <a:pt x="52" y="383"/>
                  </a:lnTo>
                  <a:lnTo>
                    <a:pt x="103" y="368"/>
                  </a:lnTo>
                  <a:lnTo>
                    <a:pt x="155" y="354"/>
                  </a:lnTo>
                  <a:lnTo>
                    <a:pt x="207" y="340"/>
                  </a:lnTo>
                  <a:lnTo>
                    <a:pt x="259" y="326"/>
                  </a:lnTo>
                  <a:lnTo>
                    <a:pt x="312" y="311"/>
                  </a:lnTo>
                  <a:lnTo>
                    <a:pt x="364" y="297"/>
                  </a:lnTo>
                  <a:lnTo>
                    <a:pt x="417" y="282"/>
                  </a:lnTo>
                  <a:lnTo>
                    <a:pt x="471" y="267"/>
                  </a:lnTo>
                  <a:lnTo>
                    <a:pt x="524" y="252"/>
                  </a:lnTo>
                  <a:lnTo>
                    <a:pt x="578" y="237"/>
                  </a:lnTo>
                  <a:lnTo>
                    <a:pt x="631" y="222"/>
                  </a:lnTo>
                  <a:lnTo>
                    <a:pt x="686" y="209"/>
                  </a:lnTo>
                  <a:lnTo>
                    <a:pt x="739" y="194"/>
                  </a:lnTo>
                  <a:lnTo>
                    <a:pt x="794" y="181"/>
                  </a:lnTo>
                  <a:lnTo>
                    <a:pt x="848" y="166"/>
                  </a:lnTo>
                  <a:lnTo>
                    <a:pt x="903" y="153"/>
                  </a:lnTo>
                  <a:lnTo>
                    <a:pt x="957" y="139"/>
                  </a:lnTo>
                  <a:lnTo>
                    <a:pt x="1011" y="126"/>
                  </a:lnTo>
                  <a:lnTo>
                    <a:pt x="1066" y="113"/>
                  </a:lnTo>
                  <a:lnTo>
                    <a:pt x="1121" y="101"/>
                  </a:lnTo>
                  <a:lnTo>
                    <a:pt x="1176" y="89"/>
                  </a:lnTo>
                  <a:lnTo>
                    <a:pt x="1231" y="77"/>
                  </a:lnTo>
                  <a:lnTo>
                    <a:pt x="1284" y="67"/>
                  </a:lnTo>
                  <a:lnTo>
                    <a:pt x="1339" y="56"/>
                  </a:lnTo>
                  <a:lnTo>
                    <a:pt x="1394" y="46"/>
                  </a:lnTo>
                  <a:lnTo>
                    <a:pt x="1449" y="37"/>
                  </a:lnTo>
                  <a:lnTo>
                    <a:pt x="1504" y="28"/>
                  </a:lnTo>
                  <a:lnTo>
                    <a:pt x="1557" y="21"/>
                  </a:lnTo>
                  <a:lnTo>
                    <a:pt x="1612" y="13"/>
                  </a:lnTo>
                  <a:lnTo>
                    <a:pt x="1665" y="6"/>
                  </a:lnTo>
                  <a:lnTo>
                    <a:pt x="1720" y="0"/>
                  </a:lnTo>
                  <a:close/>
                </a:path>
              </a:pathLst>
            </a:custGeom>
            <a:solidFill>
              <a:srgbClr val="ccccff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490840" y="3287880"/>
              <a:ext cx="295200" cy="177480"/>
            </a:xfrm>
            <a:custGeom>
              <a:avLst/>
              <a:gdLst/>
              <a:ahLst/>
              <a:rect l="l" t="t" r="r" b="b"/>
              <a:pathLst>
                <a:path w="755" h="401">
                  <a:moveTo>
                    <a:pt x="755" y="62"/>
                  </a:moveTo>
                  <a:lnTo>
                    <a:pt x="712" y="49"/>
                  </a:lnTo>
                  <a:lnTo>
                    <a:pt x="670" y="39"/>
                  </a:lnTo>
                  <a:lnTo>
                    <a:pt x="627" y="28"/>
                  </a:lnTo>
                  <a:lnTo>
                    <a:pt x="584" y="19"/>
                  </a:lnTo>
                  <a:lnTo>
                    <a:pt x="543" y="14"/>
                  </a:lnTo>
                  <a:lnTo>
                    <a:pt x="501" y="8"/>
                  </a:lnTo>
                  <a:lnTo>
                    <a:pt x="458" y="5"/>
                  </a:lnTo>
                  <a:lnTo>
                    <a:pt x="416" y="2"/>
                  </a:lnTo>
                  <a:lnTo>
                    <a:pt x="375" y="0"/>
                  </a:lnTo>
                  <a:lnTo>
                    <a:pt x="333" y="0"/>
                  </a:lnTo>
                  <a:lnTo>
                    <a:pt x="293" y="2"/>
                  </a:lnTo>
                  <a:lnTo>
                    <a:pt x="252" y="5"/>
                  </a:lnTo>
                  <a:lnTo>
                    <a:pt x="212" y="8"/>
                  </a:lnTo>
                  <a:lnTo>
                    <a:pt x="172" y="12"/>
                  </a:lnTo>
                  <a:lnTo>
                    <a:pt x="132" y="18"/>
                  </a:lnTo>
                  <a:lnTo>
                    <a:pt x="93" y="24"/>
                  </a:lnTo>
                  <a:lnTo>
                    <a:pt x="69" y="40"/>
                  </a:lnTo>
                  <a:lnTo>
                    <a:pt x="48" y="61"/>
                  </a:lnTo>
                  <a:lnTo>
                    <a:pt x="32" y="85"/>
                  </a:lnTo>
                  <a:lnTo>
                    <a:pt x="20" y="110"/>
                  </a:lnTo>
                  <a:lnTo>
                    <a:pt x="10" y="137"/>
                  </a:lnTo>
                  <a:lnTo>
                    <a:pt x="4" y="165"/>
                  </a:lnTo>
                  <a:lnTo>
                    <a:pt x="0" y="193"/>
                  </a:lnTo>
                  <a:lnTo>
                    <a:pt x="0" y="221"/>
                  </a:lnTo>
                  <a:lnTo>
                    <a:pt x="2" y="248"/>
                  </a:lnTo>
                  <a:lnTo>
                    <a:pt x="8" y="275"/>
                  </a:lnTo>
                  <a:lnTo>
                    <a:pt x="19" y="301"/>
                  </a:lnTo>
                  <a:lnTo>
                    <a:pt x="32" y="326"/>
                  </a:lnTo>
                  <a:lnTo>
                    <a:pt x="47" y="349"/>
                  </a:lnTo>
                  <a:lnTo>
                    <a:pt x="66" y="370"/>
                  </a:lnTo>
                  <a:lnTo>
                    <a:pt x="89" y="387"/>
                  </a:lnTo>
                  <a:lnTo>
                    <a:pt x="112" y="401"/>
                  </a:lnTo>
                  <a:lnTo>
                    <a:pt x="161" y="386"/>
                  </a:lnTo>
                  <a:lnTo>
                    <a:pt x="209" y="371"/>
                  </a:lnTo>
                  <a:lnTo>
                    <a:pt x="256" y="356"/>
                  </a:lnTo>
                  <a:lnTo>
                    <a:pt x="304" y="340"/>
                  </a:lnTo>
                  <a:lnTo>
                    <a:pt x="350" y="322"/>
                  </a:lnTo>
                  <a:lnTo>
                    <a:pt x="396" y="304"/>
                  </a:lnTo>
                  <a:lnTo>
                    <a:pt x="440" y="285"/>
                  </a:lnTo>
                  <a:lnTo>
                    <a:pt x="483" y="266"/>
                  </a:lnTo>
                  <a:lnTo>
                    <a:pt x="523" y="245"/>
                  </a:lnTo>
                  <a:lnTo>
                    <a:pt x="563" y="223"/>
                  </a:lnTo>
                  <a:lnTo>
                    <a:pt x="602" y="199"/>
                  </a:lnTo>
                  <a:lnTo>
                    <a:pt x="638" y="174"/>
                  </a:lnTo>
                  <a:lnTo>
                    <a:pt x="670" y="148"/>
                  </a:lnTo>
                  <a:lnTo>
                    <a:pt x="701" y="122"/>
                  </a:lnTo>
                  <a:lnTo>
                    <a:pt x="730" y="92"/>
                  </a:lnTo>
                  <a:lnTo>
                    <a:pt x="755" y="62"/>
                  </a:lnTo>
                  <a:close/>
                </a:path>
              </a:pathLst>
            </a:custGeom>
            <a:solidFill>
              <a:srgbClr val="ff66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422440" y="3500280"/>
              <a:ext cx="150840" cy="41400"/>
            </a:xfrm>
            <a:custGeom>
              <a:avLst/>
              <a:gdLst/>
              <a:ahLst/>
              <a:rect l="l" t="t" r="r" b="b"/>
              <a:pathLst>
                <a:path w="386" h="95">
                  <a:moveTo>
                    <a:pt x="386" y="0"/>
                  </a:moveTo>
                  <a:lnTo>
                    <a:pt x="362" y="23"/>
                  </a:lnTo>
                  <a:lnTo>
                    <a:pt x="338" y="42"/>
                  </a:lnTo>
                  <a:lnTo>
                    <a:pt x="313" y="58"/>
                  </a:lnTo>
                  <a:lnTo>
                    <a:pt x="289" y="71"/>
                  </a:lnTo>
                  <a:lnTo>
                    <a:pt x="264" y="80"/>
                  </a:lnTo>
                  <a:lnTo>
                    <a:pt x="237" y="88"/>
                  </a:lnTo>
                  <a:lnTo>
                    <a:pt x="211" y="92"/>
                  </a:lnTo>
                  <a:lnTo>
                    <a:pt x="184" y="95"/>
                  </a:lnTo>
                  <a:lnTo>
                    <a:pt x="159" y="95"/>
                  </a:lnTo>
                  <a:lnTo>
                    <a:pt x="135" y="92"/>
                  </a:lnTo>
                  <a:lnTo>
                    <a:pt x="110" y="86"/>
                  </a:lnTo>
                  <a:lnTo>
                    <a:pt x="86" y="77"/>
                  </a:lnTo>
                  <a:lnTo>
                    <a:pt x="64" y="66"/>
                  </a:lnTo>
                  <a:lnTo>
                    <a:pt x="41" y="51"/>
                  </a:lnTo>
                  <a:lnTo>
                    <a:pt x="19" y="34"/>
                  </a:lnTo>
                  <a:lnTo>
                    <a:pt x="0" y="15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2470320" y="3213000"/>
              <a:ext cx="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2568600" y="3191040"/>
              <a:ext cx="0" cy="48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 flipH="1">
              <a:off x="2376000" y="4195800"/>
              <a:ext cx="1800" cy="93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2422440" y="4195800"/>
              <a:ext cx="0" cy="112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446200" y="4187880"/>
              <a:ext cx="1800" cy="112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484360" y="4186080"/>
              <a:ext cx="0" cy="122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523960" y="4173480"/>
              <a:ext cx="0" cy="130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1932120" y="3522600"/>
              <a:ext cx="761760" cy="247680"/>
            </a:xfrm>
            <a:custGeom>
              <a:avLst/>
              <a:gdLst/>
              <a:ahLst/>
              <a:rect l="l" t="t" r="r" b="b"/>
              <a:pathLst>
                <a:path w="1953" h="561">
                  <a:moveTo>
                    <a:pt x="1777" y="0"/>
                  </a:moveTo>
                  <a:lnTo>
                    <a:pt x="1763" y="28"/>
                  </a:lnTo>
                  <a:lnTo>
                    <a:pt x="1750" y="54"/>
                  </a:lnTo>
                  <a:lnTo>
                    <a:pt x="1735" y="77"/>
                  </a:lnTo>
                  <a:lnTo>
                    <a:pt x="1719" y="98"/>
                  </a:lnTo>
                  <a:lnTo>
                    <a:pt x="1703" y="117"/>
                  </a:lnTo>
                  <a:lnTo>
                    <a:pt x="1683" y="135"/>
                  </a:lnTo>
                  <a:lnTo>
                    <a:pt x="1663" y="150"/>
                  </a:lnTo>
                  <a:lnTo>
                    <a:pt x="1642" y="165"/>
                  </a:lnTo>
                  <a:lnTo>
                    <a:pt x="1617" y="180"/>
                  </a:lnTo>
                  <a:lnTo>
                    <a:pt x="1588" y="192"/>
                  </a:lnTo>
                  <a:lnTo>
                    <a:pt x="1560" y="200"/>
                  </a:lnTo>
                  <a:lnTo>
                    <a:pt x="1530" y="209"/>
                  </a:lnTo>
                  <a:lnTo>
                    <a:pt x="1501" y="215"/>
                  </a:lnTo>
                  <a:lnTo>
                    <a:pt x="1470" y="223"/>
                  </a:lnTo>
                  <a:lnTo>
                    <a:pt x="1438" y="227"/>
                  </a:lnTo>
                  <a:lnTo>
                    <a:pt x="1409" y="233"/>
                  </a:lnTo>
                  <a:lnTo>
                    <a:pt x="1389" y="238"/>
                  </a:lnTo>
                  <a:lnTo>
                    <a:pt x="1370" y="241"/>
                  </a:lnTo>
                  <a:lnTo>
                    <a:pt x="1349" y="245"/>
                  </a:lnTo>
                  <a:lnTo>
                    <a:pt x="1330" y="248"/>
                  </a:lnTo>
                  <a:lnTo>
                    <a:pt x="1311" y="252"/>
                  </a:lnTo>
                  <a:lnTo>
                    <a:pt x="1292" y="255"/>
                  </a:lnTo>
                  <a:lnTo>
                    <a:pt x="1271" y="258"/>
                  </a:lnTo>
                  <a:lnTo>
                    <a:pt x="1251" y="261"/>
                  </a:lnTo>
                  <a:lnTo>
                    <a:pt x="1232" y="264"/>
                  </a:lnTo>
                  <a:lnTo>
                    <a:pt x="1211" y="267"/>
                  </a:lnTo>
                  <a:lnTo>
                    <a:pt x="1192" y="269"/>
                  </a:lnTo>
                  <a:lnTo>
                    <a:pt x="1171" y="270"/>
                  </a:lnTo>
                  <a:lnTo>
                    <a:pt x="1152" y="272"/>
                  </a:lnTo>
                  <a:lnTo>
                    <a:pt x="1133" y="273"/>
                  </a:lnTo>
                  <a:lnTo>
                    <a:pt x="1112" y="273"/>
                  </a:lnTo>
                  <a:lnTo>
                    <a:pt x="1093" y="273"/>
                  </a:lnTo>
                  <a:lnTo>
                    <a:pt x="1067" y="272"/>
                  </a:lnTo>
                  <a:lnTo>
                    <a:pt x="1041" y="272"/>
                  </a:lnTo>
                  <a:lnTo>
                    <a:pt x="1016" y="270"/>
                  </a:lnTo>
                  <a:lnTo>
                    <a:pt x="989" y="267"/>
                  </a:lnTo>
                  <a:lnTo>
                    <a:pt x="962" y="264"/>
                  </a:lnTo>
                  <a:lnTo>
                    <a:pt x="937" y="263"/>
                  </a:lnTo>
                  <a:lnTo>
                    <a:pt x="910" y="258"/>
                  </a:lnTo>
                  <a:lnTo>
                    <a:pt x="885" y="255"/>
                  </a:lnTo>
                  <a:lnTo>
                    <a:pt x="858" y="251"/>
                  </a:lnTo>
                  <a:lnTo>
                    <a:pt x="833" y="246"/>
                  </a:lnTo>
                  <a:lnTo>
                    <a:pt x="806" y="242"/>
                  </a:lnTo>
                  <a:lnTo>
                    <a:pt x="781" y="238"/>
                  </a:lnTo>
                  <a:lnTo>
                    <a:pt x="756" y="233"/>
                  </a:lnTo>
                  <a:lnTo>
                    <a:pt x="729" y="227"/>
                  </a:lnTo>
                  <a:lnTo>
                    <a:pt x="704" y="221"/>
                  </a:lnTo>
                  <a:lnTo>
                    <a:pt x="679" y="215"/>
                  </a:lnTo>
                  <a:lnTo>
                    <a:pt x="653" y="209"/>
                  </a:lnTo>
                  <a:lnTo>
                    <a:pt x="627" y="203"/>
                  </a:lnTo>
                  <a:lnTo>
                    <a:pt x="600" y="196"/>
                  </a:lnTo>
                  <a:lnTo>
                    <a:pt x="575" y="190"/>
                  </a:lnTo>
                  <a:lnTo>
                    <a:pt x="548" y="183"/>
                  </a:lnTo>
                  <a:lnTo>
                    <a:pt x="521" y="175"/>
                  </a:lnTo>
                  <a:lnTo>
                    <a:pt x="496" y="168"/>
                  </a:lnTo>
                  <a:lnTo>
                    <a:pt x="469" y="160"/>
                  </a:lnTo>
                  <a:lnTo>
                    <a:pt x="444" y="152"/>
                  </a:lnTo>
                  <a:lnTo>
                    <a:pt x="419" y="143"/>
                  </a:lnTo>
                  <a:lnTo>
                    <a:pt x="394" y="132"/>
                  </a:lnTo>
                  <a:lnTo>
                    <a:pt x="368" y="122"/>
                  </a:lnTo>
                  <a:lnTo>
                    <a:pt x="345" y="111"/>
                  </a:lnTo>
                  <a:lnTo>
                    <a:pt x="322" y="100"/>
                  </a:lnTo>
                  <a:lnTo>
                    <a:pt x="300" y="88"/>
                  </a:lnTo>
                  <a:lnTo>
                    <a:pt x="278" y="74"/>
                  </a:lnTo>
                  <a:lnTo>
                    <a:pt x="251" y="89"/>
                  </a:lnTo>
                  <a:lnTo>
                    <a:pt x="226" y="104"/>
                  </a:lnTo>
                  <a:lnTo>
                    <a:pt x="202" y="122"/>
                  </a:lnTo>
                  <a:lnTo>
                    <a:pt x="180" y="140"/>
                  </a:lnTo>
                  <a:lnTo>
                    <a:pt x="159" y="157"/>
                  </a:lnTo>
                  <a:lnTo>
                    <a:pt x="140" y="178"/>
                  </a:lnTo>
                  <a:lnTo>
                    <a:pt x="122" y="199"/>
                  </a:lnTo>
                  <a:lnTo>
                    <a:pt x="106" y="220"/>
                  </a:lnTo>
                  <a:lnTo>
                    <a:pt x="90" y="242"/>
                  </a:lnTo>
                  <a:lnTo>
                    <a:pt x="75" y="266"/>
                  </a:lnTo>
                  <a:lnTo>
                    <a:pt x="60" y="288"/>
                  </a:lnTo>
                  <a:lnTo>
                    <a:pt x="46" y="312"/>
                  </a:lnTo>
                  <a:lnTo>
                    <a:pt x="35" y="337"/>
                  </a:lnTo>
                  <a:lnTo>
                    <a:pt x="23" y="361"/>
                  </a:lnTo>
                  <a:lnTo>
                    <a:pt x="11" y="384"/>
                  </a:lnTo>
                  <a:lnTo>
                    <a:pt x="0" y="410"/>
                  </a:lnTo>
                  <a:lnTo>
                    <a:pt x="30" y="421"/>
                  </a:lnTo>
                  <a:lnTo>
                    <a:pt x="61" y="433"/>
                  </a:lnTo>
                  <a:lnTo>
                    <a:pt x="91" y="445"/>
                  </a:lnTo>
                  <a:lnTo>
                    <a:pt x="122" y="454"/>
                  </a:lnTo>
                  <a:lnTo>
                    <a:pt x="153" y="464"/>
                  </a:lnTo>
                  <a:lnTo>
                    <a:pt x="184" y="473"/>
                  </a:lnTo>
                  <a:lnTo>
                    <a:pt x="216" y="481"/>
                  </a:lnTo>
                  <a:lnTo>
                    <a:pt x="248" y="490"/>
                  </a:lnTo>
                  <a:lnTo>
                    <a:pt x="279" y="496"/>
                  </a:lnTo>
                  <a:lnTo>
                    <a:pt x="311" y="503"/>
                  </a:lnTo>
                  <a:lnTo>
                    <a:pt x="343" y="509"/>
                  </a:lnTo>
                  <a:lnTo>
                    <a:pt x="376" y="515"/>
                  </a:lnTo>
                  <a:lnTo>
                    <a:pt x="407" y="521"/>
                  </a:lnTo>
                  <a:lnTo>
                    <a:pt x="440" y="525"/>
                  </a:lnTo>
                  <a:lnTo>
                    <a:pt x="471" y="530"/>
                  </a:lnTo>
                  <a:lnTo>
                    <a:pt x="504" y="534"/>
                  </a:lnTo>
                  <a:lnTo>
                    <a:pt x="539" y="539"/>
                  </a:lnTo>
                  <a:lnTo>
                    <a:pt x="576" y="543"/>
                  </a:lnTo>
                  <a:lnTo>
                    <a:pt x="612" y="546"/>
                  </a:lnTo>
                  <a:lnTo>
                    <a:pt x="649" y="549"/>
                  </a:lnTo>
                  <a:lnTo>
                    <a:pt x="685" y="552"/>
                  </a:lnTo>
                  <a:lnTo>
                    <a:pt x="722" y="555"/>
                  </a:lnTo>
                  <a:lnTo>
                    <a:pt x="757" y="556"/>
                  </a:lnTo>
                  <a:lnTo>
                    <a:pt x="794" y="558"/>
                  </a:lnTo>
                  <a:lnTo>
                    <a:pt x="831" y="559"/>
                  </a:lnTo>
                  <a:lnTo>
                    <a:pt x="869" y="561"/>
                  </a:lnTo>
                  <a:lnTo>
                    <a:pt x="904" y="561"/>
                  </a:lnTo>
                  <a:lnTo>
                    <a:pt x="941" y="561"/>
                  </a:lnTo>
                  <a:lnTo>
                    <a:pt x="978" y="561"/>
                  </a:lnTo>
                  <a:lnTo>
                    <a:pt x="1014" y="559"/>
                  </a:lnTo>
                  <a:lnTo>
                    <a:pt x="1051" y="558"/>
                  </a:lnTo>
                  <a:lnTo>
                    <a:pt x="1087" y="556"/>
                  </a:lnTo>
                  <a:lnTo>
                    <a:pt x="1121" y="555"/>
                  </a:lnTo>
                  <a:lnTo>
                    <a:pt x="1155" y="552"/>
                  </a:lnTo>
                  <a:lnTo>
                    <a:pt x="1189" y="549"/>
                  </a:lnTo>
                  <a:lnTo>
                    <a:pt x="1223" y="546"/>
                  </a:lnTo>
                  <a:lnTo>
                    <a:pt x="1259" y="543"/>
                  </a:lnTo>
                  <a:lnTo>
                    <a:pt x="1293" y="539"/>
                  </a:lnTo>
                  <a:lnTo>
                    <a:pt x="1327" y="534"/>
                  </a:lnTo>
                  <a:lnTo>
                    <a:pt x="1361" y="530"/>
                  </a:lnTo>
                  <a:lnTo>
                    <a:pt x="1395" y="524"/>
                  </a:lnTo>
                  <a:lnTo>
                    <a:pt x="1430" y="518"/>
                  </a:lnTo>
                  <a:lnTo>
                    <a:pt x="1464" y="512"/>
                  </a:lnTo>
                  <a:lnTo>
                    <a:pt x="1496" y="505"/>
                  </a:lnTo>
                  <a:lnTo>
                    <a:pt x="1530" y="497"/>
                  </a:lnTo>
                  <a:lnTo>
                    <a:pt x="1563" y="490"/>
                  </a:lnTo>
                  <a:lnTo>
                    <a:pt x="1597" y="481"/>
                  </a:lnTo>
                  <a:lnTo>
                    <a:pt x="1630" y="472"/>
                  </a:lnTo>
                  <a:lnTo>
                    <a:pt x="1652" y="466"/>
                  </a:lnTo>
                  <a:lnTo>
                    <a:pt x="1673" y="459"/>
                  </a:lnTo>
                  <a:lnTo>
                    <a:pt x="1695" y="451"/>
                  </a:lnTo>
                  <a:lnTo>
                    <a:pt x="1716" y="444"/>
                  </a:lnTo>
                  <a:lnTo>
                    <a:pt x="1738" y="435"/>
                  </a:lnTo>
                  <a:lnTo>
                    <a:pt x="1759" y="426"/>
                  </a:lnTo>
                  <a:lnTo>
                    <a:pt x="1780" y="417"/>
                  </a:lnTo>
                  <a:lnTo>
                    <a:pt x="1801" y="407"/>
                  </a:lnTo>
                  <a:lnTo>
                    <a:pt x="1821" y="396"/>
                  </a:lnTo>
                  <a:lnTo>
                    <a:pt x="1842" y="386"/>
                  </a:lnTo>
                  <a:lnTo>
                    <a:pt x="1861" y="374"/>
                  </a:lnTo>
                  <a:lnTo>
                    <a:pt x="1881" y="362"/>
                  </a:lnTo>
                  <a:lnTo>
                    <a:pt x="1900" y="349"/>
                  </a:lnTo>
                  <a:lnTo>
                    <a:pt x="1918" y="335"/>
                  </a:lnTo>
                  <a:lnTo>
                    <a:pt x="1936" y="322"/>
                  </a:lnTo>
                  <a:lnTo>
                    <a:pt x="1953" y="307"/>
                  </a:lnTo>
                  <a:lnTo>
                    <a:pt x="1940" y="270"/>
                  </a:lnTo>
                  <a:lnTo>
                    <a:pt x="1924" y="232"/>
                  </a:lnTo>
                  <a:lnTo>
                    <a:pt x="1903" y="192"/>
                  </a:lnTo>
                  <a:lnTo>
                    <a:pt x="1881" y="152"/>
                  </a:lnTo>
                  <a:lnTo>
                    <a:pt x="1855" y="111"/>
                  </a:lnTo>
                  <a:lnTo>
                    <a:pt x="1829" y="73"/>
                  </a:lnTo>
                  <a:lnTo>
                    <a:pt x="1803" y="36"/>
                  </a:lnTo>
                  <a:lnTo>
                    <a:pt x="1777" y="0"/>
                  </a:lnTo>
                  <a:close/>
                </a:path>
              </a:pathLst>
            </a:custGeom>
            <a:solidFill>
              <a:srgbClr val="00ccff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679840" y="3867120"/>
              <a:ext cx="102960" cy="401760"/>
            </a:xfrm>
            <a:custGeom>
              <a:avLst/>
              <a:gdLst/>
              <a:ahLst/>
              <a:rect l="l" t="t" r="r" b="b"/>
              <a:pathLst>
                <a:path w="260" h="909">
                  <a:moveTo>
                    <a:pt x="0" y="0"/>
                  </a:moveTo>
                  <a:lnTo>
                    <a:pt x="23" y="37"/>
                  </a:lnTo>
                  <a:lnTo>
                    <a:pt x="48" y="82"/>
                  </a:lnTo>
                  <a:lnTo>
                    <a:pt x="73" y="131"/>
                  </a:lnTo>
                  <a:lnTo>
                    <a:pt x="98" y="184"/>
                  </a:lnTo>
                  <a:lnTo>
                    <a:pt x="123" y="240"/>
                  </a:lnTo>
                  <a:lnTo>
                    <a:pt x="146" y="298"/>
                  </a:lnTo>
                  <a:lnTo>
                    <a:pt x="165" y="356"/>
                  </a:lnTo>
                  <a:lnTo>
                    <a:pt x="181" y="414"/>
                  </a:lnTo>
                  <a:lnTo>
                    <a:pt x="193" y="470"/>
                  </a:lnTo>
                  <a:lnTo>
                    <a:pt x="205" y="528"/>
                  </a:lnTo>
                  <a:lnTo>
                    <a:pt x="217" y="587"/>
                  </a:lnTo>
                  <a:lnTo>
                    <a:pt x="227" y="648"/>
                  </a:lnTo>
                  <a:lnTo>
                    <a:pt x="236" y="712"/>
                  </a:lnTo>
                  <a:lnTo>
                    <a:pt x="245" y="776"/>
                  </a:lnTo>
                  <a:lnTo>
                    <a:pt x="254" y="841"/>
                  </a:lnTo>
                  <a:lnTo>
                    <a:pt x="260" y="909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2292480" y="3666960"/>
              <a:ext cx="14040" cy="2556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33" y="0"/>
                  </a:moveTo>
                  <a:lnTo>
                    <a:pt x="21" y="0"/>
                  </a:lnTo>
                  <a:lnTo>
                    <a:pt x="10" y="6"/>
                  </a:lnTo>
                  <a:lnTo>
                    <a:pt x="4" y="13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4" y="45"/>
                  </a:lnTo>
                  <a:lnTo>
                    <a:pt x="12" y="52"/>
                  </a:lnTo>
                  <a:lnTo>
                    <a:pt x="24" y="5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301840" y="3666960"/>
              <a:ext cx="120600" cy="30240"/>
            </a:xfrm>
            <a:custGeom>
              <a:avLst/>
              <a:gdLst/>
              <a:ahLst/>
              <a:rect l="l" t="t" r="r" b="b"/>
              <a:pathLst>
                <a:path w="308" h="68">
                  <a:moveTo>
                    <a:pt x="299" y="2"/>
                  </a:moveTo>
                  <a:lnTo>
                    <a:pt x="283" y="4"/>
                  </a:lnTo>
                  <a:lnTo>
                    <a:pt x="265" y="6"/>
                  </a:lnTo>
                  <a:lnTo>
                    <a:pt x="248" y="7"/>
                  </a:lnTo>
                  <a:lnTo>
                    <a:pt x="230" y="9"/>
                  </a:lnTo>
                  <a:lnTo>
                    <a:pt x="212" y="10"/>
                  </a:lnTo>
                  <a:lnTo>
                    <a:pt x="193" y="12"/>
                  </a:lnTo>
                  <a:lnTo>
                    <a:pt x="176" y="12"/>
                  </a:lnTo>
                  <a:lnTo>
                    <a:pt x="157" y="12"/>
                  </a:lnTo>
                  <a:lnTo>
                    <a:pt x="138" y="12"/>
                  </a:lnTo>
                  <a:lnTo>
                    <a:pt x="118" y="10"/>
                  </a:lnTo>
                  <a:lnTo>
                    <a:pt x="99" y="10"/>
                  </a:lnTo>
                  <a:lnTo>
                    <a:pt x="81" y="9"/>
                  </a:lnTo>
                  <a:lnTo>
                    <a:pt x="64" y="7"/>
                  </a:lnTo>
                  <a:lnTo>
                    <a:pt x="44" y="4"/>
                  </a:lnTo>
                  <a:lnTo>
                    <a:pt x="25" y="3"/>
                  </a:lnTo>
                  <a:lnTo>
                    <a:pt x="9" y="0"/>
                  </a:lnTo>
                  <a:lnTo>
                    <a:pt x="0" y="56"/>
                  </a:lnTo>
                  <a:lnTo>
                    <a:pt x="19" y="59"/>
                  </a:lnTo>
                  <a:lnTo>
                    <a:pt x="38" y="61"/>
                  </a:lnTo>
                  <a:lnTo>
                    <a:pt x="58" y="64"/>
                  </a:lnTo>
                  <a:lnTo>
                    <a:pt x="75" y="65"/>
                  </a:lnTo>
                  <a:lnTo>
                    <a:pt x="96" y="67"/>
                  </a:lnTo>
                  <a:lnTo>
                    <a:pt x="115" y="67"/>
                  </a:lnTo>
                  <a:lnTo>
                    <a:pt x="135" y="68"/>
                  </a:lnTo>
                  <a:lnTo>
                    <a:pt x="157" y="68"/>
                  </a:lnTo>
                  <a:lnTo>
                    <a:pt x="176" y="68"/>
                  </a:lnTo>
                  <a:lnTo>
                    <a:pt x="196" y="68"/>
                  </a:lnTo>
                  <a:lnTo>
                    <a:pt x="215" y="67"/>
                  </a:lnTo>
                  <a:lnTo>
                    <a:pt x="236" y="65"/>
                  </a:lnTo>
                  <a:lnTo>
                    <a:pt x="253" y="64"/>
                  </a:lnTo>
                  <a:lnTo>
                    <a:pt x="271" y="62"/>
                  </a:lnTo>
                  <a:lnTo>
                    <a:pt x="289" y="61"/>
                  </a:lnTo>
                  <a:lnTo>
                    <a:pt x="308" y="58"/>
                  </a:lnTo>
                  <a:lnTo>
                    <a:pt x="29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301840" y="366696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9" y="56"/>
                  </a:moveTo>
                  <a:lnTo>
                    <a:pt x="21" y="52"/>
                  </a:lnTo>
                  <a:lnTo>
                    <a:pt x="28" y="45"/>
                  </a:lnTo>
                  <a:lnTo>
                    <a:pt x="32" y="34"/>
                  </a:lnTo>
                  <a:lnTo>
                    <a:pt x="32" y="24"/>
                  </a:lnTo>
                  <a:lnTo>
                    <a:pt x="28" y="13"/>
                  </a:lnTo>
                  <a:lnTo>
                    <a:pt x="22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352600" y="3701880"/>
              <a:ext cx="11160" cy="2556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30" y="0"/>
                  </a:moveTo>
                  <a:lnTo>
                    <a:pt x="18" y="2"/>
                  </a:lnTo>
                  <a:lnTo>
                    <a:pt x="9" y="8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1" y="37"/>
                  </a:lnTo>
                  <a:lnTo>
                    <a:pt x="6" y="46"/>
                  </a:lnTo>
                  <a:lnTo>
                    <a:pt x="15" y="54"/>
                  </a:lnTo>
                  <a:lnTo>
                    <a:pt x="27" y="5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363760" y="3695760"/>
              <a:ext cx="71640" cy="31680"/>
            </a:xfrm>
            <a:custGeom>
              <a:avLst/>
              <a:gdLst/>
              <a:ahLst/>
              <a:rect l="l" t="t" r="r" b="b"/>
              <a:pathLst>
                <a:path w="185" h="73">
                  <a:moveTo>
                    <a:pt x="170" y="0"/>
                  </a:moveTo>
                  <a:lnTo>
                    <a:pt x="152" y="5"/>
                  </a:lnTo>
                  <a:lnTo>
                    <a:pt x="133" y="9"/>
                  </a:lnTo>
                  <a:lnTo>
                    <a:pt x="112" y="12"/>
                  </a:lnTo>
                  <a:lnTo>
                    <a:pt x="89" y="15"/>
                  </a:lnTo>
                  <a:lnTo>
                    <a:pt x="68" y="17"/>
                  </a:lnTo>
                  <a:lnTo>
                    <a:pt x="46" y="17"/>
                  </a:lnTo>
                  <a:lnTo>
                    <a:pt x="25" y="17"/>
                  </a:lnTo>
                  <a:lnTo>
                    <a:pt x="3" y="15"/>
                  </a:lnTo>
                  <a:lnTo>
                    <a:pt x="0" y="72"/>
                  </a:lnTo>
                  <a:lnTo>
                    <a:pt x="22" y="73"/>
                  </a:lnTo>
                  <a:lnTo>
                    <a:pt x="46" y="73"/>
                  </a:lnTo>
                  <a:lnTo>
                    <a:pt x="71" y="73"/>
                  </a:lnTo>
                  <a:lnTo>
                    <a:pt x="95" y="72"/>
                  </a:lnTo>
                  <a:lnTo>
                    <a:pt x="118" y="69"/>
                  </a:lnTo>
                  <a:lnTo>
                    <a:pt x="142" y="66"/>
                  </a:lnTo>
                  <a:lnTo>
                    <a:pt x="164" y="61"/>
                  </a:lnTo>
                  <a:lnTo>
                    <a:pt x="185" y="57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360520" y="3701880"/>
              <a:ext cx="14400" cy="25560"/>
            </a:xfrm>
            <a:custGeom>
              <a:avLst/>
              <a:gdLst/>
              <a:ahLst/>
              <a:rect l="l" t="t" r="r" b="b"/>
              <a:pathLst>
                <a:path w="35" h="57">
                  <a:moveTo>
                    <a:pt x="14" y="57"/>
                  </a:moveTo>
                  <a:lnTo>
                    <a:pt x="26" y="51"/>
                  </a:lnTo>
                  <a:lnTo>
                    <a:pt x="34" y="43"/>
                  </a:lnTo>
                  <a:lnTo>
                    <a:pt x="35" y="33"/>
                  </a:lnTo>
                  <a:lnTo>
                    <a:pt x="35" y="21"/>
                  </a:lnTo>
                  <a:lnTo>
                    <a:pt x="31" y="12"/>
                  </a:lnTo>
                  <a:lnTo>
                    <a:pt x="23" y="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590920" y="3619440"/>
              <a:ext cx="17280" cy="255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29" y="55"/>
                  </a:moveTo>
                  <a:lnTo>
                    <a:pt x="38" y="46"/>
                  </a:lnTo>
                  <a:lnTo>
                    <a:pt x="43" y="35"/>
                  </a:lnTo>
                  <a:lnTo>
                    <a:pt x="43" y="25"/>
                  </a:lnTo>
                  <a:lnTo>
                    <a:pt x="40" y="15"/>
                  </a:lnTo>
                  <a:lnTo>
                    <a:pt x="32" y="7"/>
                  </a:lnTo>
                  <a:lnTo>
                    <a:pt x="23" y="1"/>
                  </a:lnTo>
                  <a:lnTo>
                    <a:pt x="12" y="0"/>
                  </a:lnTo>
                  <a:lnTo>
                    <a:pt x="0" y="4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529000" y="3622680"/>
              <a:ext cx="73080" cy="44280"/>
            </a:xfrm>
            <a:custGeom>
              <a:avLst/>
              <a:gdLst/>
              <a:ahLst/>
              <a:rect l="l" t="t" r="r" b="b"/>
              <a:pathLst>
                <a:path w="185" h="103">
                  <a:moveTo>
                    <a:pt x="6" y="103"/>
                  </a:moveTo>
                  <a:lnTo>
                    <a:pt x="30" y="100"/>
                  </a:lnTo>
                  <a:lnTo>
                    <a:pt x="52" y="97"/>
                  </a:lnTo>
                  <a:lnTo>
                    <a:pt x="76" y="92"/>
                  </a:lnTo>
                  <a:lnTo>
                    <a:pt x="101" y="86"/>
                  </a:lnTo>
                  <a:lnTo>
                    <a:pt x="123" y="77"/>
                  </a:lnTo>
                  <a:lnTo>
                    <a:pt x="144" y="70"/>
                  </a:lnTo>
                  <a:lnTo>
                    <a:pt x="165" y="61"/>
                  </a:lnTo>
                  <a:lnTo>
                    <a:pt x="185" y="51"/>
                  </a:lnTo>
                  <a:lnTo>
                    <a:pt x="156" y="0"/>
                  </a:lnTo>
                  <a:lnTo>
                    <a:pt x="141" y="8"/>
                  </a:lnTo>
                  <a:lnTo>
                    <a:pt x="123" y="17"/>
                  </a:lnTo>
                  <a:lnTo>
                    <a:pt x="102" y="24"/>
                  </a:lnTo>
                  <a:lnTo>
                    <a:pt x="83" y="30"/>
                  </a:lnTo>
                  <a:lnTo>
                    <a:pt x="64" y="36"/>
                  </a:lnTo>
                  <a:lnTo>
                    <a:pt x="43" y="40"/>
                  </a:lnTo>
                  <a:lnTo>
                    <a:pt x="21" y="43"/>
                  </a:lnTo>
                  <a:lnTo>
                    <a:pt x="0" y="46"/>
                  </a:lnTo>
                  <a:lnTo>
                    <a:pt x="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585880" y="3621240"/>
              <a:ext cx="1116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26" y="0"/>
                  </a:moveTo>
                  <a:lnTo>
                    <a:pt x="14" y="3"/>
                  </a:lnTo>
                  <a:lnTo>
                    <a:pt x="6" y="11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3" y="40"/>
                  </a:lnTo>
                  <a:lnTo>
                    <a:pt x="9" y="49"/>
                  </a:lnTo>
                  <a:lnTo>
                    <a:pt x="20" y="55"/>
                  </a:lnTo>
                  <a:lnTo>
                    <a:pt x="32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590920" y="3664080"/>
              <a:ext cx="14040" cy="2520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21" y="54"/>
                  </a:moveTo>
                  <a:lnTo>
                    <a:pt x="31" y="47"/>
                  </a:lnTo>
                  <a:lnTo>
                    <a:pt x="37" y="38"/>
                  </a:lnTo>
                  <a:lnTo>
                    <a:pt x="38" y="28"/>
                  </a:lnTo>
                  <a:lnTo>
                    <a:pt x="37" y="17"/>
                  </a:lnTo>
                  <a:lnTo>
                    <a:pt x="31" y="9"/>
                  </a:lnTo>
                  <a:lnTo>
                    <a:pt x="23" y="3"/>
                  </a:lnTo>
                  <a:lnTo>
                    <a:pt x="12" y="0"/>
                  </a:lnTo>
                  <a:lnTo>
                    <a:pt x="0" y="1"/>
                  </a:lnTo>
                  <a:lnTo>
                    <a:pt x="2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2548080" y="3664080"/>
              <a:ext cx="50760" cy="3780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0" y="82"/>
                  </a:moveTo>
                  <a:lnTo>
                    <a:pt x="18" y="83"/>
                  </a:lnTo>
                  <a:lnTo>
                    <a:pt x="37" y="80"/>
                  </a:lnTo>
                  <a:lnTo>
                    <a:pt x="53" y="77"/>
                  </a:lnTo>
                  <a:lnTo>
                    <a:pt x="70" y="74"/>
                  </a:lnTo>
                  <a:lnTo>
                    <a:pt x="87" y="70"/>
                  </a:lnTo>
                  <a:lnTo>
                    <a:pt x="101" y="65"/>
                  </a:lnTo>
                  <a:lnTo>
                    <a:pt x="117" y="59"/>
                  </a:lnTo>
                  <a:lnTo>
                    <a:pt x="131" y="53"/>
                  </a:lnTo>
                  <a:lnTo>
                    <a:pt x="110" y="0"/>
                  </a:lnTo>
                  <a:lnTo>
                    <a:pt x="96" y="6"/>
                  </a:lnTo>
                  <a:lnTo>
                    <a:pt x="83" y="9"/>
                  </a:lnTo>
                  <a:lnTo>
                    <a:pt x="70" y="13"/>
                  </a:lnTo>
                  <a:lnTo>
                    <a:pt x="58" y="18"/>
                  </a:lnTo>
                  <a:lnTo>
                    <a:pt x="41" y="21"/>
                  </a:lnTo>
                  <a:lnTo>
                    <a:pt x="28" y="24"/>
                  </a:lnTo>
                  <a:lnTo>
                    <a:pt x="15" y="24"/>
                  </a:lnTo>
                  <a:lnTo>
                    <a:pt x="3" y="25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2583000" y="3664080"/>
              <a:ext cx="12600" cy="2520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30" y="0"/>
                  </a:moveTo>
                  <a:lnTo>
                    <a:pt x="18" y="2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1" y="40"/>
                  </a:lnTo>
                  <a:lnTo>
                    <a:pt x="6" y="49"/>
                  </a:lnTo>
                  <a:lnTo>
                    <a:pt x="15" y="56"/>
                  </a:lnTo>
                  <a:lnTo>
                    <a:pt x="27" y="5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2290680" y="3919680"/>
              <a:ext cx="81000" cy="90360"/>
            </a:xfrm>
            <a:custGeom>
              <a:avLst/>
              <a:gdLst/>
              <a:ahLst/>
              <a:rect l="l" t="t" r="r" b="b"/>
              <a:pathLst>
                <a:path w="207" h="204">
                  <a:moveTo>
                    <a:pt x="103" y="0"/>
                  </a:moveTo>
                  <a:lnTo>
                    <a:pt x="124" y="1"/>
                  </a:lnTo>
                  <a:lnTo>
                    <a:pt x="144" y="7"/>
                  </a:lnTo>
                  <a:lnTo>
                    <a:pt x="161" y="17"/>
                  </a:lnTo>
                  <a:lnTo>
                    <a:pt x="176" y="29"/>
                  </a:lnTo>
                  <a:lnTo>
                    <a:pt x="190" y="44"/>
                  </a:lnTo>
                  <a:lnTo>
                    <a:pt x="198" y="62"/>
                  </a:lnTo>
                  <a:lnTo>
                    <a:pt x="206" y="81"/>
                  </a:lnTo>
                  <a:lnTo>
                    <a:pt x="207" y="102"/>
                  </a:lnTo>
                  <a:lnTo>
                    <a:pt x="206" y="123"/>
                  </a:lnTo>
                  <a:lnTo>
                    <a:pt x="198" y="142"/>
                  </a:lnTo>
                  <a:lnTo>
                    <a:pt x="190" y="160"/>
                  </a:lnTo>
                  <a:lnTo>
                    <a:pt x="176" y="175"/>
                  </a:lnTo>
                  <a:lnTo>
                    <a:pt x="161" y="187"/>
                  </a:lnTo>
                  <a:lnTo>
                    <a:pt x="144" y="197"/>
                  </a:lnTo>
                  <a:lnTo>
                    <a:pt x="124" y="203"/>
                  </a:lnTo>
                  <a:lnTo>
                    <a:pt x="103" y="204"/>
                  </a:lnTo>
                  <a:lnTo>
                    <a:pt x="83" y="203"/>
                  </a:lnTo>
                  <a:lnTo>
                    <a:pt x="63" y="197"/>
                  </a:lnTo>
                  <a:lnTo>
                    <a:pt x="46" y="187"/>
                  </a:lnTo>
                  <a:lnTo>
                    <a:pt x="31" y="175"/>
                  </a:lnTo>
                  <a:lnTo>
                    <a:pt x="17" y="160"/>
                  </a:lnTo>
                  <a:lnTo>
                    <a:pt x="8" y="142"/>
                  </a:lnTo>
                  <a:lnTo>
                    <a:pt x="1" y="123"/>
                  </a:lnTo>
                  <a:lnTo>
                    <a:pt x="0" y="102"/>
                  </a:lnTo>
                  <a:lnTo>
                    <a:pt x="1" y="81"/>
                  </a:lnTo>
                  <a:lnTo>
                    <a:pt x="8" y="62"/>
                  </a:lnTo>
                  <a:lnTo>
                    <a:pt x="17" y="44"/>
                  </a:lnTo>
                  <a:lnTo>
                    <a:pt x="31" y="29"/>
                  </a:lnTo>
                  <a:lnTo>
                    <a:pt x="46" y="17"/>
                  </a:lnTo>
                  <a:lnTo>
                    <a:pt x="63" y="7"/>
                  </a:lnTo>
                  <a:lnTo>
                    <a:pt x="8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2330280" y="3906720"/>
              <a:ext cx="51120" cy="57240"/>
            </a:xfrm>
            <a:custGeom>
              <a:avLst/>
              <a:gdLst/>
              <a:ahLst/>
              <a:rect l="l" t="t" r="r" b="b"/>
              <a:pathLst>
                <a:path w="133" h="131">
                  <a:moveTo>
                    <a:pt x="133" y="131"/>
                  </a:moveTo>
                  <a:lnTo>
                    <a:pt x="133" y="131"/>
                  </a:lnTo>
                  <a:lnTo>
                    <a:pt x="131" y="104"/>
                  </a:lnTo>
                  <a:lnTo>
                    <a:pt x="122" y="79"/>
                  </a:lnTo>
                  <a:lnTo>
                    <a:pt x="110" y="57"/>
                  </a:lnTo>
                  <a:lnTo>
                    <a:pt x="92" y="38"/>
                  </a:lnTo>
                  <a:lnTo>
                    <a:pt x="75" y="23"/>
                  </a:lnTo>
                  <a:lnTo>
                    <a:pt x="52" y="9"/>
                  </a:lnTo>
                  <a:lnTo>
                    <a:pt x="27" y="2"/>
                  </a:lnTo>
                  <a:lnTo>
                    <a:pt x="0" y="0"/>
                  </a:lnTo>
                  <a:lnTo>
                    <a:pt x="0" y="57"/>
                  </a:lnTo>
                  <a:lnTo>
                    <a:pt x="15" y="58"/>
                  </a:lnTo>
                  <a:lnTo>
                    <a:pt x="29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3" y="89"/>
                  </a:lnTo>
                  <a:lnTo>
                    <a:pt x="69" y="103"/>
                  </a:lnTo>
                  <a:lnTo>
                    <a:pt x="75" y="116"/>
                  </a:lnTo>
                  <a:lnTo>
                    <a:pt x="76" y="131"/>
                  </a:lnTo>
                  <a:lnTo>
                    <a:pt x="76" y="131"/>
                  </a:lnTo>
                  <a:lnTo>
                    <a:pt x="13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330280" y="3963960"/>
              <a:ext cx="51120" cy="58680"/>
            </a:xfrm>
            <a:custGeom>
              <a:avLst/>
              <a:gdLst/>
              <a:ahLst/>
              <a:rect l="l" t="t" r="r" b="b"/>
              <a:pathLst>
                <a:path w="133" h="132">
                  <a:moveTo>
                    <a:pt x="0" y="132"/>
                  </a:moveTo>
                  <a:lnTo>
                    <a:pt x="0" y="132"/>
                  </a:lnTo>
                  <a:lnTo>
                    <a:pt x="27" y="129"/>
                  </a:lnTo>
                  <a:lnTo>
                    <a:pt x="52" y="122"/>
                  </a:lnTo>
                  <a:lnTo>
                    <a:pt x="75" y="108"/>
                  </a:lnTo>
                  <a:lnTo>
                    <a:pt x="92" y="93"/>
                  </a:lnTo>
                  <a:lnTo>
                    <a:pt x="110" y="74"/>
                  </a:lnTo>
                  <a:lnTo>
                    <a:pt x="122" y="52"/>
                  </a:lnTo>
                  <a:lnTo>
                    <a:pt x="131" y="27"/>
                  </a:lnTo>
                  <a:lnTo>
                    <a:pt x="133" y="0"/>
                  </a:lnTo>
                  <a:lnTo>
                    <a:pt x="76" y="0"/>
                  </a:lnTo>
                  <a:lnTo>
                    <a:pt x="75" y="15"/>
                  </a:lnTo>
                  <a:lnTo>
                    <a:pt x="69" y="28"/>
                  </a:lnTo>
                  <a:lnTo>
                    <a:pt x="63" y="42"/>
                  </a:lnTo>
                  <a:lnTo>
                    <a:pt x="54" y="52"/>
                  </a:lnTo>
                  <a:lnTo>
                    <a:pt x="42" y="61"/>
                  </a:lnTo>
                  <a:lnTo>
                    <a:pt x="29" y="68"/>
                  </a:lnTo>
                  <a:lnTo>
                    <a:pt x="15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2279520" y="3963960"/>
              <a:ext cx="50760" cy="58680"/>
            </a:xfrm>
            <a:custGeom>
              <a:avLst/>
              <a:gdLst/>
              <a:ahLst/>
              <a:rect l="l" t="t" r="r" b="b"/>
              <a:pathLst>
                <a:path w="133" h="132">
                  <a:moveTo>
                    <a:pt x="0" y="0"/>
                  </a:moveTo>
                  <a:lnTo>
                    <a:pt x="0" y="0"/>
                  </a:lnTo>
                  <a:lnTo>
                    <a:pt x="3" y="27"/>
                  </a:lnTo>
                  <a:lnTo>
                    <a:pt x="12" y="52"/>
                  </a:lnTo>
                  <a:lnTo>
                    <a:pt x="24" y="74"/>
                  </a:lnTo>
                  <a:lnTo>
                    <a:pt x="41" y="93"/>
                  </a:lnTo>
                  <a:lnTo>
                    <a:pt x="59" y="108"/>
                  </a:lnTo>
                  <a:lnTo>
                    <a:pt x="82" y="122"/>
                  </a:lnTo>
                  <a:lnTo>
                    <a:pt x="107" y="129"/>
                  </a:lnTo>
                  <a:lnTo>
                    <a:pt x="133" y="132"/>
                  </a:lnTo>
                  <a:lnTo>
                    <a:pt x="133" y="73"/>
                  </a:lnTo>
                  <a:lnTo>
                    <a:pt x="119" y="73"/>
                  </a:lnTo>
                  <a:lnTo>
                    <a:pt x="105" y="68"/>
                  </a:lnTo>
                  <a:lnTo>
                    <a:pt x="92" y="61"/>
                  </a:lnTo>
                  <a:lnTo>
                    <a:pt x="80" y="52"/>
                  </a:lnTo>
                  <a:lnTo>
                    <a:pt x="71" y="42"/>
                  </a:lnTo>
                  <a:lnTo>
                    <a:pt x="65" y="28"/>
                  </a:lnTo>
                  <a:lnTo>
                    <a:pt x="59" y="1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279520" y="3906720"/>
              <a:ext cx="50760" cy="57240"/>
            </a:xfrm>
            <a:custGeom>
              <a:avLst/>
              <a:gdLst/>
              <a:ahLst/>
              <a:rect l="l" t="t" r="r" b="b"/>
              <a:pathLst>
                <a:path w="133" h="131">
                  <a:moveTo>
                    <a:pt x="133" y="0"/>
                  </a:moveTo>
                  <a:lnTo>
                    <a:pt x="133" y="0"/>
                  </a:lnTo>
                  <a:lnTo>
                    <a:pt x="107" y="2"/>
                  </a:lnTo>
                  <a:lnTo>
                    <a:pt x="82" y="9"/>
                  </a:lnTo>
                  <a:lnTo>
                    <a:pt x="59" y="23"/>
                  </a:lnTo>
                  <a:lnTo>
                    <a:pt x="41" y="38"/>
                  </a:lnTo>
                  <a:lnTo>
                    <a:pt x="24" y="57"/>
                  </a:lnTo>
                  <a:lnTo>
                    <a:pt x="12" y="79"/>
                  </a:lnTo>
                  <a:lnTo>
                    <a:pt x="3" y="104"/>
                  </a:lnTo>
                  <a:lnTo>
                    <a:pt x="0" y="131"/>
                  </a:lnTo>
                  <a:lnTo>
                    <a:pt x="59" y="131"/>
                  </a:lnTo>
                  <a:lnTo>
                    <a:pt x="59" y="116"/>
                  </a:lnTo>
                  <a:lnTo>
                    <a:pt x="65" y="103"/>
                  </a:lnTo>
                  <a:lnTo>
                    <a:pt x="71" y="89"/>
                  </a:lnTo>
                  <a:lnTo>
                    <a:pt x="80" y="79"/>
                  </a:lnTo>
                  <a:lnTo>
                    <a:pt x="92" y="70"/>
                  </a:lnTo>
                  <a:lnTo>
                    <a:pt x="105" y="63"/>
                  </a:lnTo>
                  <a:lnTo>
                    <a:pt x="119" y="58"/>
                  </a:lnTo>
                  <a:lnTo>
                    <a:pt x="133" y="57"/>
                  </a:lnTo>
                  <a:lnTo>
                    <a:pt x="133" y="57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287440" y="4187880"/>
              <a:ext cx="81000" cy="90360"/>
            </a:xfrm>
            <a:custGeom>
              <a:avLst/>
              <a:gdLst/>
              <a:ahLst/>
              <a:rect l="l" t="t" r="r" b="b"/>
              <a:pathLst>
                <a:path w="207" h="205">
                  <a:moveTo>
                    <a:pt x="104" y="0"/>
                  </a:moveTo>
                  <a:lnTo>
                    <a:pt x="124" y="1"/>
                  </a:lnTo>
                  <a:lnTo>
                    <a:pt x="144" y="7"/>
                  </a:lnTo>
                  <a:lnTo>
                    <a:pt x="161" y="18"/>
                  </a:lnTo>
                  <a:lnTo>
                    <a:pt x="176" y="29"/>
                  </a:lnTo>
                  <a:lnTo>
                    <a:pt x="190" y="44"/>
                  </a:lnTo>
                  <a:lnTo>
                    <a:pt x="198" y="62"/>
                  </a:lnTo>
                  <a:lnTo>
                    <a:pt x="206" y="81"/>
                  </a:lnTo>
                  <a:lnTo>
                    <a:pt x="207" y="102"/>
                  </a:lnTo>
                  <a:lnTo>
                    <a:pt x="206" y="123"/>
                  </a:lnTo>
                  <a:lnTo>
                    <a:pt x="198" y="142"/>
                  </a:lnTo>
                  <a:lnTo>
                    <a:pt x="190" y="160"/>
                  </a:lnTo>
                  <a:lnTo>
                    <a:pt x="176" y="175"/>
                  </a:lnTo>
                  <a:lnTo>
                    <a:pt x="161" y="187"/>
                  </a:lnTo>
                  <a:lnTo>
                    <a:pt x="144" y="197"/>
                  </a:lnTo>
                  <a:lnTo>
                    <a:pt x="124" y="203"/>
                  </a:lnTo>
                  <a:lnTo>
                    <a:pt x="104" y="205"/>
                  </a:lnTo>
                  <a:lnTo>
                    <a:pt x="83" y="203"/>
                  </a:lnTo>
                  <a:lnTo>
                    <a:pt x="63" y="197"/>
                  </a:lnTo>
                  <a:lnTo>
                    <a:pt x="46" y="187"/>
                  </a:lnTo>
                  <a:lnTo>
                    <a:pt x="31" y="175"/>
                  </a:lnTo>
                  <a:lnTo>
                    <a:pt x="17" y="160"/>
                  </a:lnTo>
                  <a:lnTo>
                    <a:pt x="9" y="142"/>
                  </a:lnTo>
                  <a:lnTo>
                    <a:pt x="1" y="123"/>
                  </a:lnTo>
                  <a:lnTo>
                    <a:pt x="0" y="102"/>
                  </a:lnTo>
                  <a:lnTo>
                    <a:pt x="1" y="81"/>
                  </a:lnTo>
                  <a:lnTo>
                    <a:pt x="9" y="62"/>
                  </a:lnTo>
                  <a:lnTo>
                    <a:pt x="17" y="44"/>
                  </a:lnTo>
                  <a:lnTo>
                    <a:pt x="31" y="29"/>
                  </a:lnTo>
                  <a:lnTo>
                    <a:pt x="46" y="18"/>
                  </a:lnTo>
                  <a:lnTo>
                    <a:pt x="63" y="7"/>
                  </a:lnTo>
                  <a:lnTo>
                    <a:pt x="83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2328840" y="4176720"/>
              <a:ext cx="50760" cy="572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130"/>
                  </a:moveTo>
                  <a:lnTo>
                    <a:pt x="132" y="130"/>
                  </a:lnTo>
                  <a:lnTo>
                    <a:pt x="130" y="103"/>
                  </a:lnTo>
                  <a:lnTo>
                    <a:pt x="121" y="78"/>
                  </a:lnTo>
                  <a:lnTo>
                    <a:pt x="109" y="56"/>
                  </a:lnTo>
                  <a:lnTo>
                    <a:pt x="92" y="37"/>
                  </a:lnTo>
                  <a:lnTo>
                    <a:pt x="74" y="22"/>
                  </a:lnTo>
                  <a:lnTo>
                    <a:pt x="51" y="9"/>
                  </a:lnTo>
                  <a:lnTo>
                    <a:pt x="26" y="1"/>
                  </a:lnTo>
                  <a:lnTo>
                    <a:pt x="0" y="0"/>
                  </a:lnTo>
                  <a:lnTo>
                    <a:pt x="0" y="56"/>
                  </a:lnTo>
                  <a:lnTo>
                    <a:pt x="14" y="57"/>
                  </a:lnTo>
                  <a:lnTo>
                    <a:pt x="28" y="62"/>
                  </a:lnTo>
                  <a:lnTo>
                    <a:pt x="41" y="69"/>
                  </a:lnTo>
                  <a:lnTo>
                    <a:pt x="53" y="78"/>
                  </a:lnTo>
                  <a:lnTo>
                    <a:pt x="62" y="89"/>
                  </a:lnTo>
                  <a:lnTo>
                    <a:pt x="68" y="102"/>
                  </a:lnTo>
                  <a:lnTo>
                    <a:pt x="74" y="115"/>
                  </a:lnTo>
                  <a:lnTo>
                    <a:pt x="75" y="130"/>
                  </a:lnTo>
                  <a:lnTo>
                    <a:pt x="75" y="130"/>
                  </a:lnTo>
                  <a:lnTo>
                    <a:pt x="13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328840" y="4233960"/>
              <a:ext cx="50760" cy="5688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132"/>
                  </a:moveTo>
                  <a:lnTo>
                    <a:pt x="0" y="132"/>
                  </a:lnTo>
                  <a:lnTo>
                    <a:pt x="26" y="129"/>
                  </a:lnTo>
                  <a:lnTo>
                    <a:pt x="51" y="122"/>
                  </a:lnTo>
                  <a:lnTo>
                    <a:pt x="74" y="108"/>
                  </a:lnTo>
                  <a:lnTo>
                    <a:pt x="92" y="94"/>
                  </a:lnTo>
                  <a:lnTo>
                    <a:pt x="109" y="74"/>
                  </a:lnTo>
                  <a:lnTo>
                    <a:pt x="121" y="52"/>
                  </a:lnTo>
                  <a:lnTo>
                    <a:pt x="130" y="27"/>
                  </a:lnTo>
                  <a:lnTo>
                    <a:pt x="132" y="0"/>
                  </a:lnTo>
                  <a:lnTo>
                    <a:pt x="75" y="0"/>
                  </a:lnTo>
                  <a:lnTo>
                    <a:pt x="74" y="15"/>
                  </a:lnTo>
                  <a:lnTo>
                    <a:pt x="68" y="28"/>
                  </a:lnTo>
                  <a:lnTo>
                    <a:pt x="62" y="42"/>
                  </a:lnTo>
                  <a:lnTo>
                    <a:pt x="53" y="52"/>
                  </a:lnTo>
                  <a:lnTo>
                    <a:pt x="41" y="61"/>
                  </a:lnTo>
                  <a:lnTo>
                    <a:pt x="28" y="68"/>
                  </a:lnTo>
                  <a:lnTo>
                    <a:pt x="14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2276640" y="4233960"/>
              <a:ext cx="52200" cy="56880"/>
            </a:xfrm>
            <a:custGeom>
              <a:avLst/>
              <a:gdLst/>
              <a:ahLst/>
              <a:rect l="l" t="t" r="r" b="b"/>
              <a:pathLst>
                <a:path w="134" h="132">
                  <a:moveTo>
                    <a:pt x="0" y="0"/>
                  </a:moveTo>
                  <a:lnTo>
                    <a:pt x="0" y="0"/>
                  </a:lnTo>
                  <a:lnTo>
                    <a:pt x="3" y="27"/>
                  </a:lnTo>
                  <a:lnTo>
                    <a:pt x="12" y="52"/>
                  </a:lnTo>
                  <a:lnTo>
                    <a:pt x="24" y="74"/>
                  </a:lnTo>
                  <a:lnTo>
                    <a:pt x="42" y="94"/>
                  </a:lnTo>
                  <a:lnTo>
                    <a:pt x="59" y="108"/>
                  </a:lnTo>
                  <a:lnTo>
                    <a:pt x="82" y="122"/>
                  </a:lnTo>
                  <a:lnTo>
                    <a:pt x="107" y="129"/>
                  </a:lnTo>
                  <a:lnTo>
                    <a:pt x="134" y="132"/>
                  </a:lnTo>
                  <a:lnTo>
                    <a:pt x="134" y="73"/>
                  </a:lnTo>
                  <a:lnTo>
                    <a:pt x="119" y="73"/>
                  </a:lnTo>
                  <a:lnTo>
                    <a:pt x="105" y="68"/>
                  </a:lnTo>
                  <a:lnTo>
                    <a:pt x="92" y="61"/>
                  </a:lnTo>
                  <a:lnTo>
                    <a:pt x="80" y="52"/>
                  </a:lnTo>
                  <a:lnTo>
                    <a:pt x="71" y="42"/>
                  </a:lnTo>
                  <a:lnTo>
                    <a:pt x="65" y="28"/>
                  </a:lnTo>
                  <a:lnTo>
                    <a:pt x="59" y="1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276640" y="4176720"/>
              <a:ext cx="52200" cy="57240"/>
            </a:xfrm>
            <a:custGeom>
              <a:avLst/>
              <a:gdLst/>
              <a:ahLst/>
              <a:rect l="l" t="t" r="r" b="b"/>
              <a:pathLst>
                <a:path w="134" h="130">
                  <a:moveTo>
                    <a:pt x="134" y="0"/>
                  </a:moveTo>
                  <a:lnTo>
                    <a:pt x="134" y="0"/>
                  </a:lnTo>
                  <a:lnTo>
                    <a:pt x="107" y="1"/>
                  </a:lnTo>
                  <a:lnTo>
                    <a:pt x="82" y="9"/>
                  </a:lnTo>
                  <a:lnTo>
                    <a:pt x="59" y="22"/>
                  </a:lnTo>
                  <a:lnTo>
                    <a:pt x="42" y="37"/>
                  </a:lnTo>
                  <a:lnTo>
                    <a:pt x="24" y="56"/>
                  </a:lnTo>
                  <a:lnTo>
                    <a:pt x="12" y="78"/>
                  </a:lnTo>
                  <a:lnTo>
                    <a:pt x="3" y="103"/>
                  </a:lnTo>
                  <a:lnTo>
                    <a:pt x="0" y="130"/>
                  </a:lnTo>
                  <a:lnTo>
                    <a:pt x="59" y="130"/>
                  </a:lnTo>
                  <a:lnTo>
                    <a:pt x="59" y="115"/>
                  </a:lnTo>
                  <a:lnTo>
                    <a:pt x="65" y="102"/>
                  </a:lnTo>
                  <a:lnTo>
                    <a:pt x="71" y="89"/>
                  </a:lnTo>
                  <a:lnTo>
                    <a:pt x="80" y="78"/>
                  </a:lnTo>
                  <a:lnTo>
                    <a:pt x="92" y="69"/>
                  </a:lnTo>
                  <a:lnTo>
                    <a:pt x="105" y="62"/>
                  </a:lnTo>
                  <a:lnTo>
                    <a:pt x="119" y="57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2287440" y="4441680"/>
              <a:ext cx="81000" cy="90720"/>
            </a:xfrm>
            <a:custGeom>
              <a:avLst/>
              <a:gdLst/>
              <a:ahLst/>
              <a:rect l="l" t="t" r="r" b="b"/>
              <a:pathLst>
                <a:path w="207" h="205">
                  <a:moveTo>
                    <a:pt x="104" y="0"/>
                  </a:moveTo>
                  <a:lnTo>
                    <a:pt x="124" y="1"/>
                  </a:lnTo>
                  <a:lnTo>
                    <a:pt x="144" y="7"/>
                  </a:lnTo>
                  <a:lnTo>
                    <a:pt x="161" y="18"/>
                  </a:lnTo>
                  <a:lnTo>
                    <a:pt x="176" y="30"/>
                  </a:lnTo>
                  <a:lnTo>
                    <a:pt x="190" y="44"/>
                  </a:lnTo>
                  <a:lnTo>
                    <a:pt x="198" y="62"/>
                  </a:lnTo>
                  <a:lnTo>
                    <a:pt x="206" y="81"/>
                  </a:lnTo>
                  <a:lnTo>
                    <a:pt x="207" y="102"/>
                  </a:lnTo>
                  <a:lnTo>
                    <a:pt x="206" y="123"/>
                  </a:lnTo>
                  <a:lnTo>
                    <a:pt x="198" y="142"/>
                  </a:lnTo>
                  <a:lnTo>
                    <a:pt x="190" y="160"/>
                  </a:lnTo>
                  <a:lnTo>
                    <a:pt x="176" y="175"/>
                  </a:lnTo>
                  <a:lnTo>
                    <a:pt x="161" y="187"/>
                  </a:lnTo>
                  <a:lnTo>
                    <a:pt x="144" y="197"/>
                  </a:lnTo>
                  <a:lnTo>
                    <a:pt x="124" y="203"/>
                  </a:lnTo>
                  <a:lnTo>
                    <a:pt x="104" y="205"/>
                  </a:lnTo>
                  <a:lnTo>
                    <a:pt x="83" y="203"/>
                  </a:lnTo>
                  <a:lnTo>
                    <a:pt x="63" y="197"/>
                  </a:lnTo>
                  <a:lnTo>
                    <a:pt x="46" y="187"/>
                  </a:lnTo>
                  <a:lnTo>
                    <a:pt x="31" y="175"/>
                  </a:lnTo>
                  <a:lnTo>
                    <a:pt x="17" y="160"/>
                  </a:lnTo>
                  <a:lnTo>
                    <a:pt x="9" y="142"/>
                  </a:lnTo>
                  <a:lnTo>
                    <a:pt x="1" y="123"/>
                  </a:lnTo>
                  <a:lnTo>
                    <a:pt x="0" y="102"/>
                  </a:lnTo>
                  <a:lnTo>
                    <a:pt x="1" y="81"/>
                  </a:lnTo>
                  <a:lnTo>
                    <a:pt x="9" y="62"/>
                  </a:lnTo>
                  <a:lnTo>
                    <a:pt x="17" y="44"/>
                  </a:lnTo>
                  <a:lnTo>
                    <a:pt x="31" y="30"/>
                  </a:lnTo>
                  <a:lnTo>
                    <a:pt x="46" y="18"/>
                  </a:lnTo>
                  <a:lnTo>
                    <a:pt x="63" y="7"/>
                  </a:lnTo>
                  <a:lnTo>
                    <a:pt x="83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2328840" y="4429080"/>
              <a:ext cx="50760" cy="572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130"/>
                  </a:moveTo>
                  <a:lnTo>
                    <a:pt x="132" y="130"/>
                  </a:lnTo>
                  <a:lnTo>
                    <a:pt x="130" y="104"/>
                  </a:lnTo>
                  <a:lnTo>
                    <a:pt x="121" y="78"/>
                  </a:lnTo>
                  <a:lnTo>
                    <a:pt x="109" y="56"/>
                  </a:lnTo>
                  <a:lnTo>
                    <a:pt x="92" y="37"/>
                  </a:lnTo>
                  <a:lnTo>
                    <a:pt x="74" y="22"/>
                  </a:lnTo>
                  <a:lnTo>
                    <a:pt x="51" y="9"/>
                  </a:lnTo>
                  <a:lnTo>
                    <a:pt x="26" y="1"/>
                  </a:lnTo>
                  <a:lnTo>
                    <a:pt x="0" y="0"/>
                  </a:lnTo>
                  <a:lnTo>
                    <a:pt x="0" y="56"/>
                  </a:lnTo>
                  <a:lnTo>
                    <a:pt x="14" y="58"/>
                  </a:lnTo>
                  <a:lnTo>
                    <a:pt x="28" y="62"/>
                  </a:lnTo>
                  <a:lnTo>
                    <a:pt x="41" y="69"/>
                  </a:lnTo>
                  <a:lnTo>
                    <a:pt x="53" y="78"/>
                  </a:lnTo>
                  <a:lnTo>
                    <a:pt x="62" y="89"/>
                  </a:lnTo>
                  <a:lnTo>
                    <a:pt x="68" y="102"/>
                  </a:lnTo>
                  <a:lnTo>
                    <a:pt x="74" y="115"/>
                  </a:lnTo>
                  <a:lnTo>
                    <a:pt x="75" y="130"/>
                  </a:lnTo>
                  <a:lnTo>
                    <a:pt x="75" y="130"/>
                  </a:lnTo>
                  <a:lnTo>
                    <a:pt x="13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2328840" y="4486320"/>
              <a:ext cx="50760" cy="5868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132"/>
                  </a:moveTo>
                  <a:lnTo>
                    <a:pt x="0" y="132"/>
                  </a:lnTo>
                  <a:lnTo>
                    <a:pt x="26" y="129"/>
                  </a:lnTo>
                  <a:lnTo>
                    <a:pt x="51" y="122"/>
                  </a:lnTo>
                  <a:lnTo>
                    <a:pt x="74" y="109"/>
                  </a:lnTo>
                  <a:lnTo>
                    <a:pt x="92" y="94"/>
                  </a:lnTo>
                  <a:lnTo>
                    <a:pt x="109" y="74"/>
                  </a:lnTo>
                  <a:lnTo>
                    <a:pt x="121" y="52"/>
                  </a:lnTo>
                  <a:lnTo>
                    <a:pt x="130" y="27"/>
                  </a:lnTo>
                  <a:lnTo>
                    <a:pt x="132" y="0"/>
                  </a:lnTo>
                  <a:lnTo>
                    <a:pt x="75" y="0"/>
                  </a:lnTo>
                  <a:lnTo>
                    <a:pt x="74" y="15"/>
                  </a:lnTo>
                  <a:lnTo>
                    <a:pt x="68" y="28"/>
                  </a:lnTo>
                  <a:lnTo>
                    <a:pt x="62" y="42"/>
                  </a:lnTo>
                  <a:lnTo>
                    <a:pt x="53" y="52"/>
                  </a:lnTo>
                  <a:lnTo>
                    <a:pt x="41" y="61"/>
                  </a:lnTo>
                  <a:lnTo>
                    <a:pt x="28" y="68"/>
                  </a:lnTo>
                  <a:lnTo>
                    <a:pt x="14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276640" y="4486320"/>
              <a:ext cx="52200" cy="58680"/>
            </a:xfrm>
            <a:custGeom>
              <a:avLst/>
              <a:gdLst/>
              <a:ahLst/>
              <a:rect l="l" t="t" r="r" b="b"/>
              <a:pathLst>
                <a:path w="134" h="132">
                  <a:moveTo>
                    <a:pt x="0" y="0"/>
                  </a:moveTo>
                  <a:lnTo>
                    <a:pt x="0" y="0"/>
                  </a:lnTo>
                  <a:lnTo>
                    <a:pt x="3" y="27"/>
                  </a:lnTo>
                  <a:lnTo>
                    <a:pt x="12" y="52"/>
                  </a:lnTo>
                  <a:lnTo>
                    <a:pt x="24" y="74"/>
                  </a:lnTo>
                  <a:lnTo>
                    <a:pt x="42" y="94"/>
                  </a:lnTo>
                  <a:lnTo>
                    <a:pt x="59" y="109"/>
                  </a:lnTo>
                  <a:lnTo>
                    <a:pt x="82" y="122"/>
                  </a:lnTo>
                  <a:lnTo>
                    <a:pt x="107" y="129"/>
                  </a:lnTo>
                  <a:lnTo>
                    <a:pt x="134" y="132"/>
                  </a:lnTo>
                  <a:lnTo>
                    <a:pt x="134" y="73"/>
                  </a:lnTo>
                  <a:lnTo>
                    <a:pt x="119" y="73"/>
                  </a:lnTo>
                  <a:lnTo>
                    <a:pt x="105" y="68"/>
                  </a:lnTo>
                  <a:lnTo>
                    <a:pt x="92" y="61"/>
                  </a:lnTo>
                  <a:lnTo>
                    <a:pt x="80" y="52"/>
                  </a:lnTo>
                  <a:lnTo>
                    <a:pt x="71" y="42"/>
                  </a:lnTo>
                  <a:lnTo>
                    <a:pt x="65" y="28"/>
                  </a:lnTo>
                  <a:lnTo>
                    <a:pt x="59" y="1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2276640" y="4429080"/>
              <a:ext cx="52200" cy="57240"/>
            </a:xfrm>
            <a:custGeom>
              <a:avLst/>
              <a:gdLst/>
              <a:ahLst/>
              <a:rect l="l" t="t" r="r" b="b"/>
              <a:pathLst>
                <a:path w="134" h="130">
                  <a:moveTo>
                    <a:pt x="134" y="0"/>
                  </a:moveTo>
                  <a:lnTo>
                    <a:pt x="134" y="0"/>
                  </a:lnTo>
                  <a:lnTo>
                    <a:pt x="107" y="1"/>
                  </a:lnTo>
                  <a:lnTo>
                    <a:pt x="82" y="9"/>
                  </a:lnTo>
                  <a:lnTo>
                    <a:pt x="59" y="22"/>
                  </a:lnTo>
                  <a:lnTo>
                    <a:pt x="42" y="37"/>
                  </a:lnTo>
                  <a:lnTo>
                    <a:pt x="24" y="56"/>
                  </a:lnTo>
                  <a:lnTo>
                    <a:pt x="12" y="78"/>
                  </a:lnTo>
                  <a:lnTo>
                    <a:pt x="3" y="104"/>
                  </a:lnTo>
                  <a:lnTo>
                    <a:pt x="0" y="130"/>
                  </a:lnTo>
                  <a:lnTo>
                    <a:pt x="59" y="130"/>
                  </a:lnTo>
                  <a:lnTo>
                    <a:pt x="59" y="115"/>
                  </a:lnTo>
                  <a:lnTo>
                    <a:pt x="65" y="102"/>
                  </a:lnTo>
                  <a:lnTo>
                    <a:pt x="71" y="89"/>
                  </a:lnTo>
                  <a:lnTo>
                    <a:pt x="80" y="78"/>
                  </a:lnTo>
                  <a:lnTo>
                    <a:pt x="92" y="69"/>
                  </a:lnTo>
                  <a:lnTo>
                    <a:pt x="105" y="62"/>
                  </a:lnTo>
                  <a:lnTo>
                    <a:pt x="119" y="58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2290680" y="4676760"/>
              <a:ext cx="81000" cy="88920"/>
            </a:xfrm>
            <a:custGeom>
              <a:avLst/>
              <a:gdLst/>
              <a:ahLst/>
              <a:rect l="l" t="t" r="r" b="b"/>
              <a:pathLst>
                <a:path w="207" h="205">
                  <a:moveTo>
                    <a:pt x="103" y="0"/>
                  </a:moveTo>
                  <a:lnTo>
                    <a:pt x="124" y="2"/>
                  </a:lnTo>
                  <a:lnTo>
                    <a:pt x="144" y="8"/>
                  </a:lnTo>
                  <a:lnTo>
                    <a:pt x="161" y="18"/>
                  </a:lnTo>
                  <a:lnTo>
                    <a:pt x="176" y="30"/>
                  </a:lnTo>
                  <a:lnTo>
                    <a:pt x="190" y="45"/>
                  </a:lnTo>
                  <a:lnTo>
                    <a:pt x="198" y="63"/>
                  </a:lnTo>
                  <a:lnTo>
                    <a:pt x="206" y="82"/>
                  </a:lnTo>
                  <a:lnTo>
                    <a:pt x="207" y="103"/>
                  </a:lnTo>
                  <a:lnTo>
                    <a:pt x="206" y="124"/>
                  </a:lnTo>
                  <a:lnTo>
                    <a:pt x="198" y="143"/>
                  </a:lnTo>
                  <a:lnTo>
                    <a:pt x="190" y="161"/>
                  </a:lnTo>
                  <a:lnTo>
                    <a:pt x="176" y="175"/>
                  </a:lnTo>
                  <a:lnTo>
                    <a:pt x="161" y="187"/>
                  </a:lnTo>
                  <a:lnTo>
                    <a:pt x="144" y="198"/>
                  </a:lnTo>
                  <a:lnTo>
                    <a:pt x="124" y="204"/>
                  </a:lnTo>
                  <a:lnTo>
                    <a:pt x="103" y="205"/>
                  </a:lnTo>
                  <a:lnTo>
                    <a:pt x="83" y="204"/>
                  </a:lnTo>
                  <a:lnTo>
                    <a:pt x="63" y="198"/>
                  </a:lnTo>
                  <a:lnTo>
                    <a:pt x="46" y="187"/>
                  </a:lnTo>
                  <a:lnTo>
                    <a:pt x="31" y="175"/>
                  </a:lnTo>
                  <a:lnTo>
                    <a:pt x="17" y="161"/>
                  </a:lnTo>
                  <a:lnTo>
                    <a:pt x="8" y="143"/>
                  </a:lnTo>
                  <a:lnTo>
                    <a:pt x="1" y="124"/>
                  </a:lnTo>
                  <a:lnTo>
                    <a:pt x="0" y="103"/>
                  </a:lnTo>
                  <a:lnTo>
                    <a:pt x="1" y="82"/>
                  </a:lnTo>
                  <a:lnTo>
                    <a:pt x="8" y="63"/>
                  </a:lnTo>
                  <a:lnTo>
                    <a:pt x="17" y="45"/>
                  </a:lnTo>
                  <a:lnTo>
                    <a:pt x="31" y="30"/>
                  </a:lnTo>
                  <a:lnTo>
                    <a:pt x="46" y="18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2330280" y="4662360"/>
              <a:ext cx="51120" cy="59040"/>
            </a:xfrm>
            <a:custGeom>
              <a:avLst/>
              <a:gdLst/>
              <a:ahLst/>
              <a:rect l="l" t="t" r="r" b="b"/>
              <a:pathLst>
                <a:path w="133" h="131">
                  <a:moveTo>
                    <a:pt x="133" y="131"/>
                  </a:moveTo>
                  <a:lnTo>
                    <a:pt x="133" y="131"/>
                  </a:lnTo>
                  <a:lnTo>
                    <a:pt x="131" y="104"/>
                  </a:lnTo>
                  <a:lnTo>
                    <a:pt x="122" y="79"/>
                  </a:lnTo>
                  <a:lnTo>
                    <a:pt x="110" y="57"/>
                  </a:lnTo>
                  <a:lnTo>
                    <a:pt x="92" y="37"/>
                  </a:lnTo>
                  <a:lnTo>
                    <a:pt x="75" y="23"/>
                  </a:lnTo>
                  <a:lnTo>
                    <a:pt x="52" y="9"/>
                  </a:lnTo>
                  <a:lnTo>
                    <a:pt x="27" y="2"/>
                  </a:lnTo>
                  <a:lnTo>
                    <a:pt x="0" y="0"/>
                  </a:lnTo>
                  <a:lnTo>
                    <a:pt x="0" y="57"/>
                  </a:lnTo>
                  <a:lnTo>
                    <a:pt x="15" y="58"/>
                  </a:lnTo>
                  <a:lnTo>
                    <a:pt x="29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3" y="89"/>
                  </a:lnTo>
                  <a:lnTo>
                    <a:pt x="69" y="103"/>
                  </a:lnTo>
                  <a:lnTo>
                    <a:pt x="75" y="116"/>
                  </a:lnTo>
                  <a:lnTo>
                    <a:pt x="76" y="131"/>
                  </a:lnTo>
                  <a:lnTo>
                    <a:pt x="76" y="131"/>
                  </a:lnTo>
                  <a:lnTo>
                    <a:pt x="13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330280" y="4721400"/>
              <a:ext cx="51120" cy="58680"/>
            </a:xfrm>
            <a:custGeom>
              <a:avLst/>
              <a:gdLst/>
              <a:ahLst/>
              <a:rect l="l" t="t" r="r" b="b"/>
              <a:pathLst>
                <a:path w="133" h="132">
                  <a:moveTo>
                    <a:pt x="0" y="132"/>
                  </a:moveTo>
                  <a:lnTo>
                    <a:pt x="0" y="132"/>
                  </a:lnTo>
                  <a:lnTo>
                    <a:pt x="27" y="129"/>
                  </a:lnTo>
                  <a:lnTo>
                    <a:pt x="52" y="121"/>
                  </a:lnTo>
                  <a:lnTo>
                    <a:pt x="75" y="108"/>
                  </a:lnTo>
                  <a:lnTo>
                    <a:pt x="92" y="93"/>
                  </a:lnTo>
                  <a:lnTo>
                    <a:pt x="110" y="74"/>
                  </a:lnTo>
                  <a:lnTo>
                    <a:pt x="122" y="52"/>
                  </a:lnTo>
                  <a:lnTo>
                    <a:pt x="131" y="27"/>
                  </a:lnTo>
                  <a:lnTo>
                    <a:pt x="133" y="0"/>
                  </a:lnTo>
                  <a:lnTo>
                    <a:pt x="76" y="0"/>
                  </a:lnTo>
                  <a:lnTo>
                    <a:pt x="75" y="15"/>
                  </a:lnTo>
                  <a:lnTo>
                    <a:pt x="69" y="28"/>
                  </a:lnTo>
                  <a:lnTo>
                    <a:pt x="63" y="41"/>
                  </a:lnTo>
                  <a:lnTo>
                    <a:pt x="54" y="52"/>
                  </a:lnTo>
                  <a:lnTo>
                    <a:pt x="42" y="61"/>
                  </a:lnTo>
                  <a:lnTo>
                    <a:pt x="29" y="68"/>
                  </a:lnTo>
                  <a:lnTo>
                    <a:pt x="1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279520" y="4721400"/>
              <a:ext cx="50760" cy="58680"/>
            </a:xfrm>
            <a:custGeom>
              <a:avLst/>
              <a:gdLst/>
              <a:ahLst/>
              <a:rect l="l" t="t" r="r" b="b"/>
              <a:pathLst>
                <a:path w="133" h="132">
                  <a:moveTo>
                    <a:pt x="0" y="0"/>
                  </a:moveTo>
                  <a:lnTo>
                    <a:pt x="0" y="0"/>
                  </a:lnTo>
                  <a:lnTo>
                    <a:pt x="3" y="27"/>
                  </a:lnTo>
                  <a:lnTo>
                    <a:pt x="12" y="52"/>
                  </a:lnTo>
                  <a:lnTo>
                    <a:pt x="24" y="74"/>
                  </a:lnTo>
                  <a:lnTo>
                    <a:pt x="41" y="93"/>
                  </a:lnTo>
                  <a:lnTo>
                    <a:pt x="59" y="108"/>
                  </a:lnTo>
                  <a:lnTo>
                    <a:pt x="82" y="121"/>
                  </a:lnTo>
                  <a:lnTo>
                    <a:pt x="107" y="129"/>
                  </a:lnTo>
                  <a:lnTo>
                    <a:pt x="133" y="132"/>
                  </a:lnTo>
                  <a:lnTo>
                    <a:pt x="133" y="72"/>
                  </a:lnTo>
                  <a:lnTo>
                    <a:pt x="119" y="72"/>
                  </a:lnTo>
                  <a:lnTo>
                    <a:pt x="105" y="68"/>
                  </a:lnTo>
                  <a:lnTo>
                    <a:pt x="92" y="61"/>
                  </a:lnTo>
                  <a:lnTo>
                    <a:pt x="80" y="52"/>
                  </a:lnTo>
                  <a:lnTo>
                    <a:pt x="71" y="41"/>
                  </a:lnTo>
                  <a:lnTo>
                    <a:pt x="65" y="28"/>
                  </a:lnTo>
                  <a:lnTo>
                    <a:pt x="59" y="1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2279520" y="4662360"/>
              <a:ext cx="50760" cy="59040"/>
            </a:xfrm>
            <a:custGeom>
              <a:avLst/>
              <a:gdLst/>
              <a:ahLst/>
              <a:rect l="l" t="t" r="r" b="b"/>
              <a:pathLst>
                <a:path w="133" h="131">
                  <a:moveTo>
                    <a:pt x="133" y="0"/>
                  </a:moveTo>
                  <a:lnTo>
                    <a:pt x="133" y="0"/>
                  </a:lnTo>
                  <a:lnTo>
                    <a:pt x="107" y="2"/>
                  </a:lnTo>
                  <a:lnTo>
                    <a:pt x="82" y="9"/>
                  </a:lnTo>
                  <a:lnTo>
                    <a:pt x="59" y="23"/>
                  </a:lnTo>
                  <a:lnTo>
                    <a:pt x="41" y="37"/>
                  </a:lnTo>
                  <a:lnTo>
                    <a:pt x="24" y="57"/>
                  </a:lnTo>
                  <a:lnTo>
                    <a:pt x="12" y="79"/>
                  </a:lnTo>
                  <a:lnTo>
                    <a:pt x="3" y="104"/>
                  </a:lnTo>
                  <a:lnTo>
                    <a:pt x="0" y="131"/>
                  </a:lnTo>
                  <a:lnTo>
                    <a:pt x="59" y="131"/>
                  </a:lnTo>
                  <a:lnTo>
                    <a:pt x="59" y="116"/>
                  </a:lnTo>
                  <a:lnTo>
                    <a:pt x="65" y="103"/>
                  </a:lnTo>
                  <a:lnTo>
                    <a:pt x="71" y="89"/>
                  </a:lnTo>
                  <a:lnTo>
                    <a:pt x="80" y="79"/>
                  </a:lnTo>
                  <a:lnTo>
                    <a:pt x="92" y="70"/>
                  </a:lnTo>
                  <a:lnTo>
                    <a:pt x="105" y="63"/>
                  </a:lnTo>
                  <a:lnTo>
                    <a:pt x="119" y="58"/>
                  </a:lnTo>
                  <a:lnTo>
                    <a:pt x="133" y="57"/>
                  </a:lnTo>
                  <a:lnTo>
                    <a:pt x="133" y="57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365200" y="3699000"/>
              <a:ext cx="181080" cy="506160"/>
            </a:xfrm>
            <a:custGeom>
              <a:avLst/>
              <a:gdLst/>
              <a:ahLst/>
              <a:rect l="l" t="t" r="r" b="b"/>
              <a:pathLst>
                <a:path w="460" h="1148">
                  <a:moveTo>
                    <a:pt x="53" y="56"/>
                  </a:moveTo>
                  <a:lnTo>
                    <a:pt x="56" y="207"/>
                  </a:lnTo>
                  <a:lnTo>
                    <a:pt x="62" y="356"/>
                  </a:lnTo>
                  <a:lnTo>
                    <a:pt x="62" y="504"/>
                  </a:lnTo>
                  <a:lnTo>
                    <a:pt x="53" y="654"/>
                  </a:lnTo>
                  <a:lnTo>
                    <a:pt x="49" y="690"/>
                  </a:lnTo>
                  <a:lnTo>
                    <a:pt x="43" y="722"/>
                  </a:lnTo>
                  <a:lnTo>
                    <a:pt x="36" y="755"/>
                  </a:lnTo>
                  <a:lnTo>
                    <a:pt x="28" y="786"/>
                  </a:lnTo>
                  <a:lnTo>
                    <a:pt x="21" y="819"/>
                  </a:lnTo>
                  <a:lnTo>
                    <a:pt x="13" y="850"/>
                  </a:lnTo>
                  <a:lnTo>
                    <a:pt x="7" y="882"/>
                  </a:lnTo>
                  <a:lnTo>
                    <a:pt x="3" y="915"/>
                  </a:lnTo>
                  <a:lnTo>
                    <a:pt x="0" y="970"/>
                  </a:lnTo>
                  <a:lnTo>
                    <a:pt x="0" y="1031"/>
                  </a:lnTo>
                  <a:lnTo>
                    <a:pt x="6" y="1092"/>
                  </a:lnTo>
                  <a:lnTo>
                    <a:pt x="19" y="1148"/>
                  </a:lnTo>
                  <a:lnTo>
                    <a:pt x="44" y="1146"/>
                  </a:lnTo>
                  <a:lnTo>
                    <a:pt x="73" y="1146"/>
                  </a:lnTo>
                  <a:lnTo>
                    <a:pt x="102" y="1145"/>
                  </a:lnTo>
                  <a:lnTo>
                    <a:pt x="132" y="1143"/>
                  </a:lnTo>
                  <a:lnTo>
                    <a:pt x="163" y="1142"/>
                  </a:lnTo>
                  <a:lnTo>
                    <a:pt x="196" y="1140"/>
                  </a:lnTo>
                  <a:lnTo>
                    <a:pt x="228" y="1139"/>
                  </a:lnTo>
                  <a:lnTo>
                    <a:pt x="260" y="1137"/>
                  </a:lnTo>
                  <a:lnTo>
                    <a:pt x="291" y="1135"/>
                  </a:lnTo>
                  <a:lnTo>
                    <a:pt x="321" y="1132"/>
                  </a:lnTo>
                  <a:lnTo>
                    <a:pt x="350" y="1127"/>
                  </a:lnTo>
                  <a:lnTo>
                    <a:pt x="377" y="1123"/>
                  </a:lnTo>
                  <a:lnTo>
                    <a:pt x="402" y="1117"/>
                  </a:lnTo>
                  <a:lnTo>
                    <a:pt x="424" y="1111"/>
                  </a:lnTo>
                  <a:lnTo>
                    <a:pt x="444" y="1103"/>
                  </a:lnTo>
                  <a:lnTo>
                    <a:pt x="460" y="1096"/>
                  </a:lnTo>
                  <a:lnTo>
                    <a:pt x="451" y="894"/>
                  </a:lnTo>
                  <a:lnTo>
                    <a:pt x="445" y="691"/>
                  </a:lnTo>
                  <a:lnTo>
                    <a:pt x="436" y="489"/>
                  </a:lnTo>
                  <a:lnTo>
                    <a:pt x="421" y="289"/>
                  </a:lnTo>
                  <a:lnTo>
                    <a:pt x="417" y="252"/>
                  </a:lnTo>
                  <a:lnTo>
                    <a:pt x="411" y="216"/>
                  </a:lnTo>
                  <a:lnTo>
                    <a:pt x="404" y="179"/>
                  </a:lnTo>
                  <a:lnTo>
                    <a:pt x="395" y="144"/>
                  </a:lnTo>
                  <a:lnTo>
                    <a:pt x="386" y="108"/>
                  </a:lnTo>
                  <a:lnTo>
                    <a:pt x="377" y="72"/>
                  </a:lnTo>
                  <a:lnTo>
                    <a:pt x="368" y="35"/>
                  </a:lnTo>
                  <a:lnTo>
                    <a:pt x="359" y="0"/>
                  </a:lnTo>
                  <a:lnTo>
                    <a:pt x="341" y="4"/>
                  </a:lnTo>
                  <a:lnTo>
                    <a:pt x="322" y="7"/>
                  </a:lnTo>
                  <a:lnTo>
                    <a:pt x="303" y="12"/>
                  </a:lnTo>
                  <a:lnTo>
                    <a:pt x="285" y="15"/>
                  </a:lnTo>
                  <a:lnTo>
                    <a:pt x="266" y="18"/>
                  </a:lnTo>
                  <a:lnTo>
                    <a:pt x="245" y="21"/>
                  </a:lnTo>
                  <a:lnTo>
                    <a:pt x="226" y="25"/>
                  </a:lnTo>
                  <a:lnTo>
                    <a:pt x="206" y="28"/>
                  </a:lnTo>
                  <a:lnTo>
                    <a:pt x="187" y="31"/>
                  </a:lnTo>
                  <a:lnTo>
                    <a:pt x="168" y="35"/>
                  </a:lnTo>
                  <a:lnTo>
                    <a:pt x="147" y="38"/>
                  </a:lnTo>
                  <a:lnTo>
                    <a:pt x="128" y="41"/>
                  </a:lnTo>
                  <a:lnTo>
                    <a:pt x="110" y="44"/>
                  </a:lnTo>
                  <a:lnTo>
                    <a:pt x="90" y="49"/>
                  </a:lnTo>
                  <a:lnTo>
                    <a:pt x="71" y="52"/>
                  </a:lnTo>
                  <a:lnTo>
                    <a:pt x="53" y="56"/>
                  </a:lnTo>
                  <a:close/>
                </a:path>
              </a:pathLst>
            </a:custGeom>
            <a:solidFill>
              <a:srgbClr val="00ccff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2617920" y="4049640"/>
              <a:ext cx="7920" cy="112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2597040" y="4052880"/>
              <a:ext cx="6480" cy="130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2573280" y="4060800"/>
              <a:ext cx="0" cy="135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2541600" y="4065480"/>
              <a:ext cx="1440" cy="133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 flipH="1">
              <a:off x="2516040" y="4070520"/>
              <a:ext cx="5040" cy="147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flipH="1">
              <a:off x="2494080" y="4079880"/>
              <a:ext cx="2880" cy="142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386080" y="3600360"/>
              <a:ext cx="264960" cy="498600"/>
            </a:xfrm>
            <a:custGeom>
              <a:avLst/>
              <a:gdLst/>
              <a:ahLst/>
              <a:rect l="l" t="t" r="r" b="b"/>
              <a:pathLst>
                <a:path w="680" h="1126">
                  <a:moveTo>
                    <a:pt x="341" y="24"/>
                  </a:moveTo>
                  <a:lnTo>
                    <a:pt x="328" y="18"/>
                  </a:lnTo>
                  <a:lnTo>
                    <a:pt x="313" y="14"/>
                  </a:lnTo>
                  <a:lnTo>
                    <a:pt x="297" y="9"/>
                  </a:lnTo>
                  <a:lnTo>
                    <a:pt x="277" y="6"/>
                  </a:lnTo>
                  <a:lnTo>
                    <a:pt x="257" y="3"/>
                  </a:lnTo>
                  <a:lnTo>
                    <a:pt x="234" y="2"/>
                  </a:lnTo>
                  <a:lnTo>
                    <a:pt x="212" y="2"/>
                  </a:lnTo>
                  <a:lnTo>
                    <a:pt x="188" y="0"/>
                  </a:lnTo>
                  <a:lnTo>
                    <a:pt x="165" y="0"/>
                  </a:lnTo>
                  <a:lnTo>
                    <a:pt x="139" y="0"/>
                  </a:lnTo>
                  <a:lnTo>
                    <a:pt x="116" y="2"/>
                  </a:lnTo>
                  <a:lnTo>
                    <a:pt x="92" y="2"/>
                  </a:lnTo>
                  <a:lnTo>
                    <a:pt x="68" y="3"/>
                  </a:lnTo>
                  <a:lnTo>
                    <a:pt x="44" y="5"/>
                  </a:lnTo>
                  <a:lnTo>
                    <a:pt x="22" y="5"/>
                  </a:lnTo>
                  <a:lnTo>
                    <a:pt x="1" y="6"/>
                  </a:lnTo>
                  <a:lnTo>
                    <a:pt x="0" y="37"/>
                  </a:lnTo>
                  <a:lnTo>
                    <a:pt x="6" y="67"/>
                  </a:lnTo>
                  <a:lnTo>
                    <a:pt x="18" y="98"/>
                  </a:lnTo>
                  <a:lnTo>
                    <a:pt x="31" y="126"/>
                  </a:lnTo>
                  <a:lnTo>
                    <a:pt x="53" y="172"/>
                  </a:lnTo>
                  <a:lnTo>
                    <a:pt x="76" y="217"/>
                  </a:lnTo>
                  <a:lnTo>
                    <a:pt x="101" y="261"/>
                  </a:lnTo>
                  <a:lnTo>
                    <a:pt x="126" y="306"/>
                  </a:lnTo>
                  <a:lnTo>
                    <a:pt x="151" y="350"/>
                  </a:lnTo>
                  <a:lnTo>
                    <a:pt x="176" y="395"/>
                  </a:lnTo>
                  <a:lnTo>
                    <a:pt x="200" y="442"/>
                  </a:lnTo>
                  <a:lnTo>
                    <a:pt x="223" y="490"/>
                  </a:lnTo>
                  <a:lnTo>
                    <a:pt x="248" y="564"/>
                  </a:lnTo>
                  <a:lnTo>
                    <a:pt x="263" y="641"/>
                  </a:lnTo>
                  <a:lnTo>
                    <a:pt x="270" y="721"/>
                  </a:lnTo>
                  <a:lnTo>
                    <a:pt x="271" y="801"/>
                  </a:lnTo>
                  <a:lnTo>
                    <a:pt x="270" y="883"/>
                  </a:lnTo>
                  <a:lnTo>
                    <a:pt x="267" y="964"/>
                  </a:lnTo>
                  <a:lnTo>
                    <a:pt x="266" y="1046"/>
                  </a:lnTo>
                  <a:lnTo>
                    <a:pt x="269" y="1126"/>
                  </a:lnTo>
                  <a:lnTo>
                    <a:pt x="291" y="1120"/>
                  </a:lnTo>
                  <a:lnTo>
                    <a:pt x="313" y="1116"/>
                  </a:lnTo>
                  <a:lnTo>
                    <a:pt x="334" y="1110"/>
                  </a:lnTo>
                  <a:lnTo>
                    <a:pt x="356" y="1104"/>
                  </a:lnTo>
                  <a:lnTo>
                    <a:pt x="377" y="1098"/>
                  </a:lnTo>
                  <a:lnTo>
                    <a:pt x="398" y="1092"/>
                  </a:lnTo>
                  <a:lnTo>
                    <a:pt x="417" y="1086"/>
                  </a:lnTo>
                  <a:lnTo>
                    <a:pt x="438" y="1080"/>
                  </a:lnTo>
                  <a:lnTo>
                    <a:pt x="458" y="1076"/>
                  </a:lnTo>
                  <a:lnTo>
                    <a:pt x="479" y="1070"/>
                  </a:lnTo>
                  <a:lnTo>
                    <a:pt x="500" y="1064"/>
                  </a:lnTo>
                  <a:lnTo>
                    <a:pt x="521" y="1058"/>
                  </a:lnTo>
                  <a:lnTo>
                    <a:pt x="542" y="1052"/>
                  </a:lnTo>
                  <a:lnTo>
                    <a:pt x="564" y="1046"/>
                  </a:lnTo>
                  <a:lnTo>
                    <a:pt x="586" y="1042"/>
                  </a:lnTo>
                  <a:lnTo>
                    <a:pt x="608" y="1036"/>
                  </a:lnTo>
                  <a:lnTo>
                    <a:pt x="623" y="999"/>
                  </a:lnTo>
                  <a:lnTo>
                    <a:pt x="638" y="953"/>
                  </a:lnTo>
                  <a:lnTo>
                    <a:pt x="651" y="899"/>
                  </a:lnTo>
                  <a:lnTo>
                    <a:pt x="663" y="841"/>
                  </a:lnTo>
                  <a:lnTo>
                    <a:pt x="672" y="780"/>
                  </a:lnTo>
                  <a:lnTo>
                    <a:pt x="678" y="720"/>
                  </a:lnTo>
                  <a:lnTo>
                    <a:pt x="680" y="660"/>
                  </a:lnTo>
                  <a:lnTo>
                    <a:pt x="675" y="604"/>
                  </a:lnTo>
                  <a:lnTo>
                    <a:pt x="668" y="559"/>
                  </a:lnTo>
                  <a:lnTo>
                    <a:pt x="657" y="516"/>
                  </a:lnTo>
                  <a:lnTo>
                    <a:pt x="644" y="475"/>
                  </a:lnTo>
                  <a:lnTo>
                    <a:pt x="626" y="433"/>
                  </a:lnTo>
                  <a:lnTo>
                    <a:pt x="605" y="393"/>
                  </a:lnTo>
                  <a:lnTo>
                    <a:pt x="580" y="355"/>
                  </a:lnTo>
                  <a:lnTo>
                    <a:pt x="552" y="319"/>
                  </a:lnTo>
                  <a:lnTo>
                    <a:pt x="518" y="285"/>
                  </a:lnTo>
                  <a:lnTo>
                    <a:pt x="488" y="254"/>
                  </a:lnTo>
                  <a:lnTo>
                    <a:pt x="463" y="221"/>
                  </a:lnTo>
                  <a:lnTo>
                    <a:pt x="441" y="189"/>
                  </a:lnTo>
                  <a:lnTo>
                    <a:pt x="421" y="155"/>
                  </a:lnTo>
                  <a:lnTo>
                    <a:pt x="404" y="120"/>
                  </a:lnTo>
                  <a:lnTo>
                    <a:pt x="386" y="86"/>
                  </a:lnTo>
                  <a:lnTo>
                    <a:pt x="365" y="55"/>
                  </a:lnTo>
                  <a:lnTo>
                    <a:pt x="341" y="24"/>
                  </a:lnTo>
                  <a:close/>
                </a:path>
              </a:pathLst>
            </a:custGeom>
            <a:solidFill>
              <a:srgbClr val="00ccff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7" name="STETHSC2" descr=""/>
          <p:cNvPicPr/>
          <p:nvPr/>
        </p:nvPicPr>
        <p:blipFill>
          <a:blip r:embed="rId1"/>
          <a:stretch/>
        </p:blipFill>
        <p:spPr>
          <a:xfrm>
            <a:off x="762120" y="3137040"/>
            <a:ext cx="2666880" cy="1344600"/>
          </a:xfrm>
          <a:prstGeom prst="rect">
            <a:avLst/>
          </a:prstGeom>
          <a:ln w="0">
            <a:noFill/>
          </a:ln>
        </p:spPr>
      </p:pic>
      <p:sp>
        <p:nvSpPr>
          <p:cNvPr id="3698" name=""/>
          <p:cNvSpPr/>
          <p:nvPr/>
        </p:nvSpPr>
        <p:spPr>
          <a:xfrm>
            <a:off x="175428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70120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0" name=""/>
          <p:cNvGrpSpPr/>
          <p:nvPr/>
        </p:nvGrpSpPr>
        <p:grpSpPr>
          <a:xfrm>
            <a:off x="5987880" y="2765520"/>
            <a:ext cx="1740240" cy="2089080"/>
            <a:chOff x="5987880" y="2765520"/>
            <a:chExt cx="1740240" cy="2089080"/>
          </a:xfrm>
        </p:grpSpPr>
        <p:grpSp>
          <p:nvGrpSpPr>
            <p:cNvPr id="3701" name=""/>
            <p:cNvGrpSpPr/>
            <p:nvPr/>
          </p:nvGrpSpPr>
          <p:grpSpPr>
            <a:xfrm>
              <a:off x="5987880" y="2765520"/>
              <a:ext cx="1740240" cy="2089080"/>
              <a:chOff x="5987880" y="2765520"/>
              <a:chExt cx="1740240" cy="2089080"/>
            </a:xfrm>
          </p:grpSpPr>
          <p:sp>
            <p:nvSpPr>
              <p:cNvPr id="3702" name=""/>
              <p:cNvSpPr/>
              <p:nvPr/>
            </p:nvSpPr>
            <p:spPr>
              <a:xfrm>
                <a:off x="7189920" y="4037040"/>
                <a:ext cx="253800" cy="817560"/>
              </a:xfrm>
              <a:custGeom>
                <a:avLst/>
                <a:gdLst/>
                <a:ahLst/>
                <a:rect l="l" t="t" r="r" b="b"/>
                <a:pathLst>
                  <a:path w="963" h="3093">
                    <a:moveTo>
                      <a:pt x="27" y="0"/>
                    </a:moveTo>
                    <a:lnTo>
                      <a:pt x="963" y="2845"/>
                    </a:lnTo>
                    <a:lnTo>
                      <a:pt x="0" y="309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e8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196040" y="3848040"/>
                <a:ext cx="306360" cy="941400"/>
              </a:xfrm>
              <a:custGeom>
                <a:avLst/>
                <a:gdLst/>
                <a:ahLst/>
                <a:rect l="l" t="t" r="r" b="b"/>
                <a:pathLst>
                  <a:path w="1159" h="3556">
                    <a:moveTo>
                      <a:pt x="936" y="3556"/>
                    </a:moveTo>
                    <a:lnTo>
                      <a:pt x="0" y="711"/>
                    </a:lnTo>
                    <a:lnTo>
                      <a:pt x="6" y="0"/>
                    </a:lnTo>
                    <a:lnTo>
                      <a:pt x="1159" y="3499"/>
                    </a:lnTo>
                    <a:lnTo>
                      <a:pt x="936" y="3556"/>
                    </a:lnTo>
                    <a:close/>
                  </a:path>
                </a:pathLst>
              </a:custGeom>
              <a:solidFill>
                <a:srgbClr val="9e8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197840" y="3659040"/>
                <a:ext cx="363600" cy="1114560"/>
              </a:xfrm>
              <a:custGeom>
                <a:avLst/>
                <a:gdLst/>
                <a:ahLst/>
                <a:rect l="l" t="t" r="r" b="b"/>
                <a:pathLst>
                  <a:path w="1374" h="4212">
                    <a:moveTo>
                      <a:pt x="1153" y="4212"/>
                    </a:moveTo>
                    <a:lnTo>
                      <a:pt x="0" y="713"/>
                    </a:lnTo>
                    <a:lnTo>
                      <a:pt x="6" y="0"/>
                    </a:lnTo>
                    <a:lnTo>
                      <a:pt x="1374" y="4154"/>
                    </a:lnTo>
                    <a:lnTo>
                      <a:pt x="1153" y="4212"/>
                    </a:lnTo>
                    <a:close/>
                  </a:path>
                </a:pathLst>
              </a:custGeom>
              <a:solidFill>
                <a:srgbClr val="a59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199280" y="3471840"/>
                <a:ext cx="420840" cy="1287360"/>
              </a:xfrm>
              <a:custGeom>
                <a:avLst/>
                <a:gdLst/>
                <a:ahLst/>
                <a:rect l="l" t="t" r="r" b="b"/>
                <a:pathLst>
                  <a:path w="1590" h="4866">
                    <a:moveTo>
                      <a:pt x="1368" y="4866"/>
                    </a:moveTo>
                    <a:lnTo>
                      <a:pt x="0" y="712"/>
                    </a:lnTo>
                    <a:lnTo>
                      <a:pt x="6" y="0"/>
                    </a:lnTo>
                    <a:lnTo>
                      <a:pt x="1590" y="4809"/>
                    </a:lnTo>
                    <a:lnTo>
                      <a:pt x="1368" y="4866"/>
                    </a:lnTo>
                    <a:close/>
                  </a:path>
                </a:pathLst>
              </a:custGeom>
              <a:solidFill>
                <a:srgbClr val="aa9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201080" y="3282840"/>
                <a:ext cx="477720" cy="1460520"/>
              </a:xfrm>
              <a:custGeom>
                <a:avLst/>
                <a:gdLst/>
                <a:ahLst/>
                <a:rect l="l" t="t" r="r" b="b"/>
                <a:pathLst>
                  <a:path w="1805" h="5522">
                    <a:moveTo>
                      <a:pt x="1584" y="5522"/>
                    </a:moveTo>
                    <a:lnTo>
                      <a:pt x="0" y="713"/>
                    </a:lnTo>
                    <a:lnTo>
                      <a:pt x="7" y="0"/>
                    </a:lnTo>
                    <a:lnTo>
                      <a:pt x="1805" y="5464"/>
                    </a:lnTo>
                    <a:lnTo>
                      <a:pt x="1584" y="5522"/>
                    </a:lnTo>
                    <a:close/>
                  </a:path>
                </a:pathLst>
              </a:custGeom>
              <a:solidFill>
                <a:srgbClr val="b5a8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202520" y="3094200"/>
                <a:ext cx="522360" cy="1633320"/>
              </a:xfrm>
              <a:custGeom>
                <a:avLst/>
                <a:gdLst/>
                <a:ahLst/>
                <a:rect l="l" t="t" r="r" b="b"/>
                <a:pathLst>
                  <a:path w="1973" h="6179">
                    <a:moveTo>
                      <a:pt x="1798" y="6179"/>
                    </a:moveTo>
                    <a:lnTo>
                      <a:pt x="0" y="715"/>
                    </a:lnTo>
                    <a:lnTo>
                      <a:pt x="4" y="0"/>
                    </a:lnTo>
                    <a:lnTo>
                      <a:pt x="1973" y="5976"/>
                    </a:lnTo>
                    <a:lnTo>
                      <a:pt x="1973" y="6136"/>
                    </a:lnTo>
                    <a:lnTo>
                      <a:pt x="1798" y="6179"/>
                    </a:lnTo>
                    <a:close/>
                  </a:path>
                </a:pathLst>
              </a:custGeom>
              <a:solidFill>
                <a:srgbClr val="baa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203960" y="2905200"/>
                <a:ext cx="520920" cy="1768320"/>
              </a:xfrm>
              <a:custGeom>
                <a:avLst/>
                <a:gdLst/>
                <a:ahLst/>
                <a:rect l="l" t="t" r="r" b="b"/>
                <a:pathLst>
                  <a:path w="1971" h="6689">
                    <a:moveTo>
                      <a:pt x="1969" y="6689"/>
                    </a:moveTo>
                    <a:lnTo>
                      <a:pt x="0" y="713"/>
                    </a:lnTo>
                    <a:lnTo>
                      <a:pt x="8" y="0"/>
                    </a:lnTo>
                    <a:lnTo>
                      <a:pt x="1971" y="5961"/>
                    </a:lnTo>
                    <a:lnTo>
                      <a:pt x="1969" y="6689"/>
                    </a:lnTo>
                    <a:close/>
                  </a:path>
                </a:pathLst>
              </a:custGeom>
              <a:solidFill>
                <a:srgbClr val="c1b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205760" y="2766960"/>
                <a:ext cx="519120" cy="1714680"/>
              </a:xfrm>
              <a:custGeom>
                <a:avLst/>
                <a:gdLst/>
                <a:ahLst/>
                <a:rect l="l" t="t" r="r" b="b"/>
                <a:pathLst>
                  <a:path w="1963" h="6481">
                    <a:moveTo>
                      <a:pt x="1963" y="6481"/>
                    </a:moveTo>
                    <a:lnTo>
                      <a:pt x="0" y="520"/>
                    </a:lnTo>
                    <a:lnTo>
                      <a:pt x="4" y="0"/>
                    </a:lnTo>
                    <a:lnTo>
                      <a:pt x="84" y="43"/>
                    </a:lnTo>
                    <a:lnTo>
                      <a:pt x="1963" y="5754"/>
                    </a:lnTo>
                    <a:lnTo>
                      <a:pt x="1963" y="6481"/>
                    </a:lnTo>
                    <a:close/>
                  </a:path>
                </a:pathLst>
              </a:custGeom>
              <a:solidFill>
                <a:srgbClr val="c9c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227720" y="2778120"/>
                <a:ext cx="498600" cy="1511280"/>
              </a:xfrm>
              <a:custGeom>
                <a:avLst/>
                <a:gdLst/>
                <a:ahLst/>
                <a:rect l="l" t="t" r="r" b="b"/>
                <a:pathLst>
                  <a:path w="1881" h="5711">
                    <a:moveTo>
                      <a:pt x="1879" y="5711"/>
                    </a:moveTo>
                    <a:lnTo>
                      <a:pt x="0" y="0"/>
                    </a:lnTo>
                    <a:lnTo>
                      <a:pt x="294" y="166"/>
                    </a:lnTo>
                    <a:lnTo>
                      <a:pt x="1881" y="4984"/>
                    </a:lnTo>
                    <a:lnTo>
                      <a:pt x="1879" y="5711"/>
                    </a:lnTo>
                    <a:close/>
                  </a:path>
                </a:pathLst>
              </a:custGeom>
              <a:solidFill>
                <a:srgbClr val="d1c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305840" y="2822400"/>
                <a:ext cx="420480" cy="1274760"/>
              </a:xfrm>
              <a:custGeom>
                <a:avLst/>
                <a:gdLst/>
                <a:ahLst/>
                <a:rect l="l" t="t" r="r" b="b"/>
                <a:pathLst>
                  <a:path w="1589" h="4818">
                    <a:moveTo>
                      <a:pt x="1587" y="4818"/>
                    </a:moveTo>
                    <a:lnTo>
                      <a:pt x="0" y="0"/>
                    </a:lnTo>
                    <a:lnTo>
                      <a:pt x="296" y="165"/>
                    </a:lnTo>
                    <a:lnTo>
                      <a:pt x="1589" y="4095"/>
                    </a:lnTo>
                    <a:lnTo>
                      <a:pt x="1587" y="4818"/>
                    </a:lnTo>
                    <a:close/>
                  </a:path>
                </a:pathLst>
              </a:custGeom>
              <a:solidFill>
                <a:srgbClr val="d8d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383600" y="2865600"/>
                <a:ext cx="342720" cy="1039680"/>
              </a:xfrm>
              <a:custGeom>
                <a:avLst/>
                <a:gdLst/>
                <a:ahLst/>
                <a:rect l="l" t="t" r="r" b="b"/>
                <a:pathLst>
                  <a:path w="1293" h="3930">
                    <a:moveTo>
                      <a:pt x="1293" y="3930"/>
                    </a:moveTo>
                    <a:lnTo>
                      <a:pt x="0" y="0"/>
                    </a:lnTo>
                    <a:lnTo>
                      <a:pt x="295" y="165"/>
                    </a:lnTo>
                    <a:lnTo>
                      <a:pt x="1293" y="3203"/>
                    </a:lnTo>
                    <a:lnTo>
                      <a:pt x="1293" y="3930"/>
                    </a:lnTo>
                    <a:close/>
                  </a:path>
                </a:pathLst>
              </a:custGeom>
              <a:solidFill>
                <a:srgbClr val="e0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7462800" y="2909880"/>
                <a:ext cx="265320" cy="803160"/>
              </a:xfrm>
              <a:custGeom>
                <a:avLst/>
                <a:gdLst/>
                <a:ahLst/>
                <a:rect l="l" t="t" r="r" b="b"/>
                <a:pathLst>
                  <a:path w="1002" h="3038">
                    <a:moveTo>
                      <a:pt x="998" y="3038"/>
                    </a:moveTo>
                    <a:lnTo>
                      <a:pt x="0" y="0"/>
                    </a:lnTo>
                    <a:lnTo>
                      <a:pt x="293" y="165"/>
                    </a:lnTo>
                    <a:lnTo>
                      <a:pt x="1002" y="2312"/>
                    </a:lnTo>
                    <a:lnTo>
                      <a:pt x="998" y="3038"/>
                    </a:lnTo>
                    <a:close/>
                  </a:path>
                </a:pathLst>
              </a:custGeom>
              <a:solidFill>
                <a:srgbClr val="e8e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540560" y="2952720"/>
                <a:ext cx="187560" cy="568440"/>
              </a:xfrm>
              <a:custGeom>
                <a:avLst/>
                <a:gdLst/>
                <a:ahLst/>
                <a:rect l="l" t="t" r="r" b="b"/>
                <a:pathLst>
                  <a:path w="710" h="2147">
                    <a:moveTo>
                      <a:pt x="709" y="2147"/>
                    </a:moveTo>
                    <a:lnTo>
                      <a:pt x="0" y="0"/>
                    </a:lnTo>
                    <a:lnTo>
                      <a:pt x="297" y="165"/>
                    </a:lnTo>
                    <a:lnTo>
                      <a:pt x="710" y="1420"/>
                    </a:lnTo>
                    <a:lnTo>
                      <a:pt x="709" y="2147"/>
                    </a:lnTo>
                    <a:close/>
                  </a:path>
                </a:pathLst>
              </a:custGeom>
              <a:solidFill>
                <a:srgbClr val="efed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618320" y="2997360"/>
                <a:ext cx="109800" cy="331560"/>
              </a:xfrm>
              <a:custGeom>
                <a:avLst/>
                <a:gdLst/>
                <a:ahLst/>
                <a:rect l="l" t="t" r="r" b="b"/>
                <a:pathLst>
                  <a:path w="414" h="1255">
                    <a:moveTo>
                      <a:pt x="413" y="1255"/>
                    </a:moveTo>
                    <a:lnTo>
                      <a:pt x="0" y="0"/>
                    </a:lnTo>
                    <a:lnTo>
                      <a:pt x="296" y="166"/>
                    </a:lnTo>
                    <a:lnTo>
                      <a:pt x="414" y="528"/>
                    </a:lnTo>
                    <a:lnTo>
                      <a:pt x="413" y="1255"/>
                    </a:lnTo>
                    <a:close/>
                  </a:path>
                </a:pathLst>
              </a:custGeom>
              <a:solidFill>
                <a:srgbClr val="f7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696080" y="3040200"/>
                <a:ext cx="32040" cy="96840"/>
              </a:xfrm>
              <a:custGeom>
                <a:avLst/>
                <a:gdLst/>
                <a:ahLst/>
                <a:rect l="l" t="t" r="r" b="b"/>
                <a:pathLst>
                  <a:path w="118" h="362">
                    <a:moveTo>
                      <a:pt x="118" y="362"/>
                    </a:moveTo>
                    <a:lnTo>
                      <a:pt x="0" y="0"/>
                    </a:lnTo>
                    <a:lnTo>
                      <a:pt x="118" y="65"/>
                    </a:lnTo>
                    <a:lnTo>
                      <a:pt x="118" y="3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189920" y="2766960"/>
                <a:ext cx="538200" cy="2087640"/>
              </a:xfrm>
              <a:custGeom>
                <a:avLst/>
                <a:gdLst/>
                <a:ahLst/>
                <a:rect l="l" t="t" r="r" b="b"/>
                <a:pathLst>
                  <a:path w="2037" h="7890">
                    <a:moveTo>
                      <a:pt x="2037" y="1100"/>
                    </a:moveTo>
                    <a:lnTo>
                      <a:pt x="68" y="0"/>
                    </a:lnTo>
                    <a:lnTo>
                      <a:pt x="0" y="7890"/>
                    </a:lnTo>
                    <a:lnTo>
                      <a:pt x="2025" y="7369"/>
                    </a:lnTo>
                    <a:lnTo>
                      <a:pt x="2037" y="1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005520" y="4470480"/>
                <a:ext cx="920880" cy="361800"/>
              </a:xfrm>
              <a:custGeom>
                <a:avLst/>
                <a:gdLst/>
                <a:ahLst/>
                <a:rect l="l" t="t" r="r" b="b"/>
                <a:pathLst>
                  <a:path w="3480" h="1369">
                    <a:moveTo>
                      <a:pt x="0" y="0"/>
                    </a:moveTo>
                    <a:lnTo>
                      <a:pt x="3480" y="1369"/>
                    </a:lnTo>
                    <a:lnTo>
                      <a:pt x="14" y="1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004080" y="4351320"/>
                <a:ext cx="1220760" cy="503280"/>
              </a:xfrm>
              <a:custGeom>
                <a:avLst/>
                <a:gdLst/>
                <a:ahLst/>
                <a:rect l="l" t="t" r="r" b="b"/>
                <a:pathLst>
                  <a:path w="4618" h="1905">
                    <a:moveTo>
                      <a:pt x="3486" y="1821"/>
                    </a:moveTo>
                    <a:lnTo>
                      <a:pt x="6" y="452"/>
                    </a:lnTo>
                    <a:lnTo>
                      <a:pt x="0" y="0"/>
                    </a:lnTo>
                    <a:lnTo>
                      <a:pt x="4618" y="1817"/>
                    </a:lnTo>
                    <a:lnTo>
                      <a:pt x="4618" y="1905"/>
                    </a:lnTo>
                    <a:lnTo>
                      <a:pt x="4618" y="1905"/>
                    </a:lnTo>
                    <a:lnTo>
                      <a:pt x="3486" y="1821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6002280" y="4230720"/>
                <a:ext cx="1222560" cy="600120"/>
              </a:xfrm>
              <a:custGeom>
                <a:avLst/>
                <a:gdLst/>
                <a:ahLst/>
                <a:rect l="l" t="t" r="r" b="b"/>
                <a:pathLst>
                  <a:path w="4624" h="2268">
                    <a:moveTo>
                      <a:pt x="4624" y="2268"/>
                    </a:moveTo>
                    <a:lnTo>
                      <a:pt x="6" y="451"/>
                    </a:lnTo>
                    <a:lnTo>
                      <a:pt x="0" y="0"/>
                    </a:lnTo>
                    <a:lnTo>
                      <a:pt x="4619" y="1817"/>
                    </a:lnTo>
                    <a:lnTo>
                      <a:pt x="4624" y="2268"/>
                    </a:lnTo>
                    <a:close/>
                  </a:path>
                </a:pathLst>
              </a:custGeom>
              <a:solidFill>
                <a:srgbClr val="dbd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6000840" y="4111560"/>
                <a:ext cx="1224000" cy="600120"/>
              </a:xfrm>
              <a:custGeom>
                <a:avLst/>
                <a:gdLst/>
                <a:ahLst/>
                <a:rect l="l" t="t" r="r" b="b"/>
                <a:pathLst>
                  <a:path w="4625" h="2267">
                    <a:moveTo>
                      <a:pt x="4625" y="2267"/>
                    </a:moveTo>
                    <a:lnTo>
                      <a:pt x="6" y="450"/>
                    </a:lnTo>
                    <a:lnTo>
                      <a:pt x="0" y="0"/>
                    </a:lnTo>
                    <a:lnTo>
                      <a:pt x="4623" y="1817"/>
                    </a:lnTo>
                    <a:lnTo>
                      <a:pt x="4625" y="2267"/>
                    </a:lnTo>
                    <a:close/>
                  </a:path>
                </a:pathLst>
              </a:custGeom>
              <a:solidFill>
                <a:srgbClr val="ddd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999040" y="3992400"/>
                <a:ext cx="1224000" cy="600120"/>
              </a:xfrm>
              <a:custGeom>
                <a:avLst/>
                <a:gdLst/>
                <a:ahLst/>
                <a:rect l="l" t="t" r="r" b="b"/>
                <a:pathLst>
                  <a:path w="4630" h="2268">
                    <a:moveTo>
                      <a:pt x="4630" y="2268"/>
                    </a:moveTo>
                    <a:lnTo>
                      <a:pt x="7" y="451"/>
                    </a:lnTo>
                    <a:lnTo>
                      <a:pt x="0" y="0"/>
                    </a:lnTo>
                    <a:lnTo>
                      <a:pt x="4627" y="1819"/>
                    </a:lnTo>
                    <a:lnTo>
                      <a:pt x="4630" y="2268"/>
                    </a:lnTo>
                    <a:close/>
                  </a:path>
                </a:pathLst>
              </a:custGeom>
              <a:solidFill>
                <a:srgbClr val="e0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997600" y="3873600"/>
                <a:ext cx="1225440" cy="600120"/>
              </a:xfrm>
              <a:custGeom>
                <a:avLst/>
                <a:gdLst/>
                <a:ahLst/>
                <a:rect l="l" t="t" r="r" b="b"/>
                <a:pathLst>
                  <a:path w="4632" h="2268">
                    <a:moveTo>
                      <a:pt x="4632" y="2268"/>
                    </a:moveTo>
                    <a:lnTo>
                      <a:pt x="5" y="449"/>
                    </a:lnTo>
                    <a:lnTo>
                      <a:pt x="0" y="0"/>
                    </a:lnTo>
                    <a:lnTo>
                      <a:pt x="4627" y="1816"/>
                    </a:lnTo>
                    <a:lnTo>
                      <a:pt x="4632" y="2268"/>
                    </a:lnTo>
                    <a:close/>
                  </a:path>
                </a:pathLst>
              </a:custGeom>
              <a:solidFill>
                <a:srgbClr val="e2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996160" y="3754440"/>
                <a:ext cx="1225440" cy="600120"/>
              </a:xfrm>
              <a:custGeom>
                <a:avLst/>
                <a:gdLst/>
                <a:ahLst/>
                <a:rect l="l" t="t" r="r" b="b"/>
                <a:pathLst>
                  <a:path w="4632" h="2267">
                    <a:moveTo>
                      <a:pt x="4632" y="2267"/>
                    </a:moveTo>
                    <a:lnTo>
                      <a:pt x="5" y="451"/>
                    </a:lnTo>
                    <a:lnTo>
                      <a:pt x="0" y="0"/>
                    </a:lnTo>
                    <a:lnTo>
                      <a:pt x="4628" y="1818"/>
                    </a:lnTo>
                    <a:lnTo>
                      <a:pt x="4632" y="2267"/>
                    </a:lnTo>
                    <a:close/>
                  </a:path>
                </a:pathLst>
              </a:custGeom>
              <a:solidFill>
                <a:srgbClr val="e8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994360" y="3635280"/>
                <a:ext cx="1225440" cy="600120"/>
              </a:xfrm>
              <a:custGeom>
                <a:avLst/>
                <a:gdLst/>
                <a:ahLst/>
                <a:rect l="l" t="t" r="r" b="b"/>
                <a:pathLst>
                  <a:path w="4636" h="2269">
                    <a:moveTo>
                      <a:pt x="4636" y="2269"/>
                    </a:moveTo>
                    <a:lnTo>
                      <a:pt x="8" y="451"/>
                    </a:lnTo>
                    <a:lnTo>
                      <a:pt x="0" y="0"/>
                    </a:lnTo>
                    <a:lnTo>
                      <a:pt x="4632" y="1819"/>
                    </a:lnTo>
                    <a:lnTo>
                      <a:pt x="4636" y="2269"/>
                    </a:lnTo>
                    <a:close/>
                  </a:path>
                </a:pathLst>
              </a:custGeom>
              <a:solidFill>
                <a:srgbClr val="eae8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992920" y="3516480"/>
                <a:ext cx="1226880" cy="599760"/>
              </a:xfrm>
              <a:custGeom>
                <a:avLst/>
                <a:gdLst/>
                <a:ahLst/>
                <a:rect l="l" t="t" r="r" b="b"/>
                <a:pathLst>
                  <a:path w="4636" h="2271">
                    <a:moveTo>
                      <a:pt x="4636" y="2271"/>
                    </a:moveTo>
                    <a:lnTo>
                      <a:pt x="4" y="452"/>
                    </a:lnTo>
                    <a:lnTo>
                      <a:pt x="0" y="0"/>
                    </a:lnTo>
                    <a:lnTo>
                      <a:pt x="4632" y="1820"/>
                    </a:lnTo>
                    <a:lnTo>
                      <a:pt x="4636" y="2271"/>
                    </a:lnTo>
                    <a:close/>
                  </a:path>
                </a:pathLst>
              </a:custGeom>
              <a:solidFill>
                <a:srgbClr val="ede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991120" y="3395520"/>
                <a:ext cx="1227240" cy="601920"/>
              </a:xfrm>
              <a:custGeom>
                <a:avLst/>
                <a:gdLst/>
                <a:ahLst/>
                <a:rect l="l" t="t" r="r" b="b"/>
                <a:pathLst>
                  <a:path w="4638" h="2271">
                    <a:moveTo>
                      <a:pt x="4638" y="2271"/>
                    </a:moveTo>
                    <a:lnTo>
                      <a:pt x="6" y="451"/>
                    </a:lnTo>
                    <a:lnTo>
                      <a:pt x="0" y="0"/>
                    </a:lnTo>
                    <a:lnTo>
                      <a:pt x="4636" y="1822"/>
                    </a:lnTo>
                    <a:lnTo>
                      <a:pt x="4638" y="2271"/>
                    </a:lnTo>
                    <a:close/>
                  </a:path>
                </a:pathLst>
              </a:custGeom>
              <a:solidFill>
                <a:srgbClr val="efed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5989680" y="3276720"/>
                <a:ext cx="1228680" cy="601560"/>
              </a:xfrm>
              <a:custGeom>
                <a:avLst/>
                <a:gdLst/>
                <a:ahLst/>
                <a:rect l="l" t="t" r="r" b="b"/>
                <a:pathLst>
                  <a:path w="4642" h="2273">
                    <a:moveTo>
                      <a:pt x="4642" y="2273"/>
                    </a:moveTo>
                    <a:lnTo>
                      <a:pt x="6" y="451"/>
                    </a:lnTo>
                    <a:lnTo>
                      <a:pt x="0" y="0"/>
                    </a:lnTo>
                    <a:lnTo>
                      <a:pt x="4637" y="1824"/>
                    </a:lnTo>
                    <a:lnTo>
                      <a:pt x="4642" y="2273"/>
                    </a:lnTo>
                    <a:close/>
                  </a:path>
                </a:pathLst>
              </a:custGeom>
              <a:solidFill>
                <a:srgbClr val="f2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5987880" y="3164040"/>
                <a:ext cx="1229040" cy="595080"/>
              </a:xfrm>
              <a:custGeom>
                <a:avLst/>
                <a:gdLst/>
                <a:ahLst/>
                <a:rect l="l" t="t" r="r" b="b"/>
                <a:pathLst>
                  <a:path w="4643" h="2252">
                    <a:moveTo>
                      <a:pt x="4643" y="2252"/>
                    </a:moveTo>
                    <a:lnTo>
                      <a:pt x="6" y="42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59" y="0"/>
                    </a:lnTo>
                    <a:lnTo>
                      <a:pt x="4640" y="1800"/>
                    </a:lnTo>
                    <a:lnTo>
                      <a:pt x="4643" y="2252"/>
                    </a:lnTo>
                    <a:close/>
                  </a:path>
                </a:pathLst>
              </a:custGeom>
              <a:solidFill>
                <a:srgbClr val="f4f4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6004080" y="3121200"/>
                <a:ext cx="1211040" cy="518760"/>
              </a:xfrm>
              <a:custGeom>
                <a:avLst/>
                <a:gdLst/>
                <a:ahLst/>
                <a:rect l="l" t="t" r="r" b="b"/>
                <a:pathLst>
                  <a:path w="4581" h="1962">
                    <a:moveTo>
                      <a:pt x="4581" y="1962"/>
                    </a:moveTo>
                    <a:lnTo>
                      <a:pt x="0" y="162"/>
                    </a:lnTo>
                    <a:lnTo>
                      <a:pt x="731" y="0"/>
                    </a:lnTo>
                    <a:lnTo>
                      <a:pt x="4576" y="1513"/>
                    </a:lnTo>
                    <a:lnTo>
                      <a:pt x="4581" y="1962"/>
                    </a:lnTo>
                    <a:close/>
                  </a:path>
                </a:pathLst>
              </a:custGeom>
              <a:solidFill>
                <a:srgbClr val="f9f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6197760" y="3078000"/>
                <a:ext cx="1017360" cy="443160"/>
              </a:xfrm>
              <a:custGeom>
                <a:avLst/>
                <a:gdLst/>
                <a:ahLst/>
                <a:rect l="l" t="t" r="r" b="b"/>
                <a:pathLst>
                  <a:path w="3845" h="1675">
                    <a:moveTo>
                      <a:pt x="3845" y="1675"/>
                    </a:moveTo>
                    <a:lnTo>
                      <a:pt x="0" y="162"/>
                    </a:lnTo>
                    <a:lnTo>
                      <a:pt x="729" y="0"/>
                    </a:lnTo>
                    <a:lnTo>
                      <a:pt x="3842" y="1225"/>
                    </a:lnTo>
                    <a:lnTo>
                      <a:pt x="3845" y="1675"/>
                    </a:lnTo>
                    <a:close/>
                  </a:path>
                </a:pathLst>
              </a:custGeom>
              <a:solidFill>
                <a:srgbClr val="fcf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6389640" y="3035160"/>
                <a:ext cx="824040" cy="366840"/>
              </a:xfrm>
              <a:custGeom>
                <a:avLst/>
                <a:gdLst/>
                <a:ahLst/>
                <a:rect l="l" t="t" r="r" b="b"/>
                <a:pathLst>
                  <a:path w="3113" h="1387">
                    <a:moveTo>
                      <a:pt x="3113" y="1387"/>
                    </a:moveTo>
                    <a:lnTo>
                      <a:pt x="0" y="162"/>
                    </a:lnTo>
                    <a:lnTo>
                      <a:pt x="731" y="0"/>
                    </a:lnTo>
                    <a:lnTo>
                      <a:pt x="3109" y="936"/>
                    </a:lnTo>
                    <a:lnTo>
                      <a:pt x="3113" y="1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6583320" y="2897280"/>
                <a:ext cx="628560" cy="385560"/>
              </a:xfrm>
              <a:custGeom>
                <a:avLst/>
                <a:gdLst/>
                <a:ahLst/>
                <a:rect l="l" t="t" r="r" b="b"/>
                <a:pathLst>
                  <a:path w="2378" h="1458">
                    <a:moveTo>
                      <a:pt x="2378" y="1458"/>
                    </a:moveTo>
                    <a:lnTo>
                      <a:pt x="0" y="522"/>
                    </a:lnTo>
                    <a:lnTo>
                      <a:pt x="2365" y="0"/>
                    </a:lnTo>
                    <a:lnTo>
                      <a:pt x="2378" y="14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987880" y="2897280"/>
                <a:ext cx="1236960" cy="1957320"/>
              </a:xfrm>
              <a:custGeom>
                <a:avLst/>
                <a:gdLst/>
                <a:ahLst/>
                <a:rect l="l" t="t" r="r" b="b"/>
                <a:pathLst>
                  <a:path w="4677" h="7398">
                    <a:moveTo>
                      <a:pt x="0" y="1020"/>
                    </a:moveTo>
                    <a:lnTo>
                      <a:pt x="4615" y="0"/>
                    </a:lnTo>
                    <a:lnTo>
                      <a:pt x="4677" y="7398"/>
                    </a:lnTo>
                    <a:lnTo>
                      <a:pt x="79" y="7054"/>
                    </a:lnTo>
                    <a:lnTo>
                      <a:pt x="0" y="10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6232680" y="3548160"/>
                <a:ext cx="736560" cy="960480"/>
              </a:xfrm>
              <a:custGeom>
                <a:avLst/>
                <a:gdLst/>
                <a:ahLst/>
                <a:rect l="l" t="t" r="r" b="b"/>
                <a:pathLst>
                  <a:path w="2781" h="3627">
                    <a:moveTo>
                      <a:pt x="1392" y="0"/>
                    </a:moveTo>
                    <a:lnTo>
                      <a:pt x="1464" y="2"/>
                    </a:lnTo>
                    <a:lnTo>
                      <a:pt x="1534" y="9"/>
                    </a:lnTo>
                    <a:lnTo>
                      <a:pt x="1603" y="21"/>
                    </a:lnTo>
                    <a:lnTo>
                      <a:pt x="1672" y="37"/>
                    </a:lnTo>
                    <a:lnTo>
                      <a:pt x="1739" y="57"/>
                    </a:lnTo>
                    <a:lnTo>
                      <a:pt x="1805" y="81"/>
                    </a:lnTo>
                    <a:lnTo>
                      <a:pt x="1869" y="110"/>
                    </a:lnTo>
                    <a:lnTo>
                      <a:pt x="1932" y="143"/>
                    </a:lnTo>
                    <a:lnTo>
                      <a:pt x="1993" y="179"/>
                    </a:lnTo>
                    <a:lnTo>
                      <a:pt x="2054" y="219"/>
                    </a:lnTo>
                    <a:lnTo>
                      <a:pt x="2112" y="262"/>
                    </a:lnTo>
                    <a:lnTo>
                      <a:pt x="2168" y="310"/>
                    </a:lnTo>
                    <a:lnTo>
                      <a:pt x="2222" y="361"/>
                    </a:lnTo>
                    <a:lnTo>
                      <a:pt x="2275" y="414"/>
                    </a:lnTo>
                    <a:lnTo>
                      <a:pt x="2325" y="471"/>
                    </a:lnTo>
                    <a:lnTo>
                      <a:pt x="2373" y="531"/>
                    </a:lnTo>
                    <a:lnTo>
                      <a:pt x="2420" y="595"/>
                    </a:lnTo>
                    <a:lnTo>
                      <a:pt x="2464" y="660"/>
                    </a:lnTo>
                    <a:lnTo>
                      <a:pt x="2505" y="729"/>
                    </a:lnTo>
                    <a:lnTo>
                      <a:pt x="2543" y="799"/>
                    </a:lnTo>
                    <a:lnTo>
                      <a:pt x="2580" y="873"/>
                    </a:lnTo>
                    <a:lnTo>
                      <a:pt x="2613" y="949"/>
                    </a:lnTo>
                    <a:lnTo>
                      <a:pt x="2644" y="1027"/>
                    </a:lnTo>
                    <a:lnTo>
                      <a:pt x="2671" y="1107"/>
                    </a:lnTo>
                    <a:lnTo>
                      <a:pt x="2696" y="1189"/>
                    </a:lnTo>
                    <a:lnTo>
                      <a:pt x="2718" y="1274"/>
                    </a:lnTo>
                    <a:lnTo>
                      <a:pt x="2737" y="1360"/>
                    </a:lnTo>
                    <a:lnTo>
                      <a:pt x="2753" y="1447"/>
                    </a:lnTo>
                    <a:lnTo>
                      <a:pt x="2765" y="1536"/>
                    </a:lnTo>
                    <a:lnTo>
                      <a:pt x="2774" y="1627"/>
                    </a:lnTo>
                    <a:lnTo>
                      <a:pt x="2779" y="1718"/>
                    </a:lnTo>
                    <a:lnTo>
                      <a:pt x="2781" y="1811"/>
                    </a:lnTo>
                    <a:lnTo>
                      <a:pt x="2779" y="1905"/>
                    </a:lnTo>
                    <a:lnTo>
                      <a:pt x="2774" y="1996"/>
                    </a:lnTo>
                    <a:lnTo>
                      <a:pt x="2765" y="2087"/>
                    </a:lnTo>
                    <a:lnTo>
                      <a:pt x="2753" y="2176"/>
                    </a:lnTo>
                    <a:lnTo>
                      <a:pt x="2737" y="2264"/>
                    </a:lnTo>
                    <a:lnTo>
                      <a:pt x="2718" y="2350"/>
                    </a:lnTo>
                    <a:lnTo>
                      <a:pt x="2696" y="2435"/>
                    </a:lnTo>
                    <a:lnTo>
                      <a:pt x="2671" y="2518"/>
                    </a:lnTo>
                    <a:lnTo>
                      <a:pt x="2644" y="2598"/>
                    </a:lnTo>
                    <a:lnTo>
                      <a:pt x="2613" y="2676"/>
                    </a:lnTo>
                    <a:lnTo>
                      <a:pt x="2580" y="2752"/>
                    </a:lnTo>
                    <a:lnTo>
                      <a:pt x="2543" y="2826"/>
                    </a:lnTo>
                    <a:lnTo>
                      <a:pt x="2505" y="2897"/>
                    </a:lnTo>
                    <a:lnTo>
                      <a:pt x="2464" y="2965"/>
                    </a:lnTo>
                    <a:lnTo>
                      <a:pt x="2420" y="3031"/>
                    </a:lnTo>
                    <a:lnTo>
                      <a:pt x="2373" y="3095"/>
                    </a:lnTo>
                    <a:lnTo>
                      <a:pt x="2325" y="3155"/>
                    </a:lnTo>
                    <a:lnTo>
                      <a:pt x="2275" y="3212"/>
                    </a:lnTo>
                    <a:lnTo>
                      <a:pt x="2222" y="3266"/>
                    </a:lnTo>
                    <a:lnTo>
                      <a:pt x="2168" y="3317"/>
                    </a:lnTo>
                    <a:lnTo>
                      <a:pt x="2112" y="3364"/>
                    </a:lnTo>
                    <a:lnTo>
                      <a:pt x="2054" y="3407"/>
                    </a:lnTo>
                    <a:lnTo>
                      <a:pt x="1993" y="3448"/>
                    </a:lnTo>
                    <a:lnTo>
                      <a:pt x="1932" y="3485"/>
                    </a:lnTo>
                    <a:lnTo>
                      <a:pt x="1869" y="3517"/>
                    </a:lnTo>
                    <a:lnTo>
                      <a:pt x="1805" y="3546"/>
                    </a:lnTo>
                    <a:lnTo>
                      <a:pt x="1739" y="3571"/>
                    </a:lnTo>
                    <a:lnTo>
                      <a:pt x="1672" y="3591"/>
                    </a:lnTo>
                    <a:lnTo>
                      <a:pt x="1603" y="3606"/>
                    </a:lnTo>
                    <a:lnTo>
                      <a:pt x="1534" y="3619"/>
                    </a:lnTo>
                    <a:lnTo>
                      <a:pt x="1464" y="3625"/>
                    </a:lnTo>
                    <a:lnTo>
                      <a:pt x="1392" y="3627"/>
                    </a:lnTo>
                    <a:lnTo>
                      <a:pt x="1321" y="3625"/>
                    </a:lnTo>
                    <a:lnTo>
                      <a:pt x="1250" y="3619"/>
                    </a:lnTo>
                    <a:lnTo>
                      <a:pt x="1181" y="3606"/>
                    </a:lnTo>
                    <a:lnTo>
                      <a:pt x="1113" y="3591"/>
                    </a:lnTo>
                    <a:lnTo>
                      <a:pt x="1045" y="3571"/>
                    </a:lnTo>
                    <a:lnTo>
                      <a:pt x="979" y="3546"/>
                    </a:lnTo>
                    <a:lnTo>
                      <a:pt x="914" y="3517"/>
                    </a:lnTo>
                    <a:lnTo>
                      <a:pt x="852" y="3485"/>
                    </a:lnTo>
                    <a:lnTo>
                      <a:pt x="790" y="3448"/>
                    </a:lnTo>
                    <a:lnTo>
                      <a:pt x="730" y="3407"/>
                    </a:lnTo>
                    <a:lnTo>
                      <a:pt x="672" y="3364"/>
                    </a:lnTo>
                    <a:lnTo>
                      <a:pt x="615" y="3317"/>
                    </a:lnTo>
                    <a:lnTo>
                      <a:pt x="560" y="3266"/>
                    </a:lnTo>
                    <a:lnTo>
                      <a:pt x="507" y="3212"/>
                    </a:lnTo>
                    <a:lnTo>
                      <a:pt x="457" y="3155"/>
                    </a:lnTo>
                    <a:lnTo>
                      <a:pt x="409" y="3095"/>
                    </a:lnTo>
                    <a:lnTo>
                      <a:pt x="362" y="3031"/>
                    </a:lnTo>
                    <a:lnTo>
                      <a:pt x="319" y="2965"/>
                    </a:lnTo>
                    <a:lnTo>
                      <a:pt x="277" y="2897"/>
                    </a:lnTo>
                    <a:lnTo>
                      <a:pt x="238" y="2826"/>
                    </a:lnTo>
                    <a:lnTo>
                      <a:pt x="202" y="2752"/>
                    </a:lnTo>
                    <a:lnTo>
                      <a:pt x="169" y="2676"/>
                    </a:lnTo>
                    <a:lnTo>
                      <a:pt x="138" y="2598"/>
                    </a:lnTo>
                    <a:lnTo>
                      <a:pt x="110" y="2518"/>
                    </a:lnTo>
                    <a:lnTo>
                      <a:pt x="85" y="2435"/>
                    </a:lnTo>
                    <a:lnTo>
                      <a:pt x="63" y="2350"/>
                    </a:lnTo>
                    <a:lnTo>
                      <a:pt x="44" y="2264"/>
                    </a:lnTo>
                    <a:lnTo>
                      <a:pt x="28" y="2176"/>
                    </a:lnTo>
                    <a:lnTo>
                      <a:pt x="16" y="2087"/>
                    </a:lnTo>
                    <a:lnTo>
                      <a:pt x="7" y="1996"/>
                    </a:lnTo>
                    <a:lnTo>
                      <a:pt x="2" y="1905"/>
                    </a:lnTo>
                    <a:lnTo>
                      <a:pt x="0" y="1811"/>
                    </a:lnTo>
                    <a:lnTo>
                      <a:pt x="2" y="1718"/>
                    </a:lnTo>
                    <a:lnTo>
                      <a:pt x="7" y="1627"/>
                    </a:lnTo>
                    <a:lnTo>
                      <a:pt x="16" y="1536"/>
                    </a:lnTo>
                    <a:lnTo>
                      <a:pt x="28" y="1447"/>
                    </a:lnTo>
                    <a:lnTo>
                      <a:pt x="44" y="1360"/>
                    </a:lnTo>
                    <a:lnTo>
                      <a:pt x="63" y="1274"/>
                    </a:lnTo>
                    <a:lnTo>
                      <a:pt x="85" y="1189"/>
                    </a:lnTo>
                    <a:lnTo>
                      <a:pt x="110" y="1107"/>
                    </a:lnTo>
                    <a:lnTo>
                      <a:pt x="138" y="1027"/>
                    </a:lnTo>
                    <a:lnTo>
                      <a:pt x="169" y="949"/>
                    </a:lnTo>
                    <a:lnTo>
                      <a:pt x="202" y="873"/>
                    </a:lnTo>
                    <a:lnTo>
                      <a:pt x="238" y="799"/>
                    </a:lnTo>
                    <a:lnTo>
                      <a:pt x="277" y="729"/>
                    </a:lnTo>
                    <a:lnTo>
                      <a:pt x="319" y="660"/>
                    </a:lnTo>
                    <a:lnTo>
                      <a:pt x="362" y="595"/>
                    </a:lnTo>
                    <a:lnTo>
                      <a:pt x="409" y="531"/>
                    </a:lnTo>
                    <a:lnTo>
                      <a:pt x="457" y="471"/>
                    </a:lnTo>
                    <a:lnTo>
                      <a:pt x="507" y="414"/>
                    </a:lnTo>
                    <a:lnTo>
                      <a:pt x="560" y="361"/>
                    </a:lnTo>
                    <a:lnTo>
                      <a:pt x="615" y="310"/>
                    </a:lnTo>
                    <a:lnTo>
                      <a:pt x="672" y="262"/>
                    </a:lnTo>
                    <a:lnTo>
                      <a:pt x="730" y="219"/>
                    </a:lnTo>
                    <a:lnTo>
                      <a:pt x="790" y="179"/>
                    </a:lnTo>
                    <a:lnTo>
                      <a:pt x="852" y="143"/>
                    </a:lnTo>
                    <a:lnTo>
                      <a:pt x="914" y="110"/>
                    </a:lnTo>
                    <a:lnTo>
                      <a:pt x="979" y="81"/>
                    </a:lnTo>
                    <a:lnTo>
                      <a:pt x="1045" y="57"/>
                    </a:lnTo>
                    <a:lnTo>
                      <a:pt x="1113" y="37"/>
                    </a:lnTo>
                    <a:lnTo>
                      <a:pt x="1181" y="21"/>
                    </a:lnTo>
                    <a:lnTo>
                      <a:pt x="1250" y="9"/>
                    </a:lnTo>
                    <a:lnTo>
                      <a:pt x="1321" y="2"/>
                    </a:lnTo>
                    <a:lnTo>
                      <a:pt x="1392" y="0"/>
                    </a:lnTo>
                    <a:close/>
                  </a:path>
                </a:pathLst>
              </a:custGeom>
              <a:solidFill>
                <a:srgbClr val="9e8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6232680" y="3548160"/>
                <a:ext cx="736560" cy="960480"/>
              </a:xfrm>
              <a:custGeom>
                <a:avLst/>
                <a:gdLst/>
                <a:ahLst/>
                <a:rect l="l" t="t" r="r" b="b"/>
                <a:pathLst>
                  <a:path w="2781" h="3627">
                    <a:moveTo>
                      <a:pt x="1392" y="0"/>
                    </a:moveTo>
                    <a:lnTo>
                      <a:pt x="1392" y="0"/>
                    </a:lnTo>
                    <a:lnTo>
                      <a:pt x="1464" y="2"/>
                    </a:lnTo>
                    <a:lnTo>
                      <a:pt x="1534" y="9"/>
                    </a:lnTo>
                    <a:lnTo>
                      <a:pt x="1603" y="21"/>
                    </a:lnTo>
                    <a:lnTo>
                      <a:pt x="1672" y="37"/>
                    </a:lnTo>
                    <a:lnTo>
                      <a:pt x="1739" y="57"/>
                    </a:lnTo>
                    <a:lnTo>
                      <a:pt x="1805" y="81"/>
                    </a:lnTo>
                    <a:lnTo>
                      <a:pt x="1869" y="110"/>
                    </a:lnTo>
                    <a:lnTo>
                      <a:pt x="1932" y="143"/>
                    </a:lnTo>
                    <a:lnTo>
                      <a:pt x="1993" y="179"/>
                    </a:lnTo>
                    <a:lnTo>
                      <a:pt x="2054" y="219"/>
                    </a:lnTo>
                    <a:lnTo>
                      <a:pt x="2112" y="262"/>
                    </a:lnTo>
                    <a:lnTo>
                      <a:pt x="2168" y="310"/>
                    </a:lnTo>
                    <a:lnTo>
                      <a:pt x="2222" y="361"/>
                    </a:lnTo>
                    <a:lnTo>
                      <a:pt x="2275" y="414"/>
                    </a:lnTo>
                    <a:lnTo>
                      <a:pt x="2325" y="471"/>
                    </a:lnTo>
                    <a:lnTo>
                      <a:pt x="2373" y="531"/>
                    </a:lnTo>
                    <a:lnTo>
                      <a:pt x="2420" y="595"/>
                    </a:lnTo>
                    <a:lnTo>
                      <a:pt x="2464" y="660"/>
                    </a:lnTo>
                    <a:lnTo>
                      <a:pt x="2505" y="729"/>
                    </a:lnTo>
                    <a:lnTo>
                      <a:pt x="2543" y="799"/>
                    </a:lnTo>
                    <a:lnTo>
                      <a:pt x="2580" y="873"/>
                    </a:lnTo>
                    <a:lnTo>
                      <a:pt x="2613" y="949"/>
                    </a:lnTo>
                    <a:lnTo>
                      <a:pt x="2644" y="1027"/>
                    </a:lnTo>
                    <a:lnTo>
                      <a:pt x="2671" y="1107"/>
                    </a:lnTo>
                    <a:lnTo>
                      <a:pt x="2696" y="1189"/>
                    </a:lnTo>
                    <a:lnTo>
                      <a:pt x="2718" y="1274"/>
                    </a:lnTo>
                    <a:lnTo>
                      <a:pt x="2737" y="1360"/>
                    </a:lnTo>
                    <a:lnTo>
                      <a:pt x="2753" y="1447"/>
                    </a:lnTo>
                    <a:lnTo>
                      <a:pt x="2765" y="1536"/>
                    </a:lnTo>
                    <a:lnTo>
                      <a:pt x="2774" y="1627"/>
                    </a:lnTo>
                    <a:lnTo>
                      <a:pt x="2779" y="1718"/>
                    </a:lnTo>
                    <a:lnTo>
                      <a:pt x="2781" y="1811"/>
                    </a:lnTo>
                    <a:lnTo>
                      <a:pt x="2781" y="1811"/>
                    </a:lnTo>
                    <a:lnTo>
                      <a:pt x="2779" y="1905"/>
                    </a:lnTo>
                    <a:lnTo>
                      <a:pt x="2774" y="1996"/>
                    </a:lnTo>
                    <a:lnTo>
                      <a:pt x="2765" y="2087"/>
                    </a:lnTo>
                    <a:lnTo>
                      <a:pt x="2753" y="2176"/>
                    </a:lnTo>
                    <a:lnTo>
                      <a:pt x="2737" y="2264"/>
                    </a:lnTo>
                    <a:lnTo>
                      <a:pt x="2718" y="2350"/>
                    </a:lnTo>
                    <a:lnTo>
                      <a:pt x="2696" y="2435"/>
                    </a:lnTo>
                    <a:lnTo>
                      <a:pt x="2671" y="2518"/>
                    </a:lnTo>
                    <a:lnTo>
                      <a:pt x="2644" y="2598"/>
                    </a:lnTo>
                    <a:lnTo>
                      <a:pt x="2613" y="2676"/>
                    </a:lnTo>
                    <a:lnTo>
                      <a:pt x="2580" y="2752"/>
                    </a:lnTo>
                    <a:lnTo>
                      <a:pt x="2543" y="2826"/>
                    </a:lnTo>
                    <a:lnTo>
                      <a:pt x="2505" y="2897"/>
                    </a:lnTo>
                    <a:lnTo>
                      <a:pt x="2464" y="2965"/>
                    </a:lnTo>
                    <a:lnTo>
                      <a:pt x="2420" y="3031"/>
                    </a:lnTo>
                    <a:lnTo>
                      <a:pt x="2373" y="3095"/>
                    </a:lnTo>
                    <a:lnTo>
                      <a:pt x="2325" y="3155"/>
                    </a:lnTo>
                    <a:lnTo>
                      <a:pt x="2275" y="3212"/>
                    </a:lnTo>
                    <a:lnTo>
                      <a:pt x="2222" y="3266"/>
                    </a:lnTo>
                    <a:lnTo>
                      <a:pt x="2168" y="3317"/>
                    </a:lnTo>
                    <a:lnTo>
                      <a:pt x="2112" y="3364"/>
                    </a:lnTo>
                    <a:lnTo>
                      <a:pt x="2054" y="3407"/>
                    </a:lnTo>
                    <a:lnTo>
                      <a:pt x="1993" y="3448"/>
                    </a:lnTo>
                    <a:lnTo>
                      <a:pt x="1932" y="3485"/>
                    </a:lnTo>
                    <a:lnTo>
                      <a:pt x="1869" y="3517"/>
                    </a:lnTo>
                    <a:lnTo>
                      <a:pt x="1805" y="3546"/>
                    </a:lnTo>
                    <a:lnTo>
                      <a:pt x="1739" y="3571"/>
                    </a:lnTo>
                    <a:lnTo>
                      <a:pt x="1672" y="3591"/>
                    </a:lnTo>
                    <a:lnTo>
                      <a:pt x="1603" y="3606"/>
                    </a:lnTo>
                    <a:lnTo>
                      <a:pt x="1534" y="3619"/>
                    </a:lnTo>
                    <a:lnTo>
                      <a:pt x="1464" y="3625"/>
                    </a:lnTo>
                    <a:lnTo>
                      <a:pt x="1392" y="3627"/>
                    </a:lnTo>
                    <a:lnTo>
                      <a:pt x="1392" y="3627"/>
                    </a:lnTo>
                    <a:lnTo>
                      <a:pt x="1321" y="3625"/>
                    </a:lnTo>
                    <a:lnTo>
                      <a:pt x="1250" y="3619"/>
                    </a:lnTo>
                    <a:lnTo>
                      <a:pt x="1181" y="3606"/>
                    </a:lnTo>
                    <a:lnTo>
                      <a:pt x="1113" y="3591"/>
                    </a:lnTo>
                    <a:lnTo>
                      <a:pt x="1045" y="3571"/>
                    </a:lnTo>
                    <a:lnTo>
                      <a:pt x="979" y="3546"/>
                    </a:lnTo>
                    <a:lnTo>
                      <a:pt x="914" y="3517"/>
                    </a:lnTo>
                    <a:lnTo>
                      <a:pt x="852" y="3485"/>
                    </a:lnTo>
                    <a:lnTo>
                      <a:pt x="790" y="3448"/>
                    </a:lnTo>
                    <a:lnTo>
                      <a:pt x="730" y="3407"/>
                    </a:lnTo>
                    <a:lnTo>
                      <a:pt x="672" y="3364"/>
                    </a:lnTo>
                    <a:lnTo>
                      <a:pt x="615" y="3317"/>
                    </a:lnTo>
                    <a:lnTo>
                      <a:pt x="560" y="3266"/>
                    </a:lnTo>
                    <a:lnTo>
                      <a:pt x="507" y="3212"/>
                    </a:lnTo>
                    <a:lnTo>
                      <a:pt x="457" y="3155"/>
                    </a:lnTo>
                    <a:lnTo>
                      <a:pt x="409" y="3095"/>
                    </a:lnTo>
                    <a:lnTo>
                      <a:pt x="362" y="3031"/>
                    </a:lnTo>
                    <a:lnTo>
                      <a:pt x="319" y="2965"/>
                    </a:lnTo>
                    <a:lnTo>
                      <a:pt x="277" y="2897"/>
                    </a:lnTo>
                    <a:lnTo>
                      <a:pt x="238" y="2826"/>
                    </a:lnTo>
                    <a:lnTo>
                      <a:pt x="202" y="2752"/>
                    </a:lnTo>
                    <a:lnTo>
                      <a:pt x="169" y="2676"/>
                    </a:lnTo>
                    <a:lnTo>
                      <a:pt x="138" y="2598"/>
                    </a:lnTo>
                    <a:lnTo>
                      <a:pt x="110" y="2518"/>
                    </a:lnTo>
                    <a:lnTo>
                      <a:pt x="85" y="2435"/>
                    </a:lnTo>
                    <a:lnTo>
                      <a:pt x="63" y="2350"/>
                    </a:lnTo>
                    <a:lnTo>
                      <a:pt x="44" y="2264"/>
                    </a:lnTo>
                    <a:lnTo>
                      <a:pt x="28" y="2176"/>
                    </a:lnTo>
                    <a:lnTo>
                      <a:pt x="16" y="2087"/>
                    </a:lnTo>
                    <a:lnTo>
                      <a:pt x="7" y="1996"/>
                    </a:lnTo>
                    <a:lnTo>
                      <a:pt x="2" y="1905"/>
                    </a:lnTo>
                    <a:lnTo>
                      <a:pt x="0" y="1811"/>
                    </a:lnTo>
                    <a:lnTo>
                      <a:pt x="0" y="1811"/>
                    </a:lnTo>
                    <a:lnTo>
                      <a:pt x="2" y="1718"/>
                    </a:lnTo>
                    <a:lnTo>
                      <a:pt x="7" y="1627"/>
                    </a:lnTo>
                    <a:lnTo>
                      <a:pt x="16" y="1536"/>
                    </a:lnTo>
                    <a:lnTo>
                      <a:pt x="28" y="1447"/>
                    </a:lnTo>
                    <a:lnTo>
                      <a:pt x="44" y="1360"/>
                    </a:lnTo>
                    <a:lnTo>
                      <a:pt x="63" y="1274"/>
                    </a:lnTo>
                    <a:lnTo>
                      <a:pt x="85" y="1189"/>
                    </a:lnTo>
                    <a:lnTo>
                      <a:pt x="110" y="1107"/>
                    </a:lnTo>
                    <a:lnTo>
                      <a:pt x="138" y="1027"/>
                    </a:lnTo>
                    <a:lnTo>
                      <a:pt x="169" y="949"/>
                    </a:lnTo>
                    <a:lnTo>
                      <a:pt x="202" y="873"/>
                    </a:lnTo>
                    <a:lnTo>
                      <a:pt x="238" y="799"/>
                    </a:lnTo>
                    <a:lnTo>
                      <a:pt x="277" y="729"/>
                    </a:lnTo>
                    <a:lnTo>
                      <a:pt x="319" y="660"/>
                    </a:lnTo>
                    <a:lnTo>
                      <a:pt x="362" y="595"/>
                    </a:lnTo>
                    <a:lnTo>
                      <a:pt x="409" y="531"/>
                    </a:lnTo>
                    <a:lnTo>
                      <a:pt x="457" y="471"/>
                    </a:lnTo>
                    <a:lnTo>
                      <a:pt x="507" y="414"/>
                    </a:lnTo>
                    <a:lnTo>
                      <a:pt x="560" y="361"/>
                    </a:lnTo>
                    <a:lnTo>
                      <a:pt x="615" y="310"/>
                    </a:lnTo>
                    <a:lnTo>
                      <a:pt x="672" y="262"/>
                    </a:lnTo>
                    <a:lnTo>
                      <a:pt x="730" y="219"/>
                    </a:lnTo>
                    <a:lnTo>
                      <a:pt x="790" y="179"/>
                    </a:lnTo>
                    <a:lnTo>
                      <a:pt x="852" y="143"/>
                    </a:lnTo>
                    <a:lnTo>
                      <a:pt x="914" y="110"/>
                    </a:lnTo>
                    <a:lnTo>
                      <a:pt x="979" y="81"/>
                    </a:lnTo>
                    <a:lnTo>
                      <a:pt x="1045" y="57"/>
                    </a:lnTo>
                    <a:lnTo>
                      <a:pt x="1113" y="37"/>
                    </a:lnTo>
                    <a:lnTo>
                      <a:pt x="1181" y="21"/>
                    </a:lnTo>
                    <a:lnTo>
                      <a:pt x="1250" y="9"/>
                    </a:lnTo>
                    <a:lnTo>
                      <a:pt x="1321" y="2"/>
                    </a:lnTo>
                    <a:lnTo>
                      <a:pt x="13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987880" y="3392640"/>
                <a:ext cx="266760" cy="139680"/>
              </a:xfrm>
              <a:custGeom>
                <a:avLst/>
                <a:gdLst/>
                <a:ahLst/>
                <a:rect l="l" t="t" r="r" b="b"/>
                <a:pathLst>
                  <a:path w="1008" h="527">
                    <a:moveTo>
                      <a:pt x="0" y="0"/>
                    </a:moveTo>
                    <a:lnTo>
                      <a:pt x="1008" y="396"/>
                    </a:lnTo>
                    <a:lnTo>
                      <a:pt x="0" y="5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987880" y="3348000"/>
                <a:ext cx="352440" cy="149400"/>
              </a:xfrm>
              <a:custGeom>
                <a:avLst/>
                <a:gdLst/>
                <a:ahLst/>
                <a:rect l="l" t="t" r="r" b="b"/>
                <a:pathLst>
                  <a:path w="1334" h="567">
                    <a:moveTo>
                      <a:pt x="1008" y="567"/>
                    </a:moveTo>
                    <a:lnTo>
                      <a:pt x="0" y="171"/>
                    </a:lnTo>
                    <a:lnTo>
                      <a:pt x="0" y="0"/>
                    </a:lnTo>
                    <a:lnTo>
                      <a:pt x="1334" y="523"/>
                    </a:lnTo>
                    <a:lnTo>
                      <a:pt x="1008" y="567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987880" y="3309840"/>
                <a:ext cx="439920" cy="176400"/>
              </a:xfrm>
              <a:custGeom>
                <a:avLst/>
                <a:gdLst/>
                <a:ahLst/>
                <a:rect l="l" t="t" r="r" b="b"/>
                <a:pathLst>
                  <a:path w="1659" h="666">
                    <a:moveTo>
                      <a:pt x="1334" y="666"/>
                    </a:moveTo>
                    <a:lnTo>
                      <a:pt x="0" y="14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7" y="0"/>
                    </a:lnTo>
                    <a:lnTo>
                      <a:pt x="1659" y="624"/>
                    </a:lnTo>
                    <a:lnTo>
                      <a:pt x="1334" y="666"/>
                    </a:lnTo>
                    <a:close/>
                  </a:path>
                </a:pathLst>
              </a:custGeom>
              <a:solidFill>
                <a:srgbClr val="dbd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6005520" y="3297240"/>
                <a:ext cx="507960" cy="177840"/>
              </a:xfrm>
              <a:custGeom>
                <a:avLst/>
                <a:gdLst/>
                <a:ahLst/>
                <a:rect l="l" t="t" r="r" b="b"/>
                <a:pathLst>
                  <a:path w="1918" h="676">
                    <a:moveTo>
                      <a:pt x="1592" y="676"/>
                    </a:moveTo>
                    <a:lnTo>
                      <a:pt x="0" y="52"/>
                    </a:lnTo>
                    <a:lnTo>
                      <a:pt x="302" y="0"/>
                    </a:lnTo>
                    <a:lnTo>
                      <a:pt x="1918" y="635"/>
                    </a:lnTo>
                    <a:lnTo>
                      <a:pt x="1592" y="676"/>
                    </a:lnTo>
                    <a:close/>
                  </a:path>
                </a:pathLst>
              </a:custGeom>
              <a:solidFill>
                <a:srgbClr val="ddd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6084720" y="3282840"/>
                <a:ext cx="514440" cy="181080"/>
              </a:xfrm>
              <a:custGeom>
                <a:avLst/>
                <a:gdLst/>
                <a:ahLst/>
                <a:rect l="l" t="t" r="r" b="b"/>
                <a:pathLst>
                  <a:path w="1941" h="686">
                    <a:moveTo>
                      <a:pt x="1616" y="686"/>
                    </a:moveTo>
                    <a:lnTo>
                      <a:pt x="0" y="51"/>
                    </a:lnTo>
                    <a:lnTo>
                      <a:pt x="304" y="0"/>
                    </a:lnTo>
                    <a:lnTo>
                      <a:pt x="1941" y="644"/>
                    </a:lnTo>
                    <a:lnTo>
                      <a:pt x="1616" y="686"/>
                    </a:lnTo>
                    <a:close/>
                  </a:path>
                </a:pathLst>
              </a:custGeom>
              <a:solidFill>
                <a:srgbClr val="e0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6165720" y="3268800"/>
                <a:ext cx="519120" cy="183960"/>
              </a:xfrm>
              <a:custGeom>
                <a:avLst/>
                <a:gdLst/>
                <a:ahLst/>
                <a:rect l="l" t="t" r="r" b="b"/>
                <a:pathLst>
                  <a:path w="1964" h="695">
                    <a:moveTo>
                      <a:pt x="1637" y="695"/>
                    </a:moveTo>
                    <a:lnTo>
                      <a:pt x="0" y="51"/>
                    </a:lnTo>
                    <a:lnTo>
                      <a:pt x="300" y="0"/>
                    </a:lnTo>
                    <a:lnTo>
                      <a:pt x="1964" y="652"/>
                    </a:lnTo>
                    <a:lnTo>
                      <a:pt x="1637" y="695"/>
                    </a:lnTo>
                    <a:close/>
                  </a:path>
                </a:pathLst>
              </a:custGeom>
              <a:solidFill>
                <a:srgbClr val="e2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245280" y="3255840"/>
                <a:ext cx="525240" cy="185760"/>
              </a:xfrm>
              <a:custGeom>
                <a:avLst/>
                <a:gdLst/>
                <a:ahLst/>
                <a:rect l="l" t="t" r="r" b="b"/>
                <a:pathLst>
                  <a:path w="1985" h="704">
                    <a:moveTo>
                      <a:pt x="1664" y="704"/>
                    </a:moveTo>
                    <a:lnTo>
                      <a:pt x="0" y="52"/>
                    </a:lnTo>
                    <a:lnTo>
                      <a:pt x="304" y="0"/>
                    </a:lnTo>
                    <a:lnTo>
                      <a:pt x="1985" y="661"/>
                    </a:lnTo>
                    <a:lnTo>
                      <a:pt x="1664" y="704"/>
                    </a:lnTo>
                    <a:close/>
                  </a:path>
                </a:pathLst>
              </a:custGeom>
              <a:solidFill>
                <a:srgbClr val="e8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6326280" y="3241800"/>
                <a:ext cx="531720" cy="188640"/>
              </a:xfrm>
              <a:custGeom>
                <a:avLst/>
                <a:gdLst/>
                <a:ahLst/>
                <a:rect l="l" t="t" r="r" b="b"/>
                <a:pathLst>
                  <a:path w="2009" h="714">
                    <a:moveTo>
                      <a:pt x="1681" y="714"/>
                    </a:moveTo>
                    <a:lnTo>
                      <a:pt x="0" y="53"/>
                    </a:lnTo>
                    <a:lnTo>
                      <a:pt x="302" y="0"/>
                    </a:lnTo>
                    <a:lnTo>
                      <a:pt x="2009" y="673"/>
                    </a:lnTo>
                    <a:lnTo>
                      <a:pt x="1681" y="714"/>
                    </a:lnTo>
                    <a:close/>
                  </a:path>
                </a:pathLst>
              </a:custGeom>
              <a:solidFill>
                <a:srgbClr val="eae8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405480" y="3227400"/>
                <a:ext cx="538200" cy="192240"/>
              </a:xfrm>
              <a:custGeom>
                <a:avLst/>
                <a:gdLst/>
                <a:ahLst/>
                <a:rect l="l" t="t" r="r" b="b"/>
                <a:pathLst>
                  <a:path w="2032" h="725">
                    <a:moveTo>
                      <a:pt x="1707" y="725"/>
                    </a:moveTo>
                    <a:lnTo>
                      <a:pt x="0" y="52"/>
                    </a:lnTo>
                    <a:lnTo>
                      <a:pt x="301" y="0"/>
                    </a:lnTo>
                    <a:lnTo>
                      <a:pt x="2032" y="682"/>
                    </a:lnTo>
                    <a:lnTo>
                      <a:pt x="1707" y="725"/>
                    </a:lnTo>
                    <a:close/>
                  </a:path>
                </a:pathLst>
              </a:custGeom>
              <a:solidFill>
                <a:srgbClr val="ede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485040" y="3214800"/>
                <a:ext cx="544320" cy="193680"/>
              </a:xfrm>
              <a:custGeom>
                <a:avLst/>
                <a:gdLst/>
                <a:ahLst/>
                <a:rect l="l" t="t" r="r" b="b"/>
                <a:pathLst>
                  <a:path w="2056" h="733">
                    <a:moveTo>
                      <a:pt x="1731" y="733"/>
                    </a:moveTo>
                    <a:lnTo>
                      <a:pt x="0" y="51"/>
                    </a:lnTo>
                    <a:lnTo>
                      <a:pt x="304" y="0"/>
                    </a:lnTo>
                    <a:lnTo>
                      <a:pt x="2056" y="691"/>
                    </a:lnTo>
                    <a:lnTo>
                      <a:pt x="1731" y="733"/>
                    </a:lnTo>
                    <a:close/>
                  </a:path>
                </a:pathLst>
              </a:custGeom>
              <a:solidFill>
                <a:srgbClr val="efed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6566040" y="3200400"/>
                <a:ext cx="549000" cy="196920"/>
              </a:xfrm>
              <a:custGeom>
                <a:avLst/>
                <a:gdLst/>
                <a:ahLst/>
                <a:rect l="l" t="t" r="r" b="b"/>
                <a:pathLst>
                  <a:path w="2078" h="742">
                    <a:moveTo>
                      <a:pt x="1752" y="742"/>
                    </a:moveTo>
                    <a:lnTo>
                      <a:pt x="0" y="51"/>
                    </a:lnTo>
                    <a:lnTo>
                      <a:pt x="301" y="0"/>
                    </a:lnTo>
                    <a:lnTo>
                      <a:pt x="2078" y="700"/>
                    </a:lnTo>
                    <a:lnTo>
                      <a:pt x="1752" y="742"/>
                    </a:lnTo>
                    <a:close/>
                  </a:path>
                </a:pathLst>
              </a:custGeom>
              <a:solidFill>
                <a:srgbClr val="f2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6645240" y="3187800"/>
                <a:ext cx="555840" cy="198360"/>
              </a:xfrm>
              <a:custGeom>
                <a:avLst/>
                <a:gdLst/>
                <a:ahLst/>
                <a:rect l="l" t="t" r="r" b="b"/>
                <a:pathLst>
                  <a:path w="2101" h="752">
                    <a:moveTo>
                      <a:pt x="1777" y="752"/>
                    </a:moveTo>
                    <a:lnTo>
                      <a:pt x="0" y="52"/>
                    </a:lnTo>
                    <a:lnTo>
                      <a:pt x="304" y="0"/>
                    </a:lnTo>
                    <a:lnTo>
                      <a:pt x="2101" y="708"/>
                    </a:lnTo>
                    <a:lnTo>
                      <a:pt x="1777" y="752"/>
                    </a:lnTo>
                    <a:close/>
                  </a:path>
                </a:pathLst>
              </a:custGeom>
              <a:solidFill>
                <a:srgbClr val="f4f4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726240" y="3173400"/>
                <a:ext cx="487440" cy="201600"/>
              </a:xfrm>
              <a:custGeom>
                <a:avLst/>
                <a:gdLst/>
                <a:ahLst/>
                <a:rect l="l" t="t" r="r" b="b"/>
                <a:pathLst>
                  <a:path w="1841" h="759">
                    <a:moveTo>
                      <a:pt x="1797" y="759"/>
                    </a:moveTo>
                    <a:lnTo>
                      <a:pt x="0" y="51"/>
                    </a:lnTo>
                    <a:lnTo>
                      <a:pt x="300" y="0"/>
                    </a:lnTo>
                    <a:lnTo>
                      <a:pt x="1841" y="606"/>
                    </a:lnTo>
                    <a:lnTo>
                      <a:pt x="1841" y="754"/>
                    </a:lnTo>
                    <a:lnTo>
                      <a:pt x="1797" y="759"/>
                    </a:lnTo>
                    <a:close/>
                  </a:path>
                </a:pathLst>
              </a:custGeom>
              <a:solidFill>
                <a:srgbClr val="f9f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6805440" y="3160800"/>
                <a:ext cx="408240" cy="172800"/>
              </a:xfrm>
              <a:custGeom>
                <a:avLst/>
                <a:gdLst/>
                <a:ahLst/>
                <a:rect l="l" t="t" r="r" b="b"/>
                <a:pathLst>
                  <a:path w="1541" h="657">
                    <a:moveTo>
                      <a:pt x="1541" y="657"/>
                    </a:moveTo>
                    <a:lnTo>
                      <a:pt x="0" y="51"/>
                    </a:lnTo>
                    <a:lnTo>
                      <a:pt x="302" y="0"/>
                    </a:lnTo>
                    <a:lnTo>
                      <a:pt x="1541" y="486"/>
                    </a:lnTo>
                    <a:lnTo>
                      <a:pt x="1541" y="657"/>
                    </a:lnTo>
                    <a:close/>
                  </a:path>
                </a:pathLst>
              </a:custGeom>
              <a:solidFill>
                <a:srgbClr val="fcf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6885000" y="3146400"/>
                <a:ext cx="328680" cy="14292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1239" y="538"/>
                    </a:moveTo>
                    <a:lnTo>
                      <a:pt x="0" y="52"/>
                    </a:lnTo>
                    <a:lnTo>
                      <a:pt x="301" y="0"/>
                    </a:lnTo>
                    <a:lnTo>
                      <a:pt x="1239" y="368"/>
                    </a:lnTo>
                    <a:lnTo>
                      <a:pt x="1239" y="5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6964200" y="3103560"/>
                <a:ext cx="249480" cy="139680"/>
              </a:xfrm>
              <a:custGeom>
                <a:avLst/>
                <a:gdLst/>
                <a:ahLst/>
                <a:rect l="l" t="t" r="r" b="b"/>
                <a:pathLst>
                  <a:path w="938" h="527">
                    <a:moveTo>
                      <a:pt x="938" y="527"/>
                    </a:moveTo>
                    <a:lnTo>
                      <a:pt x="0" y="159"/>
                    </a:lnTo>
                    <a:lnTo>
                      <a:pt x="938" y="0"/>
                    </a:lnTo>
                    <a:lnTo>
                      <a:pt x="938" y="5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987880" y="3103560"/>
                <a:ext cx="1225800" cy="428760"/>
              </a:xfrm>
              <a:custGeom>
                <a:avLst/>
                <a:gdLst/>
                <a:ahLst/>
                <a:rect l="l" t="t" r="r" b="b"/>
                <a:pathLst>
                  <a:path w="4630" h="1619">
                    <a:moveTo>
                      <a:pt x="0" y="788"/>
                    </a:moveTo>
                    <a:lnTo>
                      <a:pt x="4630" y="0"/>
                    </a:lnTo>
                    <a:lnTo>
                      <a:pt x="4630" y="1016"/>
                    </a:lnTo>
                    <a:lnTo>
                      <a:pt x="0" y="1619"/>
                    </a:lnTo>
                    <a:lnTo>
                      <a:pt x="0" y="7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989680" y="303840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836" h="492">
                    <a:moveTo>
                      <a:pt x="15" y="0"/>
                    </a:moveTo>
                    <a:lnTo>
                      <a:pt x="836" y="323"/>
                    </a:lnTo>
                    <a:lnTo>
                      <a:pt x="0" y="492"/>
                    </a:lnTo>
                    <a:lnTo>
                      <a:pt x="0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992920" y="3022560"/>
                <a:ext cx="291960" cy="101520"/>
              </a:xfrm>
              <a:custGeom>
                <a:avLst/>
                <a:gdLst/>
                <a:ahLst/>
                <a:rect l="l" t="t" r="r" b="b"/>
                <a:pathLst>
                  <a:path w="1105" h="384">
                    <a:moveTo>
                      <a:pt x="821" y="384"/>
                    </a:moveTo>
                    <a:lnTo>
                      <a:pt x="0" y="61"/>
                    </a:lnTo>
                    <a:lnTo>
                      <a:pt x="269" y="0"/>
                    </a:lnTo>
                    <a:lnTo>
                      <a:pt x="1105" y="330"/>
                    </a:lnTo>
                    <a:lnTo>
                      <a:pt x="821" y="384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6064200" y="3006720"/>
                <a:ext cx="295200" cy="103320"/>
              </a:xfrm>
              <a:custGeom>
                <a:avLst/>
                <a:gdLst/>
                <a:ahLst/>
                <a:rect l="l" t="t" r="r" b="b"/>
                <a:pathLst>
                  <a:path w="1117" h="389">
                    <a:moveTo>
                      <a:pt x="836" y="389"/>
                    </a:moveTo>
                    <a:lnTo>
                      <a:pt x="0" y="59"/>
                    </a:lnTo>
                    <a:lnTo>
                      <a:pt x="273" y="0"/>
                    </a:lnTo>
                    <a:lnTo>
                      <a:pt x="1117" y="331"/>
                    </a:lnTo>
                    <a:lnTo>
                      <a:pt x="836" y="389"/>
                    </a:lnTo>
                    <a:close/>
                  </a:path>
                </a:pathLst>
              </a:custGeom>
              <a:solidFill>
                <a:srgbClr val="dbd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6135840" y="2990880"/>
                <a:ext cx="298440" cy="103320"/>
              </a:xfrm>
              <a:custGeom>
                <a:avLst/>
                <a:gdLst/>
                <a:ahLst/>
                <a:rect l="l" t="t" r="r" b="b"/>
                <a:pathLst>
                  <a:path w="1126" h="392">
                    <a:moveTo>
                      <a:pt x="844" y="392"/>
                    </a:moveTo>
                    <a:lnTo>
                      <a:pt x="0" y="61"/>
                    </a:lnTo>
                    <a:lnTo>
                      <a:pt x="271" y="0"/>
                    </a:lnTo>
                    <a:lnTo>
                      <a:pt x="1126" y="336"/>
                    </a:lnTo>
                    <a:lnTo>
                      <a:pt x="844" y="392"/>
                    </a:lnTo>
                    <a:close/>
                  </a:path>
                </a:pathLst>
              </a:custGeom>
              <a:solidFill>
                <a:srgbClr val="ddd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6208560" y="2975040"/>
                <a:ext cx="300240" cy="104760"/>
              </a:xfrm>
              <a:custGeom>
                <a:avLst/>
                <a:gdLst/>
                <a:ahLst/>
                <a:rect l="l" t="t" r="r" b="b"/>
                <a:pathLst>
                  <a:path w="1136" h="397">
                    <a:moveTo>
                      <a:pt x="855" y="397"/>
                    </a:moveTo>
                    <a:lnTo>
                      <a:pt x="0" y="61"/>
                    </a:lnTo>
                    <a:lnTo>
                      <a:pt x="272" y="0"/>
                    </a:lnTo>
                    <a:lnTo>
                      <a:pt x="1136" y="340"/>
                    </a:lnTo>
                    <a:lnTo>
                      <a:pt x="855" y="397"/>
                    </a:lnTo>
                    <a:close/>
                  </a:path>
                </a:pathLst>
              </a:custGeom>
              <a:solidFill>
                <a:srgbClr val="e0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6280200" y="2957400"/>
                <a:ext cx="303120" cy="106560"/>
              </a:xfrm>
              <a:custGeom>
                <a:avLst/>
                <a:gdLst/>
                <a:ahLst/>
                <a:rect l="l" t="t" r="r" b="b"/>
                <a:pathLst>
                  <a:path w="1147" h="402">
                    <a:moveTo>
                      <a:pt x="864" y="402"/>
                    </a:moveTo>
                    <a:lnTo>
                      <a:pt x="0" y="62"/>
                    </a:lnTo>
                    <a:lnTo>
                      <a:pt x="270" y="0"/>
                    </a:lnTo>
                    <a:lnTo>
                      <a:pt x="1147" y="345"/>
                    </a:lnTo>
                    <a:lnTo>
                      <a:pt x="864" y="402"/>
                    </a:lnTo>
                    <a:close/>
                  </a:path>
                </a:pathLst>
              </a:custGeom>
              <a:solidFill>
                <a:srgbClr val="e2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6351480" y="2941560"/>
                <a:ext cx="306360" cy="108000"/>
              </a:xfrm>
              <a:custGeom>
                <a:avLst/>
                <a:gdLst/>
                <a:ahLst/>
                <a:rect l="l" t="t" r="r" b="b"/>
                <a:pathLst>
                  <a:path w="1159" h="404">
                    <a:moveTo>
                      <a:pt x="877" y="404"/>
                    </a:moveTo>
                    <a:lnTo>
                      <a:pt x="0" y="59"/>
                    </a:lnTo>
                    <a:lnTo>
                      <a:pt x="272" y="0"/>
                    </a:lnTo>
                    <a:lnTo>
                      <a:pt x="1159" y="347"/>
                    </a:lnTo>
                    <a:lnTo>
                      <a:pt x="877" y="404"/>
                    </a:lnTo>
                    <a:close/>
                  </a:path>
                </a:pathLst>
              </a:custGeom>
              <a:solidFill>
                <a:srgbClr val="e8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6423120" y="2925720"/>
                <a:ext cx="309600" cy="108000"/>
              </a:xfrm>
              <a:custGeom>
                <a:avLst/>
                <a:gdLst/>
                <a:ahLst/>
                <a:rect l="l" t="t" r="r" b="b"/>
                <a:pathLst>
                  <a:path w="1170" h="410">
                    <a:moveTo>
                      <a:pt x="887" y="410"/>
                    </a:moveTo>
                    <a:lnTo>
                      <a:pt x="0" y="63"/>
                    </a:lnTo>
                    <a:lnTo>
                      <a:pt x="271" y="0"/>
                    </a:lnTo>
                    <a:lnTo>
                      <a:pt x="1170" y="355"/>
                    </a:lnTo>
                    <a:lnTo>
                      <a:pt x="887" y="410"/>
                    </a:lnTo>
                    <a:close/>
                  </a:path>
                </a:pathLst>
              </a:custGeom>
              <a:solidFill>
                <a:srgbClr val="eae8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6494400" y="2909880"/>
                <a:ext cx="312840" cy="109440"/>
              </a:xfrm>
              <a:custGeom>
                <a:avLst/>
                <a:gdLst/>
                <a:ahLst/>
                <a:rect l="l" t="t" r="r" b="b"/>
                <a:pathLst>
                  <a:path w="1180" h="415">
                    <a:moveTo>
                      <a:pt x="899" y="415"/>
                    </a:moveTo>
                    <a:lnTo>
                      <a:pt x="0" y="60"/>
                    </a:lnTo>
                    <a:lnTo>
                      <a:pt x="270" y="0"/>
                    </a:lnTo>
                    <a:lnTo>
                      <a:pt x="1180" y="358"/>
                    </a:lnTo>
                    <a:lnTo>
                      <a:pt x="899" y="415"/>
                    </a:lnTo>
                    <a:close/>
                  </a:path>
                </a:pathLst>
              </a:custGeom>
              <a:solidFill>
                <a:srgbClr val="ede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6566040" y="2894040"/>
                <a:ext cx="315720" cy="111240"/>
              </a:xfrm>
              <a:custGeom>
                <a:avLst/>
                <a:gdLst/>
                <a:ahLst/>
                <a:rect l="l" t="t" r="r" b="b"/>
                <a:pathLst>
                  <a:path w="1190" h="418">
                    <a:moveTo>
                      <a:pt x="910" y="418"/>
                    </a:moveTo>
                    <a:lnTo>
                      <a:pt x="0" y="60"/>
                    </a:lnTo>
                    <a:lnTo>
                      <a:pt x="272" y="0"/>
                    </a:lnTo>
                    <a:lnTo>
                      <a:pt x="1190" y="361"/>
                    </a:lnTo>
                    <a:lnTo>
                      <a:pt x="910" y="418"/>
                    </a:lnTo>
                    <a:close/>
                  </a:path>
                </a:pathLst>
              </a:custGeom>
              <a:solidFill>
                <a:srgbClr val="efed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6638760" y="2878200"/>
                <a:ext cx="317520" cy="111240"/>
              </a:xfrm>
              <a:custGeom>
                <a:avLst/>
                <a:gdLst/>
                <a:ahLst/>
                <a:rect l="l" t="t" r="r" b="b"/>
                <a:pathLst>
                  <a:path w="1202" h="422">
                    <a:moveTo>
                      <a:pt x="918" y="422"/>
                    </a:moveTo>
                    <a:lnTo>
                      <a:pt x="0" y="61"/>
                    </a:lnTo>
                    <a:lnTo>
                      <a:pt x="271" y="0"/>
                    </a:lnTo>
                    <a:lnTo>
                      <a:pt x="1202" y="365"/>
                    </a:lnTo>
                    <a:lnTo>
                      <a:pt x="918" y="422"/>
                    </a:lnTo>
                    <a:close/>
                  </a:path>
                </a:pathLst>
              </a:custGeom>
              <a:solidFill>
                <a:srgbClr val="f2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6710400" y="2860560"/>
                <a:ext cx="320760" cy="114480"/>
              </a:xfrm>
              <a:custGeom>
                <a:avLst/>
                <a:gdLst/>
                <a:ahLst/>
                <a:rect l="l" t="t" r="r" b="b"/>
                <a:pathLst>
                  <a:path w="1213" h="426">
                    <a:moveTo>
                      <a:pt x="931" y="426"/>
                    </a:moveTo>
                    <a:lnTo>
                      <a:pt x="0" y="61"/>
                    </a:lnTo>
                    <a:lnTo>
                      <a:pt x="270" y="0"/>
                    </a:lnTo>
                    <a:lnTo>
                      <a:pt x="1213" y="369"/>
                    </a:lnTo>
                    <a:lnTo>
                      <a:pt x="931" y="426"/>
                    </a:lnTo>
                    <a:close/>
                  </a:path>
                </a:pathLst>
              </a:custGeom>
              <a:solidFill>
                <a:srgbClr val="f4f4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6781680" y="2844720"/>
                <a:ext cx="324000" cy="114480"/>
              </a:xfrm>
              <a:custGeom>
                <a:avLst/>
                <a:gdLst/>
                <a:ahLst/>
                <a:rect l="l" t="t" r="r" b="b"/>
                <a:pathLst>
                  <a:path w="1225" h="431">
                    <a:moveTo>
                      <a:pt x="943" y="431"/>
                    </a:moveTo>
                    <a:lnTo>
                      <a:pt x="0" y="62"/>
                    </a:lnTo>
                    <a:lnTo>
                      <a:pt x="271" y="0"/>
                    </a:lnTo>
                    <a:lnTo>
                      <a:pt x="1225" y="377"/>
                    </a:lnTo>
                    <a:lnTo>
                      <a:pt x="943" y="431"/>
                    </a:lnTo>
                    <a:close/>
                  </a:path>
                </a:pathLst>
              </a:custGeom>
              <a:solidFill>
                <a:srgbClr val="f9f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853320" y="2828880"/>
                <a:ext cx="326880" cy="115920"/>
              </a:xfrm>
              <a:custGeom>
                <a:avLst/>
                <a:gdLst/>
                <a:ahLst/>
                <a:rect l="l" t="t" r="r" b="b"/>
                <a:pathLst>
                  <a:path w="1235" h="437">
                    <a:moveTo>
                      <a:pt x="954" y="437"/>
                    </a:moveTo>
                    <a:lnTo>
                      <a:pt x="0" y="60"/>
                    </a:lnTo>
                    <a:lnTo>
                      <a:pt x="270" y="0"/>
                    </a:lnTo>
                    <a:lnTo>
                      <a:pt x="1235" y="379"/>
                    </a:lnTo>
                    <a:lnTo>
                      <a:pt x="954" y="437"/>
                    </a:lnTo>
                    <a:close/>
                  </a:path>
                </a:pathLst>
              </a:custGeom>
              <a:solidFill>
                <a:srgbClr val="fcf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924600" y="2813040"/>
                <a:ext cx="285840" cy="115920"/>
              </a:xfrm>
              <a:custGeom>
                <a:avLst/>
                <a:gdLst/>
                <a:ahLst/>
                <a:rect l="l" t="t" r="r" b="b"/>
                <a:pathLst>
                  <a:path w="1078" h="440">
                    <a:moveTo>
                      <a:pt x="965" y="440"/>
                    </a:moveTo>
                    <a:lnTo>
                      <a:pt x="0" y="61"/>
                    </a:lnTo>
                    <a:lnTo>
                      <a:pt x="272" y="0"/>
                    </a:lnTo>
                    <a:lnTo>
                      <a:pt x="1078" y="318"/>
                    </a:lnTo>
                    <a:lnTo>
                      <a:pt x="1078" y="417"/>
                    </a:lnTo>
                    <a:lnTo>
                      <a:pt x="965" y="4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996240" y="2765520"/>
                <a:ext cx="214200" cy="131760"/>
              </a:xfrm>
              <a:custGeom>
                <a:avLst/>
                <a:gdLst/>
                <a:ahLst/>
                <a:rect l="l" t="t" r="r" b="b"/>
                <a:pathLst>
                  <a:path w="806" h="498">
                    <a:moveTo>
                      <a:pt x="806" y="498"/>
                    </a:moveTo>
                    <a:lnTo>
                      <a:pt x="0" y="180"/>
                    </a:lnTo>
                    <a:lnTo>
                      <a:pt x="806" y="0"/>
                    </a:lnTo>
                    <a:lnTo>
                      <a:pt x="806" y="4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989680" y="2765520"/>
                <a:ext cx="1220760" cy="403200"/>
              </a:xfrm>
              <a:custGeom>
                <a:avLst/>
                <a:gdLst/>
                <a:ahLst/>
                <a:rect l="l" t="t" r="r" b="b"/>
                <a:pathLst>
                  <a:path w="4615" h="1523">
                    <a:moveTo>
                      <a:pt x="0" y="1034"/>
                    </a:moveTo>
                    <a:lnTo>
                      <a:pt x="4615" y="0"/>
                    </a:lnTo>
                    <a:lnTo>
                      <a:pt x="4615" y="597"/>
                    </a:lnTo>
                    <a:lnTo>
                      <a:pt x="0" y="1523"/>
                    </a:lnTo>
                    <a:lnTo>
                      <a:pt x="0" y="10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878520" y="3095640"/>
                <a:ext cx="106560" cy="60480"/>
              </a:xfrm>
              <a:custGeom>
                <a:avLst/>
                <a:gdLst/>
                <a:ahLst/>
                <a:rect l="l" t="t" r="r" b="b"/>
                <a:pathLst>
                  <a:path w="401" h="228">
                    <a:moveTo>
                      <a:pt x="0" y="0"/>
                    </a:moveTo>
                    <a:lnTo>
                      <a:pt x="401" y="159"/>
                    </a:lnTo>
                    <a:lnTo>
                      <a:pt x="0" y="2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878520" y="3068640"/>
                <a:ext cx="152640" cy="68400"/>
              </a:xfrm>
              <a:custGeom>
                <a:avLst/>
                <a:gdLst/>
                <a:ahLst/>
                <a:rect l="l" t="t" r="r" b="b"/>
                <a:pathLst>
                  <a:path w="575" h="257">
                    <a:moveTo>
                      <a:pt x="401" y="257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575" y="227"/>
                    </a:lnTo>
                    <a:lnTo>
                      <a:pt x="401" y="257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877080" y="3043080"/>
                <a:ext cx="198360" cy="86040"/>
              </a:xfrm>
              <a:custGeom>
                <a:avLst/>
                <a:gdLst/>
                <a:ahLst/>
                <a:rect l="l" t="t" r="r" b="b"/>
                <a:pathLst>
                  <a:path w="748" h="325">
                    <a:moveTo>
                      <a:pt x="576" y="325"/>
                    </a:moveTo>
                    <a:lnTo>
                      <a:pt x="1" y="98"/>
                    </a:lnTo>
                    <a:lnTo>
                      <a:pt x="0" y="0"/>
                    </a:lnTo>
                    <a:lnTo>
                      <a:pt x="748" y="296"/>
                    </a:lnTo>
                    <a:lnTo>
                      <a:pt x="576" y="325"/>
                    </a:lnTo>
                    <a:close/>
                  </a:path>
                </a:pathLst>
              </a:custGeom>
              <a:solidFill>
                <a:srgbClr val="ddd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877080" y="3017880"/>
                <a:ext cx="244440" cy="103320"/>
              </a:xfrm>
              <a:custGeom>
                <a:avLst/>
                <a:gdLst/>
                <a:ahLst/>
                <a:rect l="l" t="t" r="r" b="b"/>
                <a:pathLst>
                  <a:path w="922" h="392">
                    <a:moveTo>
                      <a:pt x="748" y="392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922" y="362"/>
                    </a:lnTo>
                    <a:lnTo>
                      <a:pt x="748" y="392"/>
                    </a:lnTo>
                    <a:close/>
                  </a:path>
                </a:pathLst>
              </a:custGeom>
              <a:solidFill>
                <a:srgbClr val="e0d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6877080" y="2992320"/>
                <a:ext cx="290520" cy="122400"/>
              </a:xfrm>
              <a:custGeom>
                <a:avLst/>
                <a:gdLst/>
                <a:ahLst/>
                <a:rect l="l" t="t" r="r" b="b"/>
                <a:pathLst>
                  <a:path w="1098" h="461">
                    <a:moveTo>
                      <a:pt x="924" y="461"/>
                    </a:moveTo>
                    <a:lnTo>
                      <a:pt x="2" y="99"/>
                    </a:lnTo>
                    <a:lnTo>
                      <a:pt x="0" y="0"/>
                    </a:lnTo>
                    <a:lnTo>
                      <a:pt x="1098" y="431"/>
                    </a:lnTo>
                    <a:lnTo>
                      <a:pt x="924" y="461"/>
                    </a:lnTo>
                    <a:close/>
                  </a:path>
                </a:pathLst>
              </a:custGeom>
              <a:solidFill>
                <a:srgbClr val="e5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6877080" y="2979720"/>
                <a:ext cx="333360" cy="127080"/>
              </a:xfrm>
              <a:custGeom>
                <a:avLst/>
                <a:gdLst/>
                <a:ahLst/>
                <a:rect l="l" t="t" r="r" b="b"/>
                <a:pathLst>
                  <a:path w="1260" h="475">
                    <a:moveTo>
                      <a:pt x="1098" y="475"/>
                    </a:moveTo>
                    <a:lnTo>
                      <a:pt x="0" y="44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39" y="0"/>
                    </a:lnTo>
                    <a:lnTo>
                      <a:pt x="1260" y="440"/>
                    </a:lnTo>
                    <a:lnTo>
                      <a:pt x="1260" y="446"/>
                    </a:lnTo>
                    <a:lnTo>
                      <a:pt x="1098" y="475"/>
                    </a:lnTo>
                    <a:close/>
                  </a:path>
                </a:pathLst>
              </a:custGeom>
              <a:solidFill>
                <a:srgbClr val="e8e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913440" y="2971800"/>
                <a:ext cx="297000" cy="125280"/>
              </a:xfrm>
              <a:custGeom>
                <a:avLst/>
                <a:gdLst/>
                <a:ahLst/>
                <a:rect l="l" t="t" r="r" b="b"/>
                <a:pathLst>
                  <a:path w="1121" h="475">
                    <a:moveTo>
                      <a:pt x="1121" y="475"/>
                    </a:moveTo>
                    <a:lnTo>
                      <a:pt x="0" y="35"/>
                    </a:lnTo>
                    <a:lnTo>
                      <a:pt x="162" y="0"/>
                    </a:lnTo>
                    <a:lnTo>
                      <a:pt x="1120" y="379"/>
                    </a:lnTo>
                    <a:lnTo>
                      <a:pt x="1121" y="475"/>
                    </a:lnTo>
                    <a:close/>
                  </a:path>
                </a:pathLst>
              </a:custGeom>
              <a:solidFill>
                <a:srgbClr val="ede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956280" y="2962440"/>
                <a:ext cx="254160" cy="109440"/>
              </a:xfrm>
              <a:custGeom>
                <a:avLst/>
                <a:gdLst/>
                <a:ahLst/>
                <a:rect l="l" t="t" r="r" b="b"/>
                <a:pathLst>
                  <a:path w="958" h="411">
                    <a:moveTo>
                      <a:pt x="958" y="411"/>
                    </a:moveTo>
                    <a:lnTo>
                      <a:pt x="0" y="32"/>
                    </a:lnTo>
                    <a:lnTo>
                      <a:pt x="160" y="0"/>
                    </a:lnTo>
                    <a:lnTo>
                      <a:pt x="958" y="312"/>
                    </a:lnTo>
                    <a:lnTo>
                      <a:pt x="958" y="411"/>
                    </a:lnTo>
                    <a:close/>
                  </a:path>
                </a:pathLst>
              </a:custGeom>
              <a:solidFill>
                <a:srgbClr val="f2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6999120" y="2952720"/>
                <a:ext cx="211320" cy="92160"/>
              </a:xfrm>
              <a:custGeom>
                <a:avLst/>
                <a:gdLst/>
                <a:ahLst/>
                <a:rect l="l" t="t" r="r" b="b"/>
                <a:pathLst>
                  <a:path w="798" h="347">
                    <a:moveTo>
                      <a:pt x="798" y="347"/>
                    </a:moveTo>
                    <a:lnTo>
                      <a:pt x="0" y="35"/>
                    </a:lnTo>
                    <a:lnTo>
                      <a:pt x="162" y="0"/>
                    </a:lnTo>
                    <a:lnTo>
                      <a:pt x="796" y="249"/>
                    </a:lnTo>
                    <a:lnTo>
                      <a:pt x="798" y="347"/>
                    </a:lnTo>
                    <a:close/>
                  </a:path>
                </a:pathLst>
              </a:custGeom>
              <a:solidFill>
                <a:srgbClr val="f4f4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042320" y="2944800"/>
                <a:ext cx="168120" cy="74520"/>
              </a:xfrm>
              <a:custGeom>
                <a:avLst/>
                <a:gdLst/>
                <a:ahLst/>
                <a:rect l="l" t="t" r="r" b="b"/>
                <a:pathLst>
                  <a:path w="634" h="284">
                    <a:moveTo>
                      <a:pt x="634" y="284"/>
                    </a:moveTo>
                    <a:lnTo>
                      <a:pt x="0" y="35"/>
                    </a:lnTo>
                    <a:lnTo>
                      <a:pt x="161" y="0"/>
                    </a:lnTo>
                    <a:lnTo>
                      <a:pt x="634" y="185"/>
                    </a:lnTo>
                    <a:lnTo>
                      <a:pt x="634" y="28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085160" y="2935440"/>
                <a:ext cx="125280" cy="56880"/>
              </a:xfrm>
              <a:custGeom>
                <a:avLst/>
                <a:gdLst/>
                <a:ahLst/>
                <a:rect l="l" t="t" r="r" b="b"/>
                <a:pathLst>
                  <a:path w="473" h="220">
                    <a:moveTo>
                      <a:pt x="473" y="220"/>
                    </a:moveTo>
                    <a:lnTo>
                      <a:pt x="0" y="35"/>
                    </a:lnTo>
                    <a:lnTo>
                      <a:pt x="162" y="0"/>
                    </a:lnTo>
                    <a:lnTo>
                      <a:pt x="473" y="121"/>
                    </a:lnTo>
                    <a:lnTo>
                      <a:pt x="473" y="2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128000" y="2917800"/>
                <a:ext cx="82440" cy="49320"/>
              </a:xfrm>
              <a:custGeom>
                <a:avLst/>
                <a:gdLst/>
                <a:ahLst/>
                <a:rect l="l" t="t" r="r" b="b"/>
                <a:pathLst>
                  <a:path w="311" h="185">
                    <a:moveTo>
                      <a:pt x="311" y="185"/>
                    </a:moveTo>
                    <a:lnTo>
                      <a:pt x="0" y="64"/>
                    </a:lnTo>
                    <a:lnTo>
                      <a:pt x="308" y="0"/>
                    </a:lnTo>
                    <a:lnTo>
                      <a:pt x="311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6877080" y="2917800"/>
                <a:ext cx="333360" cy="238320"/>
              </a:xfrm>
              <a:custGeom>
                <a:avLst/>
                <a:gdLst/>
                <a:ahLst/>
                <a:rect l="l" t="t" r="r" b="b"/>
                <a:pathLst>
                  <a:path w="1260" h="899">
                    <a:moveTo>
                      <a:pt x="0" y="265"/>
                    </a:moveTo>
                    <a:lnTo>
                      <a:pt x="1254" y="0"/>
                    </a:lnTo>
                    <a:lnTo>
                      <a:pt x="1260" y="682"/>
                    </a:lnTo>
                    <a:lnTo>
                      <a:pt x="3" y="899"/>
                    </a:lnTo>
                    <a:lnTo>
                      <a:pt x="0" y="2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6453360" y="3173400"/>
                <a:ext cx="98280" cy="54000"/>
              </a:xfrm>
              <a:custGeom>
                <a:avLst/>
                <a:gdLst/>
                <a:ahLst/>
                <a:rect l="l" t="t" r="r" b="b"/>
                <a:pathLst>
                  <a:path w="376" h="205">
                    <a:moveTo>
                      <a:pt x="0" y="0"/>
                    </a:moveTo>
                    <a:lnTo>
                      <a:pt x="376" y="146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6453360" y="3149640"/>
                <a:ext cx="139680" cy="61920"/>
              </a:xfrm>
              <a:custGeom>
                <a:avLst/>
                <a:gdLst/>
                <a:ahLst/>
                <a:rect l="l" t="t" r="r" b="b"/>
                <a:pathLst>
                  <a:path w="530" h="232">
                    <a:moveTo>
                      <a:pt x="376" y="232"/>
                    </a:moveTo>
                    <a:lnTo>
                      <a:pt x="0" y="86"/>
                    </a:lnTo>
                    <a:lnTo>
                      <a:pt x="0" y="0"/>
                    </a:lnTo>
                    <a:lnTo>
                      <a:pt x="530" y="210"/>
                    </a:lnTo>
                    <a:lnTo>
                      <a:pt x="376" y="232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6453360" y="3129120"/>
                <a:ext cx="180720" cy="75960"/>
              </a:xfrm>
              <a:custGeom>
                <a:avLst/>
                <a:gdLst/>
                <a:ahLst/>
                <a:rect l="l" t="t" r="r" b="b"/>
                <a:pathLst>
                  <a:path w="684" h="294">
                    <a:moveTo>
                      <a:pt x="530" y="294"/>
                    </a:moveTo>
                    <a:lnTo>
                      <a:pt x="0" y="84"/>
                    </a:lnTo>
                    <a:lnTo>
                      <a:pt x="0" y="0"/>
                    </a:lnTo>
                    <a:lnTo>
                      <a:pt x="684" y="269"/>
                    </a:lnTo>
                    <a:lnTo>
                      <a:pt x="530" y="294"/>
                    </a:lnTo>
                    <a:close/>
                  </a:path>
                </a:pathLst>
              </a:custGeom>
              <a:solidFill>
                <a:srgbClr val="ddd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6453360" y="3105000"/>
                <a:ext cx="222120" cy="93960"/>
              </a:xfrm>
              <a:custGeom>
                <a:avLst/>
                <a:gdLst/>
                <a:ahLst/>
                <a:rect l="l" t="t" r="r" b="b"/>
                <a:pathLst>
                  <a:path w="838" h="355">
                    <a:moveTo>
                      <a:pt x="684" y="355"/>
                    </a:moveTo>
                    <a:lnTo>
                      <a:pt x="0" y="86"/>
                    </a:lnTo>
                    <a:lnTo>
                      <a:pt x="0" y="0"/>
                    </a:lnTo>
                    <a:lnTo>
                      <a:pt x="838" y="331"/>
                    </a:lnTo>
                    <a:lnTo>
                      <a:pt x="684" y="355"/>
                    </a:lnTo>
                    <a:close/>
                  </a:path>
                </a:pathLst>
              </a:custGeom>
              <a:solidFill>
                <a:srgbClr val="e0d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6453360" y="3083040"/>
                <a:ext cx="263520" cy="109440"/>
              </a:xfrm>
              <a:custGeom>
                <a:avLst/>
                <a:gdLst/>
                <a:ahLst/>
                <a:rect l="l" t="t" r="r" b="b"/>
                <a:pathLst>
                  <a:path w="995" h="416">
                    <a:moveTo>
                      <a:pt x="838" y="416"/>
                    </a:moveTo>
                    <a:lnTo>
                      <a:pt x="0" y="85"/>
                    </a:lnTo>
                    <a:lnTo>
                      <a:pt x="0" y="0"/>
                    </a:lnTo>
                    <a:lnTo>
                      <a:pt x="995" y="392"/>
                    </a:lnTo>
                    <a:lnTo>
                      <a:pt x="838" y="416"/>
                    </a:lnTo>
                    <a:close/>
                  </a:path>
                </a:pathLst>
              </a:custGeom>
              <a:solidFill>
                <a:srgbClr val="e5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6453360" y="3070080"/>
                <a:ext cx="303120" cy="115920"/>
              </a:xfrm>
              <a:custGeom>
                <a:avLst/>
                <a:gdLst/>
                <a:ahLst/>
                <a:rect l="l" t="t" r="r" b="b"/>
                <a:pathLst>
                  <a:path w="1146" h="439">
                    <a:moveTo>
                      <a:pt x="995" y="439"/>
                    </a:moveTo>
                    <a:lnTo>
                      <a:pt x="0" y="4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93" y="0"/>
                    </a:lnTo>
                    <a:lnTo>
                      <a:pt x="1146" y="413"/>
                    </a:lnTo>
                    <a:lnTo>
                      <a:pt x="995" y="439"/>
                    </a:lnTo>
                    <a:close/>
                  </a:path>
                </a:pathLst>
              </a:custGeom>
              <a:solidFill>
                <a:srgbClr val="e8e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6477120" y="3062160"/>
                <a:ext cx="284040" cy="117720"/>
              </a:xfrm>
              <a:custGeom>
                <a:avLst/>
                <a:gdLst/>
                <a:ahLst/>
                <a:rect l="l" t="t" r="r" b="b"/>
                <a:pathLst>
                  <a:path w="1069" h="442">
                    <a:moveTo>
                      <a:pt x="1053" y="442"/>
                    </a:moveTo>
                    <a:lnTo>
                      <a:pt x="0" y="29"/>
                    </a:lnTo>
                    <a:lnTo>
                      <a:pt x="143" y="0"/>
                    </a:lnTo>
                    <a:lnTo>
                      <a:pt x="1069" y="365"/>
                    </a:lnTo>
                    <a:lnTo>
                      <a:pt x="1069" y="440"/>
                    </a:lnTo>
                    <a:lnTo>
                      <a:pt x="1069" y="440"/>
                    </a:lnTo>
                    <a:lnTo>
                      <a:pt x="1053" y="442"/>
                    </a:lnTo>
                    <a:close/>
                  </a:path>
                </a:pathLst>
              </a:custGeom>
              <a:solidFill>
                <a:srgbClr val="ede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6515280" y="3054240"/>
                <a:ext cx="245880" cy="104760"/>
              </a:xfrm>
              <a:custGeom>
                <a:avLst/>
                <a:gdLst/>
                <a:ahLst/>
                <a:rect l="l" t="t" r="r" b="b"/>
                <a:pathLst>
                  <a:path w="927" h="395">
                    <a:moveTo>
                      <a:pt x="926" y="395"/>
                    </a:moveTo>
                    <a:lnTo>
                      <a:pt x="0" y="30"/>
                    </a:lnTo>
                    <a:lnTo>
                      <a:pt x="142" y="0"/>
                    </a:lnTo>
                    <a:lnTo>
                      <a:pt x="927" y="309"/>
                    </a:lnTo>
                    <a:lnTo>
                      <a:pt x="926" y="395"/>
                    </a:lnTo>
                    <a:close/>
                  </a:path>
                </a:pathLst>
              </a:custGeom>
              <a:solidFill>
                <a:srgbClr val="f2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6553080" y="3048120"/>
                <a:ext cx="208080" cy="88920"/>
              </a:xfrm>
              <a:custGeom>
                <a:avLst/>
                <a:gdLst/>
                <a:ahLst/>
                <a:rect l="l" t="t" r="r" b="b"/>
                <a:pathLst>
                  <a:path w="788" h="338">
                    <a:moveTo>
                      <a:pt x="785" y="338"/>
                    </a:moveTo>
                    <a:lnTo>
                      <a:pt x="0" y="29"/>
                    </a:lnTo>
                    <a:lnTo>
                      <a:pt x="142" y="0"/>
                    </a:lnTo>
                    <a:lnTo>
                      <a:pt x="788" y="255"/>
                    </a:lnTo>
                    <a:lnTo>
                      <a:pt x="785" y="338"/>
                    </a:lnTo>
                    <a:close/>
                  </a:path>
                </a:pathLst>
              </a:custGeom>
              <a:solidFill>
                <a:srgbClr val="f4f4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6589800" y="3040200"/>
                <a:ext cx="171360" cy="74520"/>
              </a:xfrm>
              <a:custGeom>
                <a:avLst/>
                <a:gdLst/>
                <a:ahLst/>
                <a:rect l="l" t="t" r="r" b="b"/>
                <a:pathLst>
                  <a:path w="646" h="284">
                    <a:moveTo>
                      <a:pt x="646" y="284"/>
                    </a:moveTo>
                    <a:lnTo>
                      <a:pt x="0" y="29"/>
                    </a:lnTo>
                    <a:lnTo>
                      <a:pt x="144" y="0"/>
                    </a:lnTo>
                    <a:lnTo>
                      <a:pt x="646" y="199"/>
                    </a:lnTo>
                    <a:lnTo>
                      <a:pt x="646" y="28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6629400" y="3032280"/>
                <a:ext cx="131760" cy="60120"/>
              </a:xfrm>
              <a:custGeom>
                <a:avLst/>
                <a:gdLst/>
                <a:ahLst/>
                <a:rect l="l" t="t" r="r" b="b"/>
                <a:pathLst>
                  <a:path w="504" h="227">
                    <a:moveTo>
                      <a:pt x="502" y="227"/>
                    </a:moveTo>
                    <a:lnTo>
                      <a:pt x="0" y="28"/>
                    </a:lnTo>
                    <a:lnTo>
                      <a:pt x="142" y="0"/>
                    </a:lnTo>
                    <a:lnTo>
                      <a:pt x="504" y="143"/>
                    </a:lnTo>
                    <a:lnTo>
                      <a:pt x="502" y="2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6665760" y="3013200"/>
                <a:ext cx="96840" cy="56880"/>
              </a:xfrm>
              <a:custGeom>
                <a:avLst/>
                <a:gdLst/>
                <a:ahLst/>
                <a:rect l="l" t="t" r="r" b="b"/>
                <a:pathLst>
                  <a:path w="364" h="216">
                    <a:moveTo>
                      <a:pt x="362" y="216"/>
                    </a:moveTo>
                    <a:lnTo>
                      <a:pt x="0" y="73"/>
                    </a:lnTo>
                    <a:lnTo>
                      <a:pt x="364" y="0"/>
                    </a:lnTo>
                    <a:lnTo>
                      <a:pt x="362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6453360" y="3013200"/>
                <a:ext cx="309240" cy="214200"/>
              </a:xfrm>
              <a:custGeom>
                <a:avLst/>
                <a:gdLst/>
                <a:ahLst/>
                <a:rect l="l" t="t" r="r" b="b"/>
                <a:pathLst>
                  <a:path w="1170" h="811">
                    <a:moveTo>
                      <a:pt x="0" y="237"/>
                    </a:moveTo>
                    <a:lnTo>
                      <a:pt x="1170" y="0"/>
                    </a:lnTo>
                    <a:lnTo>
                      <a:pt x="1162" y="629"/>
                    </a:lnTo>
                    <a:lnTo>
                      <a:pt x="0" y="811"/>
                    </a:lnTo>
                    <a:lnTo>
                      <a:pt x="0" y="2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992920" y="326088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314" h="178">
                    <a:moveTo>
                      <a:pt x="0" y="0"/>
                    </a:moveTo>
                    <a:lnTo>
                      <a:pt x="314" y="123"/>
                    </a:lnTo>
                    <a:lnTo>
                      <a:pt x="2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992920" y="3238560"/>
                <a:ext cx="122040" cy="54000"/>
              </a:xfrm>
              <a:custGeom>
                <a:avLst/>
                <a:gdLst/>
                <a:ahLst/>
                <a:rect l="l" t="t" r="r" b="b"/>
                <a:pathLst>
                  <a:path w="462" h="209">
                    <a:moveTo>
                      <a:pt x="316" y="209"/>
                    </a:moveTo>
                    <a:lnTo>
                      <a:pt x="2" y="86"/>
                    </a:lnTo>
                    <a:lnTo>
                      <a:pt x="0" y="0"/>
                    </a:lnTo>
                    <a:lnTo>
                      <a:pt x="462" y="183"/>
                    </a:lnTo>
                    <a:lnTo>
                      <a:pt x="316" y="209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992920" y="3216240"/>
                <a:ext cx="161640" cy="69840"/>
              </a:xfrm>
              <a:custGeom>
                <a:avLst/>
                <a:gdLst/>
                <a:ahLst/>
                <a:rect l="l" t="t" r="r" b="b"/>
                <a:pathLst>
                  <a:path w="610" h="265">
                    <a:moveTo>
                      <a:pt x="462" y="265"/>
                    </a:moveTo>
                    <a:lnTo>
                      <a:pt x="0" y="82"/>
                    </a:lnTo>
                    <a:lnTo>
                      <a:pt x="0" y="0"/>
                    </a:lnTo>
                    <a:lnTo>
                      <a:pt x="610" y="239"/>
                    </a:lnTo>
                    <a:lnTo>
                      <a:pt x="462" y="265"/>
                    </a:lnTo>
                    <a:close/>
                  </a:path>
                </a:pathLst>
              </a:custGeom>
              <a:solidFill>
                <a:srgbClr val="ddd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5992920" y="3193920"/>
                <a:ext cx="199800" cy="85680"/>
              </a:xfrm>
              <a:custGeom>
                <a:avLst/>
                <a:gdLst/>
                <a:ahLst/>
                <a:rect l="l" t="t" r="r" b="b"/>
                <a:pathLst>
                  <a:path w="759" h="323">
                    <a:moveTo>
                      <a:pt x="612" y="323"/>
                    </a:moveTo>
                    <a:lnTo>
                      <a:pt x="2" y="84"/>
                    </a:lnTo>
                    <a:lnTo>
                      <a:pt x="0" y="0"/>
                    </a:lnTo>
                    <a:lnTo>
                      <a:pt x="759" y="298"/>
                    </a:lnTo>
                    <a:lnTo>
                      <a:pt x="612" y="323"/>
                    </a:lnTo>
                    <a:close/>
                  </a:path>
                </a:pathLst>
              </a:custGeom>
              <a:solidFill>
                <a:srgbClr val="e0d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992920" y="3170160"/>
                <a:ext cx="239760" cy="103320"/>
              </a:xfrm>
              <a:custGeom>
                <a:avLst/>
                <a:gdLst/>
                <a:ahLst/>
                <a:rect l="l" t="t" r="r" b="b"/>
                <a:pathLst>
                  <a:path w="908" h="384">
                    <a:moveTo>
                      <a:pt x="759" y="384"/>
                    </a:moveTo>
                    <a:lnTo>
                      <a:pt x="0" y="86"/>
                    </a:lnTo>
                    <a:lnTo>
                      <a:pt x="0" y="0"/>
                    </a:lnTo>
                    <a:lnTo>
                      <a:pt x="908" y="357"/>
                    </a:lnTo>
                    <a:lnTo>
                      <a:pt x="759" y="384"/>
                    </a:lnTo>
                    <a:close/>
                  </a:path>
                </a:pathLst>
              </a:custGeom>
              <a:solidFill>
                <a:srgbClr val="e5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992920" y="3162240"/>
                <a:ext cx="277560" cy="103320"/>
              </a:xfrm>
              <a:custGeom>
                <a:avLst/>
                <a:gdLst/>
                <a:ahLst/>
                <a:rect l="l" t="t" r="r" b="b"/>
                <a:pathLst>
                  <a:path w="1053" h="388">
                    <a:moveTo>
                      <a:pt x="908" y="388"/>
                    </a:move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34" y="0"/>
                    </a:lnTo>
                    <a:lnTo>
                      <a:pt x="1053" y="364"/>
                    </a:lnTo>
                    <a:lnTo>
                      <a:pt x="908" y="388"/>
                    </a:lnTo>
                    <a:close/>
                  </a:path>
                </a:pathLst>
              </a:custGeom>
              <a:solidFill>
                <a:srgbClr val="e8e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6027840" y="3156120"/>
                <a:ext cx="282600" cy="102960"/>
              </a:xfrm>
              <a:custGeom>
                <a:avLst/>
                <a:gdLst/>
                <a:ahLst/>
                <a:rect l="l" t="t" r="r" b="b"/>
                <a:pathLst>
                  <a:path w="1068" h="391">
                    <a:moveTo>
                      <a:pt x="919" y="391"/>
                    </a:moveTo>
                    <a:lnTo>
                      <a:pt x="0" y="27"/>
                    </a:lnTo>
                    <a:lnTo>
                      <a:pt x="139" y="0"/>
                    </a:lnTo>
                    <a:lnTo>
                      <a:pt x="1068" y="364"/>
                    </a:lnTo>
                    <a:lnTo>
                      <a:pt x="919" y="391"/>
                    </a:lnTo>
                    <a:close/>
                  </a:path>
                </a:pathLst>
              </a:custGeom>
              <a:solidFill>
                <a:srgbClr val="ede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6064200" y="3147840"/>
                <a:ext cx="285840" cy="103320"/>
              </a:xfrm>
              <a:custGeom>
                <a:avLst/>
                <a:gdLst/>
                <a:ahLst/>
                <a:rect l="l" t="t" r="r" b="b"/>
                <a:pathLst>
                  <a:path w="1076" h="392">
                    <a:moveTo>
                      <a:pt x="929" y="392"/>
                    </a:moveTo>
                    <a:lnTo>
                      <a:pt x="0" y="28"/>
                    </a:lnTo>
                    <a:lnTo>
                      <a:pt x="142" y="0"/>
                    </a:lnTo>
                    <a:lnTo>
                      <a:pt x="1076" y="365"/>
                    </a:lnTo>
                    <a:lnTo>
                      <a:pt x="929" y="392"/>
                    </a:lnTo>
                    <a:close/>
                  </a:path>
                </a:pathLst>
              </a:custGeom>
              <a:solidFill>
                <a:srgbClr val="f2e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6102360" y="3139920"/>
                <a:ext cx="285840" cy="104760"/>
              </a:xfrm>
              <a:custGeom>
                <a:avLst/>
                <a:gdLst/>
                <a:ahLst/>
                <a:rect l="l" t="t" r="r" b="b"/>
                <a:pathLst>
                  <a:path w="1079" h="394">
                    <a:moveTo>
                      <a:pt x="934" y="394"/>
                    </a:moveTo>
                    <a:lnTo>
                      <a:pt x="0" y="29"/>
                    </a:lnTo>
                    <a:lnTo>
                      <a:pt x="141" y="0"/>
                    </a:lnTo>
                    <a:lnTo>
                      <a:pt x="1079" y="370"/>
                    </a:lnTo>
                    <a:lnTo>
                      <a:pt x="934" y="394"/>
                    </a:lnTo>
                    <a:close/>
                  </a:path>
                </a:pathLst>
              </a:custGeom>
              <a:solidFill>
                <a:srgbClr val="f4f4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138720" y="3132000"/>
                <a:ext cx="277920" cy="106560"/>
              </a:xfrm>
              <a:custGeom>
                <a:avLst/>
                <a:gdLst/>
                <a:ahLst/>
                <a:rect l="l" t="t" r="r" b="b"/>
                <a:pathLst>
                  <a:path w="1050" h="399">
                    <a:moveTo>
                      <a:pt x="938" y="399"/>
                    </a:moveTo>
                    <a:lnTo>
                      <a:pt x="0" y="29"/>
                    </a:lnTo>
                    <a:lnTo>
                      <a:pt x="142" y="0"/>
                    </a:lnTo>
                    <a:lnTo>
                      <a:pt x="1050" y="357"/>
                    </a:lnTo>
                    <a:lnTo>
                      <a:pt x="1050" y="380"/>
                    </a:lnTo>
                    <a:lnTo>
                      <a:pt x="938" y="399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6176880" y="3125880"/>
                <a:ext cx="239760" cy="101520"/>
              </a:xfrm>
              <a:custGeom>
                <a:avLst/>
                <a:gdLst/>
                <a:ahLst/>
                <a:rect l="l" t="t" r="r" b="b"/>
                <a:pathLst>
                  <a:path w="908" h="385">
                    <a:moveTo>
                      <a:pt x="908" y="385"/>
                    </a:moveTo>
                    <a:lnTo>
                      <a:pt x="0" y="28"/>
                    </a:lnTo>
                    <a:lnTo>
                      <a:pt x="142" y="0"/>
                    </a:lnTo>
                    <a:lnTo>
                      <a:pt x="906" y="301"/>
                    </a:lnTo>
                    <a:lnTo>
                      <a:pt x="908" y="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6215040" y="3086280"/>
                <a:ext cx="201600" cy="118800"/>
              </a:xfrm>
              <a:custGeom>
                <a:avLst/>
                <a:gdLst/>
                <a:ahLst/>
                <a:rect l="l" t="t" r="r" b="b"/>
                <a:pathLst>
                  <a:path w="764" h="453">
                    <a:moveTo>
                      <a:pt x="764" y="453"/>
                    </a:moveTo>
                    <a:lnTo>
                      <a:pt x="0" y="152"/>
                    </a:lnTo>
                    <a:lnTo>
                      <a:pt x="762" y="0"/>
                    </a:lnTo>
                    <a:lnTo>
                      <a:pt x="764" y="4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992920" y="3086280"/>
                <a:ext cx="423720" cy="220320"/>
              </a:xfrm>
              <a:custGeom>
                <a:avLst/>
                <a:gdLst/>
                <a:ahLst/>
                <a:rect l="l" t="t" r="r" b="b"/>
                <a:pathLst>
                  <a:path w="1606" h="840">
                    <a:moveTo>
                      <a:pt x="0" y="322"/>
                    </a:moveTo>
                    <a:lnTo>
                      <a:pt x="1602" y="0"/>
                    </a:lnTo>
                    <a:lnTo>
                      <a:pt x="1606" y="560"/>
                    </a:lnTo>
                    <a:lnTo>
                      <a:pt x="6" y="840"/>
                    </a:lnTo>
                    <a:lnTo>
                      <a:pt x="0" y="3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6383160" y="4457880"/>
                <a:ext cx="119160" cy="45720"/>
              </a:xfrm>
              <a:custGeom>
                <a:avLst/>
                <a:gdLst/>
                <a:ahLst/>
                <a:rect l="l" t="t" r="r" b="b"/>
                <a:pathLst>
                  <a:path w="453" h="176">
                    <a:moveTo>
                      <a:pt x="0" y="0"/>
                    </a:moveTo>
                    <a:lnTo>
                      <a:pt x="453" y="176"/>
                    </a:lnTo>
                    <a:lnTo>
                      <a:pt x="423" y="170"/>
                    </a:lnTo>
                    <a:lnTo>
                      <a:pt x="394" y="165"/>
                    </a:lnTo>
                    <a:lnTo>
                      <a:pt x="364" y="158"/>
                    </a:lnTo>
                    <a:lnTo>
                      <a:pt x="335" y="150"/>
                    </a:lnTo>
                    <a:lnTo>
                      <a:pt x="306" y="142"/>
                    </a:lnTo>
                    <a:lnTo>
                      <a:pt x="277" y="134"/>
                    </a:lnTo>
                    <a:lnTo>
                      <a:pt x="248" y="123"/>
                    </a:lnTo>
                    <a:lnTo>
                      <a:pt x="219" y="112"/>
                    </a:lnTo>
                    <a:lnTo>
                      <a:pt x="191" y="101"/>
                    </a:lnTo>
                    <a:lnTo>
                      <a:pt x="163" y="89"/>
                    </a:lnTo>
                    <a:lnTo>
                      <a:pt x="135" y="75"/>
                    </a:lnTo>
                    <a:lnTo>
                      <a:pt x="107" y="62"/>
                    </a:lnTo>
                    <a:lnTo>
                      <a:pt x="80" y="48"/>
                    </a:lnTo>
                    <a:lnTo>
                      <a:pt x="52" y="32"/>
                    </a:lnTo>
                    <a:lnTo>
                      <a:pt x="26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243480" y="4299120"/>
                <a:ext cx="443160" cy="209520"/>
              </a:xfrm>
              <a:custGeom>
                <a:avLst/>
                <a:gdLst/>
                <a:ahLst/>
                <a:rect l="l" t="t" r="r" b="b"/>
                <a:pathLst>
                  <a:path w="1675" h="792">
                    <a:moveTo>
                      <a:pt x="981" y="778"/>
                    </a:moveTo>
                    <a:lnTo>
                      <a:pt x="528" y="602"/>
                    </a:lnTo>
                    <a:lnTo>
                      <a:pt x="489" y="575"/>
                    </a:lnTo>
                    <a:lnTo>
                      <a:pt x="449" y="546"/>
                    </a:lnTo>
                    <a:lnTo>
                      <a:pt x="411" y="516"/>
                    </a:lnTo>
                    <a:lnTo>
                      <a:pt x="375" y="484"/>
                    </a:lnTo>
                    <a:lnTo>
                      <a:pt x="339" y="452"/>
                    </a:lnTo>
                    <a:lnTo>
                      <a:pt x="303" y="417"/>
                    </a:lnTo>
                    <a:lnTo>
                      <a:pt x="268" y="382"/>
                    </a:lnTo>
                    <a:lnTo>
                      <a:pt x="235" y="344"/>
                    </a:lnTo>
                    <a:lnTo>
                      <a:pt x="201" y="306"/>
                    </a:lnTo>
                    <a:lnTo>
                      <a:pt x="170" y="265"/>
                    </a:lnTo>
                    <a:lnTo>
                      <a:pt x="139" y="224"/>
                    </a:lnTo>
                    <a:lnTo>
                      <a:pt x="109" y="182"/>
                    </a:lnTo>
                    <a:lnTo>
                      <a:pt x="81" y="138"/>
                    </a:lnTo>
                    <a:lnTo>
                      <a:pt x="53" y="92"/>
                    </a:lnTo>
                    <a:lnTo>
                      <a:pt x="26" y="47"/>
                    </a:lnTo>
                    <a:lnTo>
                      <a:pt x="0" y="0"/>
                    </a:lnTo>
                    <a:lnTo>
                      <a:pt x="1675" y="656"/>
                    </a:lnTo>
                    <a:lnTo>
                      <a:pt x="1645" y="672"/>
                    </a:lnTo>
                    <a:lnTo>
                      <a:pt x="1614" y="687"/>
                    </a:lnTo>
                    <a:lnTo>
                      <a:pt x="1582" y="702"/>
                    </a:lnTo>
                    <a:lnTo>
                      <a:pt x="1551" y="714"/>
                    </a:lnTo>
                    <a:lnTo>
                      <a:pt x="1519" y="727"/>
                    </a:lnTo>
                    <a:lnTo>
                      <a:pt x="1486" y="738"/>
                    </a:lnTo>
                    <a:lnTo>
                      <a:pt x="1454" y="748"/>
                    </a:lnTo>
                    <a:lnTo>
                      <a:pt x="1421" y="758"/>
                    </a:lnTo>
                    <a:lnTo>
                      <a:pt x="1388" y="766"/>
                    </a:lnTo>
                    <a:lnTo>
                      <a:pt x="1354" y="772"/>
                    </a:lnTo>
                    <a:lnTo>
                      <a:pt x="1321" y="779"/>
                    </a:lnTo>
                    <a:lnTo>
                      <a:pt x="1287" y="784"/>
                    </a:lnTo>
                    <a:lnTo>
                      <a:pt x="1253" y="788"/>
                    </a:lnTo>
                    <a:lnTo>
                      <a:pt x="1219" y="790"/>
                    </a:lnTo>
                    <a:lnTo>
                      <a:pt x="1185" y="791"/>
                    </a:lnTo>
                    <a:lnTo>
                      <a:pt x="1150" y="792"/>
                    </a:lnTo>
                    <a:lnTo>
                      <a:pt x="1129" y="792"/>
                    </a:lnTo>
                    <a:lnTo>
                      <a:pt x="1107" y="791"/>
                    </a:lnTo>
                    <a:lnTo>
                      <a:pt x="1086" y="790"/>
                    </a:lnTo>
                    <a:lnTo>
                      <a:pt x="1065" y="789"/>
                    </a:lnTo>
                    <a:lnTo>
                      <a:pt x="1044" y="787"/>
                    </a:lnTo>
                    <a:lnTo>
                      <a:pt x="1023" y="785"/>
                    </a:lnTo>
                    <a:lnTo>
                      <a:pt x="1002" y="781"/>
                    </a:lnTo>
                    <a:lnTo>
                      <a:pt x="981" y="778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197760" y="4176720"/>
                <a:ext cx="577800" cy="295200"/>
              </a:xfrm>
              <a:custGeom>
                <a:avLst/>
                <a:gdLst/>
                <a:ahLst/>
                <a:rect l="l" t="t" r="r" b="b"/>
                <a:pathLst>
                  <a:path w="2186" h="1119">
                    <a:moveTo>
                      <a:pt x="1850" y="1119"/>
                    </a:moveTo>
                    <a:lnTo>
                      <a:pt x="175" y="463"/>
                    </a:lnTo>
                    <a:lnTo>
                      <a:pt x="148" y="409"/>
                    </a:lnTo>
                    <a:lnTo>
                      <a:pt x="122" y="354"/>
                    </a:lnTo>
                    <a:lnTo>
                      <a:pt x="98" y="297"/>
                    </a:lnTo>
                    <a:lnTo>
                      <a:pt x="75" y="241"/>
                    </a:lnTo>
                    <a:lnTo>
                      <a:pt x="54" y="182"/>
                    </a:lnTo>
                    <a:lnTo>
                      <a:pt x="35" y="122"/>
                    </a:lnTo>
                    <a:lnTo>
                      <a:pt x="17" y="62"/>
                    </a:lnTo>
                    <a:lnTo>
                      <a:pt x="0" y="0"/>
                    </a:lnTo>
                    <a:lnTo>
                      <a:pt x="2186" y="859"/>
                    </a:lnTo>
                    <a:lnTo>
                      <a:pt x="2167" y="879"/>
                    </a:lnTo>
                    <a:lnTo>
                      <a:pt x="2148" y="899"/>
                    </a:lnTo>
                    <a:lnTo>
                      <a:pt x="2129" y="918"/>
                    </a:lnTo>
                    <a:lnTo>
                      <a:pt x="2109" y="936"/>
                    </a:lnTo>
                    <a:lnTo>
                      <a:pt x="2089" y="955"/>
                    </a:lnTo>
                    <a:lnTo>
                      <a:pt x="2068" y="972"/>
                    </a:lnTo>
                    <a:lnTo>
                      <a:pt x="2048" y="990"/>
                    </a:lnTo>
                    <a:lnTo>
                      <a:pt x="2027" y="1005"/>
                    </a:lnTo>
                    <a:lnTo>
                      <a:pt x="2005" y="1022"/>
                    </a:lnTo>
                    <a:lnTo>
                      <a:pt x="1984" y="1038"/>
                    </a:lnTo>
                    <a:lnTo>
                      <a:pt x="1962" y="1052"/>
                    </a:lnTo>
                    <a:lnTo>
                      <a:pt x="1941" y="1067"/>
                    </a:lnTo>
                    <a:lnTo>
                      <a:pt x="1918" y="1081"/>
                    </a:lnTo>
                    <a:lnTo>
                      <a:pt x="1896" y="1095"/>
                    </a:lnTo>
                    <a:lnTo>
                      <a:pt x="1872" y="1107"/>
                    </a:lnTo>
                    <a:lnTo>
                      <a:pt x="1850" y="1119"/>
                    </a:lnTo>
                    <a:close/>
                  </a:path>
                </a:pathLst>
              </a:custGeom>
              <a:solidFill>
                <a:srgbClr val="ddd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180120" y="4065480"/>
                <a:ext cx="657360" cy="338400"/>
              </a:xfrm>
              <a:custGeom>
                <a:avLst/>
                <a:gdLst/>
                <a:ahLst/>
                <a:rect l="l" t="t" r="r" b="b"/>
                <a:pathLst>
                  <a:path w="2483" h="1277">
                    <a:moveTo>
                      <a:pt x="2250" y="1277"/>
                    </a:moveTo>
                    <a:lnTo>
                      <a:pt x="64" y="418"/>
                    </a:lnTo>
                    <a:lnTo>
                      <a:pt x="53" y="367"/>
                    </a:lnTo>
                    <a:lnTo>
                      <a:pt x="42" y="316"/>
                    </a:lnTo>
                    <a:lnTo>
                      <a:pt x="31" y="264"/>
                    </a:lnTo>
                    <a:lnTo>
                      <a:pt x="24" y="212"/>
                    </a:lnTo>
                    <a:lnTo>
                      <a:pt x="16" y="159"/>
                    </a:lnTo>
                    <a:lnTo>
                      <a:pt x="9" y="107"/>
                    </a:lnTo>
                    <a:lnTo>
                      <a:pt x="5" y="53"/>
                    </a:lnTo>
                    <a:lnTo>
                      <a:pt x="0" y="0"/>
                    </a:lnTo>
                    <a:lnTo>
                      <a:pt x="2483" y="976"/>
                    </a:lnTo>
                    <a:lnTo>
                      <a:pt x="2469" y="997"/>
                    </a:lnTo>
                    <a:lnTo>
                      <a:pt x="2457" y="1017"/>
                    </a:lnTo>
                    <a:lnTo>
                      <a:pt x="2444" y="1038"/>
                    </a:lnTo>
                    <a:lnTo>
                      <a:pt x="2430" y="1058"/>
                    </a:lnTo>
                    <a:lnTo>
                      <a:pt x="2416" y="1078"/>
                    </a:lnTo>
                    <a:lnTo>
                      <a:pt x="2402" y="1097"/>
                    </a:lnTo>
                    <a:lnTo>
                      <a:pt x="2388" y="1117"/>
                    </a:lnTo>
                    <a:lnTo>
                      <a:pt x="2373" y="1136"/>
                    </a:lnTo>
                    <a:lnTo>
                      <a:pt x="2359" y="1154"/>
                    </a:lnTo>
                    <a:lnTo>
                      <a:pt x="2344" y="1173"/>
                    </a:lnTo>
                    <a:lnTo>
                      <a:pt x="2328" y="1191"/>
                    </a:lnTo>
                    <a:lnTo>
                      <a:pt x="2313" y="1209"/>
                    </a:lnTo>
                    <a:lnTo>
                      <a:pt x="2298" y="1227"/>
                    </a:lnTo>
                    <a:lnTo>
                      <a:pt x="2283" y="1244"/>
                    </a:lnTo>
                    <a:lnTo>
                      <a:pt x="2266" y="1260"/>
                    </a:lnTo>
                    <a:lnTo>
                      <a:pt x="2250" y="1277"/>
                    </a:lnTo>
                    <a:close/>
                  </a:path>
                </a:pathLst>
              </a:custGeom>
              <a:solidFill>
                <a:srgbClr val="e2d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6178680" y="3962520"/>
                <a:ext cx="699840" cy="361800"/>
              </a:xfrm>
              <a:custGeom>
                <a:avLst/>
                <a:gdLst/>
                <a:ahLst/>
                <a:rect l="l" t="t" r="r" b="b"/>
                <a:pathLst>
                  <a:path w="2643" h="1366">
                    <a:moveTo>
                      <a:pt x="2486" y="1366"/>
                    </a:moveTo>
                    <a:lnTo>
                      <a:pt x="3" y="390"/>
                    </a:lnTo>
                    <a:lnTo>
                      <a:pt x="2" y="354"/>
                    </a:lnTo>
                    <a:lnTo>
                      <a:pt x="1" y="319"/>
                    </a:lnTo>
                    <a:lnTo>
                      <a:pt x="0" y="284"/>
                    </a:lnTo>
                    <a:lnTo>
                      <a:pt x="0" y="247"/>
                    </a:lnTo>
                    <a:lnTo>
                      <a:pt x="1" y="184"/>
                    </a:lnTo>
                    <a:lnTo>
                      <a:pt x="3" y="123"/>
                    </a:lnTo>
                    <a:lnTo>
                      <a:pt x="7" y="60"/>
                    </a:lnTo>
                    <a:lnTo>
                      <a:pt x="12" y="0"/>
                    </a:lnTo>
                    <a:lnTo>
                      <a:pt x="2643" y="1033"/>
                    </a:lnTo>
                    <a:lnTo>
                      <a:pt x="2626" y="1076"/>
                    </a:lnTo>
                    <a:lnTo>
                      <a:pt x="2610" y="1120"/>
                    </a:lnTo>
                    <a:lnTo>
                      <a:pt x="2591" y="1164"/>
                    </a:lnTo>
                    <a:lnTo>
                      <a:pt x="2572" y="1205"/>
                    </a:lnTo>
                    <a:lnTo>
                      <a:pt x="2552" y="1246"/>
                    </a:lnTo>
                    <a:lnTo>
                      <a:pt x="2530" y="1287"/>
                    </a:lnTo>
                    <a:lnTo>
                      <a:pt x="2508" y="1327"/>
                    </a:lnTo>
                    <a:lnTo>
                      <a:pt x="2486" y="1366"/>
                    </a:lnTo>
                    <a:close/>
                  </a:path>
                </a:pathLst>
              </a:custGeom>
              <a:solidFill>
                <a:srgbClr val="e8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183360" y="3865680"/>
                <a:ext cx="720720" cy="369720"/>
              </a:xfrm>
              <a:custGeom>
                <a:avLst/>
                <a:gdLst/>
                <a:ahLst/>
                <a:rect l="l" t="t" r="r" b="b"/>
                <a:pathLst>
                  <a:path w="2728" h="1399">
                    <a:moveTo>
                      <a:pt x="2631" y="1399"/>
                    </a:moveTo>
                    <a:lnTo>
                      <a:pt x="0" y="366"/>
                    </a:lnTo>
                    <a:lnTo>
                      <a:pt x="6" y="319"/>
                    </a:lnTo>
                    <a:lnTo>
                      <a:pt x="12" y="272"/>
                    </a:lnTo>
                    <a:lnTo>
                      <a:pt x="20" y="225"/>
                    </a:lnTo>
                    <a:lnTo>
                      <a:pt x="28" y="180"/>
                    </a:lnTo>
                    <a:lnTo>
                      <a:pt x="37" y="134"/>
                    </a:lnTo>
                    <a:lnTo>
                      <a:pt x="47" y="89"/>
                    </a:lnTo>
                    <a:lnTo>
                      <a:pt x="58" y="45"/>
                    </a:lnTo>
                    <a:lnTo>
                      <a:pt x="69" y="0"/>
                    </a:lnTo>
                    <a:lnTo>
                      <a:pt x="2728" y="1044"/>
                    </a:lnTo>
                    <a:lnTo>
                      <a:pt x="2719" y="1091"/>
                    </a:lnTo>
                    <a:lnTo>
                      <a:pt x="2711" y="1137"/>
                    </a:lnTo>
                    <a:lnTo>
                      <a:pt x="2699" y="1181"/>
                    </a:lnTo>
                    <a:lnTo>
                      <a:pt x="2687" y="1226"/>
                    </a:lnTo>
                    <a:lnTo>
                      <a:pt x="2675" y="1271"/>
                    </a:lnTo>
                    <a:lnTo>
                      <a:pt x="2661" y="1314"/>
                    </a:lnTo>
                    <a:lnTo>
                      <a:pt x="2647" y="1356"/>
                    </a:lnTo>
                    <a:lnTo>
                      <a:pt x="2631" y="1399"/>
                    </a:lnTo>
                    <a:close/>
                  </a:path>
                </a:pathLst>
              </a:custGeom>
              <a:solidFill>
                <a:srgbClr val="ede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6200640" y="3774960"/>
                <a:ext cx="714600" cy="366840"/>
              </a:xfrm>
              <a:custGeom>
                <a:avLst/>
                <a:gdLst/>
                <a:ahLst/>
                <a:rect l="l" t="t" r="r" b="b"/>
                <a:pathLst>
                  <a:path w="2700" h="1387">
                    <a:moveTo>
                      <a:pt x="2659" y="1387"/>
                    </a:moveTo>
                    <a:lnTo>
                      <a:pt x="0" y="343"/>
                    </a:lnTo>
                    <a:lnTo>
                      <a:pt x="14" y="298"/>
                    </a:lnTo>
                    <a:lnTo>
                      <a:pt x="28" y="254"/>
                    </a:lnTo>
                    <a:lnTo>
                      <a:pt x="43" y="210"/>
                    </a:lnTo>
                    <a:lnTo>
                      <a:pt x="58" y="166"/>
                    </a:lnTo>
                    <a:lnTo>
                      <a:pt x="75" y="124"/>
                    </a:lnTo>
                    <a:lnTo>
                      <a:pt x="93" y="82"/>
                    </a:lnTo>
                    <a:lnTo>
                      <a:pt x="111" y="40"/>
                    </a:lnTo>
                    <a:lnTo>
                      <a:pt x="130" y="0"/>
                    </a:lnTo>
                    <a:lnTo>
                      <a:pt x="2700" y="1009"/>
                    </a:lnTo>
                    <a:lnTo>
                      <a:pt x="2697" y="1059"/>
                    </a:lnTo>
                    <a:lnTo>
                      <a:pt x="2695" y="1107"/>
                    </a:lnTo>
                    <a:lnTo>
                      <a:pt x="2692" y="1155"/>
                    </a:lnTo>
                    <a:lnTo>
                      <a:pt x="2687" y="1202"/>
                    </a:lnTo>
                    <a:lnTo>
                      <a:pt x="2682" y="1248"/>
                    </a:lnTo>
                    <a:lnTo>
                      <a:pt x="2675" y="1295"/>
                    </a:lnTo>
                    <a:lnTo>
                      <a:pt x="2668" y="1341"/>
                    </a:lnTo>
                    <a:lnTo>
                      <a:pt x="2659" y="1387"/>
                    </a:lnTo>
                    <a:close/>
                  </a:path>
                </a:pathLst>
              </a:custGeom>
              <a:solidFill>
                <a:srgbClr val="efed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6235560" y="3691080"/>
                <a:ext cx="679680" cy="350640"/>
              </a:xfrm>
              <a:custGeom>
                <a:avLst/>
                <a:gdLst/>
                <a:ahLst/>
                <a:rect l="l" t="t" r="r" b="b"/>
                <a:pathLst>
                  <a:path w="2570" h="1327">
                    <a:moveTo>
                      <a:pt x="2570" y="1327"/>
                    </a:moveTo>
                    <a:lnTo>
                      <a:pt x="0" y="318"/>
                    </a:lnTo>
                    <a:lnTo>
                      <a:pt x="10" y="297"/>
                    </a:lnTo>
                    <a:lnTo>
                      <a:pt x="20" y="276"/>
                    </a:lnTo>
                    <a:lnTo>
                      <a:pt x="31" y="254"/>
                    </a:lnTo>
                    <a:lnTo>
                      <a:pt x="42" y="233"/>
                    </a:lnTo>
                    <a:lnTo>
                      <a:pt x="54" y="213"/>
                    </a:lnTo>
                    <a:lnTo>
                      <a:pt x="65" y="192"/>
                    </a:lnTo>
                    <a:lnTo>
                      <a:pt x="77" y="172"/>
                    </a:lnTo>
                    <a:lnTo>
                      <a:pt x="88" y="152"/>
                    </a:lnTo>
                    <a:lnTo>
                      <a:pt x="101" y="133"/>
                    </a:lnTo>
                    <a:lnTo>
                      <a:pt x="113" y="113"/>
                    </a:lnTo>
                    <a:lnTo>
                      <a:pt x="126" y="94"/>
                    </a:lnTo>
                    <a:lnTo>
                      <a:pt x="139" y="75"/>
                    </a:lnTo>
                    <a:lnTo>
                      <a:pt x="152" y="56"/>
                    </a:lnTo>
                    <a:lnTo>
                      <a:pt x="165" y="37"/>
                    </a:lnTo>
                    <a:lnTo>
                      <a:pt x="180" y="18"/>
                    </a:lnTo>
                    <a:lnTo>
                      <a:pt x="193" y="0"/>
                    </a:lnTo>
                    <a:lnTo>
                      <a:pt x="2544" y="926"/>
                    </a:lnTo>
                    <a:lnTo>
                      <a:pt x="2555" y="1010"/>
                    </a:lnTo>
                    <a:lnTo>
                      <a:pt x="2564" y="1096"/>
                    </a:lnTo>
                    <a:lnTo>
                      <a:pt x="2569" y="1185"/>
                    </a:lnTo>
                    <a:lnTo>
                      <a:pt x="2570" y="1274"/>
                    </a:lnTo>
                    <a:lnTo>
                      <a:pt x="2570" y="1287"/>
                    </a:lnTo>
                    <a:lnTo>
                      <a:pt x="2570" y="1301"/>
                    </a:lnTo>
                    <a:lnTo>
                      <a:pt x="2570" y="1314"/>
                    </a:lnTo>
                    <a:lnTo>
                      <a:pt x="2570" y="1327"/>
                    </a:lnTo>
                    <a:close/>
                  </a:path>
                </a:pathLst>
              </a:custGeom>
              <a:solidFill>
                <a:srgbClr val="f4f4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6286680" y="3616200"/>
                <a:ext cx="622080" cy="319320"/>
              </a:xfrm>
              <a:custGeom>
                <a:avLst/>
                <a:gdLst/>
                <a:ahLst/>
                <a:rect l="l" t="t" r="r" b="b"/>
                <a:pathLst>
                  <a:path w="2351" h="1210">
                    <a:moveTo>
                      <a:pt x="2351" y="1210"/>
                    </a:moveTo>
                    <a:lnTo>
                      <a:pt x="0" y="284"/>
                    </a:lnTo>
                    <a:lnTo>
                      <a:pt x="16" y="264"/>
                    </a:lnTo>
                    <a:lnTo>
                      <a:pt x="32" y="244"/>
                    </a:lnTo>
                    <a:lnTo>
                      <a:pt x="47" y="225"/>
                    </a:lnTo>
                    <a:lnTo>
                      <a:pt x="64" y="206"/>
                    </a:lnTo>
                    <a:lnTo>
                      <a:pt x="81" y="187"/>
                    </a:lnTo>
                    <a:lnTo>
                      <a:pt x="97" y="168"/>
                    </a:lnTo>
                    <a:lnTo>
                      <a:pt x="114" y="150"/>
                    </a:lnTo>
                    <a:lnTo>
                      <a:pt x="132" y="132"/>
                    </a:lnTo>
                    <a:lnTo>
                      <a:pt x="149" y="114"/>
                    </a:lnTo>
                    <a:lnTo>
                      <a:pt x="167" y="96"/>
                    </a:lnTo>
                    <a:lnTo>
                      <a:pt x="185" y="80"/>
                    </a:lnTo>
                    <a:lnTo>
                      <a:pt x="204" y="63"/>
                    </a:lnTo>
                    <a:lnTo>
                      <a:pt x="221" y="47"/>
                    </a:lnTo>
                    <a:lnTo>
                      <a:pt x="239" y="32"/>
                    </a:lnTo>
                    <a:lnTo>
                      <a:pt x="258" y="16"/>
                    </a:lnTo>
                    <a:lnTo>
                      <a:pt x="277" y="0"/>
                    </a:lnTo>
                    <a:lnTo>
                      <a:pt x="2239" y="771"/>
                    </a:lnTo>
                    <a:lnTo>
                      <a:pt x="2257" y="823"/>
                    </a:lnTo>
                    <a:lnTo>
                      <a:pt x="2274" y="876"/>
                    </a:lnTo>
                    <a:lnTo>
                      <a:pt x="2289" y="929"/>
                    </a:lnTo>
                    <a:lnTo>
                      <a:pt x="2305" y="984"/>
                    </a:lnTo>
                    <a:lnTo>
                      <a:pt x="2319" y="1039"/>
                    </a:lnTo>
                    <a:lnTo>
                      <a:pt x="2331" y="1096"/>
                    </a:lnTo>
                    <a:lnTo>
                      <a:pt x="2341" y="1153"/>
                    </a:lnTo>
                    <a:lnTo>
                      <a:pt x="2351" y="1210"/>
                    </a:lnTo>
                    <a:close/>
                  </a:path>
                </a:pathLst>
              </a:custGeom>
              <a:solidFill>
                <a:srgbClr val="f9f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6359400" y="3557520"/>
                <a:ext cx="519120" cy="262080"/>
              </a:xfrm>
              <a:custGeom>
                <a:avLst/>
                <a:gdLst/>
                <a:ahLst/>
                <a:rect l="l" t="t" r="r" b="b"/>
                <a:pathLst>
                  <a:path w="1962" h="992">
                    <a:moveTo>
                      <a:pt x="1962" y="992"/>
                    </a:moveTo>
                    <a:lnTo>
                      <a:pt x="0" y="221"/>
                    </a:lnTo>
                    <a:lnTo>
                      <a:pt x="26" y="202"/>
                    </a:lnTo>
                    <a:lnTo>
                      <a:pt x="52" y="183"/>
                    </a:lnTo>
                    <a:lnTo>
                      <a:pt x="77" y="166"/>
                    </a:lnTo>
                    <a:lnTo>
                      <a:pt x="104" y="149"/>
                    </a:lnTo>
                    <a:lnTo>
                      <a:pt x="131" y="133"/>
                    </a:lnTo>
                    <a:lnTo>
                      <a:pt x="158" y="117"/>
                    </a:lnTo>
                    <a:lnTo>
                      <a:pt x="185" y="102"/>
                    </a:lnTo>
                    <a:lnTo>
                      <a:pt x="213" y="87"/>
                    </a:lnTo>
                    <a:lnTo>
                      <a:pt x="241" y="74"/>
                    </a:lnTo>
                    <a:lnTo>
                      <a:pt x="268" y="62"/>
                    </a:lnTo>
                    <a:lnTo>
                      <a:pt x="296" y="49"/>
                    </a:lnTo>
                    <a:lnTo>
                      <a:pt x="325" y="38"/>
                    </a:lnTo>
                    <a:lnTo>
                      <a:pt x="355" y="27"/>
                    </a:lnTo>
                    <a:lnTo>
                      <a:pt x="384" y="18"/>
                    </a:lnTo>
                    <a:lnTo>
                      <a:pt x="413" y="8"/>
                    </a:lnTo>
                    <a:lnTo>
                      <a:pt x="442" y="0"/>
                    </a:lnTo>
                    <a:lnTo>
                      <a:pt x="1685" y="489"/>
                    </a:lnTo>
                    <a:lnTo>
                      <a:pt x="1706" y="517"/>
                    </a:lnTo>
                    <a:lnTo>
                      <a:pt x="1726" y="545"/>
                    </a:lnTo>
                    <a:lnTo>
                      <a:pt x="1747" y="573"/>
                    </a:lnTo>
                    <a:lnTo>
                      <a:pt x="1766" y="603"/>
                    </a:lnTo>
                    <a:lnTo>
                      <a:pt x="1785" y="632"/>
                    </a:lnTo>
                    <a:lnTo>
                      <a:pt x="1804" y="662"/>
                    </a:lnTo>
                    <a:lnTo>
                      <a:pt x="1821" y="694"/>
                    </a:lnTo>
                    <a:lnTo>
                      <a:pt x="1839" y="725"/>
                    </a:lnTo>
                    <a:lnTo>
                      <a:pt x="1856" y="757"/>
                    </a:lnTo>
                    <a:lnTo>
                      <a:pt x="1873" y="790"/>
                    </a:lnTo>
                    <a:lnTo>
                      <a:pt x="1888" y="822"/>
                    </a:lnTo>
                    <a:lnTo>
                      <a:pt x="1904" y="856"/>
                    </a:lnTo>
                    <a:lnTo>
                      <a:pt x="1920" y="889"/>
                    </a:lnTo>
                    <a:lnTo>
                      <a:pt x="1934" y="923"/>
                    </a:lnTo>
                    <a:lnTo>
                      <a:pt x="1949" y="957"/>
                    </a:lnTo>
                    <a:lnTo>
                      <a:pt x="1962" y="9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6477120" y="3548160"/>
                <a:ext cx="328320" cy="137880"/>
              </a:xfrm>
              <a:custGeom>
                <a:avLst/>
                <a:gdLst/>
                <a:ahLst/>
                <a:rect l="l" t="t" r="r" b="b"/>
                <a:pathLst>
                  <a:path w="1243" h="521">
                    <a:moveTo>
                      <a:pt x="1243" y="521"/>
                    </a:moveTo>
                    <a:lnTo>
                      <a:pt x="0" y="32"/>
                    </a:lnTo>
                    <a:lnTo>
                      <a:pt x="15" y="28"/>
                    </a:lnTo>
                    <a:lnTo>
                      <a:pt x="32" y="24"/>
                    </a:lnTo>
                    <a:lnTo>
                      <a:pt x="49" y="21"/>
                    </a:lnTo>
                    <a:lnTo>
                      <a:pt x="64" y="18"/>
                    </a:lnTo>
                    <a:lnTo>
                      <a:pt x="81" y="14"/>
                    </a:lnTo>
                    <a:lnTo>
                      <a:pt x="98" y="12"/>
                    </a:lnTo>
                    <a:lnTo>
                      <a:pt x="115" y="10"/>
                    </a:lnTo>
                    <a:lnTo>
                      <a:pt x="131" y="8"/>
                    </a:lnTo>
                    <a:lnTo>
                      <a:pt x="148" y="5"/>
                    </a:lnTo>
                    <a:lnTo>
                      <a:pt x="166" y="4"/>
                    </a:lnTo>
                    <a:lnTo>
                      <a:pt x="183" y="3"/>
                    </a:lnTo>
                    <a:lnTo>
                      <a:pt x="200" y="2"/>
                    </a:lnTo>
                    <a:lnTo>
                      <a:pt x="218" y="1"/>
                    </a:lnTo>
                    <a:lnTo>
                      <a:pt x="234" y="0"/>
                    </a:lnTo>
                    <a:lnTo>
                      <a:pt x="251" y="0"/>
                    </a:lnTo>
                    <a:lnTo>
                      <a:pt x="269" y="0"/>
                    </a:lnTo>
                    <a:lnTo>
                      <a:pt x="305" y="1"/>
                    </a:lnTo>
                    <a:lnTo>
                      <a:pt x="339" y="2"/>
                    </a:lnTo>
                    <a:lnTo>
                      <a:pt x="375" y="5"/>
                    </a:lnTo>
                    <a:lnTo>
                      <a:pt x="410" y="9"/>
                    </a:lnTo>
                    <a:lnTo>
                      <a:pt x="444" y="14"/>
                    </a:lnTo>
                    <a:lnTo>
                      <a:pt x="479" y="20"/>
                    </a:lnTo>
                    <a:lnTo>
                      <a:pt x="512" y="28"/>
                    </a:lnTo>
                    <a:lnTo>
                      <a:pt x="546" y="36"/>
                    </a:lnTo>
                    <a:lnTo>
                      <a:pt x="580" y="46"/>
                    </a:lnTo>
                    <a:lnTo>
                      <a:pt x="613" y="56"/>
                    </a:lnTo>
                    <a:lnTo>
                      <a:pt x="645" y="67"/>
                    </a:lnTo>
                    <a:lnTo>
                      <a:pt x="679" y="80"/>
                    </a:lnTo>
                    <a:lnTo>
                      <a:pt x="710" y="94"/>
                    </a:lnTo>
                    <a:lnTo>
                      <a:pt x="743" y="108"/>
                    </a:lnTo>
                    <a:lnTo>
                      <a:pt x="774" y="123"/>
                    </a:lnTo>
                    <a:lnTo>
                      <a:pt x="805" y="139"/>
                    </a:lnTo>
                    <a:lnTo>
                      <a:pt x="835" y="157"/>
                    </a:lnTo>
                    <a:lnTo>
                      <a:pt x="867" y="175"/>
                    </a:lnTo>
                    <a:lnTo>
                      <a:pt x="896" y="194"/>
                    </a:lnTo>
                    <a:lnTo>
                      <a:pt x="926" y="214"/>
                    </a:lnTo>
                    <a:lnTo>
                      <a:pt x="955" y="235"/>
                    </a:lnTo>
                    <a:lnTo>
                      <a:pt x="983" y="258"/>
                    </a:lnTo>
                    <a:lnTo>
                      <a:pt x="1012" y="280"/>
                    </a:lnTo>
                    <a:lnTo>
                      <a:pt x="1039" y="304"/>
                    </a:lnTo>
                    <a:lnTo>
                      <a:pt x="1067" y="328"/>
                    </a:lnTo>
                    <a:lnTo>
                      <a:pt x="1093" y="354"/>
                    </a:lnTo>
                    <a:lnTo>
                      <a:pt x="1119" y="379"/>
                    </a:lnTo>
                    <a:lnTo>
                      <a:pt x="1145" y="406"/>
                    </a:lnTo>
                    <a:lnTo>
                      <a:pt x="1171" y="434"/>
                    </a:lnTo>
                    <a:lnTo>
                      <a:pt x="1195" y="462"/>
                    </a:lnTo>
                    <a:lnTo>
                      <a:pt x="1220" y="491"/>
                    </a:lnTo>
                    <a:lnTo>
                      <a:pt x="1243" y="5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6178680" y="3548160"/>
                <a:ext cx="736560" cy="960480"/>
              </a:xfrm>
              <a:custGeom>
                <a:avLst/>
                <a:gdLst/>
                <a:ahLst/>
                <a:rect l="l" t="t" r="r" b="b"/>
                <a:pathLst>
                  <a:path w="2781" h="3627">
                    <a:moveTo>
                      <a:pt x="1392" y="0"/>
                    </a:moveTo>
                    <a:lnTo>
                      <a:pt x="1392" y="0"/>
                    </a:lnTo>
                    <a:lnTo>
                      <a:pt x="1463" y="2"/>
                    </a:lnTo>
                    <a:lnTo>
                      <a:pt x="1534" y="9"/>
                    </a:lnTo>
                    <a:lnTo>
                      <a:pt x="1603" y="21"/>
                    </a:lnTo>
                    <a:lnTo>
                      <a:pt x="1671" y="37"/>
                    </a:lnTo>
                    <a:lnTo>
                      <a:pt x="1738" y="57"/>
                    </a:lnTo>
                    <a:lnTo>
                      <a:pt x="1804" y="81"/>
                    </a:lnTo>
                    <a:lnTo>
                      <a:pt x="1869" y="110"/>
                    </a:lnTo>
                    <a:lnTo>
                      <a:pt x="1932" y="143"/>
                    </a:lnTo>
                    <a:lnTo>
                      <a:pt x="1993" y="179"/>
                    </a:lnTo>
                    <a:lnTo>
                      <a:pt x="2053" y="219"/>
                    </a:lnTo>
                    <a:lnTo>
                      <a:pt x="2111" y="262"/>
                    </a:lnTo>
                    <a:lnTo>
                      <a:pt x="2167" y="310"/>
                    </a:lnTo>
                    <a:lnTo>
                      <a:pt x="2222" y="361"/>
                    </a:lnTo>
                    <a:lnTo>
                      <a:pt x="2275" y="414"/>
                    </a:lnTo>
                    <a:lnTo>
                      <a:pt x="2325" y="471"/>
                    </a:lnTo>
                    <a:lnTo>
                      <a:pt x="2373" y="531"/>
                    </a:lnTo>
                    <a:lnTo>
                      <a:pt x="2420" y="595"/>
                    </a:lnTo>
                    <a:lnTo>
                      <a:pt x="2463" y="660"/>
                    </a:lnTo>
                    <a:lnTo>
                      <a:pt x="2505" y="729"/>
                    </a:lnTo>
                    <a:lnTo>
                      <a:pt x="2543" y="799"/>
                    </a:lnTo>
                    <a:lnTo>
                      <a:pt x="2580" y="873"/>
                    </a:lnTo>
                    <a:lnTo>
                      <a:pt x="2613" y="949"/>
                    </a:lnTo>
                    <a:lnTo>
                      <a:pt x="2643" y="1027"/>
                    </a:lnTo>
                    <a:lnTo>
                      <a:pt x="2671" y="1107"/>
                    </a:lnTo>
                    <a:lnTo>
                      <a:pt x="2696" y="1189"/>
                    </a:lnTo>
                    <a:lnTo>
                      <a:pt x="2718" y="1274"/>
                    </a:lnTo>
                    <a:lnTo>
                      <a:pt x="2737" y="1360"/>
                    </a:lnTo>
                    <a:lnTo>
                      <a:pt x="2753" y="1447"/>
                    </a:lnTo>
                    <a:lnTo>
                      <a:pt x="2765" y="1536"/>
                    </a:lnTo>
                    <a:lnTo>
                      <a:pt x="2774" y="1627"/>
                    </a:lnTo>
                    <a:lnTo>
                      <a:pt x="2778" y="1718"/>
                    </a:lnTo>
                    <a:lnTo>
                      <a:pt x="2781" y="1811"/>
                    </a:lnTo>
                    <a:lnTo>
                      <a:pt x="2781" y="1811"/>
                    </a:lnTo>
                    <a:lnTo>
                      <a:pt x="2778" y="1905"/>
                    </a:lnTo>
                    <a:lnTo>
                      <a:pt x="2774" y="1996"/>
                    </a:lnTo>
                    <a:lnTo>
                      <a:pt x="2765" y="2087"/>
                    </a:lnTo>
                    <a:lnTo>
                      <a:pt x="2753" y="2176"/>
                    </a:lnTo>
                    <a:lnTo>
                      <a:pt x="2737" y="2264"/>
                    </a:lnTo>
                    <a:lnTo>
                      <a:pt x="2718" y="2350"/>
                    </a:lnTo>
                    <a:lnTo>
                      <a:pt x="2696" y="2435"/>
                    </a:lnTo>
                    <a:lnTo>
                      <a:pt x="2671" y="2518"/>
                    </a:lnTo>
                    <a:lnTo>
                      <a:pt x="2643" y="2598"/>
                    </a:lnTo>
                    <a:lnTo>
                      <a:pt x="2613" y="2676"/>
                    </a:lnTo>
                    <a:lnTo>
                      <a:pt x="2580" y="2752"/>
                    </a:lnTo>
                    <a:lnTo>
                      <a:pt x="2543" y="2826"/>
                    </a:lnTo>
                    <a:lnTo>
                      <a:pt x="2505" y="2897"/>
                    </a:lnTo>
                    <a:lnTo>
                      <a:pt x="2463" y="2965"/>
                    </a:lnTo>
                    <a:lnTo>
                      <a:pt x="2420" y="3031"/>
                    </a:lnTo>
                    <a:lnTo>
                      <a:pt x="2373" y="3095"/>
                    </a:lnTo>
                    <a:lnTo>
                      <a:pt x="2325" y="3155"/>
                    </a:lnTo>
                    <a:lnTo>
                      <a:pt x="2275" y="3212"/>
                    </a:lnTo>
                    <a:lnTo>
                      <a:pt x="2222" y="3266"/>
                    </a:lnTo>
                    <a:lnTo>
                      <a:pt x="2167" y="3317"/>
                    </a:lnTo>
                    <a:lnTo>
                      <a:pt x="2111" y="3364"/>
                    </a:lnTo>
                    <a:lnTo>
                      <a:pt x="2053" y="3407"/>
                    </a:lnTo>
                    <a:lnTo>
                      <a:pt x="1993" y="3448"/>
                    </a:lnTo>
                    <a:lnTo>
                      <a:pt x="1932" y="3485"/>
                    </a:lnTo>
                    <a:lnTo>
                      <a:pt x="1869" y="3517"/>
                    </a:lnTo>
                    <a:lnTo>
                      <a:pt x="1804" y="3546"/>
                    </a:lnTo>
                    <a:lnTo>
                      <a:pt x="1738" y="3571"/>
                    </a:lnTo>
                    <a:lnTo>
                      <a:pt x="1671" y="3591"/>
                    </a:lnTo>
                    <a:lnTo>
                      <a:pt x="1603" y="3606"/>
                    </a:lnTo>
                    <a:lnTo>
                      <a:pt x="1534" y="3619"/>
                    </a:lnTo>
                    <a:lnTo>
                      <a:pt x="1463" y="3625"/>
                    </a:lnTo>
                    <a:lnTo>
                      <a:pt x="1392" y="3627"/>
                    </a:lnTo>
                    <a:lnTo>
                      <a:pt x="1392" y="3627"/>
                    </a:lnTo>
                    <a:lnTo>
                      <a:pt x="1320" y="3625"/>
                    </a:lnTo>
                    <a:lnTo>
                      <a:pt x="1250" y="3619"/>
                    </a:lnTo>
                    <a:lnTo>
                      <a:pt x="1181" y="3606"/>
                    </a:lnTo>
                    <a:lnTo>
                      <a:pt x="1113" y="3591"/>
                    </a:lnTo>
                    <a:lnTo>
                      <a:pt x="1044" y="3571"/>
                    </a:lnTo>
                    <a:lnTo>
                      <a:pt x="979" y="3546"/>
                    </a:lnTo>
                    <a:lnTo>
                      <a:pt x="914" y="3517"/>
                    </a:lnTo>
                    <a:lnTo>
                      <a:pt x="851" y="3485"/>
                    </a:lnTo>
                    <a:lnTo>
                      <a:pt x="790" y="3448"/>
                    </a:lnTo>
                    <a:lnTo>
                      <a:pt x="729" y="3407"/>
                    </a:lnTo>
                    <a:lnTo>
                      <a:pt x="671" y="3364"/>
                    </a:lnTo>
                    <a:lnTo>
                      <a:pt x="614" y="3317"/>
                    </a:lnTo>
                    <a:lnTo>
                      <a:pt x="560" y="3266"/>
                    </a:lnTo>
                    <a:lnTo>
                      <a:pt x="507" y="3212"/>
                    </a:lnTo>
                    <a:lnTo>
                      <a:pt x="457" y="3155"/>
                    </a:lnTo>
                    <a:lnTo>
                      <a:pt x="409" y="3095"/>
                    </a:lnTo>
                    <a:lnTo>
                      <a:pt x="362" y="3031"/>
                    </a:lnTo>
                    <a:lnTo>
                      <a:pt x="318" y="2965"/>
                    </a:lnTo>
                    <a:lnTo>
                      <a:pt x="277" y="2897"/>
                    </a:lnTo>
                    <a:lnTo>
                      <a:pt x="238" y="2826"/>
                    </a:lnTo>
                    <a:lnTo>
                      <a:pt x="202" y="2752"/>
                    </a:lnTo>
                    <a:lnTo>
                      <a:pt x="169" y="2676"/>
                    </a:lnTo>
                    <a:lnTo>
                      <a:pt x="137" y="2598"/>
                    </a:lnTo>
                    <a:lnTo>
                      <a:pt x="109" y="2518"/>
                    </a:lnTo>
                    <a:lnTo>
                      <a:pt x="85" y="2435"/>
                    </a:lnTo>
                    <a:lnTo>
                      <a:pt x="62" y="2350"/>
                    </a:lnTo>
                    <a:lnTo>
                      <a:pt x="43" y="2264"/>
                    </a:lnTo>
                    <a:lnTo>
                      <a:pt x="28" y="2176"/>
                    </a:lnTo>
                    <a:lnTo>
                      <a:pt x="15" y="2087"/>
                    </a:lnTo>
                    <a:lnTo>
                      <a:pt x="7" y="1996"/>
                    </a:lnTo>
                    <a:lnTo>
                      <a:pt x="2" y="1905"/>
                    </a:lnTo>
                    <a:lnTo>
                      <a:pt x="0" y="1811"/>
                    </a:lnTo>
                    <a:lnTo>
                      <a:pt x="0" y="1811"/>
                    </a:lnTo>
                    <a:lnTo>
                      <a:pt x="2" y="1718"/>
                    </a:lnTo>
                    <a:lnTo>
                      <a:pt x="7" y="1627"/>
                    </a:lnTo>
                    <a:lnTo>
                      <a:pt x="15" y="1536"/>
                    </a:lnTo>
                    <a:lnTo>
                      <a:pt x="28" y="1447"/>
                    </a:lnTo>
                    <a:lnTo>
                      <a:pt x="43" y="1360"/>
                    </a:lnTo>
                    <a:lnTo>
                      <a:pt x="62" y="1274"/>
                    </a:lnTo>
                    <a:lnTo>
                      <a:pt x="85" y="1189"/>
                    </a:lnTo>
                    <a:lnTo>
                      <a:pt x="109" y="1107"/>
                    </a:lnTo>
                    <a:lnTo>
                      <a:pt x="137" y="1027"/>
                    </a:lnTo>
                    <a:lnTo>
                      <a:pt x="169" y="949"/>
                    </a:lnTo>
                    <a:lnTo>
                      <a:pt x="202" y="873"/>
                    </a:lnTo>
                    <a:lnTo>
                      <a:pt x="238" y="799"/>
                    </a:lnTo>
                    <a:lnTo>
                      <a:pt x="277" y="729"/>
                    </a:lnTo>
                    <a:lnTo>
                      <a:pt x="318" y="660"/>
                    </a:lnTo>
                    <a:lnTo>
                      <a:pt x="362" y="595"/>
                    </a:lnTo>
                    <a:lnTo>
                      <a:pt x="409" y="531"/>
                    </a:lnTo>
                    <a:lnTo>
                      <a:pt x="457" y="471"/>
                    </a:lnTo>
                    <a:lnTo>
                      <a:pt x="507" y="414"/>
                    </a:lnTo>
                    <a:lnTo>
                      <a:pt x="560" y="361"/>
                    </a:lnTo>
                    <a:lnTo>
                      <a:pt x="614" y="310"/>
                    </a:lnTo>
                    <a:lnTo>
                      <a:pt x="671" y="262"/>
                    </a:lnTo>
                    <a:lnTo>
                      <a:pt x="729" y="219"/>
                    </a:lnTo>
                    <a:lnTo>
                      <a:pt x="790" y="179"/>
                    </a:lnTo>
                    <a:lnTo>
                      <a:pt x="851" y="143"/>
                    </a:lnTo>
                    <a:lnTo>
                      <a:pt x="914" y="110"/>
                    </a:lnTo>
                    <a:lnTo>
                      <a:pt x="979" y="81"/>
                    </a:lnTo>
                    <a:lnTo>
                      <a:pt x="1044" y="57"/>
                    </a:lnTo>
                    <a:lnTo>
                      <a:pt x="1113" y="37"/>
                    </a:lnTo>
                    <a:lnTo>
                      <a:pt x="1181" y="21"/>
                    </a:lnTo>
                    <a:lnTo>
                      <a:pt x="1250" y="9"/>
                    </a:lnTo>
                    <a:lnTo>
                      <a:pt x="1320" y="2"/>
                    </a:lnTo>
                    <a:lnTo>
                      <a:pt x="13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6973920" y="2976480"/>
                <a:ext cx="141120" cy="146160"/>
              </a:xfrm>
              <a:custGeom>
                <a:avLst/>
                <a:gdLst/>
                <a:ahLst/>
                <a:rect l="l" t="t" r="r" b="b"/>
                <a:pathLst>
                  <a:path w="532" h="554">
                    <a:moveTo>
                      <a:pt x="281" y="0"/>
                    </a:moveTo>
                    <a:lnTo>
                      <a:pt x="308" y="1"/>
                    </a:lnTo>
                    <a:lnTo>
                      <a:pt x="334" y="6"/>
                    </a:lnTo>
                    <a:lnTo>
                      <a:pt x="360" y="12"/>
                    </a:lnTo>
                    <a:lnTo>
                      <a:pt x="383" y="22"/>
                    </a:lnTo>
                    <a:lnTo>
                      <a:pt x="406" y="34"/>
                    </a:lnTo>
                    <a:lnTo>
                      <a:pt x="427" y="48"/>
                    </a:lnTo>
                    <a:lnTo>
                      <a:pt x="446" y="64"/>
                    </a:lnTo>
                    <a:lnTo>
                      <a:pt x="464" y="82"/>
                    </a:lnTo>
                    <a:lnTo>
                      <a:pt x="480" y="101"/>
                    </a:lnTo>
                    <a:lnTo>
                      <a:pt x="494" y="123"/>
                    </a:lnTo>
                    <a:lnTo>
                      <a:pt x="506" y="145"/>
                    </a:lnTo>
                    <a:lnTo>
                      <a:pt x="516" y="169"/>
                    </a:lnTo>
                    <a:lnTo>
                      <a:pt x="524" y="194"/>
                    </a:lnTo>
                    <a:lnTo>
                      <a:pt x="530" y="221"/>
                    </a:lnTo>
                    <a:lnTo>
                      <a:pt x="532" y="248"/>
                    </a:lnTo>
                    <a:lnTo>
                      <a:pt x="532" y="276"/>
                    </a:lnTo>
                    <a:lnTo>
                      <a:pt x="528" y="304"/>
                    </a:lnTo>
                    <a:lnTo>
                      <a:pt x="524" y="332"/>
                    </a:lnTo>
                    <a:lnTo>
                      <a:pt x="515" y="358"/>
                    </a:lnTo>
                    <a:lnTo>
                      <a:pt x="505" y="384"/>
                    </a:lnTo>
                    <a:lnTo>
                      <a:pt x="493" y="408"/>
                    </a:lnTo>
                    <a:lnTo>
                      <a:pt x="478" y="431"/>
                    </a:lnTo>
                    <a:lnTo>
                      <a:pt x="461" y="452"/>
                    </a:lnTo>
                    <a:lnTo>
                      <a:pt x="443" y="472"/>
                    </a:lnTo>
                    <a:lnTo>
                      <a:pt x="423" y="490"/>
                    </a:lnTo>
                    <a:lnTo>
                      <a:pt x="402" y="506"/>
                    </a:lnTo>
                    <a:lnTo>
                      <a:pt x="380" y="520"/>
                    </a:lnTo>
                    <a:lnTo>
                      <a:pt x="355" y="532"/>
                    </a:lnTo>
                    <a:lnTo>
                      <a:pt x="331" y="542"/>
                    </a:lnTo>
                    <a:lnTo>
                      <a:pt x="304" y="548"/>
                    </a:lnTo>
                    <a:lnTo>
                      <a:pt x="278" y="553"/>
                    </a:lnTo>
                    <a:lnTo>
                      <a:pt x="250" y="554"/>
                    </a:lnTo>
                    <a:lnTo>
                      <a:pt x="223" y="553"/>
                    </a:lnTo>
                    <a:lnTo>
                      <a:pt x="197" y="548"/>
                    </a:lnTo>
                    <a:lnTo>
                      <a:pt x="172" y="542"/>
                    </a:lnTo>
                    <a:lnTo>
                      <a:pt x="147" y="532"/>
                    </a:lnTo>
                    <a:lnTo>
                      <a:pt x="125" y="520"/>
                    </a:lnTo>
                    <a:lnTo>
                      <a:pt x="104" y="506"/>
                    </a:lnTo>
                    <a:lnTo>
                      <a:pt x="84" y="490"/>
                    </a:lnTo>
                    <a:lnTo>
                      <a:pt x="67" y="472"/>
                    </a:lnTo>
                    <a:lnTo>
                      <a:pt x="50" y="452"/>
                    </a:lnTo>
                    <a:lnTo>
                      <a:pt x="37" y="431"/>
                    </a:lnTo>
                    <a:lnTo>
                      <a:pt x="25" y="408"/>
                    </a:lnTo>
                    <a:lnTo>
                      <a:pt x="14" y="384"/>
                    </a:lnTo>
                    <a:lnTo>
                      <a:pt x="7" y="358"/>
                    </a:lnTo>
                    <a:lnTo>
                      <a:pt x="2" y="332"/>
                    </a:lnTo>
                    <a:lnTo>
                      <a:pt x="0" y="304"/>
                    </a:lnTo>
                    <a:lnTo>
                      <a:pt x="0" y="276"/>
                    </a:lnTo>
                    <a:lnTo>
                      <a:pt x="3" y="248"/>
                    </a:lnTo>
                    <a:lnTo>
                      <a:pt x="8" y="221"/>
                    </a:lnTo>
                    <a:lnTo>
                      <a:pt x="17" y="194"/>
                    </a:lnTo>
                    <a:lnTo>
                      <a:pt x="27" y="169"/>
                    </a:lnTo>
                    <a:lnTo>
                      <a:pt x="39" y="145"/>
                    </a:lnTo>
                    <a:lnTo>
                      <a:pt x="54" y="123"/>
                    </a:lnTo>
                    <a:lnTo>
                      <a:pt x="70" y="101"/>
                    </a:lnTo>
                    <a:lnTo>
                      <a:pt x="89" y="82"/>
                    </a:lnTo>
                    <a:lnTo>
                      <a:pt x="108" y="64"/>
                    </a:lnTo>
                    <a:lnTo>
                      <a:pt x="131" y="48"/>
                    </a:lnTo>
                    <a:lnTo>
                      <a:pt x="153" y="34"/>
                    </a:lnTo>
                    <a:lnTo>
                      <a:pt x="176" y="22"/>
                    </a:lnTo>
                    <a:lnTo>
                      <a:pt x="202" y="12"/>
                    </a:lnTo>
                    <a:lnTo>
                      <a:pt x="228" y="6"/>
                    </a:lnTo>
                    <a:lnTo>
                      <a:pt x="255" y="1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6973920" y="2976480"/>
                <a:ext cx="141120" cy="146160"/>
              </a:xfrm>
              <a:custGeom>
                <a:avLst/>
                <a:gdLst/>
                <a:ahLst/>
                <a:rect l="l" t="t" r="r" b="b"/>
                <a:pathLst>
                  <a:path w="532" h="554">
                    <a:moveTo>
                      <a:pt x="281" y="0"/>
                    </a:moveTo>
                    <a:lnTo>
                      <a:pt x="281" y="0"/>
                    </a:lnTo>
                    <a:lnTo>
                      <a:pt x="308" y="1"/>
                    </a:lnTo>
                    <a:lnTo>
                      <a:pt x="334" y="6"/>
                    </a:lnTo>
                    <a:lnTo>
                      <a:pt x="360" y="12"/>
                    </a:lnTo>
                    <a:lnTo>
                      <a:pt x="383" y="22"/>
                    </a:lnTo>
                    <a:lnTo>
                      <a:pt x="406" y="34"/>
                    </a:lnTo>
                    <a:lnTo>
                      <a:pt x="427" y="48"/>
                    </a:lnTo>
                    <a:lnTo>
                      <a:pt x="446" y="64"/>
                    </a:lnTo>
                    <a:lnTo>
                      <a:pt x="464" y="82"/>
                    </a:lnTo>
                    <a:lnTo>
                      <a:pt x="480" y="101"/>
                    </a:lnTo>
                    <a:lnTo>
                      <a:pt x="494" y="123"/>
                    </a:lnTo>
                    <a:lnTo>
                      <a:pt x="506" y="145"/>
                    </a:lnTo>
                    <a:lnTo>
                      <a:pt x="516" y="169"/>
                    </a:lnTo>
                    <a:lnTo>
                      <a:pt x="524" y="194"/>
                    </a:lnTo>
                    <a:lnTo>
                      <a:pt x="530" y="221"/>
                    </a:lnTo>
                    <a:lnTo>
                      <a:pt x="532" y="248"/>
                    </a:lnTo>
                    <a:lnTo>
                      <a:pt x="532" y="276"/>
                    </a:lnTo>
                    <a:lnTo>
                      <a:pt x="532" y="276"/>
                    </a:lnTo>
                    <a:lnTo>
                      <a:pt x="528" y="304"/>
                    </a:lnTo>
                    <a:lnTo>
                      <a:pt x="524" y="332"/>
                    </a:lnTo>
                    <a:lnTo>
                      <a:pt x="515" y="358"/>
                    </a:lnTo>
                    <a:lnTo>
                      <a:pt x="505" y="384"/>
                    </a:lnTo>
                    <a:lnTo>
                      <a:pt x="493" y="408"/>
                    </a:lnTo>
                    <a:lnTo>
                      <a:pt x="478" y="431"/>
                    </a:lnTo>
                    <a:lnTo>
                      <a:pt x="461" y="452"/>
                    </a:lnTo>
                    <a:lnTo>
                      <a:pt x="443" y="472"/>
                    </a:lnTo>
                    <a:lnTo>
                      <a:pt x="423" y="490"/>
                    </a:lnTo>
                    <a:lnTo>
                      <a:pt x="402" y="506"/>
                    </a:lnTo>
                    <a:lnTo>
                      <a:pt x="380" y="520"/>
                    </a:lnTo>
                    <a:lnTo>
                      <a:pt x="355" y="532"/>
                    </a:lnTo>
                    <a:lnTo>
                      <a:pt x="331" y="542"/>
                    </a:lnTo>
                    <a:lnTo>
                      <a:pt x="304" y="548"/>
                    </a:lnTo>
                    <a:lnTo>
                      <a:pt x="278" y="553"/>
                    </a:lnTo>
                    <a:lnTo>
                      <a:pt x="250" y="554"/>
                    </a:lnTo>
                    <a:lnTo>
                      <a:pt x="250" y="554"/>
                    </a:lnTo>
                    <a:lnTo>
                      <a:pt x="223" y="553"/>
                    </a:lnTo>
                    <a:lnTo>
                      <a:pt x="197" y="548"/>
                    </a:lnTo>
                    <a:lnTo>
                      <a:pt x="172" y="542"/>
                    </a:lnTo>
                    <a:lnTo>
                      <a:pt x="147" y="532"/>
                    </a:lnTo>
                    <a:lnTo>
                      <a:pt x="125" y="520"/>
                    </a:lnTo>
                    <a:lnTo>
                      <a:pt x="104" y="506"/>
                    </a:lnTo>
                    <a:lnTo>
                      <a:pt x="84" y="490"/>
                    </a:lnTo>
                    <a:lnTo>
                      <a:pt x="67" y="472"/>
                    </a:lnTo>
                    <a:lnTo>
                      <a:pt x="50" y="452"/>
                    </a:lnTo>
                    <a:lnTo>
                      <a:pt x="37" y="431"/>
                    </a:lnTo>
                    <a:lnTo>
                      <a:pt x="25" y="408"/>
                    </a:lnTo>
                    <a:lnTo>
                      <a:pt x="14" y="384"/>
                    </a:lnTo>
                    <a:lnTo>
                      <a:pt x="7" y="358"/>
                    </a:lnTo>
                    <a:lnTo>
                      <a:pt x="2" y="332"/>
                    </a:lnTo>
                    <a:lnTo>
                      <a:pt x="0" y="304"/>
                    </a:lnTo>
                    <a:lnTo>
                      <a:pt x="0" y="276"/>
                    </a:lnTo>
                    <a:lnTo>
                      <a:pt x="0" y="276"/>
                    </a:lnTo>
                    <a:lnTo>
                      <a:pt x="3" y="248"/>
                    </a:lnTo>
                    <a:lnTo>
                      <a:pt x="8" y="221"/>
                    </a:lnTo>
                    <a:lnTo>
                      <a:pt x="17" y="194"/>
                    </a:lnTo>
                    <a:lnTo>
                      <a:pt x="27" y="169"/>
                    </a:lnTo>
                    <a:lnTo>
                      <a:pt x="39" y="145"/>
                    </a:lnTo>
                    <a:lnTo>
                      <a:pt x="54" y="123"/>
                    </a:lnTo>
                    <a:lnTo>
                      <a:pt x="70" y="101"/>
                    </a:lnTo>
                    <a:lnTo>
                      <a:pt x="89" y="82"/>
                    </a:lnTo>
                    <a:lnTo>
                      <a:pt x="108" y="64"/>
                    </a:lnTo>
                    <a:lnTo>
                      <a:pt x="131" y="48"/>
                    </a:lnTo>
                    <a:lnTo>
                      <a:pt x="153" y="34"/>
                    </a:lnTo>
                    <a:lnTo>
                      <a:pt x="176" y="22"/>
                    </a:lnTo>
                    <a:lnTo>
                      <a:pt x="202" y="12"/>
                    </a:lnTo>
                    <a:lnTo>
                      <a:pt x="228" y="6"/>
                    </a:lnTo>
                    <a:lnTo>
                      <a:pt x="255" y="1"/>
                    </a:lnTo>
                    <a:lnTo>
                      <a:pt x="2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6659640" y="3062160"/>
                <a:ext cx="73080" cy="88920"/>
              </a:xfrm>
              <a:custGeom>
                <a:avLst/>
                <a:gdLst/>
                <a:ahLst/>
                <a:rect l="l" t="t" r="r" b="b"/>
                <a:pathLst>
                  <a:path w="277" h="337">
                    <a:moveTo>
                      <a:pt x="146" y="0"/>
                    </a:moveTo>
                    <a:lnTo>
                      <a:pt x="174" y="3"/>
                    </a:lnTo>
                    <a:lnTo>
                      <a:pt x="199" y="13"/>
                    </a:lnTo>
                    <a:lnTo>
                      <a:pt x="223" y="29"/>
                    </a:lnTo>
                    <a:lnTo>
                      <a:pt x="242" y="49"/>
                    </a:lnTo>
                    <a:lnTo>
                      <a:pt x="257" y="75"/>
                    </a:lnTo>
                    <a:lnTo>
                      <a:pt x="270" y="103"/>
                    </a:lnTo>
                    <a:lnTo>
                      <a:pt x="276" y="135"/>
                    </a:lnTo>
                    <a:lnTo>
                      <a:pt x="277" y="169"/>
                    </a:lnTo>
                    <a:lnTo>
                      <a:pt x="273" y="202"/>
                    </a:lnTo>
                    <a:lnTo>
                      <a:pt x="263" y="235"/>
                    </a:lnTo>
                    <a:lnTo>
                      <a:pt x="249" y="262"/>
                    </a:lnTo>
                    <a:lnTo>
                      <a:pt x="232" y="288"/>
                    </a:lnTo>
                    <a:lnTo>
                      <a:pt x="209" y="308"/>
                    </a:lnTo>
                    <a:lnTo>
                      <a:pt x="186" y="324"/>
                    </a:lnTo>
                    <a:lnTo>
                      <a:pt x="159" y="334"/>
                    </a:lnTo>
                    <a:lnTo>
                      <a:pt x="131" y="337"/>
                    </a:lnTo>
                    <a:lnTo>
                      <a:pt x="103" y="334"/>
                    </a:lnTo>
                    <a:lnTo>
                      <a:pt x="77" y="324"/>
                    </a:lnTo>
                    <a:lnTo>
                      <a:pt x="54" y="308"/>
                    </a:lnTo>
                    <a:lnTo>
                      <a:pt x="35" y="288"/>
                    </a:lnTo>
                    <a:lnTo>
                      <a:pt x="19" y="262"/>
                    </a:lnTo>
                    <a:lnTo>
                      <a:pt x="8" y="235"/>
                    </a:lnTo>
                    <a:lnTo>
                      <a:pt x="1" y="202"/>
                    </a:lnTo>
                    <a:lnTo>
                      <a:pt x="0" y="169"/>
                    </a:lnTo>
                    <a:lnTo>
                      <a:pt x="5" y="135"/>
                    </a:lnTo>
                    <a:lnTo>
                      <a:pt x="14" y="103"/>
                    </a:lnTo>
                    <a:lnTo>
                      <a:pt x="28" y="75"/>
                    </a:lnTo>
                    <a:lnTo>
                      <a:pt x="46" y="49"/>
                    </a:lnTo>
                    <a:lnTo>
                      <a:pt x="67" y="29"/>
                    </a:lnTo>
                    <a:lnTo>
                      <a:pt x="91" y="13"/>
                    </a:lnTo>
                    <a:lnTo>
                      <a:pt x="118" y="3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6659640" y="3062160"/>
                <a:ext cx="73080" cy="88920"/>
              </a:xfrm>
              <a:custGeom>
                <a:avLst/>
                <a:gdLst/>
                <a:ahLst/>
                <a:rect l="l" t="t" r="r" b="b"/>
                <a:pathLst>
                  <a:path w="277" h="337">
                    <a:moveTo>
                      <a:pt x="146" y="0"/>
                    </a:moveTo>
                    <a:lnTo>
                      <a:pt x="146" y="0"/>
                    </a:lnTo>
                    <a:lnTo>
                      <a:pt x="174" y="3"/>
                    </a:lnTo>
                    <a:lnTo>
                      <a:pt x="199" y="13"/>
                    </a:lnTo>
                    <a:lnTo>
                      <a:pt x="223" y="29"/>
                    </a:lnTo>
                    <a:lnTo>
                      <a:pt x="242" y="49"/>
                    </a:lnTo>
                    <a:lnTo>
                      <a:pt x="257" y="75"/>
                    </a:lnTo>
                    <a:lnTo>
                      <a:pt x="270" y="103"/>
                    </a:lnTo>
                    <a:lnTo>
                      <a:pt x="276" y="135"/>
                    </a:lnTo>
                    <a:lnTo>
                      <a:pt x="277" y="169"/>
                    </a:lnTo>
                    <a:lnTo>
                      <a:pt x="277" y="169"/>
                    </a:lnTo>
                    <a:lnTo>
                      <a:pt x="273" y="202"/>
                    </a:lnTo>
                    <a:lnTo>
                      <a:pt x="263" y="235"/>
                    </a:lnTo>
                    <a:lnTo>
                      <a:pt x="249" y="262"/>
                    </a:lnTo>
                    <a:lnTo>
                      <a:pt x="232" y="288"/>
                    </a:lnTo>
                    <a:lnTo>
                      <a:pt x="209" y="308"/>
                    </a:lnTo>
                    <a:lnTo>
                      <a:pt x="186" y="324"/>
                    </a:lnTo>
                    <a:lnTo>
                      <a:pt x="159" y="334"/>
                    </a:lnTo>
                    <a:lnTo>
                      <a:pt x="131" y="337"/>
                    </a:lnTo>
                    <a:lnTo>
                      <a:pt x="131" y="337"/>
                    </a:lnTo>
                    <a:lnTo>
                      <a:pt x="103" y="334"/>
                    </a:lnTo>
                    <a:lnTo>
                      <a:pt x="77" y="324"/>
                    </a:lnTo>
                    <a:lnTo>
                      <a:pt x="54" y="308"/>
                    </a:lnTo>
                    <a:lnTo>
                      <a:pt x="35" y="288"/>
                    </a:lnTo>
                    <a:lnTo>
                      <a:pt x="19" y="262"/>
                    </a:lnTo>
                    <a:lnTo>
                      <a:pt x="8" y="235"/>
                    </a:lnTo>
                    <a:lnTo>
                      <a:pt x="1" y="202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5" y="135"/>
                    </a:lnTo>
                    <a:lnTo>
                      <a:pt x="14" y="103"/>
                    </a:lnTo>
                    <a:lnTo>
                      <a:pt x="28" y="75"/>
                    </a:lnTo>
                    <a:lnTo>
                      <a:pt x="46" y="49"/>
                    </a:lnTo>
                    <a:lnTo>
                      <a:pt x="67" y="29"/>
                    </a:lnTo>
                    <a:lnTo>
                      <a:pt x="91" y="13"/>
                    </a:lnTo>
                    <a:lnTo>
                      <a:pt x="118" y="3"/>
                    </a:lnTo>
                    <a:lnTo>
                      <a:pt x="1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6516720" y="3089160"/>
                <a:ext cx="73080" cy="88920"/>
              </a:xfrm>
              <a:custGeom>
                <a:avLst/>
                <a:gdLst/>
                <a:ahLst/>
                <a:rect l="l" t="t" r="r" b="b"/>
                <a:pathLst>
                  <a:path w="280" h="337">
                    <a:moveTo>
                      <a:pt x="149" y="0"/>
                    </a:moveTo>
                    <a:lnTo>
                      <a:pt x="177" y="3"/>
                    </a:lnTo>
                    <a:lnTo>
                      <a:pt x="203" y="13"/>
                    </a:lnTo>
                    <a:lnTo>
                      <a:pt x="225" y="29"/>
                    </a:lnTo>
                    <a:lnTo>
                      <a:pt x="245" y="49"/>
                    </a:lnTo>
                    <a:lnTo>
                      <a:pt x="261" y="74"/>
                    </a:lnTo>
                    <a:lnTo>
                      <a:pt x="272" y="103"/>
                    </a:lnTo>
                    <a:lnTo>
                      <a:pt x="279" y="134"/>
                    </a:lnTo>
                    <a:lnTo>
                      <a:pt x="280" y="168"/>
                    </a:lnTo>
                    <a:lnTo>
                      <a:pt x="275" y="202"/>
                    </a:lnTo>
                    <a:lnTo>
                      <a:pt x="265" y="234"/>
                    </a:lnTo>
                    <a:lnTo>
                      <a:pt x="251" y="262"/>
                    </a:lnTo>
                    <a:lnTo>
                      <a:pt x="233" y="288"/>
                    </a:lnTo>
                    <a:lnTo>
                      <a:pt x="212" y="308"/>
                    </a:lnTo>
                    <a:lnTo>
                      <a:pt x="187" y="324"/>
                    </a:lnTo>
                    <a:lnTo>
                      <a:pt x="160" y="334"/>
                    </a:lnTo>
                    <a:lnTo>
                      <a:pt x="132" y="337"/>
                    </a:lnTo>
                    <a:lnTo>
                      <a:pt x="104" y="334"/>
                    </a:lnTo>
                    <a:lnTo>
                      <a:pt x="79" y="324"/>
                    </a:lnTo>
                    <a:lnTo>
                      <a:pt x="56" y="308"/>
                    </a:lnTo>
                    <a:lnTo>
                      <a:pt x="36" y="288"/>
                    </a:lnTo>
                    <a:lnTo>
                      <a:pt x="20" y="262"/>
                    </a:lnTo>
                    <a:lnTo>
                      <a:pt x="9" y="234"/>
                    </a:lnTo>
                    <a:lnTo>
                      <a:pt x="1" y="202"/>
                    </a:lnTo>
                    <a:lnTo>
                      <a:pt x="0" y="168"/>
                    </a:lnTo>
                    <a:lnTo>
                      <a:pt x="5" y="134"/>
                    </a:lnTo>
                    <a:lnTo>
                      <a:pt x="15" y="103"/>
                    </a:lnTo>
                    <a:lnTo>
                      <a:pt x="28" y="74"/>
                    </a:lnTo>
                    <a:lnTo>
                      <a:pt x="47" y="49"/>
                    </a:lnTo>
                    <a:lnTo>
                      <a:pt x="69" y="29"/>
                    </a:lnTo>
                    <a:lnTo>
                      <a:pt x="93" y="13"/>
                    </a:lnTo>
                    <a:lnTo>
                      <a:pt x="120" y="3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6516720" y="3089160"/>
                <a:ext cx="73080" cy="88920"/>
              </a:xfrm>
              <a:custGeom>
                <a:avLst/>
                <a:gdLst/>
                <a:ahLst/>
                <a:rect l="l" t="t" r="r" b="b"/>
                <a:pathLst>
                  <a:path w="280" h="337">
                    <a:moveTo>
                      <a:pt x="149" y="0"/>
                    </a:moveTo>
                    <a:lnTo>
                      <a:pt x="149" y="0"/>
                    </a:lnTo>
                    <a:lnTo>
                      <a:pt x="177" y="3"/>
                    </a:lnTo>
                    <a:lnTo>
                      <a:pt x="203" y="13"/>
                    </a:lnTo>
                    <a:lnTo>
                      <a:pt x="225" y="29"/>
                    </a:lnTo>
                    <a:lnTo>
                      <a:pt x="245" y="49"/>
                    </a:lnTo>
                    <a:lnTo>
                      <a:pt x="261" y="74"/>
                    </a:lnTo>
                    <a:lnTo>
                      <a:pt x="272" y="103"/>
                    </a:lnTo>
                    <a:lnTo>
                      <a:pt x="279" y="134"/>
                    </a:lnTo>
                    <a:lnTo>
                      <a:pt x="280" y="168"/>
                    </a:lnTo>
                    <a:lnTo>
                      <a:pt x="280" y="168"/>
                    </a:lnTo>
                    <a:lnTo>
                      <a:pt x="275" y="202"/>
                    </a:lnTo>
                    <a:lnTo>
                      <a:pt x="265" y="234"/>
                    </a:lnTo>
                    <a:lnTo>
                      <a:pt x="251" y="262"/>
                    </a:lnTo>
                    <a:lnTo>
                      <a:pt x="233" y="288"/>
                    </a:lnTo>
                    <a:lnTo>
                      <a:pt x="212" y="308"/>
                    </a:lnTo>
                    <a:lnTo>
                      <a:pt x="187" y="324"/>
                    </a:lnTo>
                    <a:lnTo>
                      <a:pt x="160" y="334"/>
                    </a:lnTo>
                    <a:lnTo>
                      <a:pt x="132" y="337"/>
                    </a:lnTo>
                    <a:lnTo>
                      <a:pt x="132" y="337"/>
                    </a:lnTo>
                    <a:lnTo>
                      <a:pt x="104" y="334"/>
                    </a:lnTo>
                    <a:lnTo>
                      <a:pt x="79" y="324"/>
                    </a:lnTo>
                    <a:lnTo>
                      <a:pt x="56" y="308"/>
                    </a:lnTo>
                    <a:lnTo>
                      <a:pt x="36" y="288"/>
                    </a:lnTo>
                    <a:lnTo>
                      <a:pt x="20" y="262"/>
                    </a:lnTo>
                    <a:lnTo>
                      <a:pt x="9" y="234"/>
                    </a:lnTo>
                    <a:lnTo>
                      <a:pt x="1" y="20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5" y="134"/>
                    </a:lnTo>
                    <a:lnTo>
                      <a:pt x="15" y="103"/>
                    </a:lnTo>
                    <a:lnTo>
                      <a:pt x="28" y="74"/>
                    </a:lnTo>
                    <a:lnTo>
                      <a:pt x="47" y="49"/>
                    </a:lnTo>
                    <a:lnTo>
                      <a:pt x="69" y="29"/>
                    </a:lnTo>
                    <a:lnTo>
                      <a:pt x="93" y="13"/>
                    </a:lnTo>
                    <a:lnTo>
                      <a:pt x="120" y="3"/>
                    </a:lnTo>
                    <a:lnTo>
                      <a:pt x="14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064280" y="305604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0" y="187"/>
                    </a:moveTo>
                    <a:lnTo>
                      <a:pt x="98" y="0"/>
                    </a:lnTo>
                    <a:lnTo>
                      <a:pt x="93" y="27"/>
                    </a:lnTo>
                    <a:lnTo>
                      <a:pt x="85" y="54"/>
                    </a:lnTo>
                    <a:lnTo>
                      <a:pt x="75" y="80"/>
                    </a:lnTo>
                    <a:lnTo>
                      <a:pt x="64" y="103"/>
                    </a:lnTo>
                    <a:lnTo>
                      <a:pt x="50" y="127"/>
                    </a:lnTo>
                    <a:lnTo>
                      <a:pt x="36" y="148"/>
                    </a:lnTo>
                    <a:lnTo>
                      <a:pt x="19" y="168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043760" y="3029040"/>
                <a:ext cx="47520" cy="90360"/>
              </a:xfrm>
              <a:custGeom>
                <a:avLst/>
                <a:gdLst/>
                <a:ahLst/>
                <a:rect l="l" t="t" r="r" b="b"/>
                <a:pathLst>
                  <a:path w="182" h="339">
                    <a:moveTo>
                      <a:pt x="178" y="99"/>
                    </a:moveTo>
                    <a:lnTo>
                      <a:pt x="80" y="286"/>
                    </a:lnTo>
                    <a:lnTo>
                      <a:pt x="71" y="294"/>
                    </a:lnTo>
                    <a:lnTo>
                      <a:pt x="62" y="302"/>
                    </a:lnTo>
                    <a:lnTo>
                      <a:pt x="52" y="309"/>
                    </a:lnTo>
                    <a:lnTo>
                      <a:pt x="42" y="316"/>
                    </a:lnTo>
                    <a:lnTo>
                      <a:pt x="32" y="322"/>
                    </a:lnTo>
                    <a:lnTo>
                      <a:pt x="21" y="328"/>
                    </a:lnTo>
                    <a:lnTo>
                      <a:pt x="11" y="334"/>
                    </a:lnTo>
                    <a:lnTo>
                      <a:pt x="0" y="339"/>
                    </a:lnTo>
                    <a:lnTo>
                      <a:pt x="176" y="0"/>
                    </a:lnTo>
                    <a:lnTo>
                      <a:pt x="179" y="17"/>
                    </a:lnTo>
                    <a:lnTo>
                      <a:pt x="180" y="34"/>
                    </a:lnTo>
                    <a:lnTo>
                      <a:pt x="182" y="51"/>
                    </a:lnTo>
                    <a:lnTo>
                      <a:pt x="180" y="68"/>
                    </a:lnTo>
                    <a:lnTo>
                      <a:pt x="180" y="76"/>
                    </a:lnTo>
                    <a:lnTo>
                      <a:pt x="180" y="84"/>
                    </a:lnTo>
                    <a:lnTo>
                      <a:pt x="179" y="93"/>
                    </a:lnTo>
                    <a:lnTo>
                      <a:pt x="178" y="99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027920" y="3011400"/>
                <a:ext cx="61920" cy="112680"/>
              </a:xfrm>
              <a:custGeom>
                <a:avLst/>
                <a:gdLst/>
                <a:ahLst/>
                <a:rect l="l" t="t" r="r" b="b"/>
                <a:pathLst>
                  <a:path w="238" h="422">
                    <a:moveTo>
                      <a:pt x="238" y="65"/>
                    </a:moveTo>
                    <a:lnTo>
                      <a:pt x="62" y="404"/>
                    </a:lnTo>
                    <a:lnTo>
                      <a:pt x="54" y="408"/>
                    </a:lnTo>
                    <a:lnTo>
                      <a:pt x="46" y="410"/>
                    </a:lnTo>
                    <a:lnTo>
                      <a:pt x="38" y="412"/>
                    </a:lnTo>
                    <a:lnTo>
                      <a:pt x="31" y="415"/>
                    </a:lnTo>
                    <a:lnTo>
                      <a:pt x="24" y="417"/>
                    </a:lnTo>
                    <a:lnTo>
                      <a:pt x="16" y="419"/>
                    </a:lnTo>
                    <a:lnTo>
                      <a:pt x="8" y="420"/>
                    </a:lnTo>
                    <a:lnTo>
                      <a:pt x="0" y="422"/>
                    </a:lnTo>
                    <a:lnTo>
                      <a:pt x="220" y="0"/>
                    </a:lnTo>
                    <a:lnTo>
                      <a:pt x="226" y="15"/>
                    </a:lnTo>
                    <a:lnTo>
                      <a:pt x="231" y="30"/>
                    </a:lnTo>
                    <a:lnTo>
                      <a:pt x="235" y="47"/>
                    </a:lnTo>
                    <a:lnTo>
                      <a:pt x="238" y="65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012080" y="299880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276" h="476">
                    <a:moveTo>
                      <a:pt x="276" y="51"/>
                    </a:moveTo>
                    <a:lnTo>
                      <a:pt x="56" y="473"/>
                    </a:lnTo>
                    <a:lnTo>
                      <a:pt x="52" y="474"/>
                    </a:lnTo>
                    <a:lnTo>
                      <a:pt x="47" y="474"/>
                    </a:lnTo>
                    <a:lnTo>
                      <a:pt x="43" y="476"/>
                    </a:lnTo>
                    <a:lnTo>
                      <a:pt x="37" y="476"/>
                    </a:lnTo>
                    <a:lnTo>
                      <a:pt x="33" y="476"/>
                    </a:lnTo>
                    <a:lnTo>
                      <a:pt x="27" y="476"/>
                    </a:lnTo>
                    <a:lnTo>
                      <a:pt x="23" y="476"/>
                    </a:lnTo>
                    <a:lnTo>
                      <a:pt x="17" y="476"/>
                    </a:lnTo>
                    <a:lnTo>
                      <a:pt x="12" y="476"/>
                    </a:lnTo>
                    <a:lnTo>
                      <a:pt x="9" y="476"/>
                    </a:lnTo>
                    <a:lnTo>
                      <a:pt x="5" y="476"/>
                    </a:lnTo>
                    <a:lnTo>
                      <a:pt x="0" y="476"/>
                    </a:lnTo>
                    <a:lnTo>
                      <a:pt x="249" y="0"/>
                    </a:lnTo>
                    <a:lnTo>
                      <a:pt x="257" y="12"/>
                    </a:lnTo>
                    <a:lnTo>
                      <a:pt x="264" y="24"/>
                    </a:lnTo>
                    <a:lnTo>
                      <a:pt x="271" y="38"/>
                    </a:lnTo>
                    <a:lnTo>
                      <a:pt x="276" y="5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6999120" y="2987640"/>
                <a:ext cx="79560" cy="136440"/>
              </a:xfrm>
              <a:custGeom>
                <a:avLst/>
                <a:gdLst/>
                <a:ahLst/>
                <a:rect l="l" t="t" r="r" b="b"/>
                <a:pathLst>
                  <a:path w="296" h="514">
                    <a:moveTo>
                      <a:pt x="296" y="38"/>
                    </a:moveTo>
                    <a:lnTo>
                      <a:pt x="47" y="514"/>
                    </a:lnTo>
                    <a:lnTo>
                      <a:pt x="42" y="512"/>
                    </a:lnTo>
                    <a:lnTo>
                      <a:pt x="35" y="511"/>
                    </a:lnTo>
                    <a:lnTo>
                      <a:pt x="29" y="511"/>
                    </a:lnTo>
                    <a:lnTo>
                      <a:pt x="24" y="510"/>
                    </a:lnTo>
                    <a:lnTo>
                      <a:pt x="17" y="509"/>
                    </a:lnTo>
                    <a:lnTo>
                      <a:pt x="11" y="508"/>
                    </a:lnTo>
                    <a:lnTo>
                      <a:pt x="6" y="507"/>
                    </a:lnTo>
                    <a:lnTo>
                      <a:pt x="0" y="506"/>
                    </a:lnTo>
                    <a:lnTo>
                      <a:pt x="263" y="0"/>
                    </a:lnTo>
                    <a:lnTo>
                      <a:pt x="267" y="4"/>
                    </a:lnTo>
                    <a:lnTo>
                      <a:pt x="272" y="9"/>
                    </a:lnTo>
                    <a:lnTo>
                      <a:pt x="276" y="14"/>
                    </a:lnTo>
                    <a:lnTo>
                      <a:pt x="280" y="19"/>
                    </a:lnTo>
                    <a:lnTo>
                      <a:pt x="284" y="23"/>
                    </a:lnTo>
                    <a:lnTo>
                      <a:pt x="289" y="29"/>
                    </a:lnTo>
                    <a:lnTo>
                      <a:pt x="293" y="33"/>
                    </a:lnTo>
                    <a:lnTo>
                      <a:pt x="296" y="38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6988320" y="2979720"/>
                <a:ext cx="80640" cy="142920"/>
              </a:xfrm>
              <a:custGeom>
                <a:avLst/>
                <a:gdLst/>
                <a:ahLst/>
                <a:rect l="l" t="t" r="r" b="b"/>
                <a:pathLst>
                  <a:path w="307" h="537">
                    <a:moveTo>
                      <a:pt x="307" y="31"/>
                    </a:moveTo>
                    <a:lnTo>
                      <a:pt x="44" y="537"/>
                    </a:lnTo>
                    <a:lnTo>
                      <a:pt x="39" y="535"/>
                    </a:lnTo>
                    <a:lnTo>
                      <a:pt x="32" y="533"/>
                    </a:lnTo>
                    <a:lnTo>
                      <a:pt x="26" y="531"/>
                    </a:lnTo>
                    <a:lnTo>
                      <a:pt x="21" y="529"/>
                    </a:lnTo>
                    <a:lnTo>
                      <a:pt x="15" y="526"/>
                    </a:lnTo>
                    <a:lnTo>
                      <a:pt x="11" y="523"/>
                    </a:lnTo>
                    <a:lnTo>
                      <a:pt x="5" y="521"/>
                    </a:lnTo>
                    <a:lnTo>
                      <a:pt x="0" y="518"/>
                    </a:lnTo>
                    <a:lnTo>
                      <a:pt x="269" y="0"/>
                    </a:lnTo>
                    <a:lnTo>
                      <a:pt x="273" y="3"/>
                    </a:lnTo>
                    <a:lnTo>
                      <a:pt x="279" y="6"/>
                    </a:lnTo>
                    <a:lnTo>
                      <a:pt x="283" y="10"/>
                    </a:lnTo>
                    <a:lnTo>
                      <a:pt x="288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2" y="27"/>
                    </a:lnTo>
                    <a:lnTo>
                      <a:pt x="307" y="3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6977160" y="2975040"/>
                <a:ext cx="82440" cy="142920"/>
              </a:xfrm>
              <a:custGeom>
                <a:avLst/>
                <a:gdLst/>
                <a:ahLst/>
                <a:rect l="l" t="t" r="r" b="b"/>
                <a:pathLst>
                  <a:path w="309" h="538">
                    <a:moveTo>
                      <a:pt x="309" y="20"/>
                    </a:moveTo>
                    <a:lnTo>
                      <a:pt x="40" y="538"/>
                    </a:lnTo>
                    <a:lnTo>
                      <a:pt x="34" y="534"/>
                    </a:lnTo>
                    <a:lnTo>
                      <a:pt x="30" y="532"/>
                    </a:lnTo>
                    <a:lnTo>
                      <a:pt x="24" y="529"/>
                    </a:lnTo>
                    <a:lnTo>
                      <a:pt x="19" y="527"/>
                    </a:lnTo>
                    <a:lnTo>
                      <a:pt x="14" y="523"/>
                    </a:lnTo>
                    <a:lnTo>
                      <a:pt x="9" y="520"/>
                    </a:lnTo>
                    <a:lnTo>
                      <a:pt x="5" y="517"/>
                    </a:lnTo>
                    <a:lnTo>
                      <a:pt x="0" y="513"/>
                    </a:lnTo>
                    <a:lnTo>
                      <a:pt x="267" y="0"/>
                    </a:lnTo>
                    <a:lnTo>
                      <a:pt x="273" y="2"/>
                    </a:lnTo>
                    <a:lnTo>
                      <a:pt x="279" y="4"/>
                    </a:lnTo>
                    <a:lnTo>
                      <a:pt x="284" y="6"/>
                    </a:lnTo>
                    <a:lnTo>
                      <a:pt x="289" y="9"/>
                    </a:lnTo>
                    <a:lnTo>
                      <a:pt x="294" y="12"/>
                    </a:lnTo>
                    <a:lnTo>
                      <a:pt x="299" y="14"/>
                    </a:lnTo>
                    <a:lnTo>
                      <a:pt x="304" y="17"/>
                    </a:lnTo>
                    <a:lnTo>
                      <a:pt x="309" y="2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6967440" y="2971800"/>
                <a:ext cx="81000" cy="139680"/>
              </a:xfrm>
              <a:custGeom>
                <a:avLst/>
                <a:gdLst/>
                <a:ahLst/>
                <a:rect l="l" t="t" r="r" b="b"/>
                <a:pathLst>
                  <a:path w="302" h="528">
                    <a:moveTo>
                      <a:pt x="302" y="15"/>
                    </a:moveTo>
                    <a:lnTo>
                      <a:pt x="35" y="528"/>
                    </a:lnTo>
                    <a:lnTo>
                      <a:pt x="30" y="525"/>
                    </a:lnTo>
                    <a:lnTo>
                      <a:pt x="25" y="520"/>
                    </a:lnTo>
                    <a:lnTo>
                      <a:pt x="21" y="516"/>
                    </a:lnTo>
                    <a:lnTo>
                      <a:pt x="16" y="513"/>
                    </a:lnTo>
                    <a:lnTo>
                      <a:pt x="12" y="508"/>
                    </a:lnTo>
                    <a:lnTo>
                      <a:pt x="8" y="504"/>
                    </a:lnTo>
                    <a:lnTo>
                      <a:pt x="4" y="498"/>
                    </a:lnTo>
                    <a:lnTo>
                      <a:pt x="0" y="494"/>
                    </a:lnTo>
                    <a:lnTo>
                      <a:pt x="257" y="0"/>
                    </a:lnTo>
                    <a:lnTo>
                      <a:pt x="263" y="2"/>
                    </a:lnTo>
                    <a:lnTo>
                      <a:pt x="269" y="3"/>
                    </a:lnTo>
                    <a:lnTo>
                      <a:pt x="275" y="6"/>
                    </a:lnTo>
                    <a:lnTo>
                      <a:pt x="280" y="7"/>
                    </a:lnTo>
                    <a:lnTo>
                      <a:pt x="286" y="9"/>
                    </a:lnTo>
                    <a:lnTo>
                      <a:pt x="291" y="10"/>
                    </a:lnTo>
                    <a:lnTo>
                      <a:pt x="297" y="12"/>
                    </a:lnTo>
                    <a:lnTo>
                      <a:pt x="302" y="15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6959520" y="2970360"/>
                <a:ext cx="76320" cy="131760"/>
              </a:xfrm>
              <a:custGeom>
                <a:avLst/>
                <a:gdLst/>
                <a:ahLst/>
                <a:rect l="l" t="t" r="r" b="b"/>
                <a:pathLst>
                  <a:path w="287" h="497">
                    <a:moveTo>
                      <a:pt x="287" y="3"/>
                    </a:moveTo>
                    <a:lnTo>
                      <a:pt x="30" y="497"/>
                    </a:lnTo>
                    <a:lnTo>
                      <a:pt x="21" y="485"/>
                    </a:lnTo>
                    <a:lnTo>
                      <a:pt x="13" y="474"/>
                    </a:lnTo>
                    <a:lnTo>
                      <a:pt x="6" y="464"/>
                    </a:lnTo>
                    <a:lnTo>
                      <a:pt x="0" y="453"/>
                    </a:lnTo>
                    <a:lnTo>
                      <a:pt x="234" y="0"/>
                    </a:lnTo>
                    <a:lnTo>
                      <a:pt x="236" y="0"/>
                    </a:lnTo>
                    <a:lnTo>
                      <a:pt x="240" y="0"/>
                    </a:lnTo>
                    <a:lnTo>
                      <a:pt x="242" y="0"/>
                    </a:lnTo>
                    <a:lnTo>
                      <a:pt x="244" y="0"/>
                    </a:lnTo>
                    <a:lnTo>
                      <a:pt x="250" y="0"/>
                    </a:lnTo>
                    <a:lnTo>
                      <a:pt x="255" y="0"/>
                    </a:lnTo>
                    <a:lnTo>
                      <a:pt x="260" y="0"/>
                    </a:lnTo>
                    <a:lnTo>
                      <a:pt x="265" y="1"/>
                    </a:lnTo>
                    <a:lnTo>
                      <a:pt x="271" y="1"/>
                    </a:lnTo>
                    <a:lnTo>
                      <a:pt x="276" y="2"/>
                    </a:lnTo>
                    <a:lnTo>
                      <a:pt x="281" y="2"/>
                    </a:lnTo>
                    <a:lnTo>
                      <a:pt x="287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6950160" y="2970360"/>
                <a:ext cx="73080" cy="120600"/>
              </a:xfrm>
              <a:custGeom>
                <a:avLst/>
                <a:gdLst/>
                <a:ahLst/>
                <a:rect l="l" t="t" r="r" b="b"/>
                <a:pathLst>
                  <a:path w="271" h="453">
                    <a:moveTo>
                      <a:pt x="271" y="0"/>
                    </a:moveTo>
                    <a:lnTo>
                      <a:pt x="37" y="453"/>
                    </a:lnTo>
                    <a:lnTo>
                      <a:pt x="28" y="435"/>
                    </a:lnTo>
                    <a:lnTo>
                      <a:pt x="19" y="416"/>
                    </a:lnTo>
                    <a:lnTo>
                      <a:pt x="12" y="397"/>
                    </a:lnTo>
                    <a:lnTo>
                      <a:pt x="8" y="377"/>
                    </a:lnTo>
                    <a:lnTo>
                      <a:pt x="3" y="356"/>
                    </a:lnTo>
                    <a:lnTo>
                      <a:pt x="1" y="335"/>
                    </a:lnTo>
                    <a:lnTo>
                      <a:pt x="0" y="313"/>
                    </a:lnTo>
                    <a:lnTo>
                      <a:pt x="0" y="291"/>
                    </a:lnTo>
                    <a:lnTo>
                      <a:pt x="2" y="262"/>
                    </a:lnTo>
                    <a:lnTo>
                      <a:pt x="8" y="234"/>
                    </a:lnTo>
                    <a:lnTo>
                      <a:pt x="15" y="206"/>
                    </a:lnTo>
                    <a:lnTo>
                      <a:pt x="25" y="181"/>
                    </a:lnTo>
                    <a:lnTo>
                      <a:pt x="38" y="155"/>
                    </a:lnTo>
                    <a:lnTo>
                      <a:pt x="52" y="131"/>
                    </a:lnTo>
                    <a:lnTo>
                      <a:pt x="68" y="109"/>
                    </a:lnTo>
                    <a:lnTo>
                      <a:pt x="86" y="89"/>
                    </a:lnTo>
                    <a:lnTo>
                      <a:pt x="105" y="70"/>
                    </a:lnTo>
                    <a:lnTo>
                      <a:pt x="126" y="53"/>
                    </a:lnTo>
                    <a:lnTo>
                      <a:pt x="147" y="39"/>
                    </a:lnTo>
                    <a:lnTo>
                      <a:pt x="171" y="25"/>
                    </a:lnTo>
                    <a:lnTo>
                      <a:pt x="194" y="15"/>
                    </a:lnTo>
                    <a:lnTo>
                      <a:pt x="220" y="8"/>
                    </a:lnTo>
                    <a:lnTo>
                      <a:pt x="245" y="2"/>
                    </a:lnTo>
                    <a:lnTo>
                      <a:pt x="2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6950160" y="2970360"/>
                <a:ext cx="141120" cy="153720"/>
              </a:xfrm>
              <a:custGeom>
                <a:avLst/>
                <a:gdLst/>
                <a:ahLst/>
                <a:rect l="l" t="t" r="r" b="b"/>
                <a:pathLst>
                  <a:path w="531" h="583">
                    <a:moveTo>
                      <a:pt x="281" y="0"/>
                    </a:moveTo>
                    <a:lnTo>
                      <a:pt x="281" y="0"/>
                    </a:lnTo>
                    <a:lnTo>
                      <a:pt x="308" y="1"/>
                    </a:lnTo>
                    <a:lnTo>
                      <a:pt x="335" y="5"/>
                    </a:lnTo>
                    <a:lnTo>
                      <a:pt x="359" y="13"/>
                    </a:lnTo>
                    <a:lnTo>
                      <a:pt x="384" y="23"/>
                    </a:lnTo>
                    <a:lnTo>
                      <a:pt x="406" y="35"/>
                    </a:lnTo>
                    <a:lnTo>
                      <a:pt x="428" y="50"/>
                    </a:lnTo>
                    <a:lnTo>
                      <a:pt x="448" y="67"/>
                    </a:lnTo>
                    <a:lnTo>
                      <a:pt x="466" y="85"/>
                    </a:lnTo>
                    <a:lnTo>
                      <a:pt x="481" y="106"/>
                    </a:lnTo>
                    <a:lnTo>
                      <a:pt x="496" y="128"/>
                    </a:lnTo>
                    <a:lnTo>
                      <a:pt x="508" y="153"/>
                    </a:lnTo>
                    <a:lnTo>
                      <a:pt x="517" y="177"/>
                    </a:lnTo>
                    <a:lnTo>
                      <a:pt x="525" y="204"/>
                    </a:lnTo>
                    <a:lnTo>
                      <a:pt x="529" y="232"/>
                    </a:lnTo>
                    <a:lnTo>
                      <a:pt x="531" y="261"/>
                    </a:lnTo>
                    <a:lnTo>
                      <a:pt x="531" y="291"/>
                    </a:lnTo>
                    <a:lnTo>
                      <a:pt x="531" y="291"/>
                    </a:lnTo>
                    <a:lnTo>
                      <a:pt x="528" y="321"/>
                    </a:lnTo>
                    <a:lnTo>
                      <a:pt x="524" y="350"/>
                    </a:lnTo>
                    <a:lnTo>
                      <a:pt x="515" y="378"/>
                    </a:lnTo>
                    <a:lnTo>
                      <a:pt x="505" y="405"/>
                    </a:lnTo>
                    <a:lnTo>
                      <a:pt x="492" y="431"/>
                    </a:lnTo>
                    <a:lnTo>
                      <a:pt x="478" y="454"/>
                    </a:lnTo>
                    <a:lnTo>
                      <a:pt x="461" y="476"/>
                    </a:lnTo>
                    <a:lnTo>
                      <a:pt x="443" y="498"/>
                    </a:lnTo>
                    <a:lnTo>
                      <a:pt x="423" y="517"/>
                    </a:lnTo>
                    <a:lnTo>
                      <a:pt x="402" y="533"/>
                    </a:lnTo>
                    <a:lnTo>
                      <a:pt x="380" y="548"/>
                    </a:lnTo>
                    <a:lnTo>
                      <a:pt x="355" y="560"/>
                    </a:lnTo>
                    <a:lnTo>
                      <a:pt x="330" y="569"/>
                    </a:lnTo>
                    <a:lnTo>
                      <a:pt x="304" y="577"/>
                    </a:lnTo>
                    <a:lnTo>
                      <a:pt x="278" y="581"/>
                    </a:lnTo>
                    <a:lnTo>
                      <a:pt x="250" y="583"/>
                    </a:lnTo>
                    <a:lnTo>
                      <a:pt x="250" y="583"/>
                    </a:lnTo>
                    <a:lnTo>
                      <a:pt x="223" y="581"/>
                    </a:lnTo>
                    <a:lnTo>
                      <a:pt x="197" y="577"/>
                    </a:lnTo>
                    <a:lnTo>
                      <a:pt x="172" y="569"/>
                    </a:lnTo>
                    <a:lnTo>
                      <a:pt x="148" y="560"/>
                    </a:lnTo>
                    <a:lnTo>
                      <a:pt x="126" y="548"/>
                    </a:lnTo>
                    <a:lnTo>
                      <a:pt x="105" y="533"/>
                    </a:lnTo>
                    <a:lnTo>
                      <a:pt x="86" y="517"/>
                    </a:lnTo>
                    <a:lnTo>
                      <a:pt x="68" y="498"/>
                    </a:lnTo>
                    <a:lnTo>
                      <a:pt x="51" y="476"/>
                    </a:lnTo>
                    <a:lnTo>
                      <a:pt x="38" y="454"/>
                    </a:lnTo>
                    <a:lnTo>
                      <a:pt x="25" y="431"/>
                    </a:lnTo>
                    <a:lnTo>
                      <a:pt x="15" y="405"/>
                    </a:lnTo>
                    <a:lnTo>
                      <a:pt x="8" y="378"/>
                    </a:lnTo>
                    <a:lnTo>
                      <a:pt x="2" y="350"/>
                    </a:lnTo>
                    <a:lnTo>
                      <a:pt x="0" y="321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3" y="261"/>
                    </a:lnTo>
                    <a:lnTo>
                      <a:pt x="8" y="232"/>
                    </a:lnTo>
                    <a:lnTo>
                      <a:pt x="16" y="204"/>
                    </a:lnTo>
                    <a:lnTo>
                      <a:pt x="27" y="177"/>
                    </a:lnTo>
                    <a:lnTo>
                      <a:pt x="39" y="153"/>
                    </a:lnTo>
                    <a:lnTo>
                      <a:pt x="53" y="128"/>
                    </a:lnTo>
                    <a:lnTo>
                      <a:pt x="70" y="106"/>
                    </a:lnTo>
                    <a:lnTo>
                      <a:pt x="89" y="85"/>
                    </a:lnTo>
                    <a:lnTo>
                      <a:pt x="108" y="67"/>
                    </a:lnTo>
                    <a:lnTo>
                      <a:pt x="130" y="50"/>
                    </a:lnTo>
                    <a:lnTo>
                      <a:pt x="153" y="35"/>
                    </a:lnTo>
                    <a:lnTo>
                      <a:pt x="176" y="23"/>
                    </a:lnTo>
                    <a:lnTo>
                      <a:pt x="202" y="13"/>
                    </a:lnTo>
                    <a:lnTo>
                      <a:pt x="228" y="5"/>
                    </a:lnTo>
                    <a:lnTo>
                      <a:pt x="254" y="1"/>
                    </a:lnTo>
                    <a:lnTo>
                      <a:pt x="2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6561000" y="31399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62" h="117">
                    <a:moveTo>
                      <a:pt x="0" y="117"/>
                    </a:moveTo>
                    <a:lnTo>
                      <a:pt x="62" y="0"/>
                    </a:lnTo>
                    <a:lnTo>
                      <a:pt x="58" y="16"/>
                    </a:lnTo>
                    <a:lnTo>
                      <a:pt x="54" y="33"/>
                    </a:lnTo>
                    <a:lnTo>
                      <a:pt x="48" y="49"/>
                    </a:lnTo>
                    <a:lnTo>
                      <a:pt x="41" y="63"/>
                    </a:lnTo>
                    <a:lnTo>
                      <a:pt x="32" y="78"/>
                    </a:lnTo>
                    <a:lnTo>
                      <a:pt x="22" y="92"/>
                    </a:lnTo>
                    <a:lnTo>
                      <a:pt x="11" y="105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6546960" y="3122640"/>
                <a:ext cx="29880" cy="57240"/>
              </a:xfrm>
              <a:custGeom>
                <a:avLst/>
                <a:gdLst/>
                <a:ahLst/>
                <a:rect l="l" t="t" r="r" b="b"/>
                <a:pathLst>
                  <a:path w="113" h="214">
                    <a:moveTo>
                      <a:pt x="111" y="64"/>
                    </a:moveTo>
                    <a:lnTo>
                      <a:pt x="49" y="181"/>
                    </a:lnTo>
                    <a:lnTo>
                      <a:pt x="43" y="185"/>
                    </a:lnTo>
                    <a:lnTo>
                      <a:pt x="38" y="190"/>
                    </a:lnTo>
                    <a:lnTo>
                      <a:pt x="31" y="194"/>
                    </a:lnTo>
                    <a:lnTo>
                      <a:pt x="26" y="199"/>
                    </a:lnTo>
                    <a:lnTo>
                      <a:pt x="19" y="203"/>
                    </a:lnTo>
                    <a:lnTo>
                      <a:pt x="12" y="207"/>
                    </a:lnTo>
                    <a:lnTo>
                      <a:pt x="7" y="211"/>
                    </a:lnTo>
                    <a:lnTo>
                      <a:pt x="0" y="214"/>
                    </a:lnTo>
                    <a:lnTo>
                      <a:pt x="111" y="0"/>
                    </a:lnTo>
                    <a:lnTo>
                      <a:pt x="112" y="11"/>
                    </a:lnTo>
                    <a:lnTo>
                      <a:pt x="113" y="21"/>
                    </a:lnTo>
                    <a:lnTo>
                      <a:pt x="113" y="32"/>
                    </a:lnTo>
                    <a:lnTo>
                      <a:pt x="113" y="44"/>
                    </a:lnTo>
                    <a:lnTo>
                      <a:pt x="113" y="49"/>
                    </a:lnTo>
                    <a:lnTo>
                      <a:pt x="113" y="55"/>
                    </a:lnTo>
                    <a:lnTo>
                      <a:pt x="112" y="59"/>
                    </a:lnTo>
                    <a:lnTo>
                      <a:pt x="111" y="64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6537240" y="311292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50" h="265">
                    <a:moveTo>
                      <a:pt x="150" y="40"/>
                    </a:moveTo>
                    <a:lnTo>
                      <a:pt x="39" y="254"/>
                    </a:lnTo>
                    <a:lnTo>
                      <a:pt x="34" y="257"/>
                    </a:lnTo>
                    <a:lnTo>
                      <a:pt x="29" y="258"/>
                    </a:lnTo>
                    <a:lnTo>
                      <a:pt x="24" y="260"/>
                    </a:lnTo>
                    <a:lnTo>
                      <a:pt x="20" y="261"/>
                    </a:lnTo>
                    <a:lnTo>
                      <a:pt x="14" y="262"/>
                    </a:lnTo>
                    <a:lnTo>
                      <a:pt x="10" y="262"/>
                    </a:lnTo>
                    <a:lnTo>
                      <a:pt x="4" y="263"/>
                    </a:lnTo>
                    <a:lnTo>
                      <a:pt x="0" y="265"/>
                    </a:lnTo>
                    <a:lnTo>
                      <a:pt x="137" y="0"/>
                    </a:lnTo>
                    <a:lnTo>
                      <a:pt x="142" y="10"/>
                    </a:lnTo>
                    <a:lnTo>
                      <a:pt x="145" y="20"/>
                    </a:lnTo>
                    <a:lnTo>
                      <a:pt x="147" y="30"/>
                    </a:lnTo>
                    <a:lnTo>
                      <a:pt x="150" y="4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6527880" y="3103560"/>
                <a:ext cx="46080" cy="79200"/>
              </a:xfrm>
              <a:custGeom>
                <a:avLst/>
                <a:gdLst/>
                <a:ahLst/>
                <a:rect l="l" t="t" r="r" b="b"/>
                <a:pathLst>
                  <a:path w="172" h="298">
                    <a:moveTo>
                      <a:pt x="172" y="31"/>
                    </a:moveTo>
                    <a:lnTo>
                      <a:pt x="35" y="296"/>
                    </a:lnTo>
                    <a:lnTo>
                      <a:pt x="29" y="297"/>
                    </a:lnTo>
                    <a:lnTo>
                      <a:pt x="23" y="298"/>
                    </a:lnTo>
                    <a:lnTo>
                      <a:pt x="16" y="298"/>
                    </a:lnTo>
                    <a:lnTo>
                      <a:pt x="10" y="298"/>
                    </a:lnTo>
                    <a:lnTo>
                      <a:pt x="7" y="298"/>
                    </a:lnTo>
                    <a:lnTo>
                      <a:pt x="5" y="298"/>
                    </a:lnTo>
                    <a:lnTo>
                      <a:pt x="2" y="298"/>
                    </a:lnTo>
                    <a:lnTo>
                      <a:pt x="0" y="298"/>
                    </a:lnTo>
                    <a:lnTo>
                      <a:pt x="154" y="0"/>
                    </a:lnTo>
                    <a:lnTo>
                      <a:pt x="160" y="7"/>
                    </a:lnTo>
                    <a:lnTo>
                      <a:pt x="164" y="14"/>
                    </a:lnTo>
                    <a:lnTo>
                      <a:pt x="168" y="22"/>
                    </a:lnTo>
                    <a:lnTo>
                      <a:pt x="172" y="3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6519960" y="3097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185" h="323">
                    <a:moveTo>
                      <a:pt x="185" y="25"/>
                    </a:moveTo>
                    <a:lnTo>
                      <a:pt x="31" y="323"/>
                    </a:lnTo>
                    <a:lnTo>
                      <a:pt x="23" y="323"/>
                    </a:lnTo>
                    <a:lnTo>
                      <a:pt x="14" y="321"/>
                    </a:lnTo>
                    <a:lnTo>
                      <a:pt x="7" y="319"/>
                    </a:lnTo>
                    <a:lnTo>
                      <a:pt x="0" y="318"/>
                    </a:lnTo>
                    <a:lnTo>
                      <a:pt x="166" y="0"/>
                    </a:lnTo>
                    <a:lnTo>
                      <a:pt x="172" y="6"/>
                    </a:lnTo>
                    <a:lnTo>
                      <a:pt x="178" y="12"/>
                    </a:lnTo>
                    <a:lnTo>
                      <a:pt x="182" y="18"/>
                    </a:lnTo>
                    <a:lnTo>
                      <a:pt x="185" y="25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6513480" y="309240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193" h="337">
                    <a:moveTo>
                      <a:pt x="193" y="19"/>
                    </a:moveTo>
                    <a:lnTo>
                      <a:pt x="27" y="337"/>
                    </a:lnTo>
                    <a:lnTo>
                      <a:pt x="20" y="334"/>
                    </a:lnTo>
                    <a:lnTo>
                      <a:pt x="13" y="332"/>
                    </a:lnTo>
                    <a:lnTo>
                      <a:pt x="7" y="328"/>
                    </a:lnTo>
                    <a:lnTo>
                      <a:pt x="0" y="326"/>
                    </a:lnTo>
                    <a:lnTo>
                      <a:pt x="169" y="0"/>
                    </a:lnTo>
                    <a:lnTo>
                      <a:pt x="174" y="5"/>
                    </a:lnTo>
                    <a:lnTo>
                      <a:pt x="181" y="9"/>
                    </a:lnTo>
                    <a:lnTo>
                      <a:pt x="188" y="15"/>
                    </a:lnTo>
                    <a:lnTo>
                      <a:pt x="193" y="1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6505560" y="3089160"/>
                <a:ext cx="52560" cy="90720"/>
              </a:xfrm>
              <a:custGeom>
                <a:avLst/>
                <a:gdLst/>
                <a:ahLst/>
                <a:rect l="l" t="t" r="r" b="b"/>
                <a:pathLst>
                  <a:path w="194" h="340">
                    <a:moveTo>
                      <a:pt x="194" y="14"/>
                    </a:moveTo>
                    <a:lnTo>
                      <a:pt x="25" y="340"/>
                    </a:lnTo>
                    <a:lnTo>
                      <a:pt x="18" y="336"/>
                    </a:lnTo>
                    <a:lnTo>
                      <a:pt x="12" y="332"/>
                    </a:lnTo>
                    <a:lnTo>
                      <a:pt x="6" y="328"/>
                    </a:lnTo>
                    <a:lnTo>
                      <a:pt x="0" y="322"/>
                    </a:lnTo>
                    <a:lnTo>
                      <a:pt x="167" y="0"/>
                    </a:lnTo>
                    <a:lnTo>
                      <a:pt x="175" y="3"/>
                    </a:lnTo>
                    <a:lnTo>
                      <a:pt x="181" y="6"/>
                    </a:lnTo>
                    <a:lnTo>
                      <a:pt x="188" y="10"/>
                    </a:lnTo>
                    <a:lnTo>
                      <a:pt x="194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6500880" y="3086280"/>
                <a:ext cx="49320" cy="88560"/>
              </a:xfrm>
              <a:custGeom>
                <a:avLst/>
                <a:gdLst/>
                <a:ahLst/>
                <a:rect l="l" t="t" r="r" b="b"/>
                <a:pathLst>
                  <a:path w="189" h="330">
                    <a:moveTo>
                      <a:pt x="189" y="8"/>
                    </a:moveTo>
                    <a:lnTo>
                      <a:pt x="22" y="330"/>
                    </a:lnTo>
                    <a:lnTo>
                      <a:pt x="16" y="326"/>
                    </a:lnTo>
                    <a:lnTo>
                      <a:pt x="10" y="320"/>
                    </a:lnTo>
                    <a:lnTo>
                      <a:pt x="5" y="316"/>
                    </a:lnTo>
                    <a:lnTo>
                      <a:pt x="0" y="310"/>
                    </a:lnTo>
                    <a:lnTo>
                      <a:pt x="160" y="0"/>
                    </a:lnTo>
                    <a:lnTo>
                      <a:pt x="168" y="2"/>
                    </a:lnTo>
                    <a:lnTo>
                      <a:pt x="176" y="3"/>
                    </a:lnTo>
                    <a:lnTo>
                      <a:pt x="182" y="5"/>
                    </a:lnTo>
                    <a:lnTo>
                      <a:pt x="189" y="8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6494400" y="3086280"/>
                <a:ext cx="47520" cy="8244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180" y="2"/>
                    </a:moveTo>
                    <a:lnTo>
                      <a:pt x="20" y="312"/>
                    </a:lnTo>
                    <a:lnTo>
                      <a:pt x="15" y="304"/>
                    </a:lnTo>
                    <a:lnTo>
                      <a:pt x="9" y="298"/>
                    </a:lnTo>
                    <a:lnTo>
                      <a:pt x="5" y="291"/>
                    </a:lnTo>
                    <a:lnTo>
                      <a:pt x="0" y="283"/>
                    </a:lnTo>
                    <a:lnTo>
                      <a:pt x="148" y="0"/>
                    </a:lnTo>
                    <a:lnTo>
                      <a:pt x="150" y="0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62" y="0"/>
                    </a:lnTo>
                    <a:lnTo>
                      <a:pt x="168" y="1"/>
                    </a:lnTo>
                    <a:lnTo>
                      <a:pt x="174" y="2"/>
                    </a:lnTo>
                    <a:lnTo>
                      <a:pt x="18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6489720" y="308628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169" h="283">
                    <a:moveTo>
                      <a:pt x="169" y="0"/>
                    </a:moveTo>
                    <a:lnTo>
                      <a:pt x="21" y="283"/>
                    </a:lnTo>
                    <a:lnTo>
                      <a:pt x="10" y="261"/>
                    </a:lnTo>
                    <a:lnTo>
                      <a:pt x="3" y="236"/>
                    </a:lnTo>
                    <a:lnTo>
                      <a:pt x="0" y="209"/>
                    </a:lnTo>
                    <a:lnTo>
                      <a:pt x="0" y="183"/>
                    </a:lnTo>
                    <a:lnTo>
                      <a:pt x="4" y="147"/>
                    </a:lnTo>
                    <a:lnTo>
                      <a:pt x="15" y="112"/>
                    </a:lnTo>
                    <a:lnTo>
                      <a:pt x="32" y="82"/>
                    </a:lnTo>
                    <a:lnTo>
                      <a:pt x="52" y="55"/>
                    </a:lnTo>
                    <a:lnTo>
                      <a:pt x="78" y="33"/>
                    </a:lnTo>
                    <a:lnTo>
                      <a:pt x="106" y="16"/>
                    </a:lnTo>
                    <a:lnTo>
                      <a:pt x="136" y="5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6489720" y="3086280"/>
                <a:ext cx="87120" cy="96480"/>
              </a:xfrm>
              <a:custGeom>
                <a:avLst/>
                <a:gdLst/>
                <a:ahLst/>
                <a:rect l="l" t="t" r="r" b="b"/>
                <a:pathLst>
                  <a:path w="333" h="366">
                    <a:moveTo>
                      <a:pt x="176" y="0"/>
                    </a:moveTo>
                    <a:lnTo>
                      <a:pt x="176" y="0"/>
                    </a:lnTo>
                    <a:lnTo>
                      <a:pt x="209" y="3"/>
                    </a:lnTo>
                    <a:lnTo>
                      <a:pt x="240" y="14"/>
                    </a:lnTo>
                    <a:lnTo>
                      <a:pt x="267" y="31"/>
                    </a:lnTo>
                    <a:lnTo>
                      <a:pt x="290" y="53"/>
                    </a:lnTo>
                    <a:lnTo>
                      <a:pt x="309" y="81"/>
                    </a:lnTo>
                    <a:lnTo>
                      <a:pt x="324" y="111"/>
                    </a:lnTo>
                    <a:lnTo>
                      <a:pt x="332" y="146"/>
                    </a:lnTo>
                    <a:lnTo>
                      <a:pt x="333" y="183"/>
                    </a:lnTo>
                    <a:lnTo>
                      <a:pt x="333" y="183"/>
                    </a:lnTo>
                    <a:lnTo>
                      <a:pt x="327" y="219"/>
                    </a:lnTo>
                    <a:lnTo>
                      <a:pt x="316" y="254"/>
                    </a:lnTo>
                    <a:lnTo>
                      <a:pt x="299" y="284"/>
                    </a:lnTo>
                    <a:lnTo>
                      <a:pt x="277" y="312"/>
                    </a:lnTo>
                    <a:lnTo>
                      <a:pt x="251" y="334"/>
                    </a:lnTo>
                    <a:lnTo>
                      <a:pt x="222" y="351"/>
                    </a:lnTo>
                    <a:lnTo>
                      <a:pt x="190" y="362"/>
                    </a:lnTo>
                    <a:lnTo>
                      <a:pt x="156" y="366"/>
                    </a:lnTo>
                    <a:lnTo>
                      <a:pt x="156" y="366"/>
                    </a:lnTo>
                    <a:lnTo>
                      <a:pt x="123" y="362"/>
                    </a:lnTo>
                    <a:lnTo>
                      <a:pt x="91" y="351"/>
                    </a:lnTo>
                    <a:lnTo>
                      <a:pt x="65" y="334"/>
                    </a:lnTo>
                    <a:lnTo>
                      <a:pt x="41" y="312"/>
                    </a:lnTo>
                    <a:lnTo>
                      <a:pt x="22" y="284"/>
                    </a:lnTo>
                    <a:lnTo>
                      <a:pt x="9" y="254"/>
                    </a:lnTo>
                    <a:lnTo>
                      <a:pt x="1" y="219"/>
                    </a:lnTo>
                    <a:lnTo>
                      <a:pt x="0" y="183"/>
                    </a:lnTo>
                    <a:lnTo>
                      <a:pt x="0" y="183"/>
                    </a:lnTo>
                    <a:lnTo>
                      <a:pt x="5" y="146"/>
                    </a:lnTo>
                    <a:lnTo>
                      <a:pt x="17" y="111"/>
                    </a:lnTo>
                    <a:lnTo>
                      <a:pt x="33" y="81"/>
                    </a:lnTo>
                    <a:lnTo>
                      <a:pt x="55" y="53"/>
                    </a:lnTo>
                    <a:lnTo>
                      <a:pt x="81" y="31"/>
                    </a:lnTo>
                    <a:lnTo>
                      <a:pt x="110" y="14"/>
                    </a:lnTo>
                    <a:lnTo>
                      <a:pt x="143" y="3"/>
                    </a:lnTo>
                    <a:lnTo>
                      <a:pt x="1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699240" y="311004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61" h="117">
                    <a:moveTo>
                      <a:pt x="0" y="117"/>
                    </a:moveTo>
                    <a:lnTo>
                      <a:pt x="61" y="0"/>
                    </a:lnTo>
                    <a:lnTo>
                      <a:pt x="58" y="18"/>
                    </a:lnTo>
                    <a:lnTo>
                      <a:pt x="54" y="33"/>
                    </a:lnTo>
                    <a:lnTo>
                      <a:pt x="47" y="50"/>
                    </a:lnTo>
                    <a:lnTo>
                      <a:pt x="39" y="65"/>
                    </a:lnTo>
                    <a:lnTo>
                      <a:pt x="31" y="79"/>
                    </a:lnTo>
                    <a:lnTo>
                      <a:pt x="21" y="94"/>
                    </a:lnTo>
                    <a:lnTo>
                      <a:pt x="11" y="106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684840" y="309420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114" h="213">
                    <a:moveTo>
                      <a:pt x="112" y="61"/>
                    </a:moveTo>
                    <a:lnTo>
                      <a:pt x="51" y="178"/>
                    </a:lnTo>
                    <a:lnTo>
                      <a:pt x="45" y="184"/>
                    </a:lnTo>
                    <a:lnTo>
                      <a:pt x="40" y="188"/>
                    </a:lnTo>
                    <a:lnTo>
                      <a:pt x="33" y="193"/>
                    </a:lnTo>
                    <a:lnTo>
                      <a:pt x="26" y="197"/>
                    </a:lnTo>
                    <a:lnTo>
                      <a:pt x="20" y="202"/>
                    </a:lnTo>
                    <a:lnTo>
                      <a:pt x="13" y="205"/>
                    </a:lnTo>
                    <a:lnTo>
                      <a:pt x="6" y="209"/>
                    </a:lnTo>
                    <a:lnTo>
                      <a:pt x="0" y="213"/>
                    </a:lnTo>
                    <a:lnTo>
                      <a:pt x="110" y="0"/>
                    </a:lnTo>
                    <a:lnTo>
                      <a:pt x="111" y="10"/>
                    </a:lnTo>
                    <a:lnTo>
                      <a:pt x="114" y="20"/>
                    </a:lnTo>
                    <a:lnTo>
                      <a:pt x="114" y="31"/>
                    </a:lnTo>
                    <a:lnTo>
                      <a:pt x="112" y="42"/>
                    </a:lnTo>
                    <a:lnTo>
                      <a:pt x="112" y="46"/>
                    </a:lnTo>
                    <a:lnTo>
                      <a:pt x="112" y="51"/>
                    </a:lnTo>
                    <a:lnTo>
                      <a:pt x="112" y="57"/>
                    </a:lnTo>
                    <a:lnTo>
                      <a:pt x="112" y="61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675480" y="308304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49" h="265">
                    <a:moveTo>
                      <a:pt x="149" y="42"/>
                    </a:moveTo>
                    <a:lnTo>
                      <a:pt x="39" y="255"/>
                    </a:lnTo>
                    <a:lnTo>
                      <a:pt x="34" y="256"/>
                    </a:lnTo>
                    <a:lnTo>
                      <a:pt x="30" y="258"/>
                    </a:lnTo>
                    <a:lnTo>
                      <a:pt x="25" y="259"/>
                    </a:lnTo>
                    <a:lnTo>
                      <a:pt x="20" y="262"/>
                    </a:lnTo>
                    <a:lnTo>
                      <a:pt x="15" y="263"/>
                    </a:lnTo>
                    <a:lnTo>
                      <a:pt x="10" y="264"/>
                    </a:lnTo>
                    <a:lnTo>
                      <a:pt x="5" y="264"/>
                    </a:lnTo>
                    <a:lnTo>
                      <a:pt x="0" y="265"/>
                    </a:lnTo>
                    <a:lnTo>
                      <a:pt x="139" y="0"/>
                    </a:lnTo>
                    <a:lnTo>
                      <a:pt x="141" y="9"/>
                    </a:lnTo>
                    <a:lnTo>
                      <a:pt x="145" y="19"/>
                    </a:lnTo>
                    <a:lnTo>
                      <a:pt x="147" y="30"/>
                    </a:lnTo>
                    <a:lnTo>
                      <a:pt x="149" y="42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6665760" y="3075120"/>
                <a:ext cx="46080" cy="79200"/>
              </a:xfrm>
              <a:custGeom>
                <a:avLst/>
                <a:gdLst/>
                <a:ahLst/>
                <a:rect l="l" t="t" r="r" b="b"/>
                <a:pathLst>
                  <a:path w="174" h="299">
                    <a:moveTo>
                      <a:pt x="174" y="32"/>
                    </a:moveTo>
                    <a:lnTo>
                      <a:pt x="35" y="297"/>
                    </a:lnTo>
                    <a:lnTo>
                      <a:pt x="29" y="298"/>
                    </a:lnTo>
                    <a:lnTo>
                      <a:pt x="22" y="299"/>
                    </a:lnTo>
                    <a:lnTo>
                      <a:pt x="16" y="299"/>
                    </a:lnTo>
                    <a:lnTo>
                      <a:pt x="10" y="299"/>
                    </a:lnTo>
                    <a:lnTo>
                      <a:pt x="8" y="299"/>
                    </a:lnTo>
                    <a:lnTo>
                      <a:pt x="6" y="299"/>
                    </a:lnTo>
                    <a:lnTo>
                      <a:pt x="2" y="299"/>
                    </a:lnTo>
                    <a:lnTo>
                      <a:pt x="0" y="299"/>
                    </a:lnTo>
                    <a:lnTo>
                      <a:pt x="155" y="0"/>
                    </a:lnTo>
                    <a:lnTo>
                      <a:pt x="160" y="8"/>
                    </a:lnTo>
                    <a:lnTo>
                      <a:pt x="165" y="16"/>
                    </a:lnTo>
                    <a:lnTo>
                      <a:pt x="170" y="23"/>
                    </a:lnTo>
                    <a:lnTo>
                      <a:pt x="174" y="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657840" y="3068640"/>
                <a:ext cx="49320" cy="85680"/>
              </a:xfrm>
              <a:custGeom>
                <a:avLst/>
                <a:gdLst/>
                <a:ahLst/>
                <a:rect l="l" t="t" r="r" b="b"/>
                <a:pathLst>
                  <a:path w="184" h="323">
                    <a:moveTo>
                      <a:pt x="184" y="24"/>
                    </a:moveTo>
                    <a:lnTo>
                      <a:pt x="29" y="323"/>
                    </a:lnTo>
                    <a:lnTo>
                      <a:pt x="21" y="322"/>
                    </a:lnTo>
                    <a:lnTo>
                      <a:pt x="13" y="321"/>
                    </a:lnTo>
                    <a:lnTo>
                      <a:pt x="7" y="320"/>
                    </a:lnTo>
                    <a:lnTo>
                      <a:pt x="0" y="318"/>
                    </a:lnTo>
                    <a:lnTo>
                      <a:pt x="164" y="0"/>
                    </a:lnTo>
                    <a:lnTo>
                      <a:pt x="170" y="6"/>
                    </a:lnTo>
                    <a:lnTo>
                      <a:pt x="175" y="12"/>
                    </a:lnTo>
                    <a:lnTo>
                      <a:pt x="180" y="18"/>
                    </a:lnTo>
                    <a:lnTo>
                      <a:pt x="184" y="24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6649920" y="3062160"/>
                <a:ext cx="52560" cy="90720"/>
              </a:xfrm>
              <a:custGeom>
                <a:avLst/>
                <a:gdLst/>
                <a:ahLst/>
                <a:rect l="l" t="t" r="r" b="b"/>
                <a:pathLst>
                  <a:path w="193" h="338">
                    <a:moveTo>
                      <a:pt x="193" y="20"/>
                    </a:moveTo>
                    <a:lnTo>
                      <a:pt x="29" y="338"/>
                    </a:lnTo>
                    <a:lnTo>
                      <a:pt x="21" y="335"/>
                    </a:lnTo>
                    <a:lnTo>
                      <a:pt x="14" y="333"/>
                    </a:lnTo>
                    <a:lnTo>
                      <a:pt x="7" y="330"/>
                    </a:lnTo>
                    <a:lnTo>
                      <a:pt x="0" y="325"/>
                    </a:lnTo>
                    <a:lnTo>
                      <a:pt x="171" y="0"/>
                    </a:lnTo>
                    <a:lnTo>
                      <a:pt x="176" y="5"/>
                    </a:lnTo>
                    <a:lnTo>
                      <a:pt x="182" y="10"/>
                    </a:lnTo>
                    <a:lnTo>
                      <a:pt x="188" y="15"/>
                    </a:lnTo>
                    <a:lnTo>
                      <a:pt x="193" y="2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643800" y="30592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196" h="337">
                    <a:moveTo>
                      <a:pt x="196" y="12"/>
                    </a:moveTo>
                    <a:lnTo>
                      <a:pt x="25" y="337"/>
                    </a:lnTo>
                    <a:lnTo>
                      <a:pt x="18" y="334"/>
                    </a:lnTo>
                    <a:lnTo>
                      <a:pt x="13" y="329"/>
                    </a:lnTo>
                    <a:lnTo>
                      <a:pt x="6" y="326"/>
                    </a:lnTo>
                    <a:lnTo>
                      <a:pt x="0" y="323"/>
                    </a:lnTo>
                    <a:lnTo>
                      <a:pt x="169" y="0"/>
                    </a:lnTo>
                    <a:lnTo>
                      <a:pt x="176" y="2"/>
                    </a:lnTo>
                    <a:lnTo>
                      <a:pt x="182" y="6"/>
                    </a:lnTo>
                    <a:lnTo>
                      <a:pt x="189" y="9"/>
                    </a:lnTo>
                    <a:lnTo>
                      <a:pt x="196" y="1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6638760" y="3057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191" h="331">
                    <a:moveTo>
                      <a:pt x="191" y="8"/>
                    </a:moveTo>
                    <a:lnTo>
                      <a:pt x="22" y="331"/>
                    </a:lnTo>
                    <a:lnTo>
                      <a:pt x="17" y="325"/>
                    </a:lnTo>
                    <a:lnTo>
                      <a:pt x="11" y="320"/>
                    </a:lnTo>
                    <a:lnTo>
                      <a:pt x="5" y="315"/>
                    </a:lnTo>
                    <a:lnTo>
                      <a:pt x="0" y="310"/>
                    </a:lnTo>
                    <a:lnTo>
                      <a:pt x="162" y="0"/>
                    </a:lnTo>
                    <a:lnTo>
                      <a:pt x="170" y="1"/>
                    </a:lnTo>
                    <a:lnTo>
                      <a:pt x="176" y="2"/>
                    </a:lnTo>
                    <a:lnTo>
                      <a:pt x="184" y="5"/>
                    </a:lnTo>
                    <a:lnTo>
                      <a:pt x="191" y="8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6632640" y="3057480"/>
                <a:ext cx="49320" cy="82440"/>
              </a:xfrm>
              <a:custGeom>
                <a:avLst/>
                <a:gdLst/>
                <a:ahLst/>
                <a:rect l="l" t="t" r="r" b="b"/>
                <a:pathLst>
                  <a:path w="181" h="312">
                    <a:moveTo>
                      <a:pt x="181" y="2"/>
                    </a:moveTo>
                    <a:lnTo>
                      <a:pt x="19" y="312"/>
                    </a:lnTo>
                    <a:lnTo>
                      <a:pt x="13" y="305"/>
                    </a:lnTo>
                    <a:lnTo>
                      <a:pt x="9" y="297"/>
                    </a:lnTo>
                    <a:lnTo>
                      <a:pt x="4" y="290"/>
                    </a:lnTo>
                    <a:lnTo>
                      <a:pt x="0" y="284"/>
                    </a:lnTo>
                    <a:lnTo>
                      <a:pt x="148" y="0"/>
                    </a:lnTo>
                    <a:lnTo>
                      <a:pt x="150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4" y="0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4" y="1"/>
                    </a:lnTo>
                    <a:lnTo>
                      <a:pt x="18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6627960" y="305748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170" h="284">
                    <a:moveTo>
                      <a:pt x="170" y="0"/>
                    </a:moveTo>
                    <a:lnTo>
                      <a:pt x="22" y="284"/>
                    </a:lnTo>
                    <a:lnTo>
                      <a:pt x="12" y="261"/>
                    </a:lnTo>
                    <a:lnTo>
                      <a:pt x="4" y="236"/>
                    </a:lnTo>
                    <a:lnTo>
                      <a:pt x="0" y="210"/>
                    </a:lnTo>
                    <a:lnTo>
                      <a:pt x="0" y="182"/>
                    </a:lnTo>
                    <a:lnTo>
                      <a:pt x="4" y="146"/>
                    </a:lnTo>
                    <a:lnTo>
                      <a:pt x="15" y="113"/>
                    </a:lnTo>
                    <a:lnTo>
                      <a:pt x="32" y="82"/>
                    </a:lnTo>
                    <a:lnTo>
                      <a:pt x="53" y="55"/>
                    </a:lnTo>
                    <a:lnTo>
                      <a:pt x="78" y="32"/>
                    </a:lnTo>
                    <a:lnTo>
                      <a:pt x="106" y="16"/>
                    </a:lnTo>
                    <a:lnTo>
                      <a:pt x="137" y="4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6627960" y="3057480"/>
                <a:ext cx="87120" cy="96840"/>
              </a:xfrm>
              <a:custGeom>
                <a:avLst/>
                <a:gdLst/>
                <a:ahLst/>
                <a:rect l="l" t="t" r="r" b="b"/>
                <a:pathLst>
                  <a:path w="332" h="365">
                    <a:moveTo>
                      <a:pt x="176" y="0"/>
                    </a:moveTo>
                    <a:lnTo>
                      <a:pt x="176" y="0"/>
                    </a:lnTo>
                    <a:lnTo>
                      <a:pt x="210" y="3"/>
                    </a:lnTo>
                    <a:lnTo>
                      <a:pt x="241" y="15"/>
                    </a:lnTo>
                    <a:lnTo>
                      <a:pt x="268" y="31"/>
                    </a:lnTo>
                    <a:lnTo>
                      <a:pt x="291" y="52"/>
                    </a:lnTo>
                    <a:lnTo>
                      <a:pt x="310" y="79"/>
                    </a:lnTo>
                    <a:lnTo>
                      <a:pt x="324" y="111"/>
                    </a:lnTo>
                    <a:lnTo>
                      <a:pt x="331" y="145"/>
                    </a:lnTo>
                    <a:lnTo>
                      <a:pt x="332" y="182"/>
                    </a:lnTo>
                    <a:lnTo>
                      <a:pt x="332" y="182"/>
                    </a:lnTo>
                    <a:lnTo>
                      <a:pt x="328" y="219"/>
                    </a:lnTo>
                    <a:lnTo>
                      <a:pt x="316" y="253"/>
                    </a:lnTo>
                    <a:lnTo>
                      <a:pt x="299" y="285"/>
                    </a:lnTo>
                    <a:lnTo>
                      <a:pt x="278" y="312"/>
                    </a:lnTo>
                    <a:lnTo>
                      <a:pt x="252" y="334"/>
                    </a:lnTo>
                    <a:lnTo>
                      <a:pt x="223" y="351"/>
                    </a:lnTo>
                    <a:lnTo>
                      <a:pt x="191" y="362"/>
                    </a:lnTo>
                    <a:lnTo>
                      <a:pt x="156" y="365"/>
                    </a:lnTo>
                    <a:lnTo>
                      <a:pt x="156" y="365"/>
                    </a:lnTo>
                    <a:lnTo>
                      <a:pt x="124" y="362"/>
                    </a:lnTo>
                    <a:lnTo>
                      <a:pt x="92" y="351"/>
                    </a:lnTo>
                    <a:lnTo>
                      <a:pt x="65" y="334"/>
                    </a:lnTo>
                    <a:lnTo>
                      <a:pt x="42" y="312"/>
                    </a:lnTo>
                    <a:lnTo>
                      <a:pt x="23" y="285"/>
                    </a:lnTo>
                    <a:lnTo>
                      <a:pt x="9" y="253"/>
                    </a:lnTo>
                    <a:lnTo>
                      <a:pt x="1" y="219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5" y="145"/>
                    </a:lnTo>
                    <a:lnTo>
                      <a:pt x="16" y="111"/>
                    </a:lnTo>
                    <a:lnTo>
                      <a:pt x="33" y="79"/>
                    </a:lnTo>
                    <a:lnTo>
                      <a:pt x="55" y="52"/>
                    </a:lnTo>
                    <a:lnTo>
                      <a:pt x="81" y="31"/>
                    </a:lnTo>
                    <a:lnTo>
                      <a:pt x="110" y="15"/>
                    </a:lnTo>
                    <a:lnTo>
                      <a:pt x="143" y="3"/>
                    </a:lnTo>
                    <a:lnTo>
                      <a:pt x="1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6337440" y="4114800"/>
                <a:ext cx="433080" cy="241200"/>
              </a:xfrm>
              <a:custGeom>
                <a:avLst/>
                <a:gdLst/>
                <a:ahLst/>
                <a:rect l="l" t="t" r="r" b="b"/>
                <a:pathLst>
                  <a:path w="1635" h="911">
                    <a:moveTo>
                      <a:pt x="0" y="415"/>
                    </a:moveTo>
                    <a:lnTo>
                      <a:pt x="1635" y="0"/>
                    </a:lnTo>
                    <a:lnTo>
                      <a:pt x="1624" y="49"/>
                    </a:lnTo>
                    <a:lnTo>
                      <a:pt x="1612" y="97"/>
                    </a:lnTo>
                    <a:lnTo>
                      <a:pt x="1598" y="144"/>
                    </a:lnTo>
                    <a:lnTo>
                      <a:pt x="1583" y="190"/>
                    </a:lnTo>
                    <a:lnTo>
                      <a:pt x="1566" y="235"/>
                    </a:lnTo>
                    <a:lnTo>
                      <a:pt x="1548" y="279"/>
                    </a:lnTo>
                    <a:lnTo>
                      <a:pt x="1529" y="322"/>
                    </a:lnTo>
                    <a:lnTo>
                      <a:pt x="1509" y="364"/>
                    </a:lnTo>
                    <a:lnTo>
                      <a:pt x="1488" y="405"/>
                    </a:lnTo>
                    <a:lnTo>
                      <a:pt x="1464" y="445"/>
                    </a:lnTo>
                    <a:lnTo>
                      <a:pt x="1441" y="483"/>
                    </a:lnTo>
                    <a:lnTo>
                      <a:pt x="1416" y="520"/>
                    </a:lnTo>
                    <a:lnTo>
                      <a:pt x="1390" y="555"/>
                    </a:lnTo>
                    <a:lnTo>
                      <a:pt x="1363" y="589"/>
                    </a:lnTo>
                    <a:lnTo>
                      <a:pt x="1335" y="621"/>
                    </a:lnTo>
                    <a:lnTo>
                      <a:pt x="1306" y="652"/>
                    </a:lnTo>
                    <a:lnTo>
                      <a:pt x="1277" y="683"/>
                    </a:lnTo>
                    <a:lnTo>
                      <a:pt x="1245" y="710"/>
                    </a:lnTo>
                    <a:lnTo>
                      <a:pt x="1214" y="737"/>
                    </a:lnTo>
                    <a:lnTo>
                      <a:pt x="1182" y="762"/>
                    </a:lnTo>
                    <a:lnTo>
                      <a:pt x="1148" y="784"/>
                    </a:lnTo>
                    <a:lnTo>
                      <a:pt x="1115" y="805"/>
                    </a:lnTo>
                    <a:lnTo>
                      <a:pt x="1080" y="825"/>
                    </a:lnTo>
                    <a:lnTo>
                      <a:pt x="1044" y="843"/>
                    </a:lnTo>
                    <a:lnTo>
                      <a:pt x="1009" y="859"/>
                    </a:lnTo>
                    <a:lnTo>
                      <a:pt x="972" y="872"/>
                    </a:lnTo>
                    <a:lnTo>
                      <a:pt x="935" y="885"/>
                    </a:lnTo>
                    <a:lnTo>
                      <a:pt x="897" y="894"/>
                    </a:lnTo>
                    <a:lnTo>
                      <a:pt x="859" y="901"/>
                    </a:lnTo>
                    <a:lnTo>
                      <a:pt x="820" y="907"/>
                    </a:lnTo>
                    <a:lnTo>
                      <a:pt x="781" y="910"/>
                    </a:lnTo>
                    <a:lnTo>
                      <a:pt x="742" y="911"/>
                    </a:lnTo>
                    <a:lnTo>
                      <a:pt x="714" y="910"/>
                    </a:lnTo>
                    <a:lnTo>
                      <a:pt x="686" y="909"/>
                    </a:lnTo>
                    <a:lnTo>
                      <a:pt x="658" y="906"/>
                    </a:lnTo>
                    <a:lnTo>
                      <a:pt x="630" y="903"/>
                    </a:lnTo>
                    <a:lnTo>
                      <a:pt x="603" y="897"/>
                    </a:lnTo>
                    <a:lnTo>
                      <a:pt x="576" y="891"/>
                    </a:lnTo>
                    <a:lnTo>
                      <a:pt x="549" y="885"/>
                    </a:lnTo>
                    <a:lnTo>
                      <a:pt x="523" y="876"/>
                    </a:lnTo>
                    <a:lnTo>
                      <a:pt x="496" y="867"/>
                    </a:lnTo>
                    <a:lnTo>
                      <a:pt x="470" y="857"/>
                    </a:lnTo>
                    <a:lnTo>
                      <a:pt x="444" y="846"/>
                    </a:lnTo>
                    <a:lnTo>
                      <a:pt x="420" y="833"/>
                    </a:lnTo>
                    <a:lnTo>
                      <a:pt x="394" y="820"/>
                    </a:lnTo>
                    <a:lnTo>
                      <a:pt x="369" y="806"/>
                    </a:lnTo>
                    <a:lnTo>
                      <a:pt x="346" y="792"/>
                    </a:lnTo>
                    <a:lnTo>
                      <a:pt x="321" y="775"/>
                    </a:lnTo>
                    <a:lnTo>
                      <a:pt x="298" y="758"/>
                    </a:lnTo>
                    <a:lnTo>
                      <a:pt x="275" y="742"/>
                    </a:lnTo>
                    <a:lnTo>
                      <a:pt x="252" y="723"/>
                    </a:lnTo>
                    <a:lnTo>
                      <a:pt x="230" y="704"/>
                    </a:lnTo>
                    <a:lnTo>
                      <a:pt x="209" y="684"/>
                    </a:lnTo>
                    <a:lnTo>
                      <a:pt x="186" y="662"/>
                    </a:lnTo>
                    <a:lnTo>
                      <a:pt x="166" y="641"/>
                    </a:lnTo>
                    <a:lnTo>
                      <a:pt x="145" y="619"/>
                    </a:lnTo>
                    <a:lnTo>
                      <a:pt x="125" y="595"/>
                    </a:lnTo>
                    <a:lnTo>
                      <a:pt x="106" y="572"/>
                    </a:lnTo>
                    <a:lnTo>
                      <a:pt x="87" y="547"/>
                    </a:lnTo>
                    <a:lnTo>
                      <a:pt x="68" y="522"/>
                    </a:lnTo>
                    <a:lnTo>
                      <a:pt x="50" y="496"/>
                    </a:lnTo>
                    <a:lnTo>
                      <a:pt x="33" y="469"/>
                    </a:lnTo>
                    <a:lnTo>
                      <a:pt x="16" y="443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3a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6321600" y="4075200"/>
                <a:ext cx="455400" cy="149040"/>
              </a:xfrm>
              <a:custGeom>
                <a:avLst/>
                <a:gdLst/>
                <a:ahLst/>
                <a:rect l="l" t="t" r="r" b="b"/>
                <a:pathLst>
                  <a:path w="1722" h="564">
                    <a:moveTo>
                      <a:pt x="1697" y="149"/>
                    </a:moveTo>
                    <a:lnTo>
                      <a:pt x="62" y="564"/>
                    </a:lnTo>
                    <a:lnTo>
                      <a:pt x="54" y="548"/>
                    </a:lnTo>
                    <a:lnTo>
                      <a:pt x="45" y="532"/>
                    </a:lnTo>
                    <a:lnTo>
                      <a:pt x="37" y="517"/>
                    </a:lnTo>
                    <a:lnTo>
                      <a:pt x="29" y="501"/>
                    </a:lnTo>
                    <a:lnTo>
                      <a:pt x="23" y="485"/>
                    </a:lnTo>
                    <a:lnTo>
                      <a:pt x="15" y="469"/>
                    </a:lnTo>
                    <a:lnTo>
                      <a:pt x="7" y="453"/>
                    </a:lnTo>
                    <a:lnTo>
                      <a:pt x="0" y="436"/>
                    </a:lnTo>
                    <a:lnTo>
                      <a:pt x="1722" y="0"/>
                    </a:lnTo>
                    <a:lnTo>
                      <a:pt x="1717" y="38"/>
                    </a:lnTo>
                    <a:lnTo>
                      <a:pt x="1712" y="75"/>
                    </a:lnTo>
                    <a:lnTo>
                      <a:pt x="1705" y="113"/>
                    </a:lnTo>
                    <a:lnTo>
                      <a:pt x="1697" y="149"/>
                    </a:lnTo>
                    <a:close/>
                  </a:path>
                </a:pathLst>
              </a:custGeom>
              <a:solidFill>
                <a:srgbClr val="3a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6308640" y="4037040"/>
                <a:ext cx="471600" cy="154080"/>
              </a:xfrm>
              <a:custGeom>
                <a:avLst/>
                <a:gdLst/>
                <a:ahLst/>
                <a:rect l="l" t="t" r="r" b="b"/>
                <a:pathLst>
                  <a:path w="1783" h="580">
                    <a:moveTo>
                      <a:pt x="1771" y="144"/>
                    </a:moveTo>
                    <a:lnTo>
                      <a:pt x="49" y="580"/>
                    </a:lnTo>
                    <a:lnTo>
                      <a:pt x="41" y="565"/>
                    </a:lnTo>
                    <a:lnTo>
                      <a:pt x="35" y="549"/>
                    </a:lnTo>
                    <a:lnTo>
                      <a:pt x="29" y="533"/>
                    </a:lnTo>
                    <a:lnTo>
                      <a:pt x="22" y="518"/>
                    </a:lnTo>
                    <a:lnTo>
                      <a:pt x="17" y="502"/>
                    </a:lnTo>
                    <a:lnTo>
                      <a:pt x="11" y="485"/>
                    </a:lnTo>
                    <a:lnTo>
                      <a:pt x="6" y="470"/>
                    </a:lnTo>
                    <a:lnTo>
                      <a:pt x="0" y="453"/>
                    </a:lnTo>
                    <a:lnTo>
                      <a:pt x="1783" y="0"/>
                    </a:lnTo>
                    <a:lnTo>
                      <a:pt x="1782" y="37"/>
                    </a:lnTo>
                    <a:lnTo>
                      <a:pt x="1779" y="73"/>
                    </a:lnTo>
                    <a:lnTo>
                      <a:pt x="1775" y="109"/>
                    </a:lnTo>
                    <a:lnTo>
                      <a:pt x="1771" y="144"/>
                    </a:lnTo>
                    <a:close/>
                  </a:path>
                </a:pathLst>
              </a:custGeom>
              <a:solidFill>
                <a:srgbClr val="4938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6297480" y="4000680"/>
                <a:ext cx="482760" cy="156960"/>
              </a:xfrm>
              <a:custGeom>
                <a:avLst/>
                <a:gdLst/>
                <a:ahLst/>
                <a:rect l="l" t="t" r="r" b="b"/>
                <a:pathLst>
                  <a:path w="1822" h="595">
                    <a:moveTo>
                      <a:pt x="1822" y="142"/>
                    </a:moveTo>
                    <a:lnTo>
                      <a:pt x="39" y="595"/>
                    </a:lnTo>
                    <a:lnTo>
                      <a:pt x="33" y="578"/>
                    </a:lnTo>
                    <a:lnTo>
                      <a:pt x="29" y="563"/>
                    </a:lnTo>
                    <a:lnTo>
                      <a:pt x="23" y="546"/>
                    </a:lnTo>
                    <a:lnTo>
                      <a:pt x="19" y="529"/>
                    </a:lnTo>
                    <a:lnTo>
                      <a:pt x="13" y="512"/>
                    </a:lnTo>
                    <a:lnTo>
                      <a:pt x="9" y="496"/>
                    </a:lnTo>
                    <a:lnTo>
                      <a:pt x="4" y="479"/>
                    </a:lnTo>
                    <a:lnTo>
                      <a:pt x="0" y="462"/>
                    </a:lnTo>
                    <a:lnTo>
                      <a:pt x="1821" y="0"/>
                    </a:lnTo>
                    <a:lnTo>
                      <a:pt x="1822" y="21"/>
                    </a:lnTo>
                    <a:lnTo>
                      <a:pt x="1822" y="42"/>
                    </a:lnTo>
                    <a:lnTo>
                      <a:pt x="1822" y="62"/>
                    </a:lnTo>
                    <a:lnTo>
                      <a:pt x="1822" y="84"/>
                    </a:lnTo>
                    <a:lnTo>
                      <a:pt x="1822" y="98"/>
                    </a:lnTo>
                    <a:lnTo>
                      <a:pt x="1822" y="113"/>
                    </a:lnTo>
                    <a:lnTo>
                      <a:pt x="1822" y="127"/>
                    </a:lnTo>
                    <a:lnTo>
                      <a:pt x="1822" y="142"/>
                    </a:lnTo>
                    <a:close/>
                  </a:path>
                </a:pathLst>
              </a:custGeom>
              <a:solidFill>
                <a:srgbClr val="594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6291360" y="3963960"/>
                <a:ext cx="488880" cy="158760"/>
              </a:xfrm>
              <a:custGeom>
                <a:avLst/>
                <a:gdLst/>
                <a:ahLst/>
                <a:rect l="l" t="t" r="r" b="b"/>
                <a:pathLst>
                  <a:path w="1846" h="599">
                    <a:moveTo>
                      <a:pt x="1846" y="137"/>
                    </a:moveTo>
                    <a:lnTo>
                      <a:pt x="25" y="599"/>
                    </a:lnTo>
                    <a:lnTo>
                      <a:pt x="18" y="566"/>
                    </a:lnTo>
                    <a:lnTo>
                      <a:pt x="12" y="532"/>
                    </a:lnTo>
                    <a:lnTo>
                      <a:pt x="6" y="498"/>
                    </a:lnTo>
                    <a:lnTo>
                      <a:pt x="0" y="463"/>
                    </a:lnTo>
                    <a:lnTo>
                      <a:pt x="1834" y="0"/>
                    </a:lnTo>
                    <a:lnTo>
                      <a:pt x="1838" y="33"/>
                    </a:lnTo>
                    <a:lnTo>
                      <a:pt x="1842" y="68"/>
                    </a:lnTo>
                    <a:lnTo>
                      <a:pt x="1844" y="102"/>
                    </a:lnTo>
                    <a:lnTo>
                      <a:pt x="1846" y="137"/>
                    </a:lnTo>
                    <a:close/>
                  </a:path>
                </a:pathLst>
              </a:custGeom>
              <a:solidFill>
                <a:srgbClr val="66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6288120" y="3927600"/>
                <a:ext cx="488880" cy="158760"/>
              </a:xfrm>
              <a:custGeom>
                <a:avLst/>
                <a:gdLst/>
                <a:ahLst/>
                <a:rect l="l" t="t" r="r" b="b"/>
                <a:pathLst>
                  <a:path w="1848" h="597">
                    <a:moveTo>
                      <a:pt x="1848" y="134"/>
                    </a:moveTo>
                    <a:lnTo>
                      <a:pt x="14" y="597"/>
                    </a:lnTo>
                    <a:lnTo>
                      <a:pt x="10" y="563"/>
                    </a:lnTo>
                    <a:lnTo>
                      <a:pt x="5" y="529"/>
                    </a:lnTo>
                    <a:lnTo>
                      <a:pt x="2" y="494"/>
                    </a:lnTo>
                    <a:lnTo>
                      <a:pt x="0" y="460"/>
                    </a:lnTo>
                    <a:lnTo>
                      <a:pt x="1824" y="0"/>
                    </a:lnTo>
                    <a:lnTo>
                      <a:pt x="1831" y="33"/>
                    </a:lnTo>
                    <a:lnTo>
                      <a:pt x="1838" y="67"/>
                    </a:lnTo>
                    <a:lnTo>
                      <a:pt x="1842" y="100"/>
                    </a:lnTo>
                    <a:lnTo>
                      <a:pt x="1848" y="134"/>
                    </a:lnTo>
                    <a:close/>
                  </a:path>
                </a:pathLst>
              </a:custGeom>
              <a:solidFill>
                <a:srgbClr val="756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6286680" y="3892680"/>
                <a:ext cx="483840" cy="156960"/>
              </a:xfrm>
              <a:custGeom>
                <a:avLst/>
                <a:gdLst/>
                <a:ahLst/>
                <a:rect l="l" t="t" r="r" b="b"/>
                <a:pathLst>
                  <a:path w="1827" h="594">
                    <a:moveTo>
                      <a:pt x="1827" y="134"/>
                    </a:moveTo>
                    <a:lnTo>
                      <a:pt x="3" y="594"/>
                    </a:lnTo>
                    <a:lnTo>
                      <a:pt x="2" y="568"/>
                    </a:lnTo>
                    <a:lnTo>
                      <a:pt x="1" y="541"/>
                    </a:lnTo>
                    <a:lnTo>
                      <a:pt x="0" y="515"/>
                    </a:lnTo>
                    <a:lnTo>
                      <a:pt x="0" y="489"/>
                    </a:lnTo>
                    <a:lnTo>
                      <a:pt x="0" y="480"/>
                    </a:lnTo>
                    <a:lnTo>
                      <a:pt x="0" y="470"/>
                    </a:lnTo>
                    <a:lnTo>
                      <a:pt x="0" y="461"/>
                    </a:lnTo>
                    <a:lnTo>
                      <a:pt x="0" y="452"/>
                    </a:lnTo>
                    <a:lnTo>
                      <a:pt x="1790" y="0"/>
                    </a:lnTo>
                    <a:lnTo>
                      <a:pt x="1796" y="16"/>
                    </a:lnTo>
                    <a:lnTo>
                      <a:pt x="1800" y="32"/>
                    </a:lnTo>
                    <a:lnTo>
                      <a:pt x="1806" y="49"/>
                    </a:lnTo>
                    <a:lnTo>
                      <a:pt x="1811" y="65"/>
                    </a:lnTo>
                    <a:lnTo>
                      <a:pt x="1815" y="82"/>
                    </a:lnTo>
                    <a:lnTo>
                      <a:pt x="1819" y="99"/>
                    </a:lnTo>
                    <a:lnTo>
                      <a:pt x="1824" y="117"/>
                    </a:lnTo>
                    <a:lnTo>
                      <a:pt x="1827" y="134"/>
                    </a:lnTo>
                    <a:close/>
                  </a:path>
                </a:pathLst>
              </a:custGeom>
              <a:solidFill>
                <a:srgbClr val="847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6286680" y="3859200"/>
                <a:ext cx="474480" cy="152280"/>
              </a:xfrm>
              <a:custGeom>
                <a:avLst/>
                <a:gdLst/>
                <a:ahLst/>
                <a:rect l="l" t="t" r="r" b="b"/>
                <a:pathLst>
                  <a:path w="1790" h="582">
                    <a:moveTo>
                      <a:pt x="1790" y="130"/>
                    </a:moveTo>
                    <a:lnTo>
                      <a:pt x="0" y="582"/>
                    </a:lnTo>
                    <a:lnTo>
                      <a:pt x="1" y="545"/>
                    </a:lnTo>
                    <a:lnTo>
                      <a:pt x="4" y="509"/>
                    </a:lnTo>
                    <a:lnTo>
                      <a:pt x="6" y="475"/>
                    </a:lnTo>
                    <a:lnTo>
                      <a:pt x="11" y="439"/>
                    </a:lnTo>
                    <a:lnTo>
                      <a:pt x="1747" y="0"/>
                    </a:lnTo>
                    <a:lnTo>
                      <a:pt x="1754" y="17"/>
                    </a:lnTo>
                    <a:lnTo>
                      <a:pt x="1759" y="32"/>
                    </a:lnTo>
                    <a:lnTo>
                      <a:pt x="1765" y="49"/>
                    </a:lnTo>
                    <a:lnTo>
                      <a:pt x="1770" y="65"/>
                    </a:lnTo>
                    <a:lnTo>
                      <a:pt x="1776" y="80"/>
                    </a:lnTo>
                    <a:lnTo>
                      <a:pt x="1780" y="97"/>
                    </a:lnTo>
                    <a:lnTo>
                      <a:pt x="1786" y="113"/>
                    </a:lnTo>
                    <a:lnTo>
                      <a:pt x="1790" y="130"/>
                    </a:lnTo>
                    <a:close/>
                  </a:path>
                </a:pathLst>
              </a:custGeom>
              <a:solidFill>
                <a:srgbClr val="938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6289560" y="3825720"/>
                <a:ext cx="459000" cy="149400"/>
              </a:xfrm>
              <a:custGeom>
                <a:avLst/>
                <a:gdLst/>
                <a:ahLst/>
                <a:rect l="l" t="t" r="r" b="b"/>
                <a:pathLst>
                  <a:path w="1736" h="564">
                    <a:moveTo>
                      <a:pt x="1736" y="125"/>
                    </a:moveTo>
                    <a:lnTo>
                      <a:pt x="0" y="564"/>
                    </a:lnTo>
                    <a:lnTo>
                      <a:pt x="3" y="527"/>
                    </a:lnTo>
                    <a:lnTo>
                      <a:pt x="9" y="490"/>
                    </a:lnTo>
                    <a:lnTo>
                      <a:pt x="14" y="454"/>
                    </a:lnTo>
                    <a:lnTo>
                      <a:pt x="21" y="419"/>
                    </a:lnTo>
                    <a:lnTo>
                      <a:pt x="1674" y="0"/>
                    </a:lnTo>
                    <a:lnTo>
                      <a:pt x="1682" y="15"/>
                    </a:lnTo>
                    <a:lnTo>
                      <a:pt x="1691" y="30"/>
                    </a:lnTo>
                    <a:lnTo>
                      <a:pt x="1699" y="46"/>
                    </a:lnTo>
                    <a:lnTo>
                      <a:pt x="1707" y="61"/>
                    </a:lnTo>
                    <a:lnTo>
                      <a:pt x="1714" y="77"/>
                    </a:lnTo>
                    <a:lnTo>
                      <a:pt x="1721" y="93"/>
                    </a:lnTo>
                    <a:lnTo>
                      <a:pt x="1729" y="109"/>
                    </a:lnTo>
                    <a:lnTo>
                      <a:pt x="1736" y="125"/>
                    </a:lnTo>
                    <a:close/>
                  </a:path>
                </a:pathLst>
              </a:custGeom>
              <a:solidFill>
                <a:srgbClr val="a39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6296040" y="3792600"/>
                <a:ext cx="436680" cy="142920"/>
              </a:xfrm>
              <a:custGeom>
                <a:avLst/>
                <a:gdLst/>
                <a:ahLst/>
                <a:rect l="l" t="t" r="r" b="b"/>
                <a:pathLst>
                  <a:path w="1653" h="542">
                    <a:moveTo>
                      <a:pt x="1653" y="123"/>
                    </a:moveTo>
                    <a:lnTo>
                      <a:pt x="0" y="542"/>
                    </a:lnTo>
                    <a:lnTo>
                      <a:pt x="3" y="523"/>
                    </a:lnTo>
                    <a:lnTo>
                      <a:pt x="8" y="504"/>
                    </a:lnTo>
                    <a:lnTo>
                      <a:pt x="12" y="484"/>
                    </a:lnTo>
                    <a:lnTo>
                      <a:pt x="17" y="465"/>
                    </a:lnTo>
                    <a:lnTo>
                      <a:pt x="22" y="446"/>
                    </a:lnTo>
                    <a:lnTo>
                      <a:pt x="27" y="427"/>
                    </a:lnTo>
                    <a:lnTo>
                      <a:pt x="33" y="409"/>
                    </a:lnTo>
                    <a:lnTo>
                      <a:pt x="39" y="390"/>
                    </a:lnTo>
                    <a:lnTo>
                      <a:pt x="1577" y="0"/>
                    </a:lnTo>
                    <a:lnTo>
                      <a:pt x="1587" y="15"/>
                    </a:lnTo>
                    <a:lnTo>
                      <a:pt x="1598" y="30"/>
                    </a:lnTo>
                    <a:lnTo>
                      <a:pt x="1608" y="45"/>
                    </a:lnTo>
                    <a:lnTo>
                      <a:pt x="1618" y="61"/>
                    </a:lnTo>
                    <a:lnTo>
                      <a:pt x="1627" y="76"/>
                    </a:lnTo>
                    <a:lnTo>
                      <a:pt x="1636" y="92"/>
                    </a:lnTo>
                    <a:lnTo>
                      <a:pt x="1644" y="107"/>
                    </a:lnTo>
                    <a:lnTo>
                      <a:pt x="1653" y="123"/>
                    </a:lnTo>
                    <a:close/>
                  </a:path>
                </a:pathLst>
              </a:custGeom>
              <a:solidFill>
                <a:srgbClr val="b2a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6305400" y="3762360"/>
                <a:ext cx="408240" cy="133200"/>
              </a:xfrm>
              <a:custGeom>
                <a:avLst/>
                <a:gdLst/>
                <a:ahLst/>
                <a:rect l="l" t="t" r="r" b="b"/>
                <a:pathLst>
                  <a:path w="1538" h="507">
                    <a:moveTo>
                      <a:pt x="1538" y="117"/>
                    </a:moveTo>
                    <a:lnTo>
                      <a:pt x="0" y="507"/>
                    </a:lnTo>
                    <a:lnTo>
                      <a:pt x="6" y="487"/>
                    </a:lnTo>
                    <a:lnTo>
                      <a:pt x="12" y="467"/>
                    </a:lnTo>
                    <a:lnTo>
                      <a:pt x="19" y="447"/>
                    </a:lnTo>
                    <a:lnTo>
                      <a:pt x="26" y="427"/>
                    </a:lnTo>
                    <a:lnTo>
                      <a:pt x="34" y="408"/>
                    </a:lnTo>
                    <a:lnTo>
                      <a:pt x="41" y="389"/>
                    </a:lnTo>
                    <a:lnTo>
                      <a:pt x="49" y="370"/>
                    </a:lnTo>
                    <a:lnTo>
                      <a:pt x="57" y="351"/>
                    </a:lnTo>
                    <a:lnTo>
                      <a:pt x="1443" y="0"/>
                    </a:lnTo>
                    <a:lnTo>
                      <a:pt x="1456" y="13"/>
                    </a:lnTo>
                    <a:lnTo>
                      <a:pt x="1469" y="28"/>
                    </a:lnTo>
                    <a:lnTo>
                      <a:pt x="1481" y="42"/>
                    </a:lnTo>
                    <a:lnTo>
                      <a:pt x="1493" y="57"/>
                    </a:lnTo>
                    <a:lnTo>
                      <a:pt x="1505" y="71"/>
                    </a:lnTo>
                    <a:lnTo>
                      <a:pt x="1516" y="87"/>
                    </a:lnTo>
                    <a:lnTo>
                      <a:pt x="1527" y="102"/>
                    </a:lnTo>
                    <a:lnTo>
                      <a:pt x="1538" y="117"/>
                    </a:lnTo>
                    <a:close/>
                  </a:path>
                </a:pathLst>
              </a:custGeom>
              <a:solidFill>
                <a:srgbClr val="c1b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6321600" y="3732120"/>
                <a:ext cx="366480" cy="122400"/>
              </a:xfrm>
              <a:custGeom>
                <a:avLst/>
                <a:gdLst/>
                <a:ahLst/>
                <a:rect l="l" t="t" r="r" b="b"/>
                <a:pathLst>
                  <a:path w="1386" h="462">
                    <a:moveTo>
                      <a:pt x="1386" y="111"/>
                    </a:moveTo>
                    <a:lnTo>
                      <a:pt x="0" y="462"/>
                    </a:lnTo>
                    <a:lnTo>
                      <a:pt x="9" y="440"/>
                    </a:lnTo>
                    <a:lnTo>
                      <a:pt x="19" y="419"/>
                    </a:lnTo>
                    <a:lnTo>
                      <a:pt x="29" y="399"/>
                    </a:lnTo>
                    <a:lnTo>
                      <a:pt x="39" y="379"/>
                    </a:lnTo>
                    <a:lnTo>
                      <a:pt x="49" y="359"/>
                    </a:lnTo>
                    <a:lnTo>
                      <a:pt x="60" y="339"/>
                    </a:lnTo>
                    <a:lnTo>
                      <a:pt x="72" y="319"/>
                    </a:lnTo>
                    <a:lnTo>
                      <a:pt x="83" y="300"/>
                    </a:lnTo>
                    <a:lnTo>
                      <a:pt x="1266" y="0"/>
                    </a:lnTo>
                    <a:lnTo>
                      <a:pt x="1281" y="13"/>
                    </a:lnTo>
                    <a:lnTo>
                      <a:pt x="1297" y="25"/>
                    </a:lnTo>
                    <a:lnTo>
                      <a:pt x="1313" y="38"/>
                    </a:lnTo>
                    <a:lnTo>
                      <a:pt x="1328" y="52"/>
                    </a:lnTo>
                    <a:lnTo>
                      <a:pt x="1343" y="66"/>
                    </a:lnTo>
                    <a:lnTo>
                      <a:pt x="1359" y="81"/>
                    </a:lnTo>
                    <a:lnTo>
                      <a:pt x="1372" y="95"/>
                    </a:lnTo>
                    <a:lnTo>
                      <a:pt x="1386" y="111"/>
                    </a:lnTo>
                    <a:close/>
                  </a:path>
                </a:pathLst>
              </a:custGeom>
              <a:solidFill>
                <a:srgbClr val="d1ce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6342120" y="3705120"/>
                <a:ext cx="314280" cy="106560"/>
              </a:xfrm>
              <a:custGeom>
                <a:avLst/>
                <a:gdLst/>
                <a:ahLst/>
                <a:rect l="l" t="t" r="r" b="b"/>
                <a:pathLst>
                  <a:path w="1183" h="400">
                    <a:moveTo>
                      <a:pt x="1183" y="100"/>
                    </a:moveTo>
                    <a:lnTo>
                      <a:pt x="0" y="400"/>
                    </a:lnTo>
                    <a:lnTo>
                      <a:pt x="14" y="376"/>
                    </a:lnTo>
                    <a:lnTo>
                      <a:pt x="30" y="353"/>
                    </a:lnTo>
                    <a:lnTo>
                      <a:pt x="45" y="330"/>
                    </a:lnTo>
                    <a:lnTo>
                      <a:pt x="61" y="308"/>
                    </a:lnTo>
                    <a:lnTo>
                      <a:pt x="78" y="287"/>
                    </a:lnTo>
                    <a:lnTo>
                      <a:pt x="95" y="266"/>
                    </a:lnTo>
                    <a:lnTo>
                      <a:pt x="111" y="246"/>
                    </a:lnTo>
                    <a:lnTo>
                      <a:pt x="129" y="226"/>
                    </a:lnTo>
                    <a:lnTo>
                      <a:pt x="1019" y="0"/>
                    </a:lnTo>
                    <a:lnTo>
                      <a:pt x="1040" y="10"/>
                    </a:lnTo>
                    <a:lnTo>
                      <a:pt x="1061" y="21"/>
                    </a:lnTo>
                    <a:lnTo>
                      <a:pt x="1082" y="32"/>
                    </a:lnTo>
                    <a:lnTo>
                      <a:pt x="1102" y="45"/>
                    </a:lnTo>
                    <a:lnTo>
                      <a:pt x="1124" y="58"/>
                    </a:lnTo>
                    <a:lnTo>
                      <a:pt x="1144" y="71"/>
                    </a:lnTo>
                    <a:lnTo>
                      <a:pt x="1164" y="85"/>
                    </a:lnTo>
                    <a:lnTo>
                      <a:pt x="1183" y="100"/>
                    </a:lnTo>
                    <a:close/>
                  </a:path>
                </a:pathLst>
              </a:cu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6377040" y="3689280"/>
                <a:ext cx="234720" cy="76320"/>
              </a:xfrm>
              <a:custGeom>
                <a:avLst/>
                <a:gdLst/>
                <a:ahLst/>
                <a:rect l="l" t="t" r="r" b="b"/>
                <a:pathLst>
                  <a:path w="890" h="292">
                    <a:moveTo>
                      <a:pt x="890" y="66"/>
                    </a:moveTo>
                    <a:lnTo>
                      <a:pt x="0" y="292"/>
                    </a:lnTo>
                    <a:lnTo>
                      <a:pt x="30" y="258"/>
                    </a:lnTo>
                    <a:lnTo>
                      <a:pt x="63" y="227"/>
                    </a:lnTo>
                    <a:lnTo>
                      <a:pt x="95" y="198"/>
                    </a:lnTo>
                    <a:lnTo>
                      <a:pt x="129" y="170"/>
                    </a:lnTo>
                    <a:lnTo>
                      <a:pt x="163" y="144"/>
                    </a:lnTo>
                    <a:lnTo>
                      <a:pt x="199" y="120"/>
                    </a:lnTo>
                    <a:lnTo>
                      <a:pt x="235" y="98"/>
                    </a:lnTo>
                    <a:lnTo>
                      <a:pt x="273" y="78"/>
                    </a:lnTo>
                    <a:lnTo>
                      <a:pt x="311" y="60"/>
                    </a:lnTo>
                    <a:lnTo>
                      <a:pt x="349" y="45"/>
                    </a:lnTo>
                    <a:lnTo>
                      <a:pt x="389" y="31"/>
                    </a:lnTo>
                    <a:lnTo>
                      <a:pt x="428" y="20"/>
                    </a:lnTo>
                    <a:lnTo>
                      <a:pt x="470" y="11"/>
                    </a:lnTo>
                    <a:lnTo>
                      <a:pt x="510" y="6"/>
                    </a:lnTo>
                    <a:lnTo>
                      <a:pt x="551" y="1"/>
                    </a:lnTo>
                    <a:lnTo>
                      <a:pt x="594" y="0"/>
                    </a:lnTo>
                    <a:lnTo>
                      <a:pt x="613" y="0"/>
                    </a:lnTo>
                    <a:lnTo>
                      <a:pt x="632" y="1"/>
                    </a:lnTo>
                    <a:lnTo>
                      <a:pt x="652" y="2"/>
                    </a:lnTo>
                    <a:lnTo>
                      <a:pt x="671" y="5"/>
                    </a:lnTo>
                    <a:lnTo>
                      <a:pt x="690" y="7"/>
                    </a:lnTo>
                    <a:lnTo>
                      <a:pt x="707" y="9"/>
                    </a:lnTo>
                    <a:lnTo>
                      <a:pt x="726" y="12"/>
                    </a:lnTo>
                    <a:lnTo>
                      <a:pt x="745" y="17"/>
                    </a:lnTo>
                    <a:lnTo>
                      <a:pt x="763" y="21"/>
                    </a:lnTo>
                    <a:lnTo>
                      <a:pt x="782" y="26"/>
                    </a:lnTo>
                    <a:lnTo>
                      <a:pt x="800" y="31"/>
                    </a:lnTo>
                    <a:lnTo>
                      <a:pt x="819" y="37"/>
                    </a:lnTo>
                    <a:lnTo>
                      <a:pt x="837" y="44"/>
                    </a:lnTo>
                    <a:lnTo>
                      <a:pt x="855" y="50"/>
                    </a:lnTo>
                    <a:lnTo>
                      <a:pt x="872" y="58"/>
                    </a:lnTo>
                    <a:lnTo>
                      <a:pt x="890" y="66"/>
                    </a:lnTo>
                    <a:close/>
                  </a:path>
                </a:pathLst>
              </a:cu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6286680" y="3689280"/>
                <a:ext cx="493560" cy="666720"/>
              </a:xfrm>
              <a:custGeom>
                <a:avLst/>
                <a:gdLst/>
                <a:ahLst/>
                <a:rect l="l" t="t" r="r" b="b"/>
                <a:pathLst>
                  <a:path w="1864" h="2523">
                    <a:moveTo>
                      <a:pt x="934" y="0"/>
                    </a:moveTo>
                    <a:lnTo>
                      <a:pt x="934" y="0"/>
                    </a:lnTo>
                    <a:lnTo>
                      <a:pt x="982" y="1"/>
                    </a:lnTo>
                    <a:lnTo>
                      <a:pt x="1028" y="7"/>
                    </a:lnTo>
                    <a:lnTo>
                      <a:pt x="1075" y="15"/>
                    </a:lnTo>
                    <a:lnTo>
                      <a:pt x="1121" y="26"/>
                    </a:lnTo>
                    <a:lnTo>
                      <a:pt x="1166" y="40"/>
                    </a:lnTo>
                    <a:lnTo>
                      <a:pt x="1211" y="57"/>
                    </a:lnTo>
                    <a:lnTo>
                      <a:pt x="1253" y="77"/>
                    </a:lnTo>
                    <a:lnTo>
                      <a:pt x="1296" y="99"/>
                    </a:lnTo>
                    <a:lnTo>
                      <a:pt x="1337" y="125"/>
                    </a:lnTo>
                    <a:lnTo>
                      <a:pt x="1377" y="153"/>
                    </a:lnTo>
                    <a:lnTo>
                      <a:pt x="1416" y="183"/>
                    </a:lnTo>
                    <a:lnTo>
                      <a:pt x="1454" y="217"/>
                    </a:lnTo>
                    <a:lnTo>
                      <a:pt x="1490" y="251"/>
                    </a:lnTo>
                    <a:lnTo>
                      <a:pt x="1526" y="289"/>
                    </a:lnTo>
                    <a:lnTo>
                      <a:pt x="1559" y="329"/>
                    </a:lnTo>
                    <a:lnTo>
                      <a:pt x="1592" y="371"/>
                    </a:lnTo>
                    <a:lnTo>
                      <a:pt x="1623" y="414"/>
                    </a:lnTo>
                    <a:lnTo>
                      <a:pt x="1652" y="460"/>
                    </a:lnTo>
                    <a:lnTo>
                      <a:pt x="1679" y="508"/>
                    </a:lnTo>
                    <a:lnTo>
                      <a:pt x="1706" y="557"/>
                    </a:lnTo>
                    <a:lnTo>
                      <a:pt x="1729" y="609"/>
                    </a:lnTo>
                    <a:lnTo>
                      <a:pt x="1751" y="661"/>
                    </a:lnTo>
                    <a:lnTo>
                      <a:pt x="1773" y="716"/>
                    </a:lnTo>
                    <a:lnTo>
                      <a:pt x="1792" y="772"/>
                    </a:lnTo>
                    <a:lnTo>
                      <a:pt x="1807" y="829"/>
                    </a:lnTo>
                    <a:lnTo>
                      <a:pt x="1823" y="888"/>
                    </a:lnTo>
                    <a:lnTo>
                      <a:pt x="1835" y="947"/>
                    </a:lnTo>
                    <a:lnTo>
                      <a:pt x="1845" y="1007"/>
                    </a:lnTo>
                    <a:lnTo>
                      <a:pt x="1853" y="1070"/>
                    </a:lnTo>
                    <a:lnTo>
                      <a:pt x="1860" y="1132"/>
                    </a:lnTo>
                    <a:lnTo>
                      <a:pt x="1863" y="1196"/>
                    </a:lnTo>
                    <a:lnTo>
                      <a:pt x="1864" y="1261"/>
                    </a:lnTo>
                    <a:lnTo>
                      <a:pt x="1864" y="1261"/>
                    </a:lnTo>
                    <a:lnTo>
                      <a:pt x="1863" y="1325"/>
                    </a:lnTo>
                    <a:lnTo>
                      <a:pt x="1860" y="1389"/>
                    </a:lnTo>
                    <a:lnTo>
                      <a:pt x="1853" y="1453"/>
                    </a:lnTo>
                    <a:lnTo>
                      <a:pt x="1845" y="1514"/>
                    </a:lnTo>
                    <a:lnTo>
                      <a:pt x="1835" y="1576"/>
                    </a:lnTo>
                    <a:lnTo>
                      <a:pt x="1823" y="1636"/>
                    </a:lnTo>
                    <a:lnTo>
                      <a:pt x="1807" y="1694"/>
                    </a:lnTo>
                    <a:lnTo>
                      <a:pt x="1792" y="1752"/>
                    </a:lnTo>
                    <a:lnTo>
                      <a:pt x="1773" y="1808"/>
                    </a:lnTo>
                    <a:lnTo>
                      <a:pt x="1751" y="1861"/>
                    </a:lnTo>
                    <a:lnTo>
                      <a:pt x="1729" y="1915"/>
                    </a:lnTo>
                    <a:lnTo>
                      <a:pt x="1706" y="1966"/>
                    </a:lnTo>
                    <a:lnTo>
                      <a:pt x="1679" y="2015"/>
                    </a:lnTo>
                    <a:lnTo>
                      <a:pt x="1652" y="2063"/>
                    </a:lnTo>
                    <a:lnTo>
                      <a:pt x="1623" y="2109"/>
                    </a:lnTo>
                    <a:lnTo>
                      <a:pt x="1592" y="2153"/>
                    </a:lnTo>
                    <a:lnTo>
                      <a:pt x="1559" y="2195"/>
                    </a:lnTo>
                    <a:lnTo>
                      <a:pt x="1526" y="2234"/>
                    </a:lnTo>
                    <a:lnTo>
                      <a:pt x="1490" y="2272"/>
                    </a:lnTo>
                    <a:lnTo>
                      <a:pt x="1454" y="2307"/>
                    </a:lnTo>
                    <a:lnTo>
                      <a:pt x="1416" y="2340"/>
                    </a:lnTo>
                    <a:lnTo>
                      <a:pt x="1377" y="2370"/>
                    </a:lnTo>
                    <a:lnTo>
                      <a:pt x="1337" y="2398"/>
                    </a:lnTo>
                    <a:lnTo>
                      <a:pt x="1296" y="2424"/>
                    </a:lnTo>
                    <a:lnTo>
                      <a:pt x="1253" y="2446"/>
                    </a:lnTo>
                    <a:lnTo>
                      <a:pt x="1211" y="2466"/>
                    </a:lnTo>
                    <a:lnTo>
                      <a:pt x="1166" y="2483"/>
                    </a:lnTo>
                    <a:lnTo>
                      <a:pt x="1121" y="2498"/>
                    </a:lnTo>
                    <a:lnTo>
                      <a:pt x="1075" y="2509"/>
                    </a:lnTo>
                    <a:lnTo>
                      <a:pt x="1028" y="2517"/>
                    </a:lnTo>
                    <a:lnTo>
                      <a:pt x="982" y="2522"/>
                    </a:lnTo>
                    <a:lnTo>
                      <a:pt x="934" y="2523"/>
                    </a:lnTo>
                    <a:lnTo>
                      <a:pt x="934" y="2523"/>
                    </a:lnTo>
                    <a:lnTo>
                      <a:pt x="885" y="2522"/>
                    </a:lnTo>
                    <a:lnTo>
                      <a:pt x="839" y="2517"/>
                    </a:lnTo>
                    <a:lnTo>
                      <a:pt x="792" y="2509"/>
                    </a:lnTo>
                    <a:lnTo>
                      <a:pt x="746" y="2498"/>
                    </a:lnTo>
                    <a:lnTo>
                      <a:pt x="700" y="2483"/>
                    </a:lnTo>
                    <a:lnTo>
                      <a:pt x="656" y="2466"/>
                    </a:lnTo>
                    <a:lnTo>
                      <a:pt x="613" y="2446"/>
                    </a:lnTo>
                    <a:lnTo>
                      <a:pt x="570" y="2424"/>
                    </a:lnTo>
                    <a:lnTo>
                      <a:pt x="529" y="2398"/>
                    </a:lnTo>
                    <a:lnTo>
                      <a:pt x="489" y="2370"/>
                    </a:lnTo>
                    <a:lnTo>
                      <a:pt x="450" y="2340"/>
                    </a:lnTo>
                    <a:lnTo>
                      <a:pt x="412" y="2307"/>
                    </a:lnTo>
                    <a:lnTo>
                      <a:pt x="375" y="2272"/>
                    </a:lnTo>
                    <a:lnTo>
                      <a:pt x="340" y="2234"/>
                    </a:lnTo>
                    <a:lnTo>
                      <a:pt x="306" y="2195"/>
                    </a:lnTo>
                    <a:lnTo>
                      <a:pt x="273" y="2153"/>
                    </a:lnTo>
                    <a:lnTo>
                      <a:pt x="242" y="2109"/>
                    </a:lnTo>
                    <a:lnTo>
                      <a:pt x="213" y="2063"/>
                    </a:lnTo>
                    <a:lnTo>
                      <a:pt x="185" y="2015"/>
                    </a:lnTo>
                    <a:lnTo>
                      <a:pt x="159" y="1966"/>
                    </a:lnTo>
                    <a:lnTo>
                      <a:pt x="135" y="1915"/>
                    </a:lnTo>
                    <a:lnTo>
                      <a:pt x="112" y="1861"/>
                    </a:lnTo>
                    <a:lnTo>
                      <a:pt x="92" y="1808"/>
                    </a:lnTo>
                    <a:lnTo>
                      <a:pt x="73" y="1752"/>
                    </a:lnTo>
                    <a:lnTo>
                      <a:pt x="56" y="1694"/>
                    </a:lnTo>
                    <a:lnTo>
                      <a:pt x="42" y="1636"/>
                    </a:lnTo>
                    <a:lnTo>
                      <a:pt x="29" y="1576"/>
                    </a:lnTo>
                    <a:lnTo>
                      <a:pt x="19" y="1514"/>
                    </a:lnTo>
                    <a:lnTo>
                      <a:pt x="11" y="1453"/>
                    </a:lnTo>
                    <a:lnTo>
                      <a:pt x="4" y="1389"/>
                    </a:lnTo>
                    <a:lnTo>
                      <a:pt x="1" y="1325"/>
                    </a:lnTo>
                    <a:lnTo>
                      <a:pt x="0" y="1261"/>
                    </a:lnTo>
                    <a:lnTo>
                      <a:pt x="0" y="1261"/>
                    </a:lnTo>
                    <a:lnTo>
                      <a:pt x="1" y="1196"/>
                    </a:lnTo>
                    <a:lnTo>
                      <a:pt x="4" y="1132"/>
                    </a:lnTo>
                    <a:lnTo>
                      <a:pt x="11" y="1070"/>
                    </a:lnTo>
                    <a:lnTo>
                      <a:pt x="19" y="1007"/>
                    </a:lnTo>
                    <a:lnTo>
                      <a:pt x="29" y="947"/>
                    </a:lnTo>
                    <a:lnTo>
                      <a:pt x="42" y="888"/>
                    </a:lnTo>
                    <a:lnTo>
                      <a:pt x="56" y="829"/>
                    </a:lnTo>
                    <a:lnTo>
                      <a:pt x="73" y="772"/>
                    </a:lnTo>
                    <a:lnTo>
                      <a:pt x="92" y="716"/>
                    </a:lnTo>
                    <a:lnTo>
                      <a:pt x="112" y="661"/>
                    </a:lnTo>
                    <a:lnTo>
                      <a:pt x="135" y="609"/>
                    </a:lnTo>
                    <a:lnTo>
                      <a:pt x="159" y="557"/>
                    </a:lnTo>
                    <a:lnTo>
                      <a:pt x="185" y="508"/>
                    </a:lnTo>
                    <a:lnTo>
                      <a:pt x="213" y="460"/>
                    </a:lnTo>
                    <a:lnTo>
                      <a:pt x="242" y="414"/>
                    </a:lnTo>
                    <a:lnTo>
                      <a:pt x="273" y="371"/>
                    </a:lnTo>
                    <a:lnTo>
                      <a:pt x="306" y="329"/>
                    </a:lnTo>
                    <a:lnTo>
                      <a:pt x="340" y="289"/>
                    </a:lnTo>
                    <a:lnTo>
                      <a:pt x="375" y="251"/>
                    </a:lnTo>
                    <a:lnTo>
                      <a:pt x="412" y="217"/>
                    </a:lnTo>
                    <a:lnTo>
                      <a:pt x="450" y="183"/>
                    </a:lnTo>
                    <a:lnTo>
                      <a:pt x="489" y="153"/>
                    </a:lnTo>
                    <a:lnTo>
                      <a:pt x="529" y="125"/>
                    </a:lnTo>
                    <a:lnTo>
                      <a:pt x="570" y="99"/>
                    </a:lnTo>
                    <a:lnTo>
                      <a:pt x="613" y="77"/>
                    </a:lnTo>
                    <a:lnTo>
                      <a:pt x="656" y="57"/>
                    </a:lnTo>
                    <a:lnTo>
                      <a:pt x="700" y="40"/>
                    </a:lnTo>
                    <a:lnTo>
                      <a:pt x="746" y="26"/>
                    </a:lnTo>
                    <a:lnTo>
                      <a:pt x="792" y="15"/>
                    </a:lnTo>
                    <a:lnTo>
                      <a:pt x="839" y="7"/>
                    </a:lnTo>
                    <a:lnTo>
                      <a:pt x="885" y="1"/>
                    </a:lnTo>
                    <a:lnTo>
                      <a:pt x="9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6510240" y="3803760"/>
                <a:ext cx="273240" cy="406440"/>
              </a:xfrm>
              <a:custGeom>
                <a:avLst/>
                <a:gdLst/>
                <a:ahLst/>
                <a:rect l="l" t="t" r="r" b="b"/>
                <a:pathLst>
                  <a:path w="1034" h="1537">
                    <a:moveTo>
                      <a:pt x="518" y="0"/>
                    </a:moveTo>
                    <a:lnTo>
                      <a:pt x="570" y="5"/>
                    </a:lnTo>
                    <a:lnTo>
                      <a:pt x="621" y="16"/>
                    </a:lnTo>
                    <a:lnTo>
                      <a:pt x="672" y="35"/>
                    </a:lnTo>
                    <a:lnTo>
                      <a:pt x="719" y="61"/>
                    </a:lnTo>
                    <a:lnTo>
                      <a:pt x="764" y="93"/>
                    </a:lnTo>
                    <a:lnTo>
                      <a:pt x="807" y="132"/>
                    </a:lnTo>
                    <a:lnTo>
                      <a:pt x="846" y="176"/>
                    </a:lnTo>
                    <a:lnTo>
                      <a:pt x="883" y="226"/>
                    </a:lnTo>
                    <a:lnTo>
                      <a:pt x="916" y="281"/>
                    </a:lnTo>
                    <a:lnTo>
                      <a:pt x="945" y="340"/>
                    </a:lnTo>
                    <a:lnTo>
                      <a:pt x="971" y="402"/>
                    </a:lnTo>
                    <a:lnTo>
                      <a:pt x="993" y="469"/>
                    </a:lnTo>
                    <a:lnTo>
                      <a:pt x="1010" y="540"/>
                    </a:lnTo>
                    <a:lnTo>
                      <a:pt x="1024" y="613"/>
                    </a:lnTo>
                    <a:lnTo>
                      <a:pt x="1031" y="689"/>
                    </a:lnTo>
                    <a:lnTo>
                      <a:pt x="1034" y="767"/>
                    </a:lnTo>
                    <a:lnTo>
                      <a:pt x="1031" y="846"/>
                    </a:lnTo>
                    <a:lnTo>
                      <a:pt x="1024" y="922"/>
                    </a:lnTo>
                    <a:lnTo>
                      <a:pt x="1010" y="995"/>
                    </a:lnTo>
                    <a:lnTo>
                      <a:pt x="993" y="1067"/>
                    </a:lnTo>
                    <a:lnTo>
                      <a:pt x="971" y="1134"/>
                    </a:lnTo>
                    <a:lnTo>
                      <a:pt x="945" y="1197"/>
                    </a:lnTo>
                    <a:lnTo>
                      <a:pt x="916" y="1257"/>
                    </a:lnTo>
                    <a:lnTo>
                      <a:pt x="883" y="1311"/>
                    </a:lnTo>
                    <a:lnTo>
                      <a:pt x="846" y="1360"/>
                    </a:lnTo>
                    <a:lnTo>
                      <a:pt x="807" y="1405"/>
                    </a:lnTo>
                    <a:lnTo>
                      <a:pt x="764" y="1444"/>
                    </a:lnTo>
                    <a:lnTo>
                      <a:pt x="719" y="1476"/>
                    </a:lnTo>
                    <a:lnTo>
                      <a:pt x="672" y="1502"/>
                    </a:lnTo>
                    <a:lnTo>
                      <a:pt x="621" y="1521"/>
                    </a:lnTo>
                    <a:lnTo>
                      <a:pt x="570" y="1532"/>
                    </a:lnTo>
                    <a:lnTo>
                      <a:pt x="518" y="1537"/>
                    </a:lnTo>
                    <a:lnTo>
                      <a:pt x="465" y="1532"/>
                    </a:lnTo>
                    <a:lnTo>
                      <a:pt x="414" y="1521"/>
                    </a:lnTo>
                    <a:lnTo>
                      <a:pt x="364" y="1502"/>
                    </a:lnTo>
                    <a:lnTo>
                      <a:pt x="316" y="1476"/>
                    </a:lnTo>
                    <a:lnTo>
                      <a:pt x="272" y="1444"/>
                    </a:lnTo>
                    <a:lnTo>
                      <a:pt x="228" y="1405"/>
                    </a:lnTo>
                    <a:lnTo>
                      <a:pt x="189" y="1360"/>
                    </a:lnTo>
                    <a:lnTo>
                      <a:pt x="152" y="1311"/>
                    </a:lnTo>
                    <a:lnTo>
                      <a:pt x="119" y="1257"/>
                    </a:lnTo>
                    <a:lnTo>
                      <a:pt x="89" y="1197"/>
                    </a:lnTo>
                    <a:lnTo>
                      <a:pt x="63" y="1134"/>
                    </a:lnTo>
                    <a:lnTo>
                      <a:pt x="40" y="1067"/>
                    </a:lnTo>
                    <a:lnTo>
                      <a:pt x="24" y="995"/>
                    </a:lnTo>
                    <a:lnTo>
                      <a:pt x="10" y="922"/>
                    </a:lnTo>
                    <a:lnTo>
                      <a:pt x="2" y="846"/>
                    </a:lnTo>
                    <a:lnTo>
                      <a:pt x="0" y="767"/>
                    </a:lnTo>
                    <a:lnTo>
                      <a:pt x="2" y="689"/>
                    </a:lnTo>
                    <a:lnTo>
                      <a:pt x="10" y="613"/>
                    </a:lnTo>
                    <a:lnTo>
                      <a:pt x="24" y="540"/>
                    </a:lnTo>
                    <a:lnTo>
                      <a:pt x="40" y="469"/>
                    </a:lnTo>
                    <a:lnTo>
                      <a:pt x="63" y="402"/>
                    </a:lnTo>
                    <a:lnTo>
                      <a:pt x="89" y="340"/>
                    </a:lnTo>
                    <a:lnTo>
                      <a:pt x="119" y="281"/>
                    </a:lnTo>
                    <a:lnTo>
                      <a:pt x="152" y="226"/>
                    </a:lnTo>
                    <a:lnTo>
                      <a:pt x="189" y="176"/>
                    </a:lnTo>
                    <a:lnTo>
                      <a:pt x="228" y="132"/>
                    </a:lnTo>
                    <a:lnTo>
                      <a:pt x="272" y="93"/>
                    </a:lnTo>
                    <a:lnTo>
                      <a:pt x="316" y="61"/>
                    </a:lnTo>
                    <a:lnTo>
                      <a:pt x="364" y="35"/>
                    </a:lnTo>
                    <a:lnTo>
                      <a:pt x="414" y="16"/>
                    </a:lnTo>
                    <a:lnTo>
                      <a:pt x="465" y="5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b7c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526080" y="3816360"/>
                <a:ext cx="255600" cy="377640"/>
              </a:xfrm>
              <a:custGeom>
                <a:avLst/>
                <a:gdLst/>
                <a:ahLst/>
                <a:rect l="l" t="t" r="r" b="b"/>
                <a:pathLst>
                  <a:path w="962" h="1428">
                    <a:moveTo>
                      <a:pt x="482" y="0"/>
                    </a:moveTo>
                    <a:lnTo>
                      <a:pt x="532" y="3"/>
                    </a:lnTo>
                    <a:lnTo>
                      <a:pt x="578" y="14"/>
                    </a:lnTo>
                    <a:lnTo>
                      <a:pt x="625" y="32"/>
                    </a:lnTo>
                    <a:lnTo>
                      <a:pt x="669" y="56"/>
                    </a:lnTo>
                    <a:lnTo>
                      <a:pt x="711" y="86"/>
                    </a:lnTo>
                    <a:lnTo>
                      <a:pt x="750" y="121"/>
                    </a:lnTo>
                    <a:lnTo>
                      <a:pt x="787" y="163"/>
                    </a:lnTo>
                    <a:lnTo>
                      <a:pt x="821" y="209"/>
                    </a:lnTo>
                    <a:lnTo>
                      <a:pt x="852" y="260"/>
                    </a:lnTo>
                    <a:lnTo>
                      <a:pt x="880" y="315"/>
                    </a:lnTo>
                    <a:lnTo>
                      <a:pt x="904" y="374"/>
                    </a:lnTo>
                    <a:lnTo>
                      <a:pt x="924" y="436"/>
                    </a:lnTo>
                    <a:lnTo>
                      <a:pt x="940" y="501"/>
                    </a:lnTo>
                    <a:lnTo>
                      <a:pt x="952" y="569"/>
                    </a:lnTo>
                    <a:lnTo>
                      <a:pt x="959" y="641"/>
                    </a:lnTo>
                    <a:lnTo>
                      <a:pt x="962" y="713"/>
                    </a:lnTo>
                    <a:lnTo>
                      <a:pt x="959" y="786"/>
                    </a:lnTo>
                    <a:lnTo>
                      <a:pt x="952" y="857"/>
                    </a:lnTo>
                    <a:lnTo>
                      <a:pt x="940" y="925"/>
                    </a:lnTo>
                    <a:lnTo>
                      <a:pt x="924" y="991"/>
                    </a:lnTo>
                    <a:lnTo>
                      <a:pt x="904" y="1054"/>
                    </a:lnTo>
                    <a:lnTo>
                      <a:pt x="880" y="1113"/>
                    </a:lnTo>
                    <a:lnTo>
                      <a:pt x="852" y="1168"/>
                    </a:lnTo>
                    <a:lnTo>
                      <a:pt x="821" y="1218"/>
                    </a:lnTo>
                    <a:lnTo>
                      <a:pt x="787" y="1265"/>
                    </a:lnTo>
                    <a:lnTo>
                      <a:pt x="750" y="1306"/>
                    </a:lnTo>
                    <a:lnTo>
                      <a:pt x="711" y="1342"/>
                    </a:lnTo>
                    <a:lnTo>
                      <a:pt x="669" y="1372"/>
                    </a:lnTo>
                    <a:lnTo>
                      <a:pt x="625" y="1395"/>
                    </a:lnTo>
                    <a:lnTo>
                      <a:pt x="578" y="1413"/>
                    </a:lnTo>
                    <a:lnTo>
                      <a:pt x="532" y="1424"/>
                    </a:lnTo>
                    <a:lnTo>
                      <a:pt x="482" y="1428"/>
                    </a:lnTo>
                    <a:lnTo>
                      <a:pt x="433" y="1424"/>
                    </a:lnTo>
                    <a:lnTo>
                      <a:pt x="385" y="1413"/>
                    </a:lnTo>
                    <a:lnTo>
                      <a:pt x="338" y="1395"/>
                    </a:lnTo>
                    <a:lnTo>
                      <a:pt x="295" y="1372"/>
                    </a:lnTo>
                    <a:lnTo>
                      <a:pt x="252" y="1342"/>
                    </a:lnTo>
                    <a:lnTo>
                      <a:pt x="212" y="1306"/>
                    </a:lnTo>
                    <a:lnTo>
                      <a:pt x="175" y="1265"/>
                    </a:lnTo>
                    <a:lnTo>
                      <a:pt x="140" y="1218"/>
                    </a:lnTo>
                    <a:lnTo>
                      <a:pt x="110" y="1168"/>
                    </a:lnTo>
                    <a:lnTo>
                      <a:pt x="82" y="1113"/>
                    </a:lnTo>
                    <a:lnTo>
                      <a:pt x="58" y="1054"/>
                    </a:lnTo>
                    <a:lnTo>
                      <a:pt x="38" y="991"/>
                    </a:lnTo>
                    <a:lnTo>
                      <a:pt x="21" y="925"/>
                    </a:lnTo>
                    <a:lnTo>
                      <a:pt x="10" y="857"/>
                    </a:lnTo>
                    <a:lnTo>
                      <a:pt x="2" y="786"/>
                    </a:lnTo>
                    <a:lnTo>
                      <a:pt x="0" y="713"/>
                    </a:lnTo>
                    <a:lnTo>
                      <a:pt x="2" y="641"/>
                    </a:lnTo>
                    <a:lnTo>
                      <a:pt x="10" y="569"/>
                    </a:lnTo>
                    <a:lnTo>
                      <a:pt x="21" y="501"/>
                    </a:lnTo>
                    <a:lnTo>
                      <a:pt x="38" y="436"/>
                    </a:lnTo>
                    <a:lnTo>
                      <a:pt x="58" y="374"/>
                    </a:lnTo>
                    <a:lnTo>
                      <a:pt x="82" y="315"/>
                    </a:lnTo>
                    <a:lnTo>
                      <a:pt x="110" y="260"/>
                    </a:lnTo>
                    <a:lnTo>
                      <a:pt x="140" y="209"/>
                    </a:lnTo>
                    <a:lnTo>
                      <a:pt x="175" y="163"/>
                    </a:lnTo>
                    <a:lnTo>
                      <a:pt x="212" y="121"/>
                    </a:lnTo>
                    <a:lnTo>
                      <a:pt x="252" y="86"/>
                    </a:lnTo>
                    <a:lnTo>
                      <a:pt x="295" y="56"/>
                    </a:lnTo>
                    <a:lnTo>
                      <a:pt x="338" y="32"/>
                    </a:lnTo>
                    <a:lnTo>
                      <a:pt x="385" y="14"/>
                    </a:lnTo>
                    <a:lnTo>
                      <a:pt x="433" y="3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9ba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6543720" y="3830760"/>
                <a:ext cx="235080" cy="349200"/>
              </a:xfrm>
              <a:custGeom>
                <a:avLst/>
                <a:gdLst/>
                <a:ahLst/>
                <a:rect l="l" t="t" r="r" b="b"/>
                <a:pathLst>
                  <a:path w="891" h="1321">
                    <a:moveTo>
                      <a:pt x="446" y="0"/>
                    </a:moveTo>
                    <a:lnTo>
                      <a:pt x="492" y="3"/>
                    </a:lnTo>
                    <a:lnTo>
                      <a:pt x="535" y="13"/>
                    </a:lnTo>
                    <a:lnTo>
                      <a:pt x="578" y="30"/>
                    </a:lnTo>
                    <a:lnTo>
                      <a:pt x="619" y="53"/>
                    </a:lnTo>
                    <a:lnTo>
                      <a:pt x="657" y="80"/>
                    </a:lnTo>
                    <a:lnTo>
                      <a:pt x="694" y="113"/>
                    </a:lnTo>
                    <a:lnTo>
                      <a:pt x="729" y="151"/>
                    </a:lnTo>
                    <a:lnTo>
                      <a:pt x="760" y="194"/>
                    </a:lnTo>
                    <a:lnTo>
                      <a:pt x="789" y="241"/>
                    </a:lnTo>
                    <a:lnTo>
                      <a:pt x="815" y="291"/>
                    </a:lnTo>
                    <a:lnTo>
                      <a:pt x="837" y="346"/>
                    </a:lnTo>
                    <a:lnTo>
                      <a:pt x="856" y="404"/>
                    </a:lnTo>
                    <a:lnTo>
                      <a:pt x="870" y="465"/>
                    </a:lnTo>
                    <a:lnTo>
                      <a:pt x="882" y="527"/>
                    </a:lnTo>
                    <a:lnTo>
                      <a:pt x="888" y="593"/>
                    </a:lnTo>
                    <a:lnTo>
                      <a:pt x="891" y="660"/>
                    </a:lnTo>
                    <a:lnTo>
                      <a:pt x="888" y="727"/>
                    </a:lnTo>
                    <a:lnTo>
                      <a:pt x="882" y="793"/>
                    </a:lnTo>
                    <a:lnTo>
                      <a:pt x="870" y="855"/>
                    </a:lnTo>
                    <a:lnTo>
                      <a:pt x="856" y="917"/>
                    </a:lnTo>
                    <a:lnTo>
                      <a:pt x="837" y="974"/>
                    </a:lnTo>
                    <a:lnTo>
                      <a:pt x="815" y="1028"/>
                    </a:lnTo>
                    <a:lnTo>
                      <a:pt x="789" y="1080"/>
                    </a:lnTo>
                    <a:lnTo>
                      <a:pt x="760" y="1127"/>
                    </a:lnTo>
                    <a:lnTo>
                      <a:pt x="729" y="1169"/>
                    </a:lnTo>
                    <a:lnTo>
                      <a:pt x="694" y="1207"/>
                    </a:lnTo>
                    <a:lnTo>
                      <a:pt x="657" y="1240"/>
                    </a:lnTo>
                    <a:lnTo>
                      <a:pt x="619" y="1268"/>
                    </a:lnTo>
                    <a:lnTo>
                      <a:pt x="578" y="1291"/>
                    </a:lnTo>
                    <a:lnTo>
                      <a:pt x="535" y="1307"/>
                    </a:lnTo>
                    <a:lnTo>
                      <a:pt x="492" y="1318"/>
                    </a:lnTo>
                    <a:lnTo>
                      <a:pt x="446" y="1321"/>
                    </a:lnTo>
                    <a:lnTo>
                      <a:pt x="400" y="1318"/>
                    </a:lnTo>
                    <a:lnTo>
                      <a:pt x="355" y="1307"/>
                    </a:lnTo>
                    <a:lnTo>
                      <a:pt x="313" y="1291"/>
                    </a:lnTo>
                    <a:lnTo>
                      <a:pt x="272" y="1268"/>
                    </a:lnTo>
                    <a:lnTo>
                      <a:pt x="234" y="1240"/>
                    </a:lnTo>
                    <a:lnTo>
                      <a:pt x="197" y="1207"/>
                    </a:lnTo>
                    <a:lnTo>
                      <a:pt x="162" y="1169"/>
                    </a:lnTo>
                    <a:lnTo>
                      <a:pt x="131" y="1127"/>
                    </a:lnTo>
                    <a:lnTo>
                      <a:pt x="102" y="1080"/>
                    </a:lnTo>
                    <a:lnTo>
                      <a:pt x="76" y="1028"/>
                    </a:lnTo>
                    <a:lnTo>
                      <a:pt x="54" y="974"/>
                    </a:lnTo>
                    <a:lnTo>
                      <a:pt x="35" y="917"/>
                    </a:lnTo>
                    <a:lnTo>
                      <a:pt x="20" y="855"/>
                    </a:lnTo>
                    <a:lnTo>
                      <a:pt x="9" y="793"/>
                    </a:lnTo>
                    <a:lnTo>
                      <a:pt x="2" y="727"/>
                    </a:lnTo>
                    <a:lnTo>
                      <a:pt x="0" y="660"/>
                    </a:lnTo>
                    <a:lnTo>
                      <a:pt x="2" y="593"/>
                    </a:lnTo>
                    <a:lnTo>
                      <a:pt x="9" y="527"/>
                    </a:lnTo>
                    <a:lnTo>
                      <a:pt x="20" y="465"/>
                    </a:lnTo>
                    <a:lnTo>
                      <a:pt x="35" y="404"/>
                    </a:lnTo>
                    <a:lnTo>
                      <a:pt x="54" y="346"/>
                    </a:lnTo>
                    <a:lnTo>
                      <a:pt x="76" y="291"/>
                    </a:lnTo>
                    <a:lnTo>
                      <a:pt x="102" y="241"/>
                    </a:lnTo>
                    <a:lnTo>
                      <a:pt x="131" y="194"/>
                    </a:lnTo>
                    <a:lnTo>
                      <a:pt x="162" y="151"/>
                    </a:lnTo>
                    <a:lnTo>
                      <a:pt x="197" y="113"/>
                    </a:lnTo>
                    <a:lnTo>
                      <a:pt x="234" y="80"/>
                    </a:lnTo>
                    <a:lnTo>
                      <a:pt x="272" y="53"/>
                    </a:lnTo>
                    <a:lnTo>
                      <a:pt x="313" y="30"/>
                    </a:lnTo>
                    <a:lnTo>
                      <a:pt x="355" y="13"/>
                    </a:lnTo>
                    <a:lnTo>
                      <a:pt x="400" y="3"/>
                    </a:lnTo>
                    <a:lnTo>
                      <a:pt x="446" y="0"/>
                    </a:lnTo>
                    <a:close/>
                  </a:path>
                </a:pathLst>
              </a:custGeom>
              <a:solidFill>
                <a:srgbClr val="8289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559560" y="3843360"/>
                <a:ext cx="216000" cy="320760"/>
              </a:xfrm>
              <a:custGeom>
                <a:avLst/>
                <a:gdLst/>
                <a:ahLst/>
                <a:rect l="l" t="t" r="r" b="b"/>
                <a:pathLst>
                  <a:path w="818" h="1212">
                    <a:moveTo>
                      <a:pt x="411" y="0"/>
                    </a:moveTo>
                    <a:lnTo>
                      <a:pt x="452" y="4"/>
                    </a:lnTo>
                    <a:lnTo>
                      <a:pt x="493" y="13"/>
                    </a:lnTo>
                    <a:lnTo>
                      <a:pt x="532" y="27"/>
                    </a:lnTo>
                    <a:lnTo>
                      <a:pt x="569" y="48"/>
                    </a:lnTo>
                    <a:lnTo>
                      <a:pt x="605" y="74"/>
                    </a:lnTo>
                    <a:lnTo>
                      <a:pt x="638" y="104"/>
                    </a:lnTo>
                    <a:lnTo>
                      <a:pt x="670" y="139"/>
                    </a:lnTo>
                    <a:lnTo>
                      <a:pt x="699" y="178"/>
                    </a:lnTo>
                    <a:lnTo>
                      <a:pt x="726" y="221"/>
                    </a:lnTo>
                    <a:lnTo>
                      <a:pt x="749" y="267"/>
                    </a:lnTo>
                    <a:lnTo>
                      <a:pt x="769" y="317"/>
                    </a:lnTo>
                    <a:lnTo>
                      <a:pt x="786" y="370"/>
                    </a:lnTo>
                    <a:lnTo>
                      <a:pt x="800" y="426"/>
                    </a:lnTo>
                    <a:lnTo>
                      <a:pt x="810" y="483"/>
                    </a:lnTo>
                    <a:lnTo>
                      <a:pt x="816" y="543"/>
                    </a:lnTo>
                    <a:lnTo>
                      <a:pt x="818" y="604"/>
                    </a:lnTo>
                    <a:lnTo>
                      <a:pt x="816" y="667"/>
                    </a:lnTo>
                    <a:lnTo>
                      <a:pt x="810" y="727"/>
                    </a:lnTo>
                    <a:lnTo>
                      <a:pt x="800" y="785"/>
                    </a:lnTo>
                    <a:lnTo>
                      <a:pt x="786" y="841"/>
                    </a:lnTo>
                    <a:lnTo>
                      <a:pt x="769" y="894"/>
                    </a:lnTo>
                    <a:lnTo>
                      <a:pt x="749" y="944"/>
                    </a:lnTo>
                    <a:lnTo>
                      <a:pt x="726" y="991"/>
                    </a:lnTo>
                    <a:lnTo>
                      <a:pt x="699" y="1033"/>
                    </a:lnTo>
                    <a:lnTo>
                      <a:pt x="670" y="1073"/>
                    </a:lnTo>
                    <a:lnTo>
                      <a:pt x="638" y="1108"/>
                    </a:lnTo>
                    <a:lnTo>
                      <a:pt x="605" y="1138"/>
                    </a:lnTo>
                    <a:lnTo>
                      <a:pt x="569" y="1164"/>
                    </a:lnTo>
                    <a:lnTo>
                      <a:pt x="532" y="1185"/>
                    </a:lnTo>
                    <a:lnTo>
                      <a:pt x="493" y="1200"/>
                    </a:lnTo>
                    <a:lnTo>
                      <a:pt x="452" y="1208"/>
                    </a:lnTo>
                    <a:lnTo>
                      <a:pt x="411" y="1212"/>
                    </a:lnTo>
                    <a:lnTo>
                      <a:pt x="369" y="1208"/>
                    </a:lnTo>
                    <a:lnTo>
                      <a:pt x="328" y="1200"/>
                    </a:lnTo>
                    <a:lnTo>
                      <a:pt x="289" y="1185"/>
                    </a:lnTo>
                    <a:lnTo>
                      <a:pt x="251" y="1164"/>
                    </a:lnTo>
                    <a:lnTo>
                      <a:pt x="215" y="1138"/>
                    </a:lnTo>
                    <a:lnTo>
                      <a:pt x="181" y="1108"/>
                    </a:lnTo>
                    <a:lnTo>
                      <a:pt x="150" y="1073"/>
                    </a:lnTo>
                    <a:lnTo>
                      <a:pt x="121" y="1033"/>
                    </a:lnTo>
                    <a:lnTo>
                      <a:pt x="94" y="991"/>
                    </a:lnTo>
                    <a:lnTo>
                      <a:pt x="71" y="944"/>
                    </a:lnTo>
                    <a:lnTo>
                      <a:pt x="50" y="894"/>
                    </a:lnTo>
                    <a:lnTo>
                      <a:pt x="33" y="841"/>
                    </a:lnTo>
                    <a:lnTo>
                      <a:pt x="19" y="785"/>
                    </a:lnTo>
                    <a:lnTo>
                      <a:pt x="8" y="727"/>
                    </a:lnTo>
                    <a:lnTo>
                      <a:pt x="3" y="667"/>
                    </a:lnTo>
                    <a:lnTo>
                      <a:pt x="0" y="604"/>
                    </a:lnTo>
                    <a:lnTo>
                      <a:pt x="3" y="543"/>
                    </a:lnTo>
                    <a:lnTo>
                      <a:pt x="8" y="483"/>
                    </a:lnTo>
                    <a:lnTo>
                      <a:pt x="19" y="426"/>
                    </a:lnTo>
                    <a:lnTo>
                      <a:pt x="33" y="370"/>
                    </a:lnTo>
                    <a:lnTo>
                      <a:pt x="50" y="317"/>
                    </a:lnTo>
                    <a:lnTo>
                      <a:pt x="71" y="267"/>
                    </a:lnTo>
                    <a:lnTo>
                      <a:pt x="94" y="221"/>
                    </a:lnTo>
                    <a:lnTo>
                      <a:pt x="121" y="178"/>
                    </a:lnTo>
                    <a:lnTo>
                      <a:pt x="150" y="139"/>
                    </a:lnTo>
                    <a:lnTo>
                      <a:pt x="181" y="104"/>
                    </a:lnTo>
                    <a:lnTo>
                      <a:pt x="215" y="74"/>
                    </a:lnTo>
                    <a:lnTo>
                      <a:pt x="251" y="48"/>
                    </a:lnTo>
                    <a:lnTo>
                      <a:pt x="289" y="27"/>
                    </a:lnTo>
                    <a:lnTo>
                      <a:pt x="328" y="13"/>
                    </a:lnTo>
                    <a:lnTo>
                      <a:pt x="369" y="4"/>
                    </a:lnTo>
                    <a:lnTo>
                      <a:pt x="411" y="0"/>
                    </a:lnTo>
                    <a:close/>
                  </a:path>
                </a:pathLst>
              </a:custGeom>
              <a:solidFill>
                <a:srgbClr val="686d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6575400" y="3857760"/>
                <a:ext cx="198360" cy="291960"/>
              </a:xfrm>
              <a:custGeom>
                <a:avLst/>
                <a:gdLst/>
                <a:ahLst/>
                <a:rect l="l" t="t" r="r" b="b"/>
                <a:pathLst>
                  <a:path w="746" h="1103">
                    <a:moveTo>
                      <a:pt x="374" y="0"/>
                    </a:moveTo>
                    <a:lnTo>
                      <a:pt x="412" y="3"/>
                    </a:lnTo>
                    <a:lnTo>
                      <a:pt x="449" y="11"/>
                    </a:lnTo>
                    <a:lnTo>
                      <a:pt x="485" y="24"/>
                    </a:lnTo>
                    <a:lnTo>
                      <a:pt x="520" y="43"/>
                    </a:lnTo>
                    <a:lnTo>
                      <a:pt x="552" y="67"/>
                    </a:lnTo>
                    <a:lnTo>
                      <a:pt x="582" y="95"/>
                    </a:lnTo>
                    <a:lnTo>
                      <a:pt x="611" y="126"/>
                    </a:lnTo>
                    <a:lnTo>
                      <a:pt x="638" y="162"/>
                    </a:lnTo>
                    <a:lnTo>
                      <a:pt x="661" y="201"/>
                    </a:lnTo>
                    <a:lnTo>
                      <a:pt x="683" y="243"/>
                    </a:lnTo>
                    <a:lnTo>
                      <a:pt x="702" y="289"/>
                    </a:lnTo>
                    <a:lnTo>
                      <a:pt x="717" y="337"/>
                    </a:lnTo>
                    <a:lnTo>
                      <a:pt x="730" y="387"/>
                    </a:lnTo>
                    <a:lnTo>
                      <a:pt x="739" y="440"/>
                    </a:lnTo>
                    <a:lnTo>
                      <a:pt x="744" y="494"/>
                    </a:lnTo>
                    <a:lnTo>
                      <a:pt x="746" y="550"/>
                    </a:lnTo>
                    <a:lnTo>
                      <a:pt x="744" y="606"/>
                    </a:lnTo>
                    <a:lnTo>
                      <a:pt x="739" y="661"/>
                    </a:lnTo>
                    <a:lnTo>
                      <a:pt x="730" y="714"/>
                    </a:lnTo>
                    <a:lnTo>
                      <a:pt x="717" y="765"/>
                    </a:lnTo>
                    <a:lnTo>
                      <a:pt x="702" y="813"/>
                    </a:lnTo>
                    <a:lnTo>
                      <a:pt x="683" y="858"/>
                    </a:lnTo>
                    <a:lnTo>
                      <a:pt x="661" y="901"/>
                    </a:lnTo>
                    <a:lnTo>
                      <a:pt x="638" y="940"/>
                    </a:lnTo>
                    <a:lnTo>
                      <a:pt x="611" y="977"/>
                    </a:lnTo>
                    <a:lnTo>
                      <a:pt x="582" y="1008"/>
                    </a:lnTo>
                    <a:lnTo>
                      <a:pt x="552" y="1036"/>
                    </a:lnTo>
                    <a:lnTo>
                      <a:pt x="520" y="1059"/>
                    </a:lnTo>
                    <a:lnTo>
                      <a:pt x="485" y="1078"/>
                    </a:lnTo>
                    <a:lnTo>
                      <a:pt x="449" y="1092"/>
                    </a:lnTo>
                    <a:lnTo>
                      <a:pt x="412" y="1100"/>
                    </a:lnTo>
                    <a:lnTo>
                      <a:pt x="374" y="1103"/>
                    </a:lnTo>
                    <a:lnTo>
                      <a:pt x="336" y="1100"/>
                    </a:lnTo>
                    <a:lnTo>
                      <a:pt x="298" y="1092"/>
                    </a:lnTo>
                    <a:lnTo>
                      <a:pt x="263" y="1078"/>
                    </a:lnTo>
                    <a:lnTo>
                      <a:pt x="228" y="1059"/>
                    </a:lnTo>
                    <a:lnTo>
                      <a:pt x="196" y="1036"/>
                    </a:lnTo>
                    <a:lnTo>
                      <a:pt x="164" y="1008"/>
                    </a:lnTo>
                    <a:lnTo>
                      <a:pt x="136" y="977"/>
                    </a:lnTo>
                    <a:lnTo>
                      <a:pt x="110" y="940"/>
                    </a:lnTo>
                    <a:lnTo>
                      <a:pt x="85" y="901"/>
                    </a:lnTo>
                    <a:lnTo>
                      <a:pt x="64" y="858"/>
                    </a:lnTo>
                    <a:lnTo>
                      <a:pt x="45" y="813"/>
                    </a:lnTo>
                    <a:lnTo>
                      <a:pt x="29" y="765"/>
                    </a:lnTo>
                    <a:lnTo>
                      <a:pt x="17" y="714"/>
                    </a:lnTo>
                    <a:lnTo>
                      <a:pt x="8" y="661"/>
                    </a:lnTo>
                    <a:lnTo>
                      <a:pt x="2" y="606"/>
                    </a:lnTo>
                    <a:lnTo>
                      <a:pt x="0" y="550"/>
                    </a:lnTo>
                    <a:lnTo>
                      <a:pt x="2" y="494"/>
                    </a:lnTo>
                    <a:lnTo>
                      <a:pt x="8" y="440"/>
                    </a:lnTo>
                    <a:lnTo>
                      <a:pt x="17" y="387"/>
                    </a:lnTo>
                    <a:lnTo>
                      <a:pt x="29" y="337"/>
                    </a:lnTo>
                    <a:lnTo>
                      <a:pt x="45" y="289"/>
                    </a:lnTo>
                    <a:lnTo>
                      <a:pt x="64" y="243"/>
                    </a:lnTo>
                    <a:lnTo>
                      <a:pt x="85" y="201"/>
                    </a:lnTo>
                    <a:lnTo>
                      <a:pt x="110" y="162"/>
                    </a:lnTo>
                    <a:lnTo>
                      <a:pt x="136" y="126"/>
                    </a:lnTo>
                    <a:lnTo>
                      <a:pt x="164" y="95"/>
                    </a:lnTo>
                    <a:lnTo>
                      <a:pt x="196" y="67"/>
                    </a:lnTo>
                    <a:lnTo>
                      <a:pt x="228" y="43"/>
                    </a:lnTo>
                    <a:lnTo>
                      <a:pt x="263" y="24"/>
                    </a:lnTo>
                    <a:lnTo>
                      <a:pt x="298" y="11"/>
                    </a:lnTo>
                    <a:lnTo>
                      <a:pt x="336" y="3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4f5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6591240" y="3870360"/>
                <a:ext cx="179280" cy="263520"/>
              </a:xfrm>
              <a:custGeom>
                <a:avLst/>
                <a:gdLst/>
                <a:ahLst/>
                <a:rect l="l" t="t" r="r" b="b"/>
                <a:pathLst>
                  <a:path w="675" h="995">
                    <a:moveTo>
                      <a:pt x="339" y="0"/>
                    </a:moveTo>
                    <a:lnTo>
                      <a:pt x="374" y="2"/>
                    </a:lnTo>
                    <a:lnTo>
                      <a:pt x="407" y="10"/>
                    </a:lnTo>
                    <a:lnTo>
                      <a:pt x="439" y="22"/>
                    </a:lnTo>
                    <a:lnTo>
                      <a:pt x="470" y="39"/>
                    </a:lnTo>
                    <a:lnTo>
                      <a:pt x="500" y="60"/>
                    </a:lnTo>
                    <a:lnTo>
                      <a:pt x="528" y="85"/>
                    </a:lnTo>
                    <a:lnTo>
                      <a:pt x="553" y="114"/>
                    </a:lnTo>
                    <a:lnTo>
                      <a:pt x="577" y="146"/>
                    </a:lnTo>
                    <a:lnTo>
                      <a:pt x="599" y="181"/>
                    </a:lnTo>
                    <a:lnTo>
                      <a:pt x="618" y="220"/>
                    </a:lnTo>
                    <a:lnTo>
                      <a:pt x="635" y="260"/>
                    </a:lnTo>
                    <a:lnTo>
                      <a:pt x="648" y="304"/>
                    </a:lnTo>
                    <a:lnTo>
                      <a:pt x="661" y="349"/>
                    </a:lnTo>
                    <a:lnTo>
                      <a:pt x="668" y="396"/>
                    </a:lnTo>
                    <a:lnTo>
                      <a:pt x="673" y="445"/>
                    </a:lnTo>
                    <a:lnTo>
                      <a:pt x="675" y="496"/>
                    </a:lnTo>
                    <a:lnTo>
                      <a:pt x="673" y="547"/>
                    </a:lnTo>
                    <a:lnTo>
                      <a:pt x="668" y="596"/>
                    </a:lnTo>
                    <a:lnTo>
                      <a:pt x="661" y="644"/>
                    </a:lnTo>
                    <a:lnTo>
                      <a:pt x="648" y="690"/>
                    </a:lnTo>
                    <a:lnTo>
                      <a:pt x="635" y="734"/>
                    </a:lnTo>
                    <a:lnTo>
                      <a:pt x="618" y="775"/>
                    </a:lnTo>
                    <a:lnTo>
                      <a:pt x="599" y="813"/>
                    </a:lnTo>
                    <a:lnTo>
                      <a:pt x="577" y="849"/>
                    </a:lnTo>
                    <a:lnTo>
                      <a:pt x="553" y="881"/>
                    </a:lnTo>
                    <a:lnTo>
                      <a:pt x="528" y="910"/>
                    </a:lnTo>
                    <a:lnTo>
                      <a:pt x="500" y="935"/>
                    </a:lnTo>
                    <a:lnTo>
                      <a:pt x="470" y="956"/>
                    </a:lnTo>
                    <a:lnTo>
                      <a:pt x="439" y="972"/>
                    </a:lnTo>
                    <a:lnTo>
                      <a:pt x="407" y="985"/>
                    </a:lnTo>
                    <a:lnTo>
                      <a:pt x="374" y="993"/>
                    </a:lnTo>
                    <a:lnTo>
                      <a:pt x="339" y="995"/>
                    </a:lnTo>
                    <a:lnTo>
                      <a:pt x="304" y="993"/>
                    </a:lnTo>
                    <a:lnTo>
                      <a:pt x="271" y="985"/>
                    </a:lnTo>
                    <a:lnTo>
                      <a:pt x="238" y="972"/>
                    </a:lnTo>
                    <a:lnTo>
                      <a:pt x="207" y="956"/>
                    </a:lnTo>
                    <a:lnTo>
                      <a:pt x="178" y="935"/>
                    </a:lnTo>
                    <a:lnTo>
                      <a:pt x="150" y="910"/>
                    </a:lnTo>
                    <a:lnTo>
                      <a:pt x="123" y="881"/>
                    </a:lnTo>
                    <a:lnTo>
                      <a:pt x="100" y="849"/>
                    </a:lnTo>
                    <a:lnTo>
                      <a:pt x="77" y="813"/>
                    </a:lnTo>
                    <a:lnTo>
                      <a:pt x="58" y="775"/>
                    </a:lnTo>
                    <a:lnTo>
                      <a:pt x="42" y="734"/>
                    </a:lnTo>
                    <a:lnTo>
                      <a:pt x="27" y="690"/>
                    </a:lnTo>
                    <a:lnTo>
                      <a:pt x="16" y="644"/>
                    </a:lnTo>
                    <a:lnTo>
                      <a:pt x="7" y="596"/>
                    </a:lnTo>
                    <a:lnTo>
                      <a:pt x="3" y="547"/>
                    </a:lnTo>
                    <a:lnTo>
                      <a:pt x="0" y="496"/>
                    </a:lnTo>
                    <a:lnTo>
                      <a:pt x="3" y="445"/>
                    </a:lnTo>
                    <a:lnTo>
                      <a:pt x="7" y="396"/>
                    </a:lnTo>
                    <a:lnTo>
                      <a:pt x="16" y="349"/>
                    </a:lnTo>
                    <a:lnTo>
                      <a:pt x="27" y="304"/>
                    </a:lnTo>
                    <a:lnTo>
                      <a:pt x="42" y="260"/>
                    </a:lnTo>
                    <a:lnTo>
                      <a:pt x="58" y="220"/>
                    </a:lnTo>
                    <a:lnTo>
                      <a:pt x="77" y="181"/>
                    </a:lnTo>
                    <a:lnTo>
                      <a:pt x="100" y="146"/>
                    </a:lnTo>
                    <a:lnTo>
                      <a:pt x="123" y="114"/>
                    </a:lnTo>
                    <a:lnTo>
                      <a:pt x="150" y="85"/>
                    </a:lnTo>
                    <a:lnTo>
                      <a:pt x="178" y="60"/>
                    </a:lnTo>
                    <a:lnTo>
                      <a:pt x="207" y="39"/>
                    </a:lnTo>
                    <a:lnTo>
                      <a:pt x="238" y="22"/>
                    </a:lnTo>
                    <a:lnTo>
                      <a:pt x="271" y="10"/>
                    </a:lnTo>
                    <a:lnTo>
                      <a:pt x="304" y="2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3538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6607080" y="3884760"/>
                <a:ext cx="160560" cy="234720"/>
              </a:xfrm>
              <a:custGeom>
                <a:avLst/>
                <a:gdLst/>
                <a:ahLst/>
                <a:rect l="l" t="t" r="r" b="b"/>
                <a:pathLst>
                  <a:path w="602" h="889">
                    <a:moveTo>
                      <a:pt x="301" y="0"/>
                    </a:moveTo>
                    <a:lnTo>
                      <a:pt x="333" y="2"/>
                    </a:lnTo>
                    <a:lnTo>
                      <a:pt x="362" y="9"/>
                    </a:lnTo>
                    <a:lnTo>
                      <a:pt x="391" y="20"/>
                    </a:lnTo>
                    <a:lnTo>
                      <a:pt x="419" y="36"/>
                    </a:lnTo>
                    <a:lnTo>
                      <a:pt x="444" y="54"/>
                    </a:lnTo>
                    <a:lnTo>
                      <a:pt x="470" y="76"/>
                    </a:lnTo>
                    <a:lnTo>
                      <a:pt x="493" y="102"/>
                    </a:lnTo>
                    <a:lnTo>
                      <a:pt x="514" y="131"/>
                    </a:lnTo>
                    <a:lnTo>
                      <a:pt x="534" y="162"/>
                    </a:lnTo>
                    <a:lnTo>
                      <a:pt x="551" y="197"/>
                    </a:lnTo>
                    <a:lnTo>
                      <a:pt x="566" y="234"/>
                    </a:lnTo>
                    <a:lnTo>
                      <a:pt x="579" y="272"/>
                    </a:lnTo>
                    <a:lnTo>
                      <a:pt x="589" y="313"/>
                    </a:lnTo>
                    <a:lnTo>
                      <a:pt x="596" y="355"/>
                    </a:lnTo>
                    <a:lnTo>
                      <a:pt x="601" y="399"/>
                    </a:lnTo>
                    <a:lnTo>
                      <a:pt x="602" y="444"/>
                    </a:lnTo>
                    <a:lnTo>
                      <a:pt x="601" y="489"/>
                    </a:lnTo>
                    <a:lnTo>
                      <a:pt x="596" y="533"/>
                    </a:lnTo>
                    <a:lnTo>
                      <a:pt x="589" y="575"/>
                    </a:lnTo>
                    <a:lnTo>
                      <a:pt x="579" y="617"/>
                    </a:lnTo>
                    <a:lnTo>
                      <a:pt x="566" y="656"/>
                    </a:lnTo>
                    <a:lnTo>
                      <a:pt x="551" y="691"/>
                    </a:lnTo>
                    <a:lnTo>
                      <a:pt x="534" y="726"/>
                    </a:lnTo>
                    <a:lnTo>
                      <a:pt x="514" y="758"/>
                    </a:lnTo>
                    <a:lnTo>
                      <a:pt x="493" y="786"/>
                    </a:lnTo>
                    <a:lnTo>
                      <a:pt x="470" y="812"/>
                    </a:lnTo>
                    <a:lnTo>
                      <a:pt x="444" y="835"/>
                    </a:lnTo>
                    <a:lnTo>
                      <a:pt x="419" y="853"/>
                    </a:lnTo>
                    <a:lnTo>
                      <a:pt x="391" y="869"/>
                    </a:lnTo>
                    <a:lnTo>
                      <a:pt x="362" y="880"/>
                    </a:lnTo>
                    <a:lnTo>
                      <a:pt x="333" y="887"/>
                    </a:lnTo>
                    <a:lnTo>
                      <a:pt x="301" y="889"/>
                    </a:lnTo>
                    <a:lnTo>
                      <a:pt x="270" y="887"/>
                    </a:lnTo>
                    <a:lnTo>
                      <a:pt x="241" y="880"/>
                    </a:lnTo>
                    <a:lnTo>
                      <a:pt x="212" y="869"/>
                    </a:lnTo>
                    <a:lnTo>
                      <a:pt x="184" y="853"/>
                    </a:lnTo>
                    <a:lnTo>
                      <a:pt x="157" y="835"/>
                    </a:lnTo>
                    <a:lnTo>
                      <a:pt x="133" y="812"/>
                    </a:lnTo>
                    <a:lnTo>
                      <a:pt x="109" y="786"/>
                    </a:lnTo>
                    <a:lnTo>
                      <a:pt x="88" y="758"/>
                    </a:lnTo>
                    <a:lnTo>
                      <a:pt x="69" y="726"/>
                    </a:lnTo>
                    <a:lnTo>
                      <a:pt x="51" y="691"/>
                    </a:lnTo>
                    <a:lnTo>
                      <a:pt x="37" y="656"/>
                    </a:lnTo>
                    <a:lnTo>
                      <a:pt x="23" y="617"/>
                    </a:lnTo>
                    <a:lnTo>
                      <a:pt x="13" y="575"/>
                    </a:lnTo>
                    <a:lnTo>
                      <a:pt x="5" y="533"/>
                    </a:lnTo>
                    <a:lnTo>
                      <a:pt x="1" y="489"/>
                    </a:lnTo>
                    <a:lnTo>
                      <a:pt x="0" y="444"/>
                    </a:lnTo>
                    <a:lnTo>
                      <a:pt x="1" y="399"/>
                    </a:lnTo>
                    <a:lnTo>
                      <a:pt x="5" y="355"/>
                    </a:lnTo>
                    <a:lnTo>
                      <a:pt x="13" y="313"/>
                    </a:lnTo>
                    <a:lnTo>
                      <a:pt x="23" y="272"/>
                    </a:lnTo>
                    <a:lnTo>
                      <a:pt x="37" y="234"/>
                    </a:lnTo>
                    <a:lnTo>
                      <a:pt x="51" y="197"/>
                    </a:lnTo>
                    <a:lnTo>
                      <a:pt x="69" y="162"/>
                    </a:lnTo>
                    <a:lnTo>
                      <a:pt x="88" y="131"/>
                    </a:lnTo>
                    <a:lnTo>
                      <a:pt x="109" y="102"/>
                    </a:lnTo>
                    <a:lnTo>
                      <a:pt x="133" y="76"/>
                    </a:lnTo>
                    <a:lnTo>
                      <a:pt x="157" y="54"/>
                    </a:lnTo>
                    <a:lnTo>
                      <a:pt x="184" y="36"/>
                    </a:lnTo>
                    <a:lnTo>
                      <a:pt x="212" y="20"/>
                    </a:lnTo>
                    <a:lnTo>
                      <a:pt x="241" y="9"/>
                    </a:lnTo>
                    <a:lnTo>
                      <a:pt x="270" y="2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319800" y="3730680"/>
                <a:ext cx="274680" cy="561960"/>
              </a:xfrm>
              <a:custGeom>
                <a:avLst/>
                <a:gdLst/>
                <a:ahLst/>
                <a:rect l="l" t="t" r="r" b="b"/>
                <a:pathLst>
                  <a:path w="1034" h="2126">
                    <a:moveTo>
                      <a:pt x="741" y="0"/>
                    </a:moveTo>
                    <a:lnTo>
                      <a:pt x="744" y="0"/>
                    </a:lnTo>
                    <a:lnTo>
                      <a:pt x="742" y="8"/>
                    </a:lnTo>
                    <a:lnTo>
                      <a:pt x="735" y="20"/>
                    </a:lnTo>
                    <a:lnTo>
                      <a:pt x="724" y="39"/>
                    </a:lnTo>
                    <a:lnTo>
                      <a:pt x="708" y="63"/>
                    </a:lnTo>
                    <a:lnTo>
                      <a:pt x="690" y="92"/>
                    </a:lnTo>
                    <a:lnTo>
                      <a:pt x="670" y="127"/>
                    </a:lnTo>
                    <a:lnTo>
                      <a:pt x="647" y="165"/>
                    </a:lnTo>
                    <a:lnTo>
                      <a:pt x="622" y="209"/>
                    </a:lnTo>
                    <a:lnTo>
                      <a:pt x="598" y="255"/>
                    </a:lnTo>
                    <a:lnTo>
                      <a:pt x="571" y="307"/>
                    </a:lnTo>
                    <a:lnTo>
                      <a:pt x="545" y="360"/>
                    </a:lnTo>
                    <a:lnTo>
                      <a:pt x="521" y="418"/>
                    </a:lnTo>
                    <a:lnTo>
                      <a:pt x="496" y="479"/>
                    </a:lnTo>
                    <a:lnTo>
                      <a:pt x="474" y="541"/>
                    </a:lnTo>
                    <a:lnTo>
                      <a:pt x="453" y="606"/>
                    </a:lnTo>
                    <a:lnTo>
                      <a:pt x="439" y="659"/>
                    </a:lnTo>
                    <a:lnTo>
                      <a:pt x="426" y="711"/>
                    </a:lnTo>
                    <a:lnTo>
                      <a:pt x="413" y="766"/>
                    </a:lnTo>
                    <a:lnTo>
                      <a:pt x="402" y="820"/>
                    </a:lnTo>
                    <a:lnTo>
                      <a:pt x="392" y="876"/>
                    </a:lnTo>
                    <a:lnTo>
                      <a:pt x="384" y="932"/>
                    </a:lnTo>
                    <a:lnTo>
                      <a:pt x="376" y="989"/>
                    </a:lnTo>
                    <a:lnTo>
                      <a:pt x="372" y="1046"/>
                    </a:lnTo>
                    <a:lnTo>
                      <a:pt x="369" y="1102"/>
                    </a:lnTo>
                    <a:lnTo>
                      <a:pt x="367" y="1159"/>
                    </a:lnTo>
                    <a:lnTo>
                      <a:pt x="367" y="1216"/>
                    </a:lnTo>
                    <a:lnTo>
                      <a:pt x="371" y="1271"/>
                    </a:lnTo>
                    <a:lnTo>
                      <a:pt x="375" y="1327"/>
                    </a:lnTo>
                    <a:lnTo>
                      <a:pt x="382" y="1382"/>
                    </a:lnTo>
                    <a:lnTo>
                      <a:pt x="392" y="1437"/>
                    </a:lnTo>
                    <a:lnTo>
                      <a:pt x="404" y="1489"/>
                    </a:lnTo>
                    <a:lnTo>
                      <a:pt x="419" y="1542"/>
                    </a:lnTo>
                    <a:lnTo>
                      <a:pt x="436" y="1592"/>
                    </a:lnTo>
                    <a:lnTo>
                      <a:pt x="456" y="1641"/>
                    </a:lnTo>
                    <a:lnTo>
                      <a:pt x="479" y="1689"/>
                    </a:lnTo>
                    <a:lnTo>
                      <a:pt x="505" y="1735"/>
                    </a:lnTo>
                    <a:lnTo>
                      <a:pt x="535" y="1778"/>
                    </a:lnTo>
                    <a:lnTo>
                      <a:pt x="567" y="1821"/>
                    </a:lnTo>
                    <a:lnTo>
                      <a:pt x="603" y="1860"/>
                    </a:lnTo>
                    <a:lnTo>
                      <a:pt x="642" y="1898"/>
                    </a:lnTo>
                    <a:lnTo>
                      <a:pt x="685" y="1932"/>
                    </a:lnTo>
                    <a:lnTo>
                      <a:pt x="732" y="1965"/>
                    </a:lnTo>
                    <a:lnTo>
                      <a:pt x="782" y="1994"/>
                    </a:lnTo>
                    <a:lnTo>
                      <a:pt x="836" y="2021"/>
                    </a:lnTo>
                    <a:lnTo>
                      <a:pt x="894" y="2043"/>
                    </a:lnTo>
                    <a:lnTo>
                      <a:pt x="956" y="2063"/>
                    </a:lnTo>
                    <a:lnTo>
                      <a:pt x="1022" y="2080"/>
                    </a:lnTo>
                    <a:lnTo>
                      <a:pt x="1031" y="2083"/>
                    </a:lnTo>
                    <a:lnTo>
                      <a:pt x="1034" y="2087"/>
                    </a:lnTo>
                    <a:lnTo>
                      <a:pt x="1033" y="2091"/>
                    </a:lnTo>
                    <a:lnTo>
                      <a:pt x="1029" y="2095"/>
                    </a:lnTo>
                    <a:lnTo>
                      <a:pt x="1020" y="2100"/>
                    </a:lnTo>
                    <a:lnTo>
                      <a:pt x="1008" y="2104"/>
                    </a:lnTo>
                    <a:lnTo>
                      <a:pt x="991" y="2109"/>
                    </a:lnTo>
                    <a:lnTo>
                      <a:pt x="972" y="2113"/>
                    </a:lnTo>
                    <a:lnTo>
                      <a:pt x="950" y="2118"/>
                    </a:lnTo>
                    <a:lnTo>
                      <a:pt x="925" y="2121"/>
                    </a:lnTo>
                    <a:lnTo>
                      <a:pt x="897" y="2123"/>
                    </a:lnTo>
                    <a:lnTo>
                      <a:pt x="867" y="2125"/>
                    </a:lnTo>
                    <a:lnTo>
                      <a:pt x="834" y="2126"/>
                    </a:lnTo>
                    <a:lnTo>
                      <a:pt x="801" y="2125"/>
                    </a:lnTo>
                    <a:lnTo>
                      <a:pt x="765" y="2123"/>
                    </a:lnTo>
                    <a:lnTo>
                      <a:pt x="727" y="2119"/>
                    </a:lnTo>
                    <a:lnTo>
                      <a:pt x="689" y="2113"/>
                    </a:lnTo>
                    <a:lnTo>
                      <a:pt x="650" y="2107"/>
                    </a:lnTo>
                    <a:lnTo>
                      <a:pt x="610" y="2098"/>
                    </a:lnTo>
                    <a:lnTo>
                      <a:pt x="570" y="2085"/>
                    </a:lnTo>
                    <a:lnTo>
                      <a:pt x="528" y="2072"/>
                    </a:lnTo>
                    <a:lnTo>
                      <a:pt x="488" y="2055"/>
                    </a:lnTo>
                    <a:lnTo>
                      <a:pt x="447" y="2036"/>
                    </a:lnTo>
                    <a:lnTo>
                      <a:pt x="407" y="2014"/>
                    </a:lnTo>
                    <a:lnTo>
                      <a:pt x="367" y="1988"/>
                    </a:lnTo>
                    <a:lnTo>
                      <a:pt x="328" y="1960"/>
                    </a:lnTo>
                    <a:lnTo>
                      <a:pt x="290" y="1929"/>
                    </a:lnTo>
                    <a:lnTo>
                      <a:pt x="255" y="1893"/>
                    </a:lnTo>
                    <a:lnTo>
                      <a:pt x="220" y="1855"/>
                    </a:lnTo>
                    <a:lnTo>
                      <a:pt x="186" y="1812"/>
                    </a:lnTo>
                    <a:lnTo>
                      <a:pt x="156" y="1766"/>
                    </a:lnTo>
                    <a:lnTo>
                      <a:pt x="127" y="1715"/>
                    </a:lnTo>
                    <a:lnTo>
                      <a:pt x="91" y="1638"/>
                    </a:lnTo>
                    <a:lnTo>
                      <a:pt x="61" y="1555"/>
                    </a:lnTo>
                    <a:lnTo>
                      <a:pt x="37" y="1469"/>
                    </a:lnTo>
                    <a:lnTo>
                      <a:pt x="19" y="1379"/>
                    </a:lnTo>
                    <a:lnTo>
                      <a:pt x="7" y="1286"/>
                    </a:lnTo>
                    <a:lnTo>
                      <a:pt x="0" y="1191"/>
                    </a:lnTo>
                    <a:lnTo>
                      <a:pt x="0" y="1095"/>
                    </a:lnTo>
                    <a:lnTo>
                      <a:pt x="5" y="999"/>
                    </a:lnTo>
                    <a:lnTo>
                      <a:pt x="18" y="904"/>
                    </a:lnTo>
                    <a:lnTo>
                      <a:pt x="36" y="809"/>
                    </a:lnTo>
                    <a:lnTo>
                      <a:pt x="60" y="718"/>
                    </a:lnTo>
                    <a:lnTo>
                      <a:pt x="91" y="628"/>
                    </a:lnTo>
                    <a:lnTo>
                      <a:pt x="129" y="544"/>
                    </a:lnTo>
                    <a:lnTo>
                      <a:pt x="174" y="463"/>
                    </a:lnTo>
                    <a:lnTo>
                      <a:pt x="224" y="388"/>
                    </a:lnTo>
                    <a:lnTo>
                      <a:pt x="283" y="320"/>
                    </a:lnTo>
                    <a:lnTo>
                      <a:pt x="303" y="299"/>
                    </a:lnTo>
                    <a:lnTo>
                      <a:pt x="325" y="277"/>
                    </a:lnTo>
                    <a:lnTo>
                      <a:pt x="348" y="255"/>
                    </a:lnTo>
                    <a:lnTo>
                      <a:pt x="373" y="233"/>
                    </a:lnTo>
                    <a:lnTo>
                      <a:pt x="399" y="211"/>
                    </a:lnTo>
                    <a:lnTo>
                      <a:pt x="426" y="188"/>
                    </a:lnTo>
                    <a:lnTo>
                      <a:pt x="453" y="167"/>
                    </a:lnTo>
                    <a:lnTo>
                      <a:pt x="484" y="146"/>
                    </a:lnTo>
                    <a:lnTo>
                      <a:pt x="513" y="125"/>
                    </a:lnTo>
                    <a:lnTo>
                      <a:pt x="544" y="105"/>
                    </a:lnTo>
                    <a:lnTo>
                      <a:pt x="575" y="85"/>
                    </a:lnTo>
                    <a:lnTo>
                      <a:pt x="608" y="66"/>
                    </a:lnTo>
                    <a:lnTo>
                      <a:pt x="640" y="48"/>
                    </a:lnTo>
                    <a:lnTo>
                      <a:pt x="674" y="30"/>
                    </a:lnTo>
                    <a:lnTo>
                      <a:pt x="707" y="14"/>
                    </a:lnTo>
                    <a:lnTo>
                      <a:pt x="741" y="0"/>
                    </a:lnTo>
                    <a:close/>
                  </a:path>
                </a:pathLst>
              </a:custGeom>
              <a:solidFill>
                <a:srgbClr val="b7c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6321600" y="3753000"/>
                <a:ext cx="244440" cy="529920"/>
              </a:xfrm>
              <a:custGeom>
                <a:avLst/>
                <a:gdLst/>
                <a:ahLst/>
                <a:rect l="l" t="t" r="r" b="b"/>
                <a:pathLst>
                  <a:path w="922" h="2004">
                    <a:moveTo>
                      <a:pt x="660" y="0"/>
                    </a:moveTo>
                    <a:lnTo>
                      <a:pt x="663" y="1"/>
                    </a:lnTo>
                    <a:lnTo>
                      <a:pt x="661" y="6"/>
                    </a:lnTo>
                    <a:lnTo>
                      <a:pt x="654" y="18"/>
                    </a:lnTo>
                    <a:lnTo>
                      <a:pt x="643" y="36"/>
                    </a:lnTo>
                    <a:lnTo>
                      <a:pt x="629" y="60"/>
                    </a:lnTo>
                    <a:lnTo>
                      <a:pt x="613" y="88"/>
                    </a:lnTo>
                    <a:lnTo>
                      <a:pt x="594" y="120"/>
                    </a:lnTo>
                    <a:lnTo>
                      <a:pt x="572" y="156"/>
                    </a:lnTo>
                    <a:lnTo>
                      <a:pt x="549" y="197"/>
                    </a:lnTo>
                    <a:lnTo>
                      <a:pt x="526" y="242"/>
                    </a:lnTo>
                    <a:lnTo>
                      <a:pt x="502" y="290"/>
                    </a:lnTo>
                    <a:lnTo>
                      <a:pt x="479" y="340"/>
                    </a:lnTo>
                    <a:lnTo>
                      <a:pt x="455" y="395"/>
                    </a:lnTo>
                    <a:lnTo>
                      <a:pt x="434" y="452"/>
                    </a:lnTo>
                    <a:lnTo>
                      <a:pt x="413" y="510"/>
                    </a:lnTo>
                    <a:lnTo>
                      <a:pt x="395" y="571"/>
                    </a:lnTo>
                    <a:lnTo>
                      <a:pt x="370" y="668"/>
                    </a:lnTo>
                    <a:lnTo>
                      <a:pt x="350" y="770"/>
                    </a:lnTo>
                    <a:lnTo>
                      <a:pt x="336" y="874"/>
                    </a:lnTo>
                    <a:lnTo>
                      <a:pt x="327" y="980"/>
                    </a:lnTo>
                    <a:lnTo>
                      <a:pt x="323" y="1086"/>
                    </a:lnTo>
                    <a:lnTo>
                      <a:pt x="328" y="1192"/>
                    </a:lnTo>
                    <a:lnTo>
                      <a:pt x="340" y="1296"/>
                    </a:lnTo>
                    <a:lnTo>
                      <a:pt x="360" y="1396"/>
                    </a:lnTo>
                    <a:lnTo>
                      <a:pt x="390" y="1493"/>
                    </a:lnTo>
                    <a:lnTo>
                      <a:pt x="429" y="1586"/>
                    </a:lnTo>
                    <a:lnTo>
                      <a:pt x="480" y="1672"/>
                    </a:lnTo>
                    <a:lnTo>
                      <a:pt x="541" y="1751"/>
                    </a:lnTo>
                    <a:lnTo>
                      <a:pt x="614" y="1822"/>
                    </a:lnTo>
                    <a:lnTo>
                      <a:pt x="700" y="1883"/>
                    </a:lnTo>
                    <a:lnTo>
                      <a:pt x="799" y="1934"/>
                    </a:lnTo>
                    <a:lnTo>
                      <a:pt x="912" y="1974"/>
                    </a:lnTo>
                    <a:lnTo>
                      <a:pt x="920" y="1976"/>
                    </a:lnTo>
                    <a:lnTo>
                      <a:pt x="922" y="1979"/>
                    </a:lnTo>
                    <a:lnTo>
                      <a:pt x="922" y="1982"/>
                    </a:lnTo>
                    <a:lnTo>
                      <a:pt x="918" y="1987"/>
                    </a:lnTo>
                    <a:lnTo>
                      <a:pt x="909" y="1990"/>
                    </a:lnTo>
                    <a:lnTo>
                      <a:pt x="898" y="1994"/>
                    </a:lnTo>
                    <a:lnTo>
                      <a:pt x="883" y="1997"/>
                    </a:lnTo>
                    <a:lnTo>
                      <a:pt x="866" y="1999"/>
                    </a:lnTo>
                    <a:lnTo>
                      <a:pt x="846" y="2001"/>
                    </a:lnTo>
                    <a:lnTo>
                      <a:pt x="823" y="2004"/>
                    </a:lnTo>
                    <a:lnTo>
                      <a:pt x="798" y="2004"/>
                    </a:lnTo>
                    <a:lnTo>
                      <a:pt x="771" y="2004"/>
                    </a:lnTo>
                    <a:lnTo>
                      <a:pt x="742" y="2003"/>
                    </a:lnTo>
                    <a:lnTo>
                      <a:pt x="712" y="2000"/>
                    </a:lnTo>
                    <a:lnTo>
                      <a:pt x="680" y="1996"/>
                    </a:lnTo>
                    <a:lnTo>
                      <a:pt x="646" y="1990"/>
                    </a:lnTo>
                    <a:lnTo>
                      <a:pt x="613" y="1984"/>
                    </a:lnTo>
                    <a:lnTo>
                      <a:pt x="577" y="1975"/>
                    </a:lnTo>
                    <a:lnTo>
                      <a:pt x="541" y="1965"/>
                    </a:lnTo>
                    <a:lnTo>
                      <a:pt x="505" y="1951"/>
                    </a:lnTo>
                    <a:lnTo>
                      <a:pt x="469" y="1937"/>
                    </a:lnTo>
                    <a:lnTo>
                      <a:pt x="432" y="1920"/>
                    </a:lnTo>
                    <a:lnTo>
                      <a:pt x="396" y="1900"/>
                    </a:lnTo>
                    <a:lnTo>
                      <a:pt x="360" y="1877"/>
                    </a:lnTo>
                    <a:lnTo>
                      <a:pt x="324" y="1853"/>
                    </a:lnTo>
                    <a:lnTo>
                      <a:pt x="290" y="1825"/>
                    </a:lnTo>
                    <a:lnTo>
                      <a:pt x="256" y="1794"/>
                    </a:lnTo>
                    <a:lnTo>
                      <a:pt x="224" y="1759"/>
                    </a:lnTo>
                    <a:lnTo>
                      <a:pt x="193" y="1722"/>
                    </a:lnTo>
                    <a:lnTo>
                      <a:pt x="164" y="1682"/>
                    </a:lnTo>
                    <a:lnTo>
                      <a:pt x="137" y="1637"/>
                    </a:lnTo>
                    <a:lnTo>
                      <a:pt x="111" y="1589"/>
                    </a:lnTo>
                    <a:lnTo>
                      <a:pt x="80" y="1517"/>
                    </a:lnTo>
                    <a:lnTo>
                      <a:pt x="53" y="1441"/>
                    </a:lnTo>
                    <a:lnTo>
                      <a:pt x="33" y="1361"/>
                    </a:lnTo>
                    <a:lnTo>
                      <a:pt x="16" y="1277"/>
                    </a:lnTo>
                    <a:lnTo>
                      <a:pt x="6" y="1191"/>
                    </a:lnTo>
                    <a:lnTo>
                      <a:pt x="0" y="1104"/>
                    </a:lnTo>
                    <a:lnTo>
                      <a:pt x="2" y="1016"/>
                    </a:lnTo>
                    <a:lnTo>
                      <a:pt x="7" y="927"/>
                    </a:lnTo>
                    <a:lnTo>
                      <a:pt x="18" y="840"/>
                    </a:lnTo>
                    <a:lnTo>
                      <a:pt x="35" y="754"/>
                    </a:lnTo>
                    <a:lnTo>
                      <a:pt x="57" y="669"/>
                    </a:lnTo>
                    <a:lnTo>
                      <a:pt x="85" y="588"/>
                    </a:lnTo>
                    <a:lnTo>
                      <a:pt x="119" y="509"/>
                    </a:lnTo>
                    <a:lnTo>
                      <a:pt x="158" y="434"/>
                    </a:lnTo>
                    <a:lnTo>
                      <a:pt x="204" y="365"/>
                    </a:lnTo>
                    <a:lnTo>
                      <a:pt x="255" y="300"/>
                    </a:lnTo>
                    <a:lnTo>
                      <a:pt x="273" y="280"/>
                    </a:lnTo>
                    <a:lnTo>
                      <a:pt x="293" y="260"/>
                    </a:lnTo>
                    <a:lnTo>
                      <a:pt x="313" y="240"/>
                    </a:lnTo>
                    <a:lnTo>
                      <a:pt x="335" y="218"/>
                    </a:lnTo>
                    <a:lnTo>
                      <a:pt x="358" y="198"/>
                    </a:lnTo>
                    <a:lnTo>
                      <a:pt x="381" y="177"/>
                    </a:lnTo>
                    <a:lnTo>
                      <a:pt x="407" y="157"/>
                    </a:lnTo>
                    <a:lnTo>
                      <a:pt x="433" y="137"/>
                    </a:lnTo>
                    <a:lnTo>
                      <a:pt x="459" y="117"/>
                    </a:lnTo>
                    <a:lnTo>
                      <a:pt x="486" y="98"/>
                    </a:lnTo>
                    <a:lnTo>
                      <a:pt x="513" y="79"/>
                    </a:lnTo>
                    <a:lnTo>
                      <a:pt x="542" y="61"/>
                    </a:lnTo>
                    <a:lnTo>
                      <a:pt x="571" y="44"/>
                    </a:lnTo>
                    <a:lnTo>
                      <a:pt x="600" y="29"/>
                    </a:lnTo>
                    <a:lnTo>
                      <a:pt x="629" y="13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9ba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6323040" y="3774960"/>
                <a:ext cx="214200" cy="498600"/>
              </a:xfrm>
              <a:custGeom>
                <a:avLst/>
                <a:gdLst/>
                <a:ahLst/>
                <a:rect l="l" t="t" r="r" b="b"/>
                <a:pathLst>
                  <a:path w="810" h="1887">
                    <a:moveTo>
                      <a:pt x="580" y="0"/>
                    </a:moveTo>
                    <a:lnTo>
                      <a:pt x="582" y="1"/>
                    </a:lnTo>
                    <a:lnTo>
                      <a:pt x="580" y="8"/>
                    </a:lnTo>
                    <a:lnTo>
                      <a:pt x="573" y="19"/>
                    </a:lnTo>
                    <a:lnTo>
                      <a:pt x="563" y="36"/>
                    </a:lnTo>
                    <a:lnTo>
                      <a:pt x="550" y="58"/>
                    </a:lnTo>
                    <a:lnTo>
                      <a:pt x="534" y="84"/>
                    </a:lnTo>
                    <a:lnTo>
                      <a:pt x="516" y="115"/>
                    </a:lnTo>
                    <a:lnTo>
                      <a:pt x="496" y="149"/>
                    </a:lnTo>
                    <a:lnTo>
                      <a:pt x="475" y="188"/>
                    </a:lnTo>
                    <a:lnTo>
                      <a:pt x="454" y="229"/>
                    </a:lnTo>
                    <a:lnTo>
                      <a:pt x="431" y="274"/>
                    </a:lnTo>
                    <a:lnTo>
                      <a:pt x="410" y="322"/>
                    </a:lnTo>
                    <a:lnTo>
                      <a:pt x="389" y="373"/>
                    </a:lnTo>
                    <a:lnTo>
                      <a:pt x="369" y="426"/>
                    </a:lnTo>
                    <a:lnTo>
                      <a:pt x="351" y="481"/>
                    </a:lnTo>
                    <a:lnTo>
                      <a:pt x="335" y="538"/>
                    </a:lnTo>
                    <a:lnTo>
                      <a:pt x="314" y="629"/>
                    </a:lnTo>
                    <a:lnTo>
                      <a:pt x="298" y="723"/>
                    </a:lnTo>
                    <a:lnTo>
                      <a:pt x="286" y="819"/>
                    </a:lnTo>
                    <a:lnTo>
                      <a:pt x="279" y="917"/>
                    </a:lnTo>
                    <a:lnTo>
                      <a:pt x="278" y="1015"/>
                    </a:lnTo>
                    <a:lnTo>
                      <a:pt x="284" y="1113"/>
                    </a:lnTo>
                    <a:lnTo>
                      <a:pt x="296" y="1212"/>
                    </a:lnTo>
                    <a:lnTo>
                      <a:pt x="315" y="1306"/>
                    </a:lnTo>
                    <a:lnTo>
                      <a:pt x="343" y="1398"/>
                    </a:lnTo>
                    <a:lnTo>
                      <a:pt x="379" y="1485"/>
                    </a:lnTo>
                    <a:lnTo>
                      <a:pt x="423" y="1568"/>
                    </a:lnTo>
                    <a:lnTo>
                      <a:pt x="477" y="1644"/>
                    </a:lnTo>
                    <a:lnTo>
                      <a:pt x="542" y="1713"/>
                    </a:lnTo>
                    <a:lnTo>
                      <a:pt x="617" y="1773"/>
                    </a:lnTo>
                    <a:lnTo>
                      <a:pt x="703" y="1826"/>
                    </a:lnTo>
                    <a:lnTo>
                      <a:pt x="801" y="1867"/>
                    </a:lnTo>
                    <a:lnTo>
                      <a:pt x="808" y="1870"/>
                    </a:lnTo>
                    <a:lnTo>
                      <a:pt x="810" y="1873"/>
                    </a:lnTo>
                    <a:lnTo>
                      <a:pt x="809" y="1876"/>
                    </a:lnTo>
                    <a:lnTo>
                      <a:pt x="806" y="1879"/>
                    </a:lnTo>
                    <a:lnTo>
                      <a:pt x="798" y="1881"/>
                    </a:lnTo>
                    <a:lnTo>
                      <a:pt x="788" y="1884"/>
                    </a:lnTo>
                    <a:lnTo>
                      <a:pt x="774" y="1886"/>
                    </a:lnTo>
                    <a:lnTo>
                      <a:pt x="760" y="1887"/>
                    </a:lnTo>
                    <a:lnTo>
                      <a:pt x="742" y="1887"/>
                    </a:lnTo>
                    <a:lnTo>
                      <a:pt x="722" y="1887"/>
                    </a:lnTo>
                    <a:lnTo>
                      <a:pt x="699" y="1886"/>
                    </a:lnTo>
                    <a:lnTo>
                      <a:pt x="676" y="1885"/>
                    </a:lnTo>
                    <a:lnTo>
                      <a:pt x="650" y="1881"/>
                    </a:lnTo>
                    <a:lnTo>
                      <a:pt x="623" y="1877"/>
                    </a:lnTo>
                    <a:lnTo>
                      <a:pt x="594" y="1871"/>
                    </a:lnTo>
                    <a:lnTo>
                      <a:pt x="565" y="1864"/>
                    </a:lnTo>
                    <a:lnTo>
                      <a:pt x="535" y="1856"/>
                    </a:lnTo>
                    <a:lnTo>
                      <a:pt x="504" y="1845"/>
                    </a:lnTo>
                    <a:lnTo>
                      <a:pt x="473" y="1833"/>
                    </a:lnTo>
                    <a:lnTo>
                      <a:pt x="440" y="1819"/>
                    </a:lnTo>
                    <a:lnTo>
                      <a:pt x="409" y="1803"/>
                    </a:lnTo>
                    <a:lnTo>
                      <a:pt x="377" y="1785"/>
                    </a:lnTo>
                    <a:lnTo>
                      <a:pt x="344" y="1764"/>
                    </a:lnTo>
                    <a:lnTo>
                      <a:pt x="313" y="1742"/>
                    </a:lnTo>
                    <a:lnTo>
                      <a:pt x="282" y="1717"/>
                    </a:lnTo>
                    <a:lnTo>
                      <a:pt x="251" y="1689"/>
                    </a:lnTo>
                    <a:lnTo>
                      <a:pt x="222" y="1659"/>
                    </a:lnTo>
                    <a:lnTo>
                      <a:pt x="193" y="1627"/>
                    </a:lnTo>
                    <a:lnTo>
                      <a:pt x="167" y="1591"/>
                    </a:lnTo>
                    <a:lnTo>
                      <a:pt x="141" y="1552"/>
                    </a:lnTo>
                    <a:lnTo>
                      <a:pt x="117" y="1510"/>
                    </a:lnTo>
                    <a:lnTo>
                      <a:pt x="95" y="1465"/>
                    </a:lnTo>
                    <a:lnTo>
                      <a:pt x="67" y="1398"/>
                    </a:lnTo>
                    <a:lnTo>
                      <a:pt x="45" y="1327"/>
                    </a:lnTo>
                    <a:lnTo>
                      <a:pt x="26" y="1253"/>
                    </a:lnTo>
                    <a:lnTo>
                      <a:pt x="12" y="1176"/>
                    </a:lnTo>
                    <a:lnTo>
                      <a:pt x="3" y="1098"/>
                    </a:lnTo>
                    <a:lnTo>
                      <a:pt x="0" y="1018"/>
                    </a:lnTo>
                    <a:lnTo>
                      <a:pt x="1" y="938"/>
                    </a:lnTo>
                    <a:lnTo>
                      <a:pt x="7" y="858"/>
                    </a:lnTo>
                    <a:lnTo>
                      <a:pt x="17" y="778"/>
                    </a:lnTo>
                    <a:lnTo>
                      <a:pt x="32" y="700"/>
                    </a:lnTo>
                    <a:lnTo>
                      <a:pt x="53" y="623"/>
                    </a:lnTo>
                    <a:lnTo>
                      <a:pt x="77" y="548"/>
                    </a:lnTo>
                    <a:lnTo>
                      <a:pt x="107" y="477"/>
                    </a:lnTo>
                    <a:lnTo>
                      <a:pt x="142" y="408"/>
                    </a:lnTo>
                    <a:lnTo>
                      <a:pt x="182" y="344"/>
                    </a:lnTo>
                    <a:lnTo>
                      <a:pt x="227" y="284"/>
                    </a:lnTo>
                    <a:lnTo>
                      <a:pt x="242" y="265"/>
                    </a:lnTo>
                    <a:lnTo>
                      <a:pt x="259" y="246"/>
                    </a:lnTo>
                    <a:lnTo>
                      <a:pt x="277" y="226"/>
                    </a:lnTo>
                    <a:lnTo>
                      <a:pt x="296" y="207"/>
                    </a:lnTo>
                    <a:lnTo>
                      <a:pt x="316" y="187"/>
                    </a:lnTo>
                    <a:lnTo>
                      <a:pt x="336" y="168"/>
                    </a:lnTo>
                    <a:lnTo>
                      <a:pt x="359" y="149"/>
                    </a:lnTo>
                    <a:lnTo>
                      <a:pt x="381" y="130"/>
                    </a:lnTo>
                    <a:lnTo>
                      <a:pt x="403" y="112"/>
                    </a:lnTo>
                    <a:lnTo>
                      <a:pt x="428" y="93"/>
                    </a:lnTo>
                    <a:lnTo>
                      <a:pt x="453" y="76"/>
                    </a:lnTo>
                    <a:lnTo>
                      <a:pt x="477" y="59"/>
                    </a:lnTo>
                    <a:lnTo>
                      <a:pt x="503" y="43"/>
                    </a:lnTo>
                    <a:lnTo>
                      <a:pt x="527" y="28"/>
                    </a:lnTo>
                    <a:lnTo>
                      <a:pt x="554" y="14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828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6324480" y="3797280"/>
                <a:ext cx="184320" cy="468360"/>
              </a:xfrm>
              <a:custGeom>
                <a:avLst/>
                <a:gdLst/>
                <a:ahLst/>
                <a:rect l="l" t="t" r="r" b="b"/>
                <a:pathLst>
                  <a:path w="696" h="1772">
                    <a:moveTo>
                      <a:pt x="497" y="0"/>
                    </a:moveTo>
                    <a:lnTo>
                      <a:pt x="499" y="1"/>
                    </a:lnTo>
                    <a:lnTo>
                      <a:pt x="497" y="7"/>
                    </a:lnTo>
                    <a:lnTo>
                      <a:pt x="490" y="18"/>
                    </a:lnTo>
                    <a:lnTo>
                      <a:pt x="481" y="33"/>
                    </a:lnTo>
                    <a:lnTo>
                      <a:pt x="469" y="54"/>
                    </a:lnTo>
                    <a:lnTo>
                      <a:pt x="453" y="78"/>
                    </a:lnTo>
                    <a:lnTo>
                      <a:pt x="437" y="107"/>
                    </a:lnTo>
                    <a:lnTo>
                      <a:pt x="419" y="140"/>
                    </a:lnTo>
                    <a:lnTo>
                      <a:pt x="400" y="175"/>
                    </a:lnTo>
                    <a:lnTo>
                      <a:pt x="380" y="214"/>
                    </a:lnTo>
                    <a:lnTo>
                      <a:pt x="360" y="257"/>
                    </a:lnTo>
                    <a:lnTo>
                      <a:pt x="339" y="301"/>
                    </a:lnTo>
                    <a:lnTo>
                      <a:pt x="320" y="349"/>
                    </a:lnTo>
                    <a:lnTo>
                      <a:pt x="304" y="400"/>
                    </a:lnTo>
                    <a:lnTo>
                      <a:pt x="287" y="451"/>
                    </a:lnTo>
                    <a:lnTo>
                      <a:pt x="273" y="505"/>
                    </a:lnTo>
                    <a:lnTo>
                      <a:pt x="257" y="586"/>
                    </a:lnTo>
                    <a:lnTo>
                      <a:pt x="243" y="672"/>
                    </a:lnTo>
                    <a:lnTo>
                      <a:pt x="234" y="760"/>
                    </a:lnTo>
                    <a:lnTo>
                      <a:pt x="231" y="851"/>
                    </a:lnTo>
                    <a:lnTo>
                      <a:pt x="232" y="942"/>
                    </a:lnTo>
                    <a:lnTo>
                      <a:pt x="238" y="1033"/>
                    </a:lnTo>
                    <a:lnTo>
                      <a:pt x="250" y="1124"/>
                    </a:lnTo>
                    <a:lnTo>
                      <a:pt x="269" y="1213"/>
                    </a:lnTo>
                    <a:lnTo>
                      <a:pt x="294" y="1298"/>
                    </a:lnTo>
                    <a:lnTo>
                      <a:pt x="326" y="1382"/>
                    </a:lnTo>
                    <a:lnTo>
                      <a:pt x="365" y="1460"/>
                    </a:lnTo>
                    <a:lnTo>
                      <a:pt x="413" y="1534"/>
                    </a:lnTo>
                    <a:lnTo>
                      <a:pt x="468" y="1601"/>
                    </a:lnTo>
                    <a:lnTo>
                      <a:pt x="533" y="1661"/>
                    </a:lnTo>
                    <a:lnTo>
                      <a:pt x="605" y="1714"/>
                    </a:lnTo>
                    <a:lnTo>
                      <a:pt x="688" y="1757"/>
                    </a:lnTo>
                    <a:lnTo>
                      <a:pt x="696" y="1763"/>
                    </a:lnTo>
                    <a:lnTo>
                      <a:pt x="691" y="1769"/>
                    </a:lnTo>
                    <a:lnTo>
                      <a:pt x="676" y="1772"/>
                    </a:lnTo>
                    <a:lnTo>
                      <a:pt x="651" y="1772"/>
                    </a:lnTo>
                    <a:lnTo>
                      <a:pt x="618" y="1770"/>
                    </a:lnTo>
                    <a:lnTo>
                      <a:pt x="577" y="1763"/>
                    </a:lnTo>
                    <a:lnTo>
                      <a:pt x="533" y="1752"/>
                    </a:lnTo>
                    <a:lnTo>
                      <a:pt x="482" y="1735"/>
                    </a:lnTo>
                    <a:lnTo>
                      <a:pt x="429" y="1714"/>
                    </a:lnTo>
                    <a:lnTo>
                      <a:pt x="374" y="1685"/>
                    </a:lnTo>
                    <a:lnTo>
                      <a:pt x="319" y="1649"/>
                    </a:lnTo>
                    <a:lnTo>
                      <a:pt x="265" y="1606"/>
                    </a:lnTo>
                    <a:lnTo>
                      <a:pt x="212" y="1553"/>
                    </a:lnTo>
                    <a:lnTo>
                      <a:pt x="162" y="1492"/>
                    </a:lnTo>
                    <a:lnTo>
                      <a:pt x="117" y="1420"/>
                    </a:lnTo>
                    <a:lnTo>
                      <a:pt x="78" y="1339"/>
                    </a:lnTo>
                    <a:lnTo>
                      <a:pt x="55" y="1276"/>
                    </a:lnTo>
                    <a:lnTo>
                      <a:pt x="36" y="1210"/>
                    </a:lnTo>
                    <a:lnTo>
                      <a:pt x="20" y="1143"/>
                    </a:lnTo>
                    <a:lnTo>
                      <a:pt x="10" y="1073"/>
                    </a:lnTo>
                    <a:lnTo>
                      <a:pt x="2" y="1003"/>
                    </a:lnTo>
                    <a:lnTo>
                      <a:pt x="0" y="930"/>
                    </a:lnTo>
                    <a:lnTo>
                      <a:pt x="1" y="857"/>
                    </a:lnTo>
                    <a:lnTo>
                      <a:pt x="6" y="785"/>
                    </a:lnTo>
                    <a:lnTo>
                      <a:pt x="15" y="713"/>
                    </a:lnTo>
                    <a:lnTo>
                      <a:pt x="30" y="642"/>
                    </a:lnTo>
                    <a:lnTo>
                      <a:pt x="47" y="573"/>
                    </a:lnTo>
                    <a:lnTo>
                      <a:pt x="69" y="505"/>
                    </a:lnTo>
                    <a:lnTo>
                      <a:pt x="95" y="440"/>
                    </a:lnTo>
                    <a:lnTo>
                      <a:pt x="125" y="377"/>
                    </a:lnTo>
                    <a:lnTo>
                      <a:pt x="158" y="318"/>
                    </a:lnTo>
                    <a:lnTo>
                      <a:pt x="196" y="262"/>
                    </a:lnTo>
                    <a:lnTo>
                      <a:pt x="210" y="245"/>
                    </a:lnTo>
                    <a:lnTo>
                      <a:pt x="224" y="227"/>
                    </a:lnTo>
                    <a:lnTo>
                      <a:pt x="239" y="209"/>
                    </a:lnTo>
                    <a:lnTo>
                      <a:pt x="256" y="191"/>
                    </a:lnTo>
                    <a:lnTo>
                      <a:pt x="272" y="173"/>
                    </a:lnTo>
                    <a:lnTo>
                      <a:pt x="290" y="155"/>
                    </a:lnTo>
                    <a:lnTo>
                      <a:pt x="309" y="137"/>
                    </a:lnTo>
                    <a:lnTo>
                      <a:pt x="328" y="119"/>
                    </a:lnTo>
                    <a:lnTo>
                      <a:pt x="348" y="103"/>
                    </a:lnTo>
                    <a:lnTo>
                      <a:pt x="368" y="86"/>
                    </a:lnTo>
                    <a:lnTo>
                      <a:pt x="389" y="70"/>
                    </a:lnTo>
                    <a:lnTo>
                      <a:pt x="410" y="55"/>
                    </a:lnTo>
                    <a:lnTo>
                      <a:pt x="431" y="39"/>
                    </a:lnTo>
                    <a:lnTo>
                      <a:pt x="453" y="26"/>
                    </a:lnTo>
                    <a:lnTo>
                      <a:pt x="475" y="12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6668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26280" y="3819600"/>
                <a:ext cx="155520" cy="439560"/>
              </a:xfrm>
              <a:custGeom>
                <a:avLst/>
                <a:gdLst/>
                <a:ahLst/>
                <a:rect l="l" t="t" r="r" b="b"/>
                <a:pathLst>
                  <a:path w="584" h="1660">
                    <a:moveTo>
                      <a:pt x="418" y="0"/>
                    </a:moveTo>
                    <a:lnTo>
                      <a:pt x="419" y="1"/>
                    </a:lnTo>
                    <a:lnTo>
                      <a:pt x="417" y="6"/>
                    </a:lnTo>
                    <a:lnTo>
                      <a:pt x="410" y="16"/>
                    </a:lnTo>
                    <a:lnTo>
                      <a:pt x="401" y="32"/>
                    </a:lnTo>
                    <a:lnTo>
                      <a:pt x="390" y="51"/>
                    </a:lnTo>
                    <a:lnTo>
                      <a:pt x="377" y="73"/>
                    </a:lnTo>
                    <a:lnTo>
                      <a:pt x="361" y="100"/>
                    </a:lnTo>
                    <a:lnTo>
                      <a:pt x="344" y="130"/>
                    </a:lnTo>
                    <a:lnTo>
                      <a:pt x="327" y="164"/>
                    </a:lnTo>
                    <a:lnTo>
                      <a:pt x="309" y="201"/>
                    </a:lnTo>
                    <a:lnTo>
                      <a:pt x="291" y="240"/>
                    </a:lnTo>
                    <a:lnTo>
                      <a:pt x="273" y="281"/>
                    </a:lnTo>
                    <a:lnTo>
                      <a:pt x="257" y="326"/>
                    </a:lnTo>
                    <a:lnTo>
                      <a:pt x="242" y="372"/>
                    </a:lnTo>
                    <a:lnTo>
                      <a:pt x="227" y="420"/>
                    </a:lnTo>
                    <a:lnTo>
                      <a:pt x="216" y="470"/>
                    </a:lnTo>
                    <a:lnTo>
                      <a:pt x="203" y="543"/>
                    </a:lnTo>
                    <a:lnTo>
                      <a:pt x="193" y="622"/>
                    </a:lnTo>
                    <a:lnTo>
                      <a:pt x="187" y="702"/>
                    </a:lnTo>
                    <a:lnTo>
                      <a:pt x="185" y="785"/>
                    </a:lnTo>
                    <a:lnTo>
                      <a:pt x="188" y="868"/>
                    </a:lnTo>
                    <a:lnTo>
                      <a:pt x="195" y="953"/>
                    </a:lnTo>
                    <a:lnTo>
                      <a:pt x="207" y="1037"/>
                    </a:lnTo>
                    <a:lnTo>
                      <a:pt x="225" y="1120"/>
                    </a:lnTo>
                    <a:lnTo>
                      <a:pt x="247" y="1200"/>
                    </a:lnTo>
                    <a:lnTo>
                      <a:pt x="276" y="1279"/>
                    </a:lnTo>
                    <a:lnTo>
                      <a:pt x="310" y="1354"/>
                    </a:lnTo>
                    <a:lnTo>
                      <a:pt x="351" y="1424"/>
                    </a:lnTo>
                    <a:lnTo>
                      <a:pt x="397" y="1490"/>
                    </a:lnTo>
                    <a:lnTo>
                      <a:pt x="451" y="1551"/>
                    </a:lnTo>
                    <a:lnTo>
                      <a:pt x="511" y="1604"/>
                    </a:lnTo>
                    <a:lnTo>
                      <a:pt x="578" y="1651"/>
                    </a:lnTo>
                    <a:lnTo>
                      <a:pt x="584" y="1657"/>
                    </a:lnTo>
                    <a:lnTo>
                      <a:pt x="579" y="1660"/>
                    </a:lnTo>
                    <a:lnTo>
                      <a:pt x="566" y="1660"/>
                    </a:lnTo>
                    <a:lnTo>
                      <a:pt x="544" y="1658"/>
                    </a:lnTo>
                    <a:lnTo>
                      <a:pt x="517" y="1652"/>
                    </a:lnTo>
                    <a:lnTo>
                      <a:pt x="483" y="1641"/>
                    </a:lnTo>
                    <a:lnTo>
                      <a:pt x="444" y="1626"/>
                    </a:lnTo>
                    <a:lnTo>
                      <a:pt x="401" y="1606"/>
                    </a:lnTo>
                    <a:lnTo>
                      <a:pt x="357" y="1582"/>
                    </a:lnTo>
                    <a:lnTo>
                      <a:pt x="310" y="1551"/>
                    </a:lnTo>
                    <a:lnTo>
                      <a:pt x="263" y="1513"/>
                    </a:lnTo>
                    <a:lnTo>
                      <a:pt x="217" y="1468"/>
                    </a:lnTo>
                    <a:lnTo>
                      <a:pt x="172" y="1417"/>
                    </a:lnTo>
                    <a:lnTo>
                      <a:pt x="131" y="1357"/>
                    </a:lnTo>
                    <a:lnTo>
                      <a:pt x="93" y="1289"/>
                    </a:lnTo>
                    <a:lnTo>
                      <a:pt x="61" y="1213"/>
                    </a:lnTo>
                    <a:lnTo>
                      <a:pt x="42" y="1155"/>
                    </a:lnTo>
                    <a:lnTo>
                      <a:pt x="26" y="1096"/>
                    </a:lnTo>
                    <a:lnTo>
                      <a:pt x="15" y="1035"/>
                    </a:lnTo>
                    <a:lnTo>
                      <a:pt x="6" y="972"/>
                    </a:lnTo>
                    <a:lnTo>
                      <a:pt x="1" y="909"/>
                    </a:lnTo>
                    <a:lnTo>
                      <a:pt x="0" y="844"/>
                    </a:lnTo>
                    <a:lnTo>
                      <a:pt x="1" y="779"/>
                    </a:lnTo>
                    <a:lnTo>
                      <a:pt x="7" y="715"/>
                    </a:lnTo>
                    <a:lnTo>
                      <a:pt x="16" y="651"/>
                    </a:lnTo>
                    <a:lnTo>
                      <a:pt x="28" y="588"/>
                    </a:lnTo>
                    <a:lnTo>
                      <a:pt x="44" y="526"/>
                    </a:lnTo>
                    <a:lnTo>
                      <a:pt x="62" y="465"/>
                    </a:lnTo>
                    <a:lnTo>
                      <a:pt x="84" y="406"/>
                    </a:lnTo>
                    <a:lnTo>
                      <a:pt x="109" y="349"/>
                    </a:lnTo>
                    <a:lnTo>
                      <a:pt x="138" y="296"/>
                    </a:lnTo>
                    <a:lnTo>
                      <a:pt x="169" y="244"/>
                    </a:lnTo>
                    <a:lnTo>
                      <a:pt x="180" y="227"/>
                    </a:lnTo>
                    <a:lnTo>
                      <a:pt x="191" y="211"/>
                    </a:lnTo>
                    <a:lnTo>
                      <a:pt x="205" y="194"/>
                    </a:lnTo>
                    <a:lnTo>
                      <a:pt x="217" y="177"/>
                    </a:lnTo>
                    <a:lnTo>
                      <a:pt x="232" y="161"/>
                    </a:lnTo>
                    <a:lnTo>
                      <a:pt x="246" y="144"/>
                    </a:lnTo>
                    <a:lnTo>
                      <a:pt x="262" y="127"/>
                    </a:lnTo>
                    <a:lnTo>
                      <a:pt x="277" y="110"/>
                    </a:lnTo>
                    <a:lnTo>
                      <a:pt x="293" y="95"/>
                    </a:lnTo>
                    <a:lnTo>
                      <a:pt x="311" y="79"/>
                    </a:lnTo>
                    <a:lnTo>
                      <a:pt x="328" y="64"/>
                    </a:lnTo>
                    <a:lnTo>
                      <a:pt x="346" y="50"/>
                    </a:lnTo>
                    <a:lnTo>
                      <a:pt x="363" y="35"/>
                    </a:lnTo>
                    <a:lnTo>
                      <a:pt x="381" y="23"/>
                    </a:lnTo>
                    <a:lnTo>
                      <a:pt x="399" y="11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4c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6327720" y="3841920"/>
                <a:ext cx="125640" cy="411120"/>
              </a:xfrm>
              <a:custGeom>
                <a:avLst/>
                <a:gdLst/>
                <a:ahLst/>
                <a:rect l="l" t="t" r="r" b="b"/>
                <a:pathLst>
                  <a:path w="471" h="1552">
                    <a:moveTo>
                      <a:pt x="336" y="0"/>
                    </a:moveTo>
                    <a:lnTo>
                      <a:pt x="337" y="2"/>
                    </a:lnTo>
                    <a:lnTo>
                      <a:pt x="334" y="7"/>
                    </a:lnTo>
                    <a:lnTo>
                      <a:pt x="328" y="16"/>
                    </a:lnTo>
                    <a:lnTo>
                      <a:pt x="321" y="31"/>
                    </a:lnTo>
                    <a:lnTo>
                      <a:pt x="309" y="48"/>
                    </a:lnTo>
                    <a:lnTo>
                      <a:pt x="297" y="70"/>
                    </a:lnTo>
                    <a:lnTo>
                      <a:pt x="283" y="94"/>
                    </a:lnTo>
                    <a:lnTo>
                      <a:pt x="268" y="122"/>
                    </a:lnTo>
                    <a:lnTo>
                      <a:pt x="251" y="152"/>
                    </a:lnTo>
                    <a:lnTo>
                      <a:pt x="236" y="186"/>
                    </a:lnTo>
                    <a:lnTo>
                      <a:pt x="219" y="223"/>
                    </a:lnTo>
                    <a:lnTo>
                      <a:pt x="204" y="261"/>
                    </a:lnTo>
                    <a:lnTo>
                      <a:pt x="190" y="301"/>
                    </a:lnTo>
                    <a:lnTo>
                      <a:pt x="176" y="343"/>
                    </a:lnTo>
                    <a:lnTo>
                      <a:pt x="164" y="387"/>
                    </a:lnTo>
                    <a:lnTo>
                      <a:pt x="155" y="433"/>
                    </a:lnTo>
                    <a:lnTo>
                      <a:pt x="145" y="500"/>
                    </a:lnTo>
                    <a:lnTo>
                      <a:pt x="138" y="571"/>
                    </a:lnTo>
                    <a:lnTo>
                      <a:pt x="136" y="644"/>
                    </a:lnTo>
                    <a:lnTo>
                      <a:pt x="137" y="720"/>
                    </a:lnTo>
                    <a:lnTo>
                      <a:pt x="142" y="797"/>
                    </a:lnTo>
                    <a:lnTo>
                      <a:pt x="150" y="874"/>
                    </a:lnTo>
                    <a:lnTo>
                      <a:pt x="162" y="952"/>
                    </a:lnTo>
                    <a:lnTo>
                      <a:pt x="179" y="1029"/>
                    </a:lnTo>
                    <a:lnTo>
                      <a:pt x="199" y="1104"/>
                    </a:lnTo>
                    <a:lnTo>
                      <a:pt x="224" y="1178"/>
                    </a:lnTo>
                    <a:lnTo>
                      <a:pt x="254" y="1249"/>
                    </a:lnTo>
                    <a:lnTo>
                      <a:pt x="287" y="1317"/>
                    </a:lnTo>
                    <a:lnTo>
                      <a:pt x="325" y="1382"/>
                    </a:lnTo>
                    <a:lnTo>
                      <a:pt x="367" y="1441"/>
                    </a:lnTo>
                    <a:lnTo>
                      <a:pt x="414" y="1495"/>
                    </a:lnTo>
                    <a:lnTo>
                      <a:pt x="467" y="1545"/>
                    </a:lnTo>
                    <a:lnTo>
                      <a:pt x="471" y="1550"/>
                    </a:lnTo>
                    <a:lnTo>
                      <a:pt x="467" y="1552"/>
                    </a:lnTo>
                    <a:lnTo>
                      <a:pt x="456" y="1550"/>
                    </a:lnTo>
                    <a:lnTo>
                      <a:pt x="438" y="1545"/>
                    </a:lnTo>
                    <a:lnTo>
                      <a:pt x="414" y="1536"/>
                    </a:lnTo>
                    <a:lnTo>
                      <a:pt x="386" y="1521"/>
                    </a:lnTo>
                    <a:lnTo>
                      <a:pt x="355" y="1503"/>
                    </a:lnTo>
                    <a:lnTo>
                      <a:pt x="321" y="1480"/>
                    </a:lnTo>
                    <a:lnTo>
                      <a:pt x="284" y="1451"/>
                    </a:lnTo>
                    <a:lnTo>
                      <a:pt x="246" y="1417"/>
                    </a:lnTo>
                    <a:lnTo>
                      <a:pt x="208" y="1377"/>
                    </a:lnTo>
                    <a:lnTo>
                      <a:pt x="171" y="1332"/>
                    </a:lnTo>
                    <a:lnTo>
                      <a:pt x="135" y="1281"/>
                    </a:lnTo>
                    <a:lnTo>
                      <a:pt x="102" y="1223"/>
                    </a:lnTo>
                    <a:lnTo>
                      <a:pt x="71" y="1159"/>
                    </a:lnTo>
                    <a:lnTo>
                      <a:pt x="46" y="1088"/>
                    </a:lnTo>
                    <a:lnTo>
                      <a:pt x="30" y="1035"/>
                    </a:lnTo>
                    <a:lnTo>
                      <a:pt x="19" y="981"/>
                    </a:lnTo>
                    <a:lnTo>
                      <a:pt x="9" y="926"/>
                    </a:lnTo>
                    <a:lnTo>
                      <a:pt x="3" y="870"/>
                    </a:lnTo>
                    <a:lnTo>
                      <a:pt x="0" y="813"/>
                    </a:lnTo>
                    <a:lnTo>
                      <a:pt x="0" y="756"/>
                    </a:lnTo>
                    <a:lnTo>
                      <a:pt x="2" y="699"/>
                    </a:lnTo>
                    <a:lnTo>
                      <a:pt x="8" y="642"/>
                    </a:lnTo>
                    <a:lnTo>
                      <a:pt x="16" y="587"/>
                    </a:lnTo>
                    <a:lnTo>
                      <a:pt x="26" y="531"/>
                    </a:lnTo>
                    <a:lnTo>
                      <a:pt x="39" y="476"/>
                    </a:lnTo>
                    <a:lnTo>
                      <a:pt x="55" y="423"/>
                    </a:lnTo>
                    <a:lnTo>
                      <a:pt x="73" y="370"/>
                    </a:lnTo>
                    <a:lnTo>
                      <a:pt x="93" y="320"/>
                    </a:lnTo>
                    <a:lnTo>
                      <a:pt x="116" y="272"/>
                    </a:lnTo>
                    <a:lnTo>
                      <a:pt x="141" y="225"/>
                    </a:lnTo>
                    <a:lnTo>
                      <a:pt x="150" y="210"/>
                    </a:lnTo>
                    <a:lnTo>
                      <a:pt x="159" y="195"/>
                    </a:lnTo>
                    <a:lnTo>
                      <a:pt x="169" y="180"/>
                    </a:lnTo>
                    <a:lnTo>
                      <a:pt x="180" y="165"/>
                    </a:lnTo>
                    <a:lnTo>
                      <a:pt x="191" y="149"/>
                    </a:lnTo>
                    <a:lnTo>
                      <a:pt x="202" y="133"/>
                    </a:lnTo>
                    <a:lnTo>
                      <a:pt x="214" y="119"/>
                    </a:lnTo>
                    <a:lnTo>
                      <a:pt x="227" y="103"/>
                    </a:lnTo>
                    <a:lnTo>
                      <a:pt x="240" y="89"/>
                    </a:lnTo>
                    <a:lnTo>
                      <a:pt x="252" y="74"/>
                    </a:lnTo>
                    <a:lnTo>
                      <a:pt x="266" y="61"/>
                    </a:lnTo>
                    <a:lnTo>
                      <a:pt x="280" y="47"/>
                    </a:lnTo>
                    <a:lnTo>
                      <a:pt x="294" y="34"/>
                    </a:lnTo>
                    <a:lnTo>
                      <a:pt x="308" y="23"/>
                    </a:lnTo>
                    <a:lnTo>
                      <a:pt x="322" y="11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302d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6329520" y="3863880"/>
                <a:ext cx="95040" cy="381240"/>
              </a:xfrm>
              <a:custGeom>
                <a:avLst/>
                <a:gdLst/>
                <a:ahLst/>
                <a:rect l="l" t="t" r="r" b="b"/>
                <a:pathLst>
                  <a:path w="361" h="1441">
                    <a:moveTo>
                      <a:pt x="258" y="0"/>
                    </a:moveTo>
                    <a:lnTo>
                      <a:pt x="256" y="6"/>
                    </a:lnTo>
                    <a:lnTo>
                      <a:pt x="243" y="27"/>
                    </a:lnTo>
                    <a:lnTo>
                      <a:pt x="220" y="63"/>
                    </a:lnTo>
                    <a:lnTo>
                      <a:pt x="195" y="112"/>
                    </a:lnTo>
                    <a:lnTo>
                      <a:pt x="167" y="171"/>
                    </a:lnTo>
                    <a:lnTo>
                      <a:pt x="139" y="240"/>
                    </a:lnTo>
                    <a:lnTo>
                      <a:pt x="117" y="317"/>
                    </a:lnTo>
                    <a:lnTo>
                      <a:pt x="100" y="399"/>
                    </a:lnTo>
                    <a:lnTo>
                      <a:pt x="93" y="458"/>
                    </a:lnTo>
                    <a:lnTo>
                      <a:pt x="90" y="522"/>
                    </a:lnTo>
                    <a:lnTo>
                      <a:pt x="90" y="586"/>
                    </a:lnTo>
                    <a:lnTo>
                      <a:pt x="93" y="655"/>
                    </a:lnTo>
                    <a:lnTo>
                      <a:pt x="99" y="724"/>
                    </a:lnTo>
                    <a:lnTo>
                      <a:pt x="108" y="793"/>
                    </a:lnTo>
                    <a:lnTo>
                      <a:pt x="120" y="865"/>
                    </a:lnTo>
                    <a:lnTo>
                      <a:pt x="136" y="935"/>
                    </a:lnTo>
                    <a:lnTo>
                      <a:pt x="153" y="1005"/>
                    </a:lnTo>
                    <a:lnTo>
                      <a:pt x="175" y="1074"/>
                    </a:lnTo>
                    <a:lnTo>
                      <a:pt x="199" y="1141"/>
                    </a:lnTo>
                    <a:lnTo>
                      <a:pt x="226" y="1206"/>
                    </a:lnTo>
                    <a:lnTo>
                      <a:pt x="255" y="1269"/>
                    </a:lnTo>
                    <a:lnTo>
                      <a:pt x="288" y="1328"/>
                    </a:lnTo>
                    <a:lnTo>
                      <a:pt x="322" y="1383"/>
                    </a:lnTo>
                    <a:lnTo>
                      <a:pt x="359" y="1434"/>
                    </a:lnTo>
                    <a:lnTo>
                      <a:pt x="361" y="1440"/>
                    </a:lnTo>
                    <a:lnTo>
                      <a:pt x="357" y="1441"/>
                    </a:lnTo>
                    <a:lnTo>
                      <a:pt x="348" y="1437"/>
                    </a:lnTo>
                    <a:lnTo>
                      <a:pt x="333" y="1429"/>
                    </a:lnTo>
                    <a:lnTo>
                      <a:pt x="314" y="1416"/>
                    </a:lnTo>
                    <a:lnTo>
                      <a:pt x="292" y="1399"/>
                    </a:lnTo>
                    <a:lnTo>
                      <a:pt x="267" y="1377"/>
                    </a:lnTo>
                    <a:lnTo>
                      <a:pt x="241" y="1350"/>
                    </a:lnTo>
                    <a:lnTo>
                      <a:pt x="212" y="1318"/>
                    </a:lnTo>
                    <a:lnTo>
                      <a:pt x="183" y="1282"/>
                    </a:lnTo>
                    <a:lnTo>
                      <a:pt x="153" y="1241"/>
                    </a:lnTo>
                    <a:lnTo>
                      <a:pt x="124" y="1195"/>
                    </a:lnTo>
                    <a:lnTo>
                      <a:pt x="96" y="1144"/>
                    </a:lnTo>
                    <a:lnTo>
                      <a:pt x="72" y="1088"/>
                    </a:lnTo>
                    <a:lnTo>
                      <a:pt x="48" y="1028"/>
                    </a:lnTo>
                    <a:lnTo>
                      <a:pt x="29" y="962"/>
                    </a:lnTo>
                    <a:lnTo>
                      <a:pt x="10" y="866"/>
                    </a:lnTo>
                    <a:lnTo>
                      <a:pt x="2" y="767"/>
                    </a:lnTo>
                    <a:lnTo>
                      <a:pt x="0" y="668"/>
                    </a:lnTo>
                    <a:lnTo>
                      <a:pt x="8" y="571"/>
                    </a:lnTo>
                    <a:lnTo>
                      <a:pt x="24" y="474"/>
                    </a:lnTo>
                    <a:lnTo>
                      <a:pt x="47" y="380"/>
                    </a:lnTo>
                    <a:lnTo>
                      <a:pt x="76" y="291"/>
                    </a:lnTo>
                    <a:lnTo>
                      <a:pt x="112" y="205"/>
                    </a:lnTo>
                    <a:lnTo>
                      <a:pt x="126" y="177"/>
                    </a:lnTo>
                    <a:lnTo>
                      <a:pt x="141" y="149"/>
                    </a:lnTo>
                    <a:lnTo>
                      <a:pt x="158" y="121"/>
                    </a:lnTo>
                    <a:lnTo>
                      <a:pt x="176" y="93"/>
                    </a:lnTo>
                    <a:lnTo>
                      <a:pt x="196" y="66"/>
                    </a:lnTo>
                    <a:lnTo>
                      <a:pt x="216" y="42"/>
                    </a:lnTo>
                    <a:lnTo>
                      <a:pt x="237" y="19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161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480000" y="3836880"/>
                <a:ext cx="95400" cy="381240"/>
              </a:xfrm>
              <a:custGeom>
                <a:avLst/>
                <a:gdLst/>
                <a:ahLst/>
                <a:rect l="l" t="t" r="r" b="b"/>
                <a:pathLst>
                  <a:path w="360" h="1440">
                    <a:moveTo>
                      <a:pt x="257" y="0"/>
                    </a:moveTo>
                    <a:lnTo>
                      <a:pt x="255" y="4"/>
                    </a:lnTo>
                    <a:lnTo>
                      <a:pt x="241" y="27"/>
                    </a:lnTo>
                    <a:lnTo>
                      <a:pt x="219" y="62"/>
                    </a:lnTo>
                    <a:lnTo>
                      <a:pt x="193" y="110"/>
                    </a:lnTo>
                    <a:lnTo>
                      <a:pt x="165" y="171"/>
                    </a:lnTo>
                    <a:lnTo>
                      <a:pt x="137" y="240"/>
                    </a:lnTo>
                    <a:lnTo>
                      <a:pt x="115" y="316"/>
                    </a:lnTo>
                    <a:lnTo>
                      <a:pt x="98" y="398"/>
                    </a:lnTo>
                    <a:lnTo>
                      <a:pt x="92" y="457"/>
                    </a:lnTo>
                    <a:lnTo>
                      <a:pt x="89" y="520"/>
                    </a:lnTo>
                    <a:lnTo>
                      <a:pt x="89" y="586"/>
                    </a:lnTo>
                    <a:lnTo>
                      <a:pt x="93" y="653"/>
                    </a:lnTo>
                    <a:lnTo>
                      <a:pt x="98" y="722"/>
                    </a:lnTo>
                    <a:lnTo>
                      <a:pt x="108" y="792"/>
                    </a:lnTo>
                    <a:lnTo>
                      <a:pt x="121" y="863"/>
                    </a:lnTo>
                    <a:lnTo>
                      <a:pt x="136" y="933"/>
                    </a:lnTo>
                    <a:lnTo>
                      <a:pt x="154" y="1003"/>
                    </a:lnTo>
                    <a:lnTo>
                      <a:pt x="175" y="1073"/>
                    </a:lnTo>
                    <a:lnTo>
                      <a:pt x="199" y="1140"/>
                    </a:lnTo>
                    <a:lnTo>
                      <a:pt x="226" y="1206"/>
                    </a:lnTo>
                    <a:lnTo>
                      <a:pt x="255" y="1268"/>
                    </a:lnTo>
                    <a:lnTo>
                      <a:pt x="286" y="1327"/>
                    </a:lnTo>
                    <a:lnTo>
                      <a:pt x="321" y="1383"/>
                    </a:lnTo>
                    <a:lnTo>
                      <a:pt x="357" y="1434"/>
                    </a:lnTo>
                    <a:lnTo>
                      <a:pt x="360" y="1440"/>
                    </a:lnTo>
                    <a:lnTo>
                      <a:pt x="356" y="1440"/>
                    </a:lnTo>
                    <a:lnTo>
                      <a:pt x="347" y="1437"/>
                    </a:lnTo>
                    <a:lnTo>
                      <a:pt x="333" y="1428"/>
                    </a:lnTo>
                    <a:lnTo>
                      <a:pt x="315" y="1415"/>
                    </a:lnTo>
                    <a:lnTo>
                      <a:pt x="293" y="1398"/>
                    </a:lnTo>
                    <a:lnTo>
                      <a:pt x="268" y="1375"/>
                    </a:lnTo>
                    <a:lnTo>
                      <a:pt x="240" y="1348"/>
                    </a:lnTo>
                    <a:lnTo>
                      <a:pt x="212" y="1316"/>
                    </a:lnTo>
                    <a:lnTo>
                      <a:pt x="183" y="1280"/>
                    </a:lnTo>
                    <a:lnTo>
                      <a:pt x="153" y="1239"/>
                    </a:lnTo>
                    <a:lnTo>
                      <a:pt x="124" y="1193"/>
                    </a:lnTo>
                    <a:lnTo>
                      <a:pt x="97" y="1142"/>
                    </a:lnTo>
                    <a:lnTo>
                      <a:pt x="71" y="1086"/>
                    </a:lnTo>
                    <a:lnTo>
                      <a:pt x="48" y="1026"/>
                    </a:lnTo>
                    <a:lnTo>
                      <a:pt x="29" y="960"/>
                    </a:lnTo>
                    <a:lnTo>
                      <a:pt x="10" y="864"/>
                    </a:lnTo>
                    <a:lnTo>
                      <a:pt x="1" y="766"/>
                    </a:lnTo>
                    <a:lnTo>
                      <a:pt x="0" y="667"/>
                    </a:lnTo>
                    <a:lnTo>
                      <a:pt x="9" y="570"/>
                    </a:lnTo>
                    <a:lnTo>
                      <a:pt x="25" y="474"/>
                    </a:lnTo>
                    <a:lnTo>
                      <a:pt x="47" y="380"/>
                    </a:lnTo>
                    <a:lnTo>
                      <a:pt x="77" y="290"/>
                    </a:lnTo>
                    <a:lnTo>
                      <a:pt x="113" y="204"/>
                    </a:lnTo>
                    <a:lnTo>
                      <a:pt x="126" y="176"/>
                    </a:lnTo>
                    <a:lnTo>
                      <a:pt x="142" y="148"/>
                    </a:lnTo>
                    <a:lnTo>
                      <a:pt x="159" y="120"/>
                    </a:lnTo>
                    <a:lnTo>
                      <a:pt x="176" y="92"/>
                    </a:lnTo>
                    <a:lnTo>
                      <a:pt x="195" y="67"/>
                    </a:lnTo>
                    <a:lnTo>
                      <a:pt x="216" y="42"/>
                    </a:lnTo>
                    <a:lnTo>
                      <a:pt x="236" y="20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161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6437160" y="3753000"/>
                <a:ext cx="184320" cy="291960"/>
              </a:xfrm>
              <a:custGeom>
                <a:avLst/>
                <a:gdLst/>
                <a:ahLst/>
                <a:rect l="l" t="t" r="r" b="b"/>
                <a:pathLst>
                  <a:path w="695" h="1108">
                    <a:moveTo>
                      <a:pt x="695" y="0"/>
                    </a:moveTo>
                    <a:lnTo>
                      <a:pt x="695" y="1"/>
                    </a:lnTo>
                    <a:lnTo>
                      <a:pt x="689" y="2"/>
                    </a:lnTo>
                    <a:lnTo>
                      <a:pt x="680" y="6"/>
                    </a:lnTo>
                    <a:lnTo>
                      <a:pt x="667" y="10"/>
                    </a:lnTo>
                    <a:lnTo>
                      <a:pt x="650" y="17"/>
                    </a:lnTo>
                    <a:lnTo>
                      <a:pt x="631" y="25"/>
                    </a:lnTo>
                    <a:lnTo>
                      <a:pt x="609" y="34"/>
                    </a:lnTo>
                    <a:lnTo>
                      <a:pt x="584" y="44"/>
                    </a:lnTo>
                    <a:lnTo>
                      <a:pt x="558" y="57"/>
                    </a:lnTo>
                    <a:lnTo>
                      <a:pt x="530" y="72"/>
                    </a:lnTo>
                    <a:lnTo>
                      <a:pt x="502" y="87"/>
                    </a:lnTo>
                    <a:lnTo>
                      <a:pt x="473" y="105"/>
                    </a:lnTo>
                    <a:lnTo>
                      <a:pt x="444" y="126"/>
                    </a:lnTo>
                    <a:lnTo>
                      <a:pt x="415" y="148"/>
                    </a:lnTo>
                    <a:lnTo>
                      <a:pt x="387" y="172"/>
                    </a:lnTo>
                    <a:lnTo>
                      <a:pt x="360" y="199"/>
                    </a:lnTo>
                    <a:lnTo>
                      <a:pt x="325" y="239"/>
                    </a:lnTo>
                    <a:lnTo>
                      <a:pt x="293" y="283"/>
                    </a:lnTo>
                    <a:lnTo>
                      <a:pt x="260" y="331"/>
                    </a:lnTo>
                    <a:lnTo>
                      <a:pt x="231" y="381"/>
                    </a:lnTo>
                    <a:lnTo>
                      <a:pt x="203" y="436"/>
                    </a:lnTo>
                    <a:lnTo>
                      <a:pt x="178" y="491"/>
                    </a:lnTo>
                    <a:lnTo>
                      <a:pt x="154" y="551"/>
                    </a:lnTo>
                    <a:lnTo>
                      <a:pt x="134" y="611"/>
                    </a:lnTo>
                    <a:lnTo>
                      <a:pt x="116" y="672"/>
                    </a:lnTo>
                    <a:lnTo>
                      <a:pt x="102" y="735"/>
                    </a:lnTo>
                    <a:lnTo>
                      <a:pt x="89" y="797"/>
                    </a:lnTo>
                    <a:lnTo>
                      <a:pt x="82" y="860"/>
                    </a:lnTo>
                    <a:lnTo>
                      <a:pt x="77" y="922"/>
                    </a:lnTo>
                    <a:lnTo>
                      <a:pt x="77" y="984"/>
                    </a:lnTo>
                    <a:lnTo>
                      <a:pt x="82" y="1044"/>
                    </a:lnTo>
                    <a:lnTo>
                      <a:pt x="89" y="1103"/>
                    </a:lnTo>
                    <a:lnTo>
                      <a:pt x="85" y="1108"/>
                    </a:lnTo>
                    <a:lnTo>
                      <a:pt x="70" y="1085"/>
                    </a:lnTo>
                    <a:lnTo>
                      <a:pt x="49" y="1040"/>
                    </a:lnTo>
                    <a:lnTo>
                      <a:pt x="27" y="974"/>
                    </a:lnTo>
                    <a:lnTo>
                      <a:pt x="9" y="890"/>
                    </a:lnTo>
                    <a:lnTo>
                      <a:pt x="0" y="794"/>
                    </a:lnTo>
                    <a:lnTo>
                      <a:pt x="5" y="686"/>
                    </a:lnTo>
                    <a:lnTo>
                      <a:pt x="28" y="571"/>
                    </a:lnTo>
                    <a:lnTo>
                      <a:pt x="41" y="529"/>
                    </a:lnTo>
                    <a:lnTo>
                      <a:pt x="57" y="489"/>
                    </a:lnTo>
                    <a:lnTo>
                      <a:pt x="76" y="450"/>
                    </a:lnTo>
                    <a:lnTo>
                      <a:pt x="96" y="412"/>
                    </a:lnTo>
                    <a:lnTo>
                      <a:pt x="118" y="375"/>
                    </a:lnTo>
                    <a:lnTo>
                      <a:pt x="143" y="340"/>
                    </a:lnTo>
                    <a:lnTo>
                      <a:pt x="169" y="305"/>
                    </a:lnTo>
                    <a:lnTo>
                      <a:pt x="198" y="273"/>
                    </a:lnTo>
                    <a:lnTo>
                      <a:pt x="227" y="241"/>
                    </a:lnTo>
                    <a:lnTo>
                      <a:pt x="258" y="211"/>
                    </a:lnTo>
                    <a:lnTo>
                      <a:pt x="291" y="182"/>
                    </a:lnTo>
                    <a:lnTo>
                      <a:pt x="324" y="155"/>
                    </a:lnTo>
                    <a:lnTo>
                      <a:pt x="359" y="131"/>
                    </a:lnTo>
                    <a:lnTo>
                      <a:pt x="393" y="107"/>
                    </a:lnTo>
                    <a:lnTo>
                      <a:pt x="430" y="86"/>
                    </a:lnTo>
                    <a:lnTo>
                      <a:pt x="467" y="66"/>
                    </a:lnTo>
                    <a:lnTo>
                      <a:pt x="479" y="59"/>
                    </a:lnTo>
                    <a:lnTo>
                      <a:pt x="492" y="54"/>
                    </a:lnTo>
                    <a:lnTo>
                      <a:pt x="505" y="47"/>
                    </a:lnTo>
                    <a:lnTo>
                      <a:pt x="520" y="41"/>
                    </a:lnTo>
                    <a:lnTo>
                      <a:pt x="533" y="36"/>
                    </a:lnTo>
                    <a:lnTo>
                      <a:pt x="548" y="30"/>
                    </a:lnTo>
                    <a:lnTo>
                      <a:pt x="562" y="26"/>
                    </a:lnTo>
                    <a:lnTo>
                      <a:pt x="578" y="21"/>
                    </a:lnTo>
                    <a:lnTo>
                      <a:pt x="592" y="17"/>
                    </a:lnTo>
                    <a:lnTo>
                      <a:pt x="607" y="12"/>
                    </a:lnTo>
                    <a:lnTo>
                      <a:pt x="622" y="9"/>
                    </a:lnTo>
                    <a:lnTo>
                      <a:pt x="637" y="7"/>
                    </a:lnTo>
                    <a:lnTo>
                      <a:pt x="653" y="5"/>
                    </a:lnTo>
                    <a:lnTo>
                      <a:pt x="667" y="2"/>
                    </a:lnTo>
                    <a:lnTo>
                      <a:pt x="680" y="1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ef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570720" y="3967200"/>
                <a:ext cx="127080" cy="168120"/>
              </a:xfrm>
              <a:custGeom>
                <a:avLst/>
                <a:gdLst/>
                <a:ahLst/>
                <a:rect l="l" t="t" r="r" b="b"/>
                <a:pathLst>
                  <a:path w="481" h="634">
                    <a:moveTo>
                      <a:pt x="8" y="0"/>
                    </a:moveTo>
                    <a:lnTo>
                      <a:pt x="5" y="3"/>
                    </a:lnTo>
                    <a:lnTo>
                      <a:pt x="1" y="21"/>
                    </a:lnTo>
                    <a:lnTo>
                      <a:pt x="0" y="52"/>
                    </a:lnTo>
                    <a:lnTo>
                      <a:pt x="1" y="95"/>
                    </a:lnTo>
                    <a:lnTo>
                      <a:pt x="5" y="145"/>
                    </a:lnTo>
                    <a:lnTo>
                      <a:pt x="11" y="201"/>
                    </a:lnTo>
                    <a:lnTo>
                      <a:pt x="23" y="262"/>
                    </a:lnTo>
                    <a:lnTo>
                      <a:pt x="38" y="325"/>
                    </a:lnTo>
                    <a:lnTo>
                      <a:pt x="59" y="387"/>
                    </a:lnTo>
                    <a:lnTo>
                      <a:pt x="85" y="446"/>
                    </a:lnTo>
                    <a:lnTo>
                      <a:pt x="117" y="502"/>
                    </a:lnTo>
                    <a:lnTo>
                      <a:pt x="158" y="551"/>
                    </a:lnTo>
                    <a:lnTo>
                      <a:pt x="205" y="591"/>
                    </a:lnTo>
                    <a:lnTo>
                      <a:pt x="259" y="620"/>
                    </a:lnTo>
                    <a:lnTo>
                      <a:pt x="324" y="634"/>
                    </a:lnTo>
                    <a:lnTo>
                      <a:pt x="397" y="634"/>
                    </a:lnTo>
                    <a:lnTo>
                      <a:pt x="428" y="631"/>
                    </a:lnTo>
                    <a:lnTo>
                      <a:pt x="452" y="627"/>
                    </a:lnTo>
                    <a:lnTo>
                      <a:pt x="467" y="624"/>
                    </a:lnTo>
                    <a:lnTo>
                      <a:pt x="477" y="621"/>
                    </a:lnTo>
                    <a:lnTo>
                      <a:pt x="481" y="616"/>
                    </a:lnTo>
                    <a:lnTo>
                      <a:pt x="478" y="612"/>
                    </a:lnTo>
                    <a:lnTo>
                      <a:pt x="472" y="607"/>
                    </a:lnTo>
                    <a:lnTo>
                      <a:pt x="460" y="602"/>
                    </a:lnTo>
                    <a:lnTo>
                      <a:pt x="446" y="595"/>
                    </a:lnTo>
                    <a:lnTo>
                      <a:pt x="427" y="587"/>
                    </a:lnTo>
                    <a:lnTo>
                      <a:pt x="406" y="578"/>
                    </a:lnTo>
                    <a:lnTo>
                      <a:pt x="382" y="567"/>
                    </a:lnTo>
                    <a:lnTo>
                      <a:pt x="357" y="555"/>
                    </a:lnTo>
                    <a:lnTo>
                      <a:pt x="330" y="541"/>
                    </a:lnTo>
                    <a:lnTo>
                      <a:pt x="303" y="525"/>
                    </a:lnTo>
                    <a:lnTo>
                      <a:pt x="275" y="507"/>
                    </a:lnTo>
                    <a:lnTo>
                      <a:pt x="246" y="483"/>
                    </a:lnTo>
                    <a:lnTo>
                      <a:pt x="219" y="454"/>
                    </a:lnTo>
                    <a:lnTo>
                      <a:pt x="193" y="421"/>
                    </a:lnTo>
                    <a:lnTo>
                      <a:pt x="169" y="384"/>
                    </a:lnTo>
                    <a:lnTo>
                      <a:pt x="147" y="345"/>
                    </a:lnTo>
                    <a:lnTo>
                      <a:pt x="126" y="305"/>
                    </a:lnTo>
                    <a:lnTo>
                      <a:pt x="107" y="262"/>
                    </a:lnTo>
                    <a:lnTo>
                      <a:pt x="91" y="221"/>
                    </a:lnTo>
                    <a:lnTo>
                      <a:pt x="75" y="181"/>
                    </a:lnTo>
                    <a:lnTo>
                      <a:pt x="61" y="143"/>
                    </a:lnTo>
                    <a:lnTo>
                      <a:pt x="48" y="107"/>
                    </a:lnTo>
                    <a:lnTo>
                      <a:pt x="37" y="75"/>
                    </a:lnTo>
                    <a:lnTo>
                      <a:pt x="28" y="48"/>
                    </a:lnTo>
                    <a:lnTo>
                      <a:pt x="19" y="26"/>
                    </a:lnTo>
                    <a:lnTo>
                      <a:pt x="14" y="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6291360" y="3986280"/>
                <a:ext cx="100080" cy="268200"/>
              </a:xfrm>
              <a:custGeom>
                <a:avLst/>
                <a:gdLst/>
                <a:ahLst/>
                <a:rect l="l" t="t" r="r" b="b"/>
                <a:pathLst>
                  <a:path w="382" h="1014">
                    <a:moveTo>
                      <a:pt x="24" y="5"/>
                    </a:moveTo>
                    <a:lnTo>
                      <a:pt x="18" y="0"/>
                    </a:lnTo>
                    <a:lnTo>
                      <a:pt x="11" y="13"/>
                    </a:lnTo>
                    <a:lnTo>
                      <a:pt x="7" y="43"/>
                    </a:lnTo>
                    <a:lnTo>
                      <a:pt x="2" y="89"/>
                    </a:lnTo>
                    <a:lnTo>
                      <a:pt x="0" y="147"/>
                    </a:lnTo>
                    <a:lnTo>
                      <a:pt x="1" y="215"/>
                    </a:lnTo>
                    <a:lnTo>
                      <a:pt x="6" y="292"/>
                    </a:lnTo>
                    <a:lnTo>
                      <a:pt x="15" y="375"/>
                    </a:lnTo>
                    <a:lnTo>
                      <a:pt x="29" y="461"/>
                    </a:lnTo>
                    <a:lnTo>
                      <a:pt x="48" y="549"/>
                    </a:lnTo>
                    <a:lnTo>
                      <a:pt x="75" y="636"/>
                    </a:lnTo>
                    <a:lnTo>
                      <a:pt x="108" y="721"/>
                    </a:lnTo>
                    <a:lnTo>
                      <a:pt x="149" y="800"/>
                    </a:lnTo>
                    <a:lnTo>
                      <a:pt x="199" y="873"/>
                    </a:lnTo>
                    <a:lnTo>
                      <a:pt x="258" y="935"/>
                    </a:lnTo>
                    <a:lnTo>
                      <a:pt x="327" y="987"/>
                    </a:lnTo>
                    <a:lnTo>
                      <a:pt x="347" y="998"/>
                    </a:lnTo>
                    <a:lnTo>
                      <a:pt x="363" y="1007"/>
                    </a:lnTo>
                    <a:lnTo>
                      <a:pt x="374" y="1011"/>
                    </a:lnTo>
                    <a:lnTo>
                      <a:pt x="380" y="1014"/>
                    </a:lnTo>
                    <a:lnTo>
                      <a:pt x="382" y="1011"/>
                    </a:lnTo>
                    <a:lnTo>
                      <a:pt x="380" y="1007"/>
                    </a:lnTo>
                    <a:lnTo>
                      <a:pt x="374" y="998"/>
                    </a:lnTo>
                    <a:lnTo>
                      <a:pt x="366" y="987"/>
                    </a:lnTo>
                    <a:lnTo>
                      <a:pt x="355" y="973"/>
                    </a:lnTo>
                    <a:lnTo>
                      <a:pt x="342" y="956"/>
                    </a:lnTo>
                    <a:lnTo>
                      <a:pt x="326" y="935"/>
                    </a:lnTo>
                    <a:lnTo>
                      <a:pt x="310" y="912"/>
                    </a:lnTo>
                    <a:lnTo>
                      <a:pt x="291" y="885"/>
                    </a:lnTo>
                    <a:lnTo>
                      <a:pt x="272" y="856"/>
                    </a:lnTo>
                    <a:lnTo>
                      <a:pt x="251" y="824"/>
                    </a:lnTo>
                    <a:lnTo>
                      <a:pt x="231" y="789"/>
                    </a:lnTo>
                    <a:lnTo>
                      <a:pt x="211" y="748"/>
                    </a:lnTo>
                    <a:lnTo>
                      <a:pt x="191" y="701"/>
                    </a:lnTo>
                    <a:lnTo>
                      <a:pt x="172" y="650"/>
                    </a:lnTo>
                    <a:lnTo>
                      <a:pt x="155" y="594"/>
                    </a:lnTo>
                    <a:lnTo>
                      <a:pt x="139" y="536"/>
                    </a:lnTo>
                    <a:lnTo>
                      <a:pt x="123" y="475"/>
                    </a:lnTo>
                    <a:lnTo>
                      <a:pt x="108" y="414"/>
                    </a:lnTo>
                    <a:lnTo>
                      <a:pt x="95" y="354"/>
                    </a:lnTo>
                    <a:lnTo>
                      <a:pt x="83" y="295"/>
                    </a:lnTo>
                    <a:lnTo>
                      <a:pt x="72" y="239"/>
                    </a:lnTo>
                    <a:lnTo>
                      <a:pt x="60" y="185"/>
                    </a:lnTo>
                    <a:lnTo>
                      <a:pt x="51" y="136"/>
                    </a:lnTo>
                    <a:lnTo>
                      <a:pt x="42" y="92"/>
                    </a:lnTo>
                    <a:lnTo>
                      <a:pt x="36" y="56"/>
                    </a:lnTo>
                    <a:lnTo>
                      <a:pt x="29" y="27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6684840" y="472284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445" h="174">
                    <a:moveTo>
                      <a:pt x="0" y="0"/>
                    </a:moveTo>
                    <a:lnTo>
                      <a:pt x="445" y="174"/>
                    </a:lnTo>
                    <a:lnTo>
                      <a:pt x="159" y="159"/>
                    </a:lnTo>
                    <a:lnTo>
                      <a:pt x="128" y="154"/>
                    </a:lnTo>
                    <a:lnTo>
                      <a:pt x="99" y="144"/>
                    </a:lnTo>
                    <a:lnTo>
                      <a:pt x="73" y="128"/>
                    </a:lnTo>
                    <a:lnTo>
                      <a:pt x="50" y="109"/>
                    </a:lnTo>
                    <a:lnTo>
                      <a:pt x="31" y="86"/>
                    </a:lnTo>
                    <a:lnTo>
                      <a:pt x="15" y="59"/>
                    </a:lnTo>
                    <a:lnTo>
                      <a:pt x="5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684840" y="4691160"/>
                <a:ext cx="209520" cy="82440"/>
              </a:xfrm>
              <a:custGeom>
                <a:avLst/>
                <a:gdLst/>
                <a:ahLst/>
                <a:rect l="l" t="t" r="r" b="b"/>
                <a:pathLst>
                  <a:path w="791" h="313">
                    <a:moveTo>
                      <a:pt x="445" y="294"/>
                    </a:moveTo>
                    <a:lnTo>
                      <a:pt x="0" y="120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3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791" y="313"/>
                    </a:lnTo>
                    <a:lnTo>
                      <a:pt x="445" y="294"/>
                    </a:lnTo>
                    <a:close/>
                  </a:path>
                </a:pathLst>
              </a:custGeom>
              <a:solidFill>
                <a:srgbClr val="d8d3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6684840" y="4659480"/>
                <a:ext cx="300240" cy="118800"/>
              </a:xfrm>
              <a:custGeom>
                <a:avLst/>
                <a:gdLst/>
                <a:ahLst/>
                <a:rect l="l" t="t" r="r" b="b"/>
                <a:pathLst>
                  <a:path w="1137" h="448">
                    <a:moveTo>
                      <a:pt x="791" y="430"/>
                    </a:moveTo>
                    <a:lnTo>
                      <a:pt x="0" y="117"/>
                    </a:lnTo>
                    <a:lnTo>
                      <a:pt x="0" y="0"/>
                    </a:lnTo>
                    <a:lnTo>
                      <a:pt x="1137" y="448"/>
                    </a:lnTo>
                    <a:lnTo>
                      <a:pt x="791" y="430"/>
                    </a:lnTo>
                    <a:close/>
                  </a:path>
                </a:pathLst>
              </a:custGeom>
              <a:solidFill>
                <a:srgbClr val="ddd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684840" y="4629240"/>
                <a:ext cx="392400" cy="153720"/>
              </a:xfrm>
              <a:custGeom>
                <a:avLst/>
                <a:gdLst/>
                <a:ahLst/>
                <a:rect l="l" t="t" r="r" b="b"/>
                <a:pathLst>
                  <a:path w="1484" h="584">
                    <a:moveTo>
                      <a:pt x="1137" y="564"/>
                    </a:moveTo>
                    <a:lnTo>
                      <a:pt x="0" y="116"/>
                    </a:lnTo>
                    <a:lnTo>
                      <a:pt x="0" y="0"/>
                    </a:lnTo>
                    <a:lnTo>
                      <a:pt x="1484" y="584"/>
                    </a:lnTo>
                    <a:lnTo>
                      <a:pt x="1137" y="564"/>
                    </a:lnTo>
                    <a:close/>
                  </a:path>
                </a:pathLst>
              </a:custGeom>
              <a:solidFill>
                <a:srgbClr val="e2d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6684840" y="4599000"/>
                <a:ext cx="454320" cy="185760"/>
              </a:xfrm>
              <a:custGeom>
                <a:avLst/>
                <a:gdLst/>
                <a:ahLst/>
                <a:rect l="l" t="t" r="r" b="b"/>
                <a:pathLst>
                  <a:path w="1714" h="703">
                    <a:moveTo>
                      <a:pt x="1484" y="696"/>
                    </a:moveTo>
                    <a:lnTo>
                      <a:pt x="0" y="112"/>
                    </a:lnTo>
                    <a:lnTo>
                      <a:pt x="0" y="58"/>
                    </a:lnTo>
                    <a:lnTo>
                      <a:pt x="2" y="43"/>
                    </a:lnTo>
                    <a:lnTo>
                      <a:pt x="4" y="27"/>
                    </a:lnTo>
                    <a:lnTo>
                      <a:pt x="7" y="14"/>
                    </a:lnTo>
                    <a:lnTo>
                      <a:pt x="13" y="0"/>
                    </a:lnTo>
                    <a:lnTo>
                      <a:pt x="1714" y="670"/>
                    </a:lnTo>
                    <a:lnTo>
                      <a:pt x="1704" y="678"/>
                    </a:lnTo>
                    <a:lnTo>
                      <a:pt x="1692" y="685"/>
                    </a:lnTo>
                    <a:lnTo>
                      <a:pt x="1681" y="690"/>
                    </a:lnTo>
                    <a:lnTo>
                      <a:pt x="1667" y="696"/>
                    </a:lnTo>
                    <a:lnTo>
                      <a:pt x="1654" y="699"/>
                    </a:lnTo>
                    <a:lnTo>
                      <a:pt x="1641" y="702"/>
                    </a:lnTo>
                    <a:lnTo>
                      <a:pt x="1626" y="703"/>
                    </a:lnTo>
                    <a:lnTo>
                      <a:pt x="1611" y="703"/>
                    </a:lnTo>
                    <a:lnTo>
                      <a:pt x="1484" y="696"/>
                    </a:lnTo>
                    <a:close/>
                  </a:path>
                </a:pathLst>
              </a:custGeom>
              <a:solidFill>
                <a:srgbClr val="e8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6688080" y="4578480"/>
                <a:ext cx="465120" cy="198360"/>
              </a:xfrm>
              <a:custGeom>
                <a:avLst/>
                <a:gdLst/>
                <a:ahLst/>
                <a:rect l="l" t="t" r="r" b="b"/>
                <a:pathLst>
                  <a:path w="1756" h="751">
                    <a:moveTo>
                      <a:pt x="1701" y="751"/>
                    </a:moveTo>
                    <a:lnTo>
                      <a:pt x="0" y="81"/>
                    </a:lnTo>
                    <a:lnTo>
                      <a:pt x="6" y="67"/>
                    </a:lnTo>
                    <a:lnTo>
                      <a:pt x="15" y="53"/>
                    </a:lnTo>
                    <a:lnTo>
                      <a:pt x="24" y="41"/>
                    </a:lnTo>
                    <a:lnTo>
                      <a:pt x="35" y="30"/>
                    </a:lnTo>
                    <a:lnTo>
                      <a:pt x="48" y="20"/>
                    </a:lnTo>
                    <a:lnTo>
                      <a:pt x="61" y="12"/>
                    </a:lnTo>
                    <a:lnTo>
                      <a:pt x="76" y="5"/>
                    </a:lnTo>
                    <a:lnTo>
                      <a:pt x="90" y="0"/>
                    </a:lnTo>
                    <a:lnTo>
                      <a:pt x="1756" y="654"/>
                    </a:lnTo>
                    <a:lnTo>
                      <a:pt x="1754" y="669"/>
                    </a:lnTo>
                    <a:lnTo>
                      <a:pt x="1749" y="682"/>
                    </a:lnTo>
                    <a:lnTo>
                      <a:pt x="1744" y="695"/>
                    </a:lnTo>
                    <a:lnTo>
                      <a:pt x="1737" y="709"/>
                    </a:lnTo>
                    <a:lnTo>
                      <a:pt x="1730" y="720"/>
                    </a:lnTo>
                    <a:lnTo>
                      <a:pt x="1721" y="731"/>
                    </a:lnTo>
                    <a:lnTo>
                      <a:pt x="1711" y="742"/>
                    </a:lnTo>
                    <a:lnTo>
                      <a:pt x="1701" y="751"/>
                    </a:lnTo>
                    <a:close/>
                  </a:path>
                </a:pathLst>
              </a:custGeom>
              <a:solidFill>
                <a:srgbClr val="ede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6711840" y="4573440"/>
                <a:ext cx="441360" cy="177840"/>
              </a:xfrm>
              <a:custGeom>
                <a:avLst/>
                <a:gdLst/>
                <a:ahLst/>
                <a:rect l="l" t="t" r="r" b="b"/>
                <a:pathLst>
                  <a:path w="1667" h="671">
                    <a:moveTo>
                      <a:pt x="1666" y="671"/>
                    </a:moveTo>
                    <a:lnTo>
                      <a:pt x="0" y="17"/>
                    </a:lnTo>
                    <a:lnTo>
                      <a:pt x="7" y="15"/>
                    </a:lnTo>
                    <a:lnTo>
                      <a:pt x="14" y="12"/>
                    </a:lnTo>
                    <a:lnTo>
                      <a:pt x="20" y="11"/>
                    </a:lnTo>
                    <a:lnTo>
                      <a:pt x="28" y="9"/>
                    </a:lnTo>
                    <a:lnTo>
                      <a:pt x="35" y="8"/>
                    </a:lnTo>
                    <a:lnTo>
                      <a:pt x="42" y="8"/>
                    </a:lnTo>
                    <a:lnTo>
                      <a:pt x="49" y="7"/>
                    </a:lnTo>
                    <a:lnTo>
                      <a:pt x="56" y="7"/>
                    </a:lnTo>
                    <a:lnTo>
                      <a:pt x="257" y="0"/>
                    </a:lnTo>
                    <a:lnTo>
                      <a:pt x="1667" y="554"/>
                    </a:lnTo>
                    <a:lnTo>
                      <a:pt x="1667" y="649"/>
                    </a:lnTo>
                    <a:lnTo>
                      <a:pt x="1667" y="654"/>
                    </a:lnTo>
                    <a:lnTo>
                      <a:pt x="1667" y="660"/>
                    </a:lnTo>
                    <a:lnTo>
                      <a:pt x="1667" y="666"/>
                    </a:lnTo>
                    <a:lnTo>
                      <a:pt x="1666" y="671"/>
                    </a:lnTo>
                    <a:close/>
                  </a:path>
                </a:pathLst>
              </a:custGeom>
              <a:solidFill>
                <a:srgbClr val="efed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6780240" y="4572000"/>
                <a:ext cx="372960" cy="147600"/>
              </a:xfrm>
              <a:custGeom>
                <a:avLst/>
                <a:gdLst/>
                <a:ahLst/>
                <a:rect l="l" t="t" r="r" b="b"/>
                <a:pathLst>
                  <a:path w="1410" h="562">
                    <a:moveTo>
                      <a:pt x="1410" y="562"/>
                    </a:moveTo>
                    <a:lnTo>
                      <a:pt x="0" y="8"/>
                    </a:lnTo>
                    <a:lnTo>
                      <a:pt x="278" y="0"/>
                    </a:lnTo>
                    <a:lnTo>
                      <a:pt x="1410" y="446"/>
                    </a:lnTo>
                    <a:lnTo>
                      <a:pt x="1410" y="562"/>
                    </a:lnTo>
                    <a:close/>
                  </a:path>
                </a:pathLst>
              </a:custGeom>
              <a:solidFill>
                <a:srgbClr val="f4f4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2" name=""/>
            <p:cNvSpPr/>
            <p:nvPr/>
          </p:nvSpPr>
          <p:spPr>
            <a:xfrm>
              <a:off x="6853320" y="4568760"/>
              <a:ext cx="299880" cy="120600"/>
            </a:xfrm>
            <a:custGeom>
              <a:avLst/>
              <a:gdLst/>
              <a:ahLst/>
              <a:rect l="l" t="t" r="r" b="b"/>
              <a:pathLst>
                <a:path w="1132" h="455">
                  <a:moveTo>
                    <a:pt x="1132" y="455"/>
                  </a:moveTo>
                  <a:lnTo>
                    <a:pt x="0" y="9"/>
                  </a:lnTo>
                  <a:lnTo>
                    <a:pt x="277" y="0"/>
                  </a:lnTo>
                  <a:lnTo>
                    <a:pt x="1132" y="338"/>
                  </a:lnTo>
                  <a:lnTo>
                    <a:pt x="1132" y="455"/>
                  </a:lnTo>
                  <a:close/>
                </a:path>
              </a:pathLst>
            </a:custGeom>
            <a:solidFill>
              <a:srgbClr val="f9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6927840" y="4567320"/>
              <a:ext cx="225360" cy="90360"/>
            </a:xfrm>
            <a:custGeom>
              <a:avLst/>
              <a:gdLst/>
              <a:ahLst/>
              <a:rect l="l" t="t" r="r" b="b"/>
              <a:pathLst>
                <a:path w="855" h="345">
                  <a:moveTo>
                    <a:pt x="855" y="345"/>
                  </a:moveTo>
                  <a:lnTo>
                    <a:pt x="0" y="7"/>
                  </a:lnTo>
                  <a:lnTo>
                    <a:pt x="280" y="0"/>
                  </a:lnTo>
                  <a:lnTo>
                    <a:pt x="855" y="227"/>
                  </a:lnTo>
                  <a:lnTo>
                    <a:pt x="855" y="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000920" y="4564080"/>
              <a:ext cx="152280" cy="63360"/>
            </a:xfrm>
            <a:custGeom>
              <a:avLst/>
              <a:gdLst/>
              <a:ahLst/>
              <a:rect l="l" t="t" r="r" b="b"/>
              <a:pathLst>
                <a:path w="575" h="240">
                  <a:moveTo>
                    <a:pt x="575" y="240"/>
                  </a:moveTo>
                  <a:lnTo>
                    <a:pt x="0" y="13"/>
                  </a:lnTo>
                  <a:lnTo>
                    <a:pt x="416" y="0"/>
                  </a:lnTo>
                  <a:lnTo>
                    <a:pt x="449" y="4"/>
                  </a:lnTo>
                  <a:lnTo>
                    <a:pt x="479" y="14"/>
                  </a:lnTo>
                  <a:lnTo>
                    <a:pt x="506" y="29"/>
                  </a:lnTo>
                  <a:lnTo>
                    <a:pt x="529" y="50"/>
                  </a:lnTo>
                  <a:lnTo>
                    <a:pt x="548" y="76"/>
                  </a:lnTo>
                  <a:lnTo>
                    <a:pt x="563" y="105"/>
                  </a:lnTo>
                  <a:lnTo>
                    <a:pt x="572" y="136"/>
                  </a:lnTo>
                  <a:lnTo>
                    <a:pt x="575" y="169"/>
                  </a:lnTo>
                  <a:lnTo>
                    <a:pt x="575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6684840" y="4564080"/>
              <a:ext cx="468360" cy="220680"/>
            </a:xfrm>
            <a:custGeom>
              <a:avLst/>
              <a:gdLst/>
              <a:ahLst/>
              <a:rect l="l" t="t" r="r" b="b"/>
              <a:pathLst>
                <a:path w="1770" h="838">
                  <a:moveTo>
                    <a:pt x="159" y="44"/>
                  </a:moveTo>
                  <a:lnTo>
                    <a:pt x="1611" y="0"/>
                  </a:lnTo>
                  <a:lnTo>
                    <a:pt x="1611" y="0"/>
                  </a:lnTo>
                  <a:lnTo>
                    <a:pt x="1644" y="4"/>
                  </a:lnTo>
                  <a:lnTo>
                    <a:pt x="1674" y="14"/>
                  </a:lnTo>
                  <a:lnTo>
                    <a:pt x="1701" y="29"/>
                  </a:lnTo>
                  <a:lnTo>
                    <a:pt x="1724" y="50"/>
                  </a:lnTo>
                  <a:lnTo>
                    <a:pt x="1743" y="76"/>
                  </a:lnTo>
                  <a:lnTo>
                    <a:pt x="1758" y="105"/>
                  </a:lnTo>
                  <a:lnTo>
                    <a:pt x="1767" y="136"/>
                  </a:lnTo>
                  <a:lnTo>
                    <a:pt x="1770" y="169"/>
                  </a:lnTo>
                  <a:lnTo>
                    <a:pt x="1770" y="686"/>
                  </a:lnTo>
                  <a:lnTo>
                    <a:pt x="1770" y="686"/>
                  </a:lnTo>
                  <a:lnTo>
                    <a:pt x="1767" y="718"/>
                  </a:lnTo>
                  <a:lnTo>
                    <a:pt x="1758" y="747"/>
                  </a:lnTo>
                  <a:lnTo>
                    <a:pt x="1743" y="774"/>
                  </a:lnTo>
                  <a:lnTo>
                    <a:pt x="1724" y="796"/>
                  </a:lnTo>
                  <a:lnTo>
                    <a:pt x="1701" y="815"/>
                  </a:lnTo>
                  <a:lnTo>
                    <a:pt x="1674" y="829"/>
                  </a:lnTo>
                  <a:lnTo>
                    <a:pt x="1644" y="837"/>
                  </a:lnTo>
                  <a:lnTo>
                    <a:pt x="1611" y="838"/>
                  </a:lnTo>
                  <a:lnTo>
                    <a:pt x="159" y="759"/>
                  </a:lnTo>
                  <a:lnTo>
                    <a:pt x="159" y="759"/>
                  </a:lnTo>
                  <a:lnTo>
                    <a:pt x="128" y="754"/>
                  </a:lnTo>
                  <a:lnTo>
                    <a:pt x="98" y="744"/>
                  </a:lnTo>
                  <a:lnTo>
                    <a:pt x="71" y="727"/>
                  </a:lnTo>
                  <a:lnTo>
                    <a:pt x="47" y="707"/>
                  </a:lnTo>
                  <a:lnTo>
                    <a:pt x="27" y="682"/>
                  </a:lnTo>
                  <a:lnTo>
                    <a:pt x="13" y="655"/>
                  </a:lnTo>
                  <a:lnTo>
                    <a:pt x="4" y="623"/>
                  </a:lnTo>
                  <a:lnTo>
                    <a:pt x="0" y="591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33"/>
                  </a:lnTo>
                  <a:lnTo>
                    <a:pt x="27" y="107"/>
                  </a:lnTo>
                  <a:lnTo>
                    <a:pt x="47" y="86"/>
                  </a:lnTo>
                  <a:lnTo>
                    <a:pt x="71" y="68"/>
                  </a:lnTo>
                  <a:lnTo>
                    <a:pt x="98" y="55"/>
                  </a:lnTo>
                  <a:lnTo>
                    <a:pt x="128" y="47"/>
                  </a:lnTo>
                  <a:lnTo>
                    <a:pt x="159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6141960" y="3298680"/>
              <a:ext cx="250920" cy="51120"/>
            </a:xfrm>
            <a:custGeom>
              <a:avLst/>
              <a:gdLst/>
              <a:ahLst/>
              <a:rect l="l" t="t" r="r" b="b"/>
              <a:pathLst>
                <a:path w="946" h="189">
                  <a:moveTo>
                    <a:pt x="320" y="0"/>
                  </a:moveTo>
                  <a:lnTo>
                    <a:pt x="946" y="67"/>
                  </a:lnTo>
                  <a:lnTo>
                    <a:pt x="317" y="166"/>
                  </a:lnTo>
                  <a:lnTo>
                    <a:pt x="285" y="170"/>
                  </a:lnTo>
                  <a:lnTo>
                    <a:pt x="254" y="175"/>
                  </a:lnTo>
                  <a:lnTo>
                    <a:pt x="224" y="178"/>
                  </a:lnTo>
                  <a:lnTo>
                    <a:pt x="195" y="182"/>
                  </a:lnTo>
                  <a:lnTo>
                    <a:pt x="167" y="184"/>
                  </a:lnTo>
                  <a:lnTo>
                    <a:pt x="141" y="186"/>
                  </a:lnTo>
                  <a:lnTo>
                    <a:pt x="116" y="187"/>
                  </a:lnTo>
                  <a:lnTo>
                    <a:pt x="94" y="188"/>
                  </a:lnTo>
                  <a:lnTo>
                    <a:pt x="73" y="189"/>
                  </a:lnTo>
                  <a:lnTo>
                    <a:pt x="55" y="188"/>
                  </a:lnTo>
                  <a:lnTo>
                    <a:pt x="38" y="188"/>
                  </a:lnTo>
                  <a:lnTo>
                    <a:pt x="25" y="187"/>
                  </a:lnTo>
                  <a:lnTo>
                    <a:pt x="15" y="185"/>
                  </a:lnTo>
                  <a:lnTo>
                    <a:pt x="7" y="183"/>
                  </a:lnTo>
                  <a:lnTo>
                    <a:pt x="1" y="179"/>
                  </a:lnTo>
                  <a:lnTo>
                    <a:pt x="0" y="176"/>
                  </a:lnTo>
                  <a:lnTo>
                    <a:pt x="0" y="86"/>
                  </a:lnTo>
                  <a:lnTo>
                    <a:pt x="1" y="81"/>
                  </a:lnTo>
                  <a:lnTo>
                    <a:pt x="7" y="78"/>
                  </a:lnTo>
                  <a:lnTo>
                    <a:pt x="15" y="72"/>
                  </a:lnTo>
                  <a:lnTo>
                    <a:pt x="25" y="68"/>
                  </a:lnTo>
                  <a:lnTo>
                    <a:pt x="38" y="62"/>
                  </a:lnTo>
                  <a:lnTo>
                    <a:pt x="55" y="58"/>
                  </a:lnTo>
                  <a:lnTo>
                    <a:pt x="73" y="52"/>
                  </a:lnTo>
                  <a:lnTo>
                    <a:pt x="94" y="45"/>
                  </a:lnTo>
                  <a:lnTo>
                    <a:pt x="116" y="40"/>
                  </a:lnTo>
                  <a:lnTo>
                    <a:pt x="141" y="34"/>
                  </a:lnTo>
                  <a:lnTo>
                    <a:pt x="167" y="29"/>
                  </a:lnTo>
                  <a:lnTo>
                    <a:pt x="195" y="22"/>
                  </a:lnTo>
                  <a:lnTo>
                    <a:pt x="224" y="16"/>
                  </a:lnTo>
                  <a:lnTo>
                    <a:pt x="254" y="11"/>
                  </a:lnTo>
                  <a:lnTo>
                    <a:pt x="285" y="5"/>
                  </a:lnTo>
                  <a:lnTo>
                    <a:pt x="317" y="0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6226200" y="3289320"/>
              <a:ext cx="222120" cy="27000"/>
            </a:xfrm>
            <a:custGeom>
              <a:avLst/>
              <a:gdLst/>
              <a:ahLst/>
              <a:rect l="l" t="t" r="r" b="b"/>
              <a:pathLst>
                <a:path w="840" h="102">
                  <a:moveTo>
                    <a:pt x="626" y="102"/>
                  </a:moveTo>
                  <a:lnTo>
                    <a:pt x="0" y="35"/>
                  </a:lnTo>
                  <a:lnTo>
                    <a:pt x="210" y="0"/>
                  </a:lnTo>
                  <a:lnTo>
                    <a:pt x="840" y="69"/>
                  </a:lnTo>
                  <a:lnTo>
                    <a:pt x="626" y="102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6281640" y="3281400"/>
              <a:ext cx="223920" cy="27000"/>
            </a:xfrm>
            <a:custGeom>
              <a:avLst/>
              <a:gdLst/>
              <a:ahLst/>
              <a:rect l="l" t="t" r="r" b="b"/>
              <a:pathLst>
                <a:path w="841" h="103">
                  <a:moveTo>
                    <a:pt x="630" y="103"/>
                  </a:moveTo>
                  <a:lnTo>
                    <a:pt x="0" y="34"/>
                  </a:lnTo>
                  <a:lnTo>
                    <a:pt x="208" y="0"/>
                  </a:lnTo>
                  <a:lnTo>
                    <a:pt x="841" y="69"/>
                  </a:lnTo>
                  <a:lnTo>
                    <a:pt x="630" y="103"/>
                  </a:lnTo>
                  <a:close/>
                </a:path>
              </a:pathLst>
            </a:custGeom>
            <a:solidFill>
              <a:srgbClr val="aa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6337440" y="3273480"/>
              <a:ext cx="223560" cy="25200"/>
            </a:xfrm>
            <a:custGeom>
              <a:avLst/>
              <a:gdLst/>
              <a:ahLst/>
              <a:rect l="l" t="t" r="r" b="b"/>
              <a:pathLst>
                <a:path w="845" h="101">
                  <a:moveTo>
                    <a:pt x="633" y="101"/>
                  </a:moveTo>
                  <a:lnTo>
                    <a:pt x="0" y="32"/>
                  </a:lnTo>
                  <a:lnTo>
                    <a:pt x="208" y="0"/>
                  </a:lnTo>
                  <a:lnTo>
                    <a:pt x="845" y="68"/>
                  </a:lnTo>
                  <a:lnTo>
                    <a:pt x="633" y="101"/>
                  </a:lnTo>
                  <a:close/>
                </a:path>
              </a:pathLst>
            </a:custGeom>
            <a:solidFill>
              <a:srgbClr val="b5a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6392880" y="3263760"/>
              <a:ext cx="223920" cy="27000"/>
            </a:xfrm>
            <a:custGeom>
              <a:avLst/>
              <a:gdLst/>
              <a:ahLst/>
              <a:rect l="l" t="t" r="r" b="b"/>
              <a:pathLst>
                <a:path w="848" h="101">
                  <a:moveTo>
                    <a:pt x="637" y="101"/>
                  </a:moveTo>
                  <a:lnTo>
                    <a:pt x="0" y="33"/>
                  </a:lnTo>
                  <a:lnTo>
                    <a:pt x="209" y="0"/>
                  </a:lnTo>
                  <a:lnTo>
                    <a:pt x="848" y="68"/>
                  </a:lnTo>
                  <a:lnTo>
                    <a:pt x="637" y="101"/>
                  </a:lnTo>
                  <a:close/>
                </a:path>
              </a:pathLst>
            </a:custGeom>
            <a:solidFill>
              <a:srgbClr val="c1b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6448320" y="3254400"/>
              <a:ext cx="223920" cy="27000"/>
            </a:xfrm>
            <a:custGeom>
              <a:avLst/>
              <a:gdLst/>
              <a:ahLst/>
              <a:rect l="l" t="t" r="r" b="b"/>
              <a:pathLst>
                <a:path w="851" h="103">
                  <a:moveTo>
                    <a:pt x="639" y="103"/>
                  </a:moveTo>
                  <a:lnTo>
                    <a:pt x="0" y="35"/>
                  </a:lnTo>
                  <a:lnTo>
                    <a:pt x="210" y="0"/>
                  </a:lnTo>
                  <a:lnTo>
                    <a:pt x="851" y="70"/>
                  </a:lnTo>
                  <a:lnTo>
                    <a:pt x="639" y="103"/>
                  </a:lnTo>
                  <a:close/>
                </a:path>
              </a:pathLst>
            </a:custGeom>
            <a:solidFill>
              <a:srgbClr val="ce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6504120" y="3246480"/>
              <a:ext cx="225360" cy="27000"/>
            </a:xfrm>
            <a:custGeom>
              <a:avLst/>
              <a:gdLst/>
              <a:ahLst/>
              <a:rect l="l" t="t" r="r" b="b"/>
              <a:pathLst>
                <a:path w="853" h="102">
                  <a:moveTo>
                    <a:pt x="641" y="102"/>
                  </a:moveTo>
                  <a:lnTo>
                    <a:pt x="0" y="32"/>
                  </a:lnTo>
                  <a:lnTo>
                    <a:pt x="209" y="0"/>
                  </a:lnTo>
                  <a:lnTo>
                    <a:pt x="853" y="69"/>
                  </a:lnTo>
                  <a:lnTo>
                    <a:pt x="641" y="102"/>
                  </a:lnTo>
                  <a:close/>
                </a:path>
              </a:pathLst>
            </a:custGeom>
            <a:solidFill>
              <a:srgbClr val="d8d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6559560" y="3236760"/>
              <a:ext cx="225360" cy="27000"/>
            </a:xfrm>
            <a:custGeom>
              <a:avLst/>
              <a:gdLst/>
              <a:ahLst/>
              <a:rect l="l" t="t" r="r" b="b"/>
              <a:pathLst>
                <a:path w="854" h="104">
                  <a:moveTo>
                    <a:pt x="644" y="104"/>
                  </a:moveTo>
                  <a:lnTo>
                    <a:pt x="0" y="35"/>
                  </a:lnTo>
                  <a:lnTo>
                    <a:pt x="208" y="0"/>
                  </a:lnTo>
                  <a:lnTo>
                    <a:pt x="854" y="69"/>
                  </a:lnTo>
                  <a:lnTo>
                    <a:pt x="644" y="104"/>
                  </a:lnTo>
                  <a:close/>
                </a:path>
              </a:pathLst>
            </a:custGeom>
            <a:solidFill>
              <a:srgbClr val="e5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6613560" y="3227400"/>
              <a:ext cx="226800" cy="28440"/>
            </a:xfrm>
            <a:custGeom>
              <a:avLst/>
              <a:gdLst/>
              <a:ahLst/>
              <a:rect l="l" t="t" r="r" b="b"/>
              <a:pathLst>
                <a:path w="856" h="103">
                  <a:moveTo>
                    <a:pt x="646" y="103"/>
                  </a:moveTo>
                  <a:lnTo>
                    <a:pt x="0" y="34"/>
                  </a:lnTo>
                  <a:lnTo>
                    <a:pt x="210" y="0"/>
                  </a:lnTo>
                  <a:lnTo>
                    <a:pt x="856" y="72"/>
                  </a:lnTo>
                  <a:lnTo>
                    <a:pt x="646" y="103"/>
                  </a:lnTo>
                  <a:close/>
                </a:path>
              </a:pathLst>
            </a:custGeom>
            <a:solidFill>
              <a:srgbClr val="f2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6669000" y="3219480"/>
              <a:ext cx="227160" cy="27000"/>
            </a:xfrm>
            <a:custGeom>
              <a:avLst/>
              <a:gdLst/>
              <a:ahLst/>
              <a:rect l="l" t="t" r="r" b="b"/>
              <a:pathLst>
                <a:path w="859" h="105">
                  <a:moveTo>
                    <a:pt x="646" y="105"/>
                  </a:moveTo>
                  <a:lnTo>
                    <a:pt x="0" y="33"/>
                  </a:lnTo>
                  <a:lnTo>
                    <a:pt x="209" y="0"/>
                  </a:lnTo>
                  <a:lnTo>
                    <a:pt x="859" y="70"/>
                  </a:lnTo>
                  <a:lnTo>
                    <a:pt x="64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6724800" y="3168720"/>
              <a:ext cx="355320" cy="69840"/>
            </a:xfrm>
            <a:custGeom>
              <a:avLst/>
              <a:gdLst/>
              <a:ahLst/>
              <a:rect l="l" t="t" r="r" b="b"/>
              <a:pathLst>
                <a:path w="1344" h="259">
                  <a:moveTo>
                    <a:pt x="650" y="259"/>
                  </a:moveTo>
                  <a:lnTo>
                    <a:pt x="0" y="189"/>
                  </a:lnTo>
                  <a:lnTo>
                    <a:pt x="1026" y="25"/>
                  </a:lnTo>
                  <a:lnTo>
                    <a:pt x="1058" y="20"/>
                  </a:lnTo>
                  <a:lnTo>
                    <a:pt x="1089" y="16"/>
                  </a:lnTo>
                  <a:lnTo>
                    <a:pt x="1120" y="11"/>
                  </a:lnTo>
                  <a:lnTo>
                    <a:pt x="1149" y="8"/>
                  </a:lnTo>
                  <a:lnTo>
                    <a:pt x="1177" y="6"/>
                  </a:lnTo>
                  <a:lnTo>
                    <a:pt x="1203" y="4"/>
                  </a:lnTo>
                  <a:lnTo>
                    <a:pt x="1228" y="1"/>
                  </a:lnTo>
                  <a:lnTo>
                    <a:pt x="1250" y="1"/>
                  </a:lnTo>
                  <a:lnTo>
                    <a:pt x="1270" y="0"/>
                  </a:lnTo>
                  <a:lnTo>
                    <a:pt x="1289" y="0"/>
                  </a:lnTo>
                  <a:lnTo>
                    <a:pt x="1305" y="1"/>
                  </a:lnTo>
                  <a:lnTo>
                    <a:pt x="1318" y="3"/>
                  </a:lnTo>
                  <a:lnTo>
                    <a:pt x="1330" y="5"/>
                  </a:lnTo>
                  <a:lnTo>
                    <a:pt x="1337" y="8"/>
                  </a:lnTo>
                  <a:lnTo>
                    <a:pt x="1343" y="11"/>
                  </a:lnTo>
                  <a:lnTo>
                    <a:pt x="1344" y="15"/>
                  </a:lnTo>
                  <a:lnTo>
                    <a:pt x="1344" y="132"/>
                  </a:lnTo>
                  <a:lnTo>
                    <a:pt x="1343" y="136"/>
                  </a:lnTo>
                  <a:lnTo>
                    <a:pt x="1339" y="140"/>
                  </a:lnTo>
                  <a:lnTo>
                    <a:pt x="1332" y="144"/>
                  </a:lnTo>
                  <a:lnTo>
                    <a:pt x="1322" y="148"/>
                  </a:lnTo>
                  <a:lnTo>
                    <a:pt x="1310" y="152"/>
                  </a:lnTo>
                  <a:lnTo>
                    <a:pt x="1295" y="155"/>
                  </a:lnTo>
                  <a:lnTo>
                    <a:pt x="1278" y="160"/>
                  </a:lnTo>
                  <a:lnTo>
                    <a:pt x="1260" y="163"/>
                  </a:lnTo>
                  <a:lnTo>
                    <a:pt x="1239" y="167"/>
                  </a:lnTo>
                  <a:lnTo>
                    <a:pt x="1216" y="171"/>
                  </a:lnTo>
                  <a:lnTo>
                    <a:pt x="1191" y="176"/>
                  </a:lnTo>
                  <a:lnTo>
                    <a:pt x="1165" y="179"/>
                  </a:lnTo>
                  <a:lnTo>
                    <a:pt x="1137" y="183"/>
                  </a:lnTo>
                  <a:lnTo>
                    <a:pt x="1107" y="188"/>
                  </a:lnTo>
                  <a:lnTo>
                    <a:pt x="1077" y="193"/>
                  </a:lnTo>
                  <a:lnTo>
                    <a:pt x="1045" y="198"/>
                  </a:lnTo>
                  <a:lnTo>
                    <a:pt x="650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6141960" y="3168720"/>
              <a:ext cx="938160" cy="181080"/>
            </a:xfrm>
            <a:custGeom>
              <a:avLst/>
              <a:gdLst/>
              <a:ahLst/>
              <a:rect l="l" t="t" r="r" b="b"/>
              <a:pathLst>
                <a:path w="3545" h="681">
                  <a:moveTo>
                    <a:pt x="317" y="492"/>
                  </a:moveTo>
                  <a:lnTo>
                    <a:pt x="3227" y="25"/>
                  </a:lnTo>
                  <a:lnTo>
                    <a:pt x="3227" y="25"/>
                  </a:lnTo>
                  <a:lnTo>
                    <a:pt x="3259" y="20"/>
                  </a:lnTo>
                  <a:lnTo>
                    <a:pt x="3290" y="16"/>
                  </a:lnTo>
                  <a:lnTo>
                    <a:pt x="3321" y="11"/>
                  </a:lnTo>
                  <a:lnTo>
                    <a:pt x="3350" y="8"/>
                  </a:lnTo>
                  <a:lnTo>
                    <a:pt x="3378" y="6"/>
                  </a:lnTo>
                  <a:lnTo>
                    <a:pt x="3404" y="4"/>
                  </a:lnTo>
                  <a:lnTo>
                    <a:pt x="3429" y="1"/>
                  </a:lnTo>
                  <a:lnTo>
                    <a:pt x="3451" y="1"/>
                  </a:lnTo>
                  <a:lnTo>
                    <a:pt x="3471" y="0"/>
                  </a:lnTo>
                  <a:lnTo>
                    <a:pt x="3490" y="0"/>
                  </a:lnTo>
                  <a:lnTo>
                    <a:pt x="3506" y="1"/>
                  </a:lnTo>
                  <a:lnTo>
                    <a:pt x="3519" y="3"/>
                  </a:lnTo>
                  <a:lnTo>
                    <a:pt x="3531" y="5"/>
                  </a:lnTo>
                  <a:lnTo>
                    <a:pt x="3538" y="8"/>
                  </a:lnTo>
                  <a:lnTo>
                    <a:pt x="3544" y="11"/>
                  </a:lnTo>
                  <a:lnTo>
                    <a:pt x="3545" y="15"/>
                  </a:lnTo>
                  <a:lnTo>
                    <a:pt x="3545" y="132"/>
                  </a:lnTo>
                  <a:lnTo>
                    <a:pt x="3545" y="132"/>
                  </a:lnTo>
                  <a:lnTo>
                    <a:pt x="3544" y="136"/>
                  </a:lnTo>
                  <a:lnTo>
                    <a:pt x="3540" y="140"/>
                  </a:lnTo>
                  <a:lnTo>
                    <a:pt x="3533" y="144"/>
                  </a:lnTo>
                  <a:lnTo>
                    <a:pt x="3523" y="148"/>
                  </a:lnTo>
                  <a:lnTo>
                    <a:pt x="3511" y="152"/>
                  </a:lnTo>
                  <a:lnTo>
                    <a:pt x="3496" y="155"/>
                  </a:lnTo>
                  <a:lnTo>
                    <a:pt x="3479" y="160"/>
                  </a:lnTo>
                  <a:lnTo>
                    <a:pt x="3461" y="163"/>
                  </a:lnTo>
                  <a:lnTo>
                    <a:pt x="3440" y="167"/>
                  </a:lnTo>
                  <a:lnTo>
                    <a:pt x="3417" y="171"/>
                  </a:lnTo>
                  <a:lnTo>
                    <a:pt x="3392" y="176"/>
                  </a:lnTo>
                  <a:lnTo>
                    <a:pt x="3366" y="179"/>
                  </a:lnTo>
                  <a:lnTo>
                    <a:pt x="3338" y="183"/>
                  </a:lnTo>
                  <a:lnTo>
                    <a:pt x="3308" y="188"/>
                  </a:lnTo>
                  <a:lnTo>
                    <a:pt x="3278" y="193"/>
                  </a:lnTo>
                  <a:lnTo>
                    <a:pt x="3246" y="198"/>
                  </a:lnTo>
                  <a:lnTo>
                    <a:pt x="317" y="658"/>
                  </a:lnTo>
                  <a:lnTo>
                    <a:pt x="317" y="658"/>
                  </a:lnTo>
                  <a:lnTo>
                    <a:pt x="285" y="662"/>
                  </a:lnTo>
                  <a:lnTo>
                    <a:pt x="254" y="667"/>
                  </a:lnTo>
                  <a:lnTo>
                    <a:pt x="224" y="670"/>
                  </a:lnTo>
                  <a:lnTo>
                    <a:pt x="195" y="674"/>
                  </a:lnTo>
                  <a:lnTo>
                    <a:pt x="167" y="676"/>
                  </a:lnTo>
                  <a:lnTo>
                    <a:pt x="141" y="678"/>
                  </a:lnTo>
                  <a:lnTo>
                    <a:pt x="116" y="679"/>
                  </a:lnTo>
                  <a:lnTo>
                    <a:pt x="94" y="680"/>
                  </a:lnTo>
                  <a:lnTo>
                    <a:pt x="73" y="681"/>
                  </a:lnTo>
                  <a:lnTo>
                    <a:pt x="55" y="680"/>
                  </a:lnTo>
                  <a:lnTo>
                    <a:pt x="38" y="680"/>
                  </a:lnTo>
                  <a:lnTo>
                    <a:pt x="25" y="679"/>
                  </a:lnTo>
                  <a:lnTo>
                    <a:pt x="15" y="677"/>
                  </a:lnTo>
                  <a:lnTo>
                    <a:pt x="7" y="675"/>
                  </a:lnTo>
                  <a:lnTo>
                    <a:pt x="1" y="671"/>
                  </a:lnTo>
                  <a:lnTo>
                    <a:pt x="0" y="668"/>
                  </a:lnTo>
                  <a:lnTo>
                    <a:pt x="0" y="578"/>
                  </a:lnTo>
                  <a:lnTo>
                    <a:pt x="0" y="578"/>
                  </a:lnTo>
                  <a:lnTo>
                    <a:pt x="1" y="573"/>
                  </a:lnTo>
                  <a:lnTo>
                    <a:pt x="7" y="570"/>
                  </a:lnTo>
                  <a:lnTo>
                    <a:pt x="15" y="564"/>
                  </a:lnTo>
                  <a:lnTo>
                    <a:pt x="25" y="560"/>
                  </a:lnTo>
                  <a:lnTo>
                    <a:pt x="38" y="554"/>
                  </a:lnTo>
                  <a:lnTo>
                    <a:pt x="55" y="550"/>
                  </a:lnTo>
                  <a:lnTo>
                    <a:pt x="73" y="544"/>
                  </a:lnTo>
                  <a:lnTo>
                    <a:pt x="94" y="537"/>
                  </a:lnTo>
                  <a:lnTo>
                    <a:pt x="116" y="532"/>
                  </a:lnTo>
                  <a:lnTo>
                    <a:pt x="141" y="526"/>
                  </a:lnTo>
                  <a:lnTo>
                    <a:pt x="167" y="521"/>
                  </a:lnTo>
                  <a:lnTo>
                    <a:pt x="195" y="514"/>
                  </a:lnTo>
                  <a:lnTo>
                    <a:pt x="224" y="508"/>
                  </a:lnTo>
                  <a:lnTo>
                    <a:pt x="254" y="503"/>
                  </a:lnTo>
                  <a:lnTo>
                    <a:pt x="285" y="497"/>
                  </a:lnTo>
                  <a:lnTo>
                    <a:pt x="317" y="4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6005520" y="3179880"/>
              <a:ext cx="90360" cy="21960"/>
            </a:xfrm>
            <a:custGeom>
              <a:avLst/>
              <a:gdLst/>
              <a:ahLst/>
              <a:rect l="l" t="t" r="r" b="b"/>
              <a:pathLst>
                <a:path w="342" h="87">
                  <a:moveTo>
                    <a:pt x="60" y="0"/>
                  </a:moveTo>
                  <a:lnTo>
                    <a:pt x="342" y="29"/>
                  </a:lnTo>
                  <a:lnTo>
                    <a:pt x="132" y="75"/>
                  </a:lnTo>
                  <a:lnTo>
                    <a:pt x="106" y="79"/>
                  </a:lnTo>
                  <a:lnTo>
                    <a:pt x="81" y="84"/>
                  </a:lnTo>
                  <a:lnTo>
                    <a:pt x="59" y="86"/>
                  </a:lnTo>
                  <a:lnTo>
                    <a:pt x="39" y="87"/>
                  </a:lnTo>
                  <a:lnTo>
                    <a:pt x="22" y="87"/>
                  </a:lnTo>
                  <a:lnTo>
                    <a:pt x="10" y="86"/>
                  </a:lnTo>
                  <a:lnTo>
                    <a:pt x="2" y="84"/>
                  </a:lnTo>
                  <a:lnTo>
                    <a:pt x="0" y="81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4" y="22"/>
                  </a:lnTo>
                  <a:lnTo>
                    <a:pt x="10" y="19"/>
                  </a:lnTo>
                  <a:lnTo>
                    <a:pt x="17" y="16"/>
                  </a:lnTo>
                  <a:lnTo>
                    <a:pt x="25" y="12"/>
                  </a:lnTo>
                  <a:lnTo>
                    <a:pt x="36" y="8"/>
                  </a:lnTo>
                  <a:lnTo>
                    <a:pt x="47" y="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6021360" y="3173400"/>
              <a:ext cx="101520" cy="12600"/>
            </a:xfrm>
            <a:custGeom>
              <a:avLst/>
              <a:gdLst/>
              <a:ahLst/>
              <a:rect l="l" t="t" r="r" b="b"/>
              <a:pathLst>
                <a:path w="382" h="51">
                  <a:moveTo>
                    <a:pt x="282" y="51"/>
                  </a:moveTo>
                  <a:lnTo>
                    <a:pt x="0" y="22"/>
                  </a:lnTo>
                  <a:lnTo>
                    <a:pt x="9" y="20"/>
                  </a:lnTo>
                  <a:lnTo>
                    <a:pt x="17" y="18"/>
                  </a:lnTo>
                  <a:lnTo>
                    <a:pt x="26" y="15"/>
                  </a:lnTo>
                  <a:lnTo>
                    <a:pt x="35" y="13"/>
                  </a:lnTo>
                  <a:lnTo>
                    <a:pt x="44" y="11"/>
                  </a:lnTo>
                  <a:lnTo>
                    <a:pt x="54" y="9"/>
                  </a:lnTo>
                  <a:lnTo>
                    <a:pt x="63" y="6"/>
                  </a:lnTo>
                  <a:lnTo>
                    <a:pt x="72" y="4"/>
                  </a:lnTo>
                  <a:lnTo>
                    <a:pt x="90" y="0"/>
                  </a:lnTo>
                  <a:lnTo>
                    <a:pt x="382" y="31"/>
                  </a:lnTo>
                  <a:lnTo>
                    <a:pt x="282" y="51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6045120" y="3166920"/>
              <a:ext cx="103320" cy="14400"/>
            </a:xfrm>
            <a:custGeom>
              <a:avLst/>
              <a:gdLst/>
              <a:ahLst/>
              <a:rect l="l" t="t" r="r" b="b"/>
              <a:pathLst>
                <a:path w="391" h="51">
                  <a:moveTo>
                    <a:pt x="292" y="51"/>
                  </a:moveTo>
                  <a:lnTo>
                    <a:pt x="0" y="20"/>
                  </a:lnTo>
                  <a:lnTo>
                    <a:pt x="97" y="0"/>
                  </a:lnTo>
                  <a:lnTo>
                    <a:pt x="391" y="30"/>
                  </a:lnTo>
                  <a:lnTo>
                    <a:pt x="292" y="51"/>
                  </a:lnTo>
                  <a:close/>
                </a:path>
              </a:pathLst>
            </a:custGeom>
            <a:solidFill>
              <a:srgbClr val="aa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6070680" y="3162240"/>
              <a:ext cx="102960" cy="12600"/>
            </a:xfrm>
            <a:custGeom>
              <a:avLst/>
              <a:gdLst/>
              <a:ahLst/>
              <a:rect l="l" t="t" r="r" b="b"/>
              <a:pathLst>
                <a:path w="392" h="52">
                  <a:moveTo>
                    <a:pt x="294" y="52"/>
                  </a:moveTo>
                  <a:lnTo>
                    <a:pt x="0" y="22"/>
                  </a:lnTo>
                  <a:lnTo>
                    <a:pt x="98" y="0"/>
                  </a:lnTo>
                  <a:lnTo>
                    <a:pt x="392" y="32"/>
                  </a:lnTo>
                  <a:lnTo>
                    <a:pt x="294" y="52"/>
                  </a:lnTo>
                  <a:close/>
                </a:path>
              </a:pathLst>
            </a:custGeom>
            <a:solidFill>
              <a:srgbClr val="b5a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6095880" y="3156120"/>
              <a:ext cx="104760" cy="14040"/>
            </a:xfrm>
            <a:custGeom>
              <a:avLst/>
              <a:gdLst/>
              <a:ahLst/>
              <a:rect l="l" t="t" r="r" b="b"/>
              <a:pathLst>
                <a:path w="394" h="54">
                  <a:moveTo>
                    <a:pt x="294" y="54"/>
                  </a:moveTo>
                  <a:lnTo>
                    <a:pt x="0" y="22"/>
                  </a:lnTo>
                  <a:lnTo>
                    <a:pt x="97" y="0"/>
                  </a:lnTo>
                  <a:lnTo>
                    <a:pt x="394" y="31"/>
                  </a:lnTo>
                  <a:lnTo>
                    <a:pt x="294" y="54"/>
                  </a:lnTo>
                  <a:close/>
                </a:path>
              </a:pathLst>
            </a:custGeom>
            <a:solidFill>
              <a:srgbClr val="c1b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6122880" y="3151080"/>
              <a:ext cx="103320" cy="12960"/>
            </a:xfrm>
            <a:custGeom>
              <a:avLst/>
              <a:gdLst/>
              <a:ahLst/>
              <a:rect l="l" t="t" r="r" b="b"/>
              <a:pathLst>
                <a:path w="396" h="51">
                  <a:moveTo>
                    <a:pt x="297" y="51"/>
                  </a:moveTo>
                  <a:lnTo>
                    <a:pt x="0" y="20"/>
                  </a:lnTo>
                  <a:lnTo>
                    <a:pt x="99" y="0"/>
                  </a:lnTo>
                  <a:lnTo>
                    <a:pt x="396" y="31"/>
                  </a:lnTo>
                  <a:lnTo>
                    <a:pt x="297" y="51"/>
                  </a:lnTo>
                  <a:close/>
                </a:path>
              </a:pathLst>
            </a:custGeom>
            <a:solidFill>
              <a:srgbClr val="ce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6148440" y="3144960"/>
              <a:ext cx="104760" cy="14040"/>
            </a:xfrm>
            <a:custGeom>
              <a:avLst/>
              <a:gdLst/>
              <a:ahLst/>
              <a:rect l="l" t="t" r="r" b="b"/>
              <a:pathLst>
                <a:path w="396" h="53">
                  <a:moveTo>
                    <a:pt x="297" y="53"/>
                  </a:moveTo>
                  <a:lnTo>
                    <a:pt x="0" y="22"/>
                  </a:lnTo>
                  <a:lnTo>
                    <a:pt x="96" y="0"/>
                  </a:lnTo>
                  <a:lnTo>
                    <a:pt x="396" y="32"/>
                  </a:lnTo>
                  <a:lnTo>
                    <a:pt x="297" y="53"/>
                  </a:lnTo>
                  <a:close/>
                </a:path>
              </a:pathLst>
            </a:custGeom>
            <a:solidFill>
              <a:srgbClr val="d8d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6173640" y="3139920"/>
              <a:ext cx="104760" cy="14400"/>
            </a:xfrm>
            <a:custGeom>
              <a:avLst/>
              <a:gdLst/>
              <a:ahLst/>
              <a:rect l="l" t="t" r="r" b="b"/>
              <a:pathLst>
                <a:path w="398" h="52">
                  <a:moveTo>
                    <a:pt x="300" y="52"/>
                  </a:moveTo>
                  <a:lnTo>
                    <a:pt x="0" y="20"/>
                  </a:lnTo>
                  <a:lnTo>
                    <a:pt x="97" y="0"/>
                  </a:lnTo>
                  <a:lnTo>
                    <a:pt x="398" y="32"/>
                  </a:lnTo>
                  <a:lnTo>
                    <a:pt x="300" y="52"/>
                  </a:lnTo>
                  <a:close/>
                </a:path>
              </a:pathLst>
            </a:custGeom>
            <a:solidFill>
              <a:srgbClr val="e5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6199200" y="3133800"/>
              <a:ext cx="106200" cy="14040"/>
            </a:xfrm>
            <a:custGeom>
              <a:avLst/>
              <a:gdLst/>
              <a:ahLst/>
              <a:rect l="l" t="t" r="r" b="b"/>
              <a:pathLst>
                <a:path w="400" h="54">
                  <a:moveTo>
                    <a:pt x="301" y="54"/>
                  </a:moveTo>
                  <a:lnTo>
                    <a:pt x="0" y="22"/>
                  </a:lnTo>
                  <a:lnTo>
                    <a:pt x="98" y="0"/>
                  </a:lnTo>
                  <a:lnTo>
                    <a:pt x="400" y="32"/>
                  </a:lnTo>
                  <a:lnTo>
                    <a:pt x="301" y="54"/>
                  </a:lnTo>
                  <a:close/>
                </a:path>
              </a:pathLst>
            </a:custGeom>
            <a:solidFill>
              <a:srgbClr val="f2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6226200" y="3129120"/>
              <a:ext cx="106200" cy="12600"/>
            </a:xfrm>
            <a:custGeom>
              <a:avLst/>
              <a:gdLst/>
              <a:ahLst/>
              <a:rect l="l" t="t" r="r" b="b"/>
              <a:pathLst>
                <a:path w="402" h="54">
                  <a:moveTo>
                    <a:pt x="302" y="54"/>
                  </a:moveTo>
                  <a:lnTo>
                    <a:pt x="0" y="22"/>
                  </a:lnTo>
                  <a:lnTo>
                    <a:pt x="98" y="0"/>
                  </a:lnTo>
                  <a:lnTo>
                    <a:pt x="402" y="32"/>
                  </a:lnTo>
                  <a:lnTo>
                    <a:pt x="30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6251400" y="3100320"/>
              <a:ext cx="144720" cy="36720"/>
            </a:xfrm>
            <a:custGeom>
              <a:avLst/>
              <a:gdLst/>
              <a:ahLst/>
              <a:rect l="l" t="t" r="r" b="b"/>
              <a:pathLst>
                <a:path w="545" h="135">
                  <a:moveTo>
                    <a:pt x="304" y="135"/>
                  </a:moveTo>
                  <a:lnTo>
                    <a:pt x="0" y="103"/>
                  </a:lnTo>
                  <a:lnTo>
                    <a:pt x="414" y="15"/>
                  </a:lnTo>
                  <a:lnTo>
                    <a:pt x="440" y="9"/>
                  </a:lnTo>
                  <a:lnTo>
                    <a:pt x="464" y="5"/>
                  </a:lnTo>
                  <a:lnTo>
                    <a:pt x="486" y="3"/>
                  </a:lnTo>
                  <a:lnTo>
                    <a:pt x="507" y="0"/>
                  </a:lnTo>
                  <a:lnTo>
                    <a:pt x="522" y="0"/>
                  </a:lnTo>
                  <a:lnTo>
                    <a:pt x="534" y="1"/>
                  </a:lnTo>
                  <a:lnTo>
                    <a:pt x="542" y="4"/>
                  </a:lnTo>
                  <a:lnTo>
                    <a:pt x="545" y="8"/>
                  </a:lnTo>
                  <a:lnTo>
                    <a:pt x="545" y="74"/>
                  </a:lnTo>
                  <a:lnTo>
                    <a:pt x="542" y="79"/>
                  </a:lnTo>
                  <a:lnTo>
                    <a:pt x="536" y="83"/>
                  </a:lnTo>
                  <a:lnTo>
                    <a:pt x="524" y="87"/>
                  </a:lnTo>
                  <a:lnTo>
                    <a:pt x="510" y="91"/>
                  </a:lnTo>
                  <a:lnTo>
                    <a:pt x="492" y="95"/>
                  </a:lnTo>
                  <a:lnTo>
                    <a:pt x="471" y="100"/>
                  </a:lnTo>
                  <a:lnTo>
                    <a:pt x="447" y="105"/>
                  </a:lnTo>
                  <a:lnTo>
                    <a:pt x="422" y="111"/>
                  </a:lnTo>
                  <a:lnTo>
                    <a:pt x="30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6005520" y="3100320"/>
              <a:ext cx="390600" cy="101520"/>
            </a:xfrm>
            <a:custGeom>
              <a:avLst/>
              <a:gdLst/>
              <a:ahLst/>
              <a:rect l="l" t="t" r="r" b="b"/>
              <a:pathLst>
                <a:path w="1475" h="382">
                  <a:moveTo>
                    <a:pt x="132" y="277"/>
                  </a:moveTo>
                  <a:lnTo>
                    <a:pt x="1344" y="15"/>
                  </a:lnTo>
                  <a:lnTo>
                    <a:pt x="1344" y="15"/>
                  </a:lnTo>
                  <a:lnTo>
                    <a:pt x="1370" y="9"/>
                  </a:lnTo>
                  <a:lnTo>
                    <a:pt x="1394" y="5"/>
                  </a:lnTo>
                  <a:lnTo>
                    <a:pt x="1416" y="3"/>
                  </a:lnTo>
                  <a:lnTo>
                    <a:pt x="1437" y="0"/>
                  </a:lnTo>
                  <a:lnTo>
                    <a:pt x="1452" y="0"/>
                  </a:lnTo>
                  <a:lnTo>
                    <a:pt x="1464" y="1"/>
                  </a:lnTo>
                  <a:lnTo>
                    <a:pt x="1472" y="4"/>
                  </a:lnTo>
                  <a:lnTo>
                    <a:pt x="1475" y="8"/>
                  </a:lnTo>
                  <a:lnTo>
                    <a:pt x="1475" y="74"/>
                  </a:lnTo>
                  <a:lnTo>
                    <a:pt x="1475" y="74"/>
                  </a:lnTo>
                  <a:lnTo>
                    <a:pt x="1472" y="79"/>
                  </a:lnTo>
                  <a:lnTo>
                    <a:pt x="1466" y="83"/>
                  </a:lnTo>
                  <a:lnTo>
                    <a:pt x="1454" y="87"/>
                  </a:lnTo>
                  <a:lnTo>
                    <a:pt x="1440" y="91"/>
                  </a:lnTo>
                  <a:lnTo>
                    <a:pt x="1422" y="95"/>
                  </a:lnTo>
                  <a:lnTo>
                    <a:pt x="1401" y="100"/>
                  </a:lnTo>
                  <a:lnTo>
                    <a:pt x="1377" y="105"/>
                  </a:lnTo>
                  <a:lnTo>
                    <a:pt x="1352" y="111"/>
                  </a:lnTo>
                  <a:lnTo>
                    <a:pt x="132" y="370"/>
                  </a:lnTo>
                  <a:lnTo>
                    <a:pt x="132" y="370"/>
                  </a:lnTo>
                  <a:lnTo>
                    <a:pt x="106" y="374"/>
                  </a:lnTo>
                  <a:lnTo>
                    <a:pt x="81" y="379"/>
                  </a:lnTo>
                  <a:lnTo>
                    <a:pt x="59" y="381"/>
                  </a:lnTo>
                  <a:lnTo>
                    <a:pt x="39" y="382"/>
                  </a:lnTo>
                  <a:lnTo>
                    <a:pt x="22" y="382"/>
                  </a:lnTo>
                  <a:lnTo>
                    <a:pt x="10" y="381"/>
                  </a:lnTo>
                  <a:lnTo>
                    <a:pt x="2" y="379"/>
                  </a:lnTo>
                  <a:lnTo>
                    <a:pt x="0" y="376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2" y="320"/>
                  </a:lnTo>
                  <a:lnTo>
                    <a:pt x="10" y="314"/>
                  </a:lnTo>
                  <a:lnTo>
                    <a:pt x="22" y="309"/>
                  </a:lnTo>
                  <a:lnTo>
                    <a:pt x="39" y="302"/>
                  </a:lnTo>
                  <a:lnTo>
                    <a:pt x="59" y="296"/>
                  </a:lnTo>
                  <a:lnTo>
                    <a:pt x="81" y="290"/>
                  </a:lnTo>
                  <a:lnTo>
                    <a:pt x="106" y="283"/>
                  </a:lnTo>
                  <a:lnTo>
                    <a:pt x="132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5999040" y="3276720"/>
              <a:ext cx="74880" cy="17280"/>
            </a:xfrm>
            <a:custGeom>
              <a:avLst/>
              <a:gdLst/>
              <a:ahLst/>
              <a:rect l="l" t="t" r="r" b="b"/>
              <a:pathLst>
                <a:path w="281" h="66">
                  <a:moveTo>
                    <a:pt x="5" y="0"/>
                  </a:moveTo>
                  <a:lnTo>
                    <a:pt x="281" y="30"/>
                  </a:lnTo>
                  <a:lnTo>
                    <a:pt x="132" y="57"/>
                  </a:lnTo>
                  <a:lnTo>
                    <a:pt x="105" y="61"/>
                  </a:lnTo>
                  <a:lnTo>
                    <a:pt x="80" y="63"/>
                  </a:lnTo>
                  <a:lnTo>
                    <a:pt x="58" y="66"/>
                  </a:lnTo>
                  <a:lnTo>
                    <a:pt x="39" y="66"/>
                  </a:lnTo>
                  <a:lnTo>
                    <a:pt x="22" y="66"/>
                  </a:lnTo>
                  <a:lnTo>
                    <a:pt x="10" y="65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6000840" y="3270240"/>
              <a:ext cx="102960" cy="14400"/>
            </a:xfrm>
            <a:custGeom>
              <a:avLst/>
              <a:gdLst/>
              <a:ahLst/>
              <a:rect l="l" t="t" r="r" b="b"/>
              <a:pathLst>
                <a:path w="389" h="55">
                  <a:moveTo>
                    <a:pt x="276" y="55"/>
                  </a:moveTo>
                  <a:lnTo>
                    <a:pt x="0" y="25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27" y="14"/>
                  </a:lnTo>
                  <a:lnTo>
                    <a:pt x="37" y="10"/>
                  </a:lnTo>
                  <a:lnTo>
                    <a:pt x="47" y="7"/>
                  </a:lnTo>
                  <a:lnTo>
                    <a:pt x="58" y="4"/>
                  </a:lnTo>
                  <a:lnTo>
                    <a:pt x="71" y="0"/>
                  </a:lnTo>
                  <a:lnTo>
                    <a:pt x="389" y="35"/>
                  </a:lnTo>
                  <a:lnTo>
                    <a:pt x="276" y="55"/>
                  </a:lnTo>
                  <a:close/>
                </a:path>
              </a:pathLst>
            </a:custGeom>
            <a:solidFill>
              <a:srgbClr val="9e8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6019920" y="3265560"/>
              <a:ext cx="114120" cy="14040"/>
            </a:xfrm>
            <a:custGeom>
              <a:avLst/>
              <a:gdLst/>
              <a:ahLst/>
              <a:rect l="l" t="t" r="r" b="b"/>
              <a:pathLst>
                <a:path w="429" h="56">
                  <a:moveTo>
                    <a:pt x="318" y="56"/>
                  </a:moveTo>
                  <a:lnTo>
                    <a:pt x="0" y="21"/>
                  </a:lnTo>
                  <a:lnTo>
                    <a:pt x="6" y="20"/>
                  </a:lnTo>
                  <a:lnTo>
                    <a:pt x="13" y="18"/>
                  </a:lnTo>
                  <a:lnTo>
                    <a:pt x="20" y="17"/>
                  </a:lnTo>
                  <a:lnTo>
                    <a:pt x="28" y="16"/>
                  </a:lnTo>
                  <a:lnTo>
                    <a:pt x="34" y="13"/>
                  </a:lnTo>
                  <a:lnTo>
                    <a:pt x="41" y="12"/>
                  </a:lnTo>
                  <a:lnTo>
                    <a:pt x="49" y="11"/>
                  </a:lnTo>
                  <a:lnTo>
                    <a:pt x="56" y="10"/>
                  </a:lnTo>
                  <a:lnTo>
                    <a:pt x="102" y="0"/>
                  </a:lnTo>
                  <a:lnTo>
                    <a:pt x="429" y="35"/>
                  </a:lnTo>
                  <a:lnTo>
                    <a:pt x="318" y="56"/>
                  </a:lnTo>
                  <a:close/>
                </a:path>
              </a:pathLst>
            </a:custGeom>
            <a:solidFill>
              <a:srgbClr val="aa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6046920" y="3259080"/>
              <a:ext cx="115920" cy="14400"/>
            </a:xfrm>
            <a:custGeom>
              <a:avLst/>
              <a:gdLst/>
              <a:ahLst/>
              <a:rect l="l" t="t" r="r" b="b"/>
              <a:pathLst>
                <a:path w="440" h="55">
                  <a:moveTo>
                    <a:pt x="327" y="55"/>
                  </a:moveTo>
                  <a:lnTo>
                    <a:pt x="0" y="20"/>
                  </a:lnTo>
                  <a:lnTo>
                    <a:pt x="111" y="0"/>
                  </a:lnTo>
                  <a:lnTo>
                    <a:pt x="440" y="35"/>
                  </a:lnTo>
                  <a:lnTo>
                    <a:pt x="327" y="55"/>
                  </a:lnTo>
                  <a:close/>
                </a:path>
              </a:pathLst>
            </a:custGeom>
            <a:solidFill>
              <a:srgbClr val="b5a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6076800" y="3254400"/>
              <a:ext cx="115920" cy="14400"/>
            </a:xfrm>
            <a:custGeom>
              <a:avLst/>
              <a:gdLst/>
              <a:ahLst/>
              <a:rect l="l" t="t" r="r" b="b"/>
              <a:pathLst>
                <a:path w="441" h="54">
                  <a:moveTo>
                    <a:pt x="329" y="54"/>
                  </a:moveTo>
                  <a:lnTo>
                    <a:pt x="0" y="19"/>
                  </a:lnTo>
                  <a:lnTo>
                    <a:pt x="111" y="0"/>
                  </a:lnTo>
                  <a:lnTo>
                    <a:pt x="441" y="35"/>
                  </a:lnTo>
                  <a:lnTo>
                    <a:pt x="329" y="54"/>
                  </a:lnTo>
                  <a:close/>
                </a:path>
              </a:pathLst>
            </a:custGeom>
            <a:solidFill>
              <a:srgbClr val="c1b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6105600" y="3247920"/>
              <a:ext cx="117360" cy="15840"/>
            </a:xfrm>
            <a:custGeom>
              <a:avLst/>
              <a:gdLst/>
              <a:ahLst/>
              <a:rect l="l" t="t" r="r" b="b"/>
              <a:pathLst>
                <a:path w="443" h="57">
                  <a:moveTo>
                    <a:pt x="330" y="57"/>
                  </a:moveTo>
                  <a:lnTo>
                    <a:pt x="0" y="22"/>
                  </a:lnTo>
                  <a:lnTo>
                    <a:pt x="111" y="0"/>
                  </a:lnTo>
                  <a:lnTo>
                    <a:pt x="443" y="36"/>
                  </a:lnTo>
                  <a:lnTo>
                    <a:pt x="330" y="57"/>
                  </a:lnTo>
                  <a:close/>
                </a:path>
              </a:pathLst>
            </a:custGeom>
            <a:solidFill>
              <a:srgbClr val="ce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6135840" y="3243240"/>
              <a:ext cx="117360" cy="15840"/>
            </a:xfrm>
            <a:custGeom>
              <a:avLst/>
              <a:gdLst/>
              <a:ahLst/>
              <a:rect l="l" t="t" r="r" b="b"/>
              <a:pathLst>
                <a:path w="444" h="55">
                  <a:moveTo>
                    <a:pt x="332" y="55"/>
                  </a:moveTo>
                  <a:lnTo>
                    <a:pt x="0" y="19"/>
                  </a:lnTo>
                  <a:lnTo>
                    <a:pt x="109" y="0"/>
                  </a:lnTo>
                  <a:lnTo>
                    <a:pt x="444" y="34"/>
                  </a:lnTo>
                  <a:lnTo>
                    <a:pt x="332" y="55"/>
                  </a:lnTo>
                  <a:close/>
                </a:path>
              </a:pathLst>
            </a:custGeom>
            <a:solidFill>
              <a:srgbClr val="d8d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6164280" y="3238560"/>
              <a:ext cx="117360" cy="14400"/>
            </a:xfrm>
            <a:custGeom>
              <a:avLst/>
              <a:gdLst/>
              <a:ahLst/>
              <a:rect l="l" t="t" r="r" b="b"/>
              <a:pathLst>
                <a:path w="448" h="54">
                  <a:moveTo>
                    <a:pt x="335" y="54"/>
                  </a:moveTo>
                  <a:lnTo>
                    <a:pt x="0" y="20"/>
                  </a:lnTo>
                  <a:lnTo>
                    <a:pt x="110" y="0"/>
                  </a:lnTo>
                  <a:lnTo>
                    <a:pt x="448" y="34"/>
                  </a:lnTo>
                  <a:lnTo>
                    <a:pt x="335" y="54"/>
                  </a:lnTo>
                  <a:close/>
                </a:path>
              </a:pathLst>
            </a:custGeom>
            <a:solidFill>
              <a:srgbClr val="e5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6192720" y="3233880"/>
              <a:ext cx="119160" cy="14040"/>
            </a:xfrm>
            <a:custGeom>
              <a:avLst/>
              <a:gdLst/>
              <a:ahLst/>
              <a:rect l="l" t="t" r="r" b="b"/>
              <a:pathLst>
                <a:path w="448" h="55">
                  <a:moveTo>
                    <a:pt x="338" y="55"/>
                  </a:moveTo>
                  <a:lnTo>
                    <a:pt x="0" y="21"/>
                  </a:lnTo>
                  <a:lnTo>
                    <a:pt x="112" y="0"/>
                  </a:lnTo>
                  <a:lnTo>
                    <a:pt x="448" y="35"/>
                  </a:lnTo>
                  <a:lnTo>
                    <a:pt x="338" y="55"/>
                  </a:lnTo>
                  <a:close/>
                </a:path>
              </a:pathLst>
            </a:custGeom>
            <a:solidFill>
              <a:srgbClr val="f2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6222960" y="3227400"/>
              <a:ext cx="119160" cy="14400"/>
            </a:xfrm>
            <a:custGeom>
              <a:avLst/>
              <a:gdLst/>
              <a:ahLst/>
              <a:rect l="l" t="t" r="r" b="b"/>
              <a:pathLst>
                <a:path w="449" h="56">
                  <a:moveTo>
                    <a:pt x="336" y="56"/>
                  </a:moveTo>
                  <a:lnTo>
                    <a:pt x="0" y="21"/>
                  </a:lnTo>
                  <a:lnTo>
                    <a:pt x="111" y="0"/>
                  </a:lnTo>
                  <a:lnTo>
                    <a:pt x="449" y="36"/>
                  </a:lnTo>
                  <a:lnTo>
                    <a:pt x="33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6251400" y="3205080"/>
              <a:ext cx="138240" cy="31680"/>
            </a:xfrm>
            <a:custGeom>
              <a:avLst/>
              <a:gdLst/>
              <a:ahLst/>
              <a:rect l="l" t="t" r="r" b="b"/>
              <a:pathLst>
                <a:path w="521" h="118">
                  <a:moveTo>
                    <a:pt x="338" y="118"/>
                  </a:moveTo>
                  <a:lnTo>
                    <a:pt x="0" y="82"/>
                  </a:lnTo>
                  <a:lnTo>
                    <a:pt x="390" y="11"/>
                  </a:lnTo>
                  <a:lnTo>
                    <a:pt x="416" y="6"/>
                  </a:lnTo>
                  <a:lnTo>
                    <a:pt x="441" y="3"/>
                  </a:lnTo>
                  <a:lnTo>
                    <a:pt x="463" y="1"/>
                  </a:lnTo>
                  <a:lnTo>
                    <a:pt x="482" y="0"/>
                  </a:lnTo>
                  <a:lnTo>
                    <a:pt x="499" y="0"/>
                  </a:lnTo>
                  <a:lnTo>
                    <a:pt x="511" y="2"/>
                  </a:lnTo>
                  <a:lnTo>
                    <a:pt x="519" y="4"/>
                  </a:lnTo>
                  <a:lnTo>
                    <a:pt x="521" y="9"/>
                  </a:lnTo>
                  <a:lnTo>
                    <a:pt x="521" y="77"/>
                  </a:lnTo>
                  <a:lnTo>
                    <a:pt x="519" y="80"/>
                  </a:lnTo>
                  <a:lnTo>
                    <a:pt x="512" y="83"/>
                  </a:lnTo>
                  <a:lnTo>
                    <a:pt x="501" y="88"/>
                  </a:lnTo>
                  <a:lnTo>
                    <a:pt x="487" y="91"/>
                  </a:lnTo>
                  <a:lnTo>
                    <a:pt x="469" y="95"/>
                  </a:lnTo>
                  <a:lnTo>
                    <a:pt x="448" y="99"/>
                  </a:lnTo>
                  <a:lnTo>
                    <a:pt x="424" y="103"/>
                  </a:lnTo>
                  <a:lnTo>
                    <a:pt x="399" y="109"/>
                  </a:lnTo>
                  <a:lnTo>
                    <a:pt x="33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999040" y="3205080"/>
              <a:ext cx="390600" cy="88920"/>
            </a:xfrm>
            <a:custGeom>
              <a:avLst/>
              <a:gdLst/>
              <a:ahLst/>
              <a:rect l="l" t="t" r="r" b="b"/>
              <a:pathLst>
                <a:path w="1474" h="336">
                  <a:moveTo>
                    <a:pt x="132" y="234"/>
                  </a:moveTo>
                  <a:lnTo>
                    <a:pt x="1343" y="11"/>
                  </a:lnTo>
                  <a:lnTo>
                    <a:pt x="1343" y="11"/>
                  </a:lnTo>
                  <a:lnTo>
                    <a:pt x="1369" y="6"/>
                  </a:lnTo>
                  <a:lnTo>
                    <a:pt x="1394" y="3"/>
                  </a:lnTo>
                  <a:lnTo>
                    <a:pt x="1416" y="1"/>
                  </a:lnTo>
                  <a:lnTo>
                    <a:pt x="1435" y="0"/>
                  </a:lnTo>
                  <a:lnTo>
                    <a:pt x="1452" y="0"/>
                  </a:lnTo>
                  <a:lnTo>
                    <a:pt x="1464" y="2"/>
                  </a:lnTo>
                  <a:lnTo>
                    <a:pt x="1472" y="4"/>
                  </a:lnTo>
                  <a:lnTo>
                    <a:pt x="1474" y="9"/>
                  </a:lnTo>
                  <a:lnTo>
                    <a:pt x="1474" y="77"/>
                  </a:lnTo>
                  <a:lnTo>
                    <a:pt x="1474" y="77"/>
                  </a:lnTo>
                  <a:lnTo>
                    <a:pt x="1472" y="80"/>
                  </a:lnTo>
                  <a:lnTo>
                    <a:pt x="1465" y="83"/>
                  </a:lnTo>
                  <a:lnTo>
                    <a:pt x="1454" y="88"/>
                  </a:lnTo>
                  <a:lnTo>
                    <a:pt x="1440" y="91"/>
                  </a:lnTo>
                  <a:lnTo>
                    <a:pt x="1422" y="95"/>
                  </a:lnTo>
                  <a:lnTo>
                    <a:pt x="1401" y="99"/>
                  </a:lnTo>
                  <a:lnTo>
                    <a:pt x="1377" y="103"/>
                  </a:lnTo>
                  <a:lnTo>
                    <a:pt x="1352" y="109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05" y="331"/>
                  </a:lnTo>
                  <a:lnTo>
                    <a:pt x="80" y="333"/>
                  </a:lnTo>
                  <a:lnTo>
                    <a:pt x="58" y="336"/>
                  </a:lnTo>
                  <a:lnTo>
                    <a:pt x="39" y="336"/>
                  </a:lnTo>
                  <a:lnTo>
                    <a:pt x="22" y="336"/>
                  </a:lnTo>
                  <a:lnTo>
                    <a:pt x="10" y="335"/>
                  </a:lnTo>
                  <a:lnTo>
                    <a:pt x="2" y="332"/>
                  </a:lnTo>
                  <a:lnTo>
                    <a:pt x="0" y="329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2" y="273"/>
                  </a:lnTo>
                  <a:lnTo>
                    <a:pt x="10" y="268"/>
                  </a:lnTo>
                  <a:lnTo>
                    <a:pt x="22" y="262"/>
                  </a:lnTo>
                  <a:lnTo>
                    <a:pt x="39" y="255"/>
                  </a:lnTo>
                  <a:lnTo>
                    <a:pt x="58" y="250"/>
                  </a:lnTo>
                  <a:lnTo>
                    <a:pt x="80" y="244"/>
                  </a:lnTo>
                  <a:lnTo>
                    <a:pt x="105" y="239"/>
                  </a:lnTo>
                  <a:lnTo>
                    <a:pt x="132" y="2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7572240" y="3300480"/>
              <a:ext cx="130320" cy="82440"/>
            </a:xfrm>
            <a:custGeom>
              <a:avLst/>
              <a:gdLst/>
              <a:ahLst/>
              <a:rect l="l" t="t" r="r" b="b"/>
              <a:pathLst>
                <a:path w="489" h="308">
                  <a:moveTo>
                    <a:pt x="0" y="193"/>
                  </a:moveTo>
                  <a:lnTo>
                    <a:pt x="489" y="0"/>
                  </a:lnTo>
                  <a:lnTo>
                    <a:pt x="489" y="193"/>
                  </a:lnTo>
                  <a:lnTo>
                    <a:pt x="485" y="225"/>
                  </a:lnTo>
                  <a:lnTo>
                    <a:pt x="475" y="251"/>
                  </a:lnTo>
                  <a:lnTo>
                    <a:pt x="461" y="274"/>
                  </a:lnTo>
                  <a:lnTo>
                    <a:pt x="441" y="290"/>
                  </a:lnTo>
                  <a:lnTo>
                    <a:pt x="417" y="303"/>
                  </a:lnTo>
                  <a:lnTo>
                    <a:pt x="390" y="308"/>
                  </a:lnTo>
                  <a:lnTo>
                    <a:pt x="360" y="308"/>
                  </a:lnTo>
                  <a:lnTo>
                    <a:pt x="329" y="30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d8d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515360" y="3259080"/>
              <a:ext cx="187200" cy="92160"/>
            </a:xfrm>
            <a:custGeom>
              <a:avLst/>
              <a:gdLst/>
              <a:ahLst/>
              <a:rect l="l" t="t" r="r" b="b"/>
              <a:pathLst>
                <a:path w="706" h="350">
                  <a:moveTo>
                    <a:pt x="706" y="157"/>
                  </a:moveTo>
                  <a:lnTo>
                    <a:pt x="217" y="350"/>
                  </a:lnTo>
                  <a:lnTo>
                    <a:pt x="0" y="277"/>
                  </a:lnTo>
                  <a:lnTo>
                    <a:pt x="706" y="0"/>
                  </a:lnTo>
                  <a:lnTo>
                    <a:pt x="706" y="157"/>
                  </a:lnTo>
                  <a:close/>
                </a:path>
              </a:pathLst>
            </a:custGeom>
            <a:solidFill>
              <a:srgbClr val="d8d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7458120" y="3220920"/>
              <a:ext cx="244440" cy="111240"/>
            </a:xfrm>
            <a:custGeom>
              <a:avLst/>
              <a:gdLst/>
              <a:ahLst/>
              <a:rect l="l" t="t" r="r" b="b"/>
              <a:pathLst>
                <a:path w="924" h="424">
                  <a:moveTo>
                    <a:pt x="924" y="147"/>
                  </a:moveTo>
                  <a:lnTo>
                    <a:pt x="218" y="424"/>
                  </a:lnTo>
                  <a:lnTo>
                    <a:pt x="0" y="352"/>
                  </a:lnTo>
                  <a:lnTo>
                    <a:pt x="895" y="0"/>
                  </a:lnTo>
                  <a:lnTo>
                    <a:pt x="906" y="25"/>
                  </a:lnTo>
                  <a:lnTo>
                    <a:pt x="916" y="50"/>
                  </a:lnTo>
                  <a:lnTo>
                    <a:pt x="921" y="75"/>
                  </a:lnTo>
                  <a:lnTo>
                    <a:pt x="924" y="101"/>
                  </a:lnTo>
                  <a:lnTo>
                    <a:pt x="924" y="147"/>
                  </a:lnTo>
                  <a:close/>
                </a:path>
              </a:pathLst>
            </a:custGeom>
            <a:solidFill>
              <a:srgbClr val="ddd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7399440" y="3192480"/>
              <a:ext cx="295200" cy="120600"/>
            </a:xfrm>
            <a:custGeom>
              <a:avLst/>
              <a:gdLst/>
              <a:ahLst/>
              <a:rect l="l" t="t" r="r" b="b"/>
              <a:pathLst>
                <a:path w="1113" h="460">
                  <a:moveTo>
                    <a:pt x="1113" y="108"/>
                  </a:moveTo>
                  <a:lnTo>
                    <a:pt x="218" y="460"/>
                  </a:lnTo>
                  <a:lnTo>
                    <a:pt x="0" y="390"/>
                  </a:lnTo>
                  <a:lnTo>
                    <a:pt x="990" y="0"/>
                  </a:lnTo>
                  <a:lnTo>
                    <a:pt x="1009" y="9"/>
                  </a:lnTo>
                  <a:lnTo>
                    <a:pt x="1027" y="20"/>
                  </a:lnTo>
                  <a:lnTo>
                    <a:pt x="1043" y="33"/>
                  </a:lnTo>
                  <a:lnTo>
                    <a:pt x="1060" y="46"/>
                  </a:lnTo>
                  <a:lnTo>
                    <a:pt x="1075" y="60"/>
                  </a:lnTo>
                  <a:lnTo>
                    <a:pt x="1089" y="76"/>
                  </a:lnTo>
                  <a:lnTo>
                    <a:pt x="1101" y="92"/>
                  </a:lnTo>
                  <a:lnTo>
                    <a:pt x="1113" y="108"/>
                  </a:lnTo>
                  <a:close/>
                </a:path>
              </a:pathLst>
            </a:custGeom>
            <a:solidFill>
              <a:srgbClr val="e2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342200" y="3170160"/>
              <a:ext cx="318960" cy="123840"/>
            </a:xfrm>
            <a:custGeom>
              <a:avLst/>
              <a:gdLst/>
              <a:ahLst/>
              <a:rect l="l" t="t" r="r" b="b"/>
              <a:pathLst>
                <a:path w="1208" h="470">
                  <a:moveTo>
                    <a:pt x="1208" y="80"/>
                  </a:moveTo>
                  <a:lnTo>
                    <a:pt x="218" y="470"/>
                  </a:lnTo>
                  <a:lnTo>
                    <a:pt x="0" y="396"/>
                  </a:lnTo>
                  <a:lnTo>
                    <a:pt x="1013" y="0"/>
                  </a:lnTo>
                  <a:lnTo>
                    <a:pt x="1200" y="76"/>
                  </a:lnTo>
                  <a:lnTo>
                    <a:pt x="1202" y="77"/>
                  </a:lnTo>
                  <a:lnTo>
                    <a:pt x="1203" y="78"/>
                  </a:lnTo>
                  <a:lnTo>
                    <a:pt x="1206" y="79"/>
                  </a:lnTo>
                  <a:lnTo>
                    <a:pt x="1208" y="80"/>
                  </a:lnTo>
                  <a:close/>
                </a:path>
              </a:pathLst>
            </a:custGeom>
            <a:solidFill>
              <a:srgbClr val="e8e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7284960" y="3149640"/>
              <a:ext cx="325440" cy="125280"/>
            </a:xfrm>
            <a:custGeom>
              <a:avLst/>
              <a:gdLst/>
              <a:ahLst/>
              <a:rect l="l" t="t" r="r" b="b"/>
              <a:pathLst>
                <a:path w="1231" h="478">
                  <a:moveTo>
                    <a:pt x="1231" y="82"/>
                  </a:moveTo>
                  <a:lnTo>
                    <a:pt x="218" y="478"/>
                  </a:lnTo>
                  <a:lnTo>
                    <a:pt x="0" y="407"/>
                  </a:lnTo>
                  <a:lnTo>
                    <a:pt x="1036" y="0"/>
                  </a:lnTo>
                  <a:lnTo>
                    <a:pt x="1231" y="82"/>
                  </a:lnTo>
                  <a:close/>
                </a:path>
              </a:pathLst>
            </a:custGeom>
            <a:solidFill>
              <a:srgbClr val="ede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7245360" y="3127320"/>
              <a:ext cx="312840" cy="128520"/>
            </a:xfrm>
            <a:custGeom>
              <a:avLst/>
              <a:gdLst/>
              <a:ahLst/>
              <a:rect l="l" t="t" r="r" b="b"/>
              <a:pathLst>
                <a:path w="1186" h="487">
                  <a:moveTo>
                    <a:pt x="1186" y="80"/>
                  </a:moveTo>
                  <a:lnTo>
                    <a:pt x="150" y="487"/>
                  </a:lnTo>
                  <a:lnTo>
                    <a:pt x="113" y="474"/>
                  </a:lnTo>
                  <a:lnTo>
                    <a:pt x="97" y="469"/>
                  </a:lnTo>
                  <a:lnTo>
                    <a:pt x="81" y="461"/>
                  </a:lnTo>
                  <a:lnTo>
                    <a:pt x="65" y="452"/>
                  </a:lnTo>
                  <a:lnTo>
                    <a:pt x="51" y="442"/>
                  </a:lnTo>
                  <a:lnTo>
                    <a:pt x="37" y="430"/>
                  </a:lnTo>
                  <a:lnTo>
                    <a:pt x="24" y="417"/>
                  </a:lnTo>
                  <a:lnTo>
                    <a:pt x="12" y="404"/>
                  </a:lnTo>
                  <a:lnTo>
                    <a:pt x="0" y="390"/>
                  </a:lnTo>
                  <a:lnTo>
                    <a:pt x="990" y="0"/>
                  </a:lnTo>
                  <a:lnTo>
                    <a:pt x="1186" y="80"/>
                  </a:lnTo>
                  <a:close/>
                </a:path>
              </a:pathLst>
            </a:custGeom>
            <a:solidFill>
              <a:srgbClr val="efe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7232760" y="3106800"/>
              <a:ext cx="274680" cy="123840"/>
            </a:xfrm>
            <a:custGeom>
              <a:avLst/>
              <a:gdLst/>
              <a:ahLst/>
              <a:rect l="l" t="t" r="r" b="b"/>
              <a:pathLst>
                <a:path w="1036" h="471">
                  <a:moveTo>
                    <a:pt x="1036" y="81"/>
                  </a:moveTo>
                  <a:lnTo>
                    <a:pt x="46" y="471"/>
                  </a:lnTo>
                  <a:lnTo>
                    <a:pt x="36" y="456"/>
                  </a:lnTo>
                  <a:lnTo>
                    <a:pt x="27" y="440"/>
                  </a:lnTo>
                  <a:lnTo>
                    <a:pt x="20" y="425"/>
                  </a:lnTo>
                  <a:lnTo>
                    <a:pt x="13" y="408"/>
                  </a:lnTo>
                  <a:lnTo>
                    <a:pt x="7" y="392"/>
                  </a:lnTo>
                  <a:lnTo>
                    <a:pt x="3" y="376"/>
                  </a:lnTo>
                  <a:lnTo>
                    <a:pt x="1" y="360"/>
                  </a:lnTo>
                  <a:lnTo>
                    <a:pt x="0" y="343"/>
                  </a:lnTo>
                  <a:lnTo>
                    <a:pt x="0" y="331"/>
                  </a:lnTo>
                  <a:lnTo>
                    <a:pt x="842" y="0"/>
                  </a:lnTo>
                  <a:lnTo>
                    <a:pt x="1036" y="81"/>
                  </a:lnTo>
                  <a:close/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7232760" y="3086280"/>
              <a:ext cx="222120" cy="107640"/>
            </a:xfrm>
            <a:custGeom>
              <a:avLst/>
              <a:gdLst/>
              <a:ahLst/>
              <a:rect l="l" t="t" r="r" b="b"/>
              <a:pathLst>
                <a:path w="842" h="410">
                  <a:moveTo>
                    <a:pt x="842" y="79"/>
                  </a:moveTo>
                  <a:lnTo>
                    <a:pt x="0" y="410"/>
                  </a:lnTo>
                  <a:lnTo>
                    <a:pt x="0" y="253"/>
                  </a:lnTo>
                  <a:lnTo>
                    <a:pt x="646" y="0"/>
                  </a:lnTo>
                  <a:lnTo>
                    <a:pt x="842" y="79"/>
                  </a:lnTo>
                  <a:close/>
                </a:path>
              </a:pathLst>
            </a:custGeom>
            <a:solidFill>
              <a:srgbClr val="f9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7232760" y="3063960"/>
              <a:ext cx="171360" cy="88920"/>
            </a:xfrm>
            <a:custGeom>
              <a:avLst/>
              <a:gdLst/>
              <a:ahLst/>
              <a:rect l="l" t="t" r="r" b="b"/>
              <a:pathLst>
                <a:path w="646" h="333">
                  <a:moveTo>
                    <a:pt x="646" y="80"/>
                  </a:moveTo>
                  <a:lnTo>
                    <a:pt x="0" y="333"/>
                  </a:lnTo>
                  <a:lnTo>
                    <a:pt x="0" y="176"/>
                  </a:lnTo>
                  <a:lnTo>
                    <a:pt x="450" y="0"/>
                  </a:lnTo>
                  <a:lnTo>
                    <a:pt x="64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7232760" y="3029040"/>
              <a:ext cx="118800" cy="82440"/>
            </a:xfrm>
            <a:custGeom>
              <a:avLst/>
              <a:gdLst/>
              <a:ahLst/>
              <a:rect l="l" t="t" r="r" b="b"/>
              <a:pathLst>
                <a:path w="450" h="308">
                  <a:moveTo>
                    <a:pt x="450" y="132"/>
                  </a:moveTo>
                  <a:lnTo>
                    <a:pt x="0" y="308"/>
                  </a:lnTo>
                  <a:lnTo>
                    <a:pt x="0" y="117"/>
                  </a:lnTo>
                  <a:lnTo>
                    <a:pt x="3" y="86"/>
                  </a:lnTo>
                  <a:lnTo>
                    <a:pt x="12" y="58"/>
                  </a:lnTo>
                  <a:lnTo>
                    <a:pt x="26" y="36"/>
                  </a:lnTo>
                  <a:lnTo>
                    <a:pt x="46" y="18"/>
                  </a:lnTo>
                  <a:lnTo>
                    <a:pt x="70" y="6"/>
                  </a:lnTo>
                  <a:lnTo>
                    <a:pt x="97" y="0"/>
                  </a:lnTo>
                  <a:lnTo>
                    <a:pt x="127" y="2"/>
                  </a:lnTo>
                  <a:lnTo>
                    <a:pt x="159" y="11"/>
                  </a:lnTo>
                  <a:lnTo>
                    <a:pt x="450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7232760" y="3029040"/>
              <a:ext cx="469800" cy="353880"/>
            </a:xfrm>
            <a:custGeom>
              <a:avLst/>
              <a:gdLst/>
              <a:ahLst/>
              <a:rect l="l" t="t" r="r" b="b"/>
              <a:pathLst>
                <a:path w="1774" h="1334">
                  <a:moveTo>
                    <a:pt x="1614" y="610"/>
                  </a:moveTo>
                  <a:lnTo>
                    <a:pt x="159" y="11"/>
                  </a:lnTo>
                  <a:lnTo>
                    <a:pt x="159" y="11"/>
                  </a:lnTo>
                  <a:lnTo>
                    <a:pt x="127" y="2"/>
                  </a:lnTo>
                  <a:lnTo>
                    <a:pt x="97" y="0"/>
                  </a:lnTo>
                  <a:lnTo>
                    <a:pt x="70" y="6"/>
                  </a:lnTo>
                  <a:lnTo>
                    <a:pt x="46" y="18"/>
                  </a:lnTo>
                  <a:lnTo>
                    <a:pt x="26" y="36"/>
                  </a:lnTo>
                  <a:lnTo>
                    <a:pt x="12" y="58"/>
                  </a:lnTo>
                  <a:lnTo>
                    <a:pt x="3" y="86"/>
                  </a:lnTo>
                  <a:lnTo>
                    <a:pt x="0" y="117"/>
                  </a:lnTo>
                  <a:lnTo>
                    <a:pt x="0" y="634"/>
                  </a:lnTo>
                  <a:lnTo>
                    <a:pt x="0" y="634"/>
                  </a:lnTo>
                  <a:lnTo>
                    <a:pt x="3" y="668"/>
                  </a:lnTo>
                  <a:lnTo>
                    <a:pt x="12" y="700"/>
                  </a:lnTo>
                  <a:lnTo>
                    <a:pt x="26" y="732"/>
                  </a:lnTo>
                  <a:lnTo>
                    <a:pt x="46" y="763"/>
                  </a:lnTo>
                  <a:lnTo>
                    <a:pt x="70" y="789"/>
                  </a:lnTo>
                  <a:lnTo>
                    <a:pt x="97" y="813"/>
                  </a:lnTo>
                  <a:lnTo>
                    <a:pt x="127" y="833"/>
                  </a:lnTo>
                  <a:lnTo>
                    <a:pt x="159" y="846"/>
                  </a:lnTo>
                  <a:lnTo>
                    <a:pt x="1614" y="1328"/>
                  </a:lnTo>
                  <a:lnTo>
                    <a:pt x="1614" y="1328"/>
                  </a:lnTo>
                  <a:lnTo>
                    <a:pt x="1645" y="1334"/>
                  </a:lnTo>
                  <a:lnTo>
                    <a:pt x="1675" y="1334"/>
                  </a:lnTo>
                  <a:lnTo>
                    <a:pt x="1702" y="1329"/>
                  </a:lnTo>
                  <a:lnTo>
                    <a:pt x="1726" y="1316"/>
                  </a:lnTo>
                  <a:lnTo>
                    <a:pt x="1746" y="1300"/>
                  </a:lnTo>
                  <a:lnTo>
                    <a:pt x="1760" y="1277"/>
                  </a:lnTo>
                  <a:lnTo>
                    <a:pt x="1770" y="1251"/>
                  </a:lnTo>
                  <a:lnTo>
                    <a:pt x="1774" y="1219"/>
                  </a:lnTo>
                  <a:lnTo>
                    <a:pt x="1774" y="823"/>
                  </a:lnTo>
                  <a:lnTo>
                    <a:pt x="1774" y="823"/>
                  </a:lnTo>
                  <a:lnTo>
                    <a:pt x="1770" y="789"/>
                  </a:lnTo>
                  <a:lnTo>
                    <a:pt x="1760" y="757"/>
                  </a:lnTo>
                  <a:lnTo>
                    <a:pt x="1746" y="726"/>
                  </a:lnTo>
                  <a:lnTo>
                    <a:pt x="1726" y="697"/>
                  </a:lnTo>
                  <a:lnTo>
                    <a:pt x="1702" y="670"/>
                  </a:lnTo>
                  <a:lnTo>
                    <a:pt x="1675" y="645"/>
                  </a:lnTo>
                  <a:lnTo>
                    <a:pt x="1645" y="625"/>
                  </a:lnTo>
                  <a:lnTo>
                    <a:pt x="1614" y="6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4" name="ROOSTER" descr=""/>
          <p:cNvPicPr/>
          <p:nvPr/>
        </p:nvPicPr>
        <p:blipFill>
          <a:blip r:embed="rId1"/>
          <a:stretch/>
        </p:blipFill>
        <p:spPr>
          <a:xfrm>
            <a:off x="5632560" y="2805120"/>
            <a:ext cx="2449440" cy="2008080"/>
          </a:xfrm>
          <a:prstGeom prst="rect">
            <a:avLst/>
          </a:prstGeom>
          <a:ln w="0">
            <a:noFill/>
          </a:ln>
        </p:spPr>
      </p:pic>
      <p:sp>
        <p:nvSpPr>
          <p:cNvPr id="3955" name=""/>
          <p:cNvSpPr/>
          <p:nvPr/>
        </p:nvSpPr>
        <p:spPr>
          <a:xfrm>
            <a:off x="211320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2406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7" name="bs00798_" descr=""/>
          <p:cNvPicPr/>
          <p:nvPr/>
        </p:nvPicPr>
        <p:blipFill>
          <a:blip r:embed="rId2"/>
          <a:stretch/>
        </p:blipFill>
        <p:spPr>
          <a:xfrm>
            <a:off x="1468440" y="2674800"/>
            <a:ext cx="163368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8" name="SYMETRY9" descr=""/>
          <p:cNvPicPr/>
          <p:nvPr/>
        </p:nvPicPr>
        <p:blipFill>
          <a:blip r:embed="rId1"/>
          <a:stretch/>
        </p:blipFill>
        <p:spPr>
          <a:xfrm>
            <a:off x="1014480" y="253836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3959" name=""/>
          <p:cNvSpPr/>
          <p:nvPr/>
        </p:nvSpPr>
        <p:spPr>
          <a:xfrm>
            <a:off x="21132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66852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1" name="ASTERIK4" descr=""/>
          <p:cNvPicPr/>
          <p:nvPr/>
        </p:nvPicPr>
        <p:blipFill>
          <a:blip r:embed="rId2"/>
          <a:stretch/>
        </p:blipFill>
        <p:spPr>
          <a:xfrm>
            <a:off x="5715000" y="26668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2" name="KALEID" descr=""/>
          <p:cNvPicPr/>
          <p:nvPr/>
        </p:nvPicPr>
        <p:blipFill>
          <a:blip r:embed="rId1"/>
          <a:stretch/>
        </p:blipFill>
        <p:spPr>
          <a:xfrm>
            <a:off x="1260360" y="2782800"/>
            <a:ext cx="2049480" cy="2052720"/>
          </a:xfrm>
          <a:prstGeom prst="rect">
            <a:avLst/>
          </a:prstGeom>
          <a:ln w="0">
            <a:noFill/>
          </a:ln>
        </p:spPr>
      </p:pic>
      <p:sp>
        <p:nvSpPr>
          <p:cNvPr id="3963" name=""/>
          <p:cNvSpPr/>
          <p:nvPr/>
        </p:nvSpPr>
        <p:spPr>
          <a:xfrm>
            <a:off x="211320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859800" y="5073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5" name="BURST19" descr=""/>
          <p:cNvPicPr/>
          <p:nvPr/>
        </p:nvPicPr>
        <p:blipFill>
          <a:blip r:embed="rId2"/>
          <a:stretch/>
        </p:blipFill>
        <p:spPr>
          <a:xfrm>
            <a:off x="5595840" y="254808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6" name="CAT6" descr=""/>
          <p:cNvPicPr/>
          <p:nvPr/>
        </p:nvPicPr>
        <p:blipFill>
          <a:blip r:embed="rId1"/>
          <a:stretch/>
        </p:blipFill>
        <p:spPr>
          <a:xfrm>
            <a:off x="5715000" y="3071880"/>
            <a:ext cx="2620800" cy="1474560"/>
          </a:xfrm>
          <a:prstGeom prst="rect">
            <a:avLst/>
          </a:prstGeom>
          <a:ln w="0">
            <a:noFill/>
          </a:ln>
        </p:spPr>
      </p:pic>
      <p:sp>
        <p:nvSpPr>
          <p:cNvPr id="3967" name=""/>
          <p:cNvSpPr/>
          <p:nvPr/>
        </p:nvSpPr>
        <p:spPr>
          <a:xfrm>
            <a:off x="2113200" y="5073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71647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9" name=""/>
          <p:cNvGrpSpPr/>
          <p:nvPr/>
        </p:nvGrpSpPr>
        <p:grpSpPr>
          <a:xfrm>
            <a:off x="838080" y="2833560"/>
            <a:ext cx="2895480" cy="1950840"/>
            <a:chOff x="838080" y="2833560"/>
            <a:chExt cx="2895480" cy="1950840"/>
          </a:xfrm>
        </p:grpSpPr>
        <p:sp>
          <p:nvSpPr>
            <p:cNvPr id="3970" name=""/>
            <p:cNvSpPr/>
            <p:nvPr/>
          </p:nvSpPr>
          <p:spPr>
            <a:xfrm>
              <a:off x="1792080" y="4279320"/>
              <a:ext cx="1941480" cy="492840"/>
            </a:xfrm>
            <a:custGeom>
              <a:avLst/>
              <a:gdLst/>
              <a:ahLst/>
              <a:rect l="l" t="t" r="r" b="b"/>
              <a:pathLst>
                <a:path w="3846" h="863">
                  <a:moveTo>
                    <a:pt x="0" y="863"/>
                  </a:moveTo>
                  <a:lnTo>
                    <a:pt x="462" y="705"/>
                  </a:lnTo>
                  <a:lnTo>
                    <a:pt x="1179" y="692"/>
                  </a:lnTo>
                  <a:lnTo>
                    <a:pt x="1785" y="586"/>
                  </a:lnTo>
                  <a:lnTo>
                    <a:pt x="2884" y="428"/>
                  </a:lnTo>
                  <a:lnTo>
                    <a:pt x="3430" y="428"/>
                  </a:lnTo>
                  <a:lnTo>
                    <a:pt x="3846" y="369"/>
                  </a:lnTo>
                  <a:lnTo>
                    <a:pt x="3648" y="283"/>
                  </a:lnTo>
                  <a:lnTo>
                    <a:pt x="1139" y="0"/>
                  </a:lnTo>
                  <a:lnTo>
                    <a:pt x="198" y="6"/>
                  </a:lnTo>
                  <a:lnTo>
                    <a:pt x="0" y="863"/>
                  </a:lnTo>
                  <a:lnTo>
                    <a:pt x="0" y="8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370600" y="3299040"/>
              <a:ext cx="166680" cy="192600"/>
            </a:xfrm>
            <a:custGeom>
              <a:avLst/>
              <a:gdLst/>
              <a:ahLst/>
              <a:rect l="l" t="t" r="r" b="b"/>
              <a:pathLst>
                <a:path w="329" h="338">
                  <a:moveTo>
                    <a:pt x="0" y="26"/>
                  </a:moveTo>
                  <a:lnTo>
                    <a:pt x="10" y="57"/>
                  </a:lnTo>
                  <a:lnTo>
                    <a:pt x="40" y="66"/>
                  </a:lnTo>
                  <a:lnTo>
                    <a:pt x="63" y="161"/>
                  </a:lnTo>
                  <a:lnTo>
                    <a:pt x="88" y="169"/>
                  </a:lnTo>
                  <a:lnTo>
                    <a:pt x="109" y="180"/>
                  </a:lnTo>
                  <a:lnTo>
                    <a:pt x="111" y="338"/>
                  </a:lnTo>
                  <a:lnTo>
                    <a:pt x="225" y="336"/>
                  </a:lnTo>
                  <a:lnTo>
                    <a:pt x="217" y="171"/>
                  </a:lnTo>
                  <a:lnTo>
                    <a:pt x="270" y="169"/>
                  </a:lnTo>
                  <a:lnTo>
                    <a:pt x="301" y="83"/>
                  </a:lnTo>
                  <a:lnTo>
                    <a:pt x="329" y="19"/>
                  </a:lnTo>
                  <a:lnTo>
                    <a:pt x="232" y="0"/>
                  </a:lnTo>
                  <a:lnTo>
                    <a:pt x="80" y="1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624320" y="3333240"/>
              <a:ext cx="1905120" cy="1274760"/>
            </a:xfrm>
            <a:custGeom>
              <a:avLst/>
              <a:gdLst/>
              <a:ahLst/>
              <a:rect l="l" t="t" r="r" b="b"/>
              <a:pathLst>
                <a:path w="3772" h="2234">
                  <a:moveTo>
                    <a:pt x="527" y="1829"/>
                  </a:moveTo>
                  <a:lnTo>
                    <a:pt x="996" y="1844"/>
                  </a:lnTo>
                  <a:lnTo>
                    <a:pt x="751" y="1768"/>
                  </a:lnTo>
                  <a:lnTo>
                    <a:pt x="587" y="1709"/>
                  </a:lnTo>
                  <a:lnTo>
                    <a:pt x="542" y="1791"/>
                  </a:lnTo>
                  <a:lnTo>
                    <a:pt x="207" y="1382"/>
                  </a:lnTo>
                  <a:lnTo>
                    <a:pt x="207" y="1114"/>
                  </a:lnTo>
                  <a:lnTo>
                    <a:pt x="36" y="1375"/>
                  </a:lnTo>
                  <a:lnTo>
                    <a:pt x="0" y="1344"/>
                  </a:lnTo>
                  <a:lnTo>
                    <a:pt x="192" y="1046"/>
                  </a:lnTo>
                  <a:lnTo>
                    <a:pt x="175" y="447"/>
                  </a:lnTo>
                  <a:lnTo>
                    <a:pt x="184" y="381"/>
                  </a:lnTo>
                  <a:lnTo>
                    <a:pt x="179" y="335"/>
                  </a:lnTo>
                  <a:lnTo>
                    <a:pt x="184" y="276"/>
                  </a:lnTo>
                  <a:lnTo>
                    <a:pt x="207" y="236"/>
                  </a:lnTo>
                  <a:lnTo>
                    <a:pt x="338" y="236"/>
                  </a:lnTo>
                  <a:lnTo>
                    <a:pt x="375" y="253"/>
                  </a:lnTo>
                  <a:lnTo>
                    <a:pt x="394" y="287"/>
                  </a:lnTo>
                  <a:lnTo>
                    <a:pt x="643" y="284"/>
                  </a:lnTo>
                  <a:lnTo>
                    <a:pt x="814" y="54"/>
                  </a:lnTo>
                  <a:lnTo>
                    <a:pt x="869" y="71"/>
                  </a:lnTo>
                  <a:lnTo>
                    <a:pt x="880" y="94"/>
                  </a:lnTo>
                  <a:lnTo>
                    <a:pt x="880" y="120"/>
                  </a:lnTo>
                  <a:lnTo>
                    <a:pt x="814" y="225"/>
                  </a:lnTo>
                  <a:lnTo>
                    <a:pt x="911" y="225"/>
                  </a:lnTo>
                  <a:lnTo>
                    <a:pt x="962" y="284"/>
                  </a:lnTo>
                  <a:lnTo>
                    <a:pt x="1278" y="280"/>
                  </a:lnTo>
                  <a:lnTo>
                    <a:pt x="1456" y="8"/>
                  </a:lnTo>
                  <a:lnTo>
                    <a:pt x="1483" y="0"/>
                  </a:lnTo>
                  <a:lnTo>
                    <a:pt x="1521" y="16"/>
                  </a:lnTo>
                  <a:lnTo>
                    <a:pt x="1538" y="54"/>
                  </a:lnTo>
                  <a:lnTo>
                    <a:pt x="1525" y="90"/>
                  </a:lnTo>
                  <a:lnTo>
                    <a:pt x="1416" y="276"/>
                  </a:lnTo>
                  <a:lnTo>
                    <a:pt x="2019" y="272"/>
                  </a:lnTo>
                  <a:lnTo>
                    <a:pt x="2004" y="246"/>
                  </a:lnTo>
                  <a:lnTo>
                    <a:pt x="2011" y="217"/>
                  </a:lnTo>
                  <a:lnTo>
                    <a:pt x="2032" y="198"/>
                  </a:lnTo>
                  <a:lnTo>
                    <a:pt x="2063" y="198"/>
                  </a:lnTo>
                  <a:lnTo>
                    <a:pt x="2082" y="225"/>
                  </a:lnTo>
                  <a:lnTo>
                    <a:pt x="2082" y="253"/>
                  </a:lnTo>
                  <a:lnTo>
                    <a:pt x="2067" y="276"/>
                  </a:lnTo>
                  <a:lnTo>
                    <a:pt x="2122" y="272"/>
                  </a:lnTo>
                  <a:lnTo>
                    <a:pt x="2175" y="287"/>
                  </a:lnTo>
                  <a:lnTo>
                    <a:pt x="2198" y="272"/>
                  </a:lnTo>
                  <a:lnTo>
                    <a:pt x="2342" y="272"/>
                  </a:lnTo>
                  <a:lnTo>
                    <a:pt x="2386" y="181"/>
                  </a:lnTo>
                  <a:lnTo>
                    <a:pt x="2378" y="166"/>
                  </a:lnTo>
                  <a:lnTo>
                    <a:pt x="2384" y="147"/>
                  </a:lnTo>
                  <a:lnTo>
                    <a:pt x="2415" y="147"/>
                  </a:lnTo>
                  <a:lnTo>
                    <a:pt x="2420" y="158"/>
                  </a:lnTo>
                  <a:lnTo>
                    <a:pt x="2415" y="173"/>
                  </a:lnTo>
                  <a:lnTo>
                    <a:pt x="2396" y="183"/>
                  </a:lnTo>
                  <a:lnTo>
                    <a:pt x="2367" y="276"/>
                  </a:lnTo>
                  <a:lnTo>
                    <a:pt x="2394" y="291"/>
                  </a:lnTo>
                  <a:lnTo>
                    <a:pt x="2416" y="289"/>
                  </a:lnTo>
                  <a:lnTo>
                    <a:pt x="2449" y="208"/>
                  </a:lnTo>
                  <a:lnTo>
                    <a:pt x="2458" y="221"/>
                  </a:lnTo>
                  <a:lnTo>
                    <a:pt x="2435" y="291"/>
                  </a:lnTo>
                  <a:lnTo>
                    <a:pt x="2453" y="297"/>
                  </a:lnTo>
                  <a:lnTo>
                    <a:pt x="2483" y="329"/>
                  </a:lnTo>
                  <a:lnTo>
                    <a:pt x="2485" y="432"/>
                  </a:lnTo>
                  <a:lnTo>
                    <a:pt x="2789" y="337"/>
                  </a:lnTo>
                  <a:lnTo>
                    <a:pt x="3023" y="327"/>
                  </a:lnTo>
                  <a:lnTo>
                    <a:pt x="3015" y="194"/>
                  </a:lnTo>
                  <a:lnTo>
                    <a:pt x="3046" y="170"/>
                  </a:lnTo>
                  <a:lnTo>
                    <a:pt x="3169" y="173"/>
                  </a:lnTo>
                  <a:lnTo>
                    <a:pt x="3205" y="198"/>
                  </a:lnTo>
                  <a:lnTo>
                    <a:pt x="3255" y="162"/>
                  </a:lnTo>
                  <a:lnTo>
                    <a:pt x="3633" y="160"/>
                  </a:lnTo>
                  <a:lnTo>
                    <a:pt x="3690" y="198"/>
                  </a:lnTo>
                  <a:lnTo>
                    <a:pt x="3688" y="318"/>
                  </a:lnTo>
                  <a:lnTo>
                    <a:pt x="3755" y="394"/>
                  </a:lnTo>
                  <a:lnTo>
                    <a:pt x="3764" y="474"/>
                  </a:lnTo>
                  <a:lnTo>
                    <a:pt x="3772" y="865"/>
                  </a:lnTo>
                  <a:lnTo>
                    <a:pt x="3698" y="934"/>
                  </a:lnTo>
                  <a:lnTo>
                    <a:pt x="3601" y="951"/>
                  </a:lnTo>
                  <a:lnTo>
                    <a:pt x="3493" y="1095"/>
                  </a:lnTo>
                  <a:lnTo>
                    <a:pt x="2124" y="1823"/>
                  </a:lnTo>
                  <a:lnTo>
                    <a:pt x="1067" y="2128"/>
                  </a:lnTo>
                  <a:lnTo>
                    <a:pt x="726" y="2234"/>
                  </a:lnTo>
                  <a:lnTo>
                    <a:pt x="683" y="2198"/>
                  </a:lnTo>
                  <a:lnTo>
                    <a:pt x="593" y="2219"/>
                  </a:lnTo>
                  <a:lnTo>
                    <a:pt x="599" y="2118"/>
                  </a:lnTo>
                  <a:lnTo>
                    <a:pt x="646" y="2112"/>
                  </a:lnTo>
                  <a:lnTo>
                    <a:pt x="673" y="2069"/>
                  </a:lnTo>
                  <a:lnTo>
                    <a:pt x="880" y="1989"/>
                  </a:lnTo>
                  <a:lnTo>
                    <a:pt x="1099" y="1903"/>
                  </a:lnTo>
                  <a:lnTo>
                    <a:pt x="544" y="1871"/>
                  </a:lnTo>
                  <a:lnTo>
                    <a:pt x="527" y="1829"/>
                  </a:lnTo>
                  <a:lnTo>
                    <a:pt x="527" y="1829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847800" y="4020120"/>
              <a:ext cx="1080360" cy="764280"/>
            </a:xfrm>
            <a:custGeom>
              <a:avLst/>
              <a:gdLst/>
              <a:ahLst/>
              <a:rect l="l" t="t" r="r" b="b"/>
              <a:pathLst>
                <a:path w="2141" h="1340">
                  <a:moveTo>
                    <a:pt x="0" y="804"/>
                  </a:moveTo>
                  <a:lnTo>
                    <a:pt x="51" y="654"/>
                  </a:lnTo>
                  <a:lnTo>
                    <a:pt x="74" y="439"/>
                  </a:lnTo>
                  <a:lnTo>
                    <a:pt x="74" y="281"/>
                  </a:lnTo>
                  <a:lnTo>
                    <a:pt x="67" y="133"/>
                  </a:lnTo>
                  <a:lnTo>
                    <a:pt x="44" y="13"/>
                  </a:lnTo>
                  <a:lnTo>
                    <a:pt x="186" y="0"/>
                  </a:lnTo>
                  <a:lnTo>
                    <a:pt x="1934" y="186"/>
                  </a:lnTo>
                  <a:lnTo>
                    <a:pt x="1985" y="222"/>
                  </a:lnTo>
                  <a:lnTo>
                    <a:pt x="2023" y="378"/>
                  </a:lnTo>
                  <a:lnTo>
                    <a:pt x="2097" y="751"/>
                  </a:lnTo>
                  <a:lnTo>
                    <a:pt x="2141" y="804"/>
                  </a:lnTo>
                  <a:lnTo>
                    <a:pt x="2141" y="990"/>
                  </a:lnTo>
                  <a:lnTo>
                    <a:pt x="2105" y="1175"/>
                  </a:lnTo>
                  <a:lnTo>
                    <a:pt x="1814" y="1340"/>
                  </a:lnTo>
                  <a:lnTo>
                    <a:pt x="899" y="1064"/>
                  </a:lnTo>
                  <a:lnTo>
                    <a:pt x="0" y="804"/>
                  </a:lnTo>
                  <a:lnTo>
                    <a:pt x="0" y="804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748880" y="3611520"/>
              <a:ext cx="156960" cy="569520"/>
            </a:xfrm>
            <a:custGeom>
              <a:avLst/>
              <a:gdLst/>
              <a:ahLst/>
              <a:rect l="l" t="t" r="r" b="b"/>
              <a:pathLst>
                <a:path w="312" h="996">
                  <a:moveTo>
                    <a:pt x="0" y="0"/>
                  </a:moveTo>
                  <a:lnTo>
                    <a:pt x="15" y="878"/>
                  </a:lnTo>
                  <a:lnTo>
                    <a:pt x="164" y="907"/>
                  </a:lnTo>
                  <a:lnTo>
                    <a:pt x="207" y="968"/>
                  </a:lnTo>
                  <a:lnTo>
                    <a:pt x="297" y="996"/>
                  </a:lnTo>
                  <a:lnTo>
                    <a:pt x="312" y="945"/>
                  </a:lnTo>
                  <a:lnTo>
                    <a:pt x="312" y="774"/>
                  </a:lnTo>
                  <a:lnTo>
                    <a:pt x="282" y="110"/>
                  </a:lnTo>
                  <a:lnTo>
                    <a:pt x="20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752840" y="3608280"/>
              <a:ext cx="157320" cy="496080"/>
            </a:xfrm>
            <a:custGeom>
              <a:avLst/>
              <a:gdLst/>
              <a:ahLst/>
              <a:rect l="l" t="t" r="r" b="b"/>
              <a:pathLst>
                <a:path w="312" h="871">
                  <a:moveTo>
                    <a:pt x="7" y="700"/>
                  </a:moveTo>
                  <a:lnTo>
                    <a:pt x="44" y="133"/>
                  </a:lnTo>
                  <a:lnTo>
                    <a:pt x="141" y="156"/>
                  </a:lnTo>
                  <a:lnTo>
                    <a:pt x="74" y="187"/>
                  </a:lnTo>
                  <a:lnTo>
                    <a:pt x="171" y="215"/>
                  </a:lnTo>
                  <a:lnTo>
                    <a:pt x="66" y="261"/>
                  </a:lnTo>
                  <a:lnTo>
                    <a:pt x="199" y="320"/>
                  </a:lnTo>
                  <a:lnTo>
                    <a:pt x="97" y="350"/>
                  </a:lnTo>
                  <a:lnTo>
                    <a:pt x="179" y="386"/>
                  </a:lnTo>
                  <a:lnTo>
                    <a:pt x="179" y="447"/>
                  </a:lnTo>
                  <a:lnTo>
                    <a:pt x="245" y="736"/>
                  </a:lnTo>
                  <a:lnTo>
                    <a:pt x="258" y="871"/>
                  </a:lnTo>
                  <a:lnTo>
                    <a:pt x="304" y="820"/>
                  </a:lnTo>
                  <a:lnTo>
                    <a:pt x="312" y="700"/>
                  </a:lnTo>
                  <a:lnTo>
                    <a:pt x="258" y="97"/>
                  </a:lnTo>
                  <a:lnTo>
                    <a:pt x="207" y="8"/>
                  </a:lnTo>
                  <a:lnTo>
                    <a:pt x="0" y="0"/>
                  </a:lnTo>
                  <a:lnTo>
                    <a:pt x="0" y="409"/>
                  </a:lnTo>
                  <a:lnTo>
                    <a:pt x="7" y="700"/>
                  </a:lnTo>
                  <a:lnTo>
                    <a:pt x="7" y="70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247480" y="3968640"/>
              <a:ext cx="1408680" cy="671040"/>
            </a:xfrm>
            <a:custGeom>
              <a:avLst/>
              <a:gdLst/>
              <a:ahLst/>
              <a:rect l="l" t="t" r="r" b="b"/>
              <a:pathLst>
                <a:path w="2789" h="1175">
                  <a:moveTo>
                    <a:pt x="171" y="580"/>
                  </a:moveTo>
                  <a:lnTo>
                    <a:pt x="312" y="611"/>
                  </a:lnTo>
                  <a:lnTo>
                    <a:pt x="378" y="536"/>
                  </a:lnTo>
                  <a:lnTo>
                    <a:pt x="513" y="498"/>
                  </a:lnTo>
                  <a:lnTo>
                    <a:pt x="618" y="483"/>
                  </a:lnTo>
                  <a:lnTo>
                    <a:pt x="960" y="447"/>
                  </a:lnTo>
                  <a:lnTo>
                    <a:pt x="1124" y="179"/>
                  </a:lnTo>
                  <a:lnTo>
                    <a:pt x="1175" y="179"/>
                  </a:lnTo>
                  <a:lnTo>
                    <a:pt x="1778" y="365"/>
                  </a:lnTo>
                  <a:lnTo>
                    <a:pt x="1867" y="179"/>
                  </a:lnTo>
                  <a:lnTo>
                    <a:pt x="1918" y="192"/>
                  </a:lnTo>
                  <a:lnTo>
                    <a:pt x="1964" y="291"/>
                  </a:lnTo>
                  <a:lnTo>
                    <a:pt x="2127" y="343"/>
                  </a:lnTo>
                  <a:lnTo>
                    <a:pt x="2245" y="156"/>
                  </a:lnTo>
                  <a:lnTo>
                    <a:pt x="2416" y="179"/>
                  </a:lnTo>
                  <a:lnTo>
                    <a:pt x="2551" y="246"/>
                  </a:lnTo>
                  <a:lnTo>
                    <a:pt x="2618" y="335"/>
                  </a:lnTo>
                  <a:lnTo>
                    <a:pt x="2648" y="476"/>
                  </a:lnTo>
                  <a:lnTo>
                    <a:pt x="2633" y="626"/>
                  </a:lnTo>
                  <a:lnTo>
                    <a:pt x="2536" y="789"/>
                  </a:lnTo>
                  <a:lnTo>
                    <a:pt x="2454" y="886"/>
                  </a:lnTo>
                  <a:lnTo>
                    <a:pt x="2306" y="915"/>
                  </a:lnTo>
                  <a:lnTo>
                    <a:pt x="2209" y="930"/>
                  </a:lnTo>
                  <a:lnTo>
                    <a:pt x="2163" y="833"/>
                  </a:lnTo>
                  <a:lnTo>
                    <a:pt x="2105" y="820"/>
                  </a:lnTo>
                  <a:lnTo>
                    <a:pt x="2089" y="782"/>
                  </a:lnTo>
                  <a:lnTo>
                    <a:pt x="2000" y="782"/>
                  </a:lnTo>
                  <a:lnTo>
                    <a:pt x="1992" y="841"/>
                  </a:lnTo>
                  <a:lnTo>
                    <a:pt x="1905" y="825"/>
                  </a:lnTo>
                  <a:lnTo>
                    <a:pt x="1852" y="789"/>
                  </a:lnTo>
                  <a:lnTo>
                    <a:pt x="1755" y="825"/>
                  </a:lnTo>
                  <a:lnTo>
                    <a:pt x="892" y="915"/>
                  </a:lnTo>
                  <a:lnTo>
                    <a:pt x="840" y="886"/>
                  </a:lnTo>
                  <a:lnTo>
                    <a:pt x="810" y="736"/>
                  </a:lnTo>
                  <a:lnTo>
                    <a:pt x="766" y="715"/>
                  </a:lnTo>
                  <a:lnTo>
                    <a:pt x="141" y="915"/>
                  </a:lnTo>
                  <a:lnTo>
                    <a:pt x="171" y="1004"/>
                  </a:lnTo>
                  <a:lnTo>
                    <a:pt x="298" y="1162"/>
                  </a:lnTo>
                  <a:lnTo>
                    <a:pt x="447" y="1175"/>
                  </a:lnTo>
                  <a:lnTo>
                    <a:pt x="521" y="1170"/>
                  </a:lnTo>
                  <a:lnTo>
                    <a:pt x="654" y="1132"/>
                  </a:lnTo>
                  <a:lnTo>
                    <a:pt x="937" y="1132"/>
                  </a:lnTo>
                  <a:lnTo>
                    <a:pt x="1101" y="1101"/>
                  </a:lnTo>
                  <a:lnTo>
                    <a:pt x="1509" y="1042"/>
                  </a:lnTo>
                  <a:lnTo>
                    <a:pt x="1890" y="1004"/>
                  </a:lnTo>
                  <a:lnTo>
                    <a:pt x="2485" y="938"/>
                  </a:lnTo>
                  <a:lnTo>
                    <a:pt x="2677" y="810"/>
                  </a:lnTo>
                  <a:lnTo>
                    <a:pt x="2774" y="611"/>
                  </a:lnTo>
                  <a:lnTo>
                    <a:pt x="2789" y="335"/>
                  </a:lnTo>
                  <a:lnTo>
                    <a:pt x="2671" y="149"/>
                  </a:lnTo>
                  <a:lnTo>
                    <a:pt x="2521" y="67"/>
                  </a:lnTo>
                  <a:lnTo>
                    <a:pt x="2186" y="16"/>
                  </a:lnTo>
                  <a:lnTo>
                    <a:pt x="1614" y="0"/>
                  </a:lnTo>
                  <a:lnTo>
                    <a:pt x="774" y="59"/>
                  </a:lnTo>
                  <a:lnTo>
                    <a:pt x="82" y="223"/>
                  </a:lnTo>
                  <a:lnTo>
                    <a:pt x="0" y="468"/>
                  </a:lnTo>
                  <a:lnTo>
                    <a:pt x="171" y="580"/>
                  </a:lnTo>
                  <a:lnTo>
                    <a:pt x="171" y="58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153520" y="3580920"/>
              <a:ext cx="585720" cy="281520"/>
            </a:xfrm>
            <a:custGeom>
              <a:avLst/>
              <a:gdLst/>
              <a:ahLst/>
              <a:rect l="l" t="t" r="r" b="b"/>
              <a:pathLst>
                <a:path w="1159" h="494">
                  <a:moveTo>
                    <a:pt x="285" y="0"/>
                  </a:moveTo>
                  <a:lnTo>
                    <a:pt x="389" y="0"/>
                  </a:lnTo>
                  <a:lnTo>
                    <a:pt x="1133" y="19"/>
                  </a:lnTo>
                  <a:lnTo>
                    <a:pt x="1148" y="47"/>
                  </a:lnTo>
                  <a:lnTo>
                    <a:pt x="1159" y="83"/>
                  </a:lnTo>
                  <a:lnTo>
                    <a:pt x="1156" y="391"/>
                  </a:lnTo>
                  <a:lnTo>
                    <a:pt x="1152" y="426"/>
                  </a:lnTo>
                  <a:lnTo>
                    <a:pt x="1123" y="447"/>
                  </a:lnTo>
                  <a:lnTo>
                    <a:pt x="304" y="494"/>
                  </a:lnTo>
                  <a:lnTo>
                    <a:pt x="13" y="492"/>
                  </a:lnTo>
                  <a:lnTo>
                    <a:pt x="0" y="462"/>
                  </a:lnTo>
                  <a:lnTo>
                    <a:pt x="180" y="131"/>
                  </a:lnTo>
                  <a:lnTo>
                    <a:pt x="230" y="87"/>
                  </a:lnTo>
                  <a:lnTo>
                    <a:pt x="258" y="17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183040" y="3582000"/>
              <a:ext cx="36360" cy="6588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72" y="0"/>
                  </a:moveTo>
                  <a:lnTo>
                    <a:pt x="28" y="13"/>
                  </a:lnTo>
                  <a:lnTo>
                    <a:pt x="0" y="87"/>
                  </a:lnTo>
                  <a:lnTo>
                    <a:pt x="7" y="116"/>
                  </a:lnTo>
                  <a:lnTo>
                    <a:pt x="26" y="87"/>
                  </a:lnTo>
                  <a:lnTo>
                    <a:pt x="57" y="74"/>
                  </a:lnTo>
                  <a:lnTo>
                    <a:pt x="57" y="43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145600" y="2837880"/>
              <a:ext cx="108720" cy="655200"/>
            </a:xfrm>
            <a:custGeom>
              <a:avLst/>
              <a:gdLst/>
              <a:ahLst/>
              <a:rect l="l" t="t" r="r" b="b"/>
              <a:pathLst>
                <a:path w="217" h="1148">
                  <a:moveTo>
                    <a:pt x="31" y="3"/>
                  </a:moveTo>
                  <a:lnTo>
                    <a:pt x="35" y="30"/>
                  </a:lnTo>
                  <a:lnTo>
                    <a:pt x="59" y="49"/>
                  </a:lnTo>
                  <a:lnTo>
                    <a:pt x="59" y="732"/>
                  </a:lnTo>
                  <a:lnTo>
                    <a:pt x="8" y="737"/>
                  </a:lnTo>
                  <a:lnTo>
                    <a:pt x="0" y="1148"/>
                  </a:lnTo>
                  <a:lnTo>
                    <a:pt x="217" y="1144"/>
                  </a:lnTo>
                  <a:lnTo>
                    <a:pt x="217" y="754"/>
                  </a:lnTo>
                  <a:lnTo>
                    <a:pt x="172" y="735"/>
                  </a:lnTo>
                  <a:lnTo>
                    <a:pt x="164" y="619"/>
                  </a:lnTo>
                  <a:lnTo>
                    <a:pt x="160" y="62"/>
                  </a:lnTo>
                  <a:lnTo>
                    <a:pt x="175" y="40"/>
                  </a:lnTo>
                  <a:lnTo>
                    <a:pt x="168" y="3"/>
                  </a:lnTo>
                  <a:lnTo>
                    <a:pt x="122" y="0"/>
                  </a:lnTo>
                  <a:lnTo>
                    <a:pt x="56" y="2"/>
                  </a:lnTo>
                  <a:lnTo>
                    <a:pt x="31" y="3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760480" y="3718800"/>
              <a:ext cx="48240" cy="87480"/>
            </a:xfrm>
            <a:custGeom>
              <a:avLst/>
              <a:gdLst/>
              <a:ahLst/>
              <a:rect l="l" t="t" r="r" b="b"/>
              <a:pathLst>
                <a:path w="95" h="154">
                  <a:moveTo>
                    <a:pt x="0" y="2"/>
                  </a:moveTo>
                  <a:lnTo>
                    <a:pt x="17" y="0"/>
                  </a:lnTo>
                  <a:lnTo>
                    <a:pt x="50" y="2"/>
                  </a:lnTo>
                  <a:lnTo>
                    <a:pt x="95" y="53"/>
                  </a:lnTo>
                  <a:lnTo>
                    <a:pt x="91" y="154"/>
                  </a:lnTo>
                  <a:lnTo>
                    <a:pt x="29" y="126"/>
                  </a:lnTo>
                  <a:lnTo>
                    <a:pt x="2" y="2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765520" y="3725640"/>
              <a:ext cx="23040" cy="4104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0" y="0"/>
                  </a:moveTo>
                  <a:lnTo>
                    <a:pt x="38" y="72"/>
                  </a:lnTo>
                  <a:lnTo>
                    <a:pt x="45" y="26"/>
                  </a:lnTo>
                  <a:lnTo>
                    <a:pt x="2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815920" y="3594600"/>
              <a:ext cx="42120" cy="68400"/>
            </a:xfrm>
            <a:custGeom>
              <a:avLst/>
              <a:gdLst/>
              <a:ahLst/>
              <a:rect l="l" t="t" r="r" b="b"/>
              <a:pathLst>
                <a:path w="84" h="119">
                  <a:moveTo>
                    <a:pt x="56" y="0"/>
                  </a:moveTo>
                  <a:lnTo>
                    <a:pt x="48" y="34"/>
                  </a:lnTo>
                  <a:lnTo>
                    <a:pt x="84" y="30"/>
                  </a:lnTo>
                  <a:lnTo>
                    <a:pt x="0" y="119"/>
                  </a:lnTo>
                  <a:lnTo>
                    <a:pt x="8" y="7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8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188800" y="2866680"/>
              <a:ext cx="19800" cy="357840"/>
            </a:xfrm>
            <a:custGeom>
              <a:avLst/>
              <a:gdLst/>
              <a:ahLst/>
              <a:rect l="l" t="t" r="r" b="b"/>
              <a:pathLst>
                <a:path w="42" h="627">
                  <a:moveTo>
                    <a:pt x="0" y="8"/>
                  </a:moveTo>
                  <a:lnTo>
                    <a:pt x="0" y="627"/>
                  </a:lnTo>
                  <a:lnTo>
                    <a:pt x="21" y="555"/>
                  </a:lnTo>
                  <a:lnTo>
                    <a:pt x="42" y="534"/>
                  </a:lnTo>
                  <a:lnTo>
                    <a:pt x="42" y="44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169720" y="2841480"/>
              <a:ext cx="39240" cy="1116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2" y="21"/>
                  </a:moveTo>
                  <a:lnTo>
                    <a:pt x="74" y="2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2" y="21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169720" y="3278520"/>
              <a:ext cx="39240" cy="195840"/>
            </a:xfrm>
            <a:custGeom>
              <a:avLst/>
              <a:gdLst/>
              <a:ahLst/>
              <a:rect l="l" t="t" r="r" b="b"/>
              <a:pathLst>
                <a:path w="78" h="345">
                  <a:moveTo>
                    <a:pt x="0" y="0"/>
                  </a:moveTo>
                  <a:lnTo>
                    <a:pt x="55" y="0"/>
                  </a:lnTo>
                  <a:lnTo>
                    <a:pt x="78" y="27"/>
                  </a:lnTo>
                  <a:lnTo>
                    <a:pt x="78" y="345"/>
                  </a:lnTo>
                  <a:lnTo>
                    <a:pt x="0" y="3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183040" y="3281760"/>
              <a:ext cx="11880" cy="185760"/>
            </a:xfrm>
            <a:custGeom>
              <a:avLst/>
              <a:gdLst/>
              <a:ahLst/>
              <a:rect l="l" t="t" r="r" b="b"/>
              <a:pathLst>
                <a:path w="24" h="327">
                  <a:moveTo>
                    <a:pt x="0" y="0"/>
                  </a:moveTo>
                  <a:lnTo>
                    <a:pt x="0" y="325"/>
                  </a:lnTo>
                  <a:lnTo>
                    <a:pt x="24" y="327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193840" y="2868480"/>
              <a:ext cx="7920" cy="325080"/>
            </a:xfrm>
            <a:custGeom>
              <a:avLst/>
              <a:gdLst/>
              <a:ahLst/>
              <a:rect l="l" t="t" r="r" b="b"/>
              <a:pathLst>
                <a:path w="16" h="568">
                  <a:moveTo>
                    <a:pt x="0" y="4"/>
                  </a:moveTo>
                  <a:lnTo>
                    <a:pt x="0" y="568"/>
                  </a:lnTo>
                  <a:lnTo>
                    <a:pt x="16" y="521"/>
                  </a:lnTo>
                  <a:lnTo>
                    <a:pt x="1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149560" y="4291560"/>
              <a:ext cx="165240" cy="106200"/>
            </a:xfrm>
            <a:custGeom>
              <a:avLst/>
              <a:gdLst/>
              <a:ahLst/>
              <a:rect l="l" t="t" r="r" b="b"/>
              <a:pathLst>
                <a:path w="329" h="184">
                  <a:moveTo>
                    <a:pt x="8" y="169"/>
                  </a:moveTo>
                  <a:lnTo>
                    <a:pt x="0" y="0"/>
                  </a:lnTo>
                  <a:lnTo>
                    <a:pt x="283" y="68"/>
                  </a:lnTo>
                  <a:lnTo>
                    <a:pt x="329" y="23"/>
                  </a:lnTo>
                  <a:lnTo>
                    <a:pt x="329" y="150"/>
                  </a:lnTo>
                  <a:lnTo>
                    <a:pt x="295" y="184"/>
                  </a:lnTo>
                  <a:lnTo>
                    <a:pt x="8" y="169"/>
                  </a:lnTo>
                  <a:lnTo>
                    <a:pt x="8" y="16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169720" y="3953880"/>
              <a:ext cx="1521720" cy="602280"/>
            </a:xfrm>
            <a:custGeom>
              <a:avLst/>
              <a:gdLst/>
              <a:ahLst/>
              <a:rect l="l" t="t" r="r" b="b"/>
              <a:pathLst>
                <a:path w="3013" h="1057">
                  <a:moveTo>
                    <a:pt x="0" y="517"/>
                  </a:moveTo>
                  <a:lnTo>
                    <a:pt x="346" y="604"/>
                  </a:lnTo>
                  <a:lnTo>
                    <a:pt x="430" y="378"/>
                  </a:lnTo>
                  <a:lnTo>
                    <a:pt x="739" y="203"/>
                  </a:lnTo>
                  <a:lnTo>
                    <a:pt x="1025" y="146"/>
                  </a:lnTo>
                  <a:lnTo>
                    <a:pt x="1173" y="120"/>
                  </a:lnTo>
                  <a:lnTo>
                    <a:pt x="1523" y="91"/>
                  </a:lnTo>
                  <a:lnTo>
                    <a:pt x="1909" y="68"/>
                  </a:lnTo>
                  <a:lnTo>
                    <a:pt x="2323" y="76"/>
                  </a:lnTo>
                  <a:lnTo>
                    <a:pt x="2629" y="93"/>
                  </a:lnTo>
                  <a:lnTo>
                    <a:pt x="2753" y="139"/>
                  </a:lnTo>
                  <a:lnTo>
                    <a:pt x="2821" y="260"/>
                  </a:lnTo>
                  <a:lnTo>
                    <a:pt x="2848" y="403"/>
                  </a:lnTo>
                  <a:lnTo>
                    <a:pt x="2856" y="540"/>
                  </a:lnTo>
                  <a:lnTo>
                    <a:pt x="2814" y="697"/>
                  </a:lnTo>
                  <a:lnTo>
                    <a:pt x="2722" y="850"/>
                  </a:lnTo>
                  <a:lnTo>
                    <a:pt x="2644" y="916"/>
                  </a:lnTo>
                  <a:lnTo>
                    <a:pt x="2508" y="945"/>
                  </a:lnTo>
                  <a:lnTo>
                    <a:pt x="2346" y="954"/>
                  </a:lnTo>
                  <a:lnTo>
                    <a:pt x="2205" y="981"/>
                  </a:lnTo>
                  <a:lnTo>
                    <a:pt x="2074" y="1007"/>
                  </a:lnTo>
                  <a:lnTo>
                    <a:pt x="1945" y="962"/>
                  </a:lnTo>
                  <a:lnTo>
                    <a:pt x="1958" y="1049"/>
                  </a:lnTo>
                  <a:lnTo>
                    <a:pt x="2221" y="1057"/>
                  </a:lnTo>
                  <a:lnTo>
                    <a:pt x="2435" y="1007"/>
                  </a:lnTo>
                  <a:lnTo>
                    <a:pt x="2629" y="977"/>
                  </a:lnTo>
                  <a:lnTo>
                    <a:pt x="2760" y="962"/>
                  </a:lnTo>
                  <a:lnTo>
                    <a:pt x="2882" y="884"/>
                  </a:lnTo>
                  <a:lnTo>
                    <a:pt x="2941" y="800"/>
                  </a:lnTo>
                  <a:lnTo>
                    <a:pt x="2994" y="661"/>
                  </a:lnTo>
                  <a:lnTo>
                    <a:pt x="3013" y="483"/>
                  </a:lnTo>
                  <a:lnTo>
                    <a:pt x="3002" y="374"/>
                  </a:lnTo>
                  <a:lnTo>
                    <a:pt x="2968" y="268"/>
                  </a:lnTo>
                  <a:lnTo>
                    <a:pt x="2926" y="207"/>
                  </a:lnTo>
                  <a:lnTo>
                    <a:pt x="2852" y="120"/>
                  </a:lnTo>
                  <a:lnTo>
                    <a:pt x="2700" y="42"/>
                  </a:lnTo>
                  <a:lnTo>
                    <a:pt x="2403" y="4"/>
                  </a:lnTo>
                  <a:lnTo>
                    <a:pt x="1943" y="0"/>
                  </a:lnTo>
                  <a:lnTo>
                    <a:pt x="1433" y="15"/>
                  </a:lnTo>
                  <a:lnTo>
                    <a:pt x="1089" y="38"/>
                  </a:lnTo>
                  <a:lnTo>
                    <a:pt x="787" y="85"/>
                  </a:lnTo>
                  <a:lnTo>
                    <a:pt x="437" y="154"/>
                  </a:lnTo>
                  <a:lnTo>
                    <a:pt x="354" y="184"/>
                  </a:lnTo>
                  <a:lnTo>
                    <a:pt x="241" y="234"/>
                  </a:lnTo>
                  <a:lnTo>
                    <a:pt x="158" y="291"/>
                  </a:lnTo>
                  <a:lnTo>
                    <a:pt x="97" y="355"/>
                  </a:lnTo>
                  <a:lnTo>
                    <a:pt x="19" y="437"/>
                  </a:lnTo>
                  <a:lnTo>
                    <a:pt x="0" y="517"/>
                  </a:lnTo>
                  <a:lnTo>
                    <a:pt x="0" y="51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162880" y="4507560"/>
              <a:ext cx="176400" cy="128520"/>
            </a:xfrm>
            <a:custGeom>
              <a:avLst/>
              <a:gdLst/>
              <a:ahLst/>
              <a:rect l="l" t="t" r="r" b="b"/>
              <a:pathLst>
                <a:path w="350" h="227">
                  <a:moveTo>
                    <a:pt x="0" y="76"/>
                  </a:moveTo>
                  <a:lnTo>
                    <a:pt x="104" y="190"/>
                  </a:lnTo>
                  <a:lnTo>
                    <a:pt x="350" y="227"/>
                  </a:lnTo>
                  <a:lnTo>
                    <a:pt x="245" y="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619280" y="3931200"/>
              <a:ext cx="104760" cy="176400"/>
            </a:xfrm>
            <a:custGeom>
              <a:avLst/>
              <a:gdLst/>
              <a:ahLst/>
              <a:rect l="l" t="t" r="r" b="b"/>
              <a:pathLst>
                <a:path w="209" h="310">
                  <a:moveTo>
                    <a:pt x="0" y="302"/>
                  </a:moveTo>
                  <a:lnTo>
                    <a:pt x="205" y="0"/>
                  </a:lnTo>
                  <a:lnTo>
                    <a:pt x="209" y="59"/>
                  </a:lnTo>
                  <a:lnTo>
                    <a:pt x="57" y="310"/>
                  </a:lnTo>
                  <a:lnTo>
                    <a:pt x="0" y="302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907280" y="3871800"/>
              <a:ext cx="204840" cy="324720"/>
            </a:xfrm>
            <a:custGeom>
              <a:avLst/>
              <a:gdLst/>
              <a:ahLst/>
              <a:rect l="l" t="t" r="r" b="b"/>
              <a:pathLst>
                <a:path w="407" h="571">
                  <a:moveTo>
                    <a:pt x="0" y="557"/>
                  </a:moveTo>
                  <a:lnTo>
                    <a:pt x="342" y="0"/>
                  </a:lnTo>
                  <a:lnTo>
                    <a:pt x="374" y="2"/>
                  </a:lnTo>
                  <a:lnTo>
                    <a:pt x="407" y="31"/>
                  </a:lnTo>
                  <a:lnTo>
                    <a:pt x="72" y="571"/>
                  </a:lnTo>
                  <a:lnTo>
                    <a:pt x="0" y="557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719360" y="3507840"/>
              <a:ext cx="25920" cy="3312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0" y="57"/>
                  </a:moveTo>
                  <a:lnTo>
                    <a:pt x="19" y="0"/>
                  </a:lnTo>
                  <a:lnTo>
                    <a:pt x="54" y="1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001240" y="3472200"/>
              <a:ext cx="31320" cy="92160"/>
            </a:xfrm>
            <a:custGeom>
              <a:avLst/>
              <a:gdLst/>
              <a:ahLst/>
              <a:rect l="l" t="t" r="r" b="b"/>
              <a:pathLst>
                <a:path w="61" h="161">
                  <a:moveTo>
                    <a:pt x="0" y="34"/>
                  </a:moveTo>
                  <a:lnTo>
                    <a:pt x="12" y="135"/>
                  </a:lnTo>
                  <a:lnTo>
                    <a:pt x="38" y="161"/>
                  </a:lnTo>
                  <a:lnTo>
                    <a:pt x="59" y="137"/>
                  </a:lnTo>
                  <a:lnTo>
                    <a:pt x="61" y="74"/>
                  </a:lnTo>
                  <a:lnTo>
                    <a:pt x="44" y="17"/>
                  </a:lnTo>
                  <a:lnTo>
                    <a:pt x="21" y="0"/>
                  </a:lnTo>
                  <a:lnTo>
                    <a:pt x="6" y="9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409120" y="4060080"/>
              <a:ext cx="1178280" cy="434520"/>
            </a:xfrm>
            <a:custGeom>
              <a:avLst/>
              <a:gdLst/>
              <a:ahLst/>
              <a:rect l="l" t="t" r="r" b="b"/>
              <a:pathLst>
                <a:path w="2333" h="762">
                  <a:moveTo>
                    <a:pt x="0" y="458"/>
                  </a:moveTo>
                  <a:lnTo>
                    <a:pt x="114" y="477"/>
                  </a:lnTo>
                  <a:lnTo>
                    <a:pt x="405" y="371"/>
                  </a:lnTo>
                  <a:lnTo>
                    <a:pt x="476" y="373"/>
                  </a:lnTo>
                  <a:lnTo>
                    <a:pt x="516" y="420"/>
                  </a:lnTo>
                  <a:lnTo>
                    <a:pt x="519" y="470"/>
                  </a:lnTo>
                  <a:lnTo>
                    <a:pt x="504" y="519"/>
                  </a:lnTo>
                  <a:lnTo>
                    <a:pt x="474" y="544"/>
                  </a:lnTo>
                  <a:lnTo>
                    <a:pt x="533" y="751"/>
                  </a:lnTo>
                  <a:lnTo>
                    <a:pt x="1434" y="662"/>
                  </a:lnTo>
                  <a:lnTo>
                    <a:pt x="1552" y="648"/>
                  </a:lnTo>
                  <a:lnTo>
                    <a:pt x="1605" y="681"/>
                  </a:lnTo>
                  <a:lnTo>
                    <a:pt x="1671" y="673"/>
                  </a:lnTo>
                  <a:lnTo>
                    <a:pt x="1671" y="629"/>
                  </a:lnTo>
                  <a:lnTo>
                    <a:pt x="1761" y="627"/>
                  </a:lnTo>
                  <a:lnTo>
                    <a:pt x="1911" y="762"/>
                  </a:lnTo>
                  <a:lnTo>
                    <a:pt x="2038" y="762"/>
                  </a:lnTo>
                  <a:lnTo>
                    <a:pt x="2149" y="726"/>
                  </a:lnTo>
                  <a:lnTo>
                    <a:pt x="2230" y="624"/>
                  </a:lnTo>
                  <a:lnTo>
                    <a:pt x="2305" y="498"/>
                  </a:lnTo>
                  <a:lnTo>
                    <a:pt x="2333" y="356"/>
                  </a:lnTo>
                  <a:lnTo>
                    <a:pt x="2324" y="224"/>
                  </a:lnTo>
                  <a:lnTo>
                    <a:pt x="2251" y="110"/>
                  </a:lnTo>
                  <a:lnTo>
                    <a:pt x="2107" y="13"/>
                  </a:lnTo>
                  <a:lnTo>
                    <a:pt x="2002" y="0"/>
                  </a:lnTo>
                  <a:lnTo>
                    <a:pt x="1911" y="36"/>
                  </a:lnTo>
                  <a:lnTo>
                    <a:pt x="1679" y="200"/>
                  </a:lnTo>
                  <a:lnTo>
                    <a:pt x="1601" y="25"/>
                  </a:lnTo>
                  <a:lnTo>
                    <a:pt x="1544" y="10"/>
                  </a:lnTo>
                  <a:lnTo>
                    <a:pt x="1455" y="200"/>
                  </a:lnTo>
                  <a:lnTo>
                    <a:pt x="843" y="13"/>
                  </a:lnTo>
                  <a:lnTo>
                    <a:pt x="806" y="13"/>
                  </a:lnTo>
                  <a:lnTo>
                    <a:pt x="666" y="299"/>
                  </a:lnTo>
                  <a:lnTo>
                    <a:pt x="310" y="316"/>
                  </a:lnTo>
                  <a:lnTo>
                    <a:pt x="116" y="348"/>
                  </a:lnTo>
                  <a:lnTo>
                    <a:pt x="42" y="399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761560" y="4084200"/>
              <a:ext cx="87480" cy="168480"/>
            </a:xfrm>
            <a:custGeom>
              <a:avLst/>
              <a:gdLst/>
              <a:ahLst/>
              <a:rect l="l" t="t" r="r" b="b"/>
              <a:pathLst>
                <a:path w="173" h="296">
                  <a:moveTo>
                    <a:pt x="108" y="8"/>
                  </a:moveTo>
                  <a:lnTo>
                    <a:pt x="0" y="296"/>
                  </a:lnTo>
                  <a:lnTo>
                    <a:pt x="70" y="257"/>
                  </a:lnTo>
                  <a:lnTo>
                    <a:pt x="156" y="277"/>
                  </a:lnTo>
                  <a:lnTo>
                    <a:pt x="173" y="203"/>
                  </a:lnTo>
                  <a:lnTo>
                    <a:pt x="165" y="139"/>
                  </a:lnTo>
                  <a:lnTo>
                    <a:pt x="135" y="0"/>
                  </a:lnTo>
                  <a:lnTo>
                    <a:pt x="108" y="8"/>
                  </a:lnTo>
                  <a:lnTo>
                    <a:pt x="108" y="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3158280" y="4086360"/>
              <a:ext cx="87480" cy="105840"/>
            </a:xfrm>
            <a:custGeom>
              <a:avLst/>
              <a:gdLst/>
              <a:ahLst/>
              <a:rect l="l" t="t" r="r" b="b"/>
              <a:pathLst>
                <a:path w="175" h="186">
                  <a:moveTo>
                    <a:pt x="0" y="186"/>
                  </a:moveTo>
                  <a:lnTo>
                    <a:pt x="93" y="106"/>
                  </a:lnTo>
                  <a:lnTo>
                    <a:pt x="164" y="171"/>
                  </a:lnTo>
                  <a:lnTo>
                    <a:pt x="175" y="150"/>
                  </a:lnTo>
                  <a:lnTo>
                    <a:pt x="107" y="0"/>
                  </a:lnTo>
                  <a:lnTo>
                    <a:pt x="74" y="7"/>
                  </a:lnTo>
                  <a:lnTo>
                    <a:pt x="0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438280" y="4280400"/>
              <a:ext cx="83520" cy="4104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54" y="72"/>
                  </a:moveTo>
                  <a:lnTo>
                    <a:pt x="168" y="25"/>
                  </a:lnTo>
                  <a:lnTo>
                    <a:pt x="139" y="10"/>
                  </a:lnTo>
                  <a:lnTo>
                    <a:pt x="69" y="0"/>
                  </a:lnTo>
                  <a:lnTo>
                    <a:pt x="6" y="42"/>
                  </a:lnTo>
                  <a:lnTo>
                    <a:pt x="0" y="61"/>
                  </a:lnTo>
                  <a:lnTo>
                    <a:pt x="54" y="72"/>
                  </a:lnTo>
                  <a:lnTo>
                    <a:pt x="54" y="72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640240" y="4253040"/>
              <a:ext cx="241200" cy="91080"/>
            </a:xfrm>
            <a:custGeom>
              <a:avLst/>
              <a:gdLst/>
              <a:ahLst/>
              <a:rect l="l" t="t" r="r" b="b"/>
              <a:pathLst>
                <a:path w="478" h="160">
                  <a:moveTo>
                    <a:pt x="0" y="6"/>
                  </a:moveTo>
                  <a:lnTo>
                    <a:pt x="59" y="44"/>
                  </a:lnTo>
                  <a:lnTo>
                    <a:pt x="90" y="160"/>
                  </a:lnTo>
                  <a:lnTo>
                    <a:pt x="478" y="141"/>
                  </a:lnTo>
                  <a:lnTo>
                    <a:pt x="411" y="99"/>
                  </a:lnTo>
                  <a:lnTo>
                    <a:pt x="377" y="126"/>
                  </a:lnTo>
                  <a:lnTo>
                    <a:pt x="291" y="137"/>
                  </a:lnTo>
                  <a:lnTo>
                    <a:pt x="185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864520" y="4239360"/>
              <a:ext cx="72720" cy="45360"/>
            </a:xfrm>
            <a:custGeom>
              <a:avLst/>
              <a:gdLst/>
              <a:ahLst/>
              <a:rect l="l" t="t" r="r" b="b"/>
              <a:pathLst>
                <a:path w="145" h="80">
                  <a:moveTo>
                    <a:pt x="0" y="80"/>
                  </a:moveTo>
                  <a:lnTo>
                    <a:pt x="69" y="80"/>
                  </a:lnTo>
                  <a:lnTo>
                    <a:pt x="73" y="30"/>
                  </a:lnTo>
                  <a:lnTo>
                    <a:pt x="145" y="11"/>
                  </a:lnTo>
                  <a:lnTo>
                    <a:pt x="77" y="0"/>
                  </a:lnTo>
                  <a:lnTo>
                    <a:pt x="33" y="24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908800" y="4282560"/>
              <a:ext cx="35280" cy="2952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0" y="51"/>
                  </a:moveTo>
                  <a:lnTo>
                    <a:pt x="47" y="51"/>
                  </a:lnTo>
                  <a:lnTo>
                    <a:pt x="68" y="4"/>
                  </a:lnTo>
                  <a:lnTo>
                    <a:pt x="47" y="0"/>
                  </a:lnTo>
                  <a:lnTo>
                    <a:pt x="28" y="3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923920" y="4216320"/>
              <a:ext cx="260280" cy="107280"/>
            </a:xfrm>
            <a:custGeom>
              <a:avLst/>
              <a:gdLst/>
              <a:ahLst/>
              <a:rect l="l" t="t" r="r" b="b"/>
              <a:pathLst>
                <a:path w="517" h="188">
                  <a:moveTo>
                    <a:pt x="0" y="26"/>
                  </a:moveTo>
                  <a:lnTo>
                    <a:pt x="430" y="0"/>
                  </a:lnTo>
                  <a:lnTo>
                    <a:pt x="517" y="146"/>
                  </a:lnTo>
                  <a:lnTo>
                    <a:pt x="71" y="188"/>
                  </a:lnTo>
                  <a:lnTo>
                    <a:pt x="99" y="139"/>
                  </a:lnTo>
                  <a:lnTo>
                    <a:pt x="95" y="85"/>
                  </a:lnTo>
                  <a:lnTo>
                    <a:pt x="65" y="47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3484440" y="4147920"/>
              <a:ext cx="96840" cy="187920"/>
            </a:xfrm>
            <a:custGeom>
              <a:avLst/>
              <a:gdLst/>
              <a:ahLst/>
              <a:rect l="l" t="t" r="r" b="b"/>
              <a:pathLst>
                <a:path w="192" h="331">
                  <a:moveTo>
                    <a:pt x="0" y="72"/>
                  </a:moveTo>
                  <a:lnTo>
                    <a:pt x="76" y="69"/>
                  </a:lnTo>
                  <a:lnTo>
                    <a:pt x="116" y="156"/>
                  </a:lnTo>
                  <a:lnTo>
                    <a:pt x="137" y="112"/>
                  </a:lnTo>
                  <a:lnTo>
                    <a:pt x="175" y="202"/>
                  </a:lnTo>
                  <a:lnTo>
                    <a:pt x="146" y="331"/>
                  </a:lnTo>
                  <a:lnTo>
                    <a:pt x="188" y="242"/>
                  </a:lnTo>
                  <a:lnTo>
                    <a:pt x="192" y="164"/>
                  </a:lnTo>
                  <a:lnTo>
                    <a:pt x="154" y="51"/>
                  </a:lnTo>
                  <a:lnTo>
                    <a:pt x="106" y="0"/>
                  </a:lnTo>
                  <a:lnTo>
                    <a:pt x="133" y="69"/>
                  </a:lnTo>
                  <a:lnTo>
                    <a:pt x="78" y="38"/>
                  </a:lnTo>
                  <a:lnTo>
                    <a:pt x="41" y="4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3371400" y="4079520"/>
              <a:ext cx="99720" cy="60480"/>
            </a:xfrm>
            <a:custGeom>
              <a:avLst/>
              <a:gdLst/>
              <a:ahLst/>
              <a:rect l="l" t="t" r="r" b="b"/>
              <a:pathLst>
                <a:path w="198" h="107">
                  <a:moveTo>
                    <a:pt x="0" y="107"/>
                  </a:moveTo>
                  <a:lnTo>
                    <a:pt x="86" y="73"/>
                  </a:lnTo>
                  <a:lnTo>
                    <a:pt x="164" y="25"/>
                  </a:lnTo>
                  <a:lnTo>
                    <a:pt x="198" y="17"/>
                  </a:lnTo>
                  <a:lnTo>
                    <a:pt x="151" y="0"/>
                  </a:lnTo>
                  <a:lnTo>
                    <a:pt x="82" y="17"/>
                  </a:lnTo>
                  <a:lnTo>
                    <a:pt x="35" y="55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423960" y="4400280"/>
              <a:ext cx="91800" cy="34200"/>
            </a:xfrm>
            <a:custGeom>
              <a:avLst/>
              <a:gdLst/>
              <a:ahLst/>
              <a:rect l="l" t="t" r="r" b="b"/>
              <a:pathLst>
                <a:path w="182" h="61">
                  <a:moveTo>
                    <a:pt x="17" y="0"/>
                  </a:moveTo>
                  <a:lnTo>
                    <a:pt x="182" y="13"/>
                  </a:lnTo>
                  <a:lnTo>
                    <a:pt x="146" y="57"/>
                  </a:lnTo>
                  <a:lnTo>
                    <a:pt x="76" y="61"/>
                  </a:lnTo>
                  <a:lnTo>
                    <a:pt x="25" y="32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257280" y="4114800"/>
              <a:ext cx="262080" cy="164160"/>
            </a:xfrm>
            <a:custGeom>
              <a:avLst/>
              <a:gdLst/>
              <a:ahLst/>
              <a:rect l="l" t="t" r="r" b="b"/>
              <a:pathLst>
                <a:path w="521" h="289">
                  <a:moveTo>
                    <a:pt x="0" y="289"/>
                  </a:moveTo>
                  <a:lnTo>
                    <a:pt x="308" y="223"/>
                  </a:lnTo>
                  <a:lnTo>
                    <a:pt x="363" y="112"/>
                  </a:lnTo>
                  <a:lnTo>
                    <a:pt x="454" y="31"/>
                  </a:lnTo>
                  <a:lnTo>
                    <a:pt x="521" y="31"/>
                  </a:lnTo>
                  <a:lnTo>
                    <a:pt x="409" y="0"/>
                  </a:lnTo>
                  <a:lnTo>
                    <a:pt x="369" y="27"/>
                  </a:lnTo>
                  <a:lnTo>
                    <a:pt x="262" y="101"/>
                  </a:lnTo>
                  <a:lnTo>
                    <a:pt x="207" y="128"/>
                  </a:lnTo>
                  <a:lnTo>
                    <a:pt x="19" y="162"/>
                  </a:lnTo>
                  <a:lnTo>
                    <a:pt x="0" y="28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681640" y="4348800"/>
              <a:ext cx="432000" cy="37440"/>
            </a:xfrm>
            <a:custGeom>
              <a:avLst/>
              <a:gdLst/>
              <a:ahLst/>
              <a:rect l="l" t="t" r="r" b="b"/>
              <a:pathLst>
                <a:path w="856" h="66">
                  <a:moveTo>
                    <a:pt x="0" y="66"/>
                  </a:moveTo>
                  <a:lnTo>
                    <a:pt x="491" y="40"/>
                  </a:lnTo>
                  <a:lnTo>
                    <a:pt x="856" y="0"/>
                  </a:lnTo>
                  <a:lnTo>
                    <a:pt x="500" y="9"/>
                  </a:lnTo>
                  <a:lnTo>
                    <a:pt x="0" y="3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154320" y="4222080"/>
              <a:ext cx="382320" cy="140400"/>
            </a:xfrm>
            <a:custGeom>
              <a:avLst/>
              <a:gdLst/>
              <a:ahLst/>
              <a:rect l="l" t="t" r="r" b="b"/>
              <a:pathLst>
                <a:path w="758" h="247">
                  <a:moveTo>
                    <a:pt x="60" y="198"/>
                  </a:moveTo>
                  <a:lnTo>
                    <a:pt x="557" y="107"/>
                  </a:lnTo>
                  <a:lnTo>
                    <a:pt x="663" y="31"/>
                  </a:lnTo>
                  <a:lnTo>
                    <a:pt x="758" y="50"/>
                  </a:lnTo>
                  <a:lnTo>
                    <a:pt x="724" y="0"/>
                  </a:lnTo>
                  <a:lnTo>
                    <a:pt x="648" y="16"/>
                  </a:lnTo>
                  <a:lnTo>
                    <a:pt x="557" y="92"/>
                  </a:lnTo>
                  <a:lnTo>
                    <a:pt x="66" y="171"/>
                  </a:lnTo>
                  <a:lnTo>
                    <a:pt x="11" y="202"/>
                  </a:lnTo>
                  <a:lnTo>
                    <a:pt x="0" y="247"/>
                  </a:lnTo>
                  <a:lnTo>
                    <a:pt x="60" y="198"/>
                  </a:lnTo>
                  <a:lnTo>
                    <a:pt x="60" y="19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218320" y="4112640"/>
              <a:ext cx="171720" cy="91080"/>
            </a:xfrm>
            <a:custGeom>
              <a:avLst/>
              <a:gdLst/>
              <a:ahLst/>
              <a:rect l="l" t="t" r="r" b="b"/>
              <a:pathLst>
                <a:path w="340" h="160">
                  <a:moveTo>
                    <a:pt x="0" y="124"/>
                  </a:moveTo>
                  <a:lnTo>
                    <a:pt x="228" y="160"/>
                  </a:lnTo>
                  <a:lnTo>
                    <a:pt x="340" y="16"/>
                  </a:lnTo>
                  <a:lnTo>
                    <a:pt x="101" y="0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196000" y="4227840"/>
              <a:ext cx="113040" cy="27360"/>
            </a:xfrm>
            <a:custGeom>
              <a:avLst/>
              <a:gdLst/>
              <a:ahLst/>
              <a:rect l="l" t="t" r="r" b="b"/>
              <a:pathLst>
                <a:path w="225" h="47">
                  <a:moveTo>
                    <a:pt x="0" y="0"/>
                  </a:moveTo>
                  <a:lnTo>
                    <a:pt x="225" y="5"/>
                  </a:lnTo>
                  <a:lnTo>
                    <a:pt x="192" y="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323440" y="4060080"/>
              <a:ext cx="161280" cy="30600"/>
            </a:xfrm>
            <a:custGeom>
              <a:avLst/>
              <a:gdLst/>
              <a:ahLst/>
              <a:rect l="l" t="t" r="r" b="b"/>
              <a:pathLst>
                <a:path w="321" h="53">
                  <a:moveTo>
                    <a:pt x="0" y="44"/>
                  </a:moveTo>
                  <a:lnTo>
                    <a:pt x="198" y="53"/>
                  </a:lnTo>
                  <a:lnTo>
                    <a:pt x="321" y="17"/>
                  </a:lnTo>
                  <a:lnTo>
                    <a:pt x="112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439360" y="4024800"/>
              <a:ext cx="185400" cy="23760"/>
            </a:xfrm>
            <a:custGeom>
              <a:avLst/>
              <a:gdLst/>
              <a:ahLst/>
              <a:rect l="l" t="t" r="r" b="b"/>
              <a:pathLst>
                <a:path w="369" h="42">
                  <a:moveTo>
                    <a:pt x="0" y="36"/>
                  </a:moveTo>
                  <a:lnTo>
                    <a:pt x="204" y="42"/>
                  </a:lnTo>
                  <a:lnTo>
                    <a:pt x="369" y="10"/>
                  </a:lnTo>
                  <a:lnTo>
                    <a:pt x="192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640240" y="3961800"/>
              <a:ext cx="881280" cy="44280"/>
            </a:xfrm>
            <a:custGeom>
              <a:avLst/>
              <a:gdLst/>
              <a:ahLst/>
              <a:rect l="l" t="t" r="r" b="b"/>
              <a:pathLst>
                <a:path w="1746" h="76">
                  <a:moveTo>
                    <a:pt x="0" y="76"/>
                  </a:moveTo>
                  <a:lnTo>
                    <a:pt x="139" y="76"/>
                  </a:lnTo>
                  <a:lnTo>
                    <a:pt x="396" y="49"/>
                  </a:lnTo>
                  <a:lnTo>
                    <a:pt x="963" y="27"/>
                  </a:lnTo>
                  <a:lnTo>
                    <a:pt x="1385" y="27"/>
                  </a:lnTo>
                  <a:lnTo>
                    <a:pt x="1746" y="44"/>
                  </a:lnTo>
                  <a:lnTo>
                    <a:pt x="1415" y="11"/>
                  </a:lnTo>
                  <a:lnTo>
                    <a:pt x="1048" y="0"/>
                  </a:lnTo>
                  <a:lnTo>
                    <a:pt x="567" y="11"/>
                  </a:lnTo>
                  <a:lnTo>
                    <a:pt x="269" y="27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670840" y="4262040"/>
              <a:ext cx="69480" cy="48600"/>
            </a:xfrm>
            <a:custGeom>
              <a:avLst/>
              <a:gdLst/>
              <a:ahLst/>
              <a:rect l="l" t="t" r="r" b="b"/>
              <a:pathLst>
                <a:path w="139" h="85">
                  <a:moveTo>
                    <a:pt x="0" y="9"/>
                  </a:moveTo>
                  <a:lnTo>
                    <a:pt x="50" y="85"/>
                  </a:lnTo>
                  <a:lnTo>
                    <a:pt x="97" y="36"/>
                  </a:lnTo>
                  <a:lnTo>
                    <a:pt x="139" y="32"/>
                  </a:lnTo>
                  <a:lnTo>
                    <a:pt x="1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969640" y="4227840"/>
              <a:ext cx="177480" cy="39960"/>
            </a:xfrm>
            <a:custGeom>
              <a:avLst/>
              <a:gdLst/>
              <a:ahLst/>
              <a:rect l="l" t="t" r="r" b="b"/>
              <a:pathLst>
                <a:path w="351" h="68">
                  <a:moveTo>
                    <a:pt x="0" y="26"/>
                  </a:moveTo>
                  <a:lnTo>
                    <a:pt x="26" y="68"/>
                  </a:lnTo>
                  <a:lnTo>
                    <a:pt x="351" y="53"/>
                  </a:lnTo>
                  <a:lnTo>
                    <a:pt x="336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3279600" y="4160520"/>
              <a:ext cx="161280" cy="73080"/>
            </a:xfrm>
            <a:custGeom>
              <a:avLst/>
              <a:gdLst/>
              <a:ahLst/>
              <a:rect l="l" t="t" r="r" b="b"/>
              <a:pathLst>
                <a:path w="319" h="127">
                  <a:moveTo>
                    <a:pt x="0" y="127"/>
                  </a:moveTo>
                  <a:lnTo>
                    <a:pt x="234" y="85"/>
                  </a:lnTo>
                  <a:lnTo>
                    <a:pt x="319" y="0"/>
                  </a:lnTo>
                  <a:lnTo>
                    <a:pt x="213" y="53"/>
                  </a:lnTo>
                  <a:lnTo>
                    <a:pt x="0" y="85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789640" y="4102200"/>
              <a:ext cx="50040" cy="107280"/>
            </a:xfrm>
            <a:custGeom>
              <a:avLst/>
              <a:gdLst/>
              <a:ahLst/>
              <a:rect l="l" t="t" r="r" b="b"/>
              <a:pathLst>
                <a:path w="101" h="188">
                  <a:moveTo>
                    <a:pt x="0" y="188"/>
                  </a:moveTo>
                  <a:lnTo>
                    <a:pt x="63" y="114"/>
                  </a:lnTo>
                  <a:lnTo>
                    <a:pt x="101" y="147"/>
                  </a:lnTo>
                  <a:lnTo>
                    <a:pt x="63" y="0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3182400" y="4100040"/>
              <a:ext cx="58320" cy="6696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0" y="75"/>
                  </a:moveTo>
                  <a:lnTo>
                    <a:pt x="42" y="48"/>
                  </a:lnTo>
                  <a:lnTo>
                    <a:pt x="116" y="118"/>
                  </a:lnTo>
                  <a:lnTo>
                    <a:pt x="47" y="0"/>
                  </a:lnTo>
                  <a:lnTo>
                    <a:pt x="15" y="33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880720" y="4247280"/>
              <a:ext cx="24840" cy="2268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0" y="36"/>
                  </a:moveTo>
                  <a:lnTo>
                    <a:pt x="26" y="42"/>
                  </a:lnTo>
                  <a:lnTo>
                    <a:pt x="49" y="6"/>
                  </a:lnTo>
                  <a:lnTo>
                    <a:pt x="11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476800" y="4499640"/>
              <a:ext cx="234000" cy="94680"/>
            </a:xfrm>
            <a:custGeom>
              <a:avLst/>
              <a:gdLst/>
              <a:ahLst/>
              <a:rect l="l" t="t" r="r" b="b"/>
              <a:pathLst>
                <a:path w="464" h="165">
                  <a:moveTo>
                    <a:pt x="0" y="70"/>
                  </a:moveTo>
                  <a:lnTo>
                    <a:pt x="192" y="118"/>
                  </a:lnTo>
                  <a:lnTo>
                    <a:pt x="325" y="0"/>
                  </a:lnTo>
                  <a:lnTo>
                    <a:pt x="464" y="21"/>
                  </a:lnTo>
                  <a:lnTo>
                    <a:pt x="405" y="97"/>
                  </a:lnTo>
                  <a:lnTo>
                    <a:pt x="268" y="154"/>
                  </a:lnTo>
                  <a:lnTo>
                    <a:pt x="124" y="165"/>
                  </a:lnTo>
                  <a:lnTo>
                    <a:pt x="17" y="124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696760" y="4413960"/>
              <a:ext cx="628920" cy="131040"/>
            </a:xfrm>
            <a:custGeom>
              <a:avLst/>
              <a:gdLst/>
              <a:ahLst/>
              <a:rect l="l" t="t" r="r" b="b"/>
              <a:pathLst>
                <a:path w="1245" h="230">
                  <a:moveTo>
                    <a:pt x="0" y="177"/>
                  </a:moveTo>
                  <a:lnTo>
                    <a:pt x="81" y="230"/>
                  </a:lnTo>
                  <a:lnTo>
                    <a:pt x="161" y="165"/>
                  </a:lnTo>
                  <a:lnTo>
                    <a:pt x="224" y="177"/>
                  </a:lnTo>
                  <a:lnTo>
                    <a:pt x="481" y="156"/>
                  </a:lnTo>
                  <a:lnTo>
                    <a:pt x="688" y="129"/>
                  </a:lnTo>
                  <a:lnTo>
                    <a:pt x="882" y="112"/>
                  </a:lnTo>
                  <a:lnTo>
                    <a:pt x="992" y="85"/>
                  </a:lnTo>
                  <a:lnTo>
                    <a:pt x="1095" y="129"/>
                  </a:lnTo>
                  <a:lnTo>
                    <a:pt x="1180" y="80"/>
                  </a:lnTo>
                  <a:lnTo>
                    <a:pt x="1245" y="85"/>
                  </a:lnTo>
                  <a:lnTo>
                    <a:pt x="1180" y="0"/>
                  </a:lnTo>
                  <a:lnTo>
                    <a:pt x="1104" y="0"/>
                  </a:lnTo>
                  <a:lnTo>
                    <a:pt x="1110" y="59"/>
                  </a:lnTo>
                  <a:lnTo>
                    <a:pt x="962" y="49"/>
                  </a:lnTo>
                  <a:lnTo>
                    <a:pt x="859" y="49"/>
                  </a:lnTo>
                  <a:lnTo>
                    <a:pt x="327" y="97"/>
                  </a:lnTo>
                  <a:lnTo>
                    <a:pt x="32" y="123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568600" y="4087440"/>
              <a:ext cx="207000" cy="149400"/>
            </a:xfrm>
            <a:custGeom>
              <a:avLst/>
              <a:gdLst/>
              <a:ahLst/>
              <a:rect l="l" t="t" r="r" b="b"/>
              <a:pathLst>
                <a:path w="411" h="262">
                  <a:moveTo>
                    <a:pt x="142" y="32"/>
                  </a:moveTo>
                  <a:lnTo>
                    <a:pt x="106" y="150"/>
                  </a:lnTo>
                  <a:lnTo>
                    <a:pt x="0" y="188"/>
                  </a:lnTo>
                  <a:lnTo>
                    <a:pt x="36" y="256"/>
                  </a:lnTo>
                  <a:lnTo>
                    <a:pt x="260" y="262"/>
                  </a:lnTo>
                  <a:lnTo>
                    <a:pt x="411" y="150"/>
                  </a:lnTo>
                  <a:lnTo>
                    <a:pt x="281" y="0"/>
                  </a:lnTo>
                  <a:lnTo>
                    <a:pt x="142" y="32"/>
                  </a:lnTo>
                  <a:lnTo>
                    <a:pt x="142" y="32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622240" y="3990600"/>
              <a:ext cx="978120" cy="167400"/>
            </a:xfrm>
            <a:custGeom>
              <a:avLst/>
              <a:gdLst/>
              <a:ahLst/>
              <a:rect l="l" t="t" r="r" b="b"/>
              <a:pathLst>
                <a:path w="1938" h="293">
                  <a:moveTo>
                    <a:pt x="0" y="154"/>
                  </a:moveTo>
                  <a:lnTo>
                    <a:pt x="160" y="154"/>
                  </a:lnTo>
                  <a:lnTo>
                    <a:pt x="278" y="116"/>
                  </a:lnTo>
                  <a:lnTo>
                    <a:pt x="405" y="113"/>
                  </a:lnTo>
                  <a:lnTo>
                    <a:pt x="635" y="90"/>
                  </a:lnTo>
                  <a:lnTo>
                    <a:pt x="922" y="63"/>
                  </a:lnTo>
                  <a:lnTo>
                    <a:pt x="1116" y="63"/>
                  </a:lnTo>
                  <a:lnTo>
                    <a:pt x="1318" y="63"/>
                  </a:lnTo>
                  <a:lnTo>
                    <a:pt x="1516" y="69"/>
                  </a:lnTo>
                  <a:lnTo>
                    <a:pt x="1734" y="107"/>
                  </a:lnTo>
                  <a:lnTo>
                    <a:pt x="1852" y="166"/>
                  </a:lnTo>
                  <a:lnTo>
                    <a:pt x="1938" y="293"/>
                  </a:lnTo>
                  <a:lnTo>
                    <a:pt x="1900" y="154"/>
                  </a:lnTo>
                  <a:lnTo>
                    <a:pt x="1864" y="75"/>
                  </a:lnTo>
                  <a:lnTo>
                    <a:pt x="1713" y="31"/>
                  </a:lnTo>
                  <a:lnTo>
                    <a:pt x="1388" y="0"/>
                  </a:lnTo>
                  <a:lnTo>
                    <a:pt x="848" y="4"/>
                  </a:lnTo>
                  <a:lnTo>
                    <a:pt x="529" y="37"/>
                  </a:lnTo>
                  <a:lnTo>
                    <a:pt x="154" y="80"/>
                  </a:lnTo>
                  <a:lnTo>
                    <a:pt x="10" y="122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352600" y="4154760"/>
              <a:ext cx="166320" cy="164160"/>
            </a:xfrm>
            <a:custGeom>
              <a:avLst/>
              <a:gdLst/>
              <a:ahLst/>
              <a:rect l="l" t="t" r="r" b="b"/>
              <a:pathLst>
                <a:path w="331" h="289">
                  <a:moveTo>
                    <a:pt x="331" y="44"/>
                  </a:moveTo>
                  <a:lnTo>
                    <a:pt x="278" y="177"/>
                  </a:lnTo>
                  <a:lnTo>
                    <a:pt x="91" y="289"/>
                  </a:lnTo>
                  <a:lnTo>
                    <a:pt x="0" y="257"/>
                  </a:lnTo>
                  <a:lnTo>
                    <a:pt x="38" y="109"/>
                  </a:lnTo>
                  <a:lnTo>
                    <a:pt x="124" y="0"/>
                  </a:lnTo>
                  <a:lnTo>
                    <a:pt x="331" y="44"/>
                  </a:lnTo>
                  <a:lnTo>
                    <a:pt x="331" y="44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349360" y="4510800"/>
              <a:ext cx="149400" cy="131040"/>
            </a:xfrm>
            <a:custGeom>
              <a:avLst/>
              <a:gdLst/>
              <a:ahLst/>
              <a:rect l="l" t="t" r="r" b="b"/>
              <a:pathLst>
                <a:path w="295" h="230">
                  <a:moveTo>
                    <a:pt x="59" y="6"/>
                  </a:moveTo>
                  <a:lnTo>
                    <a:pt x="0" y="6"/>
                  </a:lnTo>
                  <a:lnTo>
                    <a:pt x="0" y="103"/>
                  </a:lnTo>
                  <a:lnTo>
                    <a:pt x="130" y="213"/>
                  </a:lnTo>
                  <a:lnTo>
                    <a:pt x="295" y="230"/>
                  </a:lnTo>
                  <a:lnTo>
                    <a:pt x="278" y="144"/>
                  </a:lnTo>
                  <a:lnTo>
                    <a:pt x="145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694600" y="4399200"/>
              <a:ext cx="442080" cy="85320"/>
            </a:xfrm>
            <a:custGeom>
              <a:avLst/>
              <a:gdLst/>
              <a:ahLst/>
              <a:rect l="l" t="t" r="r" b="b"/>
              <a:pathLst>
                <a:path w="874" h="150">
                  <a:moveTo>
                    <a:pt x="4" y="76"/>
                  </a:moveTo>
                  <a:lnTo>
                    <a:pt x="842" y="0"/>
                  </a:lnTo>
                  <a:lnTo>
                    <a:pt x="859" y="38"/>
                  </a:lnTo>
                  <a:lnTo>
                    <a:pt x="874" y="71"/>
                  </a:lnTo>
                  <a:lnTo>
                    <a:pt x="0" y="150"/>
                  </a:lnTo>
                  <a:lnTo>
                    <a:pt x="4" y="76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147120" y="4337640"/>
              <a:ext cx="417960" cy="109440"/>
            </a:xfrm>
            <a:custGeom>
              <a:avLst/>
              <a:gdLst/>
              <a:ahLst/>
              <a:rect l="l" t="t" r="r" b="b"/>
              <a:pathLst>
                <a:path w="827" h="192">
                  <a:moveTo>
                    <a:pt x="0" y="85"/>
                  </a:moveTo>
                  <a:lnTo>
                    <a:pt x="65" y="80"/>
                  </a:lnTo>
                  <a:lnTo>
                    <a:pt x="156" y="101"/>
                  </a:lnTo>
                  <a:lnTo>
                    <a:pt x="603" y="42"/>
                  </a:lnTo>
                  <a:lnTo>
                    <a:pt x="603" y="0"/>
                  </a:lnTo>
                  <a:lnTo>
                    <a:pt x="774" y="15"/>
                  </a:lnTo>
                  <a:lnTo>
                    <a:pt x="827" y="9"/>
                  </a:lnTo>
                  <a:lnTo>
                    <a:pt x="753" y="74"/>
                  </a:lnTo>
                  <a:lnTo>
                    <a:pt x="561" y="101"/>
                  </a:lnTo>
                  <a:lnTo>
                    <a:pt x="401" y="177"/>
                  </a:lnTo>
                  <a:lnTo>
                    <a:pt x="322" y="171"/>
                  </a:lnTo>
                  <a:lnTo>
                    <a:pt x="295" y="139"/>
                  </a:lnTo>
                  <a:lnTo>
                    <a:pt x="225" y="139"/>
                  </a:lnTo>
                  <a:lnTo>
                    <a:pt x="198" y="186"/>
                  </a:lnTo>
                  <a:lnTo>
                    <a:pt x="133" y="192"/>
                  </a:lnTo>
                  <a:lnTo>
                    <a:pt x="113" y="154"/>
                  </a:lnTo>
                  <a:lnTo>
                    <a:pt x="38" y="139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3479400" y="4060080"/>
              <a:ext cx="198720" cy="432360"/>
            </a:xfrm>
            <a:custGeom>
              <a:avLst/>
              <a:gdLst/>
              <a:ahLst/>
              <a:rect l="l" t="t" r="r" b="b"/>
              <a:pathLst>
                <a:path w="394" h="759">
                  <a:moveTo>
                    <a:pt x="299" y="21"/>
                  </a:moveTo>
                  <a:lnTo>
                    <a:pt x="373" y="177"/>
                  </a:lnTo>
                  <a:lnTo>
                    <a:pt x="394" y="283"/>
                  </a:lnTo>
                  <a:lnTo>
                    <a:pt x="331" y="310"/>
                  </a:lnTo>
                  <a:lnTo>
                    <a:pt x="373" y="390"/>
                  </a:lnTo>
                  <a:lnTo>
                    <a:pt x="302" y="470"/>
                  </a:lnTo>
                  <a:lnTo>
                    <a:pt x="287" y="614"/>
                  </a:lnTo>
                  <a:lnTo>
                    <a:pt x="202" y="679"/>
                  </a:lnTo>
                  <a:lnTo>
                    <a:pt x="107" y="732"/>
                  </a:lnTo>
                  <a:lnTo>
                    <a:pt x="0" y="759"/>
                  </a:lnTo>
                  <a:lnTo>
                    <a:pt x="133" y="673"/>
                  </a:lnTo>
                  <a:lnTo>
                    <a:pt x="207" y="546"/>
                  </a:lnTo>
                  <a:lnTo>
                    <a:pt x="240" y="416"/>
                  </a:lnTo>
                  <a:lnTo>
                    <a:pt x="245" y="333"/>
                  </a:lnTo>
                  <a:lnTo>
                    <a:pt x="261" y="224"/>
                  </a:lnTo>
                  <a:lnTo>
                    <a:pt x="202" y="44"/>
                  </a:lnTo>
                  <a:lnTo>
                    <a:pt x="255" y="0"/>
                  </a:lnTo>
                  <a:lnTo>
                    <a:pt x="299" y="21"/>
                  </a:lnTo>
                  <a:lnTo>
                    <a:pt x="299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3147120" y="4492800"/>
              <a:ext cx="266400" cy="52200"/>
            </a:xfrm>
            <a:custGeom>
              <a:avLst/>
              <a:gdLst/>
              <a:ahLst/>
              <a:rect l="l" t="t" r="r" b="b"/>
              <a:pathLst>
                <a:path w="529" h="91">
                  <a:moveTo>
                    <a:pt x="529" y="22"/>
                  </a:moveTo>
                  <a:lnTo>
                    <a:pt x="268" y="76"/>
                  </a:lnTo>
                  <a:lnTo>
                    <a:pt x="107" y="91"/>
                  </a:lnTo>
                  <a:lnTo>
                    <a:pt x="0" y="17"/>
                  </a:lnTo>
                  <a:lnTo>
                    <a:pt x="177" y="53"/>
                  </a:lnTo>
                  <a:lnTo>
                    <a:pt x="242" y="43"/>
                  </a:lnTo>
                  <a:lnTo>
                    <a:pt x="284" y="22"/>
                  </a:lnTo>
                  <a:lnTo>
                    <a:pt x="487" y="0"/>
                  </a:lnTo>
                  <a:lnTo>
                    <a:pt x="529" y="22"/>
                  </a:lnTo>
                  <a:lnTo>
                    <a:pt x="529" y="22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900360" y="4062240"/>
              <a:ext cx="874440" cy="704880"/>
            </a:xfrm>
            <a:custGeom>
              <a:avLst/>
              <a:gdLst/>
              <a:ahLst/>
              <a:rect l="l" t="t" r="r" b="b"/>
              <a:pathLst>
                <a:path w="1732" h="1236">
                  <a:moveTo>
                    <a:pt x="0" y="0"/>
                  </a:moveTo>
                  <a:lnTo>
                    <a:pt x="906" y="186"/>
                  </a:lnTo>
                  <a:lnTo>
                    <a:pt x="1374" y="416"/>
                  </a:lnTo>
                  <a:lnTo>
                    <a:pt x="1709" y="804"/>
                  </a:lnTo>
                  <a:lnTo>
                    <a:pt x="1732" y="1177"/>
                  </a:lnTo>
                  <a:lnTo>
                    <a:pt x="1709" y="1236"/>
                  </a:lnTo>
                  <a:lnTo>
                    <a:pt x="0" y="715"/>
                  </a:lnTo>
                  <a:lnTo>
                    <a:pt x="20" y="677"/>
                  </a:lnTo>
                  <a:lnTo>
                    <a:pt x="1657" y="1072"/>
                  </a:lnTo>
                  <a:lnTo>
                    <a:pt x="884" y="781"/>
                  </a:lnTo>
                  <a:lnTo>
                    <a:pt x="15" y="551"/>
                  </a:lnTo>
                  <a:lnTo>
                    <a:pt x="36" y="386"/>
                  </a:lnTo>
                  <a:lnTo>
                    <a:pt x="20" y="1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869400" y="4401360"/>
              <a:ext cx="556200" cy="166320"/>
            </a:xfrm>
            <a:custGeom>
              <a:avLst/>
              <a:gdLst/>
              <a:ahLst/>
              <a:rect l="l" t="t" r="r" b="b"/>
              <a:pathLst>
                <a:path w="1101" h="291">
                  <a:moveTo>
                    <a:pt x="0" y="8"/>
                  </a:moveTo>
                  <a:lnTo>
                    <a:pt x="1101" y="291"/>
                  </a:lnTo>
                  <a:lnTo>
                    <a:pt x="832" y="201"/>
                  </a:lnTo>
                  <a:lnTo>
                    <a:pt x="68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873000" y="4028400"/>
              <a:ext cx="962280" cy="207360"/>
            </a:xfrm>
            <a:custGeom>
              <a:avLst/>
              <a:gdLst/>
              <a:ahLst/>
              <a:rect l="l" t="t" r="r" b="b"/>
              <a:pathLst>
                <a:path w="1905" h="365">
                  <a:moveTo>
                    <a:pt x="0" y="15"/>
                  </a:moveTo>
                  <a:lnTo>
                    <a:pt x="1786" y="255"/>
                  </a:lnTo>
                  <a:lnTo>
                    <a:pt x="1905" y="365"/>
                  </a:lnTo>
                  <a:lnTo>
                    <a:pt x="1852" y="202"/>
                  </a:lnTo>
                  <a:lnTo>
                    <a:pt x="97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922680" y="4095360"/>
              <a:ext cx="633960" cy="450720"/>
            </a:xfrm>
            <a:custGeom>
              <a:avLst/>
              <a:gdLst/>
              <a:ahLst/>
              <a:rect l="l" t="t" r="r" b="b"/>
              <a:pathLst>
                <a:path w="1257" h="789">
                  <a:moveTo>
                    <a:pt x="0" y="0"/>
                  </a:moveTo>
                  <a:lnTo>
                    <a:pt x="565" y="112"/>
                  </a:lnTo>
                  <a:lnTo>
                    <a:pt x="953" y="342"/>
                  </a:lnTo>
                  <a:lnTo>
                    <a:pt x="1257" y="789"/>
                  </a:lnTo>
                  <a:lnTo>
                    <a:pt x="432" y="566"/>
                  </a:lnTo>
                  <a:lnTo>
                    <a:pt x="46" y="462"/>
                  </a:lnTo>
                  <a:lnTo>
                    <a:pt x="38" y="245"/>
                  </a:lnTo>
                  <a:lnTo>
                    <a:pt x="16" y="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983160" y="4482360"/>
              <a:ext cx="667440" cy="216720"/>
            </a:xfrm>
            <a:custGeom>
              <a:avLst/>
              <a:gdLst/>
              <a:ahLst/>
              <a:rect l="l" t="t" r="r" b="b"/>
              <a:pathLst>
                <a:path w="1323" h="380">
                  <a:moveTo>
                    <a:pt x="0" y="0"/>
                  </a:moveTo>
                  <a:lnTo>
                    <a:pt x="705" y="216"/>
                  </a:lnTo>
                  <a:lnTo>
                    <a:pt x="1323" y="380"/>
                  </a:lnTo>
                  <a:lnTo>
                    <a:pt x="1048" y="254"/>
                  </a:lnTo>
                  <a:lnTo>
                    <a:pt x="506" y="1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978920" y="3595680"/>
              <a:ext cx="147240" cy="191520"/>
            </a:xfrm>
            <a:custGeom>
              <a:avLst/>
              <a:gdLst/>
              <a:ahLst/>
              <a:rect l="l" t="t" r="r" b="b"/>
              <a:pathLst>
                <a:path w="290" h="337">
                  <a:moveTo>
                    <a:pt x="0" y="65"/>
                  </a:moveTo>
                  <a:lnTo>
                    <a:pt x="116" y="227"/>
                  </a:lnTo>
                  <a:lnTo>
                    <a:pt x="188" y="337"/>
                  </a:lnTo>
                  <a:lnTo>
                    <a:pt x="258" y="337"/>
                  </a:lnTo>
                  <a:lnTo>
                    <a:pt x="290" y="291"/>
                  </a:lnTo>
                  <a:lnTo>
                    <a:pt x="283" y="78"/>
                  </a:lnTo>
                  <a:lnTo>
                    <a:pt x="220" y="8"/>
                  </a:lnTo>
                  <a:lnTo>
                    <a:pt x="135" y="0"/>
                  </a:lnTo>
                  <a:lnTo>
                    <a:pt x="91" y="46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076840" y="3864960"/>
              <a:ext cx="251280" cy="276120"/>
            </a:xfrm>
            <a:custGeom>
              <a:avLst/>
              <a:gdLst/>
              <a:ahLst/>
              <a:rect l="l" t="t" r="r" b="b"/>
              <a:pathLst>
                <a:path w="499" h="485">
                  <a:moveTo>
                    <a:pt x="499" y="0"/>
                  </a:moveTo>
                  <a:lnTo>
                    <a:pt x="499" y="123"/>
                  </a:lnTo>
                  <a:lnTo>
                    <a:pt x="445" y="123"/>
                  </a:lnTo>
                  <a:lnTo>
                    <a:pt x="440" y="182"/>
                  </a:lnTo>
                  <a:lnTo>
                    <a:pt x="343" y="336"/>
                  </a:lnTo>
                  <a:lnTo>
                    <a:pt x="297" y="357"/>
                  </a:lnTo>
                  <a:lnTo>
                    <a:pt x="310" y="409"/>
                  </a:lnTo>
                  <a:lnTo>
                    <a:pt x="291" y="485"/>
                  </a:lnTo>
                  <a:lnTo>
                    <a:pt x="0" y="428"/>
                  </a:lnTo>
                  <a:lnTo>
                    <a:pt x="168" y="317"/>
                  </a:lnTo>
                  <a:lnTo>
                    <a:pt x="175" y="169"/>
                  </a:lnTo>
                  <a:lnTo>
                    <a:pt x="316" y="78"/>
                  </a:lnTo>
                  <a:lnTo>
                    <a:pt x="324" y="13"/>
                  </a:lnTo>
                  <a:lnTo>
                    <a:pt x="499" y="0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357640" y="3851280"/>
              <a:ext cx="384480" cy="91080"/>
            </a:xfrm>
            <a:custGeom>
              <a:avLst/>
              <a:gdLst/>
              <a:ahLst/>
              <a:rect l="l" t="t" r="r" b="b"/>
              <a:pathLst>
                <a:path w="762" h="162">
                  <a:moveTo>
                    <a:pt x="0" y="97"/>
                  </a:moveTo>
                  <a:lnTo>
                    <a:pt x="690" y="46"/>
                  </a:lnTo>
                  <a:lnTo>
                    <a:pt x="743" y="162"/>
                  </a:lnTo>
                  <a:lnTo>
                    <a:pt x="762" y="0"/>
                  </a:lnTo>
                  <a:lnTo>
                    <a:pt x="123" y="52"/>
                  </a:lnTo>
                  <a:lnTo>
                    <a:pt x="19" y="57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742480" y="3851280"/>
              <a:ext cx="687600" cy="10260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0" y="148"/>
                  </a:moveTo>
                  <a:lnTo>
                    <a:pt x="51" y="78"/>
                  </a:lnTo>
                  <a:lnTo>
                    <a:pt x="129" y="143"/>
                  </a:lnTo>
                  <a:lnTo>
                    <a:pt x="181" y="91"/>
                  </a:lnTo>
                  <a:lnTo>
                    <a:pt x="348" y="84"/>
                  </a:lnTo>
                  <a:lnTo>
                    <a:pt x="453" y="175"/>
                  </a:lnTo>
                  <a:lnTo>
                    <a:pt x="709" y="181"/>
                  </a:lnTo>
                  <a:lnTo>
                    <a:pt x="1032" y="175"/>
                  </a:lnTo>
                  <a:lnTo>
                    <a:pt x="1285" y="181"/>
                  </a:lnTo>
                  <a:lnTo>
                    <a:pt x="1361" y="38"/>
                  </a:lnTo>
                  <a:lnTo>
                    <a:pt x="1299" y="6"/>
                  </a:lnTo>
                  <a:lnTo>
                    <a:pt x="1116" y="0"/>
                  </a:lnTo>
                  <a:lnTo>
                    <a:pt x="645" y="0"/>
                  </a:lnTo>
                  <a:lnTo>
                    <a:pt x="148" y="0"/>
                  </a:lnTo>
                  <a:lnTo>
                    <a:pt x="0" y="0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3067560" y="3582000"/>
              <a:ext cx="349200" cy="205200"/>
            </a:xfrm>
            <a:custGeom>
              <a:avLst/>
              <a:gdLst/>
              <a:ahLst/>
              <a:rect l="l" t="t" r="r" b="b"/>
              <a:pathLst>
                <a:path w="692" h="361">
                  <a:moveTo>
                    <a:pt x="0" y="226"/>
                  </a:moveTo>
                  <a:lnTo>
                    <a:pt x="72" y="361"/>
                  </a:lnTo>
                  <a:lnTo>
                    <a:pt x="129" y="272"/>
                  </a:lnTo>
                  <a:lnTo>
                    <a:pt x="543" y="272"/>
                  </a:lnTo>
                  <a:lnTo>
                    <a:pt x="608" y="239"/>
                  </a:lnTo>
                  <a:lnTo>
                    <a:pt x="692" y="251"/>
                  </a:lnTo>
                  <a:lnTo>
                    <a:pt x="654" y="0"/>
                  </a:lnTo>
                  <a:lnTo>
                    <a:pt x="555" y="129"/>
                  </a:lnTo>
                  <a:lnTo>
                    <a:pt x="600" y="173"/>
                  </a:lnTo>
                  <a:lnTo>
                    <a:pt x="555" y="232"/>
                  </a:lnTo>
                  <a:lnTo>
                    <a:pt x="0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324160" y="3496320"/>
              <a:ext cx="81720" cy="88920"/>
            </a:xfrm>
            <a:custGeom>
              <a:avLst/>
              <a:gdLst/>
              <a:ahLst/>
              <a:rect l="l" t="t" r="r" b="b"/>
              <a:pathLst>
                <a:path w="162" h="155">
                  <a:moveTo>
                    <a:pt x="0" y="155"/>
                  </a:moveTo>
                  <a:lnTo>
                    <a:pt x="97" y="0"/>
                  </a:lnTo>
                  <a:lnTo>
                    <a:pt x="162" y="0"/>
                  </a:lnTo>
                  <a:lnTo>
                    <a:pt x="135" y="155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096280" y="3519360"/>
              <a:ext cx="55080" cy="76320"/>
            </a:xfrm>
            <a:custGeom>
              <a:avLst/>
              <a:gdLst/>
              <a:ahLst/>
              <a:rect l="l" t="t" r="r" b="b"/>
              <a:pathLst>
                <a:path w="111" h="135">
                  <a:moveTo>
                    <a:pt x="46" y="0"/>
                  </a:moveTo>
                  <a:lnTo>
                    <a:pt x="111" y="52"/>
                  </a:lnTo>
                  <a:lnTo>
                    <a:pt x="105" y="116"/>
                  </a:lnTo>
                  <a:lnTo>
                    <a:pt x="0" y="135"/>
                  </a:lnTo>
                  <a:lnTo>
                    <a:pt x="40" y="4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3064320" y="3592080"/>
              <a:ext cx="163440" cy="33120"/>
            </a:xfrm>
            <a:custGeom>
              <a:avLst/>
              <a:gdLst/>
              <a:ahLst/>
              <a:rect l="l" t="t" r="r" b="b"/>
              <a:pathLst>
                <a:path w="323" h="57">
                  <a:moveTo>
                    <a:pt x="51" y="13"/>
                  </a:moveTo>
                  <a:lnTo>
                    <a:pt x="0" y="57"/>
                  </a:lnTo>
                  <a:lnTo>
                    <a:pt x="239" y="57"/>
                  </a:lnTo>
                  <a:lnTo>
                    <a:pt x="323" y="5"/>
                  </a:lnTo>
                  <a:lnTo>
                    <a:pt x="116" y="0"/>
                  </a:lnTo>
                  <a:lnTo>
                    <a:pt x="51" y="1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407760" y="3493080"/>
              <a:ext cx="102960" cy="77040"/>
            </a:xfrm>
            <a:custGeom>
              <a:avLst/>
              <a:gdLst/>
              <a:ahLst/>
              <a:rect l="l" t="t" r="r" b="b"/>
              <a:pathLst>
                <a:path w="205" h="137">
                  <a:moveTo>
                    <a:pt x="0" y="6"/>
                  </a:moveTo>
                  <a:lnTo>
                    <a:pt x="64" y="137"/>
                  </a:lnTo>
                  <a:lnTo>
                    <a:pt x="205" y="137"/>
                  </a:lnTo>
                  <a:lnTo>
                    <a:pt x="140" y="38"/>
                  </a:lnTo>
                  <a:lnTo>
                    <a:pt x="108" y="38"/>
                  </a:lnTo>
                  <a:lnTo>
                    <a:pt x="8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3036240" y="3806640"/>
              <a:ext cx="497520" cy="69480"/>
            </a:xfrm>
            <a:custGeom>
              <a:avLst/>
              <a:gdLst/>
              <a:ahLst/>
              <a:rect l="l" t="t" r="r" b="b"/>
              <a:pathLst>
                <a:path w="987" h="124">
                  <a:moveTo>
                    <a:pt x="0" y="0"/>
                  </a:moveTo>
                  <a:lnTo>
                    <a:pt x="0" y="65"/>
                  </a:lnTo>
                  <a:lnTo>
                    <a:pt x="819" y="124"/>
                  </a:lnTo>
                  <a:lnTo>
                    <a:pt x="916" y="91"/>
                  </a:lnTo>
                  <a:lnTo>
                    <a:pt x="987" y="19"/>
                  </a:lnTo>
                  <a:lnTo>
                    <a:pt x="814" y="33"/>
                  </a:lnTo>
                  <a:lnTo>
                    <a:pt x="51" y="3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969920" y="3742920"/>
              <a:ext cx="48240" cy="277200"/>
            </a:xfrm>
            <a:custGeom>
              <a:avLst/>
              <a:gdLst/>
              <a:ahLst/>
              <a:rect l="l" t="t" r="r" b="b"/>
              <a:pathLst>
                <a:path w="96" h="485">
                  <a:moveTo>
                    <a:pt x="0" y="0"/>
                  </a:moveTo>
                  <a:lnTo>
                    <a:pt x="51" y="363"/>
                  </a:lnTo>
                  <a:lnTo>
                    <a:pt x="96" y="428"/>
                  </a:lnTo>
                  <a:lnTo>
                    <a:pt x="64" y="485"/>
                  </a:lnTo>
                  <a:lnTo>
                    <a:pt x="32" y="420"/>
                  </a:lnTo>
                  <a:lnTo>
                    <a:pt x="0" y="2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021400" y="4034880"/>
              <a:ext cx="94680" cy="70560"/>
            </a:xfrm>
            <a:custGeom>
              <a:avLst/>
              <a:gdLst/>
              <a:ahLst/>
              <a:rect l="l" t="t" r="r" b="b"/>
              <a:pathLst>
                <a:path w="188" h="124">
                  <a:moveTo>
                    <a:pt x="40" y="0"/>
                  </a:moveTo>
                  <a:lnTo>
                    <a:pt x="188" y="111"/>
                  </a:lnTo>
                  <a:lnTo>
                    <a:pt x="124" y="124"/>
                  </a:lnTo>
                  <a:lnTo>
                    <a:pt x="0" y="38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949760" y="4097880"/>
              <a:ext cx="277560" cy="125280"/>
            </a:xfrm>
            <a:custGeom>
              <a:avLst/>
              <a:gdLst/>
              <a:ahLst/>
              <a:rect l="l" t="t" r="r" b="b"/>
              <a:pathLst>
                <a:path w="549" h="218">
                  <a:moveTo>
                    <a:pt x="104" y="0"/>
                  </a:moveTo>
                  <a:lnTo>
                    <a:pt x="0" y="167"/>
                  </a:lnTo>
                  <a:lnTo>
                    <a:pt x="266" y="218"/>
                  </a:lnTo>
                  <a:lnTo>
                    <a:pt x="492" y="148"/>
                  </a:lnTo>
                  <a:lnTo>
                    <a:pt x="549" y="70"/>
                  </a:lnTo>
                  <a:lnTo>
                    <a:pt x="433" y="51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861560" y="4198320"/>
              <a:ext cx="58320" cy="36360"/>
            </a:xfrm>
            <a:custGeom>
              <a:avLst/>
              <a:gdLst/>
              <a:ahLst/>
              <a:rect l="l" t="t" r="r" b="b"/>
              <a:pathLst>
                <a:path w="116" h="64">
                  <a:moveTo>
                    <a:pt x="0" y="0"/>
                  </a:moveTo>
                  <a:lnTo>
                    <a:pt x="116" y="32"/>
                  </a:lnTo>
                  <a:lnTo>
                    <a:pt x="97" y="64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946520" y="4223520"/>
              <a:ext cx="342000" cy="99000"/>
            </a:xfrm>
            <a:custGeom>
              <a:avLst/>
              <a:gdLst/>
              <a:ahLst/>
              <a:rect l="l" t="t" r="r" b="b"/>
              <a:pathLst>
                <a:path w="679" h="175">
                  <a:moveTo>
                    <a:pt x="13" y="0"/>
                  </a:moveTo>
                  <a:lnTo>
                    <a:pt x="679" y="149"/>
                  </a:lnTo>
                  <a:lnTo>
                    <a:pt x="646" y="175"/>
                  </a:lnTo>
                  <a:lnTo>
                    <a:pt x="0" y="4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949760" y="4241520"/>
              <a:ext cx="231840" cy="115200"/>
            </a:xfrm>
            <a:custGeom>
              <a:avLst/>
              <a:gdLst/>
              <a:ahLst/>
              <a:rect l="l" t="t" r="r" b="b"/>
              <a:pathLst>
                <a:path w="460" h="201">
                  <a:moveTo>
                    <a:pt x="0" y="53"/>
                  </a:moveTo>
                  <a:lnTo>
                    <a:pt x="271" y="201"/>
                  </a:lnTo>
                  <a:lnTo>
                    <a:pt x="330" y="174"/>
                  </a:lnTo>
                  <a:lnTo>
                    <a:pt x="142" y="78"/>
                  </a:lnTo>
                  <a:lnTo>
                    <a:pt x="374" y="129"/>
                  </a:lnTo>
                  <a:lnTo>
                    <a:pt x="460" y="116"/>
                  </a:lnTo>
                  <a:lnTo>
                    <a:pt x="7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930320" y="4296240"/>
              <a:ext cx="736920" cy="309960"/>
            </a:xfrm>
            <a:custGeom>
              <a:avLst/>
              <a:gdLst/>
              <a:ahLst/>
              <a:rect l="l" t="t" r="r" b="b"/>
              <a:pathLst>
                <a:path w="1460" h="543">
                  <a:moveTo>
                    <a:pt x="1156" y="72"/>
                  </a:moveTo>
                  <a:lnTo>
                    <a:pt x="1344" y="32"/>
                  </a:lnTo>
                  <a:lnTo>
                    <a:pt x="1344" y="104"/>
                  </a:lnTo>
                  <a:lnTo>
                    <a:pt x="167" y="465"/>
                  </a:lnTo>
                  <a:lnTo>
                    <a:pt x="129" y="452"/>
                  </a:lnTo>
                  <a:lnTo>
                    <a:pt x="0" y="492"/>
                  </a:lnTo>
                  <a:lnTo>
                    <a:pt x="5" y="543"/>
                  </a:lnTo>
                  <a:lnTo>
                    <a:pt x="97" y="505"/>
                  </a:lnTo>
                  <a:lnTo>
                    <a:pt x="123" y="543"/>
                  </a:lnTo>
                  <a:lnTo>
                    <a:pt x="638" y="376"/>
                  </a:lnTo>
                  <a:lnTo>
                    <a:pt x="1414" y="123"/>
                  </a:lnTo>
                  <a:lnTo>
                    <a:pt x="1460" y="72"/>
                  </a:lnTo>
                  <a:lnTo>
                    <a:pt x="1401" y="72"/>
                  </a:lnTo>
                  <a:lnTo>
                    <a:pt x="1382" y="7"/>
                  </a:lnTo>
                  <a:lnTo>
                    <a:pt x="1317" y="0"/>
                  </a:lnTo>
                  <a:lnTo>
                    <a:pt x="1156" y="72"/>
                  </a:lnTo>
                  <a:lnTo>
                    <a:pt x="1156" y="72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315160" y="4307760"/>
              <a:ext cx="156600" cy="125280"/>
            </a:xfrm>
            <a:custGeom>
              <a:avLst/>
              <a:gdLst/>
              <a:ahLst/>
              <a:rect l="l" t="t" r="r" b="b"/>
              <a:pathLst>
                <a:path w="310" h="220">
                  <a:moveTo>
                    <a:pt x="0" y="0"/>
                  </a:moveTo>
                  <a:lnTo>
                    <a:pt x="0" y="163"/>
                  </a:lnTo>
                  <a:lnTo>
                    <a:pt x="51" y="220"/>
                  </a:lnTo>
                  <a:lnTo>
                    <a:pt x="283" y="136"/>
                  </a:lnTo>
                  <a:lnTo>
                    <a:pt x="310" y="77"/>
                  </a:lnTo>
                  <a:lnTo>
                    <a:pt x="51" y="1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031480" y="3537720"/>
              <a:ext cx="78480" cy="44280"/>
            </a:xfrm>
            <a:custGeom>
              <a:avLst/>
              <a:gdLst/>
              <a:ahLst/>
              <a:rect l="l" t="t" r="r" b="b"/>
              <a:pathLst>
                <a:path w="156" h="78">
                  <a:moveTo>
                    <a:pt x="0" y="78"/>
                  </a:moveTo>
                  <a:lnTo>
                    <a:pt x="40" y="0"/>
                  </a:lnTo>
                  <a:lnTo>
                    <a:pt x="156" y="0"/>
                  </a:lnTo>
                  <a:lnTo>
                    <a:pt x="129" y="7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103120" y="3345840"/>
              <a:ext cx="298800" cy="541800"/>
            </a:xfrm>
            <a:custGeom>
              <a:avLst/>
              <a:gdLst/>
              <a:ahLst/>
              <a:rect l="l" t="t" r="r" b="b"/>
              <a:pathLst>
                <a:path w="591" h="951">
                  <a:moveTo>
                    <a:pt x="570" y="0"/>
                  </a:moveTo>
                  <a:lnTo>
                    <a:pt x="0" y="919"/>
                  </a:lnTo>
                  <a:lnTo>
                    <a:pt x="32" y="951"/>
                  </a:lnTo>
                  <a:lnTo>
                    <a:pt x="272" y="550"/>
                  </a:lnTo>
                  <a:lnTo>
                    <a:pt x="336" y="504"/>
                  </a:lnTo>
                  <a:lnTo>
                    <a:pt x="348" y="447"/>
                  </a:lnTo>
                  <a:lnTo>
                    <a:pt x="591" y="42"/>
                  </a:lnTo>
                  <a:lnTo>
                    <a:pt x="570" y="0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995120" y="3371040"/>
              <a:ext cx="65160" cy="95400"/>
            </a:xfrm>
            <a:custGeom>
              <a:avLst/>
              <a:gdLst/>
              <a:ahLst/>
              <a:rect l="l" t="t" r="r" b="b"/>
              <a:pathLst>
                <a:path w="129" h="167">
                  <a:moveTo>
                    <a:pt x="0" y="167"/>
                  </a:moveTo>
                  <a:lnTo>
                    <a:pt x="129" y="0"/>
                  </a:lnTo>
                  <a:lnTo>
                    <a:pt x="129" y="51"/>
                  </a:lnTo>
                  <a:lnTo>
                    <a:pt x="65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395800" y="3301200"/>
              <a:ext cx="137160" cy="94680"/>
            </a:xfrm>
            <a:custGeom>
              <a:avLst/>
              <a:gdLst/>
              <a:ahLst/>
              <a:rect l="l" t="t" r="r" b="b"/>
              <a:pathLst>
                <a:path w="272" h="168">
                  <a:moveTo>
                    <a:pt x="173" y="0"/>
                  </a:moveTo>
                  <a:lnTo>
                    <a:pt x="173" y="36"/>
                  </a:lnTo>
                  <a:lnTo>
                    <a:pt x="0" y="50"/>
                  </a:lnTo>
                  <a:lnTo>
                    <a:pt x="21" y="76"/>
                  </a:lnTo>
                  <a:lnTo>
                    <a:pt x="135" y="86"/>
                  </a:lnTo>
                  <a:lnTo>
                    <a:pt x="167" y="95"/>
                  </a:lnTo>
                  <a:lnTo>
                    <a:pt x="167" y="122"/>
                  </a:lnTo>
                  <a:lnTo>
                    <a:pt x="112" y="120"/>
                  </a:lnTo>
                  <a:lnTo>
                    <a:pt x="32" y="130"/>
                  </a:lnTo>
                  <a:lnTo>
                    <a:pt x="165" y="141"/>
                  </a:lnTo>
                  <a:lnTo>
                    <a:pt x="169" y="168"/>
                  </a:lnTo>
                  <a:lnTo>
                    <a:pt x="207" y="168"/>
                  </a:lnTo>
                  <a:lnTo>
                    <a:pt x="272" y="16"/>
                  </a:lnTo>
                  <a:lnTo>
                    <a:pt x="207" y="0"/>
                  </a:lnTo>
                  <a:lnTo>
                    <a:pt x="173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460600" y="3440520"/>
              <a:ext cx="21960" cy="51120"/>
            </a:xfrm>
            <a:custGeom>
              <a:avLst/>
              <a:gdLst/>
              <a:ahLst/>
              <a:rect l="l" t="t" r="r" b="b"/>
              <a:pathLst>
                <a:path w="46" h="89">
                  <a:moveTo>
                    <a:pt x="0" y="0"/>
                  </a:moveTo>
                  <a:lnTo>
                    <a:pt x="0" y="89"/>
                  </a:lnTo>
                  <a:lnTo>
                    <a:pt x="46" y="85"/>
                  </a:lnTo>
                  <a:lnTo>
                    <a:pt x="44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120840" y="3529440"/>
              <a:ext cx="28080" cy="3168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1" y="0"/>
                  </a:moveTo>
                  <a:lnTo>
                    <a:pt x="6" y="8"/>
                  </a:lnTo>
                  <a:lnTo>
                    <a:pt x="0" y="39"/>
                  </a:lnTo>
                  <a:lnTo>
                    <a:pt x="13" y="56"/>
                  </a:lnTo>
                  <a:lnTo>
                    <a:pt x="34" y="54"/>
                  </a:lnTo>
                  <a:lnTo>
                    <a:pt x="51" y="42"/>
                  </a:lnTo>
                  <a:lnTo>
                    <a:pt x="57" y="21"/>
                  </a:lnTo>
                  <a:lnTo>
                    <a:pt x="46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082680" y="3525840"/>
              <a:ext cx="25920" cy="3096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25" y="0"/>
                  </a:moveTo>
                  <a:lnTo>
                    <a:pt x="4" y="9"/>
                  </a:lnTo>
                  <a:lnTo>
                    <a:pt x="0" y="34"/>
                  </a:lnTo>
                  <a:lnTo>
                    <a:pt x="11" y="53"/>
                  </a:lnTo>
                  <a:lnTo>
                    <a:pt x="36" y="53"/>
                  </a:lnTo>
                  <a:lnTo>
                    <a:pt x="51" y="38"/>
                  </a:lnTo>
                  <a:lnTo>
                    <a:pt x="51" y="17"/>
                  </a:lnTo>
                  <a:lnTo>
                    <a:pt x="42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125160" y="3533040"/>
              <a:ext cx="11880" cy="1368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3" y="8"/>
                  </a:moveTo>
                  <a:lnTo>
                    <a:pt x="0" y="15"/>
                  </a:lnTo>
                  <a:lnTo>
                    <a:pt x="3" y="25"/>
                  </a:lnTo>
                  <a:lnTo>
                    <a:pt x="15" y="25"/>
                  </a:lnTo>
                  <a:lnTo>
                    <a:pt x="22" y="17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088440" y="3530520"/>
              <a:ext cx="12960" cy="14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6" y="0"/>
                  </a:moveTo>
                  <a:lnTo>
                    <a:pt x="6" y="2"/>
                  </a:lnTo>
                  <a:lnTo>
                    <a:pt x="0" y="14"/>
                  </a:lnTo>
                  <a:lnTo>
                    <a:pt x="4" y="21"/>
                  </a:lnTo>
                  <a:lnTo>
                    <a:pt x="16" y="25"/>
                  </a:lnTo>
                  <a:lnTo>
                    <a:pt x="25" y="16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731600" y="3507840"/>
              <a:ext cx="324000" cy="610200"/>
            </a:xfrm>
            <a:custGeom>
              <a:avLst/>
              <a:gdLst/>
              <a:ahLst/>
              <a:rect l="l" t="t" r="r" b="b"/>
              <a:pathLst>
                <a:path w="643" h="1071">
                  <a:moveTo>
                    <a:pt x="0" y="116"/>
                  </a:moveTo>
                  <a:lnTo>
                    <a:pt x="274" y="137"/>
                  </a:lnTo>
                  <a:lnTo>
                    <a:pt x="325" y="185"/>
                  </a:lnTo>
                  <a:lnTo>
                    <a:pt x="342" y="238"/>
                  </a:lnTo>
                  <a:lnTo>
                    <a:pt x="350" y="318"/>
                  </a:lnTo>
                  <a:lnTo>
                    <a:pt x="386" y="1071"/>
                  </a:lnTo>
                  <a:lnTo>
                    <a:pt x="447" y="981"/>
                  </a:lnTo>
                  <a:lnTo>
                    <a:pt x="437" y="249"/>
                  </a:lnTo>
                  <a:lnTo>
                    <a:pt x="574" y="776"/>
                  </a:lnTo>
                  <a:lnTo>
                    <a:pt x="643" y="639"/>
                  </a:lnTo>
                  <a:lnTo>
                    <a:pt x="635" y="504"/>
                  </a:lnTo>
                  <a:lnTo>
                    <a:pt x="542" y="335"/>
                  </a:lnTo>
                  <a:lnTo>
                    <a:pt x="447" y="213"/>
                  </a:lnTo>
                  <a:lnTo>
                    <a:pt x="473" y="156"/>
                  </a:lnTo>
                  <a:lnTo>
                    <a:pt x="462" y="0"/>
                  </a:lnTo>
                  <a:lnTo>
                    <a:pt x="152" y="8"/>
                  </a:lnTo>
                  <a:lnTo>
                    <a:pt x="40" y="44"/>
                  </a:lnTo>
                  <a:lnTo>
                    <a:pt x="4" y="8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030400" y="3462120"/>
              <a:ext cx="78480" cy="57960"/>
            </a:xfrm>
            <a:custGeom>
              <a:avLst/>
              <a:gdLst/>
              <a:ahLst/>
              <a:rect l="l" t="t" r="r" b="b"/>
              <a:pathLst>
                <a:path w="156" h="100">
                  <a:moveTo>
                    <a:pt x="0" y="7"/>
                  </a:moveTo>
                  <a:lnTo>
                    <a:pt x="33" y="51"/>
                  </a:lnTo>
                  <a:lnTo>
                    <a:pt x="33" y="100"/>
                  </a:lnTo>
                  <a:lnTo>
                    <a:pt x="156" y="100"/>
                  </a:lnTo>
                  <a:lnTo>
                    <a:pt x="156" y="72"/>
                  </a:lnTo>
                  <a:lnTo>
                    <a:pt x="135" y="19"/>
                  </a:lnTo>
                  <a:lnTo>
                    <a:pt x="10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129400" y="3507840"/>
              <a:ext cx="137160" cy="37440"/>
            </a:xfrm>
            <a:custGeom>
              <a:avLst/>
              <a:gdLst/>
              <a:ahLst/>
              <a:rect l="l" t="t" r="r" b="b"/>
              <a:pathLst>
                <a:path w="274" h="65">
                  <a:moveTo>
                    <a:pt x="0" y="8"/>
                  </a:moveTo>
                  <a:lnTo>
                    <a:pt x="69" y="65"/>
                  </a:lnTo>
                  <a:lnTo>
                    <a:pt x="221" y="65"/>
                  </a:lnTo>
                  <a:lnTo>
                    <a:pt x="274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409120" y="3505320"/>
              <a:ext cx="330840" cy="74160"/>
            </a:xfrm>
            <a:custGeom>
              <a:avLst/>
              <a:gdLst/>
              <a:ahLst/>
              <a:rect l="l" t="t" r="r" b="b"/>
              <a:pathLst>
                <a:path w="656" h="129">
                  <a:moveTo>
                    <a:pt x="16" y="7"/>
                  </a:moveTo>
                  <a:lnTo>
                    <a:pt x="0" y="72"/>
                  </a:lnTo>
                  <a:lnTo>
                    <a:pt x="588" y="68"/>
                  </a:lnTo>
                  <a:lnTo>
                    <a:pt x="656" y="129"/>
                  </a:lnTo>
                  <a:lnTo>
                    <a:pt x="651" y="40"/>
                  </a:lnTo>
                  <a:lnTo>
                    <a:pt x="588" y="0"/>
                  </a:lnTo>
                  <a:lnTo>
                    <a:pt x="16" y="7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646360" y="3450600"/>
              <a:ext cx="14040" cy="183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0" y="32"/>
                  </a:moveTo>
                  <a:lnTo>
                    <a:pt x="28" y="32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109240" y="3345840"/>
              <a:ext cx="265320" cy="483480"/>
            </a:xfrm>
            <a:custGeom>
              <a:avLst/>
              <a:gdLst/>
              <a:ahLst/>
              <a:rect l="l" t="t" r="r" b="b"/>
              <a:pathLst>
                <a:path w="527" h="848">
                  <a:moveTo>
                    <a:pt x="527" y="0"/>
                  </a:moveTo>
                  <a:lnTo>
                    <a:pt x="0" y="848"/>
                  </a:lnTo>
                  <a:lnTo>
                    <a:pt x="0" y="825"/>
                  </a:lnTo>
                  <a:lnTo>
                    <a:pt x="498" y="16"/>
                  </a:lnTo>
                  <a:lnTo>
                    <a:pt x="527" y="0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068560" y="3881880"/>
              <a:ext cx="131400" cy="174600"/>
            </a:xfrm>
            <a:custGeom>
              <a:avLst/>
              <a:gdLst/>
              <a:ahLst/>
              <a:rect l="l" t="t" r="r" b="b"/>
              <a:pathLst>
                <a:path w="261" h="306">
                  <a:moveTo>
                    <a:pt x="173" y="0"/>
                  </a:moveTo>
                  <a:lnTo>
                    <a:pt x="261" y="29"/>
                  </a:lnTo>
                  <a:lnTo>
                    <a:pt x="170" y="109"/>
                  </a:lnTo>
                  <a:lnTo>
                    <a:pt x="145" y="253"/>
                  </a:lnTo>
                  <a:lnTo>
                    <a:pt x="69" y="306"/>
                  </a:lnTo>
                  <a:lnTo>
                    <a:pt x="0" y="249"/>
                  </a:lnTo>
                  <a:lnTo>
                    <a:pt x="101" y="73"/>
                  </a:lnTo>
                  <a:lnTo>
                    <a:pt x="141" y="52"/>
                  </a:lnTo>
                  <a:lnTo>
                    <a:pt x="173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080080" y="3841200"/>
              <a:ext cx="24840" cy="2484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0"/>
                  </a:moveTo>
                  <a:lnTo>
                    <a:pt x="0" y="40"/>
                  </a:lnTo>
                  <a:lnTo>
                    <a:pt x="29" y="44"/>
                  </a:lnTo>
                  <a:lnTo>
                    <a:pt x="50" y="19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1954800" y="3371040"/>
              <a:ext cx="88560" cy="123120"/>
            </a:xfrm>
            <a:custGeom>
              <a:avLst/>
              <a:gdLst/>
              <a:ahLst/>
              <a:rect l="l" t="t" r="r" b="b"/>
              <a:pathLst>
                <a:path w="177" h="217">
                  <a:moveTo>
                    <a:pt x="177" y="0"/>
                  </a:moveTo>
                  <a:lnTo>
                    <a:pt x="150" y="48"/>
                  </a:lnTo>
                  <a:lnTo>
                    <a:pt x="25" y="217"/>
                  </a:lnTo>
                  <a:lnTo>
                    <a:pt x="0" y="213"/>
                  </a:lnTo>
                  <a:lnTo>
                    <a:pt x="141" y="15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729440" y="3466800"/>
              <a:ext cx="78480" cy="18360"/>
            </a:xfrm>
            <a:custGeom>
              <a:avLst/>
              <a:gdLst/>
              <a:ahLst/>
              <a:rect l="l" t="t" r="r" b="b"/>
              <a:pathLst>
                <a:path w="156" h="33">
                  <a:moveTo>
                    <a:pt x="65" y="33"/>
                  </a:moveTo>
                  <a:lnTo>
                    <a:pt x="156" y="29"/>
                  </a:lnTo>
                  <a:lnTo>
                    <a:pt x="133" y="4"/>
                  </a:lnTo>
                  <a:lnTo>
                    <a:pt x="0" y="0"/>
                  </a:lnTo>
                  <a:lnTo>
                    <a:pt x="65" y="33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272680" y="3889080"/>
              <a:ext cx="448200" cy="181080"/>
            </a:xfrm>
            <a:custGeom>
              <a:avLst/>
              <a:gdLst/>
              <a:ahLst/>
              <a:rect l="l" t="t" r="r" b="b"/>
              <a:pathLst>
                <a:path w="888" h="317">
                  <a:moveTo>
                    <a:pt x="0" y="317"/>
                  </a:moveTo>
                  <a:lnTo>
                    <a:pt x="122" y="104"/>
                  </a:lnTo>
                  <a:lnTo>
                    <a:pt x="122" y="262"/>
                  </a:lnTo>
                  <a:lnTo>
                    <a:pt x="173" y="182"/>
                  </a:lnTo>
                  <a:lnTo>
                    <a:pt x="198" y="57"/>
                  </a:lnTo>
                  <a:lnTo>
                    <a:pt x="825" y="0"/>
                  </a:lnTo>
                  <a:lnTo>
                    <a:pt x="888" y="118"/>
                  </a:lnTo>
                  <a:lnTo>
                    <a:pt x="299" y="215"/>
                  </a:lnTo>
                  <a:lnTo>
                    <a:pt x="166" y="251"/>
                  </a:lnTo>
                  <a:lnTo>
                    <a:pt x="122" y="291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753280" y="3920760"/>
              <a:ext cx="49320" cy="2736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0" y="47"/>
                  </a:moveTo>
                  <a:lnTo>
                    <a:pt x="40" y="0"/>
                  </a:lnTo>
                  <a:lnTo>
                    <a:pt x="97" y="4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827080" y="3909600"/>
              <a:ext cx="113760" cy="33840"/>
            </a:xfrm>
            <a:custGeom>
              <a:avLst/>
              <a:gdLst/>
              <a:ahLst/>
              <a:rect l="l" t="t" r="r" b="b"/>
              <a:pathLst>
                <a:path w="227" h="61">
                  <a:moveTo>
                    <a:pt x="0" y="61"/>
                  </a:moveTo>
                  <a:lnTo>
                    <a:pt x="227" y="53"/>
                  </a:lnTo>
                  <a:lnTo>
                    <a:pt x="177" y="0"/>
                  </a:lnTo>
                  <a:lnTo>
                    <a:pt x="46" y="4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750400" y="3510000"/>
              <a:ext cx="76680" cy="153720"/>
            </a:xfrm>
            <a:custGeom>
              <a:avLst/>
              <a:gdLst/>
              <a:ahLst/>
              <a:rect l="l" t="t" r="r" b="b"/>
              <a:pathLst>
                <a:path w="152" h="270">
                  <a:moveTo>
                    <a:pt x="40" y="0"/>
                  </a:moveTo>
                  <a:lnTo>
                    <a:pt x="40" y="126"/>
                  </a:lnTo>
                  <a:lnTo>
                    <a:pt x="0" y="202"/>
                  </a:lnTo>
                  <a:lnTo>
                    <a:pt x="0" y="270"/>
                  </a:lnTo>
                  <a:lnTo>
                    <a:pt x="29" y="198"/>
                  </a:lnTo>
                  <a:lnTo>
                    <a:pt x="69" y="152"/>
                  </a:lnTo>
                  <a:lnTo>
                    <a:pt x="149" y="122"/>
                  </a:lnTo>
                  <a:lnTo>
                    <a:pt x="152" y="21"/>
                  </a:lnTo>
                  <a:lnTo>
                    <a:pt x="12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758320" y="3633480"/>
              <a:ext cx="36360" cy="81000"/>
            </a:xfrm>
            <a:custGeom>
              <a:avLst/>
              <a:gdLst/>
              <a:ahLst/>
              <a:rect l="l" t="t" r="r" b="b"/>
              <a:pathLst>
                <a:path w="73" h="141">
                  <a:moveTo>
                    <a:pt x="63" y="0"/>
                  </a:moveTo>
                  <a:lnTo>
                    <a:pt x="0" y="93"/>
                  </a:lnTo>
                  <a:lnTo>
                    <a:pt x="8" y="141"/>
                  </a:lnTo>
                  <a:lnTo>
                    <a:pt x="73" y="2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983680" y="3537720"/>
              <a:ext cx="84600" cy="280440"/>
            </a:xfrm>
            <a:custGeom>
              <a:avLst/>
              <a:gdLst/>
              <a:ahLst/>
              <a:rect l="l" t="t" r="r" b="b"/>
              <a:pathLst>
                <a:path w="169" h="492">
                  <a:moveTo>
                    <a:pt x="116" y="0"/>
                  </a:moveTo>
                  <a:lnTo>
                    <a:pt x="72" y="178"/>
                  </a:lnTo>
                  <a:lnTo>
                    <a:pt x="29" y="283"/>
                  </a:lnTo>
                  <a:lnTo>
                    <a:pt x="0" y="492"/>
                  </a:lnTo>
                  <a:lnTo>
                    <a:pt x="69" y="488"/>
                  </a:lnTo>
                  <a:lnTo>
                    <a:pt x="76" y="323"/>
                  </a:lnTo>
                  <a:lnTo>
                    <a:pt x="53" y="274"/>
                  </a:lnTo>
                  <a:lnTo>
                    <a:pt x="116" y="182"/>
                  </a:lnTo>
                  <a:lnTo>
                    <a:pt x="169" y="28"/>
                  </a:lnTo>
                  <a:lnTo>
                    <a:pt x="169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884680" y="3761280"/>
              <a:ext cx="80280" cy="20160"/>
            </a:xfrm>
            <a:custGeom>
              <a:avLst/>
              <a:gdLst/>
              <a:ahLst/>
              <a:rect l="l" t="t" r="r" b="b"/>
              <a:pathLst>
                <a:path w="160" h="37">
                  <a:moveTo>
                    <a:pt x="0" y="33"/>
                  </a:moveTo>
                  <a:lnTo>
                    <a:pt x="160" y="37"/>
                  </a:lnTo>
                  <a:lnTo>
                    <a:pt x="128" y="0"/>
                  </a:lnTo>
                  <a:lnTo>
                    <a:pt x="40" y="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891520" y="3806640"/>
              <a:ext cx="31320" cy="2052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0" y="0"/>
                  </a:moveTo>
                  <a:lnTo>
                    <a:pt x="40" y="36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804760" y="3705120"/>
              <a:ext cx="46440" cy="122040"/>
            </a:xfrm>
            <a:custGeom>
              <a:avLst/>
              <a:gdLst/>
              <a:ahLst/>
              <a:rect l="l" t="t" r="r" b="b"/>
              <a:pathLst>
                <a:path w="93" h="213">
                  <a:moveTo>
                    <a:pt x="93" y="16"/>
                  </a:moveTo>
                  <a:lnTo>
                    <a:pt x="36" y="80"/>
                  </a:lnTo>
                  <a:lnTo>
                    <a:pt x="24" y="213"/>
                  </a:lnTo>
                  <a:lnTo>
                    <a:pt x="0" y="206"/>
                  </a:lnTo>
                  <a:lnTo>
                    <a:pt x="11" y="73"/>
                  </a:lnTo>
                  <a:lnTo>
                    <a:pt x="72" y="0"/>
                  </a:lnTo>
                  <a:lnTo>
                    <a:pt x="93" y="16"/>
                  </a:lnTo>
                  <a:lnTo>
                    <a:pt x="93" y="16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3139200" y="3533040"/>
              <a:ext cx="96840" cy="48960"/>
            </a:xfrm>
            <a:custGeom>
              <a:avLst/>
              <a:gdLst/>
              <a:ahLst/>
              <a:rect l="l" t="t" r="r" b="b"/>
              <a:pathLst>
                <a:path w="192" h="86">
                  <a:moveTo>
                    <a:pt x="48" y="13"/>
                  </a:moveTo>
                  <a:lnTo>
                    <a:pt x="48" y="48"/>
                  </a:lnTo>
                  <a:lnTo>
                    <a:pt x="0" y="86"/>
                  </a:lnTo>
                  <a:lnTo>
                    <a:pt x="192" y="84"/>
                  </a:lnTo>
                  <a:lnTo>
                    <a:pt x="192" y="65"/>
                  </a:lnTo>
                  <a:lnTo>
                    <a:pt x="128" y="0"/>
                  </a:lnTo>
                  <a:lnTo>
                    <a:pt x="48" y="13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3166560" y="3437280"/>
              <a:ext cx="54360" cy="396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0" y="13"/>
                  </a:moveTo>
                  <a:lnTo>
                    <a:pt x="61" y="21"/>
                  </a:lnTo>
                  <a:lnTo>
                    <a:pt x="92" y="68"/>
                  </a:lnTo>
                  <a:lnTo>
                    <a:pt x="109" y="40"/>
                  </a:lnTo>
                  <a:lnTo>
                    <a:pt x="101" y="8"/>
                  </a:lnTo>
                  <a:lnTo>
                    <a:pt x="67" y="0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3129120" y="3620520"/>
              <a:ext cx="98640" cy="33120"/>
            </a:xfrm>
            <a:custGeom>
              <a:avLst/>
              <a:gdLst/>
              <a:ahLst/>
              <a:rect l="l" t="t" r="r" b="b"/>
              <a:pathLst>
                <a:path w="196" h="57">
                  <a:moveTo>
                    <a:pt x="0" y="31"/>
                  </a:moveTo>
                  <a:lnTo>
                    <a:pt x="135" y="31"/>
                  </a:lnTo>
                  <a:lnTo>
                    <a:pt x="166" y="0"/>
                  </a:lnTo>
                  <a:lnTo>
                    <a:pt x="196" y="57"/>
                  </a:lnTo>
                  <a:lnTo>
                    <a:pt x="0" y="5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3255120" y="3442680"/>
              <a:ext cx="219960" cy="207360"/>
            </a:xfrm>
            <a:custGeom>
              <a:avLst/>
              <a:gdLst/>
              <a:ahLst/>
              <a:rect l="l" t="t" r="r" b="b"/>
              <a:pathLst>
                <a:path w="438" h="363">
                  <a:moveTo>
                    <a:pt x="19" y="139"/>
                  </a:moveTo>
                  <a:lnTo>
                    <a:pt x="126" y="215"/>
                  </a:lnTo>
                  <a:lnTo>
                    <a:pt x="61" y="80"/>
                  </a:lnTo>
                  <a:lnTo>
                    <a:pt x="57" y="0"/>
                  </a:lnTo>
                  <a:lnTo>
                    <a:pt x="403" y="4"/>
                  </a:lnTo>
                  <a:lnTo>
                    <a:pt x="438" y="69"/>
                  </a:lnTo>
                  <a:lnTo>
                    <a:pt x="415" y="73"/>
                  </a:lnTo>
                  <a:lnTo>
                    <a:pt x="377" y="56"/>
                  </a:lnTo>
                  <a:lnTo>
                    <a:pt x="272" y="75"/>
                  </a:lnTo>
                  <a:lnTo>
                    <a:pt x="310" y="196"/>
                  </a:lnTo>
                  <a:lnTo>
                    <a:pt x="217" y="196"/>
                  </a:lnTo>
                  <a:lnTo>
                    <a:pt x="215" y="286"/>
                  </a:lnTo>
                  <a:lnTo>
                    <a:pt x="160" y="363"/>
                  </a:lnTo>
                  <a:lnTo>
                    <a:pt x="0" y="289"/>
                  </a:lnTo>
                  <a:lnTo>
                    <a:pt x="19" y="238"/>
                  </a:lnTo>
                  <a:lnTo>
                    <a:pt x="19" y="139"/>
                  </a:lnTo>
                  <a:lnTo>
                    <a:pt x="19" y="139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056400" y="3667320"/>
              <a:ext cx="299880" cy="32040"/>
            </a:xfrm>
            <a:custGeom>
              <a:avLst/>
              <a:gdLst/>
              <a:ahLst/>
              <a:rect l="l" t="t" r="r" b="b"/>
              <a:pathLst>
                <a:path w="595" h="55">
                  <a:moveTo>
                    <a:pt x="0" y="55"/>
                  </a:moveTo>
                  <a:lnTo>
                    <a:pt x="562" y="55"/>
                  </a:lnTo>
                  <a:lnTo>
                    <a:pt x="595" y="11"/>
                  </a:lnTo>
                  <a:lnTo>
                    <a:pt x="562" y="0"/>
                  </a:lnTo>
                  <a:lnTo>
                    <a:pt x="21" y="0"/>
                  </a:lnTo>
                  <a:lnTo>
                    <a:pt x="0" y="1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3058200" y="3591000"/>
              <a:ext cx="457200" cy="230400"/>
            </a:xfrm>
            <a:custGeom>
              <a:avLst/>
              <a:gdLst/>
              <a:ahLst/>
              <a:rect l="l" t="t" r="r" b="b"/>
              <a:pathLst>
                <a:path w="906" h="403">
                  <a:moveTo>
                    <a:pt x="722" y="0"/>
                  </a:moveTo>
                  <a:lnTo>
                    <a:pt x="724" y="268"/>
                  </a:lnTo>
                  <a:lnTo>
                    <a:pt x="657" y="241"/>
                  </a:lnTo>
                  <a:lnTo>
                    <a:pt x="574" y="281"/>
                  </a:lnTo>
                  <a:lnTo>
                    <a:pt x="165" y="277"/>
                  </a:lnTo>
                  <a:lnTo>
                    <a:pt x="76" y="390"/>
                  </a:lnTo>
                  <a:lnTo>
                    <a:pt x="0" y="255"/>
                  </a:lnTo>
                  <a:lnTo>
                    <a:pt x="3" y="367"/>
                  </a:lnTo>
                  <a:lnTo>
                    <a:pt x="70" y="403"/>
                  </a:lnTo>
                  <a:lnTo>
                    <a:pt x="865" y="372"/>
                  </a:lnTo>
                  <a:lnTo>
                    <a:pt x="903" y="293"/>
                  </a:lnTo>
                  <a:lnTo>
                    <a:pt x="906" y="2"/>
                  </a:lnTo>
                  <a:lnTo>
                    <a:pt x="722" y="0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374920" y="3303720"/>
              <a:ext cx="83520" cy="27000"/>
            </a:xfrm>
            <a:custGeom>
              <a:avLst/>
              <a:gdLst/>
              <a:ahLst/>
              <a:rect l="l" t="t" r="r" b="b"/>
              <a:pathLst>
                <a:path w="165" h="50">
                  <a:moveTo>
                    <a:pt x="0" y="19"/>
                  </a:moveTo>
                  <a:lnTo>
                    <a:pt x="6" y="50"/>
                  </a:lnTo>
                  <a:lnTo>
                    <a:pt x="61" y="31"/>
                  </a:lnTo>
                  <a:lnTo>
                    <a:pt x="165" y="15"/>
                  </a:lnTo>
                  <a:lnTo>
                    <a:pt x="165" y="0"/>
                  </a:lnTo>
                  <a:lnTo>
                    <a:pt x="70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405880" y="3346920"/>
              <a:ext cx="56520" cy="2376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0"/>
                  </a:moveTo>
                  <a:lnTo>
                    <a:pt x="3" y="42"/>
                  </a:lnTo>
                  <a:lnTo>
                    <a:pt x="112" y="27"/>
                  </a:lnTo>
                  <a:lnTo>
                    <a:pt x="11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405880" y="3375360"/>
              <a:ext cx="35280" cy="147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3" y="22"/>
                  </a:lnTo>
                  <a:lnTo>
                    <a:pt x="70" y="24"/>
                  </a:lnTo>
                  <a:lnTo>
                    <a:pt x="64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436480" y="3443760"/>
              <a:ext cx="18000" cy="4536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0"/>
                  </a:moveTo>
                  <a:lnTo>
                    <a:pt x="0" y="80"/>
                  </a:lnTo>
                  <a:lnTo>
                    <a:pt x="36" y="80"/>
                  </a:lnTo>
                  <a:lnTo>
                    <a:pt x="3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775880" y="3523680"/>
              <a:ext cx="181440" cy="222480"/>
            </a:xfrm>
            <a:custGeom>
              <a:avLst/>
              <a:gdLst/>
              <a:ahLst/>
              <a:rect l="l" t="t" r="r" b="b"/>
              <a:pathLst>
                <a:path w="362" h="392">
                  <a:moveTo>
                    <a:pt x="0" y="25"/>
                  </a:moveTo>
                  <a:lnTo>
                    <a:pt x="172" y="44"/>
                  </a:lnTo>
                  <a:lnTo>
                    <a:pt x="248" y="86"/>
                  </a:lnTo>
                  <a:lnTo>
                    <a:pt x="280" y="148"/>
                  </a:lnTo>
                  <a:lnTo>
                    <a:pt x="310" y="392"/>
                  </a:lnTo>
                  <a:lnTo>
                    <a:pt x="305" y="91"/>
                  </a:lnTo>
                  <a:lnTo>
                    <a:pt x="320" y="48"/>
                  </a:lnTo>
                  <a:lnTo>
                    <a:pt x="352" y="29"/>
                  </a:lnTo>
                  <a:lnTo>
                    <a:pt x="362" y="0"/>
                  </a:lnTo>
                  <a:lnTo>
                    <a:pt x="52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149560" y="3520080"/>
              <a:ext cx="94680" cy="10080"/>
            </a:xfrm>
            <a:custGeom>
              <a:avLst/>
              <a:gdLst/>
              <a:ahLst/>
              <a:rect l="l" t="t" r="r" b="b"/>
              <a:pathLst>
                <a:path w="186" h="19">
                  <a:moveTo>
                    <a:pt x="0" y="0"/>
                  </a:moveTo>
                  <a:lnTo>
                    <a:pt x="186" y="0"/>
                  </a:lnTo>
                  <a:lnTo>
                    <a:pt x="163" y="19"/>
                  </a:lnTo>
                  <a:lnTo>
                    <a:pt x="76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417040" y="3515760"/>
              <a:ext cx="312840" cy="21600"/>
            </a:xfrm>
            <a:custGeom>
              <a:avLst/>
              <a:gdLst/>
              <a:ahLst/>
              <a:rect l="l" t="t" r="r" b="b"/>
              <a:pathLst>
                <a:path w="619" h="38">
                  <a:moveTo>
                    <a:pt x="0" y="4"/>
                  </a:moveTo>
                  <a:lnTo>
                    <a:pt x="572" y="0"/>
                  </a:lnTo>
                  <a:lnTo>
                    <a:pt x="619" y="38"/>
                  </a:lnTo>
                  <a:lnTo>
                    <a:pt x="562" y="26"/>
                  </a:lnTo>
                  <a:lnTo>
                    <a:pt x="0" y="2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376720" y="3301200"/>
              <a:ext cx="43200" cy="2484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0"/>
                  </a:moveTo>
                  <a:lnTo>
                    <a:pt x="81" y="23"/>
                  </a:lnTo>
                  <a:lnTo>
                    <a:pt x="5" y="44"/>
                  </a:lnTo>
                  <a:lnTo>
                    <a:pt x="0" y="23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410200" y="3346920"/>
              <a:ext cx="26280" cy="1908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0" y="0"/>
                  </a:moveTo>
                  <a:lnTo>
                    <a:pt x="4" y="34"/>
                  </a:lnTo>
                  <a:lnTo>
                    <a:pt x="52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370600" y="3899160"/>
              <a:ext cx="326880" cy="74160"/>
            </a:xfrm>
            <a:custGeom>
              <a:avLst/>
              <a:gdLst/>
              <a:ahLst/>
              <a:rect l="l" t="t" r="r" b="b"/>
              <a:pathLst>
                <a:path w="649" h="129">
                  <a:moveTo>
                    <a:pt x="15" y="55"/>
                  </a:moveTo>
                  <a:lnTo>
                    <a:pt x="0" y="129"/>
                  </a:lnTo>
                  <a:lnTo>
                    <a:pt x="141" y="68"/>
                  </a:lnTo>
                  <a:lnTo>
                    <a:pt x="512" y="19"/>
                  </a:lnTo>
                  <a:lnTo>
                    <a:pt x="649" y="40"/>
                  </a:lnTo>
                  <a:lnTo>
                    <a:pt x="622" y="0"/>
                  </a:lnTo>
                  <a:lnTo>
                    <a:pt x="15" y="55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3291840" y="3448440"/>
              <a:ext cx="162360" cy="16920"/>
            </a:xfrm>
            <a:custGeom>
              <a:avLst/>
              <a:gdLst/>
              <a:ahLst/>
              <a:rect l="l" t="t" r="r" b="b"/>
              <a:pathLst>
                <a:path w="323" h="30">
                  <a:moveTo>
                    <a:pt x="0" y="19"/>
                  </a:moveTo>
                  <a:lnTo>
                    <a:pt x="323" y="30"/>
                  </a:lnTo>
                  <a:lnTo>
                    <a:pt x="315" y="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427920" y="3595680"/>
              <a:ext cx="81720" cy="111960"/>
            </a:xfrm>
            <a:custGeom>
              <a:avLst/>
              <a:gdLst/>
              <a:ahLst/>
              <a:rect l="l" t="t" r="r" b="b"/>
              <a:pathLst>
                <a:path w="162" h="196">
                  <a:moveTo>
                    <a:pt x="162" y="16"/>
                  </a:moveTo>
                  <a:lnTo>
                    <a:pt x="16" y="16"/>
                  </a:lnTo>
                  <a:lnTo>
                    <a:pt x="4" y="196"/>
                  </a:lnTo>
                  <a:lnTo>
                    <a:pt x="0" y="0"/>
                  </a:lnTo>
                  <a:lnTo>
                    <a:pt x="145" y="4"/>
                  </a:lnTo>
                  <a:lnTo>
                    <a:pt x="162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064320" y="3674520"/>
              <a:ext cx="284760" cy="9000"/>
            </a:xfrm>
            <a:custGeom>
              <a:avLst/>
              <a:gdLst/>
              <a:ahLst/>
              <a:rect l="l" t="t" r="r" b="b"/>
              <a:pathLst>
                <a:path w="563" h="17">
                  <a:moveTo>
                    <a:pt x="0" y="17"/>
                  </a:moveTo>
                  <a:lnTo>
                    <a:pt x="555" y="17"/>
                  </a:lnTo>
                  <a:lnTo>
                    <a:pt x="563" y="0"/>
                  </a:lnTo>
                  <a:lnTo>
                    <a:pt x="1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008880" y="3545280"/>
              <a:ext cx="39240" cy="140400"/>
            </a:xfrm>
            <a:custGeom>
              <a:avLst/>
              <a:gdLst/>
              <a:ahLst/>
              <a:rect l="l" t="t" r="r" b="b"/>
              <a:pathLst>
                <a:path w="78" h="247">
                  <a:moveTo>
                    <a:pt x="78" y="0"/>
                  </a:moveTo>
                  <a:lnTo>
                    <a:pt x="49" y="160"/>
                  </a:lnTo>
                  <a:lnTo>
                    <a:pt x="0" y="247"/>
                  </a:lnTo>
                  <a:lnTo>
                    <a:pt x="36" y="14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988720" y="3702960"/>
              <a:ext cx="14760" cy="103680"/>
            </a:xfrm>
            <a:custGeom>
              <a:avLst/>
              <a:gdLst/>
              <a:ahLst/>
              <a:rect l="l" t="t" r="r" b="b"/>
              <a:pathLst>
                <a:path w="28" h="180">
                  <a:moveTo>
                    <a:pt x="28" y="0"/>
                  </a:moveTo>
                  <a:lnTo>
                    <a:pt x="22" y="161"/>
                  </a:lnTo>
                  <a:lnTo>
                    <a:pt x="0" y="180"/>
                  </a:lnTo>
                  <a:lnTo>
                    <a:pt x="19" y="2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856520" y="4175640"/>
              <a:ext cx="432000" cy="118440"/>
            </a:xfrm>
            <a:custGeom>
              <a:avLst/>
              <a:gdLst/>
              <a:ahLst/>
              <a:rect l="l" t="t" r="r" b="b"/>
              <a:pathLst>
                <a:path w="858" h="209">
                  <a:moveTo>
                    <a:pt x="12" y="22"/>
                  </a:moveTo>
                  <a:lnTo>
                    <a:pt x="858" y="209"/>
                  </a:lnTo>
                  <a:lnTo>
                    <a:pt x="841" y="188"/>
                  </a:lnTo>
                  <a:lnTo>
                    <a:pt x="0" y="0"/>
                  </a:lnTo>
                  <a:lnTo>
                    <a:pt x="12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1974960" y="4408200"/>
              <a:ext cx="352080" cy="134640"/>
            </a:xfrm>
            <a:custGeom>
              <a:avLst/>
              <a:gdLst/>
              <a:ahLst/>
              <a:rect l="l" t="t" r="r" b="b"/>
              <a:pathLst>
                <a:path w="698" h="236">
                  <a:moveTo>
                    <a:pt x="0" y="185"/>
                  </a:moveTo>
                  <a:lnTo>
                    <a:pt x="656" y="0"/>
                  </a:lnTo>
                  <a:lnTo>
                    <a:pt x="698" y="36"/>
                  </a:lnTo>
                  <a:lnTo>
                    <a:pt x="55" y="236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1929600" y="4548600"/>
              <a:ext cx="29880" cy="2124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0" y="15"/>
                  </a:moveTo>
                  <a:lnTo>
                    <a:pt x="61" y="0"/>
                  </a:lnTo>
                  <a:lnTo>
                    <a:pt x="61" y="15"/>
                  </a:lnTo>
                  <a:lnTo>
                    <a:pt x="3" y="38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467440" y="4331880"/>
              <a:ext cx="123120" cy="48600"/>
            </a:xfrm>
            <a:custGeom>
              <a:avLst/>
              <a:gdLst/>
              <a:ahLst/>
              <a:rect l="l" t="t" r="r" b="b"/>
              <a:pathLst>
                <a:path w="244" h="88">
                  <a:moveTo>
                    <a:pt x="0" y="88"/>
                  </a:moveTo>
                  <a:lnTo>
                    <a:pt x="244" y="0"/>
                  </a:lnTo>
                  <a:lnTo>
                    <a:pt x="143" y="6"/>
                  </a:lnTo>
                  <a:lnTo>
                    <a:pt x="23" y="40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330280" y="4320360"/>
              <a:ext cx="138960" cy="57960"/>
            </a:xfrm>
            <a:custGeom>
              <a:avLst/>
              <a:gdLst/>
              <a:ahLst/>
              <a:rect l="l" t="t" r="r" b="b"/>
              <a:pathLst>
                <a:path w="276" h="101">
                  <a:moveTo>
                    <a:pt x="0" y="0"/>
                  </a:moveTo>
                  <a:lnTo>
                    <a:pt x="44" y="101"/>
                  </a:lnTo>
                  <a:lnTo>
                    <a:pt x="27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989000" y="4418640"/>
              <a:ext cx="324000" cy="114120"/>
            </a:xfrm>
            <a:custGeom>
              <a:avLst/>
              <a:gdLst/>
              <a:ahLst/>
              <a:rect l="l" t="t" r="r" b="b"/>
              <a:pathLst>
                <a:path w="642" h="200">
                  <a:moveTo>
                    <a:pt x="19" y="200"/>
                  </a:moveTo>
                  <a:lnTo>
                    <a:pt x="642" y="6"/>
                  </a:lnTo>
                  <a:lnTo>
                    <a:pt x="610" y="0"/>
                  </a:lnTo>
                  <a:lnTo>
                    <a:pt x="0" y="177"/>
                  </a:lnTo>
                  <a:lnTo>
                    <a:pt x="19" y="200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477520" y="4341960"/>
              <a:ext cx="59760" cy="27360"/>
            </a:xfrm>
            <a:custGeom>
              <a:avLst/>
              <a:gdLst/>
              <a:ahLst/>
              <a:rect l="l" t="t" r="r" b="b"/>
              <a:pathLst>
                <a:path w="118" h="48">
                  <a:moveTo>
                    <a:pt x="0" y="48"/>
                  </a:moveTo>
                  <a:lnTo>
                    <a:pt x="118" y="0"/>
                  </a:lnTo>
                  <a:lnTo>
                    <a:pt x="6" y="29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338560" y="4329360"/>
              <a:ext cx="102960" cy="19080"/>
            </a:xfrm>
            <a:custGeom>
              <a:avLst/>
              <a:gdLst/>
              <a:ahLst/>
              <a:rect l="l" t="t" r="r" b="b"/>
              <a:pathLst>
                <a:path w="205" h="34">
                  <a:moveTo>
                    <a:pt x="0" y="0"/>
                  </a:moveTo>
                  <a:lnTo>
                    <a:pt x="45" y="34"/>
                  </a:lnTo>
                  <a:lnTo>
                    <a:pt x="205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422080" y="3610440"/>
              <a:ext cx="141120" cy="64800"/>
            </a:xfrm>
            <a:custGeom>
              <a:avLst/>
              <a:gdLst/>
              <a:ahLst/>
              <a:rect l="l" t="t" r="r" b="b"/>
              <a:pathLst>
                <a:path w="281" h="114">
                  <a:moveTo>
                    <a:pt x="0" y="2"/>
                  </a:moveTo>
                  <a:lnTo>
                    <a:pt x="34" y="40"/>
                  </a:lnTo>
                  <a:lnTo>
                    <a:pt x="44" y="114"/>
                  </a:lnTo>
                  <a:lnTo>
                    <a:pt x="278" y="109"/>
                  </a:lnTo>
                  <a:lnTo>
                    <a:pt x="281" y="55"/>
                  </a:lnTo>
                  <a:lnTo>
                    <a:pt x="270" y="15"/>
                  </a:lnTo>
                  <a:lnTo>
                    <a:pt x="257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263680" y="3742920"/>
              <a:ext cx="98640" cy="63720"/>
            </a:xfrm>
            <a:custGeom>
              <a:avLst/>
              <a:gdLst/>
              <a:ahLst/>
              <a:rect l="l" t="t" r="r" b="b"/>
              <a:pathLst>
                <a:path w="196" h="112">
                  <a:moveTo>
                    <a:pt x="0" y="31"/>
                  </a:moveTo>
                  <a:lnTo>
                    <a:pt x="2" y="67"/>
                  </a:lnTo>
                  <a:lnTo>
                    <a:pt x="54" y="17"/>
                  </a:lnTo>
                  <a:lnTo>
                    <a:pt x="69" y="80"/>
                  </a:lnTo>
                  <a:lnTo>
                    <a:pt x="196" y="112"/>
                  </a:lnTo>
                  <a:lnTo>
                    <a:pt x="78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372760" y="3794400"/>
              <a:ext cx="105840" cy="20160"/>
            </a:xfrm>
            <a:custGeom>
              <a:avLst/>
              <a:gdLst/>
              <a:ahLst/>
              <a:rect l="l" t="t" r="r" b="b"/>
              <a:pathLst>
                <a:path w="209" h="36">
                  <a:moveTo>
                    <a:pt x="10" y="27"/>
                  </a:moveTo>
                  <a:lnTo>
                    <a:pt x="145" y="21"/>
                  </a:lnTo>
                  <a:lnTo>
                    <a:pt x="179" y="36"/>
                  </a:lnTo>
                  <a:lnTo>
                    <a:pt x="209" y="6"/>
                  </a:lnTo>
                  <a:lnTo>
                    <a:pt x="0" y="0"/>
                  </a:lnTo>
                  <a:lnTo>
                    <a:pt x="10" y="27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534040" y="3753000"/>
              <a:ext cx="30240" cy="4428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38" y="0"/>
                  </a:moveTo>
                  <a:lnTo>
                    <a:pt x="0" y="78"/>
                  </a:lnTo>
                  <a:lnTo>
                    <a:pt x="61" y="53"/>
                  </a:lnTo>
                  <a:lnTo>
                    <a:pt x="48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553480" y="3779280"/>
              <a:ext cx="43200" cy="522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88" y="0"/>
                  </a:moveTo>
                  <a:lnTo>
                    <a:pt x="44" y="23"/>
                  </a:lnTo>
                  <a:lnTo>
                    <a:pt x="0" y="93"/>
                  </a:lnTo>
                  <a:lnTo>
                    <a:pt x="40" y="81"/>
                  </a:lnTo>
                  <a:lnTo>
                    <a:pt x="61" y="28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619000" y="3621960"/>
              <a:ext cx="108720" cy="96840"/>
            </a:xfrm>
            <a:custGeom>
              <a:avLst/>
              <a:gdLst/>
              <a:ahLst/>
              <a:rect l="l" t="t" r="r" b="b"/>
              <a:pathLst>
                <a:path w="214" h="169">
                  <a:moveTo>
                    <a:pt x="55" y="0"/>
                  </a:moveTo>
                  <a:lnTo>
                    <a:pt x="0" y="107"/>
                  </a:lnTo>
                  <a:lnTo>
                    <a:pt x="47" y="74"/>
                  </a:lnTo>
                  <a:lnTo>
                    <a:pt x="47" y="169"/>
                  </a:lnTo>
                  <a:lnTo>
                    <a:pt x="100" y="108"/>
                  </a:lnTo>
                  <a:lnTo>
                    <a:pt x="163" y="88"/>
                  </a:lnTo>
                  <a:lnTo>
                    <a:pt x="214" y="27"/>
                  </a:lnTo>
                  <a:lnTo>
                    <a:pt x="156" y="29"/>
                  </a:lnTo>
                  <a:lnTo>
                    <a:pt x="114" y="49"/>
                  </a:lnTo>
                  <a:lnTo>
                    <a:pt x="78" y="86"/>
                  </a:lnTo>
                  <a:lnTo>
                    <a:pt x="74" y="34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659320" y="3718800"/>
              <a:ext cx="55440" cy="106920"/>
            </a:xfrm>
            <a:custGeom>
              <a:avLst/>
              <a:gdLst/>
              <a:ahLst/>
              <a:rect l="l" t="t" r="r" b="b"/>
              <a:pathLst>
                <a:path w="110" h="188">
                  <a:moveTo>
                    <a:pt x="87" y="0"/>
                  </a:moveTo>
                  <a:lnTo>
                    <a:pt x="45" y="8"/>
                  </a:lnTo>
                  <a:lnTo>
                    <a:pt x="0" y="59"/>
                  </a:lnTo>
                  <a:lnTo>
                    <a:pt x="55" y="38"/>
                  </a:lnTo>
                  <a:lnTo>
                    <a:pt x="68" y="92"/>
                  </a:lnTo>
                  <a:lnTo>
                    <a:pt x="68" y="130"/>
                  </a:lnTo>
                  <a:lnTo>
                    <a:pt x="32" y="183"/>
                  </a:lnTo>
                  <a:lnTo>
                    <a:pt x="100" y="188"/>
                  </a:lnTo>
                  <a:lnTo>
                    <a:pt x="110" y="154"/>
                  </a:lnTo>
                  <a:lnTo>
                    <a:pt x="110" y="86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216160" y="3626640"/>
              <a:ext cx="78480" cy="129600"/>
            </a:xfrm>
            <a:custGeom>
              <a:avLst/>
              <a:gdLst/>
              <a:ahLst/>
              <a:rect l="l" t="t" r="r" b="b"/>
              <a:pathLst>
                <a:path w="156" h="228">
                  <a:moveTo>
                    <a:pt x="154" y="0"/>
                  </a:moveTo>
                  <a:lnTo>
                    <a:pt x="156" y="62"/>
                  </a:lnTo>
                  <a:lnTo>
                    <a:pt x="133" y="85"/>
                  </a:lnTo>
                  <a:lnTo>
                    <a:pt x="128" y="125"/>
                  </a:lnTo>
                  <a:lnTo>
                    <a:pt x="88" y="159"/>
                  </a:lnTo>
                  <a:lnTo>
                    <a:pt x="69" y="195"/>
                  </a:lnTo>
                  <a:lnTo>
                    <a:pt x="0" y="228"/>
                  </a:lnTo>
                  <a:lnTo>
                    <a:pt x="55" y="182"/>
                  </a:lnTo>
                  <a:lnTo>
                    <a:pt x="76" y="133"/>
                  </a:lnTo>
                  <a:lnTo>
                    <a:pt x="97" y="127"/>
                  </a:lnTo>
                  <a:lnTo>
                    <a:pt x="107" y="104"/>
                  </a:lnTo>
                  <a:lnTo>
                    <a:pt x="129" y="66"/>
                  </a:lnTo>
                  <a:lnTo>
                    <a:pt x="133" y="3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278800" y="3805560"/>
              <a:ext cx="37080" cy="352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64" y="0"/>
                  </a:moveTo>
                  <a:lnTo>
                    <a:pt x="0" y="38"/>
                  </a:lnTo>
                  <a:lnTo>
                    <a:pt x="0" y="63"/>
                  </a:lnTo>
                  <a:lnTo>
                    <a:pt x="74" y="3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266920" y="3761280"/>
              <a:ext cx="294480" cy="102600"/>
            </a:xfrm>
            <a:custGeom>
              <a:avLst/>
              <a:gdLst/>
              <a:ahLst/>
              <a:rect l="l" t="t" r="r" b="b"/>
              <a:pathLst>
                <a:path w="584" h="181">
                  <a:moveTo>
                    <a:pt x="0" y="162"/>
                  </a:moveTo>
                  <a:lnTo>
                    <a:pt x="108" y="130"/>
                  </a:lnTo>
                  <a:lnTo>
                    <a:pt x="118" y="82"/>
                  </a:lnTo>
                  <a:lnTo>
                    <a:pt x="154" y="143"/>
                  </a:lnTo>
                  <a:lnTo>
                    <a:pt x="179" y="99"/>
                  </a:lnTo>
                  <a:lnTo>
                    <a:pt x="354" y="95"/>
                  </a:lnTo>
                  <a:lnTo>
                    <a:pt x="392" y="114"/>
                  </a:lnTo>
                  <a:lnTo>
                    <a:pt x="445" y="52"/>
                  </a:lnTo>
                  <a:lnTo>
                    <a:pt x="447" y="94"/>
                  </a:lnTo>
                  <a:lnTo>
                    <a:pt x="506" y="0"/>
                  </a:lnTo>
                  <a:lnTo>
                    <a:pt x="523" y="86"/>
                  </a:lnTo>
                  <a:lnTo>
                    <a:pt x="584" y="65"/>
                  </a:lnTo>
                  <a:lnTo>
                    <a:pt x="542" y="135"/>
                  </a:lnTo>
                  <a:lnTo>
                    <a:pt x="445" y="151"/>
                  </a:lnTo>
                  <a:lnTo>
                    <a:pt x="70" y="18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219400" y="3583080"/>
              <a:ext cx="85320" cy="145800"/>
            </a:xfrm>
            <a:custGeom>
              <a:avLst/>
              <a:gdLst/>
              <a:ahLst/>
              <a:rect l="l" t="t" r="r" b="b"/>
              <a:pathLst>
                <a:path w="169" h="256">
                  <a:moveTo>
                    <a:pt x="169" y="0"/>
                  </a:moveTo>
                  <a:lnTo>
                    <a:pt x="110" y="100"/>
                  </a:lnTo>
                  <a:lnTo>
                    <a:pt x="84" y="165"/>
                  </a:lnTo>
                  <a:lnTo>
                    <a:pt x="55" y="205"/>
                  </a:lnTo>
                  <a:lnTo>
                    <a:pt x="36" y="245"/>
                  </a:lnTo>
                  <a:lnTo>
                    <a:pt x="0" y="256"/>
                  </a:lnTo>
                  <a:lnTo>
                    <a:pt x="44" y="129"/>
                  </a:lnTo>
                  <a:lnTo>
                    <a:pt x="97" y="83"/>
                  </a:lnTo>
                  <a:lnTo>
                    <a:pt x="142" y="5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157840" y="3805560"/>
              <a:ext cx="52200" cy="54720"/>
            </a:xfrm>
            <a:custGeom>
              <a:avLst/>
              <a:gdLst/>
              <a:ahLst/>
              <a:rect l="l" t="t" r="r" b="b"/>
              <a:pathLst>
                <a:path w="105" h="97">
                  <a:moveTo>
                    <a:pt x="63" y="0"/>
                  </a:moveTo>
                  <a:lnTo>
                    <a:pt x="105" y="4"/>
                  </a:lnTo>
                  <a:lnTo>
                    <a:pt x="74" y="82"/>
                  </a:lnTo>
                  <a:lnTo>
                    <a:pt x="8" y="97"/>
                  </a:lnTo>
                  <a:lnTo>
                    <a:pt x="0" y="5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323440" y="3701880"/>
              <a:ext cx="47160" cy="62280"/>
            </a:xfrm>
            <a:custGeom>
              <a:avLst/>
              <a:gdLst/>
              <a:ahLst/>
              <a:rect l="l" t="t" r="r" b="b"/>
              <a:pathLst>
                <a:path w="95" h="108">
                  <a:moveTo>
                    <a:pt x="0" y="43"/>
                  </a:moveTo>
                  <a:lnTo>
                    <a:pt x="48" y="108"/>
                  </a:lnTo>
                  <a:lnTo>
                    <a:pt x="95" y="57"/>
                  </a:lnTo>
                  <a:lnTo>
                    <a:pt x="82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395080" y="3650400"/>
              <a:ext cx="171360" cy="96840"/>
            </a:xfrm>
            <a:custGeom>
              <a:avLst/>
              <a:gdLst/>
              <a:ahLst/>
              <a:rect l="l" t="t" r="r" b="b"/>
              <a:pathLst>
                <a:path w="340" h="172">
                  <a:moveTo>
                    <a:pt x="19" y="33"/>
                  </a:moveTo>
                  <a:lnTo>
                    <a:pt x="64" y="0"/>
                  </a:lnTo>
                  <a:lnTo>
                    <a:pt x="51" y="84"/>
                  </a:lnTo>
                  <a:lnTo>
                    <a:pt x="80" y="73"/>
                  </a:lnTo>
                  <a:lnTo>
                    <a:pt x="340" y="59"/>
                  </a:lnTo>
                  <a:lnTo>
                    <a:pt x="308" y="111"/>
                  </a:lnTo>
                  <a:lnTo>
                    <a:pt x="249" y="154"/>
                  </a:lnTo>
                  <a:lnTo>
                    <a:pt x="23" y="172"/>
                  </a:lnTo>
                  <a:lnTo>
                    <a:pt x="0" y="107"/>
                  </a:lnTo>
                  <a:lnTo>
                    <a:pt x="19" y="33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577600" y="3657240"/>
              <a:ext cx="38160" cy="109440"/>
            </a:xfrm>
            <a:custGeom>
              <a:avLst/>
              <a:gdLst/>
              <a:ahLst/>
              <a:rect l="l" t="t" r="r" b="b"/>
              <a:pathLst>
                <a:path w="78" h="192">
                  <a:moveTo>
                    <a:pt x="17" y="0"/>
                  </a:moveTo>
                  <a:lnTo>
                    <a:pt x="0" y="114"/>
                  </a:lnTo>
                  <a:lnTo>
                    <a:pt x="42" y="192"/>
                  </a:lnTo>
                  <a:lnTo>
                    <a:pt x="78" y="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638440" y="3757680"/>
              <a:ext cx="41040" cy="75240"/>
            </a:xfrm>
            <a:custGeom>
              <a:avLst/>
              <a:gdLst/>
              <a:ahLst/>
              <a:rect l="l" t="t" r="r" b="b"/>
              <a:pathLst>
                <a:path w="81" h="133">
                  <a:moveTo>
                    <a:pt x="0" y="32"/>
                  </a:moveTo>
                  <a:lnTo>
                    <a:pt x="70" y="0"/>
                  </a:lnTo>
                  <a:lnTo>
                    <a:pt x="81" y="47"/>
                  </a:lnTo>
                  <a:lnTo>
                    <a:pt x="43" y="13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152160" y="3416400"/>
              <a:ext cx="338040" cy="151560"/>
            </a:xfrm>
            <a:custGeom>
              <a:avLst/>
              <a:gdLst/>
              <a:ahLst/>
              <a:rect l="l" t="t" r="r" b="b"/>
              <a:pathLst>
                <a:path w="669" h="264">
                  <a:moveTo>
                    <a:pt x="0" y="40"/>
                  </a:moveTo>
                  <a:lnTo>
                    <a:pt x="25" y="19"/>
                  </a:lnTo>
                  <a:lnTo>
                    <a:pt x="154" y="21"/>
                  </a:lnTo>
                  <a:lnTo>
                    <a:pt x="179" y="34"/>
                  </a:lnTo>
                  <a:lnTo>
                    <a:pt x="226" y="2"/>
                  </a:lnTo>
                  <a:lnTo>
                    <a:pt x="610" y="0"/>
                  </a:lnTo>
                  <a:lnTo>
                    <a:pt x="669" y="53"/>
                  </a:lnTo>
                  <a:lnTo>
                    <a:pt x="603" y="26"/>
                  </a:lnTo>
                  <a:lnTo>
                    <a:pt x="243" y="26"/>
                  </a:lnTo>
                  <a:lnTo>
                    <a:pt x="243" y="152"/>
                  </a:lnTo>
                  <a:lnTo>
                    <a:pt x="293" y="224"/>
                  </a:lnTo>
                  <a:lnTo>
                    <a:pt x="232" y="167"/>
                  </a:lnTo>
                  <a:lnTo>
                    <a:pt x="228" y="40"/>
                  </a:lnTo>
                  <a:lnTo>
                    <a:pt x="207" y="82"/>
                  </a:lnTo>
                  <a:lnTo>
                    <a:pt x="205" y="264"/>
                  </a:lnTo>
                  <a:lnTo>
                    <a:pt x="167" y="251"/>
                  </a:lnTo>
                  <a:lnTo>
                    <a:pt x="99" y="171"/>
                  </a:lnTo>
                  <a:lnTo>
                    <a:pt x="99" y="101"/>
                  </a:lnTo>
                  <a:lnTo>
                    <a:pt x="125" y="121"/>
                  </a:lnTo>
                  <a:lnTo>
                    <a:pt x="152" y="91"/>
                  </a:lnTo>
                  <a:lnTo>
                    <a:pt x="152" y="51"/>
                  </a:lnTo>
                  <a:lnTo>
                    <a:pt x="125" y="32"/>
                  </a:lnTo>
                  <a:lnTo>
                    <a:pt x="30" y="32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427920" y="3457440"/>
              <a:ext cx="66600" cy="8892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59"/>
                  </a:moveTo>
                  <a:lnTo>
                    <a:pt x="50" y="59"/>
                  </a:lnTo>
                  <a:lnTo>
                    <a:pt x="71" y="89"/>
                  </a:lnTo>
                  <a:lnTo>
                    <a:pt x="101" y="89"/>
                  </a:lnTo>
                  <a:lnTo>
                    <a:pt x="116" y="55"/>
                  </a:lnTo>
                  <a:lnTo>
                    <a:pt x="116" y="0"/>
                  </a:lnTo>
                  <a:lnTo>
                    <a:pt x="134" y="38"/>
                  </a:lnTo>
                  <a:lnTo>
                    <a:pt x="134" y="84"/>
                  </a:lnTo>
                  <a:lnTo>
                    <a:pt x="107" y="110"/>
                  </a:lnTo>
                  <a:lnTo>
                    <a:pt x="84" y="110"/>
                  </a:lnTo>
                  <a:lnTo>
                    <a:pt x="69" y="158"/>
                  </a:lnTo>
                  <a:lnTo>
                    <a:pt x="44" y="158"/>
                  </a:lnTo>
                  <a:lnTo>
                    <a:pt x="31" y="103"/>
                  </a:lnTo>
                  <a:lnTo>
                    <a:pt x="4" y="78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380400" y="3548880"/>
              <a:ext cx="141840" cy="178920"/>
            </a:xfrm>
            <a:custGeom>
              <a:avLst/>
              <a:gdLst/>
              <a:ahLst/>
              <a:rect l="l" t="t" r="r" b="b"/>
              <a:pathLst>
                <a:path w="282" h="313">
                  <a:moveTo>
                    <a:pt x="14" y="43"/>
                  </a:moveTo>
                  <a:lnTo>
                    <a:pt x="263" y="40"/>
                  </a:lnTo>
                  <a:lnTo>
                    <a:pt x="263" y="0"/>
                  </a:lnTo>
                  <a:lnTo>
                    <a:pt x="282" y="13"/>
                  </a:lnTo>
                  <a:lnTo>
                    <a:pt x="282" y="59"/>
                  </a:lnTo>
                  <a:lnTo>
                    <a:pt x="67" y="59"/>
                  </a:lnTo>
                  <a:lnTo>
                    <a:pt x="67" y="313"/>
                  </a:lnTo>
                  <a:lnTo>
                    <a:pt x="29" y="277"/>
                  </a:lnTo>
                  <a:lnTo>
                    <a:pt x="29" y="211"/>
                  </a:lnTo>
                  <a:lnTo>
                    <a:pt x="2" y="211"/>
                  </a:lnTo>
                  <a:lnTo>
                    <a:pt x="0" y="59"/>
                  </a:lnTo>
                  <a:lnTo>
                    <a:pt x="14" y="43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3060360" y="3666600"/>
              <a:ext cx="315000" cy="124200"/>
            </a:xfrm>
            <a:custGeom>
              <a:avLst/>
              <a:gdLst/>
              <a:ahLst/>
              <a:rect l="l" t="t" r="r" b="b"/>
              <a:pathLst>
                <a:path w="626" h="219">
                  <a:moveTo>
                    <a:pt x="0" y="72"/>
                  </a:moveTo>
                  <a:lnTo>
                    <a:pt x="92" y="103"/>
                  </a:lnTo>
                  <a:lnTo>
                    <a:pt x="92" y="219"/>
                  </a:lnTo>
                  <a:lnTo>
                    <a:pt x="107" y="188"/>
                  </a:lnTo>
                  <a:lnTo>
                    <a:pt x="109" y="103"/>
                  </a:lnTo>
                  <a:lnTo>
                    <a:pt x="565" y="103"/>
                  </a:lnTo>
                  <a:lnTo>
                    <a:pt x="626" y="25"/>
                  </a:lnTo>
                  <a:lnTo>
                    <a:pt x="605" y="0"/>
                  </a:lnTo>
                  <a:lnTo>
                    <a:pt x="605" y="25"/>
                  </a:lnTo>
                  <a:lnTo>
                    <a:pt x="565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824920" y="3697200"/>
              <a:ext cx="56520" cy="131040"/>
            </a:xfrm>
            <a:custGeom>
              <a:avLst/>
              <a:gdLst/>
              <a:ahLst/>
              <a:rect l="l" t="t" r="r" b="b"/>
              <a:pathLst>
                <a:path w="112" h="230">
                  <a:moveTo>
                    <a:pt x="38" y="27"/>
                  </a:moveTo>
                  <a:lnTo>
                    <a:pt x="57" y="50"/>
                  </a:lnTo>
                  <a:lnTo>
                    <a:pt x="5" y="114"/>
                  </a:lnTo>
                  <a:lnTo>
                    <a:pt x="0" y="230"/>
                  </a:lnTo>
                  <a:lnTo>
                    <a:pt x="112" y="230"/>
                  </a:lnTo>
                  <a:lnTo>
                    <a:pt x="112" y="133"/>
                  </a:lnTo>
                  <a:lnTo>
                    <a:pt x="66" y="166"/>
                  </a:lnTo>
                  <a:lnTo>
                    <a:pt x="24" y="128"/>
                  </a:lnTo>
                  <a:lnTo>
                    <a:pt x="72" y="44"/>
                  </a:lnTo>
                  <a:lnTo>
                    <a:pt x="45" y="0"/>
                  </a:lnTo>
                  <a:lnTo>
                    <a:pt x="38" y="27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3013200" y="3579840"/>
              <a:ext cx="352080" cy="124200"/>
            </a:xfrm>
            <a:custGeom>
              <a:avLst/>
              <a:gdLst/>
              <a:ahLst/>
              <a:rect l="l" t="t" r="r" b="b"/>
              <a:pathLst>
                <a:path w="698" h="219">
                  <a:moveTo>
                    <a:pt x="0" y="200"/>
                  </a:moveTo>
                  <a:lnTo>
                    <a:pt x="61" y="135"/>
                  </a:lnTo>
                  <a:lnTo>
                    <a:pt x="112" y="0"/>
                  </a:lnTo>
                  <a:lnTo>
                    <a:pt x="114" y="65"/>
                  </a:lnTo>
                  <a:lnTo>
                    <a:pt x="215" y="65"/>
                  </a:lnTo>
                  <a:lnTo>
                    <a:pt x="215" y="141"/>
                  </a:lnTo>
                  <a:lnTo>
                    <a:pt x="667" y="141"/>
                  </a:lnTo>
                  <a:lnTo>
                    <a:pt x="698" y="154"/>
                  </a:lnTo>
                  <a:lnTo>
                    <a:pt x="88" y="154"/>
                  </a:lnTo>
                  <a:lnTo>
                    <a:pt x="67" y="173"/>
                  </a:lnTo>
                  <a:lnTo>
                    <a:pt x="67" y="219"/>
                  </a:lnTo>
                  <a:lnTo>
                    <a:pt x="31" y="192"/>
                  </a:lnTo>
                  <a:lnTo>
                    <a:pt x="0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3080520" y="3556800"/>
              <a:ext cx="18000" cy="47520"/>
            </a:xfrm>
            <a:custGeom>
              <a:avLst/>
              <a:gdLst/>
              <a:ahLst/>
              <a:rect l="l" t="t" r="r" b="b"/>
              <a:pathLst>
                <a:path w="36" h="84">
                  <a:moveTo>
                    <a:pt x="0" y="84"/>
                  </a:moveTo>
                  <a:lnTo>
                    <a:pt x="19" y="0"/>
                  </a:lnTo>
                  <a:lnTo>
                    <a:pt x="36" y="2"/>
                  </a:lnTo>
                  <a:lnTo>
                    <a:pt x="14" y="78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114000" y="3563640"/>
              <a:ext cx="18000" cy="3744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0" y="67"/>
                  </a:moveTo>
                  <a:lnTo>
                    <a:pt x="23" y="0"/>
                  </a:lnTo>
                  <a:lnTo>
                    <a:pt x="36" y="0"/>
                  </a:lnTo>
                  <a:lnTo>
                    <a:pt x="13" y="61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3089880" y="3524760"/>
              <a:ext cx="23040" cy="3528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0" y="53"/>
                  </a:moveTo>
                  <a:lnTo>
                    <a:pt x="17" y="53"/>
                  </a:lnTo>
                  <a:lnTo>
                    <a:pt x="31" y="47"/>
                  </a:lnTo>
                  <a:lnTo>
                    <a:pt x="36" y="36"/>
                  </a:lnTo>
                  <a:lnTo>
                    <a:pt x="34" y="19"/>
                  </a:lnTo>
                  <a:lnTo>
                    <a:pt x="27" y="9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34" y="2"/>
                  </a:lnTo>
                  <a:lnTo>
                    <a:pt x="44" y="17"/>
                  </a:lnTo>
                  <a:lnTo>
                    <a:pt x="46" y="36"/>
                  </a:lnTo>
                  <a:lnTo>
                    <a:pt x="36" y="55"/>
                  </a:lnTo>
                  <a:lnTo>
                    <a:pt x="21" y="61"/>
                  </a:lnTo>
                  <a:lnTo>
                    <a:pt x="4" y="57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079800" y="3528360"/>
              <a:ext cx="7920" cy="2628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0" y="1"/>
                  </a:moveTo>
                  <a:lnTo>
                    <a:pt x="0" y="19"/>
                  </a:lnTo>
                  <a:lnTo>
                    <a:pt x="6" y="38"/>
                  </a:lnTo>
                  <a:lnTo>
                    <a:pt x="17" y="45"/>
                  </a:lnTo>
                  <a:lnTo>
                    <a:pt x="12" y="24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3117960" y="3533040"/>
              <a:ext cx="9000" cy="2736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10" y="48"/>
                  </a:moveTo>
                  <a:lnTo>
                    <a:pt x="0" y="36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8" y="29"/>
                  </a:lnTo>
                  <a:lnTo>
                    <a:pt x="19" y="48"/>
                  </a:lnTo>
                  <a:lnTo>
                    <a:pt x="10" y="48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124080" y="3530520"/>
              <a:ext cx="25920" cy="3384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15" y="52"/>
                  </a:moveTo>
                  <a:lnTo>
                    <a:pt x="28" y="50"/>
                  </a:lnTo>
                  <a:lnTo>
                    <a:pt x="42" y="38"/>
                  </a:lnTo>
                  <a:lnTo>
                    <a:pt x="42" y="21"/>
                  </a:lnTo>
                  <a:lnTo>
                    <a:pt x="36" y="8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1" y="16"/>
                  </a:lnTo>
                  <a:lnTo>
                    <a:pt x="49" y="40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52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752560" y="3600360"/>
              <a:ext cx="785520" cy="365040"/>
            </a:xfrm>
            <a:custGeom>
              <a:avLst/>
              <a:gdLst/>
              <a:ahLst/>
              <a:rect l="l" t="t" r="r" b="b"/>
              <a:pathLst>
                <a:path w="1557" h="641">
                  <a:moveTo>
                    <a:pt x="0" y="439"/>
                  </a:moveTo>
                  <a:lnTo>
                    <a:pt x="164" y="424"/>
                  </a:lnTo>
                  <a:lnTo>
                    <a:pt x="1285" y="428"/>
                  </a:lnTo>
                  <a:lnTo>
                    <a:pt x="1319" y="458"/>
                  </a:lnTo>
                  <a:lnTo>
                    <a:pt x="1460" y="458"/>
                  </a:lnTo>
                  <a:lnTo>
                    <a:pt x="1538" y="397"/>
                  </a:lnTo>
                  <a:lnTo>
                    <a:pt x="1529" y="0"/>
                  </a:lnTo>
                  <a:lnTo>
                    <a:pt x="1553" y="82"/>
                  </a:lnTo>
                  <a:lnTo>
                    <a:pt x="1557" y="397"/>
                  </a:lnTo>
                  <a:lnTo>
                    <a:pt x="1487" y="473"/>
                  </a:lnTo>
                  <a:lnTo>
                    <a:pt x="1413" y="491"/>
                  </a:lnTo>
                  <a:lnTo>
                    <a:pt x="1323" y="555"/>
                  </a:lnTo>
                  <a:lnTo>
                    <a:pt x="1257" y="641"/>
                  </a:lnTo>
                  <a:lnTo>
                    <a:pt x="1278" y="517"/>
                  </a:lnTo>
                  <a:lnTo>
                    <a:pt x="1200" y="576"/>
                  </a:lnTo>
                  <a:lnTo>
                    <a:pt x="1253" y="510"/>
                  </a:lnTo>
                  <a:lnTo>
                    <a:pt x="1300" y="470"/>
                  </a:lnTo>
                  <a:lnTo>
                    <a:pt x="1270" y="462"/>
                  </a:lnTo>
                  <a:lnTo>
                    <a:pt x="1184" y="536"/>
                  </a:lnTo>
                  <a:lnTo>
                    <a:pt x="1107" y="529"/>
                  </a:lnTo>
                  <a:lnTo>
                    <a:pt x="1032" y="595"/>
                  </a:lnTo>
                  <a:lnTo>
                    <a:pt x="1084" y="458"/>
                  </a:lnTo>
                  <a:lnTo>
                    <a:pt x="1029" y="458"/>
                  </a:lnTo>
                  <a:lnTo>
                    <a:pt x="966" y="529"/>
                  </a:lnTo>
                  <a:lnTo>
                    <a:pt x="865" y="487"/>
                  </a:lnTo>
                  <a:lnTo>
                    <a:pt x="749" y="473"/>
                  </a:lnTo>
                  <a:lnTo>
                    <a:pt x="629" y="473"/>
                  </a:lnTo>
                  <a:lnTo>
                    <a:pt x="629" y="603"/>
                  </a:lnTo>
                  <a:lnTo>
                    <a:pt x="582" y="580"/>
                  </a:lnTo>
                  <a:lnTo>
                    <a:pt x="567" y="525"/>
                  </a:lnTo>
                  <a:lnTo>
                    <a:pt x="521" y="483"/>
                  </a:lnTo>
                  <a:lnTo>
                    <a:pt x="544" y="544"/>
                  </a:lnTo>
                  <a:lnTo>
                    <a:pt x="470" y="498"/>
                  </a:lnTo>
                  <a:lnTo>
                    <a:pt x="388" y="477"/>
                  </a:lnTo>
                  <a:lnTo>
                    <a:pt x="112" y="498"/>
                  </a:lnTo>
                  <a:lnTo>
                    <a:pt x="101" y="551"/>
                  </a:lnTo>
                  <a:lnTo>
                    <a:pt x="63" y="483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034080" y="3708720"/>
              <a:ext cx="320760" cy="122040"/>
            </a:xfrm>
            <a:custGeom>
              <a:avLst/>
              <a:gdLst/>
              <a:ahLst/>
              <a:rect l="l" t="t" r="r" b="b"/>
              <a:pathLst>
                <a:path w="637" h="215">
                  <a:moveTo>
                    <a:pt x="27" y="19"/>
                  </a:moveTo>
                  <a:lnTo>
                    <a:pt x="23" y="167"/>
                  </a:lnTo>
                  <a:lnTo>
                    <a:pt x="70" y="204"/>
                  </a:lnTo>
                  <a:lnTo>
                    <a:pt x="637" y="211"/>
                  </a:lnTo>
                  <a:lnTo>
                    <a:pt x="34" y="215"/>
                  </a:lnTo>
                  <a:lnTo>
                    <a:pt x="0" y="167"/>
                  </a:lnTo>
                  <a:lnTo>
                    <a:pt x="4" y="0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145320" y="3589920"/>
              <a:ext cx="153360" cy="7416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0" y="11"/>
                  </a:moveTo>
                  <a:lnTo>
                    <a:pt x="152" y="15"/>
                  </a:lnTo>
                  <a:lnTo>
                    <a:pt x="171" y="97"/>
                  </a:lnTo>
                  <a:lnTo>
                    <a:pt x="249" y="97"/>
                  </a:lnTo>
                  <a:lnTo>
                    <a:pt x="249" y="127"/>
                  </a:lnTo>
                  <a:lnTo>
                    <a:pt x="304" y="131"/>
                  </a:lnTo>
                  <a:lnTo>
                    <a:pt x="264" y="82"/>
                  </a:lnTo>
                  <a:lnTo>
                    <a:pt x="211" y="61"/>
                  </a:lnTo>
                  <a:lnTo>
                    <a:pt x="171" y="0"/>
                  </a:lnTo>
                  <a:lnTo>
                    <a:pt x="5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892960" y="3787200"/>
              <a:ext cx="51480" cy="1476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0"/>
                  </a:moveTo>
                  <a:lnTo>
                    <a:pt x="100" y="0"/>
                  </a:lnTo>
                  <a:lnTo>
                    <a:pt x="100" y="27"/>
                  </a:lnTo>
                  <a:lnTo>
                    <a:pt x="3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909880" y="3814560"/>
              <a:ext cx="34200" cy="1260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0"/>
                  </a:moveTo>
                  <a:lnTo>
                    <a:pt x="66" y="4"/>
                  </a:lnTo>
                  <a:lnTo>
                    <a:pt x="47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946240" y="3713400"/>
              <a:ext cx="34920" cy="99000"/>
            </a:xfrm>
            <a:custGeom>
              <a:avLst/>
              <a:gdLst/>
              <a:ahLst/>
              <a:rect l="l" t="t" r="r" b="b"/>
              <a:pathLst>
                <a:path w="70" h="175">
                  <a:moveTo>
                    <a:pt x="0" y="89"/>
                  </a:moveTo>
                  <a:lnTo>
                    <a:pt x="44" y="0"/>
                  </a:lnTo>
                  <a:lnTo>
                    <a:pt x="70" y="40"/>
                  </a:lnTo>
                  <a:lnTo>
                    <a:pt x="59" y="167"/>
                  </a:lnTo>
                  <a:lnTo>
                    <a:pt x="34" y="175"/>
                  </a:lnTo>
                  <a:lnTo>
                    <a:pt x="34" y="10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757600" y="3585600"/>
              <a:ext cx="86760" cy="85320"/>
            </a:xfrm>
            <a:custGeom>
              <a:avLst/>
              <a:gdLst/>
              <a:ahLst/>
              <a:rect l="l" t="t" r="r" b="b"/>
              <a:pathLst>
                <a:path w="172" h="151">
                  <a:moveTo>
                    <a:pt x="172" y="0"/>
                  </a:moveTo>
                  <a:lnTo>
                    <a:pt x="113" y="46"/>
                  </a:lnTo>
                  <a:lnTo>
                    <a:pt x="48" y="57"/>
                  </a:lnTo>
                  <a:lnTo>
                    <a:pt x="8" y="105"/>
                  </a:lnTo>
                  <a:lnTo>
                    <a:pt x="0" y="151"/>
                  </a:lnTo>
                  <a:lnTo>
                    <a:pt x="59" y="73"/>
                  </a:lnTo>
                  <a:lnTo>
                    <a:pt x="124" y="73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711880" y="3483720"/>
              <a:ext cx="139320" cy="103680"/>
            </a:xfrm>
            <a:custGeom>
              <a:avLst/>
              <a:gdLst/>
              <a:ahLst/>
              <a:rect l="l" t="t" r="r" b="b"/>
              <a:pathLst>
                <a:path w="278" h="180">
                  <a:moveTo>
                    <a:pt x="257" y="144"/>
                  </a:moveTo>
                  <a:lnTo>
                    <a:pt x="257" y="60"/>
                  </a:lnTo>
                  <a:lnTo>
                    <a:pt x="209" y="21"/>
                  </a:lnTo>
                  <a:lnTo>
                    <a:pt x="34" y="21"/>
                  </a:lnTo>
                  <a:lnTo>
                    <a:pt x="90" y="49"/>
                  </a:lnTo>
                  <a:lnTo>
                    <a:pt x="97" y="68"/>
                  </a:lnTo>
                  <a:lnTo>
                    <a:pt x="97" y="148"/>
                  </a:lnTo>
                  <a:lnTo>
                    <a:pt x="71" y="180"/>
                  </a:lnTo>
                  <a:lnTo>
                    <a:pt x="71" y="60"/>
                  </a:lnTo>
                  <a:lnTo>
                    <a:pt x="0" y="17"/>
                  </a:lnTo>
                  <a:lnTo>
                    <a:pt x="25" y="0"/>
                  </a:lnTo>
                  <a:lnTo>
                    <a:pt x="200" y="0"/>
                  </a:lnTo>
                  <a:lnTo>
                    <a:pt x="251" y="26"/>
                  </a:lnTo>
                  <a:lnTo>
                    <a:pt x="278" y="68"/>
                  </a:lnTo>
                  <a:lnTo>
                    <a:pt x="278" y="144"/>
                  </a:lnTo>
                  <a:lnTo>
                    <a:pt x="253" y="178"/>
                  </a:lnTo>
                  <a:lnTo>
                    <a:pt x="257" y="144"/>
                  </a:lnTo>
                  <a:lnTo>
                    <a:pt x="25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833200" y="3496320"/>
              <a:ext cx="49320" cy="79920"/>
            </a:xfrm>
            <a:custGeom>
              <a:avLst/>
              <a:gdLst/>
              <a:ahLst/>
              <a:rect l="l" t="t" r="r" b="b"/>
              <a:pathLst>
                <a:path w="97" h="140">
                  <a:moveTo>
                    <a:pt x="0" y="0"/>
                  </a:moveTo>
                  <a:lnTo>
                    <a:pt x="60" y="3"/>
                  </a:lnTo>
                  <a:lnTo>
                    <a:pt x="95" y="36"/>
                  </a:lnTo>
                  <a:lnTo>
                    <a:pt x="97" y="106"/>
                  </a:lnTo>
                  <a:lnTo>
                    <a:pt x="24" y="140"/>
                  </a:lnTo>
                  <a:lnTo>
                    <a:pt x="26" y="110"/>
                  </a:lnTo>
                  <a:lnTo>
                    <a:pt x="79" y="89"/>
                  </a:lnTo>
                  <a:lnTo>
                    <a:pt x="79" y="43"/>
                  </a:lnTo>
                  <a:lnTo>
                    <a:pt x="51" y="17"/>
                  </a:lnTo>
                  <a:lnTo>
                    <a:pt x="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639160" y="3446280"/>
              <a:ext cx="39240" cy="5220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0" y="57"/>
                  </a:moveTo>
                  <a:lnTo>
                    <a:pt x="13" y="67"/>
                  </a:lnTo>
                  <a:lnTo>
                    <a:pt x="41" y="67"/>
                  </a:lnTo>
                  <a:lnTo>
                    <a:pt x="59" y="55"/>
                  </a:lnTo>
                  <a:lnTo>
                    <a:pt x="60" y="23"/>
                  </a:lnTo>
                  <a:lnTo>
                    <a:pt x="45" y="0"/>
                  </a:lnTo>
                  <a:lnTo>
                    <a:pt x="74" y="15"/>
                  </a:lnTo>
                  <a:lnTo>
                    <a:pt x="78" y="36"/>
                  </a:lnTo>
                  <a:lnTo>
                    <a:pt x="78" y="61"/>
                  </a:lnTo>
                  <a:lnTo>
                    <a:pt x="59" y="91"/>
                  </a:lnTo>
                  <a:lnTo>
                    <a:pt x="9" y="91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672640" y="3483720"/>
              <a:ext cx="58320" cy="20520"/>
            </a:xfrm>
            <a:custGeom>
              <a:avLst/>
              <a:gdLst/>
              <a:ahLst/>
              <a:rect l="l" t="t" r="r" b="b"/>
              <a:pathLst>
                <a:path w="116" h="36">
                  <a:moveTo>
                    <a:pt x="10" y="0"/>
                  </a:moveTo>
                  <a:lnTo>
                    <a:pt x="53" y="0"/>
                  </a:lnTo>
                  <a:lnTo>
                    <a:pt x="99" y="15"/>
                  </a:lnTo>
                  <a:lnTo>
                    <a:pt x="116" y="36"/>
                  </a:lnTo>
                  <a:lnTo>
                    <a:pt x="55" y="19"/>
                  </a:lnTo>
                  <a:lnTo>
                    <a:pt x="0" y="1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068560" y="3328560"/>
              <a:ext cx="335160" cy="577080"/>
            </a:xfrm>
            <a:custGeom>
              <a:avLst/>
              <a:gdLst/>
              <a:ahLst/>
              <a:rect l="l" t="t" r="r" b="b"/>
              <a:pathLst>
                <a:path w="666" h="1011">
                  <a:moveTo>
                    <a:pt x="588" y="15"/>
                  </a:moveTo>
                  <a:lnTo>
                    <a:pt x="632" y="19"/>
                  </a:lnTo>
                  <a:lnTo>
                    <a:pt x="651" y="61"/>
                  </a:lnTo>
                  <a:lnTo>
                    <a:pt x="390" y="483"/>
                  </a:lnTo>
                  <a:lnTo>
                    <a:pt x="392" y="524"/>
                  </a:lnTo>
                  <a:lnTo>
                    <a:pt x="363" y="532"/>
                  </a:lnTo>
                  <a:lnTo>
                    <a:pt x="352" y="559"/>
                  </a:lnTo>
                  <a:lnTo>
                    <a:pt x="337" y="561"/>
                  </a:lnTo>
                  <a:lnTo>
                    <a:pt x="133" y="888"/>
                  </a:lnTo>
                  <a:lnTo>
                    <a:pt x="88" y="888"/>
                  </a:lnTo>
                  <a:lnTo>
                    <a:pt x="120" y="922"/>
                  </a:lnTo>
                  <a:lnTo>
                    <a:pt x="88" y="960"/>
                  </a:lnTo>
                  <a:lnTo>
                    <a:pt x="55" y="937"/>
                  </a:lnTo>
                  <a:lnTo>
                    <a:pt x="0" y="937"/>
                  </a:lnTo>
                  <a:lnTo>
                    <a:pt x="4" y="954"/>
                  </a:lnTo>
                  <a:lnTo>
                    <a:pt x="21" y="971"/>
                  </a:lnTo>
                  <a:lnTo>
                    <a:pt x="44" y="966"/>
                  </a:lnTo>
                  <a:lnTo>
                    <a:pt x="71" y="979"/>
                  </a:lnTo>
                  <a:lnTo>
                    <a:pt x="71" y="1011"/>
                  </a:lnTo>
                  <a:lnTo>
                    <a:pt x="111" y="1011"/>
                  </a:lnTo>
                  <a:lnTo>
                    <a:pt x="149" y="956"/>
                  </a:lnTo>
                  <a:lnTo>
                    <a:pt x="149" y="937"/>
                  </a:lnTo>
                  <a:lnTo>
                    <a:pt x="190" y="912"/>
                  </a:lnTo>
                  <a:lnTo>
                    <a:pt x="363" y="608"/>
                  </a:lnTo>
                  <a:lnTo>
                    <a:pt x="356" y="580"/>
                  </a:lnTo>
                  <a:lnTo>
                    <a:pt x="392" y="564"/>
                  </a:lnTo>
                  <a:lnTo>
                    <a:pt x="402" y="536"/>
                  </a:lnTo>
                  <a:lnTo>
                    <a:pt x="428" y="494"/>
                  </a:lnTo>
                  <a:lnTo>
                    <a:pt x="662" y="97"/>
                  </a:lnTo>
                  <a:lnTo>
                    <a:pt x="666" y="55"/>
                  </a:lnTo>
                  <a:lnTo>
                    <a:pt x="649" y="11"/>
                  </a:lnTo>
                  <a:lnTo>
                    <a:pt x="616" y="0"/>
                  </a:lnTo>
                  <a:lnTo>
                    <a:pt x="599" y="0"/>
                  </a:lnTo>
                  <a:lnTo>
                    <a:pt x="588" y="15"/>
                  </a:lnTo>
                  <a:lnTo>
                    <a:pt x="58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068560" y="3342600"/>
              <a:ext cx="288720" cy="522360"/>
            </a:xfrm>
            <a:custGeom>
              <a:avLst/>
              <a:gdLst/>
              <a:ahLst/>
              <a:rect l="l" t="t" r="r" b="b"/>
              <a:pathLst>
                <a:path w="573" h="916">
                  <a:moveTo>
                    <a:pt x="573" y="0"/>
                  </a:moveTo>
                  <a:lnTo>
                    <a:pt x="274" y="458"/>
                  </a:lnTo>
                  <a:lnTo>
                    <a:pt x="274" y="492"/>
                  </a:lnTo>
                  <a:lnTo>
                    <a:pt x="248" y="507"/>
                  </a:lnTo>
                  <a:lnTo>
                    <a:pt x="213" y="553"/>
                  </a:lnTo>
                  <a:lnTo>
                    <a:pt x="48" y="832"/>
                  </a:lnTo>
                  <a:lnTo>
                    <a:pt x="48" y="855"/>
                  </a:lnTo>
                  <a:lnTo>
                    <a:pt x="16" y="857"/>
                  </a:lnTo>
                  <a:lnTo>
                    <a:pt x="0" y="916"/>
                  </a:lnTo>
                  <a:lnTo>
                    <a:pt x="31" y="876"/>
                  </a:lnTo>
                  <a:lnTo>
                    <a:pt x="78" y="865"/>
                  </a:lnTo>
                  <a:lnTo>
                    <a:pt x="71" y="821"/>
                  </a:lnTo>
                  <a:lnTo>
                    <a:pt x="253" y="515"/>
                  </a:lnTo>
                  <a:lnTo>
                    <a:pt x="303" y="509"/>
                  </a:lnTo>
                  <a:lnTo>
                    <a:pt x="293" y="481"/>
                  </a:lnTo>
                  <a:lnTo>
                    <a:pt x="324" y="460"/>
                  </a:lnTo>
                  <a:lnTo>
                    <a:pt x="318" y="416"/>
                  </a:lnTo>
                  <a:lnTo>
                    <a:pt x="573" y="0"/>
                  </a:lnTo>
                  <a:lnTo>
                    <a:pt x="5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1962720" y="3458520"/>
              <a:ext cx="155520" cy="149400"/>
            </a:xfrm>
            <a:custGeom>
              <a:avLst/>
              <a:gdLst/>
              <a:ahLst/>
              <a:rect l="l" t="t" r="r" b="b"/>
              <a:pathLst>
                <a:path w="308" h="260">
                  <a:moveTo>
                    <a:pt x="0" y="87"/>
                  </a:moveTo>
                  <a:lnTo>
                    <a:pt x="27" y="34"/>
                  </a:lnTo>
                  <a:lnTo>
                    <a:pt x="71" y="0"/>
                  </a:lnTo>
                  <a:lnTo>
                    <a:pt x="251" y="0"/>
                  </a:lnTo>
                  <a:lnTo>
                    <a:pt x="303" y="63"/>
                  </a:lnTo>
                  <a:lnTo>
                    <a:pt x="308" y="160"/>
                  </a:lnTo>
                  <a:lnTo>
                    <a:pt x="251" y="260"/>
                  </a:lnTo>
                  <a:lnTo>
                    <a:pt x="71" y="260"/>
                  </a:lnTo>
                  <a:lnTo>
                    <a:pt x="33" y="215"/>
                  </a:lnTo>
                  <a:lnTo>
                    <a:pt x="27" y="154"/>
                  </a:lnTo>
                  <a:lnTo>
                    <a:pt x="55" y="222"/>
                  </a:lnTo>
                  <a:lnTo>
                    <a:pt x="97" y="228"/>
                  </a:lnTo>
                  <a:lnTo>
                    <a:pt x="128" y="222"/>
                  </a:lnTo>
                  <a:lnTo>
                    <a:pt x="164" y="194"/>
                  </a:lnTo>
                  <a:lnTo>
                    <a:pt x="264" y="194"/>
                  </a:lnTo>
                  <a:lnTo>
                    <a:pt x="291" y="150"/>
                  </a:lnTo>
                  <a:lnTo>
                    <a:pt x="291" y="78"/>
                  </a:lnTo>
                  <a:lnTo>
                    <a:pt x="242" y="11"/>
                  </a:lnTo>
                  <a:lnTo>
                    <a:pt x="110" y="13"/>
                  </a:lnTo>
                  <a:lnTo>
                    <a:pt x="137" y="66"/>
                  </a:lnTo>
                  <a:lnTo>
                    <a:pt x="143" y="148"/>
                  </a:lnTo>
                  <a:lnTo>
                    <a:pt x="122" y="209"/>
                  </a:lnTo>
                  <a:lnTo>
                    <a:pt x="59" y="173"/>
                  </a:lnTo>
                  <a:lnTo>
                    <a:pt x="86" y="165"/>
                  </a:lnTo>
                  <a:lnTo>
                    <a:pt x="86" y="110"/>
                  </a:lnTo>
                  <a:lnTo>
                    <a:pt x="105" y="167"/>
                  </a:lnTo>
                  <a:lnTo>
                    <a:pt x="128" y="160"/>
                  </a:lnTo>
                  <a:lnTo>
                    <a:pt x="135" y="101"/>
                  </a:lnTo>
                  <a:lnTo>
                    <a:pt x="110" y="40"/>
                  </a:lnTo>
                  <a:lnTo>
                    <a:pt x="97" y="38"/>
                  </a:lnTo>
                  <a:lnTo>
                    <a:pt x="53" y="84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332080" y="3483720"/>
              <a:ext cx="317880" cy="14760"/>
            </a:xfrm>
            <a:custGeom>
              <a:avLst/>
              <a:gdLst/>
              <a:ahLst/>
              <a:rect l="l" t="t" r="r" b="b"/>
              <a:pathLst>
                <a:path w="630" h="24">
                  <a:moveTo>
                    <a:pt x="630" y="17"/>
                  </a:moveTo>
                  <a:lnTo>
                    <a:pt x="0" y="24"/>
                  </a:lnTo>
                  <a:lnTo>
                    <a:pt x="15" y="5"/>
                  </a:lnTo>
                  <a:lnTo>
                    <a:pt x="610" y="0"/>
                  </a:lnTo>
                  <a:lnTo>
                    <a:pt x="630" y="17"/>
                  </a:lnTo>
                  <a:lnTo>
                    <a:pt x="6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102040" y="3487320"/>
              <a:ext cx="173520" cy="13320"/>
            </a:xfrm>
            <a:custGeom>
              <a:avLst/>
              <a:gdLst/>
              <a:ahLst/>
              <a:rect l="l" t="t" r="r" b="b"/>
              <a:pathLst>
                <a:path w="344" h="23">
                  <a:moveTo>
                    <a:pt x="335" y="19"/>
                  </a:moveTo>
                  <a:lnTo>
                    <a:pt x="21" y="23"/>
                  </a:lnTo>
                  <a:lnTo>
                    <a:pt x="0" y="2"/>
                  </a:lnTo>
                  <a:lnTo>
                    <a:pt x="344" y="0"/>
                  </a:lnTo>
                  <a:lnTo>
                    <a:pt x="335" y="19"/>
                  </a:lnTo>
                  <a:lnTo>
                    <a:pt x="33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708200" y="3465720"/>
              <a:ext cx="267480" cy="666360"/>
            </a:xfrm>
            <a:custGeom>
              <a:avLst/>
              <a:gdLst/>
              <a:ahLst/>
              <a:rect l="l" t="t" r="r" b="b"/>
              <a:pathLst>
                <a:path w="531" h="1168">
                  <a:moveTo>
                    <a:pt x="531" y="67"/>
                  </a:moveTo>
                  <a:lnTo>
                    <a:pt x="202" y="69"/>
                  </a:lnTo>
                  <a:lnTo>
                    <a:pt x="88" y="95"/>
                  </a:lnTo>
                  <a:lnTo>
                    <a:pt x="31" y="154"/>
                  </a:lnTo>
                  <a:lnTo>
                    <a:pt x="18" y="221"/>
                  </a:lnTo>
                  <a:lnTo>
                    <a:pt x="56" y="1168"/>
                  </a:lnTo>
                  <a:lnTo>
                    <a:pt x="35" y="1162"/>
                  </a:lnTo>
                  <a:lnTo>
                    <a:pt x="0" y="211"/>
                  </a:lnTo>
                  <a:lnTo>
                    <a:pt x="14" y="139"/>
                  </a:lnTo>
                  <a:lnTo>
                    <a:pt x="69" y="90"/>
                  </a:lnTo>
                  <a:lnTo>
                    <a:pt x="101" y="73"/>
                  </a:lnTo>
                  <a:lnTo>
                    <a:pt x="57" y="27"/>
                  </a:lnTo>
                  <a:lnTo>
                    <a:pt x="29" y="44"/>
                  </a:lnTo>
                  <a:lnTo>
                    <a:pt x="56" y="78"/>
                  </a:lnTo>
                  <a:lnTo>
                    <a:pt x="19" y="69"/>
                  </a:lnTo>
                  <a:lnTo>
                    <a:pt x="8" y="105"/>
                  </a:lnTo>
                  <a:lnTo>
                    <a:pt x="8" y="46"/>
                  </a:lnTo>
                  <a:lnTo>
                    <a:pt x="35" y="2"/>
                  </a:lnTo>
                  <a:lnTo>
                    <a:pt x="84" y="14"/>
                  </a:lnTo>
                  <a:lnTo>
                    <a:pt x="118" y="50"/>
                  </a:lnTo>
                  <a:lnTo>
                    <a:pt x="156" y="55"/>
                  </a:lnTo>
                  <a:lnTo>
                    <a:pt x="215" y="46"/>
                  </a:lnTo>
                  <a:lnTo>
                    <a:pt x="177" y="12"/>
                  </a:lnTo>
                  <a:lnTo>
                    <a:pt x="111" y="0"/>
                  </a:lnTo>
                  <a:lnTo>
                    <a:pt x="189" y="0"/>
                  </a:lnTo>
                  <a:lnTo>
                    <a:pt x="215" y="17"/>
                  </a:lnTo>
                  <a:lnTo>
                    <a:pt x="238" y="46"/>
                  </a:lnTo>
                  <a:lnTo>
                    <a:pt x="529" y="44"/>
                  </a:lnTo>
                  <a:lnTo>
                    <a:pt x="531" y="67"/>
                  </a:lnTo>
                  <a:lnTo>
                    <a:pt x="53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1942560" y="3360600"/>
              <a:ext cx="129960" cy="133200"/>
            </a:xfrm>
            <a:custGeom>
              <a:avLst/>
              <a:gdLst/>
              <a:ahLst/>
              <a:rect l="l" t="t" r="r" b="b"/>
              <a:pathLst>
                <a:path w="259" h="234">
                  <a:moveTo>
                    <a:pt x="156" y="175"/>
                  </a:moveTo>
                  <a:lnTo>
                    <a:pt x="244" y="59"/>
                  </a:lnTo>
                  <a:lnTo>
                    <a:pt x="236" y="30"/>
                  </a:lnTo>
                  <a:lnTo>
                    <a:pt x="189" y="15"/>
                  </a:lnTo>
                  <a:lnTo>
                    <a:pt x="23" y="234"/>
                  </a:lnTo>
                  <a:lnTo>
                    <a:pt x="0" y="234"/>
                  </a:lnTo>
                  <a:lnTo>
                    <a:pt x="187" y="0"/>
                  </a:lnTo>
                  <a:lnTo>
                    <a:pt x="242" y="15"/>
                  </a:lnTo>
                  <a:lnTo>
                    <a:pt x="259" y="44"/>
                  </a:lnTo>
                  <a:lnTo>
                    <a:pt x="255" y="80"/>
                  </a:lnTo>
                  <a:lnTo>
                    <a:pt x="198" y="175"/>
                  </a:lnTo>
                  <a:lnTo>
                    <a:pt x="156" y="175"/>
                  </a:lnTo>
                  <a:lnTo>
                    <a:pt x="156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973880" y="3600360"/>
              <a:ext cx="75600" cy="69480"/>
            </a:xfrm>
            <a:custGeom>
              <a:avLst/>
              <a:gdLst/>
              <a:ahLst/>
              <a:rect l="l" t="t" r="r" b="b"/>
              <a:pathLst>
                <a:path w="150" h="122">
                  <a:moveTo>
                    <a:pt x="0" y="42"/>
                  </a:moveTo>
                  <a:lnTo>
                    <a:pt x="78" y="42"/>
                  </a:lnTo>
                  <a:lnTo>
                    <a:pt x="89" y="0"/>
                  </a:lnTo>
                  <a:lnTo>
                    <a:pt x="150" y="0"/>
                  </a:lnTo>
                  <a:lnTo>
                    <a:pt x="114" y="57"/>
                  </a:lnTo>
                  <a:lnTo>
                    <a:pt x="78" y="67"/>
                  </a:lnTo>
                  <a:lnTo>
                    <a:pt x="40" y="67"/>
                  </a:lnTo>
                  <a:lnTo>
                    <a:pt x="44" y="122"/>
                  </a:lnTo>
                  <a:lnTo>
                    <a:pt x="6" y="78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075760" y="3607200"/>
              <a:ext cx="48240" cy="166320"/>
            </a:xfrm>
            <a:custGeom>
              <a:avLst/>
              <a:gdLst/>
              <a:ahLst/>
              <a:rect l="l" t="t" r="r" b="b"/>
              <a:pathLst>
                <a:path w="95" h="293">
                  <a:moveTo>
                    <a:pt x="49" y="0"/>
                  </a:moveTo>
                  <a:lnTo>
                    <a:pt x="95" y="52"/>
                  </a:lnTo>
                  <a:lnTo>
                    <a:pt x="95" y="272"/>
                  </a:lnTo>
                  <a:lnTo>
                    <a:pt x="81" y="293"/>
                  </a:lnTo>
                  <a:lnTo>
                    <a:pt x="81" y="107"/>
                  </a:lnTo>
                  <a:lnTo>
                    <a:pt x="0" y="38"/>
                  </a:lnTo>
                  <a:lnTo>
                    <a:pt x="66" y="4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105280" y="3575160"/>
              <a:ext cx="49320" cy="22680"/>
            </a:xfrm>
            <a:custGeom>
              <a:avLst/>
              <a:gdLst/>
              <a:ahLst/>
              <a:rect l="l" t="t" r="r" b="b"/>
              <a:pathLst>
                <a:path w="98" h="40">
                  <a:moveTo>
                    <a:pt x="15" y="36"/>
                  </a:moveTo>
                  <a:lnTo>
                    <a:pt x="59" y="36"/>
                  </a:lnTo>
                  <a:lnTo>
                    <a:pt x="98" y="0"/>
                  </a:lnTo>
                  <a:lnTo>
                    <a:pt x="32" y="0"/>
                  </a:lnTo>
                  <a:lnTo>
                    <a:pt x="0" y="40"/>
                  </a:lnTo>
                  <a:lnTo>
                    <a:pt x="15" y="36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045520" y="3740760"/>
              <a:ext cx="69480" cy="5796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0" y="0"/>
                  </a:moveTo>
                  <a:lnTo>
                    <a:pt x="45" y="103"/>
                  </a:lnTo>
                  <a:lnTo>
                    <a:pt x="116" y="103"/>
                  </a:lnTo>
                  <a:lnTo>
                    <a:pt x="139" y="74"/>
                  </a:lnTo>
                  <a:lnTo>
                    <a:pt x="55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160720" y="3582000"/>
              <a:ext cx="49320" cy="95400"/>
            </a:xfrm>
            <a:custGeom>
              <a:avLst/>
              <a:gdLst/>
              <a:ahLst/>
              <a:rect l="l" t="t" r="r" b="b"/>
              <a:pathLst>
                <a:path w="99" h="167">
                  <a:moveTo>
                    <a:pt x="99" y="0"/>
                  </a:moveTo>
                  <a:lnTo>
                    <a:pt x="68" y="49"/>
                  </a:lnTo>
                  <a:lnTo>
                    <a:pt x="55" y="104"/>
                  </a:lnTo>
                  <a:lnTo>
                    <a:pt x="15" y="167"/>
                  </a:lnTo>
                  <a:lnTo>
                    <a:pt x="19" y="81"/>
                  </a:lnTo>
                  <a:lnTo>
                    <a:pt x="0" y="17"/>
                  </a:lnTo>
                  <a:lnTo>
                    <a:pt x="26" y="43"/>
                  </a:lnTo>
                  <a:lnTo>
                    <a:pt x="63" y="2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192040" y="3577320"/>
              <a:ext cx="546120" cy="225720"/>
            </a:xfrm>
            <a:custGeom>
              <a:avLst/>
              <a:gdLst/>
              <a:ahLst/>
              <a:rect l="l" t="t" r="r" b="b"/>
              <a:pathLst>
                <a:path w="1081" h="396">
                  <a:moveTo>
                    <a:pt x="0" y="388"/>
                  </a:moveTo>
                  <a:lnTo>
                    <a:pt x="70" y="314"/>
                  </a:lnTo>
                  <a:lnTo>
                    <a:pt x="152" y="268"/>
                  </a:lnTo>
                  <a:lnTo>
                    <a:pt x="156" y="215"/>
                  </a:lnTo>
                  <a:lnTo>
                    <a:pt x="182" y="213"/>
                  </a:lnTo>
                  <a:lnTo>
                    <a:pt x="176" y="162"/>
                  </a:lnTo>
                  <a:lnTo>
                    <a:pt x="218" y="160"/>
                  </a:lnTo>
                  <a:lnTo>
                    <a:pt x="205" y="129"/>
                  </a:lnTo>
                  <a:lnTo>
                    <a:pt x="218" y="112"/>
                  </a:lnTo>
                  <a:lnTo>
                    <a:pt x="214" y="80"/>
                  </a:lnTo>
                  <a:lnTo>
                    <a:pt x="199" y="51"/>
                  </a:lnTo>
                  <a:lnTo>
                    <a:pt x="224" y="51"/>
                  </a:lnTo>
                  <a:lnTo>
                    <a:pt x="233" y="76"/>
                  </a:lnTo>
                  <a:lnTo>
                    <a:pt x="266" y="70"/>
                  </a:lnTo>
                  <a:lnTo>
                    <a:pt x="237" y="46"/>
                  </a:lnTo>
                  <a:lnTo>
                    <a:pt x="268" y="6"/>
                  </a:lnTo>
                  <a:lnTo>
                    <a:pt x="992" y="6"/>
                  </a:lnTo>
                  <a:lnTo>
                    <a:pt x="1047" y="0"/>
                  </a:lnTo>
                  <a:lnTo>
                    <a:pt x="1076" y="44"/>
                  </a:lnTo>
                  <a:lnTo>
                    <a:pt x="1081" y="91"/>
                  </a:lnTo>
                  <a:lnTo>
                    <a:pt x="1059" y="40"/>
                  </a:lnTo>
                  <a:lnTo>
                    <a:pt x="1036" y="53"/>
                  </a:lnTo>
                  <a:lnTo>
                    <a:pt x="1028" y="88"/>
                  </a:lnTo>
                  <a:lnTo>
                    <a:pt x="971" y="88"/>
                  </a:lnTo>
                  <a:lnTo>
                    <a:pt x="901" y="156"/>
                  </a:lnTo>
                  <a:lnTo>
                    <a:pt x="965" y="65"/>
                  </a:lnTo>
                  <a:lnTo>
                    <a:pt x="905" y="57"/>
                  </a:lnTo>
                  <a:lnTo>
                    <a:pt x="861" y="147"/>
                  </a:lnTo>
                  <a:lnTo>
                    <a:pt x="811" y="207"/>
                  </a:lnTo>
                  <a:lnTo>
                    <a:pt x="815" y="158"/>
                  </a:lnTo>
                  <a:lnTo>
                    <a:pt x="785" y="139"/>
                  </a:lnTo>
                  <a:lnTo>
                    <a:pt x="751" y="198"/>
                  </a:lnTo>
                  <a:lnTo>
                    <a:pt x="709" y="234"/>
                  </a:lnTo>
                  <a:lnTo>
                    <a:pt x="749" y="162"/>
                  </a:lnTo>
                  <a:lnTo>
                    <a:pt x="751" y="107"/>
                  </a:lnTo>
                  <a:lnTo>
                    <a:pt x="733" y="55"/>
                  </a:lnTo>
                  <a:lnTo>
                    <a:pt x="718" y="42"/>
                  </a:lnTo>
                  <a:lnTo>
                    <a:pt x="424" y="44"/>
                  </a:lnTo>
                  <a:lnTo>
                    <a:pt x="473" y="108"/>
                  </a:lnTo>
                  <a:lnTo>
                    <a:pt x="424" y="95"/>
                  </a:lnTo>
                  <a:lnTo>
                    <a:pt x="412" y="226"/>
                  </a:lnTo>
                  <a:lnTo>
                    <a:pt x="443" y="207"/>
                  </a:lnTo>
                  <a:lnTo>
                    <a:pt x="477" y="141"/>
                  </a:lnTo>
                  <a:lnTo>
                    <a:pt x="481" y="194"/>
                  </a:lnTo>
                  <a:lnTo>
                    <a:pt x="473" y="219"/>
                  </a:lnTo>
                  <a:lnTo>
                    <a:pt x="707" y="204"/>
                  </a:lnTo>
                  <a:lnTo>
                    <a:pt x="688" y="247"/>
                  </a:lnTo>
                  <a:lnTo>
                    <a:pt x="443" y="262"/>
                  </a:lnTo>
                  <a:lnTo>
                    <a:pt x="464" y="280"/>
                  </a:lnTo>
                  <a:lnTo>
                    <a:pt x="665" y="266"/>
                  </a:lnTo>
                  <a:lnTo>
                    <a:pt x="614" y="331"/>
                  </a:lnTo>
                  <a:lnTo>
                    <a:pt x="581" y="396"/>
                  </a:lnTo>
                  <a:lnTo>
                    <a:pt x="578" y="365"/>
                  </a:lnTo>
                  <a:lnTo>
                    <a:pt x="332" y="367"/>
                  </a:lnTo>
                  <a:lnTo>
                    <a:pt x="273" y="327"/>
                  </a:lnTo>
                  <a:lnTo>
                    <a:pt x="315" y="304"/>
                  </a:lnTo>
                  <a:lnTo>
                    <a:pt x="289" y="281"/>
                  </a:lnTo>
                  <a:lnTo>
                    <a:pt x="329" y="281"/>
                  </a:lnTo>
                  <a:lnTo>
                    <a:pt x="329" y="251"/>
                  </a:lnTo>
                  <a:lnTo>
                    <a:pt x="296" y="245"/>
                  </a:lnTo>
                  <a:lnTo>
                    <a:pt x="271" y="266"/>
                  </a:lnTo>
                  <a:lnTo>
                    <a:pt x="182" y="289"/>
                  </a:lnTo>
                  <a:lnTo>
                    <a:pt x="87" y="320"/>
                  </a:lnTo>
                  <a:lnTo>
                    <a:pt x="0" y="388"/>
                  </a:lnTo>
                  <a:lnTo>
                    <a:pt x="0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215080" y="3609360"/>
              <a:ext cx="73440" cy="13572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147" y="0"/>
                  </a:moveTo>
                  <a:lnTo>
                    <a:pt x="141" y="61"/>
                  </a:lnTo>
                  <a:lnTo>
                    <a:pt x="118" y="71"/>
                  </a:lnTo>
                  <a:lnTo>
                    <a:pt x="126" y="101"/>
                  </a:lnTo>
                  <a:lnTo>
                    <a:pt x="101" y="122"/>
                  </a:lnTo>
                  <a:lnTo>
                    <a:pt x="101" y="162"/>
                  </a:lnTo>
                  <a:lnTo>
                    <a:pt x="74" y="156"/>
                  </a:lnTo>
                  <a:lnTo>
                    <a:pt x="59" y="173"/>
                  </a:lnTo>
                  <a:lnTo>
                    <a:pt x="59" y="215"/>
                  </a:lnTo>
                  <a:lnTo>
                    <a:pt x="25" y="217"/>
                  </a:lnTo>
                  <a:lnTo>
                    <a:pt x="25" y="240"/>
                  </a:lnTo>
                  <a:lnTo>
                    <a:pt x="0" y="240"/>
                  </a:lnTo>
                  <a:lnTo>
                    <a:pt x="19" y="194"/>
                  </a:lnTo>
                  <a:lnTo>
                    <a:pt x="44" y="192"/>
                  </a:lnTo>
                  <a:lnTo>
                    <a:pt x="53" y="154"/>
                  </a:lnTo>
                  <a:lnTo>
                    <a:pt x="84" y="131"/>
                  </a:lnTo>
                  <a:lnTo>
                    <a:pt x="86" y="101"/>
                  </a:lnTo>
                  <a:lnTo>
                    <a:pt x="107" y="93"/>
                  </a:lnTo>
                  <a:lnTo>
                    <a:pt x="107" y="65"/>
                  </a:lnTo>
                  <a:lnTo>
                    <a:pt x="128" y="42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493000" y="3677760"/>
              <a:ext cx="146160" cy="176400"/>
            </a:xfrm>
            <a:custGeom>
              <a:avLst/>
              <a:gdLst/>
              <a:ahLst/>
              <a:rect l="l" t="t" r="r" b="b"/>
              <a:pathLst>
                <a:path w="291" h="310">
                  <a:moveTo>
                    <a:pt x="209" y="34"/>
                  </a:moveTo>
                  <a:lnTo>
                    <a:pt x="173" y="34"/>
                  </a:lnTo>
                  <a:lnTo>
                    <a:pt x="108" y="106"/>
                  </a:lnTo>
                  <a:lnTo>
                    <a:pt x="32" y="207"/>
                  </a:lnTo>
                  <a:lnTo>
                    <a:pt x="0" y="310"/>
                  </a:lnTo>
                  <a:lnTo>
                    <a:pt x="32" y="281"/>
                  </a:lnTo>
                  <a:lnTo>
                    <a:pt x="62" y="295"/>
                  </a:lnTo>
                  <a:lnTo>
                    <a:pt x="99" y="296"/>
                  </a:lnTo>
                  <a:lnTo>
                    <a:pt x="123" y="220"/>
                  </a:lnTo>
                  <a:lnTo>
                    <a:pt x="59" y="255"/>
                  </a:lnTo>
                  <a:lnTo>
                    <a:pt x="59" y="194"/>
                  </a:lnTo>
                  <a:lnTo>
                    <a:pt x="114" y="122"/>
                  </a:lnTo>
                  <a:lnTo>
                    <a:pt x="146" y="103"/>
                  </a:lnTo>
                  <a:lnTo>
                    <a:pt x="146" y="158"/>
                  </a:lnTo>
                  <a:lnTo>
                    <a:pt x="178" y="143"/>
                  </a:lnTo>
                  <a:lnTo>
                    <a:pt x="194" y="146"/>
                  </a:lnTo>
                  <a:lnTo>
                    <a:pt x="156" y="190"/>
                  </a:lnTo>
                  <a:lnTo>
                    <a:pt x="205" y="160"/>
                  </a:lnTo>
                  <a:lnTo>
                    <a:pt x="272" y="152"/>
                  </a:lnTo>
                  <a:lnTo>
                    <a:pt x="232" y="127"/>
                  </a:lnTo>
                  <a:lnTo>
                    <a:pt x="273" y="82"/>
                  </a:lnTo>
                  <a:lnTo>
                    <a:pt x="291" y="0"/>
                  </a:lnTo>
                  <a:lnTo>
                    <a:pt x="234" y="87"/>
                  </a:lnTo>
                  <a:lnTo>
                    <a:pt x="241" y="30"/>
                  </a:lnTo>
                  <a:lnTo>
                    <a:pt x="186" y="101"/>
                  </a:lnTo>
                  <a:lnTo>
                    <a:pt x="194" y="59"/>
                  </a:lnTo>
                  <a:lnTo>
                    <a:pt x="209" y="34"/>
                  </a:lnTo>
                  <a:lnTo>
                    <a:pt x="2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344320" y="3838680"/>
              <a:ext cx="405000" cy="119520"/>
            </a:xfrm>
            <a:custGeom>
              <a:avLst/>
              <a:gdLst/>
              <a:ahLst/>
              <a:rect l="l" t="t" r="r" b="b"/>
              <a:pathLst>
                <a:path w="802" h="209">
                  <a:moveTo>
                    <a:pt x="13" y="65"/>
                  </a:moveTo>
                  <a:lnTo>
                    <a:pt x="780" y="17"/>
                  </a:lnTo>
                  <a:lnTo>
                    <a:pt x="802" y="0"/>
                  </a:lnTo>
                  <a:lnTo>
                    <a:pt x="768" y="209"/>
                  </a:lnTo>
                  <a:lnTo>
                    <a:pt x="768" y="42"/>
                  </a:lnTo>
                  <a:lnTo>
                    <a:pt x="211" y="67"/>
                  </a:lnTo>
                  <a:lnTo>
                    <a:pt x="40" y="105"/>
                  </a:lnTo>
                  <a:lnTo>
                    <a:pt x="10" y="194"/>
                  </a:lnTo>
                  <a:lnTo>
                    <a:pt x="0" y="78"/>
                  </a:lnTo>
                  <a:lnTo>
                    <a:pt x="13" y="65"/>
                  </a:lnTo>
                  <a:lnTo>
                    <a:pt x="1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338560" y="3643560"/>
              <a:ext cx="399600" cy="215280"/>
            </a:xfrm>
            <a:custGeom>
              <a:avLst/>
              <a:gdLst/>
              <a:ahLst/>
              <a:rect l="l" t="t" r="r" b="b"/>
              <a:pathLst>
                <a:path w="792" h="378">
                  <a:moveTo>
                    <a:pt x="0" y="378"/>
                  </a:moveTo>
                  <a:lnTo>
                    <a:pt x="785" y="342"/>
                  </a:lnTo>
                  <a:lnTo>
                    <a:pt x="631" y="333"/>
                  </a:lnTo>
                  <a:lnTo>
                    <a:pt x="638" y="287"/>
                  </a:lnTo>
                  <a:lnTo>
                    <a:pt x="623" y="223"/>
                  </a:lnTo>
                  <a:lnTo>
                    <a:pt x="579" y="272"/>
                  </a:lnTo>
                  <a:lnTo>
                    <a:pt x="618" y="183"/>
                  </a:lnTo>
                  <a:lnTo>
                    <a:pt x="667" y="124"/>
                  </a:lnTo>
                  <a:lnTo>
                    <a:pt x="741" y="112"/>
                  </a:lnTo>
                  <a:lnTo>
                    <a:pt x="766" y="240"/>
                  </a:lnTo>
                  <a:lnTo>
                    <a:pt x="766" y="291"/>
                  </a:lnTo>
                  <a:lnTo>
                    <a:pt x="791" y="245"/>
                  </a:lnTo>
                  <a:lnTo>
                    <a:pt x="792" y="0"/>
                  </a:lnTo>
                  <a:lnTo>
                    <a:pt x="762" y="38"/>
                  </a:lnTo>
                  <a:lnTo>
                    <a:pt x="741" y="91"/>
                  </a:lnTo>
                  <a:lnTo>
                    <a:pt x="667" y="101"/>
                  </a:lnTo>
                  <a:lnTo>
                    <a:pt x="610" y="164"/>
                  </a:lnTo>
                  <a:lnTo>
                    <a:pt x="589" y="202"/>
                  </a:lnTo>
                  <a:lnTo>
                    <a:pt x="581" y="112"/>
                  </a:lnTo>
                  <a:lnTo>
                    <a:pt x="570" y="162"/>
                  </a:lnTo>
                  <a:lnTo>
                    <a:pt x="576" y="213"/>
                  </a:lnTo>
                  <a:lnTo>
                    <a:pt x="502" y="272"/>
                  </a:lnTo>
                  <a:lnTo>
                    <a:pt x="484" y="338"/>
                  </a:lnTo>
                  <a:lnTo>
                    <a:pt x="275" y="350"/>
                  </a:lnTo>
                  <a:lnTo>
                    <a:pt x="283" y="291"/>
                  </a:lnTo>
                  <a:lnTo>
                    <a:pt x="241" y="329"/>
                  </a:lnTo>
                  <a:lnTo>
                    <a:pt x="209" y="308"/>
                  </a:lnTo>
                  <a:lnTo>
                    <a:pt x="129" y="319"/>
                  </a:lnTo>
                  <a:lnTo>
                    <a:pt x="51" y="319"/>
                  </a:lnTo>
                  <a:lnTo>
                    <a:pt x="127" y="357"/>
                  </a:lnTo>
                  <a:lnTo>
                    <a:pt x="19" y="369"/>
                  </a:lnTo>
                  <a:lnTo>
                    <a:pt x="0" y="378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150640" y="3758760"/>
              <a:ext cx="181440" cy="114120"/>
            </a:xfrm>
            <a:custGeom>
              <a:avLst/>
              <a:gdLst/>
              <a:ahLst/>
              <a:rect l="l" t="t" r="r" b="b"/>
              <a:pathLst>
                <a:path w="359" h="199">
                  <a:moveTo>
                    <a:pt x="0" y="192"/>
                  </a:moveTo>
                  <a:lnTo>
                    <a:pt x="93" y="199"/>
                  </a:lnTo>
                  <a:lnTo>
                    <a:pt x="350" y="186"/>
                  </a:lnTo>
                  <a:lnTo>
                    <a:pt x="274" y="180"/>
                  </a:lnTo>
                  <a:lnTo>
                    <a:pt x="359" y="154"/>
                  </a:lnTo>
                  <a:lnTo>
                    <a:pt x="355" y="85"/>
                  </a:lnTo>
                  <a:lnTo>
                    <a:pt x="338" y="78"/>
                  </a:lnTo>
                  <a:lnTo>
                    <a:pt x="344" y="146"/>
                  </a:lnTo>
                  <a:lnTo>
                    <a:pt x="272" y="163"/>
                  </a:lnTo>
                  <a:lnTo>
                    <a:pt x="241" y="165"/>
                  </a:lnTo>
                  <a:lnTo>
                    <a:pt x="238" y="114"/>
                  </a:lnTo>
                  <a:lnTo>
                    <a:pt x="264" y="102"/>
                  </a:lnTo>
                  <a:lnTo>
                    <a:pt x="177" y="95"/>
                  </a:lnTo>
                  <a:lnTo>
                    <a:pt x="135" y="79"/>
                  </a:lnTo>
                  <a:lnTo>
                    <a:pt x="184" y="74"/>
                  </a:lnTo>
                  <a:lnTo>
                    <a:pt x="310" y="72"/>
                  </a:lnTo>
                  <a:lnTo>
                    <a:pt x="241" y="57"/>
                  </a:lnTo>
                  <a:lnTo>
                    <a:pt x="274" y="2"/>
                  </a:lnTo>
                  <a:lnTo>
                    <a:pt x="219" y="57"/>
                  </a:lnTo>
                  <a:lnTo>
                    <a:pt x="196" y="57"/>
                  </a:lnTo>
                  <a:lnTo>
                    <a:pt x="209" y="0"/>
                  </a:lnTo>
                  <a:lnTo>
                    <a:pt x="173" y="57"/>
                  </a:lnTo>
                  <a:lnTo>
                    <a:pt x="125" y="64"/>
                  </a:lnTo>
                  <a:lnTo>
                    <a:pt x="146" y="9"/>
                  </a:lnTo>
                  <a:lnTo>
                    <a:pt x="59" y="89"/>
                  </a:lnTo>
                  <a:lnTo>
                    <a:pt x="99" y="89"/>
                  </a:lnTo>
                  <a:lnTo>
                    <a:pt x="84" y="161"/>
                  </a:lnTo>
                  <a:lnTo>
                    <a:pt x="13" y="174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145600" y="3253320"/>
              <a:ext cx="112680" cy="243000"/>
            </a:xfrm>
            <a:custGeom>
              <a:avLst/>
              <a:gdLst/>
              <a:ahLst/>
              <a:rect l="l" t="t" r="r" b="b"/>
              <a:pathLst>
                <a:path w="225" h="426">
                  <a:moveTo>
                    <a:pt x="154" y="416"/>
                  </a:moveTo>
                  <a:lnTo>
                    <a:pt x="154" y="308"/>
                  </a:lnTo>
                  <a:lnTo>
                    <a:pt x="192" y="270"/>
                  </a:lnTo>
                  <a:lnTo>
                    <a:pt x="192" y="59"/>
                  </a:lnTo>
                  <a:lnTo>
                    <a:pt x="122" y="40"/>
                  </a:lnTo>
                  <a:lnTo>
                    <a:pt x="122" y="26"/>
                  </a:lnTo>
                  <a:lnTo>
                    <a:pt x="0" y="9"/>
                  </a:lnTo>
                  <a:lnTo>
                    <a:pt x="59" y="0"/>
                  </a:lnTo>
                  <a:lnTo>
                    <a:pt x="162" y="0"/>
                  </a:lnTo>
                  <a:lnTo>
                    <a:pt x="225" y="17"/>
                  </a:lnTo>
                  <a:lnTo>
                    <a:pt x="225" y="426"/>
                  </a:lnTo>
                  <a:lnTo>
                    <a:pt x="154" y="416"/>
                  </a:lnTo>
                  <a:lnTo>
                    <a:pt x="154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142360" y="3263400"/>
              <a:ext cx="7920" cy="229320"/>
            </a:xfrm>
            <a:custGeom>
              <a:avLst/>
              <a:gdLst/>
              <a:ahLst/>
              <a:rect l="l" t="t" r="r" b="b"/>
              <a:pathLst>
                <a:path w="17" h="401">
                  <a:moveTo>
                    <a:pt x="2" y="0"/>
                  </a:moveTo>
                  <a:lnTo>
                    <a:pt x="0" y="393"/>
                  </a:lnTo>
                  <a:lnTo>
                    <a:pt x="17" y="401"/>
                  </a:lnTo>
                  <a:lnTo>
                    <a:pt x="17" y="1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170800" y="2855160"/>
              <a:ext cx="28080" cy="402480"/>
            </a:xfrm>
            <a:custGeom>
              <a:avLst/>
              <a:gdLst/>
              <a:ahLst/>
              <a:rect l="l" t="t" r="r" b="b"/>
              <a:pathLst>
                <a:path w="55" h="705">
                  <a:moveTo>
                    <a:pt x="0" y="705"/>
                  </a:moveTo>
                  <a:lnTo>
                    <a:pt x="0" y="6"/>
                  </a:lnTo>
                  <a:lnTo>
                    <a:pt x="55" y="0"/>
                  </a:lnTo>
                  <a:lnTo>
                    <a:pt x="17" y="32"/>
                  </a:lnTo>
                  <a:lnTo>
                    <a:pt x="17" y="692"/>
                  </a:lnTo>
                  <a:lnTo>
                    <a:pt x="0" y="705"/>
                  </a:lnTo>
                  <a:lnTo>
                    <a:pt x="0" y="7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159640" y="2833560"/>
              <a:ext cx="82800" cy="420840"/>
            </a:xfrm>
            <a:custGeom>
              <a:avLst/>
              <a:gdLst/>
              <a:ahLst/>
              <a:rect l="l" t="t" r="r" b="b"/>
              <a:pathLst>
                <a:path w="163" h="738">
                  <a:moveTo>
                    <a:pt x="70" y="726"/>
                  </a:moveTo>
                  <a:lnTo>
                    <a:pt x="95" y="633"/>
                  </a:lnTo>
                  <a:lnTo>
                    <a:pt x="124" y="624"/>
                  </a:lnTo>
                  <a:lnTo>
                    <a:pt x="124" y="103"/>
                  </a:lnTo>
                  <a:lnTo>
                    <a:pt x="87" y="40"/>
                  </a:lnTo>
                  <a:lnTo>
                    <a:pt x="131" y="48"/>
                  </a:lnTo>
                  <a:lnTo>
                    <a:pt x="127" y="15"/>
                  </a:lnTo>
                  <a:lnTo>
                    <a:pt x="61" y="15"/>
                  </a:lnTo>
                  <a:lnTo>
                    <a:pt x="11" y="21"/>
                  </a:lnTo>
                  <a:lnTo>
                    <a:pt x="0" y="48"/>
                  </a:lnTo>
                  <a:lnTo>
                    <a:pt x="2" y="4"/>
                  </a:lnTo>
                  <a:lnTo>
                    <a:pt x="82" y="0"/>
                  </a:lnTo>
                  <a:lnTo>
                    <a:pt x="146" y="4"/>
                  </a:lnTo>
                  <a:lnTo>
                    <a:pt x="163" y="19"/>
                  </a:lnTo>
                  <a:lnTo>
                    <a:pt x="162" y="59"/>
                  </a:lnTo>
                  <a:lnTo>
                    <a:pt x="144" y="70"/>
                  </a:lnTo>
                  <a:lnTo>
                    <a:pt x="144" y="738"/>
                  </a:lnTo>
                  <a:lnTo>
                    <a:pt x="133" y="721"/>
                  </a:lnTo>
                  <a:lnTo>
                    <a:pt x="70" y="726"/>
                  </a:lnTo>
                  <a:lnTo>
                    <a:pt x="70" y="7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838080" y="4030560"/>
              <a:ext cx="1009800" cy="735840"/>
            </a:xfrm>
            <a:custGeom>
              <a:avLst/>
              <a:gdLst/>
              <a:ahLst/>
              <a:rect l="l" t="t" r="r" b="b"/>
              <a:pathLst>
                <a:path w="2000" h="1289">
                  <a:moveTo>
                    <a:pt x="1882" y="226"/>
                  </a:moveTo>
                  <a:lnTo>
                    <a:pt x="53" y="0"/>
                  </a:lnTo>
                  <a:lnTo>
                    <a:pt x="68" y="161"/>
                  </a:lnTo>
                  <a:lnTo>
                    <a:pt x="80" y="325"/>
                  </a:lnTo>
                  <a:lnTo>
                    <a:pt x="68" y="492"/>
                  </a:lnTo>
                  <a:lnTo>
                    <a:pt x="48" y="644"/>
                  </a:lnTo>
                  <a:lnTo>
                    <a:pt x="0" y="806"/>
                  </a:lnTo>
                  <a:lnTo>
                    <a:pt x="1719" y="1289"/>
                  </a:lnTo>
                  <a:lnTo>
                    <a:pt x="53" y="785"/>
                  </a:lnTo>
                  <a:lnTo>
                    <a:pt x="112" y="703"/>
                  </a:lnTo>
                  <a:lnTo>
                    <a:pt x="1369" y="1002"/>
                  </a:lnTo>
                  <a:lnTo>
                    <a:pt x="86" y="677"/>
                  </a:lnTo>
                  <a:lnTo>
                    <a:pt x="74" y="650"/>
                  </a:lnTo>
                  <a:lnTo>
                    <a:pt x="924" y="861"/>
                  </a:lnTo>
                  <a:lnTo>
                    <a:pt x="74" y="627"/>
                  </a:lnTo>
                  <a:lnTo>
                    <a:pt x="106" y="471"/>
                  </a:lnTo>
                  <a:lnTo>
                    <a:pt x="106" y="293"/>
                  </a:lnTo>
                  <a:lnTo>
                    <a:pt x="91" y="120"/>
                  </a:lnTo>
                  <a:lnTo>
                    <a:pt x="80" y="42"/>
                  </a:lnTo>
                  <a:lnTo>
                    <a:pt x="291" y="47"/>
                  </a:lnTo>
                  <a:lnTo>
                    <a:pt x="1167" y="194"/>
                  </a:lnTo>
                  <a:lnTo>
                    <a:pt x="1833" y="437"/>
                  </a:lnTo>
                  <a:lnTo>
                    <a:pt x="1806" y="319"/>
                  </a:lnTo>
                  <a:lnTo>
                    <a:pt x="1920" y="477"/>
                  </a:lnTo>
                  <a:lnTo>
                    <a:pt x="2000" y="747"/>
                  </a:lnTo>
                  <a:lnTo>
                    <a:pt x="1979" y="557"/>
                  </a:lnTo>
                  <a:lnTo>
                    <a:pt x="1941" y="340"/>
                  </a:lnTo>
                  <a:lnTo>
                    <a:pt x="1882" y="226"/>
                  </a:lnTo>
                  <a:lnTo>
                    <a:pt x="1882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886320" y="4014360"/>
              <a:ext cx="1046880" cy="759960"/>
            </a:xfrm>
            <a:custGeom>
              <a:avLst/>
              <a:gdLst/>
              <a:ahLst/>
              <a:rect l="l" t="t" r="r" b="b"/>
              <a:pathLst>
                <a:path w="2072" h="1333">
                  <a:moveTo>
                    <a:pt x="0" y="17"/>
                  </a:moveTo>
                  <a:lnTo>
                    <a:pt x="1818" y="228"/>
                  </a:lnTo>
                  <a:lnTo>
                    <a:pt x="1903" y="472"/>
                  </a:lnTo>
                  <a:lnTo>
                    <a:pt x="1953" y="787"/>
                  </a:lnTo>
                  <a:lnTo>
                    <a:pt x="1909" y="841"/>
                  </a:lnTo>
                  <a:lnTo>
                    <a:pt x="1861" y="1139"/>
                  </a:lnTo>
                  <a:lnTo>
                    <a:pt x="1774" y="1333"/>
                  </a:lnTo>
                  <a:lnTo>
                    <a:pt x="2061" y="1198"/>
                  </a:lnTo>
                  <a:lnTo>
                    <a:pt x="2072" y="846"/>
                  </a:lnTo>
                  <a:lnTo>
                    <a:pt x="2034" y="1063"/>
                  </a:lnTo>
                  <a:lnTo>
                    <a:pt x="1926" y="1031"/>
                  </a:lnTo>
                  <a:lnTo>
                    <a:pt x="1947" y="858"/>
                  </a:lnTo>
                  <a:lnTo>
                    <a:pt x="2040" y="793"/>
                  </a:lnTo>
                  <a:lnTo>
                    <a:pt x="1996" y="515"/>
                  </a:lnTo>
                  <a:lnTo>
                    <a:pt x="1926" y="283"/>
                  </a:lnTo>
                  <a:lnTo>
                    <a:pt x="1985" y="565"/>
                  </a:lnTo>
                  <a:lnTo>
                    <a:pt x="2011" y="770"/>
                  </a:lnTo>
                  <a:lnTo>
                    <a:pt x="1979" y="776"/>
                  </a:lnTo>
                  <a:lnTo>
                    <a:pt x="1920" y="434"/>
                  </a:lnTo>
                  <a:lnTo>
                    <a:pt x="1844" y="228"/>
                  </a:lnTo>
                  <a:lnTo>
                    <a:pt x="1861" y="190"/>
                  </a:lnTo>
                  <a:lnTo>
                    <a:pt x="97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1853640" y="3891240"/>
              <a:ext cx="617040" cy="479160"/>
            </a:xfrm>
            <a:custGeom>
              <a:avLst/>
              <a:gdLst/>
              <a:ahLst/>
              <a:rect l="l" t="t" r="r" b="b"/>
              <a:pathLst>
                <a:path w="1223" h="840">
                  <a:moveTo>
                    <a:pt x="493" y="0"/>
                  </a:moveTo>
                  <a:lnTo>
                    <a:pt x="168" y="526"/>
                  </a:lnTo>
                  <a:lnTo>
                    <a:pt x="0" y="488"/>
                  </a:lnTo>
                  <a:lnTo>
                    <a:pt x="23" y="515"/>
                  </a:lnTo>
                  <a:lnTo>
                    <a:pt x="850" y="693"/>
                  </a:lnTo>
                  <a:lnTo>
                    <a:pt x="845" y="749"/>
                  </a:lnTo>
                  <a:lnTo>
                    <a:pt x="807" y="787"/>
                  </a:lnTo>
                  <a:lnTo>
                    <a:pt x="867" y="781"/>
                  </a:lnTo>
                  <a:lnTo>
                    <a:pt x="856" y="840"/>
                  </a:lnTo>
                  <a:lnTo>
                    <a:pt x="900" y="792"/>
                  </a:lnTo>
                  <a:lnTo>
                    <a:pt x="909" y="737"/>
                  </a:lnTo>
                  <a:lnTo>
                    <a:pt x="1223" y="781"/>
                  </a:lnTo>
                  <a:lnTo>
                    <a:pt x="877" y="672"/>
                  </a:lnTo>
                  <a:lnTo>
                    <a:pt x="202" y="532"/>
                  </a:lnTo>
                  <a:lnTo>
                    <a:pt x="531" y="5"/>
                  </a:lnTo>
                  <a:lnTo>
                    <a:pt x="493" y="0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877040" y="4204080"/>
              <a:ext cx="47160" cy="111600"/>
            </a:xfrm>
            <a:custGeom>
              <a:avLst/>
              <a:gdLst/>
              <a:ahLst/>
              <a:rect l="l" t="t" r="r" b="b"/>
              <a:pathLst>
                <a:path w="95" h="198">
                  <a:moveTo>
                    <a:pt x="0" y="61"/>
                  </a:moveTo>
                  <a:lnTo>
                    <a:pt x="19" y="0"/>
                  </a:lnTo>
                  <a:lnTo>
                    <a:pt x="55" y="6"/>
                  </a:lnTo>
                  <a:lnTo>
                    <a:pt x="63" y="36"/>
                  </a:lnTo>
                  <a:lnTo>
                    <a:pt x="88" y="44"/>
                  </a:lnTo>
                  <a:lnTo>
                    <a:pt x="95" y="17"/>
                  </a:lnTo>
                  <a:lnTo>
                    <a:pt x="95" y="67"/>
                  </a:lnTo>
                  <a:lnTo>
                    <a:pt x="80" y="139"/>
                  </a:lnTo>
                  <a:lnTo>
                    <a:pt x="38" y="198"/>
                  </a:lnTo>
                  <a:lnTo>
                    <a:pt x="25" y="183"/>
                  </a:lnTo>
                  <a:lnTo>
                    <a:pt x="61" y="139"/>
                  </a:lnTo>
                  <a:lnTo>
                    <a:pt x="74" y="95"/>
                  </a:lnTo>
                  <a:lnTo>
                    <a:pt x="76" y="74"/>
                  </a:lnTo>
                  <a:lnTo>
                    <a:pt x="32" y="68"/>
                  </a:lnTo>
                  <a:lnTo>
                    <a:pt x="19" y="80"/>
                  </a:lnTo>
                  <a:lnTo>
                    <a:pt x="4" y="76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904400" y="3871800"/>
              <a:ext cx="180360" cy="315720"/>
            </a:xfrm>
            <a:custGeom>
              <a:avLst/>
              <a:gdLst/>
              <a:ahLst/>
              <a:rect l="l" t="t" r="r" b="b"/>
              <a:pathLst>
                <a:path w="358" h="555">
                  <a:moveTo>
                    <a:pt x="358" y="6"/>
                  </a:moveTo>
                  <a:lnTo>
                    <a:pt x="19" y="555"/>
                  </a:lnTo>
                  <a:lnTo>
                    <a:pt x="0" y="550"/>
                  </a:lnTo>
                  <a:lnTo>
                    <a:pt x="344" y="0"/>
                  </a:lnTo>
                  <a:lnTo>
                    <a:pt x="358" y="6"/>
                  </a:lnTo>
                  <a:lnTo>
                    <a:pt x="35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640880" y="3958560"/>
              <a:ext cx="82440" cy="149040"/>
            </a:xfrm>
            <a:custGeom>
              <a:avLst/>
              <a:gdLst/>
              <a:ahLst/>
              <a:rect l="l" t="t" r="r" b="b"/>
              <a:pathLst>
                <a:path w="166" h="263">
                  <a:moveTo>
                    <a:pt x="164" y="0"/>
                  </a:moveTo>
                  <a:lnTo>
                    <a:pt x="0" y="263"/>
                  </a:lnTo>
                  <a:lnTo>
                    <a:pt x="25" y="263"/>
                  </a:lnTo>
                  <a:lnTo>
                    <a:pt x="166" y="35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616400" y="3925440"/>
              <a:ext cx="106920" cy="178920"/>
            </a:xfrm>
            <a:custGeom>
              <a:avLst/>
              <a:gdLst/>
              <a:ahLst/>
              <a:rect l="l" t="t" r="r" b="b"/>
              <a:pathLst>
                <a:path w="213" h="314">
                  <a:moveTo>
                    <a:pt x="213" y="21"/>
                  </a:moveTo>
                  <a:lnTo>
                    <a:pt x="15" y="314"/>
                  </a:lnTo>
                  <a:lnTo>
                    <a:pt x="0" y="312"/>
                  </a:lnTo>
                  <a:lnTo>
                    <a:pt x="211" y="0"/>
                  </a:lnTo>
                  <a:lnTo>
                    <a:pt x="213" y="21"/>
                  </a:lnTo>
                  <a:lnTo>
                    <a:pt x="2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893240" y="4217760"/>
              <a:ext cx="398880" cy="140040"/>
            </a:xfrm>
            <a:custGeom>
              <a:avLst/>
              <a:gdLst/>
              <a:ahLst/>
              <a:rect l="l" t="t" r="r" b="b"/>
              <a:pathLst>
                <a:path w="791" h="247">
                  <a:moveTo>
                    <a:pt x="105" y="0"/>
                  </a:moveTo>
                  <a:lnTo>
                    <a:pt x="95" y="76"/>
                  </a:lnTo>
                  <a:lnTo>
                    <a:pt x="61" y="159"/>
                  </a:lnTo>
                  <a:lnTo>
                    <a:pt x="0" y="211"/>
                  </a:lnTo>
                  <a:lnTo>
                    <a:pt x="4" y="247"/>
                  </a:lnTo>
                  <a:lnTo>
                    <a:pt x="65" y="178"/>
                  </a:lnTo>
                  <a:lnTo>
                    <a:pt x="99" y="125"/>
                  </a:lnTo>
                  <a:lnTo>
                    <a:pt x="115" y="62"/>
                  </a:lnTo>
                  <a:lnTo>
                    <a:pt x="740" y="203"/>
                  </a:lnTo>
                  <a:lnTo>
                    <a:pt x="767" y="186"/>
                  </a:lnTo>
                  <a:lnTo>
                    <a:pt x="791" y="182"/>
                  </a:lnTo>
                  <a:lnTo>
                    <a:pt x="120" y="32"/>
                  </a:lnTo>
                  <a:lnTo>
                    <a:pt x="120" y="11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907280" y="4395600"/>
              <a:ext cx="403920" cy="91080"/>
            </a:xfrm>
            <a:custGeom>
              <a:avLst/>
              <a:gdLst/>
              <a:ahLst/>
              <a:rect l="l" t="t" r="r" b="b"/>
              <a:pathLst>
                <a:path w="800" h="159">
                  <a:moveTo>
                    <a:pt x="0" y="5"/>
                  </a:moveTo>
                  <a:lnTo>
                    <a:pt x="648" y="32"/>
                  </a:lnTo>
                  <a:lnTo>
                    <a:pt x="800" y="0"/>
                  </a:lnTo>
                  <a:lnTo>
                    <a:pt x="262" y="159"/>
                  </a:lnTo>
                  <a:lnTo>
                    <a:pt x="338" y="62"/>
                  </a:lnTo>
                  <a:lnTo>
                    <a:pt x="498" y="49"/>
                  </a:lnTo>
                  <a:lnTo>
                    <a:pt x="6" y="2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897920" y="4336200"/>
              <a:ext cx="423720" cy="63720"/>
            </a:xfrm>
            <a:custGeom>
              <a:avLst/>
              <a:gdLst/>
              <a:ahLst/>
              <a:rect l="l" t="t" r="r" b="b"/>
              <a:pathLst>
                <a:path w="838" h="110">
                  <a:moveTo>
                    <a:pt x="0" y="83"/>
                  </a:moveTo>
                  <a:lnTo>
                    <a:pt x="777" y="110"/>
                  </a:lnTo>
                  <a:lnTo>
                    <a:pt x="838" y="103"/>
                  </a:lnTo>
                  <a:lnTo>
                    <a:pt x="825" y="57"/>
                  </a:lnTo>
                  <a:lnTo>
                    <a:pt x="734" y="57"/>
                  </a:lnTo>
                  <a:lnTo>
                    <a:pt x="684" y="0"/>
                  </a:lnTo>
                  <a:lnTo>
                    <a:pt x="688" y="51"/>
                  </a:lnTo>
                  <a:lnTo>
                    <a:pt x="722" y="97"/>
                  </a:lnTo>
                  <a:lnTo>
                    <a:pt x="6" y="70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070000" y="4296240"/>
              <a:ext cx="145080" cy="93600"/>
            </a:xfrm>
            <a:custGeom>
              <a:avLst/>
              <a:gdLst/>
              <a:ahLst/>
              <a:rect l="l" t="t" r="r" b="b"/>
              <a:pathLst>
                <a:path w="289" h="163">
                  <a:moveTo>
                    <a:pt x="120" y="0"/>
                  </a:moveTo>
                  <a:lnTo>
                    <a:pt x="86" y="51"/>
                  </a:lnTo>
                  <a:lnTo>
                    <a:pt x="0" y="102"/>
                  </a:lnTo>
                  <a:lnTo>
                    <a:pt x="34" y="136"/>
                  </a:lnTo>
                  <a:lnTo>
                    <a:pt x="185" y="163"/>
                  </a:lnTo>
                  <a:lnTo>
                    <a:pt x="185" y="117"/>
                  </a:lnTo>
                  <a:lnTo>
                    <a:pt x="278" y="117"/>
                  </a:lnTo>
                  <a:lnTo>
                    <a:pt x="289" y="102"/>
                  </a:lnTo>
                  <a:lnTo>
                    <a:pt x="175" y="98"/>
                  </a:lnTo>
                  <a:lnTo>
                    <a:pt x="175" y="66"/>
                  </a:lnTo>
                  <a:lnTo>
                    <a:pt x="192" y="62"/>
                  </a:lnTo>
                  <a:lnTo>
                    <a:pt x="200" y="11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185920" y="4309920"/>
              <a:ext cx="33120" cy="226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0"/>
                  </a:moveTo>
                  <a:lnTo>
                    <a:pt x="4" y="40"/>
                  </a:lnTo>
                  <a:lnTo>
                    <a:pt x="52" y="40"/>
                  </a:lnTo>
                  <a:lnTo>
                    <a:pt x="67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924560" y="4326120"/>
              <a:ext cx="748080" cy="329400"/>
            </a:xfrm>
            <a:custGeom>
              <a:avLst/>
              <a:gdLst/>
              <a:ahLst/>
              <a:rect l="l" t="t" r="r" b="b"/>
              <a:pathLst>
                <a:path w="1481" h="578">
                  <a:moveTo>
                    <a:pt x="1481" y="0"/>
                  </a:moveTo>
                  <a:lnTo>
                    <a:pt x="1462" y="45"/>
                  </a:lnTo>
                  <a:lnTo>
                    <a:pt x="1413" y="70"/>
                  </a:lnTo>
                  <a:lnTo>
                    <a:pt x="133" y="487"/>
                  </a:lnTo>
                  <a:lnTo>
                    <a:pt x="152" y="435"/>
                  </a:lnTo>
                  <a:lnTo>
                    <a:pt x="148" y="374"/>
                  </a:lnTo>
                  <a:lnTo>
                    <a:pt x="95" y="334"/>
                  </a:lnTo>
                  <a:lnTo>
                    <a:pt x="93" y="369"/>
                  </a:lnTo>
                  <a:lnTo>
                    <a:pt x="110" y="393"/>
                  </a:lnTo>
                  <a:lnTo>
                    <a:pt x="110" y="429"/>
                  </a:lnTo>
                  <a:lnTo>
                    <a:pt x="0" y="466"/>
                  </a:lnTo>
                  <a:lnTo>
                    <a:pt x="4" y="511"/>
                  </a:lnTo>
                  <a:lnTo>
                    <a:pt x="93" y="487"/>
                  </a:lnTo>
                  <a:lnTo>
                    <a:pt x="129" y="500"/>
                  </a:lnTo>
                  <a:lnTo>
                    <a:pt x="173" y="488"/>
                  </a:lnTo>
                  <a:lnTo>
                    <a:pt x="472" y="399"/>
                  </a:lnTo>
                  <a:lnTo>
                    <a:pt x="517" y="441"/>
                  </a:lnTo>
                  <a:lnTo>
                    <a:pt x="612" y="441"/>
                  </a:lnTo>
                  <a:lnTo>
                    <a:pt x="650" y="414"/>
                  </a:lnTo>
                  <a:lnTo>
                    <a:pt x="662" y="441"/>
                  </a:lnTo>
                  <a:lnTo>
                    <a:pt x="641" y="473"/>
                  </a:lnTo>
                  <a:lnTo>
                    <a:pt x="567" y="475"/>
                  </a:lnTo>
                  <a:lnTo>
                    <a:pt x="533" y="467"/>
                  </a:lnTo>
                  <a:lnTo>
                    <a:pt x="605" y="526"/>
                  </a:lnTo>
                  <a:lnTo>
                    <a:pt x="759" y="555"/>
                  </a:lnTo>
                  <a:lnTo>
                    <a:pt x="1071" y="578"/>
                  </a:lnTo>
                  <a:lnTo>
                    <a:pt x="1168" y="559"/>
                  </a:lnTo>
                  <a:lnTo>
                    <a:pt x="1021" y="538"/>
                  </a:lnTo>
                  <a:lnTo>
                    <a:pt x="955" y="500"/>
                  </a:lnTo>
                  <a:lnTo>
                    <a:pt x="972" y="460"/>
                  </a:lnTo>
                  <a:lnTo>
                    <a:pt x="932" y="481"/>
                  </a:lnTo>
                  <a:lnTo>
                    <a:pt x="879" y="437"/>
                  </a:lnTo>
                  <a:lnTo>
                    <a:pt x="879" y="371"/>
                  </a:lnTo>
                  <a:lnTo>
                    <a:pt x="835" y="401"/>
                  </a:lnTo>
                  <a:lnTo>
                    <a:pt x="839" y="338"/>
                  </a:lnTo>
                  <a:lnTo>
                    <a:pt x="943" y="287"/>
                  </a:lnTo>
                  <a:lnTo>
                    <a:pt x="1002" y="230"/>
                  </a:lnTo>
                  <a:lnTo>
                    <a:pt x="1417" y="97"/>
                  </a:lnTo>
                  <a:lnTo>
                    <a:pt x="1477" y="198"/>
                  </a:lnTo>
                  <a:lnTo>
                    <a:pt x="1472" y="120"/>
                  </a:lnTo>
                  <a:lnTo>
                    <a:pt x="1449" y="74"/>
                  </a:lnTo>
                  <a:lnTo>
                    <a:pt x="1476" y="51"/>
                  </a:lnTo>
                  <a:lnTo>
                    <a:pt x="1481" y="0"/>
                  </a:lnTo>
                  <a:lnTo>
                    <a:pt x="14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320200" y="4321440"/>
              <a:ext cx="148320" cy="96840"/>
            </a:xfrm>
            <a:custGeom>
              <a:avLst/>
              <a:gdLst/>
              <a:ahLst/>
              <a:rect l="l" t="t" r="r" b="b"/>
              <a:pathLst>
                <a:path w="295" h="169">
                  <a:moveTo>
                    <a:pt x="0" y="0"/>
                  </a:moveTo>
                  <a:lnTo>
                    <a:pt x="16" y="31"/>
                  </a:lnTo>
                  <a:lnTo>
                    <a:pt x="39" y="141"/>
                  </a:lnTo>
                  <a:lnTo>
                    <a:pt x="295" y="53"/>
                  </a:lnTo>
                  <a:lnTo>
                    <a:pt x="282" y="86"/>
                  </a:lnTo>
                  <a:lnTo>
                    <a:pt x="39" y="169"/>
                  </a:lnTo>
                  <a:lnTo>
                    <a:pt x="27" y="1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926360" y="4491360"/>
              <a:ext cx="92520" cy="62640"/>
            </a:xfrm>
            <a:custGeom>
              <a:avLst/>
              <a:gdLst/>
              <a:ahLst/>
              <a:rect l="l" t="t" r="r" b="b"/>
              <a:pathLst>
                <a:path w="184" h="108">
                  <a:moveTo>
                    <a:pt x="0" y="87"/>
                  </a:moveTo>
                  <a:lnTo>
                    <a:pt x="48" y="72"/>
                  </a:lnTo>
                  <a:lnTo>
                    <a:pt x="76" y="26"/>
                  </a:lnTo>
                  <a:lnTo>
                    <a:pt x="184" y="0"/>
                  </a:lnTo>
                  <a:lnTo>
                    <a:pt x="76" y="42"/>
                  </a:lnTo>
                  <a:lnTo>
                    <a:pt x="59" y="85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974960" y="4179960"/>
              <a:ext cx="358560" cy="71640"/>
            </a:xfrm>
            <a:custGeom>
              <a:avLst/>
              <a:gdLst/>
              <a:ahLst/>
              <a:rect l="l" t="t" r="r" b="b"/>
              <a:pathLst>
                <a:path w="711" h="128">
                  <a:moveTo>
                    <a:pt x="0" y="36"/>
                  </a:moveTo>
                  <a:lnTo>
                    <a:pt x="462" y="0"/>
                  </a:lnTo>
                  <a:lnTo>
                    <a:pt x="420" y="33"/>
                  </a:lnTo>
                  <a:lnTo>
                    <a:pt x="711" y="72"/>
                  </a:lnTo>
                  <a:lnTo>
                    <a:pt x="426" y="69"/>
                  </a:lnTo>
                  <a:lnTo>
                    <a:pt x="403" y="12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738440" y="3595680"/>
              <a:ext cx="168480" cy="482760"/>
            </a:xfrm>
            <a:custGeom>
              <a:avLst/>
              <a:gdLst/>
              <a:ahLst/>
              <a:rect l="l" t="t" r="r" b="b"/>
              <a:pathLst>
                <a:path w="335" h="846">
                  <a:moveTo>
                    <a:pt x="0" y="0"/>
                  </a:moveTo>
                  <a:lnTo>
                    <a:pt x="40" y="768"/>
                  </a:lnTo>
                  <a:lnTo>
                    <a:pt x="40" y="46"/>
                  </a:lnTo>
                  <a:lnTo>
                    <a:pt x="236" y="52"/>
                  </a:lnTo>
                  <a:lnTo>
                    <a:pt x="59" y="78"/>
                  </a:lnTo>
                  <a:lnTo>
                    <a:pt x="253" y="92"/>
                  </a:lnTo>
                  <a:lnTo>
                    <a:pt x="82" y="111"/>
                  </a:lnTo>
                  <a:lnTo>
                    <a:pt x="259" y="134"/>
                  </a:lnTo>
                  <a:lnTo>
                    <a:pt x="105" y="147"/>
                  </a:lnTo>
                  <a:lnTo>
                    <a:pt x="263" y="170"/>
                  </a:lnTo>
                  <a:lnTo>
                    <a:pt x="164" y="196"/>
                  </a:lnTo>
                  <a:lnTo>
                    <a:pt x="249" y="225"/>
                  </a:lnTo>
                  <a:lnTo>
                    <a:pt x="187" y="284"/>
                  </a:lnTo>
                  <a:lnTo>
                    <a:pt x="263" y="337"/>
                  </a:lnTo>
                  <a:lnTo>
                    <a:pt x="240" y="438"/>
                  </a:lnTo>
                  <a:lnTo>
                    <a:pt x="276" y="578"/>
                  </a:lnTo>
                  <a:lnTo>
                    <a:pt x="308" y="846"/>
                  </a:lnTo>
                  <a:lnTo>
                    <a:pt x="335" y="729"/>
                  </a:lnTo>
                  <a:lnTo>
                    <a:pt x="308" y="101"/>
                  </a:lnTo>
                  <a:lnTo>
                    <a:pt x="286" y="42"/>
                  </a:lnTo>
                  <a:lnTo>
                    <a:pt x="246" y="10"/>
                  </a:lnTo>
                  <a:lnTo>
                    <a:pt x="20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1962720" y="3721320"/>
              <a:ext cx="41400" cy="348840"/>
            </a:xfrm>
            <a:custGeom>
              <a:avLst/>
              <a:gdLst/>
              <a:ahLst/>
              <a:rect l="l" t="t" r="r" b="b"/>
              <a:pathLst>
                <a:path w="82" h="612">
                  <a:moveTo>
                    <a:pt x="0" y="0"/>
                  </a:moveTo>
                  <a:lnTo>
                    <a:pt x="17" y="612"/>
                  </a:lnTo>
                  <a:lnTo>
                    <a:pt x="82" y="500"/>
                  </a:lnTo>
                  <a:lnTo>
                    <a:pt x="40" y="4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1985040" y="4050000"/>
              <a:ext cx="198000" cy="95400"/>
            </a:xfrm>
            <a:custGeom>
              <a:avLst/>
              <a:gdLst/>
              <a:ahLst/>
              <a:rect l="l" t="t" r="r" b="b"/>
              <a:pathLst>
                <a:path w="392" h="167">
                  <a:moveTo>
                    <a:pt x="82" y="0"/>
                  </a:moveTo>
                  <a:lnTo>
                    <a:pt x="205" y="80"/>
                  </a:lnTo>
                  <a:lnTo>
                    <a:pt x="392" y="148"/>
                  </a:lnTo>
                  <a:lnTo>
                    <a:pt x="55" y="167"/>
                  </a:lnTo>
                  <a:lnTo>
                    <a:pt x="0" y="122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969920" y="4142520"/>
              <a:ext cx="257400" cy="46800"/>
            </a:xfrm>
            <a:custGeom>
              <a:avLst/>
              <a:gdLst/>
              <a:ahLst/>
              <a:rect l="l" t="t" r="r" b="b"/>
              <a:pathLst>
                <a:path w="511" h="81">
                  <a:moveTo>
                    <a:pt x="0" y="81"/>
                  </a:moveTo>
                  <a:lnTo>
                    <a:pt x="30" y="68"/>
                  </a:lnTo>
                  <a:lnTo>
                    <a:pt x="62" y="32"/>
                  </a:lnTo>
                  <a:lnTo>
                    <a:pt x="511" y="0"/>
                  </a:lnTo>
                  <a:lnTo>
                    <a:pt x="484" y="4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920240" y="4297320"/>
              <a:ext cx="109800" cy="54720"/>
            </a:xfrm>
            <a:custGeom>
              <a:avLst/>
              <a:gdLst/>
              <a:ahLst/>
              <a:rect l="l" t="t" r="r" b="b"/>
              <a:pathLst>
                <a:path w="216" h="95">
                  <a:moveTo>
                    <a:pt x="0" y="56"/>
                  </a:moveTo>
                  <a:lnTo>
                    <a:pt x="216" y="95"/>
                  </a:lnTo>
                  <a:lnTo>
                    <a:pt x="38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2314080" y="3978000"/>
              <a:ext cx="1383120" cy="343080"/>
            </a:xfrm>
            <a:custGeom>
              <a:avLst/>
              <a:gdLst/>
              <a:ahLst/>
              <a:rect l="l" t="t" r="r" b="b"/>
              <a:pathLst>
                <a:path w="2740" h="602">
                  <a:moveTo>
                    <a:pt x="63" y="559"/>
                  </a:moveTo>
                  <a:lnTo>
                    <a:pt x="0" y="494"/>
                  </a:lnTo>
                  <a:lnTo>
                    <a:pt x="42" y="492"/>
                  </a:lnTo>
                  <a:lnTo>
                    <a:pt x="57" y="429"/>
                  </a:lnTo>
                  <a:lnTo>
                    <a:pt x="146" y="289"/>
                  </a:lnTo>
                  <a:lnTo>
                    <a:pt x="179" y="260"/>
                  </a:lnTo>
                  <a:lnTo>
                    <a:pt x="198" y="224"/>
                  </a:lnTo>
                  <a:lnTo>
                    <a:pt x="219" y="237"/>
                  </a:lnTo>
                  <a:lnTo>
                    <a:pt x="378" y="167"/>
                  </a:lnTo>
                  <a:lnTo>
                    <a:pt x="396" y="136"/>
                  </a:lnTo>
                  <a:lnTo>
                    <a:pt x="405" y="154"/>
                  </a:lnTo>
                  <a:lnTo>
                    <a:pt x="559" y="131"/>
                  </a:lnTo>
                  <a:lnTo>
                    <a:pt x="580" y="97"/>
                  </a:lnTo>
                  <a:lnTo>
                    <a:pt x="588" y="119"/>
                  </a:lnTo>
                  <a:lnTo>
                    <a:pt x="751" y="89"/>
                  </a:lnTo>
                  <a:lnTo>
                    <a:pt x="762" y="66"/>
                  </a:lnTo>
                  <a:lnTo>
                    <a:pt x="776" y="83"/>
                  </a:lnTo>
                  <a:lnTo>
                    <a:pt x="939" y="55"/>
                  </a:lnTo>
                  <a:lnTo>
                    <a:pt x="951" y="41"/>
                  </a:lnTo>
                  <a:lnTo>
                    <a:pt x="972" y="53"/>
                  </a:lnTo>
                  <a:lnTo>
                    <a:pt x="1251" y="34"/>
                  </a:lnTo>
                  <a:lnTo>
                    <a:pt x="1599" y="19"/>
                  </a:lnTo>
                  <a:lnTo>
                    <a:pt x="1937" y="13"/>
                  </a:lnTo>
                  <a:lnTo>
                    <a:pt x="1966" y="3"/>
                  </a:lnTo>
                  <a:lnTo>
                    <a:pt x="2000" y="17"/>
                  </a:lnTo>
                  <a:lnTo>
                    <a:pt x="2097" y="17"/>
                  </a:lnTo>
                  <a:lnTo>
                    <a:pt x="2126" y="0"/>
                  </a:lnTo>
                  <a:lnTo>
                    <a:pt x="2137" y="19"/>
                  </a:lnTo>
                  <a:lnTo>
                    <a:pt x="2278" y="38"/>
                  </a:lnTo>
                  <a:lnTo>
                    <a:pt x="2320" y="30"/>
                  </a:lnTo>
                  <a:lnTo>
                    <a:pt x="2358" y="40"/>
                  </a:lnTo>
                  <a:lnTo>
                    <a:pt x="2491" y="53"/>
                  </a:lnTo>
                  <a:lnTo>
                    <a:pt x="2422" y="76"/>
                  </a:lnTo>
                  <a:lnTo>
                    <a:pt x="2569" y="89"/>
                  </a:lnTo>
                  <a:lnTo>
                    <a:pt x="2656" y="188"/>
                  </a:lnTo>
                  <a:lnTo>
                    <a:pt x="2538" y="190"/>
                  </a:lnTo>
                  <a:lnTo>
                    <a:pt x="2584" y="252"/>
                  </a:lnTo>
                  <a:lnTo>
                    <a:pt x="2599" y="252"/>
                  </a:lnTo>
                  <a:lnTo>
                    <a:pt x="2605" y="216"/>
                  </a:lnTo>
                  <a:lnTo>
                    <a:pt x="2688" y="226"/>
                  </a:lnTo>
                  <a:lnTo>
                    <a:pt x="2721" y="340"/>
                  </a:lnTo>
                  <a:lnTo>
                    <a:pt x="2688" y="273"/>
                  </a:lnTo>
                  <a:lnTo>
                    <a:pt x="2675" y="372"/>
                  </a:lnTo>
                  <a:lnTo>
                    <a:pt x="2740" y="401"/>
                  </a:lnTo>
                  <a:lnTo>
                    <a:pt x="2534" y="391"/>
                  </a:lnTo>
                  <a:lnTo>
                    <a:pt x="2519" y="473"/>
                  </a:lnTo>
                  <a:lnTo>
                    <a:pt x="2502" y="353"/>
                  </a:lnTo>
                  <a:lnTo>
                    <a:pt x="2555" y="361"/>
                  </a:lnTo>
                  <a:lnTo>
                    <a:pt x="2534" y="266"/>
                  </a:lnTo>
                  <a:lnTo>
                    <a:pt x="2483" y="190"/>
                  </a:lnTo>
                  <a:lnTo>
                    <a:pt x="2462" y="190"/>
                  </a:lnTo>
                  <a:lnTo>
                    <a:pt x="2449" y="116"/>
                  </a:lnTo>
                  <a:lnTo>
                    <a:pt x="2361" y="119"/>
                  </a:lnTo>
                  <a:lnTo>
                    <a:pt x="2333" y="104"/>
                  </a:lnTo>
                  <a:lnTo>
                    <a:pt x="2356" y="62"/>
                  </a:lnTo>
                  <a:lnTo>
                    <a:pt x="2263" y="98"/>
                  </a:lnTo>
                  <a:lnTo>
                    <a:pt x="2179" y="66"/>
                  </a:lnTo>
                  <a:lnTo>
                    <a:pt x="2099" y="91"/>
                  </a:lnTo>
                  <a:lnTo>
                    <a:pt x="2023" y="53"/>
                  </a:lnTo>
                  <a:lnTo>
                    <a:pt x="1941" y="74"/>
                  </a:lnTo>
                  <a:lnTo>
                    <a:pt x="1837" y="47"/>
                  </a:lnTo>
                  <a:lnTo>
                    <a:pt x="1757" y="68"/>
                  </a:lnTo>
                  <a:lnTo>
                    <a:pt x="1645" y="53"/>
                  </a:lnTo>
                  <a:lnTo>
                    <a:pt x="1534" y="62"/>
                  </a:lnTo>
                  <a:lnTo>
                    <a:pt x="1432" y="60"/>
                  </a:lnTo>
                  <a:lnTo>
                    <a:pt x="1297" y="74"/>
                  </a:lnTo>
                  <a:lnTo>
                    <a:pt x="1200" y="70"/>
                  </a:lnTo>
                  <a:lnTo>
                    <a:pt x="1122" y="95"/>
                  </a:lnTo>
                  <a:lnTo>
                    <a:pt x="1046" y="79"/>
                  </a:lnTo>
                  <a:lnTo>
                    <a:pt x="943" y="119"/>
                  </a:lnTo>
                  <a:lnTo>
                    <a:pt x="819" y="98"/>
                  </a:lnTo>
                  <a:lnTo>
                    <a:pt x="747" y="152"/>
                  </a:lnTo>
                  <a:lnTo>
                    <a:pt x="631" y="144"/>
                  </a:lnTo>
                  <a:lnTo>
                    <a:pt x="624" y="209"/>
                  </a:lnTo>
                  <a:lnTo>
                    <a:pt x="755" y="209"/>
                  </a:lnTo>
                  <a:lnTo>
                    <a:pt x="546" y="233"/>
                  </a:lnTo>
                  <a:lnTo>
                    <a:pt x="388" y="273"/>
                  </a:lnTo>
                  <a:lnTo>
                    <a:pt x="496" y="332"/>
                  </a:lnTo>
                  <a:lnTo>
                    <a:pt x="548" y="456"/>
                  </a:lnTo>
                  <a:lnTo>
                    <a:pt x="388" y="353"/>
                  </a:lnTo>
                  <a:lnTo>
                    <a:pt x="363" y="378"/>
                  </a:lnTo>
                  <a:lnTo>
                    <a:pt x="361" y="429"/>
                  </a:lnTo>
                  <a:lnTo>
                    <a:pt x="278" y="374"/>
                  </a:lnTo>
                  <a:lnTo>
                    <a:pt x="179" y="357"/>
                  </a:lnTo>
                  <a:lnTo>
                    <a:pt x="224" y="425"/>
                  </a:lnTo>
                  <a:lnTo>
                    <a:pt x="164" y="496"/>
                  </a:lnTo>
                  <a:lnTo>
                    <a:pt x="274" y="463"/>
                  </a:lnTo>
                  <a:lnTo>
                    <a:pt x="350" y="471"/>
                  </a:lnTo>
                  <a:lnTo>
                    <a:pt x="413" y="505"/>
                  </a:lnTo>
                  <a:lnTo>
                    <a:pt x="306" y="517"/>
                  </a:lnTo>
                  <a:lnTo>
                    <a:pt x="236" y="557"/>
                  </a:lnTo>
                  <a:lnTo>
                    <a:pt x="217" y="602"/>
                  </a:lnTo>
                  <a:lnTo>
                    <a:pt x="152" y="587"/>
                  </a:lnTo>
                  <a:lnTo>
                    <a:pt x="139" y="509"/>
                  </a:lnTo>
                  <a:lnTo>
                    <a:pt x="103" y="570"/>
                  </a:lnTo>
                  <a:lnTo>
                    <a:pt x="63" y="559"/>
                  </a:lnTo>
                  <a:lnTo>
                    <a:pt x="63" y="5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2625120" y="4289760"/>
              <a:ext cx="35280" cy="62280"/>
            </a:xfrm>
            <a:custGeom>
              <a:avLst/>
              <a:gdLst/>
              <a:ahLst/>
              <a:rect l="l" t="t" r="r" b="b"/>
              <a:pathLst>
                <a:path w="70" h="110">
                  <a:moveTo>
                    <a:pt x="0" y="21"/>
                  </a:moveTo>
                  <a:lnTo>
                    <a:pt x="0" y="110"/>
                  </a:lnTo>
                  <a:lnTo>
                    <a:pt x="65" y="99"/>
                  </a:lnTo>
                  <a:lnTo>
                    <a:pt x="70" y="84"/>
                  </a:lnTo>
                  <a:lnTo>
                    <a:pt x="21" y="82"/>
                  </a:lnTo>
                  <a:lnTo>
                    <a:pt x="21" y="17"/>
                  </a:lnTo>
                  <a:lnTo>
                    <a:pt x="46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495880" y="4291560"/>
              <a:ext cx="149040" cy="51480"/>
            </a:xfrm>
            <a:custGeom>
              <a:avLst/>
              <a:gdLst/>
              <a:ahLst/>
              <a:rect l="l" t="t" r="r" b="b"/>
              <a:pathLst>
                <a:path w="297" h="91">
                  <a:moveTo>
                    <a:pt x="0" y="91"/>
                  </a:moveTo>
                  <a:lnTo>
                    <a:pt x="257" y="0"/>
                  </a:lnTo>
                  <a:lnTo>
                    <a:pt x="297" y="0"/>
                  </a:lnTo>
                  <a:lnTo>
                    <a:pt x="257" y="21"/>
                  </a:lnTo>
                  <a:lnTo>
                    <a:pt x="225" y="21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457360" y="4264560"/>
              <a:ext cx="183600" cy="71640"/>
            </a:xfrm>
            <a:custGeom>
              <a:avLst/>
              <a:gdLst/>
              <a:ahLst/>
              <a:rect l="l" t="t" r="r" b="b"/>
              <a:pathLst>
                <a:path w="365" h="128">
                  <a:moveTo>
                    <a:pt x="31" y="128"/>
                  </a:moveTo>
                  <a:lnTo>
                    <a:pt x="301" y="33"/>
                  </a:lnTo>
                  <a:lnTo>
                    <a:pt x="365" y="33"/>
                  </a:lnTo>
                  <a:lnTo>
                    <a:pt x="362" y="0"/>
                  </a:lnTo>
                  <a:lnTo>
                    <a:pt x="299" y="0"/>
                  </a:lnTo>
                  <a:lnTo>
                    <a:pt x="236" y="37"/>
                  </a:lnTo>
                  <a:lnTo>
                    <a:pt x="135" y="44"/>
                  </a:lnTo>
                  <a:lnTo>
                    <a:pt x="173" y="61"/>
                  </a:lnTo>
                  <a:lnTo>
                    <a:pt x="0" y="120"/>
                  </a:lnTo>
                  <a:lnTo>
                    <a:pt x="31" y="128"/>
                  </a:lnTo>
                  <a:lnTo>
                    <a:pt x="31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2381760" y="3296520"/>
              <a:ext cx="162360" cy="100080"/>
            </a:xfrm>
            <a:custGeom>
              <a:avLst/>
              <a:gdLst/>
              <a:ahLst/>
              <a:rect l="l" t="t" r="r" b="b"/>
              <a:pathLst>
                <a:path w="323" h="177">
                  <a:moveTo>
                    <a:pt x="13" y="49"/>
                  </a:moveTo>
                  <a:lnTo>
                    <a:pt x="69" y="43"/>
                  </a:lnTo>
                  <a:lnTo>
                    <a:pt x="225" y="43"/>
                  </a:lnTo>
                  <a:lnTo>
                    <a:pt x="272" y="45"/>
                  </a:lnTo>
                  <a:lnTo>
                    <a:pt x="240" y="30"/>
                  </a:lnTo>
                  <a:lnTo>
                    <a:pt x="240" y="15"/>
                  </a:lnTo>
                  <a:lnTo>
                    <a:pt x="192" y="7"/>
                  </a:lnTo>
                  <a:lnTo>
                    <a:pt x="76" y="7"/>
                  </a:lnTo>
                  <a:lnTo>
                    <a:pt x="0" y="24"/>
                  </a:lnTo>
                  <a:lnTo>
                    <a:pt x="65" y="0"/>
                  </a:lnTo>
                  <a:lnTo>
                    <a:pt x="217" y="0"/>
                  </a:lnTo>
                  <a:lnTo>
                    <a:pt x="323" y="21"/>
                  </a:lnTo>
                  <a:lnTo>
                    <a:pt x="323" y="55"/>
                  </a:lnTo>
                  <a:lnTo>
                    <a:pt x="289" y="99"/>
                  </a:lnTo>
                  <a:lnTo>
                    <a:pt x="261" y="177"/>
                  </a:lnTo>
                  <a:lnTo>
                    <a:pt x="234" y="175"/>
                  </a:lnTo>
                  <a:lnTo>
                    <a:pt x="223" y="146"/>
                  </a:lnTo>
                  <a:lnTo>
                    <a:pt x="179" y="135"/>
                  </a:lnTo>
                  <a:lnTo>
                    <a:pt x="63" y="133"/>
                  </a:lnTo>
                  <a:lnTo>
                    <a:pt x="147" y="121"/>
                  </a:lnTo>
                  <a:lnTo>
                    <a:pt x="249" y="125"/>
                  </a:lnTo>
                  <a:lnTo>
                    <a:pt x="257" y="97"/>
                  </a:lnTo>
                  <a:lnTo>
                    <a:pt x="198" y="76"/>
                  </a:lnTo>
                  <a:lnTo>
                    <a:pt x="114" y="62"/>
                  </a:lnTo>
                  <a:lnTo>
                    <a:pt x="63" y="61"/>
                  </a:lnTo>
                  <a:lnTo>
                    <a:pt x="34" y="61"/>
                  </a:lnTo>
                  <a:lnTo>
                    <a:pt x="13" y="49"/>
                  </a:lnTo>
                  <a:lnTo>
                    <a:pt x="1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2405880" y="3392640"/>
              <a:ext cx="104040" cy="97920"/>
            </a:xfrm>
            <a:custGeom>
              <a:avLst/>
              <a:gdLst/>
              <a:ahLst/>
              <a:rect l="l" t="t" r="r" b="b"/>
              <a:pathLst>
                <a:path w="205" h="171">
                  <a:moveTo>
                    <a:pt x="0" y="0"/>
                  </a:moveTo>
                  <a:lnTo>
                    <a:pt x="154" y="4"/>
                  </a:lnTo>
                  <a:lnTo>
                    <a:pt x="205" y="6"/>
                  </a:lnTo>
                  <a:lnTo>
                    <a:pt x="154" y="9"/>
                  </a:lnTo>
                  <a:lnTo>
                    <a:pt x="154" y="163"/>
                  </a:lnTo>
                  <a:lnTo>
                    <a:pt x="127" y="120"/>
                  </a:lnTo>
                  <a:lnTo>
                    <a:pt x="70" y="95"/>
                  </a:lnTo>
                  <a:lnTo>
                    <a:pt x="49" y="95"/>
                  </a:lnTo>
                  <a:lnTo>
                    <a:pt x="49" y="171"/>
                  </a:lnTo>
                  <a:lnTo>
                    <a:pt x="30" y="171"/>
                  </a:lnTo>
                  <a:lnTo>
                    <a:pt x="3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2247480" y="4006440"/>
              <a:ext cx="423000" cy="117360"/>
            </a:xfrm>
            <a:custGeom>
              <a:avLst/>
              <a:gdLst/>
              <a:ahLst/>
              <a:rect l="l" t="t" r="r" b="b"/>
              <a:pathLst>
                <a:path w="836" h="207">
                  <a:moveTo>
                    <a:pt x="0" y="207"/>
                  </a:moveTo>
                  <a:lnTo>
                    <a:pt x="44" y="175"/>
                  </a:lnTo>
                  <a:lnTo>
                    <a:pt x="293" y="184"/>
                  </a:lnTo>
                  <a:lnTo>
                    <a:pt x="314" y="164"/>
                  </a:lnTo>
                  <a:lnTo>
                    <a:pt x="74" y="156"/>
                  </a:lnTo>
                  <a:lnTo>
                    <a:pt x="146" y="116"/>
                  </a:lnTo>
                  <a:lnTo>
                    <a:pt x="257" y="80"/>
                  </a:lnTo>
                  <a:lnTo>
                    <a:pt x="479" y="97"/>
                  </a:lnTo>
                  <a:lnTo>
                    <a:pt x="289" y="72"/>
                  </a:lnTo>
                  <a:lnTo>
                    <a:pt x="610" y="13"/>
                  </a:lnTo>
                  <a:lnTo>
                    <a:pt x="836" y="21"/>
                  </a:lnTo>
                  <a:lnTo>
                    <a:pt x="606" y="0"/>
                  </a:lnTo>
                  <a:lnTo>
                    <a:pt x="293" y="57"/>
                  </a:lnTo>
                  <a:lnTo>
                    <a:pt x="234" y="57"/>
                  </a:lnTo>
                  <a:lnTo>
                    <a:pt x="201" y="84"/>
                  </a:lnTo>
                  <a:lnTo>
                    <a:pt x="66" y="145"/>
                  </a:lnTo>
                  <a:lnTo>
                    <a:pt x="19" y="160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2574720" y="3949200"/>
              <a:ext cx="1040760" cy="75240"/>
            </a:xfrm>
            <a:custGeom>
              <a:avLst/>
              <a:gdLst/>
              <a:ahLst/>
              <a:rect l="l" t="t" r="r" b="b"/>
              <a:pathLst>
                <a:path w="2063" h="131">
                  <a:moveTo>
                    <a:pt x="52" y="91"/>
                  </a:moveTo>
                  <a:lnTo>
                    <a:pt x="301" y="52"/>
                  </a:lnTo>
                  <a:lnTo>
                    <a:pt x="774" y="25"/>
                  </a:lnTo>
                  <a:lnTo>
                    <a:pt x="1310" y="13"/>
                  </a:lnTo>
                  <a:lnTo>
                    <a:pt x="1628" y="29"/>
                  </a:lnTo>
                  <a:lnTo>
                    <a:pt x="1913" y="55"/>
                  </a:lnTo>
                  <a:lnTo>
                    <a:pt x="1964" y="95"/>
                  </a:lnTo>
                  <a:lnTo>
                    <a:pt x="2063" y="131"/>
                  </a:lnTo>
                  <a:lnTo>
                    <a:pt x="1972" y="80"/>
                  </a:lnTo>
                  <a:lnTo>
                    <a:pt x="1913" y="44"/>
                  </a:lnTo>
                  <a:lnTo>
                    <a:pt x="1643" y="13"/>
                  </a:lnTo>
                  <a:lnTo>
                    <a:pt x="1341" y="0"/>
                  </a:lnTo>
                  <a:lnTo>
                    <a:pt x="993" y="0"/>
                  </a:lnTo>
                  <a:lnTo>
                    <a:pt x="702" y="8"/>
                  </a:lnTo>
                  <a:lnTo>
                    <a:pt x="314" y="33"/>
                  </a:lnTo>
                  <a:lnTo>
                    <a:pt x="0" y="88"/>
                  </a:lnTo>
                  <a:lnTo>
                    <a:pt x="52" y="91"/>
                  </a:lnTo>
                  <a:lnTo>
                    <a:pt x="5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2371680" y="4238280"/>
              <a:ext cx="1296360" cy="406080"/>
            </a:xfrm>
            <a:custGeom>
              <a:avLst/>
              <a:gdLst/>
              <a:ahLst/>
              <a:rect l="l" t="t" r="r" b="b"/>
              <a:pathLst>
                <a:path w="2569" h="713">
                  <a:moveTo>
                    <a:pt x="19" y="471"/>
                  </a:moveTo>
                  <a:lnTo>
                    <a:pt x="599" y="435"/>
                  </a:lnTo>
                  <a:lnTo>
                    <a:pt x="605" y="388"/>
                  </a:lnTo>
                  <a:lnTo>
                    <a:pt x="628" y="428"/>
                  </a:lnTo>
                  <a:lnTo>
                    <a:pt x="1515" y="340"/>
                  </a:lnTo>
                  <a:lnTo>
                    <a:pt x="1519" y="296"/>
                  </a:lnTo>
                  <a:lnTo>
                    <a:pt x="1498" y="249"/>
                  </a:lnTo>
                  <a:lnTo>
                    <a:pt x="1498" y="194"/>
                  </a:lnTo>
                  <a:lnTo>
                    <a:pt x="1550" y="161"/>
                  </a:lnTo>
                  <a:lnTo>
                    <a:pt x="1527" y="201"/>
                  </a:lnTo>
                  <a:lnTo>
                    <a:pt x="1527" y="241"/>
                  </a:lnTo>
                  <a:lnTo>
                    <a:pt x="1550" y="277"/>
                  </a:lnTo>
                  <a:lnTo>
                    <a:pt x="1586" y="293"/>
                  </a:lnTo>
                  <a:lnTo>
                    <a:pt x="1654" y="304"/>
                  </a:lnTo>
                  <a:lnTo>
                    <a:pt x="1666" y="357"/>
                  </a:lnTo>
                  <a:lnTo>
                    <a:pt x="1726" y="357"/>
                  </a:lnTo>
                  <a:lnTo>
                    <a:pt x="1734" y="300"/>
                  </a:lnTo>
                  <a:lnTo>
                    <a:pt x="1865" y="293"/>
                  </a:lnTo>
                  <a:lnTo>
                    <a:pt x="1869" y="336"/>
                  </a:lnTo>
                  <a:lnTo>
                    <a:pt x="1939" y="333"/>
                  </a:lnTo>
                  <a:lnTo>
                    <a:pt x="1964" y="285"/>
                  </a:lnTo>
                  <a:lnTo>
                    <a:pt x="2112" y="268"/>
                  </a:lnTo>
                  <a:lnTo>
                    <a:pt x="2033" y="304"/>
                  </a:lnTo>
                  <a:lnTo>
                    <a:pt x="2029" y="365"/>
                  </a:lnTo>
                  <a:lnTo>
                    <a:pt x="1979" y="340"/>
                  </a:lnTo>
                  <a:lnTo>
                    <a:pt x="1979" y="365"/>
                  </a:lnTo>
                  <a:lnTo>
                    <a:pt x="2025" y="401"/>
                  </a:lnTo>
                  <a:lnTo>
                    <a:pt x="1968" y="401"/>
                  </a:lnTo>
                  <a:lnTo>
                    <a:pt x="1996" y="435"/>
                  </a:lnTo>
                  <a:lnTo>
                    <a:pt x="2095" y="435"/>
                  </a:lnTo>
                  <a:lnTo>
                    <a:pt x="2219" y="412"/>
                  </a:lnTo>
                  <a:lnTo>
                    <a:pt x="2310" y="361"/>
                  </a:lnTo>
                  <a:lnTo>
                    <a:pt x="2350" y="306"/>
                  </a:lnTo>
                  <a:lnTo>
                    <a:pt x="2323" y="296"/>
                  </a:lnTo>
                  <a:lnTo>
                    <a:pt x="2263" y="361"/>
                  </a:lnTo>
                  <a:lnTo>
                    <a:pt x="2291" y="293"/>
                  </a:lnTo>
                  <a:lnTo>
                    <a:pt x="2223" y="249"/>
                  </a:lnTo>
                  <a:lnTo>
                    <a:pt x="2369" y="230"/>
                  </a:lnTo>
                  <a:lnTo>
                    <a:pt x="2401" y="179"/>
                  </a:lnTo>
                  <a:lnTo>
                    <a:pt x="2415" y="95"/>
                  </a:lnTo>
                  <a:lnTo>
                    <a:pt x="2477" y="0"/>
                  </a:lnTo>
                  <a:lnTo>
                    <a:pt x="2525" y="78"/>
                  </a:lnTo>
                  <a:lnTo>
                    <a:pt x="2445" y="95"/>
                  </a:lnTo>
                  <a:lnTo>
                    <a:pt x="2434" y="131"/>
                  </a:lnTo>
                  <a:lnTo>
                    <a:pt x="2569" y="158"/>
                  </a:lnTo>
                  <a:lnTo>
                    <a:pt x="2434" y="169"/>
                  </a:lnTo>
                  <a:lnTo>
                    <a:pt x="2426" y="198"/>
                  </a:lnTo>
                  <a:lnTo>
                    <a:pt x="2470" y="230"/>
                  </a:lnTo>
                  <a:lnTo>
                    <a:pt x="2407" y="249"/>
                  </a:lnTo>
                  <a:lnTo>
                    <a:pt x="2405" y="304"/>
                  </a:lnTo>
                  <a:lnTo>
                    <a:pt x="2369" y="333"/>
                  </a:lnTo>
                  <a:lnTo>
                    <a:pt x="2365" y="380"/>
                  </a:lnTo>
                  <a:lnTo>
                    <a:pt x="2327" y="380"/>
                  </a:lnTo>
                  <a:lnTo>
                    <a:pt x="2223" y="437"/>
                  </a:lnTo>
                  <a:lnTo>
                    <a:pt x="2063" y="468"/>
                  </a:lnTo>
                  <a:lnTo>
                    <a:pt x="1960" y="464"/>
                  </a:lnTo>
                  <a:lnTo>
                    <a:pt x="1932" y="479"/>
                  </a:lnTo>
                  <a:lnTo>
                    <a:pt x="1934" y="437"/>
                  </a:lnTo>
                  <a:lnTo>
                    <a:pt x="1884" y="380"/>
                  </a:lnTo>
                  <a:lnTo>
                    <a:pt x="1833" y="361"/>
                  </a:lnTo>
                  <a:lnTo>
                    <a:pt x="1810" y="325"/>
                  </a:lnTo>
                  <a:lnTo>
                    <a:pt x="1761" y="333"/>
                  </a:lnTo>
                  <a:lnTo>
                    <a:pt x="1785" y="391"/>
                  </a:lnTo>
                  <a:lnTo>
                    <a:pt x="1721" y="412"/>
                  </a:lnTo>
                  <a:lnTo>
                    <a:pt x="1694" y="384"/>
                  </a:lnTo>
                  <a:lnTo>
                    <a:pt x="1639" y="365"/>
                  </a:lnTo>
                  <a:lnTo>
                    <a:pt x="1618" y="344"/>
                  </a:lnTo>
                  <a:lnTo>
                    <a:pt x="1603" y="397"/>
                  </a:lnTo>
                  <a:lnTo>
                    <a:pt x="1552" y="372"/>
                  </a:lnTo>
                  <a:lnTo>
                    <a:pt x="1567" y="424"/>
                  </a:lnTo>
                  <a:lnTo>
                    <a:pt x="1475" y="431"/>
                  </a:lnTo>
                  <a:lnTo>
                    <a:pt x="1495" y="369"/>
                  </a:lnTo>
                  <a:lnTo>
                    <a:pt x="692" y="443"/>
                  </a:lnTo>
                  <a:lnTo>
                    <a:pt x="723" y="500"/>
                  </a:lnTo>
                  <a:lnTo>
                    <a:pt x="683" y="547"/>
                  </a:lnTo>
                  <a:lnTo>
                    <a:pt x="707" y="572"/>
                  </a:lnTo>
                  <a:lnTo>
                    <a:pt x="660" y="618"/>
                  </a:lnTo>
                  <a:lnTo>
                    <a:pt x="609" y="618"/>
                  </a:lnTo>
                  <a:lnTo>
                    <a:pt x="599" y="536"/>
                  </a:lnTo>
                  <a:lnTo>
                    <a:pt x="624" y="496"/>
                  </a:lnTo>
                  <a:lnTo>
                    <a:pt x="591" y="475"/>
                  </a:lnTo>
                  <a:lnTo>
                    <a:pt x="525" y="475"/>
                  </a:lnTo>
                  <a:lnTo>
                    <a:pt x="249" y="488"/>
                  </a:lnTo>
                  <a:lnTo>
                    <a:pt x="226" y="532"/>
                  </a:lnTo>
                  <a:lnTo>
                    <a:pt x="162" y="492"/>
                  </a:lnTo>
                  <a:lnTo>
                    <a:pt x="158" y="511"/>
                  </a:lnTo>
                  <a:lnTo>
                    <a:pt x="219" y="580"/>
                  </a:lnTo>
                  <a:lnTo>
                    <a:pt x="318" y="623"/>
                  </a:lnTo>
                  <a:lnTo>
                    <a:pt x="409" y="627"/>
                  </a:lnTo>
                  <a:lnTo>
                    <a:pt x="540" y="595"/>
                  </a:lnTo>
                  <a:lnTo>
                    <a:pt x="595" y="639"/>
                  </a:lnTo>
                  <a:lnTo>
                    <a:pt x="667" y="654"/>
                  </a:lnTo>
                  <a:lnTo>
                    <a:pt x="624" y="690"/>
                  </a:lnTo>
                  <a:lnTo>
                    <a:pt x="540" y="690"/>
                  </a:lnTo>
                  <a:lnTo>
                    <a:pt x="489" y="707"/>
                  </a:lnTo>
                  <a:lnTo>
                    <a:pt x="417" y="713"/>
                  </a:lnTo>
                  <a:lnTo>
                    <a:pt x="377" y="694"/>
                  </a:lnTo>
                  <a:lnTo>
                    <a:pt x="321" y="713"/>
                  </a:lnTo>
                  <a:lnTo>
                    <a:pt x="255" y="707"/>
                  </a:lnTo>
                  <a:lnTo>
                    <a:pt x="215" y="639"/>
                  </a:lnTo>
                  <a:lnTo>
                    <a:pt x="135" y="639"/>
                  </a:lnTo>
                  <a:lnTo>
                    <a:pt x="131" y="572"/>
                  </a:lnTo>
                  <a:lnTo>
                    <a:pt x="91" y="602"/>
                  </a:lnTo>
                  <a:lnTo>
                    <a:pt x="95" y="532"/>
                  </a:lnTo>
                  <a:lnTo>
                    <a:pt x="67" y="500"/>
                  </a:lnTo>
                  <a:lnTo>
                    <a:pt x="0" y="500"/>
                  </a:lnTo>
                  <a:lnTo>
                    <a:pt x="19" y="471"/>
                  </a:lnTo>
                  <a:lnTo>
                    <a:pt x="19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712960" y="4217760"/>
              <a:ext cx="985320" cy="402480"/>
            </a:xfrm>
            <a:custGeom>
              <a:avLst/>
              <a:gdLst/>
              <a:ahLst/>
              <a:rect l="l" t="t" r="r" b="b"/>
              <a:pathLst>
                <a:path w="1953" h="707">
                  <a:moveTo>
                    <a:pt x="0" y="697"/>
                  </a:moveTo>
                  <a:lnTo>
                    <a:pt x="55" y="707"/>
                  </a:lnTo>
                  <a:lnTo>
                    <a:pt x="108" y="694"/>
                  </a:lnTo>
                  <a:lnTo>
                    <a:pt x="196" y="697"/>
                  </a:lnTo>
                  <a:lnTo>
                    <a:pt x="287" y="686"/>
                  </a:lnTo>
                  <a:lnTo>
                    <a:pt x="418" y="682"/>
                  </a:lnTo>
                  <a:lnTo>
                    <a:pt x="557" y="642"/>
                  </a:lnTo>
                  <a:lnTo>
                    <a:pt x="793" y="635"/>
                  </a:lnTo>
                  <a:lnTo>
                    <a:pt x="911" y="602"/>
                  </a:lnTo>
                  <a:lnTo>
                    <a:pt x="1154" y="602"/>
                  </a:lnTo>
                  <a:lnTo>
                    <a:pt x="1259" y="576"/>
                  </a:lnTo>
                  <a:lnTo>
                    <a:pt x="1449" y="555"/>
                  </a:lnTo>
                  <a:lnTo>
                    <a:pt x="1532" y="532"/>
                  </a:lnTo>
                  <a:lnTo>
                    <a:pt x="1652" y="540"/>
                  </a:lnTo>
                  <a:lnTo>
                    <a:pt x="1810" y="488"/>
                  </a:lnTo>
                  <a:lnTo>
                    <a:pt x="1953" y="479"/>
                  </a:lnTo>
                  <a:lnTo>
                    <a:pt x="1894" y="456"/>
                  </a:lnTo>
                  <a:lnTo>
                    <a:pt x="1810" y="424"/>
                  </a:lnTo>
                  <a:lnTo>
                    <a:pt x="1871" y="342"/>
                  </a:lnTo>
                  <a:lnTo>
                    <a:pt x="1930" y="194"/>
                  </a:lnTo>
                  <a:lnTo>
                    <a:pt x="1945" y="0"/>
                  </a:lnTo>
                  <a:lnTo>
                    <a:pt x="1911" y="201"/>
                  </a:lnTo>
                  <a:lnTo>
                    <a:pt x="1858" y="340"/>
                  </a:lnTo>
                  <a:lnTo>
                    <a:pt x="1766" y="441"/>
                  </a:lnTo>
                  <a:lnTo>
                    <a:pt x="1635" y="500"/>
                  </a:lnTo>
                  <a:lnTo>
                    <a:pt x="1477" y="517"/>
                  </a:lnTo>
                  <a:lnTo>
                    <a:pt x="1242" y="562"/>
                  </a:lnTo>
                  <a:lnTo>
                    <a:pt x="1118" y="583"/>
                  </a:lnTo>
                  <a:lnTo>
                    <a:pt x="954" y="576"/>
                  </a:lnTo>
                  <a:lnTo>
                    <a:pt x="867" y="496"/>
                  </a:lnTo>
                  <a:lnTo>
                    <a:pt x="785" y="507"/>
                  </a:lnTo>
                  <a:lnTo>
                    <a:pt x="791" y="555"/>
                  </a:lnTo>
                  <a:lnTo>
                    <a:pt x="757" y="562"/>
                  </a:lnTo>
                  <a:lnTo>
                    <a:pt x="705" y="515"/>
                  </a:lnTo>
                  <a:lnTo>
                    <a:pt x="597" y="523"/>
                  </a:lnTo>
                  <a:lnTo>
                    <a:pt x="582" y="587"/>
                  </a:lnTo>
                  <a:lnTo>
                    <a:pt x="534" y="606"/>
                  </a:lnTo>
                  <a:lnTo>
                    <a:pt x="538" y="543"/>
                  </a:lnTo>
                  <a:lnTo>
                    <a:pt x="454" y="551"/>
                  </a:lnTo>
                  <a:lnTo>
                    <a:pt x="437" y="616"/>
                  </a:lnTo>
                  <a:lnTo>
                    <a:pt x="397" y="616"/>
                  </a:lnTo>
                  <a:lnTo>
                    <a:pt x="390" y="562"/>
                  </a:lnTo>
                  <a:lnTo>
                    <a:pt x="295" y="568"/>
                  </a:lnTo>
                  <a:lnTo>
                    <a:pt x="295" y="616"/>
                  </a:lnTo>
                  <a:lnTo>
                    <a:pt x="262" y="619"/>
                  </a:lnTo>
                  <a:lnTo>
                    <a:pt x="224" y="576"/>
                  </a:lnTo>
                  <a:lnTo>
                    <a:pt x="120" y="576"/>
                  </a:lnTo>
                  <a:lnTo>
                    <a:pt x="120" y="532"/>
                  </a:lnTo>
                  <a:lnTo>
                    <a:pt x="184" y="528"/>
                  </a:lnTo>
                  <a:lnTo>
                    <a:pt x="131" y="460"/>
                  </a:lnTo>
                  <a:lnTo>
                    <a:pt x="101" y="515"/>
                  </a:lnTo>
                  <a:lnTo>
                    <a:pt x="97" y="583"/>
                  </a:lnTo>
                  <a:lnTo>
                    <a:pt x="135" y="623"/>
                  </a:lnTo>
                  <a:lnTo>
                    <a:pt x="200" y="608"/>
                  </a:lnTo>
                  <a:lnTo>
                    <a:pt x="232" y="642"/>
                  </a:lnTo>
                  <a:lnTo>
                    <a:pt x="141" y="667"/>
                  </a:lnTo>
                  <a:lnTo>
                    <a:pt x="80" y="635"/>
                  </a:lnTo>
                  <a:lnTo>
                    <a:pt x="51" y="671"/>
                  </a:lnTo>
                  <a:lnTo>
                    <a:pt x="0" y="697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516040" y="4496040"/>
              <a:ext cx="123840" cy="83160"/>
            </a:xfrm>
            <a:custGeom>
              <a:avLst/>
              <a:gdLst/>
              <a:ahLst/>
              <a:rect l="l" t="t" r="r" b="b"/>
              <a:pathLst>
                <a:path w="247" h="147">
                  <a:moveTo>
                    <a:pt x="0" y="128"/>
                  </a:moveTo>
                  <a:lnTo>
                    <a:pt x="80" y="111"/>
                  </a:lnTo>
                  <a:lnTo>
                    <a:pt x="135" y="55"/>
                  </a:lnTo>
                  <a:lnTo>
                    <a:pt x="160" y="4"/>
                  </a:lnTo>
                  <a:lnTo>
                    <a:pt x="247" y="0"/>
                  </a:lnTo>
                  <a:lnTo>
                    <a:pt x="240" y="111"/>
                  </a:lnTo>
                  <a:lnTo>
                    <a:pt x="156" y="135"/>
                  </a:lnTo>
                  <a:lnTo>
                    <a:pt x="84" y="147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2544120" y="4076280"/>
              <a:ext cx="266760" cy="195120"/>
            </a:xfrm>
            <a:custGeom>
              <a:avLst/>
              <a:gdLst/>
              <a:ahLst/>
              <a:rect l="l" t="t" r="r" b="b"/>
              <a:pathLst>
                <a:path w="529" h="342">
                  <a:moveTo>
                    <a:pt x="12" y="342"/>
                  </a:moveTo>
                  <a:lnTo>
                    <a:pt x="38" y="306"/>
                  </a:lnTo>
                  <a:lnTo>
                    <a:pt x="421" y="281"/>
                  </a:lnTo>
                  <a:lnTo>
                    <a:pt x="529" y="0"/>
                  </a:lnTo>
                  <a:lnTo>
                    <a:pt x="325" y="17"/>
                  </a:lnTo>
                  <a:lnTo>
                    <a:pt x="297" y="87"/>
                  </a:lnTo>
                  <a:lnTo>
                    <a:pt x="358" y="182"/>
                  </a:lnTo>
                  <a:lnTo>
                    <a:pt x="173" y="108"/>
                  </a:lnTo>
                  <a:lnTo>
                    <a:pt x="306" y="192"/>
                  </a:lnTo>
                  <a:lnTo>
                    <a:pt x="263" y="214"/>
                  </a:lnTo>
                  <a:lnTo>
                    <a:pt x="257" y="273"/>
                  </a:lnTo>
                  <a:lnTo>
                    <a:pt x="219" y="211"/>
                  </a:lnTo>
                  <a:lnTo>
                    <a:pt x="118" y="214"/>
                  </a:lnTo>
                  <a:lnTo>
                    <a:pt x="126" y="258"/>
                  </a:lnTo>
                  <a:lnTo>
                    <a:pt x="198" y="254"/>
                  </a:lnTo>
                  <a:lnTo>
                    <a:pt x="206" y="281"/>
                  </a:lnTo>
                  <a:lnTo>
                    <a:pt x="35" y="287"/>
                  </a:lnTo>
                  <a:lnTo>
                    <a:pt x="0" y="313"/>
                  </a:lnTo>
                  <a:lnTo>
                    <a:pt x="12" y="342"/>
                  </a:lnTo>
                  <a:lnTo>
                    <a:pt x="12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831040" y="4050000"/>
              <a:ext cx="361080" cy="263160"/>
            </a:xfrm>
            <a:custGeom>
              <a:avLst/>
              <a:gdLst/>
              <a:ahLst/>
              <a:rect l="l" t="t" r="r" b="b"/>
              <a:pathLst>
                <a:path w="715" h="462">
                  <a:moveTo>
                    <a:pt x="4" y="36"/>
                  </a:moveTo>
                  <a:lnTo>
                    <a:pt x="47" y="247"/>
                  </a:lnTo>
                  <a:lnTo>
                    <a:pt x="44" y="314"/>
                  </a:lnTo>
                  <a:lnTo>
                    <a:pt x="0" y="462"/>
                  </a:lnTo>
                  <a:lnTo>
                    <a:pt x="63" y="318"/>
                  </a:lnTo>
                  <a:lnTo>
                    <a:pt x="78" y="295"/>
                  </a:lnTo>
                  <a:lnTo>
                    <a:pt x="620" y="255"/>
                  </a:lnTo>
                  <a:lnTo>
                    <a:pt x="715" y="48"/>
                  </a:lnTo>
                  <a:lnTo>
                    <a:pt x="627" y="175"/>
                  </a:lnTo>
                  <a:lnTo>
                    <a:pt x="576" y="124"/>
                  </a:lnTo>
                  <a:lnTo>
                    <a:pt x="576" y="51"/>
                  </a:lnTo>
                  <a:lnTo>
                    <a:pt x="633" y="0"/>
                  </a:lnTo>
                  <a:lnTo>
                    <a:pt x="218" y="19"/>
                  </a:lnTo>
                  <a:lnTo>
                    <a:pt x="4" y="36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819160" y="4493880"/>
              <a:ext cx="44280" cy="2268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0" y="0"/>
                  </a:moveTo>
                  <a:lnTo>
                    <a:pt x="19" y="39"/>
                  </a:lnTo>
                  <a:lnTo>
                    <a:pt x="88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879640" y="4464000"/>
              <a:ext cx="53280" cy="47520"/>
            </a:xfrm>
            <a:custGeom>
              <a:avLst/>
              <a:gdLst/>
              <a:ahLst/>
              <a:rect l="l" t="t" r="r" b="b"/>
              <a:pathLst>
                <a:path w="106" h="86">
                  <a:moveTo>
                    <a:pt x="44" y="6"/>
                  </a:moveTo>
                  <a:lnTo>
                    <a:pt x="0" y="86"/>
                  </a:lnTo>
                  <a:lnTo>
                    <a:pt x="106" y="76"/>
                  </a:lnTo>
                  <a:lnTo>
                    <a:pt x="70" y="50"/>
                  </a:lnTo>
                  <a:lnTo>
                    <a:pt x="70" y="0"/>
                  </a:lnTo>
                  <a:lnTo>
                    <a:pt x="44" y="6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002760" y="4452480"/>
              <a:ext cx="51480" cy="4104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0" y="73"/>
                  </a:moveTo>
                  <a:lnTo>
                    <a:pt x="38" y="0"/>
                  </a:lnTo>
                  <a:lnTo>
                    <a:pt x="63" y="0"/>
                  </a:lnTo>
                  <a:lnTo>
                    <a:pt x="71" y="40"/>
                  </a:lnTo>
                  <a:lnTo>
                    <a:pt x="103" y="69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82400" y="4484880"/>
              <a:ext cx="129240" cy="47520"/>
            </a:xfrm>
            <a:custGeom>
              <a:avLst/>
              <a:gdLst/>
              <a:ahLst/>
              <a:rect l="l" t="t" r="r" b="b"/>
              <a:pathLst>
                <a:path w="254" h="84">
                  <a:moveTo>
                    <a:pt x="0" y="18"/>
                  </a:moveTo>
                  <a:lnTo>
                    <a:pt x="62" y="80"/>
                  </a:lnTo>
                  <a:lnTo>
                    <a:pt x="154" y="84"/>
                  </a:lnTo>
                  <a:lnTo>
                    <a:pt x="254" y="29"/>
                  </a:lnTo>
                  <a:lnTo>
                    <a:pt x="182" y="0"/>
                  </a:lnTo>
                  <a:lnTo>
                    <a:pt x="167" y="61"/>
                  </a:lnTo>
                  <a:lnTo>
                    <a:pt x="119" y="69"/>
                  </a:lnTo>
                  <a:lnTo>
                    <a:pt x="110" y="14"/>
                  </a:lnTo>
                  <a:lnTo>
                    <a:pt x="76" y="12"/>
                  </a:lnTo>
                  <a:lnTo>
                    <a:pt x="66" y="4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696760" y="4316760"/>
              <a:ext cx="485640" cy="39960"/>
            </a:xfrm>
            <a:custGeom>
              <a:avLst/>
              <a:gdLst/>
              <a:ahLst/>
              <a:rect l="l" t="t" r="r" b="b"/>
              <a:pathLst>
                <a:path w="962" h="70">
                  <a:moveTo>
                    <a:pt x="0" y="70"/>
                  </a:moveTo>
                  <a:lnTo>
                    <a:pt x="962" y="0"/>
                  </a:lnTo>
                  <a:lnTo>
                    <a:pt x="827" y="40"/>
                  </a:lnTo>
                  <a:lnTo>
                    <a:pt x="555" y="47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54320" y="4047480"/>
              <a:ext cx="419760" cy="250920"/>
            </a:xfrm>
            <a:custGeom>
              <a:avLst/>
              <a:gdLst/>
              <a:ahLst/>
              <a:rect l="l" t="t" r="r" b="b"/>
              <a:pathLst>
                <a:path w="832" h="441">
                  <a:moveTo>
                    <a:pt x="0" y="287"/>
                  </a:moveTo>
                  <a:lnTo>
                    <a:pt x="89" y="420"/>
                  </a:lnTo>
                  <a:lnTo>
                    <a:pt x="127" y="339"/>
                  </a:lnTo>
                  <a:lnTo>
                    <a:pt x="173" y="322"/>
                  </a:lnTo>
                  <a:lnTo>
                    <a:pt x="195" y="223"/>
                  </a:lnTo>
                  <a:lnTo>
                    <a:pt x="159" y="139"/>
                  </a:lnTo>
                  <a:lnTo>
                    <a:pt x="156" y="48"/>
                  </a:lnTo>
                  <a:lnTo>
                    <a:pt x="112" y="4"/>
                  </a:lnTo>
                  <a:lnTo>
                    <a:pt x="446" y="0"/>
                  </a:lnTo>
                  <a:lnTo>
                    <a:pt x="701" y="40"/>
                  </a:lnTo>
                  <a:lnTo>
                    <a:pt x="789" y="112"/>
                  </a:lnTo>
                  <a:lnTo>
                    <a:pt x="832" y="226"/>
                  </a:lnTo>
                  <a:lnTo>
                    <a:pt x="756" y="139"/>
                  </a:lnTo>
                  <a:lnTo>
                    <a:pt x="618" y="109"/>
                  </a:lnTo>
                  <a:lnTo>
                    <a:pt x="720" y="112"/>
                  </a:lnTo>
                  <a:lnTo>
                    <a:pt x="602" y="48"/>
                  </a:lnTo>
                  <a:lnTo>
                    <a:pt x="490" y="55"/>
                  </a:lnTo>
                  <a:lnTo>
                    <a:pt x="410" y="131"/>
                  </a:lnTo>
                  <a:lnTo>
                    <a:pt x="374" y="198"/>
                  </a:lnTo>
                  <a:lnTo>
                    <a:pt x="450" y="171"/>
                  </a:lnTo>
                  <a:lnTo>
                    <a:pt x="545" y="135"/>
                  </a:lnTo>
                  <a:lnTo>
                    <a:pt x="465" y="200"/>
                  </a:lnTo>
                  <a:lnTo>
                    <a:pt x="338" y="238"/>
                  </a:lnTo>
                  <a:lnTo>
                    <a:pt x="211" y="251"/>
                  </a:lnTo>
                  <a:lnTo>
                    <a:pt x="156" y="430"/>
                  </a:lnTo>
                  <a:lnTo>
                    <a:pt x="85" y="441"/>
                  </a:lnTo>
                  <a:lnTo>
                    <a:pt x="0" y="28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2752560" y="4262040"/>
              <a:ext cx="84600" cy="6372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0"/>
                  </a:moveTo>
                  <a:lnTo>
                    <a:pt x="91" y="112"/>
                  </a:lnTo>
                  <a:lnTo>
                    <a:pt x="131" y="112"/>
                  </a:lnTo>
                  <a:lnTo>
                    <a:pt x="167" y="9"/>
                  </a:lnTo>
                  <a:lnTo>
                    <a:pt x="124" y="40"/>
                  </a:lnTo>
                  <a:lnTo>
                    <a:pt x="95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2904840" y="4256640"/>
              <a:ext cx="34920" cy="4068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4" y="72"/>
                  </a:moveTo>
                  <a:lnTo>
                    <a:pt x="36" y="72"/>
                  </a:lnTo>
                  <a:lnTo>
                    <a:pt x="55" y="44"/>
                  </a:lnTo>
                  <a:lnTo>
                    <a:pt x="71" y="44"/>
                  </a:lnTo>
                  <a:lnTo>
                    <a:pt x="67" y="15"/>
                  </a:lnTo>
                  <a:lnTo>
                    <a:pt x="42" y="0"/>
                  </a:lnTo>
                  <a:lnTo>
                    <a:pt x="19" y="4"/>
                  </a:lnTo>
                  <a:lnTo>
                    <a:pt x="6" y="34"/>
                  </a:lnTo>
                  <a:lnTo>
                    <a:pt x="0" y="53"/>
                  </a:lnTo>
                  <a:lnTo>
                    <a:pt x="4" y="72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2865600" y="4248360"/>
              <a:ext cx="92520" cy="81000"/>
            </a:xfrm>
            <a:custGeom>
              <a:avLst/>
              <a:gdLst/>
              <a:ahLst/>
              <a:rect l="l" t="t" r="r" b="b"/>
              <a:pathLst>
                <a:path w="185" h="141">
                  <a:moveTo>
                    <a:pt x="152" y="0"/>
                  </a:moveTo>
                  <a:lnTo>
                    <a:pt x="168" y="40"/>
                  </a:lnTo>
                  <a:lnTo>
                    <a:pt x="168" y="82"/>
                  </a:lnTo>
                  <a:lnTo>
                    <a:pt x="141" y="125"/>
                  </a:lnTo>
                  <a:lnTo>
                    <a:pt x="95" y="129"/>
                  </a:lnTo>
                  <a:lnTo>
                    <a:pt x="67" y="118"/>
                  </a:lnTo>
                  <a:lnTo>
                    <a:pt x="44" y="85"/>
                  </a:lnTo>
                  <a:lnTo>
                    <a:pt x="0" y="78"/>
                  </a:lnTo>
                  <a:lnTo>
                    <a:pt x="21" y="118"/>
                  </a:lnTo>
                  <a:lnTo>
                    <a:pt x="56" y="141"/>
                  </a:lnTo>
                  <a:lnTo>
                    <a:pt x="126" y="141"/>
                  </a:lnTo>
                  <a:lnTo>
                    <a:pt x="162" y="123"/>
                  </a:lnTo>
                  <a:lnTo>
                    <a:pt x="181" y="85"/>
                  </a:lnTo>
                  <a:lnTo>
                    <a:pt x="185" y="51"/>
                  </a:lnTo>
                  <a:lnTo>
                    <a:pt x="170" y="1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2868480" y="4234680"/>
              <a:ext cx="59400" cy="27360"/>
            </a:xfrm>
            <a:custGeom>
              <a:avLst/>
              <a:gdLst/>
              <a:ahLst/>
              <a:rect l="l" t="t" r="r" b="b"/>
              <a:pathLst>
                <a:path w="118" h="48">
                  <a:moveTo>
                    <a:pt x="19" y="36"/>
                  </a:moveTo>
                  <a:lnTo>
                    <a:pt x="30" y="17"/>
                  </a:lnTo>
                  <a:lnTo>
                    <a:pt x="78" y="6"/>
                  </a:lnTo>
                  <a:lnTo>
                    <a:pt x="118" y="8"/>
                  </a:lnTo>
                  <a:lnTo>
                    <a:pt x="78" y="0"/>
                  </a:lnTo>
                  <a:lnTo>
                    <a:pt x="40" y="0"/>
                  </a:lnTo>
                  <a:lnTo>
                    <a:pt x="19" y="13"/>
                  </a:lnTo>
                  <a:lnTo>
                    <a:pt x="0" y="48"/>
                  </a:lnTo>
                  <a:lnTo>
                    <a:pt x="19" y="36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359160" y="4144680"/>
              <a:ext cx="176760" cy="133200"/>
            </a:xfrm>
            <a:custGeom>
              <a:avLst/>
              <a:gdLst/>
              <a:ahLst/>
              <a:rect l="l" t="t" r="r" b="b"/>
              <a:pathLst>
                <a:path w="349" h="234">
                  <a:moveTo>
                    <a:pt x="0" y="234"/>
                  </a:moveTo>
                  <a:lnTo>
                    <a:pt x="136" y="187"/>
                  </a:lnTo>
                  <a:lnTo>
                    <a:pt x="171" y="76"/>
                  </a:lnTo>
                  <a:lnTo>
                    <a:pt x="247" y="2"/>
                  </a:lnTo>
                  <a:lnTo>
                    <a:pt x="313" y="0"/>
                  </a:lnTo>
                  <a:lnTo>
                    <a:pt x="349" y="38"/>
                  </a:lnTo>
                  <a:lnTo>
                    <a:pt x="268" y="29"/>
                  </a:lnTo>
                  <a:lnTo>
                    <a:pt x="212" y="71"/>
                  </a:lnTo>
                  <a:lnTo>
                    <a:pt x="188" y="139"/>
                  </a:lnTo>
                  <a:lnTo>
                    <a:pt x="188" y="173"/>
                  </a:lnTo>
                  <a:lnTo>
                    <a:pt x="250" y="103"/>
                  </a:lnTo>
                  <a:lnTo>
                    <a:pt x="315" y="103"/>
                  </a:lnTo>
                  <a:lnTo>
                    <a:pt x="332" y="162"/>
                  </a:lnTo>
                  <a:lnTo>
                    <a:pt x="277" y="128"/>
                  </a:lnTo>
                  <a:lnTo>
                    <a:pt x="235" y="141"/>
                  </a:lnTo>
                  <a:lnTo>
                    <a:pt x="180" y="194"/>
                  </a:lnTo>
                  <a:lnTo>
                    <a:pt x="133" y="223"/>
                  </a:lnTo>
                  <a:lnTo>
                    <a:pt x="0" y="234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442320" y="4250880"/>
              <a:ext cx="120960" cy="106920"/>
            </a:xfrm>
            <a:custGeom>
              <a:avLst/>
              <a:gdLst/>
              <a:ahLst/>
              <a:rect l="l" t="t" r="r" b="b"/>
              <a:pathLst>
                <a:path w="240" h="188">
                  <a:moveTo>
                    <a:pt x="224" y="5"/>
                  </a:moveTo>
                  <a:lnTo>
                    <a:pt x="219" y="72"/>
                  </a:lnTo>
                  <a:lnTo>
                    <a:pt x="192" y="123"/>
                  </a:lnTo>
                  <a:lnTo>
                    <a:pt x="124" y="133"/>
                  </a:lnTo>
                  <a:lnTo>
                    <a:pt x="78" y="108"/>
                  </a:lnTo>
                  <a:lnTo>
                    <a:pt x="61" y="135"/>
                  </a:lnTo>
                  <a:lnTo>
                    <a:pt x="0" y="148"/>
                  </a:lnTo>
                  <a:lnTo>
                    <a:pt x="99" y="188"/>
                  </a:lnTo>
                  <a:lnTo>
                    <a:pt x="192" y="173"/>
                  </a:lnTo>
                  <a:lnTo>
                    <a:pt x="230" y="119"/>
                  </a:lnTo>
                  <a:lnTo>
                    <a:pt x="240" y="78"/>
                  </a:lnTo>
                  <a:lnTo>
                    <a:pt x="240" y="34"/>
                  </a:lnTo>
                  <a:lnTo>
                    <a:pt x="234" y="0"/>
                  </a:lnTo>
                  <a:lnTo>
                    <a:pt x="224" y="5"/>
                  </a:lnTo>
                  <a:lnTo>
                    <a:pt x="2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411720" y="4421880"/>
              <a:ext cx="78480" cy="39600"/>
            </a:xfrm>
            <a:custGeom>
              <a:avLst/>
              <a:gdLst/>
              <a:ahLst/>
              <a:rect l="l" t="t" r="r" b="b"/>
              <a:pathLst>
                <a:path w="156" h="70">
                  <a:moveTo>
                    <a:pt x="0" y="0"/>
                  </a:moveTo>
                  <a:lnTo>
                    <a:pt x="57" y="36"/>
                  </a:lnTo>
                  <a:lnTo>
                    <a:pt x="156" y="50"/>
                  </a:lnTo>
                  <a:lnTo>
                    <a:pt x="32" y="70"/>
                  </a:lnTo>
                  <a:lnTo>
                    <a:pt x="8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924560" y="4595400"/>
              <a:ext cx="473400" cy="79920"/>
            </a:xfrm>
            <a:custGeom>
              <a:avLst/>
              <a:gdLst/>
              <a:ahLst/>
              <a:rect l="l" t="t" r="r" b="b"/>
              <a:pathLst>
                <a:path w="937" h="141">
                  <a:moveTo>
                    <a:pt x="937" y="141"/>
                  </a:moveTo>
                  <a:lnTo>
                    <a:pt x="449" y="133"/>
                  </a:lnTo>
                  <a:lnTo>
                    <a:pt x="131" y="78"/>
                  </a:lnTo>
                  <a:lnTo>
                    <a:pt x="0" y="63"/>
                  </a:lnTo>
                  <a:lnTo>
                    <a:pt x="171" y="48"/>
                  </a:lnTo>
                  <a:lnTo>
                    <a:pt x="365" y="0"/>
                  </a:lnTo>
                  <a:lnTo>
                    <a:pt x="597" y="55"/>
                  </a:lnTo>
                  <a:lnTo>
                    <a:pt x="814" y="116"/>
                  </a:lnTo>
                  <a:lnTo>
                    <a:pt x="937" y="141"/>
                  </a:lnTo>
                  <a:lnTo>
                    <a:pt x="937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LIPPERS" descr=""/>
          <p:cNvPicPr/>
          <p:nvPr/>
        </p:nvPicPr>
        <p:blipFill>
          <a:blip r:embed="rId1"/>
          <a:stretch/>
        </p:blipFill>
        <p:spPr>
          <a:xfrm>
            <a:off x="1295280" y="2479680"/>
            <a:ext cx="1685880" cy="2658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306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ARNOWL" descr=""/>
          <p:cNvPicPr/>
          <p:nvPr/>
        </p:nvPicPr>
        <p:blipFill>
          <a:blip r:embed="rId2"/>
          <a:stretch/>
        </p:blipFill>
        <p:spPr>
          <a:xfrm>
            <a:off x="6019920" y="290988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9" name="WIDETREE" descr=""/>
          <p:cNvPicPr/>
          <p:nvPr/>
        </p:nvPicPr>
        <p:blipFill>
          <a:blip r:embed="rId1"/>
          <a:stretch/>
        </p:blipFill>
        <p:spPr>
          <a:xfrm>
            <a:off x="1219320" y="2370240"/>
            <a:ext cx="1931760" cy="2878200"/>
          </a:xfrm>
          <a:prstGeom prst="rect">
            <a:avLst/>
          </a:prstGeom>
          <a:ln w="0">
            <a:noFill/>
          </a:ln>
        </p:spPr>
      </p:pic>
      <p:sp>
        <p:nvSpPr>
          <p:cNvPr id="4220" name=""/>
          <p:cNvSpPr/>
          <p:nvPr/>
        </p:nvSpPr>
        <p:spPr>
          <a:xfrm>
            <a:off x="205920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685980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2" name="bd00163_" descr=""/>
          <p:cNvPicPr/>
          <p:nvPr/>
        </p:nvPicPr>
        <p:blipFill>
          <a:blip r:embed="rId2"/>
          <a:stretch/>
        </p:blipFill>
        <p:spPr>
          <a:xfrm>
            <a:off x="5791320" y="3030480"/>
            <a:ext cx="21445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3" name="COFFEE" descr=""/>
          <p:cNvPicPr/>
          <p:nvPr/>
        </p:nvPicPr>
        <p:blipFill>
          <a:blip r:embed="rId1"/>
          <a:stretch/>
        </p:blipFill>
        <p:spPr>
          <a:xfrm>
            <a:off x="1295280" y="2724120"/>
            <a:ext cx="1944720" cy="2171880"/>
          </a:xfrm>
          <a:prstGeom prst="rect">
            <a:avLst/>
          </a:prstGeom>
          <a:ln w="0">
            <a:noFill/>
          </a:ln>
        </p:spPr>
      </p:pic>
      <p:sp>
        <p:nvSpPr>
          <p:cNvPr id="4224" name=""/>
          <p:cNvSpPr/>
          <p:nvPr/>
        </p:nvSpPr>
        <p:spPr>
          <a:xfrm>
            <a:off x="1982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6783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6" name="j0106966" descr=""/>
          <p:cNvPicPr/>
          <p:nvPr/>
        </p:nvPicPr>
        <p:blipFill>
          <a:blip r:embed="rId2"/>
          <a:stretch/>
        </p:blipFill>
        <p:spPr>
          <a:xfrm>
            <a:off x="5334120" y="2784600"/>
            <a:ext cx="2743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7" name=""/>
          <p:cNvGrpSpPr/>
          <p:nvPr/>
        </p:nvGrpSpPr>
        <p:grpSpPr>
          <a:xfrm>
            <a:off x="1600200" y="2808360"/>
            <a:ext cx="2400120" cy="2001600"/>
            <a:chOff x="1600200" y="2808360"/>
            <a:chExt cx="2400120" cy="2001600"/>
          </a:xfrm>
        </p:grpSpPr>
        <p:sp>
          <p:nvSpPr>
            <p:cNvPr id="4228" name=""/>
            <p:cNvSpPr/>
            <p:nvPr/>
          </p:nvSpPr>
          <p:spPr>
            <a:xfrm>
              <a:off x="1600200" y="2808360"/>
              <a:ext cx="2400120" cy="20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1609560" y="2815920"/>
              <a:ext cx="2381400" cy="1985760"/>
            </a:xfrm>
            <a:custGeom>
              <a:avLst/>
              <a:gdLst/>
              <a:ahLst/>
              <a:rect l="l" t="t" r="r" b="b"/>
              <a:pathLst>
                <a:path w="5999" h="5003">
                  <a:moveTo>
                    <a:pt x="761" y="1629"/>
                  </a:moveTo>
                  <a:lnTo>
                    <a:pt x="723" y="821"/>
                  </a:lnTo>
                  <a:lnTo>
                    <a:pt x="693" y="756"/>
                  </a:lnTo>
                  <a:lnTo>
                    <a:pt x="526" y="624"/>
                  </a:lnTo>
                  <a:lnTo>
                    <a:pt x="459" y="595"/>
                  </a:lnTo>
                  <a:lnTo>
                    <a:pt x="435" y="563"/>
                  </a:lnTo>
                  <a:lnTo>
                    <a:pt x="416" y="550"/>
                  </a:lnTo>
                  <a:lnTo>
                    <a:pt x="398" y="539"/>
                  </a:lnTo>
                  <a:lnTo>
                    <a:pt x="383" y="530"/>
                  </a:lnTo>
                  <a:lnTo>
                    <a:pt x="368" y="521"/>
                  </a:lnTo>
                  <a:lnTo>
                    <a:pt x="354" y="513"/>
                  </a:lnTo>
                  <a:lnTo>
                    <a:pt x="341" y="505"/>
                  </a:lnTo>
                  <a:lnTo>
                    <a:pt x="328" y="497"/>
                  </a:lnTo>
                  <a:lnTo>
                    <a:pt x="317" y="489"/>
                  </a:lnTo>
                  <a:lnTo>
                    <a:pt x="305" y="480"/>
                  </a:lnTo>
                  <a:lnTo>
                    <a:pt x="294" y="470"/>
                  </a:lnTo>
                  <a:lnTo>
                    <a:pt x="282" y="460"/>
                  </a:lnTo>
                  <a:lnTo>
                    <a:pt x="271" y="448"/>
                  </a:lnTo>
                  <a:lnTo>
                    <a:pt x="260" y="434"/>
                  </a:lnTo>
                  <a:lnTo>
                    <a:pt x="249" y="417"/>
                  </a:lnTo>
                  <a:lnTo>
                    <a:pt x="238" y="399"/>
                  </a:lnTo>
                  <a:lnTo>
                    <a:pt x="226" y="379"/>
                  </a:lnTo>
                  <a:lnTo>
                    <a:pt x="33" y="233"/>
                  </a:lnTo>
                  <a:lnTo>
                    <a:pt x="0" y="29"/>
                  </a:lnTo>
                  <a:lnTo>
                    <a:pt x="48" y="0"/>
                  </a:lnTo>
                  <a:lnTo>
                    <a:pt x="138" y="25"/>
                  </a:lnTo>
                  <a:lnTo>
                    <a:pt x="152" y="37"/>
                  </a:lnTo>
                  <a:lnTo>
                    <a:pt x="167" y="49"/>
                  </a:lnTo>
                  <a:lnTo>
                    <a:pt x="181" y="60"/>
                  </a:lnTo>
                  <a:lnTo>
                    <a:pt x="195" y="71"/>
                  </a:lnTo>
                  <a:lnTo>
                    <a:pt x="209" y="81"/>
                  </a:lnTo>
                  <a:lnTo>
                    <a:pt x="223" y="91"/>
                  </a:lnTo>
                  <a:lnTo>
                    <a:pt x="238" y="100"/>
                  </a:lnTo>
                  <a:lnTo>
                    <a:pt x="252" y="109"/>
                  </a:lnTo>
                  <a:lnTo>
                    <a:pt x="267" y="118"/>
                  </a:lnTo>
                  <a:lnTo>
                    <a:pt x="282" y="127"/>
                  </a:lnTo>
                  <a:lnTo>
                    <a:pt x="298" y="136"/>
                  </a:lnTo>
                  <a:lnTo>
                    <a:pt x="313" y="144"/>
                  </a:lnTo>
                  <a:lnTo>
                    <a:pt x="329" y="152"/>
                  </a:lnTo>
                  <a:lnTo>
                    <a:pt x="344" y="161"/>
                  </a:lnTo>
                  <a:lnTo>
                    <a:pt x="360" y="169"/>
                  </a:lnTo>
                  <a:lnTo>
                    <a:pt x="376" y="178"/>
                  </a:lnTo>
                  <a:lnTo>
                    <a:pt x="453" y="229"/>
                  </a:lnTo>
                  <a:lnTo>
                    <a:pt x="466" y="235"/>
                  </a:lnTo>
                  <a:lnTo>
                    <a:pt x="483" y="244"/>
                  </a:lnTo>
                  <a:lnTo>
                    <a:pt x="503" y="256"/>
                  </a:lnTo>
                  <a:lnTo>
                    <a:pt x="525" y="271"/>
                  </a:lnTo>
                  <a:lnTo>
                    <a:pt x="551" y="288"/>
                  </a:lnTo>
                  <a:lnTo>
                    <a:pt x="577" y="308"/>
                  </a:lnTo>
                  <a:lnTo>
                    <a:pt x="605" y="328"/>
                  </a:lnTo>
                  <a:lnTo>
                    <a:pt x="633" y="348"/>
                  </a:lnTo>
                  <a:lnTo>
                    <a:pt x="661" y="369"/>
                  </a:lnTo>
                  <a:lnTo>
                    <a:pt x="689" y="390"/>
                  </a:lnTo>
                  <a:lnTo>
                    <a:pt x="716" y="410"/>
                  </a:lnTo>
                  <a:lnTo>
                    <a:pt x="741" y="429"/>
                  </a:lnTo>
                  <a:lnTo>
                    <a:pt x="765" y="448"/>
                  </a:lnTo>
                  <a:lnTo>
                    <a:pt x="786" y="463"/>
                  </a:lnTo>
                  <a:lnTo>
                    <a:pt x="805" y="476"/>
                  </a:lnTo>
                  <a:lnTo>
                    <a:pt x="820" y="486"/>
                  </a:lnTo>
                  <a:lnTo>
                    <a:pt x="914" y="456"/>
                  </a:lnTo>
                  <a:lnTo>
                    <a:pt x="1016" y="430"/>
                  </a:lnTo>
                  <a:lnTo>
                    <a:pt x="1126" y="411"/>
                  </a:lnTo>
                  <a:lnTo>
                    <a:pt x="1241" y="398"/>
                  </a:lnTo>
                  <a:lnTo>
                    <a:pt x="1362" y="389"/>
                  </a:lnTo>
                  <a:lnTo>
                    <a:pt x="1489" y="386"/>
                  </a:lnTo>
                  <a:lnTo>
                    <a:pt x="1619" y="388"/>
                  </a:lnTo>
                  <a:lnTo>
                    <a:pt x="1754" y="394"/>
                  </a:lnTo>
                  <a:lnTo>
                    <a:pt x="1893" y="405"/>
                  </a:lnTo>
                  <a:lnTo>
                    <a:pt x="2034" y="421"/>
                  </a:lnTo>
                  <a:lnTo>
                    <a:pt x="2177" y="441"/>
                  </a:lnTo>
                  <a:lnTo>
                    <a:pt x="2324" y="465"/>
                  </a:lnTo>
                  <a:lnTo>
                    <a:pt x="2470" y="493"/>
                  </a:lnTo>
                  <a:lnTo>
                    <a:pt x="2617" y="525"/>
                  </a:lnTo>
                  <a:lnTo>
                    <a:pt x="2765" y="560"/>
                  </a:lnTo>
                  <a:lnTo>
                    <a:pt x="2912" y="600"/>
                  </a:lnTo>
                  <a:lnTo>
                    <a:pt x="3058" y="642"/>
                  </a:lnTo>
                  <a:lnTo>
                    <a:pt x="3203" y="688"/>
                  </a:lnTo>
                  <a:lnTo>
                    <a:pt x="3345" y="737"/>
                  </a:lnTo>
                  <a:lnTo>
                    <a:pt x="3485" y="789"/>
                  </a:lnTo>
                  <a:lnTo>
                    <a:pt x="3621" y="844"/>
                  </a:lnTo>
                  <a:lnTo>
                    <a:pt x="3754" y="900"/>
                  </a:lnTo>
                  <a:lnTo>
                    <a:pt x="3882" y="960"/>
                  </a:lnTo>
                  <a:lnTo>
                    <a:pt x="4005" y="1022"/>
                  </a:lnTo>
                  <a:lnTo>
                    <a:pt x="4123" y="1086"/>
                  </a:lnTo>
                  <a:lnTo>
                    <a:pt x="4235" y="1151"/>
                  </a:lnTo>
                  <a:lnTo>
                    <a:pt x="4340" y="1219"/>
                  </a:lnTo>
                  <a:lnTo>
                    <a:pt x="4437" y="1288"/>
                  </a:lnTo>
                  <a:lnTo>
                    <a:pt x="4527" y="1359"/>
                  </a:lnTo>
                  <a:lnTo>
                    <a:pt x="4610" y="1430"/>
                  </a:lnTo>
                  <a:lnTo>
                    <a:pt x="4682" y="1504"/>
                  </a:lnTo>
                  <a:lnTo>
                    <a:pt x="4746" y="1577"/>
                  </a:lnTo>
                  <a:lnTo>
                    <a:pt x="4815" y="1650"/>
                  </a:lnTo>
                  <a:lnTo>
                    <a:pt x="4882" y="1724"/>
                  </a:lnTo>
                  <a:lnTo>
                    <a:pt x="4945" y="1801"/>
                  </a:lnTo>
                  <a:lnTo>
                    <a:pt x="5008" y="1880"/>
                  </a:lnTo>
                  <a:lnTo>
                    <a:pt x="5067" y="1960"/>
                  </a:lnTo>
                  <a:lnTo>
                    <a:pt x="5124" y="2042"/>
                  </a:lnTo>
                  <a:lnTo>
                    <a:pt x="5179" y="2126"/>
                  </a:lnTo>
                  <a:lnTo>
                    <a:pt x="5232" y="2211"/>
                  </a:lnTo>
                  <a:lnTo>
                    <a:pt x="5282" y="2298"/>
                  </a:lnTo>
                  <a:lnTo>
                    <a:pt x="5330" y="2386"/>
                  </a:lnTo>
                  <a:lnTo>
                    <a:pt x="5376" y="2475"/>
                  </a:lnTo>
                  <a:lnTo>
                    <a:pt x="5420" y="2566"/>
                  </a:lnTo>
                  <a:lnTo>
                    <a:pt x="5463" y="2659"/>
                  </a:lnTo>
                  <a:lnTo>
                    <a:pt x="5503" y="2751"/>
                  </a:lnTo>
                  <a:lnTo>
                    <a:pt x="5540" y="2845"/>
                  </a:lnTo>
                  <a:lnTo>
                    <a:pt x="5576" y="2941"/>
                  </a:lnTo>
                  <a:lnTo>
                    <a:pt x="5612" y="3037"/>
                  </a:lnTo>
                  <a:lnTo>
                    <a:pt x="5644" y="3133"/>
                  </a:lnTo>
                  <a:lnTo>
                    <a:pt x="5675" y="3230"/>
                  </a:lnTo>
                  <a:lnTo>
                    <a:pt x="5704" y="3329"/>
                  </a:lnTo>
                  <a:lnTo>
                    <a:pt x="5732" y="3427"/>
                  </a:lnTo>
                  <a:lnTo>
                    <a:pt x="5758" y="3526"/>
                  </a:lnTo>
                  <a:lnTo>
                    <a:pt x="5782" y="3625"/>
                  </a:lnTo>
                  <a:lnTo>
                    <a:pt x="5805" y="3725"/>
                  </a:lnTo>
                  <a:lnTo>
                    <a:pt x="5826" y="3825"/>
                  </a:lnTo>
                  <a:lnTo>
                    <a:pt x="5847" y="3925"/>
                  </a:lnTo>
                  <a:lnTo>
                    <a:pt x="5865" y="4025"/>
                  </a:lnTo>
                  <a:lnTo>
                    <a:pt x="5882" y="4125"/>
                  </a:lnTo>
                  <a:lnTo>
                    <a:pt x="5898" y="4225"/>
                  </a:lnTo>
                  <a:lnTo>
                    <a:pt x="5912" y="4325"/>
                  </a:lnTo>
                  <a:lnTo>
                    <a:pt x="5926" y="4424"/>
                  </a:lnTo>
                  <a:lnTo>
                    <a:pt x="5938" y="4523"/>
                  </a:lnTo>
                  <a:lnTo>
                    <a:pt x="5957" y="4786"/>
                  </a:lnTo>
                  <a:lnTo>
                    <a:pt x="5985" y="4808"/>
                  </a:lnTo>
                  <a:lnTo>
                    <a:pt x="5999" y="4820"/>
                  </a:lnTo>
                  <a:lnTo>
                    <a:pt x="5998" y="4873"/>
                  </a:lnTo>
                  <a:lnTo>
                    <a:pt x="5973" y="4894"/>
                  </a:lnTo>
                  <a:lnTo>
                    <a:pt x="5832" y="4905"/>
                  </a:lnTo>
                  <a:lnTo>
                    <a:pt x="5697" y="4916"/>
                  </a:lnTo>
                  <a:lnTo>
                    <a:pt x="5566" y="4928"/>
                  </a:lnTo>
                  <a:lnTo>
                    <a:pt x="5439" y="4940"/>
                  </a:lnTo>
                  <a:lnTo>
                    <a:pt x="5315" y="4952"/>
                  </a:lnTo>
                  <a:lnTo>
                    <a:pt x="5195" y="4964"/>
                  </a:lnTo>
                  <a:lnTo>
                    <a:pt x="5077" y="4974"/>
                  </a:lnTo>
                  <a:lnTo>
                    <a:pt x="4963" y="4983"/>
                  </a:lnTo>
                  <a:lnTo>
                    <a:pt x="4849" y="4991"/>
                  </a:lnTo>
                  <a:lnTo>
                    <a:pt x="4738" y="4997"/>
                  </a:lnTo>
                  <a:lnTo>
                    <a:pt x="4627" y="5001"/>
                  </a:lnTo>
                  <a:lnTo>
                    <a:pt x="4518" y="5003"/>
                  </a:lnTo>
                  <a:lnTo>
                    <a:pt x="4409" y="5002"/>
                  </a:lnTo>
                  <a:lnTo>
                    <a:pt x="4300" y="4998"/>
                  </a:lnTo>
                  <a:lnTo>
                    <a:pt x="4191" y="4991"/>
                  </a:lnTo>
                  <a:lnTo>
                    <a:pt x="4083" y="4980"/>
                  </a:lnTo>
                  <a:lnTo>
                    <a:pt x="3972" y="4966"/>
                  </a:lnTo>
                  <a:lnTo>
                    <a:pt x="3860" y="4946"/>
                  </a:lnTo>
                  <a:lnTo>
                    <a:pt x="3747" y="4923"/>
                  </a:lnTo>
                  <a:lnTo>
                    <a:pt x="3632" y="4896"/>
                  </a:lnTo>
                  <a:lnTo>
                    <a:pt x="3514" y="4863"/>
                  </a:lnTo>
                  <a:lnTo>
                    <a:pt x="3393" y="4824"/>
                  </a:lnTo>
                  <a:lnTo>
                    <a:pt x="3269" y="4780"/>
                  </a:lnTo>
                  <a:lnTo>
                    <a:pt x="3141" y="4730"/>
                  </a:lnTo>
                  <a:lnTo>
                    <a:pt x="3010" y="4673"/>
                  </a:lnTo>
                  <a:lnTo>
                    <a:pt x="2874" y="4611"/>
                  </a:lnTo>
                  <a:lnTo>
                    <a:pt x="2734" y="4540"/>
                  </a:lnTo>
                  <a:lnTo>
                    <a:pt x="2589" y="4464"/>
                  </a:lnTo>
                  <a:lnTo>
                    <a:pt x="2438" y="4379"/>
                  </a:lnTo>
                  <a:lnTo>
                    <a:pt x="2281" y="4286"/>
                  </a:lnTo>
                  <a:lnTo>
                    <a:pt x="2118" y="4186"/>
                  </a:lnTo>
                  <a:lnTo>
                    <a:pt x="1949" y="4077"/>
                  </a:lnTo>
                  <a:lnTo>
                    <a:pt x="1884" y="3996"/>
                  </a:lnTo>
                  <a:lnTo>
                    <a:pt x="1822" y="3917"/>
                  </a:lnTo>
                  <a:lnTo>
                    <a:pt x="1763" y="3841"/>
                  </a:lnTo>
                  <a:lnTo>
                    <a:pt x="1707" y="3766"/>
                  </a:lnTo>
                  <a:lnTo>
                    <a:pt x="1653" y="3693"/>
                  </a:lnTo>
                  <a:lnTo>
                    <a:pt x="1602" y="3621"/>
                  </a:lnTo>
                  <a:lnTo>
                    <a:pt x="1554" y="3552"/>
                  </a:lnTo>
                  <a:lnTo>
                    <a:pt x="1507" y="3483"/>
                  </a:lnTo>
                  <a:lnTo>
                    <a:pt x="1463" y="3415"/>
                  </a:lnTo>
                  <a:lnTo>
                    <a:pt x="1420" y="3347"/>
                  </a:lnTo>
                  <a:lnTo>
                    <a:pt x="1380" y="3281"/>
                  </a:lnTo>
                  <a:lnTo>
                    <a:pt x="1342" y="3214"/>
                  </a:lnTo>
                  <a:lnTo>
                    <a:pt x="1305" y="3147"/>
                  </a:lnTo>
                  <a:lnTo>
                    <a:pt x="1269" y="3081"/>
                  </a:lnTo>
                  <a:lnTo>
                    <a:pt x="1236" y="3014"/>
                  </a:lnTo>
                  <a:lnTo>
                    <a:pt x="1203" y="2947"/>
                  </a:lnTo>
                  <a:lnTo>
                    <a:pt x="1171" y="2879"/>
                  </a:lnTo>
                  <a:lnTo>
                    <a:pt x="1141" y="2810"/>
                  </a:lnTo>
                  <a:lnTo>
                    <a:pt x="1112" y="2740"/>
                  </a:lnTo>
                  <a:lnTo>
                    <a:pt x="1083" y="2669"/>
                  </a:lnTo>
                  <a:lnTo>
                    <a:pt x="1056" y="2595"/>
                  </a:lnTo>
                  <a:lnTo>
                    <a:pt x="1028" y="2521"/>
                  </a:lnTo>
                  <a:lnTo>
                    <a:pt x="1001" y="2443"/>
                  </a:lnTo>
                  <a:lnTo>
                    <a:pt x="975" y="2364"/>
                  </a:lnTo>
                  <a:lnTo>
                    <a:pt x="949" y="2283"/>
                  </a:lnTo>
                  <a:lnTo>
                    <a:pt x="923" y="2199"/>
                  </a:lnTo>
                  <a:lnTo>
                    <a:pt x="896" y="2112"/>
                  </a:lnTo>
                  <a:lnTo>
                    <a:pt x="870" y="2022"/>
                  </a:lnTo>
                  <a:lnTo>
                    <a:pt x="844" y="1929"/>
                  </a:lnTo>
                  <a:lnTo>
                    <a:pt x="817" y="1832"/>
                  </a:lnTo>
                  <a:lnTo>
                    <a:pt x="789" y="1733"/>
                  </a:lnTo>
                  <a:lnTo>
                    <a:pt x="761" y="1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2006640" y="3261960"/>
              <a:ext cx="284040" cy="850680"/>
            </a:xfrm>
            <a:custGeom>
              <a:avLst/>
              <a:gdLst/>
              <a:ahLst/>
              <a:rect l="l" t="t" r="r" b="b"/>
              <a:pathLst>
                <a:path w="717" h="2143">
                  <a:moveTo>
                    <a:pt x="425" y="1805"/>
                  </a:moveTo>
                  <a:lnTo>
                    <a:pt x="390" y="1716"/>
                  </a:lnTo>
                  <a:lnTo>
                    <a:pt x="356" y="1639"/>
                  </a:lnTo>
                  <a:lnTo>
                    <a:pt x="324" y="1561"/>
                  </a:lnTo>
                  <a:lnTo>
                    <a:pt x="291" y="1482"/>
                  </a:lnTo>
                  <a:lnTo>
                    <a:pt x="261" y="1403"/>
                  </a:lnTo>
                  <a:lnTo>
                    <a:pt x="232" y="1324"/>
                  </a:lnTo>
                  <a:lnTo>
                    <a:pt x="205" y="1243"/>
                  </a:lnTo>
                  <a:lnTo>
                    <a:pt x="180" y="1163"/>
                  </a:lnTo>
                  <a:lnTo>
                    <a:pt x="155" y="1081"/>
                  </a:lnTo>
                  <a:lnTo>
                    <a:pt x="132" y="999"/>
                  </a:lnTo>
                  <a:lnTo>
                    <a:pt x="112" y="916"/>
                  </a:lnTo>
                  <a:lnTo>
                    <a:pt x="93" y="831"/>
                  </a:lnTo>
                  <a:lnTo>
                    <a:pt x="77" y="746"/>
                  </a:lnTo>
                  <a:lnTo>
                    <a:pt x="62" y="660"/>
                  </a:lnTo>
                  <a:lnTo>
                    <a:pt x="50" y="572"/>
                  </a:lnTo>
                  <a:lnTo>
                    <a:pt x="39" y="484"/>
                  </a:lnTo>
                  <a:lnTo>
                    <a:pt x="31" y="394"/>
                  </a:lnTo>
                  <a:lnTo>
                    <a:pt x="0" y="103"/>
                  </a:lnTo>
                  <a:lnTo>
                    <a:pt x="37" y="14"/>
                  </a:lnTo>
                  <a:lnTo>
                    <a:pt x="49" y="0"/>
                  </a:lnTo>
                  <a:lnTo>
                    <a:pt x="215" y="18"/>
                  </a:lnTo>
                  <a:lnTo>
                    <a:pt x="234" y="30"/>
                  </a:lnTo>
                  <a:lnTo>
                    <a:pt x="253" y="42"/>
                  </a:lnTo>
                  <a:lnTo>
                    <a:pt x="272" y="55"/>
                  </a:lnTo>
                  <a:lnTo>
                    <a:pt x="291" y="68"/>
                  </a:lnTo>
                  <a:lnTo>
                    <a:pt x="311" y="81"/>
                  </a:lnTo>
                  <a:lnTo>
                    <a:pt x="330" y="95"/>
                  </a:lnTo>
                  <a:lnTo>
                    <a:pt x="349" y="108"/>
                  </a:lnTo>
                  <a:lnTo>
                    <a:pt x="368" y="121"/>
                  </a:lnTo>
                  <a:lnTo>
                    <a:pt x="487" y="224"/>
                  </a:lnTo>
                  <a:lnTo>
                    <a:pt x="493" y="234"/>
                  </a:lnTo>
                  <a:lnTo>
                    <a:pt x="499" y="244"/>
                  </a:lnTo>
                  <a:lnTo>
                    <a:pt x="506" y="253"/>
                  </a:lnTo>
                  <a:lnTo>
                    <a:pt x="514" y="262"/>
                  </a:lnTo>
                  <a:lnTo>
                    <a:pt x="523" y="270"/>
                  </a:lnTo>
                  <a:lnTo>
                    <a:pt x="532" y="277"/>
                  </a:lnTo>
                  <a:lnTo>
                    <a:pt x="542" y="284"/>
                  </a:lnTo>
                  <a:lnTo>
                    <a:pt x="554" y="290"/>
                  </a:lnTo>
                  <a:lnTo>
                    <a:pt x="565" y="295"/>
                  </a:lnTo>
                  <a:lnTo>
                    <a:pt x="577" y="300"/>
                  </a:lnTo>
                  <a:lnTo>
                    <a:pt x="589" y="305"/>
                  </a:lnTo>
                  <a:lnTo>
                    <a:pt x="601" y="309"/>
                  </a:lnTo>
                  <a:lnTo>
                    <a:pt x="614" y="312"/>
                  </a:lnTo>
                  <a:lnTo>
                    <a:pt x="628" y="315"/>
                  </a:lnTo>
                  <a:lnTo>
                    <a:pt x="641" y="317"/>
                  </a:lnTo>
                  <a:lnTo>
                    <a:pt x="655" y="319"/>
                  </a:lnTo>
                  <a:lnTo>
                    <a:pt x="686" y="349"/>
                  </a:lnTo>
                  <a:lnTo>
                    <a:pt x="709" y="439"/>
                  </a:lnTo>
                  <a:lnTo>
                    <a:pt x="717" y="537"/>
                  </a:lnTo>
                  <a:lnTo>
                    <a:pt x="714" y="639"/>
                  </a:lnTo>
                  <a:lnTo>
                    <a:pt x="704" y="744"/>
                  </a:lnTo>
                  <a:lnTo>
                    <a:pt x="691" y="850"/>
                  </a:lnTo>
                  <a:lnTo>
                    <a:pt x="678" y="957"/>
                  </a:lnTo>
                  <a:lnTo>
                    <a:pt x="668" y="1063"/>
                  </a:lnTo>
                  <a:lnTo>
                    <a:pt x="667" y="1165"/>
                  </a:lnTo>
                  <a:lnTo>
                    <a:pt x="669" y="1971"/>
                  </a:lnTo>
                  <a:lnTo>
                    <a:pt x="643" y="2141"/>
                  </a:lnTo>
                  <a:lnTo>
                    <a:pt x="618" y="2143"/>
                  </a:lnTo>
                  <a:lnTo>
                    <a:pt x="462" y="1885"/>
                  </a:lnTo>
                  <a:lnTo>
                    <a:pt x="442" y="1840"/>
                  </a:lnTo>
                  <a:lnTo>
                    <a:pt x="425" y="180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2303280" y="3433680"/>
              <a:ext cx="354240" cy="1005840"/>
            </a:xfrm>
            <a:custGeom>
              <a:avLst/>
              <a:gdLst/>
              <a:ahLst/>
              <a:rect l="l" t="t" r="r" b="b"/>
              <a:pathLst>
                <a:path w="892" h="2538">
                  <a:moveTo>
                    <a:pt x="0" y="1896"/>
                  </a:moveTo>
                  <a:lnTo>
                    <a:pt x="35" y="1879"/>
                  </a:lnTo>
                  <a:lnTo>
                    <a:pt x="63" y="1490"/>
                  </a:lnTo>
                  <a:lnTo>
                    <a:pt x="52" y="1327"/>
                  </a:lnTo>
                  <a:lnTo>
                    <a:pt x="51" y="1161"/>
                  </a:lnTo>
                  <a:lnTo>
                    <a:pt x="59" y="992"/>
                  </a:lnTo>
                  <a:lnTo>
                    <a:pt x="73" y="819"/>
                  </a:lnTo>
                  <a:lnTo>
                    <a:pt x="90" y="645"/>
                  </a:lnTo>
                  <a:lnTo>
                    <a:pt x="109" y="469"/>
                  </a:lnTo>
                  <a:lnTo>
                    <a:pt x="128" y="293"/>
                  </a:lnTo>
                  <a:lnTo>
                    <a:pt x="145" y="118"/>
                  </a:lnTo>
                  <a:lnTo>
                    <a:pt x="147" y="29"/>
                  </a:lnTo>
                  <a:lnTo>
                    <a:pt x="169" y="0"/>
                  </a:lnTo>
                  <a:lnTo>
                    <a:pt x="226" y="9"/>
                  </a:lnTo>
                  <a:lnTo>
                    <a:pt x="253" y="31"/>
                  </a:lnTo>
                  <a:lnTo>
                    <a:pt x="278" y="64"/>
                  </a:lnTo>
                  <a:lnTo>
                    <a:pt x="416" y="175"/>
                  </a:lnTo>
                  <a:lnTo>
                    <a:pt x="462" y="196"/>
                  </a:lnTo>
                  <a:lnTo>
                    <a:pt x="501" y="258"/>
                  </a:lnTo>
                  <a:lnTo>
                    <a:pt x="581" y="316"/>
                  </a:lnTo>
                  <a:lnTo>
                    <a:pt x="644" y="392"/>
                  </a:lnTo>
                  <a:lnTo>
                    <a:pt x="674" y="421"/>
                  </a:lnTo>
                  <a:lnTo>
                    <a:pt x="698" y="437"/>
                  </a:lnTo>
                  <a:lnTo>
                    <a:pt x="751" y="509"/>
                  </a:lnTo>
                  <a:lnTo>
                    <a:pt x="785" y="526"/>
                  </a:lnTo>
                  <a:lnTo>
                    <a:pt x="825" y="553"/>
                  </a:lnTo>
                  <a:lnTo>
                    <a:pt x="841" y="572"/>
                  </a:lnTo>
                  <a:lnTo>
                    <a:pt x="878" y="667"/>
                  </a:lnTo>
                  <a:lnTo>
                    <a:pt x="872" y="732"/>
                  </a:lnTo>
                  <a:lnTo>
                    <a:pt x="886" y="821"/>
                  </a:lnTo>
                  <a:lnTo>
                    <a:pt x="892" y="911"/>
                  </a:lnTo>
                  <a:lnTo>
                    <a:pt x="892" y="1003"/>
                  </a:lnTo>
                  <a:lnTo>
                    <a:pt x="888" y="1098"/>
                  </a:lnTo>
                  <a:lnTo>
                    <a:pt x="882" y="1192"/>
                  </a:lnTo>
                  <a:lnTo>
                    <a:pt x="875" y="1288"/>
                  </a:lnTo>
                  <a:lnTo>
                    <a:pt x="869" y="1384"/>
                  </a:lnTo>
                  <a:lnTo>
                    <a:pt x="866" y="1480"/>
                  </a:lnTo>
                  <a:lnTo>
                    <a:pt x="801" y="2088"/>
                  </a:lnTo>
                  <a:lnTo>
                    <a:pt x="808" y="2235"/>
                  </a:lnTo>
                  <a:lnTo>
                    <a:pt x="799" y="2292"/>
                  </a:lnTo>
                  <a:lnTo>
                    <a:pt x="762" y="2528"/>
                  </a:lnTo>
                  <a:lnTo>
                    <a:pt x="705" y="2538"/>
                  </a:lnTo>
                  <a:lnTo>
                    <a:pt x="583" y="2464"/>
                  </a:lnTo>
                  <a:lnTo>
                    <a:pt x="244" y="2175"/>
                  </a:lnTo>
                  <a:lnTo>
                    <a:pt x="222" y="2143"/>
                  </a:lnTo>
                  <a:lnTo>
                    <a:pt x="187" y="2124"/>
                  </a:lnTo>
                  <a:lnTo>
                    <a:pt x="107" y="2030"/>
                  </a:lnTo>
                  <a:lnTo>
                    <a:pt x="83" y="2015"/>
                  </a:lnTo>
                  <a:lnTo>
                    <a:pt x="0" y="189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2643120" y="3754080"/>
              <a:ext cx="366840" cy="865080"/>
            </a:xfrm>
            <a:custGeom>
              <a:avLst/>
              <a:gdLst/>
              <a:ahLst/>
              <a:rect l="l" t="t" r="r" b="b"/>
              <a:pathLst>
                <a:path w="921" h="2178">
                  <a:moveTo>
                    <a:pt x="0" y="1806"/>
                  </a:moveTo>
                  <a:lnTo>
                    <a:pt x="54" y="1491"/>
                  </a:lnTo>
                  <a:lnTo>
                    <a:pt x="217" y="14"/>
                  </a:lnTo>
                  <a:lnTo>
                    <a:pt x="229" y="0"/>
                  </a:lnTo>
                  <a:lnTo>
                    <a:pt x="322" y="17"/>
                  </a:lnTo>
                  <a:lnTo>
                    <a:pt x="837" y="475"/>
                  </a:lnTo>
                  <a:lnTo>
                    <a:pt x="915" y="974"/>
                  </a:lnTo>
                  <a:lnTo>
                    <a:pt x="913" y="1027"/>
                  </a:lnTo>
                  <a:lnTo>
                    <a:pt x="913" y="1062"/>
                  </a:lnTo>
                  <a:lnTo>
                    <a:pt x="905" y="1215"/>
                  </a:lnTo>
                  <a:lnTo>
                    <a:pt x="904" y="1331"/>
                  </a:lnTo>
                  <a:lnTo>
                    <a:pt x="907" y="1444"/>
                  </a:lnTo>
                  <a:lnTo>
                    <a:pt x="913" y="1556"/>
                  </a:lnTo>
                  <a:lnTo>
                    <a:pt x="918" y="1668"/>
                  </a:lnTo>
                  <a:lnTo>
                    <a:pt x="921" y="1782"/>
                  </a:lnTo>
                  <a:lnTo>
                    <a:pt x="920" y="1898"/>
                  </a:lnTo>
                  <a:lnTo>
                    <a:pt x="912" y="2018"/>
                  </a:lnTo>
                  <a:lnTo>
                    <a:pt x="894" y="2141"/>
                  </a:lnTo>
                  <a:lnTo>
                    <a:pt x="878" y="2165"/>
                  </a:lnTo>
                  <a:lnTo>
                    <a:pt x="851" y="2178"/>
                  </a:lnTo>
                  <a:lnTo>
                    <a:pt x="687" y="2150"/>
                  </a:lnTo>
                  <a:lnTo>
                    <a:pt x="663" y="2141"/>
                  </a:lnTo>
                  <a:lnTo>
                    <a:pt x="640" y="2132"/>
                  </a:lnTo>
                  <a:lnTo>
                    <a:pt x="616" y="2123"/>
                  </a:lnTo>
                  <a:lnTo>
                    <a:pt x="593" y="2113"/>
                  </a:lnTo>
                  <a:lnTo>
                    <a:pt x="569" y="2104"/>
                  </a:lnTo>
                  <a:lnTo>
                    <a:pt x="546" y="2095"/>
                  </a:lnTo>
                  <a:lnTo>
                    <a:pt x="524" y="2085"/>
                  </a:lnTo>
                  <a:lnTo>
                    <a:pt x="501" y="2075"/>
                  </a:lnTo>
                  <a:lnTo>
                    <a:pt x="479" y="2065"/>
                  </a:lnTo>
                  <a:lnTo>
                    <a:pt x="456" y="2056"/>
                  </a:lnTo>
                  <a:lnTo>
                    <a:pt x="434" y="2046"/>
                  </a:lnTo>
                  <a:lnTo>
                    <a:pt x="412" y="2036"/>
                  </a:lnTo>
                  <a:lnTo>
                    <a:pt x="390" y="2026"/>
                  </a:lnTo>
                  <a:lnTo>
                    <a:pt x="369" y="2016"/>
                  </a:lnTo>
                  <a:lnTo>
                    <a:pt x="348" y="2007"/>
                  </a:lnTo>
                  <a:lnTo>
                    <a:pt x="326" y="1996"/>
                  </a:lnTo>
                  <a:lnTo>
                    <a:pt x="305" y="1986"/>
                  </a:lnTo>
                  <a:lnTo>
                    <a:pt x="284" y="1976"/>
                  </a:lnTo>
                  <a:lnTo>
                    <a:pt x="263" y="1966"/>
                  </a:lnTo>
                  <a:lnTo>
                    <a:pt x="243" y="1956"/>
                  </a:lnTo>
                  <a:lnTo>
                    <a:pt x="222" y="1944"/>
                  </a:lnTo>
                  <a:lnTo>
                    <a:pt x="201" y="1933"/>
                  </a:lnTo>
                  <a:lnTo>
                    <a:pt x="181" y="1923"/>
                  </a:lnTo>
                  <a:lnTo>
                    <a:pt x="161" y="1912"/>
                  </a:lnTo>
                  <a:lnTo>
                    <a:pt x="142" y="1901"/>
                  </a:lnTo>
                  <a:lnTo>
                    <a:pt x="122" y="1890"/>
                  </a:lnTo>
                  <a:lnTo>
                    <a:pt x="103" y="1879"/>
                  </a:lnTo>
                  <a:lnTo>
                    <a:pt x="83" y="1868"/>
                  </a:lnTo>
                  <a:lnTo>
                    <a:pt x="63" y="1857"/>
                  </a:lnTo>
                  <a:lnTo>
                    <a:pt x="44" y="1845"/>
                  </a:lnTo>
                  <a:lnTo>
                    <a:pt x="26" y="1834"/>
                  </a:lnTo>
                  <a:lnTo>
                    <a:pt x="7" y="1822"/>
                  </a:lnTo>
                  <a:lnTo>
                    <a:pt x="0" y="180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2139840" y="3103200"/>
              <a:ext cx="819000" cy="185400"/>
            </a:xfrm>
            <a:custGeom>
              <a:avLst/>
              <a:gdLst/>
              <a:ahLst/>
              <a:rect l="l" t="t" r="r" b="b"/>
              <a:pathLst>
                <a:path w="2063" h="466">
                  <a:moveTo>
                    <a:pt x="6" y="112"/>
                  </a:moveTo>
                  <a:lnTo>
                    <a:pt x="0" y="98"/>
                  </a:lnTo>
                  <a:lnTo>
                    <a:pt x="29" y="74"/>
                  </a:lnTo>
                  <a:lnTo>
                    <a:pt x="60" y="55"/>
                  </a:lnTo>
                  <a:lnTo>
                    <a:pt x="93" y="39"/>
                  </a:lnTo>
                  <a:lnTo>
                    <a:pt x="126" y="27"/>
                  </a:lnTo>
                  <a:lnTo>
                    <a:pt x="160" y="17"/>
                  </a:lnTo>
                  <a:lnTo>
                    <a:pt x="195" y="10"/>
                  </a:lnTo>
                  <a:lnTo>
                    <a:pt x="232" y="6"/>
                  </a:lnTo>
                  <a:lnTo>
                    <a:pt x="269" y="2"/>
                  </a:lnTo>
                  <a:lnTo>
                    <a:pt x="306" y="1"/>
                  </a:lnTo>
                  <a:lnTo>
                    <a:pt x="345" y="0"/>
                  </a:lnTo>
                  <a:lnTo>
                    <a:pt x="383" y="1"/>
                  </a:lnTo>
                  <a:lnTo>
                    <a:pt x="421" y="1"/>
                  </a:lnTo>
                  <a:lnTo>
                    <a:pt x="460" y="2"/>
                  </a:lnTo>
                  <a:lnTo>
                    <a:pt x="499" y="2"/>
                  </a:lnTo>
                  <a:lnTo>
                    <a:pt x="538" y="2"/>
                  </a:lnTo>
                  <a:lnTo>
                    <a:pt x="576" y="1"/>
                  </a:lnTo>
                  <a:lnTo>
                    <a:pt x="927" y="4"/>
                  </a:lnTo>
                  <a:lnTo>
                    <a:pt x="1019" y="29"/>
                  </a:lnTo>
                  <a:lnTo>
                    <a:pt x="1211" y="106"/>
                  </a:lnTo>
                  <a:lnTo>
                    <a:pt x="1784" y="241"/>
                  </a:lnTo>
                  <a:lnTo>
                    <a:pt x="2056" y="280"/>
                  </a:lnTo>
                  <a:lnTo>
                    <a:pt x="2063" y="310"/>
                  </a:lnTo>
                  <a:lnTo>
                    <a:pt x="951" y="465"/>
                  </a:lnTo>
                  <a:lnTo>
                    <a:pt x="542" y="466"/>
                  </a:lnTo>
                  <a:lnTo>
                    <a:pt x="318" y="405"/>
                  </a:lnTo>
                  <a:lnTo>
                    <a:pt x="239" y="327"/>
                  </a:lnTo>
                  <a:lnTo>
                    <a:pt x="193" y="305"/>
                  </a:lnTo>
                  <a:lnTo>
                    <a:pt x="85" y="225"/>
                  </a:lnTo>
                  <a:lnTo>
                    <a:pt x="6" y="1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39840" y="4024080"/>
              <a:ext cx="217440" cy="657000"/>
            </a:xfrm>
            <a:custGeom>
              <a:avLst/>
              <a:gdLst/>
              <a:ahLst/>
              <a:rect l="l" t="t" r="r" b="b"/>
              <a:pathLst>
                <a:path w="549" h="1652">
                  <a:moveTo>
                    <a:pt x="2" y="1532"/>
                  </a:moveTo>
                  <a:lnTo>
                    <a:pt x="0" y="1349"/>
                  </a:lnTo>
                  <a:lnTo>
                    <a:pt x="3" y="1163"/>
                  </a:lnTo>
                  <a:lnTo>
                    <a:pt x="10" y="975"/>
                  </a:lnTo>
                  <a:lnTo>
                    <a:pt x="20" y="786"/>
                  </a:lnTo>
                  <a:lnTo>
                    <a:pt x="29" y="596"/>
                  </a:lnTo>
                  <a:lnTo>
                    <a:pt x="37" y="407"/>
                  </a:lnTo>
                  <a:lnTo>
                    <a:pt x="41" y="218"/>
                  </a:lnTo>
                  <a:lnTo>
                    <a:pt x="40" y="32"/>
                  </a:lnTo>
                  <a:lnTo>
                    <a:pt x="52" y="0"/>
                  </a:lnTo>
                  <a:lnTo>
                    <a:pt x="157" y="39"/>
                  </a:lnTo>
                  <a:lnTo>
                    <a:pt x="208" y="93"/>
                  </a:lnTo>
                  <a:lnTo>
                    <a:pt x="234" y="125"/>
                  </a:lnTo>
                  <a:lnTo>
                    <a:pt x="331" y="202"/>
                  </a:lnTo>
                  <a:lnTo>
                    <a:pt x="367" y="240"/>
                  </a:lnTo>
                  <a:lnTo>
                    <a:pt x="390" y="255"/>
                  </a:lnTo>
                  <a:lnTo>
                    <a:pt x="430" y="322"/>
                  </a:lnTo>
                  <a:lnTo>
                    <a:pt x="466" y="404"/>
                  </a:lnTo>
                  <a:lnTo>
                    <a:pt x="492" y="492"/>
                  </a:lnTo>
                  <a:lnTo>
                    <a:pt x="508" y="583"/>
                  </a:lnTo>
                  <a:lnTo>
                    <a:pt x="517" y="677"/>
                  </a:lnTo>
                  <a:lnTo>
                    <a:pt x="523" y="774"/>
                  </a:lnTo>
                  <a:lnTo>
                    <a:pt x="529" y="869"/>
                  </a:lnTo>
                  <a:lnTo>
                    <a:pt x="536" y="964"/>
                  </a:lnTo>
                  <a:lnTo>
                    <a:pt x="549" y="1057"/>
                  </a:lnTo>
                  <a:lnTo>
                    <a:pt x="532" y="1318"/>
                  </a:lnTo>
                  <a:lnTo>
                    <a:pt x="491" y="1531"/>
                  </a:lnTo>
                  <a:lnTo>
                    <a:pt x="494" y="1608"/>
                  </a:lnTo>
                  <a:lnTo>
                    <a:pt x="467" y="1629"/>
                  </a:lnTo>
                  <a:lnTo>
                    <a:pt x="435" y="1652"/>
                  </a:lnTo>
                  <a:lnTo>
                    <a:pt x="294" y="1632"/>
                  </a:lnTo>
                  <a:lnTo>
                    <a:pt x="2" y="1532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2476440" y="3295440"/>
              <a:ext cx="1019160" cy="597960"/>
            </a:xfrm>
            <a:custGeom>
              <a:avLst/>
              <a:gdLst/>
              <a:ahLst/>
              <a:rect l="l" t="t" r="r" b="b"/>
              <a:pathLst>
                <a:path w="2567" h="1507">
                  <a:moveTo>
                    <a:pt x="0" y="277"/>
                  </a:moveTo>
                  <a:lnTo>
                    <a:pt x="4" y="247"/>
                  </a:lnTo>
                  <a:lnTo>
                    <a:pt x="1030" y="28"/>
                  </a:lnTo>
                  <a:lnTo>
                    <a:pt x="1631" y="0"/>
                  </a:lnTo>
                  <a:lnTo>
                    <a:pt x="1712" y="59"/>
                  </a:lnTo>
                  <a:lnTo>
                    <a:pt x="1750" y="83"/>
                  </a:lnTo>
                  <a:lnTo>
                    <a:pt x="1789" y="111"/>
                  </a:lnTo>
                  <a:lnTo>
                    <a:pt x="1816" y="130"/>
                  </a:lnTo>
                  <a:lnTo>
                    <a:pt x="1842" y="148"/>
                  </a:lnTo>
                  <a:lnTo>
                    <a:pt x="1868" y="166"/>
                  </a:lnTo>
                  <a:lnTo>
                    <a:pt x="1894" y="184"/>
                  </a:lnTo>
                  <a:lnTo>
                    <a:pt x="1920" y="202"/>
                  </a:lnTo>
                  <a:lnTo>
                    <a:pt x="1945" y="221"/>
                  </a:lnTo>
                  <a:lnTo>
                    <a:pt x="1970" y="239"/>
                  </a:lnTo>
                  <a:lnTo>
                    <a:pt x="1994" y="259"/>
                  </a:lnTo>
                  <a:lnTo>
                    <a:pt x="2020" y="277"/>
                  </a:lnTo>
                  <a:lnTo>
                    <a:pt x="2043" y="296"/>
                  </a:lnTo>
                  <a:lnTo>
                    <a:pt x="2067" y="316"/>
                  </a:lnTo>
                  <a:lnTo>
                    <a:pt x="2090" y="335"/>
                  </a:lnTo>
                  <a:lnTo>
                    <a:pt x="2112" y="355"/>
                  </a:lnTo>
                  <a:lnTo>
                    <a:pt x="2135" y="375"/>
                  </a:lnTo>
                  <a:lnTo>
                    <a:pt x="2158" y="397"/>
                  </a:lnTo>
                  <a:lnTo>
                    <a:pt x="2179" y="418"/>
                  </a:lnTo>
                  <a:lnTo>
                    <a:pt x="2235" y="479"/>
                  </a:lnTo>
                  <a:lnTo>
                    <a:pt x="2305" y="552"/>
                  </a:lnTo>
                  <a:lnTo>
                    <a:pt x="2342" y="596"/>
                  </a:lnTo>
                  <a:lnTo>
                    <a:pt x="2562" y="876"/>
                  </a:lnTo>
                  <a:lnTo>
                    <a:pt x="2567" y="927"/>
                  </a:lnTo>
                  <a:lnTo>
                    <a:pt x="2258" y="1088"/>
                  </a:lnTo>
                  <a:lnTo>
                    <a:pt x="1683" y="1359"/>
                  </a:lnTo>
                  <a:lnTo>
                    <a:pt x="1645" y="1369"/>
                  </a:lnTo>
                  <a:lnTo>
                    <a:pt x="1586" y="1397"/>
                  </a:lnTo>
                  <a:lnTo>
                    <a:pt x="1507" y="1434"/>
                  </a:lnTo>
                  <a:lnTo>
                    <a:pt x="1332" y="1507"/>
                  </a:lnTo>
                  <a:lnTo>
                    <a:pt x="1268" y="1502"/>
                  </a:lnTo>
                  <a:lnTo>
                    <a:pt x="1172" y="1426"/>
                  </a:lnTo>
                  <a:lnTo>
                    <a:pt x="1148" y="1395"/>
                  </a:lnTo>
                  <a:lnTo>
                    <a:pt x="841" y="1099"/>
                  </a:lnTo>
                  <a:lnTo>
                    <a:pt x="811" y="1070"/>
                  </a:lnTo>
                  <a:lnTo>
                    <a:pt x="777" y="1034"/>
                  </a:lnTo>
                  <a:lnTo>
                    <a:pt x="671" y="960"/>
                  </a:lnTo>
                  <a:lnTo>
                    <a:pt x="658" y="949"/>
                  </a:lnTo>
                  <a:lnTo>
                    <a:pt x="665" y="911"/>
                  </a:lnTo>
                  <a:lnTo>
                    <a:pt x="693" y="894"/>
                  </a:lnTo>
                  <a:lnTo>
                    <a:pt x="721" y="879"/>
                  </a:lnTo>
                  <a:lnTo>
                    <a:pt x="750" y="866"/>
                  </a:lnTo>
                  <a:lnTo>
                    <a:pt x="780" y="853"/>
                  </a:lnTo>
                  <a:lnTo>
                    <a:pt x="810" y="842"/>
                  </a:lnTo>
                  <a:lnTo>
                    <a:pt x="841" y="832"/>
                  </a:lnTo>
                  <a:lnTo>
                    <a:pt x="872" y="823"/>
                  </a:lnTo>
                  <a:lnTo>
                    <a:pt x="904" y="814"/>
                  </a:lnTo>
                  <a:lnTo>
                    <a:pt x="936" y="806"/>
                  </a:lnTo>
                  <a:lnTo>
                    <a:pt x="968" y="799"/>
                  </a:lnTo>
                  <a:lnTo>
                    <a:pt x="1000" y="792"/>
                  </a:lnTo>
                  <a:lnTo>
                    <a:pt x="1034" y="786"/>
                  </a:lnTo>
                  <a:lnTo>
                    <a:pt x="1067" y="780"/>
                  </a:lnTo>
                  <a:lnTo>
                    <a:pt x="1100" y="773"/>
                  </a:lnTo>
                  <a:lnTo>
                    <a:pt x="1133" y="768"/>
                  </a:lnTo>
                  <a:lnTo>
                    <a:pt x="1166" y="762"/>
                  </a:lnTo>
                  <a:lnTo>
                    <a:pt x="1199" y="756"/>
                  </a:lnTo>
                  <a:lnTo>
                    <a:pt x="1232" y="750"/>
                  </a:lnTo>
                  <a:lnTo>
                    <a:pt x="1265" y="744"/>
                  </a:lnTo>
                  <a:lnTo>
                    <a:pt x="1298" y="738"/>
                  </a:lnTo>
                  <a:lnTo>
                    <a:pt x="1330" y="731"/>
                  </a:lnTo>
                  <a:lnTo>
                    <a:pt x="1362" y="723"/>
                  </a:lnTo>
                  <a:lnTo>
                    <a:pt x="1394" y="715"/>
                  </a:lnTo>
                  <a:lnTo>
                    <a:pt x="1426" y="706"/>
                  </a:lnTo>
                  <a:lnTo>
                    <a:pt x="1456" y="696"/>
                  </a:lnTo>
                  <a:lnTo>
                    <a:pt x="1487" y="685"/>
                  </a:lnTo>
                  <a:lnTo>
                    <a:pt x="1517" y="673"/>
                  </a:lnTo>
                  <a:lnTo>
                    <a:pt x="1546" y="660"/>
                  </a:lnTo>
                  <a:lnTo>
                    <a:pt x="1575" y="646"/>
                  </a:lnTo>
                  <a:lnTo>
                    <a:pt x="1603" y="629"/>
                  </a:lnTo>
                  <a:lnTo>
                    <a:pt x="1630" y="612"/>
                  </a:lnTo>
                  <a:lnTo>
                    <a:pt x="1657" y="593"/>
                  </a:lnTo>
                  <a:lnTo>
                    <a:pt x="1675" y="575"/>
                  </a:lnTo>
                  <a:lnTo>
                    <a:pt x="1683" y="555"/>
                  </a:lnTo>
                  <a:lnTo>
                    <a:pt x="1675" y="540"/>
                  </a:lnTo>
                  <a:lnTo>
                    <a:pt x="1636" y="546"/>
                  </a:lnTo>
                  <a:lnTo>
                    <a:pt x="1596" y="552"/>
                  </a:lnTo>
                  <a:lnTo>
                    <a:pt x="1558" y="558"/>
                  </a:lnTo>
                  <a:lnTo>
                    <a:pt x="1520" y="564"/>
                  </a:lnTo>
                  <a:lnTo>
                    <a:pt x="1480" y="571"/>
                  </a:lnTo>
                  <a:lnTo>
                    <a:pt x="1442" y="578"/>
                  </a:lnTo>
                  <a:lnTo>
                    <a:pt x="1404" y="585"/>
                  </a:lnTo>
                  <a:lnTo>
                    <a:pt x="1365" y="592"/>
                  </a:lnTo>
                  <a:lnTo>
                    <a:pt x="1327" y="599"/>
                  </a:lnTo>
                  <a:lnTo>
                    <a:pt x="1289" y="607"/>
                  </a:lnTo>
                  <a:lnTo>
                    <a:pt x="1251" y="614"/>
                  </a:lnTo>
                  <a:lnTo>
                    <a:pt x="1213" y="621"/>
                  </a:lnTo>
                  <a:lnTo>
                    <a:pt x="1175" y="628"/>
                  </a:lnTo>
                  <a:lnTo>
                    <a:pt x="1137" y="634"/>
                  </a:lnTo>
                  <a:lnTo>
                    <a:pt x="1097" y="641"/>
                  </a:lnTo>
                  <a:lnTo>
                    <a:pt x="1059" y="648"/>
                  </a:lnTo>
                  <a:lnTo>
                    <a:pt x="1021" y="654"/>
                  </a:lnTo>
                  <a:lnTo>
                    <a:pt x="981" y="659"/>
                  </a:lnTo>
                  <a:lnTo>
                    <a:pt x="942" y="665"/>
                  </a:lnTo>
                  <a:lnTo>
                    <a:pt x="903" y="669"/>
                  </a:lnTo>
                  <a:lnTo>
                    <a:pt x="863" y="673"/>
                  </a:lnTo>
                  <a:lnTo>
                    <a:pt x="823" y="677"/>
                  </a:lnTo>
                  <a:lnTo>
                    <a:pt x="784" y="680"/>
                  </a:lnTo>
                  <a:lnTo>
                    <a:pt x="742" y="682"/>
                  </a:lnTo>
                  <a:lnTo>
                    <a:pt x="702" y="684"/>
                  </a:lnTo>
                  <a:lnTo>
                    <a:pt x="661" y="685"/>
                  </a:lnTo>
                  <a:lnTo>
                    <a:pt x="619" y="686"/>
                  </a:lnTo>
                  <a:lnTo>
                    <a:pt x="577" y="685"/>
                  </a:lnTo>
                  <a:lnTo>
                    <a:pt x="535" y="684"/>
                  </a:lnTo>
                  <a:lnTo>
                    <a:pt x="492" y="681"/>
                  </a:lnTo>
                  <a:lnTo>
                    <a:pt x="449" y="678"/>
                  </a:lnTo>
                  <a:lnTo>
                    <a:pt x="405" y="674"/>
                  </a:lnTo>
                  <a:lnTo>
                    <a:pt x="353" y="601"/>
                  </a:lnTo>
                  <a:lnTo>
                    <a:pt x="141" y="446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271680" y="4216320"/>
              <a:ext cx="241200" cy="491760"/>
            </a:xfrm>
            <a:custGeom>
              <a:avLst/>
              <a:gdLst/>
              <a:ahLst/>
              <a:rect l="l" t="t" r="r" b="b"/>
              <a:pathLst>
                <a:path w="611" h="1241">
                  <a:moveTo>
                    <a:pt x="0" y="1174"/>
                  </a:moveTo>
                  <a:lnTo>
                    <a:pt x="10" y="1048"/>
                  </a:lnTo>
                  <a:lnTo>
                    <a:pt x="17" y="921"/>
                  </a:lnTo>
                  <a:lnTo>
                    <a:pt x="20" y="795"/>
                  </a:lnTo>
                  <a:lnTo>
                    <a:pt x="21" y="668"/>
                  </a:lnTo>
                  <a:lnTo>
                    <a:pt x="21" y="542"/>
                  </a:lnTo>
                  <a:lnTo>
                    <a:pt x="23" y="415"/>
                  </a:lnTo>
                  <a:lnTo>
                    <a:pt x="26" y="288"/>
                  </a:lnTo>
                  <a:lnTo>
                    <a:pt x="32" y="159"/>
                  </a:lnTo>
                  <a:lnTo>
                    <a:pt x="21" y="25"/>
                  </a:lnTo>
                  <a:lnTo>
                    <a:pt x="72" y="0"/>
                  </a:lnTo>
                  <a:lnTo>
                    <a:pt x="156" y="67"/>
                  </a:lnTo>
                  <a:lnTo>
                    <a:pt x="179" y="99"/>
                  </a:lnTo>
                  <a:lnTo>
                    <a:pt x="202" y="119"/>
                  </a:lnTo>
                  <a:lnTo>
                    <a:pt x="226" y="139"/>
                  </a:lnTo>
                  <a:lnTo>
                    <a:pt x="250" y="160"/>
                  </a:lnTo>
                  <a:lnTo>
                    <a:pt x="274" y="180"/>
                  </a:lnTo>
                  <a:lnTo>
                    <a:pt x="298" y="199"/>
                  </a:lnTo>
                  <a:lnTo>
                    <a:pt x="322" y="219"/>
                  </a:lnTo>
                  <a:lnTo>
                    <a:pt x="347" y="239"/>
                  </a:lnTo>
                  <a:lnTo>
                    <a:pt x="371" y="258"/>
                  </a:lnTo>
                  <a:lnTo>
                    <a:pt x="396" y="279"/>
                  </a:lnTo>
                  <a:lnTo>
                    <a:pt x="420" y="298"/>
                  </a:lnTo>
                  <a:lnTo>
                    <a:pt x="444" y="318"/>
                  </a:lnTo>
                  <a:lnTo>
                    <a:pt x="468" y="338"/>
                  </a:lnTo>
                  <a:lnTo>
                    <a:pt x="492" y="357"/>
                  </a:lnTo>
                  <a:lnTo>
                    <a:pt x="517" y="377"/>
                  </a:lnTo>
                  <a:lnTo>
                    <a:pt x="541" y="396"/>
                  </a:lnTo>
                  <a:lnTo>
                    <a:pt x="565" y="417"/>
                  </a:lnTo>
                  <a:lnTo>
                    <a:pt x="593" y="492"/>
                  </a:lnTo>
                  <a:lnTo>
                    <a:pt x="576" y="589"/>
                  </a:lnTo>
                  <a:lnTo>
                    <a:pt x="590" y="637"/>
                  </a:lnTo>
                  <a:lnTo>
                    <a:pt x="600" y="687"/>
                  </a:lnTo>
                  <a:lnTo>
                    <a:pt x="606" y="738"/>
                  </a:lnTo>
                  <a:lnTo>
                    <a:pt x="610" y="791"/>
                  </a:lnTo>
                  <a:lnTo>
                    <a:pt x="611" y="845"/>
                  </a:lnTo>
                  <a:lnTo>
                    <a:pt x="609" y="900"/>
                  </a:lnTo>
                  <a:lnTo>
                    <a:pt x="606" y="957"/>
                  </a:lnTo>
                  <a:lnTo>
                    <a:pt x="601" y="1014"/>
                  </a:lnTo>
                  <a:lnTo>
                    <a:pt x="570" y="1117"/>
                  </a:lnTo>
                  <a:lnTo>
                    <a:pt x="549" y="1223"/>
                  </a:lnTo>
                  <a:lnTo>
                    <a:pt x="539" y="1236"/>
                  </a:lnTo>
                  <a:lnTo>
                    <a:pt x="453" y="1241"/>
                  </a:lnTo>
                  <a:lnTo>
                    <a:pt x="0" y="117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027240" y="3730320"/>
              <a:ext cx="649440" cy="377640"/>
            </a:xfrm>
            <a:custGeom>
              <a:avLst/>
              <a:gdLst/>
              <a:ahLst/>
              <a:rect l="l" t="t" r="r" b="b"/>
              <a:pathLst>
                <a:path w="1635" h="953">
                  <a:moveTo>
                    <a:pt x="0" y="494"/>
                  </a:moveTo>
                  <a:lnTo>
                    <a:pt x="405" y="311"/>
                  </a:lnTo>
                  <a:lnTo>
                    <a:pt x="494" y="277"/>
                  </a:lnTo>
                  <a:lnTo>
                    <a:pt x="1226" y="5"/>
                  </a:lnTo>
                  <a:lnTo>
                    <a:pt x="1311" y="0"/>
                  </a:lnTo>
                  <a:lnTo>
                    <a:pt x="1322" y="39"/>
                  </a:lnTo>
                  <a:lnTo>
                    <a:pt x="1427" y="209"/>
                  </a:lnTo>
                  <a:lnTo>
                    <a:pt x="1596" y="531"/>
                  </a:lnTo>
                  <a:lnTo>
                    <a:pt x="1613" y="567"/>
                  </a:lnTo>
                  <a:lnTo>
                    <a:pt x="1635" y="593"/>
                  </a:lnTo>
                  <a:lnTo>
                    <a:pt x="1111" y="768"/>
                  </a:lnTo>
                  <a:lnTo>
                    <a:pt x="515" y="953"/>
                  </a:lnTo>
                  <a:lnTo>
                    <a:pt x="438" y="884"/>
                  </a:lnTo>
                  <a:lnTo>
                    <a:pt x="322" y="789"/>
                  </a:lnTo>
                  <a:lnTo>
                    <a:pt x="31" y="540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322440" y="4033440"/>
              <a:ext cx="581040" cy="601560"/>
            </a:xfrm>
            <a:custGeom>
              <a:avLst/>
              <a:gdLst/>
              <a:ahLst/>
              <a:rect l="l" t="t" r="r" b="b"/>
              <a:pathLst>
                <a:path w="1462" h="1519">
                  <a:moveTo>
                    <a:pt x="0" y="380"/>
                  </a:moveTo>
                  <a:lnTo>
                    <a:pt x="8" y="359"/>
                  </a:lnTo>
                  <a:lnTo>
                    <a:pt x="35" y="343"/>
                  </a:lnTo>
                  <a:lnTo>
                    <a:pt x="62" y="327"/>
                  </a:lnTo>
                  <a:lnTo>
                    <a:pt x="89" y="311"/>
                  </a:lnTo>
                  <a:lnTo>
                    <a:pt x="116" y="296"/>
                  </a:lnTo>
                  <a:lnTo>
                    <a:pt x="144" y="282"/>
                  </a:lnTo>
                  <a:lnTo>
                    <a:pt x="171" y="267"/>
                  </a:lnTo>
                  <a:lnTo>
                    <a:pt x="199" y="253"/>
                  </a:lnTo>
                  <a:lnTo>
                    <a:pt x="226" y="240"/>
                  </a:lnTo>
                  <a:lnTo>
                    <a:pt x="254" y="226"/>
                  </a:lnTo>
                  <a:lnTo>
                    <a:pt x="283" y="213"/>
                  </a:lnTo>
                  <a:lnTo>
                    <a:pt x="311" y="199"/>
                  </a:lnTo>
                  <a:lnTo>
                    <a:pt x="339" y="186"/>
                  </a:lnTo>
                  <a:lnTo>
                    <a:pt x="367" y="174"/>
                  </a:lnTo>
                  <a:lnTo>
                    <a:pt x="396" y="162"/>
                  </a:lnTo>
                  <a:lnTo>
                    <a:pt x="424" y="150"/>
                  </a:lnTo>
                  <a:lnTo>
                    <a:pt x="453" y="139"/>
                  </a:lnTo>
                  <a:lnTo>
                    <a:pt x="481" y="128"/>
                  </a:lnTo>
                  <a:lnTo>
                    <a:pt x="510" y="117"/>
                  </a:lnTo>
                  <a:lnTo>
                    <a:pt x="540" y="107"/>
                  </a:lnTo>
                  <a:lnTo>
                    <a:pt x="569" y="97"/>
                  </a:lnTo>
                  <a:lnTo>
                    <a:pt x="599" y="87"/>
                  </a:lnTo>
                  <a:lnTo>
                    <a:pt x="628" y="76"/>
                  </a:lnTo>
                  <a:lnTo>
                    <a:pt x="659" y="67"/>
                  </a:lnTo>
                  <a:lnTo>
                    <a:pt x="689" y="58"/>
                  </a:lnTo>
                  <a:lnTo>
                    <a:pt x="719" y="50"/>
                  </a:lnTo>
                  <a:lnTo>
                    <a:pt x="749" y="42"/>
                  </a:lnTo>
                  <a:lnTo>
                    <a:pt x="780" y="34"/>
                  </a:lnTo>
                  <a:lnTo>
                    <a:pt x="811" y="26"/>
                  </a:lnTo>
                  <a:lnTo>
                    <a:pt x="841" y="19"/>
                  </a:lnTo>
                  <a:lnTo>
                    <a:pt x="872" y="13"/>
                  </a:lnTo>
                  <a:lnTo>
                    <a:pt x="905" y="6"/>
                  </a:lnTo>
                  <a:lnTo>
                    <a:pt x="936" y="0"/>
                  </a:lnTo>
                  <a:lnTo>
                    <a:pt x="1021" y="145"/>
                  </a:lnTo>
                  <a:lnTo>
                    <a:pt x="1134" y="458"/>
                  </a:lnTo>
                  <a:lnTo>
                    <a:pt x="1140" y="492"/>
                  </a:lnTo>
                  <a:lnTo>
                    <a:pt x="1266" y="836"/>
                  </a:lnTo>
                  <a:lnTo>
                    <a:pt x="1373" y="1190"/>
                  </a:lnTo>
                  <a:lnTo>
                    <a:pt x="1462" y="1473"/>
                  </a:lnTo>
                  <a:lnTo>
                    <a:pt x="1457" y="1519"/>
                  </a:lnTo>
                  <a:lnTo>
                    <a:pt x="1423" y="1518"/>
                  </a:lnTo>
                  <a:lnTo>
                    <a:pt x="1396" y="1478"/>
                  </a:lnTo>
                  <a:lnTo>
                    <a:pt x="1307" y="1439"/>
                  </a:lnTo>
                  <a:lnTo>
                    <a:pt x="1289" y="1421"/>
                  </a:lnTo>
                  <a:lnTo>
                    <a:pt x="1156" y="1362"/>
                  </a:lnTo>
                  <a:lnTo>
                    <a:pt x="1024" y="1250"/>
                  </a:lnTo>
                  <a:lnTo>
                    <a:pt x="985" y="1222"/>
                  </a:lnTo>
                  <a:lnTo>
                    <a:pt x="717" y="1008"/>
                  </a:lnTo>
                  <a:lnTo>
                    <a:pt x="721" y="962"/>
                  </a:lnTo>
                  <a:lnTo>
                    <a:pt x="854" y="890"/>
                  </a:lnTo>
                  <a:lnTo>
                    <a:pt x="1170" y="777"/>
                  </a:lnTo>
                  <a:lnTo>
                    <a:pt x="1119" y="704"/>
                  </a:lnTo>
                  <a:lnTo>
                    <a:pt x="810" y="814"/>
                  </a:lnTo>
                  <a:lnTo>
                    <a:pt x="574" y="890"/>
                  </a:lnTo>
                  <a:lnTo>
                    <a:pt x="501" y="828"/>
                  </a:lnTo>
                  <a:lnTo>
                    <a:pt x="475" y="795"/>
                  </a:lnTo>
                  <a:lnTo>
                    <a:pt x="247" y="606"/>
                  </a:lnTo>
                  <a:lnTo>
                    <a:pt x="222" y="572"/>
                  </a:lnTo>
                  <a:lnTo>
                    <a:pt x="122" y="507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560760" y="4505040"/>
              <a:ext cx="204840" cy="201240"/>
            </a:xfrm>
            <a:custGeom>
              <a:avLst/>
              <a:gdLst/>
              <a:ahLst/>
              <a:rect l="l" t="t" r="r" b="b"/>
              <a:pathLst>
                <a:path w="515" h="506">
                  <a:moveTo>
                    <a:pt x="0" y="468"/>
                  </a:moveTo>
                  <a:lnTo>
                    <a:pt x="21" y="176"/>
                  </a:lnTo>
                  <a:lnTo>
                    <a:pt x="32" y="13"/>
                  </a:lnTo>
                  <a:lnTo>
                    <a:pt x="43" y="0"/>
                  </a:lnTo>
                  <a:lnTo>
                    <a:pt x="96" y="1"/>
                  </a:lnTo>
                  <a:lnTo>
                    <a:pt x="123" y="22"/>
                  </a:lnTo>
                  <a:lnTo>
                    <a:pt x="171" y="45"/>
                  </a:lnTo>
                  <a:lnTo>
                    <a:pt x="184" y="73"/>
                  </a:lnTo>
                  <a:lnTo>
                    <a:pt x="233" y="102"/>
                  </a:lnTo>
                  <a:lnTo>
                    <a:pt x="298" y="169"/>
                  </a:lnTo>
                  <a:lnTo>
                    <a:pt x="367" y="242"/>
                  </a:lnTo>
                  <a:lnTo>
                    <a:pt x="415" y="306"/>
                  </a:lnTo>
                  <a:lnTo>
                    <a:pt x="496" y="383"/>
                  </a:lnTo>
                  <a:lnTo>
                    <a:pt x="509" y="395"/>
                  </a:lnTo>
                  <a:lnTo>
                    <a:pt x="515" y="445"/>
                  </a:lnTo>
                  <a:lnTo>
                    <a:pt x="400" y="499"/>
                  </a:lnTo>
                  <a:lnTo>
                    <a:pt x="9" y="506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0" name=""/>
          <p:cNvSpPr/>
          <p:nvPr/>
        </p:nvSpPr>
        <p:spPr>
          <a:xfrm>
            <a:off x="251640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72406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2" name=""/>
          <p:cNvGrpSpPr/>
          <p:nvPr/>
        </p:nvGrpSpPr>
        <p:grpSpPr>
          <a:xfrm>
            <a:off x="6553080" y="2733840"/>
            <a:ext cx="1368720" cy="2151000"/>
            <a:chOff x="6553080" y="2733840"/>
            <a:chExt cx="1368720" cy="2151000"/>
          </a:xfrm>
        </p:grpSpPr>
        <p:sp>
          <p:nvSpPr>
            <p:cNvPr id="4243" name=""/>
            <p:cNvSpPr/>
            <p:nvPr/>
          </p:nvSpPr>
          <p:spPr>
            <a:xfrm>
              <a:off x="6595920" y="2801160"/>
              <a:ext cx="1294560" cy="2004120"/>
            </a:xfrm>
            <a:custGeom>
              <a:avLst/>
              <a:gdLst/>
              <a:ahLst/>
              <a:rect l="l" t="t" r="r" b="b"/>
              <a:pathLst>
                <a:path w="2412" h="3328">
                  <a:moveTo>
                    <a:pt x="386" y="2555"/>
                  </a:moveTo>
                  <a:lnTo>
                    <a:pt x="277" y="2325"/>
                  </a:lnTo>
                  <a:lnTo>
                    <a:pt x="24" y="2108"/>
                  </a:lnTo>
                  <a:lnTo>
                    <a:pt x="0" y="1804"/>
                  </a:lnTo>
                  <a:lnTo>
                    <a:pt x="74" y="1678"/>
                  </a:lnTo>
                  <a:lnTo>
                    <a:pt x="201" y="1644"/>
                  </a:lnTo>
                  <a:lnTo>
                    <a:pt x="521" y="1802"/>
                  </a:lnTo>
                  <a:lnTo>
                    <a:pt x="580" y="1694"/>
                  </a:lnTo>
                  <a:lnTo>
                    <a:pt x="547" y="935"/>
                  </a:lnTo>
                  <a:lnTo>
                    <a:pt x="688" y="802"/>
                  </a:lnTo>
                  <a:lnTo>
                    <a:pt x="825" y="901"/>
                  </a:lnTo>
                  <a:lnTo>
                    <a:pt x="984" y="1112"/>
                  </a:lnTo>
                  <a:lnTo>
                    <a:pt x="1060" y="1036"/>
                  </a:lnTo>
                  <a:lnTo>
                    <a:pt x="1117" y="584"/>
                  </a:lnTo>
                  <a:lnTo>
                    <a:pt x="1277" y="365"/>
                  </a:lnTo>
                  <a:lnTo>
                    <a:pt x="1513" y="466"/>
                  </a:lnTo>
                  <a:lnTo>
                    <a:pt x="1817" y="0"/>
                  </a:lnTo>
                  <a:lnTo>
                    <a:pt x="1986" y="2"/>
                  </a:lnTo>
                  <a:lnTo>
                    <a:pt x="2060" y="152"/>
                  </a:lnTo>
                  <a:lnTo>
                    <a:pt x="1899" y="466"/>
                  </a:lnTo>
                  <a:lnTo>
                    <a:pt x="2193" y="466"/>
                  </a:lnTo>
                  <a:lnTo>
                    <a:pt x="2412" y="525"/>
                  </a:lnTo>
                  <a:lnTo>
                    <a:pt x="2387" y="726"/>
                  </a:lnTo>
                  <a:lnTo>
                    <a:pt x="1958" y="962"/>
                  </a:lnTo>
                  <a:lnTo>
                    <a:pt x="2304" y="1104"/>
                  </a:lnTo>
                  <a:lnTo>
                    <a:pt x="2370" y="1342"/>
                  </a:lnTo>
                  <a:lnTo>
                    <a:pt x="2176" y="1534"/>
                  </a:lnTo>
                  <a:lnTo>
                    <a:pt x="1899" y="1678"/>
                  </a:lnTo>
                  <a:lnTo>
                    <a:pt x="2161" y="1844"/>
                  </a:lnTo>
                  <a:lnTo>
                    <a:pt x="2127" y="2114"/>
                  </a:lnTo>
                  <a:lnTo>
                    <a:pt x="1986" y="2420"/>
                  </a:lnTo>
                  <a:lnTo>
                    <a:pt x="1690" y="2560"/>
                  </a:lnTo>
                  <a:lnTo>
                    <a:pt x="1287" y="2619"/>
                  </a:lnTo>
                  <a:lnTo>
                    <a:pt x="933" y="2923"/>
                  </a:lnTo>
                  <a:lnTo>
                    <a:pt x="623" y="2813"/>
                  </a:lnTo>
                  <a:lnTo>
                    <a:pt x="437" y="2998"/>
                  </a:lnTo>
                  <a:lnTo>
                    <a:pt x="226" y="3328"/>
                  </a:lnTo>
                  <a:lnTo>
                    <a:pt x="110" y="3125"/>
                  </a:lnTo>
                  <a:lnTo>
                    <a:pt x="386" y="2555"/>
                  </a:lnTo>
                  <a:lnTo>
                    <a:pt x="386" y="2555"/>
                  </a:lnTo>
                  <a:lnTo>
                    <a:pt x="386" y="255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273440" y="3159000"/>
              <a:ext cx="476640" cy="326160"/>
            </a:xfrm>
            <a:custGeom>
              <a:avLst/>
              <a:gdLst/>
              <a:ahLst/>
              <a:rect l="l" t="t" r="r" b="b"/>
              <a:pathLst>
                <a:path w="890" h="544">
                  <a:moveTo>
                    <a:pt x="209" y="346"/>
                  </a:moveTo>
                  <a:lnTo>
                    <a:pt x="236" y="327"/>
                  </a:lnTo>
                  <a:lnTo>
                    <a:pt x="268" y="308"/>
                  </a:lnTo>
                  <a:lnTo>
                    <a:pt x="304" y="289"/>
                  </a:lnTo>
                  <a:lnTo>
                    <a:pt x="344" y="272"/>
                  </a:lnTo>
                  <a:lnTo>
                    <a:pt x="386" y="253"/>
                  </a:lnTo>
                  <a:lnTo>
                    <a:pt x="430" y="236"/>
                  </a:lnTo>
                  <a:lnTo>
                    <a:pt x="475" y="217"/>
                  </a:lnTo>
                  <a:lnTo>
                    <a:pt x="521" y="202"/>
                  </a:lnTo>
                  <a:lnTo>
                    <a:pt x="614" y="171"/>
                  </a:lnTo>
                  <a:lnTo>
                    <a:pt x="705" y="146"/>
                  </a:lnTo>
                  <a:lnTo>
                    <a:pt x="787" y="129"/>
                  </a:lnTo>
                  <a:lnTo>
                    <a:pt x="857" y="120"/>
                  </a:lnTo>
                  <a:lnTo>
                    <a:pt x="890" y="139"/>
                  </a:lnTo>
                  <a:lnTo>
                    <a:pt x="888" y="156"/>
                  </a:lnTo>
                  <a:lnTo>
                    <a:pt x="871" y="169"/>
                  </a:lnTo>
                  <a:lnTo>
                    <a:pt x="793" y="198"/>
                  </a:lnTo>
                  <a:lnTo>
                    <a:pt x="713" y="226"/>
                  </a:lnTo>
                  <a:lnTo>
                    <a:pt x="669" y="247"/>
                  </a:lnTo>
                  <a:lnTo>
                    <a:pt x="625" y="268"/>
                  </a:lnTo>
                  <a:lnTo>
                    <a:pt x="582" y="291"/>
                  </a:lnTo>
                  <a:lnTo>
                    <a:pt x="540" y="314"/>
                  </a:lnTo>
                  <a:lnTo>
                    <a:pt x="496" y="338"/>
                  </a:lnTo>
                  <a:lnTo>
                    <a:pt x="454" y="363"/>
                  </a:lnTo>
                  <a:lnTo>
                    <a:pt x="413" y="386"/>
                  </a:lnTo>
                  <a:lnTo>
                    <a:pt x="371" y="411"/>
                  </a:lnTo>
                  <a:lnTo>
                    <a:pt x="329" y="435"/>
                  </a:lnTo>
                  <a:lnTo>
                    <a:pt x="289" y="464"/>
                  </a:lnTo>
                  <a:lnTo>
                    <a:pt x="249" y="494"/>
                  </a:lnTo>
                  <a:lnTo>
                    <a:pt x="211" y="523"/>
                  </a:lnTo>
                  <a:lnTo>
                    <a:pt x="165" y="544"/>
                  </a:lnTo>
                  <a:lnTo>
                    <a:pt x="129" y="540"/>
                  </a:lnTo>
                  <a:lnTo>
                    <a:pt x="105" y="513"/>
                  </a:lnTo>
                  <a:lnTo>
                    <a:pt x="95" y="464"/>
                  </a:lnTo>
                  <a:lnTo>
                    <a:pt x="89" y="411"/>
                  </a:lnTo>
                  <a:lnTo>
                    <a:pt x="76" y="354"/>
                  </a:lnTo>
                  <a:lnTo>
                    <a:pt x="57" y="295"/>
                  </a:lnTo>
                  <a:lnTo>
                    <a:pt x="36" y="234"/>
                  </a:lnTo>
                  <a:lnTo>
                    <a:pt x="4" y="120"/>
                  </a:lnTo>
                  <a:lnTo>
                    <a:pt x="0" y="23"/>
                  </a:lnTo>
                  <a:lnTo>
                    <a:pt x="11" y="6"/>
                  </a:lnTo>
                  <a:lnTo>
                    <a:pt x="27" y="0"/>
                  </a:lnTo>
                  <a:lnTo>
                    <a:pt x="51" y="29"/>
                  </a:lnTo>
                  <a:lnTo>
                    <a:pt x="63" y="89"/>
                  </a:lnTo>
                  <a:lnTo>
                    <a:pt x="76" y="135"/>
                  </a:lnTo>
                  <a:lnTo>
                    <a:pt x="91" y="171"/>
                  </a:lnTo>
                  <a:lnTo>
                    <a:pt x="110" y="202"/>
                  </a:lnTo>
                  <a:lnTo>
                    <a:pt x="131" y="230"/>
                  </a:lnTo>
                  <a:lnTo>
                    <a:pt x="154" y="260"/>
                  </a:lnTo>
                  <a:lnTo>
                    <a:pt x="181" y="299"/>
                  </a:lnTo>
                  <a:lnTo>
                    <a:pt x="209" y="346"/>
                  </a:lnTo>
                  <a:lnTo>
                    <a:pt x="209" y="346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978960" y="3488760"/>
              <a:ext cx="680760" cy="433440"/>
            </a:xfrm>
            <a:custGeom>
              <a:avLst/>
              <a:gdLst/>
              <a:ahLst/>
              <a:rect l="l" t="t" r="r" b="b"/>
              <a:pathLst>
                <a:path w="1267" h="721">
                  <a:moveTo>
                    <a:pt x="346" y="555"/>
                  </a:moveTo>
                  <a:lnTo>
                    <a:pt x="397" y="517"/>
                  </a:lnTo>
                  <a:lnTo>
                    <a:pt x="444" y="483"/>
                  </a:lnTo>
                  <a:lnTo>
                    <a:pt x="488" y="449"/>
                  </a:lnTo>
                  <a:lnTo>
                    <a:pt x="534" y="417"/>
                  </a:lnTo>
                  <a:lnTo>
                    <a:pt x="579" y="384"/>
                  </a:lnTo>
                  <a:lnTo>
                    <a:pt x="627" y="354"/>
                  </a:lnTo>
                  <a:lnTo>
                    <a:pt x="678" y="324"/>
                  </a:lnTo>
                  <a:lnTo>
                    <a:pt x="733" y="293"/>
                  </a:lnTo>
                  <a:lnTo>
                    <a:pt x="783" y="278"/>
                  </a:lnTo>
                  <a:lnTo>
                    <a:pt x="861" y="263"/>
                  </a:lnTo>
                  <a:lnTo>
                    <a:pt x="1056" y="238"/>
                  </a:lnTo>
                  <a:lnTo>
                    <a:pt x="1224" y="229"/>
                  </a:lnTo>
                  <a:lnTo>
                    <a:pt x="1267" y="234"/>
                  </a:lnTo>
                  <a:lnTo>
                    <a:pt x="1266" y="248"/>
                  </a:lnTo>
                  <a:lnTo>
                    <a:pt x="650" y="493"/>
                  </a:lnTo>
                  <a:lnTo>
                    <a:pt x="612" y="519"/>
                  </a:lnTo>
                  <a:lnTo>
                    <a:pt x="574" y="546"/>
                  </a:lnTo>
                  <a:lnTo>
                    <a:pt x="536" y="576"/>
                  </a:lnTo>
                  <a:lnTo>
                    <a:pt x="500" y="607"/>
                  </a:lnTo>
                  <a:lnTo>
                    <a:pt x="463" y="637"/>
                  </a:lnTo>
                  <a:lnTo>
                    <a:pt x="427" y="668"/>
                  </a:lnTo>
                  <a:lnTo>
                    <a:pt x="389" y="696"/>
                  </a:lnTo>
                  <a:lnTo>
                    <a:pt x="349" y="721"/>
                  </a:lnTo>
                  <a:lnTo>
                    <a:pt x="296" y="715"/>
                  </a:lnTo>
                  <a:lnTo>
                    <a:pt x="266" y="692"/>
                  </a:lnTo>
                  <a:lnTo>
                    <a:pt x="233" y="656"/>
                  </a:lnTo>
                  <a:lnTo>
                    <a:pt x="201" y="612"/>
                  </a:lnTo>
                  <a:lnTo>
                    <a:pt x="169" y="559"/>
                  </a:lnTo>
                  <a:lnTo>
                    <a:pt x="138" y="500"/>
                  </a:lnTo>
                  <a:lnTo>
                    <a:pt x="108" y="438"/>
                  </a:lnTo>
                  <a:lnTo>
                    <a:pt x="79" y="373"/>
                  </a:lnTo>
                  <a:lnTo>
                    <a:pt x="55" y="306"/>
                  </a:lnTo>
                  <a:lnTo>
                    <a:pt x="34" y="242"/>
                  </a:lnTo>
                  <a:lnTo>
                    <a:pt x="17" y="179"/>
                  </a:lnTo>
                  <a:lnTo>
                    <a:pt x="0" y="73"/>
                  </a:lnTo>
                  <a:lnTo>
                    <a:pt x="9" y="0"/>
                  </a:lnTo>
                  <a:lnTo>
                    <a:pt x="24" y="16"/>
                  </a:lnTo>
                  <a:lnTo>
                    <a:pt x="43" y="82"/>
                  </a:lnTo>
                  <a:lnTo>
                    <a:pt x="62" y="160"/>
                  </a:lnTo>
                  <a:lnTo>
                    <a:pt x="76" y="211"/>
                  </a:lnTo>
                  <a:lnTo>
                    <a:pt x="91" y="242"/>
                  </a:lnTo>
                  <a:lnTo>
                    <a:pt x="104" y="272"/>
                  </a:lnTo>
                  <a:lnTo>
                    <a:pt x="119" y="297"/>
                  </a:lnTo>
                  <a:lnTo>
                    <a:pt x="135" y="322"/>
                  </a:lnTo>
                  <a:lnTo>
                    <a:pt x="163" y="363"/>
                  </a:lnTo>
                  <a:lnTo>
                    <a:pt x="195" y="400"/>
                  </a:lnTo>
                  <a:lnTo>
                    <a:pt x="211" y="417"/>
                  </a:lnTo>
                  <a:lnTo>
                    <a:pt x="228" y="436"/>
                  </a:lnTo>
                  <a:lnTo>
                    <a:pt x="264" y="470"/>
                  </a:lnTo>
                  <a:lnTo>
                    <a:pt x="283" y="489"/>
                  </a:lnTo>
                  <a:lnTo>
                    <a:pt x="304" y="510"/>
                  </a:lnTo>
                  <a:lnTo>
                    <a:pt x="325" y="531"/>
                  </a:lnTo>
                  <a:lnTo>
                    <a:pt x="346" y="555"/>
                  </a:lnTo>
                  <a:lnTo>
                    <a:pt x="346" y="555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6760080" y="3927240"/>
              <a:ext cx="846000" cy="270720"/>
            </a:xfrm>
            <a:custGeom>
              <a:avLst/>
              <a:gdLst/>
              <a:ahLst/>
              <a:rect l="l" t="t" r="r" b="b"/>
              <a:pathLst>
                <a:path w="1576" h="449">
                  <a:moveTo>
                    <a:pt x="93" y="0"/>
                  </a:moveTo>
                  <a:lnTo>
                    <a:pt x="158" y="31"/>
                  </a:lnTo>
                  <a:lnTo>
                    <a:pt x="220" y="71"/>
                  </a:lnTo>
                  <a:lnTo>
                    <a:pt x="251" y="94"/>
                  </a:lnTo>
                  <a:lnTo>
                    <a:pt x="281" y="114"/>
                  </a:lnTo>
                  <a:lnTo>
                    <a:pt x="310" y="137"/>
                  </a:lnTo>
                  <a:lnTo>
                    <a:pt x="340" y="162"/>
                  </a:lnTo>
                  <a:lnTo>
                    <a:pt x="370" y="185"/>
                  </a:lnTo>
                  <a:lnTo>
                    <a:pt x="401" y="206"/>
                  </a:lnTo>
                  <a:lnTo>
                    <a:pt x="431" y="227"/>
                  </a:lnTo>
                  <a:lnTo>
                    <a:pt x="462" y="248"/>
                  </a:lnTo>
                  <a:lnTo>
                    <a:pt x="494" y="265"/>
                  </a:lnTo>
                  <a:lnTo>
                    <a:pt x="528" y="280"/>
                  </a:lnTo>
                  <a:lnTo>
                    <a:pt x="599" y="301"/>
                  </a:lnTo>
                  <a:lnTo>
                    <a:pt x="637" y="297"/>
                  </a:lnTo>
                  <a:lnTo>
                    <a:pt x="671" y="274"/>
                  </a:lnTo>
                  <a:lnTo>
                    <a:pt x="701" y="246"/>
                  </a:lnTo>
                  <a:lnTo>
                    <a:pt x="734" y="223"/>
                  </a:lnTo>
                  <a:lnTo>
                    <a:pt x="810" y="198"/>
                  </a:lnTo>
                  <a:lnTo>
                    <a:pt x="910" y="177"/>
                  </a:lnTo>
                  <a:lnTo>
                    <a:pt x="1022" y="160"/>
                  </a:lnTo>
                  <a:lnTo>
                    <a:pt x="1144" y="149"/>
                  </a:lnTo>
                  <a:lnTo>
                    <a:pt x="1380" y="147"/>
                  </a:lnTo>
                  <a:lnTo>
                    <a:pt x="1555" y="181"/>
                  </a:lnTo>
                  <a:lnTo>
                    <a:pt x="1576" y="210"/>
                  </a:lnTo>
                  <a:lnTo>
                    <a:pt x="1568" y="223"/>
                  </a:lnTo>
                  <a:lnTo>
                    <a:pt x="1547" y="230"/>
                  </a:lnTo>
                  <a:lnTo>
                    <a:pt x="1368" y="217"/>
                  </a:lnTo>
                  <a:lnTo>
                    <a:pt x="1222" y="234"/>
                  </a:lnTo>
                  <a:lnTo>
                    <a:pt x="1072" y="270"/>
                  </a:lnTo>
                  <a:lnTo>
                    <a:pt x="998" y="295"/>
                  </a:lnTo>
                  <a:lnTo>
                    <a:pt x="926" y="320"/>
                  </a:lnTo>
                  <a:lnTo>
                    <a:pt x="853" y="346"/>
                  </a:lnTo>
                  <a:lnTo>
                    <a:pt x="785" y="371"/>
                  </a:lnTo>
                  <a:lnTo>
                    <a:pt x="728" y="400"/>
                  </a:lnTo>
                  <a:lnTo>
                    <a:pt x="675" y="430"/>
                  </a:lnTo>
                  <a:lnTo>
                    <a:pt x="618" y="449"/>
                  </a:lnTo>
                  <a:lnTo>
                    <a:pt x="553" y="445"/>
                  </a:lnTo>
                  <a:lnTo>
                    <a:pt x="485" y="422"/>
                  </a:lnTo>
                  <a:lnTo>
                    <a:pt x="418" y="388"/>
                  </a:lnTo>
                  <a:lnTo>
                    <a:pt x="386" y="369"/>
                  </a:lnTo>
                  <a:lnTo>
                    <a:pt x="351" y="346"/>
                  </a:lnTo>
                  <a:lnTo>
                    <a:pt x="319" y="325"/>
                  </a:lnTo>
                  <a:lnTo>
                    <a:pt x="287" y="301"/>
                  </a:lnTo>
                  <a:lnTo>
                    <a:pt x="255" y="278"/>
                  </a:lnTo>
                  <a:lnTo>
                    <a:pt x="222" y="253"/>
                  </a:lnTo>
                  <a:lnTo>
                    <a:pt x="192" y="230"/>
                  </a:lnTo>
                  <a:lnTo>
                    <a:pt x="159" y="206"/>
                  </a:lnTo>
                  <a:lnTo>
                    <a:pt x="129" y="183"/>
                  </a:lnTo>
                  <a:lnTo>
                    <a:pt x="97" y="160"/>
                  </a:lnTo>
                  <a:lnTo>
                    <a:pt x="66" y="139"/>
                  </a:lnTo>
                  <a:lnTo>
                    <a:pt x="36" y="120"/>
                  </a:lnTo>
                  <a:lnTo>
                    <a:pt x="0" y="76"/>
                  </a:lnTo>
                  <a:lnTo>
                    <a:pt x="4" y="31"/>
                  </a:lnTo>
                  <a:lnTo>
                    <a:pt x="19" y="12"/>
                  </a:lnTo>
                  <a:lnTo>
                    <a:pt x="38" y="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6553080" y="2733840"/>
              <a:ext cx="1368720" cy="2151000"/>
            </a:xfrm>
            <a:custGeom>
              <a:avLst/>
              <a:gdLst/>
              <a:ahLst/>
              <a:rect l="l" t="t" r="r" b="b"/>
              <a:pathLst>
                <a:path w="2549" h="3572">
                  <a:moveTo>
                    <a:pt x="340" y="2885"/>
                  </a:moveTo>
                  <a:lnTo>
                    <a:pt x="374" y="2718"/>
                  </a:lnTo>
                  <a:lnTo>
                    <a:pt x="372" y="2650"/>
                  </a:lnTo>
                  <a:lnTo>
                    <a:pt x="359" y="2593"/>
                  </a:lnTo>
                  <a:lnTo>
                    <a:pt x="338" y="2541"/>
                  </a:lnTo>
                  <a:lnTo>
                    <a:pt x="325" y="2518"/>
                  </a:lnTo>
                  <a:lnTo>
                    <a:pt x="312" y="2496"/>
                  </a:lnTo>
                  <a:lnTo>
                    <a:pt x="277" y="2456"/>
                  </a:lnTo>
                  <a:lnTo>
                    <a:pt x="258" y="2437"/>
                  </a:lnTo>
                  <a:lnTo>
                    <a:pt x="239" y="2418"/>
                  </a:lnTo>
                  <a:lnTo>
                    <a:pt x="220" y="2401"/>
                  </a:lnTo>
                  <a:lnTo>
                    <a:pt x="201" y="2382"/>
                  </a:lnTo>
                  <a:lnTo>
                    <a:pt x="161" y="2347"/>
                  </a:lnTo>
                  <a:lnTo>
                    <a:pt x="123" y="2309"/>
                  </a:lnTo>
                  <a:lnTo>
                    <a:pt x="104" y="2290"/>
                  </a:lnTo>
                  <a:lnTo>
                    <a:pt x="87" y="2269"/>
                  </a:lnTo>
                  <a:lnTo>
                    <a:pt x="55" y="2226"/>
                  </a:lnTo>
                  <a:lnTo>
                    <a:pt x="28" y="2174"/>
                  </a:lnTo>
                  <a:lnTo>
                    <a:pt x="0" y="2051"/>
                  </a:lnTo>
                  <a:lnTo>
                    <a:pt x="6" y="1994"/>
                  </a:lnTo>
                  <a:lnTo>
                    <a:pt x="25" y="1929"/>
                  </a:lnTo>
                  <a:lnTo>
                    <a:pt x="40" y="1899"/>
                  </a:lnTo>
                  <a:lnTo>
                    <a:pt x="57" y="1866"/>
                  </a:lnTo>
                  <a:lnTo>
                    <a:pt x="76" y="1836"/>
                  </a:lnTo>
                  <a:lnTo>
                    <a:pt x="99" y="1808"/>
                  </a:lnTo>
                  <a:lnTo>
                    <a:pt x="123" y="1781"/>
                  </a:lnTo>
                  <a:lnTo>
                    <a:pt x="150" y="1758"/>
                  </a:lnTo>
                  <a:lnTo>
                    <a:pt x="177" y="1739"/>
                  </a:lnTo>
                  <a:lnTo>
                    <a:pt x="205" y="1724"/>
                  </a:lnTo>
                  <a:lnTo>
                    <a:pt x="266" y="1707"/>
                  </a:lnTo>
                  <a:lnTo>
                    <a:pt x="329" y="1713"/>
                  </a:lnTo>
                  <a:lnTo>
                    <a:pt x="388" y="1754"/>
                  </a:lnTo>
                  <a:lnTo>
                    <a:pt x="426" y="1787"/>
                  </a:lnTo>
                  <a:lnTo>
                    <a:pt x="468" y="1819"/>
                  </a:lnTo>
                  <a:lnTo>
                    <a:pt x="509" y="1846"/>
                  </a:lnTo>
                  <a:lnTo>
                    <a:pt x="547" y="1863"/>
                  </a:lnTo>
                  <a:lnTo>
                    <a:pt x="582" y="1863"/>
                  </a:lnTo>
                  <a:lnTo>
                    <a:pt x="608" y="1840"/>
                  </a:lnTo>
                  <a:lnTo>
                    <a:pt x="620" y="1758"/>
                  </a:lnTo>
                  <a:lnTo>
                    <a:pt x="604" y="1619"/>
                  </a:lnTo>
                  <a:lnTo>
                    <a:pt x="578" y="1444"/>
                  </a:lnTo>
                  <a:lnTo>
                    <a:pt x="557" y="1260"/>
                  </a:lnTo>
                  <a:lnTo>
                    <a:pt x="553" y="1173"/>
                  </a:lnTo>
                  <a:lnTo>
                    <a:pt x="557" y="1089"/>
                  </a:lnTo>
                  <a:lnTo>
                    <a:pt x="568" y="1017"/>
                  </a:lnTo>
                  <a:lnTo>
                    <a:pt x="580" y="984"/>
                  </a:lnTo>
                  <a:lnTo>
                    <a:pt x="593" y="954"/>
                  </a:lnTo>
                  <a:lnTo>
                    <a:pt x="608" y="929"/>
                  </a:lnTo>
                  <a:lnTo>
                    <a:pt x="629" y="908"/>
                  </a:lnTo>
                  <a:lnTo>
                    <a:pt x="652" y="891"/>
                  </a:lnTo>
                  <a:lnTo>
                    <a:pt x="680" y="880"/>
                  </a:lnTo>
                  <a:lnTo>
                    <a:pt x="747" y="872"/>
                  </a:lnTo>
                  <a:lnTo>
                    <a:pt x="834" y="889"/>
                  </a:lnTo>
                  <a:lnTo>
                    <a:pt x="909" y="935"/>
                  </a:lnTo>
                  <a:lnTo>
                    <a:pt x="937" y="967"/>
                  </a:lnTo>
                  <a:lnTo>
                    <a:pt x="962" y="1002"/>
                  </a:lnTo>
                  <a:lnTo>
                    <a:pt x="986" y="1038"/>
                  </a:lnTo>
                  <a:lnTo>
                    <a:pt x="1011" y="1070"/>
                  </a:lnTo>
                  <a:lnTo>
                    <a:pt x="1042" y="1099"/>
                  </a:lnTo>
                  <a:lnTo>
                    <a:pt x="1078" y="1118"/>
                  </a:lnTo>
                  <a:lnTo>
                    <a:pt x="1083" y="969"/>
                  </a:lnTo>
                  <a:lnTo>
                    <a:pt x="1102" y="817"/>
                  </a:lnTo>
                  <a:lnTo>
                    <a:pt x="1118" y="743"/>
                  </a:lnTo>
                  <a:lnTo>
                    <a:pt x="1137" y="671"/>
                  </a:lnTo>
                  <a:lnTo>
                    <a:pt x="1159" y="606"/>
                  </a:lnTo>
                  <a:lnTo>
                    <a:pt x="1173" y="576"/>
                  </a:lnTo>
                  <a:lnTo>
                    <a:pt x="1186" y="547"/>
                  </a:lnTo>
                  <a:lnTo>
                    <a:pt x="1201" y="521"/>
                  </a:lnTo>
                  <a:lnTo>
                    <a:pt x="1218" y="498"/>
                  </a:lnTo>
                  <a:lnTo>
                    <a:pt x="1235" y="477"/>
                  </a:lnTo>
                  <a:lnTo>
                    <a:pt x="1254" y="458"/>
                  </a:lnTo>
                  <a:lnTo>
                    <a:pt x="1275" y="443"/>
                  </a:lnTo>
                  <a:lnTo>
                    <a:pt x="1296" y="429"/>
                  </a:lnTo>
                  <a:lnTo>
                    <a:pt x="1344" y="414"/>
                  </a:lnTo>
                  <a:lnTo>
                    <a:pt x="1454" y="431"/>
                  </a:lnTo>
                  <a:lnTo>
                    <a:pt x="1519" y="467"/>
                  </a:lnTo>
                  <a:lnTo>
                    <a:pt x="1553" y="492"/>
                  </a:lnTo>
                  <a:lnTo>
                    <a:pt x="1589" y="523"/>
                  </a:lnTo>
                  <a:lnTo>
                    <a:pt x="1610" y="481"/>
                  </a:lnTo>
                  <a:lnTo>
                    <a:pt x="1629" y="441"/>
                  </a:lnTo>
                  <a:lnTo>
                    <a:pt x="1650" y="403"/>
                  </a:lnTo>
                  <a:lnTo>
                    <a:pt x="1671" y="367"/>
                  </a:lnTo>
                  <a:lnTo>
                    <a:pt x="1690" y="333"/>
                  </a:lnTo>
                  <a:lnTo>
                    <a:pt x="1709" y="302"/>
                  </a:lnTo>
                  <a:lnTo>
                    <a:pt x="1730" y="270"/>
                  </a:lnTo>
                  <a:lnTo>
                    <a:pt x="1749" y="243"/>
                  </a:lnTo>
                  <a:lnTo>
                    <a:pt x="1768" y="217"/>
                  </a:lnTo>
                  <a:lnTo>
                    <a:pt x="1785" y="190"/>
                  </a:lnTo>
                  <a:lnTo>
                    <a:pt x="1823" y="146"/>
                  </a:lnTo>
                  <a:lnTo>
                    <a:pt x="1840" y="125"/>
                  </a:lnTo>
                  <a:lnTo>
                    <a:pt x="1857" y="108"/>
                  </a:lnTo>
                  <a:lnTo>
                    <a:pt x="1893" y="76"/>
                  </a:lnTo>
                  <a:lnTo>
                    <a:pt x="1925" y="49"/>
                  </a:lnTo>
                  <a:lnTo>
                    <a:pt x="1958" y="28"/>
                  </a:lnTo>
                  <a:lnTo>
                    <a:pt x="2017" y="4"/>
                  </a:lnTo>
                  <a:lnTo>
                    <a:pt x="2068" y="0"/>
                  </a:lnTo>
                  <a:lnTo>
                    <a:pt x="2114" y="13"/>
                  </a:lnTo>
                  <a:lnTo>
                    <a:pt x="2150" y="42"/>
                  </a:lnTo>
                  <a:lnTo>
                    <a:pt x="2176" y="84"/>
                  </a:lnTo>
                  <a:lnTo>
                    <a:pt x="2201" y="199"/>
                  </a:lnTo>
                  <a:lnTo>
                    <a:pt x="2197" y="270"/>
                  </a:lnTo>
                  <a:lnTo>
                    <a:pt x="2180" y="348"/>
                  </a:lnTo>
                  <a:lnTo>
                    <a:pt x="2169" y="386"/>
                  </a:lnTo>
                  <a:lnTo>
                    <a:pt x="2152" y="426"/>
                  </a:lnTo>
                  <a:lnTo>
                    <a:pt x="2133" y="466"/>
                  </a:lnTo>
                  <a:lnTo>
                    <a:pt x="2110" y="505"/>
                  </a:lnTo>
                  <a:lnTo>
                    <a:pt x="2281" y="500"/>
                  </a:lnTo>
                  <a:lnTo>
                    <a:pt x="2412" y="532"/>
                  </a:lnTo>
                  <a:lnTo>
                    <a:pt x="2503" y="591"/>
                  </a:lnTo>
                  <a:lnTo>
                    <a:pt x="2549" y="673"/>
                  </a:lnTo>
                  <a:lnTo>
                    <a:pt x="2545" y="770"/>
                  </a:lnTo>
                  <a:lnTo>
                    <a:pt x="2524" y="821"/>
                  </a:lnTo>
                  <a:lnTo>
                    <a:pt x="2509" y="848"/>
                  </a:lnTo>
                  <a:lnTo>
                    <a:pt x="2492" y="874"/>
                  </a:lnTo>
                  <a:lnTo>
                    <a:pt x="2469" y="901"/>
                  </a:lnTo>
                  <a:lnTo>
                    <a:pt x="2443" y="927"/>
                  </a:lnTo>
                  <a:lnTo>
                    <a:pt x="2414" y="954"/>
                  </a:lnTo>
                  <a:lnTo>
                    <a:pt x="2382" y="979"/>
                  </a:lnTo>
                  <a:lnTo>
                    <a:pt x="2346" y="1005"/>
                  </a:lnTo>
                  <a:lnTo>
                    <a:pt x="2306" y="1030"/>
                  </a:lnTo>
                  <a:lnTo>
                    <a:pt x="2262" y="1053"/>
                  </a:lnTo>
                  <a:lnTo>
                    <a:pt x="2214" y="1078"/>
                  </a:lnTo>
                  <a:lnTo>
                    <a:pt x="2370" y="1133"/>
                  </a:lnTo>
                  <a:lnTo>
                    <a:pt x="2431" y="1169"/>
                  </a:lnTo>
                  <a:lnTo>
                    <a:pt x="2479" y="1211"/>
                  </a:lnTo>
                  <a:lnTo>
                    <a:pt x="2538" y="1304"/>
                  </a:lnTo>
                  <a:lnTo>
                    <a:pt x="2549" y="1406"/>
                  </a:lnTo>
                  <a:lnTo>
                    <a:pt x="2534" y="1460"/>
                  </a:lnTo>
                  <a:lnTo>
                    <a:pt x="2522" y="1486"/>
                  </a:lnTo>
                  <a:lnTo>
                    <a:pt x="2507" y="1511"/>
                  </a:lnTo>
                  <a:lnTo>
                    <a:pt x="2488" y="1538"/>
                  </a:lnTo>
                  <a:lnTo>
                    <a:pt x="2467" y="1564"/>
                  </a:lnTo>
                  <a:lnTo>
                    <a:pt x="2443" y="1589"/>
                  </a:lnTo>
                  <a:lnTo>
                    <a:pt x="2414" y="1614"/>
                  </a:lnTo>
                  <a:lnTo>
                    <a:pt x="2384" y="1638"/>
                  </a:lnTo>
                  <a:lnTo>
                    <a:pt x="2349" y="1663"/>
                  </a:lnTo>
                  <a:lnTo>
                    <a:pt x="2311" y="1686"/>
                  </a:lnTo>
                  <a:lnTo>
                    <a:pt x="2271" y="1709"/>
                  </a:lnTo>
                  <a:lnTo>
                    <a:pt x="2228" y="1730"/>
                  </a:lnTo>
                  <a:lnTo>
                    <a:pt x="2180" y="1749"/>
                  </a:lnTo>
                  <a:lnTo>
                    <a:pt x="2129" y="1768"/>
                  </a:lnTo>
                  <a:lnTo>
                    <a:pt x="2074" y="1785"/>
                  </a:lnTo>
                  <a:lnTo>
                    <a:pt x="2188" y="1825"/>
                  </a:lnTo>
                  <a:lnTo>
                    <a:pt x="2232" y="1851"/>
                  </a:lnTo>
                  <a:lnTo>
                    <a:pt x="2268" y="1882"/>
                  </a:lnTo>
                  <a:lnTo>
                    <a:pt x="2317" y="1956"/>
                  </a:lnTo>
                  <a:lnTo>
                    <a:pt x="2338" y="2041"/>
                  </a:lnTo>
                  <a:lnTo>
                    <a:pt x="2336" y="2134"/>
                  </a:lnTo>
                  <a:lnTo>
                    <a:pt x="2325" y="2184"/>
                  </a:lnTo>
                  <a:lnTo>
                    <a:pt x="2309" y="2233"/>
                  </a:lnTo>
                  <a:lnTo>
                    <a:pt x="2290" y="2285"/>
                  </a:lnTo>
                  <a:lnTo>
                    <a:pt x="2266" y="2336"/>
                  </a:lnTo>
                  <a:lnTo>
                    <a:pt x="2235" y="2385"/>
                  </a:lnTo>
                  <a:lnTo>
                    <a:pt x="2220" y="2410"/>
                  </a:lnTo>
                  <a:lnTo>
                    <a:pt x="2203" y="2435"/>
                  </a:lnTo>
                  <a:lnTo>
                    <a:pt x="2186" y="2460"/>
                  </a:lnTo>
                  <a:lnTo>
                    <a:pt x="2167" y="2484"/>
                  </a:lnTo>
                  <a:lnTo>
                    <a:pt x="2127" y="2532"/>
                  </a:lnTo>
                  <a:lnTo>
                    <a:pt x="2106" y="2555"/>
                  </a:lnTo>
                  <a:lnTo>
                    <a:pt x="2085" y="2577"/>
                  </a:lnTo>
                  <a:lnTo>
                    <a:pt x="2062" y="2598"/>
                  </a:lnTo>
                  <a:lnTo>
                    <a:pt x="2040" y="2619"/>
                  </a:lnTo>
                  <a:lnTo>
                    <a:pt x="2017" y="2640"/>
                  </a:lnTo>
                  <a:lnTo>
                    <a:pt x="1992" y="2659"/>
                  </a:lnTo>
                  <a:lnTo>
                    <a:pt x="1967" y="2678"/>
                  </a:lnTo>
                  <a:lnTo>
                    <a:pt x="1943" y="2697"/>
                  </a:lnTo>
                  <a:lnTo>
                    <a:pt x="1918" y="2714"/>
                  </a:lnTo>
                  <a:lnTo>
                    <a:pt x="1893" y="2731"/>
                  </a:lnTo>
                  <a:lnTo>
                    <a:pt x="1842" y="2760"/>
                  </a:lnTo>
                  <a:lnTo>
                    <a:pt x="1789" y="2785"/>
                  </a:lnTo>
                  <a:lnTo>
                    <a:pt x="1735" y="2805"/>
                  </a:lnTo>
                  <a:lnTo>
                    <a:pt x="1682" y="2821"/>
                  </a:lnTo>
                  <a:lnTo>
                    <a:pt x="1629" y="2830"/>
                  </a:lnTo>
                  <a:lnTo>
                    <a:pt x="1524" y="2830"/>
                  </a:lnTo>
                  <a:lnTo>
                    <a:pt x="1426" y="2802"/>
                  </a:lnTo>
                  <a:lnTo>
                    <a:pt x="1382" y="2826"/>
                  </a:lnTo>
                  <a:lnTo>
                    <a:pt x="1340" y="2855"/>
                  </a:lnTo>
                  <a:lnTo>
                    <a:pt x="1300" y="2883"/>
                  </a:lnTo>
                  <a:lnTo>
                    <a:pt x="1262" y="2916"/>
                  </a:lnTo>
                  <a:lnTo>
                    <a:pt x="1224" y="2948"/>
                  </a:lnTo>
                  <a:lnTo>
                    <a:pt x="1186" y="2980"/>
                  </a:lnTo>
                  <a:lnTo>
                    <a:pt x="1146" y="3011"/>
                  </a:lnTo>
                  <a:lnTo>
                    <a:pt x="1108" y="3043"/>
                  </a:lnTo>
                  <a:lnTo>
                    <a:pt x="1063" y="3072"/>
                  </a:lnTo>
                  <a:lnTo>
                    <a:pt x="1024" y="3089"/>
                  </a:lnTo>
                  <a:lnTo>
                    <a:pt x="958" y="3093"/>
                  </a:lnTo>
                  <a:lnTo>
                    <a:pt x="905" y="3070"/>
                  </a:lnTo>
                  <a:lnTo>
                    <a:pt x="855" y="3037"/>
                  </a:lnTo>
                  <a:lnTo>
                    <a:pt x="831" y="3022"/>
                  </a:lnTo>
                  <a:lnTo>
                    <a:pt x="806" y="3011"/>
                  </a:lnTo>
                  <a:lnTo>
                    <a:pt x="747" y="3007"/>
                  </a:lnTo>
                  <a:lnTo>
                    <a:pt x="675" y="3041"/>
                  </a:lnTo>
                  <a:lnTo>
                    <a:pt x="631" y="3079"/>
                  </a:lnTo>
                  <a:lnTo>
                    <a:pt x="606" y="3104"/>
                  </a:lnTo>
                  <a:lnTo>
                    <a:pt x="582" y="3132"/>
                  </a:lnTo>
                  <a:lnTo>
                    <a:pt x="458" y="3146"/>
                  </a:lnTo>
                  <a:lnTo>
                    <a:pt x="456" y="3123"/>
                  </a:lnTo>
                  <a:lnTo>
                    <a:pt x="458" y="3098"/>
                  </a:lnTo>
                  <a:lnTo>
                    <a:pt x="473" y="3049"/>
                  </a:lnTo>
                  <a:lnTo>
                    <a:pt x="490" y="3022"/>
                  </a:lnTo>
                  <a:lnTo>
                    <a:pt x="517" y="2992"/>
                  </a:lnTo>
                  <a:lnTo>
                    <a:pt x="532" y="2977"/>
                  </a:lnTo>
                  <a:lnTo>
                    <a:pt x="551" y="2959"/>
                  </a:lnTo>
                  <a:lnTo>
                    <a:pt x="574" y="2940"/>
                  </a:lnTo>
                  <a:lnTo>
                    <a:pt x="599" y="2921"/>
                  </a:lnTo>
                  <a:lnTo>
                    <a:pt x="642" y="2902"/>
                  </a:lnTo>
                  <a:lnTo>
                    <a:pt x="692" y="2899"/>
                  </a:lnTo>
                  <a:lnTo>
                    <a:pt x="802" y="2921"/>
                  </a:lnTo>
                  <a:lnTo>
                    <a:pt x="859" y="2937"/>
                  </a:lnTo>
                  <a:lnTo>
                    <a:pt x="914" y="2944"/>
                  </a:lnTo>
                  <a:lnTo>
                    <a:pt x="1009" y="2920"/>
                  </a:lnTo>
                  <a:lnTo>
                    <a:pt x="1047" y="2889"/>
                  </a:lnTo>
                  <a:lnTo>
                    <a:pt x="1068" y="2872"/>
                  </a:lnTo>
                  <a:lnTo>
                    <a:pt x="1091" y="2853"/>
                  </a:lnTo>
                  <a:lnTo>
                    <a:pt x="1116" y="2832"/>
                  </a:lnTo>
                  <a:lnTo>
                    <a:pt x="1140" y="2811"/>
                  </a:lnTo>
                  <a:lnTo>
                    <a:pt x="1165" y="2790"/>
                  </a:lnTo>
                  <a:lnTo>
                    <a:pt x="1192" y="2769"/>
                  </a:lnTo>
                  <a:lnTo>
                    <a:pt x="1216" y="2748"/>
                  </a:lnTo>
                  <a:lnTo>
                    <a:pt x="1243" y="2729"/>
                  </a:lnTo>
                  <a:lnTo>
                    <a:pt x="1268" y="2710"/>
                  </a:lnTo>
                  <a:lnTo>
                    <a:pt x="1293" y="2693"/>
                  </a:lnTo>
                  <a:lnTo>
                    <a:pt x="1338" y="2667"/>
                  </a:lnTo>
                  <a:lnTo>
                    <a:pt x="1378" y="2650"/>
                  </a:lnTo>
                  <a:lnTo>
                    <a:pt x="1492" y="2623"/>
                  </a:lnTo>
                  <a:lnTo>
                    <a:pt x="1599" y="2610"/>
                  </a:lnTo>
                  <a:lnTo>
                    <a:pt x="1796" y="2583"/>
                  </a:lnTo>
                  <a:lnTo>
                    <a:pt x="1886" y="2555"/>
                  </a:lnTo>
                  <a:lnTo>
                    <a:pt x="1969" y="2503"/>
                  </a:lnTo>
                  <a:lnTo>
                    <a:pt x="2009" y="2467"/>
                  </a:lnTo>
                  <a:lnTo>
                    <a:pt x="2047" y="2422"/>
                  </a:lnTo>
                  <a:lnTo>
                    <a:pt x="2083" y="2366"/>
                  </a:lnTo>
                  <a:lnTo>
                    <a:pt x="2117" y="2302"/>
                  </a:lnTo>
                  <a:lnTo>
                    <a:pt x="2138" y="2258"/>
                  </a:lnTo>
                  <a:lnTo>
                    <a:pt x="2156" y="2218"/>
                  </a:lnTo>
                  <a:lnTo>
                    <a:pt x="2180" y="2146"/>
                  </a:lnTo>
                  <a:lnTo>
                    <a:pt x="2197" y="2039"/>
                  </a:lnTo>
                  <a:lnTo>
                    <a:pt x="2190" y="2003"/>
                  </a:lnTo>
                  <a:lnTo>
                    <a:pt x="2175" y="1975"/>
                  </a:lnTo>
                  <a:lnTo>
                    <a:pt x="2152" y="1954"/>
                  </a:lnTo>
                  <a:lnTo>
                    <a:pt x="2121" y="1941"/>
                  </a:lnTo>
                  <a:lnTo>
                    <a:pt x="2040" y="1931"/>
                  </a:lnTo>
                  <a:lnTo>
                    <a:pt x="1941" y="1937"/>
                  </a:lnTo>
                  <a:lnTo>
                    <a:pt x="1829" y="1954"/>
                  </a:lnTo>
                  <a:lnTo>
                    <a:pt x="1711" y="1969"/>
                  </a:lnTo>
                  <a:lnTo>
                    <a:pt x="1654" y="1963"/>
                  </a:lnTo>
                  <a:lnTo>
                    <a:pt x="1619" y="1931"/>
                  </a:lnTo>
                  <a:lnTo>
                    <a:pt x="1618" y="1887"/>
                  </a:lnTo>
                  <a:lnTo>
                    <a:pt x="1629" y="1863"/>
                  </a:lnTo>
                  <a:lnTo>
                    <a:pt x="1650" y="1838"/>
                  </a:lnTo>
                  <a:lnTo>
                    <a:pt x="1678" y="1815"/>
                  </a:lnTo>
                  <a:lnTo>
                    <a:pt x="1716" y="1792"/>
                  </a:lnTo>
                  <a:lnTo>
                    <a:pt x="1762" y="1766"/>
                  </a:lnTo>
                  <a:lnTo>
                    <a:pt x="1815" y="1741"/>
                  </a:lnTo>
                  <a:lnTo>
                    <a:pt x="1872" y="1716"/>
                  </a:lnTo>
                  <a:lnTo>
                    <a:pt x="1933" y="1690"/>
                  </a:lnTo>
                  <a:lnTo>
                    <a:pt x="1994" y="1663"/>
                  </a:lnTo>
                  <a:lnTo>
                    <a:pt x="2057" y="1638"/>
                  </a:lnTo>
                  <a:lnTo>
                    <a:pt x="2117" y="1614"/>
                  </a:lnTo>
                  <a:lnTo>
                    <a:pt x="2176" y="1589"/>
                  </a:lnTo>
                  <a:lnTo>
                    <a:pt x="2232" y="1566"/>
                  </a:lnTo>
                  <a:lnTo>
                    <a:pt x="2279" y="1545"/>
                  </a:lnTo>
                  <a:lnTo>
                    <a:pt x="2351" y="1509"/>
                  </a:lnTo>
                  <a:lnTo>
                    <a:pt x="2384" y="1483"/>
                  </a:lnTo>
                  <a:lnTo>
                    <a:pt x="2393" y="1418"/>
                  </a:lnTo>
                  <a:lnTo>
                    <a:pt x="2384" y="1363"/>
                  </a:lnTo>
                  <a:lnTo>
                    <a:pt x="2357" y="1319"/>
                  </a:lnTo>
                  <a:lnTo>
                    <a:pt x="2340" y="1300"/>
                  </a:lnTo>
                  <a:lnTo>
                    <a:pt x="2321" y="1285"/>
                  </a:lnTo>
                  <a:lnTo>
                    <a:pt x="2273" y="1256"/>
                  </a:lnTo>
                  <a:lnTo>
                    <a:pt x="2218" y="1234"/>
                  </a:lnTo>
                  <a:lnTo>
                    <a:pt x="2161" y="1216"/>
                  </a:lnTo>
                  <a:lnTo>
                    <a:pt x="2102" y="1203"/>
                  </a:lnTo>
                  <a:lnTo>
                    <a:pt x="1916" y="1152"/>
                  </a:lnTo>
                  <a:lnTo>
                    <a:pt x="1893" y="1114"/>
                  </a:lnTo>
                  <a:lnTo>
                    <a:pt x="1910" y="1085"/>
                  </a:lnTo>
                  <a:lnTo>
                    <a:pt x="1927" y="1070"/>
                  </a:lnTo>
                  <a:lnTo>
                    <a:pt x="1950" y="1051"/>
                  </a:lnTo>
                  <a:lnTo>
                    <a:pt x="1979" y="1030"/>
                  </a:lnTo>
                  <a:lnTo>
                    <a:pt x="2009" y="1013"/>
                  </a:lnTo>
                  <a:lnTo>
                    <a:pt x="2070" y="981"/>
                  </a:lnTo>
                  <a:lnTo>
                    <a:pt x="2133" y="954"/>
                  </a:lnTo>
                  <a:lnTo>
                    <a:pt x="2195" y="926"/>
                  </a:lnTo>
                  <a:lnTo>
                    <a:pt x="2256" y="895"/>
                  </a:lnTo>
                  <a:lnTo>
                    <a:pt x="2313" y="859"/>
                  </a:lnTo>
                  <a:lnTo>
                    <a:pt x="2340" y="836"/>
                  </a:lnTo>
                  <a:lnTo>
                    <a:pt x="2365" y="812"/>
                  </a:lnTo>
                  <a:lnTo>
                    <a:pt x="2406" y="754"/>
                  </a:lnTo>
                  <a:lnTo>
                    <a:pt x="2347" y="667"/>
                  </a:lnTo>
                  <a:lnTo>
                    <a:pt x="2254" y="648"/>
                  </a:lnTo>
                  <a:lnTo>
                    <a:pt x="2165" y="652"/>
                  </a:lnTo>
                  <a:lnTo>
                    <a:pt x="2074" y="667"/>
                  </a:lnTo>
                  <a:lnTo>
                    <a:pt x="1981" y="682"/>
                  </a:lnTo>
                  <a:lnTo>
                    <a:pt x="1908" y="678"/>
                  </a:lnTo>
                  <a:lnTo>
                    <a:pt x="1887" y="650"/>
                  </a:lnTo>
                  <a:lnTo>
                    <a:pt x="1893" y="627"/>
                  </a:lnTo>
                  <a:lnTo>
                    <a:pt x="1906" y="599"/>
                  </a:lnTo>
                  <a:lnTo>
                    <a:pt x="1925" y="566"/>
                  </a:lnTo>
                  <a:lnTo>
                    <a:pt x="1948" y="530"/>
                  </a:lnTo>
                  <a:lnTo>
                    <a:pt x="1973" y="492"/>
                  </a:lnTo>
                  <a:lnTo>
                    <a:pt x="2000" y="452"/>
                  </a:lnTo>
                  <a:lnTo>
                    <a:pt x="2024" y="409"/>
                  </a:lnTo>
                  <a:lnTo>
                    <a:pt x="2047" y="365"/>
                  </a:lnTo>
                  <a:lnTo>
                    <a:pt x="2076" y="277"/>
                  </a:lnTo>
                  <a:lnTo>
                    <a:pt x="2072" y="192"/>
                  </a:lnTo>
                  <a:lnTo>
                    <a:pt x="1969" y="194"/>
                  </a:lnTo>
                  <a:lnTo>
                    <a:pt x="1912" y="226"/>
                  </a:lnTo>
                  <a:lnTo>
                    <a:pt x="1882" y="255"/>
                  </a:lnTo>
                  <a:lnTo>
                    <a:pt x="1851" y="291"/>
                  </a:lnTo>
                  <a:lnTo>
                    <a:pt x="1821" y="331"/>
                  </a:lnTo>
                  <a:lnTo>
                    <a:pt x="1791" y="374"/>
                  </a:lnTo>
                  <a:lnTo>
                    <a:pt x="1762" y="420"/>
                  </a:lnTo>
                  <a:lnTo>
                    <a:pt x="1734" y="467"/>
                  </a:lnTo>
                  <a:lnTo>
                    <a:pt x="1709" y="515"/>
                  </a:lnTo>
                  <a:lnTo>
                    <a:pt x="1684" y="559"/>
                  </a:lnTo>
                  <a:lnTo>
                    <a:pt x="1661" y="601"/>
                  </a:lnTo>
                  <a:lnTo>
                    <a:pt x="1644" y="639"/>
                  </a:lnTo>
                  <a:lnTo>
                    <a:pt x="1618" y="696"/>
                  </a:lnTo>
                  <a:lnTo>
                    <a:pt x="1608" y="716"/>
                  </a:lnTo>
                  <a:lnTo>
                    <a:pt x="1547" y="686"/>
                  </a:lnTo>
                  <a:lnTo>
                    <a:pt x="1523" y="663"/>
                  </a:lnTo>
                  <a:lnTo>
                    <a:pt x="1500" y="637"/>
                  </a:lnTo>
                  <a:lnTo>
                    <a:pt x="1475" y="608"/>
                  </a:lnTo>
                  <a:lnTo>
                    <a:pt x="1448" y="582"/>
                  </a:lnTo>
                  <a:lnTo>
                    <a:pt x="1416" y="557"/>
                  </a:lnTo>
                  <a:lnTo>
                    <a:pt x="1378" y="536"/>
                  </a:lnTo>
                  <a:lnTo>
                    <a:pt x="1336" y="578"/>
                  </a:lnTo>
                  <a:lnTo>
                    <a:pt x="1302" y="633"/>
                  </a:lnTo>
                  <a:lnTo>
                    <a:pt x="1256" y="785"/>
                  </a:lnTo>
                  <a:lnTo>
                    <a:pt x="1234" y="977"/>
                  </a:lnTo>
                  <a:lnTo>
                    <a:pt x="1228" y="1197"/>
                  </a:lnTo>
                  <a:lnTo>
                    <a:pt x="1165" y="1272"/>
                  </a:lnTo>
                  <a:lnTo>
                    <a:pt x="1104" y="1272"/>
                  </a:lnTo>
                  <a:lnTo>
                    <a:pt x="1055" y="1249"/>
                  </a:lnTo>
                  <a:lnTo>
                    <a:pt x="1011" y="1213"/>
                  </a:lnTo>
                  <a:lnTo>
                    <a:pt x="973" y="1169"/>
                  </a:lnTo>
                  <a:lnTo>
                    <a:pt x="935" y="1119"/>
                  </a:lnTo>
                  <a:lnTo>
                    <a:pt x="914" y="1097"/>
                  </a:lnTo>
                  <a:lnTo>
                    <a:pt x="895" y="1074"/>
                  </a:lnTo>
                  <a:lnTo>
                    <a:pt x="872" y="1055"/>
                  </a:lnTo>
                  <a:lnTo>
                    <a:pt x="850" y="1038"/>
                  </a:lnTo>
                  <a:lnTo>
                    <a:pt x="798" y="1015"/>
                  </a:lnTo>
                  <a:lnTo>
                    <a:pt x="753" y="1013"/>
                  </a:lnTo>
                  <a:lnTo>
                    <a:pt x="717" y="1030"/>
                  </a:lnTo>
                  <a:lnTo>
                    <a:pt x="677" y="1108"/>
                  </a:lnTo>
                  <a:lnTo>
                    <a:pt x="665" y="1232"/>
                  </a:lnTo>
                  <a:lnTo>
                    <a:pt x="673" y="1384"/>
                  </a:lnTo>
                  <a:lnTo>
                    <a:pt x="688" y="1549"/>
                  </a:lnTo>
                  <a:lnTo>
                    <a:pt x="701" y="1707"/>
                  </a:lnTo>
                  <a:lnTo>
                    <a:pt x="699" y="1842"/>
                  </a:lnTo>
                  <a:lnTo>
                    <a:pt x="690" y="1893"/>
                  </a:lnTo>
                  <a:lnTo>
                    <a:pt x="673" y="1935"/>
                  </a:lnTo>
                  <a:lnTo>
                    <a:pt x="661" y="1950"/>
                  </a:lnTo>
                  <a:lnTo>
                    <a:pt x="646" y="1960"/>
                  </a:lnTo>
                  <a:lnTo>
                    <a:pt x="614" y="1969"/>
                  </a:lnTo>
                  <a:lnTo>
                    <a:pt x="532" y="1952"/>
                  </a:lnTo>
                  <a:lnTo>
                    <a:pt x="487" y="1931"/>
                  </a:lnTo>
                  <a:lnTo>
                    <a:pt x="437" y="1906"/>
                  </a:lnTo>
                  <a:lnTo>
                    <a:pt x="388" y="1878"/>
                  </a:lnTo>
                  <a:lnTo>
                    <a:pt x="340" y="1853"/>
                  </a:lnTo>
                  <a:lnTo>
                    <a:pt x="293" y="1830"/>
                  </a:lnTo>
                  <a:lnTo>
                    <a:pt x="249" y="1817"/>
                  </a:lnTo>
                  <a:lnTo>
                    <a:pt x="175" y="1821"/>
                  </a:lnTo>
                  <a:lnTo>
                    <a:pt x="148" y="1846"/>
                  </a:lnTo>
                  <a:lnTo>
                    <a:pt x="129" y="1889"/>
                  </a:lnTo>
                  <a:lnTo>
                    <a:pt x="120" y="2043"/>
                  </a:lnTo>
                  <a:lnTo>
                    <a:pt x="127" y="2108"/>
                  </a:lnTo>
                  <a:lnTo>
                    <a:pt x="146" y="2163"/>
                  </a:lnTo>
                  <a:lnTo>
                    <a:pt x="171" y="2209"/>
                  </a:lnTo>
                  <a:lnTo>
                    <a:pt x="200" y="2247"/>
                  </a:lnTo>
                  <a:lnTo>
                    <a:pt x="217" y="2264"/>
                  </a:lnTo>
                  <a:lnTo>
                    <a:pt x="236" y="2279"/>
                  </a:lnTo>
                  <a:lnTo>
                    <a:pt x="272" y="2307"/>
                  </a:lnTo>
                  <a:lnTo>
                    <a:pt x="312" y="2334"/>
                  </a:lnTo>
                  <a:lnTo>
                    <a:pt x="350" y="2359"/>
                  </a:lnTo>
                  <a:lnTo>
                    <a:pt x="388" y="2384"/>
                  </a:lnTo>
                  <a:lnTo>
                    <a:pt x="422" y="2412"/>
                  </a:lnTo>
                  <a:lnTo>
                    <a:pt x="477" y="2480"/>
                  </a:lnTo>
                  <a:lnTo>
                    <a:pt x="506" y="2575"/>
                  </a:lnTo>
                  <a:lnTo>
                    <a:pt x="506" y="2606"/>
                  </a:lnTo>
                  <a:lnTo>
                    <a:pt x="506" y="2638"/>
                  </a:lnTo>
                  <a:lnTo>
                    <a:pt x="494" y="2712"/>
                  </a:lnTo>
                  <a:lnTo>
                    <a:pt x="525" y="2680"/>
                  </a:lnTo>
                  <a:lnTo>
                    <a:pt x="559" y="2648"/>
                  </a:lnTo>
                  <a:lnTo>
                    <a:pt x="591" y="2614"/>
                  </a:lnTo>
                  <a:lnTo>
                    <a:pt x="627" y="2577"/>
                  </a:lnTo>
                  <a:lnTo>
                    <a:pt x="644" y="2560"/>
                  </a:lnTo>
                  <a:lnTo>
                    <a:pt x="663" y="2541"/>
                  </a:lnTo>
                  <a:lnTo>
                    <a:pt x="680" y="2522"/>
                  </a:lnTo>
                  <a:lnTo>
                    <a:pt x="699" y="2503"/>
                  </a:lnTo>
                  <a:lnTo>
                    <a:pt x="718" y="2484"/>
                  </a:lnTo>
                  <a:lnTo>
                    <a:pt x="737" y="2463"/>
                  </a:lnTo>
                  <a:lnTo>
                    <a:pt x="756" y="2442"/>
                  </a:lnTo>
                  <a:lnTo>
                    <a:pt x="775" y="2422"/>
                  </a:lnTo>
                  <a:lnTo>
                    <a:pt x="794" y="2403"/>
                  </a:lnTo>
                  <a:lnTo>
                    <a:pt x="812" y="2384"/>
                  </a:lnTo>
                  <a:lnTo>
                    <a:pt x="842" y="2347"/>
                  </a:lnTo>
                  <a:lnTo>
                    <a:pt x="869" y="2313"/>
                  </a:lnTo>
                  <a:lnTo>
                    <a:pt x="891" y="2281"/>
                  </a:lnTo>
                  <a:lnTo>
                    <a:pt x="910" y="2250"/>
                  </a:lnTo>
                  <a:lnTo>
                    <a:pt x="928" y="2222"/>
                  </a:lnTo>
                  <a:lnTo>
                    <a:pt x="956" y="2161"/>
                  </a:lnTo>
                  <a:lnTo>
                    <a:pt x="996" y="2032"/>
                  </a:lnTo>
                  <a:lnTo>
                    <a:pt x="1013" y="1952"/>
                  </a:lnTo>
                  <a:lnTo>
                    <a:pt x="1032" y="1857"/>
                  </a:lnTo>
                  <a:lnTo>
                    <a:pt x="1055" y="1770"/>
                  </a:lnTo>
                  <a:lnTo>
                    <a:pt x="1068" y="1728"/>
                  </a:lnTo>
                  <a:lnTo>
                    <a:pt x="1083" y="1688"/>
                  </a:lnTo>
                  <a:lnTo>
                    <a:pt x="1099" y="1648"/>
                  </a:lnTo>
                  <a:lnTo>
                    <a:pt x="1116" y="1608"/>
                  </a:lnTo>
                  <a:lnTo>
                    <a:pt x="1135" y="1570"/>
                  </a:lnTo>
                  <a:lnTo>
                    <a:pt x="1154" y="1534"/>
                  </a:lnTo>
                  <a:lnTo>
                    <a:pt x="1177" y="1498"/>
                  </a:lnTo>
                  <a:lnTo>
                    <a:pt x="1197" y="1462"/>
                  </a:lnTo>
                  <a:lnTo>
                    <a:pt x="1220" y="1427"/>
                  </a:lnTo>
                  <a:lnTo>
                    <a:pt x="1245" y="1393"/>
                  </a:lnTo>
                  <a:lnTo>
                    <a:pt x="1270" y="1361"/>
                  </a:lnTo>
                  <a:lnTo>
                    <a:pt x="1294" y="1329"/>
                  </a:lnTo>
                  <a:lnTo>
                    <a:pt x="1321" y="1296"/>
                  </a:lnTo>
                  <a:lnTo>
                    <a:pt x="1348" y="1264"/>
                  </a:lnTo>
                  <a:lnTo>
                    <a:pt x="1376" y="1234"/>
                  </a:lnTo>
                  <a:lnTo>
                    <a:pt x="1405" y="1203"/>
                  </a:lnTo>
                  <a:lnTo>
                    <a:pt x="1433" y="1173"/>
                  </a:lnTo>
                  <a:lnTo>
                    <a:pt x="1462" y="1142"/>
                  </a:lnTo>
                  <a:lnTo>
                    <a:pt x="1492" y="1112"/>
                  </a:lnTo>
                  <a:lnTo>
                    <a:pt x="1523" y="1081"/>
                  </a:lnTo>
                  <a:lnTo>
                    <a:pt x="1553" y="1053"/>
                  </a:lnTo>
                  <a:lnTo>
                    <a:pt x="1583" y="1023"/>
                  </a:lnTo>
                  <a:lnTo>
                    <a:pt x="1614" y="994"/>
                  </a:lnTo>
                  <a:lnTo>
                    <a:pt x="1644" y="965"/>
                  </a:lnTo>
                  <a:lnTo>
                    <a:pt x="1675" y="935"/>
                  </a:lnTo>
                  <a:lnTo>
                    <a:pt x="1707" y="907"/>
                  </a:lnTo>
                  <a:lnTo>
                    <a:pt x="1737" y="876"/>
                  </a:lnTo>
                  <a:lnTo>
                    <a:pt x="1768" y="846"/>
                  </a:lnTo>
                  <a:lnTo>
                    <a:pt x="1800" y="817"/>
                  </a:lnTo>
                  <a:lnTo>
                    <a:pt x="1830" y="787"/>
                  </a:lnTo>
                  <a:lnTo>
                    <a:pt x="1867" y="823"/>
                  </a:lnTo>
                  <a:lnTo>
                    <a:pt x="1846" y="842"/>
                  </a:lnTo>
                  <a:lnTo>
                    <a:pt x="1827" y="861"/>
                  </a:lnTo>
                  <a:lnTo>
                    <a:pt x="1810" y="880"/>
                  </a:lnTo>
                  <a:lnTo>
                    <a:pt x="1791" y="899"/>
                  </a:lnTo>
                  <a:lnTo>
                    <a:pt x="1773" y="918"/>
                  </a:lnTo>
                  <a:lnTo>
                    <a:pt x="1754" y="937"/>
                  </a:lnTo>
                  <a:lnTo>
                    <a:pt x="1737" y="956"/>
                  </a:lnTo>
                  <a:lnTo>
                    <a:pt x="1722" y="975"/>
                  </a:lnTo>
                  <a:lnTo>
                    <a:pt x="1690" y="1011"/>
                  </a:lnTo>
                  <a:lnTo>
                    <a:pt x="1659" y="1047"/>
                  </a:lnTo>
                  <a:lnTo>
                    <a:pt x="1629" y="1083"/>
                  </a:lnTo>
                  <a:lnTo>
                    <a:pt x="1602" y="1118"/>
                  </a:lnTo>
                  <a:lnTo>
                    <a:pt x="1576" y="1152"/>
                  </a:lnTo>
                  <a:lnTo>
                    <a:pt x="1551" y="1186"/>
                  </a:lnTo>
                  <a:lnTo>
                    <a:pt x="1526" y="1218"/>
                  </a:lnTo>
                  <a:lnTo>
                    <a:pt x="1504" y="1251"/>
                  </a:lnTo>
                  <a:lnTo>
                    <a:pt x="1483" y="1283"/>
                  </a:lnTo>
                  <a:lnTo>
                    <a:pt x="1462" y="1315"/>
                  </a:lnTo>
                  <a:lnTo>
                    <a:pt x="1443" y="1346"/>
                  </a:lnTo>
                  <a:lnTo>
                    <a:pt x="1424" y="1376"/>
                  </a:lnTo>
                  <a:lnTo>
                    <a:pt x="1391" y="1437"/>
                  </a:lnTo>
                  <a:lnTo>
                    <a:pt x="1361" y="1496"/>
                  </a:lnTo>
                  <a:lnTo>
                    <a:pt x="1334" y="1553"/>
                  </a:lnTo>
                  <a:lnTo>
                    <a:pt x="1310" y="1608"/>
                  </a:lnTo>
                  <a:lnTo>
                    <a:pt x="1289" y="1661"/>
                  </a:lnTo>
                  <a:lnTo>
                    <a:pt x="1270" y="1713"/>
                  </a:lnTo>
                  <a:lnTo>
                    <a:pt x="1253" y="1764"/>
                  </a:lnTo>
                  <a:lnTo>
                    <a:pt x="1237" y="1813"/>
                  </a:lnTo>
                  <a:lnTo>
                    <a:pt x="1209" y="1910"/>
                  </a:lnTo>
                  <a:lnTo>
                    <a:pt x="1184" y="2003"/>
                  </a:lnTo>
                  <a:lnTo>
                    <a:pt x="1169" y="2049"/>
                  </a:lnTo>
                  <a:lnTo>
                    <a:pt x="1156" y="2095"/>
                  </a:lnTo>
                  <a:lnTo>
                    <a:pt x="1140" y="2140"/>
                  </a:lnTo>
                  <a:lnTo>
                    <a:pt x="1123" y="2184"/>
                  </a:lnTo>
                  <a:lnTo>
                    <a:pt x="1106" y="2228"/>
                  </a:lnTo>
                  <a:lnTo>
                    <a:pt x="1085" y="2271"/>
                  </a:lnTo>
                  <a:lnTo>
                    <a:pt x="1063" y="2315"/>
                  </a:lnTo>
                  <a:lnTo>
                    <a:pt x="1038" y="2361"/>
                  </a:lnTo>
                  <a:lnTo>
                    <a:pt x="1009" y="2404"/>
                  </a:lnTo>
                  <a:lnTo>
                    <a:pt x="977" y="2448"/>
                  </a:lnTo>
                  <a:lnTo>
                    <a:pt x="941" y="2492"/>
                  </a:lnTo>
                  <a:lnTo>
                    <a:pt x="920" y="2515"/>
                  </a:lnTo>
                  <a:lnTo>
                    <a:pt x="901" y="2537"/>
                  </a:lnTo>
                  <a:lnTo>
                    <a:pt x="871" y="2568"/>
                  </a:lnTo>
                  <a:lnTo>
                    <a:pt x="840" y="2598"/>
                  </a:lnTo>
                  <a:lnTo>
                    <a:pt x="810" y="2629"/>
                  </a:lnTo>
                  <a:lnTo>
                    <a:pt x="779" y="2657"/>
                  </a:lnTo>
                  <a:lnTo>
                    <a:pt x="749" y="2684"/>
                  </a:lnTo>
                  <a:lnTo>
                    <a:pt x="717" y="2710"/>
                  </a:lnTo>
                  <a:lnTo>
                    <a:pt x="686" y="2737"/>
                  </a:lnTo>
                  <a:lnTo>
                    <a:pt x="656" y="2764"/>
                  </a:lnTo>
                  <a:lnTo>
                    <a:pt x="625" y="2790"/>
                  </a:lnTo>
                  <a:lnTo>
                    <a:pt x="597" y="2817"/>
                  </a:lnTo>
                  <a:lnTo>
                    <a:pt x="566" y="2844"/>
                  </a:lnTo>
                  <a:lnTo>
                    <a:pt x="538" y="2870"/>
                  </a:lnTo>
                  <a:lnTo>
                    <a:pt x="509" y="2895"/>
                  </a:lnTo>
                  <a:lnTo>
                    <a:pt x="481" y="2921"/>
                  </a:lnTo>
                  <a:lnTo>
                    <a:pt x="454" y="2950"/>
                  </a:lnTo>
                  <a:lnTo>
                    <a:pt x="428" y="2977"/>
                  </a:lnTo>
                  <a:lnTo>
                    <a:pt x="403" y="3005"/>
                  </a:lnTo>
                  <a:lnTo>
                    <a:pt x="378" y="3034"/>
                  </a:lnTo>
                  <a:lnTo>
                    <a:pt x="355" y="3064"/>
                  </a:lnTo>
                  <a:lnTo>
                    <a:pt x="333" y="3094"/>
                  </a:lnTo>
                  <a:lnTo>
                    <a:pt x="312" y="3125"/>
                  </a:lnTo>
                  <a:lnTo>
                    <a:pt x="293" y="3159"/>
                  </a:lnTo>
                  <a:lnTo>
                    <a:pt x="258" y="3227"/>
                  </a:lnTo>
                  <a:lnTo>
                    <a:pt x="232" y="3304"/>
                  </a:lnTo>
                  <a:lnTo>
                    <a:pt x="211" y="3385"/>
                  </a:lnTo>
                  <a:lnTo>
                    <a:pt x="194" y="3572"/>
                  </a:lnTo>
                  <a:lnTo>
                    <a:pt x="142" y="3572"/>
                  </a:lnTo>
                  <a:lnTo>
                    <a:pt x="156" y="3347"/>
                  </a:lnTo>
                  <a:lnTo>
                    <a:pt x="171" y="3252"/>
                  </a:lnTo>
                  <a:lnTo>
                    <a:pt x="194" y="3165"/>
                  </a:lnTo>
                  <a:lnTo>
                    <a:pt x="207" y="3125"/>
                  </a:lnTo>
                  <a:lnTo>
                    <a:pt x="222" y="3087"/>
                  </a:lnTo>
                  <a:lnTo>
                    <a:pt x="238" y="3051"/>
                  </a:lnTo>
                  <a:lnTo>
                    <a:pt x="257" y="3016"/>
                  </a:lnTo>
                  <a:lnTo>
                    <a:pt x="276" y="2982"/>
                  </a:lnTo>
                  <a:lnTo>
                    <a:pt x="296" y="2948"/>
                  </a:lnTo>
                  <a:lnTo>
                    <a:pt x="317" y="2918"/>
                  </a:lnTo>
                  <a:lnTo>
                    <a:pt x="340" y="2885"/>
                  </a:lnTo>
                  <a:lnTo>
                    <a:pt x="340" y="28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"/>
          <p:cNvSpPr/>
          <p:nvPr/>
        </p:nvSpPr>
        <p:spPr>
          <a:xfrm>
            <a:off x="1066680" y="4572000"/>
            <a:ext cx="2773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9" name=""/>
          <p:cNvGrpSpPr/>
          <p:nvPr/>
        </p:nvGrpSpPr>
        <p:grpSpPr>
          <a:xfrm>
            <a:off x="5410080" y="3218040"/>
            <a:ext cx="3043080" cy="1183680"/>
            <a:chOff x="5410080" y="3218040"/>
            <a:chExt cx="3043080" cy="1183680"/>
          </a:xfrm>
        </p:grpSpPr>
        <p:sp>
          <p:nvSpPr>
            <p:cNvPr id="4250" name=""/>
            <p:cNvSpPr/>
            <p:nvPr/>
          </p:nvSpPr>
          <p:spPr>
            <a:xfrm flipH="1">
              <a:off x="5712840" y="3390480"/>
              <a:ext cx="2740320" cy="914040"/>
            </a:xfrm>
            <a:custGeom>
              <a:avLst/>
              <a:gdLst/>
              <a:ahLst/>
              <a:rect l="l" t="t" r="r" b="b"/>
              <a:pathLst>
                <a:path w="5196" h="2222">
                  <a:moveTo>
                    <a:pt x="565" y="0"/>
                  </a:moveTo>
                  <a:lnTo>
                    <a:pt x="882" y="48"/>
                  </a:lnTo>
                  <a:lnTo>
                    <a:pt x="3612" y="858"/>
                  </a:lnTo>
                  <a:lnTo>
                    <a:pt x="4146" y="723"/>
                  </a:lnTo>
                  <a:lnTo>
                    <a:pt x="4603" y="572"/>
                  </a:lnTo>
                  <a:lnTo>
                    <a:pt x="4572" y="388"/>
                  </a:lnTo>
                  <a:lnTo>
                    <a:pt x="5165" y="588"/>
                  </a:lnTo>
                  <a:lnTo>
                    <a:pt x="4069" y="1065"/>
                  </a:lnTo>
                  <a:lnTo>
                    <a:pt x="5196" y="1468"/>
                  </a:lnTo>
                  <a:lnTo>
                    <a:pt x="4643" y="1667"/>
                  </a:lnTo>
                  <a:lnTo>
                    <a:pt x="4603" y="1500"/>
                  </a:lnTo>
                  <a:lnTo>
                    <a:pt x="4097" y="1405"/>
                  </a:lnTo>
                  <a:lnTo>
                    <a:pt x="3544" y="1373"/>
                  </a:lnTo>
                  <a:lnTo>
                    <a:pt x="892" y="2158"/>
                  </a:lnTo>
                  <a:lnTo>
                    <a:pt x="595" y="2222"/>
                  </a:lnTo>
                  <a:lnTo>
                    <a:pt x="278" y="2183"/>
                  </a:lnTo>
                  <a:lnTo>
                    <a:pt x="12" y="2095"/>
                  </a:lnTo>
                  <a:lnTo>
                    <a:pt x="2861" y="1110"/>
                  </a:lnTo>
                  <a:lnTo>
                    <a:pt x="0" y="160"/>
                  </a:lnTo>
                  <a:lnTo>
                    <a:pt x="259" y="4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 flipH="1">
              <a:off x="5457240" y="3218040"/>
              <a:ext cx="672120" cy="423000"/>
            </a:xfrm>
            <a:custGeom>
              <a:avLst/>
              <a:gdLst/>
              <a:ahLst/>
              <a:rect l="l" t="t" r="r" b="b"/>
              <a:pathLst>
                <a:path w="1276" h="1030">
                  <a:moveTo>
                    <a:pt x="207" y="913"/>
                  </a:moveTo>
                  <a:lnTo>
                    <a:pt x="78" y="785"/>
                  </a:lnTo>
                  <a:lnTo>
                    <a:pt x="245" y="705"/>
                  </a:lnTo>
                  <a:lnTo>
                    <a:pt x="356" y="802"/>
                  </a:lnTo>
                  <a:lnTo>
                    <a:pt x="464" y="855"/>
                  </a:lnTo>
                  <a:lnTo>
                    <a:pt x="603" y="880"/>
                  </a:lnTo>
                  <a:lnTo>
                    <a:pt x="751" y="880"/>
                  </a:lnTo>
                  <a:lnTo>
                    <a:pt x="880" y="833"/>
                  </a:lnTo>
                  <a:lnTo>
                    <a:pt x="989" y="760"/>
                  </a:lnTo>
                  <a:lnTo>
                    <a:pt x="1068" y="658"/>
                  </a:lnTo>
                  <a:lnTo>
                    <a:pt x="1107" y="546"/>
                  </a:lnTo>
                  <a:lnTo>
                    <a:pt x="1087" y="437"/>
                  </a:lnTo>
                  <a:lnTo>
                    <a:pt x="1040" y="333"/>
                  </a:lnTo>
                  <a:lnTo>
                    <a:pt x="949" y="238"/>
                  </a:lnTo>
                  <a:lnTo>
                    <a:pt x="821" y="183"/>
                  </a:lnTo>
                  <a:lnTo>
                    <a:pt x="681" y="150"/>
                  </a:lnTo>
                  <a:lnTo>
                    <a:pt x="553" y="158"/>
                  </a:lnTo>
                  <a:lnTo>
                    <a:pt x="405" y="205"/>
                  </a:lnTo>
                  <a:lnTo>
                    <a:pt x="306" y="278"/>
                  </a:lnTo>
                  <a:lnTo>
                    <a:pt x="226" y="380"/>
                  </a:lnTo>
                  <a:lnTo>
                    <a:pt x="198" y="492"/>
                  </a:lnTo>
                  <a:lnTo>
                    <a:pt x="207" y="603"/>
                  </a:lnTo>
                  <a:lnTo>
                    <a:pt x="245" y="705"/>
                  </a:lnTo>
                  <a:lnTo>
                    <a:pt x="78" y="785"/>
                  </a:lnTo>
                  <a:lnTo>
                    <a:pt x="10" y="627"/>
                  </a:lnTo>
                  <a:lnTo>
                    <a:pt x="0" y="468"/>
                  </a:lnTo>
                  <a:lnTo>
                    <a:pt x="38" y="318"/>
                  </a:lnTo>
                  <a:lnTo>
                    <a:pt x="148" y="183"/>
                  </a:lnTo>
                  <a:lnTo>
                    <a:pt x="297" y="80"/>
                  </a:lnTo>
                  <a:lnTo>
                    <a:pt x="494" y="23"/>
                  </a:lnTo>
                  <a:lnTo>
                    <a:pt x="692" y="0"/>
                  </a:lnTo>
                  <a:lnTo>
                    <a:pt x="880" y="46"/>
                  </a:lnTo>
                  <a:lnTo>
                    <a:pt x="1049" y="127"/>
                  </a:lnTo>
                  <a:lnTo>
                    <a:pt x="1177" y="253"/>
                  </a:lnTo>
                  <a:lnTo>
                    <a:pt x="1266" y="395"/>
                  </a:lnTo>
                  <a:lnTo>
                    <a:pt x="1276" y="563"/>
                  </a:lnTo>
                  <a:lnTo>
                    <a:pt x="1217" y="722"/>
                  </a:lnTo>
                  <a:lnTo>
                    <a:pt x="1118" y="855"/>
                  </a:lnTo>
                  <a:lnTo>
                    <a:pt x="958" y="960"/>
                  </a:lnTo>
                  <a:lnTo>
                    <a:pt x="781" y="1015"/>
                  </a:lnTo>
                  <a:lnTo>
                    <a:pt x="584" y="1030"/>
                  </a:lnTo>
                  <a:lnTo>
                    <a:pt x="375" y="992"/>
                  </a:lnTo>
                  <a:lnTo>
                    <a:pt x="207" y="9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 flipH="1">
              <a:off x="5410080" y="3978720"/>
              <a:ext cx="678960" cy="423000"/>
            </a:xfrm>
            <a:custGeom>
              <a:avLst/>
              <a:gdLst/>
              <a:ahLst/>
              <a:rect l="l" t="t" r="r" b="b"/>
              <a:pathLst>
                <a:path w="1287" h="1030">
                  <a:moveTo>
                    <a:pt x="219" y="905"/>
                  </a:moveTo>
                  <a:lnTo>
                    <a:pt x="89" y="775"/>
                  </a:lnTo>
                  <a:lnTo>
                    <a:pt x="278" y="713"/>
                  </a:lnTo>
                  <a:lnTo>
                    <a:pt x="357" y="792"/>
                  </a:lnTo>
                  <a:lnTo>
                    <a:pt x="487" y="857"/>
                  </a:lnTo>
                  <a:lnTo>
                    <a:pt x="614" y="880"/>
                  </a:lnTo>
                  <a:lnTo>
                    <a:pt x="762" y="872"/>
                  </a:lnTo>
                  <a:lnTo>
                    <a:pt x="901" y="832"/>
                  </a:lnTo>
                  <a:lnTo>
                    <a:pt x="1002" y="753"/>
                  </a:lnTo>
                  <a:lnTo>
                    <a:pt x="1089" y="650"/>
                  </a:lnTo>
                  <a:lnTo>
                    <a:pt x="1108" y="547"/>
                  </a:lnTo>
                  <a:lnTo>
                    <a:pt x="1108" y="435"/>
                  </a:lnTo>
                  <a:lnTo>
                    <a:pt x="1059" y="332"/>
                  </a:lnTo>
                  <a:lnTo>
                    <a:pt x="962" y="237"/>
                  </a:lnTo>
                  <a:lnTo>
                    <a:pt x="842" y="180"/>
                  </a:lnTo>
                  <a:lnTo>
                    <a:pt x="703" y="150"/>
                  </a:lnTo>
                  <a:lnTo>
                    <a:pt x="553" y="157"/>
                  </a:lnTo>
                  <a:lnTo>
                    <a:pt x="426" y="205"/>
                  </a:lnTo>
                  <a:lnTo>
                    <a:pt x="317" y="277"/>
                  </a:lnTo>
                  <a:lnTo>
                    <a:pt x="249" y="363"/>
                  </a:lnTo>
                  <a:lnTo>
                    <a:pt x="198" y="483"/>
                  </a:lnTo>
                  <a:lnTo>
                    <a:pt x="219" y="595"/>
                  </a:lnTo>
                  <a:lnTo>
                    <a:pt x="278" y="713"/>
                  </a:lnTo>
                  <a:lnTo>
                    <a:pt x="89" y="775"/>
                  </a:lnTo>
                  <a:lnTo>
                    <a:pt x="21" y="625"/>
                  </a:lnTo>
                  <a:lnTo>
                    <a:pt x="0" y="467"/>
                  </a:lnTo>
                  <a:lnTo>
                    <a:pt x="61" y="308"/>
                  </a:lnTo>
                  <a:lnTo>
                    <a:pt x="160" y="175"/>
                  </a:lnTo>
                  <a:lnTo>
                    <a:pt x="317" y="70"/>
                  </a:lnTo>
                  <a:lnTo>
                    <a:pt x="506" y="15"/>
                  </a:lnTo>
                  <a:lnTo>
                    <a:pt x="703" y="0"/>
                  </a:lnTo>
                  <a:lnTo>
                    <a:pt x="901" y="47"/>
                  </a:lnTo>
                  <a:lnTo>
                    <a:pt x="1068" y="125"/>
                  </a:lnTo>
                  <a:lnTo>
                    <a:pt x="1198" y="253"/>
                  </a:lnTo>
                  <a:lnTo>
                    <a:pt x="1266" y="403"/>
                  </a:lnTo>
                  <a:lnTo>
                    <a:pt x="1287" y="562"/>
                  </a:lnTo>
                  <a:lnTo>
                    <a:pt x="1238" y="713"/>
                  </a:lnTo>
                  <a:lnTo>
                    <a:pt x="1129" y="857"/>
                  </a:lnTo>
                  <a:lnTo>
                    <a:pt x="971" y="960"/>
                  </a:lnTo>
                  <a:lnTo>
                    <a:pt x="783" y="1015"/>
                  </a:lnTo>
                  <a:lnTo>
                    <a:pt x="584" y="1030"/>
                  </a:lnTo>
                  <a:lnTo>
                    <a:pt x="386" y="1000"/>
                  </a:lnTo>
                  <a:lnTo>
                    <a:pt x="219" y="9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6549120" y="3786480"/>
              <a:ext cx="168840" cy="13248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60"/>
                  </a:moveTo>
                  <a:lnTo>
                    <a:pt x="321" y="160"/>
                  </a:lnTo>
                  <a:lnTo>
                    <a:pt x="321" y="152"/>
                  </a:lnTo>
                  <a:lnTo>
                    <a:pt x="320" y="137"/>
                  </a:lnTo>
                  <a:lnTo>
                    <a:pt x="316" y="120"/>
                  </a:lnTo>
                  <a:lnTo>
                    <a:pt x="312" y="105"/>
                  </a:lnTo>
                  <a:lnTo>
                    <a:pt x="306" y="91"/>
                  </a:lnTo>
                  <a:lnTo>
                    <a:pt x="299" y="76"/>
                  </a:lnTo>
                  <a:lnTo>
                    <a:pt x="289" y="65"/>
                  </a:lnTo>
                  <a:lnTo>
                    <a:pt x="280" y="51"/>
                  </a:lnTo>
                  <a:lnTo>
                    <a:pt x="268" y="42"/>
                  </a:lnTo>
                  <a:lnTo>
                    <a:pt x="257" y="30"/>
                  </a:lnTo>
                  <a:lnTo>
                    <a:pt x="244" y="23"/>
                  </a:lnTo>
                  <a:lnTo>
                    <a:pt x="230" y="15"/>
                  </a:lnTo>
                  <a:lnTo>
                    <a:pt x="215" y="9"/>
                  </a:lnTo>
                  <a:lnTo>
                    <a:pt x="200" y="4"/>
                  </a:lnTo>
                  <a:lnTo>
                    <a:pt x="185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35" y="2"/>
                  </a:lnTo>
                  <a:lnTo>
                    <a:pt x="120" y="4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6" y="23"/>
                  </a:lnTo>
                  <a:lnTo>
                    <a:pt x="65" y="30"/>
                  </a:lnTo>
                  <a:lnTo>
                    <a:pt x="52" y="42"/>
                  </a:lnTo>
                  <a:lnTo>
                    <a:pt x="42" y="51"/>
                  </a:lnTo>
                  <a:lnTo>
                    <a:pt x="31" y="65"/>
                  </a:lnTo>
                  <a:lnTo>
                    <a:pt x="23" y="76"/>
                  </a:lnTo>
                  <a:lnTo>
                    <a:pt x="15" y="91"/>
                  </a:lnTo>
                  <a:lnTo>
                    <a:pt x="10" y="105"/>
                  </a:lnTo>
                  <a:lnTo>
                    <a:pt x="4" y="120"/>
                  </a:lnTo>
                  <a:lnTo>
                    <a:pt x="0" y="13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0" y="184"/>
                  </a:lnTo>
                  <a:lnTo>
                    <a:pt x="4" y="200"/>
                  </a:lnTo>
                  <a:lnTo>
                    <a:pt x="10" y="215"/>
                  </a:lnTo>
                  <a:lnTo>
                    <a:pt x="15" y="230"/>
                  </a:lnTo>
                  <a:lnTo>
                    <a:pt x="23" y="243"/>
                  </a:lnTo>
                  <a:lnTo>
                    <a:pt x="31" y="257"/>
                  </a:lnTo>
                  <a:lnTo>
                    <a:pt x="42" y="268"/>
                  </a:lnTo>
                  <a:lnTo>
                    <a:pt x="52" y="279"/>
                  </a:lnTo>
                  <a:lnTo>
                    <a:pt x="65" y="289"/>
                  </a:lnTo>
                  <a:lnTo>
                    <a:pt x="76" y="298"/>
                  </a:lnTo>
                  <a:lnTo>
                    <a:pt x="91" y="306"/>
                  </a:lnTo>
                  <a:lnTo>
                    <a:pt x="105" y="312"/>
                  </a:lnTo>
                  <a:lnTo>
                    <a:pt x="120" y="316"/>
                  </a:lnTo>
                  <a:lnTo>
                    <a:pt x="135" y="319"/>
                  </a:lnTo>
                  <a:lnTo>
                    <a:pt x="160" y="321"/>
                  </a:lnTo>
                  <a:lnTo>
                    <a:pt x="160" y="321"/>
                  </a:lnTo>
                  <a:lnTo>
                    <a:pt x="167" y="321"/>
                  </a:lnTo>
                  <a:lnTo>
                    <a:pt x="185" y="319"/>
                  </a:lnTo>
                  <a:lnTo>
                    <a:pt x="200" y="316"/>
                  </a:lnTo>
                  <a:lnTo>
                    <a:pt x="215" y="312"/>
                  </a:lnTo>
                  <a:lnTo>
                    <a:pt x="230" y="306"/>
                  </a:lnTo>
                  <a:lnTo>
                    <a:pt x="244" y="298"/>
                  </a:lnTo>
                  <a:lnTo>
                    <a:pt x="257" y="289"/>
                  </a:lnTo>
                  <a:lnTo>
                    <a:pt x="268" y="279"/>
                  </a:lnTo>
                  <a:lnTo>
                    <a:pt x="280" y="268"/>
                  </a:lnTo>
                  <a:lnTo>
                    <a:pt x="289" y="257"/>
                  </a:lnTo>
                  <a:lnTo>
                    <a:pt x="299" y="243"/>
                  </a:lnTo>
                  <a:lnTo>
                    <a:pt x="306" y="230"/>
                  </a:lnTo>
                  <a:lnTo>
                    <a:pt x="312" y="215"/>
                  </a:lnTo>
                  <a:lnTo>
                    <a:pt x="316" y="200"/>
                  </a:lnTo>
                  <a:lnTo>
                    <a:pt x="320" y="184"/>
                  </a:lnTo>
                  <a:lnTo>
                    <a:pt x="321" y="1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H="1">
              <a:off x="8237880" y="3429360"/>
              <a:ext cx="105120" cy="25920"/>
            </a:xfrm>
            <a:custGeom>
              <a:avLst/>
              <a:gdLst/>
              <a:ahLst/>
              <a:rect l="l" t="t" r="r" b="b"/>
              <a:pathLst>
                <a:path w="202" h="63">
                  <a:moveTo>
                    <a:pt x="202" y="2"/>
                  </a:moveTo>
                  <a:lnTo>
                    <a:pt x="194" y="0"/>
                  </a:lnTo>
                  <a:lnTo>
                    <a:pt x="0" y="29"/>
                  </a:lnTo>
                  <a:lnTo>
                    <a:pt x="6" y="63"/>
                  </a:lnTo>
                  <a:lnTo>
                    <a:pt x="198" y="34"/>
                  </a:lnTo>
                  <a:lnTo>
                    <a:pt x="190" y="34"/>
                  </a:lnTo>
                  <a:lnTo>
                    <a:pt x="202" y="2"/>
                  </a:lnTo>
                  <a:lnTo>
                    <a:pt x="198" y="0"/>
                  </a:lnTo>
                  <a:lnTo>
                    <a:pt x="194" y="0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 flipH="1">
              <a:off x="6860520" y="3430800"/>
              <a:ext cx="1382040" cy="359280"/>
            </a:xfrm>
            <a:custGeom>
              <a:avLst/>
              <a:gdLst/>
              <a:ahLst/>
              <a:rect l="l" t="t" r="r" b="b"/>
              <a:pathLst>
                <a:path w="2620" h="875">
                  <a:moveTo>
                    <a:pt x="2616" y="859"/>
                  </a:moveTo>
                  <a:lnTo>
                    <a:pt x="2620" y="842"/>
                  </a:lnTo>
                  <a:lnTo>
                    <a:pt x="12" y="0"/>
                  </a:lnTo>
                  <a:lnTo>
                    <a:pt x="0" y="32"/>
                  </a:lnTo>
                  <a:lnTo>
                    <a:pt x="2611" y="875"/>
                  </a:lnTo>
                  <a:lnTo>
                    <a:pt x="2616" y="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H="1">
              <a:off x="8195400" y="4237200"/>
              <a:ext cx="129600" cy="15480"/>
            </a:xfrm>
            <a:custGeom>
              <a:avLst/>
              <a:gdLst/>
              <a:ahLst/>
              <a:rect l="l" t="t" r="r" b="b"/>
              <a:pathLst>
                <a:path w="247" h="36">
                  <a:moveTo>
                    <a:pt x="237" y="2"/>
                  </a:moveTo>
                  <a:lnTo>
                    <a:pt x="243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243" y="36"/>
                  </a:lnTo>
                  <a:lnTo>
                    <a:pt x="247" y="34"/>
                  </a:lnTo>
                  <a:lnTo>
                    <a:pt x="243" y="36"/>
                  </a:lnTo>
                  <a:lnTo>
                    <a:pt x="245" y="36"/>
                  </a:lnTo>
                  <a:lnTo>
                    <a:pt x="247" y="34"/>
                  </a:lnTo>
                  <a:lnTo>
                    <a:pt x="2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flipH="1">
              <a:off x="7251480" y="4002120"/>
              <a:ext cx="948240" cy="250560"/>
            </a:xfrm>
            <a:custGeom>
              <a:avLst/>
              <a:gdLst/>
              <a:ahLst/>
              <a:rect l="l" t="t" r="r" b="b"/>
              <a:pathLst>
                <a:path w="1799" h="608">
                  <a:moveTo>
                    <a:pt x="1793" y="17"/>
                  </a:moveTo>
                  <a:lnTo>
                    <a:pt x="1787" y="0"/>
                  </a:lnTo>
                  <a:lnTo>
                    <a:pt x="0" y="576"/>
                  </a:lnTo>
                  <a:lnTo>
                    <a:pt x="10" y="608"/>
                  </a:lnTo>
                  <a:lnTo>
                    <a:pt x="1799" y="32"/>
                  </a:lnTo>
                  <a:lnTo>
                    <a:pt x="179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 flipH="1">
              <a:off x="6801480" y="3886560"/>
              <a:ext cx="370440" cy="111600"/>
            </a:xfrm>
            <a:custGeom>
              <a:avLst/>
              <a:gdLst/>
              <a:ahLst/>
              <a:rect l="l" t="t" r="r" b="b"/>
              <a:pathLst>
                <a:path w="703" h="272">
                  <a:moveTo>
                    <a:pt x="698" y="18"/>
                  </a:moveTo>
                  <a:lnTo>
                    <a:pt x="692" y="0"/>
                  </a:lnTo>
                  <a:lnTo>
                    <a:pt x="0" y="240"/>
                  </a:lnTo>
                  <a:lnTo>
                    <a:pt x="11" y="272"/>
                  </a:lnTo>
                  <a:lnTo>
                    <a:pt x="703" y="35"/>
                  </a:lnTo>
                  <a:lnTo>
                    <a:pt x="69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 flipH="1">
              <a:off x="6003360" y="3660480"/>
              <a:ext cx="473040" cy="146880"/>
            </a:xfrm>
            <a:custGeom>
              <a:avLst/>
              <a:gdLst/>
              <a:ahLst/>
              <a:rect l="l" t="t" r="r" b="b"/>
              <a:pathLst>
                <a:path w="899" h="355">
                  <a:moveTo>
                    <a:pt x="894" y="17"/>
                  </a:moveTo>
                  <a:lnTo>
                    <a:pt x="888" y="0"/>
                  </a:lnTo>
                  <a:lnTo>
                    <a:pt x="0" y="323"/>
                  </a:lnTo>
                  <a:lnTo>
                    <a:pt x="14" y="355"/>
                  </a:lnTo>
                  <a:lnTo>
                    <a:pt x="899" y="32"/>
                  </a:lnTo>
                  <a:lnTo>
                    <a:pt x="89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0" name=""/>
          <p:cNvSpPr/>
          <p:nvPr/>
        </p:nvSpPr>
        <p:spPr>
          <a:xfrm>
            <a:off x="70884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16783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2" name=""/>
          <p:cNvGrpSpPr/>
          <p:nvPr/>
        </p:nvGrpSpPr>
        <p:grpSpPr>
          <a:xfrm>
            <a:off x="685800" y="3248280"/>
            <a:ext cx="3312720" cy="1122120"/>
            <a:chOff x="685800" y="3248280"/>
            <a:chExt cx="3312720" cy="1122120"/>
          </a:xfrm>
        </p:grpSpPr>
        <p:sp>
          <p:nvSpPr>
            <p:cNvPr id="4263" name=""/>
            <p:cNvSpPr/>
            <p:nvPr/>
          </p:nvSpPr>
          <p:spPr>
            <a:xfrm rot="16200000">
              <a:off x="596160" y="3358080"/>
              <a:ext cx="495360" cy="297720"/>
            </a:xfrm>
            <a:custGeom>
              <a:avLst/>
              <a:gdLst/>
              <a:ahLst/>
              <a:rect l="l" t="t" r="r" b="b"/>
              <a:pathLst>
                <a:path w="267" h="186">
                  <a:moveTo>
                    <a:pt x="0" y="81"/>
                  </a:moveTo>
                  <a:lnTo>
                    <a:pt x="17" y="70"/>
                  </a:lnTo>
                  <a:lnTo>
                    <a:pt x="58" y="46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68" y="58"/>
                  </a:lnTo>
                  <a:lnTo>
                    <a:pt x="197" y="70"/>
                  </a:lnTo>
                  <a:lnTo>
                    <a:pt x="203" y="75"/>
                  </a:lnTo>
                  <a:lnTo>
                    <a:pt x="203" y="75"/>
                  </a:lnTo>
                  <a:lnTo>
                    <a:pt x="203" y="75"/>
                  </a:lnTo>
                  <a:lnTo>
                    <a:pt x="209" y="81"/>
                  </a:lnTo>
                  <a:lnTo>
                    <a:pt x="215" y="87"/>
                  </a:lnTo>
                  <a:lnTo>
                    <a:pt x="215" y="87"/>
                  </a:lnTo>
                  <a:lnTo>
                    <a:pt x="232" y="116"/>
                  </a:lnTo>
                  <a:lnTo>
                    <a:pt x="256" y="163"/>
                  </a:lnTo>
                  <a:lnTo>
                    <a:pt x="267" y="186"/>
                  </a:lnTo>
                  <a:lnTo>
                    <a:pt x="267" y="186"/>
                  </a:lnTo>
                  <a:lnTo>
                    <a:pt x="267" y="174"/>
                  </a:lnTo>
                  <a:lnTo>
                    <a:pt x="267" y="145"/>
                  </a:lnTo>
                  <a:lnTo>
                    <a:pt x="256" y="110"/>
                  </a:lnTo>
                  <a:lnTo>
                    <a:pt x="256" y="110"/>
                  </a:lnTo>
                  <a:lnTo>
                    <a:pt x="250" y="93"/>
                  </a:lnTo>
                  <a:lnTo>
                    <a:pt x="244" y="81"/>
                  </a:lnTo>
                  <a:lnTo>
                    <a:pt x="238" y="75"/>
                  </a:lnTo>
                  <a:lnTo>
                    <a:pt x="238" y="75"/>
                  </a:lnTo>
                  <a:lnTo>
                    <a:pt x="221" y="46"/>
                  </a:lnTo>
                  <a:lnTo>
                    <a:pt x="180" y="17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87" y="6"/>
                  </a:lnTo>
                  <a:lnTo>
                    <a:pt x="58" y="23"/>
                  </a:lnTo>
                  <a:lnTo>
                    <a:pt x="29" y="41"/>
                  </a:lnTo>
                  <a:lnTo>
                    <a:pt x="11" y="64"/>
                  </a:lnTo>
                  <a:lnTo>
                    <a:pt x="5" y="7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 rot="16200000">
              <a:off x="2522160" y="2981160"/>
              <a:ext cx="290880" cy="158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 rot="16200000">
              <a:off x="3448080" y="3442680"/>
              <a:ext cx="290880" cy="659160"/>
            </a:xfrm>
            <a:custGeom>
              <a:avLst/>
              <a:gdLst/>
              <a:ahLst/>
              <a:rect l="l" t="t" r="r" b="b"/>
              <a:pathLst>
                <a:path w="157" h="412">
                  <a:moveTo>
                    <a:pt x="0" y="87"/>
                  </a:moveTo>
                  <a:lnTo>
                    <a:pt x="6" y="209"/>
                  </a:lnTo>
                  <a:lnTo>
                    <a:pt x="18" y="331"/>
                  </a:lnTo>
                  <a:lnTo>
                    <a:pt x="47" y="412"/>
                  </a:lnTo>
                  <a:lnTo>
                    <a:pt x="47" y="412"/>
                  </a:lnTo>
                  <a:lnTo>
                    <a:pt x="82" y="372"/>
                  </a:lnTo>
                  <a:lnTo>
                    <a:pt x="105" y="343"/>
                  </a:lnTo>
                  <a:lnTo>
                    <a:pt x="128" y="314"/>
                  </a:lnTo>
                  <a:lnTo>
                    <a:pt x="140" y="279"/>
                  </a:lnTo>
                  <a:lnTo>
                    <a:pt x="152" y="232"/>
                  </a:lnTo>
                  <a:lnTo>
                    <a:pt x="157" y="174"/>
                  </a:lnTo>
                  <a:lnTo>
                    <a:pt x="157" y="98"/>
                  </a:lnTo>
                  <a:lnTo>
                    <a:pt x="157" y="98"/>
                  </a:lnTo>
                  <a:lnTo>
                    <a:pt x="152" y="52"/>
                  </a:lnTo>
                  <a:lnTo>
                    <a:pt x="146" y="23"/>
                  </a:lnTo>
                  <a:lnTo>
                    <a:pt x="134" y="5"/>
                  </a:lnTo>
                  <a:lnTo>
                    <a:pt x="117" y="0"/>
                  </a:lnTo>
                  <a:lnTo>
                    <a:pt x="99" y="5"/>
                  </a:lnTo>
                  <a:lnTo>
                    <a:pt x="82" y="11"/>
                  </a:lnTo>
                  <a:lnTo>
                    <a:pt x="59" y="29"/>
                  </a:lnTo>
                  <a:lnTo>
                    <a:pt x="41" y="40"/>
                  </a:lnTo>
                  <a:lnTo>
                    <a:pt x="29" y="58"/>
                  </a:lnTo>
                  <a:lnTo>
                    <a:pt x="12" y="69"/>
                  </a:lnTo>
                  <a:lnTo>
                    <a:pt x="6" y="81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 rot="16200000">
              <a:off x="928440" y="3384000"/>
              <a:ext cx="743760" cy="1229040"/>
            </a:xfrm>
            <a:custGeom>
              <a:avLst/>
              <a:gdLst/>
              <a:ahLst/>
              <a:rect l="l" t="t" r="r" b="b"/>
              <a:pathLst>
                <a:path w="401" h="768">
                  <a:moveTo>
                    <a:pt x="0" y="297"/>
                  </a:moveTo>
                  <a:lnTo>
                    <a:pt x="0" y="297"/>
                  </a:lnTo>
                  <a:lnTo>
                    <a:pt x="0" y="291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0" y="209"/>
                  </a:lnTo>
                  <a:lnTo>
                    <a:pt x="12" y="145"/>
                  </a:lnTo>
                  <a:lnTo>
                    <a:pt x="29" y="99"/>
                  </a:lnTo>
                  <a:lnTo>
                    <a:pt x="52" y="58"/>
                  </a:lnTo>
                  <a:lnTo>
                    <a:pt x="81" y="29"/>
                  </a:lnTo>
                  <a:lnTo>
                    <a:pt x="111" y="12"/>
                  </a:lnTo>
                  <a:lnTo>
                    <a:pt x="140" y="0"/>
                  </a:lnTo>
                  <a:lnTo>
                    <a:pt x="175" y="0"/>
                  </a:lnTo>
                  <a:lnTo>
                    <a:pt x="209" y="6"/>
                  </a:lnTo>
                  <a:lnTo>
                    <a:pt x="244" y="17"/>
                  </a:lnTo>
                  <a:lnTo>
                    <a:pt x="244" y="17"/>
                  </a:lnTo>
                  <a:lnTo>
                    <a:pt x="268" y="58"/>
                  </a:lnTo>
                  <a:lnTo>
                    <a:pt x="279" y="145"/>
                  </a:lnTo>
                  <a:lnTo>
                    <a:pt x="285" y="256"/>
                  </a:lnTo>
                  <a:lnTo>
                    <a:pt x="285" y="378"/>
                  </a:lnTo>
                  <a:lnTo>
                    <a:pt x="285" y="483"/>
                  </a:lnTo>
                  <a:lnTo>
                    <a:pt x="279" y="558"/>
                  </a:lnTo>
                  <a:lnTo>
                    <a:pt x="279" y="558"/>
                  </a:lnTo>
                  <a:lnTo>
                    <a:pt x="291" y="611"/>
                  </a:lnTo>
                  <a:lnTo>
                    <a:pt x="314" y="657"/>
                  </a:lnTo>
                  <a:lnTo>
                    <a:pt x="332" y="680"/>
                  </a:lnTo>
                  <a:lnTo>
                    <a:pt x="332" y="680"/>
                  </a:lnTo>
                  <a:lnTo>
                    <a:pt x="349" y="692"/>
                  </a:lnTo>
                  <a:lnTo>
                    <a:pt x="384" y="715"/>
                  </a:lnTo>
                  <a:lnTo>
                    <a:pt x="401" y="744"/>
                  </a:lnTo>
                  <a:lnTo>
                    <a:pt x="401" y="744"/>
                  </a:lnTo>
                  <a:lnTo>
                    <a:pt x="361" y="762"/>
                  </a:lnTo>
                  <a:lnTo>
                    <a:pt x="285" y="768"/>
                  </a:lnTo>
                  <a:lnTo>
                    <a:pt x="244" y="768"/>
                  </a:lnTo>
                  <a:lnTo>
                    <a:pt x="244" y="768"/>
                  </a:lnTo>
                  <a:lnTo>
                    <a:pt x="244" y="709"/>
                  </a:lnTo>
                  <a:lnTo>
                    <a:pt x="227" y="657"/>
                  </a:lnTo>
                  <a:lnTo>
                    <a:pt x="180" y="634"/>
                  </a:lnTo>
                  <a:lnTo>
                    <a:pt x="180" y="634"/>
                  </a:lnTo>
                  <a:lnTo>
                    <a:pt x="128" y="616"/>
                  </a:lnTo>
                  <a:lnTo>
                    <a:pt x="70" y="570"/>
                  </a:lnTo>
                  <a:lnTo>
                    <a:pt x="17" y="465"/>
                  </a:lnTo>
                  <a:lnTo>
                    <a:pt x="0" y="297"/>
                  </a:lnTo>
                  <a:lnTo>
                    <a:pt x="0" y="297"/>
                  </a:lnTo>
                  <a:lnTo>
                    <a:pt x="47" y="291"/>
                  </a:lnTo>
                  <a:lnTo>
                    <a:pt x="47" y="331"/>
                  </a:lnTo>
                  <a:lnTo>
                    <a:pt x="47" y="366"/>
                  </a:lnTo>
                  <a:lnTo>
                    <a:pt x="52" y="384"/>
                  </a:lnTo>
                  <a:lnTo>
                    <a:pt x="52" y="384"/>
                  </a:lnTo>
                  <a:lnTo>
                    <a:pt x="52" y="407"/>
                  </a:lnTo>
                  <a:lnTo>
                    <a:pt x="64" y="448"/>
                  </a:lnTo>
                  <a:lnTo>
                    <a:pt x="99" y="500"/>
                  </a:lnTo>
                  <a:lnTo>
                    <a:pt x="99" y="500"/>
                  </a:lnTo>
                  <a:lnTo>
                    <a:pt x="122" y="523"/>
                  </a:lnTo>
                  <a:lnTo>
                    <a:pt x="140" y="535"/>
                  </a:lnTo>
                  <a:lnTo>
                    <a:pt x="157" y="535"/>
                  </a:lnTo>
                  <a:lnTo>
                    <a:pt x="169" y="535"/>
                  </a:lnTo>
                  <a:lnTo>
                    <a:pt x="175" y="535"/>
                  </a:lnTo>
                  <a:lnTo>
                    <a:pt x="175" y="535"/>
                  </a:lnTo>
                  <a:lnTo>
                    <a:pt x="186" y="529"/>
                  </a:lnTo>
                  <a:lnTo>
                    <a:pt x="209" y="506"/>
                  </a:lnTo>
                  <a:lnTo>
                    <a:pt x="227" y="454"/>
                  </a:lnTo>
                  <a:lnTo>
                    <a:pt x="227" y="454"/>
                  </a:lnTo>
                  <a:lnTo>
                    <a:pt x="233" y="401"/>
                  </a:lnTo>
                  <a:lnTo>
                    <a:pt x="233" y="372"/>
                  </a:lnTo>
                  <a:lnTo>
                    <a:pt x="233" y="366"/>
                  </a:lnTo>
                  <a:lnTo>
                    <a:pt x="233" y="366"/>
                  </a:lnTo>
                  <a:lnTo>
                    <a:pt x="227" y="337"/>
                  </a:lnTo>
                  <a:lnTo>
                    <a:pt x="227" y="297"/>
                  </a:lnTo>
                  <a:lnTo>
                    <a:pt x="227" y="267"/>
                  </a:lnTo>
                  <a:lnTo>
                    <a:pt x="227" y="267"/>
                  </a:lnTo>
                  <a:lnTo>
                    <a:pt x="227" y="244"/>
                  </a:lnTo>
                  <a:lnTo>
                    <a:pt x="227" y="204"/>
                  </a:lnTo>
                  <a:lnTo>
                    <a:pt x="233" y="180"/>
                  </a:lnTo>
                  <a:lnTo>
                    <a:pt x="233" y="180"/>
                  </a:lnTo>
                  <a:lnTo>
                    <a:pt x="233" y="163"/>
                  </a:lnTo>
                  <a:lnTo>
                    <a:pt x="227" y="134"/>
                  </a:lnTo>
                  <a:lnTo>
                    <a:pt x="221" y="116"/>
                  </a:lnTo>
                  <a:lnTo>
                    <a:pt x="221" y="116"/>
                  </a:lnTo>
                  <a:lnTo>
                    <a:pt x="221" y="105"/>
                  </a:lnTo>
                  <a:lnTo>
                    <a:pt x="209" y="93"/>
                  </a:lnTo>
                  <a:lnTo>
                    <a:pt x="163" y="87"/>
                  </a:lnTo>
                  <a:lnTo>
                    <a:pt x="163" y="87"/>
                  </a:lnTo>
                  <a:lnTo>
                    <a:pt x="151" y="93"/>
                  </a:lnTo>
                  <a:lnTo>
                    <a:pt x="122" y="99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58" y="192"/>
                  </a:lnTo>
                  <a:lnTo>
                    <a:pt x="52" y="244"/>
                  </a:lnTo>
                  <a:lnTo>
                    <a:pt x="52" y="267"/>
                  </a:lnTo>
                  <a:lnTo>
                    <a:pt x="52" y="267"/>
                  </a:lnTo>
                  <a:lnTo>
                    <a:pt x="47" y="267"/>
                  </a:lnTo>
                  <a:lnTo>
                    <a:pt x="47" y="279"/>
                  </a:lnTo>
                  <a:lnTo>
                    <a:pt x="47" y="291"/>
                  </a:lnTo>
                  <a:lnTo>
                    <a:pt x="47" y="291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 rot="16200000">
              <a:off x="1025280" y="2994480"/>
              <a:ext cx="549360" cy="1078560"/>
            </a:xfrm>
            <a:custGeom>
              <a:avLst/>
              <a:gdLst/>
              <a:ahLst/>
              <a:rect l="l" t="t" r="r" b="b"/>
              <a:pathLst>
                <a:path w="296" h="674">
                  <a:moveTo>
                    <a:pt x="34" y="627"/>
                  </a:moveTo>
                  <a:lnTo>
                    <a:pt x="29" y="622"/>
                  </a:lnTo>
                  <a:lnTo>
                    <a:pt x="29" y="616"/>
                  </a:lnTo>
                  <a:lnTo>
                    <a:pt x="29" y="610"/>
                  </a:lnTo>
                  <a:lnTo>
                    <a:pt x="29" y="610"/>
                  </a:lnTo>
                  <a:lnTo>
                    <a:pt x="34" y="540"/>
                  </a:lnTo>
                  <a:lnTo>
                    <a:pt x="40" y="383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0" y="157"/>
                  </a:lnTo>
                  <a:lnTo>
                    <a:pt x="23" y="52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57" y="23"/>
                  </a:lnTo>
                  <a:lnTo>
                    <a:pt x="127" y="29"/>
                  </a:lnTo>
                  <a:lnTo>
                    <a:pt x="81" y="63"/>
                  </a:lnTo>
                  <a:lnTo>
                    <a:pt x="46" y="168"/>
                  </a:lnTo>
                  <a:lnTo>
                    <a:pt x="46" y="168"/>
                  </a:lnTo>
                  <a:lnTo>
                    <a:pt x="46" y="215"/>
                  </a:lnTo>
                  <a:lnTo>
                    <a:pt x="58" y="250"/>
                  </a:lnTo>
                  <a:lnTo>
                    <a:pt x="69" y="279"/>
                  </a:lnTo>
                  <a:lnTo>
                    <a:pt x="93" y="302"/>
                  </a:lnTo>
                  <a:lnTo>
                    <a:pt x="110" y="314"/>
                  </a:lnTo>
                  <a:lnTo>
                    <a:pt x="127" y="319"/>
                  </a:lnTo>
                  <a:lnTo>
                    <a:pt x="139" y="325"/>
                  </a:lnTo>
                  <a:lnTo>
                    <a:pt x="151" y="325"/>
                  </a:lnTo>
                  <a:lnTo>
                    <a:pt x="151" y="325"/>
                  </a:lnTo>
                  <a:lnTo>
                    <a:pt x="180" y="319"/>
                  </a:lnTo>
                  <a:lnTo>
                    <a:pt x="221" y="273"/>
                  </a:lnTo>
                  <a:lnTo>
                    <a:pt x="255" y="168"/>
                  </a:lnTo>
                  <a:lnTo>
                    <a:pt x="255" y="168"/>
                  </a:lnTo>
                  <a:lnTo>
                    <a:pt x="250" y="122"/>
                  </a:lnTo>
                  <a:lnTo>
                    <a:pt x="244" y="87"/>
                  </a:lnTo>
                  <a:lnTo>
                    <a:pt x="226" y="63"/>
                  </a:lnTo>
                  <a:lnTo>
                    <a:pt x="209" y="46"/>
                  </a:lnTo>
                  <a:lnTo>
                    <a:pt x="191" y="34"/>
                  </a:lnTo>
                  <a:lnTo>
                    <a:pt x="174" y="29"/>
                  </a:lnTo>
                  <a:lnTo>
                    <a:pt x="162" y="23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45" y="0"/>
                  </a:lnTo>
                  <a:lnTo>
                    <a:pt x="203" y="11"/>
                  </a:lnTo>
                  <a:lnTo>
                    <a:pt x="267" y="52"/>
                  </a:lnTo>
                  <a:lnTo>
                    <a:pt x="296" y="162"/>
                  </a:lnTo>
                  <a:lnTo>
                    <a:pt x="296" y="162"/>
                  </a:lnTo>
                  <a:lnTo>
                    <a:pt x="290" y="209"/>
                  </a:lnTo>
                  <a:lnTo>
                    <a:pt x="279" y="250"/>
                  </a:lnTo>
                  <a:lnTo>
                    <a:pt x="267" y="279"/>
                  </a:lnTo>
                  <a:lnTo>
                    <a:pt x="244" y="308"/>
                  </a:lnTo>
                  <a:lnTo>
                    <a:pt x="221" y="325"/>
                  </a:lnTo>
                  <a:lnTo>
                    <a:pt x="197" y="343"/>
                  </a:lnTo>
                  <a:lnTo>
                    <a:pt x="174" y="354"/>
                  </a:lnTo>
                  <a:lnTo>
                    <a:pt x="151" y="360"/>
                  </a:lnTo>
                  <a:lnTo>
                    <a:pt x="133" y="366"/>
                  </a:lnTo>
                  <a:lnTo>
                    <a:pt x="116" y="366"/>
                  </a:lnTo>
                  <a:lnTo>
                    <a:pt x="116" y="366"/>
                  </a:lnTo>
                  <a:lnTo>
                    <a:pt x="93" y="436"/>
                  </a:lnTo>
                  <a:lnTo>
                    <a:pt x="93" y="540"/>
                  </a:lnTo>
                  <a:lnTo>
                    <a:pt x="98" y="633"/>
                  </a:lnTo>
                  <a:lnTo>
                    <a:pt x="104" y="674"/>
                  </a:lnTo>
                  <a:lnTo>
                    <a:pt x="104" y="674"/>
                  </a:lnTo>
                  <a:lnTo>
                    <a:pt x="93" y="662"/>
                  </a:lnTo>
                  <a:lnTo>
                    <a:pt x="63" y="645"/>
                  </a:lnTo>
                  <a:lnTo>
                    <a:pt x="34" y="6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 rot="16200000">
              <a:off x="2073600" y="3675960"/>
              <a:ext cx="183240" cy="148680"/>
            </a:xfrm>
            <a:custGeom>
              <a:avLst/>
              <a:gdLst/>
              <a:ahLst/>
              <a:rect l="l" t="t" r="r" b="b"/>
              <a:pathLst>
                <a:path w="99" h="93">
                  <a:moveTo>
                    <a:pt x="47" y="93"/>
                  </a:moveTo>
                  <a:lnTo>
                    <a:pt x="76" y="87"/>
                  </a:lnTo>
                  <a:lnTo>
                    <a:pt x="87" y="70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87" y="23"/>
                  </a:lnTo>
                  <a:lnTo>
                    <a:pt x="76" y="6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3" y="6"/>
                  </a:lnTo>
                  <a:lnTo>
                    <a:pt x="12" y="2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2" y="70"/>
                  </a:lnTo>
                  <a:lnTo>
                    <a:pt x="23" y="87"/>
                  </a:lnTo>
                  <a:lnTo>
                    <a:pt x="47" y="9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 rot="16200000">
              <a:off x="2892600" y="2811960"/>
              <a:ext cx="109080" cy="2102760"/>
            </a:xfrm>
            <a:custGeom>
              <a:avLst/>
              <a:gdLst/>
              <a:ahLst/>
              <a:rect l="l" t="t" r="r" b="b"/>
              <a:pathLst>
                <a:path w="59" h="1314">
                  <a:moveTo>
                    <a:pt x="59" y="1314"/>
                  </a:moveTo>
                  <a:lnTo>
                    <a:pt x="29" y="1105"/>
                  </a:lnTo>
                  <a:lnTo>
                    <a:pt x="12" y="831"/>
                  </a:lnTo>
                  <a:lnTo>
                    <a:pt x="0" y="535"/>
                  </a:lnTo>
                  <a:lnTo>
                    <a:pt x="0" y="267"/>
                  </a:lnTo>
                  <a:lnTo>
                    <a:pt x="0" y="7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rot="16200000">
              <a:off x="1845360" y="3676680"/>
              <a:ext cx="183600" cy="361800"/>
            </a:xfrm>
            <a:custGeom>
              <a:avLst/>
              <a:gdLst/>
              <a:ahLst/>
              <a:rect l="l" t="t" r="r" b="b"/>
              <a:pathLst>
                <a:path w="99" h="226">
                  <a:moveTo>
                    <a:pt x="99" y="0"/>
                  </a:moveTo>
                  <a:lnTo>
                    <a:pt x="76" y="5"/>
                  </a:lnTo>
                  <a:lnTo>
                    <a:pt x="29" y="64"/>
                  </a:lnTo>
                  <a:lnTo>
                    <a:pt x="0" y="22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rot="16200000">
              <a:off x="735840" y="3207240"/>
              <a:ext cx="560160" cy="641880"/>
            </a:xfrm>
            <a:custGeom>
              <a:avLst/>
              <a:gdLst/>
              <a:ahLst/>
              <a:rect l="l" t="t" r="r" b="b"/>
              <a:pathLst>
                <a:path w="302" h="401">
                  <a:moveTo>
                    <a:pt x="162" y="0"/>
                  </a:moveTo>
                  <a:lnTo>
                    <a:pt x="191" y="6"/>
                  </a:lnTo>
                  <a:lnTo>
                    <a:pt x="226" y="23"/>
                  </a:lnTo>
                  <a:lnTo>
                    <a:pt x="250" y="52"/>
                  </a:lnTo>
                  <a:lnTo>
                    <a:pt x="273" y="81"/>
                  </a:lnTo>
                  <a:lnTo>
                    <a:pt x="290" y="122"/>
                  </a:lnTo>
                  <a:lnTo>
                    <a:pt x="296" y="163"/>
                  </a:lnTo>
                  <a:lnTo>
                    <a:pt x="302" y="209"/>
                  </a:lnTo>
                  <a:lnTo>
                    <a:pt x="302" y="209"/>
                  </a:lnTo>
                  <a:lnTo>
                    <a:pt x="290" y="273"/>
                  </a:lnTo>
                  <a:lnTo>
                    <a:pt x="261" y="325"/>
                  </a:lnTo>
                  <a:lnTo>
                    <a:pt x="226" y="366"/>
                  </a:lnTo>
                  <a:lnTo>
                    <a:pt x="186" y="389"/>
                  </a:lnTo>
                  <a:lnTo>
                    <a:pt x="139" y="401"/>
                  </a:lnTo>
                  <a:lnTo>
                    <a:pt x="139" y="401"/>
                  </a:lnTo>
                  <a:lnTo>
                    <a:pt x="104" y="389"/>
                  </a:lnTo>
                  <a:lnTo>
                    <a:pt x="69" y="378"/>
                  </a:lnTo>
                  <a:lnTo>
                    <a:pt x="46" y="349"/>
                  </a:lnTo>
                  <a:lnTo>
                    <a:pt x="23" y="320"/>
                  </a:lnTo>
                  <a:lnTo>
                    <a:pt x="5" y="279"/>
                  </a:lnTo>
                  <a:lnTo>
                    <a:pt x="0" y="238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11" y="128"/>
                  </a:lnTo>
                  <a:lnTo>
                    <a:pt x="34" y="75"/>
                  </a:lnTo>
                  <a:lnTo>
                    <a:pt x="69" y="35"/>
                  </a:lnTo>
                  <a:lnTo>
                    <a:pt x="110" y="6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 rot="16200000">
              <a:off x="1001160" y="3715920"/>
              <a:ext cx="345240" cy="790200"/>
            </a:xfrm>
            <a:custGeom>
              <a:avLst/>
              <a:gdLst/>
              <a:ahLst/>
              <a:rect l="l" t="t" r="r" b="b"/>
              <a:pathLst>
                <a:path w="186" h="494">
                  <a:moveTo>
                    <a:pt x="180" y="215"/>
                  </a:moveTo>
                  <a:lnTo>
                    <a:pt x="186" y="122"/>
                  </a:lnTo>
                  <a:lnTo>
                    <a:pt x="180" y="41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04" y="0"/>
                  </a:lnTo>
                  <a:lnTo>
                    <a:pt x="34" y="52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5" y="337"/>
                  </a:lnTo>
                  <a:lnTo>
                    <a:pt x="17" y="396"/>
                  </a:lnTo>
                  <a:lnTo>
                    <a:pt x="40" y="442"/>
                  </a:lnTo>
                  <a:lnTo>
                    <a:pt x="64" y="471"/>
                  </a:lnTo>
                  <a:lnTo>
                    <a:pt x="81" y="483"/>
                  </a:lnTo>
                  <a:lnTo>
                    <a:pt x="98" y="494"/>
                  </a:lnTo>
                  <a:lnTo>
                    <a:pt x="98" y="494"/>
                  </a:lnTo>
                  <a:lnTo>
                    <a:pt x="98" y="494"/>
                  </a:lnTo>
                  <a:lnTo>
                    <a:pt x="128" y="494"/>
                  </a:lnTo>
                  <a:lnTo>
                    <a:pt x="168" y="460"/>
                  </a:lnTo>
                  <a:lnTo>
                    <a:pt x="186" y="343"/>
                  </a:lnTo>
                  <a:lnTo>
                    <a:pt x="186" y="343"/>
                  </a:lnTo>
                  <a:lnTo>
                    <a:pt x="180" y="268"/>
                  </a:lnTo>
                  <a:lnTo>
                    <a:pt x="180" y="221"/>
                  </a:lnTo>
                  <a:lnTo>
                    <a:pt x="180" y="21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 rot="16200000">
              <a:off x="849960" y="3292560"/>
              <a:ext cx="378360" cy="482760"/>
            </a:xfrm>
            <a:custGeom>
              <a:avLst/>
              <a:gdLst/>
              <a:ahLst/>
              <a:rect l="l" t="t" r="r" b="b"/>
              <a:pathLst>
                <a:path w="204" h="302">
                  <a:moveTo>
                    <a:pt x="93" y="302"/>
                  </a:moveTo>
                  <a:lnTo>
                    <a:pt x="134" y="291"/>
                  </a:lnTo>
                  <a:lnTo>
                    <a:pt x="169" y="261"/>
                  </a:lnTo>
                  <a:lnTo>
                    <a:pt x="192" y="215"/>
                  </a:lnTo>
                  <a:lnTo>
                    <a:pt x="204" y="157"/>
                  </a:lnTo>
                  <a:lnTo>
                    <a:pt x="204" y="157"/>
                  </a:lnTo>
                  <a:lnTo>
                    <a:pt x="204" y="122"/>
                  </a:lnTo>
                  <a:lnTo>
                    <a:pt x="204" y="93"/>
                  </a:lnTo>
                  <a:lnTo>
                    <a:pt x="198" y="64"/>
                  </a:lnTo>
                  <a:lnTo>
                    <a:pt x="198" y="64"/>
                  </a:lnTo>
                  <a:lnTo>
                    <a:pt x="175" y="29"/>
                  </a:lnTo>
                  <a:lnTo>
                    <a:pt x="145" y="11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70" y="11"/>
                  </a:lnTo>
                  <a:lnTo>
                    <a:pt x="35" y="40"/>
                  </a:lnTo>
                  <a:lnTo>
                    <a:pt x="12" y="8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2" y="221"/>
                  </a:lnTo>
                  <a:lnTo>
                    <a:pt x="47" y="279"/>
                  </a:lnTo>
                  <a:lnTo>
                    <a:pt x="93" y="30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rot="16200000">
              <a:off x="779760" y="3244680"/>
              <a:ext cx="443160" cy="558360"/>
            </a:xfrm>
            <a:custGeom>
              <a:avLst/>
              <a:gdLst/>
              <a:ahLst/>
              <a:rect l="l" t="t" r="r" b="b"/>
              <a:pathLst>
                <a:path w="239" h="349">
                  <a:moveTo>
                    <a:pt x="117" y="349"/>
                  </a:moveTo>
                  <a:lnTo>
                    <a:pt x="157" y="343"/>
                  </a:lnTo>
                  <a:lnTo>
                    <a:pt x="192" y="314"/>
                  </a:lnTo>
                  <a:lnTo>
                    <a:pt x="216" y="279"/>
                  </a:lnTo>
                  <a:lnTo>
                    <a:pt x="233" y="233"/>
                  </a:lnTo>
                  <a:lnTo>
                    <a:pt x="239" y="175"/>
                  </a:lnTo>
                  <a:lnTo>
                    <a:pt x="239" y="175"/>
                  </a:lnTo>
                  <a:lnTo>
                    <a:pt x="221" y="87"/>
                  </a:lnTo>
                  <a:lnTo>
                    <a:pt x="181" y="24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82" y="6"/>
                  </a:lnTo>
                  <a:lnTo>
                    <a:pt x="47" y="35"/>
                  </a:lnTo>
                  <a:lnTo>
                    <a:pt x="24" y="70"/>
                  </a:lnTo>
                  <a:lnTo>
                    <a:pt x="6" y="117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12" y="262"/>
                  </a:lnTo>
                  <a:lnTo>
                    <a:pt x="59" y="326"/>
                  </a:lnTo>
                  <a:lnTo>
                    <a:pt x="117" y="3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 rot="16200000">
              <a:off x="1056960" y="3715560"/>
              <a:ext cx="345240" cy="790560"/>
            </a:xfrm>
            <a:custGeom>
              <a:avLst/>
              <a:gdLst/>
              <a:ahLst/>
              <a:rect l="l" t="t" r="r" b="b"/>
              <a:pathLst>
                <a:path w="186" h="494">
                  <a:moveTo>
                    <a:pt x="180" y="209"/>
                  </a:moveTo>
                  <a:lnTo>
                    <a:pt x="186" y="122"/>
                  </a:lnTo>
                  <a:lnTo>
                    <a:pt x="180" y="41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04" y="0"/>
                  </a:lnTo>
                  <a:lnTo>
                    <a:pt x="34" y="52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5" y="337"/>
                  </a:lnTo>
                  <a:lnTo>
                    <a:pt x="17" y="395"/>
                  </a:lnTo>
                  <a:lnTo>
                    <a:pt x="40" y="442"/>
                  </a:lnTo>
                  <a:lnTo>
                    <a:pt x="64" y="471"/>
                  </a:lnTo>
                  <a:lnTo>
                    <a:pt x="81" y="483"/>
                  </a:lnTo>
                  <a:lnTo>
                    <a:pt x="98" y="494"/>
                  </a:lnTo>
                  <a:lnTo>
                    <a:pt x="98" y="494"/>
                  </a:lnTo>
                  <a:lnTo>
                    <a:pt x="98" y="494"/>
                  </a:lnTo>
                  <a:lnTo>
                    <a:pt x="128" y="494"/>
                  </a:lnTo>
                  <a:lnTo>
                    <a:pt x="168" y="459"/>
                  </a:lnTo>
                  <a:lnTo>
                    <a:pt x="186" y="343"/>
                  </a:lnTo>
                  <a:lnTo>
                    <a:pt x="186" y="343"/>
                  </a:lnTo>
                  <a:lnTo>
                    <a:pt x="180" y="262"/>
                  </a:lnTo>
                  <a:lnTo>
                    <a:pt x="180" y="221"/>
                  </a:lnTo>
                  <a:lnTo>
                    <a:pt x="180" y="20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 rot="16200000">
              <a:off x="968400" y="3721320"/>
              <a:ext cx="356040" cy="790200"/>
            </a:xfrm>
            <a:custGeom>
              <a:avLst/>
              <a:gdLst/>
              <a:ahLst/>
              <a:rect l="l" t="t" r="r" b="b"/>
              <a:pathLst>
                <a:path w="192" h="494">
                  <a:moveTo>
                    <a:pt x="186" y="215"/>
                  </a:moveTo>
                  <a:lnTo>
                    <a:pt x="192" y="128"/>
                  </a:lnTo>
                  <a:lnTo>
                    <a:pt x="186" y="40"/>
                  </a:lnTo>
                  <a:lnTo>
                    <a:pt x="163" y="6"/>
                  </a:lnTo>
                  <a:lnTo>
                    <a:pt x="163" y="6"/>
                  </a:lnTo>
                  <a:lnTo>
                    <a:pt x="110" y="0"/>
                  </a:lnTo>
                  <a:lnTo>
                    <a:pt x="35" y="52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6" y="337"/>
                  </a:lnTo>
                  <a:lnTo>
                    <a:pt x="23" y="401"/>
                  </a:lnTo>
                  <a:lnTo>
                    <a:pt x="40" y="442"/>
                  </a:lnTo>
                  <a:lnTo>
                    <a:pt x="64" y="471"/>
                  </a:lnTo>
                  <a:lnTo>
                    <a:pt x="81" y="488"/>
                  </a:lnTo>
                  <a:lnTo>
                    <a:pt x="99" y="494"/>
                  </a:lnTo>
                  <a:lnTo>
                    <a:pt x="104" y="494"/>
                  </a:lnTo>
                  <a:lnTo>
                    <a:pt x="104" y="494"/>
                  </a:lnTo>
                  <a:lnTo>
                    <a:pt x="128" y="494"/>
                  </a:lnTo>
                  <a:lnTo>
                    <a:pt x="174" y="459"/>
                  </a:lnTo>
                  <a:lnTo>
                    <a:pt x="192" y="349"/>
                  </a:lnTo>
                  <a:lnTo>
                    <a:pt x="192" y="349"/>
                  </a:lnTo>
                  <a:lnTo>
                    <a:pt x="186" y="267"/>
                  </a:lnTo>
                  <a:lnTo>
                    <a:pt x="186" y="226"/>
                  </a:lnTo>
                  <a:lnTo>
                    <a:pt x="186" y="21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 rot="16200000">
              <a:off x="2778840" y="2710440"/>
              <a:ext cx="194760" cy="2112480"/>
            </a:xfrm>
            <a:custGeom>
              <a:avLst/>
              <a:gdLst/>
              <a:ahLst/>
              <a:rect l="l" t="t" r="r" b="b"/>
              <a:pathLst>
                <a:path w="105" h="1320">
                  <a:moveTo>
                    <a:pt x="0" y="0"/>
                  </a:moveTo>
                  <a:lnTo>
                    <a:pt x="0" y="303"/>
                  </a:lnTo>
                  <a:lnTo>
                    <a:pt x="30" y="303"/>
                  </a:lnTo>
                  <a:lnTo>
                    <a:pt x="76" y="309"/>
                  </a:lnTo>
                  <a:lnTo>
                    <a:pt x="105" y="332"/>
                  </a:lnTo>
                  <a:lnTo>
                    <a:pt x="105" y="332"/>
                  </a:lnTo>
                  <a:lnTo>
                    <a:pt x="105" y="541"/>
                  </a:lnTo>
                  <a:lnTo>
                    <a:pt x="105" y="890"/>
                  </a:lnTo>
                  <a:lnTo>
                    <a:pt x="105" y="1070"/>
                  </a:lnTo>
                  <a:lnTo>
                    <a:pt x="105" y="1070"/>
                  </a:lnTo>
                  <a:lnTo>
                    <a:pt x="105" y="1146"/>
                  </a:lnTo>
                  <a:lnTo>
                    <a:pt x="82" y="1239"/>
                  </a:lnTo>
                  <a:lnTo>
                    <a:pt x="18" y="132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 rot="16200000">
              <a:off x="2111040" y="3699000"/>
              <a:ext cx="116640" cy="10224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29" y="64"/>
                  </a:moveTo>
                  <a:lnTo>
                    <a:pt x="46" y="59"/>
                  </a:lnTo>
                  <a:lnTo>
                    <a:pt x="58" y="47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58" y="18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5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" y="47"/>
                  </a:lnTo>
                  <a:lnTo>
                    <a:pt x="17" y="59"/>
                  </a:lnTo>
                  <a:lnTo>
                    <a:pt x="29" y="6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 rot="16200000">
              <a:off x="1582200" y="3411000"/>
              <a:ext cx="11160" cy="483120"/>
            </a:xfrm>
            <a:custGeom>
              <a:avLst/>
              <a:gdLst/>
              <a:ahLst/>
              <a:rect l="l" t="t" r="r" b="b"/>
              <a:pathLst>
                <a:path w="6" h="302">
                  <a:moveTo>
                    <a:pt x="6" y="0"/>
                  </a:moveTo>
                  <a:lnTo>
                    <a:pt x="0" y="93"/>
                  </a:lnTo>
                  <a:lnTo>
                    <a:pt x="0" y="221"/>
                  </a:lnTo>
                  <a:lnTo>
                    <a:pt x="6" y="30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"/>
          <p:cNvGrpSpPr/>
          <p:nvPr/>
        </p:nvGrpSpPr>
        <p:grpSpPr>
          <a:xfrm>
            <a:off x="1447920" y="2494080"/>
            <a:ext cx="1639800" cy="2631960"/>
            <a:chOff x="1447920" y="2494080"/>
            <a:chExt cx="1639800" cy="2631960"/>
          </a:xfrm>
        </p:grpSpPr>
        <p:sp>
          <p:nvSpPr>
            <p:cNvPr id="4281" name=""/>
            <p:cNvSpPr/>
            <p:nvPr/>
          </p:nvSpPr>
          <p:spPr>
            <a:xfrm>
              <a:off x="1447920" y="2494080"/>
              <a:ext cx="1639800" cy="26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812960" y="2944800"/>
              <a:ext cx="765000" cy="422280"/>
            </a:xfrm>
            <a:custGeom>
              <a:avLst/>
              <a:gdLst/>
              <a:ahLst/>
              <a:rect l="l" t="t" r="r" b="b"/>
              <a:pathLst>
                <a:path w="4343" h="2394">
                  <a:moveTo>
                    <a:pt x="0" y="2365"/>
                  </a:moveTo>
                  <a:lnTo>
                    <a:pt x="0" y="2170"/>
                  </a:lnTo>
                  <a:lnTo>
                    <a:pt x="523" y="406"/>
                  </a:lnTo>
                  <a:lnTo>
                    <a:pt x="621" y="243"/>
                  </a:lnTo>
                  <a:lnTo>
                    <a:pt x="771" y="98"/>
                  </a:lnTo>
                  <a:lnTo>
                    <a:pt x="970" y="24"/>
                  </a:lnTo>
                  <a:lnTo>
                    <a:pt x="1290" y="0"/>
                  </a:lnTo>
                  <a:lnTo>
                    <a:pt x="3872" y="394"/>
                  </a:lnTo>
                  <a:lnTo>
                    <a:pt x="4343" y="617"/>
                  </a:lnTo>
                  <a:lnTo>
                    <a:pt x="4196" y="994"/>
                  </a:lnTo>
                  <a:lnTo>
                    <a:pt x="3799" y="840"/>
                  </a:lnTo>
                  <a:lnTo>
                    <a:pt x="1368" y="443"/>
                  </a:lnTo>
                  <a:lnTo>
                    <a:pt x="1168" y="467"/>
                  </a:lnTo>
                  <a:lnTo>
                    <a:pt x="1019" y="568"/>
                  </a:lnTo>
                  <a:lnTo>
                    <a:pt x="921" y="762"/>
                  </a:lnTo>
                  <a:lnTo>
                    <a:pt x="398" y="2247"/>
                  </a:lnTo>
                  <a:lnTo>
                    <a:pt x="398" y="2394"/>
                  </a:lnTo>
                  <a:lnTo>
                    <a:pt x="0" y="2365"/>
                  </a:lnTo>
                  <a:close/>
                </a:path>
              </a:pathLst>
            </a:custGeom>
            <a:solidFill>
              <a:srgbClr val="383838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906560" y="4175280"/>
              <a:ext cx="98280" cy="102960"/>
            </a:xfrm>
            <a:custGeom>
              <a:avLst/>
              <a:gdLst/>
              <a:ahLst/>
              <a:rect l="l" t="t" r="r" b="b"/>
              <a:pathLst>
                <a:path w="560" h="580">
                  <a:moveTo>
                    <a:pt x="527" y="85"/>
                  </a:moveTo>
                  <a:lnTo>
                    <a:pt x="560" y="85"/>
                  </a:lnTo>
                  <a:lnTo>
                    <a:pt x="560" y="381"/>
                  </a:lnTo>
                  <a:lnTo>
                    <a:pt x="446" y="491"/>
                  </a:lnTo>
                  <a:lnTo>
                    <a:pt x="162" y="580"/>
                  </a:lnTo>
                  <a:lnTo>
                    <a:pt x="61" y="417"/>
                  </a:lnTo>
                  <a:lnTo>
                    <a:pt x="32" y="381"/>
                  </a:lnTo>
                  <a:lnTo>
                    <a:pt x="16" y="345"/>
                  </a:lnTo>
                  <a:lnTo>
                    <a:pt x="8" y="300"/>
                  </a:lnTo>
                  <a:lnTo>
                    <a:pt x="0" y="260"/>
                  </a:lnTo>
                  <a:lnTo>
                    <a:pt x="8" y="211"/>
                  </a:lnTo>
                  <a:lnTo>
                    <a:pt x="16" y="174"/>
                  </a:lnTo>
                  <a:lnTo>
                    <a:pt x="36" y="130"/>
                  </a:lnTo>
                  <a:lnTo>
                    <a:pt x="61" y="98"/>
                  </a:lnTo>
                  <a:lnTo>
                    <a:pt x="89" y="65"/>
                  </a:lnTo>
                  <a:lnTo>
                    <a:pt x="125" y="36"/>
                  </a:lnTo>
                  <a:lnTo>
                    <a:pt x="162" y="21"/>
                  </a:lnTo>
                  <a:lnTo>
                    <a:pt x="206" y="4"/>
                  </a:lnTo>
                  <a:lnTo>
                    <a:pt x="251" y="0"/>
                  </a:lnTo>
                  <a:lnTo>
                    <a:pt x="287" y="0"/>
                  </a:lnTo>
                  <a:lnTo>
                    <a:pt x="336" y="8"/>
                  </a:lnTo>
                  <a:lnTo>
                    <a:pt x="527" y="85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919160" y="4191120"/>
              <a:ext cx="85680" cy="95040"/>
            </a:xfrm>
            <a:custGeom>
              <a:avLst/>
              <a:gdLst/>
              <a:ahLst/>
              <a:rect l="l" t="t" r="r" b="b"/>
              <a:pathLst>
                <a:path w="488" h="536">
                  <a:moveTo>
                    <a:pt x="488" y="272"/>
                  </a:moveTo>
                  <a:lnTo>
                    <a:pt x="483" y="228"/>
                  </a:lnTo>
                  <a:lnTo>
                    <a:pt x="475" y="183"/>
                  </a:lnTo>
                  <a:lnTo>
                    <a:pt x="460" y="143"/>
                  </a:lnTo>
                  <a:lnTo>
                    <a:pt x="439" y="102"/>
                  </a:lnTo>
                  <a:lnTo>
                    <a:pt x="407" y="65"/>
                  </a:lnTo>
                  <a:lnTo>
                    <a:pt x="382" y="45"/>
                  </a:lnTo>
                  <a:lnTo>
                    <a:pt x="341" y="20"/>
                  </a:lnTo>
                  <a:lnTo>
                    <a:pt x="305" y="9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83" y="9"/>
                  </a:lnTo>
                  <a:lnTo>
                    <a:pt x="147" y="20"/>
                  </a:lnTo>
                  <a:lnTo>
                    <a:pt x="115" y="45"/>
                  </a:lnTo>
                  <a:lnTo>
                    <a:pt x="81" y="65"/>
                  </a:lnTo>
                  <a:lnTo>
                    <a:pt x="57" y="102"/>
                  </a:lnTo>
                  <a:lnTo>
                    <a:pt x="34" y="143"/>
                  </a:lnTo>
                  <a:lnTo>
                    <a:pt x="17" y="183"/>
                  </a:lnTo>
                  <a:lnTo>
                    <a:pt x="4" y="228"/>
                  </a:lnTo>
                  <a:lnTo>
                    <a:pt x="0" y="272"/>
                  </a:lnTo>
                  <a:lnTo>
                    <a:pt x="4" y="313"/>
                  </a:lnTo>
                  <a:lnTo>
                    <a:pt x="17" y="358"/>
                  </a:lnTo>
                  <a:lnTo>
                    <a:pt x="34" y="394"/>
                  </a:lnTo>
                  <a:lnTo>
                    <a:pt x="57" y="439"/>
                  </a:lnTo>
                  <a:lnTo>
                    <a:pt x="81" y="471"/>
                  </a:lnTo>
                  <a:lnTo>
                    <a:pt x="115" y="499"/>
                  </a:lnTo>
                  <a:lnTo>
                    <a:pt x="147" y="515"/>
                  </a:lnTo>
                  <a:lnTo>
                    <a:pt x="187" y="532"/>
                  </a:lnTo>
                  <a:lnTo>
                    <a:pt x="228" y="536"/>
                  </a:lnTo>
                  <a:lnTo>
                    <a:pt x="264" y="536"/>
                  </a:lnTo>
                  <a:lnTo>
                    <a:pt x="305" y="532"/>
                  </a:lnTo>
                  <a:lnTo>
                    <a:pt x="341" y="515"/>
                  </a:lnTo>
                  <a:lnTo>
                    <a:pt x="382" y="495"/>
                  </a:lnTo>
                  <a:lnTo>
                    <a:pt x="407" y="471"/>
                  </a:lnTo>
                  <a:lnTo>
                    <a:pt x="439" y="434"/>
                  </a:lnTo>
                  <a:lnTo>
                    <a:pt x="460" y="394"/>
                  </a:lnTo>
                  <a:lnTo>
                    <a:pt x="475" y="358"/>
                  </a:lnTo>
                  <a:lnTo>
                    <a:pt x="483" y="313"/>
                  </a:lnTo>
                  <a:lnTo>
                    <a:pt x="488" y="272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690640" y="4344840"/>
              <a:ext cx="122400" cy="127080"/>
            </a:xfrm>
            <a:custGeom>
              <a:avLst/>
              <a:gdLst/>
              <a:ahLst/>
              <a:rect l="l" t="t" r="r" b="b"/>
              <a:pathLst>
                <a:path w="690" h="717">
                  <a:moveTo>
                    <a:pt x="649" y="105"/>
                  </a:moveTo>
                  <a:lnTo>
                    <a:pt x="690" y="105"/>
                  </a:lnTo>
                  <a:lnTo>
                    <a:pt x="690" y="470"/>
                  </a:lnTo>
                  <a:lnTo>
                    <a:pt x="552" y="608"/>
                  </a:lnTo>
                  <a:lnTo>
                    <a:pt x="199" y="717"/>
                  </a:lnTo>
                  <a:lnTo>
                    <a:pt x="73" y="519"/>
                  </a:lnTo>
                  <a:lnTo>
                    <a:pt x="40" y="474"/>
                  </a:lnTo>
                  <a:lnTo>
                    <a:pt x="20" y="425"/>
                  </a:lnTo>
                  <a:lnTo>
                    <a:pt x="8" y="372"/>
                  </a:lnTo>
                  <a:lnTo>
                    <a:pt x="0" y="319"/>
                  </a:lnTo>
                  <a:lnTo>
                    <a:pt x="8" y="263"/>
                  </a:lnTo>
                  <a:lnTo>
                    <a:pt x="20" y="215"/>
                  </a:lnTo>
                  <a:lnTo>
                    <a:pt x="44" y="162"/>
                  </a:lnTo>
                  <a:lnTo>
                    <a:pt x="73" y="121"/>
                  </a:lnTo>
                  <a:lnTo>
                    <a:pt x="110" y="81"/>
                  </a:lnTo>
                  <a:lnTo>
                    <a:pt x="154" y="48"/>
                  </a:lnTo>
                  <a:lnTo>
                    <a:pt x="199" y="24"/>
                  </a:lnTo>
                  <a:lnTo>
                    <a:pt x="255" y="8"/>
                  </a:lnTo>
                  <a:lnTo>
                    <a:pt x="308" y="0"/>
                  </a:lnTo>
                  <a:lnTo>
                    <a:pt x="357" y="0"/>
                  </a:lnTo>
                  <a:lnTo>
                    <a:pt x="414" y="12"/>
                  </a:lnTo>
                  <a:lnTo>
                    <a:pt x="649" y="105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2706840" y="4365720"/>
              <a:ext cx="106200" cy="117360"/>
            </a:xfrm>
            <a:custGeom>
              <a:avLst/>
              <a:gdLst/>
              <a:ahLst/>
              <a:rect l="l" t="t" r="r" b="b"/>
              <a:pathLst>
                <a:path w="601" h="661">
                  <a:moveTo>
                    <a:pt x="601" y="332"/>
                  </a:moveTo>
                  <a:lnTo>
                    <a:pt x="597" y="280"/>
                  </a:lnTo>
                  <a:lnTo>
                    <a:pt x="589" y="223"/>
                  </a:lnTo>
                  <a:lnTo>
                    <a:pt x="564" y="174"/>
                  </a:lnTo>
                  <a:lnTo>
                    <a:pt x="540" y="126"/>
                  </a:lnTo>
                  <a:lnTo>
                    <a:pt x="504" y="81"/>
                  </a:lnTo>
                  <a:lnTo>
                    <a:pt x="471" y="53"/>
                  </a:lnTo>
                  <a:lnTo>
                    <a:pt x="423" y="25"/>
                  </a:lnTo>
                  <a:lnTo>
                    <a:pt x="378" y="8"/>
                  </a:lnTo>
                  <a:lnTo>
                    <a:pt x="329" y="0"/>
                  </a:lnTo>
                  <a:lnTo>
                    <a:pt x="281" y="0"/>
                  </a:lnTo>
                  <a:lnTo>
                    <a:pt x="228" y="8"/>
                  </a:lnTo>
                  <a:lnTo>
                    <a:pt x="183" y="25"/>
                  </a:lnTo>
                  <a:lnTo>
                    <a:pt x="142" y="53"/>
                  </a:lnTo>
                  <a:lnTo>
                    <a:pt x="102" y="81"/>
                  </a:lnTo>
                  <a:lnTo>
                    <a:pt x="70" y="126"/>
                  </a:lnTo>
                  <a:lnTo>
                    <a:pt x="41" y="174"/>
                  </a:lnTo>
                  <a:lnTo>
                    <a:pt x="21" y="223"/>
                  </a:lnTo>
                  <a:lnTo>
                    <a:pt x="8" y="280"/>
                  </a:lnTo>
                  <a:lnTo>
                    <a:pt x="0" y="332"/>
                  </a:lnTo>
                  <a:lnTo>
                    <a:pt x="8" y="385"/>
                  </a:lnTo>
                  <a:lnTo>
                    <a:pt x="21" y="442"/>
                  </a:lnTo>
                  <a:lnTo>
                    <a:pt x="41" y="487"/>
                  </a:lnTo>
                  <a:lnTo>
                    <a:pt x="70" y="540"/>
                  </a:lnTo>
                  <a:lnTo>
                    <a:pt x="102" y="580"/>
                  </a:lnTo>
                  <a:lnTo>
                    <a:pt x="142" y="617"/>
                  </a:lnTo>
                  <a:lnTo>
                    <a:pt x="183" y="636"/>
                  </a:lnTo>
                  <a:lnTo>
                    <a:pt x="232" y="657"/>
                  </a:lnTo>
                  <a:lnTo>
                    <a:pt x="281" y="661"/>
                  </a:lnTo>
                  <a:lnTo>
                    <a:pt x="329" y="661"/>
                  </a:lnTo>
                  <a:lnTo>
                    <a:pt x="378" y="657"/>
                  </a:lnTo>
                  <a:lnTo>
                    <a:pt x="423" y="636"/>
                  </a:lnTo>
                  <a:lnTo>
                    <a:pt x="471" y="613"/>
                  </a:lnTo>
                  <a:lnTo>
                    <a:pt x="504" y="580"/>
                  </a:lnTo>
                  <a:lnTo>
                    <a:pt x="540" y="536"/>
                  </a:lnTo>
                  <a:lnTo>
                    <a:pt x="564" y="487"/>
                  </a:lnTo>
                  <a:lnTo>
                    <a:pt x="589" y="438"/>
                  </a:lnTo>
                  <a:lnTo>
                    <a:pt x="597" y="385"/>
                  </a:lnTo>
                  <a:lnTo>
                    <a:pt x="601" y="332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1474920" y="4513320"/>
              <a:ext cx="137880" cy="141120"/>
            </a:xfrm>
            <a:custGeom>
              <a:avLst/>
              <a:gdLst/>
              <a:ahLst/>
              <a:rect l="l" t="t" r="r" b="b"/>
              <a:pathLst>
                <a:path w="783" h="802">
                  <a:moveTo>
                    <a:pt x="734" y="117"/>
                  </a:moveTo>
                  <a:lnTo>
                    <a:pt x="783" y="117"/>
                  </a:lnTo>
                  <a:lnTo>
                    <a:pt x="783" y="527"/>
                  </a:lnTo>
                  <a:lnTo>
                    <a:pt x="625" y="681"/>
                  </a:lnTo>
                  <a:lnTo>
                    <a:pt x="223" y="802"/>
                  </a:lnTo>
                  <a:lnTo>
                    <a:pt x="81" y="579"/>
                  </a:lnTo>
                  <a:lnTo>
                    <a:pt x="44" y="531"/>
                  </a:lnTo>
                  <a:lnTo>
                    <a:pt x="21" y="474"/>
                  </a:lnTo>
                  <a:lnTo>
                    <a:pt x="8" y="417"/>
                  </a:lnTo>
                  <a:lnTo>
                    <a:pt x="0" y="357"/>
                  </a:lnTo>
                  <a:lnTo>
                    <a:pt x="8" y="296"/>
                  </a:lnTo>
                  <a:lnTo>
                    <a:pt x="21" y="239"/>
                  </a:lnTo>
                  <a:lnTo>
                    <a:pt x="49" y="183"/>
                  </a:lnTo>
                  <a:lnTo>
                    <a:pt x="81" y="134"/>
                  </a:lnTo>
                  <a:lnTo>
                    <a:pt x="122" y="89"/>
                  </a:lnTo>
                  <a:lnTo>
                    <a:pt x="174" y="53"/>
                  </a:lnTo>
                  <a:lnTo>
                    <a:pt x="223" y="24"/>
                  </a:lnTo>
                  <a:lnTo>
                    <a:pt x="289" y="8"/>
                  </a:lnTo>
                  <a:lnTo>
                    <a:pt x="349" y="0"/>
                  </a:lnTo>
                  <a:lnTo>
                    <a:pt x="406" y="0"/>
                  </a:lnTo>
                  <a:lnTo>
                    <a:pt x="470" y="12"/>
                  </a:lnTo>
                  <a:lnTo>
                    <a:pt x="734" y="117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1494000" y="4537080"/>
              <a:ext cx="118800" cy="130320"/>
            </a:xfrm>
            <a:custGeom>
              <a:avLst/>
              <a:gdLst/>
              <a:ahLst/>
              <a:rect l="l" t="t" r="r" b="b"/>
              <a:pathLst>
                <a:path w="681" h="742">
                  <a:moveTo>
                    <a:pt x="681" y="372"/>
                  </a:moveTo>
                  <a:lnTo>
                    <a:pt x="677" y="312"/>
                  </a:lnTo>
                  <a:lnTo>
                    <a:pt x="666" y="251"/>
                  </a:lnTo>
                  <a:lnTo>
                    <a:pt x="641" y="194"/>
                  </a:lnTo>
                  <a:lnTo>
                    <a:pt x="613" y="142"/>
                  </a:lnTo>
                  <a:lnTo>
                    <a:pt x="572" y="93"/>
                  </a:lnTo>
                  <a:lnTo>
                    <a:pt x="532" y="60"/>
                  </a:lnTo>
                  <a:lnTo>
                    <a:pt x="479" y="28"/>
                  </a:lnTo>
                  <a:lnTo>
                    <a:pt x="426" y="8"/>
                  </a:lnTo>
                  <a:lnTo>
                    <a:pt x="373" y="0"/>
                  </a:lnTo>
                  <a:lnTo>
                    <a:pt x="317" y="0"/>
                  </a:lnTo>
                  <a:lnTo>
                    <a:pt x="255" y="8"/>
                  </a:lnTo>
                  <a:lnTo>
                    <a:pt x="206" y="28"/>
                  </a:lnTo>
                  <a:lnTo>
                    <a:pt x="158" y="60"/>
                  </a:lnTo>
                  <a:lnTo>
                    <a:pt x="113" y="93"/>
                  </a:lnTo>
                  <a:lnTo>
                    <a:pt x="77" y="142"/>
                  </a:lnTo>
                  <a:lnTo>
                    <a:pt x="44" y="194"/>
                  </a:lnTo>
                  <a:lnTo>
                    <a:pt x="20" y="251"/>
                  </a:lnTo>
                  <a:lnTo>
                    <a:pt x="8" y="312"/>
                  </a:lnTo>
                  <a:lnTo>
                    <a:pt x="0" y="372"/>
                  </a:lnTo>
                  <a:lnTo>
                    <a:pt x="8" y="434"/>
                  </a:lnTo>
                  <a:lnTo>
                    <a:pt x="20" y="494"/>
                  </a:lnTo>
                  <a:lnTo>
                    <a:pt x="44" y="547"/>
                  </a:lnTo>
                  <a:lnTo>
                    <a:pt x="77" y="604"/>
                  </a:lnTo>
                  <a:lnTo>
                    <a:pt x="113" y="649"/>
                  </a:lnTo>
                  <a:lnTo>
                    <a:pt x="158" y="689"/>
                  </a:lnTo>
                  <a:lnTo>
                    <a:pt x="206" y="713"/>
                  </a:lnTo>
                  <a:lnTo>
                    <a:pt x="259" y="734"/>
                  </a:lnTo>
                  <a:lnTo>
                    <a:pt x="317" y="742"/>
                  </a:lnTo>
                  <a:lnTo>
                    <a:pt x="373" y="742"/>
                  </a:lnTo>
                  <a:lnTo>
                    <a:pt x="426" y="734"/>
                  </a:lnTo>
                  <a:lnTo>
                    <a:pt x="479" y="713"/>
                  </a:lnTo>
                  <a:lnTo>
                    <a:pt x="532" y="685"/>
                  </a:lnTo>
                  <a:lnTo>
                    <a:pt x="572" y="649"/>
                  </a:lnTo>
                  <a:lnTo>
                    <a:pt x="613" y="600"/>
                  </a:lnTo>
                  <a:lnTo>
                    <a:pt x="641" y="547"/>
                  </a:lnTo>
                  <a:lnTo>
                    <a:pt x="666" y="490"/>
                  </a:lnTo>
                  <a:lnTo>
                    <a:pt x="677" y="434"/>
                  </a:lnTo>
                  <a:lnTo>
                    <a:pt x="681" y="372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820960" y="4794120"/>
              <a:ext cx="150840" cy="157320"/>
            </a:xfrm>
            <a:custGeom>
              <a:avLst/>
              <a:gdLst/>
              <a:ahLst/>
              <a:rect l="l" t="t" r="r" b="b"/>
              <a:pathLst>
                <a:path w="861" h="888">
                  <a:moveTo>
                    <a:pt x="804" y="129"/>
                  </a:moveTo>
                  <a:lnTo>
                    <a:pt x="861" y="129"/>
                  </a:lnTo>
                  <a:lnTo>
                    <a:pt x="861" y="584"/>
                  </a:lnTo>
                  <a:lnTo>
                    <a:pt x="687" y="754"/>
                  </a:lnTo>
                  <a:lnTo>
                    <a:pt x="248" y="888"/>
                  </a:lnTo>
                  <a:lnTo>
                    <a:pt x="89" y="640"/>
                  </a:lnTo>
                  <a:lnTo>
                    <a:pt x="49" y="588"/>
                  </a:lnTo>
                  <a:lnTo>
                    <a:pt x="25" y="523"/>
                  </a:lnTo>
                  <a:lnTo>
                    <a:pt x="8" y="462"/>
                  </a:lnTo>
                  <a:lnTo>
                    <a:pt x="0" y="393"/>
                  </a:lnTo>
                  <a:lnTo>
                    <a:pt x="8" y="329"/>
                  </a:lnTo>
                  <a:lnTo>
                    <a:pt x="25" y="263"/>
                  </a:lnTo>
                  <a:lnTo>
                    <a:pt x="53" y="202"/>
                  </a:lnTo>
                  <a:lnTo>
                    <a:pt x="89" y="146"/>
                  </a:lnTo>
                  <a:lnTo>
                    <a:pt x="134" y="97"/>
                  </a:lnTo>
                  <a:lnTo>
                    <a:pt x="191" y="57"/>
                  </a:lnTo>
                  <a:lnTo>
                    <a:pt x="248" y="28"/>
                  </a:lnTo>
                  <a:lnTo>
                    <a:pt x="317" y="8"/>
                  </a:lnTo>
                  <a:lnTo>
                    <a:pt x="382" y="0"/>
                  </a:lnTo>
                  <a:lnTo>
                    <a:pt x="447" y="0"/>
                  </a:lnTo>
                  <a:lnTo>
                    <a:pt x="516" y="12"/>
                  </a:lnTo>
                  <a:lnTo>
                    <a:pt x="804" y="129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2840040" y="4819680"/>
              <a:ext cx="131760" cy="144360"/>
            </a:xfrm>
            <a:custGeom>
              <a:avLst/>
              <a:gdLst/>
              <a:ahLst/>
              <a:rect l="l" t="t" r="r" b="b"/>
              <a:pathLst>
                <a:path w="747" h="823">
                  <a:moveTo>
                    <a:pt x="747" y="413"/>
                  </a:moveTo>
                  <a:lnTo>
                    <a:pt x="743" y="345"/>
                  </a:lnTo>
                  <a:lnTo>
                    <a:pt x="727" y="279"/>
                  </a:lnTo>
                  <a:lnTo>
                    <a:pt x="703" y="215"/>
                  </a:lnTo>
                  <a:lnTo>
                    <a:pt x="670" y="158"/>
                  </a:lnTo>
                  <a:lnTo>
                    <a:pt x="625" y="105"/>
                  </a:lnTo>
                  <a:lnTo>
                    <a:pt x="580" y="68"/>
                  </a:lnTo>
                  <a:lnTo>
                    <a:pt x="524" y="32"/>
                  </a:lnTo>
                  <a:lnTo>
                    <a:pt x="467" y="12"/>
                  </a:lnTo>
                  <a:lnTo>
                    <a:pt x="406" y="0"/>
                  </a:lnTo>
                  <a:lnTo>
                    <a:pt x="345" y="0"/>
                  </a:lnTo>
                  <a:lnTo>
                    <a:pt x="280" y="12"/>
                  </a:lnTo>
                  <a:lnTo>
                    <a:pt x="224" y="32"/>
                  </a:lnTo>
                  <a:lnTo>
                    <a:pt x="171" y="68"/>
                  </a:lnTo>
                  <a:lnTo>
                    <a:pt x="122" y="105"/>
                  </a:lnTo>
                  <a:lnTo>
                    <a:pt x="81" y="158"/>
                  </a:lnTo>
                  <a:lnTo>
                    <a:pt x="49" y="215"/>
                  </a:lnTo>
                  <a:lnTo>
                    <a:pt x="20" y="279"/>
                  </a:lnTo>
                  <a:lnTo>
                    <a:pt x="9" y="345"/>
                  </a:lnTo>
                  <a:lnTo>
                    <a:pt x="0" y="413"/>
                  </a:lnTo>
                  <a:lnTo>
                    <a:pt x="9" y="483"/>
                  </a:lnTo>
                  <a:lnTo>
                    <a:pt x="20" y="547"/>
                  </a:lnTo>
                  <a:lnTo>
                    <a:pt x="49" y="608"/>
                  </a:lnTo>
                  <a:lnTo>
                    <a:pt x="81" y="668"/>
                  </a:lnTo>
                  <a:lnTo>
                    <a:pt x="122" y="717"/>
                  </a:lnTo>
                  <a:lnTo>
                    <a:pt x="171" y="762"/>
                  </a:lnTo>
                  <a:lnTo>
                    <a:pt x="224" y="791"/>
                  </a:lnTo>
                  <a:lnTo>
                    <a:pt x="284" y="815"/>
                  </a:lnTo>
                  <a:lnTo>
                    <a:pt x="345" y="823"/>
                  </a:lnTo>
                  <a:lnTo>
                    <a:pt x="406" y="823"/>
                  </a:lnTo>
                  <a:lnTo>
                    <a:pt x="467" y="815"/>
                  </a:lnTo>
                  <a:lnTo>
                    <a:pt x="524" y="791"/>
                  </a:lnTo>
                  <a:lnTo>
                    <a:pt x="580" y="758"/>
                  </a:lnTo>
                  <a:lnTo>
                    <a:pt x="625" y="717"/>
                  </a:lnTo>
                  <a:lnTo>
                    <a:pt x="670" y="664"/>
                  </a:lnTo>
                  <a:lnTo>
                    <a:pt x="703" y="608"/>
                  </a:lnTo>
                  <a:lnTo>
                    <a:pt x="727" y="543"/>
                  </a:lnTo>
                  <a:lnTo>
                    <a:pt x="743" y="483"/>
                  </a:lnTo>
                  <a:lnTo>
                    <a:pt x="747" y="413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1996920" y="4919760"/>
              <a:ext cx="174960" cy="179280"/>
            </a:xfrm>
            <a:custGeom>
              <a:avLst/>
              <a:gdLst/>
              <a:ahLst/>
              <a:rect l="l" t="t" r="r" b="b"/>
              <a:pathLst>
                <a:path w="982" h="1021">
                  <a:moveTo>
                    <a:pt x="917" y="149"/>
                  </a:moveTo>
                  <a:lnTo>
                    <a:pt x="982" y="149"/>
                  </a:lnTo>
                  <a:lnTo>
                    <a:pt x="982" y="673"/>
                  </a:lnTo>
                  <a:lnTo>
                    <a:pt x="783" y="868"/>
                  </a:lnTo>
                  <a:lnTo>
                    <a:pt x="281" y="1021"/>
                  </a:lnTo>
                  <a:lnTo>
                    <a:pt x="102" y="738"/>
                  </a:lnTo>
                  <a:lnTo>
                    <a:pt x="57" y="677"/>
                  </a:lnTo>
                  <a:lnTo>
                    <a:pt x="28" y="604"/>
                  </a:lnTo>
                  <a:lnTo>
                    <a:pt x="8" y="530"/>
                  </a:lnTo>
                  <a:lnTo>
                    <a:pt x="0" y="454"/>
                  </a:lnTo>
                  <a:lnTo>
                    <a:pt x="8" y="377"/>
                  </a:lnTo>
                  <a:lnTo>
                    <a:pt x="28" y="304"/>
                  </a:lnTo>
                  <a:lnTo>
                    <a:pt x="61" y="234"/>
                  </a:lnTo>
                  <a:lnTo>
                    <a:pt x="102" y="170"/>
                  </a:lnTo>
                  <a:lnTo>
                    <a:pt x="154" y="113"/>
                  </a:lnTo>
                  <a:lnTo>
                    <a:pt x="219" y="68"/>
                  </a:lnTo>
                  <a:lnTo>
                    <a:pt x="284" y="32"/>
                  </a:lnTo>
                  <a:lnTo>
                    <a:pt x="362" y="11"/>
                  </a:lnTo>
                  <a:lnTo>
                    <a:pt x="434" y="0"/>
                  </a:lnTo>
                  <a:lnTo>
                    <a:pt x="511" y="4"/>
                  </a:lnTo>
                  <a:lnTo>
                    <a:pt x="588" y="15"/>
                  </a:lnTo>
                  <a:lnTo>
                    <a:pt x="917" y="149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021040" y="4948200"/>
              <a:ext cx="150840" cy="166680"/>
            </a:xfrm>
            <a:custGeom>
              <a:avLst/>
              <a:gdLst/>
              <a:ahLst/>
              <a:rect l="l" t="t" r="r" b="b"/>
              <a:pathLst>
                <a:path w="852" h="945">
                  <a:moveTo>
                    <a:pt x="852" y="474"/>
                  </a:moveTo>
                  <a:lnTo>
                    <a:pt x="848" y="393"/>
                  </a:lnTo>
                  <a:lnTo>
                    <a:pt x="828" y="321"/>
                  </a:lnTo>
                  <a:lnTo>
                    <a:pt x="800" y="247"/>
                  </a:lnTo>
                  <a:lnTo>
                    <a:pt x="763" y="183"/>
                  </a:lnTo>
                  <a:lnTo>
                    <a:pt x="715" y="121"/>
                  </a:lnTo>
                  <a:lnTo>
                    <a:pt x="662" y="77"/>
                  </a:lnTo>
                  <a:lnTo>
                    <a:pt x="596" y="36"/>
                  </a:lnTo>
                  <a:lnTo>
                    <a:pt x="532" y="12"/>
                  </a:lnTo>
                  <a:lnTo>
                    <a:pt x="462" y="0"/>
                  </a:lnTo>
                  <a:lnTo>
                    <a:pt x="394" y="0"/>
                  </a:lnTo>
                  <a:lnTo>
                    <a:pt x="321" y="12"/>
                  </a:lnTo>
                  <a:lnTo>
                    <a:pt x="256" y="36"/>
                  </a:lnTo>
                  <a:lnTo>
                    <a:pt x="195" y="77"/>
                  </a:lnTo>
                  <a:lnTo>
                    <a:pt x="138" y="121"/>
                  </a:lnTo>
                  <a:lnTo>
                    <a:pt x="93" y="183"/>
                  </a:lnTo>
                  <a:lnTo>
                    <a:pt x="53" y="247"/>
                  </a:lnTo>
                  <a:lnTo>
                    <a:pt x="24" y="321"/>
                  </a:lnTo>
                  <a:lnTo>
                    <a:pt x="8" y="393"/>
                  </a:lnTo>
                  <a:lnTo>
                    <a:pt x="0" y="474"/>
                  </a:lnTo>
                  <a:lnTo>
                    <a:pt x="8" y="551"/>
                  </a:lnTo>
                  <a:lnTo>
                    <a:pt x="24" y="628"/>
                  </a:lnTo>
                  <a:lnTo>
                    <a:pt x="53" y="698"/>
                  </a:lnTo>
                  <a:lnTo>
                    <a:pt x="93" y="766"/>
                  </a:lnTo>
                  <a:lnTo>
                    <a:pt x="138" y="823"/>
                  </a:lnTo>
                  <a:lnTo>
                    <a:pt x="195" y="872"/>
                  </a:lnTo>
                  <a:lnTo>
                    <a:pt x="256" y="908"/>
                  </a:lnTo>
                  <a:lnTo>
                    <a:pt x="325" y="932"/>
                  </a:lnTo>
                  <a:lnTo>
                    <a:pt x="394" y="945"/>
                  </a:lnTo>
                  <a:lnTo>
                    <a:pt x="462" y="945"/>
                  </a:lnTo>
                  <a:lnTo>
                    <a:pt x="532" y="932"/>
                  </a:lnTo>
                  <a:lnTo>
                    <a:pt x="596" y="908"/>
                  </a:lnTo>
                  <a:lnTo>
                    <a:pt x="662" y="868"/>
                  </a:lnTo>
                  <a:lnTo>
                    <a:pt x="715" y="823"/>
                  </a:lnTo>
                  <a:lnTo>
                    <a:pt x="763" y="762"/>
                  </a:lnTo>
                  <a:lnTo>
                    <a:pt x="800" y="698"/>
                  </a:lnTo>
                  <a:lnTo>
                    <a:pt x="828" y="624"/>
                  </a:lnTo>
                  <a:lnTo>
                    <a:pt x="848" y="551"/>
                  </a:lnTo>
                  <a:lnTo>
                    <a:pt x="852" y="474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535040" y="4133880"/>
              <a:ext cx="1433520" cy="819000"/>
            </a:xfrm>
            <a:custGeom>
              <a:avLst/>
              <a:gdLst/>
              <a:ahLst/>
              <a:rect l="l" t="t" r="r" b="b"/>
              <a:pathLst>
                <a:path w="8134" h="4641">
                  <a:moveTo>
                    <a:pt x="3872" y="66"/>
                  </a:moveTo>
                  <a:lnTo>
                    <a:pt x="3872" y="1440"/>
                  </a:lnTo>
                  <a:lnTo>
                    <a:pt x="2557" y="0"/>
                  </a:lnTo>
                  <a:lnTo>
                    <a:pt x="2419" y="4"/>
                  </a:lnTo>
                  <a:lnTo>
                    <a:pt x="2366" y="82"/>
                  </a:lnTo>
                  <a:lnTo>
                    <a:pt x="2366" y="172"/>
                  </a:lnTo>
                  <a:lnTo>
                    <a:pt x="2362" y="329"/>
                  </a:lnTo>
                  <a:lnTo>
                    <a:pt x="3478" y="1765"/>
                  </a:lnTo>
                  <a:lnTo>
                    <a:pt x="3373" y="1810"/>
                  </a:lnTo>
                  <a:lnTo>
                    <a:pt x="3280" y="1830"/>
                  </a:lnTo>
                  <a:lnTo>
                    <a:pt x="1766" y="1793"/>
                  </a:lnTo>
                  <a:lnTo>
                    <a:pt x="263" y="1765"/>
                  </a:lnTo>
                  <a:lnTo>
                    <a:pt x="158" y="1810"/>
                  </a:lnTo>
                  <a:lnTo>
                    <a:pt x="65" y="1895"/>
                  </a:lnTo>
                  <a:lnTo>
                    <a:pt x="0" y="2223"/>
                  </a:lnTo>
                  <a:lnTo>
                    <a:pt x="288" y="2297"/>
                  </a:lnTo>
                  <a:lnTo>
                    <a:pt x="422" y="2276"/>
                  </a:lnTo>
                  <a:lnTo>
                    <a:pt x="459" y="2223"/>
                  </a:lnTo>
                  <a:lnTo>
                    <a:pt x="3356" y="2370"/>
                  </a:lnTo>
                  <a:lnTo>
                    <a:pt x="3559" y="2442"/>
                  </a:lnTo>
                  <a:lnTo>
                    <a:pt x="3637" y="2536"/>
                  </a:lnTo>
                  <a:lnTo>
                    <a:pt x="3653" y="2629"/>
                  </a:lnTo>
                  <a:lnTo>
                    <a:pt x="3150" y="4248"/>
                  </a:lnTo>
                  <a:lnTo>
                    <a:pt x="3150" y="4576"/>
                  </a:lnTo>
                  <a:lnTo>
                    <a:pt x="3263" y="4621"/>
                  </a:lnTo>
                  <a:lnTo>
                    <a:pt x="3409" y="4641"/>
                  </a:lnTo>
                  <a:lnTo>
                    <a:pt x="3507" y="4621"/>
                  </a:lnTo>
                  <a:lnTo>
                    <a:pt x="3608" y="4576"/>
                  </a:lnTo>
                  <a:lnTo>
                    <a:pt x="3608" y="4378"/>
                  </a:lnTo>
                  <a:lnTo>
                    <a:pt x="4197" y="2747"/>
                  </a:lnTo>
                  <a:lnTo>
                    <a:pt x="4367" y="2686"/>
                  </a:lnTo>
                  <a:lnTo>
                    <a:pt x="4534" y="2649"/>
                  </a:lnTo>
                  <a:lnTo>
                    <a:pt x="4855" y="2617"/>
                  </a:lnTo>
                  <a:lnTo>
                    <a:pt x="7610" y="3725"/>
                  </a:lnTo>
                  <a:lnTo>
                    <a:pt x="7676" y="3789"/>
                  </a:lnTo>
                  <a:lnTo>
                    <a:pt x="7842" y="3878"/>
                  </a:lnTo>
                  <a:lnTo>
                    <a:pt x="8004" y="3923"/>
                  </a:lnTo>
                  <a:lnTo>
                    <a:pt x="8069" y="3915"/>
                  </a:lnTo>
                  <a:lnTo>
                    <a:pt x="8134" y="3858"/>
                  </a:lnTo>
                  <a:lnTo>
                    <a:pt x="8134" y="3595"/>
                  </a:lnTo>
                  <a:lnTo>
                    <a:pt x="8121" y="3525"/>
                  </a:lnTo>
                  <a:lnTo>
                    <a:pt x="8069" y="3465"/>
                  </a:lnTo>
                  <a:lnTo>
                    <a:pt x="5119" y="2223"/>
                  </a:lnTo>
                  <a:lnTo>
                    <a:pt x="5119" y="2159"/>
                  </a:lnTo>
                  <a:lnTo>
                    <a:pt x="7018" y="1307"/>
                  </a:lnTo>
                  <a:lnTo>
                    <a:pt x="7225" y="1307"/>
                  </a:lnTo>
                  <a:lnTo>
                    <a:pt x="7225" y="1140"/>
                  </a:lnTo>
                  <a:lnTo>
                    <a:pt x="7225" y="991"/>
                  </a:lnTo>
                  <a:lnTo>
                    <a:pt x="7152" y="917"/>
                  </a:lnTo>
                  <a:lnTo>
                    <a:pt x="7074" y="881"/>
                  </a:lnTo>
                  <a:lnTo>
                    <a:pt x="6952" y="853"/>
                  </a:lnTo>
                  <a:lnTo>
                    <a:pt x="4655" y="1636"/>
                  </a:lnTo>
                  <a:lnTo>
                    <a:pt x="4525" y="1570"/>
                  </a:lnTo>
                  <a:lnTo>
                    <a:pt x="4461" y="66"/>
                  </a:lnTo>
                  <a:lnTo>
                    <a:pt x="3872" y="66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568520" y="4433760"/>
              <a:ext cx="846000" cy="449280"/>
            </a:xfrm>
            <a:custGeom>
              <a:avLst/>
              <a:gdLst/>
              <a:ahLst/>
              <a:rect l="l" t="t" r="r" b="b"/>
              <a:pathLst>
                <a:path w="4790" h="2548">
                  <a:moveTo>
                    <a:pt x="0" y="333"/>
                  </a:moveTo>
                  <a:lnTo>
                    <a:pt x="2788" y="426"/>
                  </a:lnTo>
                  <a:lnTo>
                    <a:pt x="3019" y="459"/>
                  </a:lnTo>
                  <a:lnTo>
                    <a:pt x="3291" y="540"/>
                  </a:lnTo>
                  <a:lnTo>
                    <a:pt x="3421" y="576"/>
                  </a:lnTo>
                  <a:lnTo>
                    <a:pt x="3536" y="653"/>
                  </a:lnTo>
                  <a:lnTo>
                    <a:pt x="3592" y="742"/>
                  </a:lnTo>
                  <a:lnTo>
                    <a:pt x="3592" y="857"/>
                  </a:lnTo>
                  <a:lnTo>
                    <a:pt x="3019" y="2548"/>
                  </a:lnTo>
                  <a:lnTo>
                    <a:pt x="3085" y="2532"/>
                  </a:lnTo>
                  <a:lnTo>
                    <a:pt x="3149" y="2548"/>
                  </a:lnTo>
                  <a:lnTo>
                    <a:pt x="3872" y="719"/>
                  </a:lnTo>
                  <a:lnTo>
                    <a:pt x="4002" y="523"/>
                  </a:lnTo>
                  <a:lnTo>
                    <a:pt x="4172" y="467"/>
                  </a:lnTo>
                  <a:lnTo>
                    <a:pt x="4330" y="459"/>
                  </a:lnTo>
                  <a:lnTo>
                    <a:pt x="4790" y="459"/>
                  </a:lnTo>
                  <a:lnTo>
                    <a:pt x="4692" y="353"/>
                  </a:lnTo>
                  <a:lnTo>
                    <a:pt x="4594" y="260"/>
                  </a:lnTo>
                  <a:lnTo>
                    <a:pt x="4582" y="130"/>
                  </a:lnTo>
                  <a:lnTo>
                    <a:pt x="4660" y="0"/>
                  </a:lnTo>
                  <a:lnTo>
                    <a:pt x="4396" y="65"/>
                  </a:lnTo>
                  <a:lnTo>
                    <a:pt x="4469" y="204"/>
                  </a:lnTo>
                  <a:lnTo>
                    <a:pt x="4452" y="333"/>
                  </a:lnTo>
                  <a:lnTo>
                    <a:pt x="4266" y="410"/>
                  </a:lnTo>
                  <a:lnTo>
                    <a:pt x="3872" y="426"/>
                  </a:lnTo>
                  <a:lnTo>
                    <a:pt x="3779" y="410"/>
                  </a:lnTo>
                  <a:lnTo>
                    <a:pt x="3677" y="329"/>
                  </a:lnTo>
                  <a:lnTo>
                    <a:pt x="3628" y="223"/>
                  </a:lnTo>
                  <a:lnTo>
                    <a:pt x="3608" y="130"/>
                  </a:lnTo>
                  <a:lnTo>
                    <a:pt x="3608" y="0"/>
                  </a:lnTo>
                  <a:lnTo>
                    <a:pt x="3458" y="110"/>
                  </a:lnTo>
                  <a:lnTo>
                    <a:pt x="3328" y="187"/>
                  </a:lnTo>
                  <a:lnTo>
                    <a:pt x="3085" y="244"/>
                  </a:lnTo>
                  <a:lnTo>
                    <a:pt x="2756" y="260"/>
                  </a:lnTo>
                  <a:lnTo>
                    <a:pt x="198" y="130"/>
                  </a:lnTo>
                  <a:lnTo>
                    <a:pt x="40" y="22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2390760" y="4292640"/>
              <a:ext cx="395280" cy="163440"/>
            </a:xfrm>
            <a:custGeom>
              <a:avLst/>
              <a:gdLst/>
              <a:ahLst/>
              <a:rect l="l" t="t" r="r" b="b"/>
              <a:pathLst>
                <a:path w="2240" h="928">
                  <a:moveTo>
                    <a:pt x="182" y="928"/>
                  </a:moveTo>
                  <a:lnTo>
                    <a:pt x="2240" y="51"/>
                  </a:lnTo>
                  <a:lnTo>
                    <a:pt x="2183" y="0"/>
                  </a:lnTo>
                  <a:lnTo>
                    <a:pt x="0" y="798"/>
                  </a:lnTo>
                  <a:lnTo>
                    <a:pt x="182" y="92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2274840" y="4529160"/>
              <a:ext cx="649440" cy="268200"/>
            </a:xfrm>
            <a:custGeom>
              <a:avLst/>
              <a:gdLst/>
              <a:ahLst/>
              <a:rect l="l" t="t" r="r" b="b"/>
              <a:pathLst>
                <a:path w="3681" h="1525">
                  <a:moveTo>
                    <a:pt x="0" y="187"/>
                  </a:moveTo>
                  <a:lnTo>
                    <a:pt x="130" y="73"/>
                  </a:lnTo>
                  <a:lnTo>
                    <a:pt x="280" y="20"/>
                  </a:lnTo>
                  <a:lnTo>
                    <a:pt x="467" y="0"/>
                  </a:lnTo>
                  <a:lnTo>
                    <a:pt x="654" y="36"/>
                  </a:lnTo>
                  <a:lnTo>
                    <a:pt x="917" y="130"/>
                  </a:lnTo>
                  <a:lnTo>
                    <a:pt x="3681" y="1266"/>
                  </a:lnTo>
                  <a:lnTo>
                    <a:pt x="3665" y="1396"/>
                  </a:lnTo>
                  <a:lnTo>
                    <a:pt x="3665" y="1525"/>
                  </a:lnTo>
                  <a:lnTo>
                    <a:pt x="654" y="296"/>
                  </a:lnTo>
                  <a:lnTo>
                    <a:pt x="524" y="166"/>
                  </a:lnTo>
                  <a:lnTo>
                    <a:pt x="280" y="113"/>
                  </a:lnTo>
                  <a:lnTo>
                    <a:pt x="73" y="13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133720" y="4572000"/>
              <a:ext cx="125280" cy="311040"/>
            </a:xfrm>
            <a:custGeom>
              <a:avLst/>
              <a:gdLst/>
              <a:ahLst/>
              <a:rect l="l" t="t" r="r" b="b"/>
              <a:pathLst>
                <a:path w="711" h="1768">
                  <a:moveTo>
                    <a:pt x="711" y="0"/>
                  </a:moveTo>
                  <a:lnTo>
                    <a:pt x="0" y="1768"/>
                  </a:lnTo>
                  <a:lnTo>
                    <a:pt x="85" y="1700"/>
                  </a:lnTo>
                  <a:lnTo>
                    <a:pt x="674" y="134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1984320" y="4133880"/>
              <a:ext cx="231840" cy="245880"/>
            </a:xfrm>
            <a:custGeom>
              <a:avLst/>
              <a:gdLst/>
              <a:ahLst/>
              <a:rect l="l" t="t" r="r" b="b"/>
              <a:pathLst>
                <a:path w="1307" h="1396">
                  <a:moveTo>
                    <a:pt x="1307" y="1396"/>
                  </a:moveTo>
                  <a:lnTo>
                    <a:pt x="203" y="151"/>
                  </a:lnTo>
                  <a:lnTo>
                    <a:pt x="150" y="94"/>
                  </a:lnTo>
                  <a:lnTo>
                    <a:pt x="94" y="38"/>
                  </a:lnTo>
                  <a:lnTo>
                    <a:pt x="0" y="0"/>
                  </a:lnTo>
                  <a:lnTo>
                    <a:pt x="1185" y="1372"/>
                  </a:lnTo>
                  <a:lnTo>
                    <a:pt x="1307" y="13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1959120" y="4133880"/>
              <a:ext cx="234720" cy="297000"/>
            </a:xfrm>
            <a:custGeom>
              <a:avLst/>
              <a:gdLst/>
              <a:ahLst/>
              <a:rect l="l" t="t" r="r" b="b"/>
              <a:pathLst>
                <a:path w="1335" h="1680">
                  <a:moveTo>
                    <a:pt x="0" y="134"/>
                  </a:moveTo>
                  <a:lnTo>
                    <a:pt x="0" y="42"/>
                  </a:lnTo>
                  <a:lnTo>
                    <a:pt x="89" y="0"/>
                  </a:lnTo>
                  <a:lnTo>
                    <a:pt x="1335" y="1440"/>
                  </a:lnTo>
                  <a:lnTo>
                    <a:pt x="1328" y="1551"/>
                  </a:lnTo>
                  <a:lnTo>
                    <a:pt x="1213" y="168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427120" y="4305240"/>
              <a:ext cx="371520" cy="187560"/>
            </a:xfrm>
            <a:custGeom>
              <a:avLst/>
              <a:gdLst/>
              <a:ahLst/>
              <a:rect l="l" t="t" r="r" b="b"/>
              <a:pathLst>
                <a:path w="2111" h="1059">
                  <a:moveTo>
                    <a:pt x="0" y="819"/>
                  </a:moveTo>
                  <a:lnTo>
                    <a:pt x="2058" y="0"/>
                  </a:lnTo>
                  <a:lnTo>
                    <a:pt x="2111" y="57"/>
                  </a:lnTo>
                  <a:lnTo>
                    <a:pt x="0" y="1059"/>
                  </a:lnTo>
                  <a:lnTo>
                    <a:pt x="0" y="8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384280" y="4479840"/>
              <a:ext cx="560520" cy="268200"/>
            </a:xfrm>
            <a:custGeom>
              <a:avLst/>
              <a:gdLst/>
              <a:ahLst/>
              <a:rect l="l" t="t" r="r" b="b"/>
              <a:pathLst>
                <a:path w="3177" h="1525">
                  <a:moveTo>
                    <a:pt x="130" y="129"/>
                  </a:moveTo>
                  <a:lnTo>
                    <a:pt x="300" y="259"/>
                  </a:lnTo>
                  <a:lnTo>
                    <a:pt x="3177" y="1489"/>
                  </a:lnTo>
                  <a:lnTo>
                    <a:pt x="3048" y="1525"/>
                  </a:lnTo>
                  <a:lnTo>
                    <a:pt x="150" y="280"/>
                  </a:lnTo>
                  <a:lnTo>
                    <a:pt x="0" y="73"/>
                  </a:lnTo>
                  <a:lnTo>
                    <a:pt x="41" y="0"/>
                  </a:lnTo>
                  <a:lnTo>
                    <a:pt x="13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228760" y="4157640"/>
              <a:ext cx="34920" cy="322200"/>
            </a:xfrm>
            <a:custGeom>
              <a:avLst/>
              <a:gdLst/>
              <a:ahLst/>
              <a:rect l="l" t="t" r="r" b="b"/>
              <a:pathLst>
                <a:path w="195" h="1826">
                  <a:moveTo>
                    <a:pt x="0" y="0"/>
                  </a:moveTo>
                  <a:lnTo>
                    <a:pt x="0" y="1696"/>
                  </a:lnTo>
                  <a:lnTo>
                    <a:pt x="0" y="1761"/>
                  </a:lnTo>
                  <a:lnTo>
                    <a:pt x="195" y="1826"/>
                  </a:lnTo>
                  <a:lnTo>
                    <a:pt x="195" y="1761"/>
                  </a:lnTo>
                  <a:lnTo>
                    <a:pt x="195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228760" y="4191120"/>
              <a:ext cx="42840" cy="301680"/>
            </a:xfrm>
            <a:custGeom>
              <a:avLst/>
              <a:gdLst/>
              <a:ahLst/>
              <a:rect l="l" t="t" r="r" b="b"/>
              <a:pathLst>
                <a:path w="239" h="1704">
                  <a:moveTo>
                    <a:pt x="195" y="0"/>
                  </a:moveTo>
                  <a:lnTo>
                    <a:pt x="130" y="1501"/>
                  </a:lnTo>
                  <a:lnTo>
                    <a:pt x="73" y="1522"/>
                  </a:lnTo>
                  <a:lnTo>
                    <a:pt x="0" y="1522"/>
                  </a:lnTo>
                  <a:lnTo>
                    <a:pt x="0" y="1566"/>
                  </a:lnTo>
                  <a:lnTo>
                    <a:pt x="37" y="1631"/>
                  </a:lnTo>
                  <a:lnTo>
                    <a:pt x="94" y="1688"/>
                  </a:lnTo>
                  <a:lnTo>
                    <a:pt x="186" y="1704"/>
                  </a:lnTo>
                  <a:lnTo>
                    <a:pt x="239" y="155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2274840" y="4168800"/>
              <a:ext cx="69840" cy="330120"/>
            </a:xfrm>
            <a:custGeom>
              <a:avLst/>
              <a:gdLst/>
              <a:ahLst/>
              <a:rect l="l" t="t" r="r" b="b"/>
              <a:pathLst>
                <a:path w="394" h="1874">
                  <a:moveTo>
                    <a:pt x="198" y="0"/>
                  </a:moveTo>
                  <a:lnTo>
                    <a:pt x="264" y="1630"/>
                  </a:lnTo>
                  <a:lnTo>
                    <a:pt x="280" y="1651"/>
                  </a:lnTo>
                  <a:lnTo>
                    <a:pt x="394" y="1695"/>
                  </a:lnTo>
                  <a:lnTo>
                    <a:pt x="394" y="1760"/>
                  </a:lnTo>
                  <a:lnTo>
                    <a:pt x="337" y="1833"/>
                  </a:lnTo>
                  <a:lnTo>
                    <a:pt x="223" y="1874"/>
                  </a:lnTo>
                  <a:lnTo>
                    <a:pt x="56" y="1853"/>
                  </a:lnTo>
                  <a:lnTo>
                    <a:pt x="0" y="1796"/>
                  </a:lnTo>
                  <a:lnTo>
                    <a:pt x="73" y="1760"/>
                  </a:lnTo>
                  <a:lnTo>
                    <a:pt x="94" y="1687"/>
                  </a:lnTo>
                  <a:lnTo>
                    <a:pt x="134" y="6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2217600" y="4111560"/>
              <a:ext cx="103320" cy="68400"/>
            </a:xfrm>
            <a:custGeom>
              <a:avLst/>
              <a:gdLst/>
              <a:ahLst/>
              <a:rect l="l" t="t" r="r" b="b"/>
              <a:pathLst>
                <a:path w="589" h="389">
                  <a:moveTo>
                    <a:pt x="232" y="0"/>
                  </a:moveTo>
                  <a:lnTo>
                    <a:pt x="138" y="37"/>
                  </a:lnTo>
                  <a:lnTo>
                    <a:pt x="8" y="129"/>
                  </a:lnTo>
                  <a:lnTo>
                    <a:pt x="8" y="207"/>
                  </a:lnTo>
                  <a:lnTo>
                    <a:pt x="0" y="259"/>
                  </a:lnTo>
                  <a:lnTo>
                    <a:pt x="65" y="316"/>
                  </a:lnTo>
                  <a:lnTo>
                    <a:pt x="195" y="389"/>
                  </a:lnTo>
                  <a:lnTo>
                    <a:pt x="289" y="389"/>
                  </a:lnTo>
                  <a:lnTo>
                    <a:pt x="398" y="389"/>
                  </a:lnTo>
                  <a:lnTo>
                    <a:pt x="455" y="373"/>
                  </a:lnTo>
                  <a:lnTo>
                    <a:pt x="532" y="316"/>
                  </a:lnTo>
                  <a:lnTo>
                    <a:pt x="589" y="259"/>
                  </a:lnTo>
                  <a:lnTo>
                    <a:pt x="589" y="167"/>
                  </a:lnTo>
                  <a:lnTo>
                    <a:pt x="532" y="93"/>
                  </a:lnTo>
                  <a:lnTo>
                    <a:pt x="455" y="57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2239920" y="4052880"/>
              <a:ext cx="34920" cy="114480"/>
            </a:xfrm>
            <a:custGeom>
              <a:avLst/>
              <a:gdLst/>
              <a:ahLst/>
              <a:rect l="l" t="t" r="r" b="b"/>
              <a:pathLst>
                <a:path w="195" h="653">
                  <a:moveTo>
                    <a:pt x="8" y="0"/>
                  </a:moveTo>
                  <a:lnTo>
                    <a:pt x="0" y="462"/>
                  </a:lnTo>
                  <a:lnTo>
                    <a:pt x="29" y="581"/>
                  </a:lnTo>
                  <a:lnTo>
                    <a:pt x="65" y="617"/>
                  </a:lnTo>
                  <a:lnTo>
                    <a:pt x="159" y="653"/>
                  </a:lnTo>
                  <a:lnTo>
                    <a:pt x="195" y="596"/>
                  </a:lnTo>
                  <a:lnTo>
                    <a:pt x="195" y="13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2263680" y="4065480"/>
              <a:ext cx="34920" cy="101880"/>
            </a:xfrm>
            <a:custGeom>
              <a:avLst/>
              <a:gdLst/>
              <a:ahLst/>
              <a:rect l="l" t="t" r="r" b="b"/>
              <a:pathLst>
                <a:path w="199" h="580">
                  <a:moveTo>
                    <a:pt x="199" y="0"/>
                  </a:moveTo>
                  <a:lnTo>
                    <a:pt x="199" y="455"/>
                  </a:lnTo>
                  <a:lnTo>
                    <a:pt x="195" y="487"/>
                  </a:lnTo>
                  <a:lnTo>
                    <a:pt x="195" y="544"/>
                  </a:lnTo>
                  <a:lnTo>
                    <a:pt x="8" y="580"/>
                  </a:lnTo>
                  <a:lnTo>
                    <a:pt x="0" y="455"/>
                  </a:lnTo>
                  <a:lnTo>
                    <a:pt x="0" y="19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2219400" y="4145040"/>
              <a:ext cx="1440" cy="315720"/>
            </a:xfrm>
            <a:custGeom>
              <a:avLst/>
              <a:gdLst/>
              <a:ahLst/>
              <a:rect l="l" t="t" r="r" b="b"/>
              <a:pathLst>
                <a:path w="0" h="1789">
                  <a:moveTo>
                    <a:pt x="0" y="0"/>
                  </a:moveTo>
                  <a:lnTo>
                    <a:pt x="0" y="1378"/>
                  </a:lnTo>
                  <a:lnTo>
                    <a:pt x="0" y="1789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1952640" y="4148280"/>
              <a:ext cx="196920" cy="296640"/>
            </a:xfrm>
            <a:custGeom>
              <a:avLst/>
              <a:gdLst/>
              <a:ahLst/>
              <a:rect l="l" t="t" r="r" b="b"/>
              <a:pathLst>
                <a:path w="1116" h="1683">
                  <a:moveTo>
                    <a:pt x="5" y="0"/>
                  </a:moveTo>
                  <a:lnTo>
                    <a:pt x="5" y="90"/>
                  </a:lnTo>
                  <a:lnTo>
                    <a:pt x="0" y="247"/>
                  </a:lnTo>
                  <a:lnTo>
                    <a:pt x="1116" y="1683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1536840" y="4525920"/>
              <a:ext cx="642960" cy="71640"/>
            </a:xfrm>
            <a:custGeom>
              <a:avLst/>
              <a:gdLst/>
              <a:ahLst/>
              <a:rect l="l" t="t" r="r" b="b"/>
              <a:pathLst>
                <a:path w="3653" h="406">
                  <a:moveTo>
                    <a:pt x="0" y="0"/>
                  </a:moveTo>
                  <a:lnTo>
                    <a:pt x="289" y="74"/>
                  </a:lnTo>
                  <a:lnTo>
                    <a:pt x="423" y="53"/>
                  </a:lnTo>
                  <a:lnTo>
                    <a:pt x="459" y="0"/>
                  </a:lnTo>
                  <a:lnTo>
                    <a:pt x="3357" y="147"/>
                  </a:lnTo>
                  <a:lnTo>
                    <a:pt x="3559" y="219"/>
                  </a:lnTo>
                  <a:lnTo>
                    <a:pt x="3637" y="313"/>
                  </a:lnTo>
                  <a:lnTo>
                    <a:pt x="3653" y="406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136600" y="4595760"/>
              <a:ext cx="811440" cy="357120"/>
            </a:xfrm>
            <a:custGeom>
              <a:avLst/>
              <a:gdLst/>
              <a:ahLst/>
              <a:rect l="l" t="t" r="r" b="b"/>
              <a:pathLst>
                <a:path w="4594" h="2024">
                  <a:moveTo>
                    <a:pt x="0" y="2024"/>
                  </a:moveTo>
                  <a:lnTo>
                    <a:pt x="97" y="2004"/>
                  </a:lnTo>
                  <a:lnTo>
                    <a:pt x="198" y="1959"/>
                  </a:lnTo>
                  <a:lnTo>
                    <a:pt x="198" y="1761"/>
                  </a:lnTo>
                  <a:lnTo>
                    <a:pt x="787" y="130"/>
                  </a:lnTo>
                  <a:lnTo>
                    <a:pt x="958" y="69"/>
                  </a:lnTo>
                  <a:lnTo>
                    <a:pt x="1124" y="32"/>
                  </a:lnTo>
                  <a:lnTo>
                    <a:pt x="1444" y="0"/>
                  </a:lnTo>
                  <a:lnTo>
                    <a:pt x="4200" y="1108"/>
                  </a:lnTo>
                  <a:lnTo>
                    <a:pt x="4265" y="1172"/>
                  </a:lnTo>
                  <a:lnTo>
                    <a:pt x="4432" y="1261"/>
                  </a:lnTo>
                  <a:lnTo>
                    <a:pt x="4594" y="1306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438280" y="4363920"/>
              <a:ext cx="371520" cy="150840"/>
            </a:xfrm>
            <a:custGeom>
              <a:avLst/>
              <a:gdLst/>
              <a:ahLst/>
              <a:rect l="l" t="t" r="r" b="b"/>
              <a:pathLst>
                <a:path w="2107" h="852">
                  <a:moveTo>
                    <a:pt x="0" y="852"/>
                  </a:moveTo>
                  <a:lnTo>
                    <a:pt x="1900" y="0"/>
                  </a:lnTo>
                  <a:lnTo>
                    <a:pt x="2107" y="0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241720" y="4052880"/>
              <a:ext cx="10800" cy="108000"/>
            </a:xfrm>
            <a:custGeom>
              <a:avLst/>
              <a:gdLst/>
              <a:ahLst/>
              <a:rect l="l" t="t" r="r" b="b"/>
              <a:pathLst>
                <a:path w="65" h="617">
                  <a:moveTo>
                    <a:pt x="8" y="0"/>
                  </a:moveTo>
                  <a:lnTo>
                    <a:pt x="0" y="462"/>
                  </a:lnTo>
                  <a:lnTo>
                    <a:pt x="28" y="581"/>
                  </a:lnTo>
                  <a:lnTo>
                    <a:pt x="65" y="617"/>
                  </a:lnTo>
                </a:path>
              </a:pathLst>
            </a:custGeom>
            <a:noFill/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1465200" y="2505240"/>
              <a:ext cx="1584360" cy="1582560"/>
            </a:xfrm>
            <a:custGeom>
              <a:avLst/>
              <a:gdLst/>
              <a:ahLst/>
              <a:rect l="l" t="t" r="r" b="b"/>
              <a:pathLst>
                <a:path w="8985" h="8976">
                  <a:moveTo>
                    <a:pt x="5512" y="8976"/>
                  </a:moveTo>
                  <a:lnTo>
                    <a:pt x="2293" y="8741"/>
                  </a:lnTo>
                  <a:lnTo>
                    <a:pt x="1054" y="8620"/>
                  </a:lnTo>
                  <a:lnTo>
                    <a:pt x="584" y="8469"/>
                  </a:lnTo>
                  <a:lnTo>
                    <a:pt x="308" y="8271"/>
                  </a:lnTo>
                  <a:lnTo>
                    <a:pt x="194" y="8060"/>
                  </a:lnTo>
                  <a:lnTo>
                    <a:pt x="60" y="7703"/>
                  </a:lnTo>
                  <a:lnTo>
                    <a:pt x="0" y="7341"/>
                  </a:lnTo>
                  <a:lnTo>
                    <a:pt x="0" y="6494"/>
                  </a:lnTo>
                  <a:lnTo>
                    <a:pt x="194" y="5646"/>
                  </a:lnTo>
                  <a:lnTo>
                    <a:pt x="482" y="5285"/>
                  </a:lnTo>
                  <a:lnTo>
                    <a:pt x="730" y="5086"/>
                  </a:lnTo>
                  <a:lnTo>
                    <a:pt x="929" y="4960"/>
                  </a:lnTo>
                  <a:lnTo>
                    <a:pt x="1128" y="4863"/>
                  </a:lnTo>
                  <a:lnTo>
                    <a:pt x="1424" y="4790"/>
                  </a:lnTo>
                  <a:lnTo>
                    <a:pt x="1700" y="4766"/>
                  </a:lnTo>
                  <a:lnTo>
                    <a:pt x="2195" y="4766"/>
                  </a:lnTo>
                  <a:lnTo>
                    <a:pt x="2666" y="4815"/>
                  </a:lnTo>
                  <a:lnTo>
                    <a:pt x="3936" y="4993"/>
                  </a:lnTo>
                  <a:lnTo>
                    <a:pt x="5706" y="5252"/>
                  </a:lnTo>
                  <a:lnTo>
                    <a:pt x="5576" y="4729"/>
                  </a:lnTo>
                  <a:lnTo>
                    <a:pt x="5836" y="3947"/>
                  </a:lnTo>
                  <a:lnTo>
                    <a:pt x="6493" y="1922"/>
                  </a:lnTo>
                  <a:lnTo>
                    <a:pt x="6757" y="1399"/>
                  </a:lnTo>
                  <a:lnTo>
                    <a:pt x="7151" y="352"/>
                  </a:lnTo>
                  <a:lnTo>
                    <a:pt x="7228" y="219"/>
                  </a:lnTo>
                  <a:lnTo>
                    <a:pt x="7301" y="122"/>
                  </a:lnTo>
                  <a:lnTo>
                    <a:pt x="7475" y="28"/>
                  </a:lnTo>
                  <a:lnTo>
                    <a:pt x="7724" y="0"/>
                  </a:lnTo>
                  <a:lnTo>
                    <a:pt x="8072" y="0"/>
                  </a:lnTo>
                  <a:lnTo>
                    <a:pt x="8271" y="48"/>
                  </a:lnTo>
                  <a:lnTo>
                    <a:pt x="8462" y="93"/>
                  </a:lnTo>
                  <a:lnTo>
                    <a:pt x="8985" y="552"/>
                  </a:lnTo>
                  <a:lnTo>
                    <a:pt x="8985" y="1269"/>
                  </a:lnTo>
                  <a:lnTo>
                    <a:pt x="7082" y="8583"/>
                  </a:lnTo>
                  <a:lnTo>
                    <a:pt x="6757" y="8976"/>
                  </a:lnTo>
                  <a:lnTo>
                    <a:pt x="5512" y="8976"/>
                  </a:lnTo>
                  <a:close/>
                </a:path>
              </a:pathLst>
            </a:custGeom>
            <a:solidFill>
              <a:srgbClr val="5ffb6a"/>
            </a:solidFill>
            <a:ln w="0">
              <a:solidFill>
                <a:srgbClr val="5ffb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1646280" y="2577960"/>
              <a:ext cx="1125360" cy="1476360"/>
            </a:xfrm>
            <a:custGeom>
              <a:avLst/>
              <a:gdLst/>
              <a:ahLst/>
              <a:rect l="l" t="t" r="r" b="b"/>
              <a:pathLst>
                <a:path w="6373" h="8372">
                  <a:moveTo>
                    <a:pt x="4932" y="8372"/>
                  </a:moveTo>
                  <a:lnTo>
                    <a:pt x="4984" y="8172"/>
                  </a:lnTo>
                  <a:lnTo>
                    <a:pt x="5004" y="7970"/>
                  </a:lnTo>
                  <a:lnTo>
                    <a:pt x="5008" y="7779"/>
                  </a:lnTo>
                  <a:lnTo>
                    <a:pt x="4932" y="7581"/>
                  </a:lnTo>
                  <a:lnTo>
                    <a:pt x="4635" y="7260"/>
                  </a:lnTo>
                  <a:lnTo>
                    <a:pt x="4152" y="6923"/>
                  </a:lnTo>
                  <a:lnTo>
                    <a:pt x="3235" y="6404"/>
                  </a:lnTo>
                  <a:lnTo>
                    <a:pt x="2577" y="5946"/>
                  </a:lnTo>
                  <a:lnTo>
                    <a:pt x="1855" y="5358"/>
                  </a:lnTo>
                  <a:lnTo>
                    <a:pt x="1559" y="5138"/>
                  </a:lnTo>
                  <a:lnTo>
                    <a:pt x="1267" y="5029"/>
                  </a:lnTo>
                  <a:lnTo>
                    <a:pt x="865" y="4989"/>
                  </a:lnTo>
                  <a:lnTo>
                    <a:pt x="618" y="4989"/>
                  </a:lnTo>
                  <a:lnTo>
                    <a:pt x="394" y="5062"/>
                  </a:lnTo>
                  <a:lnTo>
                    <a:pt x="320" y="5163"/>
                  </a:lnTo>
                  <a:lnTo>
                    <a:pt x="150" y="5617"/>
                  </a:lnTo>
                  <a:lnTo>
                    <a:pt x="98" y="5804"/>
                  </a:lnTo>
                  <a:lnTo>
                    <a:pt x="73" y="6198"/>
                  </a:lnTo>
                  <a:lnTo>
                    <a:pt x="0" y="5828"/>
                  </a:lnTo>
                  <a:lnTo>
                    <a:pt x="24" y="5483"/>
                  </a:lnTo>
                  <a:lnTo>
                    <a:pt x="86" y="5163"/>
                  </a:lnTo>
                  <a:lnTo>
                    <a:pt x="195" y="4940"/>
                  </a:lnTo>
                  <a:lnTo>
                    <a:pt x="369" y="4766"/>
                  </a:lnTo>
                  <a:lnTo>
                    <a:pt x="520" y="4693"/>
                  </a:lnTo>
                  <a:lnTo>
                    <a:pt x="743" y="4570"/>
                  </a:lnTo>
                  <a:lnTo>
                    <a:pt x="942" y="4519"/>
                  </a:lnTo>
                  <a:lnTo>
                    <a:pt x="1238" y="4445"/>
                  </a:lnTo>
                  <a:lnTo>
                    <a:pt x="1661" y="4441"/>
                  </a:lnTo>
                  <a:lnTo>
                    <a:pt x="2180" y="4470"/>
                  </a:lnTo>
                  <a:lnTo>
                    <a:pt x="4282" y="4770"/>
                  </a:lnTo>
                  <a:lnTo>
                    <a:pt x="4708" y="4838"/>
                  </a:lnTo>
                  <a:lnTo>
                    <a:pt x="4563" y="4542"/>
                  </a:lnTo>
                  <a:lnTo>
                    <a:pt x="4538" y="4323"/>
                  </a:lnTo>
                  <a:lnTo>
                    <a:pt x="4538" y="4076"/>
                  </a:lnTo>
                  <a:lnTo>
                    <a:pt x="4587" y="3829"/>
                  </a:lnTo>
                  <a:lnTo>
                    <a:pt x="4708" y="3334"/>
                  </a:lnTo>
                  <a:lnTo>
                    <a:pt x="4859" y="2838"/>
                  </a:lnTo>
                  <a:lnTo>
                    <a:pt x="5008" y="2348"/>
                  </a:lnTo>
                  <a:lnTo>
                    <a:pt x="5334" y="1504"/>
                  </a:lnTo>
                  <a:lnTo>
                    <a:pt x="5630" y="840"/>
                  </a:lnTo>
                  <a:lnTo>
                    <a:pt x="6100" y="0"/>
                  </a:lnTo>
                  <a:lnTo>
                    <a:pt x="6125" y="791"/>
                  </a:lnTo>
                  <a:lnTo>
                    <a:pt x="6348" y="1480"/>
                  </a:lnTo>
                  <a:lnTo>
                    <a:pt x="6373" y="2372"/>
                  </a:lnTo>
                  <a:lnTo>
                    <a:pt x="6271" y="2791"/>
                  </a:lnTo>
                  <a:lnTo>
                    <a:pt x="6023" y="3459"/>
                  </a:lnTo>
                  <a:lnTo>
                    <a:pt x="5751" y="4246"/>
                  </a:lnTo>
                  <a:lnTo>
                    <a:pt x="5398" y="5553"/>
                  </a:lnTo>
                  <a:lnTo>
                    <a:pt x="5268" y="6664"/>
                  </a:lnTo>
                  <a:lnTo>
                    <a:pt x="5306" y="7309"/>
                  </a:lnTo>
                  <a:lnTo>
                    <a:pt x="5334" y="7776"/>
                  </a:lnTo>
                  <a:lnTo>
                    <a:pt x="5268" y="8100"/>
                  </a:lnTo>
                  <a:lnTo>
                    <a:pt x="5134" y="8298"/>
                  </a:lnTo>
                  <a:lnTo>
                    <a:pt x="4932" y="8372"/>
                  </a:lnTo>
                  <a:close/>
                </a:path>
              </a:pathLst>
            </a:custGeom>
            <a:solidFill>
              <a:srgbClr val="40b317"/>
            </a:solidFill>
            <a:ln w="0">
              <a:solidFill>
                <a:srgbClr val="007f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1454040" y="3384720"/>
              <a:ext cx="214560" cy="644400"/>
            </a:xfrm>
            <a:custGeom>
              <a:avLst/>
              <a:gdLst/>
              <a:ahLst/>
              <a:rect l="l" t="t" r="r" b="b"/>
              <a:pathLst>
                <a:path w="1214" h="3655">
                  <a:moveTo>
                    <a:pt x="918" y="0"/>
                  </a:moveTo>
                  <a:lnTo>
                    <a:pt x="694" y="394"/>
                  </a:lnTo>
                  <a:lnTo>
                    <a:pt x="569" y="913"/>
                  </a:lnTo>
                  <a:lnTo>
                    <a:pt x="520" y="1376"/>
                  </a:lnTo>
                  <a:lnTo>
                    <a:pt x="520" y="1766"/>
                  </a:lnTo>
                  <a:lnTo>
                    <a:pt x="585" y="2094"/>
                  </a:lnTo>
                  <a:lnTo>
                    <a:pt x="718" y="2289"/>
                  </a:lnTo>
                  <a:lnTo>
                    <a:pt x="914" y="2487"/>
                  </a:lnTo>
                  <a:lnTo>
                    <a:pt x="1112" y="2553"/>
                  </a:lnTo>
                  <a:lnTo>
                    <a:pt x="1214" y="2617"/>
                  </a:lnTo>
                  <a:lnTo>
                    <a:pt x="1092" y="2666"/>
                  </a:lnTo>
                  <a:lnTo>
                    <a:pt x="967" y="2763"/>
                  </a:lnTo>
                  <a:lnTo>
                    <a:pt x="893" y="2840"/>
                  </a:lnTo>
                  <a:lnTo>
                    <a:pt x="841" y="2987"/>
                  </a:lnTo>
                  <a:lnTo>
                    <a:pt x="848" y="3206"/>
                  </a:lnTo>
                  <a:lnTo>
                    <a:pt x="893" y="3307"/>
                  </a:lnTo>
                  <a:lnTo>
                    <a:pt x="942" y="3408"/>
                  </a:lnTo>
                  <a:lnTo>
                    <a:pt x="1064" y="3530"/>
                  </a:lnTo>
                  <a:lnTo>
                    <a:pt x="1190" y="3655"/>
                  </a:lnTo>
                  <a:lnTo>
                    <a:pt x="967" y="3579"/>
                  </a:lnTo>
                  <a:lnTo>
                    <a:pt x="743" y="3530"/>
                  </a:lnTo>
                  <a:lnTo>
                    <a:pt x="544" y="3432"/>
                  </a:lnTo>
                  <a:lnTo>
                    <a:pt x="321" y="3234"/>
                  </a:lnTo>
                  <a:lnTo>
                    <a:pt x="199" y="3064"/>
                  </a:lnTo>
                  <a:lnTo>
                    <a:pt x="122" y="2889"/>
                  </a:lnTo>
                  <a:lnTo>
                    <a:pt x="24" y="2491"/>
                  </a:lnTo>
                  <a:lnTo>
                    <a:pt x="0" y="2098"/>
                  </a:lnTo>
                  <a:lnTo>
                    <a:pt x="0" y="1628"/>
                  </a:lnTo>
                  <a:lnTo>
                    <a:pt x="49" y="1258"/>
                  </a:lnTo>
                  <a:lnTo>
                    <a:pt x="122" y="913"/>
                  </a:lnTo>
                  <a:lnTo>
                    <a:pt x="199" y="715"/>
                  </a:lnTo>
                  <a:lnTo>
                    <a:pt x="321" y="517"/>
                  </a:lnTo>
                  <a:lnTo>
                    <a:pt x="496" y="297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40b317"/>
            </a:solidFill>
            <a:ln w="0">
              <a:solidFill>
                <a:srgbClr val="007f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2622600" y="2508120"/>
              <a:ext cx="426960" cy="1648080"/>
            </a:xfrm>
            <a:custGeom>
              <a:avLst/>
              <a:gdLst/>
              <a:ahLst/>
              <a:rect l="l" t="t" r="r" b="b"/>
              <a:pathLst>
                <a:path w="2427" h="9334">
                  <a:moveTo>
                    <a:pt x="2111" y="195"/>
                  </a:moveTo>
                  <a:lnTo>
                    <a:pt x="2427" y="528"/>
                  </a:lnTo>
                  <a:lnTo>
                    <a:pt x="2363" y="1440"/>
                  </a:lnTo>
                  <a:lnTo>
                    <a:pt x="723" y="8624"/>
                  </a:lnTo>
                  <a:lnTo>
                    <a:pt x="199" y="9334"/>
                  </a:lnTo>
                  <a:lnTo>
                    <a:pt x="0" y="9309"/>
                  </a:lnTo>
                  <a:lnTo>
                    <a:pt x="89" y="8887"/>
                  </a:lnTo>
                  <a:lnTo>
                    <a:pt x="1445" y="3075"/>
                  </a:lnTo>
                  <a:lnTo>
                    <a:pt x="1445" y="3075"/>
                  </a:lnTo>
                  <a:lnTo>
                    <a:pt x="1543" y="2613"/>
                  </a:lnTo>
                  <a:lnTo>
                    <a:pt x="1697" y="2113"/>
                  </a:lnTo>
                  <a:lnTo>
                    <a:pt x="1904" y="1634"/>
                  </a:lnTo>
                  <a:lnTo>
                    <a:pt x="2115" y="1383"/>
                  </a:lnTo>
                  <a:lnTo>
                    <a:pt x="2164" y="1286"/>
                  </a:lnTo>
                  <a:lnTo>
                    <a:pt x="2241" y="962"/>
                  </a:lnTo>
                  <a:lnTo>
                    <a:pt x="2237" y="852"/>
                  </a:lnTo>
                  <a:lnTo>
                    <a:pt x="2196" y="637"/>
                  </a:lnTo>
                  <a:lnTo>
                    <a:pt x="2160" y="532"/>
                  </a:lnTo>
                  <a:lnTo>
                    <a:pt x="2034" y="321"/>
                  </a:lnTo>
                  <a:lnTo>
                    <a:pt x="1888" y="170"/>
                  </a:lnTo>
                  <a:lnTo>
                    <a:pt x="1688" y="0"/>
                  </a:lnTo>
                  <a:lnTo>
                    <a:pt x="2111" y="195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2323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2657520" y="2517840"/>
              <a:ext cx="423720" cy="1639800"/>
            </a:xfrm>
            <a:custGeom>
              <a:avLst/>
              <a:gdLst/>
              <a:ahLst/>
              <a:rect l="l" t="t" r="r" b="b"/>
              <a:pathLst>
                <a:path w="2403" h="9296">
                  <a:moveTo>
                    <a:pt x="1936" y="98"/>
                  </a:moveTo>
                  <a:lnTo>
                    <a:pt x="2034" y="170"/>
                  </a:lnTo>
                  <a:lnTo>
                    <a:pt x="2192" y="357"/>
                  </a:lnTo>
                  <a:lnTo>
                    <a:pt x="2310" y="576"/>
                  </a:lnTo>
                  <a:lnTo>
                    <a:pt x="2379" y="815"/>
                  </a:lnTo>
                  <a:lnTo>
                    <a:pt x="2403" y="1062"/>
                  </a:lnTo>
                  <a:lnTo>
                    <a:pt x="2370" y="1306"/>
                  </a:lnTo>
                  <a:lnTo>
                    <a:pt x="2289" y="1541"/>
                  </a:lnTo>
                  <a:lnTo>
                    <a:pt x="2228" y="1651"/>
                  </a:lnTo>
                  <a:lnTo>
                    <a:pt x="918" y="7727"/>
                  </a:lnTo>
                  <a:lnTo>
                    <a:pt x="848" y="7983"/>
                  </a:lnTo>
                  <a:lnTo>
                    <a:pt x="703" y="8351"/>
                  </a:lnTo>
                  <a:lnTo>
                    <a:pt x="613" y="8526"/>
                  </a:lnTo>
                  <a:lnTo>
                    <a:pt x="398" y="8859"/>
                  </a:lnTo>
                  <a:lnTo>
                    <a:pt x="273" y="9013"/>
                  </a:lnTo>
                  <a:lnTo>
                    <a:pt x="0" y="9296"/>
                  </a:lnTo>
                  <a:lnTo>
                    <a:pt x="0" y="9296"/>
                  </a:lnTo>
                  <a:lnTo>
                    <a:pt x="309" y="8047"/>
                  </a:lnTo>
                  <a:lnTo>
                    <a:pt x="601" y="6802"/>
                  </a:lnTo>
                  <a:lnTo>
                    <a:pt x="1157" y="4296"/>
                  </a:lnTo>
                  <a:lnTo>
                    <a:pt x="1412" y="3038"/>
                  </a:lnTo>
                  <a:lnTo>
                    <a:pt x="1441" y="2892"/>
                  </a:lnTo>
                  <a:lnTo>
                    <a:pt x="1465" y="2815"/>
                  </a:lnTo>
                  <a:lnTo>
                    <a:pt x="1567" y="2507"/>
                  </a:lnTo>
                  <a:lnTo>
                    <a:pt x="1810" y="1906"/>
                  </a:lnTo>
                  <a:lnTo>
                    <a:pt x="2098" y="1326"/>
                  </a:lnTo>
                  <a:lnTo>
                    <a:pt x="2131" y="1217"/>
                  </a:lnTo>
                  <a:lnTo>
                    <a:pt x="2164" y="989"/>
                  </a:lnTo>
                  <a:lnTo>
                    <a:pt x="2159" y="876"/>
                  </a:lnTo>
                  <a:lnTo>
                    <a:pt x="2115" y="653"/>
                  </a:lnTo>
                  <a:lnTo>
                    <a:pt x="1961" y="321"/>
                  </a:lnTo>
                  <a:lnTo>
                    <a:pt x="1883" y="223"/>
                  </a:lnTo>
                  <a:lnTo>
                    <a:pt x="1786" y="121"/>
                  </a:lnTo>
                  <a:lnTo>
                    <a:pt x="1661" y="0"/>
                  </a:lnTo>
                  <a:lnTo>
                    <a:pt x="1936" y="98"/>
                  </a:lnTo>
                  <a:close/>
                </a:path>
              </a:pathLst>
            </a:custGeom>
            <a:solidFill>
              <a:srgbClr val="40b317"/>
            </a:solidFill>
            <a:ln w="0">
              <a:solidFill>
                <a:srgbClr val="007f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603440" y="3819600"/>
              <a:ext cx="952560" cy="144360"/>
            </a:xfrm>
            <a:custGeom>
              <a:avLst/>
              <a:gdLst/>
              <a:ahLst/>
              <a:rect l="l" t="t" r="r" b="b"/>
              <a:pathLst>
                <a:path w="5406" h="815">
                  <a:moveTo>
                    <a:pt x="28" y="815"/>
                  </a:moveTo>
                  <a:lnTo>
                    <a:pt x="0" y="693"/>
                  </a:lnTo>
                  <a:lnTo>
                    <a:pt x="28" y="494"/>
                  </a:lnTo>
                  <a:lnTo>
                    <a:pt x="150" y="295"/>
                  </a:lnTo>
                  <a:lnTo>
                    <a:pt x="251" y="149"/>
                  </a:lnTo>
                  <a:lnTo>
                    <a:pt x="446" y="76"/>
                  </a:lnTo>
                  <a:lnTo>
                    <a:pt x="669" y="0"/>
                  </a:lnTo>
                  <a:lnTo>
                    <a:pt x="1091" y="0"/>
                  </a:lnTo>
                  <a:lnTo>
                    <a:pt x="1489" y="51"/>
                  </a:lnTo>
                  <a:lnTo>
                    <a:pt x="1712" y="76"/>
                  </a:lnTo>
                  <a:lnTo>
                    <a:pt x="2008" y="125"/>
                  </a:lnTo>
                  <a:lnTo>
                    <a:pt x="2334" y="174"/>
                  </a:lnTo>
                  <a:lnTo>
                    <a:pt x="2581" y="198"/>
                  </a:lnTo>
                  <a:lnTo>
                    <a:pt x="2804" y="222"/>
                  </a:lnTo>
                  <a:lnTo>
                    <a:pt x="3100" y="271"/>
                  </a:lnTo>
                  <a:lnTo>
                    <a:pt x="3474" y="372"/>
                  </a:lnTo>
                  <a:lnTo>
                    <a:pt x="3722" y="421"/>
                  </a:lnTo>
                  <a:lnTo>
                    <a:pt x="4541" y="566"/>
                  </a:lnTo>
                  <a:lnTo>
                    <a:pt x="4959" y="644"/>
                  </a:lnTo>
                  <a:lnTo>
                    <a:pt x="5211" y="717"/>
                  </a:lnTo>
                  <a:lnTo>
                    <a:pt x="5406" y="8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663560" y="3427560"/>
              <a:ext cx="871560" cy="431640"/>
            </a:xfrm>
            <a:custGeom>
              <a:avLst/>
              <a:gdLst/>
              <a:ahLst/>
              <a:rect l="l" t="t" r="r" b="b"/>
              <a:pathLst>
                <a:path w="4935" h="2446">
                  <a:moveTo>
                    <a:pt x="1810" y="175"/>
                  </a:moveTo>
                  <a:lnTo>
                    <a:pt x="1489" y="102"/>
                  </a:lnTo>
                  <a:lnTo>
                    <a:pt x="1339" y="53"/>
                  </a:lnTo>
                  <a:lnTo>
                    <a:pt x="1189" y="24"/>
                  </a:lnTo>
                  <a:lnTo>
                    <a:pt x="1043" y="0"/>
                  </a:lnTo>
                  <a:lnTo>
                    <a:pt x="869" y="0"/>
                  </a:lnTo>
                  <a:lnTo>
                    <a:pt x="791" y="0"/>
                  </a:lnTo>
                  <a:lnTo>
                    <a:pt x="620" y="0"/>
                  </a:lnTo>
                  <a:lnTo>
                    <a:pt x="495" y="53"/>
                  </a:lnTo>
                  <a:lnTo>
                    <a:pt x="397" y="102"/>
                  </a:lnTo>
                  <a:lnTo>
                    <a:pt x="271" y="175"/>
                  </a:lnTo>
                  <a:lnTo>
                    <a:pt x="150" y="273"/>
                  </a:lnTo>
                  <a:lnTo>
                    <a:pt x="48" y="471"/>
                  </a:lnTo>
                  <a:lnTo>
                    <a:pt x="0" y="839"/>
                  </a:lnTo>
                  <a:lnTo>
                    <a:pt x="0" y="1335"/>
                  </a:lnTo>
                  <a:lnTo>
                    <a:pt x="48" y="1679"/>
                  </a:lnTo>
                  <a:lnTo>
                    <a:pt x="126" y="1781"/>
                  </a:lnTo>
                  <a:lnTo>
                    <a:pt x="271" y="1854"/>
                  </a:lnTo>
                  <a:lnTo>
                    <a:pt x="543" y="1879"/>
                  </a:lnTo>
                  <a:lnTo>
                    <a:pt x="941" y="1879"/>
                  </a:lnTo>
                  <a:lnTo>
                    <a:pt x="1563" y="1879"/>
                  </a:lnTo>
                  <a:lnTo>
                    <a:pt x="1960" y="1879"/>
                  </a:lnTo>
                  <a:lnTo>
                    <a:pt x="2382" y="1879"/>
                  </a:lnTo>
                  <a:lnTo>
                    <a:pt x="2853" y="1927"/>
                  </a:lnTo>
                  <a:lnTo>
                    <a:pt x="3198" y="1975"/>
                  </a:lnTo>
                  <a:lnTo>
                    <a:pt x="3470" y="2077"/>
                  </a:lnTo>
                  <a:lnTo>
                    <a:pt x="3819" y="2175"/>
                  </a:lnTo>
                  <a:lnTo>
                    <a:pt x="4314" y="2224"/>
                  </a:lnTo>
                  <a:lnTo>
                    <a:pt x="4610" y="2300"/>
                  </a:lnTo>
                  <a:lnTo>
                    <a:pt x="4834" y="2398"/>
                  </a:lnTo>
                  <a:lnTo>
                    <a:pt x="4935" y="24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2577960" y="2513160"/>
              <a:ext cx="376200" cy="1428480"/>
            </a:xfrm>
            <a:custGeom>
              <a:avLst/>
              <a:gdLst/>
              <a:ahLst/>
              <a:rect l="l" t="t" r="r" b="b"/>
              <a:pathLst>
                <a:path w="2135" h="8101">
                  <a:moveTo>
                    <a:pt x="1189" y="0"/>
                  </a:moveTo>
                  <a:lnTo>
                    <a:pt x="1413" y="0"/>
                  </a:lnTo>
                  <a:lnTo>
                    <a:pt x="1635" y="74"/>
                  </a:lnTo>
                  <a:lnTo>
                    <a:pt x="1810" y="146"/>
                  </a:lnTo>
                  <a:lnTo>
                    <a:pt x="1911" y="248"/>
                  </a:lnTo>
                  <a:lnTo>
                    <a:pt x="2082" y="544"/>
                  </a:lnTo>
                  <a:lnTo>
                    <a:pt x="2135" y="691"/>
                  </a:lnTo>
                  <a:lnTo>
                    <a:pt x="2107" y="913"/>
                  </a:lnTo>
                  <a:lnTo>
                    <a:pt x="2033" y="1087"/>
                  </a:lnTo>
                  <a:lnTo>
                    <a:pt x="1883" y="1234"/>
                  </a:lnTo>
                  <a:lnTo>
                    <a:pt x="1587" y="1704"/>
                  </a:lnTo>
                  <a:lnTo>
                    <a:pt x="1364" y="2074"/>
                  </a:lnTo>
                  <a:lnTo>
                    <a:pt x="1115" y="2642"/>
                  </a:lnTo>
                  <a:lnTo>
                    <a:pt x="966" y="3233"/>
                  </a:lnTo>
                  <a:lnTo>
                    <a:pt x="795" y="3753"/>
                  </a:lnTo>
                  <a:lnTo>
                    <a:pt x="645" y="4321"/>
                  </a:lnTo>
                  <a:lnTo>
                    <a:pt x="446" y="4815"/>
                  </a:lnTo>
                  <a:lnTo>
                    <a:pt x="321" y="5261"/>
                  </a:lnTo>
                  <a:lnTo>
                    <a:pt x="174" y="5752"/>
                  </a:lnTo>
                  <a:lnTo>
                    <a:pt x="48" y="6320"/>
                  </a:lnTo>
                  <a:lnTo>
                    <a:pt x="25" y="6669"/>
                  </a:lnTo>
                  <a:lnTo>
                    <a:pt x="0" y="7261"/>
                  </a:lnTo>
                  <a:lnTo>
                    <a:pt x="25" y="7878"/>
                  </a:lnTo>
                  <a:lnTo>
                    <a:pt x="25" y="8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2538360" y="2625840"/>
              <a:ext cx="228600" cy="1176120"/>
            </a:xfrm>
            <a:custGeom>
              <a:avLst/>
              <a:gdLst/>
              <a:ahLst/>
              <a:rect l="l" t="t" r="r" b="b"/>
              <a:pathLst>
                <a:path w="1291" h="6668">
                  <a:moveTo>
                    <a:pt x="1043" y="0"/>
                  </a:moveTo>
                  <a:lnTo>
                    <a:pt x="1092" y="592"/>
                  </a:lnTo>
                  <a:lnTo>
                    <a:pt x="1165" y="912"/>
                  </a:lnTo>
                  <a:lnTo>
                    <a:pt x="1243" y="1135"/>
                  </a:lnTo>
                  <a:lnTo>
                    <a:pt x="1291" y="1432"/>
                  </a:lnTo>
                  <a:lnTo>
                    <a:pt x="1291" y="1703"/>
                  </a:lnTo>
                  <a:lnTo>
                    <a:pt x="1243" y="2076"/>
                  </a:lnTo>
                  <a:lnTo>
                    <a:pt x="1043" y="2519"/>
                  </a:lnTo>
                  <a:lnTo>
                    <a:pt x="869" y="2815"/>
                  </a:lnTo>
                  <a:lnTo>
                    <a:pt x="545" y="3260"/>
                  </a:lnTo>
                  <a:lnTo>
                    <a:pt x="374" y="3605"/>
                  </a:lnTo>
                  <a:lnTo>
                    <a:pt x="200" y="4173"/>
                  </a:lnTo>
                  <a:lnTo>
                    <a:pt x="98" y="4790"/>
                  </a:lnTo>
                  <a:lnTo>
                    <a:pt x="49" y="5309"/>
                  </a:lnTo>
                  <a:lnTo>
                    <a:pt x="0" y="5902"/>
                  </a:lnTo>
                  <a:lnTo>
                    <a:pt x="74" y="6396"/>
                  </a:lnTo>
                  <a:lnTo>
                    <a:pt x="126" y="66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2503440" y="2735280"/>
              <a:ext cx="223920" cy="849240"/>
            </a:xfrm>
            <a:custGeom>
              <a:avLst/>
              <a:gdLst/>
              <a:ahLst/>
              <a:rect l="l" t="t" r="r" b="b"/>
              <a:pathLst>
                <a:path w="1266" h="4819">
                  <a:moveTo>
                    <a:pt x="1241" y="0"/>
                  </a:moveTo>
                  <a:lnTo>
                    <a:pt x="1266" y="200"/>
                  </a:lnTo>
                  <a:lnTo>
                    <a:pt x="1266" y="374"/>
                  </a:lnTo>
                  <a:lnTo>
                    <a:pt x="1217" y="568"/>
                  </a:lnTo>
                  <a:lnTo>
                    <a:pt x="1092" y="817"/>
                  </a:lnTo>
                  <a:lnTo>
                    <a:pt x="892" y="1064"/>
                  </a:lnTo>
                  <a:lnTo>
                    <a:pt x="694" y="1336"/>
                  </a:lnTo>
                  <a:lnTo>
                    <a:pt x="572" y="1607"/>
                  </a:lnTo>
                  <a:lnTo>
                    <a:pt x="470" y="1830"/>
                  </a:lnTo>
                  <a:lnTo>
                    <a:pt x="349" y="2151"/>
                  </a:lnTo>
                  <a:lnTo>
                    <a:pt x="223" y="2496"/>
                  </a:lnTo>
                  <a:lnTo>
                    <a:pt x="149" y="2840"/>
                  </a:lnTo>
                  <a:lnTo>
                    <a:pt x="73" y="3238"/>
                  </a:lnTo>
                  <a:lnTo>
                    <a:pt x="49" y="3583"/>
                  </a:lnTo>
                  <a:lnTo>
                    <a:pt x="24" y="3830"/>
                  </a:lnTo>
                  <a:lnTo>
                    <a:pt x="0" y="4126"/>
                  </a:lnTo>
                  <a:lnTo>
                    <a:pt x="24" y="4572"/>
                  </a:lnTo>
                  <a:lnTo>
                    <a:pt x="125" y="48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785960" y="3454560"/>
              <a:ext cx="941400" cy="701640"/>
            </a:xfrm>
            <a:custGeom>
              <a:avLst/>
              <a:gdLst/>
              <a:ahLst/>
              <a:rect l="l" t="t" r="r" b="b"/>
              <a:pathLst>
                <a:path w="5333" h="3976">
                  <a:moveTo>
                    <a:pt x="4663" y="3976"/>
                  </a:moveTo>
                  <a:lnTo>
                    <a:pt x="669" y="3400"/>
                  </a:lnTo>
                  <a:lnTo>
                    <a:pt x="446" y="3359"/>
                  </a:lnTo>
                  <a:lnTo>
                    <a:pt x="175" y="3208"/>
                  </a:lnTo>
                  <a:lnTo>
                    <a:pt x="48" y="3038"/>
                  </a:lnTo>
                  <a:lnTo>
                    <a:pt x="0" y="2864"/>
                  </a:lnTo>
                  <a:lnTo>
                    <a:pt x="0" y="2617"/>
                  </a:lnTo>
                  <a:lnTo>
                    <a:pt x="48" y="2495"/>
                  </a:lnTo>
                  <a:lnTo>
                    <a:pt x="97" y="2321"/>
                  </a:lnTo>
                  <a:lnTo>
                    <a:pt x="669" y="523"/>
                  </a:lnTo>
                  <a:lnTo>
                    <a:pt x="893" y="146"/>
                  </a:lnTo>
                  <a:lnTo>
                    <a:pt x="1067" y="49"/>
                  </a:lnTo>
                  <a:lnTo>
                    <a:pt x="1263" y="0"/>
                  </a:lnTo>
                  <a:lnTo>
                    <a:pt x="1392" y="0"/>
                  </a:lnTo>
                  <a:lnTo>
                    <a:pt x="4537" y="495"/>
                  </a:lnTo>
                  <a:lnTo>
                    <a:pt x="4838" y="593"/>
                  </a:lnTo>
                  <a:lnTo>
                    <a:pt x="5008" y="666"/>
                  </a:lnTo>
                  <a:lnTo>
                    <a:pt x="5159" y="767"/>
                  </a:lnTo>
                  <a:lnTo>
                    <a:pt x="5231" y="864"/>
                  </a:lnTo>
                  <a:lnTo>
                    <a:pt x="5308" y="986"/>
                  </a:lnTo>
                  <a:lnTo>
                    <a:pt x="5333" y="1257"/>
                  </a:lnTo>
                  <a:lnTo>
                    <a:pt x="5308" y="1582"/>
                  </a:lnTo>
                  <a:lnTo>
                    <a:pt x="4870" y="3529"/>
                  </a:lnTo>
                  <a:lnTo>
                    <a:pt x="4342" y="3334"/>
                  </a:lnTo>
                  <a:lnTo>
                    <a:pt x="4785" y="1631"/>
                  </a:lnTo>
                  <a:lnTo>
                    <a:pt x="4810" y="1457"/>
                  </a:lnTo>
                  <a:lnTo>
                    <a:pt x="4785" y="1286"/>
                  </a:lnTo>
                  <a:lnTo>
                    <a:pt x="4663" y="1161"/>
                  </a:lnTo>
                  <a:lnTo>
                    <a:pt x="4542" y="1112"/>
                  </a:lnTo>
                  <a:lnTo>
                    <a:pt x="1436" y="568"/>
                  </a:lnTo>
                  <a:lnTo>
                    <a:pt x="1242" y="617"/>
                  </a:lnTo>
                  <a:lnTo>
                    <a:pt x="1063" y="852"/>
                  </a:lnTo>
                  <a:lnTo>
                    <a:pt x="471" y="2718"/>
                  </a:lnTo>
                  <a:lnTo>
                    <a:pt x="495" y="2864"/>
                  </a:lnTo>
                  <a:lnTo>
                    <a:pt x="669" y="2937"/>
                  </a:lnTo>
                  <a:lnTo>
                    <a:pt x="3892" y="3432"/>
                  </a:lnTo>
                  <a:lnTo>
                    <a:pt x="4663" y="3976"/>
                  </a:lnTo>
                  <a:close/>
                </a:path>
              </a:pathLst>
            </a:custGeom>
            <a:solidFill>
              <a:srgbClr val="383838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478240" y="4038480"/>
              <a:ext cx="169560" cy="108000"/>
            </a:xfrm>
            <a:custGeom>
              <a:avLst/>
              <a:gdLst/>
              <a:ahLst/>
              <a:rect l="l" t="t" r="r" b="b"/>
              <a:pathLst>
                <a:path w="971" h="617">
                  <a:moveTo>
                    <a:pt x="0" y="122"/>
                  </a:moveTo>
                  <a:lnTo>
                    <a:pt x="224" y="147"/>
                  </a:lnTo>
                  <a:lnTo>
                    <a:pt x="374" y="98"/>
                  </a:lnTo>
                  <a:lnTo>
                    <a:pt x="423" y="0"/>
                  </a:lnTo>
                  <a:lnTo>
                    <a:pt x="971" y="98"/>
                  </a:lnTo>
                  <a:lnTo>
                    <a:pt x="869" y="466"/>
                  </a:lnTo>
                  <a:lnTo>
                    <a:pt x="772" y="568"/>
                  </a:lnTo>
                  <a:lnTo>
                    <a:pt x="698" y="617"/>
                  </a:lnTo>
                  <a:lnTo>
                    <a:pt x="29" y="568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383838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101680" y="3532320"/>
              <a:ext cx="608040" cy="231480"/>
            </a:xfrm>
            <a:custGeom>
              <a:avLst/>
              <a:gdLst/>
              <a:ahLst/>
              <a:rect l="l" t="t" r="r" b="b"/>
              <a:pathLst>
                <a:path w="3446" h="1307">
                  <a:moveTo>
                    <a:pt x="0" y="0"/>
                  </a:moveTo>
                  <a:lnTo>
                    <a:pt x="2878" y="492"/>
                  </a:lnTo>
                  <a:lnTo>
                    <a:pt x="3077" y="641"/>
                  </a:lnTo>
                  <a:lnTo>
                    <a:pt x="3174" y="788"/>
                  </a:lnTo>
                  <a:lnTo>
                    <a:pt x="3223" y="986"/>
                  </a:lnTo>
                  <a:lnTo>
                    <a:pt x="3174" y="1307"/>
                  </a:lnTo>
                  <a:lnTo>
                    <a:pt x="3349" y="1185"/>
                  </a:lnTo>
                  <a:lnTo>
                    <a:pt x="3446" y="937"/>
                  </a:lnTo>
                  <a:lnTo>
                    <a:pt x="3410" y="666"/>
                  </a:lnTo>
                  <a:lnTo>
                    <a:pt x="3248" y="443"/>
                  </a:lnTo>
                  <a:lnTo>
                    <a:pt x="3077" y="321"/>
                  </a:lnTo>
                  <a:lnTo>
                    <a:pt x="2903" y="273"/>
                  </a:lnTo>
                  <a:lnTo>
                    <a:pt x="2209" y="171"/>
                  </a:lnTo>
                  <a:lnTo>
                    <a:pt x="134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1857240" y="3933720"/>
              <a:ext cx="95400" cy="85680"/>
            </a:xfrm>
            <a:custGeom>
              <a:avLst/>
              <a:gdLst/>
              <a:ahLst/>
              <a:rect l="l" t="t" r="r" b="b"/>
              <a:pathLst>
                <a:path w="544" h="490">
                  <a:moveTo>
                    <a:pt x="25" y="195"/>
                  </a:moveTo>
                  <a:lnTo>
                    <a:pt x="74" y="0"/>
                  </a:lnTo>
                  <a:lnTo>
                    <a:pt x="78" y="94"/>
                  </a:lnTo>
                  <a:lnTo>
                    <a:pt x="147" y="247"/>
                  </a:lnTo>
                  <a:lnTo>
                    <a:pt x="272" y="369"/>
                  </a:lnTo>
                  <a:lnTo>
                    <a:pt x="544" y="490"/>
                  </a:lnTo>
                  <a:lnTo>
                    <a:pt x="338" y="483"/>
                  </a:lnTo>
                  <a:lnTo>
                    <a:pt x="98" y="442"/>
                  </a:lnTo>
                  <a:lnTo>
                    <a:pt x="25" y="418"/>
                  </a:lnTo>
                  <a:lnTo>
                    <a:pt x="0" y="345"/>
                  </a:lnTo>
                  <a:lnTo>
                    <a:pt x="25" y="195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6d6d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8" name=""/>
          <p:cNvSpPr/>
          <p:nvPr/>
        </p:nvSpPr>
        <p:spPr>
          <a:xfrm>
            <a:off x="2364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62503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0" name=""/>
          <p:cNvGrpSpPr/>
          <p:nvPr/>
        </p:nvGrpSpPr>
        <p:grpSpPr>
          <a:xfrm>
            <a:off x="5435280" y="2598840"/>
            <a:ext cx="1991160" cy="2422440"/>
            <a:chOff x="5435280" y="2598840"/>
            <a:chExt cx="1991160" cy="2422440"/>
          </a:xfrm>
        </p:grpSpPr>
        <p:sp>
          <p:nvSpPr>
            <p:cNvPr id="4331" name=""/>
            <p:cNvSpPr/>
            <p:nvPr/>
          </p:nvSpPr>
          <p:spPr>
            <a:xfrm flipH="1">
              <a:off x="5435640" y="2598840"/>
              <a:ext cx="1990800" cy="2422440"/>
            </a:xfrm>
            <a:custGeom>
              <a:avLst/>
              <a:gdLst/>
              <a:ahLst/>
              <a:rect l="l" t="t" r="r" b="b"/>
              <a:pathLst>
                <a:path w="5017" h="6102">
                  <a:moveTo>
                    <a:pt x="1870" y="3850"/>
                  </a:moveTo>
                  <a:lnTo>
                    <a:pt x="414" y="3303"/>
                  </a:lnTo>
                  <a:lnTo>
                    <a:pt x="156" y="1705"/>
                  </a:lnTo>
                  <a:lnTo>
                    <a:pt x="0" y="1684"/>
                  </a:lnTo>
                  <a:lnTo>
                    <a:pt x="0" y="1620"/>
                  </a:lnTo>
                  <a:lnTo>
                    <a:pt x="210" y="1596"/>
                  </a:lnTo>
                  <a:lnTo>
                    <a:pt x="51" y="607"/>
                  </a:lnTo>
                  <a:lnTo>
                    <a:pt x="47" y="569"/>
                  </a:lnTo>
                  <a:lnTo>
                    <a:pt x="48" y="531"/>
                  </a:lnTo>
                  <a:lnTo>
                    <a:pt x="53" y="495"/>
                  </a:lnTo>
                  <a:lnTo>
                    <a:pt x="62" y="460"/>
                  </a:lnTo>
                  <a:lnTo>
                    <a:pt x="76" y="425"/>
                  </a:lnTo>
                  <a:lnTo>
                    <a:pt x="93" y="394"/>
                  </a:lnTo>
                  <a:lnTo>
                    <a:pt x="114" y="363"/>
                  </a:lnTo>
                  <a:lnTo>
                    <a:pt x="138" y="334"/>
                  </a:lnTo>
                  <a:lnTo>
                    <a:pt x="165" y="307"/>
                  </a:lnTo>
                  <a:lnTo>
                    <a:pt x="196" y="283"/>
                  </a:lnTo>
                  <a:lnTo>
                    <a:pt x="230" y="260"/>
                  </a:lnTo>
                  <a:lnTo>
                    <a:pt x="266" y="241"/>
                  </a:lnTo>
                  <a:lnTo>
                    <a:pt x="304" y="225"/>
                  </a:lnTo>
                  <a:lnTo>
                    <a:pt x="345" y="211"/>
                  </a:lnTo>
                  <a:lnTo>
                    <a:pt x="388" y="201"/>
                  </a:lnTo>
                  <a:lnTo>
                    <a:pt x="433" y="194"/>
                  </a:lnTo>
                  <a:lnTo>
                    <a:pt x="2070" y="14"/>
                  </a:lnTo>
                  <a:lnTo>
                    <a:pt x="2205" y="2"/>
                  </a:lnTo>
                  <a:lnTo>
                    <a:pt x="2264" y="0"/>
                  </a:lnTo>
                  <a:lnTo>
                    <a:pt x="2319" y="1"/>
                  </a:lnTo>
                  <a:lnTo>
                    <a:pt x="2368" y="5"/>
                  </a:lnTo>
                  <a:lnTo>
                    <a:pt x="2414" y="12"/>
                  </a:lnTo>
                  <a:lnTo>
                    <a:pt x="2453" y="23"/>
                  </a:lnTo>
                  <a:lnTo>
                    <a:pt x="2490" y="35"/>
                  </a:lnTo>
                  <a:lnTo>
                    <a:pt x="2522" y="52"/>
                  </a:lnTo>
                  <a:lnTo>
                    <a:pt x="2550" y="72"/>
                  </a:lnTo>
                  <a:lnTo>
                    <a:pt x="2575" y="95"/>
                  </a:lnTo>
                  <a:lnTo>
                    <a:pt x="2596" y="123"/>
                  </a:lnTo>
                  <a:lnTo>
                    <a:pt x="2614" y="153"/>
                  </a:lnTo>
                  <a:lnTo>
                    <a:pt x="2628" y="188"/>
                  </a:lnTo>
                  <a:lnTo>
                    <a:pt x="2639" y="228"/>
                  </a:lnTo>
                  <a:lnTo>
                    <a:pt x="2648" y="270"/>
                  </a:lnTo>
                  <a:lnTo>
                    <a:pt x="2828" y="1378"/>
                  </a:lnTo>
                  <a:lnTo>
                    <a:pt x="5017" y="1488"/>
                  </a:lnTo>
                  <a:lnTo>
                    <a:pt x="5017" y="1552"/>
                  </a:lnTo>
                  <a:lnTo>
                    <a:pt x="4864" y="1569"/>
                  </a:lnTo>
                  <a:lnTo>
                    <a:pt x="4880" y="3039"/>
                  </a:lnTo>
                  <a:lnTo>
                    <a:pt x="4876" y="3082"/>
                  </a:lnTo>
                  <a:lnTo>
                    <a:pt x="4865" y="3123"/>
                  </a:lnTo>
                  <a:lnTo>
                    <a:pt x="4846" y="3164"/>
                  </a:lnTo>
                  <a:lnTo>
                    <a:pt x="4820" y="3203"/>
                  </a:lnTo>
                  <a:lnTo>
                    <a:pt x="4786" y="3242"/>
                  </a:lnTo>
                  <a:lnTo>
                    <a:pt x="4748" y="3279"/>
                  </a:lnTo>
                  <a:lnTo>
                    <a:pt x="4702" y="3315"/>
                  </a:lnTo>
                  <a:lnTo>
                    <a:pt x="4650" y="3350"/>
                  </a:lnTo>
                  <a:lnTo>
                    <a:pt x="4531" y="3417"/>
                  </a:lnTo>
                  <a:lnTo>
                    <a:pt x="4394" y="3478"/>
                  </a:lnTo>
                  <a:lnTo>
                    <a:pt x="4240" y="3535"/>
                  </a:lnTo>
                  <a:lnTo>
                    <a:pt x="4074" y="3586"/>
                  </a:lnTo>
                  <a:lnTo>
                    <a:pt x="3896" y="3633"/>
                  </a:lnTo>
                  <a:lnTo>
                    <a:pt x="3712" y="3674"/>
                  </a:lnTo>
                  <a:lnTo>
                    <a:pt x="3522" y="3710"/>
                  </a:lnTo>
                  <a:lnTo>
                    <a:pt x="3330" y="3740"/>
                  </a:lnTo>
                  <a:lnTo>
                    <a:pt x="3141" y="3765"/>
                  </a:lnTo>
                  <a:lnTo>
                    <a:pt x="2954" y="3783"/>
                  </a:lnTo>
                  <a:lnTo>
                    <a:pt x="2774" y="3795"/>
                  </a:lnTo>
                  <a:lnTo>
                    <a:pt x="2603" y="3802"/>
                  </a:lnTo>
                  <a:lnTo>
                    <a:pt x="2606" y="3802"/>
                  </a:lnTo>
                  <a:lnTo>
                    <a:pt x="2604" y="3802"/>
                  </a:lnTo>
                  <a:lnTo>
                    <a:pt x="2603" y="3802"/>
                  </a:lnTo>
                  <a:lnTo>
                    <a:pt x="2603" y="4171"/>
                  </a:lnTo>
                  <a:lnTo>
                    <a:pt x="2680" y="4231"/>
                  </a:lnTo>
                  <a:lnTo>
                    <a:pt x="2680" y="4795"/>
                  </a:lnTo>
                  <a:lnTo>
                    <a:pt x="4090" y="4702"/>
                  </a:lnTo>
                  <a:lnTo>
                    <a:pt x="4190" y="4735"/>
                  </a:lnTo>
                  <a:lnTo>
                    <a:pt x="4190" y="4909"/>
                  </a:lnTo>
                  <a:lnTo>
                    <a:pt x="4203" y="4994"/>
                  </a:lnTo>
                  <a:lnTo>
                    <a:pt x="4237" y="5002"/>
                  </a:lnTo>
                  <a:lnTo>
                    <a:pt x="4266" y="5016"/>
                  </a:lnTo>
                  <a:lnTo>
                    <a:pt x="4292" y="5036"/>
                  </a:lnTo>
                  <a:lnTo>
                    <a:pt x="4312" y="5061"/>
                  </a:lnTo>
                  <a:lnTo>
                    <a:pt x="4327" y="5088"/>
                  </a:lnTo>
                  <a:lnTo>
                    <a:pt x="4337" y="5120"/>
                  </a:lnTo>
                  <a:lnTo>
                    <a:pt x="4338" y="5152"/>
                  </a:lnTo>
                  <a:lnTo>
                    <a:pt x="4333" y="5186"/>
                  </a:lnTo>
                  <a:lnTo>
                    <a:pt x="4319" y="5218"/>
                  </a:lnTo>
                  <a:lnTo>
                    <a:pt x="4301" y="5245"/>
                  </a:lnTo>
                  <a:lnTo>
                    <a:pt x="4276" y="5267"/>
                  </a:lnTo>
                  <a:lnTo>
                    <a:pt x="4249" y="5283"/>
                  </a:lnTo>
                  <a:lnTo>
                    <a:pt x="4218" y="5293"/>
                  </a:lnTo>
                  <a:lnTo>
                    <a:pt x="4187" y="5297"/>
                  </a:lnTo>
                  <a:lnTo>
                    <a:pt x="4154" y="5293"/>
                  </a:lnTo>
                  <a:lnTo>
                    <a:pt x="4122" y="5282"/>
                  </a:lnTo>
                  <a:lnTo>
                    <a:pt x="4092" y="5264"/>
                  </a:lnTo>
                  <a:lnTo>
                    <a:pt x="4068" y="5240"/>
                  </a:lnTo>
                  <a:lnTo>
                    <a:pt x="4051" y="5213"/>
                  </a:lnTo>
                  <a:lnTo>
                    <a:pt x="4040" y="5183"/>
                  </a:lnTo>
                  <a:lnTo>
                    <a:pt x="4036" y="5150"/>
                  </a:lnTo>
                  <a:lnTo>
                    <a:pt x="4038" y="5119"/>
                  </a:lnTo>
                  <a:lnTo>
                    <a:pt x="4047" y="5086"/>
                  </a:lnTo>
                  <a:lnTo>
                    <a:pt x="4063" y="5057"/>
                  </a:lnTo>
                  <a:lnTo>
                    <a:pt x="4019" y="5017"/>
                  </a:lnTo>
                  <a:lnTo>
                    <a:pt x="4001" y="4997"/>
                  </a:lnTo>
                  <a:lnTo>
                    <a:pt x="3988" y="4976"/>
                  </a:lnTo>
                  <a:lnTo>
                    <a:pt x="3980" y="4952"/>
                  </a:lnTo>
                  <a:lnTo>
                    <a:pt x="3977" y="4925"/>
                  </a:lnTo>
                  <a:lnTo>
                    <a:pt x="3008" y="4999"/>
                  </a:lnTo>
                  <a:lnTo>
                    <a:pt x="4179" y="5538"/>
                  </a:lnTo>
                  <a:lnTo>
                    <a:pt x="4179" y="5711"/>
                  </a:lnTo>
                  <a:lnTo>
                    <a:pt x="4212" y="5799"/>
                  </a:lnTo>
                  <a:lnTo>
                    <a:pt x="4247" y="5799"/>
                  </a:lnTo>
                  <a:lnTo>
                    <a:pt x="4279" y="5807"/>
                  </a:lnTo>
                  <a:lnTo>
                    <a:pt x="4308" y="5821"/>
                  </a:lnTo>
                  <a:lnTo>
                    <a:pt x="4334" y="5842"/>
                  </a:lnTo>
                  <a:lnTo>
                    <a:pt x="4354" y="5866"/>
                  </a:lnTo>
                  <a:lnTo>
                    <a:pt x="4369" y="5895"/>
                  </a:lnTo>
                  <a:lnTo>
                    <a:pt x="4377" y="5926"/>
                  </a:lnTo>
                  <a:lnTo>
                    <a:pt x="4379" y="5961"/>
                  </a:lnTo>
                  <a:lnTo>
                    <a:pt x="4373" y="5995"/>
                  </a:lnTo>
                  <a:lnTo>
                    <a:pt x="4360" y="6025"/>
                  </a:lnTo>
                  <a:lnTo>
                    <a:pt x="4341" y="6052"/>
                  </a:lnTo>
                  <a:lnTo>
                    <a:pt x="4316" y="6073"/>
                  </a:lnTo>
                  <a:lnTo>
                    <a:pt x="4289" y="6090"/>
                  </a:lnTo>
                  <a:lnTo>
                    <a:pt x="4257" y="6099"/>
                  </a:lnTo>
                  <a:lnTo>
                    <a:pt x="4224" y="6102"/>
                  </a:lnTo>
                  <a:lnTo>
                    <a:pt x="4191" y="6098"/>
                  </a:lnTo>
                  <a:lnTo>
                    <a:pt x="4158" y="6085"/>
                  </a:lnTo>
                  <a:lnTo>
                    <a:pt x="4131" y="6068"/>
                  </a:lnTo>
                  <a:lnTo>
                    <a:pt x="4108" y="6045"/>
                  </a:lnTo>
                  <a:lnTo>
                    <a:pt x="4091" y="6017"/>
                  </a:lnTo>
                  <a:lnTo>
                    <a:pt x="4080" y="5987"/>
                  </a:lnTo>
                  <a:lnTo>
                    <a:pt x="4076" y="5955"/>
                  </a:lnTo>
                  <a:lnTo>
                    <a:pt x="4078" y="5921"/>
                  </a:lnTo>
                  <a:lnTo>
                    <a:pt x="4088" y="5889"/>
                  </a:lnTo>
                  <a:lnTo>
                    <a:pt x="3992" y="5808"/>
                  </a:lnTo>
                  <a:lnTo>
                    <a:pt x="3967" y="5781"/>
                  </a:lnTo>
                  <a:lnTo>
                    <a:pt x="3947" y="5748"/>
                  </a:lnTo>
                  <a:lnTo>
                    <a:pt x="3935" y="5713"/>
                  </a:lnTo>
                  <a:lnTo>
                    <a:pt x="3931" y="5676"/>
                  </a:lnTo>
                  <a:lnTo>
                    <a:pt x="2580" y="5055"/>
                  </a:lnTo>
                  <a:lnTo>
                    <a:pt x="2476" y="5055"/>
                  </a:lnTo>
                  <a:lnTo>
                    <a:pt x="1171" y="5655"/>
                  </a:lnTo>
                  <a:lnTo>
                    <a:pt x="1216" y="5798"/>
                  </a:lnTo>
                  <a:lnTo>
                    <a:pt x="1249" y="5801"/>
                  </a:lnTo>
                  <a:lnTo>
                    <a:pt x="1280" y="5810"/>
                  </a:lnTo>
                  <a:lnTo>
                    <a:pt x="1307" y="5825"/>
                  </a:lnTo>
                  <a:lnTo>
                    <a:pt x="1331" y="5846"/>
                  </a:lnTo>
                  <a:lnTo>
                    <a:pt x="1350" y="5871"/>
                  </a:lnTo>
                  <a:lnTo>
                    <a:pt x="1363" y="5900"/>
                  </a:lnTo>
                  <a:lnTo>
                    <a:pt x="1371" y="5930"/>
                  </a:lnTo>
                  <a:lnTo>
                    <a:pt x="1371" y="5964"/>
                  </a:lnTo>
                  <a:lnTo>
                    <a:pt x="1363" y="5997"/>
                  </a:lnTo>
                  <a:lnTo>
                    <a:pt x="1350" y="6026"/>
                  </a:lnTo>
                  <a:lnTo>
                    <a:pt x="1332" y="6052"/>
                  </a:lnTo>
                  <a:lnTo>
                    <a:pt x="1308" y="6073"/>
                  </a:lnTo>
                  <a:lnTo>
                    <a:pt x="1281" y="6088"/>
                  </a:lnTo>
                  <a:lnTo>
                    <a:pt x="1250" y="6099"/>
                  </a:lnTo>
                  <a:lnTo>
                    <a:pt x="1219" y="6102"/>
                  </a:lnTo>
                  <a:lnTo>
                    <a:pt x="1185" y="6098"/>
                  </a:lnTo>
                  <a:lnTo>
                    <a:pt x="1153" y="6086"/>
                  </a:lnTo>
                  <a:lnTo>
                    <a:pt x="1126" y="6070"/>
                  </a:lnTo>
                  <a:lnTo>
                    <a:pt x="1103" y="6048"/>
                  </a:lnTo>
                  <a:lnTo>
                    <a:pt x="1086" y="6022"/>
                  </a:lnTo>
                  <a:lnTo>
                    <a:pt x="1074" y="5994"/>
                  </a:lnTo>
                  <a:lnTo>
                    <a:pt x="1068" y="5962"/>
                  </a:lnTo>
                  <a:lnTo>
                    <a:pt x="1069" y="5930"/>
                  </a:lnTo>
                  <a:lnTo>
                    <a:pt x="1077" y="5898"/>
                  </a:lnTo>
                  <a:lnTo>
                    <a:pt x="983" y="5832"/>
                  </a:lnTo>
                  <a:lnTo>
                    <a:pt x="960" y="5811"/>
                  </a:lnTo>
                  <a:lnTo>
                    <a:pt x="942" y="5787"/>
                  </a:lnTo>
                  <a:lnTo>
                    <a:pt x="931" y="5758"/>
                  </a:lnTo>
                  <a:lnTo>
                    <a:pt x="927" y="5728"/>
                  </a:lnTo>
                  <a:lnTo>
                    <a:pt x="878" y="5711"/>
                  </a:lnTo>
                  <a:lnTo>
                    <a:pt x="878" y="5538"/>
                  </a:lnTo>
                  <a:lnTo>
                    <a:pt x="2049" y="4999"/>
                  </a:lnTo>
                  <a:lnTo>
                    <a:pt x="1093" y="4926"/>
                  </a:lnTo>
                  <a:lnTo>
                    <a:pt x="1104" y="5012"/>
                  </a:lnTo>
                  <a:lnTo>
                    <a:pt x="1137" y="5019"/>
                  </a:lnTo>
                  <a:lnTo>
                    <a:pt x="1167" y="5031"/>
                  </a:lnTo>
                  <a:lnTo>
                    <a:pt x="1192" y="5051"/>
                  </a:lnTo>
                  <a:lnTo>
                    <a:pt x="1214" y="5074"/>
                  </a:lnTo>
                  <a:lnTo>
                    <a:pt x="1229" y="5101"/>
                  </a:lnTo>
                  <a:lnTo>
                    <a:pt x="1239" y="5132"/>
                  </a:lnTo>
                  <a:lnTo>
                    <a:pt x="1241" y="5165"/>
                  </a:lnTo>
                  <a:lnTo>
                    <a:pt x="1237" y="5198"/>
                  </a:lnTo>
                  <a:lnTo>
                    <a:pt x="1226" y="5230"/>
                  </a:lnTo>
                  <a:lnTo>
                    <a:pt x="1208" y="5257"/>
                  </a:lnTo>
                  <a:lnTo>
                    <a:pt x="1186" y="5280"/>
                  </a:lnTo>
                  <a:lnTo>
                    <a:pt x="1160" y="5297"/>
                  </a:lnTo>
                  <a:lnTo>
                    <a:pt x="1129" y="5308"/>
                  </a:lnTo>
                  <a:lnTo>
                    <a:pt x="1097" y="5314"/>
                  </a:lnTo>
                  <a:lnTo>
                    <a:pt x="1065" y="5312"/>
                  </a:lnTo>
                  <a:lnTo>
                    <a:pt x="1032" y="5302"/>
                  </a:lnTo>
                  <a:lnTo>
                    <a:pt x="1003" y="5286"/>
                  </a:lnTo>
                  <a:lnTo>
                    <a:pt x="978" y="5265"/>
                  </a:lnTo>
                  <a:lnTo>
                    <a:pt x="960" y="5238"/>
                  </a:lnTo>
                  <a:lnTo>
                    <a:pt x="946" y="5210"/>
                  </a:lnTo>
                  <a:lnTo>
                    <a:pt x="940" y="5179"/>
                  </a:lnTo>
                  <a:lnTo>
                    <a:pt x="939" y="5146"/>
                  </a:lnTo>
                  <a:lnTo>
                    <a:pt x="946" y="5115"/>
                  </a:lnTo>
                  <a:lnTo>
                    <a:pt x="961" y="5084"/>
                  </a:lnTo>
                  <a:lnTo>
                    <a:pt x="904" y="5014"/>
                  </a:lnTo>
                  <a:lnTo>
                    <a:pt x="888" y="4990"/>
                  </a:lnTo>
                  <a:lnTo>
                    <a:pt x="876" y="4965"/>
                  </a:lnTo>
                  <a:lnTo>
                    <a:pt x="869" y="4937"/>
                  </a:lnTo>
                  <a:lnTo>
                    <a:pt x="867" y="4909"/>
                  </a:lnTo>
                  <a:lnTo>
                    <a:pt x="867" y="4735"/>
                  </a:lnTo>
                  <a:lnTo>
                    <a:pt x="967" y="4702"/>
                  </a:lnTo>
                  <a:lnTo>
                    <a:pt x="2377" y="4795"/>
                  </a:lnTo>
                  <a:lnTo>
                    <a:pt x="2377" y="4231"/>
                  </a:lnTo>
                  <a:lnTo>
                    <a:pt x="2453" y="4171"/>
                  </a:lnTo>
                  <a:lnTo>
                    <a:pt x="2453" y="3803"/>
                  </a:lnTo>
                  <a:lnTo>
                    <a:pt x="2279" y="3796"/>
                  </a:lnTo>
                  <a:lnTo>
                    <a:pt x="2202" y="3788"/>
                  </a:lnTo>
                  <a:lnTo>
                    <a:pt x="2132" y="3779"/>
                  </a:lnTo>
                  <a:lnTo>
                    <a:pt x="1870" y="3850"/>
                  </a:lnTo>
                  <a:lnTo>
                    <a:pt x="676" y="3249"/>
                  </a:lnTo>
                  <a:lnTo>
                    <a:pt x="603" y="3221"/>
                  </a:lnTo>
                  <a:lnTo>
                    <a:pt x="464" y="2368"/>
                  </a:lnTo>
                  <a:lnTo>
                    <a:pt x="519" y="2374"/>
                  </a:lnTo>
                  <a:lnTo>
                    <a:pt x="586" y="2376"/>
                  </a:lnTo>
                  <a:lnTo>
                    <a:pt x="664" y="2372"/>
                  </a:lnTo>
                  <a:lnTo>
                    <a:pt x="757" y="2363"/>
                  </a:lnTo>
                  <a:lnTo>
                    <a:pt x="1711" y="2257"/>
                  </a:lnTo>
                  <a:lnTo>
                    <a:pt x="1735" y="2738"/>
                  </a:lnTo>
                  <a:lnTo>
                    <a:pt x="1584" y="2755"/>
                  </a:lnTo>
                  <a:lnTo>
                    <a:pt x="1447" y="2768"/>
                  </a:lnTo>
                  <a:lnTo>
                    <a:pt x="1214" y="2781"/>
                  </a:lnTo>
                  <a:lnTo>
                    <a:pt x="1029" y="2791"/>
                  </a:lnTo>
                  <a:lnTo>
                    <a:pt x="954" y="2799"/>
                  </a:lnTo>
                  <a:lnTo>
                    <a:pt x="928" y="2803"/>
                  </a:lnTo>
                  <a:lnTo>
                    <a:pt x="889" y="2811"/>
                  </a:lnTo>
                  <a:lnTo>
                    <a:pt x="834" y="2830"/>
                  </a:lnTo>
                  <a:lnTo>
                    <a:pt x="788" y="2855"/>
                  </a:lnTo>
                  <a:lnTo>
                    <a:pt x="769" y="2871"/>
                  </a:lnTo>
                  <a:lnTo>
                    <a:pt x="752" y="2889"/>
                  </a:lnTo>
                  <a:lnTo>
                    <a:pt x="736" y="2910"/>
                  </a:lnTo>
                  <a:lnTo>
                    <a:pt x="723" y="2934"/>
                  </a:lnTo>
                  <a:lnTo>
                    <a:pt x="702" y="2991"/>
                  </a:lnTo>
                  <a:lnTo>
                    <a:pt x="687" y="3061"/>
                  </a:lnTo>
                  <a:lnTo>
                    <a:pt x="679" y="3146"/>
                  </a:lnTo>
                  <a:lnTo>
                    <a:pt x="676" y="3249"/>
                  </a:lnTo>
                  <a:lnTo>
                    <a:pt x="1870" y="3850"/>
                  </a:lnTo>
                  <a:lnTo>
                    <a:pt x="1955" y="2720"/>
                  </a:lnTo>
                  <a:lnTo>
                    <a:pt x="1931" y="2233"/>
                  </a:lnTo>
                  <a:lnTo>
                    <a:pt x="2650" y="2154"/>
                  </a:lnTo>
                  <a:lnTo>
                    <a:pt x="2736" y="2138"/>
                  </a:lnTo>
                  <a:lnTo>
                    <a:pt x="2774" y="2126"/>
                  </a:lnTo>
                  <a:lnTo>
                    <a:pt x="2807" y="2111"/>
                  </a:lnTo>
                  <a:lnTo>
                    <a:pt x="2836" y="2093"/>
                  </a:lnTo>
                  <a:lnTo>
                    <a:pt x="2861" y="2071"/>
                  </a:lnTo>
                  <a:lnTo>
                    <a:pt x="2881" y="2046"/>
                  </a:lnTo>
                  <a:lnTo>
                    <a:pt x="2896" y="2016"/>
                  </a:lnTo>
                  <a:lnTo>
                    <a:pt x="2964" y="2438"/>
                  </a:lnTo>
                  <a:lnTo>
                    <a:pt x="2876" y="2467"/>
                  </a:lnTo>
                  <a:lnTo>
                    <a:pt x="2781" y="2500"/>
                  </a:lnTo>
                  <a:lnTo>
                    <a:pt x="2565" y="2576"/>
                  </a:lnTo>
                  <a:lnTo>
                    <a:pt x="2438" y="2616"/>
                  </a:lnTo>
                  <a:lnTo>
                    <a:pt x="2295" y="2653"/>
                  </a:lnTo>
                  <a:lnTo>
                    <a:pt x="2135" y="2689"/>
                  </a:lnTo>
                  <a:lnTo>
                    <a:pt x="1955" y="2720"/>
                  </a:lnTo>
                  <a:lnTo>
                    <a:pt x="1870" y="3850"/>
                  </a:lnTo>
                  <a:lnTo>
                    <a:pt x="3160" y="2401"/>
                  </a:lnTo>
                  <a:lnTo>
                    <a:pt x="3014" y="1500"/>
                  </a:lnTo>
                  <a:lnTo>
                    <a:pt x="4639" y="1582"/>
                  </a:lnTo>
                  <a:lnTo>
                    <a:pt x="4653" y="2752"/>
                  </a:lnTo>
                  <a:lnTo>
                    <a:pt x="3381" y="2424"/>
                  </a:lnTo>
                  <a:lnTo>
                    <a:pt x="3323" y="2412"/>
                  </a:lnTo>
                  <a:lnTo>
                    <a:pt x="3267" y="2404"/>
                  </a:lnTo>
                  <a:lnTo>
                    <a:pt x="3213" y="2400"/>
                  </a:lnTo>
                  <a:lnTo>
                    <a:pt x="3160" y="2401"/>
                  </a:lnTo>
                  <a:lnTo>
                    <a:pt x="1870" y="3850"/>
                  </a:lnTo>
                  <a:close/>
                </a:path>
              </a:pathLst>
            </a:custGeom>
            <a:solidFill>
              <a:srgbClr val="52d6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H="1">
              <a:off x="5435640" y="2598840"/>
              <a:ext cx="1990800" cy="2422440"/>
            </a:xfrm>
            <a:custGeom>
              <a:avLst/>
              <a:gdLst/>
              <a:ahLst/>
              <a:rect l="l" t="t" r="r" b="b"/>
              <a:pathLst>
                <a:path w="5017" h="6102">
                  <a:moveTo>
                    <a:pt x="1870" y="3850"/>
                  </a:moveTo>
                  <a:lnTo>
                    <a:pt x="414" y="3303"/>
                  </a:lnTo>
                  <a:lnTo>
                    <a:pt x="156" y="1705"/>
                  </a:lnTo>
                  <a:lnTo>
                    <a:pt x="0" y="1684"/>
                  </a:lnTo>
                  <a:lnTo>
                    <a:pt x="0" y="1620"/>
                  </a:lnTo>
                  <a:lnTo>
                    <a:pt x="210" y="1596"/>
                  </a:lnTo>
                  <a:lnTo>
                    <a:pt x="51" y="607"/>
                  </a:lnTo>
                  <a:lnTo>
                    <a:pt x="47" y="569"/>
                  </a:lnTo>
                  <a:lnTo>
                    <a:pt x="48" y="531"/>
                  </a:lnTo>
                  <a:lnTo>
                    <a:pt x="53" y="495"/>
                  </a:lnTo>
                  <a:lnTo>
                    <a:pt x="62" y="460"/>
                  </a:lnTo>
                  <a:lnTo>
                    <a:pt x="76" y="425"/>
                  </a:lnTo>
                  <a:lnTo>
                    <a:pt x="93" y="394"/>
                  </a:lnTo>
                  <a:lnTo>
                    <a:pt x="114" y="363"/>
                  </a:lnTo>
                  <a:lnTo>
                    <a:pt x="138" y="334"/>
                  </a:lnTo>
                  <a:lnTo>
                    <a:pt x="165" y="307"/>
                  </a:lnTo>
                  <a:lnTo>
                    <a:pt x="196" y="283"/>
                  </a:lnTo>
                  <a:lnTo>
                    <a:pt x="230" y="260"/>
                  </a:lnTo>
                  <a:lnTo>
                    <a:pt x="266" y="241"/>
                  </a:lnTo>
                  <a:lnTo>
                    <a:pt x="304" y="225"/>
                  </a:lnTo>
                  <a:lnTo>
                    <a:pt x="345" y="211"/>
                  </a:lnTo>
                  <a:lnTo>
                    <a:pt x="388" y="201"/>
                  </a:lnTo>
                  <a:lnTo>
                    <a:pt x="433" y="194"/>
                  </a:lnTo>
                  <a:lnTo>
                    <a:pt x="2070" y="14"/>
                  </a:lnTo>
                  <a:lnTo>
                    <a:pt x="2205" y="2"/>
                  </a:lnTo>
                  <a:lnTo>
                    <a:pt x="2264" y="0"/>
                  </a:lnTo>
                  <a:lnTo>
                    <a:pt x="2319" y="1"/>
                  </a:lnTo>
                  <a:lnTo>
                    <a:pt x="2368" y="5"/>
                  </a:lnTo>
                  <a:lnTo>
                    <a:pt x="2414" y="12"/>
                  </a:lnTo>
                  <a:lnTo>
                    <a:pt x="2453" y="23"/>
                  </a:lnTo>
                  <a:lnTo>
                    <a:pt x="2490" y="35"/>
                  </a:lnTo>
                  <a:lnTo>
                    <a:pt x="2522" y="52"/>
                  </a:lnTo>
                  <a:lnTo>
                    <a:pt x="2550" y="72"/>
                  </a:lnTo>
                  <a:lnTo>
                    <a:pt x="2575" y="95"/>
                  </a:lnTo>
                  <a:lnTo>
                    <a:pt x="2596" y="123"/>
                  </a:lnTo>
                  <a:lnTo>
                    <a:pt x="2614" y="153"/>
                  </a:lnTo>
                  <a:lnTo>
                    <a:pt x="2628" y="188"/>
                  </a:lnTo>
                  <a:lnTo>
                    <a:pt x="2639" y="228"/>
                  </a:lnTo>
                  <a:lnTo>
                    <a:pt x="2648" y="270"/>
                  </a:lnTo>
                  <a:lnTo>
                    <a:pt x="2828" y="1378"/>
                  </a:lnTo>
                  <a:lnTo>
                    <a:pt x="5017" y="1488"/>
                  </a:lnTo>
                  <a:lnTo>
                    <a:pt x="5017" y="1552"/>
                  </a:lnTo>
                  <a:lnTo>
                    <a:pt x="4864" y="1569"/>
                  </a:lnTo>
                  <a:lnTo>
                    <a:pt x="4880" y="3039"/>
                  </a:lnTo>
                  <a:lnTo>
                    <a:pt x="4876" y="3082"/>
                  </a:lnTo>
                  <a:lnTo>
                    <a:pt x="4865" y="3123"/>
                  </a:lnTo>
                  <a:lnTo>
                    <a:pt x="4846" y="3164"/>
                  </a:lnTo>
                  <a:lnTo>
                    <a:pt x="4820" y="3203"/>
                  </a:lnTo>
                  <a:lnTo>
                    <a:pt x="4786" y="3242"/>
                  </a:lnTo>
                  <a:lnTo>
                    <a:pt x="4748" y="3279"/>
                  </a:lnTo>
                  <a:lnTo>
                    <a:pt x="4702" y="3315"/>
                  </a:lnTo>
                  <a:lnTo>
                    <a:pt x="4650" y="3350"/>
                  </a:lnTo>
                  <a:lnTo>
                    <a:pt x="4531" y="3417"/>
                  </a:lnTo>
                  <a:lnTo>
                    <a:pt x="4394" y="3478"/>
                  </a:lnTo>
                  <a:lnTo>
                    <a:pt x="4240" y="3535"/>
                  </a:lnTo>
                  <a:lnTo>
                    <a:pt x="4074" y="3586"/>
                  </a:lnTo>
                  <a:lnTo>
                    <a:pt x="3896" y="3633"/>
                  </a:lnTo>
                  <a:lnTo>
                    <a:pt x="3712" y="3674"/>
                  </a:lnTo>
                  <a:lnTo>
                    <a:pt x="3522" y="3710"/>
                  </a:lnTo>
                  <a:lnTo>
                    <a:pt x="3330" y="3740"/>
                  </a:lnTo>
                  <a:lnTo>
                    <a:pt x="3141" y="3765"/>
                  </a:lnTo>
                  <a:lnTo>
                    <a:pt x="2954" y="3783"/>
                  </a:lnTo>
                  <a:lnTo>
                    <a:pt x="2774" y="3795"/>
                  </a:lnTo>
                  <a:lnTo>
                    <a:pt x="2603" y="3802"/>
                  </a:lnTo>
                  <a:lnTo>
                    <a:pt x="2606" y="3802"/>
                  </a:lnTo>
                  <a:lnTo>
                    <a:pt x="2604" y="3802"/>
                  </a:lnTo>
                  <a:lnTo>
                    <a:pt x="2603" y="3802"/>
                  </a:lnTo>
                  <a:lnTo>
                    <a:pt x="2603" y="4171"/>
                  </a:lnTo>
                  <a:lnTo>
                    <a:pt x="2680" y="4231"/>
                  </a:lnTo>
                  <a:lnTo>
                    <a:pt x="2680" y="4795"/>
                  </a:lnTo>
                  <a:lnTo>
                    <a:pt x="4090" y="4702"/>
                  </a:lnTo>
                  <a:lnTo>
                    <a:pt x="4190" y="4735"/>
                  </a:lnTo>
                  <a:lnTo>
                    <a:pt x="4190" y="4909"/>
                  </a:lnTo>
                  <a:lnTo>
                    <a:pt x="4203" y="4994"/>
                  </a:lnTo>
                  <a:lnTo>
                    <a:pt x="4237" y="5002"/>
                  </a:lnTo>
                  <a:lnTo>
                    <a:pt x="4266" y="5016"/>
                  </a:lnTo>
                  <a:lnTo>
                    <a:pt x="4292" y="5036"/>
                  </a:lnTo>
                  <a:lnTo>
                    <a:pt x="4312" y="5061"/>
                  </a:lnTo>
                  <a:lnTo>
                    <a:pt x="4327" y="5088"/>
                  </a:lnTo>
                  <a:lnTo>
                    <a:pt x="4337" y="5120"/>
                  </a:lnTo>
                  <a:lnTo>
                    <a:pt x="4338" y="5152"/>
                  </a:lnTo>
                  <a:lnTo>
                    <a:pt x="4333" y="5186"/>
                  </a:lnTo>
                  <a:lnTo>
                    <a:pt x="4319" y="5218"/>
                  </a:lnTo>
                  <a:lnTo>
                    <a:pt x="4301" y="5245"/>
                  </a:lnTo>
                  <a:lnTo>
                    <a:pt x="4276" y="5267"/>
                  </a:lnTo>
                  <a:lnTo>
                    <a:pt x="4249" y="5283"/>
                  </a:lnTo>
                  <a:lnTo>
                    <a:pt x="4218" y="5293"/>
                  </a:lnTo>
                  <a:lnTo>
                    <a:pt x="4187" y="5297"/>
                  </a:lnTo>
                  <a:lnTo>
                    <a:pt x="4154" y="5293"/>
                  </a:lnTo>
                  <a:lnTo>
                    <a:pt x="4122" y="5282"/>
                  </a:lnTo>
                  <a:lnTo>
                    <a:pt x="4092" y="5264"/>
                  </a:lnTo>
                  <a:lnTo>
                    <a:pt x="4068" y="5240"/>
                  </a:lnTo>
                  <a:lnTo>
                    <a:pt x="4051" y="5213"/>
                  </a:lnTo>
                  <a:lnTo>
                    <a:pt x="4040" y="5183"/>
                  </a:lnTo>
                  <a:lnTo>
                    <a:pt x="4036" y="5150"/>
                  </a:lnTo>
                  <a:lnTo>
                    <a:pt x="4038" y="5119"/>
                  </a:lnTo>
                  <a:lnTo>
                    <a:pt x="4047" y="5086"/>
                  </a:lnTo>
                  <a:lnTo>
                    <a:pt x="4063" y="5057"/>
                  </a:lnTo>
                  <a:lnTo>
                    <a:pt x="4019" y="5017"/>
                  </a:lnTo>
                  <a:lnTo>
                    <a:pt x="4001" y="4997"/>
                  </a:lnTo>
                  <a:lnTo>
                    <a:pt x="3988" y="4976"/>
                  </a:lnTo>
                  <a:lnTo>
                    <a:pt x="3980" y="4952"/>
                  </a:lnTo>
                  <a:lnTo>
                    <a:pt x="3977" y="4925"/>
                  </a:lnTo>
                  <a:lnTo>
                    <a:pt x="3008" y="4999"/>
                  </a:lnTo>
                  <a:lnTo>
                    <a:pt x="4179" y="5538"/>
                  </a:lnTo>
                  <a:lnTo>
                    <a:pt x="4179" y="5711"/>
                  </a:lnTo>
                  <a:lnTo>
                    <a:pt x="4212" y="5799"/>
                  </a:lnTo>
                  <a:lnTo>
                    <a:pt x="4247" y="5799"/>
                  </a:lnTo>
                  <a:lnTo>
                    <a:pt x="4279" y="5807"/>
                  </a:lnTo>
                  <a:lnTo>
                    <a:pt x="4308" y="5821"/>
                  </a:lnTo>
                  <a:lnTo>
                    <a:pt x="4334" y="5842"/>
                  </a:lnTo>
                  <a:lnTo>
                    <a:pt x="4354" y="5866"/>
                  </a:lnTo>
                  <a:lnTo>
                    <a:pt x="4369" y="5895"/>
                  </a:lnTo>
                  <a:lnTo>
                    <a:pt x="4377" y="5926"/>
                  </a:lnTo>
                  <a:lnTo>
                    <a:pt x="4379" y="5961"/>
                  </a:lnTo>
                  <a:lnTo>
                    <a:pt x="4373" y="5995"/>
                  </a:lnTo>
                  <a:lnTo>
                    <a:pt x="4360" y="6025"/>
                  </a:lnTo>
                  <a:lnTo>
                    <a:pt x="4341" y="6052"/>
                  </a:lnTo>
                  <a:lnTo>
                    <a:pt x="4316" y="6073"/>
                  </a:lnTo>
                  <a:lnTo>
                    <a:pt x="4289" y="6090"/>
                  </a:lnTo>
                  <a:lnTo>
                    <a:pt x="4257" y="6099"/>
                  </a:lnTo>
                  <a:lnTo>
                    <a:pt x="4224" y="6102"/>
                  </a:lnTo>
                  <a:lnTo>
                    <a:pt x="4191" y="6098"/>
                  </a:lnTo>
                  <a:lnTo>
                    <a:pt x="4158" y="6085"/>
                  </a:lnTo>
                  <a:lnTo>
                    <a:pt x="4131" y="6068"/>
                  </a:lnTo>
                  <a:lnTo>
                    <a:pt x="4108" y="6045"/>
                  </a:lnTo>
                  <a:lnTo>
                    <a:pt x="4091" y="6017"/>
                  </a:lnTo>
                  <a:lnTo>
                    <a:pt x="4080" y="5987"/>
                  </a:lnTo>
                  <a:lnTo>
                    <a:pt x="4076" y="5955"/>
                  </a:lnTo>
                  <a:lnTo>
                    <a:pt x="4078" y="5921"/>
                  </a:lnTo>
                  <a:lnTo>
                    <a:pt x="4088" y="5889"/>
                  </a:lnTo>
                  <a:lnTo>
                    <a:pt x="3992" y="5808"/>
                  </a:lnTo>
                  <a:lnTo>
                    <a:pt x="3967" y="5781"/>
                  </a:lnTo>
                  <a:lnTo>
                    <a:pt x="3947" y="5748"/>
                  </a:lnTo>
                  <a:lnTo>
                    <a:pt x="3935" y="5713"/>
                  </a:lnTo>
                  <a:lnTo>
                    <a:pt x="3931" y="5676"/>
                  </a:lnTo>
                  <a:lnTo>
                    <a:pt x="2580" y="5055"/>
                  </a:lnTo>
                  <a:lnTo>
                    <a:pt x="2476" y="5055"/>
                  </a:lnTo>
                  <a:lnTo>
                    <a:pt x="1171" y="5655"/>
                  </a:lnTo>
                  <a:lnTo>
                    <a:pt x="1216" y="5798"/>
                  </a:lnTo>
                  <a:lnTo>
                    <a:pt x="1249" y="5801"/>
                  </a:lnTo>
                  <a:lnTo>
                    <a:pt x="1280" y="5810"/>
                  </a:lnTo>
                  <a:lnTo>
                    <a:pt x="1307" y="5825"/>
                  </a:lnTo>
                  <a:lnTo>
                    <a:pt x="1331" y="5846"/>
                  </a:lnTo>
                  <a:lnTo>
                    <a:pt x="1350" y="5871"/>
                  </a:lnTo>
                  <a:lnTo>
                    <a:pt x="1363" y="5900"/>
                  </a:lnTo>
                  <a:lnTo>
                    <a:pt x="1371" y="5930"/>
                  </a:lnTo>
                  <a:lnTo>
                    <a:pt x="1371" y="5964"/>
                  </a:lnTo>
                  <a:lnTo>
                    <a:pt x="1363" y="5997"/>
                  </a:lnTo>
                  <a:lnTo>
                    <a:pt x="1350" y="6026"/>
                  </a:lnTo>
                  <a:lnTo>
                    <a:pt x="1332" y="6052"/>
                  </a:lnTo>
                  <a:lnTo>
                    <a:pt x="1308" y="6073"/>
                  </a:lnTo>
                  <a:lnTo>
                    <a:pt x="1281" y="6088"/>
                  </a:lnTo>
                  <a:lnTo>
                    <a:pt x="1250" y="6099"/>
                  </a:lnTo>
                  <a:lnTo>
                    <a:pt x="1219" y="6102"/>
                  </a:lnTo>
                  <a:lnTo>
                    <a:pt x="1185" y="6098"/>
                  </a:lnTo>
                  <a:lnTo>
                    <a:pt x="1153" y="6086"/>
                  </a:lnTo>
                  <a:lnTo>
                    <a:pt x="1126" y="6070"/>
                  </a:lnTo>
                  <a:lnTo>
                    <a:pt x="1103" y="6048"/>
                  </a:lnTo>
                  <a:lnTo>
                    <a:pt x="1086" y="6022"/>
                  </a:lnTo>
                  <a:lnTo>
                    <a:pt x="1074" y="5994"/>
                  </a:lnTo>
                  <a:lnTo>
                    <a:pt x="1068" y="5962"/>
                  </a:lnTo>
                  <a:lnTo>
                    <a:pt x="1069" y="5930"/>
                  </a:lnTo>
                  <a:lnTo>
                    <a:pt x="1077" y="5898"/>
                  </a:lnTo>
                  <a:lnTo>
                    <a:pt x="983" y="5832"/>
                  </a:lnTo>
                  <a:lnTo>
                    <a:pt x="960" y="5811"/>
                  </a:lnTo>
                  <a:lnTo>
                    <a:pt x="942" y="5787"/>
                  </a:lnTo>
                  <a:lnTo>
                    <a:pt x="931" y="5758"/>
                  </a:lnTo>
                  <a:lnTo>
                    <a:pt x="927" y="5728"/>
                  </a:lnTo>
                  <a:lnTo>
                    <a:pt x="878" y="5711"/>
                  </a:lnTo>
                  <a:lnTo>
                    <a:pt x="878" y="5538"/>
                  </a:lnTo>
                  <a:lnTo>
                    <a:pt x="2049" y="4999"/>
                  </a:lnTo>
                  <a:lnTo>
                    <a:pt x="1093" y="4926"/>
                  </a:lnTo>
                  <a:lnTo>
                    <a:pt x="1104" y="5012"/>
                  </a:lnTo>
                  <a:lnTo>
                    <a:pt x="1137" y="5019"/>
                  </a:lnTo>
                  <a:lnTo>
                    <a:pt x="1167" y="5031"/>
                  </a:lnTo>
                  <a:lnTo>
                    <a:pt x="1192" y="5051"/>
                  </a:lnTo>
                  <a:lnTo>
                    <a:pt x="1214" y="5074"/>
                  </a:lnTo>
                  <a:lnTo>
                    <a:pt x="1229" y="5101"/>
                  </a:lnTo>
                  <a:lnTo>
                    <a:pt x="1239" y="5132"/>
                  </a:lnTo>
                  <a:lnTo>
                    <a:pt x="1241" y="5165"/>
                  </a:lnTo>
                  <a:lnTo>
                    <a:pt x="1237" y="5198"/>
                  </a:lnTo>
                  <a:lnTo>
                    <a:pt x="1226" y="5230"/>
                  </a:lnTo>
                  <a:lnTo>
                    <a:pt x="1208" y="5257"/>
                  </a:lnTo>
                  <a:lnTo>
                    <a:pt x="1186" y="5280"/>
                  </a:lnTo>
                  <a:lnTo>
                    <a:pt x="1160" y="5297"/>
                  </a:lnTo>
                  <a:lnTo>
                    <a:pt x="1129" y="5308"/>
                  </a:lnTo>
                  <a:lnTo>
                    <a:pt x="1097" y="5314"/>
                  </a:lnTo>
                  <a:lnTo>
                    <a:pt x="1065" y="5312"/>
                  </a:lnTo>
                  <a:lnTo>
                    <a:pt x="1032" y="5302"/>
                  </a:lnTo>
                  <a:lnTo>
                    <a:pt x="1003" y="5286"/>
                  </a:lnTo>
                  <a:lnTo>
                    <a:pt x="978" y="5265"/>
                  </a:lnTo>
                  <a:lnTo>
                    <a:pt x="960" y="5238"/>
                  </a:lnTo>
                  <a:lnTo>
                    <a:pt x="946" y="5210"/>
                  </a:lnTo>
                  <a:lnTo>
                    <a:pt x="940" y="5179"/>
                  </a:lnTo>
                  <a:lnTo>
                    <a:pt x="939" y="5146"/>
                  </a:lnTo>
                  <a:lnTo>
                    <a:pt x="946" y="5115"/>
                  </a:lnTo>
                  <a:lnTo>
                    <a:pt x="961" y="5084"/>
                  </a:lnTo>
                  <a:lnTo>
                    <a:pt x="904" y="5014"/>
                  </a:lnTo>
                  <a:lnTo>
                    <a:pt x="888" y="4990"/>
                  </a:lnTo>
                  <a:lnTo>
                    <a:pt x="876" y="4965"/>
                  </a:lnTo>
                  <a:lnTo>
                    <a:pt x="869" y="4937"/>
                  </a:lnTo>
                  <a:lnTo>
                    <a:pt x="867" y="4909"/>
                  </a:lnTo>
                  <a:lnTo>
                    <a:pt x="867" y="4735"/>
                  </a:lnTo>
                  <a:lnTo>
                    <a:pt x="967" y="4702"/>
                  </a:lnTo>
                  <a:lnTo>
                    <a:pt x="2377" y="4795"/>
                  </a:lnTo>
                  <a:lnTo>
                    <a:pt x="2377" y="4231"/>
                  </a:lnTo>
                  <a:lnTo>
                    <a:pt x="2453" y="4171"/>
                  </a:lnTo>
                  <a:lnTo>
                    <a:pt x="2453" y="3803"/>
                  </a:lnTo>
                  <a:lnTo>
                    <a:pt x="2279" y="3796"/>
                  </a:lnTo>
                  <a:lnTo>
                    <a:pt x="2202" y="3788"/>
                  </a:lnTo>
                  <a:lnTo>
                    <a:pt x="2132" y="3779"/>
                  </a:lnTo>
                  <a:lnTo>
                    <a:pt x="1870" y="385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>
              <a:off x="6737400" y="3494160"/>
              <a:ext cx="504720" cy="393480"/>
            </a:xfrm>
            <a:custGeom>
              <a:avLst/>
              <a:gdLst/>
              <a:ahLst/>
              <a:rect l="l" t="t" r="r" b="b"/>
              <a:pathLst>
                <a:path w="1271" h="992">
                  <a:moveTo>
                    <a:pt x="212" y="992"/>
                  </a:moveTo>
                  <a:lnTo>
                    <a:pt x="139" y="964"/>
                  </a:lnTo>
                  <a:lnTo>
                    <a:pt x="0" y="111"/>
                  </a:lnTo>
                  <a:lnTo>
                    <a:pt x="55" y="117"/>
                  </a:lnTo>
                  <a:lnTo>
                    <a:pt x="122" y="119"/>
                  </a:lnTo>
                  <a:lnTo>
                    <a:pt x="200" y="115"/>
                  </a:lnTo>
                  <a:lnTo>
                    <a:pt x="293" y="106"/>
                  </a:lnTo>
                  <a:lnTo>
                    <a:pt x="1247" y="0"/>
                  </a:lnTo>
                  <a:lnTo>
                    <a:pt x="1271" y="481"/>
                  </a:lnTo>
                  <a:lnTo>
                    <a:pt x="1120" y="498"/>
                  </a:lnTo>
                  <a:lnTo>
                    <a:pt x="983" y="511"/>
                  </a:lnTo>
                  <a:lnTo>
                    <a:pt x="750" y="524"/>
                  </a:lnTo>
                  <a:lnTo>
                    <a:pt x="565" y="534"/>
                  </a:lnTo>
                  <a:lnTo>
                    <a:pt x="490" y="542"/>
                  </a:lnTo>
                  <a:lnTo>
                    <a:pt x="464" y="546"/>
                  </a:lnTo>
                  <a:lnTo>
                    <a:pt x="425" y="554"/>
                  </a:lnTo>
                  <a:lnTo>
                    <a:pt x="370" y="573"/>
                  </a:lnTo>
                  <a:lnTo>
                    <a:pt x="324" y="598"/>
                  </a:lnTo>
                  <a:lnTo>
                    <a:pt x="305" y="614"/>
                  </a:lnTo>
                  <a:lnTo>
                    <a:pt x="288" y="632"/>
                  </a:lnTo>
                  <a:lnTo>
                    <a:pt x="272" y="653"/>
                  </a:lnTo>
                  <a:lnTo>
                    <a:pt x="259" y="677"/>
                  </a:lnTo>
                  <a:lnTo>
                    <a:pt x="238" y="734"/>
                  </a:lnTo>
                  <a:lnTo>
                    <a:pt x="223" y="804"/>
                  </a:lnTo>
                  <a:lnTo>
                    <a:pt x="215" y="889"/>
                  </a:lnTo>
                  <a:lnTo>
                    <a:pt x="212" y="99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H="1">
              <a:off x="6249960" y="3398760"/>
              <a:ext cx="409680" cy="279360"/>
            </a:xfrm>
            <a:custGeom>
              <a:avLst/>
              <a:gdLst/>
              <a:ahLst/>
              <a:rect l="l" t="t" r="r" b="b"/>
              <a:pathLst>
                <a:path w="1033" h="704">
                  <a:moveTo>
                    <a:pt x="24" y="704"/>
                  </a:moveTo>
                  <a:lnTo>
                    <a:pt x="0" y="217"/>
                  </a:lnTo>
                  <a:lnTo>
                    <a:pt x="719" y="138"/>
                  </a:lnTo>
                  <a:lnTo>
                    <a:pt x="805" y="122"/>
                  </a:lnTo>
                  <a:lnTo>
                    <a:pt x="843" y="110"/>
                  </a:lnTo>
                  <a:lnTo>
                    <a:pt x="876" y="95"/>
                  </a:lnTo>
                  <a:lnTo>
                    <a:pt x="905" y="77"/>
                  </a:lnTo>
                  <a:lnTo>
                    <a:pt x="930" y="55"/>
                  </a:lnTo>
                  <a:lnTo>
                    <a:pt x="950" y="30"/>
                  </a:lnTo>
                  <a:lnTo>
                    <a:pt x="965" y="0"/>
                  </a:lnTo>
                  <a:lnTo>
                    <a:pt x="1033" y="422"/>
                  </a:lnTo>
                  <a:lnTo>
                    <a:pt x="945" y="451"/>
                  </a:lnTo>
                  <a:lnTo>
                    <a:pt x="850" y="484"/>
                  </a:lnTo>
                  <a:lnTo>
                    <a:pt x="634" y="560"/>
                  </a:lnTo>
                  <a:lnTo>
                    <a:pt x="507" y="600"/>
                  </a:lnTo>
                  <a:lnTo>
                    <a:pt x="364" y="637"/>
                  </a:lnTo>
                  <a:lnTo>
                    <a:pt x="204" y="673"/>
                  </a:lnTo>
                  <a:lnTo>
                    <a:pt x="24" y="70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>
              <a:off x="5580000" y="3193920"/>
              <a:ext cx="649440" cy="497160"/>
            </a:xfrm>
            <a:custGeom>
              <a:avLst/>
              <a:gdLst/>
              <a:ahLst/>
              <a:rect l="l" t="t" r="r" b="b"/>
              <a:pathLst>
                <a:path w="1639" h="1252">
                  <a:moveTo>
                    <a:pt x="146" y="901"/>
                  </a:moveTo>
                  <a:lnTo>
                    <a:pt x="0" y="0"/>
                  </a:lnTo>
                  <a:lnTo>
                    <a:pt x="1625" y="82"/>
                  </a:lnTo>
                  <a:lnTo>
                    <a:pt x="1639" y="1252"/>
                  </a:lnTo>
                  <a:lnTo>
                    <a:pt x="367" y="924"/>
                  </a:lnTo>
                  <a:lnTo>
                    <a:pt x="309" y="912"/>
                  </a:lnTo>
                  <a:lnTo>
                    <a:pt x="253" y="904"/>
                  </a:lnTo>
                  <a:lnTo>
                    <a:pt x="199" y="900"/>
                  </a:lnTo>
                  <a:lnTo>
                    <a:pt x="146" y="90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H="1">
              <a:off x="6589800" y="3228840"/>
              <a:ext cx="774720" cy="135000"/>
            </a:xfrm>
            <a:custGeom>
              <a:avLst/>
              <a:gdLst/>
              <a:ahLst/>
              <a:rect l="l" t="t" r="r" b="b"/>
              <a:pathLst>
                <a:path w="1952" h="339">
                  <a:moveTo>
                    <a:pt x="54" y="10"/>
                  </a:moveTo>
                  <a:lnTo>
                    <a:pt x="137" y="0"/>
                  </a:lnTo>
                  <a:lnTo>
                    <a:pt x="1952" y="241"/>
                  </a:lnTo>
                  <a:lnTo>
                    <a:pt x="1952" y="305"/>
                  </a:lnTo>
                  <a:lnTo>
                    <a:pt x="1659" y="339"/>
                  </a:lnTo>
                  <a:lnTo>
                    <a:pt x="0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H="1">
              <a:off x="6589800" y="3241800"/>
              <a:ext cx="836640" cy="96840"/>
            </a:xfrm>
            <a:custGeom>
              <a:avLst/>
              <a:gdLst/>
              <a:ahLst/>
              <a:rect l="l" t="t" r="r" b="b"/>
              <a:pathLst>
                <a:path w="2108" h="242">
                  <a:moveTo>
                    <a:pt x="0" y="0"/>
                  </a:moveTo>
                  <a:lnTo>
                    <a:pt x="1815" y="242"/>
                  </a:lnTo>
                  <a:lnTo>
                    <a:pt x="2108" y="2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 flipH="1">
              <a:off x="6703560" y="333864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 flipH="1">
              <a:off x="6659280" y="3359160"/>
              <a:ext cx="612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V="1">
              <a:off x="6746760" y="3357360"/>
              <a:ext cx="648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 flipH="1">
              <a:off x="6683040" y="3360600"/>
              <a:ext cx="36360" cy="76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 flipV="1">
              <a:off x="6629400" y="3677760"/>
              <a:ext cx="20520" cy="43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 flipH="1">
              <a:off x="6719760" y="3686040"/>
              <a:ext cx="509760" cy="393840"/>
            </a:xfrm>
            <a:custGeom>
              <a:avLst/>
              <a:gdLst/>
              <a:ahLst/>
              <a:rect l="l" t="t" r="r" b="b"/>
              <a:pathLst>
                <a:path w="1283" h="993">
                  <a:moveTo>
                    <a:pt x="1238" y="0"/>
                  </a:moveTo>
                  <a:lnTo>
                    <a:pt x="1283" y="993"/>
                  </a:lnTo>
                  <a:lnTo>
                    <a:pt x="0" y="5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H="1">
              <a:off x="6719400" y="3887640"/>
              <a:ext cx="438120" cy="16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 flipH="1">
              <a:off x="6579360" y="4086360"/>
              <a:ext cx="50760" cy="12600"/>
            </a:xfrm>
            <a:custGeom>
              <a:avLst/>
              <a:gdLst/>
              <a:ahLst/>
              <a:rect l="l" t="t" r="r" b="b"/>
              <a:pathLst>
                <a:path w="129" h="33">
                  <a:moveTo>
                    <a:pt x="0" y="0"/>
                  </a:moveTo>
                  <a:lnTo>
                    <a:pt x="59" y="19"/>
                  </a:lnTo>
                  <a:lnTo>
                    <a:pt x="129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 flipH="1">
              <a:off x="6725520" y="3713040"/>
              <a:ext cx="384120" cy="204840"/>
            </a:xfrm>
            <a:custGeom>
              <a:avLst/>
              <a:gdLst/>
              <a:ahLst/>
              <a:rect l="l" t="t" r="r" b="b"/>
              <a:pathLst>
                <a:path w="968" h="514">
                  <a:moveTo>
                    <a:pt x="968" y="514"/>
                  </a:moveTo>
                  <a:lnTo>
                    <a:pt x="798" y="468"/>
                  </a:lnTo>
                  <a:lnTo>
                    <a:pt x="646" y="423"/>
                  </a:lnTo>
                  <a:lnTo>
                    <a:pt x="511" y="380"/>
                  </a:lnTo>
                  <a:lnTo>
                    <a:pt x="394" y="337"/>
                  </a:lnTo>
                  <a:lnTo>
                    <a:pt x="293" y="296"/>
                  </a:lnTo>
                  <a:lnTo>
                    <a:pt x="208" y="257"/>
                  </a:lnTo>
                  <a:lnTo>
                    <a:pt x="137" y="221"/>
                  </a:lnTo>
                  <a:lnTo>
                    <a:pt x="82" y="186"/>
                  </a:lnTo>
                  <a:lnTo>
                    <a:pt x="41" y="152"/>
                  </a:lnTo>
                  <a:lnTo>
                    <a:pt x="14" y="123"/>
                  </a:lnTo>
                  <a:lnTo>
                    <a:pt x="1" y="95"/>
                  </a:lnTo>
                  <a:lnTo>
                    <a:pt x="0" y="70"/>
                  </a:lnTo>
                  <a:lnTo>
                    <a:pt x="11" y="47"/>
                  </a:lnTo>
                  <a:lnTo>
                    <a:pt x="34" y="29"/>
                  </a:lnTo>
                  <a:lnTo>
                    <a:pt x="69" y="13"/>
                  </a:lnTo>
                  <a:lnTo>
                    <a:pt x="1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 flipH="1" flipV="1">
              <a:off x="7186320" y="3878280"/>
              <a:ext cx="428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 flipV="1">
              <a:off x="7223040" y="3281400"/>
              <a:ext cx="10332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 flipH="1">
              <a:off x="7242120" y="3286080"/>
              <a:ext cx="39600" cy="25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 flipV="1">
              <a:off x="7184880" y="3294000"/>
              <a:ext cx="3996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 flipH="1">
              <a:off x="6430320" y="2608200"/>
              <a:ext cx="871560" cy="630360"/>
            </a:xfrm>
            <a:custGeom>
              <a:avLst/>
              <a:gdLst/>
              <a:ahLst/>
              <a:rect l="l" t="t" r="r" b="b"/>
              <a:pathLst>
                <a:path w="2197" h="1589">
                  <a:moveTo>
                    <a:pt x="173" y="1589"/>
                  </a:moveTo>
                  <a:lnTo>
                    <a:pt x="4" y="544"/>
                  </a:lnTo>
                  <a:lnTo>
                    <a:pt x="1" y="513"/>
                  </a:lnTo>
                  <a:lnTo>
                    <a:pt x="0" y="482"/>
                  </a:lnTo>
                  <a:lnTo>
                    <a:pt x="9" y="422"/>
                  </a:lnTo>
                  <a:lnTo>
                    <a:pt x="19" y="394"/>
                  </a:lnTo>
                  <a:lnTo>
                    <a:pt x="30" y="367"/>
                  </a:lnTo>
                  <a:lnTo>
                    <a:pt x="60" y="317"/>
                  </a:lnTo>
                  <a:lnTo>
                    <a:pt x="100" y="274"/>
                  </a:lnTo>
                  <a:lnTo>
                    <a:pt x="124" y="256"/>
                  </a:lnTo>
                  <a:lnTo>
                    <a:pt x="148" y="239"/>
                  </a:lnTo>
                  <a:lnTo>
                    <a:pt x="203" y="215"/>
                  </a:lnTo>
                  <a:lnTo>
                    <a:pt x="264" y="202"/>
                  </a:lnTo>
                  <a:lnTo>
                    <a:pt x="2073" y="2"/>
                  </a:lnTo>
                  <a:lnTo>
                    <a:pt x="2106" y="0"/>
                  </a:lnTo>
                  <a:lnTo>
                    <a:pt x="2137" y="3"/>
                  </a:lnTo>
                  <a:lnTo>
                    <a:pt x="2168" y="11"/>
                  </a:lnTo>
                  <a:lnTo>
                    <a:pt x="2197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 flipH="1">
              <a:off x="6269760" y="3146400"/>
              <a:ext cx="33480" cy="252360"/>
            </a:xfrm>
            <a:custGeom>
              <a:avLst/>
              <a:gdLst/>
              <a:ahLst/>
              <a:rect l="l" t="t" r="r" b="b"/>
              <a:pathLst>
                <a:path w="82" h="638">
                  <a:moveTo>
                    <a:pt x="0" y="0"/>
                  </a:moveTo>
                  <a:lnTo>
                    <a:pt x="77" y="484"/>
                  </a:lnTo>
                  <a:lnTo>
                    <a:pt x="82" y="529"/>
                  </a:lnTo>
                  <a:lnTo>
                    <a:pt x="82" y="570"/>
                  </a:lnTo>
                  <a:lnTo>
                    <a:pt x="78" y="605"/>
                  </a:lnTo>
                  <a:lnTo>
                    <a:pt x="68" y="6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 flipH="1">
              <a:off x="6172200" y="3552840"/>
              <a:ext cx="77760" cy="1440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0" y="37"/>
                  </a:moveTo>
                  <a:lnTo>
                    <a:pt x="98" y="13"/>
                  </a:lnTo>
                  <a:lnTo>
                    <a:pt x="1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 flipV="1">
              <a:off x="6216480" y="3192120"/>
              <a:ext cx="59040" cy="36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H="1">
              <a:off x="6229080" y="3191040"/>
              <a:ext cx="680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flipH="1">
              <a:off x="5434920" y="3165480"/>
              <a:ext cx="865080" cy="38160"/>
            </a:xfrm>
            <a:custGeom>
              <a:avLst/>
              <a:gdLst/>
              <a:ahLst/>
              <a:rect l="l" t="t" r="r" b="b"/>
              <a:pathLst>
                <a:path w="2182" h="94">
                  <a:moveTo>
                    <a:pt x="0" y="0"/>
                  </a:moveTo>
                  <a:lnTo>
                    <a:pt x="1889" y="94"/>
                  </a:lnTo>
                  <a:lnTo>
                    <a:pt x="2182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>
              <a:off x="5495040" y="3222720"/>
              <a:ext cx="88920" cy="6120"/>
            </a:xfrm>
            <a:custGeom>
              <a:avLst/>
              <a:gdLst/>
              <a:ahLst/>
              <a:rect l="l" t="t" r="r" b="b"/>
              <a:pathLst>
                <a:path w="225" h="17">
                  <a:moveTo>
                    <a:pt x="225" y="0"/>
                  </a:moveTo>
                  <a:lnTo>
                    <a:pt x="85" y="1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 flipH="1">
              <a:off x="5545080" y="3203640"/>
              <a:ext cx="6480" cy="498240"/>
            </a:xfrm>
            <a:custGeom>
              <a:avLst/>
              <a:gdLst/>
              <a:ahLst/>
              <a:rect l="l" t="t" r="r" b="b"/>
              <a:pathLst>
                <a:path w="13" h="1258">
                  <a:moveTo>
                    <a:pt x="0" y="0"/>
                  </a:moveTo>
                  <a:lnTo>
                    <a:pt x="0" y="64"/>
                  </a:lnTo>
                  <a:lnTo>
                    <a:pt x="13" y="12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 flipH="1">
              <a:off x="5488920" y="3691080"/>
              <a:ext cx="90360" cy="114120"/>
            </a:xfrm>
            <a:custGeom>
              <a:avLst/>
              <a:gdLst/>
              <a:ahLst/>
              <a:rect l="l" t="t" r="r" b="b"/>
              <a:pathLst>
                <a:path w="227" h="287">
                  <a:moveTo>
                    <a:pt x="0" y="0"/>
                  </a:moveTo>
                  <a:lnTo>
                    <a:pt x="57" y="18"/>
                  </a:lnTo>
                  <a:lnTo>
                    <a:pt x="105" y="37"/>
                  </a:lnTo>
                  <a:lnTo>
                    <a:pt x="143" y="60"/>
                  </a:lnTo>
                  <a:lnTo>
                    <a:pt x="175" y="90"/>
                  </a:lnTo>
                  <a:lnTo>
                    <a:pt x="199" y="126"/>
                  </a:lnTo>
                  <a:lnTo>
                    <a:pt x="215" y="170"/>
                  </a:lnTo>
                  <a:lnTo>
                    <a:pt x="224" y="223"/>
                  </a:lnTo>
                  <a:lnTo>
                    <a:pt x="227" y="2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5515920" y="3701880"/>
              <a:ext cx="1120680" cy="265320"/>
            </a:xfrm>
            <a:custGeom>
              <a:avLst/>
              <a:gdLst/>
              <a:ahLst/>
              <a:rect l="l" t="t" r="r" b="b"/>
              <a:pathLst>
                <a:path w="2823" h="667">
                  <a:moveTo>
                    <a:pt x="2750" y="0"/>
                  </a:moveTo>
                  <a:lnTo>
                    <a:pt x="2774" y="11"/>
                  </a:lnTo>
                  <a:lnTo>
                    <a:pt x="2793" y="22"/>
                  </a:lnTo>
                  <a:lnTo>
                    <a:pt x="2817" y="47"/>
                  </a:lnTo>
                  <a:lnTo>
                    <a:pt x="2822" y="60"/>
                  </a:lnTo>
                  <a:lnTo>
                    <a:pt x="2823" y="73"/>
                  </a:lnTo>
                  <a:lnTo>
                    <a:pt x="2812" y="101"/>
                  </a:lnTo>
                  <a:lnTo>
                    <a:pt x="2785" y="130"/>
                  </a:lnTo>
                  <a:lnTo>
                    <a:pt x="2743" y="160"/>
                  </a:lnTo>
                  <a:lnTo>
                    <a:pt x="2689" y="190"/>
                  </a:lnTo>
                  <a:lnTo>
                    <a:pt x="2621" y="222"/>
                  </a:lnTo>
                  <a:lnTo>
                    <a:pt x="2453" y="286"/>
                  </a:lnTo>
                  <a:lnTo>
                    <a:pt x="2247" y="351"/>
                  </a:lnTo>
                  <a:lnTo>
                    <a:pt x="2011" y="413"/>
                  </a:lnTo>
                  <a:lnTo>
                    <a:pt x="1756" y="472"/>
                  </a:lnTo>
                  <a:lnTo>
                    <a:pt x="1488" y="526"/>
                  </a:lnTo>
                  <a:lnTo>
                    <a:pt x="1218" y="574"/>
                  </a:lnTo>
                  <a:lnTo>
                    <a:pt x="952" y="614"/>
                  </a:lnTo>
                  <a:lnTo>
                    <a:pt x="824" y="630"/>
                  </a:lnTo>
                  <a:lnTo>
                    <a:pt x="700" y="643"/>
                  </a:lnTo>
                  <a:lnTo>
                    <a:pt x="471" y="662"/>
                  </a:lnTo>
                  <a:lnTo>
                    <a:pt x="367" y="666"/>
                  </a:lnTo>
                  <a:lnTo>
                    <a:pt x="272" y="667"/>
                  </a:lnTo>
                  <a:lnTo>
                    <a:pt x="187" y="664"/>
                  </a:lnTo>
                  <a:lnTo>
                    <a:pt x="113" y="657"/>
                  </a:lnTo>
                  <a:lnTo>
                    <a:pt x="49" y="646"/>
                  </a:lnTo>
                  <a:lnTo>
                    <a:pt x="0" y="6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H="1" flipV="1">
              <a:off x="6392520" y="410796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 flipH="1">
              <a:off x="6392160" y="4254480"/>
              <a:ext cx="58680" cy="9720"/>
            </a:xfrm>
            <a:custGeom>
              <a:avLst/>
              <a:gdLst/>
              <a:ahLst/>
              <a:rect l="l" t="t" r="r" b="b"/>
              <a:pathLst>
                <a:path w="150" h="23">
                  <a:moveTo>
                    <a:pt x="150" y="0"/>
                  </a:moveTo>
                  <a:lnTo>
                    <a:pt x="144" y="10"/>
                  </a:lnTo>
                  <a:lnTo>
                    <a:pt x="127" y="17"/>
                  </a:lnTo>
                  <a:lnTo>
                    <a:pt x="102" y="22"/>
                  </a:lnTo>
                  <a:lnTo>
                    <a:pt x="76" y="23"/>
                  </a:lnTo>
                  <a:lnTo>
                    <a:pt x="48" y="22"/>
                  </a:lnTo>
                  <a:lnTo>
                    <a:pt x="24" y="17"/>
                  </a:lnTo>
                  <a:lnTo>
                    <a:pt x="7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H="1">
              <a:off x="6361920" y="4278240"/>
              <a:ext cx="120600" cy="19080"/>
            </a:xfrm>
            <a:custGeom>
              <a:avLst/>
              <a:gdLst/>
              <a:ahLst/>
              <a:rect l="l" t="t" r="r" b="b"/>
              <a:pathLst>
                <a:path w="303" h="49">
                  <a:moveTo>
                    <a:pt x="0" y="0"/>
                  </a:moveTo>
                  <a:lnTo>
                    <a:pt x="3" y="11"/>
                  </a:lnTo>
                  <a:lnTo>
                    <a:pt x="13" y="21"/>
                  </a:lnTo>
                  <a:lnTo>
                    <a:pt x="47" y="36"/>
                  </a:lnTo>
                  <a:lnTo>
                    <a:pt x="96" y="46"/>
                  </a:lnTo>
                  <a:lnTo>
                    <a:pt x="152" y="49"/>
                  </a:lnTo>
                  <a:lnTo>
                    <a:pt x="207" y="46"/>
                  </a:lnTo>
                  <a:lnTo>
                    <a:pt x="256" y="36"/>
                  </a:lnTo>
                  <a:lnTo>
                    <a:pt x="290" y="21"/>
                  </a:lnTo>
                  <a:lnTo>
                    <a:pt x="300" y="11"/>
                  </a:lnTo>
                  <a:lnTo>
                    <a:pt x="302" y="7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H="1">
              <a:off x="6361920" y="4343400"/>
              <a:ext cx="120600" cy="20520"/>
            </a:xfrm>
            <a:custGeom>
              <a:avLst/>
              <a:gdLst/>
              <a:ahLst/>
              <a:rect l="l" t="t" r="r" b="b"/>
              <a:pathLst>
                <a:path w="303" h="49">
                  <a:moveTo>
                    <a:pt x="303" y="0"/>
                  </a:moveTo>
                  <a:lnTo>
                    <a:pt x="300" y="11"/>
                  </a:lnTo>
                  <a:lnTo>
                    <a:pt x="290" y="21"/>
                  </a:lnTo>
                  <a:lnTo>
                    <a:pt x="256" y="37"/>
                  </a:lnTo>
                  <a:lnTo>
                    <a:pt x="207" y="46"/>
                  </a:lnTo>
                  <a:lnTo>
                    <a:pt x="152" y="49"/>
                  </a:lnTo>
                  <a:lnTo>
                    <a:pt x="96" y="46"/>
                  </a:lnTo>
                  <a:lnTo>
                    <a:pt x="47" y="37"/>
                  </a:lnTo>
                  <a:lnTo>
                    <a:pt x="13" y="21"/>
                  </a:lnTo>
                  <a:lnTo>
                    <a:pt x="3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443640" y="4535640"/>
              <a:ext cx="593640" cy="27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 flipH="1">
              <a:off x="6960600" y="4843440"/>
              <a:ext cx="96840" cy="34920"/>
            </a:xfrm>
            <a:custGeom>
              <a:avLst/>
              <a:gdLst/>
              <a:ahLst/>
              <a:rect l="l" t="t" r="r" b="b"/>
              <a:pathLst>
                <a:path w="243" h="89">
                  <a:moveTo>
                    <a:pt x="243" y="0"/>
                  </a:moveTo>
                  <a:lnTo>
                    <a:pt x="49" y="89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 flipH="1">
              <a:off x="6934320" y="4900680"/>
              <a:ext cx="63360" cy="58680"/>
            </a:xfrm>
            <a:custGeom>
              <a:avLst/>
              <a:gdLst/>
              <a:ahLst/>
              <a:rect l="l" t="t" r="r" b="b"/>
              <a:pathLst>
                <a:path w="159" h="150">
                  <a:moveTo>
                    <a:pt x="138" y="0"/>
                  </a:moveTo>
                  <a:lnTo>
                    <a:pt x="156" y="63"/>
                  </a:lnTo>
                  <a:lnTo>
                    <a:pt x="159" y="84"/>
                  </a:lnTo>
                  <a:lnTo>
                    <a:pt x="156" y="104"/>
                  </a:lnTo>
                  <a:lnTo>
                    <a:pt x="147" y="122"/>
                  </a:lnTo>
                  <a:lnTo>
                    <a:pt x="132" y="137"/>
                  </a:lnTo>
                  <a:lnTo>
                    <a:pt x="113" y="146"/>
                  </a:lnTo>
                  <a:lnTo>
                    <a:pt x="94" y="150"/>
                  </a:lnTo>
                  <a:lnTo>
                    <a:pt x="73" y="147"/>
                  </a:lnTo>
                  <a:lnTo>
                    <a:pt x="54" y="138"/>
                  </a:lnTo>
                  <a:lnTo>
                    <a:pt x="0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 flipH="1">
              <a:off x="7036560" y="4797360"/>
              <a:ext cx="39960" cy="81000"/>
            </a:xfrm>
            <a:custGeom>
              <a:avLst/>
              <a:gdLst/>
              <a:ahLst/>
              <a:rect l="l" t="t" r="r" b="b"/>
              <a:pathLst>
                <a:path w="99" h="206">
                  <a:moveTo>
                    <a:pt x="99" y="206"/>
                  </a:moveTo>
                  <a:lnTo>
                    <a:pt x="99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H="1">
              <a:off x="6984360" y="4587840"/>
              <a:ext cx="60120" cy="55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3" y="0"/>
                  </a:moveTo>
                  <a:lnTo>
                    <a:pt x="152" y="65"/>
                  </a:lnTo>
                  <a:lnTo>
                    <a:pt x="151" y="86"/>
                  </a:lnTo>
                  <a:lnTo>
                    <a:pt x="143" y="107"/>
                  </a:lnTo>
                  <a:lnTo>
                    <a:pt x="130" y="123"/>
                  </a:lnTo>
                  <a:lnTo>
                    <a:pt x="112" y="135"/>
                  </a:lnTo>
                  <a:lnTo>
                    <a:pt x="90" y="140"/>
                  </a:lnTo>
                  <a:lnTo>
                    <a:pt x="70" y="138"/>
                  </a:lnTo>
                  <a:lnTo>
                    <a:pt x="51" y="129"/>
                  </a:lnTo>
                  <a:lnTo>
                    <a:pt x="34" y="115"/>
                  </a:lnTo>
                  <a:lnTo>
                    <a:pt x="0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V="1">
              <a:off x="6991200" y="4546440"/>
              <a:ext cx="907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 flipH="1">
              <a:off x="6482880" y="4478400"/>
              <a:ext cx="598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H="1">
              <a:off x="6483240" y="4502160"/>
              <a:ext cx="130320" cy="81000"/>
            </a:xfrm>
            <a:custGeom>
              <a:avLst/>
              <a:gdLst/>
              <a:ahLst/>
              <a:rect l="l" t="t" r="r" b="b"/>
              <a:pathLst>
                <a:path w="328" h="204">
                  <a:moveTo>
                    <a:pt x="0" y="204"/>
                  </a:moveTo>
                  <a:lnTo>
                    <a:pt x="328" y="53"/>
                  </a:lnTo>
                  <a:lnTo>
                    <a:pt x="32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6443640" y="4522680"/>
              <a:ext cx="396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H="1">
              <a:off x="6401520" y="4444920"/>
              <a:ext cx="41400" cy="160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 flipH="1" flipV="1">
              <a:off x="6362640" y="4522680"/>
              <a:ext cx="396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 flipH="1">
              <a:off x="6231960" y="4502160"/>
              <a:ext cx="129960" cy="81000"/>
            </a:xfrm>
            <a:custGeom>
              <a:avLst/>
              <a:gdLst/>
              <a:ahLst/>
              <a:rect l="l" t="t" r="r" b="b"/>
              <a:pathLst>
                <a:path w="328" h="204">
                  <a:moveTo>
                    <a:pt x="0" y="0"/>
                  </a:moveTo>
                  <a:lnTo>
                    <a:pt x="0" y="53"/>
                  </a:lnTo>
                  <a:lnTo>
                    <a:pt x="328" y="2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 flipH="1" flipV="1">
              <a:off x="5762160" y="4478400"/>
              <a:ext cx="60012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5762520" y="4546440"/>
              <a:ext cx="85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H="1">
              <a:off x="5753880" y="4581360"/>
              <a:ext cx="58680" cy="49320"/>
            </a:xfrm>
            <a:custGeom>
              <a:avLst/>
              <a:gdLst/>
              <a:ahLst/>
              <a:rect l="l" t="t" r="r" b="b"/>
              <a:pathLst>
                <a:path w="147" h="125">
                  <a:moveTo>
                    <a:pt x="0" y="63"/>
                  </a:moveTo>
                  <a:lnTo>
                    <a:pt x="55" y="112"/>
                  </a:lnTo>
                  <a:lnTo>
                    <a:pt x="70" y="121"/>
                  </a:lnTo>
                  <a:lnTo>
                    <a:pt x="86" y="125"/>
                  </a:lnTo>
                  <a:lnTo>
                    <a:pt x="103" y="124"/>
                  </a:lnTo>
                  <a:lnTo>
                    <a:pt x="120" y="118"/>
                  </a:lnTo>
                  <a:lnTo>
                    <a:pt x="133" y="107"/>
                  </a:lnTo>
                  <a:lnTo>
                    <a:pt x="143" y="94"/>
                  </a:lnTo>
                  <a:lnTo>
                    <a:pt x="147" y="78"/>
                  </a:lnTo>
                  <a:lnTo>
                    <a:pt x="147" y="61"/>
                  </a:lnTo>
                  <a:lnTo>
                    <a:pt x="1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 flipH="1">
              <a:off x="5767560" y="4797360"/>
              <a:ext cx="39600" cy="81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100" y="0"/>
                  </a:moveTo>
                  <a:lnTo>
                    <a:pt x="0" y="33"/>
                  </a:lnTo>
                  <a:lnTo>
                    <a:pt x="0" y="2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 flipH="1">
              <a:off x="5766840" y="4851360"/>
              <a:ext cx="98280" cy="27000"/>
            </a:xfrm>
            <a:custGeom>
              <a:avLst/>
              <a:gdLst/>
              <a:ahLst/>
              <a:rect l="l" t="t" r="r" b="b"/>
              <a:pathLst>
                <a:path w="248" h="68">
                  <a:moveTo>
                    <a:pt x="0" y="0"/>
                  </a:moveTo>
                  <a:lnTo>
                    <a:pt x="148" y="68"/>
                  </a:lnTo>
                  <a:lnTo>
                    <a:pt x="248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 flipH="1">
              <a:off x="5742000" y="4900680"/>
              <a:ext cx="61920" cy="60120"/>
            </a:xfrm>
            <a:custGeom>
              <a:avLst/>
              <a:gdLst/>
              <a:ahLst/>
              <a:rect l="l" t="t" r="r" b="b"/>
              <a:pathLst>
                <a:path w="155" h="151">
                  <a:moveTo>
                    <a:pt x="123" y="0"/>
                  </a:moveTo>
                  <a:lnTo>
                    <a:pt x="151" y="69"/>
                  </a:lnTo>
                  <a:lnTo>
                    <a:pt x="155" y="89"/>
                  </a:lnTo>
                  <a:lnTo>
                    <a:pt x="153" y="108"/>
                  </a:lnTo>
                  <a:lnTo>
                    <a:pt x="144" y="125"/>
                  </a:lnTo>
                  <a:lnTo>
                    <a:pt x="129" y="140"/>
                  </a:lnTo>
                  <a:lnTo>
                    <a:pt x="111" y="149"/>
                  </a:lnTo>
                  <a:lnTo>
                    <a:pt x="92" y="151"/>
                  </a:lnTo>
                  <a:lnTo>
                    <a:pt x="72" y="148"/>
                  </a:lnTo>
                  <a:lnTo>
                    <a:pt x="55" y="138"/>
                  </a:lnTo>
                  <a:lnTo>
                    <a:pt x="0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 flipV="1">
              <a:off x="5807160" y="4535640"/>
              <a:ext cx="595080" cy="27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 flipH="1">
              <a:off x="5435640" y="3146400"/>
              <a:ext cx="1990800" cy="1874880"/>
            </a:xfrm>
            <a:custGeom>
              <a:avLst/>
              <a:gdLst/>
              <a:ahLst/>
              <a:rect l="l" t="t" r="r" b="b"/>
              <a:pathLst>
                <a:path w="5017" h="4724">
                  <a:moveTo>
                    <a:pt x="1870" y="2472"/>
                  </a:moveTo>
                  <a:lnTo>
                    <a:pt x="414" y="1925"/>
                  </a:lnTo>
                  <a:lnTo>
                    <a:pt x="156" y="327"/>
                  </a:lnTo>
                  <a:lnTo>
                    <a:pt x="0" y="306"/>
                  </a:lnTo>
                  <a:lnTo>
                    <a:pt x="0" y="242"/>
                  </a:lnTo>
                  <a:lnTo>
                    <a:pt x="293" y="208"/>
                  </a:lnTo>
                  <a:lnTo>
                    <a:pt x="2108" y="449"/>
                  </a:lnTo>
                  <a:lnTo>
                    <a:pt x="2108" y="513"/>
                  </a:lnTo>
                  <a:lnTo>
                    <a:pt x="1916" y="535"/>
                  </a:lnTo>
                  <a:lnTo>
                    <a:pt x="2006" y="2436"/>
                  </a:lnTo>
                  <a:lnTo>
                    <a:pt x="1870" y="2472"/>
                  </a:lnTo>
                  <a:lnTo>
                    <a:pt x="1777" y="2285"/>
                  </a:lnTo>
                  <a:lnTo>
                    <a:pt x="603" y="1843"/>
                  </a:lnTo>
                  <a:lnTo>
                    <a:pt x="362" y="355"/>
                  </a:lnTo>
                  <a:lnTo>
                    <a:pt x="1695" y="531"/>
                  </a:lnTo>
                  <a:lnTo>
                    <a:pt x="1777" y="2285"/>
                  </a:lnTo>
                  <a:lnTo>
                    <a:pt x="1870" y="2472"/>
                  </a:lnTo>
                  <a:close/>
                  <a:moveTo>
                    <a:pt x="2964" y="1060"/>
                  </a:moveTo>
                  <a:lnTo>
                    <a:pt x="2896" y="638"/>
                  </a:lnTo>
                  <a:lnTo>
                    <a:pt x="2906" y="605"/>
                  </a:lnTo>
                  <a:lnTo>
                    <a:pt x="2910" y="570"/>
                  </a:lnTo>
                  <a:lnTo>
                    <a:pt x="2910" y="529"/>
                  </a:lnTo>
                  <a:lnTo>
                    <a:pt x="2905" y="483"/>
                  </a:lnTo>
                  <a:lnTo>
                    <a:pt x="2828" y="0"/>
                  </a:lnTo>
                  <a:lnTo>
                    <a:pt x="5017" y="110"/>
                  </a:lnTo>
                  <a:lnTo>
                    <a:pt x="5017" y="174"/>
                  </a:lnTo>
                  <a:lnTo>
                    <a:pt x="4864" y="191"/>
                  </a:lnTo>
                  <a:lnTo>
                    <a:pt x="4880" y="1661"/>
                  </a:lnTo>
                  <a:lnTo>
                    <a:pt x="4877" y="1597"/>
                  </a:lnTo>
                  <a:lnTo>
                    <a:pt x="4868" y="1544"/>
                  </a:lnTo>
                  <a:lnTo>
                    <a:pt x="4852" y="1500"/>
                  </a:lnTo>
                  <a:lnTo>
                    <a:pt x="4828" y="1464"/>
                  </a:lnTo>
                  <a:lnTo>
                    <a:pt x="4796" y="1434"/>
                  </a:lnTo>
                  <a:lnTo>
                    <a:pt x="4758" y="1411"/>
                  </a:lnTo>
                  <a:lnTo>
                    <a:pt x="4710" y="1392"/>
                  </a:lnTo>
                  <a:lnTo>
                    <a:pt x="4653" y="1374"/>
                  </a:lnTo>
                  <a:lnTo>
                    <a:pt x="4639" y="204"/>
                  </a:lnTo>
                  <a:lnTo>
                    <a:pt x="3014" y="122"/>
                  </a:lnTo>
                  <a:lnTo>
                    <a:pt x="3160" y="1023"/>
                  </a:lnTo>
                  <a:lnTo>
                    <a:pt x="3062" y="1036"/>
                  </a:lnTo>
                  <a:lnTo>
                    <a:pt x="2964" y="1060"/>
                  </a:lnTo>
                  <a:close/>
                  <a:moveTo>
                    <a:pt x="977" y="4366"/>
                  </a:moveTo>
                  <a:lnTo>
                    <a:pt x="878" y="4333"/>
                  </a:lnTo>
                  <a:lnTo>
                    <a:pt x="878" y="4160"/>
                  </a:lnTo>
                  <a:lnTo>
                    <a:pt x="2049" y="3621"/>
                  </a:lnTo>
                  <a:lnTo>
                    <a:pt x="867" y="3531"/>
                  </a:lnTo>
                  <a:lnTo>
                    <a:pt x="867" y="3357"/>
                  </a:lnTo>
                  <a:lnTo>
                    <a:pt x="967" y="3324"/>
                  </a:lnTo>
                  <a:lnTo>
                    <a:pt x="2377" y="3417"/>
                  </a:lnTo>
                  <a:lnTo>
                    <a:pt x="2377" y="3470"/>
                  </a:lnTo>
                  <a:lnTo>
                    <a:pt x="2476" y="3502"/>
                  </a:lnTo>
                  <a:lnTo>
                    <a:pt x="2476" y="3677"/>
                  </a:lnTo>
                  <a:lnTo>
                    <a:pt x="977" y="4366"/>
                  </a:lnTo>
                  <a:close/>
                  <a:moveTo>
                    <a:pt x="1216" y="4420"/>
                  </a:moveTo>
                  <a:lnTo>
                    <a:pt x="1249" y="4423"/>
                  </a:lnTo>
                  <a:lnTo>
                    <a:pt x="1280" y="4432"/>
                  </a:lnTo>
                  <a:lnTo>
                    <a:pt x="1307" y="4447"/>
                  </a:lnTo>
                  <a:lnTo>
                    <a:pt x="1331" y="4468"/>
                  </a:lnTo>
                  <a:lnTo>
                    <a:pt x="1350" y="4493"/>
                  </a:lnTo>
                  <a:lnTo>
                    <a:pt x="1363" y="4522"/>
                  </a:lnTo>
                  <a:lnTo>
                    <a:pt x="1371" y="4552"/>
                  </a:lnTo>
                  <a:lnTo>
                    <a:pt x="1371" y="4586"/>
                  </a:lnTo>
                  <a:lnTo>
                    <a:pt x="1363" y="4619"/>
                  </a:lnTo>
                  <a:lnTo>
                    <a:pt x="1350" y="4648"/>
                  </a:lnTo>
                  <a:lnTo>
                    <a:pt x="1332" y="4674"/>
                  </a:lnTo>
                  <a:lnTo>
                    <a:pt x="1308" y="4695"/>
                  </a:lnTo>
                  <a:lnTo>
                    <a:pt x="1281" y="4710"/>
                  </a:lnTo>
                  <a:lnTo>
                    <a:pt x="1250" y="4721"/>
                  </a:lnTo>
                  <a:lnTo>
                    <a:pt x="1219" y="4724"/>
                  </a:lnTo>
                  <a:lnTo>
                    <a:pt x="1185" y="4720"/>
                  </a:lnTo>
                  <a:lnTo>
                    <a:pt x="1153" y="4708"/>
                  </a:lnTo>
                  <a:lnTo>
                    <a:pt x="1126" y="4692"/>
                  </a:lnTo>
                  <a:lnTo>
                    <a:pt x="1103" y="4670"/>
                  </a:lnTo>
                  <a:lnTo>
                    <a:pt x="1086" y="4644"/>
                  </a:lnTo>
                  <a:lnTo>
                    <a:pt x="1074" y="4616"/>
                  </a:lnTo>
                  <a:lnTo>
                    <a:pt x="1068" y="4584"/>
                  </a:lnTo>
                  <a:lnTo>
                    <a:pt x="1069" y="4552"/>
                  </a:lnTo>
                  <a:lnTo>
                    <a:pt x="1077" y="4520"/>
                  </a:lnTo>
                  <a:lnTo>
                    <a:pt x="1132" y="4558"/>
                  </a:lnTo>
                  <a:lnTo>
                    <a:pt x="1151" y="4567"/>
                  </a:lnTo>
                  <a:lnTo>
                    <a:pt x="1172" y="4570"/>
                  </a:lnTo>
                  <a:lnTo>
                    <a:pt x="1192" y="4567"/>
                  </a:lnTo>
                  <a:lnTo>
                    <a:pt x="1211" y="4558"/>
                  </a:lnTo>
                  <a:lnTo>
                    <a:pt x="1226" y="4542"/>
                  </a:lnTo>
                  <a:lnTo>
                    <a:pt x="1235" y="4524"/>
                  </a:lnTo>
                  <a:lnTo>
                    <a:pt x="1238" y="4504"/>
                  </a:lnTo>
                  <a:lnTo>
                    <a:pt x="1235" y="4483"/>
                  </a:lnTo>
                  <a:lnTo>
                    <a:pt x="1216" y="4420"/>
                  </a:lnTo>
                  <a:close/>
                  <a:moveTo>
                    <a:pt x="1104" y="3634"/>
                  </a:moveTo>
                  <a:lnTo>
                    <a:pt x="1137" y="3641"/>
                  </a:lnTo>
                  <a:lnTo>
                    <a:pt x="1167" y="3653"/>
                  </a:lnTo>
                  <a:lnTo>
                    <a:pt x="1192" y="3673"/>
                  </a:lnTo>
                  <a:lnTo>
                    <a:pt x="1214" y="3696"/>
                  </a:lnTo>
                  <a:lnTo>
                    <a:pt x="1229" y="3723"/>
                  </a:lnTo>
                  <a:lnTo>
                    <a:pt x="1239" y="3754"/>
                  </a:lnTo>
                  <a:lnTo>
                    <a:pt x="1241" y="3787"/>
                  </a:lnTo>
                  <a:lnTo>
                    <a:pt x="1237" y="3820"/>
                  </a:lnTo>
                  <a:lnTo>
                    <a:pt x="1226" y="3852"/>
                  </a:lnTo>
                  <a:lnTo>
                    <a:pt x="1208" y="3879"/>
                  </a:lnTo>
                  <a:lnTo>
                    <a:pt x="1186" y="3902"/>
                  </a:lnTo>
                  <a:lnTo>
                    <a:pt x="1160" y="3919"/>
                  </a:lnTo>
                  <a:lnTo>
                    <a:pt x="1129" y="3930"/>
                  </a:lnTo>
                  <a:lnTo>
                    <a:pt x="1097" y="3936"/>
                  </a:lnTo>
                  <a:lnTo>
                    <a:pt x="1065" y="3934"/>
                  </a:lnTo>
                  <a:lnTo>
                    <a:pt x="1032" y="3924"/>
                  </a:lnTo>
                  <a:lnTo>
                    <a:pt x="1003" y="3908"/>
                  </a:lnTo>
                  <a:lnTo>
                    <a:pt x="978" y="3887"/>
                  </a:lnTo>
                  <a:lnTo>
                    <a:pt x="960" y="3860"/>
                  </a:lnTo>
                  <a:lnTo>
                    <a:pt x="946" y="3832"/>
                  </a:lnTo>
                  <a:lnTo>
                    <a:pt x="940" y="3801"/>
                  </a:lnTo>
                  <a:lnTo>
                    <a:pt x="939" y="3768"/>
                  </a:lnTo>
                  <a:lnTo>
                    <a:pt x="946" y="3737"/>
                  </a:lnTo>
                  <a:lnTo>
                    <a:pt x="961" y="3706"/>
                  </a:lnTo>
                  <a:lnTo>
                    <a:pt x="995" y="3749"/>
                  </a:lnTo>
                  <a:lnTo>
                    <a:pt x="1012" y="3763"/>
                  </a:lnTo>
                  <a:lnTo>
                    <a:pt x="1031" y="3772"/>
                  </a:lnTo>
                  <a:lnTo>
                    <a:pt x="1051" y="3774"/>
                  </a:lnTo>
                  <a:lnTo>
                    <a:pt x="1073" y="3769"/>
                  </a:lnTo>
                  <a:lnTo>
                    <a:pt x="1091" y="3757"/>
                  </a:lnTo>
                  <a:lnTo>
                    <a:pt x="1104" y="3741"/>
                  </a:lnTo>
                  <a:lnTo>
                    <a:pt x="1112" y="3720"/>
                  </a:lnTo>
                  <a:lnTo>
                    <a:pt x="1113" y="3699"/>
                  </a:lnTo>
                  <a:lnTo>
                    <a:pt x="1104" y="3634"/>
                  </a:lnTo>
                  <a:close/>
                  <a:moveTo>
                    <a:pt x="4079" y="4366"/>
                  </a:moveTo>
                  <a:lnTo>
                    <a:pt x="2580" y="3677"/>
                  </a:lnTo>
                  <a:lnTo>
                    <a:pt x="2580" y="3502"/>
                  </a:lnTo>
                  <a:lnTo>
                    <a:pt x="2680" y="3470"/>
                  </a:lnTo>
                  <a:lnTo>
                    <a:pt x="2680" y="3417"/>
                  </a:lnTo>
                  <a:lnTo>
                    <a:pt x="4090" y="3324"/>
                  </a:lnTo>
                  <a:lnTo>
                    <a:pt x="4190" y="3357"/>
                  </a:lnTo>
                  <a:lnTo>
                    <a:pt x="4190" y="3531"/>
                  </a:lnTo>
                  <a:lnTo>
                    <a:pt x="3008" y="3621"/>
                  </a:lnTo>
                  <a:lnTo>
                    <a:pt x="4179" y="4160"/>
                  </a:lnTo>
                  <a:lnTo>
                    <a:pt x="4179" y="4333"/>
                  </a:lnTo>
                  <a:lnTo>
                    <a:pt x="4079" y="4366"/>
                  </a:lnTo>
                  <a:close/>
                  <a:moveTo>
                    <a:pt x="4212" y="4421"/>
                  </a:moveTo>
                  <a:lnTo>
                    <a:pt x="4247" y="4421"/>
                  </a:lnTo>
                  <a:lnTo>
                    <a:pt x="4279" y="4429"/>
                  </a:lnTo>
                  <a:lnTo>
                    <a:pt x="4308" y="4443"/>
                  </a:lnTo>
                  <a:lnTo>
                    <a:pt x="4334" y="4464"/>
                  </a:lnTo>
                  <a:lnTo>
                    <a:pt x="4354" y="4488"/>
                  </a:lnTo>
                  <a:lnTo>
                    <a:pt x="4369" y="4517"/>
                  </a:lnTo>
                  <a:lnTo>
                    <a:pt x="4377" y="4548"/>
                  </a:lnTo>
                  <a:lnTo>
                    <a:pt x="4379" y="4583"/>
                  </a:lnTo>
                  <a:lnTo>
                    <a:pt x="4373" y="4617"/>
                  </a:lnTo>
                  <a:lnTo>
                    <a:pt x="4360" y="4647"/>
                  </a:lnTo>
                  <a:lnTo>
                    <a:pt x="4341" y="4674"/>
                  </a:lnTo>
                  <a:lnTo>
                    <a:pt x="4316" y="4695"/>
                  </a:lnTo>
                  <a:lnTo>
                    <a:pt x="4289" y="4712"/>
                  </a:lnTo>
                  <a:lnTo>
                    <a:pt x="4257" y="4721"/>
                  </a:lnTo>
                  <a:lnTo>
                    <a:pt x="4224" y="4724"/>
                  </a:lnTo>
                  <a:lnTo>
                    <a:pt x="4191" y="4720"/>
                  </a:lnTo>
                  <a:lnTo>
                    <a:pt x="4158" y="4707"/>
                  </a:lnTo>
                  <a:lnTo>
                    <a:pt x="4131" y="4690"/>
                  </a:lnTo>
                  <a:lnTo>
                    <a:pt x="4108" y="4667"/>
                  </a:lnTo>
                  <a:lnTo>
                    <a:pt x="4091" y="4639"/>
                  </a:lnTo>
                  <a:lnTo>
                    <a:pt x="4080" y="4609"/>
                  </a:lnTo>
                  <a:lnTo>
                    <a:pt x="4076" y="4577"/>
                  </a:lnTo>
                  <a:lnTo>
                    <a:pt x="4078" y="4543"/>
                  </a:lnTo>
                  <a:lnTo>
                    <a:pt x="4088" y="4511"/>
                  </a:lnTo>
                  <a:lnTo>
                    <a:pt x="4145" y="4559"/>
                  </a:lnTo>
                  <a:lnTo>
                    <a:pt x="4161" y="4569"/>
                  </a:lnTo>
                  <a:lnTo>
                    <a:pt x="4181" y="4572"/>
                  </a:lnTo>
                  <a:lnTo>
                    <a:pt x="4200" y="4570"/>
                  </a:lnTo>
                  <a:lnTo>
                    <a:pt x="4218" y="4561"/>
                  </a:lnTo>
                  <a:lnTo>
                    <a:pt x="4233" y="4547"/>
                  </a:lnTo>
                  <a:lnTo>
                    <a:pt x="4242" y="4530"/>
                  </a:lnTo>
                  <a:lnTo>
                    <a:pt x="4244" y="4511"/>
                  </a:lnTo>
                  <a:lnTo>
                    <a:pt x="4240" y="4490"/>
                  </a:lnTo>
                  <a:lnTo>
                    <a:pt x="4212" y="4421"/>
                  </a:lnTo>
                  <a:close/>
                  <a:moveTo>
                    <a:pt x="4203" y="3616"/>
                  </a:moveTo>
                  <a:lnTo>
                    <a:pt x="4237" y="3624"/>
                  </a:lnTo>
                  <a:lnTo>
                    <a:pt x="4266" y="3638"/>
                  </a:lnTo>
                  <a:lnTo>
                    <a:pt x="4292" y="3658"/>
                  </a:lnTo>
                  <a:lnTo>
                    <a:pt x="4312" y="3683"/>
                  </a:lnTo>
                  <a:lnTo>
                    <a:pt x="4327" y="3710"/>
                  </a:lnTo>
                  <a:lnTo>
                    <a:pt x="4337" y="3742"/>
                  </a:lnTo>
                  <a:lnTo>
                    <a:pt x="4338" y="3774"/>
                  </a:lnTo>
                  <a:lnTo>
                    <a:pt x="4333" y="3808"/>
                  </a:lnTo>
                  <a:lnTo>
                    <a:pt x="4319" y="3840"/>
                  </a:lnTo>
                  <a:lnTo>
                    <a:pt x="4301" y="3867"/>
                  </a:lnTo>
                  <a:lnTo>
                    <a:pt x="4276" y="3889"/>
                  </a:lnTo>
                  <a:lnTo>
                    <a:pt x="4249" y="3905"/>
                  </a:lnTo>
                  <a:lnTo>
                    <a:pt x="4218" y="3915"/>
                  </a:lnTo>
                  <a:lnTo>
                    <a:pt x="4187" y="3919"/>
                  </a:lnTo>
                  <a:lnTo>
                    <a:pt x="4154" y="3915"/>
                  </a:lnTo>
                  <a:lnTo>
                    <a:pt x="4122" y="3904"/>
                  </a:lnTo>
                  <a:lnTo>
                    <a:pt x="4092" y="3886"/>
                  </a:lnTo>
                  <a:lnTo>
                    <a:pt x="4068" y="3862"/>
                  </a:lnTo>
                  <a:lnTo>
                    <a:pt x="4051" y="3835"/>
                  </a:lnTo>
                  <a:lnTo>
                    <a:pt x="4040" y="3805"/>
                  </a:lnTo>
                  <a:lnTo>
                    <a:pt x="4036" y="3772"/>
                  </a:lnTo>
                  <a:lnTo>
                    <a:pt x="4038" y="3741"/>
                  </a:lnTo>
                  <a:lnTo>
                    <a:pt x="4047" y="3708"/>
                  </a:lnTo>
                  <a:lnTo>
                    <a:pt x="4063" y="3679"/>
                  </a:lnTo>
                  <a:lnTo>
                    <a:pt x="4119" y="3728"/>
                  </a:lnTo>
                  <a:lnTo>
                    <a:pt x="4134" y="3737"/>
                  </a:lnTo>
                  <a:lnTo>
                    <a:pt x="4150" y="3741"/>
                  </a:lnTo>
                  <a:lnTo>
                    <a:pt x="4167" y="3740"/>
                  </a:lnTo>
                  <a:lnTo>
                    <a:pt x="4184" y="3734"/>
                  </a:lnTo>
                  <a:lnTo>
                    <a:pt x="4197" y="3723"/>
                  </a:lnTo>
                  <a:lnTo>
                    <a:pt x="4207" y="3710"/>
                  </a:lnTo>
                  <a:lnTo>
                    <a:pt x="4211" y="3694"/>
                  </a:lnTo>
                  <a:lnTo>
                    <a:pt x="4211" y="3677"/>
                  </a:lnTo>
                  <a:lnTo>
                    <a:pt x="4203" y="3616"/>
                  </a:lnTo>
                  <a:close/>
                </a:path>
              </a:pathLst>
            </a:custGeom>
            <a:solidFill>
              <a:srgbClr val="c1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 flipH="1">
              <a:off x="6589800" y="3228840"/>
              <a:ext cx="836640" cy="898560"/>
            </a:xfrm>
            <a:custGeom>
              <a:avLst/>
              <a:gdLst/>
              <a:ahLst/>
              <a:rect l="l" t="t" r="r" b="b"/>
              <a:pathLst>
                <a:path w="2108" h="2264">
                  <a:moveTo>
                    <a:pt x="1870" y="2264"/>
                  </a:moveTo>
                  <a:lnTo>
                    <a:pt x="414" y="1717"/>
                  </a:lnTo>
                  <a:lnTo>
                    <a:pt x="156" y="119"/>
                  </a:lnTo>
                  <a:lnTo>
                    <a:pt x="0" y="98"/>
                  </a:lnTo>
                  <a:lnTo>
                    <a:pt x="0" y="34"/>
                  </a:lnTo>
                  <a:lnTo>
                    <a:pt x="293" y="0"/>
                  </a:lnTo>
                  <a:lnTo>
                    <a:pt x="2108" y="241"/>
                  </a:lnTo>
                  <a:lnTo>
                    <a:pt x="2108" y="305"/>
                  </a:lnTo>
                  <a:lnTo>
                    <a:pt x="1916" y="327"/>
                  </a:lnTo>
                  <a:lnTo>
                    <a:pt x="2006" y="2228"/>
                  </a:lnTo>
                  <a:lnTo>
                    <a:pt x="1870" y="226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 flipH="1">
              <a:off x="6719040" y="3286080"/>
              <a:ext cx="561960" cy="766800"/>
            </a:xfrm>
            <a:custGeom>
              <a:avLst/>
              <a:gdLst/>
              <a:ahLst/>
              <a:rect l="l" t="t" r="r" b="b"/>
              <a:pathLst>
                <a:path w="1415" h="1930">
                  <a:moveTo>
                    <a:pt x="1415" y="1930"/>
                  </a:moveTo>
                  <a:lnTo>
                    <a:pt x="241" y="1488"/>
                  </a:lnTo>
                  <a:lnTo>
                    <a:pt x="0" y="0"/>
                  </a:lnTo>
                  <a:lnTo>
                    <a:pt x="1333" y="176"/>
                  </a:lnTo>
                  <a:lnTo>
                    <a:pt x="1415" y="193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 flipH="1">
              <a:off x="5435640" y="3146400"/>
              <a:ext cx="868320" cy="658800"/>
            </a:xfrm>
            <a:custGeom>
              <a:avLst/>
              <a:gdLst/>
              <a:ahLst/>
              <a:rect l="l" t="t" r="r" b="b"/>
              <a:pathLst>
                <a:path w="2189" h="1661">
                  <a:moveTo>
                    <a:pt x="136" y="1060"/>
                  </a:moveTo>
                  <a:lnTo>
                    <a:pt x="68" y="638"/>
                  </a:lnTo>
                  <a:lnTo>
                    <a:pt x="78" y="605"/>
                  </a:lnTo>
                  <a:lnTo>
                    <a:pt x="82" y="570"/>
                  </a:lnTo>
                  <a:lnTo>
                    <a:pt x="82" y="529"/>
                  </a:lnTo>
                  <a:lnTo>
                    <a:pt x="77" y="483"/>
                  </a:lnTo>
                  <a:lnTo>
                    <a:pt x="0" y="0"/>
                  </a:lnTo>
                  <a:lnTo>
                    <a:pt x="2189" y="110"/>
                  </a:lnTo>
                  <a:lnTo>
                    <a:pt x="2189" y="174"/>
                  </a:lnTo>
                  <a:lnTo>
                    <a:pt x="2036" y="191"/>
                  </a:lnTo>
                  <a:lnTo>
                    <a:pt x="2052" y="1661"/>
                  </a:lnTo>
                  <a:lnTo>
                    <a:pt x="2049" y="1597"/>
                  </a:lnTo>
                  <a:lnTo>
                    <a:pt x="2040" y="1544"/>
                  </a:lnTo>
                  <a:lnTo>
                    <a:pt x="2024" y="1500"/>
                  </a:lnTo>
                  <a:lnTo>
                    <a:pt x="2000" y="1464"/>
                  </a:lnTo>
                  <a:lnTo>
                    <a:pt x="1968" y="1434"/>
                  </a:lnTo>
                  <a:lnTo>
                    <a:pt x="1930" y="1411"/>
                  </a:lnTo>
                  <a:lnTo>
                    <a:pt x="1882" y="1392"/>
                  </a:lnTo>
                  <a:lnTo>
                    <a:pt x="1825" y="1374"/>
                  </a:lnTo>
                  <a:lnTo>
                    <a:pt x="1811" y="204"/>
                  </a:lnTo>
                  <a:lnTo>
                    <a:pt x="186" y="122"/>
                  </a:lnTo>
                  <a:lnTo>
                    <a:pt x="332" y="1023"/>
                  </a:lnTo>
                  <a:lnTo>
                    <a:pt x="234" y="1036"/>
                  </a:lnTo>
                  <a:lnTo>
                    <a:pt x="136" y="106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 flipH="1">
              <a:off x="6442920" y="4465800"/>
              <a:ext cx="638280" cy="412560"/>
            </a:xfrm>
            <a:custGeom>
              <a:avLst/>
              <a:gdLst/>
              <a:ahLst/>
              <a:rect l="l" t="t" r="r" b="b"/>
              <a:pathLst>
                <a:path w="1609" h="1042">
                  <a:moveTo>
                    <a:pt x="110" y="1042"/>
                  </a:moveTo>
                  <a:lnTo>
                    <a:pt x="11" y="1009"/>
                  </a:lnTo>
                  <a:lnTo>
                    <a:pt x="11" y="836"/>
                  </a:lnTo>
                  <a:lnTo>
                    <a:pt x="1182" y="297"/>
                  </a:lnTo>
                  <a:lnTo>
                    <a:pt x="0" y="207"/>
                  </a:lnTo>
                  <a:lnTo>
                    <a:pt x="0" y="33"/>
                  </a:lnTo>
                  <a:lnTo>
                    <a:pt x="100" y="0"/>
                  </a:lnTo>
                  <a:lnTo>
                    <a:pt x="1510" y="93"/>
                  </a:lnTo>
                  <a:lnTo>
                    <a:pt x="1510" y="146"/>
                  </a:lnTo>
                  <a:lnTo>
                    <a:pt x="1609" y="178"/>
                  </a:lnTo>
                  <a:lnTo>
                    <a:pt x="1609" y="353"/>
                  </a:lnTo>
                  <a:lnTo>
                    <a:pt x="110" y="104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 flipH="1">
              <a:off x="6881040" y="4900680"/>
              <a:ext cx="120600" cy="120600"/>
            </a:xfrm>
            <a:custGeom>
              <a:avLst/>
              <a:gdLst/>
              <a:ahLst/>
              <a:rect l="l" t="t" r="r" b="b"/>
              <a:pathLst>
                <a:path w="303" h="304">
                  <a:moveTo>
                    <a:pt x="148" y="0"/>
                  </a:moveTo>
                  <a:lnTo>
                    <a:pt x="181" y="3"/>
                  </a:lnTo>
                  <a:lnTo>
                    <a:pt x="212" y="12"/>
                  </a:lnTo>
                  <a:lnTo>
                    <a:pt x="239" y="27"/>
                  </a:lnTo>
                  <a:lnTo>
                    <a:pt x="263" y="48"/>
                  </a:lnTo>
                  <a:lnTo>
                    <a:pt x="282" y="73"/>
                  </a:lnTo>
                  <a:lnTo>
                    <a:pt x="295" y="102"/>
                  </a:lnTo>
                  <a:lnTo>
                    <a:pt x="303" y="132"/>
                  </a:lnTo>
                  <a:lnTo>
                    <a:pt x="303" y="166"/>
                  </a:lnTo>
                  <a:lnTo>
                    <a:pt x="295" y="199"/>
                  </a:lnTo>
                  <a:lnTo>
                    <a:pt x="282" y="228"/>
                  </a:lnTo>
                  <a:lnTo>
                    <a:pt x="264" y="254"/>
                  </a:lnTo>
                  <a:lnTo>
                    <a:pt x="240" y="275"/>
                  </a:lnTo>
                  <a:lnTo>
                    <a:pt x="213" y="290"/>
                  </a:lnTo>
                  <a:lnTo>
                    <a:pt x="182" y="301"/>
                  </a:lnTo>
                  <a:lnTo>
                    <a:pt x="151" y="304"/>
                  </a:lnTo>
                  <a:lnTo>
                    <a:pt x="117" y="300"/>
                  </a:lnTo>
                  <a:lnTo>
                    <a:pt x="85" y="288"/>
                  </a:lnTo>
                  <a:lnTo>
                    <a:pt x="58" y="272"/>
                  </a:lnTo>
                  <a:lnTo>
                    <a:pt x="35" y="250"/>
                  </a:lnTo>
                  <a:lnTo>
                    <a:pt x="18" y="224"/>
                  </a:lnTo>
                  <a:lnTo>
                    <a:pt x="6" y="196"/>
                  </a:lnTo>
                  <a:lnTo>
                    <a:pt x="0" y="164"/>
                  </a:lnTo>
                  <a:lnTo>
                    <a:pt x="1" y="132"/>
                  </a:lnTo>
                  <a:lnTo>
                    <a:pt x="9" y="100"/>
                  </a:lnTo>
                  <a:lnTo>
                    <a:pt x="64" y="138"/>
                  </a:lnTo>
                  <a:lnTo>
                    <a:pt x="83" y="147"/>
                  </a:lnTo>
                  <a:lnTo>
                    <a:pt x="104" y="150"/>
                  </a:lnTo>
                  <a:lnTo>
                    <a:pt x="124" y="147"/>
                  </a:lnTo>
                  <a:lnTo>
                    <a:pt x="143" y="138"/>
                  </a:lnTo>
                  <a:lnTo>
                    <a:pt x="158" y="122"/>
                  </a:lnTo>
                  <a:lnTo>
                    <a:pt x="167" y="104"/>
                  </a:lnTo>
                  <a:lnTo>
                    <a:pt x="170" y="84"/>
                  </a:lnTo>
                  <a:lnTo>
                    <a:pt x="167" y="63"/>
                  </a:lnTo>
                  <a:lnTo>
                    <a:pt x="14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 flipH="1">
              <a:off x="6931800" y="4587840"/>
              <a:ext cx="120600" cy="12060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165" y="0"/>
                  </a:moveTo>
                  <a:lnTo>
                    <a:pt x="198" y="7"/>
                  </a:lnTo>
                  <a:lnTo>
                    <a:pt x="228" y="19"/>
                  </a:lnTo>
                  <a:lnTo>
                    <a:pt x="253" y="39"/>
                  </a:lnTo>
                  <a:lnTo>
                    <a:pt x="275" y="62"/>
                  </a:lnTo>
                  <a:lnTo>
                    <a:pt x="290" y="89"/>
                  </a:lnTo>
                  <a:lnTo>
                    <a:pt x="300" y="120"/>
                  </a:lnTo>
                  <a:lnTo>
                    <a:pt x="302" y="153"/>
                  </a:lnTo>
                  <a:lnTo>
                    <a:pt x="298" y="186"/>
                  </a:lnTo>
                  <a:lnTo>
                    <a:pt x="287" y="218"/>
                  </a:lnTo>
                  <a:lnTo>
                    <a:pt x="269" y="245"/>
                  </a:lnTo>
                  <a:lnTo>
                    <a:pt x="247" y="268"/>
                  </a:lnTo>
                  <a:lnTo>
                    <a:pt x="221" y="285"/>
                  </a:lnTo>
                  <a:lnTo>
                    <a:pt x="190" y="296"/>
                  </a:lnTo>
                  <a:lnTo>
                    <a:pt x="158" y="302"/>
                  </a:lnTo>
                  <a:lnTo>
                    <a:pt x="126" y="300"/>
                  </a:lnTo>
                  <a:lnTo>
                    <a:pt x="93" y="290"/>
                  </a:lnTo>
                  <a:lnTo>
                    <a:pt x="64" y="274"/>
                  </a:lnTo>
                  <a:lnTo>
                    <a:pt x="39" y="253"/>
                  </a:lnTo>
                  <a:lnTo>
                    <a:pt x="21" y="226"/>
                  </a:lnTo>
                  <a:lnTo>
                    <a:pt x="7" y="198"/>
                  </a:lnTo>
                  <a:lnTo>
                    <a:pt x="1" y="167"/>
                  </a:lnTo>
                  <a:lnTo>
                    <a:pt x="0" y="134"/>
                  </a:lnTo>
                  <a:lnTo>
                    <a:pt x="7" y="103"/>
                  </a:lnTo>
                  <a:lnTo>
                    <a:pt x="22" y="72"/>
                  </a:lnTo>
                  <a:lnTo>
                    <a:pt x="56" y="115"/>
                  </a:lnTo>
                  <a:lnTo>
                    <a:pt x="73" y="129"/>
                  </a:lnTo>
                  <a:lnTo>
                    <a:pt x="92" y="138"/>
                  </a:lnTo>
                  <a:lnTo>
                    <a:pt x="112" y="140"/>
                  </a:lnTo>
                  <a:lnTo>
                    <a:pt x="134" y="135"/>
                  </a:lnTo>
                  <a:lnTo>
                    <a:pt x="152" y="123"/>
                  </a:lnTo>
                  <a:lnTo>
                    <a:pt x="165" y="107"/>
                  </a:lnTo>
                  <a:lnTo>
                    <a:pt x="173" y="86"/>
                  </a:lnTo>
                  <a:lnTo>
                    <a:pt x="174" y="65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 flipH="1">
              <a:off x="5761800" y="4465800"/>
              <a:ext cx="639720" cy="412560"/>
            </a:xfrm>
            <a:custGeom>
              <a:avLst/>
              <a:gdLst/>
              <a:ahLst/>
              <a:rect l="l" t="t" r="r" b="b"/>
              <a:pathLst>
                <a:path w="1610" h="1042">
                  <a:moveTo>
                    <a:pt x="1499" y="1042"/>
                  </a:moveTo>
                  <a:lnTo>
                    <a:pt x="0" y="353"/>
                  </a:lnTo>
                  <a:lnTo>
                    <a:pt x="0" y="178"/>
                  </a:lnTo>
                  <a:lnTo>
                    <a:pt x="100" y="146"/>
                  </a:lnTo>
                  <a:lnTo>
                    <a:pt x="100" y="93"/>
                  </a:lnTo>
                  <a:lnTo>
                    <a:pt x="1510" y="0"/>
                  </a:lnTo>
                  <a:lnTo>
                    <a:pt x="1610" y="33"/>
                  </a:lnTo>
                  <a:lnTo>
                    <a:pt x="1610" y="207"/>
                  </a:lnTo>
                  <a:lnTo>
                    <a:pt x="428" y="297"/>
                  </a:lnTo>
                  <a:lnTo>
                    <a:pt x="1599" y="836"/>
                  </a:lnTo>
                  <a:lnTo>
                    <a:pt x="1599" y="1009"/>
                  </a:lnTo>
                  <a:lnTo>
                    <a:pt x="1499" y="104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H="1">
              <a:off x="5687280" y="4900680"/>
              <a:ext cx="120600" cy="12060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136" y="0"/>
                  </a:moveTo>
                  <a:lnTo>
                    <a:pt x="171" y="0"/>
                  </a:lnTo>
                  <a:lnTo>
                    <a:pt x="203" y="8"/>
                  </a:lnTo>
                  <a:lnTo>
                    <a:pt x="232" y="22"/>
                  </a:lnTo>
                  <a:lnTo>
                    <a:pt x="258" y="43"/>
                  </a:lnTo>
                  <a:lnTo>
                    <a:pt x="278" y="67"/>
                  </a:lnTo>
                  <a:lnTo>
                    <a:pt x="293" y="96"/>
                  </a:lnTo>
                  <a:lnTo>
                    <a:pt x="301" y="127"/>
                  </a:lnTo>
                  <a:lnTo>
                    <a:pt x="303" y="162"/>
                  </a:lnTo>
                  <a:lnTo>
                    <a:pt x="297" y="196"/>
                  </a:lnTo>
                  <a:lnTo>
                    <a:pt x="284" y="226"/>
                  </a:lnTo>
                  <a:lnTo>
                    <a:pt x="265" y="253"/>
                  </a:lnTo>
                  <a:lnTo>
                    <a:pt x="240" y="274"/>
                  </a:lnTo>
                  <a:lnTo>
                    <a:pt x="213" y="291"/>
                  </a:lnTo>
                  <a:lnTo>
                    <a:pt x="181" y="300"/>
                  </a:lnTo>
                  <a:lnTo>
                    <a:pt x="148" y="303"/>
                  </a:lnTo>
                  <a:lnTo>
                    <a:pt x="115" y="299"/>
                  </a:lnTo>
                  <a:lnTo>
                    <a:pt x="82" y="286"/>
                  </a:lnTo>
                  <a:lnTo>
                    <a:pt x="55" y="269"/>
                  </a:lnTo>
                  <a:lnTo>
                    <a:pt x="32" y="246"/>
                  </a:lnTo>
                  <a:lnTo>
                    <a:pt x="15" y="218"/>
                  </a:lnTo>
                  <a:lnTo>
                    <a:pt x="4" y="188"/>
                  </a:lnTo>
                  <a:lnTo>
                    <a:pt x="0" y="156"/>
                  </a:lnTo>
                  <a:lnTo>
                    <a:pt x="2" y="122"/>
                  </a:lnTo>
                  <a:lnTo>
                    <a:pt x="12" y="90"/>
                  </a:lnTo>
                  <a:lnTo>
                    <a:pt x="69" y="138"/>
                  </a:lnTo>
                  <a:lnTo>
                    <a:pt x="85" y="148"/>
                  </a:lnTo>
                  <a:lnTo>
                    <a:pt x="105" y="151"/>
                  </a:lnTo>
                  <a:lnTo>
                    <a:pt x="124" y="149"/>
                  </a:lnTo>
                  <a:lnTo>
                    <a:pt x="142" y="140"/>
                  </a:lnTo>
                  <a:lnTo>
                    <a:pt x="157" y="126"/>
                  </a:lnTo>
                  <a:lnTo>
                    <a:pt x="166" y="109"/>
                  </a:lnTo>
                  <a:lnTo>
                    <a:pt x="168" y="90"/>
                  </a:lnTo>
                  <a:lnTo>
                    <a:pt x="164" y="69"/>
                  </a:lnTo>
                  <a:lnTo>
                    <a:pt x="13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 flipH="1">
              <a:off x="5703120" y="4581360"/>
              <a:ext cx="120600" cy="120960"/>
            </a:xfrm>
            <a:custGeom>
              <a:avLst/>
              <a:gdLst/>
              <a:ahLst/>
              <a:rect l="l" t="t" r="r" b="b"/>
              <a:pathLst>
                <a:path w="302" h="303">
                  <a:moveTo>
                    <a:pt x="167" y="0"/>
                  </a:moveTo>
                  <a:lnTo>
                    <a:pt x="201" y="8"/>
                  </a:lnTo>
                  <a:lnTo>
                    <a:pt x="230" y="22"/>
                  </a:lnTo>
                  <a:lnTo>
                    <a:pt x="256" y="42"/>
                  </a:lnTo>
                  <a:lnTo>
                    <a:pt x="276" y="67"/>
                  </a:lnTo>
                  <a:lnTo>
                    <a:pt x="291" y="94"/>
                  </a:lnTo>
                  <a:lnTo>
                    <a:pt x="301" y="126"/>
                  </a:lnTo>
                  <a:lnTo>
                    <a:pt x="302" y="158"/>
                  </a:lnTo>
                  <a:lnTo>
                    <a:pt x="297" y="192"/>
                  </a:lnTo>
                  <a:lnTo>
                    <a:pt x="283" y="224"/>
                  </a:lnTo>
                  <a:lnTo>
                    <a:pt x="265" y="251"/>
                  </a:lnTo>
                  <a:lnTo>
                    <a:pt x="240" y="273"/>
                  </a:lnTo>
                  <a:lnTo>
                    <a:pt x="213" y="289"/>
                  </a:lnTo>
                  <a:lnTo>
                    <a:pt x="182" y="299"/>
                  </a:lnTo>
                  <a:lnTo>
                    <a:pt x="151" y="303"/>
                  </a:lnTo>
                  <a:lnTo>
                    <a:pt x="118" y="299"/>
                  </a:lnTo>
                  <a:lnTo>
                    <a:pt x="86" y="288"/>
                  </a:lnTo>
                  <a:lnTo>
                    <a:pt x="56" y="270"/>
                  </a:lnTo>
                  <a:lnTo>
                    <a:pt x="32" y="246"/>
                  </a:lnTo>
                  <a:lnTo>
                    <a:pt x="15" y="219"/>
                  </a:lnTo>
                  <a:lnTo>
                    <a:pt x="4" y="189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1" y="92"/>
                  </a:lnTo>
                  <a:lnTo>
                    <a:pt x="27" y="63"/>
                  </a:lnTo>
                  <a:lnTo>
                    <a:pt x="83" y="112"/>
                  </a:lnTo>
                  <a:lnTo>
                    <a:pt x="98" y="121"/>
                  </a:lnTo>
                  <a:lnTo>
                    <a:pt x="114" y="125"/>
                  </a:lnTo>
                  <a:lnTo>
                    <a:pt x="131" y="124"/>
                  </a:lnTo>
                  <a:lnTo>
                    <a:pt x="148" y="118"/>
                  </a:lnTo>
                  <a:lnTo>
                    <a:pt x="161" y="107"/>
                  </a:lnTo>
                  <a:lnTo>
                    <a:pt x="171" y="94"/>
                  </a:lnTo>
                  <a:lnTo>
                    <a:pt x="175" y="78"/>
                  </a:lnTo>
                  <a:lnTo>
                    <a:pt x="175" y="61"/>
                  </a:lnTo>
                  <a:lnTo>
                    <a:pt x="16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5762520" y="4478400"/>
              <a:ext cx="60012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 flipH="1">
              <a:off x="6232320" y="4522680"/>
              <a:ext cx="12996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 flipH="1">
              <a:off x="5806440" y="4535640"/>
              <a:ext cx="595080" cy="342720"/>
            </a:xfrm>
            <a:custGeom>
              <a:avLst/>
              <a:gdLst/>
              <a:ahLst/>
              <a:rect l="l" t="t" r="r" b="b"/>
              <a:pathLst>
                <a:path w="1499" h="864">
                  <a:moveTo>
                    <a:pt x="0" y="0"/>
                  </a:moveTo>
                  <a:lnTo>
                    <a:pt x="1499" y="691"/>
                  </a:lnTo>
                  <a:lnTo>
                    <a:pt x="1499" y="8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 flipH="1" flipV="1">
              <a:off x="5767560" y="4797000"/>
              <a:ext cx="3960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 flipH="1">
              <a:off x="6442920" y="4535640"/>
              <a:ext cx="593640" cy="342720"/>
            </a:xfrm>
            <a:custGeom>
              <a:avLst/>
              <a:gdLst/>
              <a:ahLst/>
              <a:rect l="l" t="t" r="r" b="b"/>
              <a:pathLst>
                <a:path w="1499" h="864">
                  <a:moveTo>
                    <a:pt x="1499" y="0"/>
                  </a:moveTo>
                  <a:lnTo>
                    <a:pt x="0" y="691"/>
                  </a:lnTo>
                  <a:lnTo>
                    <a:pt x="0" y="8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 flipV="1">
              <a:off x="7037280" y="4797000"/>
              <a:ext cx="3996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H="1">
              <a:off x="6482880" y="4478400"/>
              <a:ext cx="598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483240" y="4522680"/>
              <a:ext cx="13032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H="1">
              <a:off x="6719760" y="3878280"/>
              <a:ext cx="509760" cy="201600"/>
            </a:xfrm>
            <a:custGeom>
              <a:avLst/>
              <a:gdLst/>
              <a:ahLst/>
              <a:rect l="l" t="t" r="r" b="b"/>
              <a:pathLst>
                <a:path w="1283" h="510">
                  <a:moveTo>
                    <a:pt x="1280" y="442"/>
                  </a:moveTo>
                  <a:lnTo>
                    <a:pt x="1283" y="510"/>
                  </a:lnTo>
                  <a:lnTo>
                    <a:pt x="0" y="28"/>
                  </a:lnTo>
                  <a:lnTo>
                    <a:pt x="10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V="1">
              <a:off x="7223040" y="3281400"/>
              <a:ext cx="10332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 flipV="1">
              <a:off x="7281720" y="3276720"/>
              <a:ext cx="828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 flipH="1">
              <a:off x="6589800" y="3241800"/>
              <a:ext cx="836640" cy="96840"/>
            </a:xfrm>
            <a:custGeom>
              <a:avLst/>
              <a:gdLst/>
              <a:ahLst/>
              <a:rect l="l" t="t" r="r" b="b"/>
              <a:pathLst>
                <a:path w="2108" h="241">
                  <a:moveTo>
                    <a:pt x="0" y="0"/>
                  </a:moveTo>
                  <a:lnTo>
                    <a:pt x="1815" y="241"/>
                  </a:lnTo>
                  <a:lnTo>
                    <a:pt x="2108" y="2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 flipH="1">
              <a:off x="6665040" y="3357720"/>
              <a:ext cx="87480" cy="6120"/>
            </a:xfrm>
            <a:custGeom>
              <a:avLst/>
              <a:gdLst/>
              <a:ahLst/>
              <a:rect l="l" t="t" r="r" b="b"/>
              <a:pathLst>
                <a:path w="221" h="16">
                  <a:moveTo>
                    <a:pt x="221" y="4"/>
                  </a:moveTo>
                  <a:lnTo>
                    <a:pt x="12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 flipH="1">
              <a:off x="6703560" y="333864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 flipH="1">
              <a:off x="6683040" y="3360600"/>
              <a:ext cx="36360" cy="76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 flipV="1">
              <a:off x="6216480" y="3192120"/>
              <a:ext cx="59040" cy="36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 flipV="1">
              <a:off x="6229440" y="3191040"/>
              <a:ext cx="680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 flipH="1">
              <a:off x="5434920" y="3165480"/>
              <a:ext cx="865080" cy="38160"/>
            </a:xfrm>
            <a:custGeom>
              <a:avLst/>
              <a:gdLst/>
              <a:ahLst/>
              <a:rect l="l" t="t" r="r" b="b"/>
              <a:pathLst>
                <a:path w="2182" h="95">
                  <a:moveTo>
                    <a:pt x="0" y="0"/>
                  </a:moveTo>
                  <a:lnTo>
                    <a:pt x="1889" y="95"/>
                  </a:lnTo>
                  <a:lnTo>
                    <a:pt x="2182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 flipH="1">
              <a:off x="5495040" y="3222720"/>
              <a:ext cx="88920" cy="6120"/>
            </a:xfrm>
            <a:custGeom>
              <a:avLst/>
              <a:gdLst/>
              <a:ahLst/>
              <a:rect l="l" t="t" r="r" b="b"/>
              <a:pathLst>
                <a:path w="225" h="17">
                  <a:moveTo>
                    <a:pt x="225" y="0"/>
                  </a:moveTo>
                  <a:lnTo>
                    <a:pt x="85" y="1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 flipH="1">
              <a:off x="5545080" y="3203640"/>
              <a:ext cx="6480" cy="498240"/>
            </a:xfrm>
            <a:custGeom>
              <a:avLst/>
              <a:gdLst/>
              <a:ahLst/>
              <a:rect l="l" t="t" r="r" b="b"/>
              <a:pathLst>
                <a:path w="13" h="1258">
                  <a:moveTo>
                    <a:pt x="0" y="0"/>
                  </a:moveTo>
                  <a:lnTo>
                    <a:pt x="0" y="64"/>
                  </a:lnTo>
                  <a:lnTo>
                    <a:pt x="13" y="12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H="1">
              <a:off x="5742000" y="4108320"/>
              <a:ext cx="1339920" cy="852480"/>
            </a:xfrm>
            <a:custGeom>
              <a:avLst/>
              <a:gdLst/>
              <a:ahLst/>
              <a:rect l="l" t="t" r="r" b="b"/>
              <a:pathLst>
                <a:path w="3377" h="2148">
                  <a:moveTo>
                    <a:pt x="368" y="2059"/>
                  </a:moveTo>
                  <a:lnTo>
                    <a:pt x="371" y="2080"/>
                  </a:lnTo>
                  <a:lnTo>
                    <a:pt x="368" y="2100"/>
                  </a:lnTo>
                  <a:lnTo>
                    <a:pt x="358" y="2118"/>
                  </a:lnTo>
                  <a:lnTo>
                    <a:pt x="343" y="2134"/>
                  </a:lnTo>
                  <a:lnTo>
                    <a:pt x="324" y="2143"/>
                  </a:lnTo>
                  <a:lnTo>
                    <a:pt x="304" y="2146"/>
                  </a:lnTo>
                  <a:lnTo>
                    <a:pt x="283" y="2143"/>
                  </a:lnTo>
                  <a:lnTo>
                    <a:pt x="265" y="2133"/>
                  </a:lnTo>
                  <a:lnTo>
                    <a:pt x="116" y="2030"/>
                  </a:lnTo>
                  <a:lnTo>
                    <a:pt x="94" y="2009"/>
                  </a:lnTo>
                  <a:lnTo>
                    <a:pt x="76" y="1985"/>
                  </a:lnTo>
                  <a:lnTo>
                    <a:pt x="65" y="1956"/>
                  </a:lnTo>
                  <a:lnTo>
                    <a:pt x="61" y="1926"/>
                  </a:lnTo>
                  <a:lnTo>
                    <a:pt x="111" y="1942"/>
                  </a:lnTo>
                  <a:lnTo>
                    <a:pt x="305" y="1853"/>
                  </a:lnTo>
                  <a:lnTo>
                    <a:pt x="368" y="2059"/>
                  </a:lnTo>
                  <a:close/>
                  <a:moveTo>
                    <a:pt x="247" y="1275"/>
                  </a:moveTo>
                  <a:lnTo>
                    <a:pt x="246" y="1296"/>
                  </a:lnTo>
                  <a:lnTo>
                    <a:pt x="239" y="1317"/>
                  </a:lnTo>
                  <a:lnTo>
                    <a:pt x="225" y="1333"/>
                  </a:lnTo>
                  <a:lnTo>
                    <a:pt x="207" y="1344"/>
                  </a:lnTo>
                  <a:lnTo>
                    <a:pt x="185" y="1349"/>
                  </a:lnTo>
                  <a:lnTo>
                    <a:pt x="165" y="1348"/>
                  </a:lnTo>
                  <a:lnTo>
                    <a:pt x="145" y="1339"/>
                  </a:lnTo>
                  <a:lnTo>
                    <a:pt x="128" y="1325"/>
                  </a:lnTo>
                  <a:lnTo>
                    <a:pt x="37" y="1212"/>
                  </a:lnTo>
                  <a:lnTo>
                    <a:pt x="21" y="1188"/>
                  </a:lnTo>
                  <a:lnTo>
                    <a:pt x="9" y="1163"/>
                  </a:lnTo>
                  <a:lnTo>
                    <a:pt x="2" y="1135"/>
                  </a:lnTo>
                  <a:lnTo>
                    <a:pt x="0" y="1107"/>
                  </a:lnTo>
                  <a:lnTo>
                    <a:pt x="226" y="1124"/>
                  </a:lnTo>
                  <a:lnTo>
                    <a:pt x="247" y="1275"/>
                  </a:lnTo>
                  <a:close/>
                  <a:moveTo>
                    <a:pt x="1510" y="1046"/>
                  </a:moveTo>
                  <a:lnTo>
                    <a:pt x="1510" y="429"/>
                  </a:lnTo>
                  <a:lnTo>
                    <a:pt x="1586" y="368"/>
                  </a:lnTo>
                  <a:lnTo>
                    <a:pt x="1586" y="1"/>
                  </a:lnTo>
                  <a:lnTo>
                    <a:pt x="1736" y="0"/>
                  </a:lnTo>
                  <a:lnTo>
                    <a:pt x="1736" y="368"/>
                  </a:lnTo>
                  <a:lnTo>
                    <a:pt x="1813" y="429"/>
                  </a:lnTo>
                  <a:lnTo>
                    <a:pt x="1813" y="1046"/>
                  </a:lnTo>
                  <a:lnTo>
                    <a:pt x="1714" y="1078"/>
                  </a:lnTo>
                  <a:lnTo>
                    <a:pt x="1714" y="1252"/>
                  </a:lnTo>
                  <a:lnTo>
                    <a:pt x="1610" y="1252"/>
                  </a:lnTo>
                  <a:lnTo>
                    <a:pt x="1610" y="1078"/>
                  </a:lnTo>
                  <a:lnTo>
                    <a:pt x="1510" y="1046"/>
                  </a:lnTo>
                  <a:close/>
                  <a:moveTo>
                    <a:pt x="3345" y="1253"/>
                  </a:moveTo>
                  <a:lnTo>
                    <a:pt x="3345" y="1270"/>
                  </a:lnTo>
                  <a:lnTo>
                    <a:pt x="3340" y="1286"/>
                  </a:lnTo>
                  <a:lnTo>
                    <a:pt x="3330" y="1301"/>
                  </a:lnTo>
                  <a:lnTo>
                    <a:pt x="3317" y="1311"/>
                  </a:lnTo>
                  <a:lnTo>
                    <a:pt x="3300" y="1317"/>
                  </a:lnTo>
                  <a:lnTo>
                    <a:pt x="3283" y="1317"/>
                  </a:lnTo>
                  <a:lnTo>
                    <a:pt x="3267" y="1313"/>
                  </a:lnTo>
                  <a:lnTo>
                    <a:pt x="3252" y="1304"/>
                  </a:lnTo>
                  <a:lnTo>
                    <a:pt x="3152" y="1214"/>
                  </a:lnTo>
                  <a:lnTo>
                    <a:pt x="3134" y="1195"/>
                  </a:lnTo>
                  <a:lnTo>
                    <a:pt x="3122" y="1173"/>
                  </a:lnTo>
                  <a:lnTo>
                    <a:pt x="3114" y="1149"/>
                  </a:lnTo>
                  <a:lnTo>
                    <a:pt x="3111" y="1123"/>
                  </a:lnTo>
                  <a:lnTo>
                    <a:pt x="3323" y="1107"/>
                  </a:lnTo>
                  <a:lnTo>
                    <a:pt x="3345" y="1253"/>
                  </a:lnTo>
                  <a:close/>
                  <a:moveTo>
                    <a:pt x="3373" y="2066"/>
                  </a:moveTo>
                  <a:lnTo>
                    <a:pt x="3377" y="2086"/>
                  </a:lnTo>
                  <a:lnTo>
                    <a:pt x="3375" y="2105"/>
                  </a:lnTo>
                  <a:lnTo>
                    <a:pt x="3366" y="2122"/>
                  </a:lnTo>
                  <a:lnTo>
                    <a:pt x="3351" y="2137"/>
                  </a:lnTo>
                  <a:lnTo>
                    <a:pt x="3333" y="2146"/>
                  </a:lnTo>
                  <a:lnTo>
                    <a:pt x="3315" y="2148"/>
                  </a:lnTo>
                  <a:lnTo>
                    <a:pt x="3295" y="2145"/>
                  </a:lnTo>
                  <a:lnTo>
                    <a:pt x="3277" y="2135"/>
                  </a:lnTo>
                  <a:lnTo>
                    <a:pt x="3126" y="2006"/>
                  </a:lnTo>
                  <a:lnTo>
                    <a:pt x="3100" y="1979"/>
                  </a:lnTo>
                  <a:lnTo>
                    <a:pt x="3080" y="1946"/>
                  </a:lnTo>
                  <a:lnTo>
                    <a:pt x="3069" y="1911"/>
                  </a:lnTo>
                  <a:lnTo>
                    <a:pt x="3065" y="1874"/>
                  </a:lnTo>
                  <a:lnTo>
                    <a:pt x="3212" y="1942"/>
                  </a:lnTo>
                  <a:lnTo>
                    <a:pt x="3312" y="1909"/>
                  </a:lnTo>
                  <a:lnTo>
                    <a:pt x="3373" y="2066"/>
                  </a:lnTo>
                  <a:close/>
                </a:path>
              </a:pathLst>
            </a:custGeom>
            <a:solidFill>
              <a:srgbClr val="a0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 flipH="1">
              <a:off x="6934320" y="4843440"/>
              <a:ext cx="123840" cy="115920"/>
            </a:xfrm>
            <a:custGeom>
              <a:avLst/>
              <a:gdLst/>
              <a:ahLst/>
              <a:rect l="l" t="t" r="r" b="b"/>
              <a:pathLst>
                <a:path w="310" h="293">
                  <a:moveTo>
                    <a:pt x="307" y="206"/>
                  </a:moveTo>
                  <a:lnTo>
                    <a:pt x="310" y="227"/>
                  </a:lnTo>
                  <a:lnTo>
                    <a:pt x="307" y="247"/>
                  </a:lnTo>
                  <a:lnTo>
                    <a:pt x="297" y="265"/>
                  </a:lnTo>
                  <a:lnTo>
                    <a:pt x="282" y="281"/>
                  </a:lnTo>
                  <a:lnTo>
                    <a:pt x="263" y="290"/>
                  </a:lnTo>
                  <a:lnTo>
                    <a:pt x="243" y="293"/>
                  </a:lnTo>
                  <a:lnTo>
                    <a:pt x="222" y="290"/>
                  </a:lnTo>
                  <a:lnTo>
                    <a:pt x="204" y="280"/>
                  </a:lnTo>
                  <a:lnTo>
                    <a:pt x="55" y="177"/>
                  </a:lnTo>
                  <a:lnTo>
                    <a:pt x="33" y="156"/>
                  </a:lnTo>
                  <a:lnTo>
                    <a:pt x="15" y="132"/>
                  </a:lnTo>
                  <a:lnTo>
                    <a:pt x="4" y="103"/>
                  </a:lnTo>
                  <a:lnTo>
                    <a:pt x="0" y="73"/>
                  </a:lnTo>
                  <a:lnTo>
                    <a:pt x="50" y="89"/>
                  </a:lnTo>
                  <a:lnTo>
                    <a:pt x="244" y="0"/>
                  </a:lnTo>
                  <a:lnTo>
                    <a:pt x="307" y="20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>
              <a:off x="6983280" y="4546440"/>
              <a:ext cx="98640" cy="96840"/>
            </a:xfrm>
            <a:custGeom>
              <a:avLst/>
              <a:gdLst/>
              <a:ahLst/>
              <a:rect l="l" t="t" r="r" b="b"/>
              <a:pathLst>
                <a:path w="247" h="242">
                  <a:moveTo>
                    <a:pt x="247" y="168"/>
                  </a:moveTo>
                  <a:lnTo>
                    <a:pt x="246" y="189"/>
                  </a:lnTo>
                  <a:lnTo>
                    <a:pt x="239" y="210"/>
                  </a:lnTo>
                  <a:lnTo>
                    <a:pt x="225" y="226"/>
                  </a:lnTo>
                  <a:lnTo>
                    <a:pt x="207" y="237"/>
                  </a:lnTo>
                  <a:lnTo>
                    <a:pt x="185" y="242"/>
                  </a:lnTo>
                  <a:lnTo>
                    <a:pt x="165" y="241"/>
                  </a:lnTo>
                  <a:lnTo>
                    <a:pt x="145" y="232"/>
                  </a:lnTo>
                  <a:lnTo>
                    <a:pt x="128" y="218"/>
                  </a:lnTo>
                  <a:lnTo>
                    <a:pt x="37" y="105"/>
                  </a:lnTo>
                  <a:lnTo>
                    <a:pt x="21" y="81"/>
                  </a:lnTo>
                  <a:lnTo>
                    <a:pt x="9" y="56"/>
                  </a:lnTo>
                  <a:lnTo>
                    <a:pt x="2" y="28"/>
                  </a:lnTo>
                  <a:lnTo>
                    <a:pt x="0" y="0"/>
                  </a:lnTo>
                  <a:lnTo>
                    <a:pt x="226" y="17"/>
                  </a:lnTo>
                  <a:lnTo>
                    <a:pt x="247" y="16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H="1">
              <a:off x="6361920" y="4108320"/>
              <a:ext cx="120600" cy="497160"/>
            </a:xfrm>
            <a:custGeom>
              <a:avLst/>
              <a:gdLst/>
              <a:ahLst/>
              <a:rect l="l" t="t" r="r" b="b"/>
              <a:pathLst>
                <a:path w="303" h="1252">
                  <a:moveTo>
                    <a:pt x="0" y="1046"/>
                  </a:moveTo>
                  <a:lnTo>
                    <a:pt x="0" y="429"/>
                  </a:lnTo>
                  <a:lnTo>
                    <a:pt x="76" y="368"/>
                  </a:lnTo>
                  <a:lnTo>
                    <a:pt x="76" y="1"/>
                  </a:lnTo>
                  <a:lnTo>
                    <a:pt x="226" y="0"/>
                  </a:lnTo>
                  <a:lnTo>
                    <a:pt x="226" y="368"/>
                  </a:lnTo>
                  <a:lnTo>
                    <a:pt x="303" y="429"/>
                  </a:lnTo>
                  <a:lnTo>
                    <a:pt x="303" y="1046"/>
                  </a:lnTo>
                  <a:lnTo>
                    <a:pt x="204" y="1078"/>
                  </a:lnTo>
                  <a:lnTo>
                    <a:pt x="204" y="1252"/>
                  </a:lnTo>
                  <a:lnTo>
                    <a:pt x="100" y="1252"/>
                  </a:lnTo>
                  <a:lnTo>
                    <a:pt x="100" y="1078"/>
                  </a:lnTo>
                  <a:lnTo>
                    <a:pt x="0" y="104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H="1">
              <a:off x="5754600" y="4546440"/>
              <a:ext cx="92160" cy="84240"/>
            </a:xfrm>
            <a:custGeom>
              <a:avLst/>
              <a:gdLst/>
              <a:ahLst/>
              <a:rect l="l" t="t" r="r" b="b"/>
              <a:pathLst>
                <a:path w="234" h="210">
                  <a:moveTo>
                    <a:pt x="234" y="146"/>
                  </a:moveTo>
                  <a:lnTo>
                    <a:pt x="234" y="163"/>
                  </a:lnTo>
                  <a:lnTo>
                    <a:pt x="229" y="179"/>
                  </a:lnTo>
                  <a:lnTo>
                    <a:pt x="219" y="194"/>
                  </a:lnTo>
                  <a:lnTo>
                    <a:pt x="206" y="204"/>
                  </a:lnTo>
                  <a:lnTo>
                    <a:pt x="189" y="210"/>
                  </a:lnTo>
                  <a:lnTo>
                    <a:pt x="172" y="210"/>
                  </a:lnTo>
                  <a:lnTo>
                    <a:pt x="156" y="206"/>
                  </a:lnTo>
                  <a:lnTo>
                    <a:pt x="141" y="197"/>
                  </a:lnTo>
                  <a:lnTo>
                    <a:pt x="41" y="107"/>
                  </a:lnTo>
                  <a:lnTo>
                    <a:pt x="23" y="88"/>
                  </a:lnTo>
                  <a:lnTo>
                    <a:pt x="11" y="66"/>
                  </a:lnTo>
                  <a:lnTo>
                    <a:pt x="3" y="42"/>
                  </a:lnTo>
                  <a:lnTo>
                    <a:pt x="0" y="16"/>
                  </a:lnTo>
                  <a:lnTo>
                    <a:pt x="212" y="0"/>
                  </a:lnTo>
                  <a:lnTo>
                    <a:pt x="234" y="14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 flipH="1">
              <a:off x="5742000" y="4851360"/>
              <a:ext cx="123840" cy="109440"/>
            </a:xfrm>
            <a:custGeom>
              <a:avLst/>
              <a:gdLst/>
              <a:ahLst/>
              <a:rect l="l" t="t" r="r" b="b"/>
              <a:pathLst>
                <a:path w="312" h="274">
                  <a:moveTo>
                    <a:pt x="308" y="192"/>
                  </a:moveTo>
                  <a:lnTo>
                    <a:pt x="312" y="212"/>
                  </a:lnTo>
                  <a:lnTo>
                    <a:pt x="310" y="231"/>
                  </a:lnTo>
                  <a:lnTo>
                    <a:pt x="301" y="248"/>
                  </a:lnTo>
                  <a:lnTo>
                    <a:pt x="286" y="263"/>
                  </a:lnTo>
                  <a:lnTo>
                    <a:pt x="268" y="272"/>
                  </a:lnTo>
                  <a:lnTo>
                    <a:pt x="250" y="274"/>
                  </a:lnTo>
                  <a:lnTo>
                    <a:pt x="230" y="271"/>
                  </a:lnTo>
                  <a:lnTo>
                    <a:pt x="212" y="261"/>
                  </a:lnTo>
                  <a:lnTo>
                    <a:pt x="61" y="132"/>
                  </a:lnTo>
                  <a:lnTo>
                    <a:pt x="35" y="105"/>
                  </a:lnTo>
                  <a:lnTo>
                    <a:pt x="15" y="72"/>
                  </a:lnTo>
                  <a:lnTo>
                    <a:pt x="4" y="37"/>
                  </a:lnTo>
                  <a:lnTo>
                    <a:pt x="0" y="0"/>
                  </a:lnTo>
                  <a:lnTo>
                    <a:pt x="147" y="68"/>
                  </a:lnTo>
                  <a:lnTo>
                    <a:pt x="247" y="35"/>
                  </a:lnTo>
                  <a:lnTo>
                    <a:pt x="308" y="19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H="1">
              <a:off x="6392160" y="4254480"/>
              <a:ext cx="58680" cy="9720"/>
            </a:xfrm>
            <a:custGeom>
              <a:avLst/>
              <a:gdLst/>
              <a:ahLst/>
              <a:rect l="l" t="t" r="r" b="b"/>
              <a:pathLst>
                <a:path w="150" h="24">
                  <a:moveTo>
                    <a:pt x="0" y="0"/>
                  </a:moveTo>
                  <a:lnTo>
                    <a:pt x="7" y="10"/>
                  </a:lnTo>
                  <a:lnTo>
                    <a:pt x="24" y="18"/>
                  </a:lnTo>
                  <a:lnTo>
                    <a:pt x="48" y="22"/>
                  </a:lnTo>
                  <a:lnTo>
                    <a:pt x="76" y="24"/>
                  </a:lnTo>
                  <a:lnTo>
                    <a:pt x="102" y="22"/>
                  </a:lnTo>
                  <a:lnTo>
                    <a:pt x="127" y="18"/>
                  </a:lnTo>
                  <a:lnTo>
                    <a:pt x="144" y="10"/>
                  </a:lnTo>
                  <a:lnTo>
                    <a:pt x="1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 flipH="1">
              <a:off x="6361920" y="4278240"/>
              <a:ext cx="120600" cy="19080"/>
            </a:xfrm>
            <a:custGeom>
              <a:avLst/>
              <a:gdLst/>
              <a:ahLst/>
              <a:rect l="l" t="t" r="r" b="b"/>
              <a:pathLst>
                <a:path w="303" h="49">
                  <a:moveTo>
                    <a:pt x="303" y="0"/>
                  </a:moveTo>
                  <a:lnTo>
                    <a:pt x="300" y="11"/>
                  </a:lnTo>
                  <a:lnTo>
                    <a:pt x="290" y="21"/>
                  </a:lnTo>
                  <a:lnTo>
                    <a:pt x="256" y="36"/>
                  </a:lnTo>
                  <a:lnTo>
                    <a:pt x="207" y="46"/>
                  </a:lnTo>
                  <a:lnTo>
                    <a:pt x="152" y="49"/>
                  </a:lnTo>
                  <a:lnTo>
                    <a:pt x="96" y="46"/>
                  </a:lnTo>
                  <a:lnTo>
                    <a:pt x="47" y="36"/>
                  </a:lnTo>
                  <a:lnTo>
                    <a:pt x="13" y="21"/>
                  </a:lnTo>
                  <a:lnTo>
                    <a:pt x="3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 flipH="1">
              <a:off x="6361920" y="4343400"/>
              <a:ext cx="120600" cy="20520"/>
            </a:xfrm>
            <a:custGeom>
              <a:avLst/>
              <a:gdLst/>
              <a:ahLst/>
              <a:rect l="l" t="t" r="r" b="b"/>
              <a:pathLst>
                <a:path w="303" h="49">
                  <a:moveTo>
                    <a:pt x="0" y="0"/>
                  </a:moveTo>
                  <a:lnTo>
                    <a:pt x="3" y="11"/>
                  </a:lnTo>
                  <a:lnTo>
                    <a:pt x="13" y="21"/>
                  </a:lnTo>
                  <a:lnTo>
                    <a:pt x="47" y="37"/>
                  </a:lnTo>
                  <a:lnTo>
                    <a:pt x="96" y="46"/>
                  </a:lnTo>
                  <a:lnTo>
                    <a:pt x="152" y="49"/>
                  </a:lnTo>
                  <a:lnTo>
                    <a:pt x="207" y="46"/>
                  </a:lnTo>
                  <a:lnTo>
                    <a:pt x="256" y="37"/>
                  </a:lnTo>
                  <a:lnTo>
                    <a:pt x="290" y="21"/>
                  </a:lnTo>
                  <a:lnTo>
                    <a:pt x="300" y="11"/>
                  </a:lnTo>
                  <a:lnTo>
                    <a:pt x="302" y="7"/>
                  </a:lnTo>
                  <a:lnTo>
                    <a:pt x="3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 flipH="1">
              <a:off x="6401520" y="4444920"/>
              <a:ext cx="41400" cy="90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"/>
          <p:cNvSpPr/>
          <p:nvPr/>
        </p:nvSpPr>
        <p:spPr>
          <a:xfrm>
            <a:off x="4676760" y="4654440"/>
            <a:ext cx="33480" cy="5040"/>
          </a:xfrm>
          <a:custGeom>
            <a:avLst/>
            <a:gdLst/>
            <a:ahLst/>
            <a:rect l="l" t="t" r="r" b="b"/>
            <a:pathLst>
              <a:path w="63" h="11">
                <a:moveTo>
                  <a:pt x="0" y="0"/>
                </a:moveTo>
                <a:lnTo>
                  <a:pt x="63" y="3"/>
                </a:lnTo>
                <a:lnTo>
                  <a:pt x="55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5" name=""/>
          <p:cNvGrpSpPr/>
          <p:nvPr/>
        </p:nvGrpSpPr>
        <p:grpSpPr>
          <a:xfrm>
            <a:off x="5715000" y="3002040"/>
            <a:ext cx="1863720" cy="1616040"/>
            <a:chOff x="5715000" y="3002040"/>
            <a:chExt cx="1863720" cy="1616040"/>
          </a:xfrm>
        </p:grpSpPr>
        <p:sp>
          <p:nvSpPr>
            <p:cNvPr id="4426" name=""/>
            <p:cNvSpPr/>
            <p:nvPr/>
          </p:nvSpPr>
          <p:spPr>
            <a:xfrm>
              <a:off x="5715000" y="3002040"/>
              <a:ext cx="1792440" cy="1616040"/>
            </a:xfrm>
            <a:custGeom>
              <a:avLst/>
              <a:gdLst/>
              <a:ahLst/>
              <a:rect l="l" t="t" r="r" b="b"/>
              <a:pathLst>
                <a:path w="6775" h="6109">
                  <a:moveTo>
                    <a:pt x="3521" y="3762"/>
                  </a:moveTo>
                  <a:lnTo>
                    <a:pt x="3521" y="0"/>
                  </a:lnTo>
                  <a:lnTo>
                    <a:pt x="4058" y="0"/>
                  </a:lnTo>
                  <a:lnTo>
                    <a:pt x="4917" y="2957"/>
                  </a:lnTo>
                  <a:lnTo>
                    <a:pt x="3521" y="3762"/>
                  </a:lnTo>
                  <a:lnTo>
                    <a:pt x="6775" y="5643"/>
                  </a:lnTo>
                  <a:lnTo>
                    <a:pt x="6506" y="6109"/>
                  </a:lnTo>
                  <a:lnTo>
                    <a:pt x="3521" y="5374"/>
                  </a:lnTo>
                  <a:lnTo>
                    <a:pt x="3521" y="3762"/>
                  </a:lnTo>
                  <a:lnTo>
                    <a:pt x="269" y="5643"/>
                  </a:lnTo>
                  <a:lnTo>
                    <a:pt x="0" y="5178"/>
                  </a:lnTo>
                  <a:lnTo>
                    <a:pt x="2127" y="2957"/>
                  </a:lnTo>
                  <a:lnTo>
                    <a:pt x="3521" y="3762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715000" y="3002040"/>
              <a:ext cx="1792440" cy="1616040"/>
            </a:xfrm>
            <a:custGeom>
              <a:avLst/>
              <a:gdLst/>
              <a:ahLst/>
              <a:rect l="l" t="t" r="r" b="b"/>
              <a:pathLst>
                <a:path w="6775" h="6109">
                  <a:moveTo>
                    <a:pt x="3521" y="3762"/>
                  </a:moveTo>
                  <a:lnTo>
                    <a:pt x="3521" y="0"/>
                  </a:lnTo>
                  <a:lnTo>
                    <a:pt x="4058" y="0"/>
                  </a:lnTo>
                  <a:lnTo>
                    <a:pt x="4917" y="2957"/>
                  </a:lnTo>
                  <a:lnTo>
                    <a:pt x="3521" y="3762"/>
                  </a:lnTo>
                  <a:lnTo>
                    <a:pt x="6775" y="5643"/>
                  </a:lnTo>
                  <a:lnTo>
                    <a:pt x="6506" y="6109"/>
                  </a:lnTo>
                  <a:lnTo>
                    <a:pt x="3521" y="5374"/>
                  </a:lnTo>
                  <a:lnTo>
                    <a:pt x="3521" y="3762"/>
                  </a:lnTo>
                  <a:lnTo>
                    <a:pt x="269" y="5643"/>
                  </a:lnTo>
                  <a:lnTo>
                    <a:pt x="0" y="5178"/>
                  </a:lnTo>
                  <a:lnTo>
                    <a:pt x="2127" y="2957"/>
                  </a:lnTo>
                  <a:lnTo>
                    <a:pt x="3521" y="3762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015320" y="3784320"/>
              <a:ext cx="563400" cy="709560"/>
            </a:xfrm>
            <a:custGeom>
              <a:avLst/>
              <a:gdLst/>
              <a:ahLst/>
              <a:rect l="l" t="t" r="r" b="b"/>
              <a:pathLst>
                <a:path w="2126" h="2686">
                  <a:moveTo>
                    <a:pt x="0" y="0"/>
                  </a:moveTo>
                  <a:lnTo>
                    <a:pt x="2126" y="2221"/>
                  </a:lnTo>
                  <a:lnTo>
                    <a:pt x="1858" y="2686"/>
                  </a:lnTo>
                </a:path>
              </a:pathLst>
            </a:cu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786640" y="4424400"/>
              <a:ext cx="860400" cy="193320"/>
            </a:xfrm>
            <a:custGeom>
              <a:avLst/>
              <a:gdLst/>
              <a:ahLst/>
              <a:rect l="l" t="t" r="r" b="b"/>
              <a:pathLst>
                <a:path w="3252" h="735">
                  <a:moveTo>
                    <a:pt x="3252" y="0"/>
                  </a:moveTo>
                  <a:lnTo>
                    <a:pt x="268" y="735"/>
                  </a:lnTo>
                  <a:lnTo>
                    <a:pt x="0" y="269"/>
                  </a:lnTo>
                </a:path>
              </a:pathLst>
            </a:cu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278760" y="3002040"/>
              <a:ext cx="368280" cy="782280"/>
            </a:xfrm>
            <a:custGeom>
              <a:avLst/>
              <a:gdLst/>
              <a:ahLst/>
              <a:rect l="l" t="t" r="r" b="b"/>
              <a:pathLst>
                <a:path w="1394" h="2957">
                  <a:moveTo>
                    <a:pt x="0" y="2957"/>
                  </a:moveTo>
                  <a:lnTo>
                    <a:pt x="858" y="0"/>
                  </a:lnTo>
                  <a:lnTo>
                    <a:pt x="1394" y="0"/>
                  </a:lnTo>
                </a:path>
              </a:pathLst>
            </a:cu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1" name=""/>
          <p:cNvSpPr/>
          <p:nvPr/>
        </p:nvSpPr>
        <p:spPr>
          <a:xfrm>
            <a:off x="19069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6554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3" name="STAR017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18637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4" name=""/>
          <p:cNvGrpSpPr/>
          <p:nvPr/>
        </p:nvGrpSpPr>
        <p:grpSpPr>
          <a:xfrm>
            <a:off x="1371600" y="3003480"/>
            <a:ext cx="2170080" cy="1611360"/>
            <a:chOff x="1371600" y="3003480"/>
            <a:chExt cx="2170080" cy="1611360"/>
          </a:xfrm>
        </p:grpSpPr>
        <p:sp>
          <p:nvSpPr>
            <p:cNvPr id="4435" name=""/>
            <p:cNvSpPr/>
            <p:nvPr/>
          </p:nvSpPr>
          <p:spPr>
            <a:xfrm flipH="1">
              <a:off x="1371600" y="3003480"/>
              <a:ext cx="2170080" cy="1611360"/>
            </a:xfrm>
            <a:custGeom>
              <a:avLst/>
              <a:gdLst/>
              <a:ahLst/>
              <a:rect l="l" t="t" r="r" b="b"/>
              <a:pathLst>
                <a:path w="1720" h="1336">
                  <a:moveTo>
                    <a:pt x="1173" y="230"/>
                  </a:moveTo>
                  <a:lnTo>
                    <a:pt x="1163" y="221"/>
                  </a:lnTo>
                  <a:lnTo>
                    <a:pt x="1154" y="209"/>
                  </a:lnTo>
                  <a:lnTo>
                    <a:pt x="1144" y="200"/>
                  </a:lnTo>
                  <a:lnTo>
                    <a:pt x="1133" y="188"/>
                  </a:lnTo>
                  <a:lnTo>
                    <a:pt x="1123" y="179"/>
                  </a:lnTo>
                  <a:lnTo>
                    <a:pt x="1113" y="169"/>
                  </a:lnTo>
                  <a:lnTo>
                    <a:pt x="1102" y="159"/>
                  </a:lnTo>
                  <a:lnTo>
                    <a:pt x="1090" y="150"/>
                  </a:lnTo>
                  <a:lnTo>
                    <a:pt x="1079" y="142"/>
                  </a:lnTo>
                  <a:lnTo>
                    <a:pt x="1067" y="132"/>
                  </a:lnTo>
                  <a:lnTo>
                    <a:pt x="1056" y="125"/>
                  </a:lnTo>
                  <a:lnTo>
                    <a:pt x="1044" y="115"/>
                  </a:lnTo>
                  <a:lnTo>
                    <a:pt x="1033" y="107"/>
                  </a:lnTo>
                  <a:lnTo>
                    <a:pt x="1021" y="100"/>
                  </a:lnTo>
                  <a:lnTo>
                    <a:pt x="1008" y="92"/>
                  </a:lnTo>
                  <a:lnTo>
                    <a:pt x="996" y="86"/>
                  </a:lnTo>
                  <a:lnTo>
                    <a:pt x="983" y="79"/>
                  </a:lnTo>
                  <a:lnTo>
                    <a:pt x="969" y="71"/>
                  </a:lnTo>
                  <a:lnTo>
                    <a:pt x="958" y="65"/>
                  </a:lnTo>
                  <a:lnTo>
                    <a:pt x="944" y="60"/>
                  </a:lnTo>
                  <a:lnTo>
                    <a:pt x="931" y="54"/>
                  </a:lnTo>
                  <a:lnTo>
                    <a:pt x="918" y="48"/>
                  </a:lnTo>
                  <a:lnTo>
                    <a:pt x="904" y="42"/>
                  </a:lnTo>
                  <a:lnTo>
                    <a:pt x="889" y="36"/>
                  </a:lnTo>
                  <a:lnTo>
                    <a:pt x="875" y="33"/>
                  </a:lnTo>
                  <a:lnTo>
                    <a:pt x="862" y="29"/>
                  </a:lnTo>
                  <a:lnTo>
                    <a:pt x="847" y="25"/>
                  </a:lnTo>
                  <a:lnTo>
                    <a:pt x="833" y="21"/>
                  </a:lnTo>
                  <a:lnTo>
                    <a:pt x="820" y="17"/>
                  </a:lnTo>
                  <a:lnTo>
                    <a:pt x="804" y="13"/>
                  </a:lnTo>
                  <a:lnTo>
                    <a:pt x="789" y="12"/>
                  </a:lnTo>
                  <a:lnTo>
                    <a:pt x="776" y="8"/>
                  </a:lnTo>
                  <a:lnTo>
                    <a:pt x="760" y="6"/>
                  </a:lnTo>
                  <a:lnTo>
                    <a:pt x="745" y="4"/>
                  </a:lnTo>
                  <a:lnTo>
                    <a:pt x="729" y="2"/>
                  </a:lnTo>
                  <a:lnTo>
                    <a:pt x="714" y="2"/>
                  </a:lnTo>
                  <a:lnTo>
                    <a:pt x="699" y="0"/>
                  </a:lnTo>
                  <a:lnTo>
                    <a:pt x="683" y="0"/>
                  </a:lnTo>
                  <a:lnTo>
                    <a:pt x="668" y="0"/>
                  </a:lnTo>
                  <a:lnTo>
                    <a:pt x="668" y="0"/>
                  </a:lnTo>
                  <a:lnTo>
                    <a:pt x="639" y="0"/>
                  </a:lnTo>
                  <a:lnTo>
                    <a:pt x="612" y="2"/>
                  </a:lnTo>
                  <a:lnTo>
                    <a:pt x="584" y="6"/>
                  </a:lnTo>
                  <a:lnTo>
                    <a:pt x="557" y="10"/>
                  </a:lnTo>
                  <a:lnTo>
                    <a:pt x="530" y="13"/>
                  </a:lnTo>
                  <a:lnTo>
                    <a:pt x="503" y="19"/>
                  </a:lnTo>
                  <a:lnTo>
                    <a:pt x="478" y="27"/>
                  </a:lnTo>
                  <a:lnTo>
                    <a:pt x="451" y="36"/>
                  </a:lnTo>
                  <a:lnTo>
                    <a:pt x="426" y="44"/>
                  </a:lnTo>
                  <a:lnTo>
                    <a:pt x="401" y="56"/>
                  </a:lnTo>
                  <a:lnTo>
                    <a:pt x="378" y="65"/>
                  </a:lnTo>
                  <a:lnTo>
                    <a:pt x="353" y="79"/>
                  </a:lnTo>
                  <a:lnTo>
                    <a:pt x="330" y="90"/>
                  </a:lnTo>
                  <a:lnTo>
                    <a:pt x="307" y="106"/>
                  </a:lnTo>
                  <a:lnTo>
                    <a:pt x="286" y="119"/>
                  </a:lnTo>
                  <a:lnTo>
                    <a:pt x="265" y="134"/>
                  </a:lnTo>
                  <a:lnTo>
                    <a:pt x="244" y="152"/>
                  </a:lnTo>
                  <a:lnTo>
                    <a:pt x="225" y="169"/>
                  </a:lnTo>
                  <a:lnTo>
                    <a:pt x="205" y="186"/>
                  </a:lnTo>
                  <a:lnTo>
                    <a:pt x="186" y="205"/>
                  </a:lnTo>
                  <a:lnTo>
                    <a:pt x="169" y="225"/>
                  </a:lnTo>
                  <a:lnTo>
                    <a:pt x="152" y="244"/>
                  </a:lnTo>
                  <a:lnTo>
                    <a:pt x="134" y="265"/>
                  </a:lnTo>
                  <a:lnTo>
                    <a:pt x="119" y="286"/>
                  </a:lnTo>
                  <a:lnTo>
                    <a:pt x="104" y="309"/>
                  </a:lnTo>
                  <a:lnTo>
                    <a:pt x="90" y="330"/>
                  </a:lnTo>
                  <a:lnTo>
                    <a:pt x="79" y="353"/>
                  </a:lnTo>
                  <a:lnTo>
                    <a:pt x="65" y="378"/>
                  </a:lnTo>
                  <a:lnTo>
                    <a:pt x="54" y="401"/>
                  </a:lnTo>
                  <a:lnTo>
                    <a:pt x="44" y="426"/>
                  </a:lnTo>
                  <a:lnTo>
                    <a:pt x="35" y="451"/>
                  </a:lnTo>
                  <a:lnTo>
                    <a:pt x="27" y="478"/>
                  </a:lnTo>
                  <a:lnTo>
                    <a:pt x="19" y="503"/>
                  </a:lnTo>
                  <a:lnTo>
                    <a:pt x="13" y="530"/>
                  </a:lnTo>
                  <a:lnTo>
                    <a:pt x="8" y="557"/>
                  </a:lnTo>
                  <a:lnTo>
                    <a:pt x="4" y="585"/>
                  </a:lnTo>
                  <a:lnTo>
                    <a:pt x="2" y="612"/>
                  </a:lnTo>
                  <a:lnTo>
                    <a:pt x="0" y="641"/>
                  </a:lnTo>
                  <a:lnTo>
                    <a:pt x="0" y="668"/>
                  </a:lnTo>
                  <a:lnTo>
                    <a:pt x="0" y="668"/>
                  </a:lnTo>
                  <a:lnTo>
                    <a:pt x="0" y="697"/>
                  </a:lnTo>
                  <a:lnTo>
                    <a:pt x="2" y="726"/>
                  </a:lnTo>
                  <a:lnTo>
                    <a:pt x="4" y="752"/>
                  </a:lnTo>
                  <a:lnTo>
                    <a:pt x="8" y="779"/>
                  </a:lnTo>
                  <a:lnTo>
                    <a:pt x="13" y="806"/>
                  </a:lnTo>
                  <a:lnTo>
                    <a:pt x="19" y="833"/>
                  </a:lnTo>
                  <a:lnTo>
                    <a:pt x="27" y="860"/>
                  </a:lnTo>
                  <a:lnTo>
                    <a:pt x="35" y="885"/>
                  </a:lnTo>
                  <a:lnTo>
                    <a:pt x="44" y="910"/>
                  </a:lnTo>
                  <a:lnTo>
                    <a:pt x="54" y="935"/>
                  </a:lnTo>
                  <a:lnTo>
                    <a:pt x="65" y="960"/>
                  </a:lnTo>
                  <a:lnTo>
                    <a:pt x="79" y="983"/>
                  </a:lnTo>
                  <a:lnTo>
                    <a:pt x="90" y="1006"/>
                  </a:lnTo>
                  <a:lnTo>
                    <a:pt x="104" y="1029"/>
                  </a:lnTo>
                  <a:lnTo>
                    <a:pt x="119" y="1050"/>
                  </a:lnTo>
                  <a:lnTo>
                    <a:pt x="134" y="1071"/>
                  </a:lnTo>
                  <a:lnTo>
                    <a:pt x="152" y="1092"/>
                  </a:lnTo>
                  <a:lnTo>
                    <a:pt x="169" y="1113"/>
                  </a:lnTo>
                  <a:lnTo>
                    <a:pt x="186" y="1133"/>
                  </a:lnTo>
                  <a:lnTo>
                    <a:pt x="205" y="1150"/>
                  </a:lnTo>
                  <a:lnTo>
                    <a:pt x="225" y="1169"/>
                  </a:lnTo>
                  <a:lnTo>
                    <a:pt x="244" y="1186"/>
                  </a:lnTo>
                  <a:lnTo>
                    <a:pt x="265" y="1202"/>
                  </a:lnTo>
                  <a:lnTo>
                    <a:pt x="286" y="1217"/>
                  </a:lnTo>
                  <a:lnTo>
                    <a:pt x="307" y="1232"/>
                  </a:lnTo>
                  <a:lnTo>
                    <a:pt x="330" y="1246"/>
                  </a:lnTo>
                  <a:lnTo>
                    <a:pt x="353" y="1259"/>
                  </a:lnTo>
                  <a:lnTo>
                    <a:pt x="378" y="1271"/>
                  </a:lnTo>
                  <a:lnTo>
                    <a:pt x="401" y="1282"/>
                  </a:lnTo>
                  <a:lnTo>
                    <a:pt x="426" y="1292"/>
                  </a:lnTo>
                  <a:lnTo>
                    <a:pt x="451" y="1301"/>
                  </a:lnTo>
                  <a:lnTo>
                    <a:pt x="478" y="1309"/>
                  </a:lnTo>
                  <a:lnTo>
                    <a:pt x="503" y="1317"/>
                  </a:lnTo>
                  <a:lnTo>
                    <a:pt x="530" y="1323"/>
                  </a:lnTo>
                  <a:lnTo>
                    <a:pt x="557" y="1328"/>
                  </a:lnTo>
                  <a:lnTo>
                    <a:pt x="584" y="1332"/>
                  </a:lnTo>
                  <a:lnTo>
                    <a:pt x="612" y="1334"/>
                  </a:lnTo>
                  <a:lnTo>
                    <a:pt x="639" y="1336"/>
                  </a:lnTo>
                  <a:lnTo>
                    <a:pt x="668" y="1336"/>
                  </a:lnTo>
                  <a:lnTo>
                    <a:pt x="668" y="1336"/>
                  </a:lnTo>
                  <a:lnTo>
                    <a:pt x="729" y="1336"/>
                  </a:lnTo>
                  <a:lnTo>
                    <a:pt x="864" y="1336"/>
                  </a:lnTo>
                  <a:lnTo>
                    <a:pt x="991" y="1336"/>
                  </a:lnTo>
                  <a:lnTo>
                    <a:pt x="991" y="1336"/>
                  </a:lnTo>
                  <a:lnTo>
                    <a:pt x="1065" y="1332"/>
                  </a:lnTo>
                  <a:lnTo>
                    <a:pt x="1167" y="1317"/>
                  </a:lnTo>
                  <a:lnTo>
                    <a:pt x="1282" y="1280"/>
                  </a:lnTo>
                  <a:lnTo>
                    <a:pt x="1399" y="1221"/>
                  </a:lnTo>
                  <a:lnTo>
                    <a:pt x="1507" y="1129"/>
                  </a:lnTo>
                  <a:lnTo>
                    <a:pt x="1507" y="1129"/>
                  </a:lnTo>
                  <a:lnTo>
                    <a:pt x="1520" y="1115"/>
                  </a:lnTo>
                  <a:lnTo>
                    <a:pt x="1532" y="1100"/>
                  </a:lnTo>
                  <a:lnTo>
                    <a:pt x="1543" y="1086"/>
                  </a:lnTo>
                  <a:lnTo>
                    <a:pt x="1555" y="1071"/>
                  </a:lnTo>
                  <a:lnTo>
                    <a:pt x="1565" y="1056"/>
                  </a:lnTo>
                  <a:lnTo>
                    <a:pt x="1576" y="1042"/>
                  </a:lnTo>
                  <a:lnTo>
                    <a:pt x="1586" y="1027"/>
                  </a:lnTo>
                  <a:lnTo>
                    <a:pt x="1595" y="1012"/>
                  </a:lnTo>
                  <a:lnTo>
                    <a:pt x="1603" y="996"/>
                  </a:lnTo>
                  <a:lnTo>
                    <a:pt x="1613" y="981"/>
                  </a:lnTo>
                  <a:lnTo>
                    <a:pt x="1620" y="966"/>
                  </a:lnTo>
                  <a:lnTo>
                    <a:pt x="1630" y="950"/>
                  </a:lnTo>
                  <a:lnTo>
                    <a:pt x="1637" y="935"/>
                  </a:lnTo>
                  <a:lnTo>
                    <a:pt x="1643" y="919"/>
                  </a:lnTo>
                  <a:lnTo>
                    <a:pt x="1651" y="906"/>
                  </a:lnTo>
                  <a:lnTo>
                    <a:pt x="1657" y="891"/>
                  </a:lnTo>
                  <a:lnTo>
                    <a:pt x="1664" y="875"/>
                  </a:lnTo>
                  <a:lnTo>
                    <a:pt x="1670" y="860"/>
                  </a:lnTo>
                  <a:lnTo>
                    <a:pt x="1676" y="845"/>
                  </a:lnTo>
                  <a:lnTo>
                    <a:pt x="1680" y="829"/>
                  </a:lnTo>
                  <a:lnTo>
                    <a:pt x="1685" y="814"/>
                  </a:lnTo>
                  <a:lnTo>
                    <a:pt x="1689" y="800"/>
                  </a:lnTo>
                  <a:lnTo>
                    <a:pt x="1693" y="785"/>
                  </a:lnTo>
                  <a:lnTo>
                    <a:pt x="1697" y="770"/>
                  </a:lnTo>
                  <a:lnTo>
                    <a:pt x="1701" y="756"/>
                  </a:lnTo>
                  <a:lnTo>
                    <a:pt x="1705" y="741"/>
                  </a:lnTo>
                  <a:lnTo>
                    <a:pt x="1707" y="728"/>
                  </a:lnTo>
                  <a:lnTo>
                    <a:pt x="1708" y="714"/>
                  </a:lnTo>
                  <a:lnTo>
                    <a:pt x="1712" y="701"/>
                  </a:lnTo>
                  <a:lnTo>
                    <a:pt x="1714" y="687"/>
                  </a:lnTo>
                  <a:lnTo>
                    <a:pt x="1716" y="674"/>
                  </a:lnTo>
                  <a:lnTo>
                    <a:pt x="1716" y="660"/>
                  </a:lnTo>
                  <a:lnTo>
                    <a:pt x="1718" y="647"/>
                  </a:lnTo>
                  <a:lnTo>
                    <a:pt x="1718" y="635"/>
                  </a:lnTo>
                  <a:lnTo>
                    <a:pt x="1718" y="622"/>
                  </a:lnTo>
                  <a:lnTo>
                    <a:pt x="1720" y="610"/>
                  </a:lnTo>
                  <a:lnTo>
                    <a:pt x="1718" y="599"/>
                  </a:lnTo>
                  <a:lnTo>
                    <a:pt x="1718" y="587"/>
                  </a:lnTo>
                  <a:lnTo>
                    <a:pt x="1718" y="578"/>
                  </a:lnTo>
                  <a:lnTo>
                    <a:pt x="1718" y="578"/>
                  </a:lnTo>
                  <a:lnTo>
                    <a:pt x="1716" y="566"/>
                  </a:lnTo>
                  <a:lnTo>
                    <a:pt x="1716" y="555"/>
                  </a:lnTo>
                  <a:lnTo>
                    <a:pt x="1712" y="545"/>
                  </a:lnTo>
                  <a:lnTo>
                    <a:pt x="1710" y="537"/>
                  </a:lnTo>
                  <a:lnTo>
                    <a:pt x="1707" y="530"/>
                  </a:lnTo>
                  <a:lnTo>
                    <a:pt x="1703" y="524"/>
                  </a:lnTo>
                  <a:lnTo>
                    <a:pt x="1699" y="520"/>
                  </a:lnTo>
                  <a:lnTo>
                    <a:pt x="1693" y="516"/>
                  </a:lnTo>
                  <a:lnTo>
                    <a:pt x="1689" y="514"/>
                  </a:lnTo>
                  <a:lnTo>
                    <a:pt x="1684" y="513"/>
                  </a:lnTo>
                  <a:lnTo>
                    <a:pt x="1678" y="511"/>
                  </a:lnTo>
                  <a:lnTo>
                    <a:pt x="1672" y="511"/>
                  </a:lnTo>
                  <a:lnTo>
                    <a:pt x="1666" y="511"/>
                  </a:lnTo>
                  <a:lnTo>
                    <a:pt x="1659" y="513"/>
                  </a:lnTo>
                  <a:lnTo>
                    <a:pt x="1653" y="514"/>
                  </a:lnTo>
                  <a:lnTo>
                    <a:pt x="1645" y="518"/>
                  </a:lnTo>
                  <a:lnTo>
                    <a:pt x="1639" y="520"/>
                  </a:lnTo>
                  <a:lnTo>
                    <a:pt x="1632" y="524"/>
                  </a:lnTo>
                  <a:lnTo>
                    <a:pt x="1626" y="528"/>
                  </a:lnTo>
                  <a:lnTo>
                    <a:pt x="1618" y="534"/>
                  </a:lnTo>
                  <a:lnTo>
                    <a:pt x="1611" y="537"/>
                  </a:lnTo>
                  <a:lnTo>
                    <a:pt x="1605" y="543"/>
                  </a:lnTo>
                  <a:lnTo>
                    <a:pt x="1597" y="547"/>
                  </a:lnTo>
                  <a:lnTo>
                    <a:pt x="1591" y="553"/>
                  </a:lnTo>
                  <a:lnTo>
                    <a:pt x="1584" y="559"/>
                  </a:lnTo>
                  <a:lnTo>
                    <a:pt x="1578" y="564"/>
                  </a:lnTo>
                  <a:lnTo>
                    <a:pt x="1572" y="570"/>
                  </a:lnTo>
                  <a:lnTo>
                    <a:pt x="1566" y="576"/>
                  </a:lnTo>
                  <a:lnTo>
                    <a:pt x="1561" y="582"/>
                  </a:lnTo>
                  <a:lnTo>
                    <a:pt x="1555" y="587"/>
                  </a:lnTo>
                  <a:lnTo>
                    <a:pt x="1549" y="591"/>
                  </a:lnTo>
                  <a:lnTo>
                    <a:pt x="1545" y="597"/>
                  </a:lnTo>
                  <a:lnTo>
                    <a:pt x="1541" y="601"/>
                  </a:lnTo>
                  <a:lnTo>
                    <a:pt x="1541" y="601"/>
                  </a:lnTo>
                  <a:lnTo>
                    <a:pt x="1538" y="605"/>
                  </a:lnTo>
                  <a:lnTo>
                    <a:pt x="1534" y="608"/>
                  </a:lnTo>
                  <a:lnTo>
                    <a:pt x="1530" y="612"/>
                  </a:lnTo>
                  <a:lnTo>
                    <a:pt x="1526" y="618"/>
                  </a:lnTo>
                  <a:lnTo>
                    <a:pt x="1520" y="622"/>
                  </a:lnTo>
                  <a:lnTo>
                    <a:pt x="1517" y="628"/>
                  </a:lnTo>
                  <a:lnTo>
                    <a:pt x="1511" y="632"/>
                  </a:lnTo>
                  <a:lnTo>
                    <a:pt x="1507" y="637"/>
                  </a:lnTo>
                  <a:lnTo>
                    <a:pt x="1501" y="643"/>
                  </a:lnTo>
                  <a:lnTo>
                    <a:pt x="1495" y="647"/>
                  </a:lnTo>
                  <a:lnTo>
                    <a:pt x="1490" y="653"/>
                  </a:lnTo>
                  <a:lnTo>
                    <a:pt x="1484" y="658"/>
                  </a:lnTo>
                  <a:lnTo>
                    <a:pt x="1478" y="664"/>
                  </a:lnTo>
                  <a:lnTo>
                    <a:pt x="1472" y="670"/>
                  </a:lnTo>
                  <a:lnTo>
                    <a:pt x="1467" y="676"/>
                  </a:lnTo>
                  <a:lnTo>
                    <a:pt x="1461" y="681"/>
                  </a:lnTo>
                  <a:lnTo>
                    <a:pt x="1453" y="687"/>
                  </a:lnTo>
                  <a:lnTo>
                    <a:pt x="1447" y="693"/>
                  </a:lnTo>
                  <a:lnTo>
                    <a:pt x="1442" y="699"/>
                  </a:lnTo>
                  <a:lnTo>
                    <a:pt x="1436" y="704"/>
                  </a:lnTo>
                  <a:lnTo>
                    <a:pt x="1428" y="710"/>
                  </a:lnTo>
                  <a:lnTo>
                    <a:pt x="1422" y="716"/>
                  </a:lnTo>
                  <a:lnTo>
                    <a:pt x="1417" y="722"/>
                  </a:lnTo>
                  <a:lnTo>
                    <a:pt x="1409" y="728"/>
                  </a:lnTo>
                  <a:lnTo>
                    <a:pt x="1403" y="733"/>
                  </a:lnTo>
                  <a:lnTo>
                    <a:pt x="1398" y="739"/>
                  </a:lnTo>
                  <a:lnTo>
                    <a:pt x="1390" y="745"/>
                  </a:lnTo>
                  <a:lnTo>
                    <a:pt x="1384" y="749"/>
                  </a:lnTo>
                  <a:lnTo>
                    <a:pt x="1378" y="754"/>
                  </a:lnTo>
                  <a:lnTo>
                    <a:pt x="1373" y="760"/>
                  </a:lnTo>
                  <a:lnTo>
                    <a:pt x="1367" y="764"/>
                  </a:lnTo>
                  <a:lnTo>
                    <a:pt x="1361" y="770"/>
                  </a:lnTo>
                  <a:lnTo>
                    <a:pt x="1355" y="774"/>
                  </a:lnTo>
                  <a:lnTo>
                    <a:pt x="1350" y="779"/>
                  </a:lnTo>
                  <a:lnTo>
                    <a:pt x="1344" y="783"/>
                  </a:lnTo>
                  <a:lnTo>
                    <a:pt x="1340" y="787"/>
                  </a:lnTo>
                  <a:lnTo>
                    <a:pt x="1334" y="791"/>
                  </a:lnTo>
                  <a:lnTo>
                    <a:pt x="1330" y="795"/>
                  </a:lnTo>
                  <a:lnTo>
                    <a:pt x="1325" y="799"/>
                  </a:lnTo>
                  <a:lnTo>
                    <a:pt x="1325" y="799"/>
                  </a:lnTo>
                  <a:lnTo>
                    <a:pt x="1317" y="804"/>
                  </a:lnTo>
                  <a:lnTo>
                    <a:pt x="1305" y="810"/>
                  </a:lnTo>
                  <a:lnTo>
                    <a:pt x="1296" y="816"/>
                  </a:lnTo>
                  <a:lnTo>
                    <a:pt x="1282" y="822"/>
                  </a:lnTo>
                  <a:lnTo>
                    <a:pt x="1269" y="827"/>
                  </a:lnTo>
                  <a:lnTo>
                    <a:pt x="1255" y="831"/>
                  </a:lnTo>
                  <a:lnTo>
                    <a:pt x="1242" y="837"/>
                  </a:lnTo>
                  <a:lnTo>
                    <a:pt x="1227" y="841"/>
                  </a:lnTo>
                  <a:lnTo>
                    <a:pt x="1209" y="843"/>
                  </a:lnTo>
                  <a:lnTo>
                    <a:pt x="1194" y="847"/>
                  </a:lnTo>
                  <a:lnTo>
                    <a:pt x="1177" y="847"/>
                  </a:lnTo>
                  <a:lnTo>
                    <a:pt x="1161" y="848"/>
                  </a:lnTo>
                  <a:lnTo>
                    <a:pt x="1144" y="847"/>
                  </a:lnTo>
                  <a:lnTo>
                    <a:pt x="1127" y="847"/>
                  </a:lnTo>
                  <a:lnTo>
                    <a:pt x="1111" y="843"/>
                  </a:lnTo>
                  <a:lnTo>
                    <a:pt x="1094" y="839"/>
                  </a:lnTo>
                  <a:lnTo>
                    <a:pt x="1079" y="835"/>
                  </a:lnTo>
                  <a:lnTo>
                    <a:pt x="1062" y="827"/>
                  </a:lnTo>
                  <a:lnTo>
                    <a:pt x="1048" y="820"/>
                  </a:lnTo>
                  <a:lnTo>
                    <a:pt x="1033" y="810"/>
                  </a:lnTo>
                  <a:lnTo>
                    <a:pt x="1019" y="799"/>
                  </a:lnTo>
                  <a:lnTo>
                    <a:pt x="1019" y="799"/>
                  </a:lnTo>
                  <a:lnTo>
                    <a:pt x="1010" y="789"/>
                  </a:lnTo>
                  <a:lnTo>
                    <a:pt x="1000" y="779"/>
                  </a:lnTo>
                  <a:lnTo>
                    <a:pt x="992" y="770"/>
                  </a:lnTo>
                  <a:lnTo>
                    <a:pt x="985" y="758"/>
                  </a:lnTo>
                  <a:lnTo>
                    <a:pt x="977" y="749"/>
                  </a:lnTo>
                  <a:lnTo>
                    <a:pt x="969" y="737"/>
                  </a:lnTo>
                  <a:lnTo>
                    <a:pt x="964" y="726"/>
                  </a:lnTo>
                  <a:lnTo>
                    <a:pt x="958" y="712"/>
                  </a:lnTo>
                  <a:lnTo>
                    <a:pt x="952" y="701"/>
                  </a:lnTo>
                  <a:lnTo>
                    <a:pt x="948" y="687"/>
                  </a:lnTo>
                  <a:lnTo>
                    <a:pt x="943" y="676"/>
                  </a:lnTo>
                  <a:lnTo>
                    <a:pt x="941" y="662"/>
                  </a:lnTo>
                  <a:lnTo>
                    <a:pt x="937" y="649"/>
                  </a:lnTo>
                  <a:lnTo>
                    <a:pt x="935" y="635"/>
                  </a:lnTo>
                  <a:lnTo>
                    <a:pt x="933" y="622"/>
                  </a:lnTo>
                  <a:lnTo>
                    <a:pt x="931" y="608"/>
                  </a:lnTo>
                  <a:lnTo>
                    <a:pt x="929" y="595"/>
                  </a:lnTo>
                  <a:lnTo>
                    <a:pt x="929" y="582"/>
                  </a:lnTo>
                  <a:lnTo>
                    <a:pt x="931" y="568"/>
                  </a:lnTo>
                  <a:lnTo>
                    <a:pt x="931" y="557"/>
                  </a:lnTo>
                  <a:lnTo>
                    <a:pt x="933" y="543"/>
                  </a:lnTo>
                  <a:lnTo>
                    <a:pt x="935" y="530"/>
                  </a:lnTo>
                  <a:lnTo>
                    <a:pt x="937" y="518"/>
                  </a:lnTo>
                  <a:lnTo>
                    <a:pt x="941" y="507"/>
                  </a:lnTo>
                  <a:lnTo>
                    <a:pt x="944" y="495"/>
                  </a:lnTo>
                  <a:lnTo>
                    <a:pt x="950" y="484"/>
                  </a:lnTo>
                  <a:lnTo>
                    <a:pt x="956" y="472"/>
                  </a:lnTo>
                  <a:lnTo>
                    <a:pt x="962" y="463"/>
                  </a:lnTo>
                  <a:lnTo>
                    <a:pt x="968" y="453"/>
                  </a:lnTo>
                  <a:lnTo>
                    <a:pt x="975" y="443"/>
                  </a:lnTo>
                  <a:lnTo>
                    <a:pt x="975" y="443"/>
                  </a:lnTo>
                  <a:lnTo>
                    <a:pt x="981" y="436"/>
                  </a:lnTo>
                  <a:lnTo>
                    <a:pt x="987" y="428"/>
                  </a:lnTo>
                  <a:lnTo>
                    <a:pt x="994" y="420"/>
                  </a:lnTo>
                  <a:lnTo>
                    <a:pt x="1000" y="415"/>
                  </a:lnTo>
                  <a:lnTo>
                    <a:pt x="1006" y="407"/>
                  </a:lnTo>
                  <a:lnTo>
                    <a:pt x="1014" y="399"/>
                  </a:lnTo>
                  <a:lnTo>
                    <a:pt x="1019" y="392"/>
                  </a:lnTo>
                  <a:lnTo>
                    <a:pt x="1027" y="384"/>
                  </a:lnTo>
                  <a:lnTo>
                    <a:pt x="1033" y="376"/>
                  </a:lnTo>
                  <a:lnTo>
                    <a:pt x="1040" y="369"/>
                  </a:lnTo>
                  <a:lnTo>
                    <a:pt x="1046" y="361"/>
                  </a:lnTo>
                  <a:lnTo>
                    <a:pt x="1054" y="355"/>
                  </a:lnTo>
                  <a:lnTo>
                    <a:pt x="1060" y="347"/>
                  </a:lnTo>
                  <a:lnTo>
                    <a:pt x="1067" y="340"/>
                  </a:lnTo>
                  <a:lnTo>
                    <a:pt x="1073" y="332"/>
                  </a:lnTo>
                  <a:lnTo>
                    <a:pt x="1081" y="326"/>
                  </a:lnTo>
                  <a:lnTo>
                    <a:pt x="1087" y="319"/>
                  </a:lnTo>
                  <a:lnTo>
                    <a:pt x="1094" y="313"/>
                  </a:lnTo>
                  <a:lnTo>
                    <a:pt x="1100" y="305"/>
                  </a:lnTo>
                  <a:lnTo>
                    <a:pt x="1106" y="299"/>
                  </a:lnTo>
                  <a:lnTo>
                    <a:pt x="1111" y="294"/>
                  </a:lnTo>
                  <a:lnTo>
                    <a:pt x="1117" y="288"/>
                  </a:lnTo>
                  <a:lnTo>
                    <a:pt x="1123" y="280"/>
                  </a:lnTo>
                  <a:lnTo>
                    <a:pt x="1129" y="276"/>
                  </a:lnTo>
                  <a:lnTo>
                    <a:pt x="1135" y="271"/>
                  </a:lnTo>
                  <a:lnTo>
                    <a:pt x="1138" y="265"/>
                  </a:lnTo>
                  <a:lnTo>
                    <a:pt x="1144" y="261"/>
                  </a:lnTo>
                  <a:lnTo>
                    <a:pt x="1148" y="255"/>
                  </a:lnTo>
                  <a:lnTo>
                    <a:pt x="1152" y="251"/>
                  </a:lnTo>
                  <a:lnTo>
                    <a:pt x="1156" y="248"/>
                  </a:lnTo>
                  <a:lnTo>
                    <a:pt x="1159" y="244"/>
                  </a:lnTo>
                  <a:lnTo>
                    <a:pt x="1161" y="242"/>
                  </a:lnTo>
                  <a:lnTo>
                    <a:pt x="1165" y="238"/>
                  </a:lnTo>
                  <a:lnTo>
                    <a:pt x="1167" y="236"/>
                  </a:lnTo>
                  <a:lnTo>
                    <a:pt x="1169" y="234"/>
                  </a:lnTo>
                  <a:lnTo>
                    <a:pt x="1171" y="232"/>
                  </a:lnTo>
                  <a:lnTo>
                    <a:pt x="1173" y="232"/>
                  </a:lnTo>
                  <a:lnTo>
                    <a:pt x="1173" y="230"/>
                  </a:lnTo>
                  <a:lnTo>
                    <a:pt x="1173" y="23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 flipH="1">
              <a:off x="2408400" y="3537720"/>
              <a:ext cx="580320" cy="555840"/>
            </a:xfrm>
            <a:custGeom>
              <a:avLst/>
              <a:gdLst/>
              <a:ahLst/>
              <a:rect l="l" t="t" r="r" b="b"/>
              <a:pathLst>
                <a:path w="460" h="461">
                  <a:moveTo>
                    <a:pt x="230" y="461"/>
                  </a:moveTo>
                  <a:lnTo>
                    <a:pt x="245" y="459"/>
                  </a:lnTo>
                  <a:lnTo>
                    <a:pt x="261" y="459"/>
                  </a:lnTo>
                  <a:lnTo>
                    <a:pt x="274" y="457"/>
                  </a:lnTo>
                  <a:lnTo>
                    <a:pt x="290" y="453"/>
                  </a:lnTo>
                  <a:lnTo>
                    <a:pt x="303" y="450"/>
                  </a:lnTo>
                  <a:lnTo>
                    <a:pt x="316" y="444"/>
                  </a:lnTo>
                  <a:lnTo>
                    <a:pt x="330" y="438"/>
                  </a:lnTo>
                  <a:lnTo>
                    <a:pt x="343" y="432"/>
                  </a:lnTo>
                  <a:lnTo>
                    <a:pt x="355" y="425"/>
                  </a:lnTo>
                  <a:lnTo>
                    <a:pt x="366" y="417"/>
                  </a:lnTo>
                  <a:lnTo>
                    <a:pt x="378" y="407"/>
                  </a:lnTo>
                  <a:lnTo>
                    <a:pt x="387" y="398"/>
                  </a:lnTo>
                  <a:lnTo>
                    <a:pt x="399" y="388"/>
                  </a:lnTo>
                  <a:lnTo>
                    <a:pt x="409" y="377"/>
                  </a:lnTo>
                  <a:lnTo>
                    <a:pt x="416" y="367"/>
                  </a:lnTo>
                  <a:lnTo>
                    <a:pt x="424" y="354"/>
                  </a:lnTo>
                  <a:lnTo>
                    <a:pt x="432" y="342"/>
                  </a:lnTo>
                  <a:lnTo>
                    <a:pt x="439" y="331"/>
                  </a:lnTo>
                  <a:lnTo>
                    <a:pt x="445" y="317"/>
                  </a:lnTo>
                  <a:lnTo>
                    <a:pt x="449" y="304"/>
                  </a:lnTo>
                  <a:lnTo>
                    <a:pt x="453" y="288"/>
                  </a:lnTo>
                  <a:lnTo>
                    <a:pt x="457" y="275"/>
                  </a:lnTo>
                  <a:lnTo>
                    <a:pt x="458" y="260"/>
                  </a:lnTo>
                  <a:lnTo>
                    <a:pt x="460" y="244"/>
                  </a:lnTo>
                  <a:lnTo>
                    <a:pt x="460" y="229"/>
                  </a:lnTo>
                  <a:lnTo>
                    <a:pt x="460" y="229"/>
                  </a:lnTo>
                  <a:lnTo>
                    <a:pt x="460" y="215"/>
                  </a:lnTo>
                  <a:lnTo>
                    <a:pt x="458" y="200"/>
                  </a:lnTo>
                  <a:lnTo>
                    <a:pt x="457" y="185"/>
                  </a:lnTo>
                  <a:lnTo>
                    <a:pt x="453" y="171"/>
                  </a:lnTo>
                  <a:lnTo>
                    <a:pt x="449" y="158"/>
                  </a:lnTo>
                  <a:lnTo>
                    <a:pt x="445" y="144"/>
                  </a:lnTo>
                  <a:lnTo>
                    <a:pt x="439" y="131"/>
                  </a:lnTo>
                  <a:lnTo>
                    <a:pt x="432" y="118"/>
                  </a:lnTo>
                  <a:lnTo>
                    <a:pt x="424" y="106"/>
                  </a:lnTo>
                  <a:lnTo>
                    <a:pt x="416" y="94"/>
                  </a:lnTo>
                  <a:lnTo>
                    <a:pt x="409" y="83"/>
                  </a:lnTo>
                  <a:lnTo>
                    <a:pt x="399" y="71"/>
                  </a:lnTo>
                  <a:lnTo>
                    <a:pt x="387" y="62"/>
                  </a:lnTo>
                  <a:lnTo>
                    <a:pt x="378" y="52"/>
                  </a:lnTo>
                  <a:lnTo>
                    <a:pt x="366" y="45"/>
                  </a:lnTo>
                  <a:lnTo>
                    <a:pt x="355" y="37"/>
                  </a:lnTo>
                  <a:lnTo>
                    <a:pt x="343" y="29"/>
                  </a:lnTo>
                  <a:lnTo>
                    <a:pt x="330" y="22"/>
                  </a:lnTo>
                  <a:lnTo>
                    <a:pt x="316" y="16"/>
                  </a:lnTo>
                  <a:lnTo>
                    <a:pt x="303" y="12"/>
                  </a:lnTo>
                  <a:lnTo>
                    <a:pt x="290" y="8"/>
                  </a:lnTo>
                  <a:lnTo>
                    <a:pt x="274" y="4"/>
                  </a:lnTo>
                  <a:lnTo>
                    <a:pt x="261" y="2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199" y="2"/>
                  </a:lnTo>
                  <a:lnTo>
                    <a:pt x="186" y="4"/>
                  </a:lnTo>
                  <a:lnTo>
                    <a:pt x="171" y="8"/>
                  </a:lnTo>
                  <a:lnTo>
                    <a:pt x="157" y="12"/>
                  </a:lnTo>
                  <a:lnTo>
                    <a:pt x="144" y="16"/>
                  </a:lnTo>
                  <a:lnTo>
                    <a:pt x="130" y="22"/>
                  </a:lnTo>
                  <a:lnTo>
                    <a:pt x="119" y="29"/>
                  </a:lnTo>
                  <a:lnTo>
                    <a:pt x="105" y="37"/>
                  </a:lnTo>
                  <a:lnTo>
                    <a:pt x="94" y="45"/>
                  </a:lnTo>
                  <a:lnTo>
                    <a:pt x="82" y="52"/>
                  </a:lnTo>
                  <a:lnTo>
                    <a:pt x="73" y="62"/>
                  </a:lnTo>
                  <a:lnTo>
                    <a:pt x="63" y="71"/>
                  </a:lnTo>
                  <a:lnTo>
                    <a:pt x="53" y="83"/>
                  </a:lnTo>
                  <a:lnTo>
                    <a:pt x="44" y="94"/>
                  </a:lnTo>
                  <a:lnTo>
                    <a:pt x="36" y="106"/>
                  </a:lnTo>
                  <a:lnTo>
                    <a:pt x="28" y="118"/>
                  </a:lnTo>
                  <a:lnTo>
                    <a:pt x="23" y="131"/>
                  </a:lnTo>
                  <a:lnTo>
                    <a:pt x="17" y="144"/>
                  </a:lnTo>
                  <a:lnTo>
                    <a:pt x="11" y="158"/>
                  </a:lnTo>
                  <a:lnTo>
                    <a:pt x="7" y="171"/>
                  </a:lnTo>
                  <a:lnTo>
                    <a:pt x="4" y="185"/>
                  </a:lnTo>
                  <a:lnTo>
                    <a:pt x="2" y="200"/>
                  </a:lnTo>
                  <a:lnTo>
                    <a:pt x="0" y="215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44"/>
                  </a:lnTo>
                  <a:lnTo>
                    <a:pt x="2" y="260"/>
                  </a:lnTo>
                  <a:lnTo>
                    <a:pt x="4" y="275"/>
                  </a:lnTo>
                  <a:lnTo>
                    <a:pt x="7" y="288"/>
                  </a:lnTo>
                  <a:lnTo>
                    <a:pt x="11" y="304"/>
                  </a:lnTo>
                  <a:lnTo>
                    <a:pt x="17" y="317"/>
                  </a:lnTo>
                  <a:lnTo>
                    <a:pt x="23" y="331"/>
                  </a:lnTo>
                  <a:lnTo>
                    <a:pt x="28" y="342"/>
                  </a:lnTo>
                  <a:lnTo>
                    <a:pt x="36" y="354"/>
                  </a:lnTo>
                  <a:lnTo>
                    <a:pt x="44" y="367"/>
                  </a:lnTo>
                  <a:lnTo>
                    <a:pt x="53" y="377"/>
                  </a:lnTo>
                  <a:lnTo>
                    <a:pt x="63" y="388"/>
                  </a:lnTo>
                  <a:lnTo>
                    <a:pt x="73" y="398"/>
                  </a:lnTo>
                  <a:lnTo>
                    <a:pt x="82" y="407"/>
                  </a:lnTo>
                  <a:lnTo>
                    <a:pt x="94" y="417"/>
                  </a:lnTo>
                  <a:lnTo>
                    <a:pt x="105" y="425"/>
                  </a:lnTo>
                  <a:lnTo>
                    <a:pt x="119" y="432"/>
                  </a:lnTo>
                  <a:lnTo>
                    <a:pt x="130" y="438"/>
                  </a:lnTo>
                  <a:lnTo>
                    <a:pt x="144" y="444"/>
                  </a:lnTo>
                  <a:lnTo>
                    <a:pt x="157" y="450"/>
                  </a:lnTo>
                  <a:lnTo>
                    <a:pt x="171" y="453"/>
                  </a:lnTo>
                  <a:lnTo>
                    <a:pt x="186" y="457"/>
                  </a:lnTo>
                  <a:lnTo>
                    <a:pt x="199" y="459"/>
                  </a:lnTo>
                  <a:lnTo>
                    <a:pt x="215" y="459"/>
                  </a:lnTo>
                  <a:lnTo>
                    <a:pt x="230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 flipH="1">
              <a:off x="2475360" y="3610080"/>
              <a:ext cx="479520" cy="458280"/>
            </a:xfrm>
            <a:custGeom>
              <a:avLst/>
              <a:gdLst/>
              <a:ahLst/>
              <a:rect l="l" t="t" r="r" b="b"/>
              <a:pathLst>
                <a:path w="380" h="380">
                  <a:moveTo>
                    <a:pt x="190" y="380"/>
                  </a:moveTo>
                  <a:lnTo>
                    <a:pt x="203" y="378"/>
                  </a:lnTo>
                  <a:lnTo>
                    <a:pt x="218" y="376"/>
                  </a:lnTo>
                  <a:lnTo>
                    <a:pt x="232" y="374"/>
                  </a:lnTo>
                  <a:lnTo>
                    <a:pt x="247" y="370"/>
                  </a:lnTo>
                  <a:lnTo>
                    <a:pt x="259" y="367"/>
                  </a:lnTo>
                  <a:lnTo>
                    <a:pt x="272" y="361"/>
                  </a:lnTo>
                  <a:lnTo>
                    <a:pt x="286" y="353"/>
                  </a:lnTo>
                  <a:lnTo>
                    <a:pt x="297" y="345"/>
                  </a:lnTo>
                  <a:lnTo>
                    <a:pt x="309" y="338"/>
                  </a:lnTo>
                  <a:lnTo>
                    <a:pt x="318" y="328"/>
                  </a:lnTo>
                  <a:lnTo>
                    <a:pt x="328" y="319"/>
                  </a:lnTo>
                  <a:lnTo>
                    <a:pt x="337" y="309"/>
                  </a:lnTo>
                  <a:lnTo>
                    <a:pt x="345" y="297"/>
                  </a:lnTo>
                  <a:lnTo>
                    <a:pt x="353" y="286"/>
                  </a:lnTo>
                  <a:lnTo>
                    <a:pt x="360" y="272"/>
                  </a:lnTo>
                  <a:lnTo>
                    <a:pt x="366" y="259"/>
                  </a:lnTo>
                  <a:lnTo>
                    <a:pt x="370" y="246"/>
                  </a:lnTo>
                  <a:lnTo>
                    <a:pt x="374" y="232"/>
                  </a:lnTo>
                  <a:lnTo>
                    <a:pt x="376" y="219"/>
                  </a:lnTo>
                  <a:lnTo>
                    <a:pt x="378" y="203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78" y="175"/>
                  </a:lnTo>
                  <a:lnTo>
                    <a:pt x="376" y="159"/>
                  </a:lnTo>
                  <a:lnTo>
                    <a:pt x="374" y="146"/>
                  </a:lnTo>
                  <a:lnTo>
                    <a:pt x="370" y="132"/>
                  </a:lnTo>
                  <a:lnTo>
                    <a:pt x="366" y="119"/>
                  </a:lnTo>
                  <a:lnTo>
                    <a:pt x="360" y="105"/>
                  </a:lnTo>
                  <a:lnTo>
                    <a:pt x="353" y="94"/>
                  </a:lnTo>
                  <a:lnTo>
                    <a:pt x="345" y="81"/>
                  </a:lnTo>
                  <a:lnTo>
                    <a:pt x="337" y="71"/>
                  </a:lnTo>
                  <a:lnTo>
                    <a:pt x="328" y="59"/>
                  </a:lnTo>
                  <a:lnTo>
                    <a:pt x="318" y="50"/>
                  </a:lnTo>
                  <a:lnTo>
                    <a:pt x="309" y="40"/>
                  </a:lnTo>
                  <a:lnTo>
                    <a:pt x="297" y="33"/>
                  </a:lnTo>
                  <a:lnTo>
                    <a:pt x="286" y="25"/>
                  </a:lnTo>
                  <a:lnTo>
                    <a:pt x="272" y="19"/>
                  </a:lnTo>
                  <a:lnTo>
                    <a:pt x="259" y="13"/>
                  </a:lnTo>
                  <a:lnTo>
                    <a:pt x="247" y="8"/>
                  </a:lnTo>
                  <a:lnTo>
                    <a:pt x="232" y="4"/>
                  </a:lnTo>
                  <a:lnTo>
                    <a:pt x="218" y="2"/>
                  </a:lnTo>
                  <a:lnTo>
                    <a:pt x="203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4" y="0"/>
                  </a:lnTo>
                  <a:lnTo>
                    <a:pt x="159" y="2"/>
                  </a:lnTo>
                  <a:lnTo>
                    <a:pt x="145" y="4"/>
                  </a:lnTo>
                  <a:lnTo>
                    <a:pt x="132" y="8"/>
                  </a:lnTo>
                  <a:lnTo>
                    <a:pt x="119" y="13"/>
                  </a:lnTo>
                  <a:lnTo>
                    <a:pt x="105" y="19"/>
                  </a:lnTo>
                  <a:lnTo>
                    <a:pt x="94" y="25"/>
                  </a:lnTo>
                  <a:lnTo>
                    <a:pt x="80" y="33"/>
                  </a:lnTo>
                  <a:lnTo>
                    <a:pt x="71" y="40"/>
                  </a:lnTo>
                  <a:lnTo>
                    <a:pt x="59" y="50"/>
                  </a:lnTo>
                  <a:lnTo>
                    <a:pt x="49" y="59"/>
                  </a:lnTo>
                  <a:lnTo>
                    <a:pt x="40" y="71"/>
                  </a:lnTo>
                  <a:lnTo>
                    <a:pt x="32" y="81"/>
                  </a:lnTo>
                  <a:lnTo>
                    <a:pt x="25" y="94"/>
                  </a:lnTo>
                  <a:lnTo>
                    <a:pt x="19" y="105"/>
                  </a:lnTo>
                  <a:lnTo>
                    <a:pt x="13" y="119"/>
                  </a:lnTo>
                  <a:lnTo>
                    <a:pt x="7" y="132"/>
                  </a:lnTo>
                  <a:lnTo>
                    <a:pt x="3" y="146"/>
                  </a:lnTo>
                  <a:lnTo>
                    <a:pt x="1" y="159"/>
                  </a:lnTo>
                  <a:lnTo>
                    <a:pt x="0" y="175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203"/>
                  </a:lnTo>
                  <a:lnTo>
                    <a:pt x="1" y="219"/>
                  </a:lnTo>
                  <a:lnTo>
                    <a:pt x="3" y="232"/>
                  </a:lnTo>
                  <a:lnTo>
                    <a:pt x="7" y="246"/>
                  </a:lnTo>
                  <a:lnTo>
                    <a:pt x="13" y="259"/>
                  </a:lnTo>
                  <a:lnTo>
                    <a:pt x="19" y="272"/>
                  </a:lnTo>
                  <a:lnTo>
                    <a:pt x="25" y="286"/>
                  </a:lnTo>
                  <a:lnTo>
                    <a:pt x="32" y="297"/>
                  </a:lnTo>
                  <a:lnTo>
                    <a:pt x="40" y="309"/>
                  </a:lnTo>
                  <a:lnTo>
                    <a:pt x="49" y="319"/>
                  </a:lnTo>
                  <a:lnTo>
                    <a:pt x="59" y="328"/>
                  </a:lnTo>
                  <a:lnTo>
                    <a:pt x="71" y="338"/>
                  </a:lnTo>
                  <a:lnTo>
                    <a:pt x="80" y="345"/>
                  </a:lnTo>
                  <a:lnTo>
                    <a:pt x="94" y="353"/>
                  </a:lnTo>
                  <a:lnTo>
                    <a:pt x="105" y="361"/>
                  </a:lnTo>
                  <a:lnTo>
                    <a:pt x="119" y="367"/>
                  </a:lnTo>
                  <a:lnTo>
                    <a:pt x="132" y="370"/>
                  </a:lnTo>
                  <a:lnTo>
                    <a:pt x="145" y="374"/>
                  </a:lnTo>
                  <a:lnTo>
                    <a:pt x="159" y="376"/>
                  </a:lnTo>
                  <a:lnTo>
                    <a:pt x="174" y="378"/>
                  </a:lnTo>
                  <a:lnTo>
                    <a:pt x="190" y="38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 flipH="1">
              <a:off x="2061000" y="3433680"/>
              <a:ext cx="150120" cy="583920"/>
            </a:xfrm>
            <a:custGeom>
              <a:avLst/>
              <a:gdLst/>
              <a:ahLst/>
              <a:rect l="l" t="t" r="r" b="b"/>
              <a:pathLst>
                <a:path w="119" h="484">
                  <a:moveTo>
                    <a:pt x="96" y="484"/>
                  </a:moveTo>
                  <a:lnTo>
                    <a:pt x="105" y="445"/>
                  </a:lnTo>
                  <a:lnTo>
                    <a:pt x="113" y="409"/>
                  </a:lnTo>
                  <a:lnTo>
                    <a:pt x="117" y="371"/>
                  </a:lnTo>
                  <a:lnTo>
                    <a:pt x="119" y="330"/>
                  </a:lnTo>
                  <a:lnTo>
                    <a:pt x="119" y="330"/>
                  </a:lnTo>
                  <a:lnTo>
                    <a:pt x="117" y="294"/>
                  </a:lnTo>
                  <a:lnTo>
                    <a:pt x="113" y="257"/>
                  </a:lnTo>
                  <a:lnTo>
                    <a:pt x="107" y="221"/>
                  </a:lnTo>
                  <a:lnTo>
                    <a:pt x="98" y="186"/>
                  </a:lnTo>
                  <a:lnTo>
                    <a:pt x="86" y="152"/>
                  </a:lnTo>
                  <a:lnTo>
                    <a:pt x="73" y="119"/>
                  </a:lnTo>
                  <a:lnTo>
                    <a:pt x="57" y="86"/>
                  </a:lnTo>
                  <a:lnTo>
                    <a:pt x="40" y="58"/>
                  </a:lnTo>
                  <a:lnTo>
                    <a:pt x="21" y="27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 flipH="1">
              <a:off x="1531800" y="3670560"/>
              <a:ext cx="5450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 flipH="1">
              <a:off x="1438920" y="3030840"/>
              <a:ext cx="2102040" cy="1583640"/>
            </a:xfrm>
            <a:custGeom>
              <a:avLst/>
              <a:gdLst/>
              <a:ahLst/>
              <a:rect l="l" t="t" r="r" b="b"/>
              <a:pathLst>
                <a:path w="1666" h="1313">
                  <a:moveTo>
                    <a:pt x="1417" y="1188"/>
                  </a:moveTo>
                  <a:lnTo>
                    <a:pt x="1401" y="1198"/>
                  </a:lnTo>
                  <a:lnTo>
                    <a:pt x="1386" y="1207"/>
                  </a:lnTo>
                  <a:lnTo>
                    <a:pt x="1371" y="1217"/>
                  </a:lnTo>
                  <a:lnTo>
                    <a:pt x="1353" y="1225"/>
                  </a:lnTo>
                  <a:lnTo>
                    <a:pt x="1338" y="1234"/>
                  </a:lnTo>
                  <a:lnTo>
                    <a:pt x="1323" y="1242"/>
                  </a:lnTo>
                  <a:lnTo>
                    <a:pt x="1307" y="1248"/>
                  </a:lnTo>
                  <a:lnTo>
                    <a:pt x="1290" y="1255"/>
                  </a:lnTo>
                  <a:lnTo>
                    <a:pt x="1275" y="1261"/>
                  </a:lnTo>
                  <a:lnTo>
                    <a:pt x="1259" y="1267"/>
                  </a:lnTo>
                  <a:lnTo>
                    <a:pt x="1244" y="1273"/>
                  </a:lnTo>
                  <a:lnTo>
                    <a:pt x="1229" y="1277"/>
                  </a:lnTo>
                  <a:lnTo>
                    <a:pt x="1211" y="1282"/>
                  </a:lnTo>
                  <a:lnTo>
                    <a:pt x="1196" y="1286"/>
                  </a:lnTo>
                  <a:lnTo>
                    <a:pt x="1183" y="1290"/>
                  </a:lnTo>
                  <a:lnTo>
                    <a:pt x="1167" y="1294"/>
                  </a:lnTo>
                  <a:lnTo>
                    <a:pt x="1152" y="1296"/>
                  </a:lnTo>
                  <a:lnTo>
                    <a:pt x="1138" y="1300"/>
                  </a:lnTo>
                  <a:lnTo>
                    <a:pt x="1123" y="1301"/>
                  </a:lnTo>
                  <a:lnTo>
                    <a:pt x="1110" y="1303"/>
                  </a:lnTo>
                  <a:lnTo>
                    <a:pt x="1096" y="1305"/>
                  </a:lnTo>
                  <a:lnTo>
                    <a:pt x="1083" y="1307"/>
                  </a:lnTo>
                  <a:lnTo>
                    <a:pt x="1071" y="1309"/>
                  </a:lnTo>
                  <a:lnTo>
                    <a:pt x="1060" y="1311"/>
                  </a:lnTo>
                  <a:lnTo>
                    <a:pt x="1048" y="1311"/>
                  </a:lnTo>
                  <a:lnTo>
                    <a:pt x="1037" y="1313"/>
                  </a:lnTo>
                  <a:lnTo>
                    <a:pt x="1025" y="1313"/>
                  </a:lnTo>
                  <a:lnTo>
                    <a:pt x="1015" y="1313"/>
                  </a:lnTo>
                  <a:lnTo>
                    <a:pt x="1006" y="1313"/>
                  </a:lnTo>
                  <a:lnTo>
                    <a:pt x="998" y="1313"/>
                  </a:lnTo>
                  <a:lnTo>
                    <a:pt x="991" y="1313"/>
                  </a:lnTo>
                  <a:lnTo>
                    <a:pt x="991" y="1313"/>
                  </a:lnTo>
                  <a:lnTo>
                    <a:pt x="864" y="1313"/>
                  </a:lnTo>
                  <a:lnTo>
                    <a:pt x="729" y="1313"/>
                  </a:lnTo>
                  <a:lnTo>
                    <a:pt x="668" y="1313"/>
                  </a:lnTo>
                  <a:lnTo>
                    <a:pt x="668" y="1313"/>
                  </a:lnTo>
                  <a:lnTo>
                    <a:pt x="639" y="1313"/>
                  </a:lnTo>
                  <a:lnTo>
                    <a:pt x="612" y="1311"/>
                  </a:lnTo>
                  <a:lnTo>
                    <a:pt x="584" y="1309"/>
                  </a:lnTo>
                  <a:lnTo>
                    <a:pt x="557" y="1305"/>
                  </a:lnTo>
                  <a:lnTo>
                    <a:pt x="530" y="1300"/>
                  </a:lnTo>
                  <a:lnTo>
                    <a:pt x="503" y="1294"/>
                  </a:lnTo>
                  <a:lnTo>
                    <a:pt x="478" y="1286"/>
                  </a:lnTo>
                  <a:lnTo>
                    <a:pt x="451" y="1278"/>
                  </a:lnTo>
                  <a:lnTo>
                    <a:pt x="426" y="1269"/>
                  </a:lnTo>
                  <a:lnTo>
                    <a:pt x="401" y="1259"/>
                  </a:lnTo>
                  <a:lnTo>
                    <a:pt x="378" y="1248"/>
                  </a:lnTo>
                  <a:lnTo>
                    <a:pt x="353" y="1236"/>
                  </a:lnTo>
                  <a:lnTo>
                    <a:pt x="330" y="1223"/>
                  </a:lnTo>
                  <a:lnTo>
                    <a:pt x="307" y="1209"/>
                  </a:lnTo>
                  <a:lnTo>
                    <a:pt x="286" y="1194"/>
                  </a:lnTo>
                  <a:lnTo>
                    <a:pt x="265" y="1179"/>
                  </a:lnTo>
                  <a:lnTo>
                    <a:pt x="244" y="1163"/>
                  </a:lnTo>
                  <a:lnTo>
                    <a:pt x="225" y="1146"/>
                  </a:lnTo>
                  <a:lnTo>
                    <a:pt x="205" y="1127"/>
                  </a:lnTo>
                  <a:lnTo>
                    <a:pt x="186" y="1110"/>
                  </a:lnTo>
                  <a:lnTo>
                    <a:pt x="169" y="1090"/>
                  </a:lnTo>
                  <a:lnTo>
                    <a:pt x="152" y="1069"/>
                  </a:lnTo>
                  <a:lnTo>
                    <a:pt x="134" y="1048"/>
                  </a:lnTo>
                  <a:lnTo>
                    <a:pt x="119" y="1027"/>
                  </a:lnTo>
                  <a:lnTo>
                    <a:pt x="104" y="1006"/>
                  </a:lnTo>
                  <a:lnTo>
                    <a:pt x="90" y="983"/>
                  </a:lnTo>
                  <a:lnTo>
                    <a:pt x="79" y="960"/>
                  </a:lnTo>
                  <a:lnTo>
                    <a:pt x="65" y="937"/>
                  </a:lnTo>
                  <a:lnTo>
                    <a:pt x="54" y="912"/>
                  </a:lnTo>
                  <a:lnTo>
                    <a:pt x="44" y="887"/>
                  </a:lnTo>
                  <a:lnTo>
                    <a:pt x="35" y="862"/>
                  </a:lnTo>
                  <a:lnTo>
                    <a:pt x="27" y="837"/>
                  </a:lnTo>
                  <a:lnTo>
                    <a:pt x="19" y="810"/>
                  </a:lnTo>
                  <a:lnTo>
                    <a:pt x="13" y="783"/>
                  </a:lnTo>
                  <a:lnTo>
                    <a:pt x="8" y="756"/>
                  </a:lnTo>
                  <a:lnTo>
                    <a:pt x="4" y="729"/>
                  </a:lnTo>
                  <a:lnTo>
                    <a:pt x="2" y="703"/>
                  </a:lnTo>
                  <a:lnTo>
                    <a:pt x="0" y="674"/>
                  </a:lnTo>
                  <a:lnTo>
                    <a:pt x="0" y="645"/>
                  </a:lnTo>
                  <a:lnTo>
                    <a:pt x="0" y="645"/>
                  </a:lnTo>
                  <a:lnTo>
                    <a:pt x="0" y="622"/>
                  </a:lnTo>
                  <a:lnTo>
                    <a:pt x="2" y="599"/>
                  </a:lnTo>
                  <a:lnTo>
                    <a:pt x="4" y="574"/>
                  </a:lnTo>
                  <a:lnTo>
                    <a:pt x="6" y="551"/>
                  </a:lnTo>
                  <a:lnTo>
                    <a:pt x="10" y="528"/>
                  </a:lnTo>
                  <a:lnTo>
                    <a:pt x="13" y="507"/>
                  </a:lnTo>
                  <a:lnTo>
                    <a:pt x="19" y="484"/>
                  </a:lnTo>
                  <a:lnTo>
                    <a:pt x="25" y="461"/>
                  </a:lnTo>
                  <a:lnTo>
                    <a:pt x="33" y="440"/>
                  </a:lnTo>
                  <a:lnTo>
                    <a:pt x="40" y="418"/>
                  </a:lnTo>
                  <a:lnTo>
                    <a:pt x="48" y="397"/>
                  </a:lnTo>
                  <a:lnTo>
                    <a:pt x="56" y="376"/>
                  </a:lnTo>
                  <a:lnTo>
                    <a:pt x="65" y="357"/>
                  </a:lnTo>
                  <a:lnTo>
                    <a:pt x="77" y="336"/>
                  </a:lnTo>
                  <a:lnTo>
                    <a:pt x="86" y="317"/>
                  </a:lnTo>
                  <a:lnTo>
                    <a:pt x="98" y="298"/>
                  </a:lnTo>
                  <a:lnTo>
                    <a:pt x="109" y="278"/>
                  </a:lnTo>
                  <a:lnTo>
                    <a:pt x="123" y="261"/>
                  </a:lnTo>
                  <a:lnTo>
                    <a:pt x="136" y="242"/>
                  </a:lnTo>
                  <a:lnTo>
                    <a:pt x="150" y="225"/>
                  </a:lnTo>
                  <a:lnTo>
                    <a:pt x="165" y="209"/>
                  </a:lnTo>
                  <a:lnTo>
                    <a:pt x="179" y="192"/>
                  </a:lnTo>
                  <a:lnTo>
                    <a:pt x="194" y="177"/>
                  </a:lnTo>
                  <a:lnTo>
                    <a:pt x="211" y="161"/>
                  </a:lnTo>
                  <a:lnTo>
                    <a:pt x="227" y="146"/>
                  </a:lnTo>
                  <a:lnTo>
                    <a:pt x="244" y="131"/>
                  </a:lnTo>
                  <a:lnTo>
                    <a:pt x="261" y="117"/>
                  </a:lnTo>
                  <a:lnTo>
                    <a:pt x="280" y="104"/>
                  </a:lnTo>
                  <a:lnTo>
                    <a:pt x="298" y="92"/>
                  </a:lnTo>
                  <a:lnTo>
                    <a:pt x="317" y="81"/>
                  </a:lnTo>
                  <a:lnTo>
                    <a:pt x="336" y="69"/>
                  </a:lnTo>
                  <a:lnTo>
                    <a:pt x="355" y="58"/>
                  </a:lnTo>
                  <a:lnTo>
                    <a:pt x="374" y="48"/>
                  </a:lnTo>
                  <a:lnTo>
                    <a:pt x="395" y="38"/>
                  </a:lnTo>
                  <a:lnTo>
                    <a:pt x="417" y="29"/>
                  </a:lnTo>
                  <a:lnTo>
                    <a:pt x="438" y="21"/>
                  </a:lnTo>
                  <a:lnTo>
                    <a:pt x="459" y="13"/>
                  </a:lnTo>
                  <a:lnTo>
                    <a:pt x="480" y="6"/>
                  </a:lnTo>
                  <a:lnTo>
                    <a:pt x="503" y="0"/>
                  </a:lnTo>
                  <a:lnTo>
                    <a:pt x="503" y="0"/>
                  </a:lnTo>
                  <a:lnTo>
                    <a:pt x="507" y="10"/>
                  </a:lnTo>
                  <a:lnTo>
                    <a:pt x="511" y="17"/>
                  </a:lnTo>
                  <a:lnTo>
                    <a:pt x="511" y="27"/>
                  </a:lnTo>
                  <a:lnTo>
                    <a:pt x="511" y="37"/>
                  </a:lnTo>
                  <a:lnTo>
                    <a:pt x="507" y="44"/>
                  </a:lnTo>
                  <a:lnTo>
                    <a:pt x="505" y="52"/>
                  </a:lnTo>
                  <a:lnTo>
                    <a:pt x="499" y="61"/>
                  </a:lnTo>
                  <a:lnTo>
                    <a:pt x="493" y="69"/>
                  </a:lnTo>
                  <a:lnTo>
                    <a:pt x="486" y="75"/>
                  </a:lnTo>
                  <a:lnTo>
                    <a:pt x="478" y="83"/>
                  </a:lnTo>
                  <a:lnTo>
                    <a:pt x="468" y="88"/>
                  </a:lnTo>
                  <a:lnTo>
                    <a:pt x="461" y="94"/>
                  </a:lnTo>
                  <a:lnTo>
                    <a:pt x="449" y="98"/>
                  </a:lnTo>
                  <a:lnTo>
                    <a:pt x="449" y="98"/>
                  </a:lnTo>
                  <a:lnTo>
                    <a:pt x="434" y="106"/>
                  </a:lnTo>
                  <a:lnTo>
                    <a:pt x="418" y="113"/>
                  </a:lnTo>
                  <a:lnTo>
                    <a:pt x="403" y="123"/>
                  </a:lnTo>
                  <a:lnTo>
                    <a:pt x="388" y="131"/>
                  </a:lnTo>
                  <a:lnTo>
                    <a:pt x="372" y="140"/>
                  </a:lnTo>
                  <a:lnTo>
                    <a:pt x="357" y="150"/>
                  </a:lnTo>
                  <a:lnTo>
                    <a:pt x="344" y="159"/>
                  </a:lnTo>
                  <a:lnTo>
                    <a:pt x="330" y="171"/>
                  </a:lnTo>
                  <a:lnTo>
                    <a:pt x="315" y="180"/>
                  </a:lnTo>
                  <a:lnTo>
                    <a:pt x="301" y="192"/>
                  </a:lnTo>
                  <a:lnTo>
                    <a:pt x="288" y="204"/>
                  </a:lnTo>
                  <a:lnTo>
                    <a:pt x="276" y="215"/>
                  </a:lnTo>
                  <a:lnTo>
                    <a:pt x="263" y="228"/>
                  </a:lnTo>
                  <a:lnTo>
                    <a:pt x="251" y="240"/>
                  </a:lnTo>
                  <a:lnTo>
                    <a:pt x="240" y="253"/>
                  </a:lnTo>
                  <a:lnTo>
                    <a:pt x="228" y="267"/>
                  </a:lnTo>
                  <a:lnTo>
                    <a:pt x="217" y="280"/>
                  </a:lnTo>
                  <a:lnTo>
                    <a:pt x="207" y="294"/>
                  </a:lnTo>
                  <a:lnTo>
                    <a:pt x="198" y="309"/>
                  </a:lnTo>
                  <a:lnTo>
                    <a:pt x="186" y="323"/>
                  </a:lnTo>
                  <a:lnTo>
                    <a:pt x="179" y="338"/>
                  </a:lnTo>
                  <a:lnTo>
                    <a:pt x="169" y="353"/>
                  </a:lnTo>
                  <a:lnTo>
                    <a:pt x="161" y="369"/>
                  </a:lnTo>
                  <a:lnTo>
                    <a:pt x="152" y="384"/>
                  </a:lnTo>
                  <a:lnTo>
                    <a:pt x="144" y="399"/>
                  </a:lnTo>
                  <a:lnTo>
                    <a:pt x="138" y="417"/>
                  </a:lnTo>
                  <a:lnTo>
                    <a:pt x="131" y="432"/>
                  </a:lnTo>
                  <a:lnTo>
                    <a:pt x="125" y="449"/>
                  </a:lnTo>
                  <a:lnTo>
                    <a:pt x="119" y="466"/>
                  </a:lnTo>
                  <a:lnTo>
                    <a:pt x="113" y="484"/>
                  </a:lnTo>
                  <a:lnTo>
                    <a:pt x="109" y="501"/>
                  </a:lnTo>
                  <a:lnTo>
                    <a:pt x="106" y="518"/>
                  </a:lnTo>
                  <a:lnTo>
                    <a:pt x="102" y="536"/>
                  </a:lnTo>
                  <a:lnTo>
                    <a:pt x="98" y="555"/>
                  </a:lnTo>
                  <a:lnTo>
                    <a:pt x="96" y="572"/>
                  </a:lnTo>
                  <a:lnTo>
                    <a:pt x="94" y="591"/>
                  </a:lnTo>
                  <a:lnTo>
                    <a:pt x="92" y="609"/>
                  </a:lnTo>
                  <a:lnTo>
                    <a:pt x="92" y="628"/>
                  </a:lnTo>
                  <a:lnTo>
                    <a:pt x="92" y="647"/>
                  </a:lnTo>
                  <a:lnTo>
                    <a:pt x="92" y="647"/>
                  </a:lnTo>
                  <a:lnTo>
                    <a:pt x="92" y="672"/>
                  </a:lnTo>
                  <a:lnTo>
                    <a:pt x="94" y="697"/>
                  </a:lnTo>
                  <a:lnTo>
                    <a:pt x="96" y="722"/>
                  </a:lnTo>
                  <a:lnTo>
                    <a:pt x="100" y="745"/>
                  </a:lnTo>
                  <a:lnTo>
                    <a:pt x="104" y="770"/>
                  </a:lnTo>
                  <a:lnTo>
                    <a:pt x="109" y="793"/>
                  </a:lnTo>
                  <a:lnTo>
                    <a:pt x="115" y="816"/>
                  </a:lnTo>
                  <a:lnTo>
                    <a:pt x="123" y="839"/>
                  </a:lnTo>
                  <a:lnTo>
                    <a:pt x="131" y="862"/>
                  </a:lnTo>
                  <a:lnTo>
                    <a:pt x="140" y="885"/>
                  </a:lnTo>
                  <a:lnTo>
                    <a:pt x="150" y="906"/>
                  </a:lnTo>
                  <a:lnTo>
                    <a:pt x="161" y="927"/>
                  </a:lnTo>
                  <a:lnTo>
                    <a:pt x="173" y="948"/>
                  </a:lnTo>
                  <a:lnTo>
                    <a:pt x="184" y="967"/>
                  </a:lnTo>
                  <a:lnTo>
                    <a:pt x="198" y="987"/>
                  </a:lnTo>
                  <a:lnTo>
                    <a:pt x="211" y="1006"/>
                  </a:lnTo>
                  <a:lnTo>
                    <a:pt x="227" y="1025"/>
                  </a:lnTo>
                  <a:lnTo>
                    <a:pt x="242" y="1042"/>
                  </a:lnTo>
                  <a:lnTo>
                    <a:pt x="257" y="1060"/>
                  </a:lnTo>
                  <a:lnTo>
                    <a:pt x="275" y="1077"/>
                  </a:lnTo>
                  <a:lnTo>
                    <a:pt x="292" y="1092"/>
                  </a:lnTo>
                  <a:lnTo>
                    <a:pt x="309" y="1108"/>
                  </a:lnTo>
                  <a:lnTo>
                    <a:pt x="328" y="1123"/>
                  </a:lnTo>
                  <a:lnTo>
                    <a:pt x="347" y="1136"/>
                  </a:lnTo>
                  <a:lnTo>
                    <a:pt x="367" y="1150"/>
                  </a:lnTo>
                  <a:lnTo>
                    <a:pt x="386" y="1161"/>
                  </a:lnTo>
                  <a:lnTo>
                    <a:pt x="407" y="1173"/>
                  </a:lnTo>
                  <a:lnTo>
                    <a:pt x="428" y="1184"/>
                  </a:lnTo>
                  <a:lnTo>
                    <a:pt x="449" y="1194"/>
                  </a:lnTo>
                  <a:lnTo>
                    <a:pt x="472" y="1202"/>
                  </a:lnTo>
                  <a:lnTo>
                    <a:pt x="495" y="1211"/>
                  </a:lnTo>
                  <a:lnTo>
                    <a:pt x="518" y="1219"/>
                  </a:lnTo>
                  <a:lnTo>
                    <a:pt x="541" y="1225"/>
                  </a:lnTo>
                  <a:lnTo>
                    <a:pt x="564" y="1230"/>
                  </a:lnTo>
                  <a:lnTo>
                    <a:pt x="589" y="1234"/>
                  </a:lnTo>
                  <a:lnTo>
                    <a:pt x="612" y="1238"/>
                  </a:lnTo>
                  <a:lnTo>
                    <a:pt x="637" y="1240"/>
                  </a:lnTo>
                  <a:lnTo>
                    <a:pt x="662" y="1242"/>
                  </a:lnTo>
                  <a:lnTo>
                    <a:pt x="687" y="1242"/>
                  </a:lnTo>
                  <a:lnTo>
                    <a:pt x="687" y="1242"/>
                  </a:lnTo>
                  <a:lnTo>
                    <a:pt x="743" y="1242"/>
                  </a:lnTo>
                  <a:lnTo>
                    <a:pt x="862" y="1242"/>
                  </a:lnTo>
                  <a:lnTo>
                    <a:pt x="975" y="1242"/>
                  </a:lnTo>
                  <a:lnTo>
                    <a:pt x="975" y="1242"/>
                  </a:lnTo>
                  <a:lnTo>
                    <a:pt x="1042" y="1238"/>
                  </a:lnTo>
                  <a:lnTo>
                    <a:pt x="1138" y="1223"/>
                  </a:lnTo>
                  <a:lnTo>
                    <a:pt x="1248" y="1192"/>
                  </a:lnTo>
                  <a:lnTo>
                    <a:pt x="1357" y="1138"/>
                  </a:lnTo>
                  <a:lnTo>
                    <a:pt x="1455" y="1058"/>
                  </a:lnTo>
                  <a:lnTo>
                    <a:pt x="1455" y="1058"/>
                  </a:lnTo>
                  <a:lnTo>
                    <a:pt x="1465" y="1046"/>
                  </a:lnTo>
                  <a:lnTo>
                    <a:pt x="1476" y="1035"/>
                  </a:lnTo>
                  <a:lnTo>
                    <a:pt x="1486" y="1025"/>
                  </a:lnTo>
                  <a:lnTo>
                    <a:pt x="1493" y="1014"/>
                  </a:lnTo>
                  <a:lnTo>
                    <a:pt x="1503" y="1004"/>
                  </a:lnTo>
                  <a:lnTo>
                    <a:pt x="1511" y="992"/>
                  </a:lnTo>
                  <a:lnTo>
                    <a:pt x="1520" y="983"/>
                  </a:lnTo>
                  <a:lnTo>
                    <a:pt x="1528" y="973"/>
                  </a:lnTo>
                  <a:lnTo>
                    <a:pt x="1536" y="962"/>
                  </a:lnTo>
                  <a:lnTo>
                    <a:pt x="1543" y="952"/>
                  </a:lnTo>
                  <a:lnTo>
                    <a:pt x="1549" y="943"/>
                  </a:lnTo>
                  <a:lnTo>
                    <a:pt x="1557" y="933"/>
                  </a:lnTo>
                  <a:lnTo>
                    <a:pt x="1563" y="923"/>
                  </a:lnTo>
                  <a:lnTo>
                    <a:pt x="1570" y="914"/>
                  </a:lnTo>
                  <a:lnTo>
                    <a:pt x="1576" y="904"/>
                  </a:lnTo>
                  <a:lnTo>
                    <a:pt x="1582" y="896"/>
                  </a:lnTo>
                  <a:lnTo>
                    <a:pt x="1588" y="887"/>
                  </a:lnTo>
                  <a:lnTo>
                    <a:pt x="1593" y="877"/>
                  </a:lnTo>
                  <a:lnTo>
                    <a:pt x="1597" y="870"/>
                  </a:lnTo>
                  <a:lnTo>
                    <a:pt x="1603" y="862"/>
                  </a:lnTo>
                  <a:lnTo>
                    <a:pt x="1607" y="852"/>
                  </a:lnTo>
                  <a:lnTo>
                    <a:pt x="1613" y="845"/>
                  </a:lnTo>
                  <a:lnTo>
                    <a:pt x="1616" y="837"/>
                  </a:lnTo>
                  <a:lnTo>
                    <a:pt x="1620" y="829"/>
                  </a:lnTo>
                  <a:lnTo>
                    <a:pt x="1624" y="822"/>
                  </a:lnTo>
                  <a:lnTo>
                    <a:pt x="1628" y="814"/>
                  </a:lnTo>
                  <a:lnTo>
                    <a:pt x="1632" y="806"/>
                  </a:lnTo>
                  <a:lnTo>
                    <a:pt x="1636" y="799"/>
                  </a:lnTo>
                  <a:lnTo>
                    <a:pt x="1639" y="791"/>
                  </a:lnTo>
                  <a:lnTo>
                    <a:pt x="1643" y="785"/>
                  </a:lnTo>
                  <a:lnTo>
                    <a:pt x="1645" y="777"/>
                  </a:lnTo>
                  <a:lnTo>
                    <a:pt x="1649" y="772"/>
                  </a:lnTo>
                  <a:lnTo>
                    <a:pt x="1651" y="764"/>
                  </a:lnTo>
                  <a:lnTo>
                    <a:pt x="1655" y="758"/>
                  </a:lnTo>
                  <a:lnTo>
                    <a:pt x="1657" y="752"/>
                  </a:lnTo>
                  <a:lnTo>
                    <a:pt x="1660" y="747"/>
                  </a:lnTo>
                  <a:lnTo>
                    <a:pt x="1662" y="741"/>
                  </a:lnTo>
                  <a:lnTo>
                    <a:pt x="1664" y="735"/>
                  </a:lnTo>
                  <a:lnTo>
                    <a:pt x="1666" y="729"/>
                  </a:lnTo>
                  <a:lnTo>
                    <a:pt x="1666" y="729"/>
                  </a:lnTo>
                  <a:lnTo>
                    <a:pt x="1662" y="747"/>
                  </a:lnTo>
                  <a:lnTo>
                    <a:pt x="1657" y="766"/>
                  </a:lnTo>
                  <a:lnTo>
                    <a:pt x="1653" y="781"/>
                  </a:lnTo>
                  <a:lnTo>
                    <a:pt x="1647" y="799"/>
                  </a:lnTo>
                  <a:lnTo>
                    <a:pt x="1641" y="816"/>
                  </a:lnTo>
                  <a:lnTo>
                    <a:pt x="1634" y="833"/>
                  </a:lnTo>
                  <a:lnTo>
                    <a:pt x="1628" y="848"/>
                  </a:lnTo>
                  <a:lnTo>
                    <a:pt x="1622" y="864"/>
                  </a:lnTo>
                  <a:lnTo>
                    <a:pt x="1614" y="879"/>
                  </a:lnTo>
                  <a:lnTo>
                    <a:pt x="1607" y="895"/>
                  </a:lnTo>
                  <a:lnTo>
                    <a:pt x="1601" y="910"/>
                  </a:lnTo>
                  <a:lnTo>
                    <a:pt x="1593" y="925"/>
                  </a:lnTo>
                  <a:lnTo>
                    <a:pt x="1586" y="939"/>
                  </a:lnTo>
                  <a:lnTo>
                    <a:pt x="1578" y="954"/>
                  </a:lnTo>
                  <a:lnTo>
                    <a:pt x="1570" y="967"/>
                  </a:lnTo>
                  <a:lnTo>
                    <a:pt x="1563" y="981"/>
                  </a:lnTo>
                  <a:lnTo>
                    <a:pt x="1555" y="994"/>
                  </a:lnTo>
                  <a:lnTo>
                    <a:pt x="1547" y="1006"/>
                  </a:lnTo>
                  <a:lnTo>
                    <a:pt x="1540" y="1019"/>
                  </a:lnTo>
                  <a:lnTo>
                    <a:pt x="1532" y="1031"/>
                  </a:lnTo>
                  <a:lnTo>
                    <a:pt x="1524" y="1042"/>
                  </a:lnTo>
                  <a:lnTo>
                    <a:pt x="1517" y="1054"/>
                  </a:lnTo>
                  <a:lnTo>
                    <a:pt x="1509" y="1065"/>
                  </a:lnTo>
                  <a:lnTo>
                    <a:pt x="1501" y="1077"/>
                  </a:lnTo>
                  <a:lnTo>
                    <a:pt x="1495" y="1086"/>
                  </a:lnTo>
                  <a:lnTo>
                    <a:pt x="1488" y="1096"/>
                  </a:lnTo>
                  <a:lnTo>
                    <a:pt x="1480" y="1106"/>
                  </a:lnTo>
                  <a:lnTo>
                    <a:pt x="1474" y="1115"/>
                  </a:lnTo>
                  <a:lnTo>
                    <a:pt x="1467" y="1123"/>
                  </a:lnTo>
                  <a:lnTo>
                    <a:pt x="1461" y="1133"/>
                  </a:lnTo>
                  <a:lnTo>
                    <a:pt x="1455" y="1140"/>
                  </a:lnTo>
                  <a:lnTo>
                    <a:pt x="1449" y="1148"/>
                  </a:lnTo>
                  <a:lnTo>
                    <a:pt x="1444" y="1154"/>
                  </a:lnTo>
                  <a:lnTo>
                    <a:pt x="1438" y="1161"/>
                  </a:lnTo>
                  <a:lnTo>
                    <a:pt x="1432" y="1167"/>
                  </a:lnTo>
                  <a:lnTo>
                    <a:pt x="1428" y="1173"/>
                  </a:lnTo>
                  <a:lnTo>
                    <a:pt x="1424" y="1179"/>
                  </a:lnTo>
                  <a:lnTo>
                    <a:pt x="1421" y="1182"/>
                  </a:lnTo>
                  <a:lnTo>
                    <a:pt x="1417" y="1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1" name=""/>
          <p:cNvSpPr/>
          <p:nvPr/>
        </p:nvSpPr>
        <p:spPr>
          <a:xfrm>
            <a:off x="2364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3" name=""/>
          <p:cNvGrpSpPr/>
          <p:nvPr/>
        </p:nvGrpSpPr>
        <p:grpSpPr>
          <a:xfrm>
            <a:off x="5562720" y="3070080"/>
            <a:ext cx="2658960" cy="1478160"/>
            <a:chOff x="5562720" y="3070080"/>
            <a:chExt cx="2658960" cy="1478160"/>
          </a:xfrm>
        </p:grpSpPr>
        <p:sp>
          <p:nvSpPr>
            <p:cNvPr id="4444" name=""/>
            <p:cNvSpPr/>
            <p:nvPr/>
          </p:nvSpPr>
          <p:spPr>
            <a:xfrm>
              <a:off x="5562720" y="3070080"/>
              <a:ext cx="265896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5892480" y="3830040"/>
              <a:ext cx="2316600" cy="712440"/>
            </a:xfrm>
            <a:custGeom>
              <a:avLst/>
              <a:gdLst/>
              <a:ahLst/>
              <a:rect l="l" t="t" r="r" b="b"/>
              <a:pathLst>
                <a:path w="18705" h="5795">
                  <a:moveTo>
                    <a:pt x="728" y="4216"/>
                  </a:moveTo>
                  <a:lnTo>
                    <a:pt x="0" y="3226"/>
                  </a:lnTo>
                  <a:lnTo>
                    <a:pt x="17448" y="0"/>
                  </a:lnTo>
                  <a:lnTo>
                    <a:pt x="18639" y="130"/>
                  </a:lnTo>
                  <a:lnTo>
                    <a:pt x="18705" y="130"/>
                  </a:lnTo>
                  <a:lnTo>
                    <a:pt x="18308" y="2105"/>
                  </a:lnTo>
                  <a:lnTo>
                    <a:pt x="18308" y="2105"/>
                  </a:lnTo>
                  <a:lnTo>
                    <a:pt x="18299" y="2159"/>
                  </a:lnTo>
                  <a:lnTo>
                    <a:pt x="18271" y="2257"/>
                  </a:lnTo>
                  <a:lnTo>
                    <a:pt x="18229" y="2347"/>
                  </a:lnTo>
                  <a:lnTo>
                    <a:pt x="18177" y="2433"/>
                  </a:lnTo>
                  <a:lnTo>
                    <a:pt x="18115" y="2515"/>
                  </a:lnTo>
                  <a:lnTo>
                    <a:pt x="18042" y="2584"/>
                  </a:lnTo>
                  <a:lnTo>
                    <a:pt x="17960" y="2641"/>
                  </a:lnTo>
                  <a:lnTo>
                    <a:pt x="17874" y="2690"/>
                  </a:lnTo>
                  <a:lnTo>
                    <a:pt x="17780" y="2727"/>
                  </a:lnTo>
                  <a:lnTo>
                    <a:pt x="17682" y="2752"/>
                  </a:lnTo>
                  <a:lnTo>
                    <a:pt x="17579" y="2764"/>
                  </a:lnTo>
                  <a:lnTo>
                    <a:pt x="17579" y="2764"/>
                  </a:lnTo>
                  <a:lnTo>
                    <a:pt x="1189" y="5795"/>
                  </a:lnTo>
                  <a:lnTo>
                    <a:pt x="728" y="4216"/>
                  </a:lnTo>
                  <a:close/>
                </a:path>
              </a:pathLst>
            </a:custGeom>
            <a:solidFill>
              <a:srgbClr val="cc99ff"/>
            </a:solidFill>
            <a:ln w="0">
              <a:solidFill>
                <a:srgbClr val="2323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5704200" y="3798000"/>
              <a:ext cx="2506320" cy="469080"/>
            </a:xfrm>
            <a:custGeom>
              <a:avLst/>
              <a:gdLst/>
              <a:ahLst/>
              <a:rect l="l" t="t" r="r" b="b"/>
              <a:pathLst>
                <a:path w="20234" h="3819">
                  <a:moveTo>
                    <a:pt x="20026" y="0"/>
                  </a:moveTo>
                  <a:lnTo>
                    <a:pt x="20067" y="24"/>
                  </a:lnTo>
                  <a:lnTo>
                    <a:pt x="20124" y="73"/>
                  </a:lnTo>
                  <a:lnTo>
                    <a:pt x="20169" y="131"/>
                  </a:lnTo>
                  <a:lnTo>
                    <a:pt x="20202" y="196"/>
                  </a:lnTo>
                  <a:lnTo>
                    <a:pt x="20223" y="265"/>
                  </a:lnTo>
                  <a:lnTo>
                    <a:pt x="20234" y="335"/>
                  </a:lnTo>
                  <a:lnTo>
                    <a:pt x="20230" y="408"/>
                  </a:lnTo>
                  <a:lnTo>
                    <a:pt x="20210" y="478"/>
                  </a:lnTo>
                  <a:lnTo>
                    <a:pt x="20189" y="556"/>
                  </a:lnTo>
                  <a:lnTo>
                    <a:pt x="20140" y="605"/>
                  </a:lnTo>
                  <a:lnTo>
                    <a:pt x="19964" y="702"/>
                  </a:lnTo>
                  <a:lnTo>
                    <a:pt x="19764" y="768"/>
                  </a:lnTo>
                  <a:lnTo>
                    <a:pt x="2115" y="3819"/>
                  </a:lnTo>
                  <a:lnTo>
                    <a:pt x="397" y="2302"/>
                  </a:lnTo>
                  <a:lnTo>
                    <a:pt x="0" y="1513"/>
                  </a:lnTo>
                  <a:lnTo>
                    <a:pt x="131" y="1513"/>
                  </a:lnTo>
                  <a:lnTo>
                    <a:pt x="66" y="985"/>
                  </a:lnTo>
                  <a:lnTo>
                    <a:pt x="200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5851440" y="3075480"/>
              <a:ext cx="2168280" cy="899640"/>
            </a:xfrm>
            <a:custGeom>
              <a:avLst/>
              <a:gdLst/>
              <a:ahLst/>
              <a:rect l="l" t="t" r="r" b="b"/>
              <a:pathLst>
                <a:path w="17506" h="7317">
                  <a:moveTo>
                    <a:pt x="687" y="4519"/>
                  </a:moveTo>
                  <a:lnTo>
                    <a:pt x="916" y="4609"/>
                  </a:lnTo>
                  <a:lnTo>
                    <a:pt x="1150" y="4688"/>
                  </a:lnTo>
                  <a:lnTo>
                    <a:pt x="1386" y="4753"/>
                  </a:lnTo>
                  <a:lnTo>
                    <a:pt x="1628" y="4802"/>
                  </a:lnTo>
                  <a:lnTo>
                    <a:pt x="1869" y="4843"/>
                  </a:lnTo>
                  <a:lnTo>
                    <a:pt x="2115" y="4867"/>
                  </a:lnTo>
                  <a:lnTo>
                    <a:pt x="2606" y="4879"/>
                  </a:lnTo>
                  <a:lnTo>
                    <a:pt x="2851" y="4867"/>
                  </a:lnTo>
                  <a:lnTo>
                    <a:pt x="3096" y="4843"/>
                  </a:lnTo>
                  <a:lnTo>
                    <a:pt x="3578" y="4748"/>
                  </a:lnTo>
                  <a:lnTo>
                    <a:pt x="3820" y="4688"/>
                  </a:lnTo>
                  <a:lnTo>
                    <a:pt x="4867" y="4332"/>
                  </a:lnTo>
                  <a:lnTo>
                    <a:pt x="5697" y="4036"/>
                  </a:lnTo>
                  <a:lnTo>
                    <a:pt x="7345" y="3407"/>
                  </a:lnTo>
                  <a:lnTo>
                    <a:pt x="8162" y="3075"/>
                  </a:lnTo>
                  <a:lnTo>
                    <a:pt x="9782" y="2376"/>
                  </a:lnTo>
                  <a:lnTo>
                    <a:pt x="10584" y="2008"/>
                  </a:lnTo>
                  <a:lnTo>
                    <a:pt x="12167" y="1236"/>
                  </a:lnTo>
                  <a:lnTo>
                    <a:pt x="12952" y="830"/>
                  </a:lnTo>
                  <a:lnTo>
                    <a:pt x="13880" y="335"/>
                  </a:lnTo>
                  <a:lnTo>
                    <a:pt x="13880" y="335"/>
                  </a:lnTo>
                  <a:lnTo>
                    <a:pt x="14097" y="184"/>
                  </a:lnTo>
                  <a:lnTo>
                    <a:pt x="14219" y="123"/>
                  </a:lnTo>
                  <a:lnTo>
                    <a:pt x="14477" y="37"/>
                  </a:lnTo>
                  <a:lnTo>
                    <a:pt x="14612" y="13"/>
                  </a:lnTo>
                  <a:lnTo>
                    <a:pt x="14747" y="0"/>
                  </a:lnTo>
                  <a:lnTo>
                    <a:pt x="14882" y="4"/>
                  </a:lnTo>
                  <a:lnTo>
                    <a:pt x="15020" y="16"/>
                  </a:lnTo>
                  <a:lnTo>
                    <a:pt x="15151" y="45"/>
                  </a:lnTo>
                  <a:lnTo>
                    <a:pt x="15282" y="86"/>
                  </a:lnTo>
                  <a:lnTo>
                    <a:pt x="15532" y="204"/>
                  </a:lnTo>
                  <a:lnTo>
                    <a:pt x="16120" y="520"/>
                  </a:lnTo>
                  <a:lnTo>
                    <a:pt x="16480" y="732"/>
                  </a:lnTo>
                  <a:lnTo>
                    <a:pt x="16836" y="957"/>
                  </a:lnTo>
                  <a:lnTo>
                    <a:pt x="17184" y="1191"/>
                  </a:lnTo>
                  <a:lnTo>
                    <a:pt x="17245" y="1239"/>
                  </a:lnTo>
                  <a:lnTo>
                    <a:pt x="17315" y="1313"/>
                  </a:lnTo>
                  <a:lnTo>
                    <a:pt x="17375" y="1391"/>
                  </a:lnTo>
                  <a:lnTo>
                    <a:pt x="17425" y="1477"/>
                  </a:lnTo>
                  <a:lnTo>
                    <a:pt x="17466" y="1571"/>
                  </a:lnTo>
                  <a:lnTo>
                    <a:pt x="17491" y="1669"/>
                  </a:lnTo>
                  <a:lnTo>
                    <a:pt x="17506" y="1767"/>
                  </a:lnTo>
                  <a:lnTo>
                    <a:pt x="17506" y="1869"/>
                  </a:lnTo>
                  <a:lnTo>
                    <a:pt x="17495" y="1968"/>
                  </a:lnTo>
                  <a:lnTo>
                    <a:pt x="17466" y="2066"/>
                  </a:lnTo>
                  <a:lnTo>
                    <a:pt x="17429" y="2156"/>
                  </a:lnTo>
                  <a:lnTo>
                    <a:pt x="17380" y="2245"/>
                  </a:lnTo>
                  <a:lnTo>
                    <a:pt x="17315" y="2442"/>
                  </a:lnTo>
                  <a:lnTo>
                    <a:pt x="16190" y="3628"/>
                  </a:lnTo>
                  <a:lnTo>
                    <a:pt x="6212" y="7186"/>
                  </a:lnTo>
                  <a:lnTo>
                    <a:pt x="3305" y="7317"/>
                  </a:lnTo>
                  <a:lnTo>
                    <a:pt x="0" y="4287"/>
                  </a:lnTo>
                  <a:lnTo>
                    <a:pt x="687" y="4519"/>
                  </a:lnTo>
                  <a:close/>
                </a:path>
              </a:pathLst>
            </a:custGeom>
            <a:solidFill>
              <a:srgbClr val="cc99ff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5838840" y="3595680"/>
              <a:ext cx="1381320" cy="370440"/>
            </a:xfrm>
            <a:custGeom>
              <a:avLst/>
              <a:gdLst/>
              <a:ahLst/>
              <a:rect l="l" t="t" r="r" b="b"/>
              <a:pathLst>
                <a:path w="11155" h="3010">
                  <a:moveTo>
                    <a:pt x="11155" y="1227"/>
                  </a:moveTo>
                  <a:lnTo>
                    <a:pt x="6416" y="3010"/>
                  </a:lnTo>
                  <a:lnTo>
                    <a:pt x="3246" y="3010"/>
                  </a:lnTo>
                  <a:lnTo>
                    <a:pt x="0" y="0"/>
                  </a:lnTo>
                  <a:lnTo>
                    <a:pt x="792" y="290"/>
                  </a:lnTo>
                  <a:lnTo>
                    <a:pt x="1021" y="380"/>
                  </a:lnTo>
                  <a:lnTo>
                    <a:pt x="1491" y="524"/>
                  </a:lnTo>
                  <a:lnTo>
                    <a:pt x="1974" y="614"/>
                  </a:lnTo>
                  <a:lnTo>
                    <a:pt x="2085" y="650"/>
                  </a:lnTo>
                  <a:lnTo>
                    <a:pt x="2624" y="766"/>
                  </a:lnTo>
                  <a:lnTo>
                    <a:pt x="3173" y="892"/>
                  </a:lnTo>
                  <a:lnTo>
                    <a:pt x="3709" y="953"/>
                  </a:lnTo>
                  <a:lnTo>
                    <a:pt x="4252" y="1030"/>
                  </a:lnTo>
                  <a:lnTo>
                    <a:pt x="4800" y="1092"/>
                  </a:lnTo>
                  <a:lnTo>
                    <a:pt x="5348" y="1141"/>
                  </a:lnTo>
                  <a:lnTo>
                    <a:pt x="5896" y="1178"/>
                  </a:lnTo>
                  <a:lnTo>
                    <a:pt x="6444" y="1203"/>
                  </a:lnTo>
                  <a:lnTo>
                    <a:pt x="6996" y="1215"/>
                  </a:lnTo>
                  <a:lnTo>
                    <a:pt x="7544" y="1210"/>
                  </a:lnTo>
                  <a:lnTo>
                    <a:pt x="8096" y="1195"/>
                  </a:lnTo>
                  <a:lnTo>
                    <a:pt x="8644" y="1165"/>
                  </a:lnTo>
                  <a:lnTo>
                    <a:pt x="9192" y="1125"/>
                  </a:lnTo>
                  <a:lnTo>
                    <a:pt x="9740" y="1072"/>
                  </a:lnTo>
                  <a:lnTo>
                    <a:pt x="10284" y="1002"/>
                  </a:lnTo>
                  <a:lnTo>
                    <a:pt x="10832" y="920"/>
                  </a:lnTo>
                  <a:lnTo>
                    <a:pt x="10877" y="912"/>
                  </a:lnTo>
                  <a:lnTo>
                    <a:pt x="11155" y="1227"/>
                  </a:lnTo>
                  <a:close/>
                </a:path>
              </a:pathLst>
            </a:custGeom>
            <a:solidFill>
              <a:srgbClr val="cc99ff"/>
            </a:solidFill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6399720" y="3230640"/>
              <a:ext cx="1187280" cy="607320"/>
            </a:xfrm>
            <a:custGeom>
              <a:avLst/>
              <a:gdLst/>
              <a:ahLst/>
              <a:rect l="l" t="t" r="r" b="b"/>
              <a:pathLst>
                <a:path w="9586" h="4940">
                  <a:moveTo>
                    <a:pt x="9586" y="2040"/>
                  </a:moveTo>
                  <a:lnTo>
                    <a:pt x="9123" y="3292"/>
                  </a:lnTo>
                  <a:lnTo>
                    <a:pt x="3505" y="4745"/>
                  </a:lnTo>
                  <a:lnTo>
                    <a:pt x="1326" y="4940"/>
                  </a:lnTo>
                  <a:lnTo>
                    <a:pt x="0" y="3754"/>
                  </a:lnTo>
                  <a:lnTo>
                    <a:pt x="0" y="3754"/>
                  </a:lnTo>
                  <a:lnTo>
                    <a:pt x="728" y="3558"/>
                  </a:lnTo>
                  <a:lnTo>
                    <a:pt x="1513" y="3276"/>
                  </a:lnTo>
                  <a:lnTo>
                    <a:pt x="2261" y="3018"/>
                  </a:lnTo>
                  <a:lnTo>
                    <a:pt x="3006" y="2748"/>
                  </a:lnTo>
                  <a:lnTo>
                    <a:pt x="3746" y="2462"/>
                  </a:lnTo>
                  <a:lnTo>
                    <a:pt x="4482" y="2168"/>
                  </a:lnTo>
                  <a:lnTo>
                    <a:pt x="5215" y="1861"/>
                  </a:lnTo>
                  <a:lnTo>
                    <a:pt x="5938" y="1542"/>
                  </a:lnTo>
                  <a:lnTo>
                    <a:pt x="6658" y="1210"/>
                  </a:lnTo>
                  <a:lnTo>
                    <a:pt x="7373" y="867"/>
                  </a:lnTo>
                  <a:lnTo>
                    <a:pt x="8081" y="515"/>
                  </a:lnTo>
                  <a:lnTo>
                    <a:pt x="8784" y="147"/>
                  </a:lnTo>
                  <a:lnTo>
                    <a:pt x="9058" y="0"/>
                  </a:lnTo>
                  <a:lnTo>
                    <a:pt x="9586" y="2040"/>
                  </a:lnTo>
                  <a:close/>
                </a:path>
              </a:pathLst>
            </a:custGeom>
            <a:solidFill>
              <a:srgbClr val="232323"/>
            </a:solidFill>
            <a:ln w="0">
              <a:solidFill>
                <a:srgbClr val="2323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7521480" y="3230640"/>
              <a:ext cx="188280" cy="372600"/>
            </a:xfrm>
            <a:custGeom>
              <a:avLst/>
              <a:gdLst/>
              <a:ahLst/>
              <a:rect l="l" t="t" r="r" b="b"/>
              <a:pathLst>
                <a:path w="1517" h="3031">
                  <a:moveTo>
                    <a:pt x="0" y="0"/>
                  </a:moveTo>
                  <a:lnTo>
                    <a:pt x="1517" y="924"/>
                  </a:lnTo>
                  <a:lnTo>
                    <a:pt x="1320" y="2437"/>
                  </a:lnTo>
                  <a:lnTo>
                    <a:pt x="0" y="30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5573520" y="3416400"/>
              <a:ext cx="293040" cy="259920"/>
            </a:xfrm>
            <a:custGeom>
              <a:avLst/>
              <a:gdLst/>
              <a:ahLst/>
              <a:rect l="l" t="t" r="r" b="b"/>
              <a:pathLst>
                <a:path w="2375" h="2110">
                  <a:moveTo>
                    <a:pt x="1386" y="331"/>
                  </a:moveTo>
                  <a:lnTo>
                    <a:pt x="1320" y="70"/>
                  </a:lnTo>
                  <a:lnTo>
                    <a:pt x="1218" y="0"/>
                  </a:lnTo>
                  <a:lnTo>
                    <a:pt x="0" y="201"/>
                  </a:lnTo>
                  <a:lnTo>
                    <a:pt x="266" y="1190"/>
                  </a:lnTo>
                  <a:lnTo>
                    <a:pt x="1386" y="2110"/>
                  </a:lnTo>
                  <a:lnTo>
                    <a:pt x="2314" y="1518"/>
                  </a:lnTo>
                  <a:lnTo>
                    <a:pt x="2375" y="1117"/>
                  </a:lnTo>
                  <a:lnTo>
                    <a:pt x="1386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5655960" y="3432960"/>
              <a:ext cx="211680" cy="135720"/>
            </a:xfrm>
            <a:custGeom>
              <a:avLst/>
              <a:gdLst/>
              <a:ahLst/>
              <a:rect l="l" t="t" r="r" b="b"/>
              <a:pathLst>
                <a:path w="1705" h="1108">
                  <a:moveTo>
                    <a:pt x="53" y="266"/>
                  </a:moveTo>
                  <a:lnTo>
                    <a:pt x="0" y="102"/>
                  </a:lnTo>
                  <a:lnTo>
                    <a:pt x="515" y="0"/>
                  </a:lnTo>
                  <a:lnTo>
                    <a:pt x="1705" y="986"/>
                  </a:lnTo>
                  <a:lnTo>
                    <a:pt x="1023" y="1108"/>
                  </a:lnTo>
                  <a:lnTo>
                    <a:pt x="53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5613840" y="3457440"/>
              <a:ext cx="155880" cy="113760"/>
            </a:xfrm>
            <a:custGeom>
              <a:avLst/>
              <a:gdLst/>
              <a:ahLst/>
              <a:rect l="l" t="t" r="r" b="b"/>
              <a:pathLst>
                <a:path w="1255" h="925">
                  <a:moveTo>
                    <a:pt x="0" y="196"/>
                  </a:moveTo>
                  <a:lnTo>
                    <a:pt x="461" y="0"/>
                  </a:lnTo>
                  <a:lnTo>
                    <a:pt x="1255" y="724"/>
                  </a:lnTo>
                  <a:lnTo>
                    <a:pt x="793" y="92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5573520" y="3440880"/>
              <a:ext cx="375480" cy="787320"/>
            </a:xfrm>
            <a:custGeom>
              <a:avLst/>
              <a:gdLst/>
              <a:ahLst/>
              <a:rect l="l" t="t" r="r" b="b"/>
              <a:pathLst>
                <a:path w="3034" h="6404">
                  <a:moveTo>
                    <a:pt x="1006" y="4168"/>
                  </a:moveTo>
                  <a:lnTo>
                    <a:pt x="0" y="0"/>
                  </a:lnTo>
                  <a:lnTo>
                    <a:pt x="114" y="150"/>
                  </a:lnTo>
                  <a:lnTo>
                    <a:pt x="245" y="551"/>
                  </a:lnTo>
                  <a:lnTo>
                    <a:pt x="1255" y="1578"/>
                  </a:lnTo>
                  <a:lnTo>
                    <a:pt x="1169" y="1120"/>
                  </a:lnTo>
                  <a:lnTo>
                    <a:pt x="1358" y="1308"/>
                  </a:lnTo>
                  <a:lnTo>
                    <a:pt x="2907" y="6192"/>
                  </a:lnTo>
                  <a:lnTo>
                    <a:pt x="3034" y="6404"/>
                  </a:lnTo>
                  <a:lnTo>
                    <a:pt x="1006" y="4168"/>
                  </a:lnTo>
                  <a:close/>
                </a:path>
              </a:pathLst>
            </a:custGeom>
            <a:solidFill>
              <a:srgbClr val="cc99ff"/>
            </a:solidFill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5704200" y="3983760"/>
              <a:ext cx="335160" cy="558720"/>
            </a:xfrm>
            <a:custGeom>
              <a:avLst/>
              <a:gdLst/>
              <a:ahLst/>
              <a:rect l="l" t="t" r="r" b="b"/>
              <a:pathLst>
                <a:path w="2707" h="4544">
                  <a:moveTo>
                    <a:pt x="0" y="0"/>
                  </a:moveTo>
                  <a:lnTo>
                    <a:pt x="725" y="2372"/>
                  </a:lnTo>
                  <a:lnTo>
                    <a:pt x="2707" y="4544"/>
                  </a:lnTo>
                  <a:lnTo>
                    <a:pt x="2115" y="23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520320" y="3214080"/>
              <a:ext cx="771120" cy="631440"/>
            </a:xfrm>
            <a:custGeom>
              <a:avLst/>
              <a:gdLst/>
              <a:ahLst/>
              <a:rect l="l" t="t" r="r" b="b"/>
              <a:pathLst>
                <a:path w="6223" h="5137">
                  <a:moveTo>
                    <a:pt x="1296" y="5010"/>
                  </a:moveTo>
                  <a:lnTo>
                    <a:pt x="6223" y="1083"/>
                  </a:lnTo>
                  <a:lnTo>
                    <a:pt x="5144" y="478"/>
                  </a:lnTo>
                  <a:lnTo>
                    <a:pt x="4891" y="347"/>
                  </a:lnTo>
                  <a:lnTo>
                    <a:pt x="4698" y="261"/>
                  </a:lnTo>
                  <a:lnTo>
                    <a:pt x="4502" y="184"/>
                  </a:lnTo>
                  <a:lnTo>
                    <a:pt x="4301" y="122"/>
                  </a:lnTo>
                  <a:lnTo>
                    <a:pt x="4097" y="73"/>
                  </a:lnTo>
                  <a:lnTo>
                    <a:pt x="3893" y="32"/>
                  </a:lnTo>
                  <a:lnTo>
                    <a:pt x="3679" y="8"/>
                  </a:lnTo>
                  <a:lnTo>
                    <a:pt x="3471" y="0"/>
                  </a:lnTo>
                  <a:lnTo>
                    <a:pt x="3259" y="0"/>
                  </a:lnTo>
                  <a:lnTo>
                    <a:pt x="3050" y="12"/>
                  </a:lnTo>
                  <a:lnTo>
                    <a:pt x="2842" y="41"/>
                  </a:lnTo>
                  <a:lnTo>
                    <a:pt x="2633" y="81"/>
                  </a:lnTo>
                  <a:lnTo>
                    <a:pt x="2433" y="135"/>
                  </a:lnTo>
                  <a:lnTo>
                    <a:pt x="2233" y="201"/>
                  </a:lnTo>
                  <a:lnTo>
                    <a:pt x="2036" y="278"/>
                  </a:lnTo>
                  <a:lnTo>
                    <a:pt x="1843" y="368"/>
                  </a:lnTo>
                  <a:lnTo>
                    <a:pt x="1660" y="470"/>
                  </a:lnTo>
                  <a:lnTo>
                    <a:pt x="1484" y="585"/>
                  </a:lnTo>
                  <a:lnTo>
                    <a:pt x="1313" y="707"/>
                  </a:lnTo>
                  <a:lnTo>
                    <a:pt x="1148" y="843"/>
                  </a:lnTo>
                  <a:lnTo>
                    <a:pt x="997" y="986"/>
                  </a:lnTo>
                  <a:lnTo>
                    <a:pt x="850" y="1141"/>
                  </a:lnTo>
                  <a:lnTo>
                    <a:pt x="715" y="1300"/>
                  </a:lnTo>
                  <a:lnTo>
                    <a:pt x="592" y="1472"/>
                  </a:lnTo>
                  <a:lnTo>
                    <a:pt x="478" y="1648"/>
                  </a:lnTo>
                  <a:lnTo>
                    <a:pt x="376" y="1832"/>
                  </a:lnTo>
                  <a:lnTo>
                    <a:pt x="286" y="2025"/>
                  </a:lnTo>
                  <a:lnTo>
                    <a:pt x="208" y="2220"/>
                  </a:lnTo>
                  <a:lnTo>
                    <a:pt x="138" y="2417"/>
                  </a:lnTo>
                  <a:lnTo>
                    <a:pt x="86" y="2621"/>
                  </a:lnTo>
                  <a:lnTo>
                    <a:pt x="45" y="2830"/>
                  </a:lnTo>
                  <a:lnTo>
                    <a:pt x="16" y="3039"/>
                  </a:lnTo>
                  <a:lnTo>
                    <a:pt x="0" y="3248"/>
                  </a:lnTo>
                  <a:lnTo>
                    <a:pt x="0" y="3460"/>
                  </a:lnTo>
                  <a:lnTo>
                    <a:pt x="11" y="3668"/>
                  </a:lnTo>
                  <a:lnTo>
                    <a:pt x="32" y="3877"/>
                  </a:lnTo>
                  <a:lnTo>
                    <a:pt x="69" y="4086"/>
                  </a:lnTo>
                  <a:lnTo>
                    <a:pt x="122" y="4290"/>
                  </a:lnTo>
                  <a:lnTo>
                    <a:pt x="172" y="4462"/>
                  </a:lnTo>
                  <a:lnTo>
                    <a:pt x="408" y="5137"/>
                  </a:lnTo>
                  <a:lnTo>
                    <a:pt x="1296" y="5010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639480" y="3281400"/>
              <a:ext cx="820440" cy="548640"/>
            </a:xfrm>
            <a:custGeom>
              <a:avLst/>
              <a:gdLst/>
              <a:ahLst/>
              <a:rect l="l" t="t" r="r" b="b"/>
              <a:pathLst>
                <a:path w="6624" h="4462">
                  <a:moveTo>
                    <a:pt x="6468" y="3227"/>
                  </a:moveTo>
                  <a:lnTo>
                    <a:pt x="6624" y="2372"/>
                  </a:lnTo>
                  <a:lnTo>
                    <a:pt x="6554" y="2172"/>
                  </a:lnTo>
                  <a:lnTo>
                    <a:pt x="6472" y="1979"/>
                  </a:lnTo>
                  <a:lnTo>
                    <a:pt x="6382" y="1792"/>
                  </a:lnTo>
                  <a:lnTo>
                    <a:pt x="6277" y="1608"/>
                  </a:lnTo>
                  <a:lnTo>
                    <a:pt x="6162" y="1432"/>
                  </a:lnTo>
                  <a:lnTo>
                    <a:pt x="6031" y="1264"/>
                  </a:lnTo>
                  <a:lnTo>
                    <a:pt x="5897" y="1104"/>
                  </a:lnTo>
                  <a:lnTo>
                    <a:pt x="5749" y="953"/>
                  </a:lnTo>
                  <a:lnTo>
                    <a:pt x="5593" y="810"/>
                  </a:lnTo>
                  <a:lnTo>
                    <a:pt x="5430" y="679"/>
                  </a:lnTo>
                  <a:lnTo>
                    <a:pt x="5258" y="556"/>
                  </a:lnTo>
                  <a:lnTo>
                    <a:pt x="5078" y="445"/>
                  </a:lnTo>
                  <a:lnTo>
                    <a:pt x="4891" y="348"/>
                  </a:lnTo>
                  <a:lnTo>
                    <a:pt x="4698" y="262"/>
                  </a:lnTo>
                  <a:lnTo>
                    <a:pt x="4501" y="184"/>
                  </a:lnTo>
                  <a:lnTo>
                    <a:pt x="4301" y="123"/>
                  </a:lnTo>
                  <a:lnTo>
                    <a:pt x="4097" y="74"/>
                  </a:lnTo>
                  <a:lnTo>
                    <a:pt x="3892" y="33"/>
                  </a:lnTo>
                  <a:lnTo>
                    <a:pt x="3680" y="8"/>
                  </a:lnTo>
                  <a:lnTo>
                    <a:pt x="3471" y="0"/>
                  </a:lnTo>
                  <a:lnTo>
                    <a:pt x="3259" y="0"/>
                  </a:lnTo>
                  <a:lnTo>
                    <a:pt x="3050" y="12"/>
                  </a:lnTo>
                  <a:lnTo>
                    <a:pt x="2841" y="41"/>
                  </a:lnTo>
                  <a:lnTo>
                    <a:pt x="2633" y="82"/>
                  </a:lnTo>
                  <a:lnTo>
                    <a:pt x="2433" y="134"/>
                  </a:lnTo>
                  <a:lnTo>
                    <a:pt x="2232" y="200"/>
                  </a:lnTo>
                  <a:lnTo>
                    <a:pt x="2036" y="278"/>
                  </a:lnTo>
                  <a:lnTo>
                    <a:pt x="1843" y="368"/>
                  </a:lnTo>
                  <a:lnTo>
                    <a:pt x="1660" y="470"/>
                  </a:lnTo>
                  <a:lnTo>
                    <a:pt x="1484" y="585"/>
                  </a:lnTo>
                  <a:lnTo>
                    <a:pt x="1312" y="707"/>
                  </a:lnTo>
                  <a:lnTo>
                    <a:pt x="1148" y="842"/>
                  </a:lnTo>
                  <a:lnTo>
                    <a:pt x="998" y="986"/>
                  </a:lnTo>
                  <a:lnTo>
                    <a:pt x="850" y="1141"/>
                  </a:lnTo>
                  <a:lnTo>
                    <a:pt x="715" y="1301"/>
                  </a:lnTo>
                  <a:lnTo>
                    <a:pt x="593" y="1472"/>
                  </a:lnTo>
                  <a:lnTo>
                    <a:pt x="478" y="1648"/>
                  </a:lnTo>
                  <a:lnTo>
                    <a:pt x="376" y="1833"/>
                  </a:lnTo>
                  <a:lnTo>
                    <a:pt x="286" y="2024"/>
                  </a:lnTo>
                  <a:lnTo>
                    <a:pt x="208" y="2221"/>
                  </a:lnTo>
                  <a:lnTo>
                    <a:pt x="138" y="2417"/>
                  </a:lnTo>
                  <a:lnTo>
                    <a:pt x="86" y="2622"/>
                  </a:lnTo>
                  <a:lnTo>
                    <a:pt x="44" y="2830"/>
                  </a:lnTo>
                  <a:lnTo>
                    <a:pt x="16" y="3039"/>
                  </a:lnTo>
                  <a:lnTo>
                    <a:pt x="0" y="3247"/>
                  </a:lnTo>
                  <a:lnTo>
                    <a:pt x="0" y="3460"/>
                  </a:lnTo>
                  <a:lnTo>
                    <a:pt x="12" y="3669"/>
                  </a:lnTo>
                  <a:lnTo>
                    <a:pt x="32" y="3877"/>
                  </a:lnTo>
                  <a:lnTo>
                    <a:pt x="69" y="4086"/>
                  </a:lnTo>
                  <a:lnTo>
                    <a:pt x="122" y="4290"/>
                  </a:lnTo>
                  <a:lnTo>
                    <a:pt x="172" y="4462"/>
                  </a:lnTo>
                  <a:lnTo>
                    <a:pt x="6468" y="3227"/>
                  </a:lnTo>
                  <a:close/>
                </a:path>
              </a:pathLst>
            </a:custGeom>
            <a:solidFill>
              <a:srgbClr val="fff4dd"/>
            </a:solidFill>
            <a:ln w="0">
              <a:solidFill>
                <a:srgbClr val="fff4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6818760" y="3476160"/>
              <a:ext cx="473760" cy="277560"/>
            </a:xfrm>
            <a:custGeom>
              <a:avLst/>
              <a:gdLst/>
              <a:ahLst/>
              <a:rect l="l" t="t" r="r" b="b"/>
              <a:pathLst>
                <a:path w="3820" h="2259">
                  <a:moveTo>
                    <a:pt x="3399" y="1997"/>
                  </a:moveTo>
                  <a:lnTo>
                    <a:pt x="3820" y="958"/>
                  </a:lnTo>
                  <a:lnTo>
                    <a:pt x="3725" y="823"/>
                  </a:lnTo>
                  <a:lnTo>
                    <a:pt x="3620" y="696"/>
                  </a:lnTo>
                  <a:lnTo>
                    <a:pt x="3504" y="577"/>
                  </a:lnTo>
                  <a:lnTo>
                    <a:pt x="3382" y="467"/>
                  </a:lnTo>
                  <a:lnTo>
                    <a:pt x="3251" y="369"/>
                  </a:lnTo>
                  <a:lnTo>
                    <a:pt x="3112" y="283"/>
                  </a:lnTo>
                  <a:lnTo>
                    <a:pt x="2965" y="205"/>
                  </a:lnTo>
                  <a:lnTo>
                    <a:pt x="2814" y="139"/>
                  </a:lnTo>
                  <a:lnTo>
                    <a:pt x="2659" y="86"/>
                  </a:lnTo>
                  <a:lnTo>
                    <a:pt x="2498" y="45"/>
                  </a:lnTo>
                  <a:lnTo>
                    <a:pt x="2335" y="17"/>
                  </a:lnTo>
                  <a:lnTo>
                    <a:pt x="2172" y="4"/>
                  </a:lnTo>
                  <a:lnTo>
                    <a:pt x="2008" y="0"/>
                  </a:lnTo>
                  <a:lnTo>
                    <a:pt x="1844" y="13"/>
                  </a:lnTo>
                  <a:lnTo>
                    <a:pt x="1681" y="38"/>
                  </a:lnTo>
                  <a:lnTo>
                    <a:pt x="1522" y="75"/>
                  </a:lnTo>
                  <a:lnTo>
                    <a:pt x="1362" y="128"/>
                  </a:lnTo>
                  <a:lnTo>
                    <a:pt x="1211" y="189"/>
                  </a:lnTo>
                  <a:lnTo>
                    <a:pt x="1063" y="262"/>
                  </a:lnTo>
                  <a:lnTo>
                    <a:pt x="924" y="348"/>
                  </a:lnTo>
                  <a:lnTo>
                    <a:pt x="789" y="446"/>
                  </a:lnTo>
                  <a:lnTo>
                    <a:pt x="667" y="553"/>
                  </a:lnTo>
                  <a:lnTo>
                    <a:pt x="548" y="667"/>
                  </a:lnTo>
                  <a:lnTo>
                    <a:pt x="441" y="794"/>
                  </a:lnTo>
                  <a:lnTo>
                    <a:pt x="344" y="929"/>
                  </a:lnTo>
                  <a:lnTo>
                    <a:pt x="257" y="1068"/>
                  </a:lnTo>
                  <a:lnTo>
                    <a:pt x="184" y="1216"/>
                  </a:lnTo>
                  <a:lnTo>
                    <a:pt x="123" y="1367"/>
                  </a:lnTo>
                  <a:lnTo>
                    <a:pt x="74" y="1527"/>
                  </a:lnTo>
                  <a:lnTo>
                    <a:pt x="33" y="1686"/>
                  </a:lnTo>
                  <a:lnTo>
                    <a:pt x="8" y="1849"/>
                  </a:lnTo>
                  <a:lnTo>
                    <a:pt x="0" y="2013"/>
                  </a:lnTo>
                  <a:lnTo>
                    <a:pt x="0" y="2177"/>
                  </a:lnTo>
                  <a:lnTo>
                    <a:pt x="4" y="2259"/>
                  </a:lnTo>
                  <a:lnTo>
                    <a:pt x="3399" y="19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870240" y="3523680"/>
              <a:ext cx="377640" cy="216720"/>
            </a:xfrm>
            <a:custGeom>
              <a:avLst/>
              <a:gdLst/>
              <a:ahLst/>
              <a:rect l="l" t="t" r="r" b="b"/>
              <a:pathLst>
                <a:path w="3055" h="1766">
                  <a:moveTo>
                    <a:pt x="2830" y="1447"/>
                  </a:moveTo>
                  <a:lnTo>
                    <a:pt x="3055" y="719"/>
                  </a:lnTo>
                  <a:lnTo>
                    <a:pt x="2965" y="605"/>
                  </a:lnTo>
                  <a:lnTo>
                    <a:pt x="2863" y="494"/>
                  </a:lnTo>
                  <a:lnTo>
                    <a:pt x="2756" y="392"/>
                  </a:lnTo>
                  <a:lnTo>
                    <a:pt x="2638" y="302"/>
                  </a:lnTo>
                  <a:lnTo>
                    <a:pt x="2511" y="224"/>
                  </a:lnTo>
                  <a:lnTo>
                    <a:pt x="2380" y="155"/>
                  </a:lnTo>
                  <a:lnTo>
                    <a:pt x="2245" y="97"/>
                  </a:lnTo>
                  <a:lnTo>
                    <a:pt x="2102" y="56"/>
                  </a:lnTo>
                  <a:lnTo>
                    <a:pt x="1959" y="24"/>
                  </a:lnTo>
                  <a:lnTo>
                    <a:pt x="1812" y="7"/>
                  </a:lnTo>
                  <a:lnTo>
                    <a:pt x="1660" y="0"/>
                  </a:lnTo>
                  <a:lnTo>
                    <a:pt x="1513" y="7"/>
                  </a:lnTo>
                  <a:lnTo>
                    <a:pt x="1366" y="28"/>
                  </a:lnTo>
                  <a:lnTo>
                    <a:pt x="1223" y="65"/>
                  </a:lnTo>
                  <a:lnTo>
                    <a:pt x="1083" y="110"/>
                  </a:lnTo>
                  <a:lnTo>
                    <a:pt x="944" y="167"/>
                  </a:lnTo>
                  <a:lnTo>
                    <a:pt x="818" y="236"/>
                  </a:lnTo>
                  <a:lnTo>
                    <a:pt x="691" y="318"/>
                  </a:lnTo>
                  <a:lnTo>
                    <a:pt x="577" y="412"/>
                  </a:lnTo>
                  <a:lnTo>
                    <a:pt x="470" y="515"/>
                  </a:lnTo>
                  <a:lnTo>
                    <a:pt x="373" y="625"/>
                  </a:lnTo>
                  <a:lnTo>
                    <a:pt x="283" y="744"/>
                  </a:lnTo>
                  <a:lnTo>
                    <a:pt x="204" y="871"/>
                  </a:lnTo>
                  <a:lnTo>
                    <a:pt x="139" y="1006"/>
                  </a:lnTo>
                  <a:lnTo>
                    <a:pt x="86" y="1140"/>
                  </a:lnTo>
                  <a:lnTo>
                    <a:pt x="45" y="1283"/>
                  </a:lnTo>
                  <a:lnTo>
                    <a:pt x="17" y="1431"/>
                  </a:lnTo>
                  <a:lnTo>
                    <a:pt x="4" y="1578"/>
                  </a:lnTo>
                  <a:lnTo>
                    <a:pt x="0" y="1725"/>
                  </a:lnTo>
                  <a:lnTo>
                    <a:pt x="0" y="1766"/>
                  </a:lnTo>
                  <a:lnTo>
                    <a:pt x="2830" y="14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7117560" y="3569040"/>
              <a:ext cx="104760" cy="147960"/>
            </a:xfrm>
            <a:custGeom>
              <a:avLst/>
              <a:gdLst/>
              <a:ahLst/>
              <a:rect l="l" t="t" r="r" b="b"/>
              <a:pathLst>
                <a:path w="842" h="1203">
                  <a:moveTo>
                    <a:pt x="731" y="888"/>
                  </a:moveTo>
                  <a:lnTo>
                    <a:pt x="776" y="814"/>
                  </a:lnTo>
                  <a:lnTo>
                    <a:pt x="814" y="736"/>
                  </a:lnTo>
                  <a:lnTo>
                    <a:pt x="834" y="655"/>
                  </a:lnTo>
                  <a:lnTo>
                    <a:pt x="842" y="569"/>
                  </a:lnTo>
                  <a:lnTo>
                    <a:pt x="842" y="483"/>
                  </a:lnTo>
                  <a:lnTo>
                    <a:pt x="826" y="397"/>
                  </a:lnTo>
                  <a:lnTo>
                    <a:pt x="793" y="320"/>
                  </a:lnTo>
                  <a:lnTo>
                    <a:pt x="752" y="242"/>
                  </a:lnTo>
                  <a:lnTo>
                    <a:pt x="703" y="176"/>
                  </a:lnTo>
                  <a:lnTo>
                    <a:pt x="641" y="115"/>
                  </a:lnTo>
                  <a:lnTo>
                    <a:pt x="572" y="66"/>
                  </a:lnTo>
                  <a:lnTo>
                    <a:pt x="495" y="24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417" y="17"/>
                  </a:lnTo>
                  <a:lnTo>
                    <a:pt x="417" y="160"/>
                  </a:lnTo>
                  <a:lnTo>
                    <a:pt x="409" y="303"/>
                  </a:lnTo>
                  <a:lnTo>
                    <a:pt x="388" y="446"/>
                  </a:lnTo>
                  <a:lnTo>
                    <a:pt x="351" y="586"/>
                  </a:lnTo>
                  <a:lnTo>
                    <a:pt x="306" y="721"/>
                  </a:lnTo>
                  <a:lnTo>
                    <a:pt x="246" y="852"/>
                  </a:lnTo>
                  <a:lnTo>
                    <a:pt x="175" y="978"/>
                  </a:lnTo>
                  <a:lnTo>
                    <a:pt x="94" y="1097"/>
                  </a:lnTo>
                  <a:lnTo>
                    <a:pt x="0" y="1203"/>
                  </a:lnTo>
                  <a:lnTo>
                    <a:pt x="731" y="888"/>
                  </a:lnTo>
                  <a:close/>
                </a:path>
              </a:pathLst>
            </a:custGeom>
            <a:solidFill>
              <a:srgbClr val="6d6d6d"/>
            </a:solidFill>
            <a:ln w="0">
              <a:solidFill>
                <a:srgbClr val="6d6d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6818040" y="3474720"/>
              <a:ext cx="419040" cy="280800"/>
            </a:xfrm>
            <a:custGeom>
              <a:avLst/>
              <a:gdLst/>
              <a:ahLst/>
              <a:rect l="l" t="t" r="r" b="b"/>
              <a:pathLst>
                <a:path w="3382" h="2286">
                  <a:moveTo>
                    <a:pt x="3079" y="458"/>
                  </a:moveTo>
                  <a:lnTo>
                    <a:pt x="2834" y="351"/>
                  </a:lnTo>
                  <a:lnTo>
                    <a:pt x="2834" y="351"/>
                  </a:lnTo>
                  <a:lnTo>
                    <a:pt x="2846" y="363"/>
                  </a:lnTo>
                  <a:lnTo>
                    <a:pt x="2883" y="396"/>
                  </a:lnTo>
                  <a:lnTo>
                    <a:pt x="2912" y="441"/>
                  </a:lnTo>
                  <a:lnTo>
                    <a:pt x="2928" y="490"/>
                  </a:lnTo>
                  <a:lnTo>
                    <a:pt x="2928" y="543"/>
                  </a:lnTo>
                  <a:lnTo>
                    <a:pt x="2928" y="543"/>
                  </a:lnTo>
                  <a:lnTo>
                    <a:pt x="2789" y="470"/>
                  </a:lnTo>
                  <a:lnTo>
                    <a:pt x="2646" y="413"/>
                  </a:lnTo>
                  <a:lnTo>
                    <a:pt x="2494" y="363"/>
                  </a:lnTo>
                  <a:lnTo>
                    <a:pt x="2343" y="327"/>
                  </a:lnTo>
                  <a:lnTo>
                    <a:pt x="2184" y="307"/>
                  </a:lnTo>
                  <a:lnTo>
                    <a:pt x="2028" y="294"/>
                  </a:lnTo>
                  <a:lnTo>
                    <a:pt x="1873" y="298"/>
                  </a:lnTo>
                  <a:lnTo>
                    <a:pt x="1713" y="314"/>
                  </a:lnTo>
                  <a:lnTo>
                    <a:pt x="1562" y="343"/>
                  </a:lnTo>
                  <a:lnTo>
                    <a:pt x="1406" y="389"/>
                  </a:lnTo>
                  <a:lnTo>
                    <a:pt x="1260" y="441"/>
                  </a:lnTo>
                  <a:lnTo>
                    <a:pt x="1116" y="507"/>
                  </a:lnTo>
                  <a:lnTo>
                    <a:pt x="981" y="588"/>
                  </a:lnTo>
                  <a:lnTo>
                    <a:pt x="850" y="674"/>
                  </a:lnTo>
                  <a:lnTo>
                    <a:pt x="732" y="777"/>
                  </a:lnTo>
                  <a:lnTo>
                    <a:pt x="617" y="887"/>
                  </a:lnTo>
                  <a:lnTo>
                    <a:pt x="515" y="1006"/>
                  </a:lnTo>
                  <a:lnTo>
                    <a:pt x="421" y="1133"/>
                  </a:lnTo>
                  <a:lnTo>
                    <a:pt x="340" y="1264"/>
                  </a:lnTo>
                  <a:lnTo>
                    <a:pt x="265" y="1406"/>
                  </a:lnTo>
                  <a:lnTo>
                    <a:pt x="209" y="1550"/>
                  </a:lnTo>
                  <a:lnTo>
                    <a:pt x="164" y="1701"/>
                  </a:lnTo>
                  <a:lnTo>
                    <a:pt x="127" y="1856"/>
                  </a:lnTo>
                  <a:lnTo>
                    <a:pt x="106" y="2011"/>
                  </a:lnTo>
                  <a:lnTo>
                    <a:pt x="98" y="2167"/>
                  </a:lnTo>
                  <a:lnTo>
                    <a:pt x="102" y="2286"/>
                  </a:lnTo>
                  <a:lnTo>
                    <a:pt x="4" y="2253"/>
                  </a:lnTo>
                  <a:lnTo>
                    <a:pt x="0" y="2176"/>
                  </a:lnTo>
                  <a:lnTo>
                    <a:pt x="0" y="2008"/>
                  </a:lnTo>
                  <a:lnTo>
                    <a:pt x="8" y="1844"/>
                  </a:lnTo>
                  <a:lnTo>
                    <a:pt x="37" y="1681"/>
                  </a:lnTo>
                  <a:lnTo>
                    <a:pt x="74" y="1521"/>
                  </a:lnTo>
                  <a:lnTo>
                    <a:pt x="123" y="1365"/>
                  </a:lnTo>
                  <a:lnTo>
                    <a:pt x="184" y="1210"/>
                  </a:lnTo>
                  <a:lnTo>
                    <a:pt x="258" y="1063"/>
                  </a:lnTo>
                  <a:lnTo>
                    <a:pt x="344" y="924"/>
                  </a:lnTo>
                  <a:lnTo>
                    <a:pt x="441" y="788"/>
                  </a:lnTo>
                  <a:lnTo>
                    <a:pt x="548" y="666"/>
                  </a:lnTo>
                  <a:lnTo>
                    <a:pt x="666" y="548"/>
                  </a:lnTo>
                  <a:lnTo>
                    <a:pt x="790" y="441"/>
                  </a:lnTo>
                  <a:lnTo>
                    <a:pt x="924" y="343"/>
                  </a:lnTo>
                  <a:lnTo>
                    <a:pt x="1063" y="258"/>
                  </a:lnTo>
                  <a:lnTo>
                    <a:pt x="1211" y="183"/>
                  </a:lnTo>
                  <a:lnTo>
                    <a:pt x="1365" y="123"/>
                  </a:lnTo>
                  <a:lnTo>
                    <a:pt x="1521" y="73"/>
                  </a:lnTo>
                  <a:lnTo>
                    <a:pt x="1681" y="37"/>
                  </a:lnTo>
                  <a:lnTo>
                    <a:pt x="1844" y="12"/>
                  </a:lnTo>
                  <a:lnTo>
                    <a:pt x="2008" y="0"/>
                  </a:lnTo>
                  <a:lnTo>
                    <a:pt x="2171" y="0"/>
                  </a:lnTo>
                  <a:lnTo>
                    <a:pt x="2339" y="16"/>
                  </a:lnTo>
                  <a:lnTo>
                    <a:pt x="2498" y="41"/>
                  </a:lnTo>
                  <a:lnTo>
                    <a:pt x="2658" y="82"/>
                  </a:lnTo>
                  <a:lnTo>
                    <a:pt x="2813" y="134"/>
                  </a:lnTo>
                  <a:lnTo>
                    <a:pt x="2969" y="200"/>
                  </a:lnTo>
                  <a:lnTo>
                    <a:pt x="3112" y="278"/>
                  </a:lnTo>
                  <a:lnTo>
                    <a:pt x="3251" y="368"/>
                  </a:lnTo>
                  <a:lnTo>
                    <a:pt x="3382" y="466"/>
                  </a:lnTo>
                  <a:lnTo>
                    <a:pt x="3079" y="45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7003800" y="3483720"/>
              <a:ext cx="23400" cy="18720"/>
            </a:xfrm>
            <a:custGeom>
              <a:avLst/>
              <a:gdLst/>
              <a:ahLst/>
              <a:rect l="l" t="t" r="r" b="b"/>
              <a:pathLst>
                <a:path w="189" h="155">
                  <a:moveTo>
                    <a:pt x="161" y="0"/>
                  </a:moveTo>
                  <a:lnTo>
                    <a:pt x="189" y="127"/>
                  </a:lnTo>
                  <a:lnTo>
                    <a:pt x="30" y="155"/>
                  </a:lnTo>
                  <a:lnTo>
                    <a:pt x="0" y="28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917040" y="3549960"/>
              <a:ext cx="244080" cy="186840"/>
            </a:xfrm>
            <a:custGeom>
              <a:avLst/>
              <a:gdLst/>
              <a:ahLst/>
              <a:rect l="l" t="t" r="r" b="b"/>
              <a:pathLst>
                <a:path w="1971" h="1522">
                  <a:moveTo>
                    <a:pt x="30" y="1460"/>
                  </a:moveTo>
                  <a:lnTo>
                    <a:pt x="90" y="1366"/>
                  </a:lnTo>
                  <a:lnTo>
                    <a:pt x="201" y="1211"/>
                  </a:lnTo>
                  <a:lnTo>
                    <a:pt x="324" y="1059"/>
                  </a:lnTo>
                  <a:lnTo>
                    <a:pt x="455" y="916"/>
                  </a:lnTo>
                  <a:lnTo>
                    <a:pt x="594" y="786"/>
                  </a:lnTo>
                  <a:lnTo>
                    <a:pt x="744" y="663"/>
                  </a:lnTo>
                  <a:lnTo>
                    <a:pt x="900" y="552"/>
                  </a:lnTo>
                  <a:lnTo>
                    <a:pt x="1068" y="454"/>
                  </a:lnTo>
                  <a:lnTo>
                    <a:pt x="1240" y="364"/>
                  </a:lnTo>
                  <a:lnTo>
                    <a:pt x="1415" y="286"/>
                  </a:lnTo>
                  <a:lnTo>
                    <a:pt x="1596" y="221"/>
                  </a:lnTo>
                  <a:lnTo>
                    <a:pt x="1780" y="168"/>
                  </a:lnTo>
                  <a:lnTo>
                    <a:pt x="1971" y="127"/>
                  </a:lnTo>
                  <a:lnTo>
                    <a:pt x="1971" y="127"/>
                  </a:lnTo>
                  <a:lnTo>
                    <a:pt x="986" y="0"/>
                  </a:lnTo>
                  <a:lnTo>
                    <a:pt x="0" y="1522"/>
                  </a:lnTo>
                  <a:lnTo>
                    <a:pt x="30" y="1460"/>
                  </a:lnTo>
                  <a:close/>
                </a:path>
              </a:pathLst>
            </a:custGeom>
            <a:solidFill>
              <a:srgbClr val="232323"/>
            </a:solidFill>
            <a:ln w="0">
              <a:solidFill>
                <a:srgbClr val="2323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518880" y="3609000"/>
              <a:ext cx="106920" cy="230040"/>
            </a:xfrm>
            <a:custGeom>
              <a:avLst/>
              <a:gdLst/>
              <a:ahLst/>
              <a:rect l="l" t="t" r="r" b="b"/>
              <a:pathLst>
                <a:path w="859" h="1873">
                  <a:moveTo>
                    <a:pt x="188" y="1468"/>
                  </a:moveTo>
                  <a:lnTo>
                    <a:pt x="99" y="1202"/>
                  </a:lnTo>
                  <a:lnTo>
                    <a:pt x="95" y="1189"/>
                  </a:lnTo>
                  <a:lnTo>
                    <a:pt x="54" y="993"/>
                  </a:lnTo>
                  <a:lnTo>
                    <a:pt x="20" y="797"/>
                  </a:lnTo>
                  <a:lnTo>
                    <a:pt x="5" y="597"/>
                  </a:lnTo>
                  <a:lnTo>
                    <a:pt x="0" y="397"/>
                  </a:lnTo>
                  <a:lnTo>
                    <a:pt x="13" y="196"/>
                  </a:lnTo>
                  <a:lnTo>
                    <a:pt x="33" y="0"/>
                  </a:lnTo>
                  <a:lnTo>
                    <a:pt x="859" y="281"/>
                  </a:lnTo>
                  <a:lnTo>
                    <a:pt x="769" y="359"/>
                  </a:lnTo>
                  <a:lnTo>
                    <a:pt x="683" y="446"/>
                  </a:lnTo>
                  <a:lnTo>
                    <a:pt x="610" y="539"/>
                  </a:lnTo>
                  <a:lnTo>
                    <a:pt x="544" y="642"/>
                  </a:lnTo>
                  <a:lnTo>
                    <a:pt x="491" y="748"/>
                  </a:lnTo>
                  <a:lnTo>
                    <a:pt x="450" y="862"/>
                  </a:lnTo>
                  <a:lnTo>
                    <a:pt x="421" y="977"/>
                  </a:lnTo>
                  <a:lnTo>
                    <a:pt x="406" y="1096"/>
                  </a:lnTo>
                  <a:lnTo>
                    <a:pt x="406" y="1218"/>
                  </a:lnTo>
                  <a:lnTo>
                    <a:pt x="413" y="1337"/>
                  </a:lnTo>
                  <a:lnTo>
                    <a:pt x="438" y="1455"/>
                  </a:lnTo>
                  <a:lnTo>
                    <a:pt x="475" y="1570"/>
                  </a:lnTo>
                  <a:lnTo>
                    <a:pt x="524" y="1680"/>
                  </a:lnTo>
                  <a:lnTo>
                    <a:pt x="580" y="1783"/>
                  </a:lnTo>
                  <a:lnTo>
                    <a:pt x="361" y="1873"/>
                  </a:lnTo>
                  <a:lnTo>
                    <a:pt x="188" y="1468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5704200" y="3428280"/>
              <a:ext cx="941040" cy="221040"/>
            </a:xfrm>
            <a:custGeom>
              <a:avLst/>
              <a:gdLst/>
              <a:ahLst/>
              <a:rect l="l" t="t" r="r" b="b"/>
              <a:pathLst>
                <a:path w="7598" h="1796">
                  <a:moveTo>
                    <a:pt x="6679" y="920"/>
                  </a:moveTo>
                  <a:lnTo>
                    <a:pt x="6658" y="941"/>
                  </a:lnTo>
                  <a:lnTo>
                    <a:pt x="6593" y="998"/>
                  </a:lnTo>
                  <a:lnTo>
                    <a:pt x="6519" y="1047"/>
                  </a:lnTo>
                  <a:lnTo>
                    <a:pt x="6441" y="1084"/>
                  </a:lnTo>
                  <a:lnTo>
                    <a:pt x="6355" y="1109"/>
                  </a:lnTo>
                  <a:lnTo>
                    <a:pt x="6270" y="1120"/>
                  </a:lnTo>
                  <a:lnTo>
                    <a:pt x="6180" y="1120"/>
                  </a:lnTo>
                  <a:lnTo>
                    <a:pt x="6094" y="1105"/>
                  </a:lnTo>
                  <a:lnTo>
                    <a:pt x="5349" y="957"/>
                  </a:lnTo>
                  <a:lnTo>
                    <a:pt x="4618" y="811"/>
                  </a:lnTo>
                  <a:lnTo>
                    <a:pt x="3885" y="650"/>
                  </a:lnTo>
                  <a:lnTo>
                    <a:pt x="3162" y="479"/>
                  </a:lnTo>
                  <a:lnTo>
                    <a:pt x="2438" y="294"/>
                  </a:lnTo>
                  <a:lnTo>
                    <a:pt x="1718" y="99"/>
                  </a:lnTo>
                  <a:lnTo>
                    <a:pt x="1514" y="54"/>
                  </a:lnTo>
                  <a:lnTo>
                    <a:pt x="1306" y="21"/>
                  </a:lnTo>
                  <a:lnTo>
                    <a:pt x="1096" y="4"/>
                  </a:lnTo>
                  <a:lnTo>
                    <a:pt x="888" y="0"/>
                  </a:lnTo>
                  <a:lnTo>
                    <a:pt x="680" y="9"/>
                  </a:lnTo>
                  <a:lnTo>
                    <a:pt x="471" y="28"/>
                  </a:lnTo>
                  <a:lnTo>
                    <a:pt x="262" y="66"/>
                  </a:lnTo>
                  <a:lnTo>
                    <a:pt x="58" y="111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798" y="826"/>
                  </a:lnTo>
                  <a:lnTo>
                    <a:pt x="798" y="826"/>
                  </a:lnTo>
                  <a:lnTo>
                    <a:pt x="855" y="798"/>
                  </a:lnTo>
                  <a:lnTo>
                    <a:pt x="986" y="749"/>
                  </a:lnTo>
                  <a:lnTo>
                    <a:pt x="1121" y="716"/>
                  </a:lnTo>
                  <a:lnTo>
                    <a:pt x="1261" y="691"/>
                  </a:lnTo>
                  <a:lnTo>
                    <a:pt x="1399" y="684"/>
                  </a:lnTo>
                  <a:lnTo>
                    <a:pt x="1538" y="684"/>
                  </a:lnTo>
                  <a:lnTo>
                    <a:pt x="1677" y="700"/>
                  </a:lnTo>
                  <a:lnTo>
                    <a:pt x="1812" y="728"/>
                  </a:lnTo>
                  <a:lnTo>
                    <a:pt x="2441" y="904"/>
                  </a:lnTo>
                  <a:lnTo>
                    <a:pt x="3072" y="1068"/>
                  </a:lnTo>
                  <a:lnTo>
                    <a:pt x="3706" y="1215"/>
                  </a:lnTo>
                  <a:lnTo>
                    <a:pt x="4339" y="1350"/>
                  </a:lnTo>
                  <a:lnTo>
                    <a:pt x="4977" y="1476"/>
                  </a:lnTo>
                  <a:lnTo>
                    <a:pt x="5619" y="1587"/>
                  </a:lnTo>
                  <a:lnTo>
                    <a:pt x="6907" y="1768"/>
                  </a:lnTo>
                  <a:lnTo>
                    <a:pt x="6965" y="1776"/>
                  </a:lnTo>
                  <a:lnTo>
                    <a:pt x="7128" y="1796"/>
                  </a:lnTo>
                  <a:lnTo>
                    <a:pt x="7295" y="1763"/>
                  </a:lnTo>
                  <a:lnTo>
                    <a:pt x="7370" y="1731"/>
                  </a:lnTo>
                  <a:lnTo>
                    <a:pt x="7443" y="1686"/>
                  </a:lnTo>
                  <a:lnTo>
                    <a:pt x="7505" y="1628"/>
                  </a:lnTo>
                  <a:lnTo>
                    <a:pt x="7557" y="1562"/>
                  </a:lnTo>
                  <a:lnTo>
                    <a:pt x="7598" y="1489"/>
                  </a:lnTo>
                  <a:lnTo>
                    <a:pt x="7598" y="1489"/>
                  </a:lnTo>
                  <a:lnTo>
                    <a:pt x="6679" y="920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6491160" y="3534480"/>
              <a:ext cx="153720" cy="112680"/>
            </a:xfrm>
            <a:custGeom>
              <a:avLst/>
              <a:gdLst/>
              <a:ahLst/>
              <a:rect l="l" t="t" r="r" b="b"/>
              <a:pathLst>
                <a:path w="1243" h="920">
                  <a:moveTo>
                    <a:pt x="356" y="0"/>
                  </a:moveTo>
                  <a:lnTo>
                    <a:pt x="303" y="85"/>
                  </a:lnTo>
                  <a:lnTo>
                    <a:pt x="238" y="142"/>
                  </a:lnTo>
                  <a:lnTo>
                    <a:pt x="164" y="191"/>
                  </a:lnTo>
                  <a:lnTo>
                    <a:pt x="86" y="228"/>
                  </a:lnTo>
                  <a:lnTo>
                    <a:pt x="0" y="253"/>
                  </a:lnTo>
                  <a:lnTo>
                    <a:pt x="769" y="920"/>
                  </a:lnTo>
                  <a:lnTo>
                    <a:pt x="940" y="907"/>
                  </a:lnTo>
                  <a:lnTo>
                    <a:pt x="1015" y="875"/>
                  </a:lnTo>
                  <a:lnTo>
                    <a:pt x="1088" y="830"/>
                  </a:lnTo>
                  <a:lnTo>
                    <a:pt x="1150" y="772"/>
                  </a:lnTo>
                  <a:lnTo>
                    <a:pt x="1202" y="706"/>
                  </a:lnTo>
                  <a:lnTo>
                    <a:pt x="1243" y="633"/>
                  </a:lnTo>
                  <a:lnTo>
                    <a:pt x="1243" y="633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5669640" y="3438360"/>
              <a:ext cx="152640" cy="107280"/>
            </a:xfrm>
            <a:custGeom>
              <a:avLst/>
              <a:gdLst/>
              <a:ahLst/>
              <a:rect l="l" t="t" r="r" b="b"/>
              <a:pathLst>
                <a:path w="1235" h="880">
                  <a:moveTo>
                    <a:pt x="0" y="152"/>
                  </a:moveTo>
                  <a:lnTo>
                    <a:pt x="453" y="0"/>
                  </a:lnTo>
                  <a:lnTo>
                    <a:pt x="1235" y="704"/>
                  </a:lnTo>
                  <a:lnTo>
                    <a:pt x="805" y="88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5736600" y="3465000"/>
              <a:ext cx="41040" cy="40680"/>
            </a:xfrm>
            <a:custGeom>
              <a:avLst/>
              <a:gdLst/>
              <a:ahLst/>
              <a:rect l="l" t="t" r="r" b="b"/>
              <a:pathLst>
                <a:path w="332" h="332">
                  <a:moveTo>
                    <a:pt x="0" y="0"/>
                  </a:moveTo>
                  <a:lnTo>
                    <a:pt x="332" y="332"/>
                  </a:lnTo>
                  <a:lnTo>
                    <a:pt x="201" y="332"/>
                  </a:lnTo>
                  <a:lnTo>
                    <a:pt x="66" y="266"/>
                  </a:lnTo>
                  <a:lnTo>
                    <a:pt x="66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6557040" y="3328920"/>
              <a:ext cx="1178280" cy="601560"/>
            </a:xfrm>
            <a:custGeom>
              <a:avLst/>
              <a:gdLst/>
              <a:ahLst/>
              <a:rect l="l" t="t" r="r" b="b"/>
              <a:pathLst>
                <a:path w="9511" h="4900">
                  <a:moveTo>
                    <a:pt x="5148" y="3517"/>
                  </a:moveTo>
                  <a:lnTo>
                    <a:pt x="0" y="4900"/>
                  </a:lnTo>
                  <a:lnTo>
                    <a:pt x="58" y="4152"/>
                  </a:lnTo>
                  <a:lnTo>
                    <a:pt x="678" y="3980"/>
                  </a:lnTo>
                  <a:lnTo>
                    <a:pt x="1300" y="3804"/>
                  </a:lnTo>
                  <a:lnTo>
                    <a:pt x="1918" y="3620"/>
                  </a:lnTo>
                  <a:lnTo>
                    <a:pt x="2527" y="3420"/>
                  </a:lnTo>
                  <a:lnTo>
                    <a:pt x="3136" y="3206"/>
                  </a:lnTo>
                  <a:lnTo>
                    <a:pt x="3741" y="2982"/>
                  </a:lnTo>
                  <a:lnTo>
                    <a:pt x="4339" y="2745"/>
                  </a:lnTo>
                  <a:lnTo>
                    <a:pt x="4936" y="2495"/>
                  </a:lnTo>
                  <a:lnTo>
                    <a:pt x="5524" y="2234"/>
                  </a:lnTo>
                  <a:lnTo>
                    <a:pt x="6109" y="1959"/>
                  </a:lnTo>
                  <a:lnTo>
                    <a:pt x="6686" y="1674"/>
                  </a:lnTo>
                  <a:lnTo>
                    <a:pt x="7259" y="1378"/>
                  </a:lnTo>
                  <a:lnTo>
                    <a:pt x="7823" y="1067"/>
                  </a:lnTo>
                  <a:lnTo>
                    <a:pt x="8383" y="749"/>
                  </a:lnTo>
                  <a:lnTo>
                    <a:pt x="8906" y="406"/>
                  </a:lnTo>
                  <a:lnTo>
                    <a:pt x="9397" y="86"/>
                  </a:lnTo>
                  <a:lnTo>
                    <a:pt x="9511" y="0"/>
                  </a:lnTo>
                  <a:lnTo>
                    <a:pt x="9250" y="1297"/>
                  </a:lnTo>
                  <a:lnTo>
                    <a:pt x="5148" y="3517"/>
                  </a:lnTo>
                  <a:close/>
                </a:path>
              </a:pathLst>
            </a:custGeom>
            <a:solidFill>
              <a:srgbClr val="cc99ff"/>
            </a:solidFill>
            <a:ln w="0">
              <a:solidFill>
                <a:srgbClr val="3838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510240" y="3644280"/>
              <a:ext cx="909360" cy="318600"/>
            </a:xfrm>
            <a:custGeom>
              <a:avLst/>
              <a:gdLst/>
              <a:ahLst/>
              <a:rect l="l" t="t" r="r" b="b"/>
              <a:pathLst>
                <a:path w="7345" h="2593">
                  <a:moveTo>
                    <a:pt x="0" y="2188"/>
                  </a:moveTo>
                  <a:lnTo>
                    <a:pt x="291" y="2593"/>
                  </a:lnTo>
                  <a:lnTo>
                    <a:pt x="5059" y="1554"/>
                  </a:lnTo>
                  <a:lnTo>
                    <a:pt x="7345" y="806"/>
                  </a:lnTo>
                  <a:lnTo>
                    <a:pt x="7316" y="0"/>
                  </a:lnTo>
                  <a:lnTo>
                    <a:pt x="7316" y="0"/>
                  </a:lnTo>
                  <a:lnTo>
                    <a:pt x="7202" y="40"/>
                  </a:lnTo>
                  <a:lnTo>
                    <a:pt x="6605" y="246"/>
                  </a:lnTo>
                  <a:lnTo>
                    <a:pt x="5999" y="433"/>
                  </a:lnTo>
                  <a:lnTo>
                    <a:pt x="5394" y="613"/>
                  </a:lnTo>
                  <a:lnTo>
                    <a:pt x="4785" y="781"/>
                  </a:lnTo>
                  <a:lnTo>
                    <a:pt x="4172" y="932"/>
                  </a:lnTo>
                  <a:lnTo>
                    <a:pt x="3554" y="1076"/>
                  </a:lnTo>
                  <a:lnTo>
                    <a:pt x="2936" y="1203"/>
                  </a:lnTo>
                  <a:lnTo>
                    <a:pt x="2316" y="1317"/>
                  </a:lnTo>
                  <a:lnTo>
                    <a:pt x="1690" y="1419"/>
                  </a:lnTo>
                  <a:lnTo>
                    <a:pt x="1064" y="1509"/>
                  </a:lnTo>
                  <a:lnTo>
                    <a:pt x="435" y="1587"/>
                  </a:lnTo>
                  <a:lnTo>
                    <a:pt x="0" y="2188"/>
                  </a:lnTo>
                  <a:close/>
                </a:path>
              </a:pathLst>
            </a:custGeom>
            <a:solidFill>
              <a:srgbClr val="cc99ff"/>
            </a:solidFill>
            <a:ln w="0">
              <a:solidFill>
                <a:srgbClr val="4949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5745240" y="3241440"/>
              <a:ext cx="2462760" cy="984600"/>
            </a:xfrm>
            <a:custGeom>
              <a:avLst/>
              <a:gdLst/>
              <a:ahLst/>
              <a:rect l="l" t="t" r="r" b="b"/>
              <a:pathLst>
                <a:path w="19882" h="8008">
                  <a:moveTo>
                    <a:pt x="0" y="2937"/>
                  </a:moveTo>
                  <a:lnTo>
                    <a:pt x="1521" y="7747"/>
                  </a:lnTo>
                  <a:lnTo>
                    <a:pt x="1652" y="8008"/>
                  </a:lnTo>
                  <a:lnTo>
                    <a:pt x="19285" y="4990"/>
                  </a:lnTo>
                  <a:lnTo>
                    <a:pt x="19502" y="4928"/>
                  </a:lnTo>
                  <a:lnTo>
                    <a:pt x="19649" y="4892"/>
                  </a:lnTo>
                  <a:lnTo>
                    <a:pt x="19779" y="4797"/>
                  </a:lnTo>
                  <a:lnTo>
                    <a:pt x="19850" y="4679"/>
                  </a:lnTo>
                  <a:lnTo>
                    <a:pt x="19874" y="4531"/>
                  </a:lnTo>
                  <a:lnTo>
                    <a:pt x="19882" y="4434"/>
                  </a:lnTo>
                  <a:lnTo>
                    <a:pt x="19869" y="4315"/>
                  </a:lnTo>
                  <a:lnTo>
                    <a:pt x="18234" y="0"/>
                  </a:lnTo>
                  <a:lnTo>
                    <a:pt x="18263" y="122"/>
                  </a:lnTo>
                  <a:lnTo>
                    <a:pt x="18226" y="274"/>
                  </a:lnTo>
                  <a:lnTo>
                    <a:pt x="18173" y="356"/>
                  </a:lnTo>
                  <a:lnTo>
                    <a:pt x="18111" y="433"/>
                  </a:lnTo>
                  <a:lnTo>
                    <a:pt x="18038" y="499"/>
                  </a:lnTo>
                  <a:lnTo>
                    <a:pt x="17960" y="552"/>
                  </a:lnTo>
                  <a:lnTo>
                    <a:pt x="17849" y="613"/>
                  </a:lnTo>
                  <a:lnTo>
                    <a:pt x="17216" y="965"/>
                  </a:lnTo>
                  <a:lnTo>
                    <a:pt x="16529" y="1358"/>
                  </a:lnTo>
                  <a:lnTo>
                    <a:pt x="15834" y="1738"/>
                  </a:lnTo>
                  <a:lnTo>
                    <a:pt x="15135" y="2106"/>
                  </a:lnTo>
                  <a:lnTo>
                    <a:pt x="14427" y="2462"/>
                  </a:lnTo>
                  <a:lnTo>
                    <a:pt x="13715" y="2806"/>
                  </a:lnTo>
                  <a:lnTo>
                    <a:pt x="12995" y="3141"/>
                  </a:lnTo>
                  <a:lnTo>
                    <a:pt x="12272" y="3464"/>
                  </a:lnTo>
                  <a:lnTo>
                    <a:pt x="11544" y="3771"/>
                  </a:lnTo>
                  <a:lnTo>
                    <a:pt x="10808" y="4070"/>
                  </a:lnTo>
                  <a:lnTo>
                    <a:pt x="10071" y="4355"/>
                  </a:lnTo>
                  <a:lnTo>
                    <a:pt x="9327" y="4630"/>
                  </a:lnTo>
                  <a:lnTo>
                    <a:pt x="8580" y="4887"/>
                  </a:lnTo>
                  <a:lnTo>
                    <a:pt x="7831" y="5137"/>
                  </a:lnTo>
                  <a:lnTo>
                    <a:pt x="7074" y="5374"/>
                  </a:lnTo>
                  <a:lnTo>
                    <a:pt x="7074" y="5374"/>
                  </a:lnTo>
                  <a:lnTo>
                    <a:pt x="6984" y="5395"/>
                  </a:lnTo>
                  <a:lnTo>
                    <a:pt x="6727" y="5443"/>
                  </a:lnTo>
                  <a:lnTo>
                    <a:pt x="6469" y="5477"/>
                  </a:lnTo>
                  <a:lnTo>
                    <a:pt x="6207" y="5501"/>
                  </a:lnTo>
                  <a:lnTo>
                    <a:pt x="5950" y="5509"/>
                  </a:lnTo>
                  <a:lnTo>
                    <a:pt x="5688" y="5509"/>
                  </a:lnTo>
                  <a:lnTo>
                    <a:pt x="5427" y="5492"/>
                  </a:lnTo>
                  <a:lnTo>
                    <a:pt x="5169" y="5460"/>
                  </a:lnTo>
                  <a:lnTo>
                    <a:pt x="4910" y="5419"/>
                  </a:lnTo>
                  <a:lnTo>
                    <a:pt x="4653" y="5362"/>
                  </a:lnTo>
                  <a:lnTo>
                    <a:pt x="4400" y="5297"/>
                  </a:lnTo>
                  <a:lnTo>
                    <a:pt x="4155" y="5215"/>
                  </a:lnTo>
                  <a:lnTo>
                    <a:pt x="3909" y="5121"/>
                  </a:lnTo>
                  <a:lnTo>
                    <a:pt x="3672" y="5018"/>
                  </a:lnTo>
                  <a:lnTo>
                    <a:pt x="3434" y="4900"/>
                  </a:lnTo>
                  <a:lnTo>
                    <a:pt x="3209" y="4773"/>
                  </a:lnTo>
                  <a:lnTo>
                    <a:pt x="2988" y="4634"/>
                  </a:lnTo>
                  <a:lnTo>
                    <a:pt x="2776" y="4482"/>
                  </a:lnTo>
                  <a:lnTo>
                    <a:pt x="2568" y="4319"/>
                  </a:lnTo>
                  <a:lnTo>
                    <a:pt x="2372" y="4151"/>
                  </a:lnTo>
                  <a:lnTo>
                    <a:pt x="2183" y="3967"/>
                  </a:lnTo>
                  <a:lnTo>
                    <a:pt x="2003" y="3779"/>
                  </a:lnTo>
                  <a:lnTo>
                    <a:pt x="1836" y="3579"/>
                  </a:lnTo>
                  <a:lnTo>
                    <a:pt x="1677" y="3374"/>
                  </a:lnTo>
                  <a:lnTo>
                    <a:pt x="1529" y="3158"/>
                  </a:lnTo>
                  <a:lnTo>
                    <a:pt x="1390" y="2937"/>
                  </a:lnTo>
                  <a:lnTo>
                    <a:pt x="1390" y="2937"/>
                  </a:lnTo>
                  <a:lnTo>
                    <a:pt x="1332" y="2862"/>
                  </a:lnTo>
                  <a:lnTo>
                    <a:pt x="1268" y="2797"/>
                  </a:lnTo>
                  <a:lnTo>
                    <a:pt x="1194" y="2740"/>
                  </a:lnTo>
                  <a:lnTo>
                    <a:pt x="1112" y="2695"/>
                  </a:lnTo>
                  <a:lnTo>
                    <a:pt x="1022" y="2662"/>
                  </a:lnTo>
                  <a:lnTo>
                    <a:pt x="933" y="2641"/>
                  </a:lnTo>
                  <a:lnTo>
                    <a:pt x="838" y="2634"/>
                  </a:lnTo>
                  <a:lnTo>
                    <a:pt x="744" y="2638"/>
                  </a:lnTo>
                  <a:lnTo>
                    <a:pt x="654" y="2654"/>
                  </a:lnTo>
                  <a:lnTo>
                    <a:pt x="564" y="2686"/>
                  </a:lnTo>
                  <a:lnTo>
                    <a:pt x="482" y="2728"/>
                  </a:lnTo>
                  <a:lnTo>
                    <a:pt x="466" y="2740"/>
                  </a:lnTo>
                  <a:lnTo>
                    <a:pt x="0" y="2937"/>
                  </a:lnTo>
                  <a:close/>
                </a:path>
              </a:pathLst>
            </a:custGeom>
            <a:solidFill>
              <a:srgbClr val="cc99ff"/>
            </a:solidFill>
            <a:ln w="0">
              <a:solidFill>
                <a:srgbClr val="2323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5743080" y="3553200"/>
              <a:ext cx="129240" cy="45360"/>
            </a:xfrm>
            <a:custGeom>
              <a:avLst/>
              <a:gdLst/>
              <a:ahLst/>
              <a:rect l="l" t="t" r="r" b="b"/>
              <a:pathLst>
                <a:path w="1047" h="368">
                  <a:moveTo>
                    <a:pt x="0" y="368"/>
                  </a:moveTo>
                  <a:lnTo>
                    <a:pt x="953" y="155"/>
                  </a:lnTo>
                  <a:lnTo>
                    <a:pt x="1015" y="94"/>
                  </a:lnTo>
                  <a:lnTo>
                    <a:pt x="1047" y="32"/>
                  </a:lnTo>
                  <a:lnTo>
                    <a:pt x="1015" y="0"/>
                  </a:lnTo>
                  <a:lnTo>
                    <a:pt x="156" y="216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3" name="HORN" descr=""/>
          <p:cNvPicPr/>
          <p:nvPr/>
        </p:nvPicPr>
        <p:blipFill>
          <a:blip r:embed="rId1"/>
          <a:stretch/>
        </p:blipFill>
        <p:spPr>
          <a:xfrm>
            <a:off x="5943600" y="2879640"/>
            <a:ext cx="2286000" cy="1859040"/>
          </a:xfrm>
          <a:prstGeom prst="rect">
            <a:avLst/>
          </a:prstGeom>
          <a:ln w="0">
            <a:noFill/>
          </a:ln>
        </p:spPr>
      </p:pic>
      <p:sp>
        <p:nvSpPr>
          <p:cNvPr id="4474" name=""/>
          <p:cNvSpPr/>
          <p:nvPr/>
        </p:nvSpPr>
        <p:spPr>
          <a:xfrm>
            <a:off x="2059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72406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6" name=""/>
          <p:cNvGrpSpPr/>
          <p:nvPr/>
        </p:nvGrpSpPr>
        <p:grpSpPr>
          <a:xfrm>
            <a:off x="1600200" y="2984400"/>
            <a:ext cx="1090440" cy="1649520"/>
            <a:chOff x="1600200" y="2984400"/>
            <a:chExt cx="1090440" cy="1649520"/>
          </a:xfrm>
        </p:grpSpPr>
        <p:sp>
          <p:nvSpPr>
            <p:cNvPr id="4477" name=""/>
            <p:cNvSpPr/>
            <p:nvPr/>
          </p:nvSpPr>
          <p:spPr>
            <a:xfrm>
              <a:off x="1600200" y="2984400"/>
              <a:ext cx="1090440" cy="1649520"/>
            </a:xfrm>
            <a:custGeom>
              <a:avLst/>
              <a:gdLst/>
              <a:ahLst/>
              <a:rect l="l" t="t" r="r" b="b"/>
              <a:pathLst>
                <a:path w="1374" h="2078">
                  <a:moveTo>
                    <a:pt x="1131" y="15"/>
                  </a:moveTo>
                  <a:lnTo>
                    <a:pt x="1145" y="20"/>
                  </a:lnTo>
                  <a:lnTo>
                    <a:pt x="1159" y="24"/>
                  </a:lnTo>
                  <a:lnTo>
                    <a:pt x="1172" y="28"/>
                  </a:lnTo>
                  <a:lnTo>
                    <a:pt x="1187" y="31"/>
                  </a:lnTo>
                  <a:lnTo>
                    <a:pt x="1201" y="36"/>
                  </a:lnTo>
                  <a:lnTo>
                    <a:pt x="1216" y="39"/>
                  </a:lnTo>
                  <a:lnTo>
                    <a:pt x="1230" y="44"/>
                  </a:lnTo>
                  <a:lnTo>
                    <a:pt x="1244" y="48"/>
                  </a:lnTo>
                  <a:lnTo>
                    <a:pt x="1258" y="53"/>
                  </a:lnTo>
                  <a:lnTo>
                    <a:pt x="1270" y="60"/>
                  </a:lnTo>
                  <a:lnTo>
                    <a:pt x="1283" y="68"/>
                  </a:lnTo>
                  <a:lnTo>
                    <a:pt x="1295" y="76"/>
                  </a:lnTo>
                  <a:lnTo>
                    <a:pt x="1306" y="87"/>
                  </a:lnTo>
                  <a:lnTo>
                    <a:pt x="1316" y="98"/>
                  </a:lnTo>
                  <a:lnTo>
                    <a:pt x="1326" y="112"/>
                  </a:lnTo>
                  <a:lnTo>
                    <a:pt x="1335" y="128"/>
                  </a:lnTo>
                  <a:lnTo>
                    <a:pt x="1351" y="159"/>
                  </a:lnTo>
                  <a:lnTo>
                    <a:pt x="1362" y="193"/>
                  </a:lnTo>
                  <a:lnTo>
                    <a:pt x="1371" y="229"/>
                  </a:lnTo>
                  <a:lnTo>
                    <a:pt x="1374" y="266"/>
                  </a:lnTo>
                  <a:lnTo>
                    <a:pt x="1373" y="304"/>
                  </a:lnTo>
                  <a:lnTo>
                    <a:pt x="1369" y="341"/>
                  </a:lnTo>
                  <a:lnTo>
                    <a:pt x="1361" y="377"/>
                  </a:lnTo>
                  <a:lnTo>
                    <a:pt x="1350" y="409"/>
                  </a:lnTo>
                  <a:lnTo>
                    <a:pt x="1337" y="435"/>
                  </a:lnTo>
                  <a:lnTo>
                    <a:pt x="1321" y="458"/>
                  </a:lnTo>
                  <a:lnTo>
                    <a:pt x="1303" y="478"/>
                  </a:lnTo>
                  <a:lnTo>
                    <a:pt x="1284" y="499"/>
                  </a:lnTo>
                  <a:lnTo>
                    <a:pt x="1267" y="521"/>
                  </a:lnTo>
                  <a:lnTo>
                    <a:pt x="1253" y="544"/>
                  </a:lnTo>
                  <a:lnTo>
                    <a:pt x="1245" y="569"/>
                  </a:lnTo>
                  <a:lnTo>
                    <a:pt x="1245" y="598"/>
                  </a:lnTo>
                  <a:lnTo>
                    <a:pt x="1214" y="651"/>
                  </a:lnTo>
                  <a:lnTo>
                    <a:pt x="1192" y="707"/>
                  </a:lnTo>
                  <a:lnTo>
                    <a:pt x="1177" y="766"/>
                  </a:lnTo>
                  <a:lnTo>
                    <a:pt x="1170" y="826"/>
                  </a:lnTo>
                  <a:lnTo>
                    <a:pt x="1168" y="890"/>
                  </a:lnTo>
                  <a:lnTo>
                    <a:pt x="1171" y="952"/>
                  </a:lnTo>
                  <a:lnTo>
                    <a:pt x="1178" y="1014"/>
                  </a:lnTo>
                  <a:lnTo>
                    <a:pt x="1187" y="1077"/>
                  </a:lnTo>
                  <a:lnTo>
                    <a:pt x="1181" y="1093"/>
                  </a:lnTo>
                  <a:lnTo>
                    <a:pt x="1176" y="1111"/>
                  </a:lnTo>
                  <a:lnTo>
                    <a:pt x="1172" y="1130"/>
                  </a:lnTo>
                  <a:lnTo>
                    <a:pt x="1170" y="1149"/>
                  </a:lnTo>
                  <a:lnTo>
                    <a:pt x="1166" y="1166"/>
                  </a:lnTo>
                  <a:lnTo>
                    <a:pt x="1159" y="1184"/>
                  </a:lnTo>
                  <a:lnTo>
                    <a:pt x="1146" y="1199"/>
                  </a:lnTo>
                  <a:lnTo>
                    <a:pt x="1128" y="1211"/>
                  </a:lnTo>
                  <a:lnTo>
                    <a:pt x="1134" y="1240"/>
                  </a:lnTo>
                  <a:lnTo>
                    <a:pt x="1138" y="1269"/>
                  </a:lnTo>
                  <a:lnTo>
                    <a:pt x="1139" y="1299"/>
                  </a:lnTo>
                  <a:lnTo>
                    <a:pt x="1139" y="1329"/>
                  </a:lnTo>
                  <a:lnTo>
                    <a:pt x="1139" y="1358"/>
                  </a:lnTo>
                  <a:lnTo>
                    <a:pt x="1141" y="1387"/>
                  </a:lnTo>
                  <a:lnTo>
                    <a:pt x="1148" y="1414"/>
                  </a:lnTo>
                  <a:lnTo>
                    <a:pt x="1160" y="1441"/>
                  </a:lnTo>
                  <a:lnTo>
                    <a:pt x="1153" y="1455"/>
                  </a:lnTo>
                  <a:lnTo>
                    <a:pt x="1151" y="1468"/>
                  </a:lnTo>
                  <a:lnTo>
                    <a:pt x="1153" y="1482"/>
                  </a:lnTo>
                  <a:lnTo>
                    <a:pt x="1156" y="1496"/>
                  </a:lnTo>
                  <a:lnTo>
                    <a:pt x="1160" y="1510"/>
                  </a:lnTo>
                  <a:lnTo>
                    <a:pt x="1164" y="1524"/>
                  </a:lnTo>
                  <a:lnTo>
                    <a:pt x="1167" y="1537"/>
                  </a:lnTo>
                  <a:lnTo>
                    <a:pt x="1167" y="1551"/>
                  </a:lnTo>
                  <a:lnTo>
                    <a:pt x="1168" y="1616"/>
                  </a:lnTo>
                  <a:lnTo>
                    <a:pt x="1164" y="1682"/>
                  </a:lnTo>
                  <a:lnTo>
                    <a:pt x="1159" y="1746"/>
                  </a:lnTo>
                  <a:lnTo>
                    <a:pt x="1155" y="1811"/>
                  </a:lnTo>
                  <a:lnTo>
                    <a:pt x="1159" y="1872"/>
                  </a:lnTo>
                  <a:lnTo>
                    <a:pt x="1171" y="1930"/>
                  </a:lnTo>
                  <a:lnTo>
                    <a:pt x="1198" y="1985"/>
                  </a:lnTo>
                  <a:lnTo>
                    <a:pt x="1242" y="2033"/>
                  </a:lnTo>
                  <a:lnTo>
                    <a:pt x="1242" y="2040"/>
                  </a:lnTo>
                  <a:lnTo>
                    <a:pt x="1239" y="2048"/>
                  </a:lnTo>
                  <a:lnTo>
                    <a:pt x="1236" y="2055"/>
                  </a:lnTo>
                  <a:lnTo>
                    <a:pt x="1231" y="2061"/>
                  </a:lnTo>
                  <a:lnTo>
                    <a:pt x="1225" y="2066"/>
                  </a:lnTo>
                  <a:lnTo>
                    <a:pt x="1220" y="2072"/>
                  </a:lnTo>
                  <a:lnTo>
                    <a:pt x="1213" y="2076"/>
                  </a:lnTo>
                  <a:lnTo>
                    <a:pt x="1205" y="2078"/>
                  </a:lnTo>
                  <a:lnTo>
                    <a:pt x="1197" y="2078"/>
                  </a:lnTo>
                  <a:lnTo>
                    <a:pt x="1179" y="2056"/>
                  </a:lnTo>
                  <a:lnTo>
                    <a:pt x="1164" y="2034"/>
                  </a:lnTo>
                  <a:lnTo>
                    <a:pt x="1149" y="2011"/>
                  </a:lnTo>
                  <a:lnTo>
                    <a:pt x="1137" y="1987"/>
                  </a:lnTo>
                  <a:lnTo>
                    <a:pt x="1125" y="1963"/>
                  </a:lnTo>
                  <a:lnTo>
                    <a:pt x="1114" y="1939"/>
                  </a:lnTo>
                  <a:lnTo>
                    <a:pt x="1103" y="1913"/>
                  </a:lnTo>
                  <a:lnTo>
                    <a:pt x="1094" y="1888"/>
                  </a:lnTo>
                  <a:lnTo>
                    <a:pt x="1093" y="1789"/>
                  </a:lnTo>
                  <a:lnTo>
                    <a:pt x="1098" y="1687"/>
                  </a:lnTo>
                  <a:lnTo>
                    <a:pt x="1101" y="1586"/>
                  </a:lnTo>
                  <a:lnTo>
                    <a:pt x="1100" y="1483"/>
                  </a:lnTo>
                  <a:lnTo>
                    <a:pt x="1092" y="1469"/>
                  </a:lnTo>
                  <a:lnTo>
                    <a:pt x="1086" y="1455"/>
                  </a:lnTo>
                  <a:lnTo>
                    <a:pt x="1080" y="1438"/>
                  </a:lnTo>
                  <a:lnTo>
                    <a:pt x="1077" y="1422"/>
                  </a:lnTo>
                  <a:lnTo>
                    <a:pt x="1072" y="1406"/>
                  </a:lnTo>
                  <a:lnTo>
                    <a:pt x="1067" y="1390"/>
                  </a:lnTo>
                  <a:lnTo>
                    <a:pt x="1061" y="1376"/>
                  </a:lnTo>
                  <a:lnTo>
                    <a:pt x="1053" y="1362"/>
                  </a:lnTo>
                  <a:lnTo>
                    <a:pt x="1052" y="1345"/>
                  </a:lnTo>
                  <a:lnTo>
                    <a:pt x="1048" y="1329"/>
                  </a:lnTo>
                  <a:lnTo>
                    <a:pt x="1046" y="1312"/>
                  </a:lnTo>
                  <a:lnTo>
                    <a:pt x="1041" y="1295"/>
                  </a:lnTo>
                  <a:lnTo>
                    <a:pt x="1035" y="1279"/>
                  </a:lnTo>
                  <a:lnTo>
                    <a:pt x="1030" y="1263"/>
                  </a:lnTo>
                  <a:lnTo>
                    <a:pt x="1023" y="1247"/>
                  </a:lnTo>
                  <a:lnTo>
                    <a:pt x="1015" y="1232"/>
                  </a:lnTo>
                  <a:lnTo>
                    <a:pt x="988" y="1232"/>
                  </a:lnTo>
                  <a:lnTo>
                    <a:pt x="962" y="1230"/>
                  </a:lnTo>
                  <a:lnTo>
                    <a:pt x="936" y="1224"/>
                  </a:lnTo>
                  <a:lnTo>
                    <a:pt x="912" y="1215"/>
                  </a:lnTo>
                  <a:lnTo>
                    <a:pt x="890" y="1203"/>
                  </a:lnTo>
                  <a:lnTo>
                    <a:pt x="870" y="1187"/>
                  </a:lnTo>
                  <a:lnTo>
                    <a:pt x="852" y="1170"/>
                  </a:lnTo>
                  <a:lnTo>
                    <a:pt x="837" y="1149"/>
                  </a:lnTo>
                  <a:lnTo>
                    <a:pt x="833" y="1088"/>
                  </a:lnTo>
                  <a:lnTo>
                    <a:pt x="839" y="1026"/>
                  </a:lnTo>
                  <a:lnTo>
                    <a:pt x="851" y="965"/>
                  </a:lnTo>
                  <a:lnTo>
                    <a:pt x="865" y="902"/>
                  </a:lnTo>
                  <a:lnTo>
                    <a:pt x="875" y="841"/>
                  </a:lnTo>
                  <a:lnTo>
                    <a:pt x="878" y="781"/>
                  </a:lnTo>
                  <a:lnTo>
                    <a:pt x="866" y="723"/>
                  </a:lnTo>
                  <a:lnTo>
                    <a:pt x="837" y="665"/>
                  </a:lnTo>
                  <a:lnTo>
                    <a:pt x="827" y="654"/>
                  </a:lnTo>
                  <a:lnTo>
                    <a:pt x="815" y="643"/>
                  </a:lnTo>
                  <a:lnTo>
                    <a:pt x="804" y="632"/>
                  </a:lnTo>
                  <a:lnTo>
                    <a:pt x="792" y="620"/>
                  </a:lnTo>
                  <a:lnTo>
                    <a:pt x="783" y="609"/>
                  </a:lnTo>
                  <a:lnTo>
                    <a:pt x="777" y="597"/>
                  </a:lnTo>
                  <a:lnTo>
                    <a:pt x="776" y="583"/>
                  </a:lnTo>
                  <a:lnTo>
                    <a:pt x="780" y="568"/>
                  </a:lnTo>
                  <a:lnTo>
                    <a:pt x="766" y="559"/>
                  </a:lnTo>
                  <a:lnTo>
                    <a:pt x="756" y="549"/>
                  </a:lnTo>
                  <a:lnTo>
                    <a:pt x="749" y="536"/>
                  </a:lnTo>
                  <a:lnTo>
                    <a:pt x="744" y="522"/>
                  </a:lnTo>
                  <a:lnTo>
                    <a:pt x="742" y="507"/>
                  </a:lnTo>
                  <a:lnTo>
                    <a:pt x="741" y="492"/>
                  </a:lnTo>
                  <a:lnTo>
                    <a:pt x="741" y="477"/>
                  </a:lnTo>
                  <a:lnTo>
                    <a:pt x="742" y="461"/>
                  </a:lnTo>
                  <a:lnTo>
                    <a:pt x="731" y="451"/>
                  </a:lnTo>
                  <a:lnTo>
                    <a:pt x="720" y="440"/>
                  </a:lnTo>
                  <a:lnTo>
                    <a:pt x="708" y="431"/>
                  </a:lnTo>
                  <a:lnTo>
                    <a:pt x="698" y="421"/>
                  </a:lnTo>
                  <a:lnTo>
                    <a:pt x="688" y="410"/>
                  </a:lnTo>
                  <a:lnTo>
                    <a:pt x="680" y="399"/>
                  </a:lnTo>
                  <a:lnTo>
                    <a:pt x="674" y="386"/>
                  </a:lnTo>
                  <a:lnTo>
                    <a:pt x="672" y="371"/>
                  </a:lnTo>
                  <a:lnTo>
                    <a:pt x="659" y="368"/>
                  </a:lnTo>
                  <a:lnTo>
                    <a:pt x="646" y="365"/>
                  </a:lnTo>
                  <a:lnTo>
                    <a:pt x="634" y="363"/>
                  </a:lnTo>
                  <a:lnTo>
                    <a:pt x="621" y="363"/>
                  </a:lnTo>
                  <a:lnTo>
                    <a:pt x="608" y="363"/>
                  </a:lnTo>
                  <a:lnTo>
                    <a:pt x="596" y="363"/>
                  </a:lnTo>
                  <a:lnTo>
                    <a:pt x="583" y="364"/>
                  </a:lnTo>
                  <a:lnTo>
                    <a:pt x="570" y="365"/>
                  </a:lnTo>
                  <a:lnTo>
                    <a:pt x="556" y="367"/>
                  </a:lnTo>
                  <a:lnTo>
                    <a:pt x="544" y="368"/>
                  </a:lnTo>
                  <a:lnTo>
                    <a:pt x="531" y="370"/>
                  </a:lnTo>
                  <a:lnTo>
                    <a:pt x="517" y="370"/>
                  </a:lnTo>
                  <a:lnTo>
                    <a:pt x="505" y="371"/>
                  </a:lnTo>
                  <a:lnTo>
                    <a:pt x="492" y="371"/>
                  </a:lnTo>
                  <a:lnTo>
                    <a:pt x="478" y="371"/>
                  </a:lnTo>
                  <a:lnTo>
                    <a:pt x="465" y="370"/>
                  </a:lnTo>
                  <a:lnTo>
                    <a:pt x="441" y="369"/>
                  </a:lnTo>
                  <a:lnTo>
                    <a:pt x="417" y="368"/>
                  </a:lnTo>
                  <a:lnTo>
                    <a:pt x="393" y="367"/>
                  </a:lnTo>
                  <a:lnTo>
                    <a:pt x="370" y="367"/>
                  </a:lnTo>
                  <a:lnTo>
                    <a:pt x="347" y="367"/>
                  </a:lnTo>
                  <a:lnTo>
                    <a:pt x="324" y="367"/>
                  </a:lnTo>
                  <a:lnTo>
                    <a:pt x="301" y="368"/>
                  </a:lnTo>
                  <a:lnTo>
                    <a:pt x="279" y="368"/>
                  </a:lnTo>
                  <a:lnTo>
                    <a:pt x="256" y="369"/>
                  </a:lnTo>
                  <a:lnTo>
                    <a:pt x="233" y="369"/>
                  </a:lnTo>
                  <a:lnTo>
                    <a:pt x="209" y="370"/>
                  </a:lnTo>
                  <a:lnTo>
                    <a:pt x="186" y="370"/>
                  </a:lnTo>
                  <a:lnTo>
                    <a:pt x="161" y="370"/>
                  </a:lnTo>
                  <a:lnTo>
                    <a:pt x="136" y="371"/>
                  </a:lnTo>
                  <a:lnTo>
                    <a:pt x="112" y="370"/>
                  </a:lnTo>
                  <a:lnTo>
                    <a:pt x="85" y="370"/>
                  </a:lnTo>
                  <a:lnTo>
                    <a:pt x="69" y="365"/>
                  </a:lnTo>
                  <a:lnTo>
                    <a:pt x="57" y="359"/>
                  </a:lnTo>
                  <a:lnTo>
                    <a:pt x="47" y="348"/>
                  </a:lnTo>
                  <a:lnTo>
                    <a:pt x="39" y="337"/>
                  </a:lnTo>
                  <a:lnTo>
                    <a:pt x="34" y="323"/>
                  </a:lnTo>
                  <a:lnTo>
                    <a:pt x="28" y="309"/>
                  </a:lnTo>
                  <a:lnTo>
                    <a:pt x="22" y="295"/>
                  </a:lnTo>
                  <a:lnTo>
                    <a:pt x="16" y="281"/>
                  </a:lnTo>
                  <a:lnTo>
                    <a:pt x="9" y="250"/>
                  </a:lnTo>
                  <a:lnTo>
                    <a:pt x="4" y="218"/>
                  </a:lnTo>
                  <a:lnTo>
                    <a:pt x="1" y="183"/>
                  </a:lnTo>
                  <a:lnTo>
                    <a:pt x="0" y="149"/>
                  </a:lnTo>
                  <a:lnTo>
                    <a:pt x="2" y="114"/>
                  </a:lnTo>
                  <a:lnTo>
                    <a:pt x="8" y="81"/>
                  </a:lnTo>
                  <a:lnTo>
                    <a:pt x="19" y="48"/>
                  </a:lnTo>
                  <a:lnTo>
                    <a:pt x="32" y="19"/>
                  </a:lnTo>
                  <a:lnTo>
                    <a:pt x="64" y="7"/>
                  </a:lnTo>
                  <a:lnTo>
                    <a:pt x="95" y="6"/>
                  </a:lnTo>
                  <a:lnTo>
                    <a:pt x="125" y="6"/>
                  </a:lnTo>
                  <a:lnTo>
                    <a:pt x="154" y="5"/>
                  </a:lnTo>
                  <a:lnTo>
                    <a:pt x="184" y="4"/>
                  </a:lnTo>
                  <a:lnTo>
                    <a:pt x="214" y="4"/>
                  </a:lnTo>
                  <a:lnTo>
                    <a:pt x="243" y="2"/>
                  </a:lnTo>
                  <a:lnTo>
                    <a:pt x="272" y="2"/>
                  </a:lnTo>
                  <a:lnTo>
                    <a:pt x="302" y="2"/>
                  </a:lnTo>
                  <a:lnTo>
                    <a:pt x="331" y="1"/>
                  </a:lnTo>
                  <a:lnTo>
                    <a:pt x="358" y="1"/>
                  </a:lnTo>
                  <a:lnTo>
                    <a:pt x="387" y="1"/>
                  </a:lnTo>
                  <a:lnTo>
                    <a:pt x="416" y="1"/>
                  </a:lnTo>
                  <a:lnTo>
                    <a:pt x="444" y="1"/>
                  </a:lnTo>
                  <a:lnTo>
                    <a:pt x="472" y="0"/>
                  </a:lnTo>
                  <a:lnTo>
                    <a:pt x="500" y="0"/>
                  </a:lnTo>
                  <a:lnTo>
                    <a:pt x="529" y="0"/>
                  </a:lnTo>
                  <a:lnTo>
                    <a:pt x="556" y="0"/>
                  </a:lnTo>
                  <a:lnTo>
                    <a:pt x="585" y="0"/>
                  </a:lnTo>
                  <a:lnTo>
                    <a:pt x="613" y="0"/>
                  </a:lnTo>
                  <a:lnTo>
                    <a:pt x="640" y="1"/>
                  </a:lnTo>
                  <a:lnTo>
                    <a:pt x="669" y="1"/>
                  </a:lnTo>
                  <a:lnTo>
                    <a:pt x="697" y="1"/>
                  </a:lnTo>
                  <a:lnTo>
                    <a:pt x="726" y="1"/>
                  </a:lnTo>
                  <a:lnTo>
                    <a:pt x="753" y="1"/>
                  </a:lnTo>
                  <a:lnTo>
                    <a:pt x="782" y="1"/>
                  </a:lnTo>
                  <a:lnTo>
                    <a:pt x="811" y="1"/>
                  </a:lnTo>
                  <a:lnTo>
                    <a:pt x="840" y="2"/>
                  </a:lnTo>
                  <a:lnTo>
                    <a:pt x="868" y="2"/>
                  </a:lnTo>
                  <a:lnTo>
                    <a:pt x="897" y="2"/>
                  </a:lnTo>
                  <a:lnTo>
                    <a:pt x="927" y="2"/>
                  </a:lnTo>
                  <a:lnTo>
                    <a:pt x="956" y="4"/>
                  </a:lnTo>
                  <a:lnTo>
                    <a:pt x="986" y="4"/>
                  </a:lnTo>
                  <a:lnTo>
                    <a:pt x="113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1788840" y="3006720"/>
              <a:ext cx="382320" cy="123840"/>
            </a:xfrm>
            <a:custGeom>
              <a:avLst/>
              <a:gdLst/>
              <a:ahLst/>
              <a:rect l="l" t="t" r="r" b="b"/>
              <a:pathLst>
                <a:path w="483" h="154">
                  <a:moveTo>
                    <a:pt x="450" y="9"/>
                  </a:moveTo>
                  <a:lnTo>
                    <a:pt x="464" y="38"/>
                  </a:lnTo>
                  <a:lnTo>
                    <a:pt x="473" y="70"/>
                  </a:lnTo>
                  <a:lnTo>
                    <a:pt x="478" y="102"/>
                  </a:lnTo>
                  <a:lnTo>
                    <a:pt x="483" y="135"/>
                  </a:lnTo>
                  <a:lnTo>
                    <a:pt x="463" y="144"/>
                  </a:lnTo>
                  <a:lnTo>
                    <a:pt x="38" y="154"/>
                  </a:lnTo>
                  <a:lnTo>
                    <a:pt x="26" y="139"/>
                  </a:lnTo>
                  <a:lnTo>
                    <a:pt x="18" y="122"/>
                  </a:lnTo>
                  <a:lnTo>
                    <a:pt x="14" y="102"/>
                  </a:lnTo>
                  <a:lnTo>
                    <a:pt x="13" y="83"/>
                  </a:lnTo>
                  <a:lnTo>
                    <a:pt x="13" y="63"/>
                  </a:lnTo>
                  <a:lnTo>
                    <a:pt x="12" y="43"/>
                  </a:lnTo>
                  <a:lnTo>
                    <a:pt x="8" y="24"/>
                  </a:lnTo>
                  <a:lnTo>
                    <a:pt x="0" y="6"/>
                  </a:lnTo>
                  <a:lnTo>
                    <a:pt x="8" y="2"/>
                  </a:lnTo>
                  <a:lnTo>
                    <a:pt x="18" y="1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2" y="2"/>
                  </a:lnTo>
                  <a:lnTo>
                    <a:pt x="60" y="5"/>
                  </a:lnTo>
                  <a:lnTo>
                    <a:pt x="69" y="6"/>
                  </a:lnTo>
                  <a:lnTo>
                    <a:pt x="450" y="9"/>
                  </a:lnTo>
                  <a:close/>
                </a:path>
              </a:pathLst>
            </a:custGeom>
            <a:solidFill>
              <a:srgbClr val="00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1658880" y="3008160"/>
              <a:ext cx="126360" cy="24444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155" y="58"/>
                  </a:moveTo>
                  <a:lnTo>
                    <a:pt x="156" y="88"/>
                  </a:lnTo>
                  <a:lnTo>
                    <a:pt x="158" y="120"/>
                  </a:lnTo>
                  <a:lnTo>
                    <a:pt x="160" y="153"/>
                  </a:lnTo>
                  <a:lnTo>
                    <a:pt x="160" y="187"/>
                  </a:lnTo>
                  <a:lnTo>
                    <a:pt x="158" y="219"/>
                  </a:lnTo>
                  <a:lnTo>
                    <a:pt x="152" y="250"/>
                  </a:lnTo>
                  <a:lnTo>
                    <a:pt x="142" y="279"/>
                  </a:lnTo>
                  <a:lnTo>
                    <a:pt x="125" y="305"/>
                  </a:lnTo>
                  <a:lnTo>
                    <a:pt x="113" y="305"/>
                  </a:lnTo>
                  <a:lnTo>
                    <a:pt x="100" y="305"/>
                  </a:lnTo>
                  <a:lnTo>
                    <a:pt x="86" y="307"/>
                  </a:lnTo>
                  <a:lnTo>
                    <a:pt x="74" y="308"/>
                  </a:lnTo>
                  <a:lnTo>
                    <a:pt x="60" y="309"/>
                  </a:lnTo>
                  <a:lnTo>
                    <a:pt x="46" y="309"/>
                  </a:lnTo>
                  <a:lnTo>
                    <a:pt x="33" y="307"/>
                  </a:lnTo>
                  <a:lnTo>
                    <a:pt x="21" y="303"/>
                  </a:lnTo>
                  <a:lnTo>
                    <a:pt x="32" y="266"/>
                  </a:lnTo>
                  <a:lnTo>
                    <a:pt x="38" y="228"/>
                  </a:lnTo>
                  <a:lnTo>
                    <a:pt x="39" y="189"/>
                  </a:lnTo>
                  <a:lnTo>
                    <a:pt x="37" y="150"/>
                  </a:lnTo>
                  <a:lnTo>
                    <a:pt x="31" y="111"/>
                  </a:lnTo>
                  <a:lnTo>
                    <a:pt x="22" y="73"/>
                  </a:lnTo>
                  <a:lnTo>
                    <a:pt x="11" y="36"/>
                  </a:lnTo>
                  <a:lnTo>
                    <a:pt x="0" y="1"/>
                  </a:lnTo>
                  <a:lnTo>
                    <a:pt x="21" y="6"/>
                  </a:lnTo>
                  <a:lnTo>
                    <a:pt x="45" y="5"/>
                  </a:lnTo>
                  <a:lnTo>
                    <a:pt x="71" y="2"/>
                  </a:lnTo>
                  <a:lnTo>
                    <a:pt x="98" y="0"/>
                  </a:lnTo>
                  <a:lnTo>
                    <a:pt x="122" y="1"/>
                  </a:lnTo>
                  <a:lnTo>
                    <a:pt x="140" y="9"/>
                  </a:lnTo>
                  <a:lnTo>
                    <a:pt x="153" y="28"/>
                  </a:lnTo>
                  <a:lnTo>
                    <a:pt x="155" y="58"/>
                  </a:lnTo>
                  <a:close/>
                </a:path>
              </a:pathLst>
            </a:custGeom>
            <a:solidFill>
              <a:srgbClr val="2d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2171520" y="3016080"/>
              <a:ext cx="252000" cy="103320"/>
            </a:xfrm>
            <a:custGeom>
              <a:avLst/>
              <a:gdLst/>
              <a:ahLst/>
              <a:rect l="l" t="t" r="r" b="b"/>
              <a:pathLst>
                <a:path w="319" h="131">
                  <a:moveTo>
                    <a:pt x="319" y="4"/>
                  </a:moveTo>
                  <a:lnTo>
                    <a:pt x="298" y="16"/>
                  </a:lnTo>
                  <a:lnTo>
                    <a:pt x="276" y="29"/>
                  </a:lnTo>
                  <a:lnTo>
                    <a:pt x="254" y="42"/>
                  </a:lnTo>
                  <a:lnTo>
                    <a:pt x="234" y="56"/>
                  </a:lnTo>
                  <a:lnTo>
                    <a:pt x="213" y="71"/>
                  </a:lnTo>
                  <a:lnTo>
                    <a:pt x="192" y="87"/>
                  </a:lnTo>
                  <a:lnTo>
                    <a:pt x="174" y="105"/>
                  </a:lnTo>
                  <a:lnTo>
                    <a:pt x="157" y="125"/>
                  </a:lnTo>
                  <a:lnTo>
                    <a:pt x="25" y="131"/>
                  </a:lnTo>
                  <a:lnTo>
                    <a:pt x="19" y="99"/>
                  </a:lnTo>
                  <a:lnTo>
                    <a:pt x="13" y="68"/>
                  </a:lnTo>
                  <a:lnTo>
                    <a:pt x="7" y="36"/>
                  </a:lnTo>
                  <a:lnTo>
                    <a:pt x="0" y="4"/>
                  </a:lnTo>
                  <a:lnTo>
                    <a:pt x="22" y="4"/>
                  </a:lnTo>
                  <a:lnTo>
                    <a:pt x="44" y="3"/>
                  </a:lnTo>
                  <a:lnTo>
                    <a:pt x="64" y="3"/>
                  </a:lnTo>
                  <a:lnTo>
                    <a:pt x="85" y="3"/>
                  </a:lnTo>
                  <a:lnTo>
                    <a:pt x="105" y="1"/>
                  </a:lnTo>
                  <a:lnTo>
                    <a:pt x="124" y="1"/>
                  </a:lnTo>
                  <a:lnTo>
                    <a:pt x="144" y="0"/>
                  </a:lnTo>
                  <a:lnTo>
                    <a:pt x="163" y="0"/>
                  </a:lnTo>
                  <a:lnTo>
                    <a:pt x="183" y="0"/>
                  </a:lnTo>
                  <a:lnTo>
                    <a:pt x="203" y="0"/>
                  </a:lnTo>
                  <a:lnTo>
                    <a:pt x="221" y="0"/>
                  </a:lnTo>
                  <a:lnTo>
                    <a:pt x="241" y="0"/>
                  </a:lnTo>
                  <a:lnTo>
                    <a:pt x="260" y="0"/>
                  </a:lnTo>
                  <a:lnTo>
                    <a:pt x="280" y="1"/>
                  </a:lnTo>
                  <a:lnTo>
                    <a:pt x="299" y="3"/>
                  </a:lnTo>
                  <a:lnTo>
                    <a:pt x="319" y="4"/>
                  </a:lnTo>
                  <a:close/>
                </a:path>
              </a:pathLst>
            </a:custGeom>
            <a:solidFill>
              <a:srgbClr val="2d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1612800" y="3027240"/>
              <a:ext cx="32760" cy="104760"/>
            </a:xfrm>
            <a:custGeom>
              <a:avLst/>
              <a:gdLst/>
              <a:ahLst/>
              <a:rect l="l" t="t" r="r" b="b"/>
              <a:pathLst>
                <a:path w="42" h="133">
                  <a:moveTo>
                    <a:pt x="28" y="131"/>
                  </a:moveTo>
                  <a:lnTo>
                    <a:pt x="18" y="133"/>
                  </a:lnTo>
                  <a:lnTo>
                    <a:pt x="8" y="129"/>
                  </a:lnTo>
                  <a:lnTo>
                    <a:pt x="3" y="121"/>
                  </a:lnTo>
                  <a:lnTo>
                    <a:pt x="0" y="111"/>
                  </a:lnTo>
                  <a:lnTo>
                    <a:pt x="3" y="81"/>
                  </a:lnTo>
                  <a:lnTo>
                    <a:pt x="5" y="51"/>
                  </a:lnTo>
                  <a:lnTo>
                    <a:pt x="13" y="23"/>
                  </a:lnTo>
                  <a:lnTo>
                    <a:pt x="28" y="0"/>
                  </a:lnTo>
                  <a:lnTo>
                    <a:pt x="42" y="14"/>
                  </a:lnTo>
                  <a:lnTo>
                    <a:pt x="28" y="131"/>
                  </a:lnTo>
                  <a:close/>
                </a:path>
              </a:pathLst>
            </a:custGeom>
            <a:solidFill>
              <a:srgbClr val="ff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2290680" y="3027240"/>
              <a:ext cx="253440" cy="374760"/>
            </a:xfrm>
            <a:custGeom>
              <a:avLst/>
              <a:gdLst/>
              <a:ahLst/>
              <a:rect l="l" t="t" r="r" b="b"/>
              <a:pathLst>
                <a:path w="321" h="473">
                  <a:moveTo>
                    <a:pt x="290" y="50"/>
                  </a:moveTo>
                  <a:lnTo>
                    <a:pt x="289" y="57"/>
                  </a:lnTo>
                  <a:lnTo>
                    <a:pt x="284" y="61"/>
                  </a:lnTo>
                  <a:lnTo>
                    <a:pt x="279" y="62"/>
                  </a:lnTo>
                  <a:lnTo>
                    <a:pt x="273" y="62"/>
                  </a:lnTo>
                  <a:lnTo>
                    <a:pt x="264" y="62"/>
                  </a:lnTo>
                  <a:lnTo>
                    <a:pt x="258" y="62"/>
                  </a:lnTo>
                  <a:lnTo>
                    <a:pt x="251" y="64"/>
                  </a:lnTo>
                  <a:lnTo>
                    <a:pt x="245" y="68"/>
                  </a:lnTo>
                  <a:lnTo>
                    <a:pt x="223" y="77"/>
                  </a:lnTo>
                  <a:lnTo>
                    <a:pt x="203" y="90"/>
                  </a:lnTo>
                  <a:lnTo>
                    <a:pt x="185" y="106"/>
                  </a:lnTo>
                  <a:lnTo>
                    <a:pt x="169" y="125"/>
                  </a:lnTo>
                  <a:lnTo>
                    <a:pt x="155" y="144"/>
                  </a:lnTo>
                  <a:lnTo>
                    <a:pt x="146" y="166"/>
                  </a:lnTo>
                  <a:lnTo>
                    <a:pt x="139" y="189"/>
                  </a:lnTo>
                  <a:lnTo>
                    <a:pt x="137" y="212"/>
                  </a:lnTo>
                  <a:lnTo>
                    <a:pt x="142" y="237"/>
                  </a:lnTo>
                  <a:lnTo>
                    <a:pt x="150" y="260"/>
                  </a:lnTo>
                  <a:lnTo>
                    <a:pt x="161" y="283"/>
                  </a:lnTo>
                  <a:lnTo>
                    <a:pt x="173" y="305"/>
                  </a:lnTo>
                  <a:lnTo>
                    <a:pt x="188" y="324"/>
                  </a:lnTo>
                  <a:lnTo>
                    <a:pt x="207" y="341"/>
                  </a:lnTo>
                  <a:lnTo>
                    <a:pt x="228" y="354"/>
                  </a:lnTo>
                  <a:lnTo>
                    <a:pt x="252" y="362"/>
                  </a:lnTo>
                  <a:lnTo>
                    <a:pt x="260" y="366"/>
                  </a:lnTo>
                  <a:lnTo>
                    <a:pt x="269" y="368"/>
                  </a:lnTo>
                  <a:lnTo>
                    <a:pt x="278" y="370"/>
                  </a:lnTo>
                  <a:lnTo>
                    <a:pt x="289" y="371"/>
                  </a:lnTo>
                  <a:lnTo>
                    <a:pt x="298" y="373"/>
                  </a:lnTo>
                  <a:lnTo>
                    <a:pt x="307" y="375"/>
                  </a:lnTo>
                  <a:lnTo>
                    <a:pt x="314" y="379"/>
                  </a:lnTo>
                  <a:lnTo>
                    <a:pt x="321" y="385"/>
                  </a:lnTo>
                  <a:lnTo>
                    <a:pt x="319" y="397"/>
                  </a:lnTo>
                  <a:lnTo>
                    <a:pt x="315" y="408"/>
                  </a:lnTo>
                  <a:lnTo>
                    <a:pt x="312" y="420"/>
                  </a:lnTo>
                  <a:lnTo>
                    <a:pt x="308" y="431"/>
                  </a:lnTo>
                  <a:lnTo>
                    <a:pt x="304" y="442"/>
                  </a:lnTo>
                  <a:lnTo>
                    <a:pt x="298" y="452"/>
                  </a:lnTo>
                  <a:lnTo>
                    <a:pt x="291" y="461"/>
                  </a:lnTo>
                  <a:lnTo>
                    <a:pt x="282" y="469"/>
                  </a:lnTo>
                  <a:lnTo>
                    <a:pt x="261" y="473"/>
                  </a:lnTo>
                  <a:lnTo>
                    <a:pt x="241" y="472"/>
                  </a:lnTo>
                  <a:lnTo>
                    <a:pt x="222" y="468"/>
                  </a:lnTo>
                  <a:lnTo>
                    <a:pt x="203" y="462"/>
                  </a:lnTo>
                  <a:lnTo>
                    <a:pt x="185" y="457"/>
                  </a:lnTo>
                  <a:lnTo>
                    <a:pt x="165" y="451"/>
                  </a:lnTo>
                  <a:lnTo>
                    <a:pt x="145" y="449"/>
                  </a:lnTo>
                  <a:lnTo>
                    <a:pt x="124" y="449"/>
                  </a:lnTo>
                  <a:lnTo>
                    <a:pt x="115" y="444"/>
                  </a:lnTo>
                  <a:lnTo>
                    <a:pt x="104" y="438"/>
                  </a:lnTo>
                  <a:lnTo>
                    <a:pt x="95" y="432"/>
                  </a:lnTo>
                  <a:lnTo>
                    <a:pt x="86" y="426"/>
                  </a:lnTo>
                  <a:lnTo>
                    <a:pt x="77" y="419"/>
                  </a:lnTo>
                  <a:lnTo>
                    <a:pt x="69" y="411"/>
                  </a:lnTo>
                  <a:lnTo>
                    <a:pt x="62" y="402"/>
                  </a:lnTo>
                  <a:lnTo>
                    <a:pt x="55" y="393"/>
                  </a:lnTo>
                  <a:lnTo>
                    <a:pt x="88" y="352"/>
                  </a:lnTo>
                  <a:lnTo>
                    <a:pt x="80" y="346"/>
                  </a:lnTo>
                  <a:lnTo>
                    <a:pt x="72" y="347"/>
                  </a:lnTo>
                  <a:lnTo>
                    <a:pt x="63" y="353"/>
                  </a:lnTo>
                  <a:lnTo>
                    <a:pt x="55" y="360"/>
                  </a:lnTo>
                  <a:lnTo>
                    <a:pt x="46" y="366"/>
                  </a:lnTo>
                  <a:lnTo>
                    <a:pt x="38" y="368"/>
                  </a:lnTo>
                  <a:lnTo>
                    <a:pt x="31" y="363"/>
                  </a:lnTo>
                  <a:lnTo>
                    <a:pt x="24" y="348"/>
                  </a:lnTo>
                  <a:lnTo>
                    <a:pt x="7" y="314"/>
                  </a:lnTo>
                  <a:lnTo>
                    <a:pt x="0" y="280"/>
                  </a:lnTo>
                  <a:lnTo>
                    <a:pt x="1" y="247"/>
                  </a:lnTo>
                  <a:lnTo>
                    <a:pt x="9" y="213"/>
                  </a:lnTo>
                  <a:lnTo>
                    <a:pt x="20" y="180"/>
                  </a:lnTo>
                  <a:lnTo>
                    <a:pt x="34" y="147"/>
                  </a:lnTo>
                  <a:lnTo>
                    <a:pt x="48" y="114"/>
                  </a:lnTo>
                  <a:lnTo>
                    <a:pt x="61" y="82"/>
                  </a:lnTo>
                  <a:lnTo>
                    <a:pt x="72" y="75"/>
                  </a:lnTo>
                  <a:lnTo>
                    <a:pt x="84" y="68"/>
                  </a:lnTo>
                  <a:lnTo>
                    <a:pt x="95" y="60"/>
                  </a:lnTo>
                  <a:lnTo>
                    <a:pt x="107" y="52"/>
                  </a:lnTo>
                  <a:lnTo>
                    <a:pt x="118" y="45"/>
                  </a:lnTo>
                  <a:lnTo>
                    <a:pt x="130" y="37"/>
                  </a:lnTo>
                  <a:lnTo>
                    <a:pt x="141" y="30"/>
                  </a:lnTo>
                  <a:lnTo>
                    <a:pt x="153" y="23"/>
                  </a:lnTo>
                  <a:lnTo>
                    <a:pt x="165" y="18"/>
                  </a:lnTo>
                  <a:lnTo>
                    <a:pt x="177" y="12"/>
                  </a:lnTo>
                  <a:lnTo>
                    <a:pt x="190" y="7"/>
                  </a:lnTo>
                  <a:lnTo>
                    <a:pt x="202" y="4"/>
                  </a:lnTo>
                  <a:lnTo>
                    <a:pt x="216" y="1"/>
                  </a:lnTo>
                  <a:lnTo>
                    <a:pt x="229" y="0"/>
                  </a:lnTo>
                  <a:lnTo>
                    <a:pt x="243" y="0"/>
                  </a:lnTo>
                  <a:lnTo>
                    <a:pt x="258" y="3"/>
                  </a:lnTo>
                  <a:lnTo>
                    <a:pt x="290" y="50"/>
                  </a:lnTo>
                  <a:close/>
                </a:path>
              </a:pathLst>
            </a:custGeom>
            <a:solidFill>
              <a:srgbClr val="2d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2530440" y="3035160"/>
              <a:ext cx="134280" cy="346320"/>
            </a:xfrm>
            <a:custGeom>
              <a:avLst/>
              <a:gdLst/>
              <a:ahLst/>
              <a:rect l="l" t="t" r="r" b="b"/>
              <a:pathLst>
                <a:path w="171" h="436">
                  <a:moveTo>
                    <a:pt x="143" y="96"/>
                  </a:moveTo>
                  <a:lnTo>
                    <a:pt x="154" y="127"/>
                  </a:lnTo>
                  <a:lnTo>
                    <a:pt x="162" y="161"/>
                  </a:lnTo>
                  <a:lnTo>
                    <a:pt x="167" y="195"/>
                  </a:lnTo>
                  <a:lnTo>
                    <a:pt x="171" y="230"/>
                  </a:lnTo>
                  <a:lnTo>
                    <a:pt x="170" y="263"/>
                  </a:lnTo>
                  <a:lnTo>
                    <a:pt x="166" y="297"/>
                  </a:lnTo>
                  <a:lnTo>
                    <a:pt x="158" y="328"/>
                  </a:lnTo>
                  <a:lnTo>
                    <a:pt x="146" y="357"/>
                  </a:lnTo>
                  <a:lnTo>
                    <a:pt x="135" y="373"/>
                  </a:lnTo>
                  <a:lnTo>
                    <a:pt x="123" y="387"/>
                  </a:lnTo>
                  <a:lnTo>
                    <a:pt x="109" y="399"/>
                  </a:lnTo>
                  <a:lnTo>
                    <a:pt x="94" y="410"/>
                  </a:lnTo>
                  <a:lnTo>
                    <a:pt x="79" y="418"/>
                  </a:lnTo>
                  <a:lnTo>
                    <a:pt x="63" y="426"/>
                  </a:lnTo>
                  <a:lnTo>
                    <a:pt x="45" y="432"/>
                  </a:lnTo>
                  <a:lnTo>
                    <a:pt x="28" y="436"/>
                  </a:lnTo>
                  <a:lnTo>
                    <a:pt x="33" y="417"/>
                  </a:lnTo>
                  <a:lnTo>
                    <a:pt x="37" y="397"/>
                  </a:lnTo>
                  <a:lnTo>
                    <a:pt x="41" y="376"/>
                  </a:lnTo>
                  <a:lnTo>
                    <a:pt x="40" y="357"/>
                  </a:lnTo>
                  <a:lnTo>
                    <a:pt x="56" y="352"/>
                  </a:lnTo>
                  <a:lnTo>
                    <a:pt x="71" y="345"/>
                  </a:lnTo>
                  <a:lnTo>
                    <a:pt x="86" y="336"/>
                  </a:lnTo>
                  <a:lnTo>
                    <a:pt x="100" y="327"/>
                  </a:lnTo>
                  <a:lnTo>
                    <a:pt x="112" y="315"/>
                  </a:lnTo>
                  <a:lnTo>
                    <a:pt x="124" y="302"/>
                  </a:lnTo>
                  <a:lnTo>
                    <a:pt x="134" y="287"/>
                  </a:lnTo>
                  <a:lnTo>
                    <a:pt x="143" y="272"/>
                  </a:lnTo>
                  <a:lnTo>
                    <a:pt x="149" y="236"/>
                  </a:lnTo>
                  <a:lnTo>
                    <a:pt x="148" y="196"/>
                  </a:lnTo>
                  <a:lnTo>
                    <a:pt x="140" y="160"/>
                  </a:lnTo>
                  <a:lnTo>
                    <a:pt x="128" y="125"/>
                  </a:lnTo>
                  <a:lnTo>
                    <a:pt x="116" y="102"/>
                  </a:lnTo>
                  <a:lnTo>
                    <a:pt x="97" y="87"/>
                  </a:lnTo>
                  <a:lnTo>
                    <a:pt x="75" y="75"/>
                  </a:lnTo>
                  <a:lnTo>
                    <a:pt x="52" y="67"/>
                  </a:lnTo>
                  <a:lnTo>
                    <a:pt x="30" y="58"/>
                  </a:lnTo>
                  <a:lnTo>
                    <a:pt x="13" y="47"/>
                  </a:lnTo>
                  <a:lnTo>
                    <a:pt x="3" y="28"/>
                  </a:lnTo>
                  <a:lnTo>
                    <a:pt x="0" y="0"/>
                  </a:lnTo>
                  <a:lnTo>
                    <a:pt x="22" y="5"/>
                  </a:lnTo>
                  <a:lnTo>
                    <a:pt x="44" y="12"/>
                  </a:lnTo>
                  <a:lnTo>
                    <a:pt x="65" y="19"/>
                  </a:lnTo>
                  <a:lnTo>
                    <a:pt x="85" y="29"/>
                  </a:lnTo>
                  <a:lnTo>
                    <a:pt x="103" y="41"/>
                  </a:lnTo>
                  <a:lnTo>
                    <a:pt x="119" y="56"/>
                  </a:lnTo>
                  <a:lnTo>
                    <a:pt x="132" y="74"/>
                  </a:lnTo>
                  <a:lnTo>
                    <a:pt x="143" y="96"/>
                  </a:lnTo>
                  <a:close/>
                </a:path>
              </a:pathLst>
            </a:custGeom>
            <a:solidFill>
              <a:srgbClr val="2d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468520" y="3095640"/>
              <a:ext cx="159840" cy="208080"/>
            </a:xfrm>
            <a:custGeom>
              <a:avLst/>
              <a:gdLst/>
              <a:ahLst/>
              <a:rect l="l" t="t" r="r" b="b"/>
              <a:pathLst>
                <a:path w="203" h="261">
                  <a:moveTo>
                    <a:pt x="156" y="30"/>
                  </a:moveTo>
                  <a:lnTo>
                    <a:pt x="168" y="44"/>
                  </a:lnTo>
                  <a:lnTo>
                    <a:pt x="180" y="61"/>
                  </a:lnTo>
                  <a:lnTo>
                    <a:pt x="189" y="78"/>
                  </a:lnTo>
                  <a:lnTo>
                    <a:pt x="197" y="95"/>
                  </a:lnTo>
                  <a:lnTo>
                    <a:pt x="201" y="114"/>
                  </a:lnTo>
                  <a:lnTo>
                    <a:pt x="203" y="133"/>
                  </a:lnTo>
                  <a:lnTo>
                    <a:pt x="201" y="153"/>
                  </a:lnTo>
                  <a:lnTo>
                    <a:pt x="196" y="172"/>
                  </a:lnTo>
                  <a:lnTo>
                    <a:pt x="190" y="189"/>
                  </a:lnTo>
                  <a:lnTo>
                    <a:pt x="182" y="204"/>
                  </a:lnTo>
                  <a:lnTo>
                    <a:pt x="172" y="217"/>
                  </a:lnTo>
                  <a:lnTo>
                    <a:pt x="160" y="231"/>
                  </a:lnTo>
                  <a:lnTo>
                    <a:pt x="146" y="243"/>
                  </a:lnTo>
                  <a:lnTo>
                    <a:pt x="131" y="252"/>
                  </a:lnTo>
                  <a:lnTo>
                    <a:pt x="116" y="258"/>
                  </a:lnTo>
                  <a:lnTo>
                    <a:pt x="100" y="261"/>
                  </a:lnTo>
                  <a:lnTo>
                    <a:pt x="93" y="261"/>
                  </a:lnTo>
                  <a:lnTo>
                    <a:pt x="99" y="248"/>
                  </a:lnTo>
                  <a:lnTo>
                    <a:pt x="105" y="235"/>
                  </a:lnTo>
                  <a:lnTo>
                    <a:pt x="111" y="221"/>
                  </a:lnTo>
                  <a:lnTo>
                    <a:pt x="116" y="207"/>
                  </a:lnTo>
                  <a:lnTo>
                    <a:pt x="120" y="192"/>
                  </a:lnTo>
                  <a:lnTo>
                    <a:pt x="122" y="178"/>
                  </a:lnTo>
                  <a:lnTo>
                    <a:pt x="123" y="162"/>
                  </a:lnTo>
                  <a:lnTo>
                    <a:pt x="121" y="147"/>
                  </a:lnTo>
                  <a:lnTo>
                    <a:pt x="118" y="130"/>
                  </a:lnTo>
                  <a:lnTo>
                    <a:pt x="112" y="112"/>
                  </a:lnTo>
                  <a:lnTo>
                    <a:pt x="104" y="96"/>
                  </a:lnTo>
                  <a:lnTo>
                    <a:pt x="95" y="81"/>
                  </a:lnTo>
                  <a:lnTo>
                    <a:pt x="82" y="66"/>
                  </a:lnTo>
                  <a:lnTo>
                    <a:pt x="68" y="54"/>
                  </a:lnTo>
                  <a:lnTo>
                    <a:pt x="53" y="43"/>
                  </a:lnTo>
                  <a:lnTo>
                    <a:pt x="37" y="33"/>
                  </a:lnTo>
                  <a:lnTo>
                    <a:pt x="0" y="20"/>
                  </a:lnTo>
                  <a:lnTo>
                    <a:pt x="19" y="8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8" y="1"/>
                  </a:lnTo>
                  <a:lnTo>
                    <a:pt x="99" y="6"/>
                  </a:lnTo>
                  <a:lnTo>
                    <a:pt x="119" y="13"/>
                  </a:lnTo>
                  <a:lnTo>
                    <a:pt x="137" y="21"/>
                  </a:lnTo>
                  <a:lnTo>
                    <a:pt x="156" y="30"/>
                  </a:lnTo>
                  <a:close/>
                </a:path>
              </a:pathLst>
            </a:custGeom>
            <a:solidFill>
              <a:srgbClr val="ff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2172960" y="3133800"/>
              <a:ext cx="112320" cy="118800"/>
            </a:xfrm>
            <a:custGeom>
              <a:avLst/>
              <a:gdLst/>
              <a:ahLst/>
              <a:rect l="l" t="t" r="r" b="b"/>
              <a:pathLst>
                <a:path w="143" h="151">
                  <a:moveTo>
                    <a:pt x="143" y="2"/>
                  </a:moveTo>
                  <a:lnTo>
                    <a:pt x="137" y="14"/>
                  </a:lnTo>
                  <a:lnTo>
                    <a:pt x="138" y="25"/>
                  </a:lnTo>
                  <a:lnTo>
                    <a:pt x="141" y="37"/>
                  </a:lnTo>
                  <a:lnTo>
                    <a:pt x="143" y="48"/>
                  </a:lnTo>
                  <a:lnTo>
                    <a:pt x="136" y="73"/>
                  </a:lnTo>
                  <a:lnTo>
                    <a:pt x="130" y="97"/>
                  </a:lnTo>
                  <a:lnTo>
                    <a:pt x="128" y="122"/>
                  </a:lnTo>
                  <a:lnTo>
                    <a:pt x="130" y="151"/>
                  </a:lnTo>
                  <a:lnTo>
                    <a:pt x="123" y="147"/>
                  </a:lnTo>
                  <a:lnTo>
                    <a:pt x="115" y="144"/>
                  </a:lnTo>
                  <a:lnTo>
                    <a:pt x="108" y="139"/>
                  </a:lnTo>
                  <a:lnTo>
                    <a:pt x="100" y="136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0" y="137"/>
                  </a:lnTo>
                  <a:lnTo>
                    <a:pt x="74" y="145"/>
                  </a:lnTo>
                  <a:lnTo>
                    <a:pt x="64" y="141"/>
                  </a:lnTo>
                  <a:lnTo>
                    <a:pt x="51" y="138"/>
                  </a:lnTo>
                  <a:lnTo>
                    <a:pt x="37" y="138"/>
                  </a:lnTo>
                  <a:lnTo>
                    <a:pt x="24" y="138"/>
                  </a:lnTo>
                  <a:lnTo>
                    <a:pt x="13" y="137"/>
                  </a:lnTo>
                  <a:lnTo>
                    <a:pt x="4" y="132"/>
                  </a:lnTo>
                  <a:lnTo>
                    <a:pt x="0" y="124"/>
                  </a:lnTo>
                  <a:lnTo>
                    <a:pt x="1" y="111"/>
                  </a:lnTo>
                  <a:lnTo>
                    <a:pt x="9" y="88"/>
                  </a:lnTo>
                  <a:lnTo>
                    <a:pt x="19" y="63"/>
                  </a:lnTo>
                  <a:lnTo>
                    <a:pt x="23" y="38"/>
                  </a:lnTo>
                  <a:lnTo>
                    <a:pt x="22" y="9"/>
                  </a:lnTo>
                  <a:lnTo>
                    <a:pt x="37" y="5"/>
                  </a:lnTo>
                  <a:lnTo>
                    <a:pt x="52" y="1"/>
                  </a:lnTo>
                  <a:lnTo>
                    <a:pt x="67" y="0"/>
                  </a:lnTo>
                  <a:lnTo>
                    <a:pt x="82" y="0"/>
                  </a:lnTo>
                  <a:lnTo>
                    <a:pt x="97" y="1"/>
                  </a:lnTo>
                  <a:lnTo>
                    <a:pt x="113" y="2"/>
                  </a:lnTo>
                  <a:lnTo>
                    <a:pt x="128" y="3"/>
                  </a:lnTo>
                  <a:lnTo>
                    <a:pt x="143" y="2"/>
                  </a:lnTo>
                  <a:close/>
                </a:path>
              </a:pathLst>
            </a:custGeom>
            <a:solidFill>
              <a:srgbClr val="2d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1792080" y="3135240"/>
              <a:ext cx="377640" cy="114480"/>
            </a:xfrm>
            <a:custGeom>
              <a:avLst/>
              <a:gdLst/>
              <a:ahLst/>
              <a:rect l="l" t="t" r="r" b="b"/>
              <a:pathLst>
                <a:path w="477" h="144">
                  <a:moveTo>
                    <a:pt x="469" y="83"/>
                  </a:moveTo>
                  <a:lnTo>
                    <a:pt x="464" y="94"/>
                  </a:lnTo>
                  <a:lnTo>
                    <a:pt x="458" y="105"/>
                  </a:lnTo>
                  <a:lnTo>
                    <a:pt x="453" y="118"/>
                  </a:lnTo>
                  <a:lnTo>
                    <a:pt x="446" y="128"/>
                  </a:lnTo>
                  <a:lnTo>
                    <a:pt x="438" y="137"/>
                  </a:lnTo>
                  <a:lnTo>
                    <a:pt x="427" y="143"/>
                  </a:lnTo>
                  <a:lnTo>
                    <a:pt x="415" y="144"/>
                  </a:lnTo>
                  <a:lnTo>
                    <a:pt x="400" y="140"/>
                  </a:lnTo>
                  <a:lnTo>
                    <a:pt x="374" y="140"/>
                  </a:lnTo>
                  <a:lnTo>
                    <a:pt x="349" y="139"/>
                  </a:lnTo>
                  <a:lnTo>
                    <a:pt x="322" y="139"/>
                  </a:lnTo>
                  <a:lnTo>
                    <a:pt x="297" y="137"/>
                  </a:lnTo>
                  <a:lnTo>
                    <a:pt x="271" y="137"/>
                  </a:lnTo>
                  <a:lnTo>
                    <a:pt x="245" y="136"/>
                  </a:lnTo>
                  <a:lnTo>
                    <a:pt x="220" y="136"/>
                  </a:lnTo>
                  <a:lnTo>
                    <a:pt x="193" y="135"/>
                  </a:lnTo>
                  <a:lnTo>
                    <a:pt x="168" y="135"/>
                  </a:lnTo>
                  <a:lnTo>
                    <a:pt x="143" y="135"/>
                  </a:lnTo>
                  <a:lnTo>
                    <a:pt x="119" y="135"/>
                  </a:lnTo>
                  <a:lnTo>
                    <a:pt x="94" y="135"/>
                  </a:lnTo>
                  <a:lnTo>
                    <a:pt x="70" y="136"/>
                  </a:lnTo>
                  <a:lnTo>
                    <a:pt x="46" y="136"/>
                  </a:lnTo>
                  <a:lnTo>
                    <a:pt x="23" y="139"/>
                  </a:lnTo>
                  <a:lnTo>
                    <a:pt x="1" y="140"/>
                  </a:lnTo>
                  <a:lnTo>
                    <a:pt x="0" y="118"/>
                  </a:lnTo>
                  <a:lnTo>
                    <a:pt x="3" y="92"/>
                  </a:lnTo>
                  <a:lnTo>
                    <a:pt x="8" y="68"/>
                  </a:lnTo>
                  <a:lnTo>
                    <a:pt x="13" y="45"/>
                  </a:lnTo>
                  <a:lnTo>
                    <a:pt x="16" y="11"/>
                  </a:lnTo>
                  <a:lnTo>
                    <a:pt x="45" y="11"/>
                  </a:lnTo>
                  <a:lnTo>
                    <a:pt x="74" y="11"/>
                  </a:lnTo>
                  <a:lnTo>
                    <a:pt x="102" y="11"/>
                  </a:lnTo>
                  <a:lnTo>
                    <a:pt x="131" y="11"/>
                  </a:lnTo>
                  <a:lnTo>
                    <a:pt x="159" y="11"/>
                  </a:lnTo>
                  <a:lnTo>
                    <a:pt x="188" y="9"/>
                  </a:lnTo>
                  <a:lnTo>
                    <a:pt x="215" y="9"/>
                  </a:lnTo>
                  <a:lnTo>
                    <a:pt x="244" y="8"/>
                  </a:lnTo>
                  <a:lnTo>
                    <a:pt x="272" y="8"/>
                  </a:lnTo>
                  <a:lnTo>
                    <a:pt x="299" y="7"/>
                  </a:lnTo>
                  <a:lnTo>
                    <a:pt x="327" y="6"/>
                  </a:lnTo>
                  <a:lnTo>
                    <a:pt x="355" y="5"/>
                  </a:lnTo>
                  <a:lnTo>
                    <a:pt x="382" y="5"/>
                  </a:lnTo>
                  <a:lnTo>
                    <a:pt x="410" y="3"/>
                  </a:lnTo>
                  <a:lnTo>
                    <a:pt x="438" y="1"/>
                  </a:lnTo>
                  <a:lnTo>
                    <a:pt x="465" y="0"/>
                  </a:lnTo>
                  <a:lnTo>
                    <a:pt x="474" y="18"/>
                  </a:lnTo>
                  <a:lnTo>
                    <a:pt x="477" y="39"/>
                  </a:lnTo>
                  <a:lnTo>
                    <a:pt x="474" y="62"/>
                  </a:lnTo>
                  <a:lnTo>
                    <a:pt x="469" y="83"/>
                  </a:lnTo>
                  <a:close/>
                </a:path>
              </a:pathLst>
            </a:custGeom>
            <a:solidFill>
              <a:srgbClr val="00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2170080" y="3259080"/>
              <a:ext cx="96480" cy="142920"/>
            </a:xfrm>
            <a:custGeom>
              <a:avLst/>
              <a:gdLst/>
              <a:ahLst/>
              <a:rect l="l" t="t" r="r" b="b"/>
              <a:pathLst>
                <a:path w="123" h="179">
                  <a:moveTo>
                    <a:pt x="102" y="2"/>
                  </a:moveTo>
                  <a:lnTo>
                    <a:pt x="103" y="37"/>
                  </a:lnTo>
                  <a:lnTo>
                    <a:pt x="107" y="71"/>
                  </a:lnTo>
                  <a:lnTo>
                    <a:pt x="112" y="105"/>
                  </a:lnTo>
                  <a:lnTo>
                    <a:pt x="123" y="137"/>
                  </a:lnTo>
                  <a:lnTo>
                    <a:pt x="121" y="149"/>
                  </a:lnTo>
                  <a:lnTo>
                    <a:pt x="118" y="159"/>
                  </a:lnTo>
                  <a:lnTo>
                    <a:pt x="114" y="171"/>
                  </a:lnTo>
                  <a:lnTo>
                    <a:pt x="103" y="179"/>
                  </a:lnTo>
                  <a:lnTo>
                    <a:pt x="87" y="174"/>
                  </a:lnTo>
                  <a:lnTo>
                    <a:pt x="76" y="166"/>
                  </a:lnTo>
                  <a:lnTo>
                    <a:pt x="66" y="156"/>
                  </a:lnTo>
                  <a:lnTo>
                    <a:pt x="61" y="143"/>
                  </a:lnTo>
                  <a:lnTo>
                    <a:pt x="57" y="129"/>
                  </a:lnTo>
                  <a:lnTo>
                    <a:pt x="54" y="114"/>
                  </a:lnTo>
                  <a:lnTo>
                    <a:pt x="50" y="99"/>
                  </a:lnTo>
                  <a:lnTo>
                    <a:pt x="47" y="85"/>
                  </a:lnTo>
                  <a:lnTo>
                    <a:pt x="42" y="75"/>
                  </a:lnTo>
                  <a:lnTo>
                    <a:pt x="34" y="65"/>
                  </a:lnTo>
                  <a:lnTo>
                    <a:pt x="24" y="56"/>
                  </a:lnTo>
                  <a:lnTo>
                    <a:pt x="13" y="47"/>
                  </a:lnTo>
                  <a:lnTo>
                    <a:pt x="5" y="38"/>
                  </a:lnTo>
                  <a:lnTo>
                    <a:pt x="0" y="28"/>
                  </a:lnTo>
                  <a:lnTo>
                    <a:pt x="0" y="16"/>
                  </a:lnTo>
                  <a:lnTo>
                    <a:pt x="5" y="3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2" y="1"/>
                  </a:lnTo>
                  <a:lnTo>
                    <a:pt x="55" y="2"/>
                  </a:lnTo>
                  <a:lnTo>
                    <a:pt x="68" y="5"/>
                  </a:lnTo>
                  <a:lnTo>
                    <a:pt x="80" y="6"/>
                  </a:lnTo>
                  <a:lnTo>
                    <a:pt x="92" y="5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ff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2241360" y="3265560"/>
              <a:ext cx="325080" cy="269640"/>
            </a:xfrm>
            <a:custGeom>
              <a:avLst/>
              <a:gdLst/>
              <a:ahLst/>
              <a:rect l="l" t="t" r="r" b="b"/>
              <a:pathLst>
                <a:path w="412" h="340">
                  <a:moveTo>
                    <a:pt x="190" y="172"/>
                  </a:moveTo>
                  <a:lnTo>
                    <a:pt x="201" y="181"/>
                  </a:lnTo>
                  <a:lnTo>
                    <a:pt x="211" y="188"/>
                  </a:lnTo>
                  <a:lnTo>
                    <a:pt x="222" y="192"/>
                  </a:lnTo>
                  <a:lnTo>
                    <a:pt x="233" y="196"/>
                  </a:lnTo>
                  <a:lnTo>
                    <a:pt x="245" y="198"/>
                  </a:lnTo>
                  <a:lnTo>
                    <a:pt x="256" y="200"/>
                  </a:lnTo>
                  <a:lnTo>
                    <a:pt x="269" y="200"/>
                  </a:lnTo>
                  <a:lnTo>
                    <a:pt x="280" y="199"/>
                  </a:lnTo>
                  <a:lnTo>
                    <a:pt x="293" y="199"/>
                  </a:lnTo>
                  <a:lnTo>
                    <a:pt x="306" y="197"/>
                  </a:lnTo>
                  <a:lnTo>
                    <a:pt x="317" y="196"/>
                  </a:lnTo>
                  <a:lnTo>
                    <a:pt x="330" y="194"/>
                  </a:lnTo>
                  <a:lnTo>
                    <a:pt x="342" y="192"/>
                  </a:lnTo>
                  <a:lnTo>
                    <a:pt x="354" y="191"/>
                  </a:lnTo>
                  <a:lnTo>
                    <a:pt x="365" y="190"/>
                  </a:lnTo>
                  <a:lnTo>
                    <a:pt x="377" y="190"/>
                  </a:lnTo>
                  <a:lnTo>
                    <a:pt x="398" y="179"/>
                  </a:lnTo>
                  <a:lnTo>
                    <a:pt x="408" y="196"/>
                  </a:lnTo>
                  <a:lnTo>
                    <a:pt x="412" y="213"/>
                  </a:lnTo>
                  <a:lnTo>
                    <a:pt x="408" y="229"/>
                  </a:lnTo>
                  <a:lnTo>
                    <a:pt x="401" y="247"/>
                  </a:lnTo>
                  <a:lnTo>
                    <a:pt x="391" y="264"/>
                  </a:lnTo>
                  <a:lnTo>
                    <a:pt x="379" y="280"/>
                  </a:lnTo>
                  <a:lnTo>
                    <a:pt x="369" y="297"/>
                  </a:lnTo>
                  <a:lnTo>
                    <a:pt x="362" y="315"/>
                  </a:lnTo>
                  <a:lnTo>
                    <a:pt x="345" y="320"/>
                  </a:lnTo>
                  <a:lnTo>
                    <a:pt x="327" y="325"/>
                  </a:lnTo>
                  <a:lnTo>
                    <a:pt x="310" y="328"/>
                  </a:lnTo>
                  <a:lnTo>
                    <a:pt x="292" y="332"/>
                  </a:lnTo>
                  <a:lnTo>
                    <a:pt x="274" y="335"/>
                  </a:lnTo>
                  <a:lnTo>
                    <a:pt x="256" y="338"/>
                  </a:lnTo>
                  <a:lnTo>
                    <a:pt x="238" y="339"/>
                  </a:lnTo>
                  <a:lnTo>
                    <a:pt x="219" y="340"/>
                  </a:lnTo>
                  <a:lnTo>
                    <a:pt x="201" y="340"/>
                  </a:lnTo>
                  <a:lnTo>
                    <a:pt x="182" y="340"/>
                  </a:lnTo>
                  <a:lnTo>
                    <a:pt x="164" y="340"/>
                  </a:lnTo>
                  <a:lnTo>
                    <a:pt x="146" y="339"/>
                  </a:lnTo>
                  <a:lnTo>
                    <a:pt x="128" y="338"/>
                  </a:lnTo>
                  <a:lnTo>
                    <a:pt x="110" y="335"/>
                  </a:lnTo>
                  <a:lnTo>
                    <a:pt x="93" y="333"/>
                  </a:lnTo>
                  <a:lnTo>
                    <a:pt x="75" y="331"/>
                  </a:lnTo>
                  <a:lnTo>
                    <a:pt x="0" y="234"/>
                  </a:lnTo>
                  <a:lnTo>
                    <a:pt x="6" y="221"/>
                  </a:lnTo>
                  <a:lnTo>
                    <a:pt x="15" y="209"/>
                  </a:lnTo>
                  <a:lnTo>
                    <a:pt x="25" y="197"/>
                  </a:lnTo>
                  <a:lnTo>
                    <a:pt x="34" y="185"/>
                  </a:lnTo>
                  <a:lnTo>
                    <a:pt x="43" y="173"/>
                  </a:lnTo>
                  <a:lnTo>
                    <a:pt x="50" y="160"/>
                  </a:lnTo>
                  <a:lnTo>
                    <a:pt x="55" y="146"/>
                  </a:lnTo>
                  <a:lnTo>
                    <a:pt x="56" y="130"/>
                  </a:lnTo>
                  <a:lnTo>
                    <a:pt x="53" y="114"/>
                  </a:lnTo>
                  <a:lnTo>
                    <a:pt x="49" y="97"/>
                  </a:lnTo>
                  <a:lnTo>
                    <a:pt x="44" y="81"/>
                  </a:lnTo>
                  <a:lnTo>
                    <a:pt x="41" y="64"/>
                  </a:lnTo>
                  <a:lnTo>
                    <a:pt x="37" y="49"/>
                  </a:lnTo>
                  <a:lnTo>
                    <a:pt x="37" y="33"/>
                  </a:lnTo>
                  <a:lnTo>
                    <a:pt x="41" y="16"/>
                  </a:lnTo>
                  <a:lnTo>
                    <a:pt x="49" y="0"/>
                  </a:lnTo>
                  <a:lnTo>
                    <a:pt x="58" y="28"/>
                  </a:lnTo>
                  <a:lnTo>
                    <a:pt x="68" y="54"/>
                  </a:lnTo>
                  <a:lnTo>
                    <a:pt x="83" y="79"/>
                  </a:lnTo>
                  <a:lnTo>
                    <a:pt x="99" y="102"/>
                  </a:lnTo>
                  <a:lnTo>
                    <a:pt x="118" y="124"/>
                  </a:lnTo>
                  <a:lnTo>
                    <a:pt x="140" y="143"/>
                  </a:lnTo>
                  <a:lnTo>
                    <a:pt x="164" y="159"/>
                  </a:lnTo>
                  <a:lnTo>
                    <a:pt x="190" y="172"/>
                  </a:lnTo>
                  <a:close/>
                </a:path>
              </a:pathLst>
            </a:custGeom>
            <a:solidFill>
              <a:srgbClr val="2d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2284200" y="3538440"/>
              <a:ext cx="236160" cy="378000"/>
            </a:xfrm>
            <a:custGeom>
              <a:avLst/>
              <a:gdLst/>
              <a:ahLst/>
              <a:rect l="l" t="t" r="r" b="b"/>
              <a:pathLst>
                <a:path w="297" h="475">
                  <a:moveTo>
                    <a:pt x="297" y="0"/>
                  </a:moveTo>
                  <a:lnTo>
                    <a:pt x="282" y="44"/>
                  </a:lnTo>
                  <a:lnTo>
                    <a:pt x="275" y="89"/>
                  </a:lnTo>
                  <a:lnTo>
                    <a:pt x="274" y="134"/>
                  </a:lnTo>
                  <a:lnTo>
                    <a:pt x="276" y="180"/>
                  </a:lnTo>
                  <a:lnTo>
                    <a:pt x="281" y="225"/>
                  </a:lnTo>
                  <a:lnTo>
                    <a:pt x="286" y="272"/>
                  </a:lnTo>
                  <a:lnTo>
                    <a:pt x="289" y="320"/>
                  </a:lnTo>
                  <a:lnTo>
                    <a:pt x="289" y="367"/>
                  </a:lnTo>
                  <a:lnTo>
                    <a:pt x="276" y="379"/>
                  </a:lnTo>
                  <a:lnTo>
                    <a:pt x="263" y="390"/>
                  </a:lnTo>
                  <a:lnTo>
                    <a:pt x="250" y="399"/>
                  </a:lnTo>
                  <a:lnTo>
                    <a:pt x="236" y="407"/>
                  </a:lnTo>
                  <a:lnTo>
                    <a:pt x="222" y="415"/>
                  </a:lnTo>
                  <a:lnTo>
                    <a:pt x="207" y="422"/>
                  </a:lnTo>
                  <a:lnTo>
                    <a:pt x="193" y="428"/>
                  </a:lnTo>
                  <a:lnTo>
                    <a:pt x="178" y="434"/>
                  </a:lnTo>
                  <a:lnTo>
                    <a:pt x="162" y="440"/>
                  </a:lnTo>
                  <a:lnTo>
                    <a:pt x="147" y="444"/>
                  </a:lnTo>
                  <a:lnTo>
                    <a:pt x="132" y="449"/>
                  </a:lnTo>
                  <a:lnTo>
                    <a:pt x="117" y="455"/>
                  </a:lnTo>
                  <a:lnTo>
                    <a:pt x="102" y="459"/>
                  </a:lnTo>
                  <a:lnTo>
                    <a:pt x="87" y="464"/>
                  </a:lnTo>
                  <a:lnTo>
                    <a:pt x="72" y="470"/>
                  </a:lnTo>
                  <a:lnTo>
                    <a:pt x="57" y="475"/>
                  </a:lnTo>
                  <a:lnTo>
                    <a:pt x="47" y="474"/>
                  </a:lnTo>
                  <a:lnTo>
                    <a:pt x="39" y="471"/>
                  </a:lnTo>
                  <a:lnTo>
                    <a:pt x="32" y="467"/>
                  </a:lnTo>
                  <a:lnTo>
                    <a:pt x="25" y="460"/>
                  </a:lnTo>
                  <a:lnTo>
                    <a:pt x="20" y="455"/>
                  </a:lnTo>
                  <a:lnTo>
                    <a:pt x="15" y="448"/>
                  </a:lnTo>
                  <a:lnTo>
                    <a:pt x="10" y="440"/>
                  </a:lnTo>
                  <a:lnTo>
                    <a:pt x="5" y="433"/>
                  </a:lnTo>
                  <a:lnTo>
                    <a:pt x="5" y="427"/>
                  </a:lnTo>
                  <a:lnTo>
                    <a:pt x="147" y="427"/>
                  </a:lnTo>
                  <a:lnTo>
                    <a:pt x="149" y="423"/>
                  </a:lnTo>
                  <a:lnTo>
                    <a:pt x="153" y="419"/>
                  </a:lnTo>
                  <a:lnTo>
                    <a:pt x="155" y="415"/>
                  </a:lnTo>
                  <a:lnTo>
                    <a:pt x="152" y="412"/>
                  </a:lnTo>
                  <a:lnTo>
                    <a:pt x="134" y="408"/>
                  </a:lnTo>
                  <a:lnTo>
                    <a:pt x="116" y="406"/>
                  </a:lnTo>
                  <a:lnTo>
                    <a:pt x="96" y="405"/>
                  </a:lnTo>
                  <a:lnTo>
                    <a:pt x="78" y="404"/>
                  </a:lnTo>
                  <a:lnTo>
                    <a:pt x="58" y="403"/>
                  </a:lnTo>
                  <a:lnTo>
                    <a:pt x="39" y="402"/>
                  </a:lnTo>
                  <a:lnTo>
                    <a:pt x="19" y="400"/>
                  </a:lnTo>
                  <a:lnTo>
                    <a:pt x="0" y="399"/>
                  </a:lnTo>
                  <a:lnTo>
                    <a:pt x="0" y="368"/>
                  </a:lnTo>
                  <a:lnTo>
                    <a:pt x="22" y="365"/>
                  </a:lnTo>
                  <a:lnTo>
                    <a:pt x="42" y="364"/>
                  </a:lnTo>
                  <a:lnTo>
                    <a:pt x="62" y="362"/>
                  </a:lnTo>
                  <a:lnTo>
                    <a:pt x="81" y="362"/>
                  </a:lnTo>
                  <a:lnTo>
                    <a:pt x="100" y="364"/>
                  </a:lnTo>
                  <a:lnTo>
                    <a:pt x="121" y="364"/>
                  </a:lnTo>
                  <a:lnTo>
                    <a:pt x="142" y="362"/>
                  </a:lnTo>
                  <a:lnTo>
                    <a:pt x="166" y="360"/>
                  </a:lnTo>
                  <a:lnTo>
                    <a:pt x="168" y="358"/>
                  </a:lnTo>
                  <a:lnTo>
                    <a:pt x="171" y="354"/>
                  </a:lnTo>
                  <a:lnTo>
                    <a:pt x="174" y="351"/>
                  </a:lnTo>
                  <a:lnTo>
                    <a:pt x="175" y="346"/>
                  </a:lnTo>
                  <a:lnTo>
                    <a:pt x="166" y="337"/>
                  </a:lnTo>
                  <a:lnTo>
                    <a:pt x="14" y="343"/>
                  </a:lnTo>
                  <a:lnTo>
                    <a:pt x="14" y="322"/>
                  </a:lnTo>
                  <a:lnTo>
                    <a:pt x="26" y="322"/>
                  </a:lnTo>
                  <a:lnTo>
                    <a:pt x="40" y="321"/>
                  </a:lnTo>
                  <a:lnTo>
                    <a:pt x="54" y="321"/>
                  </a:lnTo>
                  <a:lnTo>
                    <a:pt x="66" y="321"/>
                  </a:lnTo>
                  <a:lnTo>
                    <a:pt x="80" y="322"/>
                  </a:lnTo>
                  <a:lnTo>
                    <a:pt x="94" y="322"/>
                  </a:lnTo>
                  <a:lnTo>
                    <a:pt x="108" y="322"/>
                  </a:lnTo>
                  <a:lnTo>
                    <a:pt x="122" y="322"/>
                  </a:lnTo>
                  <a:lnTo>
                    <a:pt x="136" y="322"/>
                  </a:lnTo>
                  <a:lnTo>
                    <a:pt x="149" y="322"/>
                  </a:lnTo>
                  <a:lnTo>
                    <a:pt x="163" y="321"/>
                  </a:lnTo>
                  <a:lnTo>
                    <a:pt x="176" y="320"/>
                  </a:lnTo>
                  <a:lnTo>
                    <a:pt x="190" y="319"/>
                  </a:lnTo>
                  <a:lnTo>
                    <a:pt x="202" y="317"/>
                  </a:lnTo>
                  <a:lnTo>
                    <a:pt x="215" y="315"/>
                  </a:lnTo>
                  <a:lnTo>
                    <a:pt x="228" y="312"/>
                  </a:lnTo>
                  <a:lnTo>
                    <a:pt x="229" y="305"/>
                  </a:lnTo>
                  <a:lnTo>
                    <a:pt x="227" y="299"/>
                  </a:lnTo>
                  <a:lnTo>
                    <a:pt x="221" y="296"/>
                  </a:lnTo>
                  <a:lnTo>
                    <a:pt x="213" y="296"/>
                  </a:lnTo>
                  <a:lnTo>
                    <a:pt x="30" y="294"/>
                  </a:lnTo>
                  <a:lnTo>
                    <a:pt x="30" y="270"/>
                  </a:lnTo>
                  <a:lnTo>
                    <a:pt x="53" y="267"/>
                  </a:lnTo>
                  <a:lnTo>
                    <a:pt x="76" y="267"/>
                  </a:lnTo>
                  <a:lnTo>
                    <a:pt x="99" y="267"/>
                  </a:lnTo>
                  <a:lnTo>
                    <a:pt x="122" y="268"/>
                  </a:lnTo>
                  <a:lnTo>
                    <a:pt x="145" y="270"/>
                  </a:lnTo>
                  <a:lnTo>
                    <a:pt x="168" y="270"/>
                  </a:lnTo>
                  <a:lnTo>
                    <a:pt x="190" y="268"/>
                  </a:lnTo>
                  <a:lnTo>
                    <a:pt x="210" y="263"/>
                  </a:lnTo>
                  <a:lnTo>
                    <a:pt x="210" y="255"/>
                  </a:lnTo>
                  <a:lnTo>
                    <a:pt x="205" y="251"/>
                  </a:lnTo>
                  <a:lnTo>
                    <a:pt x="198" y="248"/>
                  </a:lnTo>
                  <a:lnTo>
                    <a:pt x="192" y="246"/>
                  </a:lnTo>
                  <a:lnTo>
                    <a:pt x="41" y="243"/>
                  </a:lnTo>
                  <a:lnTo>
                    <a:pt x="41" y="209"/>
                  </a:lnTo>
                  <a:lnTo>
                    <a:pt x="61" y="208"/>
                  </a:lnTo>
                  <a:lnTo>
                    <a:pt x="79" y="208"/>
                  </a:lnTo>
                  <a:lnTo>
                    <a:pt x="96" y="209"/>
                  </a:lnTo>
                  <a:lnTo>
                    <a:pt x="113" y="210"/>
                  </a:lnTo>
                  <a:lnTo>
                    <a:pt x="129" y="211"/>
                  </a:lnTo>
                  <a:lnTo>
                    <a:pt x="145" y="210"/>
                  </a:lnTo>
                  <a:lnTo>
                    <a:pt x="161" y="208"/>
                  </a:lnTo>
                  <a:lnTo>
                    <a:pt x="179" y="202"/>
                  </a:lnTo>
                  <a:lnTo>
                    <a:pt x="180" y="195"/>
                  </a:lnTo>
                  <a:lnTo>
                    <a:pt x="178" y="191"/>
                  </a:lnTo>
                  <a:lnTo>
                    <a:pt x="175" y="188"/>
                  </a:lnTo>
                  <a:lnTo>
                    <a:pt x="170" y="187"/>
                  </a:lnTo>
                  <a:lnTo>
                    <a:pt x="164" y="187"/>
                  </a:lnTo>
                  <a:lnTo>
                    <a:pt x="159" y="186"/>
                  </a:lnTo>
                  <a:lnTo>
                    <a:pt x="154" y="185"/>
                  </a:lnTo>
                  <a:lnTo>
                    <a:pt x="151" y="181"/>
                  </a:lnTo>
                  <a:lnTo>
                    <a:pt x="139" y="185"/>
                  </a:lnTo>
                  <a:lnTo>
                    <a:pt x="129" y="186"/>
                  </a:lnTo>
                  <a:lnTo>
                    <a:pt x="117" y="187"/>
                  </a:lnTo>
                  <a:lnTo>
                    <a:pt x="106" y="186"/>
                  </a:lnTo>
                  <a:lnTo>
                    <a:pt x="93" y="185"/>
                  </a:lnTo>
                  <a:lnTo>
                    <a:pt x="80" y="183"/>
                  </a:lnTo>
                  <a:lnTo>
                    <a:pt x="68" y="180"/>
                  </a:lnTo>
                  <a:lnTo>
                    <a:pt x="54" y="178"/>
                  </a:lnTo>
                  <a:lnTo>
                    <a:pt x="69" y="176"/>
                  </a:lnTo>
                  <a:lnTo>
                    <a:pt x="85" y="176"/>
                  </a:lnTo>
                  <a:lnTo>
                    <a:pt x="101" y="176"/>
                  </a:lnTo>
                  <a:lnTo>
                    <a:pt x="118" y="177"/>
                  </a:lnTo>
                  <a:lnTo>
                    <a:pt x="134" y="177"/>
                  </a:lnTo>
                  <a:lnTo>
                    <a:pt x="152" y="175"/>
                  </a:lnTo>
                  <a:lnTo>
                    <a:pt x="168" y="171"/>
                  </a:lnTo>
                  <a:lnTo>
                    <a:pt x="183" y="164"/>
                  </a:lnTo>
                  <a:lnTo>
                    <a:pt x="183" y="158"/>
                  </a:lnTo>
                  <a:lnTo>
                    <a:pt x="180" y="154"/>
                  </a:lnTo>
                  <a:lnTo>
                    <a:pt x="176" y="150"/>
                  </a:lnTo>
                  <a:lnTo>
                    <a:pt x="171" y="149"/>
                  </a:lnTo>
                  <a:lnTo>
                    <a:pt x="159" y="149"/>
                  </a:lnTo>
                  <a:lnTo>
                    <a:pt x="144" y="150"/>
                  </a:lnTo>
                  <a:lnTo>
                    <a:pt x="129" y="151"/>
                  </a:lnTo>
                  <a:lnTo>
                    <a:pt x="114" y="153"/>
                  </a:lnTo>
                  <a:lnTo>
                    <a:pt x="99" y="151"/>
                  </a:lnTo>
                  <a:lnTo>
                    <a:pt x="84" y="150"/>
                  </a:lnTo>
                  <a:lnTo>
                    <a:pt x="70" y="148"/>
                  </a:lnTo>
                  <a:lnTo>
                    <a:pt x="57" y="142"/>
                  </a:lnTo>
                  <a:lnTo>
                    <a:pt x="76" y="140"/>
                  </a:lnTo>
                  <a:lnTo>
                    <a:pt x="93" y="140"/>
                  </a:lnTo>
                  <a:lnTo>
                    <a:pt x="110" y="140"/>
                  </a:lnTo>
                  <a:lnTo>
                    <a:pt x="128" y="140"/>
                  </a:lnTo>
                  <a:lnTo>
                    <a:pt x="145" y="140"/>
                  </a:lnTo>
                  <a:lnTo>
                    <a:pt x="163" y="139"/>
                  </a:lnTo>
                  <a:lnTo>
                    <a:pt x="182" y="136"/>
                  </a:lnTo>
                  <a:lnTo>
                    <a:pt x="200" y="133"/>
                  </a:lnTo>
                  <a:lnTo>
                    <a:pt x="200" y="122"/>
                  </a:lnTo>
                  <a:lnTo>
                    <a:pt x="180" y="118"/>
                  </a:lnTo>
                  <a:lnTo>
                    <a:pt x="162" y="116"/>
                  </a:lnTo>
                  <a:lnTo>
                    <a:pt x="144" y="116"/>
                  </a:lnTo>
                  <a:lnTo>
                    <a:pt x="126" y="116"/>
                  </a:lnTo>
                  <a:lnTo>
                    <a:pt x="108" y="116"/>
                  </a:lnTo>
                  <a:lnTo>
                    <a:pt x="90" y="115"/>
                  </a:lnTo>
                  <a:lnTo>
                    <a:pt x="70" y="111"/>
                  </a:lnTo>
                  <a:lnTo>
                    <a:pt x="50" y="105"/>
                  </a:lnTo>
                  <a:lnTo>
                    <a:pt x="50" y="97"/>
                  </a:lnTo>
                  <a:lnTo>
                    <a:pt x="68" y="97"/>
                  </a:lnTo>
                  <a:lnTo>
                    <a:pt x="87" y="97"/>
                  </a:lnTo>
                  <a:lnTo>
                    <a:pt x="106" y="97"/>
                  </a:lnTo>
                  <a:lnTo>
                    <a:pt x="125" y="97"/>
                  </a:lnTo>
                  <a:lnTo>
                    <a:pt x="145" y="97"/>
                  </a:lnTo>
                  <a:lnTo>
                    <a:pt x="163" y="96"/>
                  </a:lnTo>
                  <a:lnTo>
                    <a:pt x="183" y="94"/>
                  </a:lnTo>
                  <a:lnTo>
                    <a:pt x="200" y="90"/>
                  </a:lnTo>
                  <a:lnTo>
                    <a:pt x="202" y="81"/>
                  </a:lnTo>
                  <a:lnTo>
                    <a:pt x="197" y="75"/>
                  </a:lnTo>
                  <a:lnTo>
                    <a:pt x="189" y="72"/>
                  </a:lnTo>
                  <a:lnTo>
                    <a:pt x="179" y="70"/>
                  </a:lnTo>
                  <a:lnTo>
                    <a:pt x="184" y="66"/>
                  </a:lnTo>
                  <a:lnTo>
                    <a:pt x="189" y="63"/>
                  </a:lnTo>
                  <a:lnTo>
                    <a:pt x="189" y="57"/>
                  </a:lnTo>
                  <a:lnTo>
                    <a:pt x="186" y="52"/>
                  </a:lnTo>
                  <a:lnTo>
                    <a:pt x="168" y="48"/>
                  </a:lnTo>
                  <a:lnTo>
                    <a:pt x="149" y="44"/>
                  </a:lnTo>
                  <a:lnTo>
                    <a:pt x="130" y="42"/>
                  </a:lnTo>
                  <a:lnTo>
                    <a:pt x="110" y="42"/>
                  </a:lnTo>
                  <a:lnTo>
                    <a:pt x="91" y="41"/>
                  </a:lnTo>
                  <a:lnTo>
                    <a:pt x="71" y="40"/>
                  </a:lnTo>
                  <a:lnTo>
                    <a:pt x="53" y="39"/>
                  </a:lnTo>
                  <a:lnTo>
                    <a:pt x="34" y="35"/>
                  </a:lnTo>
                  <a:lnTo>
                    <a:pt x="34" y="19"/>
                  </a:lnTo>
                  <a:lnTo>
                    <a:pt x="50" y="19"/>
                  </a:lnTo>
                  <a:lnTo>
                    <a:pt x="68" y="20"/>
                  </a:lnTo>
                  <a:lnTo>
                    <a:pt x="84" y="20"/>
                  </a:lnTo>
                  <a:lnTo>
                    <a:pt x="101" y="20"/>
                  </a:lnTo>
                  <a:lnTo>
                    <a:pt x="117" y="19"/>
                  </a:lnTo>
                  <a:lnTo>
                    <a:pt x="133" y="19"/>
                  </a:lnTo>
                  <a:lnTo>
                    <a:pt x="149" y="18"/>
                  </a:lnTo>
                  <a:lnTo>
                    <a:pt x="167" y="17"/>
                  </a:lnTo>
                  <a:lnTo>
                    <a:pt x="183" y="15"/>
                  </a:lnTo>
                  <a:lnTo>
                    <a:pt x="199" y="14"/>
                  </a:lnTo>
                  <a:lnTo>
                    <a:pt x="215" y="12"/>
                  </a:lnTo>
                  <a:lnTo>
                    <a:pt x="232" y="10"/>
                  </a:lnTo>
                  <a:lnTo>
                    <a:pt x="248" y="9"/>
                  </a:lnTo>
                  <a:lnTo>
                    <a:pt x="265" y="6"/>
                  </a:lnTo>
                  <a:lnTo>
                    <a:pt x="281" y="3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00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2382480" y="3868560"/>
              <a:ext cx="131400" cy="61920"/>
            </a:xfrm>
            <a:custGeom>
              <a:avLst/>
              <a:gdLst/>
              <a:ahLst/>
              <a:rect l="l" t="t" r="r" b="b"/>
              <a:pathLst>
                <a:path w="167" h="77">
                  <a:moveTo>
                    <a:pt x="166" y="0"/>
                  </a:moveTo>
                  <a:lnTo>
                    <a:pt x="167" y="10"/>
                  </a:lnTo>
                  <a:lnTo>
                    <a:pt x="166" y="19"/>
                  </a:lnTo>
                  <a:lnTo>
                    <a:pt x="162" y="28"/>
                  </a:lnTo>
                  <a:lnTo>
                    <a:pt x="158" y="36"/>
                  </a:lnTo>
                  <a:lnTo>
                    <a:pt x="152" y="44"/>
                  </a:lnTo>
                  <a:lnTo>
                    <a:pt x="145" y="50"/>
                  </a:lnTo>
                  <a:lnTo>
                    <a:pt x="137" y="55"/>
                  </a:lnTo>
                  <a:lnTo>
                    <a:pt x="129" y="58"/>
                  </a:lnTo>
                  <a:lnTo>
                    <a:pt x="114" y="63"/>
                  </a:lnTo>
                  <a:lnTo>
                    <a:pt x="98" y="68"/>
                  </a:lnTo>
                  <a:lnTo>
                    <a:pt x="82" y="71"/>
                  </a:lnTo>
                  <a:lnTo>
                    <a:pt x="66" y="73"/>
                  </a:lnTo>
                  <a:lnTo>
                    <a:pt x="49" y="76"/>
                  </a:lnTo>
                  <a:lnTo>
                    <a:pt x="32" y="77"/>
                  </a:lnTo>
                  <a:lnTo>
                    <a:pt x="16" y="77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22" y="62"/>
                  </a:lnTo>
                  <a:lnTo>
                    <a:pt x="43" y="55"/>
                  </a:lnTo>
                  <a:lnTo>
                    <a:pt x="63" y="46"/>
                  </a:lnTo>
                  <a:lnTo>
                    <a:pt x="84" y="36"/>
                  </a:lnTo>
                  <a:lnTo>
                    <a:pt x="105" y="27"/>
                  </a:lnTo>
                  <a:lnTo>
                    <a:pt x="124" y="18"/>
                  </a:lnTo>
                  <a:lnTo>
                    <a:pt x="145" y="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2d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423880" y="3952800"/>
              <a:ext cx="69480" cy="109440"/>
            </a:xfrm>
            <a:custGeom>
              <a:avLst/>
              <a:gdLst/>
              <a:ahLst/>
              <a:rect l="l" t="t" r="r" b="b"/>
              <a:pathLst>
                <a:path w="86" h="140">
                  <a:moveTo>
                    <a:pt x="79" y="36"/>
                  </a:moveTo>
                  <a:lnTo>
                    <a:pt x="78" y="50"/>
                  </a:lnTo>
                  <a:lnTo>
                    <a:pt x="80" y="64"/>
                  </a:lnTo>
                  <a:lnTo>
                    <a:pt x="83" y="79"/>
                  </a:lnTo>
                  <a:lnTo>
                    <a:pt x="85" y="94"/>
                  </a:lnTo>
                  <a:lnTo>
                    <a:pt x="86" y="108"/>
                  </a:lnTo>
                  <a:lnTo>
                    <a:pt x="84" y="120"/>
                  </a:lnTo>
                  <a:lnTo>
                    <a:pt x="78" y="132"/>
                  </a:lnTo>
                  <a:lnTo>
                    <a:pt x="66" y="140"/>
                  </a:lnTo>
                  <a:lnTo>
                    <a:pt x="37" y="136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23" y="12"/>
                  </a:lnTo>
                  <a:lnTo>
                    <a:pt x="38" y="6"/>
                  </a:lnTo>
                  <a:lnTo>
                    <a:pt x="52" y="2"/>
                  </a:lnTo>
                  <a:lnTo>
                    <a:pt x="64" y="0"/>
                  </a:lnTo>
                  <a:lnTo>
                    <a:pt x="75" y="4"/>
                  </a:lnTo>
                  <a:lnTo>
                    <a:pt x="79" y="15"/>
                  </a:lnTo>
                  <a:lnTo>
                    <a:pt x="79" y="36"/>
                  </a:lnTo>
                  <a:close/>
                </a:path>
              </a:pathLst>
            </a:custGeom>
            <a:solidFill>
              <a:srgbClr val="2d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2465280" y="4076640"/>
              <a:ext cx="39240" cy="66600"/>
            </a:xfrm>
            <a:custGeom>
              <a:avLst/>
              <a:gdLst/>
              <a:ahLst/>
              <a:rect l="l" t="t" r="r" b="b"/>
              <a:pathLst>
                <a:path w="49" h="83">
                  <a:moveTo>
                    <a:pt x="49" y="68"/>
                  </a:moveTo>
                  <a:lnTo>
                    <a:pt x="44" y="75"/>
                  </a:lnTo>
                  <a:lnTo>
                    <a:pt x="39" y="81"/>
                  </a:lnTo>
                  <a:lnTo>
                    <a:pt x="31" y="83"/>
                  </a:lnTo>
                  <a:lnTo>
                    <a:pt x="21" y="80"/>
                  </a:lnTo>
                  <a:lnTo>
                    <a:pt x="12" y="66"/>
                  </a:lnTo>
                  <a:lnTo>
                    <a:pt x="6" y="47"/>
                  </a:lnTo>
                  <a:lnTo>
                    <a:pt x="3" y="29"/>
                  </a:lnTo>
                  <a:lnTo>
                    <a:pt x="0" y="9"/>
                  </a:lnTo>
                  <a:lnTo>
                    <a:pt x="15" y="1"/>
                  </a:lnTo>
                  <a:lnTo>
                    <a:pt x="25" y="0"/>
                  </a:lnTo>
                  <a:lnTo>
                    <a:pt x="33" y="6"/>
                  </a:lnTo>
                  <a:lnTo>
                    <a:pt x="39" y="16"/>
                  </a:lnTo>
                  <a:lnTo>
                    <a:pt x="42" y="29"/>
                  </a:lnTo>
                  <a:lnTo>
                    <a:pt x="44" y="43"/>
                  </a:lnTo>
                  <a:lnTo>
                    <a:pt x="47" y="57"/>
                  </a:lnTo>
                  <a:lnTo>
                    <a:pt x="49" y="68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2481120" y="4162320"/>
              <a:ext cx="86760" cy="452520"/>
            </a:xfrm>
            <a:custGeom>
              <a:avLst/>
              <a:gdLst/>
              <a:ahLst/>
              <a:rect l="l" t="t" r="r" b="b"/>
              <a:pathLst>
                <a:path w="112" h="571">
                  <a:moveTo>
                    <a:pt x="37" y="42"/>
                  </a:moveTo>
                  <a:lnTo>
                    <a:pt x="43" y="108"/>
                  </a:lnTo>
                  <a:lnTo>
                    <a:pt x="40" y="176"/>
                  </a:lnTo>
                  <a:lnTo>
                    <a:pt x="35" y="245"/>
                  </a:lnTo>
                  <a:lnTo>
                    <a:pt x="30" y="313"/>
                  </a:lnTo>
                  <a:lnTo>
                    <a:pt x="31" y="378"/>
                  </a:lnTo>
                  <a:lnTo>
                    <a:pt x="43" y="443"/>
                  </a:lnTo>
                  <a:lnTo>
                    <a:pt x="68" y="502"/>
                  </a:lnTo>
                  <a:lnTo>
                    <a:pt x="112" y="557"/>
                  </a:lnTo>
                  <a:lnTo>
                    <a:pt x="111" y="560"/>
                  </a:lnTo>
                  <a:lnTo>
                    <a:pt x="110" y="564"/>
                  </a:lnTo>
                  <a:lnTo>
                    <a:pt x="107" y="567"/>
                  </a:lnTo>
                  <a:lnTo>
                    <a:pt x="103" y="571"/>
                  </a:lnTo>
                  <a:lnTo>
                    <a:pt x="92" y="565"/>
                  </a:lnTo>
                  <a:lnTo>
                    <a:pt x="83" y="557"/>
                  </a:lnTo>
                  <a:lnTo>
                    <a:pt x="75" y="548"/>
                  </a:lnTo>
                  <a:lnTo>
                    <a:pt x="67" y="537"/>
                  </a:lnTo>
                  <a:lnTo>
                    <a:pt x="60" y="526"/>
                  </a:lnTo>
                  <a:lnTo>
                    <a:pt x="54" y="514"/>
                  </a:lnTo>
                  <a:lnTo>
                    <a:pt x="48" y="503"/>
                  </a:lnTo>
                  <a:lnTo>
                    <a:pt x="43" y="491"/>
                  </a:lnTo>
                  <a:lnTo>
                    <a:pt x="17" y="438"/>
                  </a:lnTo>
                  <a:lnTo>
                    <a:pt x="5" y="383"/>
                  </a:lnTo>
                  <a:lnTo>
                    <a:pt x="0" y="325"/>
                  </a:lnTo>
                  <a:lnTo>
                    <a:pt x="2" y="265"/>
                  </a:lnTo>
                  <a:lnTo>
                    <a:pt x="7" y="207"/>
                  </a:lnTo>
                  <a:lnTo>
                    <a:pt x="13" y="147"/>
                  </a:lnTo>
                  <a:lnTo>
                    <a:pt x="15" y="88"/>
                  </a:lnTo>
                  <a:lnTo>
                    <a:pt x="13" y="30"/>
                  </a:lnTo>
                  <a:lnTo>
                    <a:pt x="13" y="0"/>
                  </a:lnTo>
                  <a:lnTo>
                    <a:pt x="24" y="4"/>
                  </a:lnTo>
                  <a:lnTo>
                    <a:pt x="31" y="14"/>
                  </a:lnTo>
                  <a:lnTo>
                    <a:pt x="35" y="28"/>
                  </a:lnTo>
                  <a:lnTo>
                    <a:pt x="37" y="4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4" name=""/>
          <p:cNvGrpSpPr/>
          <p:nvPr/>
        </p:nvGrpSpPr>
        <p:grpSpPr>
          <a:xfrm>
            <a:off x="1676520" y="2876400"/>
            <a:ext cx="1631520" cy="1866600"/>
            <a:chOff x="1676520" y="2876400"/>
            <a:chExt cx="1631520" cy="1866600"/>
          </a:xfrm>
        </p:grpSpPr>
        <p:sp>
          <p:nvSpPr>
            <p:cNvPr id="4495" name=""/>
            <p:cNvSpPr/>
            <p:nvPr/>
          </p:nvSpPr>
          <p:spPr>
            <a:xfrm>
              <a:off x="2005200" y="2876400"/>
              <a:ext cx="946800" cy="460800"/>
            </a:xfrm>
            <a:custGeom>
              <a:avLst/>
              <a:gdLst/>
              <a:ahLst/>
              <a:rect l="l" t="t" r="r" b="b"/>
              <a:pathLst>
                <a:path w="1362" h="641">
                  <a:moveTo>
                    <a:pt x="71" y="160"/>
                  </a:moveTo>
                  <a:lnTo>
                    <a:pt x="301" y="0"/>
                  </a:lnTo>
                  <a:lnTo>
                    <a:pt x="1097" y="0"/>
                  </a:lnTo>
                  <a:lnTo>
                    <a:pt x="1307" y="124"/>
                  </a:lnTo>
                  <a:lnTo>
                    <a:pt x="1362" y="388"/>
                  </a:lnTo>
                  <a:lnTo>
                    <a:pt x="1196" y="641"/>
                  </a:lnTo>
                  <a:lnTo>
                    <a:pt x="689" y="641"/>
                  </a:lnTo>
                  <a:lnTo>
                    <a:pt x="191" y="641"/>
                  </a:lnTo>
                  <a:lnTo>
                    <a:pt x="0" y="432"/>
                  </a:lnTo>
                  <a:lnTo>
                    <a:pt x="71" y="16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2467440" y="3768840"/>
              <a:ext cx="34560" cy="25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4"/>
                  </a:moveTo>
                  <a:lnTo>
                    <a:pt x="19" y="4"/>
                  </a:lnTo>
                  <a:lnTo>
                    <a:pt x="38" y="4"/>
                  </a:lnTo>
                  <a:lnTo>
                    <a:pt x="49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1677960" y="3391560"/>
              <a:ext cx="1626120" cy="1351440"/>
            </a:xfrm>
            <a:custGeom>
              <a:avLst/>
              <a:gdLst/>
              <a:ahLst/>
              <a:rect l="l" t="t" r="r" b="b"/>
              <a:pathLst>
                <a:path w="2336" h="1879">
                  <a:moveTo>
                    <a:pt x="0" y="0"/>
                  </a:moveTo>
                  <a:lnTo>
                    <a:pt x="642" y="1012"/>
                  </a:lnTo>
                  <a:lnTo>
                    <a:pt x="1186" y="1879"/>
                  </a:lnTo>
                  <a:lnTo>
                    <a:pt x="1646" y="1139"/>
                  </a:lnTo>
                  <a:lnTo>
                    <a:pt x="2336" y="17"/>
                  </a:lnTo>
                  <a:lnTo>
                    <a:pt x="2146" y="194"/>
                  </a:lnTo>
                  <a:lnTo>
                    <a:pt x="1897" y="398"/>
                  </a:lnTo>
                  <a:lnTo>
                    <a:pt x="1559" y="491"/>
                  </a:lnTo>
                  <a:lnTo>
                    <a:pt x="1186" y="517"/>
                  </a:lnTo>
                  <a:lnTo>
                    <a:pt x="836" y="510"/>
                  </a:lnTo>
                  <a:lnTo>
                    <a:pt x="509" y="436"/>
                  </a:lnTo>
                  <a:lnTo>
                    <a:pt x="243" y="2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2837880" y="3154320"/>
              <a:ext cx="467640" cy="531000"/>
            </a:xfrm>
            <a:custGeom>
              <a:avLst/>
              <a:gdLst/>
              <a:ahLst/>
              <a:rect l="l" t="t" r="r" b="b"/>
              <a:pathLst>
                <a:path w="673" h="738">
                  <a:moveTo>
                    <a:pt x="234" y="738"/>
                  </a:moveTo>
                  <a:lnTo>
                    <a:pt x="276" y="717"/>
                  </a:lnTo>
                  <a:lnTo>
                    <a:pt x="316" y="692"/>
                  </a:lnTo>
                  <a:lnTo>
                    <a:pt x="373" y="649"/>
                  </a:lnTo>
                  <a:lnTo>
                    <a:pt x="396" y="630"/>
                  </a:lnTo>
                  <a:lnTo>
                    <a:pt x="424" y="605"/>
                  </a:lnTo>
                  <a:lnTo>
                    <a:pt x="468" y="565"/>
                  </a:lnTo>
                  <a:lnTo>
                    <a:pt x="476" y="559"/>
                  </a:lnTo>
                  <a:lnTo>
                    <a:pt x="542" y="487"/>
                  </a:lnTo>
                  <a:lnTo>
                    <a:pt x="673" y="352"/>
                  </a:lnTo>
                  <a:lnTo>
                    <a:pt x="382" y="153"/>
                  </a:lnTo>
                  <a:lnTo>
                    <a:pt x="669" y="352"/>
                  </a:lnTo>
                  <a:lnTo>
                    <a:pt x="164" y="0"/>
                  </a:lnTo>
                  <a:lnTo>
                    <a:pt x="0" y="253"/>
                  </a:lnTo>
                  <a:lnTo>
                    <a:pt x="234" y="738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506320" y="3685320"/>
              <a:ext cx="494280" cy="1055880"/>
            </a:xfrm>
            <a:custGeom>
              <a:avLst/>
              <a:gdLst/>
              <a:ahLst/>
              <a:rect l="l" t="t" r="r" b="b"/>
              <a:pathLst>
                <a:path w="709" h="1470">
                  <a:moveTo>
                    <a:pt x="0" y="124"/>
                  </a:moveTo>
                  <a:lnTo>
                    <a:pt x="0" y="1470"/>
                  </a:lnTo>
                  <a:lnTo>
                    <a:pt x="709" y="0"/>
                  </a:lnTo>
                  <a:lnTo>
                    <a:pt x="414" y="91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1677960" y="3186000"/>
              <a:ext cx="460440" cy="517680"/>
            </a:xfrm>
            <a:custGeom>
              <a:avLst/>
              <a:gdLst/>
              <a:ahLst/>
              <a:rect l="l" t="t" r="r" b="b"/>
              <a:pathLst>
                <a:path w="661" h="721">
                  <a:moveTo>
                    <a:pt x="469" y="0"/>
                  </a:moveTo>
                  <a:lnTo>
                    <a:pt x="0" y="285"/>
                  </a:lnTo>
                  <a:lnTo>
                    <a:pt x="15" y="304"/>
                  </a:lnTo>
                  <a:lnTo>
                    <a:pt x="30" y="318"/>
                  </a:lnTo>
                  <a:lnTo>
                    <a:pt x="59" y="350"/>
                  </a:lnTo>
                  <a:lnTo>
                    <a:pt x="87" y="380"/>
                  </a:lnTo>
                  <a:lnTo>
                    <a:pt x="118" y="411"/>
                  </a:lnTo>
                  <a:lnTo>
                    <a:pt x="146" y="439"/>
                  </a:lnTo>
                  <a:lnTo>
                    <a:pt x="177" y="468"/>
                  </a:lnTo>
                  <a:lnTo>
                    <a:pt x="207" y="496"/>
                  </a:lnTo>
                  <a:lnTo>
                    <a:pt x="238" y="523"/>
                  </a:lnTo>
                  <a:lnTo>
                    <a:pt x="266" y="550"/>
                  </a:lnTo>
                  <a:lnTo>
                    <a:pt x="296" y="574"/>
                  </a:lnTo>
                  <a:lnTo>
                    <a:pt x="327" y="601"/>
                  </a:lnTo>
                  <a:lnTo>
                    <a:pt x="357" y="626"/>
                  </a:lnTo>
                  <a:lnTo>
                    <a:pt x="388" y="648"/>
                  </a:lnTo>
                  <a:lnTo>
                    <a:pt x="418" y="671"/>
                  </a:lnTo>
                  <a:lnTo>
                    <a:pt x="450" y="694"/>
                  </a:lnTo>
                  <a:lnTo>
                    <a:pt x="494" y="721"/>
                  </a:lnTo>
                  <a:lnTo>
                    <a:pt x="661" y="209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1677960" y="2990160"/>
              <a:ext cx="375480" cy="399960"/>
            </a:xfrm>
            <a:custGeom>
              <a:avLst/>
              <a:gdLst/>
              <a:ahLst/>
              <a:rect l="l" t="t" r="r" b="b"/>
              <a:pathLst>
                <a:path w="540" h="557">
                  <a:moveTo>
                    <a:pt x="469" y="268"/>
                  </a:moveTo>
                  <a:lnTo>
                    <a:pt x="0" y="557"/>
                  </a:lnTo>
                  <a:lnTo>
                    <a:pt x="45" y="356"/>
                  </a:lnTo>
                  <a:lnTo>
                    <a:pt x="44" y="358"/>
                  </a:lnTo>
                  <a:lnTo>
                    <a:pt x="171" y="264"/>
                  </a:lnTo>
                  <a:lnTo>
                    <a:pt x="201" y="244"/>
                  </a:lnTo>
                  <a:lnTo>
                    <a:pt x="363" y="126"/>
                  </a:lnTo>
                  <a:lnTo>
                    <a:pt x="540" y="0"/>
                  </a:lnTo>
                  <a:lnTo>
                    <a:pt x="521" y="72"/>
                  </a:lnTo>
                  <a:lnTo>
                    <a:pt x="469" y="266"/>
                  </a:lnTo>
                  <a:lnTo>
                    <a:pt x="469" y="268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2024640" y="3701160"/>
              <a:ext cx="478800" cy="1040400"/>
            </a:xfrm>
            <a:custGeom>
              <a:avLst/>
              <a:gdLst/>
              <a:ahLst/>
              <a:rect l="l" t="t" r="r" b="b"/>
              <a:pathLst>
                <a:path w="688" h="1447">
                  <a:moveTo>
                    <a:pt x="0" y="0"/>
                  </a:moveTo>
                  <a:lnTo>
                    <a:pt x="688" y="1447"/>
                  </a:lnTo>
                  <a:lnTo>
                    <a:pt x="688" y="14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2912760" y="2962800"/>
              <a:ext cx="395280" cy="444600"/>
            </a:xfrm>
            <a:custGeom>
              <a:avLst/>
              <a:gdLst/>
              <a:ahLst/>
              <a:rect l="l" t="t" r="r" b="b"/>
              <a:pathLst>
                <a:path w="568" h="618">
                  <a:moveTo>
                    <a:pt x="55" y="268"/>
                  </a:moveTo>
                  <a:lnTo>
                    <a:pt x="0" y="0"/>
                  </a:lnTo>
                  <a:lnTo>
                    <a:pt x="553" y="455"/>
                  </a:lnTo>
                  <a:lnTo>
                    <a:pt x="560" y="472"/>
                  </a:lnTo>
                  <a:lnTo>
                    <a:pt x="560" y="476"/>
                  </a:lnTo>
                  <a:lnTo>
                    <a:pt x="564" y="487"/>
                  </a:lnTo>
                  <a:lnTo>
                    <a:pt x="566" y="496"/>
                  </a:lnTo>
                  <a:lnTo>
                    <a:pt x="568" y="508"/>
                  </a:lnTo>
                  <a:lnTo>
                    <a:pt x="568" y="519"/>
                  </a:lnTo>
                  <a:lnTo>
                    <a:pt x="568" y="529"/>
                  </a:lnTo>
                  <a:lnTo>
                    <a:pt x="568" y="540"/>
                  </a:lnTo>
                  <a:lnTo>
                    <a:pt x="568" y="561"/>
                  </a:lnTo>
                  <a:lnTo>
                    <a:pt x="568" y="573"/>
                  </a:lnTo>
                  <a:lnTo>
                    <a:pt x="560" y="618"/>
                  </a:lnTo>
                  <a:lnTo>
                    <a:pt x="55" y="268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2503800" y="3337200"/>
              <a:ext cx="496800" cy="438840"/>
            </a:xfrm>
            <a:custGeom>
              <a:avLst/>
              <a:gdLst/>
              <a:ahLst/>
              <a:rect l="l" t="t" r="r" b="b"/>
              <a:pathLst>
                <a:path w="713" h="610">
                  <a:moveTo>
                    <a:pt x="0" y="609"/>
                  </a:moveTo>
                  <a:lnTo>
                    <a:pt x="12" y="610"/>
                  </a:lnTo>
                  <a:lnTo>
                    <a:pt x="76" y="609"/>
                  </a:lnTo>
                  <a:lnTo>
                    <a:pt x="109" y="607"/>
                  </a:lnTo>
                  <a:lnTo>
                    <a:pt x="143" y="605"/>
                  </a:lnTo>
                  <a:lnTo>
                    <a:pt x="177" y="601"/>
                  </a:lnTo>
                  <a:lnTo>
                    <a:pt x="217" y="599"/>
                  </a:lnTo>
                  <a:lnTo>
                    <a:pt x="255" y="597"/>
                  </a:lnTo>
                  <a:lnTo>
                    <a:pt x="293" y="590"/>
                  </a:lnTo>
                  <a:lnTo>
                    <a:pt x="331" y="588"/>
                  </a:lnTo>
                  <a:lnTo>
                    <a:pt x="369" y="582"/>
                  </a:lnTo>
                  <a:lnTo>
                    <a:pt x="413" y="574"/>
                  </a:lnTo>
                  <a:lnTo>
                    <a:pt x="451" y="567"/>
                  </a:lnTo>
                  <a:lnTo>
                    <a:pt x="500" y="555"/>
                  </a:lnTo>
                  <a:lnTo>
                    <a:pt x="614" y="523"/>
                  </a:lnTo>
                  <a:lnTo>
                    <a:pt x="713" y="485"/>
                  </a:lnTo>
                  <a:lnTo>
                    <a:pt x="479" y="0"/>
                  </a:lnTo>
                  <a:lnTo>
                    <a:pt x="0" y="0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2021760" y="3337200"/>
              <a:ext cx="484200" cy="437040"/>
            </a:xfrm>
            <a:custGeom>
              <a:avLst/>
              <a:gdLst/>
              <a:ahLst/>
              <a:rect l="l" t="t" r="r" b="b"/>
              <a:pathLst>
                <a:path w="696" h="609">
                  <a:moveTo>
                    <a:pt x="166" y="0"/>
                  </a:moveTo>
                  <a:lnTo>
                    <a:pt x="0" y="508"/>
                  </a:lnTo>
                  <a:lnTo>
                    <a:pt x="72" y="536"/>
                  </a:lnTo>
                  <a:lnTo>
                    <a:pt x="164" y="561"/>
                  </a:lnTo>
                  <a:lnTo>
                    <a:pt x="259" y="580"/>
                  </a:lnTo>
                  <a:lnTo>
                    <a:pt x="365" y="591"/>
                  </a:lnTo>
                  <a:lnTo>
                    <a:pt x="432" y="597"/>
                  </a:lnTo>
                  <a:lnTo>
                    <a:pt x="510" y="603"/>
                  </a:lnTo>
                  <a:lnTo>
                    <a:pt x="563" y="605"/>
                  </a:lnTo>
                  <a:lnTo>
                    <a:pt x="603" y="607"/>
                  </a:lnTo>
                  <a:lnTo>
                    <a:pt x="696" y="609"/>
                  </a:lnTo>
                  <a:lnTo>
                    <a:pt x="694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2466000" y="3765960"/>
              <a:ext cx="34560" cy="288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4"/>
                  </a:moveTo>
                  <a:lnTo>
                    <a:pt x="19" y="4"/>
                  </a:lnTo>
                  <a:lnTo>
                    <a:pt x="38" y="4"/>
                  </a:lnTo>
                  <a:lnTo>
                    <a:pt x="49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2036880" y="3452040"/>
              <a:ext cx="320400" cy="237600"/>
            </a:xfrm>
            <a:custGeom>
              <a:avLst/>
              <a:gdLst/>
              <a:ahLst/>
              <a:rect l="l" t="t" r="r" b="b"/>
              <a:pathLst>
                <a:path w="460" h="331">
                  <a:moveTo>
                    <a:pt x="108" y="53"/>
                  </a:moveTo>
                  <a:lnTo>
                    <a:pt x="10" y="329"/>
                  </a:lnTo>
                  <a:lnTo>
                    <a:pt x="145" y="137"/>
                  </a:lnTo>
                  <a:lnTo>
                    <a:pt x="460" y="0"/>
                  </a:lnTo>
                  <a:lnTo>
                    <a:pt x="10" y="329"/>
                  </a:lnTo>
                  <a:lnTo>
                    <a:pt x="108" y="53"/>
                  </a:lnTo>
                  <a:lnTo>
                    <a:pt x="135" y="154"/>
                  </a:lnTo>
                  <a:lnTo>
                    <a:pt x="0" y="331"/>
                  </a:lnTo>
                  <a:lnTo>
                    <a:pt x="103" y="19"/>
                  </a:lnTo>
                  <a:lnTo>
                    <a:pt x="108" y="53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2042640" y="3477960"/>
              <a:ext cx="320040" cy="248760"/>
            </a:xfrm>
            <a:custGeom>
              <a:avLst/>
              <a:gdLst/>
              <a:ahLst/>
              <a:rect l="l" t="t" r="r" b="b"/>
              <a:pathLst>
                <a:path w="460" h="346">
                  <a:moveTo>
                    <a:pt x="0" y="293"/>
                  </a:moveTo>
                  <a:lnTo>
                    <a:pt x="460" y="0"/>
                  </a:lnTo>
                  <a:lnTo>
                    <a:pt x="226" y="346"/>
                  </a:lnTo>
                  <a:lnTo>
                    <a:pt x="380" y="346"/>
                  </a:lnTo>
                  <a:lnTo>
                    <a:pt x="226" y="346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2199960" y="3727080"/>
              <a:ext cx="151560" cy="2700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262600" y="3538440"/>
              <a:ext cx="120600" cy="175320"/>
            </a:xfrm>
            <a:custGeom>
              <a:avLst/>
              <a:gdLst/>
              <a:ahLst/>
              <a:rect l="l" t="t" r="r" b="b"/>
              <a:pathLst>
                <a:path w="173" h="245">
                  <a:moveTo>
                    <a:pt x="154" y="0"/>
                  </a:moveTo>
                  <a:lnTo>
                    <a:pt x="0" y="235"/>
                  </a:lnTo>
                  <a:lnTo>
                    <a:pt x="173" y="24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848680" y="3653640"/>
              <a:ext cx="217080" cy="369720"/>
            </a:xfrm>
            <a:custGeom>
              <a:avLst/>
              <a:gdLst/>
              <a:ahLst/>
              <a:rect l="l" t="t" r="r" b="b"/>
              <a:pathLst>
                <a:path w="312" h="516">
                  <a:moveTo>
                    <a:pt x="221" y="54"/>
                  </a:moveTo>
                  <a:lnTo>
                    <a:pt x="0" y="516"/>
                  </a:lnTo>
                  <a:lnTo>
                    <a:pt x="0" y="516"/>
                  </a:lnTo>
                  <a:lnTo>
                    <a:pt x="221" y="52"/>
                  </a:lnTo>
                  <a:lnTo>
                    <a:pt x="312" y="0"/>
                  </a:lnTo>
                  <a:lnTo>
                    <a:pt x="168" y="162"/>
                  </a:lnTo>
                  <a:lnTo>
                    <a:pt x="221" y="54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2507760" y="3721320"/>
              <a:ext cx="446760" cy="997200"/>
            </a:xfrm>
            <a:custGeom>
              <a:avLst/>
              <a:gdLst/>
              <a:ahLst/>
              <a:rect l="l" t="t" r="r" b="b"/>
              <a:pathLst>
                <a:path w="642" h="1386">
                  <a:moveTo>
                    <a:pt x="570" y="37"/>
                  </a:moveTo>
                  <a:lnTo>
                    <a:pt x="0" y="1386"/>
                  </a:lnTo>
                  <a:lnTo>
                    <a:pt x="28" y="1276"/>
                  </a:lnTo>
                  <a:lnTo>
                    <a:pt x="642" y="0"/>
                  </a:lnTo>
                  <a:lnTo>
                    <a:pt x="570" y="37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2518920" y="3346920"/>
              <a:ext cx="90360" cy="178200"/>
            </a:xfrm>
            <a:custGeom>
              <a:avLst/>
              <a:gdLst/>
              <a:ahLst/>
              <a:rect l="l" t="t" r="r" b="b"/>
              <a:pathLst>
                <a:path w="129" h="249">
                  <a:moveTo>
                    <a:pt x="68" y="0"/>
                  </a:moveTo>
                  <a:lnTo>
                    <a:pt x="86" y="0"/>
                  </a:lnTo>
                  <a:lnTo>
                    <a:pt x="57" y="108"/>
                  </a:lnTo>
                  <a:lnTo>
                    <a:pt x="0" y="220"/>
                  </a:lnTo>
                  <a:lnTo>
                    <a:pt x="0" y="249"/>
                  </a:lnTo>
                  <a:lnTo>
                    <a:pt x="0" y="220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2126160" y="2890800"/>
              <a:ext cx="370080" cy="67320"/>
            </a:xfrm>
            <a:custGeom>
              <a:avLst/>
              <a:gdLst/>
              <a:ahLst/>
              <a:rect l="l" t="t" r="r" b="b"/>
              <a:pathLst>
                <a:path w="533" h="94">
                  <a:moveTo>
                    <a:pt x="114" y="29"/>
                  </a:moveTo>
                  <a:lnTo>
                    <a:pt x="424" y="29"/>
                  </a:lnTo>
                  <a:lnTo>
                    <a:pt x="533" y="0"/>
                  </a:lnTo>
                  <a:lnTo>
                    <a:pt x="474" y="4"/>
                  </a:lnTo>
                  <a:lnTo>
                    <a:pt x="126" y="0"/>
                  </a:lnTo>
                  <a:lnTo>
                    <a:pt x="0" y="94"/>
                  </a:lnTo>
                  <a:lnTo>
                    <a:pt x="114" y="29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2062080" y="3727080"/>
              <a:ext cx="445320" cy="997200"/>
            </a:xfrm>
            <a:custGeom>
              <a:avLst/>
              <a:gdLst/>
              <a:ahLst/>
              <a:rect l="l" t="t" r="r" b="b"/>
              <a:pathLst>
                <a:path w="641" h="1386">
                  <a:moveTo>
                    <a:pt x="91" y="46"/>
                  </a:moveTo>
                  <a:lnTo>
                    <a:pt x="641" y="1386"/>
                  </a:lnTo>
                  <a:lnTo>
                    <a:pt x="605" y="1268"/>
                  </a:lnTo>
                  <a:lnTo>
                    <a:pt x="0" y="0"/>
                  </a:lnTo>
                  <a:lnTo>
                    <a:pt x="207" y="74"/>
                  </a:lnTo>
                  <a:lnTo>
                    <a:pt x="91" y="46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2510640" y="3653640"/>
              <a:ext cx="45720" cy="109080"/>
            </a:xfrm>
            <a:custGeom>
              <a:avLst/>
              <a:gdLst/>
              <a:ahLst/>
              <a:rect l="l" t="t" r="r" b="b"/>
              <a:pathLst>
                <a:path w="66" h="152">
                  <a:moveTo>
                    <a:pt x="0" y="0"/>
                  </a:moveTo>
                  <a:lnTo>
                    <a:pt x="15" y="135"/>
                  </a:lnTo>
                  <a:lnTo>
                    <a:pt x="66" y="147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 flipV="1">
              <a:off x="2112120" y="2959920"/>
              <a:ext cx="673920" cy="164160"/>
            </a:xfrm>
            <a:prstGeom prst="line">
              <a:avLst/>
            </a:prstGeom>
            <a:ln w="1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 flipV="1">
              <a:off x="2294640" y="3038760"/>
              <a:ext cx="345240" cy="9180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1679040" y="3194280"/>
              <a:ext cx="307800" cy="192600"/>
            </a:xfrm>
            <a:custGeom>
              <a:avLst/>
              <a:gdLst/>
              <a:ahLst/>
              <a:rect l="l" t="t" r="r" b="b"/>
              <a:pathLst>
                <a:path w="443" h="268">
                  <a:moveTo>
                    <a:pt x="17" y="232"/>
                  </a:moveTo>
                  <a:lnTo>
                    <a:pt x="443" y="0"/>
                  </a:lnTo>
                  <a:lnTo>
                    <a:pt x="443" y="0"/>
                  </a:lnTo>
                  <a:lnTo>
                    <a:pt x="0" y="268"/>
                  </a:lnTo>
                  <a:lnTo>
                    <a:pt x="23" y="163"/>
                  </a:lnTo>
                  <a:lnTo>
                    <a:pt x="17" y="232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2923920" y="2978640"/>
              <a:ext cx="272880" cy="228600"/>
            </a:xfrm>
            <a:custGeom>
              <a:avLst/>
              <a:gdLst/>
              <a:ahLst/>
              <a:rect l="l" t="t" r="r" b="b"/>
              <a:pathLst>
                <a:path w="391" h="318">
                  <a:moveTo>
                    <a:pt x="23" y="44"/>
                  </a:moveTo>
                  <a:lnTo>
                    <a:pt x="391" y="318"/>
                  </a:lnTo>
                  <a:lnTo>
                    <a:pt x="391" y="318"/>
                  </a:lnTo>
                  <a:lnTo>
                    <a:pt x="0" y="0"/>
                  </a:lnTo>
                  <a:lnTo>
                    <a:pt x="45" y="226"/>
                  </a:lnTo>
                  <a:lnTo>
                    <a:pt x="23" y="44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1778040" y="3529800"/>
              <a:ext cx="641880" cy="1050840"/>
            </a:xfrm>
            <a:custGeom>
              <a:avLst/>
              <a:gdLst/>
              <a:ahLst/>
              <a:rect l="l" t="t" r="r" b="b"/>
              <a:pathLst>
                <a:path w="922" h="1460">
                  <a:moveTo>
                    <a:pt x="92" y="130"/>
                  </a:moveTo>
                  <a:lnTo>
                    <a:pt x="922" y="1460"/>
                  </a:lnTo>
                  <a:lnTo>
                    <a:pt x="922" y="1460"/>
                  </a:lnTo>
                  <a:lnTo>
                    <a:pt x="0" y="0"/>
                  </a:lnTo>
                  <a:lnTo>
                    <a:pt x="299" y="403"/>
                  </a:lnTo>
                  <a:lnTo>
                    <a:pt x="92" y="13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903320" y="3496680"/>
              <a:ext cx="158760" cy="175320"/>
            </a:xfrm>
            <a:custGeom>
              <a:avLst/>
              <a:gdLst/>
              <a:ahLst/>
              <a:rect l="l" t="t" r="r" b="b"/>
              <a:pathLst>
                <a:path w="226" h="243">
                  <a:moveTo>
                    <a:pt x="226" y="0"/>
                  </a:moveTo>
                  <a:lnTo>
                    <a:pt x="127" y="184"/>
                  </a:lnTo>
                  <a:lnTo>
                    <a:pt x="0" y="110"/>
                  </a:lnTo>
                  <a:lnTo>
                    <a:pt x="160" y="243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1676520" y="3377160"/>
              <a:ext cx="119520" cy="129240"/>
            </a:xfrm>
            <a:custGeom>
              <a:avLst/>
              <a:gdLst/>
              <a:ahLst/>
              <a:rect l="l" t="t" r="r" b="b"/>
              <a:pathLst>
                <a:path w="171" h="180">
                  <a:moveTo>
                    <a:pt x="154" y="180"/>
                  </a:moveTo>
                  <a:lnTo>
                    <a:pt x="0" y="44"/>
                  </a:lnTo>
                  <a:lnTo>
                    <a:pt x="32" y="53"/>
                  </a:lnTo>
                  <a:lnTo>
                    <a:pt x="72" y="30"/>
                  </a:lnTo>
                  <a:lnTo>
                    <a:pt x="110" y="0"/>
                  </a:lnTo>
                  <a:lnTo>
                    <a:pt x="131" y="0"/>
                  </a:lnTo>
                  <a:lnTo>
                    <a:pt x="152" y="9"/>
                  </a:lnTo>
                  <a:lnTo>
                    <a:pt x="171" y="36"/>
                  </a:lnTo>
                  <a:lnTo>
                    <a:pt x="139" y="63"/>
                  </a:lnTo>
                  <a:lnTo>
                    <a:pt x="118" y="89"/>
                  </a:lnTo>
                  <a:lnTo>
                    <a:pt x="110" y="116"/>
                  </a:lnTo>
                  <a:lnTo>
                    <a:pt x="124" y="133"/>
                  </a:lnTo>
                  <a:lnTo>
                    <a:pt x="154" y="178"/>
                  </a:lnTo>
                  <a:lnTo>
                    <a:pt x="154" y="180"/>
                  </a:lnTo>
                  <a:close/>
                </a:path>
              </a:pathLst>
            </a:custGeom>
            <a:solidFill>
              <a:srgbClr val="00ffff"/>
            </a:solidFill>
            <a:ln w="1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1713960" y="2995560"/>
              <a:ext cx="334080" cy="248760"/>
            </a:xfrm>
            <a:custGeom>
              <a:avLst/>
              <a:gdLst/>
              <a:ahLst/>
              <a:rect l="l" t="t" r="r" b="b"/>
              <a:pathLst>
                <a:path w="481" h="346">
                  <a:moveTo>
                    <a:pt x="0" y="346"/>
                  </a:moveTo>
                  <a:lnTo>
                    <a:pt x="457" y="34"/>
                  </a:lnTo>
                  <a:lnTo>
                    <a:pt x="424" y="218"/>
                  </a:lnTo>
                  <a:lnTo>
                    <a:pt x="481" y="0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b8b8b8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2637360" y="3345480"/>
              <a:ext cx="349560" cy="327960"/>
            </a:xfrm>
            <a:custGeom>
              <a:avLst/>
              <a:gdLst/>
              <a:ahLst/>
              <a:rect l="l" t="t" r="r" b="b"/>
              <a:pathLst>
                <a:path w="502" h="456">
                  <a:moveTo>
                    <a:pt x="0" y="0"/>
                  </a:moveTo>
                  <a:lnTo>
                    <a:pt x="259" y="15"/>
                  </a:lnTo>
                  <a:lnTo>
                    <a:pt x="502" y="456"/>
                  </a:lnTo>
                  <a:lnTo>
                    <a:pt x="2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2425680" y="3776040"/>
              <a:ext cx="74880" cy="771120"/>
            </a:xfrm>
            <a:custGeom>
              <a:avLst/>
              <a:gdLst/>
              <a:ahLst/>
              <a:rect l="l" t="t" r="r" b="b"/>
              <a:pathLst>
                <a:path w="108" h="1073">
                  <a:moveTo>
                    <a:pt x="0" y="0"/>
                  </a:moveTo>
                  <a:lnTo>
                    <a:pt x="99" y="20"/>
                  </a:lnTo>
                  <a:lnTo>
                    <a:pt x="108" y="1073"/>
                  </a:lnTo>
                  <a:lnTo>
                    <a:pt x="10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5f5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7" name=""/>
          <p:cNvSpPr/>
          <p:nvPr/>
        </p:nvSpPr>
        <p:spPr>
          <a:xfrm>
            <a:off x="2287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68598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9" name="fd01247_" descr=""/>
          <p:cNvPicPr/>
          <p:nvPr/>
        </p:nvPicPr>
        <p:blipFill>
          <a:blip r:embed="rId1"/>
          <a:stretch/>
        </p:blipFill>
        <p:spPr>
          <a:xfrm>
            <a:off x="6400800" y="2928960"/>
            <a:ext cx="13222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"/>
          <p:cNvSpPr/>
          <p:nvPr/>
        </p:nvSpPr>
        <p:spPr>
          <a:xfrm>
            <a:off x="3798720" y="1855800"/>
            <a:ext cx="1506600" cy="1795320"/>
          </a:xfrm>
          <a:custGeom>
            <a:avLst/>
            <a:gdLst/>
            <a:ahLst/>
            <a:rect l="l" t="t" r="r" b="b"/>
            <a:pathLst>
              <a:path w="1899" h="2261">
                <a:moveTo>
                  <a:pt x="768" y="132"/>
                </a:moveTo>
                <a:lnTo>
                  <a:pt x="757" y="132"/>
                </a:lnTo>
                <a:lnTo>
                  <a:pt x="745" y="132"/>
                </a:lnTo>
                <a:lnTo>
                  <a:pt x="734" y="134"/>
                </a:lnTo>
                <a:lnTo>
                  <a:pt x="724" y="140"/>
                </a:lnTo>
                <a:lnTo>
                  <a:pt x="704" y="147"/>
                </a:lnTo>
                <a:lnTo>
                  <a:pt x="689" y="161"/>
                </a:lnTo>
                <a:lnTo>
                  <a:pt x="673" y="172"/>
                </a:lnTo>
                <a:lnTo>
                  <a:pt x="660" y="186"/>
                </a:lnTo>
                <a:lnTo>
                  <a:pt x="646" y="200"/>
                </a:lnTo>
                <a:lnTo>
                  <a:pt x="635" y="217"/>
                </a:lnTo>
                <a:lnTo>
                  <a:pt x="623" y="233"/>
                </a:lnTo>
                <a:lnTo>
                  <a:pt x="613" y="252"/>
                </a:lnTo>
                <a:lnTo>
                  <a:pt x="609" y="260"/>
                </a:lnTo>
                <a:lnTo>
                  <a:pt x="607" y="269"/>
                </a:lnTo>
                <a:lnTo>
                  <a:pt x="604" y="281"/>
                </a:lnTo>
                <a:lnTo>
                  <a:pt x="604" y="293"/>
                </a:lnTo>
                <a:lnTo>
                  <a:pt x="598" y="304"/>
                </a:lnTo>
                <a:lnTo>
                  <a:pt x="592" y="318"/>
                </a:lnTo>
                <a:lnTo>
                  <a:pt x="582" y="330"/>
                </a:lnTo>
                <a:lnTo>
                  <a:pt x="573" y="341"/>
                </a:lnTo>
                <a:lnTo>
                  <a:pt x="559" y="347"/>
                </a:lnTo>
                <a:lnTo>
                  <a:pt x="545" y="355"/>
                </a:lnTo>
                <a:lnTo>
                  <a:pt x="530" y="361"/>
                </a:lnTo>
                <a:lnTo>
                  <a:pt x="520" y="372"/>
                </a:lnTo>
                <a:lnTo>
                  <a:pt x="512" y="380"/>
                </a:lnTo>
                <a:lnTo>
                  <a:pt x="507" y="390"/>
                </a:lnTo>
                <a:lnTo>
                  <a:pt x="501" y="399"/>
                </a:lnTo>
                <a:lnTo>
                  <a:pt x="499" y="411"/>
                </a:lnTo>
                <a:lnTo>
                  <a:pt x="495" y="426"/>
                </a:lnTo>
                <a:lnTo>
                  <a:pt x="493" y="442"/>
                </a:lnTo>
                <a:lnTo>
                  <a:pt x="489" y="458"/>
                </a:lnTo>
                <a:lnTo>
                  <a:pt x="485" y="475"/>
                </a:lnTo>
                <a:lnTo>
                  <a:pt x="479" y="489"/>
                </a:lnTo>
                <a:lnTo>
                  <a:pt x="476" y="506"/>
                </a:lnTo>
                <a:lnTo>
                  <a:pt x="470" y="520"/>
                </a:lnTo>
                <a:lnTo>
                  <a:pt x="466" y="537"/>
                </a:lnTo>
                <a:lnTo>
                  <a:pt x="464" y="549"/>
                </a:lnTo>
                <a:lnTo>
                  <a:pt x="462" y="562"/>
                </a:lnTo>
                <a:lnTo>
                  <a:pt x="460" y="574"/>
                </a:lnTo>
                <a:lnTo>
                  <a:pt x="456" y="587"/>
                </a:lnTo>
                <a:lnTo>
                  <a:pt x="443" y="603"/>
                </a:lnTo>
                <a:lnTo>
                  <a:pt x="429" y="618"/>
                </a:lnTo>
                <a:lnTo>
                  <a:pt x="414" y="632"/>
                </a:lnTo>
                <a:lnTo>
                  <a:pt x="400" y="651"/>
                </a:lnTo>
                <a:lnTo>
                  <a:pt x="388" y="663"/>
                </a:lnTo>
                <a:lnTo>
                  <a:pt x="377" y="675"/>
                </a:lnTo>
                <a:lnTo>
                  <a:pt x="361" y="684"/>
                </a:lnTo>
                <a:lnTo>
                  <a:pt x="348" y="694"/>
                </a:lnTo>
                <a:lnTo>
                  <a:pt x="342" y="698"/>
                </a:lnTo>
                <a:lnTo>
                  <a:pt x="342" y="710"/>
                </a:lnTo>
                <a:lnTo>
                  <a:pt x="340" y="719"/>
                </a:lnTo>
                <a:lnTo>
                  <a:pt x="336" y="731"/>
                </a:lnTo>
                <a:lnTo>
                  <a:pt x="328" y="739"/>
                </a:lnTo>
                <a:lnTo>
                  <a:pt x="318" y="746"/>
                </a:lnTo>
                <a:lnTo>
                  <a:pt x="299" y="748"/>
                </a:lnTo>
                <a:lnTo>
                  <a:pt x="282" y="754"/>
                </a:lnTo>
                <a:lnTo>
                  <a:pt x="266" y="762"/>
                </a:lnTo>
                <a:lnTo>
                  <a:pt x="253" y="774"/>
                </a:lnTo>
                <a:lnTo>
                  <a:pt x="237" y="785"/>
                </a:lnTo>
                <a:lnTo>
                  <a:pt x="223" y="797"/>
                </a:lnTo>
                <a:lnTo>
                  <a:pt x="212" y="808"/>
                </a:lnTo>
                <a:lnTo>
                  <a:pt x="200" y="822"/>
                </a:lnTo>
                <a:lnTo>
                  <a:pt x="189" y="832"/>
                </a:lnTo>
                <a:lnTo>
                  <a:pt x="177" y="845"/>
                </a:lnTo>
                <a:lnTo>
                  <a:pt x="171" y="857"/>
                </a:lnTo>
                <a:lnTo>
                  <a:pt x="173" y="874"/>
                </a:lnTo>
                <a:lnTo>
                  <a:pt x="177" y="884"/>
                </a:lnTo>
                <a:lnTo>
                  <a:pt x="185" y="896"/>
                </a:lnTo>
                <a:lnTo>
                  <a:pt x="190" y="905"/>
                </a:lnTo>
                <a:lnTo>
                  <a:pt x="190" y="917"/>
                </a:lnTo>
                <a:lnTo>
                  <a:pt x="181" y="925"/>
                </a:lnTo>
                <a:lnTo>
                  <a:pt x="173" y="934"/>
                </a:lnTo>
                <a:lnTo>
                  <a:pt x="163" y="944"/>
                </a:lnTo>
                <a:lnTo>
                  <a:pt x="159" y="960"/>
                </a:lnTo>
                <a:lnTo>
                  <a:pt x="158" y="969"/>
                </a:lnTo>
                <a:lnTo>
                  <a:pt x="156" y="979"/>
                </a:lnTo>
                <a:lnTo>
                  <a:pt x="156" y="991"/>
                </a:lnTo>
                <a:lnTo>
                  <a:pt x="156" y="1002"/>
                </a:lnTo>
                <a:lnTo>
                  <a:pt x="156" y="1012"/>
                </a:lnTo>
                <a:lnTo>
                  <a:pt x="156" y="1022"/>
                </a:lnTo>
                <a:lnTo>
                  <a:pt x="158" y="1033"/>
                </a:lnTo>
                <a:lnTo>
                  <a:pt x="159" y="1045"/>
                </a:lnTo>
                <a:lnTo>
                  <a:pt x="159" y="1064"/>
                </a:lnTo>
                <a:lnTo>
                  <a:pt x="163" y="1086"/>
                </a:lnTo>
                <a:lnTo>
                  <a:pt x="165" y="1095"/>
                </a:lnTo>
                <a:lnTo>
                  <a:pt x="167" y="1107"/>
                </a:lnTo>
                <a:lnTo>
                  <a:pt x="169" y="1119"/>
                </a:lnTo>
                <a:lnTo>
                  <a:pt x="173" y="1130"/>
                </a:lnTo>
                <a:lnTo>
                  <a:pt x="177" y="1142"/>
                </a:lnTo>
                <a:lnTo>
                  <a:pt x="183" y="1157"/>
                </a:lnTo>
                <a:lnTo>
                  <a:pt x="189" y="1171"/>
                </a:lnTo>
                <a:lnTo>
                  <a:pt x="194" y="1187"/>
                </a:lnTo>
                <a:lnTo>
                  <a:pt x="192" y="1196"/>
                </a:lnTo>
                <a:lnTo>
                  <a:pt x="190" y="1208"/>
                </a:lnTo>
                <a:lnTo>
                  <a:pt x="185" y="1220"/>
                </a:lnTo>
                <a:lnTo>
                  <a:pt x="181" y="1231"/>
                </a:lnTo>
                <a:lnTo>
                  <a:pt x="171" y="1241"/>
                </a:lnTo>
                <a:lnTo>
                  <a:pt x="165" y="1251"/>
                </a:lnTo>
                <a:lnTo>
                  <a:pt x="158" y="1262"/>
                </a:lnTo>
                <a:lnTo>
                  <a:pt x="152" y="1274"/>
                </a:lnTo>
                <a:lnTo>
                  <a:pt x="138" y="1285"/>
                </a:lnTo>
                <a:lnTo>
                  <a:pt x="125" y="1297"/>
                </a:lnTo>
                <a:lnTo>
                  <a:pt x="109" y="1307"/>
                </a:lnTo>
                <a:lnTo>
                  <a:pt x="95" y="1320"/>
                </a:lnTo>
                <a:lnTo>
                  <a:pt x="84" y="1328"/>
                </a:lnTo>
                <a:lnTo>
                  <a:pt x="74" y="1338"/>
                </a:lnTo>
                <a:lnTo>
                  <a:pt x="62" y="1346"/>
                </a:lnTo>
                <a:lnTo>
                  <a:pt x="53" y="1353"/>
                </a:lnTo>
                <a:lnTo>
                  <a:pt x="41" y="1359"/>
                </a:lnTo>
                <a:lnTo>
                  <a:pt x="31" y="1369"/>
                </a:lnTo>
                <a:lnTo>
                  <a:pt x="22" y="1379"/>
                </a:lnTo>
                <a:lnTo>
                  <a:pt x="16" y="1392"/>
                </a:lnTo>
                <a:lnTo>
                  <a:pt x="12" y="1404"/>
                </a:lnTo>
                <a:lnTo>
                  <a:pt x="14" y="1417"/>
                </a:lnTo>
                <a:lnTo>
                  <a:pt x="14" y="1431"/>
                </a:lnTo>
                <a:lnTo>
                  <a:pt x="14" y="1444"/>
                </a:lnTo>
                <a:lnTo>
                  <a:pt x="6" y="1460"/>
                </a:lnTo>
                <a:lnTo>
                  <a:pt x="2" y="1477"/>
                </a:lnTo>
                <a:lnTo>
                  <a:pt x="0" y="1495"/>
                </a:lnTo>
                <a:lnTo>
                  <a:pt x="6" y="1512"/>
                </a:lnTo>
                <a:lnTo>
                  <a:pt x="10" y="1522"/>
                </a:lnTo>
                <a:lnTo>
                  <a:pt x="22" y="1530"/>
                </a:lnTo>
                <a:lnTo>
                  <a:pt x="33" y="1538"/>
                </a:lnTo>
                <a:lnTo>
                  <a:pt x="45" y="1549"/>
                </a:lnTo>
                <a:lnTo>
                  <a:pt x="53" y="1555"/>
                </a:lnTo>
                <a:lnTo>
                  <a:pt x="64" y="1563"/>
                </a:lnTo>
                <a:lnTo>
                  <a:pt x="76" y="1567"/>
                </a:lnTo>
                <a:lnTo>
                  <a:pt x="90" y="1572"/>
                </a:lnTo>
                <a:lnTo>
                  <a:pt x="101" y="1574"/>
                </a:lnTo>
                <a:lnTo>
                  <a:pt x="117" y="1580"/>
                </a:lnTo>
                <a:lnTo>
                  <a:pt x="128" y="1582"/>
                </a:lnTo>
                <a:lnTo>
                  <a:pt x="144" y="1588"/>
                </a:lnTo>
                <a:lnTo>
                  <a:pt x="159" y="1590"/>
                </a:lnTo>
                <a:lnTo>
                  <a:pt x="175" y="1592"/>
                </a:lnTo>
                <a:lnTo>
                  <a:pt x="192" y="1590"/>
                </a:lnTo>
                <a:lnTo>
                  <a:pt x="210" y="1590"/>
                </a:lnTo>
                <a:lnTo>
                  <a:pt x="227" y="1588"/>
                </a:lnTo>
                <a:lnTo>
                  <a:pt x="245" y="1588"/>
                </a:lnTo>
                <a:lnTo>
                  <a:pt x="262" y="1588"/>
                </a:lnTo>
                <a:lnTo>
                  <a:pt x="280" y="1592"/>
                </a:lnTo>
                <a:lnTo>
                  <a:pt x="291" y="1594"/>
                </a:lnTo>
                <a:lnTo>
                  <a:pt x="305" y="1598"/>
                </a:lnTo>
                <a:lnTo>
                  <a:pt x="317" y="1602"/>
                </a:lnTo>
                <a:lnTo>
                  <a:pt x="330" y="1607"/>
                </a:lnTo>
                <a:lnTo>
                  <a:pt x="342" y="1613"/>
                </a:lnTo>
                <a:lnTo>
                  <a:pt x="355" y="1619"/>
                </a:lnTo>
                <a:lnTo>
                  <a:pt x="369" y="1625"/>
                </a:lnTo>
                <a:lnTo>
                  <a:pt x="382" y="1631"/>
                </a:lnTo>
                <a:lnTo>
                  <a:pt x="394" y="1631"/>
                </a:lnTo>
                <a:lnTo>
                  <a:pt x="408" y="1633"/>
                </a:lnTo>
                <a:lnTo>
                  <a:pt x="419" y="1631"/>
                </a:lnTo>
                <a:lnTo>
                  <a:pt x="435" y="1631"/>
                </a:lnTo>
                <a:lnTo>
                  <a:pt x="446" y="1631"/>
                </a:lnTo>
                <a:lnTo>
                  <a:pt x="460" y="1631"/>
                </a:lnTo>
                <a:lnTo>
                  <a:pt x="472" y="1634"/>
                </a:lnTo>
                <a:lnTo>
                  <a:pt x="481" y="1644"/>
                </a:lnTo>
                <a:lnTo>
                  <a:pt x="487" y="1656"/>
                </a:lnTo>
                <a:lnTo>
                  <a:pt x="489" y="1669"/>
                </a:lnTo>
                <a:lnTo>
                  <a:pt x="487" y="1683"/>
                </a:lnTo>
                <a:lnTo>
                  <a:pt x="485" y="1700"/>
                </a:lnTo>
                <a:lnTo>
                  <a:pt x="479" y="1716"/>
                </a:lnTo>
                <a:lnTo>
                  <a:pt x="474" y="1733"/>
                </a:lnTo>
                <a:lnTo>
                  <a:pt x="468" y="1749"/>
                </a:lnTo>
                <a:lnTo>
                  <a:pt x="466" y="1766"/>
                </a:lnTo>
                <a:lnTo>
                  <a:pt x="458" y="1778"/>
                </a:lnTo>
                <a:lnTo>
                  <a:pt x="446" y="1790"/>
                </a:lnTo>
                <a:lnTo>
                  <a:pt x="435" y="1799"/>
                </a:lnTo>
                <a:lnTo>
                  <a:pt x="431" y="1817"/>
                </a:lnTo>
                <a:lnTo>
                  <a:pt x="429" y="1832"/>
                </a:lnTo>
                <a:lnTo>
                  <a:pt x="425" y="1850"/>
                </a:lnTo>
                <a:lnTo>
                  <a:pt x="419" y="1867"/>
                </a:lnTo>
                <a:lnTo>
                  <a:pt x="415" y="1885"/>
                </a:lnTo>
                <a:lnTo>
                  <a:pt x="412" y="1894"/>
                </a:lnTo>
                <a:lnTo>
                  <a:pt x="414" y="1906"/>
                </a:lnTo>
                <a:lnTo>
                  <a:pt x="415" y="1916"/>
                </a:lnTo>
                <a:lnTo>
                  <a:pt x="423" y="1927"/>
                </a:lnTo>
                <a:lnTo>
                  <a:pt x="437" y="1945"/>
                </a:lnTo>
                <a:lnTo>
                  <a:pt x="454" y="1956"/>
                </a:lnTo>
                <a:lnTo>
                  <a:pt x="468" y="1956"/>
                </a:lnTo>
                <a:lnTo>
                  <a:pt x="483" y="1958"/>
                </a:lnTo>
                <a:lnTo>
                  <a:pt x="499" y="1954"/>
                </a:lnTo>
                <a:lnTo>
                  <a:pt x="516" y="1951"/>
                </a:lnTo>
                <a:lnTo>
                  <a:pt x="532" y="1943"/>
                </a:lnTo>
                <a:lnTo>
                  <a:pt x="547" y="1937"/>
                </a:lnTo>
                <a:lnTo>
                  <a:pt x="563" y="1929"/>
                </a:lnTo>
                <a:lnTo>
                  <a:pt x="580" y="1923"/>
                </a:lnTo>
                <a:lnTo>
                  <a:pt x="596" y="1919"/>
                </a:lnTo>
                <a:lnTo>
                  <a:pt x="613" y="1921"/>
                </a:lnTo>
                <a:lnTo>
                  <a:pt x="629" y="1927"/>
                </a:lnTo>
                <a:lnTo>
                  <a:pt x="646" y="1939"/>
                </a:lnTo>
                <a:lnTo>
                  <a:pt x="664" y="1952"/>
                </a:lnTo>
                <a:lnTo>
                  <a:pt x="681" y="1966"/>
                </a:lnTo>
                <a:lnTo>
                  <a:pt x="699" y="1978"/>
                </a:lnTo>
                <a:lnTo>
                  <a:pt x="716" y="1991"/>
                </a:lnTo>
                <a:lnTo>
                  <a:pt x="732" y="2003"/>
                </a:lnTo>
                <a:lnTo>
                  <a:pt x="749" y="2018"/>
                </a:lnTo>
                <a:lnTo>
                  <a:pt x="765" y="2034"/>
                </a:lnTo>
                <a:lnTo>
                  <a:pt x="782" y="2051"/>
                </a:lnTo>
                <a:lnTo>
                  <a:pt x="798" y="2069"/>
                </a:lnTo>
                <a:lnTo>
                  <a:pt x="813" y="2088"/>
                </a:lnTo>
                <a:lnTo>
                  <a:pt x="819" y="2096"/>
                </a:lnTo>
                <a:lnTo>
                  <a:pt x="827" y="2106"/>
                </a:lnTo>
                <a:lnTo>
                  <a:pt x="832" y="2115"/>
                </a:lnTo>
                <a:lnTo>
                  <a:pt x="838" y="2127"/>
                </a:lnTo>
                <a:lnTo>
                  <a:pt x="844" y="2141"/>
                </a:lnTo>
                <a:lnTo>
                  <a:pt x="852" y="2154"/>
                </a:lnTo>
                <a:lnTo>
                  <a:pt x="858" y="2166"/>
                </a:lnTo>
                <a:lnTo>
                  <a:pt x="865" y="2181"/>
                </a:lnTo>
                <a:lnTo>
                  <a:pt x="873" y="2201"/>
                </a:lnTo>
                <a:lnTo>
                  <a:pt x="889" y="2218"/>
                </a:lnTo>
                <a:lnTo>
                  <a:pt x="906" y="2234"/>
                </a:lnTo>
                <a:lnTo>
                  <a:pt x="925" y="2245"/>
                </a:lnTo>
                <a:lnTo>
                  <a:pt x="935" y="2247"/>
                </a:lnTo>
                <a:lnTo>
                  <a:pt x="947" y="2251"/>
                </a:lnTo>
                <a:lnTo>
                  <a:pt x="958" y="2253"/>
                </a:lnTo>
                <a:lnTo>
                  <a:pt x="970" y="2257"/>
                </a:lnTo>
                <a:lnTo>
                  <a:pt x="982" y="2257"/>
                </a:lnTo>
                <a:lnTo>
                  <a:pt x="995" y="2259"/>
                </a:lnTo>
                <a:lnTo>
                  <a:pt x="1009" y="2259"/>
                </a:lnTo>
                <a:lnTo>
                  <a:pt x="1022" y="2261"/>
                </a:lnTo>
                <a:lnTo>
                  <a:pt x="1034" y="2259"/>
                </a:lnTo>
                <a:lnTo>
                  <a:pt x="1046" y="2257"/>
                </a:lnTo>
                <a:lnTo>
                  <a:pt x="1059" y="2257"/>
                </a:lnTo>
                <a:lnTo>
                  <a:pt x="1073" y="2257"/>
                </a:lnTo>
                <a:lnTo>
                  <a:pt x="1085" y="2255"/>
                </a:lnTo>
                <a:lnTo>
                  <a:pt x="1096" y="2253"/>
                </a:lnTo>
                <a:lnTo>
                  <a:pt x="1110" y="2253"/>
                </a:lnTo>
                <a:lnTo>
                  <a:pt x="1123" y="2253"/>
                </a:lnTo>
                <a:lnTo>
                  <a:pt x="1133" y="2249"/>
                </a:lnTo>
                <a:lnTo>
                  <a:pt x="1145" y="2245"/>
                </a:lnTo>
                <a:lnTo>
                  <a:pt x="1152" y="2239"/>
                </a:lnTo>
                <a:lnTo>
                  <a:pt x="1162" y="2234"/>
                </a:lnTo>
                <a:lnTo>
                  <a:pt x="1178" y="2216"/>
                </a:lnTo>
                <a:lnTo>
                  <a:pt x="1191" y="2197"/>
                </a:lnTo>
                <a:lnTo>
                  <a:pt x="1197" y="2183"/>
                </a:lnTo>
                <a:lnTo>
                  <a:pt x="1203" y="2172"/>
                </a:lnTo>
                <a:lnTo>
                  <a:pt x="1209" y="2160"/>
                </a:lnTo>
                <a:lnTo>
                  <a:pt x="1214" y="2148"/>
                </a:lnTo>
                <a:lnTo>
                  <a:pt x="1220" y="2137"/>
                </a:lnTo>
                <a:lnTo>
                  <a:pt x="1228" y="2125"/>
                </a:lnTo>
                <a:lnTo>
                  <a:pt x="1234" y="2115"/>
                </a:lnTo>
                <a:lnTo>
                  <a:pt x="1244" y="2108"/>
                </a:lnTo>
                <a:lnTo>
                  <a:pt x="1251" y="2098"/>
                </a:lnTo>
                <a:lnTo>
                  <a:pt x="1263" y="2090"/>
                </a:lnTo>
                <a:lnTo>
                  <a:pt x="1277" y="2084"/>
                </a:lnTo>
                <a:lnTo>
                  <a:pt x="1294" y="2080"/>
                </a:lnTo>
                <a:lnTo>
                  <a:pt x="1306" y="2073"/>
                </a:lnTo>
                <a:lnTo>
                  <a:pt x="1317" y="2065"/>
                </a:lnTo>
                <a:lnTo>
                  <a:pt x="1327" y="2055"/>
                </a:lnTo>
                <a:lnTo>
                  <a:pt x="1339" y="2046"/>
                </a:lnTo>
                <a:lnTo>
                  <a:pt x="1348" y="2034"/>
                </a:lnTo>
                <a:lnTo>
                  <a:pt x="1358" y="2026"/>
                </a:lnTo>
                <a:lnTo>
                  <a:pt x="1370" y="2020"/>
                </a:lnTo>
                <a:lnTo>
                  <a:pt x="1385" y="2018"/>
                </a:lnTo>
                <a:lnTo>
                  <a:pt x="1399" y="2015"/>
                </a:lnTo>
                <a:lnTo>
                  <a:pt x="1416" y="2013"/>
                </a:lnTo>
                <a:lnTo>
                  <a:pt x="1430" y="2011"/>
                </a:lnTo>
                <a:lnTo>
                  <a:pt x="1447" y="2009"/>
                </a:lnTo>
                <a:lnTo>
                  <a:pt x="1461" y="2005"/>
                </a:lnTo>
                <a:lnTo>
                  <a:pt x="1476" y="2001"/>
                </a:lnTo>
                <a:lnTo>
                  <a:pt x="1492" y="1997"/>
                </a:lnTo>
                <a:lnTo>
                  <a:pt x="1507" y="1995"/>
                </a:lnTo>
                <a:lnTo>
                  <a:pt x="1521" y="1989"/>
                </a:lnTo>
                <a:lnTo>
                  <a:pt x="1536" y="1985"/>
                </a:lnTo>
                <a:lnTo>
                  <a:pt x="1550" y="1980"/>
                </a:lnTo>
                <a:lnTo>
                  <a:pt x="1565" y="1976"/>
                </a:lnTo>
                <a:lnTo>
                  <a:pt x="1579" y="1970"/>
                </a:lnTo>
                <a:lnTo>
                  <a:pt x="1595" y="1964"/>
                </a:lnTo>
                <a:lnTo>
                  <a:pt x="1610" y="1958"/>
                </a:lnTo>
                <a:lnTo>
                  <a:pt x="1626" y="1954"/>
                </a:lnTo>
                <a:lnTo>
                  <a:pt x="1635" y="1947"/>
                </a:lnTo>
                <a:lnTo>
                  <a:pt x="1645" y="1939"/>
                </a:lnTo>
                <a:lnTo>
                  <a:pt x="1655" y="1927"/>
                </a:lnTo>
                <a:lnTo>
                  <a:pt x="1664" y="1918"/>
                </a:lnTo>
                <a:lnTo>
                  <a:pt x="1672" y="1906"/>
                </a:lnTo>
                <a:lnTo>
                  <a:pt x="1682" y="1894"/>
                </a:lnTo>
                <a:lnTo>
                  <a:pt x="1692" y="1885"/>
                </a:lnTo>
                <a:lnTo>
                  <a:pt x="1703" y="1879"/>
                </a:lnTo>
                <a:lnTo>
                  <a:pt x="1715" y="1871"/>
                </a:lnTo>
                <a:lnTo>
                  <a:pt x="1732" y="1867"/>
                </a:lnTo>
                <a:lnTo>
                  <a:pt x="1750" y="1865"/>
                </a:lnTo>
                <a:lnTo>
                  <a:pt x="1767" y="1865"/>
                </a:lnTo>
                <a:lnTo>
                  <a:pt x="1785" y="1865"/>
                </a:lnTo>
                <a:lnTo>
                  <a:pt x="1802" y="1865"/>
                </a:lnTo>
                <a:lnTo>
                  <a:pt x="1820" y="1865"/>
                </a:lnTo>
                <a:lnTo>
                  <a:pt x="1837" y="1867"/>
                </a:lnTo>
                <a:lnTo>
                  <a:pt x="1849" y="1857"/>
                </a:lnTo>
                <a:lnTo>
                  <a:pt x="1856" y="1844"/>
                </a:lnTo>
                <a:lnTo>
                  <a:pt x="1858" y="1834"/>
                </a:lnTo>
                <a:lnTo>
                  <a:pt x="1860" y="1824"/>
                </a:lnTo>
                <a:lnTo>
                  <a:pt x="1862" y="1813"/>
                </a:lnTo>
                <a:lnTo>
                  <a:pt x="1864" y="1805"/>
                </a:lnTo>
                <a:lnTo>
                  <a:pt x="1864" y="1786"/>
                </a:lnTo>
                <a:lnTo>
                  <a:pt x="1866" y="1766"/>
                </a:lnTo>
                <a:lnTo>
                  <a:pt x="1868" y="1747"/>
                </a:lnTo>
                <a:lnTo>
                  <a:pt x="1872" y="1729"/>
                </a:lnTo>
                <a:lnTo>
                  <a:pt x="1874" y="1710"/>
                </a:lnTo>
                <a:lnTo>
                  <a:pt x="1880" y="1691"/>
                </a:lnTo>
                <a:lnTo>
                  <a:pt x="1882" y="1673"/>
                </a:lnTo>
                <a:lnTo>
                  <a:pt x="1887" y="1656"/>
                </a:lnTo>
                <a:lnTo>
                  <a:pt x="1889" y="1636"/>
                </a:lnTo>
                <a:lnTo>
                  <a:pt x="1891" y="1617"/>
                </a:lnTo>
                <a:lnTo>
                  <a:pt x="1893" y="1598"/>
                </a:lnTo>
                <a:lnTo>
                  <a:pt x="1897" y="1580"/>
                </a:lnTo>
                <a:lnTo>
                  <a:pt x="1897" y="1561"/>
                </a:lnTo>
                <a:lnTo>
                  <a:pt x="1899" y="1543"/>
                </a:lnTo>
                <a:lnTo>
                  <a:pt x="1899" y="1524"/>
                </a:lnTo>
                <a:lnTo>
                  <a:pt x="1899" y="1506"/>
                </a:lnTo>
                <a:lnTo>
                  <a:pt x="1893" y="1485"/>
                </a:lnTo>
                <a:lnTo>
                  <a:pt x="1887" y="1466"/>
                </a:lnTo>
                <a:lnTo>
                  <a:pt x="1876" y="1446"/>
                </a:lnTo>
                <a:lnTo>
                  <a:pt x="1862" y="1433"/>
                </a:lnTo>
                <a:lnTo>
                  <a:pt x="1851" y="1417"/>
                </a:lnTo>
                <a:lnTo>
                  <a:pt x="1841" y="1406"/>
                </a:lnTo>
                <a:lnTo>
                  <a:pt x="1833" y="1390"/>
                </a:lnTo>
                <a:lnTo>
                  <a:pt x="1831" y="1379"/>
                </a:lnTo>
                <a:lnTo>
                  <a:pt x="1827" y="1363"/>
                </a:lnTo>
                <a:lnTo>
                  <a:pt x="1827" y="1349"/>
                </a:lnTo>
                <a:lnTo>
                  <a:pt x="1823" y="1334"/>
                </a:lnTo>
                <a:lnTo>
                  <a:pt x="1823" y="1320"/>
                </a:lnTo>
                <a:lnTo>
                  <a:pt x="1820" y="1307"/>
                </a:lnTo>
                <a:lnTo>
                  <a:pt x="1818" y="1293"/>
                </a:lnTo>
                <a:lnTo>
                  <a:pt x="1814" y="1280"/>
                </a:lnTo>
                <a:lnTo>
                  <a:pt x="1812" y="1268"/>
                </a:lnTo>
                <a:lnTo>
                  <a:pt x="1808" y="1252"/>
                </a:lnTo>
                <a:lnTo>
                  <a:pt x="1804" y="1239"/>
                </a:lnTo>
                <a:lnTo>
                  <a:pt x="1800" y="1225"/>
                </a:lnTo>
                <a:lnTo>
                  <a:pt x="1796" y="1214"/>
                </a:lnTo>
                <a:lnTo>
                  <a:pt x="1792" y="1200"/>
                </a:lnTo>
                <a:lnTo>
                  <a:pt x="1789" y="1187"/>
                </a:lnTo>
                <a:lnTo>
                  <a:pt x="1785" y="1173"/>
                </a:lnTo>
                <a:lnTo>
                  <a:pt x="1783" y="1161"/>
                </a:lnTo>
                <a:lnTo>
                  <a:pt x="1775" y="1142"/>
                </a:lnTo>
                <a:lnTo>
                  <a:pt x="1769" y="1123"/>
                </a:lnTo>
                <a:lnTo>
                  <a:pt x="1763" y="1103"/>
                </a:lnTo>
                <a:lnTo>
                  <a:pt x="1757" y="1086"/>
                </a:lnTo>
                <a:lnTo>
                  <a:pt x="1750" y="1068"/>
                </a:lnTo>
                <a:lnTo>
                  <a:pt x="1742" y="1051"/>
                </a:lnTo>
                <a:lnTo>
                  <a:pt x="1732" y="1033"/>
                </a:lnTo>
                <a:lnTo>
                  <a:pt x="1725" y="1018"/>
                </a:lnTo>
                <a:lnTo>
                  <a:pt x="1715" y="1002"/>
                </a:lnTo>
                <a:lnTo>
                  <a:pt x="1707" y="987"/>
                </a:lnTo>
                <a:lnTo>
                  <a:pt x="1701" y="971"/>
                </a:lnTo>
                <a:lnTo>
                  <a:pt x="1695" y="958"/>
                </a:lnTo>
                <a:lnTo>
                  <a:pt x="1688" y="942"/>
                </a:lnTo>
                <a:lnTo>
                  <a:pt x="1682" y="929"/>
                </a:lnTo>
                <a:lnTo>
                  <a:pt x="1674" y="913"/>
                </a:lnTo>
                <a:lnTo>
                  <a:pt x="1668" y="900"/>
                </a:lnTo>
                <a:lnTo>
                  <a:pt x="1659" y="880"/>
                </a:lnTo>
                <a:lnTo>
                  <a:pt x="1649" y="863"/>
                </a:lnTo>
                <a:lnTo>
                  <a:pt x="1639" y="845"/>
                </a:lnTo>
                <a:lnTo>
                  <a:pt x="1631" y="828"/>
                </a:lnTo>
                <a:lnTo>
                  <a:pt x="1620" y="810"/>
                </a:lnTo>
                <a:lnTo>
                  <a:pt x="1608" y="793"/>
                </a:lnTo>
                <a:lnTo>
                  <a:pt x="1597" y="777"/>
                </a:lnTo>
                <a:lnTo>
                  <a:pt x="1585" y="762"/>
                </a:lnTo>
                <a:lnTo>
                  <a:pt x="1569" y="743"/>
                </a:lnTo>
                <a:lnTo>
                  <a:pt x="1560" y="723"/>
                </a:lnTo>
                <a:lnTo>
                  <a:pt x="1554" y="712"/>
                </a:lnTo>
                <a:lnTo>
                  <a:pt x="1552" y="702"/>
                </a:lnTo>
                <a:lnTo>
                  <a:pt x="1548" y="690"/>
                </a:lnTo>
                <a:lnTo>
                  <a:pt x="1548" y="680"/>
                </a:lnTo>
                <a:lnTo>
                  <a:pt x="1542" y="669"/>
                </a:lnTo>
                <a:lnTo>
                  <a:pt x="1538" y="659"/>
                </a:lnTo>
                <a:lnTo>
                  <a:pt x="1534" y="649"/>
                </a:lnTo>
                <a:lnTo>
                  <a:pt x="1531" y="642"/>
                </a:lnTo>
                <a:lnTo>
                  <a:pt x="1525" y="632"/>
                </a:lnTo>
                <a:lnTo>
                  <a:pt x="1521" y="622"/>
                </a:lnTo>
                <a:lnTo>
                  <a:pt x="1517" y="613"/>
                </a:lnTo>
                <a:lnTo>
                  <a:pt x="1519" y="603"/>
                </a:lnTo>
                <a:lnTo>
                  <a:pt x="1515" y="593"/>
                </a:lnTo>
                <a:lnTo>
                  <a:pt x="1507" y="585"/>
                </a:lnTo>
                <a:lnTo>
                  <a:pt x="1500" y="574"/>
                </a:lnTo>
                <a:lnTo>
                  <a:pt x="1496" y="564"/>
                </a:lnTo>
                <a:lnTo>
                  <a:pt x="1494" y="553"/>
                </a:lnTo>
                <a:lnTo>
                  <a:pt x="1500" y="541"/>
                </a:lnTo>
                <a:lnTo>
                  <a:pt x="1503" y="531"/>
                </a:lnTo>
                <a:lnTo>
                  <a:pt x="1503" y="521"/>
                </a:lnTo>
                <a:lnTo>
                  <a:pt x="1494" y="510"/>
                </a:lnTo>
                <a:lnTo>
                  <a:pt x="1486" y="504"/>
                </a:lnTo>
                <a:lnTo>
                  <a:pt x="1474" y="494"/>
                </a:lnTo>
                <a:lnTo>
                  <a:pt x="1469" y="487"/>
                </a:lnTo>
                <a:lnTo>
                  <a:pt x="1461" y="475"/>
                </a:lnTo>
                <a:lnTo>
                  <a:pt x="1455" y="463"/>
                </a:lnTo>
                <a:lnTo>
                  <a:pt x="1449" y="452"/>
                </a:lnTo>
                <a:lnTo>
                  <a:pt x="1443" y="442"/>
                </a:lnTo>
                <a:lnTo>
                  <a:pt x="1432" y="421"/>
                </a:lnTo>
                <a:lnTo>
                  <a:pt x="1420" y="401"/>
                </a:lnTo>
                <a:lnTo>
                  <a:pt x="1406" y="380"/>
                </a:lnTo>
                <a:lnTo>
                  <a:pt x="1393" y="361"/>
                </a:lnTo>
                <a:lnTo>
                  <a:pt x="1379" y="341"/>
                </a:lnTo>
                <a:lnTo>
                  <a:pt x="1368" y="324"/>
                </a:lnTo>
                <a:lnTo>
                  <a:pt x="1352" y="304"/>
                </a:lnTo>
                <a:lnTo>
                  <a:pt x="1339" y="285"/>
                </a:lnTo>
                <a:lnTo>
                  <a:pt x="1323" y="266"/>
                </a:lnTo>
                <a:lnTo>
                  <a:pt x="1309" y="248"/>
                </a:lnTo>
                <a:lnTo>
                  <a:pt x="1292" y="229"/>
                </a:lnTo>
                <a:lnTo>
                  <a:pt x="1278" y="211"/>
                </a:lnTo>
                <a:lnTo>
                  <a:pt x="1261" y="194"/>
                </a:lnTo>
                <a:lnTo>
                  <a:pt x="1247" y="176"/>
                </a:lnTo>
                <a:lnTo>
                  <a:pt x="1236" y="161"/>
                </a:lnTo>
                <a:lnTo>
                  <a:pt x="1226" y="147"/>
                </a:lnTo>
                <a:lnTo>
                  <a:pt x="1216" y="132"/>
                </a:lnTo>
                <a:lnTo>
                  <a:pt x="1211" y="116"/>
                </a:lnTo>
                <a:lnTo>
                  <a:pt x="1195" y="97"/>
                </a:lnTo>
                <a:lnTo>
                  <a:pt x="1178" y="85"/>
                </a:lnTo>
                <a:lnTo>
                  <a:pt x="1162" y="79"/>
                </a:lnTo>
                <a:lnTo>
                  <a:pt x="1147" y="76"/>
                </a:lnTo>
                <a:lnTo>
                  <a:pt x="1133" y="72"/>
                </a:lnTo>
                <a:lnTo>
                  <a:pt x="1121" y="68"/>
                </a:lnTo>
                <a:lnTo>
                  <a:pt x="1112" y="62"/>
                </a:lnTo>
                <a:lnTo>
                  <a:pt x="1102" y="56"/>
                </a:lnTo>
                <a:lnTo>
                  <a:pt x="1085" y="43"/>
                </a:lnTo>
                <a:lnTo>
                  <a:pt x="1067" y="29"/>
                </a:lnTo>
                <a:lnTo>
                  <a:pt x="1048" y="15"/>
                </a:lnTo>
                <a:lnTo>
                  <a:pt x="1030" y="6"/>
                </a:lnTo>
                <a:lnTo>
                  <a:pt x="1011" y="0"/>
                </a:lnTo>
                <a:lnTo>
                  <a:pt x="991" y="0"/>
                </a:lnTo>
                <a:lnTo>
                  <a:pt x="976" y="0"/>
                </a:lnTo>
                <a:lnTo>
                  <a:pt x="962" y="2"/>
                </a:lnTo>
                <a:lnTo>
                  <a:pt x="949" y="4"/>
                </a:lnTo>
                <a:lnTo>
                  <a:pt x="935" y="8"/>
                </a:lnTo>
                <a:lnTo>
                  <a:pt x="922" y="8"/>
                </a:lnTo>
                <a:lnTo>
                  <a:pt x="908" y="12"/>
                </a:lnTo>
                <a:lnTo>
                  <a:pt x="896" y="15"/>
                </a:lnTo>
                <a:lnTo>
                  <a:pt x="885" y="21"/>
                </a:lnTo>
                <a:lnTo>
                  <a:pt x="871" y="25"/>
                </a:lnTo>
                <a:lnTo>
                  <a:pt x="858" y="31"/>
                </a:lnTo>
                <a:lnTo>
                  <a:pt x="846" y="37"/>
                </a:lnTo>
                <a:lnTo>
                  <a:pt x="834" y="44"/>
                </a:lnTo>
                <a:lnTo>
                  <a:pt x="813" y="60"/>
                </a:lnTo>
                <a:lnTo>
                  <a:pt x="796" y="79"/>
                </a:lnTo>
                <a:lnTo>
                  <a:pt x="788" y="89"/>
                </a:lnTo>
                <a:lnTo>
                  <a:pt x="788" y="103"/>
                </a:lnTo>
                <a:lnTo>
                  <a:pt x="784" y="116"/>
                </a:lnTo>
                <a:lnTo>
                  <a:pt x="780" y="132"/>
                </a:lnTo>
                <a:lnTo>
                  <a:pt x="774" y="132"/>
                </a:lnTo>
                <a:lnTo>
                  <a:pt x="76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4694400" y="2968560"/>
            <a:ext cx="2880" cy="7920"/>
          </a:xfrm>
          <a:custGeom>
            <a:avLst/>
            <a:gdLst/>
            <a:ahLst/>
            <a:rect l="l" t="t" r="r" b="b"/>
            <a:pathLst>
              <a:path w="4" h="9">
                <a:moveTo>
                  <a:pt x="2" y="9"/>
                </a:moveTo>
                <a:lnTo>
                  <a:pt x="0" y="2"/>
                </a:lnTo>
                <a:lnTo>
                  <a:pt x="4" y="0"/>
                </a:lnTo>
                <a:lnTo>
                  <a:pt x="2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4560840" y="3859200"/>
            <a:ext cx="97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4560840" y="2541600"/>
            <a:ext cx="97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4511520" y="3467160"/>
            <a:ext cx="7920" cy="4680"/>
          </a:xfrm>
          <a:custGeom>
            <a:avLst/>
            <a:gdLst/>
            <a:ahLst/>
            <a:rect l="l" t="t" r="r" b="b"/>
            <a:pathLst>
              <a:path w="10" h="8">
                <a:moveTo>
                  <a:pt x="0" y="8"/>
                </a:moveTo>
                <a:lnTo>
                  <a:pt x="10" y="0"/>
                </a:lnTo>
                <a:lnTo>
                  <a:pt x="10" y="8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4336920" y="224964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4265640" y="2349360"/>
            <a:ext cx="4680" cy="648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8"/>
                </a:moveTo>
                <a:lnTo>
                  <a:pt x="0" y="2"/>
                </a:lnTo>
                <a:lnTo>
                  <a:pt x="6" y="0"/>
                </a:lnTo>
                <a:lnTo>
                  <a:pt x="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3240000" y="4645080"/>
            <a:ext cx="1800" cy="936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12"/>
                </a:moveTo>
                <a:lnTo>
                  <a:pt x="2" y="0"/>
                </a:lnTo>
                <a:lnTo>
                  <a:pt x="2" y="1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8" name=""/>
          <p:cNvGrpSpPr/>
          <p:nvPr/>
        </p:nvGrpSpPr>
        <p:grpSpPr>
          <a:xfrm>
            <a:off x="6172200" y="2909880"/>
            <a:ext cx="1579320" cy="1798560"/>
            <a:chOff x="6172200" y="2909880"/>
            <a:chExt cx="1579320" cy="1798560"/>
          </a:xfrm>
        </p:grpSpPr>
        <p:sp>
          <p:nvSpPr>
            <p:cNvPr id="4539" name=""/>
            <p:cNvSpPr/>
            <p:nvPr/>
          </p:nvSpPr>
          <p:spPr>
            <a:xfrm>
              <a:off x="6172200" y="2909880"/>
              <a:ext cx="157932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0" name=""/>
            <p:cNvGrpSpPr/>
            <p:nvPr/>
          </p:nvGrpSpPr>
          <p:grpSpPr>
            <a:xfrm>
              <a:off x="6324480" y="3062160"/>
              <a:ext cx="1309680" cy="1598760"/>
              <a:chOff x="6324480" y="3062160"/>
              <a:chExt cx="1309680" cy="1598760"/>
            </a:xfrm>
          </p:grpSpPr>
          <p:sp>
            <p:nvSpPr>
              <p:cNvPr id="4541" name=""/>
              <p:cNvSpPr/>
              <p:nvPr/>
            </p:nvSpPr>
            <p:spPr>
              <a:xfrm>
                <a:off x="6324480" y="3062160"/>
                <a:ext cx="1309680" cy="1598760"/>
              </a:xfrm>
              <a:custGeom>
                <a:avLst/>
                <a:gdLst/>
                <a:ahLst/>
                <a:rect l="l" t="t" r="r" b="b"/>
                <a:pathLst>
                  <a:path w="4949" h="6044">
                    <a:moveTo>
                      <a:pt x="2286" y="1611"/>
                    </a:moveTo>
                    <a:lnTo>
                      <a:pt x="2277" y="2036"/>
                    </a:lnTo>
                    <a:lnTo>
                      <a:pt x="2270" y="2448"/>
                    </a:lnTo>
                    <a:lnTo>
                      <a:pt x="2264" y="2851"/>
                    </a:lnTo>
                    <a:lnTo>
                      <a:pt x="2255" y="3248"/>
                    </a:lnTo>
                    <a:lnTo>
                      <a:pt x="2246" y="3645"/>
                    </a:lnTo>
                    <a:lnTo>
                      <a:pt x="2234" y="4044"/>
                    </a:lnTo>
                    <a:lnTo>
                      <a:pt x="2215" y="4451"/>
                    </a:lnTo>
                    <a:lnTo>
                      <a:pt x="2191" y="4869"/>
                    </a:lnTo>
                    <a:lnTo>
                      <a:pt x="2181" y="4897"/>
                    </a:lnTo>
                    <a:lnTo>
                      <a:pt x="2170" y="4923"/>
                    </a:lnTo>
                    <a:lnTo>
                      <a:pt x="2159" y="4947"/>
                    </a:lnTo>
                    <a:lnTo>
                      <a:pt x="2146" y="4969"/>
                    </a:lnTo>
                    <a:lnTo>
                      <a:pt x="2132" y="4988"/>
                    </a:lnTo>
                    <a:lnTo>
                      <a:pt x="2117" y="5004"/>
                    </a:lnTo>
                    <a:lnTo>
                      <a:pt x="2100" y="5019"/>
                    </a:lnTo>
                    <a:lnTo>
                      <a:pt x="2081" y="5031"/>
                    </a:lnTo>
                    <a:lnTo>
                      <a:pt x="2062" y="5040"/>
                    </a:lnTo>
                    <a:lnTo>
                      <a:pt x="2039" y="5048"/>
                    </a:lnTo>
                    <a:lnTo>
                      <a:pt x="2015" y="5053"/>
                    </a:lnTo>
                    <a:lnTo>
                      <a:pt x="1989" y="5055"/>
                    </a:lnTo>
                    <a:lnTo>
                      <a:pt x="1961" y="5055"/>
                    </a:lnTo>
                    <a:lnTo>
                      <a:pt x="1931" y="5053"/>
                    </a:lnTo>
                    <a:lnTo>
                      <a:pt x="1898" y="5049"/>
                    </a:lnTo>
                    <a:lnTo>
                      <a:pt x="1863" y="5042"/>
                    </a:lnTo>
                    <a:lnTo>
                      <a:pt x="1813" y="5026"/>
                    </a:lnTo>
                    <a:lnTo>
                      <a:pt x="1764" y="5009"/>
                    </a:lnTo>
                    <a:lnTo>
                      <a:pt x="1716" y="4991"/>
                    </a:lnTo>
                    <a:lnTo>
                      <a:pt x="1669" y="4972"/>
                    </a:lnTo>
                    <a:lnTo>
                      <a:pt x="1623" y="4951"/>
                    </a:lnTo>
                    <a:lnTo>
                      <a:pt x="1577" y="4931"/>
                    </a:lnTo>
                    <a:lnTo>
                      <a:pt x="1533" y="4908"/>
                    </a:lnTo>
                    <a:lnTo>
                      <a:pt x="1489" y="4885"/>
                    </a:lnTo>
                    <a:lnTo>
                      <a:pt x="1447" y="4861"/>
                    </a:lnTo>
                    <a:lnTo>
                      <a:pt x="1405" y="4836"/>
                    </a:lnTo>
                    <a:lnTo>
                      <a:pt x="1365" y="4810"/>
                    </a:lnTo>
                    <a:lnTo>
                      <a:pt x="1325" y="4785"/>
                    </a:lnTo>
                    <a:lnTo>
                      <a:pt x="1286" y="4758"/>
                    </a:lnTo>
                    <a:lnTo>
                      <a:pt x="1249" y="4730"/>
                    </a:lnTo>
                    <a:lnTo>
                      <a:pt x="1212" y="4702"/>
                    </a:lnTo>
                    <a:lnTo>
                      <a:pt x="1178" y="4673"/>
                    </a:lnTo>
                    <a:lnTo>
                      <a:pt x="1144" y="4643"/>
                    </a:lnTo>
                    <a:lnTo>
                      <a:pt x="1111" y="4613"/>
                    </a:lnTo>
                    <a:lnTo>
                      <a:pt x="1080" y="4582"/>
                    </a:lnTo>
                    <a:lnTo>
                      <a:pt x="1050" y="4551"/>
                    </a:lnTo>
                    <a:lnTo>
                      <a:pt x="1021" y="4520"/>
                    </a:lnTo>
                    <a:lnTo>
                      <a:pt x="993" y="4489"/>
                    </a:lnTo>
                    <a:lnTo>
                      <a:pt x="966" y="4457"/>
                    </a:lnTo>
                    <a:lnTo>
                      <a:pt x="941" y="4425"/>
                    </a:lnTo>
                    <a:lnTo>
                      <a:pt x="917" y="4393"/>
                    </a:lnTo>
                    <a:lnTo>
                      <a:pt x="894" y="4361"/>
                    </a:lnTo>
                    <a:lnTo>
                      <a:pt x="873" y="4329"/>
                    </a:lnTo>
                    <a:lnTo>
                      <a:pt x="854" y="4296"/>
                    </a:lnTo>
                    <a:lnTo>
                      <a:pt x="835" y="4263"/>
                    </a:lnTo>
                    <a:lnTo>
                      <a:pt x="818" y="4231"/>
                    </a:lnTo>
                    <a:lnTo>
                      <a:pt x="803" y="4199"/>
                    </a:lnTo>
                    <a:lnTo>
                      <a:pt x="789" y="4167"/>
                    </a:lnTo>
                    <a:lnTo>
                      <a:pt x="847" y="4154"/>
                    </a:lnTo>
                    <a:lnTo>
                      <a:pt x="903" y="4141"/>
                    </a:lnTo>
                    <a:lnTo>
                      <a:pt x="956" y="4128"/>
                    </a:lnTo>
                    <a:lnTo>
                      <a:pt x="1008" y="4113"/>
                    </a:lnTo>
                    <a:lnTo>
                      <a:pt x="1057" y="4097"/>
                    </a:lnTo>
                    <a:lnTo>
                      <a:pt x="1105" y="4081"/>
                    </a:lnTo>
                    <a:lnTo>
                      <a:pt x="1149" y="4063"/>
                    </a:lnTo>
                    <a:lnTo>
                      <a:pt x="1191" y="4045"/>
                    </a:lnTo>
                    <a:lnTo>
                      <a:pt x="1231" y="4024"/>
                    </a:lnTo>
                    <a:lnTo>
                      <a:pt x="1268" y="4001"/>
                    </a:lnTo>
                    <a:lnTo>
                      <a:pt x="1304" y="3977"/>
                    </a:lnTo>
                    <a:lnTo>
                      <a:pt x="1336" y="3951"/>
                    </a:lnTo>
                    <a:lnTo>
                      <a:pt x="1366" y="3923"/>
                    </a:lnTo>
                    <a:lnTo>
                      <a:pt x="1393" y="3892"/>
                    </a:lnTo>
                    <a:lnTo>
                      <a:pt x="1418" y="3859"/>
                    </a:lnTo>
                    <a:lnTo>
                      <a:pt x="1439" y="3824"/>
                    </a:lnTo>
                    <a:lnTo>
                      <a:pt x="1388" y="3820"/>
                    </a:lnTo>
                    <a:lnTo>
                      <a:pt x="1336" y="3814"/>
                    </a:lnTo>
                    <a:lnTo>
                      <a:pt x="1284" y="3807"/>
                    </a:lnTo>
                    <a:lnTo>
                      <a:pt x="1233" y="3800"/>
                    </a:lnTo>
                    <a:lnTo>
                      <a:pt x="1182" y="3792"/>
                    </a:lnTo>
                    <a:lnTo>
                      <a:pt x="1132" y="3783"/>
                    </a:lnTo>
                    <a:lnTo>
                      <a:pt x="1082" y="3773"/>
                    </a:lnTo>
                    <a:lnTo>
                      <a:pt x="1032" y="3763"/>
                    </a:lnTo>
                    <a:lnTo>
                      <a:pt x="982" y="3751"/>
                    </a:lnTo>
                    <a:lnTo>
                      <a:pt x="932" y="3740"/>
                    </a:lnTo>
                    <a:lnTo>
                      <a:pt x="885" y="3726"/>
                    </a:lnTo>
                    <a:lnTo>
                      <a:pt x="836" y="3713"/>
                    </a:lnTo>
                    <a:lnTo>
                      <a:pt x="788" y="3700"/>
                    </a:lnTo>
                    <a:lnTo>
                      <a:pt x="742" y="3684"/>
                    </a:lnTo>
                    <a:lnTo>
                      <a:pt x="695" y="3668"/>
                    </a:lnTo>
                    <a:lnTo>
                      <a:pt x="648" y="3653"/>
                    </a:lnTo>
                    <a:lnTo>
                      <a:pt x="603" y="3636"/>
                    </a:lnTo>
                    <a:lnTo>
                      <a:pt x="558" y="3619"/>
                    </a:lnTo>
                    <a:lnTo>
                      <a:pt x="514" y="3601"/>
                    </a:lnTo>
                    <a:lnTo>
                      <a:pt x="470" y="3582"/>
                    </a:lnTo>
                    <a:lnTo>
                      <a:pt x="427" y="3564"/>
                    </a:lnTo>
                    <a:lnTo>
                      <a:pt x="384" y="3544"/>
                    </a:lnTo>
                    <a:lnTo>
                      <a:pt x="343" y="3524"/>
                    </a:lnTo>
                    <a:lnTo>
                      <a:pt x="301" y="3505"/>
                    </a:lnTo>
                    <a:lnTo>
                      <a:pt x="261" y="3484"/>
                    </a:lnTo>
                    <a:lnTo>
                      <a:pt x="221" y="3462"/>
                    </a:lnTo>
                    <a:lnTo>
                      <a:pt x="182" y="3442"/>
                    </a:lnTo>
                    <a:lnTo>
                      <a:pt x="145" y="3419"/>
                    </a:lnTo>
                    <a:lnTo>
                      <a:pt x="107" y="3397"/>
                    </a:lnTo>
                    <a:lnTo>
                      <a:pt x="71" y="3374"/>
                    </a:lnTo>
                    <a:lnTo>
                      <a:pt x="35" y="3351"/>
                    </a:lnTo>
                    <a:lnTo>
                      <a:pt x="0" y="3329"/>
                    </a:lnTo>
                    <a:lnTo>
                      <a:pt x="8" y="3531"/>
                    </a:lnTo>
                    <a:lnTo>
                      <a:pt x="14" y="3729"/>
                    </a:lnTo>
                    <a:lnTo>
                      <a:pt x="20" y="3922"/>
                    </a:lnTo>
                    <a:lnTo>
                      <a:pt x="27" y="4113"/>
                    </a:lnTo>
                    <a:lnTo>
                      <a:pt x="37" y="4302"/>
                    </a:lnTo>
                    <a:lnTo>
                      <a:pt x="49" y="4488"/>
                    </a:lnTo>
                    <a:lnTo>
                      <a:pt x="66" y="4674"/>
                    </a:lnTo>
                    <a:lnTo>
                      <a:pt x="87" y="4859"/>
                    </a:lnTo>
                    <a:lnTo>
                      <a:pt x="105" y="4844"/>
                    </a:lnTo>
                    <a:lnTo>
                      <a:pt x="124" y="4827"/>
                    </a:lnTo>
                    <a:lnTo>
                      <a:pt x="142" y="4809"/>
                    </a:lnTo>
                    <a:lnTo>
                      <a:pt x="161" y="4790"/>
                    </a:lnTo>
                    <a:lnTo>
                      <a:pt x="180" y="4770"/>
                    </a:lnTo>
                    <a:lnTo>
                      <a:pt x="198" y="4748"/>
                    </a:lnTo>
                    <a:lnTo>
                      <a:pt x="217" y="4725"/>
                    </a:lnTo>
                    <a:lnTo>
                      <a:pt x="235" y="4703"/>
                    </a:lnTo>
                    <a:lnTo>
                      <a:pt x="253" y="4678"/>
                    </a:lnTo>
                    <a:lnTo>
                      <a:pt x="271" y="4653"/>
                    </a:lnTo>
                    <a:lnTo>
                      <a:pt x="289" y="4626"/>
                    </a:lnTo>
                    <a:lnTo>
                      <a:pt x="305" y="4599"/>
                    </a:lnTo>
                    <a:lnTo>
                      <a:pt x="322" y="4570"/>
                    </a:lnTo>
                    <a:lnTo>
                      <a:pt x="337" y="4541"/>
                    </a:lnTo>
                    <a:lnTo>
                      <a:pt x="352" y="4511"/>
                    </a:lnTo>
                    <a:lnTo>
                      <a:pt x="366" y="4480"/>
                    </a:lnTo>
                    <a:lnTo>
                      <a:pt x="440" y="4652"/>
                    </a:lnTo>
                    <a:lnTo>
                      <a:pt x="526" y="4815"/>
                    </a:lnTo>
                    <a:lnTo>
                      <a:pt x="624" y="4969"/>
                    </a:lnTo>
                    <a:lnTo>
                      <a:pt x="730" y="5114"/>
                    </a:lnTo>
                    <a:lnTo>
                      <a:pt x="847" y="5249"/>
                    </a:lnTo>
                    <a:lnTo>
                      <a:pt x="974" y="5374"/>
                    </a:lnTo>
                    <a:lnTo>
                      <a:pt x="1108" y="5489"/>
                    </a:lnTo>
                    <a:lnTo>
                      <a:pt x="1248" y="5595"/>
                    </a:lnTo>
                    <a:lnTo>
                      <a:pt x="1395" y="5689"/>
                    </a:lnTo>
                    <a:lnTo>
                      <a:pt x="1547" y="5773"/>
                    </a:lnTo>
                    <a:lnTo>
                      <a:pt x="1704" y="5847"/>
                    </a:lnTo>
                    <a:lnTo>
                      <a:pt x="1864" y="5909"/>
                    </a:lnTo>
                    <a:lnTo>
                      <a:pt x="2026" y="5959"/>
                    </a:lnTo>
                    <a:lnTo>
                      <a:pt x="2191" y="5998"/>
                    </a:lnTo>
                    <a:lnTo>
                      <a:pt x="2357" y="6025"/>
                    </a:lnTo>
                    <a:lnTo>
                      <a:pt x="2523" y="6040"/>
                    </a:lnTo>
                    <a:lnTo>
                      <a:pt x="2688" y="6044"/>
                    </a:lnTo>
                    <a:lnTo>
                      <a:pt x="2852" y="6033"/>
                    </a:lnTo>
                    <a:lnTo>
                      <a:pt x="3013" y="6011"/>
                    </a:lnTo>
                    <a:lnTo>
                      <a:pt x="3171" y="5976"/>
                    </a:lnTo>
                    <a:lnTo>
                      <a:pt x="3324" y="5928"/>
                    </a:lnTo>
                    <a:lnTo>
                      <a:pt x="3474" y="5865"/>
                    </a:lnTo>
                    <a:lnTo>
                      <a:pt x="3617" y="5791"/>
                    </a:lnTo>
                    <a:lnTo>
                      <a:pt x="3754" y="5701"/>
                    </a:lnTo>
                    <a:lnTo>
                      <a:pt x="3882" y="5597"/>
                    </a:lnTo>
                    <a:lnTo>
                      <a:pt x="4003" y="5480"/>
                    </a:lnTo>
                    <a:lnTo>
                      <a:pt x="4113" y="5347"/>
                    </a:lnTo>
                    <a:lnTo>
                      <a:pt x="4215" y="5200"/>
                    </a:lnTo>
                    <a:lnTo>
                      <a:pt x="4305" y="5038"/>
                    </a:lnTo>
                    <a:lnTo>
                      <a:pt x="4383" y="4861"/>
                    </a:lnTo>
                    <a:lnTo>
                      <a:pt x="4449" y="4668"/>
                    </a:lnTo>
                    <a:lnTo>
                      <a:pt x="4501" y="4460"/>
                    </a:lnTo>
                    <a:lnTo>
                      <a:pt x="4519" y="4487"/>
                    </a:lnTo>
                    <a:lnTo>
                      <a:pt x="4537" y="4514"/>
                    </a:lnTo>
                    <a:lnTo>
                      <a:pt x="4558" y="4542"/>
                    </a:lnTo>
                    <a:lnTo>
                      <a:pt x="4580" y="4570"/>
                    </a:lnTo>
                    <a:lnTo>
                      <a:pt x="4604" y="4599"/>
                    </a:lnTo>
                    <a:lnTo>
                      <a:pt x="4629" y="4628"/>
                    </a:lnTo>
                    <a:lnTo>
                      <a:pt x="4655" y="4657"/>
                    </a:lnTo>
                    <a:lnTo>
                      <a:pt x="4682" y="4686"/>
                    </a:lnTo>
                    <a:lnTo>
                      <a:pt x="4711" y="4714"/>
                    </a:lnTo>
                    <a:lnTo>
                      <a:pt x="4741" y="4742"/>
                    </a:lnTo>
                    <a:lnTo>
                      <a:pt x="4773" y="4770"/>
                    </a:lnTo>
                    <a:lnTo>
                      <a:pt x="4805" y="4796"/>
                    </a:lnTo>
                    <a:lnTo>
                      <a:pt x="4839" y="4822"/>
                    </a:lnTo>
                    <a:lnTo>
                      <a:pt x="4874" y="4846"/>
                    </a:lnTo>
                    <a:lnTo>
                      <a:pt x="4911" y="4868"/>
                    </a:lnTo>
                    <a:lnTo>
                      <a:pt x="4949" y="4890"/>
                    </a:lnTo>
                    <a:lnTo>
                      <a:pt x="4928" y="4661"/>
                    </a:lnTo>
                    <a:lnTo>
                      <a:pt x="4909" y="4438"/>
                    </a:lnTo>
                    <a:lnTo>
                      <a:pt x="4889" y="4220"/>
                    </a:lnTo>
                    <a:lnTo>
                      <a:pt x="4869" y="4004"/>
                    </a:lnTo>
                    <a:lnTo>
                      <a:pt x="4852" y="3791"/>
                    </a:lnTo>
                    <a:lnTo>
                      <a:pt x="4836" y="3578"/>
                    </a:lnTo>
                    <a:lnTo>
                      <a:pt x="4822" y="3365"/>
                    </a:lnTo>
                    <a:lnTo>
                      <a:pt x="4810" y="3151"/>
                    </a:lnTo>
                    <a:lnTo>
                      <a:pt x="4779" y="3186"/>
                    </a:lnTo>
                    <a:lnTo>
                      <a:pt x="4746" y="3220"/>
                    </a:lnTo>
                    <a:lnTo>
                      <a:pt x="4714" y="3254"/>
                    </a:lnTo>
                    <a:lnTo>
                      <a:pt x="4681" y="3287"/>
                    </a:lnTo>
                    <a:lnTo>
                      <a:pt x="4646" y="3321"/>
                    </a:lnTo>
                    <a:lnTo>
                      <a:pt x="4611" y="3355"/>
                    </a:lnTo>
                    <a:lnTo>
                      <a:pt x="4577" y="3389"/>
                    </a:lnTo>
                    <a:lnTo>
                      <a:pt x="4541" y="3422"/>
                    </a:lnTo>
                    <a:lnTo>
                      <a:pt x="4504" y="3455"/>
                    </a:lnTo>
                    <a:lnTo>
                      <a:pt x="4468" y="3487"/>
                    </a:lnTo>
                    <a:lnTo>
                      <a:pt x="4431" y="3519"/>
                    </a:lnTo>
                    <a:lnTo>
                      <a:pt x="4393" y="3551"/>
                    </a:lnTo>
                    <a:lnTo>
                      <a:pt x="4355" y="3582"/>
                    </a:lnTo>
                    <a:lnTo>
                      <a:pt x="4317" y="3612"/>
                    </a:lnTo>
                    <a:lnTo>
                      <a:pt x="4278" y="3643"/>
                    </a:lnTo>
                    <a:lnTo>
                      <a:pt x="4239" y="3673"/>
                    </a:lnTo>
                    <a:lnTo>
                      <a:pt x="4198" y="3702"/>
                    </a:lnTo>
                    <a:lnTo>
                      <a:pt x="4159" y="3730"/>
                    </a:lnTo>
                    <a:lnTo>
                      <a:pt x="4119" y="3758"/>
                    </a:lnTo>
                    <a:lnTo>
                      <a:pt x="4077" y="3783"/>
                    </a:lnTo>
                    <a:lnTo>
                      <a:pt x="4037" y="3809"/>
                    </a:lnTo>
                    <a:lnTo>
                      <a:pt x="3995" y="3835"/>
                    </a:lnTo>
                    <a:lnTo>
                      <a:pt x="3953" y="3859"/>
                    </a:lnTo>
                    <a:lnTo>
                      <a:pt x="3911" y="3882"/>
                    </a:lnTo>
                    <a:lnTo>
                      <a:pt x="3869" y="3905"/>
                    </a:lnTo>
                    <a:lnTo>
                      <a:pt x="3826" y="3925"/>
                    </a:lnTo>
                    <a:lnTo>
                      <a:pt x="3784" y="3946"/>
                    </a:lnTo>
                    <a:lnTo>
                      <a:pt x="3740" y="3965"/>
                    </a:lnTo>
                    <a:lnTo>
                      <a:pt x="3697" y="3982"/>
                    </a:lnTo>
                    <a:lnTo>
                      <a:pt x="3653" y="3999"/>
                    </a:lnTo>
                    <a:lnTo>
                      <a:pt x="3610" y="4015"/>
                    </a:lnTo>
                    <a:lnTo>
                      <a:pt x="3566" y="4029"/>
                    </a:lnTo>
                    <a:lnTo>
                      <a:pt x="3597" y="4039"/>
                    </a:lnTo>
                    <a:lnTo>
                      <a:pt x="3631" y="4048"/>
                    </a:lnTo>
                    <a:lnTo>
                      <a:pt x="3669" y="4055"/>
                    </a:lnTo>
                    <a:lnTo>
                      <a:pt x="3707" y="4061"/>
                    </a:lnTo>
                    <a:lnTo>
                      <a:pt x="3746" y="4065"/>
                    </a:lnTo>
                    <a:lnTo>
                      <a:pt x="3788" y="4069"/>
                    </a:lnTo>
                    <a:lnTo>
                      <a:pt x="3829" y="4073"/>
                    </a:lnTo>
                    <a:lnTo>
                      <a:pt x="3871" y="4076"/>
                    </a:lnTo>
                    <a:lnTo>
                      <a:pt x="3912" y="4079"/>
                    </a:lnTo>
                    <a:lnTo>
                      <a:pt x="3953" y="4083"/>
                    </a:lnTo>
                    <a:lnTo>
                      <a:pt x="3992" y="4087"/>
                    </a:lnTo>
                    <a:lnTo>
                      <a:pt x="4029" y="4092"/>
                    </a:lnTo>
                    <a:lnTo>
                      <a:pt x="4066" y="4099"/>
                    </a:lnTo>
                    <a:lnTo>
                      <a:pt x="4099" y="4106"/>
                    </a:lnTo>
                    <a:lnTo>
                      <a:pt x="4129" y="4115"/>
                    </a:lnTo>
                    <a:lnTo>
                      <a:pt x="4156" y="4126"/>
                    </a:lnTo>
                    <a:lnTo>
                      <a:pt x="4138" y="4168"/>
                    </a:lnTo>
                    <a:lnTo>
                      <a:pt x="4120" y="4208"/>
                    </a:lnTo>
                    <a:lnTo>
                      <a:pt x="4101" y="4248"/>
                    </a:lnTo>
                    <a:lnTo>
                      <a:pt x="4080" y="4287"/>
                    </a:lnTo>
                    <a:lnTo>
                      <a:pt x="4060" y="4325"/>
                    </a:lnTo>
                    <a:lnTo>
                      <a:pt x="4038" y="4364"/>
                    </a:lnTo>
                    <a:lnTo>
                      <a:pt x="4015" y="4401"/>
                    </a:lnTo>
                    <a:lnTo>
                      <a:pt x="3992" y="4437"/>
                    </a:lnTo>
                    <a:lnTo>
                      <a:pt x="3968" y="4474"/>
                    </a:lnTo>
                    <a:lnTo>
                      <a:pt x="3943" y="4509"/>
                    </a:lnTo>
                    <a:lnTo>
                      <a:pt x="3917" y="4543"/>
                    </a:lnTo>
                    <a:lnTo>
                      <a:pt x="3892" y="4576"/>
                    </a:lnTo>
                    <a:lnTo>
                      <a:pt x="3865" y="4609"/>
                    </a:lnTo>
                    <a:lnTo>
                      <a:pt x="3837" y="4642"/>
                    </a:lnTo>
                    <a:lnTo>
                      <a:pt x="3809" y="4673"/>
                    </a:lnTo>
                    <a:lnTo>
                      <a:pt x="3780" y="4703"/>
                    </a:lnTo>
                    <a:lnTo>
                      <a:pt x="3750" y="4733"/>
                    </a:lnTo>
                    <a:lnTo>
                      <a:pt x="3719" y="4761"/>
                    </a:lnTo>
                    <a:lnTo>
                      <a:pt x="3688" y="4789"/>
                    </a:lnTo>
                    <a:lnTo>
                      <a:pt x="3656" y="4815"/>
                    </a:lnTo>
                    <a:lnTo>
                      <a:pt x="3624" y="4840"/>
                    </a:lnTo>
                    <a:lnTo>
                      <a:pt x="3591" y="4865"/>
                    </a:lnTo>
                    <a:lnTo>
                      <a:pt x="3558" y="4889"/>
                    </a:lnTo>
                    <a:lnTo>
                      <a:pt x="3525" y="4912"/>
                    </a:lnTo>
                    <a:lnTo>
                      <a:pt x="3489" y="4933"/>
                    </a:lnTo>
                    <a:lnTo>
                      <a:pt x="3455" y="4953"/>
                    </a:lnTo>
                    <a:lnTo>
                      <a:pt x="3419" y="4973"/>
                    </a:lnTo>
                    <a:lnTo>
                      <a:pt x="3384" y="4992"/>
                    </a:lnTo>
                    <a:lnTo>
                      <a:pt x="3346" y="5008"/>
                    </a:lnTo>
                    <a:lnTo>
                      <a:pt x="3310" y="5025"/>
                    </a:lnTo>
                    <a:lnTo>
                      <a:pt x="3273" y="5039"/>
                    </a:lnTo>
                    <a:lnTo>
                      <a:pt x="3234" y="5053"/>
                    </a:lnTo>
                    <a:lnTo>
                      <a:pt x="3194" y="5063"/>
                    </a:lnTo>
                    <a:lnTo>
                      <a:pt x="3155" y="5072"/>
                    </a:lnTo>
                    <a:lnTo>
                      <a:pt x="3120" y="5077"/>
                    </a:lnTo>
                    <a:lnTo>
                      <a:pt x="3088" y="5080"/>
                    </a:lnTo>
                    <a:lnTo>
                      <a:pt x="3058" y="5081"/>
                    </a:lnTo>
                    <a:lnTo>
                      <a:pt x="3030" y="5078"/>
                    </a:lnTo>
                    <a:lnTo>
                      <a:pt x="3005" y="5074"/>
                    </a:lnTo>
                    <a:lnTo>
                      <a:pt x="2982" y="5065"/>
                    </a:lnTo>
                    <a:lnTo>
                      <a:pt x="2960" y="5054"/>
                    </a:lnTo>
                    <a:lnTo>
                      <a:pt x="2942" y="5040"/>
                    </a:lnTo>
                    <a:lnTo>
                      <a:pt x="2925" y="5023"/>
                    </a:lnTo>
                    <a:lnTo>
                      <a:pt x="2910" y="5002"/>
                    </a:lnTo>
                    <a:lnTo>
                      <a:pt x="2897" y="4978"/>
                    </a:lnTo>
                    <a:lnTo>
                      <a:pt x="2886" y="4950"/>
                    </a:lnTo>
                    <a:lnTo>
                      <a:pt x="2875" y="4919"/>
                    </a:lnTo>
                    <a:lnTo>
                      <a:pt x="2867" y="4884"/>
                    </a:lnTo>
                    <a:lnTo>
                      <a:pt x="2843" y="4692"/>
                    </a:lnTo>
                    <a:lnTo>
                      <a:pt x="2819" y="4497"/>
                    </a:lnTo>
                    <a:lnTo>
                      <a:pt x="2797" y="4302"/>
                    </a:lnTo>
                    <a:lnTo>
                      <a:pt x="2776" y="4104"/>
                    </a:lnTo>
                    <a:lnTo>
                      <a:pt x="2756" y="3905"/>
                    </a:lnTo>
                    <a:lnTo>
                      <a:pt x="2738" y="3704"/>
                    </a:lnTo>
                    <a:lnTo>
                      <a:pt x="2721" y="3502"/>
                    </a:lnTo>
                    <a:lnTo>
                      <a:pt x="2706" y="3297"/>
                    </a:lnTo>
                    <a:lnTo>
                      <a:pt x="2694" y="3092"/>
                    </a:lnTo>
                    <a:lnTo>
                      <a:pt x="2684" y="2887"/>
                    </a:lnTo>
                    <a:lnTo>
                      <a:pt x="2675" y="2680"/>
                    </a:lnTo>
                    <a:lnTo>
                      <a:pt x="2671" y="2473"/>
                    </a:lnTo>
                    <a:lnTo>
                      <a:pt x="2669" y="2264"/>
                    </a:lnTo>
                    <a:lnTo>
                      <a:pt x="2669" y="2056"/>
                    </a:lnTo>
                    <a:lnTo>
                      <a:pt x="2674" y="1847"/>
                    </a:lnTo>
                    <a:lnTo>
                      <a:pt x="2682" y="1637"/>
                    </a:lnTo>
                    <a:lnTo>
                      <a:pt x="2680" y="1615"/>
                    </a:lnTo>
                    <a:lnTo>
                      <a:pt x="2678" y="1593"/>
                    </a:lnTo>
                    <a:lnTo>
                      <a:pt x="2680" y="1573"/>
                    </a:lnTo>
                    <a:lnTo>
                      <a:pt x="2681" y="1554"/>
                    </a:lnTo>
                    <a:lnTo>
                      <a:pt x="2685" y="1537"/>
                    </a:lnTo>
                    <a:lnTo>
                      <a:pt x="2690" y="1521"/>
                    </a:lnTo>
                    <a:lnTo>
                      <a:pt x="2698" y="1506"/>
                    </a:lnTo>
                    <a:lnTo>
                      <a:pt x="2709" y="1491"/>
                    </a:lnTo>
                    <a:lnTo>
                      <a:pt x="2721" y="1478"/>
                    </a:lnTo>
                    <a:lnTo>
                      <a:pt x="2738" y="1464"/>
                    </a:lnTo>
                    <a:lnTo>
                      <a:pt x="2757" y="1451"/>
                    </a:lnTo>
                    <a:lnTo>
                      <a:pt x="2780" y="1438"/>
                    </a:lnTo>
                    <a:lnTo>
                      <a:pt x="2807" y="1426"/>
                    </a:lnTo>
                    <a:lnTo>
                      <a:pt x="2838" y="1414"/>
                    </a:lnTo>
                    <a:lnTo>
                      <a:pt x="2873" y="1401"/>
                    </a:lnTo>
                    <a:lnTo>
                      <a:pt x="2913" y="1388"/>
                    </a:lnTo>
                    <a:lnTo>
                      <a:pt x="2956" y="1371"/>
                    </a:lnTo>
                    <a:lnTo>
                      <a:pt x="2999" y="1350"/>
                    </a:lnTo>
                    <a:lnTo>
                      <a:pt x="3040" y="1325"/>
                    </a:lnTo>
                    <a:lnTo>
                      <a:pt x="3081" y="1297"/>
                    </a:lnTo>
                    <a:lnTo>
                      <a:pt x="3119" y="1265"/>
                    </a:lnTo>
                    <a:lnTo>
                      <a:pt x="3155" y="1231"/>
                    </a:lnTo>
                    <a:lnTo>
                      <a:pt x="3190" y="1193"/>
                    </a:lnTo>
                    <a:lnTo>
                      <a:pt x="3222" y="1152"/>
                    </a:lnTo>
                    <a:lnTo>
                      <a:pt x="3250" y="1110"/>
                    </a:lnTo>
                    <a:lnTo>
                      <a:pt x="3275" y="1064"/>
                    </a:lnTo>
                    <a:lnTo>
                      <a:pt x="3296" y="1017"/>
                    </a:lnTo>
                    <a:lnTo>
                      <a:pt x="3314" y="968"/>
                    </a:lnTo>
                    <a:lnTo>
                      <a:pt x="3328" y="917"/>
                    </a:lnTo>
                    <a:lnTo>
                      <a:pt x="3336" y="865"/>
                    </a:lnTo>
                    <a:lnTo>
                      <a:pt x="3339" y="812"/>
                    </a:lnTo>
                    <a:lnTo>
                      <a:pt x="3337" y="759"/>
                    </a:lnTo>
                    <a:lnTo>
                      <a:pt x="3321" y="665"/>
                    </a:lnTo>
                    <a:lnTo>
                      <a:pt x="3301" y="578"/>
                    </a:lnTo>
                    <a:lnTo>
                      <a:pt x="3275" y="498"/>
                    </a:lnTo>
                    <a:lnTo>
                      <a:pt x="3243" y="425"/>
                    </a:lnTo>
                    <a:lnTo>
                      <a:pt x="3206" y="358"/>
                    </a:lnTo>
                    <a:lnTo>
                      <a:pt x="3166" y="297"/>
                    </a:lnTo>
                    <a:lnTo>
                      <a:pt x="3121" y="243"/>
                    </a:lnTo>
                    <a:lnTo>
                      <a:pt x="3072" y="194"/>
                    </a:lnTo>
                    <a:lnTo>
                      <a:pt x="3021" y="150"/>
                    </a:lnTo>
                    <a:lnTo>
                      <a:pt x="2967" y="113"/>
                    </a:lnTo>
                    <a:lnTo>
                      <a:pt x="2909" y="82"/>
                    </a:lnTo>
                    <a:lnTo>
                      <a:pt x="2850" y="56"/>
                    </a:lnTo>
                    <a:lnTo>
                      <a:pt x="2789" y="34"/>
                    </a:lnTo>
                    <a:lnTo>
                      <a:pt x="2726" y="19"/>
                    </a:lnTo>
                    <a:lnTo>
                      <a:pt x="2663" y="7"/>
                    </a:lnTo>
                    <a:lnTo>
                      <a:pt x="2600" y="1"/>
                    </a:lnTo>
                    <a:lnTo>
                      <a:pt x="2534" y="0"/>
                    </a:lnTo>
                    <a:lnTo>
                      <a:pt x="2471" y="3"/>
                    </a:lnTo>
                    <a:lnTo>
                      <a:pt x="2407" y="10"/>
                    </a:lnTo>
                    <a:lnTo>
                      <a:pt x="2344" y="23"/>
                    </a:lnTo>
                    <a:lnTo>
                      <a:pt x="2282" y="38"/>
                    </a:lnTo>
                    <a:lnTo>
                      <a:pt x="2222" y="58"/>
                    </a:lnTo>
                    <a:lnTo>
                      <a:pt x="2164" y="82"/>
                    </a:lnTo>
                    <a:lnTo>
                      <a:pt x="2108" y="109"/>
                    </a:lnTo>
                    <a:lnTo>
                      <a:pt x="2055" y="140"/>
                    </a:lnTo>
                    <a:lnTo>
                      <a:pt x="2005" y="174"/>
                    </a:lnTo>
                    <a:lnTo>
                      <a:pt x="1958" y="211"/>
                    </a:lnTo>
                    <a:lnTo>
                      <a:pt x="1915" y="253"/>
                    </a:lnTo>
                    <a:lnTo>
                      <a:pt x="1877" y="296"/>
                    </a:lnTo>
                    <a:lnTo>
                      <a:pt x="1843" y="343"/>
                    </a:lnTo>
                    <a:lnTo>
                      <a:pt x="1814" y="392"/>
                    </a:lnTo>
                    <a:lnTo>
                      <a:pt x="1790" y="444"/>
                    </a:lnTo>
                    <a:lnTo>
                      <a:pt x="1771" y="505"/>
                    </a:lnTo>
                    <a:lnTo>
                      <a:pt x="1757" y="567"/>
                    </a:lnTo>
                    <a:lnTo>
                      <a:pt x="1746" y="629"/>
                    </a:lnTo>
                    <a:lnTo>
                      <a:pt x="1740" y="692"/>
                    </a:lnTo>
                    <a:lnTo>
                      <a:pt x="1739" y="757"/>
                    </a:lnTo>
                    <a:lnTo>
                      <a:pt x="1742" y="819"/>
                    </a:lnTo>
                    <a:lnTo>
                      <a:pt x="1749" y="882"/>
                    </a:lnTo>
                    <a:lnTo>
                      <a:pt x="1762" y="943"/>
                    </a:lnTo>
                    <a:lnTo>
                      <a:pt x="1780" y="1003"/>
                    </a:lnTo>
                    <a:lnTo>
                      <a:pt x="1802" y="1061"/>
                    </a:lnTo>
                    <a:lnTo>
                      <a:pt x="1830" y="1118"/>
                    </a:lnTo>
                    <a:lnTo>
                      <a:pt x="1864" y="1172"/>
                    </a:lnTo>
                    <a:lnTo>
                      <a:pt x="1903" y="1223"/>
                    </a:lnTo>
                    <a:lnTo>
                      <a:pt x="1946" y="1270"/>
                    </a:lnTo>
                    <a:lnTo>
                      <a:pt x="1997" y="1315"/>
                    </a:lnTo>
                    <a:lnTo>
                      <a:pt x="2053" y="1355"/>
                    </a:lnTo>
                    <a:lnTo>
                      <a:pt x="2079" y="1365"/>
                    </a:lnTo>
                    <a:lnTo>
                      <a:pt x="2104" y="1374"/>
                    </a:lnTo>
                    <a:lnTo>
                      <a:pt x="2128" y="1383"/>
                    </a:lnTo>
                    <a:lnTo>
                      <a:pt x="2151" y="1393"/>
                    </a:lnTo>
                    <a:lnTo>
                      <a:pt x="2171" y="1402"/>
                    </a:lnTo>
                    <a:lnTo>
                      <a:pt x="2192" y="1414"/>
                    </a:lnTo>
                    <a:lnTo>
                      <a:pt x="2210" y="1425"/>
                    </a:lnTo>
                    <a:lnTo>
                      <a:pt x="2226" y="1437"/>
                    </a:lnTo>
                    <a:lnTo>
                      <a:pt x="2241" y="1452"/>
                    </a:lnTo>
                    <a:lnTo>
                      <a:pt x="2254" y="1467"/>
                    </a:lnTo>
                    <a:lnTo>
                      <a:pt x="2265" y="1486"/>
                    </a:lnTo>
                    <a:lnTo>
                      <a:pt x="2274" y="1506"/>
                    </a:lnTo>
                    <a:lnTo>
                      <a:pt x="2280" y="1527"/>
                    </a:lnTo>
                    <a:lnTo>
                      <a:pt x="2284" y="1552"/>
                    </a:lnTo>
                    <a:lnTo>
                      <a:pt x="2287" y="1580"/>
                    </a:lnTo>
                    <a:lnTo>
                      <a:pt x="2286" y="1611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876720" y="3151080"/>
                <a:ext cx="219240" cy="212760"/>
              </a:xfrm>
              <a:custGeom>
                <a:avLst/>
                <a:gdLst/>
                <a:ahLst/>
                <a:rect l="l" t="t" r="r" b="b"/>
                <a:pathLst>
                  <a:path w="827" h="804">
                    <a:moveTo>
                      <a:pt x="413" y="0"/>
                    </a:moveTo>
                    <a:lnTo>
                      <a:pt x="456" y="2"/>
                    </a:lnTo>
                    <a:lnTo>
                      <a:pt x="496" y="8"/>
                    </a:lnTo>
                    <a:lnTo>
                      <a:pt x="537" y="17"/>
                    </a:lnTo>
                    <a:lnTo>
                      <a:pt x="574" y="32"/>
                    </a:lnTo>
                    <a:lnTo>
                      <a:pt x="610" y="49"/>
                    </a:lnTo>
                    <a:lnTo>
                      <a:pt x="645" y="68"/>
                    </a:lnTo>
                    <a:lnTo>
                      <a:pt x="677" y="92"/>
                    </a:lnTo>
                    <a:lnTo>
                      <a:pt x="706" y="118"/>
                    </a:lnTo>
                    <a:lnTo>
                      <a:pt x="733" y="146"/>
                    </a:lnTo>
                    <a:lnTo>
                      <a:pt x="756" y="177"/>
                    </a:lnTo>
                    <a:lnTo>
                      <a:pt x="777" y="210"/>
                    </a:lnTo>
                    <a:lnTo>
                      <a:pt x="795" y="245"/>
                    </a:lnTo>
                    <a:lnTo>
                      <a:pt x="808" y="283"/>
                    </a:lnTo>
                    <a:lnTo>
                      <a:pt x="819" y="321"/>
                    </a:lnTo>
                    <a:lnTo>
                      <a:pt x="825" y="361"/>
                    </a:lnTo>
                    <a:lnTo>
                      <a:pt x="827" y="402"/>
                    </a:lnTo>
                    <a:lnTo>
                      <a:pt x="825" y="443"/>
                    </a:lnTo>
                    <a:lnTo>
                      <a:pt x="819" y="483"/>
                    </a:lnTo>
                    <a:lnTo>
                      <a:pt x="808" y="521"/>
                    </a:lnTo>
                    <a:lnTo>
                      <a:pt x="795" y="558"/>
                    </a:lnTo>
                    <a:lnTo>
                      <a:pt x="777" y="594"/>
                    </a:lnTo>
                    <a:lnTo>
                      <a:pt x="756" y="627"/>
                    </a:lnTo>
                    <a:lnTo>
                      <a:pt x="733" y="658"/>
                    </a:lnTo>
                    <a:lnTo>
                      <a:pt x="706" y="686"/>
                    </a:lnTo>
                    <a:lnTo>
                      <a:pt x="677" y="712"/>
                    </a:lnTo>
                    <a:lnTo>
                      <a:pt x="645" y="736"/>
                    </a:lnTo>
                    <a:lnTo>
                      <a:pt x="610" y="755"/>
                    </a:lnTo>
                    <a:lnTo>
                      <a:pt x="574" y="772"/>
                    </a:lnTo>
                    <a:lnTo>
                      <a:pt x="537" y="786"/>
                    </a:lnTo>
                    <a:lnTo>
                      <a:pt x="496" y="796"/>
                    </a:lnTo>
                    <a:lnTo>
                      <a:pt x="456" y="802"/>
                    </a:lnTo>
                    <a:lnTo>
                      <a:pt x="413" y="804"/>
                    </a:lnTo>
                    <a:lnTo>
                      <a:pt x="371" y="802"/>
                    </a:lnTo>
                    <a:lnTo>
                      <a:pt x="330" y="796"/>
                    </a:lnTo>
                    <a:lnTo>
                      <a:pt x="290" y="786"/>
                    </a:lnTo>
                    <a:lnTo>
                      <a:pt x="253" y="772"/>
                    </a:lnTo>
                    <a:lnTo>
                      <a:pt x="216" y="755"/>
                    </a:lnTo>
                    <a:lnTo>
                      <a:pt x="182" y="736"/>
                    </a:lnTo>
                    <a:lnTo>
                      <a:pt x="150" y="712"/>
                    </a:lnTo>
                    <a:lnTo>
                      <a:pt x="121" y="686"/>
                    </a:lnTo>
                    <a:lnTo>
                      <a:pt x="94" y="658"/>
                    </a:lnTo>
                    <a:lnTo>
                      <a:pt x="70" y="627"/>
                    </a:lnTo>
                    <a:lnTo>
                      <a:pt x="49" y="594"/>
                    </a:lnTo>
                    <a:lnTo>
                      <a:pt x="32" y="558"/>
                    </a:lnTo>
                    <a:lnTo>
                      <a:pt x="18" y="521"/>
                    </a:lnTo>
                    <a:lnTo>
                      <a:pt x="8" y="483"/>
                    </a:lnTo>
                    <a:lnTo>
                      <a:pt x="2" y="443"/>
                    </a:lnTo>
                    <a:lnTo>
                      <a:pt x="0" y="402"/>
                    </a:lnTo>
                    <a:lnTo>
                      <a:pt x="2" y="361"/>
                    </a:lnTo>
                    <a:lnTo>
                      <a:pt x="8" y="321"/>
                    </a:lnTo>
                    <a:lnTo>
                      <a:pt x="18" y="283"/>
                    </a:lnTo>
                    <a:lnTo>
                      <a:pt x="32" y="245"/>
                    </a:lnTo>
                    <a:lnTo>
                      <a:pt x="49" y="210"/>
                    </a:lnTo>
                    <a:lnTo>
                      <a:pt x="70" y="177"/>
                    </a:lnTo>
                    <a:lnTo>
                      <a:pt x="94" y="146"/>
                    </a:lnTo>
                    <a:lnTo>
                      <a:pt x="121" y="118"/>
                    </a:lnTo>
                    <a:lnTo>
                      <a:pt x="150" y="92"/>
                    </a:lnTo>
                    <a:lnTo>
                      <a:pt x="182" y="68"/>
                    </a:lnTo>
                    <a:lnTo>
                      <a:pt x="216" y="49"/>
                    </a:lnTo>
                    <a:lnTo>
                      <a:pt x="253" y="32"/>
                    </a:lnTo>
                    <a:lnTo>
                      <a:pt x="290" y="17"/>
                    </a:lnTo>
                    <a:lnTo>
                      <a:pt x="330" y="8"/>
                    </a:lnTo>
                    <a:lnTo>
                      <a:pt x="371" y="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419520" y="3570120"/>
                <a:ext cx="1090800" cy="236520"/>
              </a:xfrm>
              <a:custGeom>
                <a:avLst/>
                <a:gdLst/>
                <a:ahLst/>
                <a:rect l="l" t="t" r="r" b="b"/>
                <a:pathLst>
                  <a:path w="4120" h="894">
                    <a:moveTo>
                      <a:pt x="3579" y="270"/>
                    </a:moveTo>
                    <a:lnTo>
                      <a:pt x="3497" y="273"/>
                    </a:lnTo>
                    <a:lnTo>
                      <a:pt x="3414" y="275"/>
                    </a:lnTo>
                    <a:lnTo>
                      <a:pt x="3330" y="276"/>
                    </a:lnTo>
                    <a:lnTo>
                      <a:pt x="3245" y="277"/>
                    </a:lnTo>
                    <a:lnTo>
                      <a:pt x="3159" y="278"/>
                    </a:lnTo>
                    <a:lnTo>
                      <a:pt x="3072" y="278"/>
                    </a:lnTo>
                    <a:lnTo>
                      <a:pt x="2984" y="278"/>
                    </a:lnTo>
                    <a:lnTo>
                      <a:pt x="2895" y="277"/>
                    </a:lnTo>
                    <a:lnTo>
                      <a:pt x="2806" y="277"/>
                    </a:lnTo>
                    <a:lnTo>
                      <a:pt x="2716" y="275"/>
                    </a:lnTo>
                    <a:lnTo>
                      <a:pt x="2625" y="274"/>
                    </a:lnTo>
                    <a:lnTo>
                      <a:pt x="2534" y="272"/>
                    </a:lnTo>
                    <a:lnTo>
                      <a:pt x="2442" y="271"/>
                    </a:lnTo>
                    <a:lnTo>
                      <a:pt x="2350" y="269"/>
                    </a:lnTo>
                    <a:lnTo>
                      <a:pt x="2257" y="267"/>
                    </a:lnTo>
                    <a:lnTo>
                      <a:pt x="2165" y="264"/>
                    </a:lnTo>
                    <a:lnTo>
                      <a:pt x="2072" y="261"/>
                    </a:lnTo>
                    <a:lnTo>
                      <a:pt x="1978" y="259"/>
                    </a:lnTo>
                    <a:lnTo>
                      <a:pt x="1884" y="257"/>
                    </a:lnTo>
                    <a:lnTo>
                      <a:pt x="1791" y="255"/>
                    </a:lnTo>
                    <a:lnTo>
                      <a:pt x="1698" y="253"/>
                    </a:lnTo>
                    <a:lnTo>
                      <a:pt x="1604" y="251"/>
                    </a:lnTo>
                    <a:lnTo>
                      <a:pt x="1511" y="249"/>
                    </a:lnTo>
                    <a:lnTo>
                      <a:pt x="1418" y="248"/>
                    </a:lnTo>
                    <a:lnTo>
                      <a:pt x="1324" y="246"/>
                    </a:lnTo>
                    <a:lnTo>
                      <a:pt x="1232" y="245"/>
                    </a:lnTo>
                    <a:lnTo>
                      <a:pt x="1140" y="244"/>
                    </a:lnTo>
                    <a:lnTo>
                      <a:pt x="1047" y="244"/>
                    </a:lnTo>
                    <a:lnTo>
                      <a:pt x="956" y="244"/>
                    </a:lnTo>
                    <a:lnTo>
                      <a:pt x="865" y="244"/>
                    </a:lnTo>
                    <a:lnTo>
                      <a:pt x="775" y="245"/>
                    </a:lnTo>
                    <a:lnTo>
                      <a:pt x="685" y="246"/>
                    </a:lnTo>
                    <a:lnTo>
                      <a:pt x="663" y="210"/>
                    </a:lnTo>
                    <a:lnTo>
                      <a:pt x="639" y="176"/>
                    </a:lnTo>
                    <a:lnTo>
                      <a:pt x="614" y="145"/>
                    </a:lnTo>
                    <a:lnTo>
                      <a:pt x="589" y="118"/>
                    </a:lnTo>
                    <a:lnTo>
                      <a:pt x="563" y="94"/>
                    </a:lnTo>
                    <a:lnTo>
                      <a:pt x="536" y="72"/>
                    </a:lnTo>
                    <a:lnTo>
                      <a:pt x="509" y="53"/>
                    </a:lnTo>
                    <a:lnTo>
                      <a:pt x="481" y="38"/>
                    </a:lnTo>
                    <a:lnTo>
                      <a:pt x="453" y="24"/>
                    </a:lnTo>
                    <a:lnTo>
                      <a:pt x="425" y="15"/>
                    </a:lnTo>
                    <a:lnTo>
                      <a:pt x="396" y="7"/>
                    </a:lnTo>
                    <a:lnTo>
                      <a:pt x="368" y="2"/>
                    </a:lnTo>
                    <a:lnTo>
                      <a:pt x="340" y="0"/>
                    </a:lnTo>
                    <a:lnTo>
                      <a:pt x="312" y="0"/>
                    </a:lnTo>
                    <a:lnTo>
                      <a:pt x="285" y="3"/>
                    </a:lnTo>
                    <a:lnTo>
                      <a:pt x="258" y="10"/>
                    </a:lnTo>
                    <a:lnTo>
                      <a:pt x="232" y="18"/>
                    </a:lnTo>
                    <a:lnTo>
                      <a:pt x="207" y="29"/>
                    </a:lnTo>
                    <a:lnTo>
                      <a:pt x="183" y="43"/>
                    </a:lnTo>
                    <a:lnTo>
                      <a:pt x="159" y="58"/>
                    </a:lnTo>
                    <a:lnTo>
                      <a:pt x="137" y="76"/>
                    </a:lnTo>
                    <a:lnTo>
                      <a:pt x="115" y="97"/>
                    </a:lnTo>
                    <a:lnTo>
                      <a:pt x="96" y="121"/>
                    </a:lnTo>
                    <a:lnTo>
                      <a:pt x="78" y="145"/>
                    </a:lnTo>
                    <a:lnTo>
                      <a:pt x="61" y="173"/>
                    </a:lnTo>
                    <a:lnTo>
                      <a:pt x="46" y="203"/>
                    </a:lnTo>
                    <a:lnTo>
                      <a:pt x="33" y="236"/>
                    </a:lnTo>
                    <a:lnTo>
                      <a:pt x="22" y="270"/>
                    </a:lnTo>
                    <a:lnTo>
                      <a:pt x="14" y="307"/>
                    </a:lnTo>
                    <a:lnTo>
                      <a:pt x="6" y="345"/>
                    </a:lnTo>
                    <a:lnTo>
                      <a:pt x="2" y="387"/>
                    </a:lnTo>
                    <a:lnTo>
                      <a:pt x="0" y="429"/>
                    </a:lnTo>
                    <a:lnTo>
                      <a:pt x="0" y="510"/>
                    </a:lnTo>
                    <a:lnTo>
                      <a:pt x="11" y="584"/>
                    </a:lnTo>
                    <a:lnTo>
                      <a:pt x="29" y="652"/>
                    </a:lnTo>
                    <a:lnTo>
                      <a:pt x="55" y="712"/>
                    </a:lnTo>
                    <a:lnTo>
                      <a:pt x="87" y="765"/>
                    </a:lnTo>
                    <a:lnTo>
                      <a:pt x="126" y="809"/>
                    </a:lnTo>
                    <a:lnTo>
                      <a:pt x="169" y="845"/>
                    </a:lnTo>
                    <a:lnTo>
                      <a:pt x="216" y="871"/>
                    </a:lnTo>
                    <a:lnTo>
                      <a:pt x="267" y="887"/>
                    </a:lnTo>
                    <a:lnTo>
                      <a:pt x="319" y="894"/>
                    </a:lnTo>
                    <a:lnTo>
                      <a:pt x="372" y="889"/>
                    </a:lnTo>
                    <a:lnTo>
                      <a:pt x="426" y="875"/>
                    </a:lnTo>
                    <a:lnTo>
                      <a:pt x="480" y="848"/>
                    </a:lnTo>
                    <a:lnTo>
                      <a:pt x="532" y="809"/>
                    </a:lnTo>
                    <a:lnTo>
                      <a:pt x="582" y="757"/>
                    </a:lnTo>
                    <a:lnTo>
                      <a:pt x="629" y="692"/>
                    </a:lnTo>
                    <a:lnTo>
                      <a:pt x="703" y="684"/>
                    </a:lnTo>
                    <a:lnTo>
                      <a:pt x="781" y="678"/>
                    </a:lnTo>
                    <a:lnTo>
                      <a:pt x="860" y="673"/>
                    </a:lnTo>
                    <a:lnTo>
                      <a:pt x="942" y="669"/>
                    </a:lnTo>
                    <a:lnTo>
                      <a:pt x="1025" y="665"/>
                    </a:lnTo>
                    <a:lnTo>
                      <a:pt x="1110" y="661"/>
                    </a:lnTo>
                    <a:lnTo>
                      <a:pt x="1197" y="659"/>
                    </a:lnTo>
                    <a:lnTo>
                      <a:pt x="1285" y="657"/>
                    </a:lnTo>
                    <a:lnTo>
                      <a:pt x="1375" y="656"/>
                    </a:lnTo>
                    <a:lnTo>
                      <a:pt x="1466" y="655"/>
                    </a:lnTo>
                    <a:lnTo>
                      <a:pt x="1559" y="655"/>
                    </a:lnTo>
                    <a:lnTo>
                      <a:pt x="1652" y="655"/>
                    </a:lnTo>
                    <a:lnTo>
                      <a:pt x="1746" y="655"/>
                    </a:lnTo>
                    <a:lnTo>
                      <a:pt x="1842" y="656"/>
                    </a:lnTo>
                    <a:lnTo>
                      <a:pt x="1938" y="657"/>
                    </a:lnTo>
                    <a:lnTo>
                      <a:pt x="2036" y="658"/>
                    </a:lnTo>
                    <a:lnTo>
                      <a:pt x="2133" y="660"/>
                    </a:lnTo>
                    <a:lnTo>
                      <a:pt x="2230" y="661"/>
                    </a:lnTo>
                    <a:lnTo>
                      <a:pt x="2328" y="664"/>
                    </a:lnTo>
                    <a:lnTo>
                      <a:pt x="2426" y="665"/>
                    </a:lnTo>
                    <a:lnTo>
                      <a:pt x="2525" y="667"/>
                    </a:lnTo>
                    <a:lnTo>
                      <a:pt x="2623" y="668"/>
                    </a:lnTo>
                    <a:lnTo>
                      <a:pt x="2722" y="669"/>
                    </a:lnTo>
                    <a:lnTo>
                      <a:pt x="2819" y="670"/>
                    </a:lnTo>
                    <a:lnTo>
                      <a:pt x="2917" y="671"/>
                    </a:lnTo>
                    <a:lnTo>
                      <a:pt x="3014" y="672"/>
                    </a:lnTo>
                    <a:lnTo>
                      <a:pt x="3111" y="672"/>
                    </a:lnTo>
                    <a:lnTo>
                      <a:pt x="3206" y="672"/>
                    </a:lnTo>
                    <a:lnTo>
                      <a:pt x="3301" y="672"/>
                    </a:lnTo>
                    <a:lnTo>
                      <a:pt x="3395" y="671"/>
                    </a:lnTo>
                    <a:lnTo>
                      <a:pt x="3488" y="670"/>
                    </a:lnTo>
                    <a:lnTo>
                      <a:pt x="3579" y="668"/>
                    </a:lnTo>
                    <a:lnTo>
                      <a:pt x="3617" y="715"/>
                    </a:lnTo>
                    <a:lnTo>
                      <a:pt x="3657" y="755"/>
                    </a:lnTo>
                    <a:lnTo>
                      <a:pt x="3700" y="785"/>
                    </a:lnTo>
                    <a:lnTo>
                      <a:pt x="3743" y="807"/>
                    </a:lnTo>
                    <a:lnTo>
                      <a:pt x="3788" y="819"/>
                    </a:lnTo>
                    <a:lnTo>
                      <a:pt x="3832" y="823"/>
                    </a:lnTo>
                    <a:lnTo>
                      <a:pt x="3876" y="819"/>
                    </a:lnTo>
                    <a:lnTo>
                      <a:pt x="3918" y="807"/>
                    </a:lnTo>
                    <a:lnTo>
                      <a:pt x="3959" y="787"/>
                    </a:lnTo>
                    <a:lnTo>
                      <a:pt x="3996" y="758"/>
                    </a:lnTo>
                    <a:lnTo>
                      <a:pt x="4029" y="722"/>
                    </a:lnTo>
                    <a:lnTo>
                      <a:pt x="4059" y="677"/>
                    </a:lnTo>
                    <a:lnTo>
                      <a:pt x="4083" y="624"/>
                    </a:lnTo>
                    <a:lnTo>
                      <a:pt x="4102" y="564"/>
                    </a:lnTo>
                    <a:lnTo>
                      <a:pt x="4114" y="497"/>
                    </a:lnTo>
                    <a:lnTo>
                      <a:pt x="4120" y="421"/>
                    </a:lnTo>
                    <a:lnTo>
                      <a:pt x="4107" y="332"/>
                    </a:lnTo>
                    <a:lnTo>
                      <a:pt x="4087" y="253"/>
                    </a:lnTo>
                    <a:lnTo>
                      <a:pt x="4059" y="187"/>
                    </a:lnTo>
                    <a:lnTo>
                      <a:pt x="4025" y="131"/>
                    </a:lnTo>
                    <a:lnTo>
                      <a:pt x="3987" y="86"/>
                    </a:lnTo>
                    <a:lnTo>
                      <a:pt x="3944" y="53"/>
                    </a:lnTo>
                    <a:lnTo>
                      <a:pt x="3899" y="30"/>
                    </a:lnTo>
                    <a:lnTo>
                      <a:pt x="3853" y="17"/>
                    </a:lnTo>
                    <a:lnTo>
                      <a:pt x="3806" y="15"/>
                    </a:lnTo>
                    <a:lnTo>
                      <a:pt x="3761" y="23"/>
                    </a:lnTo>
                    <a:lnTo>
                      <a:pt x="3718" y="41"/>
                    </a:lnTo>
                    <a:lnTo>
                      <a:pt x="3678" y="68"/>
                    </a:lnTo>
                    <a:lnTo>
                      <a:pt x="3644" y="104"/>
                    </a:lnTo>
                    <a:lnTo>
                      <a:pt x="3615" y="151"/>
                    </a:lnTo>
                    <a:lnTo>
                      <a:pt x="3593" y="205"/>
                    </a:lnTo>
                    <a:lnTo>
                      <a:pt x="3579" y="270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843600" y="3566880"/>
                <a:ext cx="271440" cy="231840"/>
              </a:xfrm>
              <a:custGeom>
                <a:avLst/>
                <a:gdLst/>
                <a:ahLst/>
                <a:rect l="l" t="t" r="r" b="b"/>
                <a:pathLst>
                  <a:path w="1026" h="877">
                    <a:moveTo>
                      <a:pt x="871" y="22"/>
                    </a:moveTo>
                    <a:lnTo>
                      <a:pt x="849" y="21"/>
                    </a:lnTo>
                    <a:lnTo>
                      <a:pt x="827" y="20"/>
                    </a:lnTo>
                    <a:lnTo>
                      <a:pt x="806" y="18"/>
                    </a:lnTo>
                    <a:lnTo>
                      <a:pt x="783" y="17"/>
                    </a:lnTo>
                    <a:lnTo>
                      <a:pt x="761" y="16"/>
                    </a:lnTo>
                    <a:lnTo>
                      <a:pt x="739" y="15"/>
                    </a:lnTo>
                    <a:lnTo>
                      <a:pt x="717" y="15"/>
                    </a:lnTo>
                    <a:lnTo>
                      <a:pt x="695" y="14"/>
                    </a:lnTo>
                    <a:lnTo>
                      <a:pt x="673" y="14"/>
                    </a:lnTo>
                    <a:lnTo>
                      <a:pt x="651" y="13"/>
                    </a:lnTo>
                    <a:lnTo>
                      <a:pt x="628" y="13"/>
                    </a:lnTo>
                    <a:lnTo>
                      <a:pt x="607" y="12"/>
                    </a:lnTo>
                    <a:lnTo>
                      <a:pt x="585" y="12"/>
                    </a:lnTo>
                    <a:lnTo>
                      <a:pt x="562" y="11"/>
                    </a:lnTo>
                    <a:lnTo>
                      <a:pt x="540" y="11"/>
                    </a:lnTo>
                    <a:lnTo>
                      <a:pt x="518" y="10"/>
                    </a:lnTo>
                    <a:lnTo>
                      <a:pt x="496" y="10"/>
                    </a:lnTo>
                    <a:lnTo>
                      <a:pt x="474" y="10"/>
                    </a:lnTo>
                    <a:lnTo>
                      <a:pt x="451" y="9"/>
                    </a:lnTo>
                    <a:lnTo>
                      <a:pt x="429" y="9"/>
                    </a:lnTo>
                    <a:lnTo>
                      <a:pt x="407" y="8"/>
                    </a:lnTo>
                    <a:lnTo>
                      <a:pt x="385" y="8"/>
                    </a:lnTo>
                    <a:lnTo>
                      <a:pt x="363" y="7"/>
                    </a:lnTo>
                    <a:lnTo>
                      <a:pt x="341" y="7"/>
                    </a:lnTo>
                    <a:lnTo>
                      <a:pt x="318" y="6"/>
                    </a:lnTo>
                    <a:lnTo>
                      <a:pt x="297" y="6"/>
                    </a:lnTo>
                    <a:lnTo>
                      <a:pt x="275" y="5"/>
                    </a:lnTo>
                    <a:lnTo>
                      <a:pt x="253" y="4"/>
                    </a:lnTo>
                    <a:lnTo>
                      <a:pt x="230" y="3"/>
                    </a:lnTo>
                    <a:lnTo>
                      <a:pt x="208" y="2"/>
                    </a:lnTo>
                    <a:lnTo>
                      <a:pt x="187" y="1"/>
                    </a:lnTo>
                    <a:lnTo>
                      <a:pt x="165" y="0"/>
                    </a:lnTo>
                    <a:lnTo>
                      <a:pt x="125" y="6"/>
                    </a:lnTo>
                    <a:lnTo>
                      <a:pt x="91" y="17"/>
                    </a:lnTo>
                    <a:lnTo>
                      <a:pt x="63" y="34"/>
                    </a:lnTo>
                    <a:lnTo>
                      <a:pt x="40" y="57"/>
                    </a:lnTo>
                    <a:lnTo>
                      <a:pt x="23" y="85"/>
                    </a:lnTo>
                    <a:lnTo>
                      <a:pt x="10" y="119"/>
                    </a:lnTo>
                    <a:lnTo>
                      <a:pt x="3" y="158"/>
                    </a:lnTo>
                    <a:lnTo>
                      <a:pt x="0" y="204"/>
                    </a:lnTo>
                    <a:lnTo>
                      <a:pt x="2" y="325"/>
                    </a:lnTo>
                    <a:lnTo>
                      <a:pt x="4" y="446"/>
                    </a:lnTo>
                    <a:lnTo>
                      <a:pt x="5" y="568"/>
                    </a:lnTo>
                    <a:lnTo>
                      <a:pt x="7" y="689"/>
                    </a:lnTo>
                    <a:lnTo>
                      <a:pt x="8" y="723"/>
                    </a:lnTo>
                    <a:lnTo>
                      <a:pt x="10" y="752"/>
                    </a:lnTo>
                    <a:lnTo>
                      <a:pt x="15" y="778"/>
                    </a:lnTo>
                    <a:lnTo>
                      <a:pt x="20" y="800"/>
                    </a:lnTo>
                    <a:lnTo>
                      <a:pt x="27" y="819"/>
                    </a:lnTo>
                    <a:lnTo>
                      <a:pt x="35" y="834"/>
                    </a:lnTo>
                    <a:lnTo>
                      <a:pt x="46" y="848"/>
                    </a:lnTo>
                    <a:lnTo>
                      <a:pt x="58" y="857"/>
                    </a:lnTo>
                    <a:lnTo>
                      <a:pt x="73" y="865"/>
                    </a:lnTo>
                    <a:lnTo>
                      <a:pt x="89" y="870"/>
                    </a:lnTo>
                    <a:lnTo>
                      <a:pt x="108" y="874"/>
                    </a:lnTo>
                    <a:lnTo>
                      <a:pt x="129" y="876"/>
                    </a:lnTo>
                    <a:lnTo>
                      <a:pt x="151" y="877"/>
                    </a:lnTo>
                    <a:lnTo>
                      <a:pt x="177" y="876"/>
                    </a:lnTo>
                    <a:lnTo>
                      <a:pt x="205" y="874"/>
                    </a:lnTo>
                    <a:lnTo>
                      <a:pt x="236" y="872"/>
                    </a:lnTo>
                    <a:lnTo>
                      <a:pt x="274" y="871"/>
                    </a:lnTo>
                    <a:lnTo>
                      <a:pt x="311" y="871"/>
                    </a:lnTo>
                    <a:lnTo>
                      <a:pt x="348" y="870"/>
                    </a:lnTo>
                    <a:lnTo>
                      <a:pt x="387" y="870"/>
                    </a:lnTo>
                    <a:lnTo>
                      <a:pt x="424" y="869"/>
                    </a:lnTo>
                    <a:lnTo>
                      <a:pt x="462" y="869"/>
                    </a:lnTo>
                    <a:lnTo>
                      <a:pt x="501" y="868"/>
                    </a:lnTo>
                    <a:lnTo>
                      <a:pt x="539" y="868"/>
                    </a:lnTo>
                    <a:lnTo>
                      <a:pt x="578" y="867"/>
                    </a:lnTo>
                    <a:lnTo>
                      <a:pt x="616" y="867"/>
                    </a:lnTo>
                    <a:lnTo>
                      <a:pt x="653" y="866"/>
                    </a:lnTo>
                    <a:lnTo>
                      <a:pt x="692" y="866"/>
                    </a:lnTo>
                    <a:lnTo>
                      <a:pt x="729" y="865"/>
                    </a:lnTo>
                    <a:lnTo>
                      <a:pt x="766" y="865"/>
                    </a:lnTo>
                    <a:lnTo>
                      <a:pt x="804" y="864"/>
                    </a:lnTo>
                    <a:lnTo>
                      <a:pt x="841" y="864"/>
                    </a:lnTo>
                    <a:lnTo>
                      <a:pt x="888" y="863"/>
                    </a:lnTo>
                    <a:lnTo>
                      <a:pt x="923" y="858"/>
                    </a:lnTo>
                    <a:lnTo>
                      <a:pt x="950" y="848"/>
                    </a:lnTo>
                    <a:lnTo>
                      <a:pt x="969" y="833"/>
                    </a:lnTo>
                    <a:lnTo>
                      <a:pt x="982" y="812"/>
                    </a:lnTo>
                    <a:lnTo>
                      <a:pt x="989" y="784"/>
                    </a:lnTo>
                    <a:lnTo>
                      <a:pt x="993" y="749"/>
                    </a:lnTo>
                    <a:lnTo>
                      <a:pt x="994" y="705"/>
                    </a:lnTo>
                    <a:lnTo>
                      <a:pt x="997" y="635"/>
                    </a:lnTo>
                    <a:lnTo>
                      <a:pt x="1001" y="571"/>
                    </a:lnTo>
                    <a:lnTo>
                      <a:pt x="1006" y="509"/>
                    </a:lnTo>
                    <a:lnTo>
                      <a:pt x="1011" y="449"/>
                    </a:lnTo>
                    <a:lnTo>
                      <a:pt x="1015" y="388"/>
                    </a:lnTo>
                    <a:lnTo>
                      <a:pt x="1020" y="326"/>
                    </a:lnTo>
                    <a:lnTo>
                      <a:pt x="1023" y="262"/>
                    </a:lnTo>
                    <a:lnTo>
                      <a:pt x="1026" y="193"/>
                    </a:lnTo>
                    <a:lnTo>
                      <a:pt x="1026" y="162"/>
                    </a:lnTo>
                    <a:lnTo>
                      <a:pt x="1022" y="131"/>
                    </a:lnTo>
                    <a:lnTo>
                      <a:pt x="1012" y="103"/>
                    </a:lnTo>
                    <a:lnTo>
                      <a:pt x="995" y="78"/>
                    </a:lnTo>
                    <a:lnTo>
                      <a:pt x="974" y="56"/>
                    </a:lnTo>
                    <a:lnTo>
                      <a:pt x="946" y="38"/>
                    </a:lnTo>
                    <a:lnTo>
                      <a:pt x="911" y="27"/>
                    </a:lnTo>
                    <a:lnTo>
                      <a:pt x="871" y="22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5" name=""/>
            <p:cNvSpPr/>
            <p:nvPr/>
          </p:nvSpPr>
          <p:spPr>
            <a:xfrm>
              <a:off x="6883200" y="3144960"/>
              <a:ext cx="209520" cy="22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6" name=""/>
          <p:cNvSpPr/>
          <p:nvPr/>
        </p:nvSpPr>
        <p:spPr>
          <a:xfrm>
            <a:off x="2135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>
            <a:off x="6783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8" name="BBONNET" descr=""/>
          <p:cNvPicPr/>
          <p:nvPr/>
        </p:nvPicPr>
        <p:blipFill>
          <a:blip r:embed="rId1"/>
          <a:stretch/>
        </p:blipFill>
        <p:spPr>
          <a:xfrm>
            <a:off x="1600200" y="2809800"/>
            <a:ext cx="16556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n00136_" descr=""/>
          <p:cNvPicPr/>
          <p:nvPr/>
        </p:nvPicPr>
        <p:blipFill>
          <a:blip r:embed="rId1"/>
          <a:stretch/>
        </p:blipFill>
        <p:spPr>
          <a:xfrm>
            <a:off x="5867280" y="3021120"/>
            <a:ext cx="1710000" cy="1576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6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an00582_" descr=""/>
          <p:cNvPicPr/>
          <p:nvPr/>
        </p:nvPicPr>
        <p:blipFill>
          <a:blip r:embed="rId2"/>
          <a:stretch/>
        </p:blipFill>
        <p:spPr>
          <a:xfrm>
            <a:off x="1295280" y="3021120"/>
            <a:ext cx="1710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715000" y="2575080"/>
            <a:ext cx="1792440" cy="2469960"/>
            <a:chOff x="5715000" y="2575080"/>
            <a:chExt cx="1792440" cy="2469960"/>
          </a:xfrm>
        </p:grpSpPr>
        <p:sp>
          <p:nvSpPr>
            <p:cNvPr id="68" name=""/>
            <p:cNvSpPr/>
            <p:nvPr/>
          </p:nvSpPr>
          <p:spPr>
            <a:xfrm>
              <a:off x="5715000" y="2575080"/>
              <a:ext cx="179244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10400" y="3233520"/>
              <a:ext cx="750960" cy="1788840"/>
            </a:xfrm>
            <a:custGeom>
              <a:avLst/>
              <a:gdLst/>
              <a:ahLst/>
              <a:rect l="l" t="t" r="r" b="b"/>
              <a:pathLst>
                <a:path w="2837" h="5635">
                  <a:moveTo>
                    <a:pt x="251" y="5635"/>
                  </a:moveTo>
                  <a:lnTo>
                    <a:pt x="368" y="5494"/>
                  </a:lnTo>
                  <a:lnTo>
                    <a:pt x="486" y="5352"/>
                  </a:lnTo>
                  <a:lnTo>
                    <a:pt x="601" y="5210"/>
                  </a:lnTo>
                  <a:lnTo>
                    <a:pt x="715" y="5066"/>
                  </a:lnTo>
                  <a:lnTo>
                    <a:pt x="827" y="4920"/>
                  </a:lnTo>
                  <a:lnTo>
                    <a:pt x="938" y="4773"/>
                  </a:lnTo>
                  <a:lnTo>
                    <a:pt x="1046" y="4624"/>
                  </a:lnTo>
                  <a:lnTo>
                    <a:pt x="1153" y="4474"/>
                  </a:lnTo>
                  <a:lnTo>
                    <a:pt x="1257" y="4323"/>
                  </a:lnTo>
                  <a:lnTo>
                    <a:pt x="1360" y="4169"/>
                  </a:lnTo>
                  <a:lnTo>
                    <a:pt x="1460" y="4012"/>
                  </a:lnTo>
                  <a:lnTo>
                    <a:pt x="1558" y="3854"/>
                  </a:lnTo>
                  <a:lnTo>
                    <a:pt x="1653" y="3693"/>
                  </a:lnTo>
                  <a:lnTo>
                    <a:pt x="1746" y="3530"/>
                  </a:lnTo>
                  <a:lnTo>
                    <a:pt x="1836" y="3364"/>
                  </a:lnTo>
                  <a:lnTo>
                    <a:pt x="1922" y="3195"/>
                  </a:lnTo>
                  <a:lnTo>
                    <a:pt x="2007" y="3023"/>
                  </a:lnTo>
                  <a:lnTo>
                    <a:pt x="2087" y="2848"/>
                  </a:lnTo>
                  <a:lnTo>
                    <a:pt x="2165" y="2670"/>
                  </a:lnTo>
                  <a:lnTo>
                    <a:pt x="2239" y="2489"/>
                  </a:lnTo>
                  <a:lnTo>
                    <a:pt x="2311" y="2304"/>
                  </a:lnTo>
                  <a:lnTo>
                    <a:pt x="2378" y="2115"/>
                  </a:lnTo>
                  <a:lnTo>
                    <a:pt x="2442" y="1923"/>
                  </a:lnTo>
                  <a:lnTo>
                    <a:pt x="2502" y="1726"/>
                  </a:lnTo>
                  <a:lnTo>
                    <a:pt x="2559" y="1526"/>
                  </a:lnTo>
                  <a:lnTo>
                    <a:pt x="2611" y="1322"/>
                  </a:lnTo>
                  <a:lnTo>
                    <a:pt x="2659" y="1113"/>
                  </a:lnTo>
                  <a:lnTo>
                    <a:pt x="2704" y="900"/>
                  </a:lnTo>
                  <a:lnTo>
                    <a:pt x="2743" y="682"/>
                  </a:lnTo>
                  <a:lnTo>
                    <a:pt x="2779" y="460"/>
                  </a:lnTo>
                  <a:lnTo>
                    <a:pt x="2810" y="232"/>
                  </a:lnTo>
                  <a:lnTo>
                    <a:pt x="2837" y="0"/>
                  </a:lnTo>
                  <a:lnTo>
                    <a:pt x="2762" y="198"/>
                  </a:lnTo>
                  <a:lnTo>
                    <a:pt x="2687" y="394"/>
                  </a:lnTo>
                  <a:lnTo>
                    <a:pt x="2611" y="588"/>
                  </a:lnTo>
                  <a:lnTo>
                    <a:pt x="2536" y="782"/>
                  </a:lnTo>
                  <a:lnTo>
                    <a:pt x="2461" y="973"/>
                  </a:lnTo>
                  <a:lnTo>
                    <a:pt x="2385" y="1164"/>
                  </a:lnTo>
                  <a:lnTo>
                    <a:pt x="2309" y="1352"/>
                  </a:lnTo>
                  <a:lnTo>
                    <a:pt x="2231" y="1539"/>
                  </a:lnTo>
                  <a:lnTo>
                    <a:pt x="2154" y="1724"/>
                  </a:lnTo>
                  <a:lnTo>
                    <a:pt x="2077" y="1907"/>
                  </a:lnTo>
                  <a:lnTo>
                    <a:pt x="1997" y="2089"/>
                  </a:lnTo>
                  <a:lnTo>
                    <a:pt x="1918" y="2268"/>
                  </a:lnTo>
                  <a:lnTo>
                    <a:pt x="1837" y="2447"/>
                  </a:lnTo>
                  <a:lnTo>
                    <a:pt x="1755" y="2622"/>
                  </a:lnTo>
                  <a:lnTo>
                    <a:pt x="1673" y="2796"/>
                  </a:lnTo>
                  <a:lnTo>
                    <a:pt x="1589" y="2967"/>
                  </a:lnTo>
                  <a:lnTo>
                    <a:pt x="1504" y="3137"/>
                  </a:lnTo>
                  <a:lnTo>
                    <a:pt x="1416" y="3305"/>
                  </a:lnTo>
                  <a:lnTo>
                    <a:pt x="1329" y="3470"/>
                  </a:lnTo>
                  <a:lnTo>
                    <a:pt x="1239" y="3634"/>
                  </a:lnTo>
                  <a:lnTo>
                    <a:pt x="1147" y="3794"/>
                  </a:lnTo>
                  <a:lnTo>
                    <a:pt x="1053" y="3953"/>
                  </a:lnTo>
                  <a:lnTo>
                    <a:pt x="958" y="4108"/>
                  </a:lnTo>
                  <a:lnTo>
                    <a:pt x="861" y="4262"/>
                  </a:lnTo>
                  <a:lnTo>
                    <a:pt x="762" y="4412"/>
                  </a:lnTo>
                  <a:lnTo>
                    <a:pt x="660" y="4562"/>
                  </a:lnTo>
                  <a:lnTo>
                    <a:pt x="556" y="4708"/>
                  </a:lnTo>
                  <a:lnTo>
                    <a:pt x="449" y="4850"/>
                  </a:lnTo>
                  <a:lnTo>
                    <a:pt x="341" y="4991"/>
                  </a:lnTo>
                  <a:lnTo>
                    <a:pt x="230" y="5130"/>
                  </a:lnTo>
                  <a:lnTo>
                    <a:pt x="116" y="5265"/>
                  </a:lnTo>
                  <a:lnTo>
                    <a:pt x="0" y="5397"/>
                  </a:lnTo>
                  <a:lnTo>
                    <a:pt x="251" y="5635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2920" y="2584440"/>
              <a:ext cx="1776600" cy="2450520"/>
            </a:xfrm>
            <a:custGeom>
              <a:avLst/>
              <a:gdLst/>
              <a:ahLst/>
              <a:rect l="l" t="t" r="r" b="b"/>
              <a:pathLst>
                <a:path w="6717" h="7717">
                  <a:moveTo>
                    <a:pt x="78" y="4300"/>
                  </a:moveTo>
                  <a:lnTo>
                    <a:pt x="40" y="4297"/>
                  </a:lnTo>
                  <a:lnTo>
                    <a:pt x="15" y="4278"/>
                  </a:lnTo>
                  <a:lnTo>
                    <a:pt x="2" y="4246"/>
                  </a:lnTo>
                  <a:lnTo>
                    <a:pt x="0" y="4207"/>
                  </a:lnTo>
                  <a:lnTo>
                    <a:pt x="8" y="4166"/>
                  </a:lnTo>
                  <a:lnTo>
                    <a:pt x="25" y="4127"/>
                  </a:lnTo>
                  <a:lnTo>
                    <a:pt x="52" y="4095"/>
                  </a:lnTo>
                  <a:lnTo>
                    <a:pt x="85" y="4074"/>
                  </a:lnTo>
                  <a:lnTo>
                    <a:pt x="141" y="3994"/>
                  </a:lnTo>
                  <a:lnTo>
                    <a:pt x="260" y="3883"/>
                  </a:lnTo>
                  <a:lnTo>
                    <a:pt x="324" y="3841"/>
                  </a:lnTo>
                  <a:lnTo>
                    <a:pt x="552" y="3662"/>
                  </a:lnTo>
                  <a:lnTo>
                    <a:pt x="614" y="3593"/>
                  </a:lnTo>
                  <a:lnTo>
                    <a:pt x="796" y="3407"/>
                  </a:lnTo>
                  <a:lnTo>
                    <a:pt x="848" y="3344"/>
                  </a:lnTo>
                  <a:lnTo>
                    <a:pt x="897" y="3281"/>
                  </a:lnTo>
                  <a:lnTo>
                    <a:pt x="945" y="3219"/>
                  </a:lnTo>
                  <a:lnTo>
                    <a:pt x="990" y="3156"/>
                  </a:lnTo>
                  <a:lnTo>
                    <a:pt x="1035" y="3093"/>
                  </a:lnTo>
                  <a:lnTo>
                    <a:pt x="1078" y="3029"/>
                  </a:lnTo>
                  <a:lnTo>
                    <a:pt x="1120" y="2967"/>
                  </a:lnTo>
                  <a:lnTo>
                    <a:pt x="1161" y="2903"/>
                  </a:lnTo>
                  <a:lnTo>
                    <a:pt x="1202" y="2839"/>
                  </a:lnTo>
                  <a:lnTo>
                    <a:pt x="1242" y="2775"/>
                  </a:lnTo>
                  <a:lnTo>
                    <a:pt x="1282" y="2711"/>
                  </a:lnTo>
                  <a:lnTo>
                    <a:pt x="1322" y="2648"/>
                  </a:lnTo>
                  <a:lnTo>
                    <a:pt x="1362" y="2584"/>
                  </a:lnTo>
                  <a:lnTo>
                    <a:pt x="1403" y="2520"/>
                  </a:lnTo>
                  <a:lnTo>
                    <a:pt x="1444" y="2456"/>
                  </a:lnTo>
                  <a:lnTo>
                    <a:pt x="1487" y="2392"/>
                  </a:lnTo>
                  <a:lnTo>
                    <a:pt x="1513" y="2384"/>
                  </a:lnTo>
                  <a:lnTo>
                    <a:pt x="1532" y="2333"/>
                  </a:lnTo>
                  <a:lnTo>
                    <a:pt x="1569" y="2307"/>
                  </a:lnTo>
                  <a:lnTo>
                    <a:pt x="1631" y="2214"/>
                  </a:lnTo>
                  <a:lnTo>
                    <a:pt x="1649" y="2153"/>
                  </a:lnTo>
                  <a:lnTo>
                    <a:pt x="1674" y="2129"/>
                  </a:lnTo>
                  <a:lnTo>
                    <a:pt x="1698" y="2108"/>
                  </a:lnTo>
                  <a:lnTo>
                    <a:pt x="1723" y="2086"/>
                  </a:lnTo>
                  <a:lnTo>
                    <a:pt x="1749" y="2066"/>
                  </a:lnTo>
                  <a:lnTo>
                    <a:pt x="1775" y="2047"/>
                  </a:lnTo>
                  <a:lnTo>
                    <a:pt x="1800" y="2029"/>
                  </a:lnTo>
                  <a:lnTo>
                    <a:pt x="1827" y="2013"/>
                  </a:lnTo>
                  <a:lnTo>
                    <a:pt x="1855" y="1996"/>
                  </a:lnTo>
                  <a:lnTo>
                    <a:pt x="1881" y="1982"/>
                  </a:lnTo>
                  <a:lnTo>
                    <a:pt x="1908" y="1970"/>
                  </a:lnTo>
                  <a:lnTo>
                    <a:pt x="1934" y="1958"/>
                  </a:lnTo>
                  <a:lnTo>
                    <a:pt x="1961" y="1949"/>
                  </a:lnTo>
                  <a:lnTo>
                    <a:pt x="1987" y="1940"/>
                  </a:lnTo>
                  <a:lnTo>
                    <a:pt x="2014" y="1934"/>
                  </a:lnTo>
                  <a:lnTo>
                    <a:pt x="2040" y="1928"/>
                  </a:lnTo>
                  <a:lnTo>
                    <a:pt x="2066" y="1924"/>
                  </a:lnTo>
                  <a:lnTo>
                    <a:pt x="2249" y="1924"/>
                  </a:lnTo>
                  <a:lnTo>
                    <a:pt x="2275" y="1728"/>
                  </a:lnTo>
                  <a:lnTo>
                    <a:pt x="2294" y="1677"/>
                  </a:lnTo>
                  <a:lnTo>
                    <a:pt x="2320" y="1677"/>
                  </a:lnTo>
                  <a:lnTo>
                    <a:pt x="2328" y="1640"/>
                  </a:lnTo>
                  <a:lnTo>
                    <a:pt x="2336" y="1604"/>
                  </a:lnTo>
                  <a:lnTo>
                    <a:pt x="2347" y="1567"/>
                  </a:lnTo>
                  <a:lnTo>
                    <a:pt x="2358" y="1530"/>
                  </a:lnTo>
                  <a:lnTo>
                    <a:pt x="2370" y="1493"/>
                  </a:lnTo>
                  <a:lnTo>
                    <a:pt x="2384" y="1456"/>
                  </a:lnTo>
                  <a:lnTo>
                    <a:pt x="2399" y="1420"/>
                  </a:lnTo>
                  <a:lnTo>
                    <a:pt x="2414" y="1384"/>
                  </a:lnTo>
                  <a:lnTo>
                    <a:pt x="2431" y="1347"/>
                  </a:lnTo>
                  <a:lnTo>
                    <a:pt x="2448" y="1312"/>
                  </a:lnTo>
                  <a:lnTo>
                    <a:pt x="2467" y="1275"/>
                  </a:lnTo>
                  <a:lnTo>
                    <a:pt x="2487" y="1239"/>
                  </a:lnTo>
                  <a:lnTo>
                    <a:pt x="2508" y="1203"/>
                  </a:lnTo>
                  <a:lnTo>
                    <a:pt x="2529" y="1168"/>
                  </a:lnTo>
                  <a:lnTo>
                    <a:pt x="2552" y="1133"/>
                  </a:lnTo>
                  <a:lnTo>
                    <a:pt x="2575" y="1097"/>
                  </a:lnTo>
                  <a:lnTo>
                    <a:pt x="2721" y="842"/>
                  </a:lnTo>
                  <a:lnTo>
                    <a:pt x="2753" y="799"/>
                  </a:lnTo>
                  <a:lnTo>
                    <a:pt x="2786" y="756"/>
                  </a:lnTo>
                  <a:lnTo>
                    <a:pt x="2821" y="711"/>
                  </a:lnTo>
                  <a:lnTo>
                    <a:pt x="2856" y="668"/>
                  </a:lnTo>
                  <a:lnTo>
                    <a:pt x="2894" y="624"/>
                  </a:lnTo>
                  <a:lnTo>
                    <a:pt x="2932" y="580"/>
                  </a:lnTo>
                  <a:lnTo>
                    <a:pt x="2973" y="536"/>
                  </a:lnTo>
                  <a:lnTo>
                    <a:pt x="3014" y="493"/>
                  </a:lnTo>
                  <a:lnTo>
                    <a:pt x="3057" y="449"/>
                  </a:lnTo>
                  <a:lnTo>
                    <a:pt x="3101" y="406"/>
                  </a:lnTo>
                  <a:lnTo>
                    <a:pt x="3146" y="364"/>
                  </a:lnTo>
                  <a:lnTo>
                    <a:pt x="3192" y="322"/>
                  </a:lnTo>
                  <a:lnTo>
                    <a:pt x="3239" y="281"/>
                  </a:lnTo>
                  <a:lnTo>
                    <a:pt x="3286" y="240"/>
                  </a:lnTo>
                  <a:lnTo>
                    <a:pt x="3335" y="199"/>
                  </a:lnTo>
                  <a:lnTo>
                    <a:pt x="3384" y="161"/>
                  </a:lnTo>
                  <a:lnTo>
                    <a:pt x="3528" y="84"/>
                  </a:lnTo>
                  <a:lnTo>
                    <a:pt x="3575" y="51"/>
                  </a:lnTo>
                  <a:lnTo>
                    <a:pt x="3629" y="33"/>
                  </a:lnTo>
                  <a:lnTo>
                    <a:pt x="3674" y="25"/>
                  </a:lnTo>
                  <a:lnTo>
                    <a:pt x="3737" y="0"/>
                  </a:lnTo>
                  <a:lnTo>
                    <a:pt x="3801" y="33"/>
                  </a:lnTo>
                  <a:lnTo>
                    <a:pt x="3810" y="76"/>
                  </a:lnTo>
                  <a:lnTo>
                    <a:pt x="3756" y="170"/>
                  </a:lnTo>
                  <a:lnTo>
                    <a:pt x="3742" y="237"/>
                  </a:lnTo>
                  <a:lnTo>
                    <a:pt x="3727" y="303"/>
                  </a:lnTo>
                  <a:lnTo>
                    <a:pt x="3713" y="368"/>
                  </a:lnTo>
                  <a:lnTo>
                    <a:pt x="3699" y="434"/>
                  </a:lnTo>
                  <a:lnTo>
                    <a:pt x="3685" y="500"/>
                  </a:lnTo>
                  <a:lnTo>
                    <a:pt x="3674" y="565"/>
                  </a:lnTo>
                  <a:lnTo>
                    <a:pt x="3664" y="631"/>
                  </a:lnTo>
                  <a:lnTo>
                    <a:pt x="3656" y="698"/>
                  </a:lnTo>
                  <a:lnTo>
                    <a:pt x="3881" y="604"/>
                  </a:lnTo>
                  <a:lnTo>
                    <a:pt x="3937" y="597"/>
                  </a:lnTo>
                  <a:lnTo>
                    <a:pt x="3975" y="586"/>
                  </a:lnTo>
                  <a:lnTo>
                    <a:pt x="4013" y="574"/>
                  </a:lnTo>
                  <a:lnTo>
                    <a:pt x="4051" y="563"/>
                  </a:lnTo>
                  <a:lnTo>
                    <a:pt x="4090" y="551"/>
                  </a:lnTo>
                  <a:lnTo>
                    <a:pt x="4128" y="540"/>
                  </a:lnTo>
                  <a:lnTo>
                    <a:pt x="4167" y="531"/>
                  </a:lnTo>
                  <a:lnTo>
                    <a:pt x="4206" y="520"/>
                  </a:lnTo>
                  <a:lnTo>
                    <a:pt x="4246" y="511"/>
                  </a:lnTo>
                  <a:lnTo>
                    <a:pt x="4285" y="502"/>
                  </a:lnTo>
                  <a:lnTo>
                    <a:pt x="4324" y="495"/>
                  </a:lnTo>
                  <a:lnTo>
                    <a:pt x="4364" y="488"/>
                  </a:lnTo>
                  <a:lnTo>
                    <a:pt x="4403" y="483"/>
                  </a:lnTo>
                  <a:lnTo>
                    <a:pt x="4444" y="480"/>
                  </a:lnTo>
                  <a:lnTo>
                    <a:pt x="4483" y="476"/>
                  </a:lnTo>
                  <a:lnTo>
                    <a:pt x="4523" y="475"/>
                  </a:lnTo>
                  <a:lnTo>
                    <a:pt x="4564" y="476"/>
                  </a:lnTo>
                  <a:lnTo>
                    <a:pt x="4626" y="511"/>
                  </a:lnTo>
                  <a:lnTo>
                    <a:pt x="4599" y="562"/>
                  </a:lnTo>
                  <a:lnTo>
                    <a:pt x="4554" y="630"/>
                  </a:lnTo>
                  <a:lnTo>
                    <a:pt x="4550" y="664"/>
                  </a:lnTo>
                  <a:lnTo>
                    <a:pt x="4542" y="696"/>
                  </a:lnTo>
                  <a:lnTo>
                    <a:pt x="4531" y="728"/>
                  </a:lnTo>
                  <a:lnTo>
                    <a:pt x="4519" y="761"/>
                  </a:lnTo>
                  <a:lnTo>
                    <a:pt x="4504" y="793"/>
                  </a:lnTo>
                  <a:lnTo>
                    <a:pt x="4488" y="826"/>
                  </a:lnTo>
                  <a:lnTo>
                    <a:pt x="4469" y="857"/>
                  </a:lnTo>
                  <a:lnTo>
                    <a:pt x="4451" y="889"/>
                  </a:lnTo>
                  <a:lnTo>
                    <a:pt x="4430" y="921"/>
                  </a:lnTo>
                  <a:lnTo>
                    <a:pt x="4409" y="952"/>
                  </a:lnTo>
                  <a:lnTo>
                    <a:pt x="4388" y="985"/>
                  </a:lnTo>
                  <a:lnTo>
                    <a:pt x="4368" y="1017"/>
                  </a:lnTo>
                  <a:lnTo>
                    <a:pt x="4348" y="1050"/>
                  </a:lnTo>
                  <a:lnTo>
                    <a:pt x="4329" y="1082"/>
                  </a:lnTo>
                  <a:lnTo>
                    <a:pt x="4309" y="1115"/>
                  </a:lnTo>
                  <a:lnTo>
                    <a:pt x="4292" y="1148"/>
                  </a:lnTo>
                  <a:lnTo>
                    <a:pt x="4455" y="1164"/>
                  </a:lnTo>
                  <a:lnTo>
                    <a:pt x="4564" y="1260"/>
                  </a:lnTo>
                  <a:lnTo>
                    <a:pt x="4572" y="1276"/>
                  </a:lnTo>
                  <a:lnTo>
                    <a:pt x="4591" y="1294"/>
                  </a:lnTo>
                  <a:lnTo>
                    <a:pt x="4626" y="1268"/>
                  </a:lnTo>
                  <a:lnTo>
                    <a:pt x="4681" y="1243"/>
                  </a:lnTo>
                  <a:lnTo>
                    <a:pt x="4854" y="1132"/>
                  </a:lnTo>
                  <a:lnTo>
                    <a:pt x="4881" y="1114"/>
                  </a:lnTo>
                  <a:lnTo>
                    <a:pt x="4900" y="1071"/>
                  </a:lnTo>
                  <a:lnTo>
                    <a:pt x="5044" y="1047"/>
                  </a:lnTo>
                  <a:lnTo>
                    <a:pt x="5099" y="1081"/>
                  </a:lnTo>
                  <a:lnTo>
                    <a:pt x="5080" y="1138"/>
                  </a:lnTo>
                  <a:lnTo>
                    <a:pt x="5065" y="1196"/>
                  </a:lnTo>
                  <a:lnTo>
                    <a:pt x="5051" y="1253"/>
                  </a:lnTo>
                  <a:lnTo>
                    <a:pt x="5036" y="1310"/>
                  </a:lnTo>
                  <a:lnTo>
                    <a:pt x="5019" y="1368"/>
                  </a:lnTo>
                  <a:lnTo>
                    <a:pt x="4996" y="1426"/>
                  </a:lnTo>
                  <a:lnTo>
                    <a:pt x="4966" y="1484"/>
                  </a:lnTo>
                  <a:lnTo>
                    <a:pt x="4927" y="1541"/>
                  </a:lnTo>
                  <a:lnTo>
                    <a:pt x="4817" y="1719"/>
                  </a:lnTo>
                  <a:lnTo>
                    <a:pt x="4863" y="1762"/>
                  </a:lnTo>
                  <a:lnTo>
                    <a:pt x="4918" y="1983"/>
                  </a:lnTo>
                  <a:lnTo>
                    <a:pt x="4972" y="2204"/>
                  </a:lnTo>
                  <a:lnTo>
                    <a:pt x="4982" y="2265"/>
                  </a:lnTo>
                  <a:lnTo>
                    <a:pt x="5006" y="2363"/>
                  </a:lnTo>
                  <a:lnTo>
                    <a:pt x="5029" y="2463"/>
                  </a:lnTo>
                  <a:lnTo>
                    <a:pt x="5051" y="2561"/>
                  </a:lnTo>
                  <a:lnTo>
                    <a:pt x="5070" y="2660"/>
                  </a:lnTo>
                  <a:lnTo>
                    <a:pt x="5085" y="2759"/>
                  </a:lnTo>
                  <a:lnTo>
                    <a:pt x="5094" y="2858"/>
                  </a:lnTo>
                  <a:lnTo>
                    <a:pt x="5096" y="2957"/>
                  </a:lnTo>
                  <a:lnTo>
                    <a:pt x="5091" y="3056"/>
                  </a:lnTo>
                  <a:lnTo>
                    <a:pt x="5118" y="3577"/>
                  </a:lnTo>
                  <a:lnTo>
                    <a:pt x="5071" y="4207"/>
                  </a:lnTo>
                  <a:lnTo>
                    <a:pt x="5071" y="4368"/>
                  </a:lnTo>
                  <a:lnTo>
                    <a:pt x="4999" y="5127"/>
                  </a:lnTo>
                  <a:lnTo>
                    <a:pt x="4999" y="5169"/>
                  </a:lnTo>
                  <a:lnTo>
                    <a:pt x="4935" y="5612"/>
                  </a:lnTo>
                  <a:lnTo>
                    <a:pt x="4968" y="5551"/>
                  </a:lnTo>
                  <a:lnTo>
                    <a:pt x="5003" y="5490"/>
                  </a:lnTo>
                  <a:lnTo>
                    <a:pt x="5036" y="5430"/>
                  </a:lnTo>
                  <a:lnTo>
                    <a:pt x="5069" y="5370"/>
                  </a:lnTo>
                  <a:lnTo>
                    <a:pt x="5102" y="5310"/>
                  </a:lnTo>
                  <a:lnTo>
                    <a:pt x="5134" y="5250"/>
                  </a:lnTo>
                  <a:lnTo>
                    <a:pt x="5167" y="5190"/>
                  </a:lnTo>
                  <a:lnTo>
                    <a:pt x="5198" y="5130"/>
                  </a:lnTo>
                  <a:lnTo>
                    <a:pt x="5230" y="5071"/>
                  </a:lnTo>
                  <a:lnTo>
                    <a:pt x="5261" y="5011"/>
                  </a:lnTo>
                  <a:lnTo>
                    <a:pt x="5292" y="4952"/>
                  </a:lnTo>
                  <a:lnTo>
                    <a:pt x="5323" y="4892"/>
                  </a:lnTo>
                  <a:lnTo>
                    <a:pt x="5353" y="4833"/>
                  </a:lnTo>
                  <a:lnTo>
                    <a:pt x="5383" y="4773"/>
                  </a:lnTo>
                  <a:lnTo>
                    <a:pt x="5413" y="4714"/>
                  </a:lnTo>
                  <a:lnTo>
                    <a:pt x="5443" y="4654"/>
                  </a:lnTo>
                  <a:lnTo>
                    <a:pt x="5473" y="4596"/>
                  </a:lnTo>
                  <a:lnTo>
                    <a:pt x="5502" y="4536"/>
                  </a:lnTo>
                  <a:lnTo>
                    <a:pt x="5531" y="4477"/>
                  </a:lnTo>
                  <a:lnTo>
                    <a:pt x="5560" y="4417"/>
                  </a:lnTo>
                  <a:lnTo>
                    <a:pt x="5589" y="4359"/>
                  </a:lnTo>
                  <a:lnTo>
                    <a:pt x="5616" y="4299"/>
                  </a:lnTo>
                  <a:lnTo>
                    <a:pt x="5645" y="4240"/>
                  </a:lnTo>
                  <a:lnTo>
                    <a:pt x="5673" y="4180"/>
                  </a:lnTo>
                  <a:lnTo>
                    <a:pt x="5700" y="4121"/>
                  </a:lnTo>
                  <a:lnTo>
                    <a:pt x="5728" y="4062"/>
                  </a:lnTo>
                  <a:lnTo>
                    <a:pt x="5756" y="4003"/>
                  </a:lnTo>
                  <a:lnTo>
                    <a:pt x="5782" y="3943"/>
                  </a:lnTo>
                  <a:lnTo>
                    <a:pt x="5810" y="3884"/>
                  </a:lnTo>
                  <a:lnTo>
                    <a:pt x="5836" y="3823"/>
                  </a:lnTo>
                  <a:lnTo>
                    <a:pt x="5863" y="3764"/>
                  </a:lnTo>
                  <a:lnTo>
                    <a:pt x="5889" y="3704"/>
                  </a:lnTo>
                  <a:lnTo>
                    <a:pt x="5934" y="3618"/>
                  </a:lnTo>
                  <a:lnTo>
                    <a:pt x="6325" y="2597"/>
                  </a:lnTo>
                  <a:lnTo>
                    <a:pt x="6339" y="2532"/>
                  </a:lnTo>
                  <a:lnTo>
                    <a:pt x="6354" y="2466"/>
                  </a:lnTo>
                  <a:lnTo>
                    <a:pt x="6369" y="2400"/>
                  </a:lnTo>
                  <a:lnTo>
                    <a:pt x="6384" y="2334"/>
                  </a:lnTo>
                  <a:lnTo>
                    <a:pt x="6399" y="2268"/>
                  </a:lnTo>
                  <a:lnTo>
                    <a:pt x="6414" y="2202"/>
                  </a:lnTo>
                  <a:lnTo>
                    <a:pt x="6429" y="2135"/>
                  </a:lnTo>
                  <a:lnTo>
                    <a:pt x="6444" y="2069"/>
                  </a:lnTo>
                  <a:lnTo>
                    <a:pt x="6458" y="2003"/>
                  </a:lnTo>
                  <a:lnTo>
                    <a:pt x="6470" y="1936"/>
                  </a:lnTo>
                  <a:lnTo>
                    <a:pt x="6482" y="1870"/>
                  </a:lnTo>
                  <a:lnTo>
                    <a:pt x="6492" y="1804"/>
                  </a:lnTo>
                  <a:lnTo>
                    <a:pt x="6500" y="1738"/>
                  </a:lnTo>
                  <a:lnTo>
                    <a:pt x="6507" y="1672"/>
                  </a:lnTo>
                  <a:lnTo>
                    <a:pt x="6513" y="1606"/>
                  </a:lnTo>
                  <a:lnTo>
                    <a:pt x="6515" y="1541"/>
                  </a:lnTo>
                  <a:lnTo>
                    <a:pt x="6560" y="1174"/>
                  </a:lnTo>
                  <a:lnTo>
                    <a:pt x="6625" y="842"/>
                  </a:lnTo>
                  <a:lnTo>
                    <a:pt x="6660" y="919"/>
                  </a:lnTo>
                  <a:lnTo>
                    <a:pt x="6651" y="970"/>
                  </a:lnTo>
                  <a:lnTo>
                    <a:pt x="6651" y="1174"/>
                  </a:lnTo>
                  <a:lnTo>
                    <a:pt x="6670" y="1225"/>
                  </a:lnTo>
                  <a:lnTo>
                    <a:pt x="6670" y="1268"/>
                  </a:lnTo>
                  <a:lnTo>
                    <a:pt x="6716" y="1582"/>
                  </a:lnTo>
                  <a:lnTo>
                    <a:pt x="6717" y="1755"/>
                  </a:lnTo>
                  <a:lnTo>
                    <a:pt x="6711" y="1927"/>
                  </a:lnTo>
                  <a:lnTo>
                    <a:pt x="6702" y="2099"/>
                  </a:lnTo>
                  <a:lnTo>
                    <a:pt x="6687" y="2271"/>
                  </a:lnTo>
                  <a:lnTo>
                    <a:pt x="6668" y="2443"/>
                  </a:lnTo>
                  <a:lnTo>
                    <a:pt x="6642" y="2615"/>
                  </a:lnTo>
                  <a:lnTo>
                    <a:pt x="6612" y="2787"/>
                  </a:lnTo>
                  <a:lnTo>
                    <a:pt x="6578" y="2959"/>
                  </a:lnTo>
                  <a:lnTo>
                    <a:pt x="6538" y="3131"/>
                  </a:lnTo>
                  <a:lnTo>
                    <a:pt x="6495" y="3302"/>
                  </a:lnTo>
                  <a:lnTo>
                    <a:pt x="6445" y="3474"/>
                  </a:lnTo>
                  <a:lnTo>
                    <a:pt x="6392" y="3646"/>
                  </a:lnTo>
                  <a:lnTo>
                    <a:pt x="6334" y="3818"/>
                  </a:lnTo>
                  <a:lnTo>
                    <a:pt x="6272" y="3990"/>
                  </a:lnTo>
                  <a:lnTo>
                    <a:pt x="6205" y="4163"/>
                  </a:lnTo>
                  <a:lnTo>
                    <a:pt x="6135" y="4335"/>
                  </a:lnTo>
                  <a:lnTo>
                    <a:pt x="6114" y="4404"/>
                  </a:lnTo>
                  <a:lnTo>
                    <a:pt x="6091" y="4472"/>
                  </a:lnTo>
                  <a:lnTo>
                    <a:pt x="6068" y="4541"/>
                  </a:lnTo>
                  <a:lnTo>
                    <a:pt x="6043" y="4610"/>
                  </a:lnTo>
                  <a:lnTo>
                    <a:pt x="6017" y="4678"/>
                  </a:lnTo>
                  <a:lnTo>
                    <a:pt x="5991" y="4746"/>
                  </a:lnTo>
                  <a:lnTo>
                    <a:pt x="5963" y="4814"/>
                  </a:lnTo>
                  <a:lnTo>
                    <a:pt x="5934" y="4882"/>
                  </a:lnTo>
                  <a:lnTo>
                    <a:pt x="5904" y="4951"/>
                  </a:lnTo>
                  <a:lnTo>
                    <a:pt x="5873" y="5019"/>
                  </a:lnTo>
                  <a:lnTo>
                    <a:pt x="5841" y="5087"/>
                  </a:lnTo>
                  <a:lnTo>
                    <a:pt x="5809" y="5155"/>
                  </a:lnTo>
                  <a:lnTo>
                    <a:pt x="5775" y="5222"/>
                  </a:lnTo>
                  <a:lnTo>
                    <a:pt x="5741" y="5290"/>
                  </a:lnTo>
                  <a:lnTo>
                    <a:pt x="5706" y="5357"/>
                  </a:lnTo>
                  <a:lnTo>
                    <a:pt x="5670" y="5424"/>
                  </a:lnTo>
                  <a:lnTo>
                    <a:pt x="5643" y="5475"/>
                  </a:lnTo>
                  <a:lnTo>
                    <a:pt x="5614" y="5526"/>
                  </a:lnTo>
                  <a:lnTo>
                    <a:pt x="5586" y="5577"/>
                  </a:lnTo>
                  <a:lnTo>
                    <a:pt x="5557" y="5628"/>
                  </a:lnTo>
                  <a:lnTo>
                    <a:pt x="5530" y="5679"/>
                  </a:lnTo>
                  <a:lnTo>
                    <a:pt x="5501" y="5728"/>
                  </a:lnTo>
                  <a:lnTo>
                    <a:pt x="5473" y="5779"/>
                  </a:lnTo>
                  <a:lnTo>
                    <a:pt x="5444" y="5829"/>
                  </a:lnTo>
                  <a:lnTo>
                    <a:pt x="5416" y="5879"/>
                  </a:lnTo>
                  <a:lnTo>
                    <a:pt x="5387" y="5930"/>
                  </a:lnTo>
                  <a:lnTo>
                    <a:pt x="5358" y="5979"/>
                  </a:lnTo>
                  <a:lnTo>
                    <a:pt x="5329" y="6029"/>
                  </a:lnTo>
                  <a:lnTo>
                    <a:pt x="5299" y="6079"/>
                  </a:lnTo>
                  <a:lnTo>
                    <a:pt x="5270" y="6129"/>
                  </a:lnTo>
                  <a:lnTo>
                    <a:pt x="5240" y="6178"/>
                  </a:lnTo>
                  <a:lnTo>
                    <a:pt x="5210" y="6227"/>
                  </a:lnTo>
                  <a:lnTo>
                    <a:pt x="5180" y="6277"/>
                  </a:lnTo>
                  <a:lnTo>
                    <a:pt x="5150" y="6327"/>
                  </a:lnTo>
                  <a:lnTo>
                    <a:pt x="5119" y="6376"/>
                  </a:lnTo>
                  <a:lnTo>
                    <a:pt x="5088" y="6425"/>
                  </a:lnTo>
                  <a:lnTo>
                    <a:pt x="5057" y="6475"/>
                  </a:lnTo>
                  <a:lnTo>
                    <a:pt x="5026" y="6525"/>
                  </a:lnTo>
                  <a:lnTo>
                    <a:pt x="4994" y="6573"/>
                  </a:lnTo>
                  <a:lnTo>
                    <a:pt x="4961" y="6623"/>
                  </a:lnTo>
                  <a:lnTo>
                    <a:pt x="4929" y="6672"/>
                  </a:lnTo>
                  <a:lnTo>
                    <a:pt x="4897" y="6721"/>
                  </a:lnTo>
                  <a:lnTo>
                    <a:pt x="4863" y="6771"/>
                  </a:lnTo>
                  <a:lnTo>
                    <a:pt x="4830" y="6820"/>
                  </a:lnTo>
                  <a:lnTo>
                    <a:pt x="4795" y="6870"/>
                  </a:lnTo>
                  <a:lnTo>
                    <a:pt x="4761" y="6919"/>
                  </a:lnTo>
                  <a:lnTo>
                    <a:pt x="4726" y="6968"/>
                  </a:lnTo>
                  <a:lnTo>
                    <a:pt x="4691" y="7018"/>
                  </a:lnTo>
                  <a:lnTo>
                    <a:pt x="4636" y="7112"/>
                  </a:lnTo>
                  <a:lnTo>
                    <a:pt x="4500" y="7274"/>
                  </a:lnTo>
                  <a:lnTo>
                    <a:pt x="4218" y="7554"/>
                  </a:lnTo>
                  <a:lnTo>
                    <a:pt x="4183" y="7572"/>
                  </a:lnTo>
                  <a:lnTo>
                    <a:pt x="4047" y="7699"/>
                  </a:lnTo>
                  <a:lnTo>
                    <a:pt x="3965" y="7717"/>
                  </a:lnTo>
                  <a:lnTo>
                    <a:pt x="3928" y="7692"/>
                  </a:lnTo>
                  <a:lnTo>
                    <a:pt x="3918" y="7673"/>
                  </a:lnTo>
                  <a:lnTo>
                    <a:pt x="4282" y="7290"/>
                  </a:lnTo>
                  <a:lnTo>
                    <a:pt x="4337" y="7232"/>
                  </a:lnTo>
                  <a:lnTo>
                    <a:pt x="4591" y="6890"/>
                  </a:lnTo>
                  <a:lnTo>
                    <a:pt x="4827" y="6575"/>
                  </a:lnTo>
                  <a:lnTo>
                    <a:pt x="4911" y="6446"/>
                  </a:lnTo>
                  <a:lnTo>
                    <a:pt x="4993" y="6317"/>
                  </a:lnTo>
                  <a:lnTo>
                    <a:pt x="5072" y="6188"/>
                  </a:lnTo>
                  <a:lnTo>
                    <a:pt x="5149" y="6060"/>
                  </a:lnTo>
                  <a:lnTo>
                    <a:pt x="5225" y="5933"/>
                  </a:lnTo>
                  <a:lnTo>
                    <a:pt x="5299" y="5805"/>
                  </a:lnTo>
                  <a:lnTo>
                    <a:pt x="5370" y="5678"/>
                  </a:lnTo>
                  <a:lnTo>
                    <a:pt x="5439" y="5550"/>
                  </a:lnTo>
                  <a:lnTo>
                    <a:pt x="5506" y="5423"/>
                  </a:lnTo>
                  <a:lnTo>
                    <a:pt x="5571" y="5297"/>
                  </a:lnTo>
                  <a:lnTo>
                    <a:pt x="5634" y="5170"/>
                  </a:lnTo>
                  <a:lnTo>
                    <a:pt x="5695" y="5044"/>
                  </a:lnTo>
                  <a:lnTo>
                    <a:pt x="5753" y="4917"/>
                  </a:lnTo>
                  <a:lnTo>
                    <a:pt x="5810" y="4790"/>
                  </a:lnTo>
                  <a:lnTo>
                    <a:pt x="5864" y="4664"/>
                  </a:lnTo>
                  <a:lnTo>
                    <a:pt x="5916" y="4537"/>
                  </a:lnTo>
                  <a:lnTo>
                    <a:pt x="5966" y="4411"/>
                  </a:lnTo>
                  <a:lnTo>
                    <a:pt x="6014" y="4285"/>
                  </a:lnTo>
                  <a:lnTo>
                    <a:pt x="6060" y="4159"/>
                  </a:lnTo>
                  <a:lnTo>
                    <a:pt x="6103" y="4032"/>
                  </a:lnTo>
                  <a:lnTo>
                    <a:pt x="6144" y="3905"/>
                  </a:lnTo>
                  <a:lnTo>
                    <a:pt x="6185" y="3778"/>
                  </a:lnTo>
                  <a:lnTo>
                    <a:pt x="6221" y="3651"/>
                  </a:lnTo>
                  <a:lnTo>
                    <a:pt x="6256" y="3524"/>
                  </a:lnTo>
                  <a:lnTo>
                    <a:pt x="6289" y="3396"/>
                  </a:lnTo>
                  <a:lnTo>
                    <a:pt x="6321" y="3268"/>
                  </a:lnTo>
                  <a:lnTo>
                    <a:pt x="6349" y="3141"/>
                  </a:lnTo>
                  <a:lnTo>
                    <a:pt x="6376" y="3012"/>
                  </a:lnTo>
                  <a:lnTo>
                    <a:pt x="6400" y="2883"/>
                  </a:lnTo>
                  <a:lnTo>
                    <a:pt x="6423" y="2755"/>
                  </a:lnTo>
                  <a:lnTo>
                    <a:pt x="6443" y="2625"/>
                  </a:lnTo>
                  <a:lnTo>
                    <a:pt x="6461" y="2495"/>
                  </a:lnTo>
                  <a:lnTo>
                    <a:pt x="6407" y="2580"/>
                  </a:lnTo>
                  <a:lnTo>
                    <a:pt x="6370" y="2690"/>
                  </a:lnTo>
                  <a:lnTo>
                    <a:pt x="6353" y="2836"/>
                  </a:lnTo>
                  <a:lnTo>
                    <a:pt x="6098" y="3500"/>
                  </a:lnTo>
                  <a:lnTo>
                    <a:pt x="5898" y="3985"/>
                  </a:lnTo>
                  <a:lnTo>
                    <a:pt x="5752" y="4240"/>
                  </a:lnTo>
                  <a:lnTo>
                    <a:pt x="5517" y="4769"/>
                  </a:lnTo>
                  <a:lnTo>
                    <a:pt x="5499" y="4803"/>
                  </a:lnTo>
                  <a:lnTo>
                    <a:pt x="5380" y="5024"/>
                  </a:lnTo>
                  <a:lnTo>
                    <a:pt x="5272" y="5246"/>
                  </a:lnTo>
                  <a:lnTo>
                    <a:pt x="4890" y="5936"/>
                  </a:lnTo>
                  <a:lnTo>
                    <a:pt x="4790" y="6097"/>
                  </a:lnTo>
                  <a:lnTo>
                    <a:pt x="4292" y="6856"/>
                  </a:lnTo>
                  <a:lnTo>
                    <a:pt x="4282" y="6847"/>
                  </a:lnTo>
                  <a:lnTo>
                    <a:pt x="4000" y="7214"/>
                  </a:lnTo>
                  <a:lnTo>
                    <a:pt x="3765" y="7478"/>
                  </a:lnTo>
                  <a:lnTo>
                    <a:pt x="3745" y="7495"/>
                  </a:lnTo>
                  <a:lnTo>
                    <a:pt x="3691" y="7469"/>
                  </a:lnTo>
                  <a:lnTo>
                    <a:pt x="3801" y="7299"/>
                  </a:lnTo>
                  <a:lnTo>
                    <a:pt x="3819" y="7283"/>
                  </a:lnTo>
                  <a:lnTo>
                    <a:pt x="3851" y="7244"/>
                  </a:lnTo>
                  <a:lnTo>
                    <a:pt x="3884" y="7205"/>
                  </a:lnTo>
                  <a:lnTo>
                    <a:pt x="3917" y="7167"/>
                  </a:lnTo>
                  <a:lnTo>
                    <a:pt x="3949" y="7128"/>
                  </a:lnTo>
                  <a:lnTo>
                    <a:pt x="3980" y="7089"/>
                  </a:lnTo>
                  <a:lnTo>
                    <a:pt x="4013" y="7049"/>
                  </a:lnTo>
                  <a:lnTo>
                    <a:pt x="4043" y="7010"/>
                  </a:lnTo>
                  <a:lnTo>
                    <a:pt x="4074" y="6971"/>
                  </a:lnTo>
                  <a:lnTo>
                    <a:pt x="4103" y="6932"/>
                  </a:lnTo>
                  <a:lnTo>
                    <a:pt x="4130" y="6893"/>
                  </a:lnTo>
                  <a:lnTo>
                    <a:pt x="4158" y="6854"/>
                  </a:lnTo>
                  <a:lnTo>
                    <a:pt x="4183" y="6816"/>
                  </a:lnTo>
                  <a:lnTo>
                    <a:pt x="4209" y="6777"/>
                  </a:lnTo>
                  <a:lnTo>
                    <a:pt x="4232" y="6738"/>
                  </a:lnTo>
                  <a:lnTo>
                    <a:pt x="4252" y="6700"/>
                  </a:lnTo>
                  <a:lnTo>
                    <a:pt x="4272" y="6661"/>
                  </a:lnTo>
                  <a:lnTo>
                    <a:pt x="4290" y="6535"/>
                  </a:lnTo>
                  <a:lnTo>
                    <a:pt x="4311" y="6409"/>
                  </a:lnTo>
                  <a:lnTo>
                    <a:pt x="4332" y="6284"/>
                  </a:lnTo>
                  <a:lnTo>
                    <a:pt x="4355" y="6159"/>
                  </a:lnTo>
                  <a:lnTo>
                    <a:pt x="4379" y="6034"/>
                  </a:lnTo>
                  <a:lnTo>
                    <a:pt x="4402" y="5909"/>
                  </a:lnTo>
                  <a:lnTo>
                    <a:pt x="4427" y="5785"/>
                  </a:lnTo>
                  <a:lnTo>
                    <a:pt x="4450" y="5660"/>
                  </a:lnTo>
                  <a:lnTo>
                    <a:pt x="4473" y="5537"/>
                  </a:lnTo>
                  <a:lnTo>
                    <a:pt x="4493" y="5412"/>
                  </a:lnTo>
                  <a:lnTo>
                    <a:pt x="4513" y="5288"/>
                  </a:lnTo>
                  <a:lnTo>
                    <a:pt x="4530" y="5165"/>
                  </a:lnTo>
                  <a:lnTo>
                    <a:pt x="4545" y="5040"/>
                  </a:lnTo>
                  <a:lnTo>
                    <a:pt x="4558" y="4916"/>
                  </a:lnTo>
                  <a:lnTo>
                    <a:pt x="4566" y="4792"/>
                  </a:lnTo>
                  <a:lnTo>
                    <a:pt x="4572" y="4667"/>
                  </a:lnTo>
                  <a:lnTo>
                    <a:pt x="4564" y="4582"/>
                  </a:lnTo>
                  <a:lnTo>
                    <a:pt x="4572" y="4489"/>
                  </a:lnTo>
                  <a:lnTo>
                    <a:pt x="4599" y="4444"/>
                  </a:lnTo>
                  <a:lnTo>
                    <a:pt x="4606" y="4246"/>
                  </a:lnTo>
                  <a:lnTo>
                    <a:pt x="4612" y="4048"/>
                  </a:lnTo>
                  <a:lnTo>
                    <a:pt x="4618" y="3850"/>
                  </a:lnTo>
                  <a:lnTo>
                    <a:pt x="4621" y="3652"/>
                  </a:lnTo>
                  <a:lnTo>
                    <a:pt x="4622" y="3455"/>
                  </a:lnTo>
                  <a:lnTo>
                    <a:pt x="4621" y="3257"/>
                  </a:lnTo>
                  <a:lnTo>
                    <a:pt x="4617" y="3059"/>
                  </a:lnTo>
                  <a:lnTo>
                    <a:pt x="4609" y="2861"/>
                  </a:lnTo>
                  <a:lnTo>
                    <a:pt x="4609" y="2785"/>
                  </a:lnTo>
                  <a:lnTo>
                    <a:pt x="4572" y="2366"/>
                  </a:lnTo>
                  <a:lnTo>
                    <a:pt x="4572" y="2325"/>
                  </a:lnTo>
                  <a:lnTo>
                    <a:pt x="4544" y="2153"/>
                  </a:lnTo>
                  <a:lnTo>
                    <a:pt x="4518" y="2102"/>
                  </a:lnTo>
                  <a:lnTo>
                    <a:pt x="4455" y="2051"/>
                  </a:lnTo>
                  <a:lnTo>
                    <a:pt x="4428" y="2017"/>
                  </a:lnTo>
                  <a:lnTo>
                    <a:pt x="4346" y="2060"/>
                  </a:lnTo>
                  <a:lnTo>
                    <a:pt x="4272" y="2111"/>
                  </a:lnTo>
                  <a:lnTo>
                    <a:pt x="4257" y="2117"/>
                  </a:lnTo>
                  <a:lnTo>
                    <a:pt x="4239" y="2128"/>
                  </a:lnTo>
                  <a:lnTo>
                    <a:pt x="4217" y="2142"/>
                  </a:lnTo>
                  <a:lnTo>
                    <a:pt x="4192" y="2157"/>
                  </a:lnTo>
                  <a:lnTo>
                    <a:pt x="4167" y="2173"/>
                  </a:lnTo>
                  <a:lnTo>
                    <a:pt x="4142" y="2186"/>
                  </a:lnTo>
                  <a:lnTo>
                    <a:pt x="4116" y="2194"/>
                  </a:lnTo>
                  <a:lnTo>
                    <a:pt x="4091" y="2198"/>
                  </a:lnTo>
                  <a:lnTo>
                    <a:pt x="4047" y="2222"/>
                  </a:lnTo>
                  <a:lnTo>
                    <a:pt x="4000" y="2230"/>
                  </a:lnTo>
                  <a:lnTo>
                    <a:pt x="3792" y="2299"/>
                  </a:lnTo>
                  <a:lnTo>
                    <a:pt x="3691" y="2315"/>
                  </a:lnTo>
                  <a:lnTo>
                    <a:pt x="3668" y="2327"/>
                  </a:lnTo>
                  <a:lnTo>
                    <a:pt x="3646" y="2336"/>
                  </a:lnTo>
                  <a:lnTo>
                    <a:pt x="3623" y="2344"/>
                  </a:lnTo>
                  <a:lnTo>
                    <a:pt x="3601" y="2348"/>
                  </a:lnTo>
                  <a:lnTo>
                    <a:pt x="3579" y="2349"/>
                  </a:lnTo>
                  <a:lnTo>
                    <a:pt x="3557" y="2349"/>
                  </a:lnTo>
                  <a:lnTo>
                    <a:pt x="3534" y="2347"/>
                  </a:lnTo>
                  <a:lnTo>
                    <a:pt x="3510" y="2341"/>
                  </a:lnTo>
                  <a:lnTo>
                    <a:pt x="3255" y="2350"/>
                  </a:lnTo>
                  <a:lnTo>
                    <a:pt x="3057" y="2366"/>
                  </a:lnTo>
                  <a:lnTo>
                    <a:pt x="3111" y="2460"/>
                  </a:lnTo>
                  <a:lnTo>
                    <a:pt x="3123" y="2498"/>
                  </a:lnTo>
                  <a:lnTo>
                    <a:pt x="3128" y="2536"/>
                  </a:lnTo>
                  <a:lnTo>
                    <a:pt x="3132" y="2573"/>
                  </a:lnTo>
                  <a:lnTo>
                    <a:pt x="3132" y="2610"/>
                  </a:lnTo>
                  <a:lnTo>
                    <a:pt x="3128" y="2646"/>
                  </a:lnTo>
                  <a:lnTo>
                    <a:pt x="3124" y="2683"/>
                  </a:lnTo>
                  <a:lnTo>
                    <a:pt x="3118" y="2721"/>
                  </a:lnTo>
                  <a:lnTo>
                    <a:pt x="3111" y="2759"/>
                  </a:lnTo>
                  <a:lnTo>
                    <a:pt x="3074" y="2826"/>
                  </a:lnTo>
                  <a:lnTo>
                    <a:pt x="3011" y="3006"/>
                  </a:lnTo>
                  <a:lnTo>
                    <a:pt x="2996" y="3030"/>
                  </a:lnTo>
                  <a:lnTo>
                    <a:pt x="2981" y="3056"/>
                  </a:lnTo>
                  <a:lnTo>
                    <a:pt x="2962" y="3080"/>
                  </a:lnTo>
                  <a:lnTo>
                    <a:pt x="2944" y="3105"/>
                  </a:lnTo>
                  <a:lnTo>
                    <a:pt x="2923" y="3129"/>
                  </a:lnTo>
                  <a:lnTo>
                    <a:pt x="2902" y="3152"/>
                  </a:lnTo>
                  <a:lnTo>
                    <a:pt x="2879" y="3175"/>
                  </a:lnTo>
                  <a:lnTo>
                    <a:pt x="2856" y="3198"/>
                  </a:lnTo>
                  <a:lnTo>
                    <a:pt x="2832" y="3221"/>
                  </a:lnTo>
                  <a:lnTo>
                    <a:pt x="2807" y="3244"/>
                  </a:lnTo>
                  <a:lnTo>
                    <a:pt x="2781" y="3265"/>
                  </a:lnTo>
                  <a:lnTo>
                    <a:pt x="2756" y="3287"/>
                  </a:lnTo>
                  <a:lnTo>
                    <a:pt x="2728" y="3308"/>
                  </a:lnTo>
                  <a:lnTo>
                    <a:pt x="2702" y="3330"/>
                  </a:lnTo>
                  <a:lnTo>
                    <a:pt x="2675" y="3352"/>
                  </a:lnTo>
                  <a:lnTo>
                    <a:pt x="2648" y="3372"/>
                  </a:lnTo>
                  <a:lnTo>
                    <a:pt x="2476" y="3490"/>
                  </a:lnTo>
                  <a:lnTo>
                    <a:pt x="2448" y="3500"/>
                  </a:lnTo>
                  <a:lnTo>
                    <a:pt x="2167" y="3662"/>
                  </a:lnTo>
                  <a:lnTo>
                    <a:pt x="2121" y="3678"/>
                  </a:lnTo>
                  <a:lnTo>
                    <a:pt x="2077" y="3696"/>
                  </a:lnTo>
                  <a:lnTo>
                    <a:pt x="2034" y="3714"/>
                  </a:lnTo>
                  <a:lnTo>
                    <a:pt x="1992" y="3734"/>
                  </a:lnTo>
                  <a:lnTo>
                    <a:pt x="1949" y="3754"/>
                  </a:lnTo>
                  <a:lnTo>
                    <a:pt x="1906" y="3776"/>
                  </a:lnTo>
                  <a:lnTo>
                    <a:pt x="1864" y="3797"/>
                  </a:lnTo>
                  <a:lnTo>
                    <a:pt x="1822" y="3821"/>
                  </a:lnTo>
                  <a:lnTo>
                    <a:pt x="1781" y="3846"/>
                  </a:lnTo>
                  <a:lnTo>
                    <a:pt x="1739" y="3871"/>
                  </a:lnTo>
                  <a:lnTo>
                    <a:pt x="1699" y="3898"/>
                  </a:lnTo>
                  <a:lnTo>
                    <a:pt x="1659" y="3925"/>
                  </a:lnTo>
                  <a:lnTo>
                    <a:pt x="1618" y="3953"/>
                  </a:lnTo>
                  <a:lnTo>
                    <a:pt x="1579" y="3981"/>
                  </a:lnTo>
                  <a:lnTo>
                    <a:pt x="1540" y="4012"/>
                  </a:lnTo>
                  <a:lnTo>
                    <a:pt x="1502" y="4042"/>
                  </a:lnTo>
                  <a:lnTo>
                    <a:pt x="1464" y="4073"/>
                  </a:lnTo>
                  <a:lnTo>
                    <a:pt x="1427" y="4106"/>
                  </a:lnTo>
                  <a:lnTo>
                    <a:pt x="1390" y="4138"/>
                  </a:lnTo>
                  <a:lnTo>
                    <a:pt x="1353" y="4172"/>
                  </a:lnTo>
                  <a:lnTo>
                    <a:pt x="1318" y="4206"/>
                  </a:lnTo>
                  <a:lnTo>
                    <a:pt x="1283" y="4242"/>
                  </a:lnTo>
                  <a:lnTo>
                    <a:pt x="1249" y="4278"/>
                  </a:lnTo>
                  <a:lnTo>
                    <a:pt x="1216" y="4313"/>
                  </a:lnTo>
                  <a:lnTo>
                    <a:pt x="1182" y="4350"/>
                  </a:lnTo>
                  <a:lnTo>
                    <a:pt x="1150" y="4388"/>
                  </a:lnTo>
                  <a:lnTo>
                    <a:pt x="1119" y="4427"/>
                  </a:lnTo>
                  <a:lnTo>
                    <a:pt x="1089" y="4465"/>
                  </a:lnTo>
                  <a:lnTo>
                    <a:pt x="1059" y="4505"/>
                  </a:lnTo>
                  <a:lnTo>
                    <a:pt x="1030" y="4545"/>
                  </a:lnTo>
                  <a:lnTo>
                    <a:pt x="1003" y="4585"/>
                  </a:lnTo>
                  <a:lnTo>
                    <a:pt x="976" y="4626"/>
                  </a:lnTo>
                  <a:lnTo>
                    <a:pt x="950" y="4667"/>
                  </a:lnTo>
                  <a:lnTo>
                    <a:pt x="895" y="4744"/>
                  </a:lnTo>
                  <a:lnTo>
                    <a:pt x="869" y="4753"/>
                  </a:lnTo>
                  <a:lnTo>
                    <a:pt x="838" y="4759"/>
                  </a:lnTo>
                  <a:lnTo>
                    <a:pt x="807" y="4762"/>
                  </a:lnTo>
                  <a:lnTo>
                    <a:pt x="777" y="4763"/>
                  </a:lnTo>
                  <a:lnTo>
                    <a:pt x="747" y="4763"/>
                  </a:lnTo>
                  <a:lnTo>
                    <a:pt x="717" y="4760"/>
                  </a:lnTo>
                  <a:lnTo>
                    <a:pt x="687" y="4755"/>
                  </a:lnTo>
                  <a:lnTo>
                    <a:pt x="658" y="4748"/>
                  </a:lnTo>
                  <a:lnTo>
                    <a:pt x="629" y="4740"/>
                  </a:lnTo>
                  <a:lnTo>
                    <a:pt x="600" y="4729"/>
                  </a:lnTo>
                  <a:lnTo>
                    <a:pt x="573" y="4718"/>
                  </a:lnTo>
                  <a:lnTo>
                    <a:pt x="545" y="4706"/>
                  </a:lnTo>
                  <a:lnTo>
                    <a:pt x="518" y="4692"/>
                  </a:lnTo>
                  <a:lnTo>
                    <a:pt x="492" y="4678"/>
                  </a:lnTo>
                  <a:lnTo>
                    <a:pt x="465" y="4663"/>
                  </a:lnTo>
                  <a:lnTo>
                    <a:pt x="440" y="4648"/>
                  </a:lnTo>
                  <a:lnTo>
                    <a:pt x="416" y="4633"/>
                  </a:lnTo>
                  <a:lnTo>
                    <a:pt x="379" y="4556"/>
                  </a:lnTo>
                  <a:lnTo>
                    <a:pt x="351" y="4428"/>
                  </a:lnTo>
                  <a:lnTo>
                    <a:pt x="169" y="4368"/>
                  </a:lnTo>
                  <a:lnTo>
                    <a:pt x="141" y="4335"/>
                  </a:lnTo>
                  <a:lnTo>
                    <a:pt x="79" y="4309"/>
                  </a:lnTo>
                  <a:lnTo>
                    <a:pt x="78" y="4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1720" y="2779560"/>
              <a:ext cx="1251000" cy="1282320"/>
            </a:xfrm>
            <a:custGeom>
              <a:avLst/>
              <a:gdLst/>
              <a:ahLst/>
              <a:rect l="l" t="t" r="r" b="b"/>
              <a:pathLst>
                <a:path w="4727" h="4038">
                  <a:moveTo>
                    <a:pt x="0" y="3532"/>
                  </a:moveTo>
                  <a:lnTo>
                    <a:pt x="0" y="3628"/>
                  </a:lnTo>
                  <a:lnTo>
                    <a:pt x="97" y="3645"/>
                  </a:lnTo>
                  <a:lnTo>
                    <a:pt x="168" y="3679"/>
                  </a:lnTo>
                  <a:lnTo>
                    <a:pt x="215" y="3730"/>
                  </a:lnTo>
                  <a:lnTo>
                    <a:pt x="351" y="3722"/>
                  </a:lnTo>
                  <a:lnTo>
                    <a:pt x="415" y="3679"/>
                  </a:lnTo>
                  <a:lnTo>
                    <a:pt x="451" y="3627"/>
                  </a:lnTo>
                  <a:lnTo>
                    <a:pt x="650" y="3483"/>
                  </a:lnTo>
                  <a:lnTo>
                    <a:pt x="559" y="3653"/>
                  </a:lnTo>
                  <a:lnTo>
                    <a:pt x="542" y="3679"/>
                  </a:lnTo>
                  <a:lnTo>
                    <a:pt x="477" y="3773"/>
                  </a:lnTo>
                  <a:lnTo>
                    <a:pt x="443" y="3799"/>
                  </a:lnTo>
                  <a:lnTo>
                    <a:pt x="443" y="3959"/>
                  </a:lnTo>
                  <a:lnTo>
                    <a:pt x="469" y="3951"/>
                  </a:lnTo>
                  <a:lnTo>
                    <a:pt x="542" y="3841"/>
                  </a:lnTo>
                  <a:lnTo>
                    <a:pt x="732" y="3602"/>
                  </a:lnTo>
                  <a:lnTo>
                    <a:pt x="551" y="4020"/>
                  </a:lnTo>
                  <a:lnTo>
                    <a:pt x="641" y="4038"/>
                  </a:lnTo>
                  <a:lnTo>
                    <a:pt x="678" y="3977"/>
                  </a:lnTo>
                  <a:lnTo>
                    <a:pt x="708" y="3942"/>
                  </a:lnTo>
                  <a:lnTo>
                    <a:pt x="738" y="3906"/>
                  </a:lnTo>
                  <a:lnTo>
                    <a:pt x="767" y="3869"/>
                  </a:lnTo>
                  <a:lnTo>
                    <a:pt x="796" y="3832"/>
                  </a:lnTo>
                  <a:lnTo>
                    <a:pt x="824" y="3796"/>
                  </a:lnTo>
                  <a:lnTo>
                    <a:pt x="854" y="3758"/>
                  </a:lnTo>
                  <a:lnTo>
                    <a:pt x="884" y="3720"/>
                  </a:lnTo>
                  <a:lnTo>
                    <a:pt x="914" y="3683"/>
                  </a:lnTo>
                  <a:lnTo>
                    <a:pt x="947" y="3645"/>
                  </a:lnTo>
                  <a:lnTo>
                    <a:pt x="979" y="3608"/>
                  </a:lnTo>
                  <a:lnTo>
                    <a:pt x="1014" y="3571"/>
                  </a:lnTo>
                  <a:lnTo>
                    <a:pt x="1049" y="3534"/>
                  </a:lnTo>
                  <a:lnTo>
                    <a:pt x="1087" y="3497"/>
                  </a:lnTo>
                  <a:lnTo>
                    <a:pt x="1126" y="3461"/>
                  </a:lnTo>
                  <a:lnTo>
                    <a:pt x="1169" y="3426"/>
                  </a:lnTo>
                  <a:lnTo>
                    <a:pt x="1214" y="3390"/>
                  </a:lnTo>
                  <a:lnTo>
                    <a:pt x="1296" y="3313"/>
                  </a:lnTo>
                  <a:lnTo>
                    <a:pt x="1321" y="3295"/>
                  </a:lnTo>
                  <a:lnTo>
                    <a:pt x="1347" y="3277"/>
                  </a:lnTo>
                  <a:lnTo>
                    <a:pt x="1372" y="3260"/>
                  </a:lnTo>
                  <a:lnTo>
                    <a:pt x="1397" y="3244"/>
                  </a:lnTo>
                  <a:lnTo>
                    <a:pt x="1423" y="3228"/>
                  </a:lnTo>
                  <a:lnTo>
                    <a:pt x="1448" y="3211"/>
                  </a:lnTo>
                  <a:lnTo>
                    <a:pt x="1473" y="3196"/>
                  </a:lnTo>
                  <a:lnTo>
                    <a:pt x="1499" y="3181"/>
                  </a:lnTo>
                  <a:lnTo>
                    <a:pt x="1523" y="3166"/>
                  </a:lnTo>
                  <a:lnTo>
                    <a:pt x="1548" y="3152"/>
                  </a:lnTo>
                  <a:lnTo>
                    <a:pt x="1574" y="3138"/>
                  </a:lnTo>
                  <a:lnTo>
                    <a:pt x="1599" y="3124"/>
                  </a:lnTo>
                  <a:lnTo>
                    <a:pt x="1623" y="3110"/>
                  </a:lnTo>
                  <a:lnTo>
                    <a:pt x="1649" y="3097"/>
                  </a:lnTo>
                  <a:lnTo>
                    <a:pt x="1674" y="3083"/>
                  </a:lnTo>
                  <a:lnTo>
                    <a:pt x="1698" y="3070"/>
                  </a:lnTo>
                  <a:lnTo>
                    <a:pt x="1724" y="3057"/>
                  </a:lnTo>
                  <a:lnTo>
                    <a:pt x="1748" y="3044"/>
                  </a:lnTo>
                  <a:lnTo>
                    <a:pt x="1773" y="3031"/>
                  </a:lnTo>
                  <a:lnTo>
                    <a:pt x="1797" y="3018"/>
                  </a:lnTo>
                  <a:lnTo>
                    <a:pt x="1823" y="3005"/>
                  </a:lnTo>
                  <a:lnTo>
                    <a:pt x="1847" y="2992"/>
                  </a:lnTo>
                  <a:lnTo>
                    <a:pt x="1872" y="2978"/>
                  </a:lnTo>
                  <a:lnTo>
                    <a:pt x="1897" y="2965"/>
                  </a:lnTo>
                  <a:lnTo>
                    <a:pt x="1922" y="2952"/>
                  </a:lnTo>
                  <a:lnTo>
                    <a:pt x="1946" y="2938"/>
                  </a:lnTo>
                  <a:lnTo>
                    <a:pt x="1972" y="2925"/>
                  </a:lnTo>
                  <a:lnTo>
                    <a:pt x="1996" y="2911"/>
                  </a:lnTo>
                  <a:lnTo>
                    <a:pt x="2021" y="2897"/>
                  </a:lnTo>
                  <a:lnTo>
                    <a:pt x="2045" y="2883"/>
                  </a:lnTo>
                  <a:lnTo>
                    <a:pt x="2071" y="2867"/>
                  </a:lnTo>
                  <a:lnTo>
                    <a:pt x="2095" y="2852"/>
                  </a:lnTo>
                  <a:lnTo>
                    <a:pt x="2302" y="2717"/>
                  </a:lnTo>
                  <a:lnTo>
                    <a:pt x="2339" y="2673"/>
                  </a:lnTo>
                  <a:lnTo>
                    <a:pt x="2368" y="2657"/>
                  </a:lnTo>
                  <a:lnTo>
                    <a:pt x="2395" y="2638"/>
                  </a:lnTo>
                  <a:lnTo>
                    <a:pt x="2420" y="2619"/>
                  </a:lnTo>
                  <a:lnTo>
                    <a:pt x="2445" y="2599"/>
                  </a:lnTo>
                  <a:lnTo>
                    <a:pt x="2468" y="2578"/>
                  </a:lnTo>
                  <a:lnTo>
                    <a:pt x="2491" y="2555"/>
                  </a:lnTo>
                  <a:lnTo>
                    <a:pt x="2512" y="2532"/>
                  </a:lnTo>
                  <a:lnTo>
                    <a:pt x="2533" y="2508"/>
                  </a:lnTo>
                  <a:lnTo>
                    <a:pt x="2553" y="2483"/>
                  </a:lnTo>
                  <a:lnTo>
                    <a:pt x="2571" y="2460"/>
                  </a:lnTo>
                  <a:lnTo>
                    <a:pt x="2589" y="2435"/>
                  </a:lnTo>
                  <a:lnTo>
                    <a:pt x="2606" y="2411"/>
                  </a:lnTo>
                  <a:lnTo>
                    <a:pt x="2623" y="2386"/>
                  </a:lnTo>
                  <a:lnTo>
                    <a:pt x="2638" y="2362"/>
                  </a:lnTo>
                  <a:lnTo>
                    <a:pt x="2653" y="2338"/>
                  </a:lnTo>
                  <a:lnTo>
                    <a:pt x="2667" y="2316"/>
                  </a:lnTo>
                  <a:lnTo>
                    <a:pt x="2682" y="2268"/>
                  </a:lnTo>
                  <a:lnTo>
                    <a:pt x="2700" y="2222"/>
                  </a:lnTo>
                  <a:lnTo>
                    <a:pt x="2717" y="2175"/>
                  </a:lnTo>
                  <a:lnTo>
                    <a:pt x="2732" y="2129"/>
                  </a:lnTo>
                  <a:lnTo>
                    <a:pt x="2742" y="2082"/>
                  </a:lnTo>
                  <a:lnTo>
                    <a:pt x="2744" y="2036"/>
                  </a:lnTo>
                  <a:lnTo>
                    <a:pt x="2735" y="1989"/>
                  </a:lnTo>
                  <a:lnTo>
                    <a:pt x="2712" y="1941"/>
                  </a:lnTo>
                  <a:lnTo>
                    <a:pt x="2585" y="1795"/>
                  </a:lnTo>
                  <a:lnTo>
                    <a:pt x="2565" y="1720"/>
                  </a:lnTo>
                  <a:lnTo>
                    <a:pt x="2520" y="1643"/>
                  </a:lnTo>
                  <a:lnTo>
                    <a:pt x="2792" y="1635"/>
                  </a:lnTo>
                  <a:lnTo>
                    <a:pt x="3411" y="1601"/>
                  </a:lnTo>
                  <a:lnTo>
                    <a:pt x="3455" y="1617"/>
                  </a:lnTo>
                  <a:lnTo>
                    <a:pt x="3496" y="1610"/>
                  </a:lnTo>
                  <a:lnTo>
                    <a:pt x="3537" y="1604"/>
                  </a:lnTo>
                  <a:lnTo>
                    <a:pt x="3577" y="1596"/>
                  </a:lnTo>
                  <a:lnTo>
                    <a:pt x="3619" y="1589"/>
                  </a:lnTo>
                  <a:lnTo>
                    <a:pt x="3659" y="1579"/>
                  </a:lnTo>
                  <a:lnTo>
                    <a:pt x="3701" y="1569"/>
                  </a:lnTo>
                  <a:lnTo>
                    <a:pt x="3742" y="1557"/>
                  </a:lnTo>
                  <a:lnTo>
                    <a:pt x="3784" y="1544"/>
                  </a:lnTo>
                  <a:lnTo>
                    <a:pt x="3824" y="1529"/>
                  </a:lnTo>
                  <a:lnTo>
                    <a:pt x="3866" y="1512"/>
                  </a:lnTo>
                  <a:lnTo>
                    <a:pt x="3907" y="1494"/>
                  </a:lnTo>
                  <a:lnTo>
                    <a:pt x="3950" y="1472"/>
                  </a:lnTo>
                  <a:lnTo>
                    <a:pt x="3991" y="1448"/>
                  </a:lnTo>
                  <a:lnTo>
                    <a:pt x="4033" y="1422"/>
                  </a:lnTo>
                  <a:lnTo>
                    <a:pt x="4075" y="1394"/>
                  </a:lnTo>
                  <a:lnTo>
                    <a:pt x="4118" y="1362"/>
                  </a:lnTo>
                  <a:lnTo>
                    <a:pt x="4155" y="1336"/>
                  </a:lnTo>
                  <a:lnTo>
                    <a:pt x="4192" y="1310"/>
                  </a:lnTo>
                  <a:lnTo>
                    <a:pt x="4230" y="1284"/>
                  </a:lnTo>
                  <a:lnTo>
                    <a:pt x="4269" y="1257"/>
                  </a:lnTo>
                  <a:lnTo>
                    <a:pt x="4307" y="1230"/>
                  </a:lnTo>
                  <a:lnTo>
                    <a:pt x="4346" y="1202"/>
                  </a:lnTo>
                  <a:lnTo>
                    <a:pt x="4384" y="1173"/>
                  </a:lnTo>
                  <a:lnTo>
                    <a:pt x="4421" y="1144"/>
                  </a:lnTo>
                  <a:lnTo>
                    <a:pt x="4458" y="1114"/>
                  </a:lnTo>
                  <a:lnTo>
                    <a:pt x="4493" y="1084"/>
                  </a:lnTo>
                  <a:lnTo>
                    <a:pt x="4527" y="1052"/>
                  </a:lnTo>
                  <a:lnTo>
                    <a:pt x="4558" y="1019"/>
                  </a:lnTo>
                  <a:lnTo>
                    <a:pt x="4588" y="985"/>
                  </a:lnTo>
                  <a:lnTo>
                    <a:pt x="4616" y="950"/>
                  </a:lnTo>
                  <a:lnTo>
                    <a:pt x="4641" y="914"/>
                  </a:lnTo>
                  <a:lnTo>
                    <a:pt x="4663" y="876"/>
                  </a:lnTo>
                  <a:lnTo>
                    <a:pt x="4727" y="748"/>
                  </a:lnTo>
                  <a:lnTo>
                    <a:pt x="4727" y="706"/>
                  </a:lnTo>
                  <a:lnTo>
                    <a:pt x="4618" y="774"/>
                  </a:lnTo>
                  <a:lnTo>
                    <a:pt x="4000" y="1056"/>
                  </a:lnTo>
                  <a:lnTo>
                    <a:pt x="3956" y="1072"/>
                  </a:lnTo>
                  <a:lnTo>
                    <a:pt x="3928" y="1079"/>
                  </a:lnTo>
                  <a:lnTo>
                    <a:pt x="3901" y="1088"/>
                  </a:lnTo>
                  <a:lnTo>
                    <a:pt x="3874" y="1096"/>
                  </a:lnTo>
                  <a:lnTo>
                    <a:pt x="3847" y="1103"/>
                  </a:lnTo>
                  <a:lnTo>
                    <a:pt x="3821" y="1111"/>
                  </a:lnTo>
                  <a:lnTo>
                    <a:pt x="3794" y="1118"/>
                  </a:lnTo>
                  <a:lnTo>
                    <a:pt x="3768" y="1125"/>
                  </a:lnTo>
                  <a:lnTo>
                    <a:pt x="3741" y="1131"/>
                  </a:lnTo>
                  <a:lnTo>
                    <a:pt x="3715" y="1138"/>
                  </a:lnTo>
                  <a:lnTo>
                    <a:pt x="3688" y="1144"/>
                  </a:lnTo>
                  <a:lnTo>
                    <a:pt x="3662" y="1149"/>
                  </a:lnTo>
                  <a:lnTo>
                    <a:pt x="3635" y="1154"/>
                  </a:lnTo>
                  <a:lnTo>
                    <a:pt x="3609" y="1157"/>
                  </a:lnTo>
                  <a:lnTo>
                    <a:pt x="3582" y="1162"/>
                  </a:lnTo>
                  <a:lnTo>
                    <a:pt x="3555" y="1164"/>
                  </a:lnTo>
                  <a:lnTo>
                    <a:pt x="3528" y="1166"/>
                  </a:lnTo>
                  <a:lnTo>
                    <a:pt x="3500" y="1173"/>
                  </a:lnTo>
                  <a:lnTo>
                    <a:pt x="3375" y="1276"/>
                  </a:lnTo>
                  <a:lnTo>
                    <a:pt x="3330" y="1276"/>
                  </a:lnTo>
                  <a:lnTo>
                    <a:pt x="3310" y="1294"/>
                  </a:lnTo>
                  <a:lnTo>
                    <a:pt x="3256" y="1301"/>
                  </a:lnTo>
                  <a:lnTo>
                    <a:pt x="3211" y="1327"/>
                  </a:lnTo>
                  <a:lnTo>
                    <a:pt x="3146" y="1319"/>
                  </a:lnTo>
                  <a:lnTo>
                    <a:pt x="3120" y="1362"/>
                  </a:lnTo>
                  <a:lnTo>
                    <a:pt x="3084" y="1362"/>
                  </a:lnTo>
                  <a:lnTo>
                    <a:pt x="3066" y="1388"/>
                  </a:lnTo>
                  <a:lnTo>
                    <a:pt x="2993" y="1388"/>
                  </a:lnTo>
                  <a:lnTo>
                    <a:pt x="3047" y="1327"/>
                  </a:lnTo>
                  <a:lnTo>
                    <a:pt x="3102" y="1311"/>
                  </a:lnTo>
                  <a:lnTo>
                    <a:pt x="3220" y="1225"/>
                  </a:lnTo>
                  <a:lnTo>
                    <a:pt x="3356" y="1157"/>
                  </a:lnTo>
                  <a:lnTo>
                    <a:pt x="3401" y="1123"/>
                  </a:lnTo>
                  <a:lnTo>
                    <a:pt x="3474" y="1072"/>
                  </a:lnTo>
                  <a:lnTo>
                    <a:pt x="3656" y="911"/>
                  </a:lnTo>
                  <a:lnTo>
                    <a:pt x="3703" y="858"/>
                  </a:lnTo>
                  <a:lnTo>
                    <a:pt x="3749" y="806"/>
                  </a:lnTo>
                  <a:lnTo>
                    <a:pt x="3793" y="753"/>
                  </a:lnTo>
                  <a:lnTo>
                    <a:pt x="3836" y="700"/>
                  </a:lnTo>
                  <a:lnTo>
                    <a:pt x="3878" y="647"/>
                  </a:lnTo>
                  <a:lnTo>
                    <a:pt x="3919" y="594"/>
                  </a:lnTo>
                  <a:lnTo>
                    <a:pt x="3958" y="541"/>
                  </a:lnTo>
                  <a:lnTo>
                    <a:pt x="3995" y="488"/>
                  </a:lnTo>
                  <a:lnTo>
                    <a:pt x="4032" y="435"/>
                  </a:lnTo>
                  <a:lnTo>
                    <a:pt x="4066" y="382"/>
                  </a:lnTo>
                  <a:lnTo>
                    <a:pt x="4100" y="329"/>
                  </a:lnTo>
                  <a:lnTo>
                    <a:pt x="4131" y="274"/>
                  </a:lnTo>
                  <a:lnTo>
                    <a:pt x="4162" y="221"/>
                  </a:lnTo>
                  <a:lnTo>
                    <a:pt x="4191" y="167"/>
                  </a:lnTo>
                  <a:lnTo>
                    <a:pt x="4218" y="114"/>
                  </a:lnTo>
                  <a:lnTo>
                    <a:pt x="4245" y="60"/>
                  </a:lnTo>
                  <a:lnTo>
                    <a:pt x="4273" y="0"/>
                  </a:lnTo>
                  <a:lnTo>
                    <a:pt x="4229" y="1"/>
                  </a:lnTo>
                  <a:lnTo>
                    <a:pt x="4184" y="4"/>
                  </a:lnTo>
                  <a:lnTo>
                    <a:pt x="4140" y="9"/>
                  </a:lnTo>
                  <a:lnTo>
                    <a:pt x="4096" y="18"/>
                  </a:lnTo>
                  <a:lnTo>
                    <a:pt x="4051" y="27"/>
                  </a:lnTo>
                  <a:lnTo>
                    <a:pt x="4007" y="39"/>
                  </a:lnTo>
                  <a:lnTo>
                    <a:pt x="3962" y="52"/>
                  </a:lnTo>
                  <a:lnTo>
                    <a:pt x="3919" y="66"/>
                  </a:lnTo>
                  <a:lnTo>
                    <a:pt x="3875" y="82"/>
                  </a:lnTo>
                  <a:lnTo>
                    <a:pt x="3830" y="98"/>
                  </a:lnTo>
                  <a:lnTo>
                    <a:pt x="3786" y="117"/>
                  </a:lnTo>
                  <a:lnTo>
                    <a:pt x="3741" y="136"/>
                  </a:lnTo>
                  <a:lnTo>
                    <a:pt x="3697" y="156"/>
                  </a:lnTo>
                  <a:lnTo>
                    <a:pt x="3653" y="176"/>
                  </a:lnTo>
                  <a:lnTo>
                    <a:pt x="3609" y="198"/>
                  </a:lnTo>
                  <a:lnTo>
                    <a:pt x="3565" y="219"/>
                  </a:lnTo>
                  <a:lnTo>
                    <a:pt x="3528" y="229"/>
                  </a:lnTo>
                  <a:lnTo>
                    <a:pt x="3500" y="264"/>
                  </a:lnTo>
                  <a:lnTo>
                    <a:pt x="3493" y="297"/>
                  </a:lnTo>
                  <a:lnTo>
                    <a:pt x="3484" y="332"/>
                  </a:lnTo>
                  <a:lnTo>
                    <a:pt x="3474" y="365"/>
                  </a:lnTo>
                  <a:lnTo>
                    <a:pt x="3462" y="400"/>
                  </a:lnTo>
                  <a:lnTo>
                    <a:pt x="3448" y="435"/>
                  </a:lnTo>
                  <a:lnTo>
                    <a:pt x="3433" y="469"/>
                  </a:lnTo>
                  <a:lnTo>
                    <a:pt x="3416" y="504"/>
                  </a:lnTo>
                  <a:lnTo>
                    <a:pt x="3398" y="538"/>
                  </a:lnTo>
                  <a:lnTo>
                    <a:pt x="3378" y="572"/>
                  </a:lnTo>
                  <a:lnTo>
                    <a:pt x="3356" y="607"/>
                  </a:lnTo>
                  <a:lnTo>
                    <a:pt x="3333" y="640"/>
                  </a:lnTo>
                  <a:lnTo>
                    <a:pt x="3309" y="673"/>
                  </a:lnTo>
                  <a:lnTo>
                    <a:pt x="3282" y="706"/>
                  </a:lnTo>
                  <a:lnTo>
                    <a:pt x="3255" y="737"/>
                  </a:lnTo>
                  <a:lnTo>
                    <a:pt x="3225" y="770"/>
                  </a:lnTo>
                  <a:lnTo>
                    <a:pt x="3194" y="800"/>
                  </a:lnTo>
                  <a:lnTo>
                    <a:pt x="3157" y="816"/>
                  </a:lnTo>
                  <a:lnTo>
                    <a:pt x="2919" y="1064"/>
                  </a:lnTo>
                  <a:lnTo>
                    <a:pt x="2865" y="1098"/>
                  </a:lnTo>
                  <a:lnTo>
                    <a:pt x="2837" y="1106"/>
                  </a:lnTo>
                  <a:lnTo>
                    <a:pt x="2803" y="1149"/>
                  </a:lnTo>
                  <a:lnTo>
                    <a:pt x="2785" y="1167"/>
                  </a:lnTo>
                  <a:lnTo>
                    <a:pt x="2768" y="1185"/>
                  </a:lnTo>
                  <a:lnTo>
                    <a:pt x="2750" y="1203"/>
                  </a:lnTo>
                  <a:lnTo>
                    <a:pt x="2731" y="1219"/>
                  </a:lnTo>
                  <a:lnTo>
                    <a:pt x="2713" y="1235"/>
                  </a:lnTo>
                  <a:lnTo>
                    <a:pt x="2693" y="1250"/>
                  </a:lnTo>
                  <a:lnTo>
                    <a:pt x="2675" y="1263"/>
                  </a:lnTo>
                  <a:lnTo>
                    <a:pt x="2655" y="1276"/>
                  </a:lnTo>
                  <a:lnTo>
                    <a:pt x="2636" y="1287"/>
                  </a:lnTo>
                  <a:lnTo>
                    <a:pt x="2615" y="1298"/>
                  </a:lnTo>
                  <a:lnTo>
                    <a:pt x="2595" y="1306"/>
                  </a:lnTo>
                  <a:lnTo>
                    <a:pt x="2574" y="1313"/>
                  </a:lnTo>
                  <a:lnTo>
                    <a:pt x="2555" y="1319"/>
                  </a:lnTo>
                  <a:lnTo>
                    <a:pt x="2534" y="1324"/>
                  </a:lnTo>
                  <a:lnTo>
                    <a:pt x="2514" y="1326"/>
                  </a:lnTo>
                  <a:lnTo>
                    <a:pt x="2494" y="1327"/>
                  </a:lnTo>
                  <a:lnTo>
                    <a:pt x="2457" y="1336"/>
                  </a:lnTo>
                  <a:lnTo>
                    <a:pt x="2375" y="1498"/>
                  </a:lnTo>
                  <a:lnTo>
                    <a:pt x="2330" y="1566"/>
                  </a:lnTo>
                  <a:lnTo>
                    <a:pt x="2267" y="1559"/>
                  </a:lnTo>
                  <a:lnTo>
                    <a:pt x="2259" y="1524"/>
                  </a:lnTo>
                  <a:lnTo>
                    <a:pt x="2177" y="1413"/>
                  </a:lnTo>
                  <a:lnTo>
                    <a:pt x="1984" y="1413"/>
                  </a:lnTo>
                  <a:lnTo>
                    <a:pt x="1876" y="1438"/>
                  </a:lnTo>
                  <a:lnTo>
                    <a:pt x="1831" y="1456"/>
                  </a:lnTo>
                  <a:lnTo>
                    <a:pt x="1695" y="1533"/>
                  </a:lnTo>
                  <a:lnTo>
                    <a:pt x="1548" y="1652"/>
                  </a:lnTo>
                  <a:lnTo>
                    <a:pt x="1522" y="1652"/>
                  </a:lnTo>
                  <a:lnTo>
                    <a:pt x="1514" y="1694"/>
                  </a:lnTo>
                  <a:lnTo>
                    <a:pt x="1486" y="1745"/>
                  </a:lnTo>
                  <a:lnTo>
                    <a:pt x="1460" y="1753"/>
                  </a:lnTo>
                  <a:lnTo>
                    <a:pt x="1313" y="2051"/>
                  </a:lnTo>
                  <a:lnTo>
                    <a:pt x="1304" y="2111"/>
                  </a:lnTo>
                  <a:lnTo>
                    <a:pt x="1195" y="2334"/>
                  </a:lnTo>
                  <a:lnTo>
                    <a:pt x="1123" y="2436"/>
                  </a:lnTo>
                  <a:lnTo>
                    <a:pt x="841" y="2835"/>
                  </a:lnTo>
                  <a:lnTo>
                    <a:pt x="732" y="2964"/>
                  </a:lnTo>
                  <a:lnTo>
                    <a:pt x="678" y="3031"/>
                  </a:lnTo>
                  <a:lnTo>
                    <a:pt x="559" y="3135"/>
                  </a:lnTo>
                  <a:lnTo>
                    <a:pt x="524" y="3142"/>
                  </a:lnTo>
                  <a:lnTo>
                    <a:pt x="287" y="3406"/>
                  </a:lnTo>
                  <a:lnTo>
                    <a:pt x="178" y="3441"/>
                  </a:lnTo>
                  <a:lnTo>
                    <a:pt x="114" y="3499"/>
                  </a:lnTo>
                  <a:lnTo>
                    <a:pt x="79" y="3499"/>
                  </a:lnTo>
                  <a:lnTo>
                    <a:pt x="0" y="35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43920" y="2641320"/>
              <a:ext cx="328320" cy="579240"/>
            </a:xfrm>
            <a:custGeom>
              <a:avLst/>
              <a:gdLst/>
              <a:ahLst/>
              <a:rect l="l" t="t" r="r" b="b"/>
              <a:pathLst>
                <a:path w="1244" h="1822">
                  <a:moveTo>
                    <a:pt x="0" y="1633"/>
                  </a:moveTo>
                  <a:lnTo>
                    <a:pt x="46" y="1607"/>
                  </a:lnTo>
                  <a:lnTo>
                    <a:pt x="82" y="1583"/>
                  </a:lnTo>
                  <a:lnTo>
                    <a:pt x="104" y="1512"/>
                  </a:lnTo>
                  <a:lnTo>
                    <a:pt x="129" y="1442"/>
                  </a:lnTo>
                  <a:lnTo>
                    <a:pt x="157" y="1372"/>
                  </a:lnTo>
                  <a:lnTo>
                    <a:pt x="188" y="1300"/>
                  </a:lnTo>
                  <a:lnTo>
                    <a:pt x="221" y="1230"/>
                  </a:lnTo>
                  <a:lnTo>
                    <a:pt x="257" y="1159"/>
                  </a:lnTo>
                  <a:lnTo>
                    <a:pt x="296" y="1088"/>
                  </a:lnTo>
                  <a:lnTo>
                    <a:pt x="337" y="1017"/>
                  </a:lnTo>
                  <a:lnTo>
                    <a:pt x="380" y="945"/>
                  </a:lnTo>
                  <a:lnTo>
                    <a:pt x="425" y="875"/>
                  </a:lnTo>
                  <a:lnTo>
                    <a:pt x="474" y="804"/>
                  </a:lnTo>
                  <a:lnTo>
                    <a:pt x="522" y="733"/>
                  </a:lnTo>
                  <a:lnTo>
                    <a:pt x="574" y="662"/>
                  </a:lnTo>
                  <a:lnTo>
                    <a:pt x="627" y="592"/>
                  </a:lnTo>
                  <a:lnTo>
                    <a:pt x="681" y="521"/>
                  </a:lnTo>
                  <a:lnTo>
                    <a:pt x="737" y="451"/>
                  </a:lnTo>
                  <a:lnTo>
                    <a:pt x="918" y="239"/>
                  </a:lnTo>
                  <a:lnTo>
                    <a:pt x="1043" y="102"/>
                  </a:lnTo>
                  <a:lnTo>
                    <a:pt x="1190" y="0"/>
                  </a:lnTo>
                  <a:lnTo>
                    <a:pt x="1244" y="0"/>
                  </a:lnTo>
                  <a:lnTo>
                    <a:pt x="1231" y="81"/>
                  </a:lnTo>
                  <a:lnTo>
                    <a:pt x="1220" y="162"/>
                  </a:lnTo>
                  <a:lnTo>
                    <a:pt x="1207" y="243"/>
                  </a:lnTo>
                  <a:lnTo>
                    <a:pt x="1194" y="324"/>
                  </a:lnTo>
                  <a:lnTo>
                    <a:pt x="1180" y="406"/>
                  </a:lnTo>
                  <a:lnTo>
                    <a:pt x="1163" y="487"/>
                  </a:lnTo>
                  <a:lnTo>
                    <a:pt x="1144" y="567"/>
                  </a:lnTo>
                  <a:lnTo>
                    <a:pt x="1119" y="647"/>
                  </a:lnTo>
                  <a:lnTo>
                    <a:pt x="1089" y="727"/>
                  </a:lnTo>
                  <a:lnTo>
                    <a:pt x="1054" y="807"/>
                  </a:lnTo>
                  <a:lnTo>
                    <a:pt x="1012" y="886"/>
                  </a:lnTo>
                  <a:lnTo>
                    <a:pt x="963" y="965"/>
                  </a:lnTo>
                  <a:lnTo>
                    <a:pt x="905" y="1044"/>
                  </a:lnTo>
                  <a:lnTo>
                    <a:pt x="837" y="1122"/>
                  </a:lnTo>
                  <a:lnTo>
                    <a:pt x="760" y="1199"/>
                  </a:lnTo>
                  <a:lnTo>
                    <a:pt x="672" y="1275"/>
                  </a:lnTo>
                  <a:lnTo>
                    <a:pt x="581" y="1378"/>
                  </a:lnTo>
                  <a:lnTo>
                    <a:pt x="218" y="1735"/>
                  </a:lnTo>
                  <a:lnTo>
                    <a:pt x="233" y="1687"/>
                  </a:lnTo>
                  <a:lnTo>
                    <a:pt x="250" y="1640"/>
                  </a:lnTo>
                  <a:lnTo>
                    <a:pt x="270" y="1592"/>
                  </a:lnTo>
                  <a:lnTo>
                    <a:pt x="292" y="1545"/>
                  </a:lnTo>
                  <a:lnTo>
                    <a:pt x="316" y="1498"/>
                  </a:lnTo>
                  <a:lnTo>
                    <a:pt x="341" y="1451"/>
                  </a:lnTo>
                  <a:lnTo>
                    <a:pt x="369" y="1404"/>
                  </a:lnTo>
                  <a:lnTo>
                    <a:pt x="398" y="1356"/>
                  </a:lnTo>
                  <a:lnTo>
                    <a:pt x="429" y="1310"/>
                  </a:lnTo>
                  <a:lnTo>
                    <a:pt x="460" y="1262"/>
                  </a:lnTo>
                  <a:lnTo>
                    <a:pt x="493" y="1216"/>
                  </a:lnTo>
                  <a:lnTo>
                    <a:pt x="527" y="1168"/>
                  </a:lnTo>
                  <a:lnTo>
                    <a:pt x="563" y="1121"/>
                  </a:lnTo>
                  <a:lnTo>
                    <a:pt x="598" y="1073"/>
                  </a:lnTo>
                  <a:lnTo>
                    <a:pt x="635" y="1025"/>
                  </a:lnTo>
                  <a:lnTo>
                    <a:pt x="672" y="978"/>
                  </a:lnTo>
                  <a:lnTo>
                    <a:pt x="709" y="943"/>
                  </a:lnTo>
                  <a:lnTo>
                    <a:pt x="808" y="799"/>
                  </a:lnTo>
                  <a:lnTo>
                    <a:pt x="808" y="765"/>
                  </a:lnTo>
                  <a:lnTo>
                    <a:pt x="776" y="798"/>
                  </a:lnTo>
                  <a:lnTo>
                    <a:pt x="744" y="832"/>
                  </a:lnTo>
                  <a:lnTo>
                    <a:pt x="710" y="866"/>
                  </a:lnTo>
                  <a:lnTo>
                    <a:pt x="678" y="900"/>
                  </a:lnTo>
                  <a:lnTo>
                    <a:pt x="646" y="935"/>
                  </a:lnTo>
                  <a:lnTo>
                    <a:pt x="613" y="968"/>
                  </a:lnTo>
                  <a:lnTo>
                    <a:pt x="582" y="1003"/>
                  </a:lnTo>
                  <a:lnTo>
                    <a:pt x="550" y="1037"/>
                  </a:lnTo>
                  <a:lnTo>
                    <a:pt x="520" y="1072"/>
                  </a:lnTo>
                  <a:lnTo>
                    <a:pt x="489" y="1107"/>
                  </a:lnTo>
                  <a:lnTo>
                    <a:pt x="460" y="1140"/>
                  </a:lnTo>
                  <a:lnTo>
                    <a:pt x="431" y="1175"/>
                  </a:lnTo>
                  <a:lnTo>
                    <a:pt x="403" y="1208"/>
                  </a:lnTo>
                  <a:lnTo>
                    <a:pt x="377" y="1243"/>
                  </a:lnTo>
                  <a:lnTo>
                    <a:pt x="350" y="1276"/>
                  </a:lnTo>
                  <a:lnTo>
                    <a:pt x="326" y="1310"/>
                  </a:lnTo>
                  <a:lnTo>
                    <a:pt x="303" y="1343"/>
                  </a:lnTo>
                  <a:lnTo>
                    <a:pt x="282" y="1377"/>
                  </a:lnTo>
                  <a:lnTo>
                    <a:pt x="262" y="1409"/>
                  </a:lnTo>
                  <a:lnTo>
                    <a:pt x="242" y="1442"/>
                  </a:lnTo>
                  <a:lnTo>
                    <a:pt x="225" y="1474"/>
                  </a:lnTo>
                  <a:lnTo>
                    <a:pt x="207" y="1506"/>
                  </a:lnTo>
                  <a:lnTo>
                    <a:pt x="191" y="1538"/>
                  </a:lnTo>
                  <a:lnTo>
                    <a:pt x="176" y="1570"/>
                  </a:lnTo>
                  <a:lnTo>
                    <a:pt x="161" y="1601"/>
                  </a:lnTo>
                  <a:lnTo>
                    <a:pt x="148" y="1632"/>
                  </a:lnTo>
                  <a:lnTo>
                    <a:pt x="135" y="1664"/>
                  </a:lnTo>
                  <a:lnTo>
                    <a:pt x="122" y="1695"/>
                  </a:lnTo>
                  <a:lnTo>
                    <a:pt x="109" y="1726"/>
                  </a:lnTo>
                  <a:lnTo>
                    <a:pt x="97" y="1758"/>
                  </a:lnTo>
                  <a:lnTo>
                    <a:pt x="85" y="1790"/>
                  </a:lnTo>
                  <a:lnTo>
                    <a:pt x="74" y="1822"/>
                  </a:lnTo>
                  <a:lnTo>
                    <a:pt x="9" y="1779"/>
                  </a:lnTo>
                  <a:lnTo>
                    <a:pt x="0" y="163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35800" y="3222360"/>
              <a:ext cx="7920" cy="1404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0" y="0"/>
                  </a:moveTo>
                  <a:lnTo>
                    <a:pt x="28" y="0"/>
                  </a:lnTo>
                  <a:lnTo>
                    <a:pt x="2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45520" y="3209760"/>
              <a:ext cx="163440" cy="64800"/>
            </a:xfrm>
            <a:custGeom>
              <a:avLst/>
              <a:gdLst/>
              <a:ahLst/>
              <a:rect l="l" t="t" r="r" b="b"/>
              <a:pathLst>
                <a:path w="617" h="206">
                  <a:moveTo>
                    <a:pt x="8" y="180"/>
                  </a:moveTo>
                  <a:lnTo>
                    <a:pt x="28" y="145"/>
                  </a:lnTo>
                  <a:lnTo>
                    <a:pt x="90" y="120"/>
                  </a:lnTo>
                  <a:lnTo>
                    <a:pt x="590" y="0"/>
                  </a:lnTo>
                  <a:lnTo>
                    <a:pt x="617" y="17"/>
                  </a:lnTo>
                  <a:lnTo>
                    <a:pt x="481" y="94"/>
                  </a:lnTo>
                  <a:lnTo>
                    <a:pt x="218" y="171"/>
                  </a:lnTo>
                  <a:lnTo>
                    <a:pt x="0" y="206"/>
                  </a:lnTo>
                  <a:lnTo>
                    <a:pt x="8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50360" y="2982960"/>
              <a:ext cx="153720" cy="115200"/>
            </a:xfrm>
            <a:custGeom>
              <a:avLst/>
              <a:gdLst/>
              <a:ahLst/>
              <a:rect l="l" t="t" r="r" b="b"/>
              <a:pathLst>
                <a:path w="582" h="366">
                  <a:moveTo>
                    <a:pt x="0" y="366"/>
                  </a:moveTo>
                  <a:lnTo>
                    <a:pt x="156" y="178"/>
                  </a:lnTo>
                  <a:lnTo>
                    <a:pt x="170" y="163"/>
                  </a:lnTo>
                  <a:lnTo>
                    <a:pt x="185" y="148"/>
                  </a:lnTo>
                  <a:lnTo>
                    <a:pt x="200" y="134"/>
                  </a:lnTo>
                  <a:lnTo>
                    <a:pt x="216" y="120"/>
                  </a:lnTo>
                  <a:lnTo>
                    <a:pt x="233" y="107"/>
                  </a:lnTo>
                  <a:lnTo>
                    <a:pt x="250" y="94"/>
                  </a:lnTo>
                  <a:lnTo>
                    <a:pt x="268" y="82"/>
                  </a:lnTo>
                  <a:lnTo>
                    <a:pt x="286" y="71"/>
                  </a:lnTo>
                  <a:lnTo>
                    <a:pt x="305" y="61"/>
                  </a:lnTo>
                  <a:lnTo>
                    <a:pt x="323" y="51"/>
                  </a:lnTo>
                  <a:lnTo>
                    <a:pt x="343" y="42"/>
                  </a:lnTo>
                  <a:lnTo>
                    <a:pt x="361" y="33"/>
                  </a:lnTo>
                  <a:lnTo>
                    <a:pt x="381" y="26"/>
                  </a:lnTo>
                  <a:lnTo>
                    <a:pt x="400" y="19"/>
                  </a:lnTo>
                  <a:lnTo>
                    <a:pt x="419" y="14"/>
                  </a:lnTo>
                  <a:lnTo>
                    <a:pt x="438" y="9"/>
                  </a:lnTo>
                  <a:lnTo>
                    <a:pt x="483" y="0"/>
                  </a:lnTo>
                  <a:lnTo>
                    <a:pt x="564" y="76"/>
                  </a:lnTo>
                  <a:lnTo>
                    <a:pt x="582" y="102"/>
                  </a:lnTo>
                  <a:lnTo>
                    <a:pt x="550" y="121"/>
                  </a:lnTo>
                  <a:lnTo>
                    <a:pt x="518" y="140"/>
                  </a:lnTo>
                  <a:lnTo>
                    <a:pt x="487" y="159"/>
                  </a:lnTo>
                  <a:lnTo>
                    <a:pt x="454" y="177"/>
                  </a:lnTo>
                  <a:lnTo>
                    <a:pt x="423" y="196"/>
                  </a:lnTo>
                  <a:lnTo>
                    <a:pt x="391" y="214"/>
                  </a:lnTo>
                  <a:lnTo>
                    <a:pt x="360" y="233"/>
                  </a:lnTo>
                  <a:lnTo>
                    <a:pt x="328" y="250"/>
                  </a:lnTo>
                  <a:lnTo>
                    <a:pt x="295" y="266"/>
                  </a:lnTo>
                  <a:lnTo>
                    <a:pt x="263" y="282"/>
                  </a:lnTo>
                  <a:lnTo>
                    <a:pt x="231" y="299"/>
                  </a:lnTo>
                  <a:lnTo>
                    <a:pt x="199" y="314"/>
                  </a:lnTo>
                  <a:lnTo>
                    <a:pt x="165" y="328"/>
                  </a:lnTo>
                  <a:lnTo>
                    <a:pt x="133" y="342"/>
                  </a:lnTo>
                  <a:lnTo>
                    <a:pt x="98" y="354"/>
                  </a:lnTo>
                  <a:lnTo>
                    <a:pt x="65" y="366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94640" y="3174840"/>
              <a:ext cx="30240" cy="280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0" y="33"/>
                  </a:moveTo>
                  <a:lnTo>
                    <a:pt x="11" y="7"/>
                  </a:lnTo>
                  <a:lnTo>
                    <a:pt x="37" y="0"/>
                  </a:lnTo>
                  <a:lnTo>
                    <a:pt x="110" y="26"/>
                  </a:lnTo>
                  <a:lnTo>
                    <a:pt x="110" y="58"/>
                  </a:lnTo>
                  <a:lnTo>
                    <a:pt x="82" y="93"/>
                  </a:lnTo>
                  <a:lnTo>
                    <a:pt x="28" y="9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04080" y="3252600"/>
              <a:ext cx="136800" cy="1346040"/>
            </a:xfrm>
            <a:custGeom>
              <a:avLst/>
              <a:gdLst/>
              <a:ahLst/>
              <a:rect l="l" t="t" r="r" b="b"/>
              <a:pathLst>
                <a:path w="519" h="4242">
                  <a:moveTo>
                    <a:pt x="10" y="4218"/>
                  </a:moveTo>
                  <a:lnTo>
                    <a:pt x="55" y="4090"/>
                  </a:lnTo>
                  <a:lnTo>
                    <a:pt x="83" y="3982"/>
                  </a:lnTo>
                  <a:lnTo>
                    <a:pt x="109" y="3875"/>
                  </a:lnTo>
                  <a:lnTo>
                    <a:pt x="131" y="3770"/>
                  </a:lnTo>
                  <a:lnTo>
                    <a:pt x="151" y="3664"/>
                  </a:lnTo>
                  <a:lnTo>
                    <a:pt x="171" y="3558"/>
                  </a:lnTo>
                  <a:lnTo>
                    <a:pt x="189" y="3452"/>
                  </a:lnTo>
                  <a:lnTo>
                    <a:pt x="208" y="3346"/>
                  </a:lnTo>
                  <a:lnTo>
                    <a:pt x="228" y="3238"/>
                  </a:lnTo>
                  <a:lnTo>
                    <a:pt x="254" y="3034"/>
                  </a:lnTo>
                  <a:lnTo>
                    <a:pt x="272" y="2760"/>
                  </a:lnTo>
                  <a:lnTo>
                    <a:pt x="291" y="2377"/>
                  </a:lnTo>
                  <a:lnTo>
                    <a:pt x="291" y="2300"/>
                  </a:lnTo>
                  <a:lnTo>
                    <a:pt x="272" y="1704"/>
                  </a:lnTo>
                  <a:lnTo>
                    <a:pt x="291" y="1407"/>
                  </a:lnTo>
                  <a:lnTo>
                    <a:pt x="291" y="827"/>
                  </a:lnTo>
                  <a:lnTo>
                    <a:pt x="245" y="213"/>
                  </a:lnTo>
                  <a:lnTo>
                    <a:pt x="245" y="70"/>
                  </a:lnTo>
                  <a:lnTo>
                    <a:pt x="254" y="19"/>
                  </a:lnTo>
                  <a:lnTo>
                    <a:pt x="327" y="0"/>
                  </a:lnTo>
                  <a:lnTo>
                    <a:pt x="381" y="9"/>
                  </a:lnTo>
                  <a:lnTo>
                    <a:pt x="418" y="171"/>
                  </a:lnTo>
                  <a:lnTo>
                    <a:pt x="500" y="673"/>
                  </a:lnTo>
                  <a:lnTo>
                    <a:pt x="500" y="724"/>
                  </a:lnTo>
                  <a:lnTo>
                    <a:pt x="492" y="793"/>
                  </a:lnTo>
                  <a:lnTo>
                    <a:pt x="519" y="1423"/>
                  </a:lnTo>
                  <a:lnTo>
                    <a:pt x="492" y="2352"/>
                  </a:lnTo>
                  <a:lnTo>
                    <a:pt x="327" y="3783"/>
                  </a:lnTo>
                  <a:lnTo>
                    <a:pt x="27" y="4227"/>
                  </a:lnTo>
                  <a:lnTo>
                    <a:pt x="32" y="4230"/>
                  </a:lnTo>
                  <a:lnTo>
                    <a:pt x="30" y="4233"/>
                  </a:lnTo>
                  <a:lnTo>
                    <a:pt x="25" y="4238"/>
                  </a:lnTo>
                  <a:lnTo>
                    <a:pt x="18" y="4240"/>
                  </a:lnTo>
                  <a:lnTo>
                    <a:pt x="11" y="4242"/>
                  </a:lnTo>
                  <a:lnTo>
                    <a:pt x="4" y="4242"/>
                  </a:lnTo>
                  <a:lnTo>
                    <a:pt x="0" y="4240"/>
                  </a:lnTo>
                  <a:lnTo>
                    <a:pt x="0" y="4234"/>
                  </a:lnTo>
                  <a:lnTo>
                    <a:pt x="10" y="4218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19920" y="3152520"/>
              <a:ext cx="71640" cy="85680"/>
            </a:xfrm>
            <a:custGeom>
              <a:avLst/>
              <a:gdLst/>
              <a:ahLst/>
              <a:rect l="l" t="t" r="r" b="b"/>
              <a:pathLst>
                <a:path w="272" h="274">
                  <a:moveTo>
                    <a:pt x="0" y="146"/>
                  </a:moveTo>
                  <a:lnTo>
                    <a:pt x="82" y="70"/>
                  </a:lnTo>
                  <a:lnTo>
                    <a:pt x="146" y="45"/>
                  </a:lnTo>
                  <a:lnTo>
                    <a:pt x="200" y="0"/>
                  </a:lnTo>
                  <a:lnTo>
                    <a:pt x="272" y="172"/>
                  </a:lnTo>
                  <a:lnTo>
                    <a:pt x="245" y="231"/>
                  </a:lnTo>
                  <a:lnTo>
                    <a:pt x="200" y="258"/>
                  </a:lnTo>
                  <a:lnTo>
                    <a:pt x="82" y="274"/>
                  </a:lnTo>
                  <a:lnTo>
                    <a:pt x="27" y="24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05920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48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447920" y="2671920"/>
            <a:ext cx="1576440" cy="2276280"/>
            <a:chOff x="1447920" y="2671920"/>
            <a:chExt cx="1576440" cy="2276280"/>
          </a:xfrm>
        </p:grpSpPr>
        <p:sp>
          <p:nvSpPr>
            <p:cNvPr id="82" name=""/>
            <p:cNvSpPr/>
            <p:nvPr/>
          </p:nvSpPr>
          <p:spPr>
            <a:xfrm>
              <a:off x="1447920" y="2671920"/>
              <a:ext cx="1576440" cy="22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25800" y="3318120"/>
              <a:ext cx="365040" cy="1581120"/>
            </a:xfrm>
            <a:custGeom>
              <a:avLst/>
              <a:gdLst/>
              <a:ahLst/>
              <a:rect l="l" t="t" r="r" b="b"/>
              <a:pathLst>
                <a:path w="1149" h="4978">
                  <a:moveTo>
                    <a:pt x="704" y="4978"/>
                  </a:moveTo>
                  <a:lnTo>
                    <a:pt x="887" y="4212"/>
                  </a:lnTo>
                  <a:lnTo>
                    <a:pt x="864" y="3680"/>
                  </a:lnTo>
                  <a:lnTo>
                    <a:pt x="955" y="3199"/>
                  </a:lnTo>
                  <a:lnTo>
                    <a:pt x="830" y="2260"/>
                  </a:lnTo>
                  <a:lnTo>
                    <a:pt x="683" y="1445"/>
                  </a:lnTo>
                  <a:lnTo>
                    <a:pt x="421" y="667"/>
                  </a:lnTo>
                  <a:lnTo>
                    <a:pt x="0" y="0"/>
                  </a:lnTo>
                  <a:lnTo>
                    <a:pt x="250" y="99"/>
                  </a:lnTo>
                  <a:lnTo>
                    <a:pt x="546" y="568"/>
                  </a:lnTo>
                  <a:lnTo>
                    <a:pt x="785" y="1099"/>
                  </a:lnTo>
                  <a:lnTo>
                    <a:pt x="989" y="1617"/>
                  </a:lnTo>
                  <a:lnTo>
                    <a:pt x="1138" y="2532"/>
                  </a:lnTo>
                  <a:lnTo>
                    <a:pt x="1149" y="3693"/>
                  </a:lnTo>
                  <a:lnTo>
                    <a:pt x="1035" y="4953"/>
                  </a:lnTo>
                  <a:lnTo>
                    <a:pt x="704" y="4978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89040" y="2681280"/>
              <a:ext cx="1292400" cy="2257560"/>
            </a:xfrm>
            <a:custGeom>
              <a:avLst/>
              <a:gdLst/>
              <a:ahLst/>
              <a:rect l="l" t="t" r="r" b="b"/>
              <a:pathLst>
                <a:path w="4072" h="7111">
                  <a:moveTo>
                    <a:pt x="7" y="2442"/>
                  </a:moveTo>
                  <a:lnTo>
                    <a:pt x="86" y="2322"/>
                  </a:lnTo>
                  <a:lnTo>
                    <a:pt x="109" y="2236"/>
                  </a:lnTo>
                  <a:lnTo>
                    <a:pt x="213" y="2152"/>
                  </a:lnTo>
                  <a:lnTo>
                    <a:pt x="276" y="2100"/>
                  </a:lnTo>
                  <a:lnTo>
                    <a:pt x="340" y="2015"/>
                  </a:lnTo>
                  <a:lnTo>
                    <a:pt x="417" y="1972"/>
                  </a:lnTo>
                  <a:lnTo>
                    <a:pt x="458" y="1947"/>
                  </a:lnTo>
                  <a:lnTo>
                    <a:pt x="529" y="1955"/>
                  </a:lnTo>
                  <a:lnTo>
                    <a:pt x="584" y="1929"/>
                  </a:lnTo>
                  <a:lnTo>
                    <a:pt x="616" y="1929"/>
                  </a:lnTo>
                  <a:lnTo>
                    <a:pt x="654" y="1955"/>
                  </a:lnTo>
                  <a:lnTo>
                    <a:pt x="663" y="1972"/>
                  </a:lnTo>
                  <a:lnTo>
                    <a:pt x="725" y="1964"/>
                  </a:lnTo>
                  <a:lnTo>
                    <a:pt x="757" y="2006"/>
                  </a:lnTo>
                  <a:lnTo>
                    <a:pt x="820" y="2049"/>
                  </a:lnTo>
                  <a:lnTo>
                    <a:pt x="828" y="2118"/>
                  </a:lnTo>
                  <a:lnTo>
                    <a:pt x="860" y="2118"/>
                  </a:lnTo>
                  <a:lnTo>
                    <a:pt x="891" y="2108"/>
                  </a:lnTo>
                  <a:lnTo>
                    <a:pt x="955" y="2152"/>
                  </a:lnTo>
                  <a:lnTo>
                    <a:pt x="964" y="2219"/>
                  </a:lnTo>
                  <a:lnTo>
                    <a:pt x="1129" y="2262"/>
                  </a:lnTo>
                  <a:lnTo>
                    <a:pt x="1129" y="2288"/>
                  </a:lnTo>
                  <a:lnTo>
                    <a:pt x="1224" y="2288"/>
                  </a:lnTo>
                  <a:lnTo>
                    <a:pt x="1259" y="2290"/>
                  </a:lnTo>
                  <a:lnTo>
                    <a:pt x="1296" y="2294"/>
                  </a:lnTo>
                  <a:lnTo>
                    <a:pt x="1331" y="2301"/>
                  </a:lnTo>
                  <a:lnTo>
                    <a:pt x="1366" y="2307"/>
                  </a:lnTo>
                  <a:lnTo>
                    <a:pt x="1402" y="2317"/>
                  </a:lnTo>
                  <a:lnTo>
                    <a:pt x="1437" y="2327"/>
                  </a:lnTo>
                  <a:lnTo>
                    <a:pt x="1472" y="2339"/>
                  </a:lnTo>
                  <a:lnTo>
                    <a:pt x="1508" y="2352"/>
                  </a:lnTo>
                  <a:lnTo>
                    <a:pt x="1543" y="2366"/>
                  </a:lnTo>
                  <a:lnTo>
                    <a:pt x="1578" y="2381"/>
                  </a:lnTo>
                  <a:lnTo>
                    <a:pt x="1614" y="2397"/>
                  </a:lnTo>
                  <a:lnTo>
                    <a:pt x="1649" y="2415"/>
                  </a:lnTo>
                  <a:lnTo>
                    <a:pt x="1686" y="2433"/>
                  </a:lnTo>
                  <a:lnTo>
                    <a:pt x="1721" y="2453"/>
                  </a:lnTo>
                  <a:lnTo>
                    <a:pt x="1757" y="2472"/>
                  </a:lnTo>
                  <a:lnTo>
                    <a:pt x="1792" y="2493"/>
                  </a:lnTo>
                  <a:lnTo>
                    <a:pt x="1871" y="2544"/>
                  </a:lnTo>
                  <a:lnTo>
                    <a:pt x="1926" y="2595"/>
                  </a:lnTo>
                  <a:lnTo>
                    <a:pt x="1878" y="2518"/>
                  </a:lnTo>
                  <a:lnTo>
                    <a:pt x="1641" y="2160"/>
                  </a:lnTo>
                  <a:lnTo>
                    <a:pt x="1484" y="1980"/>
                  </a:lnTo>
                  <a:lnTo>
                    <a:pt x="1454" y="1953"/>
                  </a:lnTo>
                  <a:lnTo>
                    <a:pt x="1423" y="1926"/>
                  </a:lnTo>
                  <a:lnTo>
                    <a:pt x="1393" y="1900"/>
                  </a:lnTo>
                  <a:lnTo>
                    <a:pt x="1363" y="1874"/>
                  </a:lnTo>
                  <a:lnTo>
                    <a:pt x="1332" y="1850"/>
                  </a:lnTo>
                  <a:lnTo>
                    <a:pt x="1302" y="1826"/>
                  </a:lnTo>
                  <a:lnTo>
                    <a:pt x="1270" y="1803"/>
                  </a:lnTo>
                  <a:lnTo>
                    <a:pt x="1239" y="1780"/>
                  </a:lnTo>
                  <a:lnTo>
                    <a:pt x="1209" y="1759"/>
                  </a:lnTo>
                  <a:lnTo>
                    <a:pt x="1178" y="1738"/>
                  </a:lnTo>
                  <a:lnTo>
                    <a:pt x="1147" y="1719"/>
                  </a:lnTo>
                  <a:lnTo>
                    <a:pt x="1117" y="1700"/>
                  </a:lnTo>
                  <a:lnTo>
                    <a:pt x="1086" y="1682"/>
                  </a:lnTo>
                  <a:lnTo>
                    <a:pt x="1055" y="1664"/>
                  </a:lnTo>
                  <a:lnTo>
                    <a:pt x="1024" y="1647"/>
                  </a:lnTo>
                  <a:lnTo>
                    <a:pt x="994" y="1632"/>
                  </a:lnTo>
                  <a:lnTo>
                    <a:pt x="963" y="1617"/>
                  </a:lnTo>
                  <a:lnTo>
                    <a:pt x="932" y="1603"/>
                  </a:lnTo>
                  <a:lnTo>
                    <a:pt x="901" y="1590"/>
                  </a:lnTo>
                  <a:lnTo>
                    <a:pt x="869" y="1577"/>
                  </a:lnTo>
                  <a:lnTo>
                    <a:pt x="838" y="1566"/>
                  </a:lnTo>
                  <a:lnTo>
                    <a:pt x="807" y="1555"/>
                  </a:lnTo>
                  <a:lnTo>
                    <a:pt x="776" y="1544"/>
                  </a:lnTo>
                  <a:lnTo>
                    <a:pt x="746" y="1535"/>
                  </a:lnTo>
                  <a:lnTo>
                    <a:pt x="715" y="1528"/>
                  </a:lnTo>
                  <a:lnTo>
                    <a:pt x="684" y="1520"/>
                  </a:lnTo>
                  <a:lnTo>
                    <a:pt x="653" y="1514"/>
                  </a:lnTo>
                  <a:lnTo>
                    <a:pt x="622" y="1508"/>
                  </a:lnTo>
                  <a:lnTo>
                    <a:pt x="591" y="1503"/>
                  </a:lnTo>
                  <a:lnTo>
                    <a:pt x="560" y="1500"/>
                  </a:lnTo>
                  <a:lnTo>
                    <a:pt x="529" y="1496"/>
                  </a:lnTo>
                  <a:lnTo>
                    <a:pt x="497" y="1494"/>
                  </a:lnTo>
                  <a:lnTo>
                    <a:pt x="347" y="1503"/>
                  </a:lnTo>
                  <a:lnTo>
                    <a:pt x="276" y="1452"/>
                  </a:lnTo>
                  <a:lnTo>
                    <a:pt x="276" y="1407"/>
                  </a:lnTo>
                  <a:lnTo>
                    <a:pt x="308" y="1324"/>
                  </a:lnTo>
                  <a:lnTo>
                    <a:pt x="340" y="1298"/>
                  </a:lnTo>
                  <a:lnTo>
                    <a:pt x="781" y="1280"/>
                  </a:lnTo>
                  <a:lnTo>
                    <a:pt x="852" y="1289"/>
                  </a:lnTo>
                  <a:lnTo>
                    <a:pt x="757" y="956"/>
                  </a:lnTo>
                  <a:lnTo>
                    <a:pt x="695" y="991"/>
                  </a:lnTo>
                  <a:lnTo>
                    <a:pt x="592" y="1007"/>
                  </a:lnTo>
                  <a:lnTo>
                    <a:pt x="521" y="1050"/>
                  </a:lnTo>
                  <a:lnTo>
                    <a:pt x="481" y="1042"/>
                  </a:lnTo>
                  <a:lnTo>
                    <a:pt x="402" y="991"/>
                  </a:lnTo>
                  <a:lnTo>
                    <a:pt x="323" y="981"/>
                  </a:lnTo>
                  <a:lnTo>
                    <a:pt x="245" y="914"/>
                  </a:lnTo>
                  <a:lnTo>
                    <a:pt x="230" y="885"/>
                  </a:lnTo>
                  <a:lnTo>
                    <a:pt x="219" y="857"/>
                  </a:lnTo>
                  <a:lnTo>
                    <a:pt x="211" y="827"/>
                  </a:lnTo>
                  <a:lnTo>
                    <a:pt x="207" y="798"/>
                  </a:lnTo>
                  <a:lnTo>
                    <a:pt x="204" y="770"/>
                  </a:lnTo>
                  <a:lnTo>
                    <a:pt x="202" y="741"/>
                  </a:lnTo>
                  <a:lnTo>
                    <a:pt x="200" y="713"/>
                  </a:lnTo>
                  <a:lnTo>
                    <a:pt x="198" y="683"/>
                  </a:lnTo>
                  <a:lnTo>
                    <a:pt x="221" y="623"/>
                  </a:lnTo>
                  <a:lnTo>
                    <a:pt x="237" y="564"/>
                  </a:lnTo>
                  <a:lnTo>
                    <a:pt x="250" y="507"/>
                  </a:lnTo>
                  <a:lnTo>
                    <a:pt x="262" y="450"/>
                  </a:lnTo>
                  <a:lnTo>
                    <a:pt x="276" y="395"/>
                  </a:lnTo>
                  <a:lnTo>
                    <a:pt x="294" y="340"/>
                  </a:lnTo>
                  <a:lnTo>
                    <a:pt x="320" y="284"/>
                  </a:lnTo>
                  <a:lnTo>
                    <a:pt x="355" y="230"/>
                  </a:lnTo>
                  <a:lnTo>
                    <a:pt x="402" y="179"/>
                  </a:lnTo>
                  <a:lnTo>
                    <a:pt x="449" y="43"/>
                  </a:lnTo>
                  <a:lnTo>
                    <a:pt x="473" y="25"/>
                  </a:lnTo>
                  <a:lnTo>
                    <a:pt x="488" y="17"/>
                  </a:lnTo>
                  <a:lnTo>
                    <a:pt x="521" y="17"/>
                  </a:lnTo>
                  <a:lnTo>
                    <a:pt x="577" y="60"/>
                  </a:lnTo>
                  <a:lnTo>
                    <a:pt x="648" y="43"/>
                  </a:lnTo>
                  <a:lnTo>
                    <a:pt x="671" y="25"/>
                  </a:lnTo>
                  <a:lnTo>
                    <a:pt x="725" y="17"/>
                  </a:lnTo>
                  <a:lnTo>
                    <a:pt x="766" y="51"/>
                  </a:lnTo>
                  <a:lnTo>
                    <a:pt x="773" y="68"/>
                  </a:lnTo>
                  <a:lnTo>
                    <a:pt x="884" y="0"/>
                  </a:lnTo>
                  <a:lnTo>
                    <a:pt x="987" y="9"/>
                  </a:lnTo>
                  <a:lnTo>
                    <a:pt x="1011" y="68"/>
                  </a:lnTo>
                  <a:lnTo>
                    <a:pt x="1065" y="60"/>
                  </a:lnTo>
                  <a:lnTo>
                    <a:pt x="1097" y="60"/>
                  </a:lnTo>
                  <a:lnTo>
                    <a:pt x="1153" y="102"/>
                  </a:lnTo>
                  <a:lnTo>
                    <a:pt x="1153" y="137"/>
                  </a:lnTo>
                  <a:lnTo>
                    <a:pt x="1160" y="163"/>
                  </a:lnTo>
                  <a:lnTo>
                    <a:pt x="1183" y="179"/>
                  </a:lnTo>
                  <a:lnTo>
                    <a:pt x="1230" y="214"/>
                  </a:lnTo>
                  <a:lnTo>
                    <a:pt x="1232" y="240"/>
                  </a:lnTo>
                  <a:lnTo>
                    <a:pt x="1238" y="265"/>
                  </a:lnTo>
                  <a:lnTo>
                    <a:pt x="1246" y="291"/>
                  </a:lnTo>
                  <a:lnTo>
                    <a:pt x="1254" y="316"/>
                  </a:lnTo>
                  <a:lnTo>
                    <a:pt x="1260" y="342"/>
                  </a:lnTo>
                  <a:lnTo>
                    <a:pt x="1264" y="367"/>
                  </a:lnTo>
                  <a:lnTo>
                    <a:pt x="1262" y="393"/>
                  </a:lnTo>
                  <a:lnTo>
                    <a:pt x="1254" y="419"/>
                  </a:lnTo>
                  <a:lnTo>
                    <a:pt x="1271" y="477"/>
                  </a:lnTo>
                  <a:lnTo>
                    <a:pt x="1271" y="528"/>
                  </a:lnTo>
                  <a:lnTo>
                    <a:pt x="1224" y="683"/>
                  </a:lnTo>
                  <a:lnTo>
                    <a:pt x="1200" y="683"/>
                  </a:lnTo>
                  <a:lnTo>
                    <a:pt x="1160" y="717"/>
                  </a:lnTo>
                  <a:lnTo>
                    <a:pt x="1151" y="732"/>
                  </a:lnTo>
                  <a:lnTo>
                    <a:pt x="1141" y="747"/>
                  </a:lnTo>
                  <a:lnTo>
                    <a:pt x="1130" y="761"/>
                  </a:lnTo>
                  <a:lnTo>
                    <a:pt x="1119" y="774"/>
                  </a:lnTo>
                  <a:lnTo>
                    <a:pt x="1108" y="786"/>
                  </a:lnTo>
                  <a:lnTo>
                    <a:pt x="1096" y="797"/>
                  </a:lnTo>
                  <a:lnTo>
                    <a:pt x="1084" y="807"/>
                  </a:lnTo>
                  <a:lnTo>
                    <a:pt x="1072" y="817"/>
                  </a:lnTo>
                  <a:lnTo>
                    <a:pt x="1059" y="824"/>
                  </a:lnTo>
                  <a:lnTo>
                    <a:pt x="1046" y="831"/>
                  </a:lnTo>
                  <a:lnTo>
                    <a:pt x="1034" y="836"/>
                  </a:lnTo>
                  <a:lnTo>
                    <a:pt x="1021" y="841"/>
                  </a:lnTo>
                  <a:lnTo>
                    <a:pt x="1008" y="844"/>
                  </a:lnTo>
                  <a:lnTo>
                    <a:pt x="996" y="845"/>
                  </a:lnTo>
                  <a:lnTo>
                    <a:pt x="983" y="846"/>
                  </a:lnTo>
                  <a:lnTo>
                    <a:pt x="971" y="845"/>
                  </a:lnTo>
                  <a:lnTo>
                    <a:pt x="947" y="880"/>
                  </a:lnTo>
                  <a:lnTo>
                    <a:pt x="1003" y="1016"/>
                  </a:lnTo>
                  <a:lnTo>
                    <a:pt x="1011" y="1058"/>
                  </a:lnTo>
                  <a:lnTo>
                    <a:pt x="1026" y="1110"/>
                  </a:lnTo>
                  <a:lnTo>
                    <a:pt x="1050" y="1152"/>
                  </a:lnTo>
                  <a:lnTo>
                    <a:pt x="1050" y="1340"/>
                  </a:lnTo>
                  <a:lnTo>
                    <a:pt x="1080" y="1350"/>
                  </a:lnTo>
                  <a:lnTo>
                    <a:pt x="1109" y="1361"/>
                  </a:lnTo>
                  <a:lnTo>
                    <a:pt x="1139" y="1375"/>
                  </a:lnTo>
                  <a:lnTo>
                    <a:pt x="1169" y="1389"/>
                  </a:lnTo>
                  <a:lnTo>
                    <a:pt x="1199" y="1405"/>
                  </a:lnTo>
                  <a:lnTo>
                    <a:pt x="1229" y="1424"/>
                  </a:lnTo>
                  <a:lnTo>
                    <a:pt x="1259" y="1442"/>
                  </a:lnTo>
                  <a:lnTo>
                    <a:pt x="1290" y="1463"/>
                  </a:lnTo>
                  <a:lnTo>
                    <a:pt x="1320" y="1484"/>
                  </a:lnTo>
                  <a:lnTo>
                    <a:pt x="1350" y="1507"/>
                  </a:lnTo>
                  <a:lnTo>
                    <a:pt x="1380" y="1531"/>
                  </a:lnTo>
                  <a:lnTo>
                    <a:pt x="1409" y="1556"/>
                  </a:lnTo>
                  <a:lnTo>
                    <a:pt x="1439" y="1581"/>
                  </a:lnTo>
                  <a:lnTo>
                    <a:pt x="1469" y="1608"/>
                  </a:lnTo>
                  <a:lnTo>
                    <a:pt x="1498" y="1635"/>
                  </a:lnTo>
                  <a:lnTo>
                    <a:pt x="1527" y="1662"/>
                  </a:lnTo>
                  <a:lnTo>
                    <a:pt x="1556" y="1690"/>
                  </a:lnTo>
                  <a:lnTo>
                    <a:pt x="1585" y="1720"/>
                  </a:lnTo>
                  <a:lnTo>
                    <a:pt x="1614" y="1749"/>
                  </a:lnTo>
                  <a:lnTo>
                    <a:pt x="1642" y="1778"/>
                  </a:lnTo>
                  <a:lnTo>
                    <a:pt x="1671" y="1807"/>
                  </a:lnTo>
                  <a:lnTo>
                    <a:pt x="1699" y="1838"/>
                  </a:lnTo>
                  <a:lnTo>
                    <a:pt x="1726" y="1868"/>
                  </a:lnTo>
                  <a:lnTo>
                    <a:pt x="1754" y="1897"/>
                  </a:lnTo>
                  <a:lnTo>
                    <a:pt x="1780" y="1928"/>
                  </a:lnTo>
                  <a:lnTo>
                    <a:pt x="1807" y="1957"/>
                  </a:lnTo>
                  <a:lnTo>
                    <a:pt x="1833" y="1986"/>
                  </a:lnTo>
                  <a:lnTo>
                    <a:pt x="1859" y="2016"/>
                  </a:lnTo>
                  <a:lnTo>
                    <a:pt x="1884" y="2044"/>
                  </a:lnTo>
                  <a:lnTo>
                    <a:pt x="1909" y="2072"/>
                  </a:lnTo>
                  <a:lnTo>
                    <a:pt x="1933" y="2099"/>
                  </a:lnTo>
                  <a:lnTo>
                    <a:pt x="1957" y="2126"/>
                  </a:lnTo>
                  <a:lnTo>
                    <a:pt x="1957" y="2065"/>
                  </a:lnTo>
                  <a:lnTo>
                    <a:pt x="1937" y="1960"/>
                  </a:lnTo>
                  <a:lnTo>
                    <a:pt x="1923" y="1855"/>
                  </a:lnTo>
                  <a:lnTo>
                    <a:pt x="1913" y="1749"/>
                  </a:lnTo>
                  <a:lnTo>
                    <a:pt x="1908" y="1644"/>
                  </a:lnTo>
                  <a:lnTo>
                    <a:pt x="1907" y="1538"/>
                  </a:lnTo>
                  <a:lnTo>
                    <a:pt x="1909" y="1432"/>
                  </a:lnTo>
                  <a:lnTo>
                    <a:pt x="1913" y="1326"/>
                  </a:lnTo>
                  <a:lnTo>
                    <a:pt x="1919" y="1221"/>
                  </a:lnTo>
                  <a:lnTo>
                    <a:pt x="1878" y="1127"/>
                  </a:lnTo>
                  <a:lnTo>
                    <a:pt x="1848" y="1110"/>
                  </a:lnTo>
                  <a:lnTo>
                    <a:pt x="1753" y="1042"/>
                  </a:lnTo>
                  <a:lnTo>
                    <a:pt x="1681" y="930"/>
                  </a:lnTo>
                  <a:lnTo>
                    <a:pt x="1674" y="914"/>
                  </a:lnTo>
                  <a:lnTo>
                    <a:pt x="1674" y="794"/>
                  </a:lnTo>
                  <a:lnTo>
                    <a:pt x="1656" y="768"/>
                  </a:lnTo>
                  <a:lnTo>
                    <a:pt x="1645" y="727"/>
                  </a:lnTo>
                  <a:lnTo>
                    <a:pt x="1644" y="685"/>
                  </a:lnTo>
                  <a:lnTo>
                    <a:pt x="1653" y="644"/>
                  </a:lnTo>
                  <a:lnTo>
                    <a:pt x="1668" y="602"/>
                  </a:lnTo>
                  <a:lnTo>
                    <a:pt x="1687" y="561"/>
                  </a:lnTo>
                  <a:lnTo>
                    <a:pt x="1708" y="519"/>
                  </a:lnTo>
                  <a:lnTo>
                    <a:pt x="1728" y="477"/>
                  </a:lnTo>
                  <a:lnTo>
                    <a:pt x="1745" y="435"/>
                  </a:lnTo>
                  <a:lnTo>
                    <a:pt x="1848" y="317"/>
                  </a:lnTo>
                  <a:lnTo>
                    <a:pt x="1902" y="240"/>
                  </a:lnTo>
                  <a:lnTo>
                    <a:pt x="1934" y="222"/>
                  </a:lnTo>
                  <a:lnTo>
                    <a:pt x="2028" y="240"/>
                  </a:lnTo>
                  <a:lnTo>
                    <a:pt x="2124" y="137"/>
                  </a:lnTo>
                  <a:lnTo>
                    <a:pt x="2186" y="163"/>
                  </a:lnTo>
                  <a:lnTo>
                    <a:pt x="2195" y="179"/>
                  </a:lnTo>
                  <a:lnTo>
                    <a:pt x="2203" y="195"/>
                  </a:lnTo>
                  <a:lnTo>
                    <a:pt x="2289" y="163"/>
                  </a:lnTo>
                  <a:lnTo>
                    <a:pt x="2304" y="154"/>
                  </a:lnTo>
                  <a:lnTo>
                    <a:pt x="2375" y="205"/>
                  </a:lnTo>
                  <a:lnTo>
                    <a:pt x="2487" y="145"/>
                  </a:lnTo>
                  <a:lnTo>
                    <a:pt x="2534" y="154"/>
                  </a:lnTo>
                  <a:lnTo>
                    <a:pt x="2621" y="205"/>
                  </a:lnTo>
                  <a:lnTo>
                    <a:pt x="2786" y="248"/>
                  </a:lnTo>
                  <a:lnTo>
                    <a:pt x="2834" y="323"/>
                  </a:lnTo>
                  <a:lnTo>
                    <a:pt x="2866" y="358"/>
                  </a:lnTo>
                  <a:lnTo>
                    <a:pt x="2890" y="358"/>
                  </a:lnTo>
                  <a:lnTo>
                    <a:pt x="2929" y="393"/>
                  </a:lnTo>
                  <a:lnTo>
                    <a:pt x="2929" y="426"/>
                  </a:lnTo>
                  <a:lnTo>
                    <a:pt x="2874" y="666"/>
                  </a:lnTo>
                  <a:lnTo>
                    <a:pt x="2867" y="718"/>
                  </a:lnTo>
                  <a:lnTo>
                    <a:pt x="2863" y="771"/>
                  </a:lnTo>
                  <a:lnTo>
                    <a:pt x="2858" y="824"/>
                  </a:lnTo>
                  <a:lnTo>
                    <a:pt x="2850" y="878"/>
                  </a:lnTo>
                  <a:lnTo>
                    <a:pt x="2837" y="932"/>
                  </a:lnTo>
                  <a:lnTo>
                    <a:pt x="2814" y="985"/>
                  </a:lnTo>
                  <a:lnTo>
                    <a:pt x="2780" y="1036"/>
                  </a:lnTo>
                  <a:lnTo>
                    <a:pt x="2732" y="1084"/>
                  </a:lnTo>
                  <a:lnTo>
                    <a:pt x="2708" y="1101"/>
                  </a:lnTo>
                  <a:lnTo>
                    <a:pt x="2614" y="1119"/>
                  </a:lnTo>
                  <a:lnTo>
                    <a:pt x="2494" y="1186"/>
                  </a:lnTo>
                  <a:lnTo>
                    <a:pt x="2345" y="1212"/>
                  </a:lnTo>
                  <a:lnTo>
                    <a:pt x="2313" y="1247"/>
                  </a:lnTo>
                  <a:lnTo>
                    <a:pt x="2227" y="1289"/>
                  </a:lnTo>
                  <a:lnTo>
                    <a:pt x="2163" y="1289"/>
                  </a:lnTo>
                  <a:lnTo>
                    <a:pt x="2163" y="1442"/>
                  </a:lnTo>
                  <a:lnTo>
                    <a:pt x="2163" y="2219"/>
                  </a:lnTo>
                  <a:lnTo>
                    <a:pt x="2156" y="2322"/>
                  </a:lnTo>
                  <a:lnTo>
                    <a:pt x="2163" y="2339"/>
                  </a:lnTo>
                  <a:lnTo>
                    <a:pt x="2352" y="2663"/>
                  </a:lnTo>
                  <a:lnTo>
                    <a:pt x="2368" y="2705"/>
                  </a:lnTo>
                  <a:lnTo>
                    <a:pt x="2383" y="2722"/>
                  </a:lnTo>
                  <a:lnTo>
                    <a:pt x="2392" y="2765"/>
                  </a:lnTo>
                  <a:lnTo>
                    <a:pt x="2440" y="2876"/>
                  </a:lnTo>
                  <a:lnTo>
                    <a:pt x="2455" y="2919"/>
                  </a:lnTo>
                  <a:lnTo>
                    <a:pt x="2605" y="3295"/>
                  </a:lnTo>
                  <a:lnTo>
                    <a:pt x="2621" y="3311"/>
                  </a:lnTo>
                  <a:lnTo>
                    <a:pt x="2629" y="3353"/>
                  </a:lnTo>
                  <a:lnTo>
                    <a:pt x="2668" y="3449"/>
                  </a:lnTo>
                  <a:lnTo>
                    <a:pt x="2676" y="3491"/>
                  </a:lnTo>
                  <a:lnTo>
                    <a:pt x="2715" y="3602"/>
                  </a:lnTo>
                  <a:lnTo>
                    <a:pt x="2771" y="3328"/>
                  </a:lnTo>
                  <a:lnTo>
                    <a:pt x="2776" y="3255"/>
                  </a:lnTo>
                  <a:lnTo>
                    <a:pt x="2789" y="3181"/>
                  </a:lnTo>
                  <a:lnTo>
                    <a:pt x="2809" y="3107"/>
                  </a:lnTo>
                  <a:lnTo>
                    <a:pt x="2833" y="3034"/>
                  </a:lnTo>
                  <a:lnTo>
                    <a:pt x="2858" y="2960"/>
                  </a:lnTo>
                  <a:lnTo>
                    <a:pt x="2884" y="2886"/>
                  </a:lnTo>
                  <a:lnTo>
                    <a:pt x="2908" y="2814"/>
                  </a:lnTo>
                  <a:lnTo>
                    <a:pt x="2929" y="2740"/>
                  </a:lnTo>
                  <a:lnTo>
                    <a:pt x="2866" y="2612"/>
                  </a:lnTo>
                  <a:lnTo>
                    <a:pt x="2851" y="2518"/>
                  </a:lnTo>
                  <a:lnTo>
                    <a:pt x="2858" y="2467"/>
                  </a:lnTo>
                  <a:lnTo>
                    <a:pt x="2851" y="2397"/>
                  </a:lnTo>
                  <a:lnTo>
                    <a:pt x="2804" y="2245"/>
                  </a:lnTo>
                  <a:lnTo>
                    <a:pt x="2786" y="2219"/>
                  </a:lnTo>
                  <a:lnTo>
                    <a:pt x="2779" y="2203"/>
                  </a:lnTo>
                  <a:lnTo>
                    <a:pt x="2779" y="2092"/>
                  </a:lnTo>
                  <a:lnTo>
                    <a:pt x="2819" y="1955"/>
                  </a:lnTo>
                  <a:lnTo>
                    <a:pt x="2866" y="1895"/>
                  </a:lnTo>
                  <a:lnTo>
                    <a:pt x="2890" y="1895"/>
                  </a:lnTo>
                  <a:lnTo>
                    <a:pt x="2905" y="1870"/>
                  </a:lnTo>
                  <a:lnTo>
                    <a:pt x="2999" y="1775"/>
                  </a:lnTo>
                  <a:lnTo>
                    <a:pt x="3245" y="1647"/>
                  </a:lnTo>
                  <a:lnTo>
                    <a:pt x="3348" y="1631"/>
                  </a:lnTo>
                  <a:lnTo>
                    <a:pt x="3386" y="1596"/>
                  </a:lnTo>
                  <a:lnTo>
                    <a:pt x="3418" y="1589"/>
                  </a:lnTo>
                  <a:lnTo>
                    <a:pt x="3474" y="1605"/>
                  </a:lnTo>
                  <a:lnTo>
                    <a:pt x="3560" y="1622"/>
                  </a:lnTo>
                  <a:lnTo>
                    <a:pt x="3593" y="1647"/>
                  </a:lnTo>
                  <a:lnTo>
                    <a:pt x="3585" y="1724"/>
                  </a:lnTo>
                  <a:lnTo>
                    <a:pt x="3703" y="1742"/>
                  </a:lnTo>
                  <a:lnTo>
                    <a:pt x="3711" y="1759"/>
                  </a:lnTo>
                  <a:lnTo>
                    <a:pt x="3687" y="1862"/>
                  </a:lnTo>
                  <a:lnTo>
                    <a:pt x="3758" y="1852"/>
                  </a:lnTo>
                  <a:lnTo>
                    <a:pt x="3806" y="1836"/>
                  </a:lnTo>
                  <a:lnTo>
                    <a:pt x="3844" y="1852"/>
                  </a:lnTo>
                  <a:lnTo>
                    <a:pt x="3907" y="1878"/>
                  </a:lnTo>
                  <a:lnTo>
                    <a:pt x="3907" y="1964"/>
                  </a:lnTo>
                  <a:lnTo>
                    <a:pt x="4043" y="2057"/>
                  </a:lnTo>
                  <a:lnTo>
                    <a:pt x="4034" y="2211"/>
                  </a:lnTo>
                  <a:lnTo>
                    <a:pt x="4045" y="2227"/>
                  </a:lnTo>
                  <a:lnTo>
                    <a:pt x="4055" y="2243"/>
                  </a:lnTo>
                  <a:lnTo>
                    <a:pt x="4062" y="2260"/>
                  </a:lnTo>
                  <a:lnTo>
                    <a:pt x="4068" y="2275"/>
                  </a:lnTo>
                  <a:lnTo>
                    <a:pt x="4071" y="2291"/>
                  </a:lnTo>
                  <a:lnTo>
                    <a:pt x="4072" y="2307"/>
                  </a:lnTo>
                  <a:lnTo>
                    <a:pt x="4071" y="2322"/>
                  </a:lnTo>
                  <a:lnTo>
                    <a:pt x="4066" y="2339"/>
                  </a:lnTo>
                  <a:lnTo>
                    <a:pt x="3995" y="2423"/>
                  </a:lnTo>
                  <a:lnTo>
                    <a:pt x="3979" y="2432"/>
                  </a:lnTo>
                  <a:lnTo>
                    <a:pt x="3868" y="2612"/>
                  </a:lnTo>
                  <a:lnTo>
                    <a:pt x="3868" y="2698"/>
                  </a:lnTo>
                  <a:lnTo>
                    <a:pt x="3797" y="2782"/>
                  </a:lnTo>
                  <a:lnTo>
                    <a:pt x="3782" y="2782"/>
                  </a:lnTo>
                  <a:lnTo>
                    <a:pt x="3735" y="2799"/>
                  </a:lnTo>
                  <a:lnTo>
                    <a:pt x="3671" y="2791"/>
                  </a:lnTo>
                  <a:lnTo>
                    <a:pt x="3624" y="2799"/>
                  </a:lnTo>
                  <a:lnTo>
                    <a:pt x="3521" y="2833"/>
                  </a:lnTo>
                  <a:lnTo>
                    <a:pt x="3474" y="2833"/>
                  </a:lnTo>
                  <a:lnTo>
                    <a:pt x="3363" y="2833"/>
                  </a:lnTo>
                  <a:lnTo>
                    <a:pt x="3300" y="2850"/>
                  </a:lnTo>
                  <a:lnTo>
                    <a:pt x="3277" y="2876"/>
                  </a:lnTo>
                  <a:lnTo>
                    <a:pt x="3260" y="2884"/>
                  </a:lnTo>
                  <a:lnTo>
                    <a:pt x="3213" y="2876"/>
                  </a:lnTo>
                  <a:lnTo>
                    <a:pt x="3181" y="2884"/>
                  </a:lnTo>
                  <a:lnTo>
                    <a:pt x="3117" y="2858"/>
                  </a:lnTo>
                  <a:lnTo>
                    <a:pt x="3055" y="3055"/>
                  </a:lnTo>
                  <a:lnTo>
                    <a:pt x="3040" y="3260"/>
                  </a:lnTo>
                  <a:lnTo>
                    <a:pt x="3055" y="3302"/>
                  </a:lnTo>
                  <a:lnTo>
                    <a:pt x="3038" y="3395"/>
                  </a:lnTo>
                  <a:lnTo>
                    <a:pt x="3016" y="3486"/>
                  </a:lnTo>
                  <a:lnTo>
                    <a:pt x="2993" y="3576"/>
                  </a:lnTo>
                  <a:lnTo>
                    <a:pt x="2968" y="3664"/>
                  </a:lnTo>
                  <a:lnTo>
                    <a:pt x="2946" y="3753"/>
                  </a:lnTo>
                  <a:lnTo>
                    <a:pt x="2926" y="3842"/>
                  </a:lnTo>
                  <a:lnTo>
                    <a:pt x="2912" y="3930"/>
                  </a:lnTo>
                  <a:lnTo>
                    <a:pt x="2905" y="4019"/>
                  </a:lnTo>
                  <a:lnTo>
                    <a:pt x="2905" y="4072"/>
                  </a:lnTo>
                  <a:lnTo>
                    <a:pt x="2874" y="4277"/>
                  </a:lnTo>
                  <a:lnTo>
                    <a:pt x="2874" y="4293"/>
                  </a:lnTo>
                  <a:lnTo>
                    <a:pt x="2881" y="4472"/>
                  </a:lnTo>
                  <a:lnTo>
                    <a:pt x="2898" y="4591"/>
                  </a:lnTo>
                  <a:lnTo>
                    <a:pt x="2890" y="4805"/>
                  </a:lnTo>
                  <a:lnTo>
                    <a:pt x="2890" y="4805"/>
                  </a:lnTo>
                  <a:lnTo>
                    <a:pt x="2898" y="4847"/>
                  </a:lnTo>
                  <a:lnTo>
                    <a:pt x="2890" y="5087"/>
                  </a:lnTo>
                  <a:lnTo>
                    <a:pt x="2890" y="5215"/>
                  </a:lnTo>
                  <a:lnTo>
                    <a:pt x="2881" y="5292"/>
                  </a:lnTo>
                  <a:lnTo>
                    <a:pt x="2890" y="5335"/>
                  </a:lnTo>
                  <a:lnTo>
                    <a:pt x="2905" y="5377"/>
                  </a:lnTo>
                  <a:lnTo>
                    <a:pt x="2890" y="5403"/>
                  </a:lnTo>
                  <a:lnTo>
                    <a:pt x="2898" y="5471"/>
                  </a:lnTo>
                  <a:lnTo>
                    <a:pt x="2890" y="5873"/>
                  </a:lnTo>
                  <a:lnTo>
                    <a:pt x="2890" y="5984"/>
                  </a:lnTo>
                  <a:lnTo>
                    <a:pt x="2898" y="6129"/>
                  </a:lnTo>
                  <a:lnTo>
                    <a:pt x="2794" y="6685"/>
                  </a:lnTo>
                  <a:lnTo>
                    <a:pt x="2779" y="6829"/>
                  </a:lnTo>
                  <a:lnTo>
                    <a:pt x="2762" y="6829"/>
                  </a:lnTo>
                  <a:lnTo>
                    <a:pt x="2739" y="7111"/>
                  </a:lnTo>
                  <a:lnTo>
                    <a:pt x="2691" y="7085"/>
                  </a:lnTo>
                  <a:lnTo>
                    <a:pt x="2697" y="6861"/>
                  </a:lnTo>
                  <a:lnTo>
                    <a:pt x="2714" y="6638"/>
                  </a:lnTo>
                  <a:lnTo>
                    <a:pt x="2737" y="6416"/>
                  </a:lnTo>
                  <a:lnTo>
                    <a:pt x="2762" y="6194"/>
                  </a:lnTo>
                  <a:lnTo>
                    <a:pt x="2786" y="5972"/>
                  </a:lnTo>
                  <a:lnTo>
                    <a:pt x="2805" y="5751"/>
                  </a:lnTo>
                  <a:lnTo>
                    <a:pt x="2814" y="5531"/>
                  </a:lnTo>
                  <a:lnTo>
                    <a:pt x="2810" y="5310"/>
                  </a:lnTo>
                  <a:lnTo>
                    <a:pt x="2810" y="5113"/>
                  </a:lnTo>
                  <a:lnTo>
                    <a:pt x="2803" y="5020"/>
                  </a:lnTo>
                  <a:lnTo>
                    <a:pt x="2796" y="4927"/>
                  </a:lnTo>
                  <a:lnTo>
                    <a:pt x="2790" y="4834"/>
                  </a:lnTo>
                  <a:lnTo>
                    <a:pt x="2784" y="4741"/>
                  </a:lnTo>
                  <a:lnTo>
                    <a:pt x="2778" y="4649"/>
                  </a:lnTo>
                  <a:lnTo>
                    <a:pt x="2771" y="4556"/>
                  </a:lnTo>
                  <a:lnTo>
                    <a:pt x="2763" y="4463"/>
                  </a:lnTo>
                  <a:lnTo>
                    <a:pt x="2753" y="4370"/>
                  </a:lnTo>
                  <a:lnTo>
                    <a:pt x="2742" y="4277"/>
                  </a:lnTo>
                  <a:lnTo>
                    <a:pt x="2729" y="4185"/>
                  </a:lnTo>
                  <a:lnTo>
                    <a:pt x="2713" y="4092"/>
                  </a:lnTo>
                  <a:lnTo>
                    <a:pt x="2695" y="3999"/>
                  </a:lnTo>
                  <a:lnTo>
                    <a:pt x="2674" y="3906"/>
                  </a:lnTo>
                  <a:lnTo>
                    <a:pt x="2650" y="3813"/>
                  </a:lnTo>
                  <a:lnTo>
                    <a:pt x="2622" y="3721"/>
                  </a:lnTo>
                  <a:lnTo>
                    <a:pt x="2590" y="3628"/>
                  </a:lnTo>
                  <a:lnTo>
                    <a:pt x="2573" y="3568"/>
                  </a:lnTo>
                  <a:lnTo>
                    <a:pt x="2289" y="2850"/>
                  </a:lnTo>
                  <a:lnTo>
                    <a:pt x="2274" y="2807"/>
                  </a:lnTo>
                  <a:lnTo>
                    <a:pt x="2257" y="2765"/>
                  </a:lnTo>
                  <a:lnTo>
                    <a:pt x="2242" y="2722"/>
                  </a:lnTo>
                  <a:lnTo>
                    <a:pt x="2226" y="2686"/>
                  </a:lnTo>
                  <a:lnTo>
                    <a:pt x="2209" y="2648"/>
                  </a:lnTo>
                  <a:lnTo>
                    <a:pt x="2191" y="2609"/>
                  </a:lnTo>
                  <a:lnTo>
                    <a:pt x="2171" y="2570"/>
                  </a:lnTo>
                  <a:lnTo>
                    <a:pt x="2150" y="2532"/>
                  </a:lnTo>
                  <a:lnTo>
                    <a:pt x="2127" y="2493"/>
                  </a:lnTo>
                  <a:lnTo>
                    <a:pt x="2103" y="2454"/>
                  </a:lnTo>
                  <a:lnTo>
                    <a:pt x="2077" y="2415"/>
                  </a:lnTo>
                  <a:lnTo>
                    <a:pt x="2050" y="2377"/>
                  </a:lnTo>
                  <a:lnTo>
                    <a:pt x="2021" y="2340"/>
                  </a:lnTo>
                  <a:lnTo>
                    <a:pt x="1992" y="2303"/>
                  </a:lnTo>
                  <a:lnTo>
                    <a:pt x="1961" y="2267"/>
                  </a:lnTo>
                  <a:lnTo>
                    <a:pt x="1928" y="2231"/>
                  </a:lnTo>
                  <a:lnTo>
                    <a:pt x="1895" y="2198"/>
                  </a:lnTo>
                  <a:lnTo>
                    <a:pt x="1860" y="2165"/>
                  </a:lnTo>
                  <a:lnTo>
                    <a:pt x="1824" y="2134"/>
                  </a:lnTo>
                  <a:lnTo>
                    <a:pt x="1863" y="2211"/>
                  </a:lnTo>
                  <a:lnTo>
                    <a:pt x="1996" y="2423"/>
                  </a:lnTo>
                  <a:lnTo>
                    <a:pt x="2028" y="2467"/>
                  </a:lnTo>
                  <a:lnTo>
                    <a:pt x="2274" y="2919"/>
                  </a:lnTo>
                  <a:lnTo>
                    <a:pt x="2281" y="2935"/>
                  </a:lnTo>
                  <a:lnTo>
                    <a:pt x="2274" y="2996"/>
                  </a:lnTo>
                  <a:lnTo>
                    <a:pt x="2345" y="3073"/>
                  </a:lnTo>
                  <a:lnTo>
                    <a:pt x="2328" y="3124"/>
                  </a:lnTo>
                  <a:lnTo>
                    <a:pt x="2368" y="3244"/>
                  </a:lnTo>
                  <a:lnTo>
                    <a:pt x="2392" y="3295"/>
                  </a:lnTo>
                  <a:lnTo>
                    <a:pt x="2407" y="3321"/>
                  </a:lnTo>
                  <a:lnTo>
                    <a:pt x="2503" y="3619"/>
                  </a:lnTo>
                  <a:lnTo>
                    <a:pt x="2529" y="3710"/>
                  </a:lnTo>
                  <a:lnTo>
                    <a:pt x="2548" y="3800"/>
                  </a:lnTo>
                  <a:lnTo>
                    <a:pt x="2563" y="3889"/>
                  </a:lnTo>
                  <a:lnTo>
                    <a:pt x="2575" y="3977"/>
                  </a:lnTo>
                  <a:lnTo>
                    <a:pt x="2585" y="4063"/>
                  </a:lnTo>
                  <a:lnTo>
                    <a:pt x="2597" y="4151"/>
                  </a:lnTo>
                  <a:lnTo>
                    <a:pt x="2611" y="4239"/>
                  </a:lnTo>
                  <a:lnTo>
                    <a:pt x="2629" y="4328"/>
                  </a:lnTo>
                  <a:lnTo>
                    <a:pt x="2644" y="4412"/>
                  </a:lnTo>
                  <a:lnTo>
                    <a:pt x="2668" y="4575"/>
                  </a:lnTo>
                  <a:lnTo>
                    <a:pt x="2732" y="5181"/>
                  </a:lnTo>
                  <a:lnTo>
                    <a:pt x="2708" y="5361"/>
                  </a:lnTo>
                  <a:lnTo>
                    <a:pt x="2668" y="5624"/>
                  </a:lnTo>
                  <a:lnTo>
                    <a:pt x="2661" y="5719"/>
                  </a:lnTo>
                  <a:lnTo>
                    <a:pt x="2661" y="5787"/>
                  </a:lnTo>
                  <a:lnTo>
                    <a:pt x="2676" y="5847"/>
                  </a:lnTo>
                  <a:lnTo>
                    <a:pt x="2668" y="5958"/>
                  </a:lnTo>
                  <a:lnTo>
                    <a:pt x="2664" y="6070"/>
                  </a:lnTo>
                  <a:lnTo>
                    <a:pt x="2658" y="6182"/>
                  </a:lnTo>
                  <a:lnTo>
                    <a:pt x="2648" y="6293"/>
                  </a:lnTo>
                  <a:lnTo>
                    <a:pt x="2634" y="6405"/>
                  </a:lnTo>
                  <a:lnTo>
                    <a:pt x="2614" y="6516"/>
                  </a:lnTo>
                  <a:lnTo>
                    <a:pt x="2588" y="6626"/>
                  </a:lnTo>
                  <a:lnTo>
                    <a:pt x="2554" y="6736"/>
                  </a:lnTo>
                  <a:lnTo>
                    <a:pt x="2511" y="6845"/>
                  </a:lnTo>
                  <a:lnTo>
                    <a:pt x="2494" y="6896"/>
                  </a:lnTo>
                  <a:lnTo>
                    <a:pt x="2464" y="6896"/>
                  </a:lnTo>
                  <a:lnTo>
                    <a:pt x="2432" y="6999"/>
                  </a:lnTo>
                  <a:lnTo>
                    <a:pt x="2383" y="7008"/>
                  </a:lnTo>
                  <a:lnTo>
                    <a:pt x="2427" y="6752"/>
                  </a:lnTo>
                  <a:lnTo>
                    <a:pt x="2461" y="6497"/>
                  </a:lnTo>
                  <a:lnTo>
                    <a:pt x="2488" y="6242"/>
                  </a:lnTo>
                  <a:lnTo>
                    <a:pt x="2508" y="5989"/>
                  </a:lnTo>
                  <a:lnTo>
                    <a:pt x="2522" y="5736"/>
                  </a:lnTo>
                  <a:lnTo>
                    <a:pt x="2532" y="5485"/>
                  </a:lnTo>
                  <a:lnTo>
                    <a:pt x="2539" y="5234"/>
                  </a:lnTo>
                  <a:lnTo>
                    <a:pt x="2543" y="4984"/>
                  </a:lnTo>
                  <a:lnTo>
                    <a:pt x="2233" y="4668"/>
                  </a:lnTo>
                  <a:lnTo>
                    <a:pt x="2215" y="4649"/>
                  </a:lnTo>
                  <a:lnTo>
                    <a:pt x="2195" y="4629"/>
                  </a:lnTo>
                  <a:lnTo>
                    <a:pt x="2173" y="4610"/>
                  </a:lnTo>
                  <a:lnTo>
                    <a:pt x="2151" y="4590"/>
                  </a:lnTo>
                  <a:lnTo>
                    <a:pt x="2127" y="4572"/>
                  </a:lnTo>
                  <a:lnTo>
                    <a:pt x="2102" y="4553"/>
                  </a:lnTo>
                  <a:lnTo>
                    <a:pt x="2077" y="4536"/>
                  </a:lnTo>
                  <a:lnTo>
                    <a:pt x="2051" y="4520"/>
                  </a:lnTo>
                  <a:lnTo>
                    <a:pt x="2023" y="4506"/>
                  </a:lnTo>
                  <a:lnTo>
                    <a:pt x="1995" y="4492"/>
                  </a:lnTo>
                  <a:lnTo>
                    <a:pt x="1968" y="4481"/>
                  </a:lnTo>
                  <a:lnTo>
                    <a:pt x="1940" y="4471"/>
                  </a:lnTo>
                  <a:lnTo>
                    <a:pt x="1913" y="4463"/>
                  </a:lnTo>
                  <a:lnTo>
                    <a:pt x="1885" y="4458"/>
                  </a:lnTo>
                  <a:lnTo>
                    <a:pt x="1858" y="4456"/>
                  </a:lnTo>
                  <a:lnTo>
                    <a:pt x="1831" y="4456"/>
                  </a:lnTo>
                  <a:lnTo>
                    <a:pt x="1807" y="4463"/>
                  </a:lnTo>
                  <a:lnTo>
                    <a:pt x="1824" y="4498"/>
                  </a:lnTo>
                  <a:lnTo>
                    <a:pt x="1807" y="4584"/>
                  </a:lnTo>
                  <a:lnTo>
                    <a:pt x="1831" y="4626"/>
                  </a:lnTo>
                  <a:lnTo>
                    <a:pt x="1848" y="4686"/>
                  </a:lnTo>
                  <a:lnTo>
                    <a:pt x="1863" y="4745"/>
                  </a:lnTo>
                  <a:lnTo>
                    <a:pt x="1871" y="4763"/>
                  </a:lnTo>
                  <a:lnTo>
                    <a:pt x="1784" y="4917"/>
                  </a:lnTo>
                  <a:lnTo>
                    <a:pt x="1745" y="4951"/>
                  </a:lnTo>
                  <a:lnTo>
                    <a:pt x="1721" y="4959"/>
                  </a:lnTo>
                  <a:lnTo>
                    <a:pt x="1666" y="4977"/>
                  </a:lnTo>
                  <a:lnTo>
                    <a:pt x="1602" y="5079"/>
                  </a:lnTo>
                  <a:lnTo>
                    <a:pt x="1515" y="5113"/>
                  </a:lnTo>
                  <a:lnTo>
                    <a:pt x="1437" y="5172"/>
                  </a:lnTo>
                  <a:lnTo>
                    <a:pt x="1420" y="5189"/>
                  </a:lnTo>
                  <a:lnTo>
                    <a:pt x="1279" y="5181"/>
                  </a:lnTo>
                  <a:lnTo>
                    <a:pt x="1207" y="5207"/>
                  </a:lnTo>
                  <a:lnTo>
                    <a:pt x="1074" y="5207"/>
                  </a:lnTo>
                  <a:lnTo>
                    <a:pt x="1042" y="5249"/>
                  </a:lnTo>
                  <a:lnTo>
                    <a:pt x="1029" y="5254"/>
                  </a:lnTo>
                  <a:lnTo>
                    <a:pt x="1016" y="5257"/>
                  </a:lnTo>
                  <a:lnTo>
                    <a:pt x="1003" y="5259"/>
                  </a:lnTo>
                  <a:lnTo>
                    <a:pt x="990" y="5261"/>
                  </a:lnTo>
                  <a:lnTo>
                    <a:pt x="978" y="5261"/>
                  </a:lnTo>
                  <a:lnTo>
                    <a:pt x="965" y="5261"/>
                  </a:lnTo>
                  <a:lnTo>
                    <a:pt x="953" y="5260"/>
                  </a:lnTo>
                  <a:lnTo>
                    <a:pt x="940" y="5258"/>
                  </a:lnTo>
                  <a:lnTo>
                    <a:pt x="928" y="5255"/>
                  </a:lnTo>
                  <a:lnTo>
                    <a:pt x="916" y="5252"/>
                  </a:lnTo>
                  <a:lnTo>
                    <a:pt x="904" y="5247"/>
                  </a:lnTo>
                  <a:lnTo>
                    <a:pt x="891" y="5242"/>
                  </a:lnTo>
                  <a:lnTo>
                    <a:pt x="879" y="5236"/>
                  </a:lnTo>
                  <a:lnTo>
                    <a:pt x="867" y="5230"/>
                  </a:lnTo>
                  <a:lnTo>
                    <a:pt x="855" y="5222"/>
                  </a:lnTo>
                  <a:lnTo>
                    <a:pt x="843" y="5215"/>
                  </a:lnTo>
                  <a:lnTo>
                    <a:pt x="804" y="5207"/>
                  </a:lnTo>
                  <a:lnTo>
                    <a:pt x="663" y="5095"/>
                  </a:lnTo>
                  <a:lnTo>
                    <a:pt x="607" y="4977"/>
                  </a:lnTo>
                  <a:lnTo>
                    <a:pt x="592" y="4933"/>
                  </a:lnTo>
                  <a:lnTo>
                    <a:pt x="560" y="4840"/>
                  </a:lnTo>
                  <a:lnTo>
                    <a:pt x="536" y="4796"/>
                  </a:lnTo>
                  <a:lnTo>
                    <a:pt x="529" y="4763"/>
                  </a:lnTo>
                  <a:lnTo>
                    <a:pt x="560" y="4437"/>
                  </a:lnTo>
                  <a:lnTo>
                    <a:pt x="686" y="4242"/>
                  </a:lnTo>
                  <a:lnTo>
                    <a:pt x="773" y="4226"/>
                  </a:lnTo>
                  <a:lnTo>
                    <a:pt x="891" y="4105"/>
                  </a:lnTo>
                  <a:lnTo>
                    <a:pt x="908" y="4097"/>
                  </a:lnTo>
                  <a:lnTo>
                    <a:pt x="971" y="4123"/>
                  </a:lnTo>
                  <a:lnTo>
                    <a:pt x="1003" y="4105"/>
                  </a:lnTo>
                  <a:lnTo>
                    <a:pt x="1042" y="4088"/>
                  </a:lnTo>
                  <a:lnTo>
                    <a:pt x="1112" y="4088"/>
                  </a:lnTo>
                  <a:lnTo>
                    <a:pt x="1153" y="4080"/>
                  </a:lnTo>
                  <a:lnTo>
                    <a:pt x="1287" y="4029"/>
                  </a:lnTo>
                  <a:lnTo>
                    <a:pt x="1381" y="3986"/>
                  </a:lnTo>
                  <a:lnTo>
                    <a:pt x="1523" y="3994"/>
                  </a:lnTo>
                  <a:lnTo>
                    <a:pt x="1531" y="4019"/>
                  </a:lnTo>
                  <a:lnTo>
                    <a:pt x="1523" y="4072"/>
                  </a:lnTo>
                  <a:lnTo>
                    <a:pt x="1570" y="4080"/>
                  </a:lnTo>
                  <a:lnTo>
                    <a:pt x="1609" y="4097"/>
                  </a:lnTo>
                  <a:lnTo>
                    <a:pt x="1602" y="4174"/>
                  </a:lnTo>
                  <a:lnTo>
                    <a:pt x="1626" y="4182"/>
                  </a:lnTo>
                  <a:lnTo>
                    <a:pt x="1641" y="4174"/>
                  </a:lnTo>
                  <a:lnTo>
                    <a:pt x="1698" y="4216"/>
                  </a:lnTo>
                  <a:lnTo>
                    <a:pt x="1807" y="4191"/>
                  </a:lnTo>
                  <a:lnTo>
                    <a:pt x="2179" y="4200"/>
                  </a:lnTo>
                  <a:lnTo>
                    <a:pt x="2479" y="4395"/>
                  </a:lnTo>
                  <a:lnTo>
                    <a:pt x="2468" y="4321"/>
                  </a:lnTo>
                  <a:lnTo>
                    <a:pt x="2458" y="4248"/>
                  </a:lnTo>
                  <a:lnTo>
                    <a:pt x="2446" y="4174"/>
                  </a:lnTo>
                  <a:lnTo>
                    <a:pt x="2435" y="4099"/>
                  </a:lnTo>
                  <a:lnTo>
                    <a:pt x="2422" y="4025"/>
                  </a:lnTo>
                  <a:lnTo>
                    <a:pt x="2409" y="3951"/>
                  </a:lnTo>
                  <a:lnTo>
                    <a:pt x="2395" y="3877"/>
                  </a:lnTo>
                  <a:lnTo>
                    <a:pt x="2380" y="3802"/>
                  </a:lnTo>
                  <a:lnTo>
                    <a:pt x="2365" y="3727"/>
                  </a:lnTo>
                  <a:lnTo>
                    <a:pt x="2348" y="3654"/>
                  </a:lnTo>
                  <a:lnTo>
                    <a:pt x="2330" y="3579"/>
                  </a:lnTo>
                  <a:lnTo>
                    <a:pt x="2311" y="3505"/>
                  </a:lnTo>
                  <a:lnTo>
                    <a:pt x="2290" y="3430"/>
                  </a:lnTo>
                  <a:lnTo>
                    <a:pt x="2268" y="3357"/>
                  </a:lnTo>
                  <a:lnTo>
                    <a:pt x="2244" y="3283"/>
                  </a:lnTo>
                  <a:lnTo>
                    <a:pt x="2218" y="3209"/>
                  </a:lnTo>
                  <a:lnTo>
                    <a:pt x="2179" y="3124"/>
                  </a:lnTo>
                  <a:lnTo>
                    <a:pt x="2100" y="3038"/>
                  </a:lnTo>
                  <a:lnTo>
                    <a:pt x="2073" y="3021"/>
                  </a:lnTo>
                  <a:lnTo>
                    <a:pt x="2047" y="3002"/>
                  </a:lnTo>
                  <a:lnTo>
                    <a:pt x="2019" y="2984"/>
                  </a:lnTo>
                  <a:lnTo>
                    <a:pt x="1992" y="2965"/>
                  </a:lnTo>
                  <a:lnTo>
                    <a:pt x="1966" y="2946"/>
                  </a:lnTo>
                  <a:lnTo>
                    <a:pt x="1939" y="2927"/>
                  </a:lnTo>
                  <a:lnTo>
                    <a:pt x="1912" y="2908"/>
                  </a:lnTo>
                  <a:lnTo>
                    <a:pt x="1885" y="2888"/>
                  </a:lnTo>
                  <a:lnTo>
                    <a:pt x="1858" y="2869"/>
                  </a:lnTo>
                  <a:lnTo>
                    <a:pt x="1831" y="2850"/>
                  </a:lnTo>
                  <a:lnTo>
                    <a:pt x="1804" y="2831"/>
                  </a:lnTo>
                  <a:lnTo>
                    <a:pt x="1777" y="2811"/>
                  </a:lnTo>
                  <a:lnTo>
                    <a:pt x="1750" y="2793"/>
                  </a:lnTo>
                  <a:lnTo>
                    <a:pt x="1723" y="2773"/>
                  </a:lnTo>
                  <a:lnTo>
                    <a:pt x="1696" y="2755"/>
                  </a:lnTo>
                  <a:lnTo>
                    <a:pt x="1669" y="2738"/>
                  </a:lnTo>
                  <a:lnTo>
                    <a:pt x="1641" y="2719"/>
                  </a:lnTo>
                  <a:lnTo>
                    <a:pt x="1613" y="2702"/>
                  </a:lnTo>
                  <a:lnTo>
                    <a:pt x="1586" y="2684"/>
                  </a:lnTo>
                  <a:lnTo>
                    <a:pt x="1559" y="2668"/>
                  </a:lnTo>
                  <a:lnTo>
                    <a:pt x="1532" y="2652"/>
                  </a:lnTo>
                  <a:lnTo>
                    <a:pt x="1504" y="2637"/>
                  </a:lnTo>
                  <a:lnTo>
                    <a:pt x="1477" y="2623"/>
                  </a:lnTo>
                  <a:lnTo>
                    <a:pt x="1450" y="2609"/>
                  </a:lnTo>
                  <a:lnTo>
                    <a:pt x="1423" y="2595"/>
                  </a:lnTo>
                  <a:lnTo>
                    <a:pt x="1395" y="2583"/>
                  </a:lnTo>
                  <a:lnTo>
                    <a:pt x="1368" y="2571"/>
                  </a:lnTo>
                  <a:lnTo>
                    <a:pt x="1340" y="2560"/>
                  </a:lnTo>
                  <a:lnTo>
                    <a:pt x="1313" y="2549"/>
                  </a:lnTo>
                  <a:lnTo>
                    <a:pt x="1286" y="2540"/>
                  </a:lnTo>
                  <a:lnTo>
                    <a:pt x="1257" y="2532"/>
                  </a:lnTo>
                  <a:lnTo>
                    <a:pt x="1230" y="2525"/>
                  </a:lnTo>
                  <a:lnTo>
                    <a:pt x="1129" y="2525"/>
                  </a:lnTo>
                  <a:lnTo>
                    <a:pt x="1026" y="2782"/>
                  </a:lnTo>
                  <a:lnTo>
                    <a:pt x="1035" y="2799"/>
                  </a:lnTo>
                  <a:lnTo>
                    <a:pt x="1035" y="2825"/>
                  </a:lnTo>
                  <a:lnTo>
                    <a:pt x="964" y="2919"/>
                  </a:lnTo>
                  <a:lnTo>
                    <a:pt x="867" y="3004"/>
                  </a:lnTo>
                  <a:lnTo>
                    <a:pt x="836" y="3012"/>
                  </a:lnTo>
                  <a:lnTo>
                    <a:pt x="813" y="3021"/>
                  </a:lnTo>
                  <a:lnTo>
                    <a:pt x="789" y="3029"/>
                  </a:lnTo>
                  <a:lnTo>
                    <a:pt x="767" y="3037"/>
                  </a:lnTo>
                  <a:lnTo>
                    <a:pt x="744" y="3043"/>
                  </a:lnTo>
                  <a:lnTo>
                    <a:pt x="722" y="3049"/>
                  </a:lnTo>
                  <a:lnTo>
                    <a:pt x="699" y="3053"/>
                  </a:lnTo>
                  <a:lnTo>
                    <a:pt x="677" y="3057"/>
                  </a:lnTo>
                  <a:lnTo>
                    <a:pt x="655" y="3062"/>
                  </a:lnTo>
                  <a:lnTo>
                    <a:pt x="633" y="3064"/>
                  </a:lnTo>
                  <a:lnTo>
                    <a:pt x="611" y="3067"/>
                  </a:lnTo>
                  <a:lnTo>
                    <a:pt x="588" y="3068"/>
                  </a:lnTo>
                  <a:lnTo>
                    <a:pt x="566" y="3070"/>
                  </a:lnTo>
                  <a:lnTo>
                    <a:pt x="543" y="3072"/>
                  </a:lnTo>
                  <a:lnTo>
                    <a:pt x="521" y="3073"/>
                  </a:lnTo>
                  <a:lnTo>
                    <a:pt x="496" y="3073"/>
                  </a:lnTo>
                  <a:lnTo>
                    <a:pt x="473" y="3073"/>
                  </a:lnTo>
                  <a:lnTo>
                    <a:pt x="449" y="3081"/>
                  </a:lnTo>
                  <a:lnTo>
                    <a:pt x="347" y="3055"/>
                  </a:lnTo>
                  <a:lnTo>
                    <a:pt x="276" y="3055"/>
                  </a:lnTo>
                  <a:lnTo>
                    <a:pt x="181" y="2978"/>
                  </a:lnTo>
                  <a:lnTo>
                    <a:pt x="149" y="2945"/>
                  </a:lnTo>
                  <a:lnTo>
                    <a:pt x="109" y="2902"/>
                  </a:lnTo>
                  <a:lnTo>
                    <a:pt x="86" y="2833"/>
                  </a:lnTo>
                  <a:lnTo>
                    <a:pt x="77" y="2774"/>
                  </a:lnTo>
                  <a:lnTo>
                    <a:pt x="39" y="2722"/>
                  </a:lnTo>
                  <a:lnTo>
                    <a:pt x="39" y="2698"/>
                  </a:lnTo>
                  <a:lnTo>
                    <a:pt x="15" y="2560"/>
                  </a:lnTo>
                  <a:lnTo>
                    <a:pt x="0" y="2458"/>
                  </a:lnTo>
                  <a:lnTo>
                    <a:pt x="7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16040" y="3345120"/>
              <a:ext cx="295560" cy="287280"/>
            </a:xfrm>
            <a:custGeom>
              <a:avLst/>
              <a:gdLst/>
              <a:ahLst/>
              <a:rect l="l" t="t" r="r" b="b"/>
              <a:pathLst>
                <a:path w="932" h="904">
                  <a:moveTo>
                    <a:pt x="0" y="426"/>
                  </a:moveTo>
                  <a:lnTo>
                    <a:pt x="72" y="255"/>
                  </a:lnTo>
                  <a:lnTo>
                    <a:pt x="72" y="213"/>
                  </a:lnTo>
                  <a:lnTo>
                    <a:pt x="127" y="153"/>
                  </a:lnTo>
                  <a:lnTo>
                    <a:pt x="340" y="8"/>
                  </a:lnTo>
                  <a:lnTo>
                    <a:pt x="387" y="16"/>
                  </a:lnTo>
                  <a:lnTo>
                    <a:pt x="467" y="8"/>
                  </a:lnTo>
                  <a:lnTo>
                    <a:pt x="491" y="0"/>
                  </a:lnTo>
                  <a:lnTo>
                    <a:pt x="545" y="42"/>
                  </a:lnTo>
                  <a:lnTo>
                    <a:pt x="562" y="42"/>
                  </a:lnTo>
                  <a:lnTo>
                    <a:pt x="663" y="119"/>
                  </a:lnTo>
                  <a:lnTo>
                    <a:pt x="663" y="136"/>
                  </a:lnTo>
                  <a:lnTo>
                    <a:pt x="718" y="204"/>
                  </a:lnTo>
                  <a:lnTo>
                    <a:pt x="798" y="247"/>
                  </a:lnTo>
                  <a:lnTo>
                    <a:pt x="822" y="289"/>
                  </a:lnTo>
                  <a:lnTo>
                    <a:pt x="917" y="350"/>
                  </a:lnTo>
                  <a:lnTo>
                    <a:pt x="932" y="375"/>
                  </a:lnTo>
                  <a:lnTo>
                    <a:pt x="742" y="715"/>
                  </a:lnTo>
                  <a:lnTo>
                    <a:pt x="734" y="784"/>
                  </a:lnTo>
                  <a:lnTo>
                    <a:pt x="656" y="843"/>
                  </a:lnTo>
                  <a:lnTo>
                    <a:pt x="577" y="861"/>
                  </a:lnTo>
                  <a:lnTo>
                    <a:pt x="530" y="886"/>
                  </a:lnTo>
                  <a:lnTo>
                    <a:pt x="514" y="894"/>
                  </a:lnTo>
                  <a:lnTo>
                    <a:pt x="450" y="886"/>
                  </a:lnTo>
                  <a:lnTo>
                    <a:pt x="363" y="904"/>
                  </a:lnTo>
                  <a:lnTo>
                    <a:pt x="292" y="886"/>
                  </a:lnTo>
                  <a:lnTo>
                    <a:pt x="190" y="878"/>
                  </a:lnTo>
                  <a:lnTo>
                    <a:pt x="183" y="843"/>
                  </a:lnTo>
                  <a:lnTo>
                    <a:pt x="95" y="784"/>
                  </a:lnTo>
                  <a:lnTo>
                    <a:pt x="88" y="664"/>
                  </a:lnTo>
                  <a:lnTo>
                    <a:pt x="8" y="622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81200" y="2724120"/>
              <a:ext cx="266760" cy="255600"/>
            </a:xfrm>
            <a:custGeom>
              <a:avLst/>
              <a:gdLst/>
              <a:ahLst/>
              <a:rect l="l" t="t" r="r" b="b"/>
              <a:pathLst>
                <a:path w="837" h="803">
                  <a:moveTo>
                    <a:pt x="7" y="546"/>
                  </a:moveTo>
                  <a:lnTo>
                    <a:pt x="71" y="238"/>
                  </a:lnTo>
                  <a:lnTo>
                    <a:pt x="102" y="186"/>
                  </a:lnTo>
                  <a:lnTo>
                    <a:pt x="134" y="135"/>
                  </a:lnTo>
                  <a:lnTo>
                    <a:pt x="181" y="103"/>
                  </a:lnTo>
                  <a:lnTo>
                    <a:pt x="205" y="68"/>
                  </a:lnTo>
                  <a:lnTo>
                    <a:pt x="244" y="26"/>
                  </a:lnTo>
                  <a:lnTo>
                    <a:pt x="285" y="8"/>
                  </a:lnTo>
                  <a:lnTo>
                    <a:pt x="371" y="0"/>
                  </a:lnTo>
                  <a:lnTo>
                    <a:pt x="433" y="0"/>
                  </a:lnTo>
                  <a:lnTo>
                    <a:pt x="450" y="34"/>
                  </a:lnTo>
                  <a:lnTo>
                    <a:pt x="489" y="42"/>
                  </a:lnTo>
                  <a:lnTo>
                    <a:pt x="568" y="26"/>
                  </a:lnTo>
                  <a:lnTo>
                    <a:pt x="632" y="8"/>
                  </a:lnTo>
                  <a:lnTo>
                    <a:pt x="655" y="34"/>
                  </a:lnTo>
                  <a:lnTo>
                    <a:pt x="695" y="68"/>
                  </a:lnTo>
                  <a:lnTo>
                    <a:pt x="773" y="103"/>
                  </a:lnTo>
                  <a:lnTo>
                    <a:pt x="773" y="135"/>
                  </a:lnTo>
                  <a:lnTo>
                    <a:pt x="805" y="196"/>
                  </a:lnTo>
                  <a:lnTo>
                    <a:pt x="837" y="221"/>
                  </a:lnTo>
                  <a:lnTo>
                    <a:pt x="820" y="366"/>
                  </a:lnTo>
                  <a:lnTo>
                    <a:pt x="805" y="478"/>
                  </a:lnTo>
                  <a:lnTo>
                    <a:pt x="672" y="631"/>
                  </a:lnTo>
                  <a:lnTo>
                    <a:pt x="568" y="657"/>
                  </a:lnTo>
                  <a:lnTo>
                    <a:pt x="497" y="708"/>
                  </a:lnTo>
                  <a:lnTo>
                    <a:pt x="371" y="743"/>
                  </a:lnTo>
                  <a:lnTo>
                    <a:pt x="332" y="777"/>
                  </a:lnTo>
                  <a:lnTo>
                    <a:pt x="181" y="803"/>
                  </a:lnTo>
                  <a:lnTo>
                    <a:pt x="166" y="759"/>
                  </a:lnTo>
                  <a:lnTo>
                    <a:pt x="31" y="726"/>
                  </a:lnTo>
                  <a:lnTo>
                    <a:pt x="31" y="649"/>
                  </a:lnTo>
                  <a:lnTo>
                    <a:pt x="0" y="606"/>
                  </a:lnTo>
                  <a:lnTo>
                    <a:pt x="7" y="546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97040" y="3106800"/>
              <a:ext cx="403200" cy="182520"/>
            </a:xfrm>
            <a:custGeom>
              <a:avLst/>
              <a:gdLst/>
              <a:ahLst/>
              <a:rect l="l" t="t" r="r" b="b"/>
              <a:pathLst>
                <a:path w="1269" h="573">
                  <a:moveTo>
                    <a:pt x="7" y="9"/>
                  </a:moveTo>
                  <a:lnTo>
                    <a:pt x="15" y="0"/>
                  </a:lnTo>
                  <a:lnTo>
                    <a:pt x="252" y="26"/>
                  </a:lnTo>
                  <a:lnTo>
                    <a:pt x="394" y="26"/>
                  </a:lnTo>
                  <a:lnTo>
                    <a:pt x="568" y="61"/>
                  </a:lnTo>
                  <a:lnTo>
                    <a:pt x="590" y="63"/>
                  </a:lnTo>
                  <a:lnTo>
                    <a:pt x="612" y="65"/>
                  </a:lnTo>
                  <a:lnTo>
                    <a:pt x="634" y="69"/>
                  </a:lnTo>
                  <a:lnTo>
                    <a:pt x="655" y="74"/>
                  </a:lnTo>
                  <a:lnTo>
                    <a:pt x="677" y="79"/>
                  </a:lnTo>
                  <a:lnTo>
                    <a:pt x="698" y="86"/>
                  </a:lnTo>
                  <a:lnTo>
                    <a:pt x="720" y="95"/>
                  </a:lnTo>
                  <a:lnTo>
                    <a:pt x="741" y="103"/>
                  </a:lnTo>
                  <a:lnTo>
                    <a:pt x="762" y="114"/>
                  </a:lnTo>
                  <a:lnTo>
                    <a:pt x="784" y="126"/>
                  </a:lnTo>
                  <a:lnTo>
                    <a:pt x="805" y="140"/>
                  </a:lnTo>
                  <a:lnTo>
                    <a:pt x="827" y="154"/>
                  </a:lnTo>
                  <a:lnTo>
                    <a:pt x="848" y="172"/>
                  </a:lnTo>
                  <a:lnTo>
                    <a:pt x="870" y="189"/>
                  </a:lnTo>
                  <a:lnTo>
                    <a:pt x="892" y="208"/>
                  </a:lnTo>
                  <a:lnTo>
                    <a:pt x="914" y="230"/>
                  </a:lnTo>
                  <a:lnTo>
                    <a:pt x="1269" y="530"/>
                  </a:lnTo>
                  <a:lnTo>
                    <a:pt x="1269" y="573"/>
                  </a:lnTo>
                  <a:lnTo>
                    <a:pt x="1230" y="538"/>
                  </a:lnTo>
                  <a:lnTo>
                    <a:pt x="1191" y="504"/>
                  </a:lnTo>
                  <a:lnTo>
                    <a:pt x="1153" y="472"/>
                  </a:lnTo>
                  <a:lnTo>
                    <a:pt x="1114" y="441"/>
                  </a:lnTo>
                  <a:lnTo>
                    <a:pt x="1075" y="411"/>
                  </a:lnTo>
                  <a:lnTo>
                    <a:pt x="1037" y="383"/>
                  </a:lnTo>
                  <a:lnTo>
                    <a:pt x="999" y="355"/>
                  </a:lnTo>
                  <a:lnTo>
                    <a:pt x="960" y="329"/>
                  </a:lnTo>
                  <a:lnTo>
                    <a:pt x="921" y="304"/>
                  </a:lnTo>
                  <a:lnTo>
                    <a:pt x="883" y="280"/>
                  </a:lnTo>
                  <a:lnTo>
                    <a:pt x="845" y="257"/>
                  </a:lnTo>
                  <a:lnTo>
                    <a:pt x="807" y="237"/>
                  </a:lnTo>
                  <a:lnTo>
                    <a:pt x="769" y="216"/>
                  </a:lnTo>
                  <a:lnTo>
                    <a:pt x="731" y="198"/>
                  </a:lnTo>
                  <a:lnTo>
                    <a:pt x="693" y="180"/>
                  </a:lnTo>
                  <a:lnTo>
                    <a:pt x="656" y="165"/>
                  </a:lnTo>
                  <a:lnTo>
                    <a:pt x="618" y="150"/>
                  </a:lnTo>
                  <a:lnTo>
                    <a:pt x="580" y="137"/>
                  </a:lnTo>
                  <a:lnTo>
                    <a:pt x="541" y="125"/>
                  </a:lnTo>
                  <a:lnTo>
                    <a:pt x="503" y="114"/>
                  </a:lnTo>
                  <a:lnTo>
                    <a:pt x="466" y="105"/>
                  </a:lnTo>
                  <a:lnTo>
                    <a:pt x="428" y="98"/>
                  </a:lnTo>
                  <a:lnTo>
                    <a:pt x="390" y="91"/>
                  </a:lnTo>
                  <a:lnTo>
                    <a:pt x="352" y="87"/>
                  </a:lnTo>
                  <a:lnTo>
                    <a:pt x="314" y="84"/>
                  </a:lnTo>
                  <a:lnTo>
                    <a:pt x="276" y="82"/>
                  </a:lnTo>
                  <a:lnTo>
                    <a:pt x="238" y="82"/>
                  </a:lnTo>
                  <a:lnTo>
                    <a:pt x="200" y="83"/>
                  </a:lnTo>
                  <a:lnTo>
                    <a:pt x="161" y="85"/>
                  </a:lnTo>
                  <a:lnTo>
                    <a:pt x="123" y="89"/>
                  </a:lnTo>
                  <a:lnTo>
                    <a:pt x="85" y="95"/>
                  </a:lnTo>
                  <a:lnTo>
                    <a:pt x="47" y="102"/>
                  </a:lnTo>
                  <a:lnTo>
                    <a:pt x="0" y="120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06840" y="3986280"/>
              <a:ext cx="328320" cy="335160"/>
            </a:xfrm>
            <a:custGeom>
              <a:avLst/>
              <a:gdLst/>
              <a:ahLst/>
              <a:rect l="l" t="t" r="r" b="b"/>
              <a:pathLst>
                <a:path w="1035" h="1052">
                  <a:moveTo>
                    <a:pt x="0" y="668"/>
                  </a:moveTo>
                  <a:lnTo>
                    <a:pt x="48" y="453"/>
                  </a:lnTo>
                  <a:lnTo>
                    <a:pt x="24" y="421"/>
                  </a:lnTo>
                  <a:lnTo>
                    <a:pt x="48" y="232"/>
                  </a:lnTo>
                  <a:lnTo>
                    <a:pt x="229" y="88"/>
                  </a:lnTo>
                  <a:lnTo>
                    <a:pt x="262" y="83"/>
                  </a:lnTo>
                  <a:lnTo>
                    <a:pt x="294" y="76"/>
                  </a:lnTo>
                  <a:lnTo>
                    <a:pt x="326" y="69"/>
                  </a:lnTo>
                  <a:lnTo>
                    <a:pt x="358" y="61"/>
                  </a:lnTo>
                  <a:lnTo>
                    <a:pt x="390" y="53"/>
                  </a:lnTo>
                  <a:lnTo>
                    <a:pt x="422" y="45"/>
                  </a:lnTo>
                  <a:lnTo>
                    <a:pt x="454" y="37"/>
                  </a:lnTo>
                  <a:lnTo>
                    <a:pt x="486" y="28"/>
                  </a:lnTo>
                  <a:lnTo>
                    <a:pt x="517" y="22"/>
                  </a:lnTo>
                  <a:lnTo>
                    <a:pt x="549" y="15"/>
                  </a:lnTo>
                  <a:lnTo>
                    <a:pt x="581" y="9"/>
                  </a:lnTo>
                  <a:lnTo>
                    <a:pt x="614" y="5"/>
                  </a:lnTo>
                  <a:lnTo>
                    <a:pt x="646" y="1"/>
                  </a:lnTo>
                  <a:lnTo>
                    <a:pt x="678" y="0"/>
                  </a:lnTo>
                  <a:lnTo>
                    <a:pt x="710" y="0"/>
                  </a:lnTo>
                  <a:lnTo>
                    <a:pt x="743" y="2"/>
                  </a:lnTo>
                  <a:lnTo>
                    <a:pt x="805" y="45"/>
                  </a:lnTo>
                  <a:lnTo>
                    <a:pt x="805" y="62"/>
                  </a:lnTo>
                  <a:lnTo>
                    <a:pt x="845" y="96"/>
                  </a:lnTo>
                  <a:lnTo>
                    <a:pt x="869" y="139"/>
                  </a:lnTo>
                  <a:lnTo>
                    <a:pt x="876" y="173"/>
                  </a:lnTo>
                  <a:lnTo>
                    <a:pt x="940" y="232"/>
                  </a:lnTo>
                  <a:lnTo>
                    <a:pt x="955" y="309"/>
                  </a:lnTo>
                  <a:lnTo>
                    <a:pt x="964" y="325"/>
                  </a:lnTo>
                  <a:lnTo>
                    <a:pt x="995" y="351"/>
                  </a:lnTo>
                  <a:lnTo>
                    <a:pt x="995" y="498"/>
                  </a:lnTo>
                  <a:lnTo>
                    <a:pt x="1027" y="523"/>
                  </a:lnTo>
                  <a:lnTo>
                    <a:pt x="1033" y="551"/>
                  </a:lnTo>
                  <a:lnTo>
                    <a:pt x="1035" y="577"/>
                  </a:lnTo>
                  <a:lnTo>
                    <a:pt x="1033" y="603"/>
                  </a:lnTo>
                  <a:lnTo>
                    <a:pt x="1028" y="628"/>
                  </a:lnTo>
                  <a:lnTo>
                    <a:pt x="1020" y="653"/>
                  </a:lnTo>
                  <a:lnTo>
                    <a:pt x="1011" y="677"/>
                  </a:lnTo>
                  <a:lnTo>
                    <a:pt x="1000" y="702"/>
                  </a:lnTo>
                  <a:lnTo>
                    <a:pt x="988" y="728"/>
                  </a:lnTo>
                  <a:lnTo>
                    <a:pt x="964" y="786"/>
                  </a:lnTo>
                  <a:lnTo>
                    <a:pt x="893" y="831"/>
                  </a:lnTo>
                  <a:lnTo>
                    <a:pt x="798" y="933"/>
                  </a:lnTo>
                  <a:lnTo>
                    <a:pt x="734" y="959"/>
                  </a:lnTo>
                  <a:lnTo>
                    <a:pt x="601" y="959"/>
                  </a:lnTo>
                  <a:lnTo>
                    <a:pt x="379" y="1018"/>
                  </a:lnTo>
                  <a:lnTo>
                    <a:pt x="332" y="1044"/>
                  </a:lnTo>
                  <a:lnTo>
                    <a:pt x="269" y="1052"/>
                  </a:lnTo>
                  <a:lnTo>
                    <a:pt x="229" y="1009"/>
                  </a:lnTo>
                  <a:lnTo>
                    <a:pt x="157" y="983"/>
                  </a:lnTo>
                  <a:lnTo>
                    <a:pt x="174" y="924"/>
                  </a:lnTo>
                  <a:lnTo>
                    <a:pt x="166" y="898"/>
                  </a:lnTo>
                  <a:lnTo>
                    <a:pt x="134" y="872"/>
                  </a:lnTo>
                  <a:lnTo>
                    <a:pt x="63" y="847"/>
                  </a:lnTo>
                  <a:lnTo>
                    <a:pt x="63" y="744"/>
                  </a:lnTo>
                  <a:lnTo>
                    <a:pt x="48" y="728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54360" y="2976840"/>
              <a:ext cx="46080" cy="126720"/>
            </a:xfrm>
            <a:custGeom>
              <a:avLst/>
              <a:gdLst/>
              <a:ahLst/>
              <a:rect l="l" t="t" r="r" b="b"/>
              <a:pathLst>
                <a:path w="143" h="402">
                  <a:moveTo>
                    <a:pt x="0" y="0"/>
                  </a:moveTo>
                  <a:lnTo>
                    <a:pt x="48" y="17"/>
                  </a:lnTo>
                  <a:lnTo>
                    <a:pt x="135" y="308"/>
                  </a:lnTo>
                  <a:lnTo>
                    <a:pt x="143" y="350"/>
                  </a:lnTo>
                  <a:lnTo>
                    <a:pt x="135" y="402"/>
                  </a:lnTo>
                  <a:lnTo>
                    <a:pt x="64" y="368"/>
                  </a:lnTo>
                  <a:lnTo>
                    <a:pt x="16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9120" y="3440160"/>
              <a:ext cx="183960" cy="69840"/>
            </a:xfrm>
            <a:custGeom>
              <a:avLst/>
              <a:gdLst/>
              <a:ahLst/>
              <a:rect l="l" t="t" r="r" b="b"/>
              <a:pathLst>
                <a:path w="577" h="222">
                  <a:moveTo>
                    <a:pt x="0" y="17"/>
                  </a:moveTo>
                  <a:lnTo>
                    <a:pt x="15" y="0"/>
                  </a:lnTo>
                  <a:lnTo>
                    <a:pt x="50" y="1"/>
                  </a:lnTo>
                  <a:lnTo>
                    <a:pt x="86" y="4"/>
                  </a:lnTo>
                  <a:lnTo>
                    <a:pt x="122" y="8"/>
                  </a:lnTo>
                  <a:lnTo>
                    <a:pt x="157" y="15"/>
                  </a:lnTo>
                  <a:lnTo>
                    <a:pt x="192" y="23"/>
                  </a:lnTo>
                  <a:lnTo>
                    <a:pt x="226" y="33"/>
                  </a:lnTo>
                  <a:lnTo>
                    <a:pt x="261" y="45"/>
                  </a:lnTo>
                  <a:lnTo>
                    <a:pt x="296" y="59"/>
                  </a:lnTo>
                  <a:lnTo>
                    <a:pt x="331" y="74"/>
                  </a:lnTo>
                  <a:lnTo>
                    <a:pt x="366" y="91"/>
                  </a:lnTo>
                  <a:lnTo>
                    <a:pt x="400" y="109"/>
                  </a:lnTo>
                  <a:lnTo>
                    <a:pt x="435" y="129"/>
                  </a:lnTo>
                  <a:lnTo>
                    <a:pt x="470" y="150"/>
                  </a:lnTo>
                  <a:lnTo>
                    <a:pt x="506" y="173"/>
                  </a:lnTo>
                  <a:lnTo>
                    <a:pt x="542" y="197"/>
                  </a:lnTo>
                  <a:lnTo>
                    <a:pt x="577" y="222"/>
                  </a:lnTo>
                  <a:lnTo>
                    <a:pt x="542" y="207"/>
                  </a:lnTo>
                  <a:lnTo>
                    <a:pt x="506" y="192"/>
                  </a:lnTo>
                  <a:lnTo>
                    <a:pt x="470" y="176"/>
                  </a:lnTo>
                  <a:lnTo>
                    <a:pt x="434" y="161"/>
                  </a:lnTo>
                  <a:lnTo>
                    <a:pt x="399" y="146"/>
                  </a:lnTo>
                  <a:lnTo>
                    <a:pt x="363" y="131"/>
                  </a:lnTo>
                  <a:lnTo>
                    <a:pt x="328" y="116"/>
                  </a:lnTo>
                  <a:lnTo>
                    <a:pt x="293" y="102"/>
                  </a:lnTo>
                  <a:lnTo>
                    <a:pt x="257" y="89"/>
                  </a:lnTo>
                  <a:lnTo>
                    <a:pt x="222" y="77"/>
                  </a:lnTo>
                  <a:lnTo>
                    <a:pt x="186" y="66"/>
                  </a:lnTo>
                  <a:lnTo>
                    <a:pt x="151" y="56"/>
                  </a:lnTo>
                  <a:lnTo>
                    <a:pt x="115" y="47"/>
                  </a:lnTo>
                  <a:lnTo>
                    <a:pt x="79" y="41"/>
                  </a:lnTo>
                  <a:lnTo>
                    <a:pt x="43" y="35"/>
                  </a:lnTo>
                  <a:lnTo>
                    <a:pt x="8" y="3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43080" y="2773440"/>
              <a:ext cx="308160" cy="290520"/>
            </a:xfrm>
            <a:custGeom>
              <a:avLst/>
              <a:gdLst/>
              <a:ahLst/>
              <a:rect l="l" t="t" r="r" b="b"/>
              <a:pathLst>
                <a:path w="970" h="913">
                  <a:moveTo>
                    <a:pt x="0" y="418"/>
                  </a:moveTo>
                  <a:lnTo>
                    <a:pt x="71" y="289"/>
                  </a:lnTo>
                  <a:lnTo>
                    <a:pt x="118" y="237"/>
                  </a:lnTo>
                  <a:lnTo>
                    <a:pt x="118" y="179"/>
                  </a:lnTo>
                  <a:lnTo>
                    <a:pt x="94" y="154"/>
                  </a:lnTo>
                  <a:lnTo>
                    <a:pt x="133" y="109"/>
                  </a:lnTo>
                  <a:lnTo>
                    <a:pt x="189" y="58"/>
                  </a:lnTo>
                  <a:lnTo>
                    <a:pt x="308" y="42"/>
                  </a:lnTo>
                  <a:lnTo>
                    <a:pt x="559" y="0"/>
                  </a:lnTo>
                  <a:lnTo>
                    <a:pt x="574" y="10"/>
                  </a:lnTo>
                  <a:lnTo>
                    <a:pt x="588" y="17"/>
                  </a:lnTo>
                  <a:lnTo>
                    <a:pt x="601" y="23"/>
                  </a:lnTo>
                  <a:lnTo>
                    <a:pt x="615" y="27"/>
                  </a:lnTo>
                  <a:lnTo>
                    <a:pt x="627" y="29"/>
                  </a:lnTo>
                  <a:lnTo>
                    <a:pt x="640" y="30"/>
                  </a:lnTo>
                  <a:lnTo>
                    <a:pt x="653" y="31"/>
                  </a:lnTo>
                  <a:lnTo>
                    <a:pt x="665" y="30"/>
                  </a:lnTo>
                  <a:lnTo>
                    <a:pt x="678" y="28"/>
                  </a:lnTo>
                  <a:lnTo>
                    <a:pt x="690" y="26"/>
                  </a:lnTo>
                  <a:lnTo>
                    <a:pt x="703" y="24"/>
                  </a:lnTo>
                  <a:lnTo>
                    <a:pt x="715" y="22"/>
                  </a:lnTo>
                  <a:lnTo>
                    <a:pt x="727" y="19"/>
                  </a:lnTo>
                  <a:lnTo>
                    <a:pt x="740" y="18"/>
                  </a:lnTo>
                  <a:lnTo>
                    <a:pt x="753" y="16"/>
                  </a:lnTo>
                  <a:lnTo>
                    <a:pt x="766" y="16"/>
                  </a:lnTo>
                  <a:lnTo>
                    <a:pt x="939" y="144"/>
                  </a:lnTo>
                  <a:lnTo>
                    <a:pt x="963" y="196"/>
                  </a:lnTo>
                  <a:lnTo>
                    <a:pt x="970" y="272"/>
                  </a:lnTo>
                  <a:lnTo>
                    <a:pt x="908" y="708"/>
                  </a:lnTo>
                  <a:lnTo>
                    <a:pt x="892" y="759"/>
                  </a:lnTo>
                  <a:lnTo>
                    <a:pt x="828" y="767"/>
                  </a:lnTo>
                  <a:lnTo>
                    <a:pt x="670" y="861"/>
                  </a:lnTo>
                  <a:lnTo>
                    <a:pt x="544" y="870"/>
                  </a:lnTo>
                  <a:lnTo>
                    <a:pt x="505" y="887"/>
                  </a:lnTo>
                  <a:lnTo>
                    <a:pt x="450" y="913"/>
                  </a:lnTo>
                  <a:lnTo>
                    <a:pt x="450" y="887"/>
                  </a:lnTo>
                  <a:lnTo>
                    <a:pt x="379" y="861"/>
                  </a:lnTo>
                  <a:lnTo>
                    <a:pt x="332" y="861"/>
                  </a:lnTo>
                  <a:lnTo>
                    <a:pt x="316" y="870"/>
                  </a:lnTo>
                  <a:lnTo>
                    <a:pt x="275" y="879"/>
                  </a:lnTo>
                  <a:lnTo>
                    <a:pt x="275" y="777"/>
                  </a:lnTo>
                  <a:lnTo>
                    <a:pt x="228" y="742"/>
                  </a:lnTo>
                  <a:lnTo>
                    <a:pt x="142" y="733"/>
                  </a:lnTo>
                  <a:lnTo>
                    <a:pt x="150" y="665"/>
                  </a:lnTo>
                  <a:lnTo>
                    <a:pt x="110" y="623"/>
                  </a:lnTo>
                  <a:lnTo>
                    <a:pt x="15" y="615"/>
                  </a:lnTo>
                  <a:lnTo>
                    <a:pt x="62" y="495"/>
                  </a:lnTo>
                  <a:lnTo>
                    <a:pt x="62" y="469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8120" y="3516480"/>
              <a:ext cx="55440" cy="46080"/>
            </a:xfrm>
            <a:custGeom>
              <a:avLst/>
              <a:gdLst/>
              <a:ahLst/>
              <a:rect l="l" t="t" r="r" b="b"/>
              <a:pathLst>
                <a:path w="174" h="146">
                  <a:moveTo>
                    <a:pt x="0" y="0"/>
                  </a:moveTo>
                  <a:lnTo>
                    <a:pt x="95" y="70"/>
                  </a:lnTo>
                  <a:lnTo>
                    <a:pt x="174" y="1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48120" y="4044960"/>
              <a:ext cx="242640" cy="157320"/>
            </a:xfrm>
            <a:custGeom>
              <a:avLst/>
              <a:gdLst/>
              <a:ahLst/>
              <a:rect l="l" t="t" r="r" b="b"/>
              <a:pathLst>
                <a:path w="766" h="496">
                  <a:moveTo>
                    <a:pt x="0" y="9"/>
                  </a:moveTo>
                  <a:lnTo>
                    <a:pt x="277" y="0"/>
                  </a:lnTo>
                  <a:lnTo>
                    <a:pt x="663" y="272"/>
                  </a:lnTo>
                  <a:lnTo>
                    <a:pt x="734" y="368"/>
                  </a:lnTo>
                  <a:lnTo>
                    <a:pt x="766" y="496"/>
                  </a:lnTo>
                  <a:lnTo>
                    <a:pt x="749" y="470"/>
                  </a:lnTo>
                  <a:lnTo>
                    <a:pt x="731" y="444"/>
                  </a:lnTo>
                  <a:lnTo>
                    <a:pt x="713" y="420"/>
                  </a:lnTo>
                  <a:lnTo>
                    <a:pt x="694" y="395"/>
                  </a:lnTo>
                  <a:lnTo>
                    <a:pt x="675" y="372"/>
                  </a:lnTo>
                  <a:lnTo>
                    <a:pt x="655" y="349"/>
                  </a:lnTo>
                  <a:lnTo>
                    <a:pt x="635" y="328"/>
                  </a:lnTo>
                  <a:lnTo>
                    <a:pt x="614" y="306"/>
                  </a:lnTo>
                  <a:lnTo>
                    <a:pt x="594" y="286"/>
                  </a:lnTo>
                  <a:lnTo>
                    <a:pt x="573" y="267"/>
                  </a:lnTo>
                  <a:lnTo>
                    <a:pt x="551" y="247"/>
                  </a:lnTo>
                  <a:lnTo>
                    <a:pt x="530" y="230"/>
                  </a:lnTo>
                  <a:lnTo>
                    <a:pt x="508" y="213"/>
                  </a:lnTo>
                  <a:lnTo>
                    <a:pt x="486" y="196"/>
                  </a:lnTo>
                  <a:lnTo>
                    <a:pt x="464" y="181"/>
                  </a:lnTo>
                  <a:lnTo>
                    <a:pt x="442" y="166"/>
                  </a:lnTo>
                  <a:lnTo>
                    <a:pt x="419" y="153"/>
                  </a:lnTo>
                  <a:lnTo>
                    <a:pt x="397" y="140"/>
                  </a:lnTo>
                  <a:lnTo>
                    <a:pt x="374" y="128"/>
                  </a:lnTo>
                  <a:lnTo>
                    <a:pt x="352" y="118"/>
                  </a:lnTo>
                  <a:lnTo>
                    <a:pt x="329" y="109"/>
                  </a:lnTo>
                  <a:lnTo>
                    <a:pt x="307" y="99"/>
                  </a:lnTo>
                  <a:lnTo>
                    <a:pt x="284" y="91"/>
                  </a:lnTo>
                  <a:lnTo>
                    <a:pt x="261" y="85"/>
                  </a:lnTo>
                  <a:lnTo>
                    <a:pt x="238" y="79"/>
                  </a:lnTo>
                  <a:lnTo>
                    <a:pt x="216" y="74"/>
                  </a:lnTo>
                  <a:lnTo>
                    <a:pt x="194" y="71"/>
                  </a:lnTo>
                  <a:lnTo>
                    <a:pt x="173" y="67"/>
                  </a:lnTo>
                  <a:lnTo>
                    <a:pt x="151" y="66"/>
                  </a:lnTo>
                  <a:lnTo>
                    <a:pt x="130" y="66"/>
                  </a:lnTo>
                  <a:lnTo>
                    <a:pt x="109" y="66"/>
                  </a:lnTo>
                  <a:lnTo>
                    <a:pt x="88" y="69"/>
                  </a:lnTo>
                  <a:lnTo>
                    <a:pt x="47" y="77"/>
                  </a:lnTo>
                  <a:lnTo>
                    <a:pt x="9" y="8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19400" y="3079800"/>
              <a:ext cx="20520" cy="252360"/>
            </a:xfrm>
            <a:custGeom>
              <a:avLst/>
              <a:gdLst/>
              <a:ahLst/>
              <a:rect l="l" t="t" r="r" b="b"/>
              <a:pathLst>
                <a:path w="69" h="794">
                  <a:moveTo>
                    <a:pt x="5" y="111"/>
                  </a:moveTo>
                  <a:lnTo>
                    <a:pt x="5" y="25"/>
                  </a:lnTo>
                  <a:lnTo>
                    <a:pt x="69" y="0"/>
                  </a:lnTo>
                  <a:lnTo>
                    <a:pt x="69" y="743"/>
                  </a:lnTo>
                  <a:lnTo>
                    <a:pt x="53" y="794"/>
                  </a:lnTo>
                  <a:lnTo>
                    <a:pt x="39" y="714"/>
                  </a:lnTo>
                  <a:lnTo>
                    <a:pt x="26" y="634"/>
                  </a:lnTo>
                  <a:lnTo>
                    <a:pt x="16" y="554"/>
                  </a:lnTo>
                  <a:lnTo>
                    <a:pt x="8" y="473"/>
                  </a:lnTo>
                  <a:lnTo>
                    <a:pt x="2" y="393"/>
                  </a:lnTo>
                  <a:lnTo>
                    <a:pt x="0" y="313"/>
                  </a:lnTo>
                  <a:lnTo>
                    <a:pt x="1" y="233"/>
                  </a:lnTo>
                  <a:lnTo>
                    <a:pt x="5" y="152"/>
                  </a:lnTo>
                  <a:lnTo>
                    <a:pt x="5" y="111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68520" y="3608640"/>
              <a:ext cx="57240" cy="306360"/>
            </a:xfrm>
            <a:custGeom>
              <a:avLst/>
              <a:gdLst/>
              <a:ahLst/>
              <a:rect l="l" t="t" r="r" b="b"/>
              <a:pathLst>
                <a:path w="181" h="964">
                  <a:moveTo>
                    <a:pt x="0" y="812"/>
                  </a:moveTo>
                  <a:lnTo>
                    <a:pt x="24" y="735"/>
                  </a:lnTo>
                  <a:lnTo>
                    <a:pt x="48" y="658"/>
                  </a:lnTo>
                  <a:lnTo>
                    <a:pt x="70" y="581"/>
                  </a:lnTo>
                  <a:lnTo>
                    <a:pt x="91" y="503"/>
                  </a:lnTo>
                  <a:lnTo>
                    <a:pt x="108" y="426"/>
                  </a:lnTo>
                  <a:lnTo>
                    <a:pt x="122" y="347"/>
                  </a:lnTo>
                  <a:lnTo>
                    <a:pt x="131" y="269"/>
                  </a:lnTo>
                  <a:lnTo>
                    <a:pt x="134" y="188"/>
                  </a:lnTo>
                  <a:lnTo>
                    <a:pt x="181" y="0"/>
                  </a:lnTo>
                  <a:lnTo>
                    <a:pt x="171" y="119"/>
                  </a:lnTo>
                  <a:lnTo>
                    <a:pt x="163" y="238"/>
                  </a:lnTo>
                  <a:lnTo>
                    <a:pt x="155" y="358"/>
                  </a:lnTo>
                  <a:lnTo>
                    <a:pt x="145" y="479"/>
                  </a:lnTo>
                  <a:lnTo>
                    <a:pt x="131" y="600"/>
                  </a:lnTo>
                  <a:lnTo>
                    <a:pt x="111" y="721"/>
                  </a:lnTo>
                  <a:lnTo>
                    <a:pt x="84" y="843"/>
                  </a:lnTo>
                  <a:lnTo>
                    <a:pt x="48" y="964"/>
                  </a:lnTo>
                  <a:lnTo>
                    <a:pt x="0" y="812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1360" y="3232440"/>
              <a:ext cx="298440" cy="338040"/>
            </a:xfrm>
            <a:custGeom>
              <a:avLst/>
              <a:gdLst/>
              <a:ahLst/>
              <a:rect l="l" t="t" r="r" b="b"/>
              <a:pathLst>
                <a:path w="939" h="1065">
                  <a:moveTo>
                    <a:pt x="0" y="307"/>
                  </a:moveTo>
                  <a:lnTo>
                    <a:pt x="47" y="246"/>
                  </a:lnTo>
                  <a:lnTo>
                    <a:pt x="174" y="118"/>
                  </a:lnTo>
                  <a:lnTo>
                    <a:pt x="301" y="51"/>
                  </a:lnTo>
                  <a:lnTo>
                    <a:pt x="340" y="41"/>
                  </a:lnTo>
                  <a:lnTo>
                    <a:pt x="395" y="0"/>
                  </a:lnTo>
                  <a:lnTo>
                    <a:pt x="537" y="41"/>
                  </a:lnTo>
                  <a:lnTo>
                    <a:pt x="680" y="179"/>
                  </a:lnTo>
                  <a:lnTo>
                    <a:pt x="703" y="179"/>
                  </a:lnTo>
                  <a:lnTo>
                    <a:pt x="789" y="323"/>
                  </a:lnTo>
                  <a:lnTo>
                    <a:pt x="869" y="349"/>
                  </a:lnTo>
                  <a:lnTo>
                    <a:pt x="877" y="400"/>
                  </a:lnTo>
                  <a:lnTo>
                    <a:pt x="939" y="469"/>
                  </a:lnTo>
                  <a:lnTo>
                    <a:pt x="931" y="647"/>
                  </a:lnTo>
                  <a:lnTo>
                    <a:pt x="907" y="698"/>
                  </a:lnTo>
                  <a:lnTo>
                    <a:pt x="853" y="750"/>
                  </a:lnTo>
                  <a:lnTo>
                    <a:pt x="735" y="971"/>
                  </a:lnTo>
                  <a:lnTo>
                    <a:pt x="593" y="1022"/>
                  </a:lnTo>
                  <a:lnTo>
                    <a:pt x="576" y="1031"/>
                  </a:lnTo>
                  <a:lnTo>
                    <a:pt x="481" y="1014"/>
                  </a:lnTo>
                  <a:lnTo>
                    <a:pt x="395" y="1031"/>
                  </a:lnTo>
                  <a:lnTo>
                    <a:pt x="355" y="1057"/>
                  </a:lnTo>
                  <a:lnTo>
                    <a:pt x="340" y="1065"/>
                  </a:lnTo>
                  <a:lnTo>
                    <a:pt x="308" y="1065"/>
                  </a:lnTo>
                  <a:lnTo>
                    <a:pt x="212" y="1014"/>
                  </a:lnTo>
                  <a:lnTo>
                    <a:pt x="205" y="964"/>
                  </a:lnTo>
                  <a:lnTo>
                    <a:pt x="165" y="919"/>
                  </a:lnTo>
                  <a:lnTo>
                    <a:pt x="135" y="852"/>
                  </a:lnTo>
                  <a:lnTo>
                    <a:pt x="118" y="861"/>
                  </a:lnTo>
                  <a:lnTo>
                    <a:pt x="94" y="894"/>
                  </a:lnTo>
                  <a:lnTo>
                    <a:pt x="111" y="775"/>
                  </a:lnTo>
                  <a:lnTo>
                    <a:pt x="118" y="715"/>
                  </a:lnTo>
                  <a:lnTo>
                    <a:pt x="111" y="689"/>
                  </a:lnTo>
                  <a:lnTo>
                    <a:pt x="71" y="656"/>
                  </a:lnTo>
                  <a:lnTo>
                    <a:pt x="79" y="571"/>
                  </a:lnTo>
                  <a:lnTo>
                    <a:pt x="64" y="546"/>
                  </a:lnTo>
                  <a:lnTo>
                    <a:pt x="24" y="520"/>
                  </a:lnTo>
                  <a:lnTo>
                    <a:pt x="32" y="392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H="1">
            <a:off x="7493040" y="2519280"/>
            <a:ext cx="1440" cy="180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719120" y="1851120"/>
            <a:ext cx="3240" cy="324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0" y="5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edd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716960" y="1847880"/>
            <a:ext cx="1440" cy="14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0" y="3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efd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718400" y="1854360"/>
            <a:ext cx="14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efd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713720" y="1851120"/>
            <a:ext cx="1440" cy="14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efd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705800" y="1836720"/>
            <a:ext cx="1440" cy="1440"/>
          </a:xfrm>
          <a:prstGeom prst="rect">
            <a:avLst/>
          </a:prstGeom>
          <a:solidFill>
            <a:srgbClr val="f2d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706520" y="1847880"/>
            <a:ext cx="180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2d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98600" y="1832040"/>
            <a:ext cx="1800" cy="1440"/>
          </a:xfrm>
          <a:prstGeom prst="rect">
            <a:avLst/>
          </a:prstGeom>
          <a:solidFill>
            <a:srgbClr val="f2d8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698600" y="1843200"/>
            <a:ext cx="1800" cy="1440"/>
          </a:xfrm>
          <a:prstGeom prst="rect">
            <a:avLst/>
          </a:prstGeom>
          <a:solidFill>
            <a:srgbClr val="f2d8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725600" y="1828800"/>
            <a:ext cx="1800" cy="14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0" y="2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2d8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716960" y="1819440"/>
            <a:ext cx="1440" cy="28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4d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717680" y="1825560"/>
            <a:ext cx="324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4"/>
                </a:moveTo>
                <a:lnTo>
                  <a:pt x="5" y="0"/>
                </a:lnTo>
                <a:lnTo>
                  <a:pt x="0" y="2"/>
                </a:lnTo>
                <a:lnTo>
                  <a:pt x="5" y="4"/>
                </a:lnTo>
                <a:close/>
              </a:path>
            </a:pathLst>
          </a:custGeom>
          <a:solidFill>
            <a:srgbClr val="f4d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713720" y="1812960"/>
            <a:ext cx="1440" cy="468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0" y="5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4d6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695360" y="1800360"/>
            <a:ext cx="1800" cy="14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0" y="3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7d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687440" y="1805040"/>
            <a:ext cx="1800" cy="1440"/>
          </a:xfrm>
          <a:prstGeom prst="rect">
            <a:avLst/>
          </a:prstGeom>
          <a:solidFill>
            <a:srgbClr val="f7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00200" y="2854440"/>
            <a:ext cx="1201680" cy="1911240"/>
            <a:chOff x="1600200" y="2854440"/>
            <a:chExt cx="1201680" cy="1911240"/>
          </a:xfrm>
        </p:grpSpPr>
        <p:sp>
          <p:nvSpPr>
            <p:cNvPr id="113" name=""/>
            <p:cNvSpPr/>
            <p:nvPr/>
          </p:nvSpPr>
          <p:spPr>
            <a:xfrm flipH="1">
              <a:off x="1600200" y="2854440"/>
              <a:ext cx="1201680" cy="1911240"/>
            </a:xfrm>
            <a:custGeom>
              <a:avLst/>
              <a:gdLst/>
              <a:ahLst/>
              <a:rect l="l" t="t" r="r" b="b"/>
              <a:pathLst>
                <a:path w="1513" h="2407">
                  <a:moveTo>
                    <a:pt x="301" y="2382"/>
                  </a:moveTo>
                  <a:lnTo>
                    <a:pt x="271" y="2347"/>
                  </a:lnTo>
                  <a:lnTo>
                    <a:pt x="259" y="2322"/>
                  </a:lnTo>
                  <a:lnTo>
                    <a:pt x="262" y="2304"/>
                  </a:lnTo>
                  <a:lnTo>
                    <a:pt x="273" y="2289"/>
                  </a:lnTo>
                  <a:lnTo>
                    <a:pt x="288" y="2274"/>
                  </a:lnTo>
                  <a:lnTo>
                    <a:pt x="304" y="2256"/>
                  </a:lnTo>
                  <a:lnTo>
                    <a:pt x="316" y="2234"/>
                  </a:lnTo>
                  <a:lnTo>
                    <a:pt x="318" y="2203"/>
                  </a:lnTo>
                  <a:lnTo>
                    <a:pt x="322" y="2194"/>
                  </a:lnTo>
                  <a:lnTo>
                    <a:pt x="324" y="2185"/>
                  </a:lnTo>
                  <a:lnTo>
                    <a:pt x="325" y="2176"/>
                  </a:lnTo>
                  <a:lnTo>
                    <a:pt x="327" y="2165"/>
                  </a:lnTo>
                  <a:lnTo>
                    <a:pt x="334" y="2165"/>
                  </a:lnTo>
                  <a:lnTo>
                    <a:pt x="342" y="2165"/>
                  </a:lnTo>
                  <a:lnTo>
                    <a:pt x="349" y="2164"/>
                  </a:lnTo>
                  <a:lnTo>
                    <a:pt x="356" y="2163"/>
                  </a:lnTo>
                  <a:lnTo>
                    <a:pt x="350" y="2104"/>
                  </a:lnTo>
                  <a:lnTo>
                    <a:pt x="342" y="2027"/>
                  </a:lnTo>
                  <a:lnTo>
                    <a:pt x="338" y="1950"/>
                  </a:lnTo>
                  <a:lnTo>
                    <a:pt x="345" y="1896"/>
                  </a:lnTo>
                  <a:lnTo>
                    <a:pt x="350" y="1896"/>
                  </a:lnTo>
                  <a:lnTo>
                    <a:pt x="356" y="1896"/>
                  </a:lnTo>
                  <a:lnTo>
                    <a:pt x="361" y="1896"/>
                  </a:lnTo>
                  <a:lnTo>
                    <a:pt x="365" y="1897"/>
                  </a:lnTo>
                  <a:lnTo>
                    <a:pt x="370" y="1898"/>
                  </a:lnTo>
                  <a:lnTo>
                    <a:pt x="373" y="1899"/>
                  </a:lnTo>
                  <a:lnTo>
                    <a:pt x="379" y="1901"/>
                  </a:lnTo>
                  <a:lnTo>
                    <a:pt x="385" y="1904"/>
                  </a:lnTo>
                  <a:lnTo>
                    <a:pt x="377" y="1877"/>
                  </a:lnTo>
                  <a:lnTo>
                    <a:pt x="373" y="1844"/>
                  </a:lnTo>
                  <a:lnTo>
                    <a:pt x="373" y="1805"/>
                  </a:lnTo>
                  <a:lnTo>
                    <a:pt x="376" y="1763"/>
                  </a:lnTo>
                  <a:lnTo>
                    <a:pt x="380" y="1722"/>
                  </a:lnTo>
                  <a:lnTo>
                    <a:pt x="385" y="1681"/>
                  </a:lnTo>
                  <a:lnTo>
                    <a:pt x="390" y="1647"/>
                  </a:lnTo>
                  <a:lnTo>
                    <a:pt x="394" y="1619"/>
                  </a:lnTo>
                  <a:lnTo>
                    <a:pt x="401" y="1619"/>
                  </a:lnTo>
                  <a:lnTo>
                    <a:pt x="407" y="1618"/>
                  </a:lnTo>
                  <a:lnTo>
                    <a:pt x="413" y="1617"/>
                  </a:lnTo>
                  <a:lnTo>
                    <a:pt x="418" y="1617"/>
                  </a:lnTo>
                  <a:lnTo>
                    <a:pt x="425" y="1546"/>
                  </a:lnTo>
                  <a:lnTo>
                    <a:pt x="431" y="1475"/>
                  </a:lnTo>
                  <a:lnTo>
                    <a:pt x="439" y="1401"/>
                  </a:lnTo>
                  <a:lnTo>
                    <a:pt x="448" y="1329"/>
                  </a:lnTo>
                  <a:lnTo>
                    <a:pt x="461" y="1256"/>
                  </a:lnTo>
                  <a:lnTo>
                    <a:pt x="477" y="1185"/>
                  </a:lnTo>
                  <a:lnTo>
                    <a:pt x="498" y="1114"/>
                  </a:lnTo>
                  <a:lnTo>
                    <a:pt x="526" y="1049"/>
                  </a:lnTo>
                  <a:lnTo>
                    <a:pt x="505" y="1038"/>
                  </a:lnTo>
                  <a:lnTo>
                    <a:pt x="481" y="1027"/>
                  </a:lnTo>
                  <a:lnTo>
                    <a:pt x="453" y="1016"/>
                  </a:lnTo>
                  <a:lnTo>
                    <a:pt x="424" y="1006"/>
                  </a:lnTo>
                  <a:lnTo>
                    <a:pt x="393" y="994"/>
                  </a:lnTo>
                  <a:lnTo>
                    <a:pt x="362" y="984"/>
                  </a:lnTo>
                  <a:lnTo>
                    <a:pt x="330" y="971"/>
                  </a:lnTo>
                  <a:lnTo>
                    <a:pt x="299" y="960"/>
                  </a:lnTo>
                  <a:lnTo>
                    <a:pt x="267" y="946"/>
                  </a:lnTo>
                  <a:lnTo>
                    <a:pt x="237" y="932"/>
                  </a:lnTo>
                  <a:lnTo>
                    <a:pt x="210" y="917"/>
                  </a:lnTo>
                  <a:lnTo>
                    <a:pt x="184" y="901"/>
                  </a:lnTo>
                  <a:lnTo>
                    <a:pt x="163" y="883"/>
                  </a:lnTo>
                  <a:lnTo>
                    <a:pt x="145" y="864"/>
                  </a:lnTo>
                  <a:lnTo>
                    <a:pt x="131" y="844"/>
                  </a:lnTo>
                  <a:lnTo>
                    <a:pt x="122" y="820"/>
                  </a:lnTo>
                  <a:lnTo>
                    <a:pt x="88" y="777"/>
                  </a:lnTo>
                  <a:lnTo>
                    <a:pt x="59" y="729"/>
                  </a:lnTo>
                  <a:lnTo>
                    <a:pt x="36" y="681"/>
                  </a:lnTo>
                  <a:lnTo>
                    <a:pt x="19" y="631"/>
                  </a:lnTo>
                  <a:lnTo>
                    <a:pt x="7" y="581"/>
                  </a:lnTo>
                  <a:lnTo>
                    <a:pt x="1" y="528"/>
                  </a:lnTo>
                  <a:lnTo>
                    <a:pt x="0" y="475"/>
                  </a:lnTo>
                  <a:lnTo>
                    <a:pt x="6" y="422"/>
                  </a:lnTo>
                  <a:lnTo>
                    <a:pt x="24" y="407"/>
                  </a:lnTo>
                  <a:lnTo>
                    <a:pt x="38" y="389"/>
                  </a:lnTo>
                  <a:lnTo>
                    <a:pt x="49" y="371"/>
                  </a:lnTo>
                  <a:lnTo>
                    <a:pt x="59" y="351"/>
                  </a:lnTo>
                  <a:lnTo>
                    <a:pt x="69" y="333"/>
                  </a:lnTo>
                  <a:lnTo>
                    <a:pt x="83" y="316"/>
                  </a:lnTo>
                  <a:lnTo>
                    <a:pt x="99" y="301"/>
                  </a:lnTo>
                  <a:lnTo>
                    <a:pt x="122" y="289"/>
                  </a:lnTo>
                  <a:lnTo>
                    <a:pt x="140" y="281"/>
                  </a:lnTo>
                  <a:lnTo>
                    <a:pt x="153" y="271"/>
                  </a:lnTo>
                  <a:lnTo>
                    <a:pt x="166" y="258"/>
                  </a:lnTo>
                  <a:lnTo>
                    <a:pt x="178" y="244"/>
                  </a:lnTo>
                  <a:lnTo>
                    <a:pt x="187" y="229"/>
                  </a:lnTo>
                  <a:lnTo>
                    <a:pt x="196" y="213"/>
                  </a:lnTo>
                  <a:lnTo>
                    <a:pt x="204" y="197"/>
                  </a:lnTo>
                  <a:lnTo>
                    <a:pt x="211" y="182"/>
                  </a:lnTo>
                  <a:lnTo>
                    <a:pt x="217" y="181"/>
                  </a:lnTo>
                  <a:lnTo>
                    <a:pt x="224" y="180"/>
                  </a:lnTo>
                  <a:lnTo>
                    <a:pt x="229" y="179"/>
                  </a:lnTo>
                  <a:lnTo>
                    <a:pt x="236" y="177"/>
                  </a:lnTo>
                  <a:lnTo>
                    <a:pt x="242" y="176"/>
                  </a:lnTo>
                  <a:lnTo>
                    <a:pt x="248" y="176"/>
                  </a:lnTo>
                  <a:lnTo>
                    <a:pt x="255" y="175"/>
                  </a:lnTo>
                  <a:lnTo>
                    <a:pt x="261" y="174"/>
                  </a:lnTo>
                  <a:lnTo>
                    <a:pt x="264" y="176"/>
                  </a:lnTo>
                  <a:lnTo>
                    <a:pt x="266" y="179"/>
                  </a:lnTo>
                  <a:lnTo>
                    <a:pt x="270" y="182"/>
                  </a:lnTo>
                  <a:lnTo>
                    <a:pt x="273" y="184"/>
                  </a:lnTo>
                  <a:lnTo>
                    <a:pt x="279" y="179"/>
                  </a:lnTo>
                  <a:lnTo>
                    <a:pt x="284" y="172"/>
                  </a:lnTo>
                  <a:lnTo>
                    <a:pt x="286" y="164"/>
                  </a:lnTo>
                  <a:lnTo>
                    <a:pt x="289" y="156"/>
                  </a:lnTo>
                  <a:lnTo>
                    <a:pt x="299" y="146"/>
                  </a:lnTo>
                  <a:lnTo>
                    <a:pt x="310" y="138"/>
                  </a:lnTo>
                  <a:lnTo>
                    <a:pt x="323" y="130"/>
                  </a:lnTo>
                  <a:lnTo>
                    <a:pt x="338" y="122"/>
                  </a:lnTo>
                  <a:lnTo>
                    <a:pt x="354" y="115"/>
                  </a:lnTo>
                  <a:lnTo>
                    <a:pt x="371" y="108"/>
                  </a:lnTo>
                  <a:lnTo>
                    <a:pt x="388" y="103"/>
                  </a:lnTo>
                  <a:lnTo>
                    <a:pt x="406" y="96"/>
                  </a:lnTo>
                  <a:lnTo>
                    <a:pt x="423" y="90"/>
                  </a:lnTo>
                  <a:lnTo>
                    <a:pt x="439" y="83"/>
                  </a:lnTo>
                  <a:lnTo>
                    <a:pt x="454" y="76"/>
                  </a:lnTo>
                  <a:lnTo>
                    <a:pt x="467" y="69"/>
                  </a:lnTo>
                  <a:lnTo>
                    <a:pt x="478" y="62"/>
                  </a:lnTo>
                  <a:lnTo>
                    <a:pt x="488" y="55"/>
                  </a:lnTo>
                  <a:lnTo>
                    <a:pt x="493" y="47"/>
                  </a:lnTo>
                  <a:lnTo>
                    <a:pt x="497" y="38"/>
                  </a:lnTo>
                  <a:lnTo>
                    <a:pt x="520" y="30"/>
                  </a:lnTo>
                  <a:lnTo>
                    <a:pt x="541" y="28"/>
                  </a:lnTo>
                  <a:lnTo>
                    <a:pt x="559" y="28"/>
                  </a:lnTo>
                  <a:lnTo>
                    <a:pt x="577" y="29"/>
                  </a:lnTo>
                  <a:lnTo>
                    <a:pt x="596" y="32"/>
                  </a:lnTo>
                  <a:lnTo>
                    <a:pt x="615" y="35"/>
                  </a:lnTo>
                  <a:lnTo>
                    <a:pt x="635" y="36"/>
                  </a:lnTo>
                  <a:lnTo>
                    <a:pt x="658" y="33"/>
                  </a:lnTo>
                  <a:lnTo>
                    <a:pt x="668" y="23"/>
                  </a:lnTo>
                  <a:lnTo>
                    <a:pt x="678" y="16"/>
                  </a:lnTo>
                  <a:lnTo>
                    <a:pt x="685" y="10"/>
                  </a:lnTo>
                  <a:lnTo>
                    <a:pt x="691" y="7"/>
                  </a:lnTo>
                  <a:lnTo>
                    <a:pt x="700" y="5"/>
                  </a:lnTo>
                  <a:lnTo>
                    <a:pt x="709" y="3"/>
                  </a:lnTo>
                  <a:lnTo>
                    <a:pt x="720" y="2"/>
                  </a:lnTo>
                  <a:lnTo>
                    <a:pt x="735" y="0"/>
                  </a:lnTo>
                  <a:lnTo>
                    <a:pt x="754" y="18"/>
                  </a:lnTo>
                  <a:lnTo>
                    <a:pt x="772" y="30"/>
                  </a:lnTo>
                  <a:lnTo>
                    <a:pt x="793" y="37"/>
                  </a:lnTo>
                  <a:lnTo>
                    <a:pt x="814" y="40"/>
                  </a:lnTo>
                  <a:lnTo>
                    <a:pt x="837" y="43"/>
                  </a:lnTo>
                  <a:lnTo>
                    <a:pt x="860" y="45"/>
                  </a:lnTo>
                  <a:lnTo>
                    <a:pt x="884" y="47"/>
                  </a:lnTo>
                  <a:lnTo>
                    <a:pt x="909" y="53"/>
                  </a:lnTo>
                  <a:lnTo>
                    <a:pt x="909" y="56"/>
                  </a:lnTo>
                  <a:lnTo>
                    <a:pt x="909" y="60"/>
                  </a:lnTo>
                  <a:lnTo>
                    <a:pt x="909" y="63"/>
                  </a:lnTo>
                  <a:lnTo>
                    <a:pt x="909" y="67"/>
                  </a:lnTo>
                  <a:lnTo>
                    <a:pt x="922" y="73"/>
                  </a:lnTo>
                  <a:lnTo>
                    <a:pt x="933" y="77"/>
                  </a:lnTo>
                  <a:lnTo>
                    <a:pt x="945" y="83"/>
                  </a:lnTo>
                  <a:lnTo>
                    <a:pt x="955" y="86"/>
                  </a:lnTo>
                  <a:lnTo>
                    <a:pt x="966" y="88"/>
                  </a:lnTo>
                  <a:lnTo>
                    <a:pt x="977" y="89"/>
                  </a:lnTo>
                  <a:lnTo>
                    <a:pt x="989" y="86"/>
                  </a:lnTo>
                  <a:lnTo>
                    <a:pt x="1001" y="82"/>
                  </a:lnTo>
                  <a:lnTo>
                    <a:pt x="1024" y="96"/>
                  </a:lnTo>
                  <a:lnTo>
                    <a:pt x="1048" y="111"/>
                  </a:lnTo>
                  <a:lnTo>
                    <a:pt x="1069" y="126"/>
                  </a:lnTo>
                  <a:lnTo>
                    <a:pt x="1092" y="139"/>
                  </a:lnTo>
                  <a:lnTo>
                    <a:pt x="1114" y="154"/>
                  </a:lnTo>
                  <a:lnTo>
                    <a:pt x="1137" y="168"/>
                  </a:lnTo>
                  <a:lnTo>
                    <a:pt x="1159" y="182"/>
                  </a:lnTo>
                  <a:lnTo>
                    <a:pt x="1182" y="196"/>
                  </a:lnTo>
                  <a:lnTo>
                    <a:pt x="1182" y="197"/>
                  </a:lnTo>
                  <a:lnTo>
                    <a:pt x="1182" y="199"/>
                  </a:lnTo>
                  <a:lnTo>
                    <a:pt x="1181" y="201"/>
                  </a:lnTo>
                  <a:lnTo>
                    <a:pt x="1180" y="203"/>
                  </a:lnTo>
                  <a:lnTo>
                    <a:pt x="1188" y="209"/>
                  </a:lnTo>
                  <a:lnTo>
                    <a:pt x="1197" y="214"/>
                  </a:lnTo>
                  <a:lnTo>
                    <a:pt x="1207" y="220"/>
                  </a:lnTo>
                  <a:lnTo>
                    <a:pt x="1216" y="225"/>
                  </a:lnTo>
                  <a:lnTo>
                    <a:pt x="1225" y="229"/>
                  </a:lnTo>
                  <a:lnTo>
                    <a:pt x="1234" y="234"/>
                  </a:lnTo>
                  <a:lnTo>
                    <a:pt x="1242" y="237"/>
                  </a:lnTo>
                  <a:lnTo>
                    <a:pt x="1251" y="241"/>
                  </a:lnTo>
                  <a:lnTo>
                    <a:pt x="1250" y="244"/>
                  </a:lnTo>
                  <a:lnTo>
                    <a:pt x="1248" y="249"/>
                  </a:lnTo>
                  <a:lnTo>
                    <a:pt x="1247" y="255"/>
                  </a:lnTo>
                  <a:lnTo>
                    <a:pt x="1245" y="258"/>
                  </a:lnTo>
                  <a:lnTo>
                    <a:pt x="1257" y="264"/>
                  </a:lnTo>
                  <a:lnTo>
                    <a:pt x="1271" y="270"/>
                  </a:lnTo>
                  <a:lnTo>
                    <a:pt x="1284" y="277"/>
                  </a:lnTo>
                  <a:lnTo>
                    <a:pt x="1296" y="285"/>
                  </a:lnTo>
                  <a:lnTo>
                    <a:pt x="1308" y="293"/>
                  </a:lnTo>
                  <a:lnTo>
                    <a:pt x="1321" y="302"/>
                  </a:lnTo>
                  <a:lnTo>
                    <a:pt x="1332" y="311"/>
                  </a:lnTo>
                  <a:lnTo>
                    <a:pt x="1345" y="322"/>
                  </a:lnTo>
                  <a:lnTo>
                    <a:pt x="1357" y="332"/>
                  </a:lnTo>
                  <a:lnTo>
                    <a:pt x="1369" y="341"/>
                  </a:lnTo>
                  <a:lnTo>
                    <a:pt x="1382" y="351"/>
                  </a:lnTo>
                  <a:lnTo>
                    <a:pt x="1393" y="362"/>
                  </a:lnTo>
                  <a:lnTo>
                    <a:pt x="1406" y="372"/>
                  </a:lnTo>
                  <a:lnTo>
                    <a:pt x="1419" y="381"/>
                  </a:lnTo>
                  <a:lnTo>
                    <a:pt x="1432" y="391"/>
                  </a:lnTo>
                  <a:lnTo>
                    <a:pt x="1445" y="399"/>
                  </a:lnTo>
                  <a:lnTo>
                    <a:pt x="1446" y="411"/>
                  </a:lnTo>
                  <a:lnTo>
                    <a:pt x="1447" y="423"/>
                  </a:lnTo>
                  <a:lnTo>
                    <a:pt x="1450" y="434"/>
                  </a:lnTo>
                  <a:lnTo>
                    <a:pt x="1452" y="446"/>
                  </a:lnTo>
                  <a:lnTo>
                    <a:pt x="1476" y="477"/>
                  </a:lnTo>
                  <a:lnTo>
                    <a:pt x="1495" y="502"/>
                  </a:lnTo>
                  <a:lnTo>
                    <a:pt x="1506" y="527"/>
                  </a:lnTo>
                  <a:lnTo>
                    <a:pt x="1512" y="549"/>
                  </a:lnTo>
                  <a:lnTo>
                    <a:pt x="1513" y="573"/>
                  </a:lnTo>
                  <a:lnTo>
                    <a:pt x="1511" y="599"/>
                  </a:lnTo>
                  <a:lnTo>
                    <a:pt x="1505" y="633"/>
                  </a:lnTo>
                  <a:lnTo>
                    <a:pt x="1497" y="673"/>
                  </a:lnTo>
                  <a:lnTo>
                    <a:pt x="1499" y="674"/>
                  </a:lnTo>
                  <a:lnTo>
                    <a:pt x="1503" y="676"/>
                  </a:lnTo>
                  <a:lnTo>
                    <a:pt x="1506" y="678"/>
                  </a:lnTo>
                  <a:lnTo>
                    <a:pt x="1510" y="678"/>
                  </a:lnTo>
                  <a:lnTo>
                    <a:pt x="1505" y="689"/>
                  </a:lnTo>
                  <a:lnTo>
                    <a:pt x="1499" y="701"/>
                  </a:lnTo>
                  <a:lnTo>
                    <a:pt x="1493" y="712"/>
                  </a:lnTo>
                  <a:lnTo>
                    <a:pt x="1488" y="724"/>
                  </a:lnTo>
                  <a:lnTo>
                    <a:pt x="1485" y="735"/>
                  </a:lnTo>
                  <a:lnTo>
                    <a:pt x="1485" y="747"/>
                  </a:lnTo>
                  <a:lnTo>
                    <a:pt x="1490" y="757"/>
                  </a:lnTo>
                  <a:lnTo>
                    <a:pt x="1499" y="767"/>
                  </a:lnTo>
                  <a:lnTo>
                    <a:pt x="1491" y="785"/>
                  </a:lnTo>
                  <a:lnTo>
                    <a:pt x="1488" y="801"/>
                  </a:lnTo>
                  <a:lnTo>
                    <a:pt x="1485" y="815"/>
                  </a:lnTo>
                  <a:lnTo>
                    <a:pt x="1483" y="826"/>
                  </a:lnTo>
                  <a:lnTo>
                    <a:pt x="1478" y="838"/>
                  </a:lnTo>
                  <a:lnTo>
                    <a:pt x="1470" y="847"/>
                  </a:lnTo>
                  <a:lnTo>
                    <a:pt x="1455" y="855"/>
                  </a:lnTo>
                  <a:lnTo>
                    <a:pt x="1434" y="861"/>
                  </a:lnTo>
                  <a:lnTo>
                    <a:pt x="1416" y="873"/>
                  </a:lnTo>
                  <a:lnTo>
                    <a:pt x="1398" y="884"/>
                  </a:lnTo>
                  <a:lnTo>
                    <a:pt x="1378" y="894"/>
                  </a:lnTo>
                  <a:lnTo>
                    <a:pt x="1359" y="903"/>
                  </a:lnTo>
                  <a:lnTo>
                    <a:pt x="1338" y="911"/>
                  </a:lnTo>
                  <a:lnTo>
                    <a:pt x="1318" y="918"/>
                  </a:lnTo>
                  <a:lnTo>
                    <a:pt x="1298" y="926"/>
                  </a:lnTo>
                  <a:lnTo>
                    <a:pt x="1277" y="932"/>
                  </a:lnTo>
                  <a:lnTo>
                    <a:pt x="1257" y="939"/>
                  </a:lnTo>
                  <a:lnTo>
                    <a:pt x="1238" y="946"/>
                  </a:lnTo>
                  <a:lnTo>
                    <a:pt x="1219" y="953"/>
                  </a:lnTo>
                  <a:lnTo>
                    <a:pt x="1202" y="960"/>
                  </a:lnTo>
                  <a:lnTo>
                    <a:pt x="1186" y="968"/>
                  </a:lnTo>
                  <a:lnTo>
                    <a:pt x="1170" y="976"/>
                  </a:lnTo>
                  <a:lnTo>
                    <a:pt x="1157" y="984"/>
                  </a:lnTo>
                  <a:lnTo>
                    <a:pt x="1144" y="994"/>
                  </a:lnTo>
                  <a:lnTo>
                    <a:pt x="1137" y="994"/>
                  </a:lnTo>
                  <a:lnTo>
                    <a:pt x="1130" y="994"/>
                  </a:lnTo>
                  <a:lnTo>
                    <a:pt x="1124" y="993"/>
                  </a:lnTo>
                  <a:lnTo>
                    <a:pt x="1118" y="993"/>
                  </a:lnTo>
                  <a:lnTo>
                    <a:pt x="1111" y="992"/>
                  </a:lnTo>
                  <a:lnTo>
                    <a:pt x="1104" y="991"/>
                  </a:lnTo>
                  <a:lnTo>
                    <a:pt x="1097" y="991"/>
                  </a:lnTo>
                  <a:lnTo>
                    <a:pt x="1090" y="990"/>
                  </a:lnTo>
                  <a:lnTo>
                    <a:pt x="1087" y="994"/>
                  </a:lnTo>
                  <a:lnTo>
                    <a:pt x="1083" y="999"/>
                  </a:lnTo>
                  <a:lnTo>
                    <a:pt x="1079" y="1004"/>
                  </a:lnTo>
                  <a:lnTo>
                    <a:pt x="1075" y="1008"/>
                  </a:lnTo>
                  <a:lnTo>
                    <a:pt x="1053" y="1008"/>
                  </a:lnTo>
                  <a:lnTo>
                    <a:pt x="1033" y="1006"/>
                  </a:lnTo>
                  <a:lnTo>
                    <a:pt x="1012" y="1005"/>
                  </a:lnTo>
                  <a:lnTo>
                    <a:pt x="992" y="1004"/>
                  </a:lnTo>
                  <a:lnTo>
                    <a:pt x="973" y="1005"/>
                  </a:lnTo>
                  <a:lnTo>
                    <a:pt x="954" y="1009"/>
                  </a:lnTo>
                  <a:lnTo>
                    <a:pt x="936" y="1019"/>
                  </a:lnTo>
                  <a:lnTo>
                    <a:pt x="918" y="1035"/>
                  </a:lnTo>
                  <a:lnTo>
                    <a:pt x="912" y="1036"/>
                  </a:lnTo>
                  <a:lnTo>
                    <a:pt x="906" y="1035"/>
                  </a:lnTo>
                  <a:lnTo>
                    <a:pt x="901" y="1032"/>
                  </a:lnTo>
                  <a:lnTo>
                    <a:pt x="898" y="1029"/>
                  </a:lnTo>
                  <a:lnTo>
                    <a:pt x="894" y="1026"/>
                  </a:lnTo>
                  <a:lnTo>
                    <a:pt x="891" y="1022"/>
                  </a:lnTo>
                  <a:lnTo>
                    <a:pt x="887" y="1019"/>
                  </a:lnTo>
                  <a:lnTo>
                    <a:pt x="883" y="1018"/>
                  </a:lnTo>
                  <a:lnTo>
                    <a:pt x="882" y="1019"/>
                  </a:lnTo>
                  <a:lnTo>
                    <a:pt x="879" y="1021"/>
                  </a:lnTo>
                  <a:lnTo>
                    <a:pt x="878" y="1022"/>
                  </a:lnTo>
                  <a:lnTo>
                    <a:pt x="876" y="1022"/>
                  </a:lnTo>
                  <a:lnTo>
                    <a:pt x="872" y="1022"/>
                  </a:lnTo>
                  <a:lnTo>
                    <a:pt x="870" y="1022"/>
                  </a:lnTo>
                  <a:lnTo>
                    <a:pt x="868" y="1022"/>
                  </a:lnTo>
                  <a:lnTo>
                    <a:pt x="865" y="1022"/>
                  </a:lnTo>
                  <a:lnTo>
                    <a:pt x="839" y="1117"/>
                  </a:lnTo>
                  <a:lnTo>
                    <a:pt x="818" y="1202"/>
                  </a:lnTo>
                  <a:lnTo>
                    <a:pt x="802" y="1280"/>
                  </a:lnTo>
                  <a:lnTo>
                    <a:pt x="791" y="1356"/>
                  </a:lnTo>
                  <a:lnTo>
                    <a:pt x="781" y="1432"/>
                  </a:lnTo>
                  <a:lnTo>
                    <a:pt x="774" y="1513"/>
                  </a:lnTo>
                  <a:lnTo>
                    <a:pt x="769" y="1602"/>
                  </a:lnTo>
                  <a:lnTo>
                    <a:pt x="763" y="1701"/>
                  </a:lnTo>
                  <a:lnTo>
                    <a:pt x="768" y="1702"/>
                  </a:lnTo>
                  <a:lnTo>
                    <a:pt x="772" y="1703"/>
                  </a:lnTo>
                  <a:lnTo>
                    <a:pt x="777" y="1704"/>
                  </a:lnTo>
                  <a:lnTo>
                    <a:pt x="780" y="1705"/>
                  </a:lnTo>
                  <a:lnTo>
                    <a:pt x="780" y="1729"/>
                  </a:lnTo>
                  <a:lnTo>
                    <a:pt x="777" y="1755"/>
                  </a:lnTo>
                  <a:lnTo>
                    <a:pt x="770" y="1783"/>
                  </a:lnTo>
                  <a:lnTo>
                    <a:pt x="762" y="1811"/>
                  </a:lnTo>
                  <a:lnTo>
                    <a:pt x="753" y="1840"/>
                  </a:lnTo>
                  <a:lnTo>
                    <a:pt x="743" y="1869"/>
                  </a:lnTo>
                  <a:lnTo>
                    <a:pt x="734" y="1896"/>
                  </a:lnTo>
                  <a:lnTo>
                    <a:pt x="727" y="1920"/>
                  </a:lnTo>
                  <a:lnTo>
                    <a:pt x="732" y="1921"/>
                  </a:lnTo>
                  <a:lnTo>
                    <a:pt x="736" y="1923"/>
                  </a:lnTo>
                  <a:lnTo>
                    <a:pt x="742" y="1924"/>
                  </a:lnTo>
                  <a:lnTo>
                    <a:pt x="747" y="1927"/>
                  </a:lnTo>
                  <a:lnTo>
                    <a:pt x="747" y="1934"/>
                  </a:lnTo>
                  <a:lnTo>
                    <a:pt x="746" y="1939"/>
                  </a:lnTo>
                  <a:lnTo>
                    <a:pt x="744" y="1944"/>
                  </a:lnTo>
                  <a:lnTo>
                    <a:pt x="744" y="1949"/>
                  </a:lnTo>
                  <a:lnTo>
                    <a:pt x="743" y="1950"/>
                  </a:lnTo>
                  <a:lnTo>
                    <a:pt x="741" y="1951"/>
                  </a:lnTo>
                  <a:lnTo>
                    <a:pt x="740" y="1951"/>
                  </a:lnTo>
                  <a:lnTo>
                    <a:pt x="738" y="1951"/>
                  </a:lnTo>
                  <a:lnTo>
                    <a:pt x="726" y="1988"/>
                  </a:lnTo>
                  <a:lnTo>
                    <a:pt x="719" y="2021"/>
                  </a:lnTo>
                  <a:lnTo>
                    <a:pt x="716" y="2051"/>
                  </a:lnTo>
                  <a:lnTo>
                    <a:pt x="716" y="2079"/>
                  </a:lnTo>
                  <a:lnTo>
                    <a:pt x="718" y="2104"/>
                  </a:lnTo>
                  <a:lnTo>
                    <a:pt x="725" y="2127"/>
                  </a:lnTo>
                  <a:lnTo>
                    <a:pt x="733" y="2149"/>
                  </a:lnTo>
                  <a:lnTo>
                    <a:pt x="743" y="2170"/>
                  </a:lnTo>
                  <a:lnTo>
                    <a:pt x="757" y="2189"/>
                  </a:lnTo>
                  <a:lnTo>
                    <a:pt x="771" y="2209"/>
                  </a:lnTo>
                  <a:lnTo>
                    <a:pt x="787" y="2227"/>
                  </a:lnTo>
                  <a:lnTo>
                    <a:pt x="804" y="2247"/>
                  </a:lnTo>
                  <a:lnTo>
                    <a:pt x="823" y="2268"/>
                  </a:lnTo>
                  <a:lnTo>
                    <a:pt x="842" y="2290"/>
                  </a:lnTo>
                  <a:lnTo>
                    <a:pt x="861" y="2312"/>
                  </a:lnTo>
                  <a:lnTo>
                    <a:pt x="880" y="2337"/>
                  </a:lnTo>
                  <a:lnTo>
                    <a:pt x="880" y="2346"/>
                  </a:lnTo>
                  <a:lnTo>
                    <a:pt x="880" y="2354"/>
                  </a:lnTo>
                  <a:lnTo>
                    <a:pt x="880" y="2363"/>
                  </a:lnTo>
                  <a:lnTo>
                    <a:pt x="880" y="2373"/>
                  </a:lnTo>
                  <a:lnTo>
                    <a:pt x="864" y="2381"/>
                  </a:lnTo>
                  <a:lnTo>
                    <a:pt x="842" y="2388"/>
                  </a:lnTo>
                  <a:lnTo>
                    <a:pt x="818" y="2392"/>
                  </a:lnTo>
                  <a:lnTo>
                    <a:pt x="789" y="2397"/>
                  </a:lnTo>
                  <a:lnTo>
                    <a:pt x="757" y="2400"/>
                  </a:lnTo>
                  <a:lnTo>
                    <a:pt x="724" y="2404"/>
                  </a:lnTo>
                  <a:lnTo>
                    <a:pt x="689" y="2405"/>
                  </a:lnTo>
                  <a:lnTo>
                    <a:pt x="653" y="2406"/>
                  </a:lnTo>
                  <a:lnTo>
                    <a:pt x="617" y="2407"/>
                  </a:lnTo>
                  <a:lnTo>
                    <a:pt x="582" y="2407"/>
                  </a:lnTo>
                  <a:lnTo>
                    <a:pt x="547" y="2407"/>
                  </a:lnTo>
                  <a:lnTo>
                    <a:pt x="514" y="2406"/>
                  </a:lnTo>
                  <a:lnTo>
                    <a:pt x="484" y="2405"/>
                  </a:lnTo>
                  <a:lnTo>
                    <a:pt x="456" y="2404"/>
                  </a:lnTo>
                  <a:lnTo>
                    <a:pt x="433" y="2403"/>
                  </a:lnTo>
                  <a:lnTo>
                    <a:pt x="414" y="2401"/>
                  </a:lnTo>
                  <a:lnTo>
                    <a:pt x="402" y="2395"/>
                  </a:lnTo>
                  <a:lnTo>
                    <a:pt x="391" y="2389"/>
                  </a:lnTo>
                  <a:lnTo>
                    <a:pt x="379" y="2383"/>
                  </a:lnTo>
                  <a:lnTo>
                    <a:pt x="368" y="2377"/>
                  </a:lnTo>
                  <a:lnTo>
                    <a:pt x="356" y="2373"/>
                  </a:lnTo>
                  <a:lnTo>
                    <a:pt x="343" y="2368"/>
                  </a:lnTo>
                  <a:lnTo>
                    <a:pt x="331" y="2365"/>
                  </a:lnTo>
                  <a:lnTo>
                    <a:pt x="318" y="2361"/>
                  </a:lnTo>
                  <a:lnTo>
                    <a:pt x="322" y="2365"/>
                  </a:lnTo>
                  <a:lnTo>
                    <a:pt x="324" y="2367"/>
                  </a:lnTo>
                  <a:lnTo>
                    <a:pt x="326" y="2369"/>
                  </a:lnTo>
                  <a:lnTo>
                    <a:pt x="330" y="2373"/>
                  </a:lnTo>
                  <a:lnTo>
                    <a:pt x="326" y="2376"/>
                  </a:lnTo>
                  <a:lnTo>
                    <a:pt x="324" y="2381"/>
                  </a:lnTo>
                  <a:lnTo>
                    <a:pt x="322" y="2385"/>
                  </a:lnTo>
                  <a:lnTo>
                    <a:pt x="318" y="2389"/>
                  </a:lnTo>
                  <a:lnTo>
                    <a:pt x="315" y="2386"/>
                  </a:lnTo>
                  <a:lnTo>
                    <a:pt x="310" y="2385"/>
                  </a:lnTo>
                  <a:lnTo>
                    <a:pt x="304" y="2383"/>
                  </a:lnTo>
                  <a:lnTo>
                    <a:pt x="301" y="2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336760" y="4732560"/>
              <a:ext cx="176400" cy="27000"/>
            </a:xfrm>
            <a:custGeom>
              <a:avLst/>
              <a:gdLst/>
              <a:ahLst/>
              <a:rect l="l" t="t" r="r" b="b"/>
              <a:pathLst>
                <a:path w="224" h="34">
                  <a:moveTo>
                    <a:pt x="0" y="0"/>
                  </a:moveTo>
                  <a:lnTo>
                    <a:pt x="9" y="2"/>
                  </a:lnTo>
                  <a:lnTo>
                    <a:pt x="17" y="4"/>
                  </a:lnTo>
                  <a:lnTo>
                    <a:pt x="27" y="8"/>
                  </a:lnTo>
                  <a:lnTo>
                    <a:pt x="34" y="11"/>
                  </a:lnTo>
                  <a:lnTo>
                    <a:pt x="40" y="15"/>
                  </a:lnTo>
                  <a:lnTo>
                    <a:pt x="47" y="18"/>
                  </a:lnTo>
                  <a:lnTo>
                    <a:pt x="55" y="22"/>
                  </a:lnTo>
                  <a:lnTo>
                    <a:pt x="65" y="24"/>
                  </a:lnTo>
                  <a:lnTo>
                    <a:pt x="75" y="26"/>
                  </a:lnTo>
                  <a:lnTo>
                    <a:pt x="85" y="29"/>
                  </a:lnTo>
                  <a:lnTo>
                    <a:pt x="97" y="30"/>
                  </a:lnTo>
                  <a:lnTo>
                    <a:pt x="110" y="31"/>
                  </a:lnTo>
                  <a:lnTo>
                    <a:pt x="122" y="32"/>
                  </a:lnTo>
                  <a:lnTo>
                    <a:pt x="135" y="33"/>
                  </a:lnTo>
                  <a:lnTo>
                    <a:pt x="149" y="33"/>
                  </a:lnTo>
                  <a:lnTo>
                    <a:pt x="164" y="34"/>
                  </a:lnTo>
                  <a:lnTo>
                    <a:pt x="178" y="34"/>
                  </a:lnTo>
                  <a:lnTo>
                    <a:pt x="193" y="34"/>
                  </a:lnTo>
                  <a:lnTo>
                    <a:pt x="209" y="33"/>
                  </a:lnTo>
                  <a:lnTo>
                    <a:pt x="224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554200" y="4724640"/>
              <a:ext cx="6480" cy="6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lnTo>
                    <a:pt x="6" y="3"/>
                  </a:lnTo>
                  <a:lnTo>
                    <a:pt x="6" y="5"/>
                  </a:lnTo>
                  <a:lnTo>
                    <a:pt x="7" y="6"/>
                  </a:lnTo>
                  <a:lnTo>
                    <a:pt x="8" y="8"/>
                  </a:lnTo>
                  <a:lnTo>
                    <a:pt x="6" y="6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241000" y="4702320"/>
              <a:ext cx="330120" cy="57240"/>
            </a:xfrm>
            <a:custGeom>
              <a:avLst/>
              <a:gdLst/>
              <a:ahLst/>
              <a:rect l="l" t="t" r="r" b="b"/>
              <a:pathLst>
                <a:path w="417" h="72">
                  <a:moveTo>
                    <a:pt x="108" y="49"/>
                  </a:moveTo>
                  <a:lnTo>
                    <a:pt x="98" y="45"/>
                  </a:lnTo>
                  <a:lnTo>
                    <a:pt x="87" y="41"/>
                  </a:lnTo>
                  <a:lnTo>
                    <a:pt x="76" y="38"/>
                  </a:lnTo>
                  <a:lnTo>
                    <a:pt x="65" y="33"/>
                  </a:lnTo>
                  <a:lnTo>
                    <a:pt x="54" y="29"/>
                  </a:lnTo>
                  <a:lnTo>
                    <a:pt x="45" y="23"/>
                  </a:lnTo>
                  <a:lnTo>
                    <a:pt x="36" y="17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4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0" y="30"/>
                  </a:lnTo>
                  <a:lnTo>
                    <a:pt x="22" y="35"/>
                  </a:lnTo>
                  <a:lnTo>
                    <a:pt x="13" y="26"/>
                  </a:lnTo>
                  <a:lnTo>
                    <a:pt x="6" y="17"/>
                  </a:lnTo>
                  <a:lnTo>
                    <a:pt x="1" y="9"/>
                  </a:lnTo>
                  <a:lnTo>
                    <a:pt x="0" y="0"/>
                  </a:lnTo>
                  <a:lnTo>
                    <a:pt x="417" y="63"/>
                  </a:lnTo>
                  <a:lnTo>
                    <a:pt x="396" y="65"/>
                  </a:lnTo>
                  <a:lnTo>
                    <a:pt x="373" y="67"/>
                  </a:lnTo>
                  <a:lnTo>
                    <a:pt x="349" y="69"/>
                  </a:lnTo>
                  <a:lnTo>
                    <a:pt x="326" y="70"/>
                  </a:lnTo>
                  <a:lnTo>
                    <a:pt x="303" y="71"/>
                  </a:lnTo>
                  <a:lnTo>
                    <a:pt x="280" y="71"/>
                  </a:lnTo>
                  <a:lnTo>
                    <a:pt x="257" y="72"/>
                  </a:lnTo>
                  <a:lnTo>
                    <a:pt x="235" y="71"/>
                  </a:lnTo>
                  <a:lnTo>
                    <a:pt x="215" y="71"/>
                  </a:lnTo>
                  <a:lnTo>
                    <a:pt x="195" y="70"/>
                  </a:lnTo>
                  <a:lnTo>
                    <a:pt x="175" y="69"/>
                  </a:lnTo>
                  <a:lnTo>
                    <a:pt x="158" y="67"/>
                  </a:lnTo>
                  <a:lnTo>
                    <a:pt x="143" y="63"/>
                  </a:lnTo>
                  <a:lnTo>
                    <a:pt x="129" y="60"/>
                  </a:lnTo>
                  <a:lnTo>
                    <a:pt x="117" y="55"/>
                  </a:lnTo>
                  <a:lnTo>
                    <a:pt x="108" y="49"/>
                  </a:lnTo>
                  <a:close/>
                </a:path>
              </a:pathLst>
            </a:custGeom>
            <a:solidFill>
              <a:srgbClr val="ffc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158200" y="4681800"/>
              <a:ext cx="414360" cy="77760"/>
            </a:xfrm>
            <a:custGeom>
              <a:avLst/>
              <a:gdLst/>
              <a:ahLst/>
              <a:rect l="l" t="t" r="r" b="b"/>
              <a:pathLst>
                <a:path w="521" h="98">
                  <a:moveTo>
                    <a:pt x="75" y="65"/>
                  </a:moveTo>
                  <a:lnTo>
                    <a:pt x="69" y="62"/>
                  </a:lnTo>
                  <a:lnTo>
                    <a:pt x="62" y="59"/>
                  </a:lnTo>
                  <a:lnTo>
                    <a:pt x="57" y="57"/>
                  </a:lnTo>
                  <a:lnTo>
                    <a:pt x="50" y="53"/>
                  </a:lnTo>
                  <a:lnTo>
                    <a:pt x="44" y="50"/>
                  </a:lnTo>
                  <a:lnTo>
                    <a:pt x="39" y="45"/>
                  </a:lnTo>
                  <a:lnTo>
                    <a:pt x="34" y="41"/>
                  </a:lnTo>
                  <a:lnTo>
                    <a:pt x="30" y="36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20" y="37"/>
                  </a:lnTo>
                  <a:lnTo>
                    <a:pt x="15" y="38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1" y="51"/>
                  </a:lnTo>
                  <a:lnTo>
                    <a:pt x="21" y="54"/>
                  </a:lnTo>
                  <a:lnTo>
                    <a:pt x="15" y="54"/>
                  </a:lnTo>
                  <a:lnTo>
                    <a:pt x="6" y="41"/>
                  </a:lnTo>
                  <a:lnTo>
                    <a:pt x="1" y="27"/>
                  </a:lnTo>
                  <a:lnTo>
                    <a:pt x="0" y="14"/>
                  </a:lnTo>
                  <a:lnTo>
                    <a:pt x="4" y="0"/>
                  </a:lnTo>
                  <a:lnTo>
                    <a:pt x="521" y="79"/>
                  </a:lnTo>
                  <a:lnTo>
                    <a:pt x="511" y="80"/>
                  </a:lnTo>
                  <a:lnTo>
                    <a:pt x="499" y="81"/>
                  </a:lnTo>
                  <a:lnTo>
                    <a:pt x="486" y="83"/>
                  </a:lnTo>
                  <a:lnTo>
                    <a:pt x="475" y="84"/>
                  </a:lnTo>
                  <a:lnTo>
                    <a:pt x="461" y="85"/>
                  </a:lnTo>
                  <a:lnTo>
                    <a:pt x="448" y="87"/>
                  </a:lnTo>
                  <a:lnTo>
                    <a:pt x="433" y="89"/>
                  </a:lnTo>
                  <a:lnTo>
                    <a:pt x="420" y="90"/>
                  </a:lnTo>
                  <a:lnTo>
                    <a:pt x="405" y="91"/>
                  </a:lnTo>
                  <a:lnTo>
                    <a:pt x="391" y="92"/>
                  </a:lnTo>
                  <a:lnTo>
                    <a:pt x="376" y="94"/>
                  </a:lnTo>
                  <a:lnTo>
                    <a:pt x="360" y="95"/>
                  </a:lnTo>
                  <a:lnTo>
                    <a:pt x="345" y="96"/>
                  </a:lnTo>
                  <a:lnTo>
                    <a:pt x="330" y="97"/>
                  </a:lnTo>
                  <a:lnTo>
                    <a:pt x="314" y="98"/>
                  </a:lnTo>
                  <a:lnTo>
                    <a:pt x="299" y="98"/>
                  </a:lnTo>
                  <a:lnTo>
                    <a:pt x="75" y="65"/>
                  </a:lnTo>
                  <a:close/>
                </a:path>
              </a:pathLst>
            </a:custGeom>
            <a:solidFill>
              <a:srgbClr val="ffd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118600" y="4662720"/>
              <a:ext cx="453960" cy="90360"/>
            </a:xfrm>
            <a:custGeom>
              <a:avLst/>
              <a:gdLst/>
              <a:ahLst/>
              <a:rect l="l" t="t" r="r" b="b"/>
              <a:pathLst>
                <a:path w="573" h="114">
                  <a:moveTo>
                    <a:pt x="15" y="0"/>
                  </a:moveTo>
                  <a:lnTo>
                    <a:pt x="8" y="13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1" y="51"/>
                  </a:lnTo>
                  <a:lnTo>
                    <a:pt x="418" y="114"/>
                  </a:lnTo>
                  <a:lnTo>
                    <a:pt x="443" y="112"/>
                  </a:lnTo>
                  <a:lnTo>
                    <a:pt x="465" y="109"/>
                  </a:lnTo>
                  <a:lnTo>
                    <a:pt x="485" y="106"/>
                  </a:lnTo>
                  <a:lnTo>
                    <a:pt x="505" y="104"/>
                  </a:lnTo>
                  <a:lnTo>
                    <a:pt x="523" y="103"/>
                  </a:lnTo>
                  <a:lnTo>
                    <a:pt x="538" y="100"/>
                  </a:lnTo>
                  <a:lnTo>
                    <a:pt x="552" y="99"/>
                  </a:lnTo>
                  <a:lnTo>
                    <a:pt x="564" y="98"/>
                  </a:lnTo>
                  <a:lnTo>
                    <a:pt x="567" y="95"/>
                  </a:lnTo>
                  <a:lnTo>
                    <a:pt x="569" y="91"/>
                  </a:lnTo>
                  <a:lnTo>
                    <a:pt x="571" y="88"/>
                  </a:lnTo>
                  <a:lnTo>
                    <a:pt x="573" y="8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115360" y="4643640"/>
              <a:ext cx="453960" cy="100080"/>
            </a:xfrm>
            <a:custGeom>
              <a:avLst/>
              <a:gdLst/>
              <a:ahLst/>
              <a:rect l="l" t="t" r="r" b="b"/>
              <a:pathLst>
                <a:path w="571" h="126">
                  <a:moveTo>
                    <a:pt x="26" y="0"/>
                  </a:moveTo>
                  <a:lnTo>
                    <a:pt x="17" y="11"/>
                  </a:lnTo>
                  <a:lnTo>
                    <a:pt x="10" y="24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517" y="126"/>
                  </a:lnTo>
                  <a:lnTo>
                    <a:pt x="524" y="124"/>
                  </a:lnTo>
                  <a:lnTo>
                    <a:pt x="530" y="124"/>
                  </a:lnTo>
                  <a:lnTo>
                    <a:pt x="537" y="123"/>
                  </a:lnTo>
                  <a:lnTo>
                    <a:pt x="542" y="123"/>
                  </a:lnTo>
                  <a:lnTo>
                    <a:pt x="547" y="123"/>
                  </a:lnTo>
                  <a:lnTo>
                    <a:pt x="552" y="122"/>
                  </a:lnTo>
                  <a:lnTo>
                    <a:pt x="556" y="122"/>
                  </a:lnTo>
                  <a:lnTo>
                    <a:pt x="560" y="121"/>
                  </a:lnTo>
                  <a:lnTo>
                    <a:pt x="563" y="118"/>
                  </a:lnTo>
                  <a:lnTo>
                    <a:pt x="567" y="114"/>
                  </a:lnTo>
                  <a:lnTo>
                    <a:pt x="569" y="109"/>
                  </a:lnTo>
                  <a:lnTo>
                    <a:pt x="571" y="105"/>
                  </a:lnTo>
                  <a:lnTo>
                    <a:pt x="567" y="98"/>
                  </a:lnTo>
                  <a:lnTo>
                    <a:pt x="562" y="91"/>
                  </a:lnTo>
                  <a:lnTo>
                    <a:pt x="558" y="85"/>
                  </a:lnTo>
                  <a:lnTo>
                    <a:pt x="555" y="7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115360" y="4624560"/>
              <a:ext cx="444600" cy="104760"/>
            </a:xfrm>
            <a:custGeom>
              <a:avLst/>
              <a:gdLst/>
              <a:ahLst/>
              <a:rect l="l" t="t" r="r" b="b"/>
              <a:pathLst>
                <a:path w="560" h="131">
                  <a:moveTo>
                    <a:pt x="27" y="0"/>
                  </a:moveTo>
                  <a:lnTo>
                    <a:pt x="21" y="12"/>
                  </a:lnTo>
                  <a:lnTo>
                    <a:pt x="14" y="24"/>
                  </a:lnTo>
                  <a:lnTo>
                    <a:pt x="7" y="35"/>
                  </a:lnTo>
                  <a:lnTo>
                    <a:pt x="0" y="47"/>
                  </a:lnTo>
                  <a:lnTo>
                    <a:pt x="558" y="131"/>
                  </a:lnTo>
                  <a:lnTo>
                    <a:pt x="559" y="131"/>
                  </a:lnTo>
                  <a:lnTo>
                    <a:pt x="560" y="130"/>
                  </a:lnTo>
                  <a:lnTo>
                    <a:pt x="560" y="129"/>
                  </a:lnTo>
                  <a:lnTo>
                    <a:pt x="560" y="129"/>
                  </a:lnTo>
                  <a:lnTo>
                    <a:pt x="550" y="112"/>
                  </a:lnTo>
                  <a:lnTo>
                    <a:pt x="542" y="98"/>
                  </a:lnTo>
                  <a:lnTo>
                    <a:pt x="534" y="85"/>
                  </a:lnTo>
                  <a:lnTo>
                    <a:pt x="527" y="7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127960" y="4604040"/>
              <a:ext cx="420840" cy="101520"/>
            </a:xfrm>
            <a:custGeom>
              <a:avLst/>
              <a:gdLst/>
              <a:ahLst/>
              <a:rect l="l" t="t" r="r" b="b"/>
              <a:pathLst>
                <a:path w="529" h="129">
                  <a:moveTo>
                    <a:pt x="23" y="0"/>
                  </a:moveTo>
                  <a:lnTo>
                    <a:pt x="17" y="14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529" y="129"/>
                  </a:lnTo>
                  <a:lnTo>
                    <a:pt x="524" y="121"/>
                  </a:lnTo>
                  <a:lnTo>
                    <a:pt x="520" y="113"/>
                  </a:lnTo>
                  <a:lnTo>
                    <a:pt x="515" y="105"/>
                  </a:lnTo>
                  <a:lnTo>
                    <a:pt x="511" y="98"/>
                  </a:lnTo>
                  <a:lnTo>
                    <a:pt x="507" y="92"/>
                  </a:lnTo>
                  <a:lnTo>
                    <a:pt x="501" y="86"/>
                  </a:lnTo>
                  <a:lnTo>
                    <a:pt x="496" y="79"/>
                  </a:lnTo>
                  <a:lnTo>
                    <a:pt x="489" y="7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142360" y="4586400"/>
              <a:ext cx="397080" cy="96840"/>
            </a:xfrm>
            <a:custGeom>
              <a:avLst/>
              <a:gdLst/>
              <a:ahLst/>
              <a:rect l="l" t="t" r="r" b="b"/>
              <a:pathLst>
                <a:path w="500" h="123">
                  <a:moveTo>
                    <a:pt x="0" y="49"/>
                  </a:moveTo>
                  <a:lnTo>
                    <a:pt x="5" y="37"/>
                  </a:lnTo>
                  <a:lnTo>
                    <a:pt x="10" y="26"/>
                  </a:lnTo>
                  <a:lnTo>
                    <a:pt x="15" y="14"/>
                  </a:lnTo>
                  <a:lnTo>
                    <a:pt x="17" y="0"/>
                  </a:lnTo>
                  <a:lnTo>
                    <a:pt x="22" y="6"/>
                  </a:lnTo>
                  <a:lnTo>
                    <a:pt x="26" y="11"/>
                  </a:lnTo>
                  <a:lnTo>
                    <a:pt x="28" y="15"/>
                  </a:lnTo>
                  <a:lnTo>
                    <a:pt x="31" y="20"/>
                  </a:lnTo>
                  <a:lnTo>
                    <a:pt x="34" y="20"/>
                  </a:lnTo>
                  <a:lnTo>
                    <a:pt x="38" y="21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3" y="17"/>
                  </a:lnTo>
                  <a:lnTo>
                    <a:pt x="45" y="12"/>
                  </a:lnTo>
                  <a:lnTo>
                    <a:pt x="45" y="6"/>
                  </a:lnTo>
                  <a:lnTo>
                    <a:pt x="45" y="0"/>
                  </a:lnTo>
                  <a:lnTo>
                    <a:pt x="428" y="60"/>
                  </a:lnTo>
                  <a:lnTo>
                    <a:pt x="429" y="61"/>
                  </a:lnTo>
                  <a:lnTo>
                    <a:pt x="431" y="63"/>
                  </a:lnTo>
                  <a:lnTo>
                    <a:pt x="432" y="64"/>
                  </a:lnTo>
                  <a:lnTo>
                    <a:pt x="433" y="65"/>
                  </a:lnTo>
                  <a:lnTo>
                    <a:pt x="448" y="74"/>
                  </a:lnTo>
                  <a:lnTo>
                    <a:pt x="461" y="82"/>
                  </a:lnTo>
                  <a:lnTo>
                    <a:pt x="470" y="89"/>
                  </a:lnTo>
                  <a:lnTo>
                    <a:pt x="479" y="96"/>
                  </a:lnTo>
                  <a:lnTo>
                    <a:pt x="485" y="103"/>
                  </a:lnTo>
                  <a:lnTo>
                    <a:pt x="491" y="110"/>
                  </a:lnTo>
                  <a:lnTo>
                    <a:pt x="495" y="116"/>
                  </a:lnTo>
                  <a:lnTo>
                    <a:pt x="500" y="12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d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62880" y="4565880"/>
              <a:ext cx="366840" cy="93600"/>
            </a:xfrm>
            <a:custGeom>
              <a:avLst/>
              <a:gdLst/>
              <a:ahLst/>
              <a:rect l="l" t="t" r="r" b="b"/>
              <a:pathLst>
                <a:path w="463" h="119">
                  <a:moveTo>
                    <a:pt x="0" y="47"/>
                  </a:moveTo>
                  <a:lnTo>
                    <a:pt x="1" y="44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6" y="25"/>
                  </a:lnTo>
                  <a:lnTo>
                    <a:pt x="11" y="31"/>
                  </a:lnTo>
                  <a:lnTo>
                    <a:pt x="15" y="36"/>
                  </a:lnTo>
                  <a:lnTo>
                    <a:pt x="17" y="40"/>
                  </a:lnTo>
                  <a:lnTo>
                    <a:pt x="20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7"/>
                  </a:lnTo>
                  <a:lnTo>
                    <a:pt x="32" y="36"/>
                  </a:lnTo>
                  <a:lnTo>
                    <a:pt x="34" y="23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401" y="56"/>
                  </a:lnTo>
                  <a:lnTo>
                    <a:pt x="405" y="66"/>
                  </a:lnTo>
                  <a:lnTo>
                    <a:pt x="410" y="75"/>
                  </a:lnTo>
                  <a:lnTo>
                    <a:pt x="415" y="83"/>
                  </a:lnTo>
                  <a:lnTo>
                    <a:pt x="422" y="90"/>
                  </a:lnTo>
                  <a:lnTo>
                    <a:pt x="429" y="95"/>
                  </a:lnTo>
                  <a:lnTo>
                    <a:pt x="436" y="98"/>
                  </a:lnTo>
                  <a:lnTo>
                    <a:pt x="440" y="103"/>
                  </a:lnTo>
                  <a:lnTo>
                    <a:pt x="446" y="106"/>
                  </a:lnTo>
                  <a:lnTo>
                    <a:pt x="451" y="108"/>
                  </a:lnTo>
                  <a:lnTo>
                    <a:pt x="455" y="112"/>
                  </a:lnTo>
                  <a:lnTo>
                    <a:pt x="460" y="115"/>
                  </a:lnTo>
                  <a:lnTo>
                    <a:pt x="463" y="11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99600" y="4545000"/>
              <a:ext cx="306360" cy="88920"/>
            </a:xfrm>
            <a:custGeom>
              <a:avLst/>
              <a:gdLst/>
              <a:ahLst/>
              <a:rect l="l" t="t" r="r" b="b"/>
              <a:pathLst>
                <a:path w="386" h="111">
                  <a:moveTo>
                    <a:pt x="0" y="0"/>
                  </a:moveTo>
                  <a:lnTo>
                    <a:pt x="1" y="13"/>
                  </a:lnTo>
                  <a:lnTo>
                    <a:pt x="3" y="27"/>
                  </a:lnTo>
                  <a:lnTo>
                    <a:pt x="3" y="39"/>
                  </a:lnTo>
                  <a:lnTo>
                    <a:pt x="3" y="51"/>
                  </a:lnTo>
                  <a:lnTo>
                    <a:pt x="386" y="111"/>
                  </a:lnTo>
                  <a:lnTo>
                    <a:pt x="377" y="99"/>
                  </a:lnTo>
                  <a:lnTo>
                    <a:pt x="370" y="84"/>
                  </a:lnTo>
                  <a:lnTo>
                    <a:pt x="364" y="69"/>
                  </a:lnTo>
                  <a:lnTo>
                    <a:pt x="35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212920" y="4524480"/>
              <a:ext cx="295200" cy="85680"/>
            </a:xfrm>
            <a:custGeom>
              <a:avLst/>
              <a:gdLst/>
              <a:ahLst/>
              <a:rect l="l" t="t" r="r" b="b"/>
              <a:pathLst>
                <a:path w="372" h="109">
                  <a:moveTo>
                    <a:pt x="0" y="0"/>
                  </a:moveTo>
                  <a:lnTo>
                    <a:pt x="1" y="14"/>
                  </a:lnTo>
                  <a:lnTo>
                    <a:pt x="3" y="28"/>
                  </a:lnTo>
                  <a:lnTo>
                    <a:pt x="5" y="40"/>
                  </a:lnTo>
                  <a:lnTo>
                    <a:pt x="5" y="53"/>
                  </a:lnTo>
                  <a:lnTo>
                    <a:pt x="372" y="109"/>
                  </a:lnTo>
                  <a:lnTo>
                    <a:pt x="366" y="96"/>
                  </a:lnTo>
                  <a:lnTo>
                    <a:pt x="361" y="82"/>
                  </a:lnTo>
                  <a:lnTo>
                    <a:pt x="355" y="68"/>
                  </a:lnTo>
                  <a:lnTo>
                    <a:pt x="35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222640" y="4503960"/>
              <a:ext cx="287280" cy="83880"/>
            </a:xfrm>
            <a:custGeom>
              <a:avLst/>
              <a:gdLst/>
              <a:ahLst/>
              <a:rect l="l" t="t" r="r" b="b"/>
              <a:pathLst>
                <a:path w="363" h="107">
                  <a:moveTo>
                    <a:pt x="0" y="0"/>
                  </a:moveTo>
                  <a:lnTo>
                    <a:pt x="1" y="13"/>
                  </a:lnTo>
                  <a:lnTo>
                    <a:pt x="3" y="26"/>
                  </a:lnTo>
                  <a:lnTo>
                    <a:pt x="4" y="39"/>
                  </a:lnTo>
                  <a:lnTo>
                    <a:pt x="4" y="52"/>
                  </a:lnTo>
                  <a:lnTo>
                    <a:pt x="363" y="107"/>
                  </a:lnTo>
                  <a:lnTo>
                    <a:pt x="357" y="91"/>
                  </a:lnTo>
                  <a:lnTo>
                    <a:pt x="351" y="75"/>
                  </a:lnTo>
                  <a:lnTo>
                    <a:pt x="344" y="61"/>
                  </a:lnTo>
                  <a:lnTo>
                    <a:pt x="336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230560" y="4483080"/>
              <a:ext cx="280800" cy="84240"/>
            </a:xfrm>
            <a:custGeom>
              <a:avLst/>
              <a:gdLst/>
              <a:ahLst/>
              <a:rect l="l" t="t" r="r" b="b"/>
              <a:pathLst>
                <a:path w="355" h="107">
                  <a:moveTo>
                    <a:pt x="0" y="0"/>
                  </a:moveTo>
                  <a:lnTo>
                    <a:pt x="2" y="13"/>
                  </a:lnTo>
                  <a:lnTo>
                    <a:pt x="4" y="26"/>
                  </a:lnTo>
                  <a:lnTo>
                    <a:pt x="5" y="39"/>
                  </a:lnTo>
                  <a:lnTo>
                    <a:pt x="5" y="52"/>
                  </a:lnTo>
                  <a:lnTo>
                    <a:pt x="355" y="107"/>
                  </a:lnTo>
                  <a:lnTo>
                    <a:pt x="352" y="96"/>
                  </a:lnTo>
                  <a:lnTo>
                    <a:pt x="346" y="85"/>
                  </a:lnTo>
                  <a:lnTo>
                    <a:pt x="340" y="77"/>
                  </a:lnTo>
                  <a:lnTo>
                    <a:pt x="332" y="72"/>
                  </a:lnTo>
                  <a:lnTo>
                    <a:pt x="332" y="66"/>
                  </a:lnTo>
                  <a:lnTo>
                    <a:pt x="332" y="60"/>
                  </a:lnTo>
                  <a:lnTo>
                    <a:pt x="331" y="55"/>
                  </a:lnTo>
                  <a:lnTo>
                    <a:pt x="330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243160" y="4461120"/>
              <a:ext cx="270000" cy="82440"/>
            </a:xfrm>
            <a:custGeom>
              <a:avLst/>
              <a:gdLst/>
              <a:ahLst/>
              <a:rect l="l" t="t" r="r" b="b"/>
              <a:pathLst>
                <a:path w="341" h="102">
                  <a:moveTo>
                    <a:pt x="0" y="0"/>
                  </a:moveTo>
                  <a:lnTo>
                    <a:pt x="0" y="12"/>
                  </a:lnTo>
                  <a:lnTo>
                    <a:pt x="1" y="26"/>
                  </a:lnTo>
                  <a:lnTo>
                    <a:pt x="4" y="39"/>
                  </a:lnTo>
                  <a:lnTo>
                    <a:pt x="5" y="53"/>
                  </a:lnTo>
                  <a:lnTo>
                    <a:pt x="341" y="102"/>
                  </a:lnTo>
                  <a:lnTo>
                    <a:pt x="340" y="101"/>
                  </a:lnTo>
                  <a:lnTo>
                    <a:pt x="338" y="99"/>
                  </a:lnTo>
                  <a:lnTo>
                    <a:pt x="337" y="98"/>
                  </a:lnTo>
                  <a:lnTo>
                    <a:pt x="334" y="98"/>
                  </a:lnTo>
                  <a:lnTo>
                    <a:pt x="334" y="88"/>
                  </a:lnTo>
                  <a:lnTo>
                    <a:pt x="333" y="79"/>
                  </a:lnTo>
                  <a:lnTo>
                    <a:pt x="332" y="71"/>
                  </a:lnTo>
                  <a:lnTo>
                    <a:pt x="332" y="62"/>
                  </a:lnTo>
                  <a:lnTo>
                    <a:pt x="326" y="60"/>
                  </a:lnTo>
                  <a:lnTo>
                    <a:pt x="320" y="58"/>
                  </a:lnTo>
                  <a:lnTo>
                    <a:pt x="316" y="56"/>
                  </a:lnTo>
                  <a:lnTo>
                    <a:pt x="310" y="53"/>
                  </a:lnTo>
                  <a:lnTo>
                    <a:pt x="310" y="50"/>
                  </a:lnTo>
                  <a:lnTo>
                    <a:pt x="309" y="48"/>
                  </a:lnTo>
                  <a:lnTo>
                    <a:pt x="308" y="47"/>
                  </a:lnTo>
                  <a:lnTo>
                    <a:pt x="308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50360" y="4440240"/>
              <a:ext cx="266760" cy="81000"/>
            </a:xfrm>
            <a:custGeom>
              <a:avLst/>
              <a:gdLst/>
              <a:ahLst/>
              <a:rect l="l" t="t" r="r" b="b"/>
              <a:pathLst>
                <a:path w="337" h="103">
                  <a:moveTo>
                    <a:pt x="0" y="0"/>
                  </a:moveTo>
                  <a:lnTo>
                    <a:pt x="3" y="13"/>
                  </a:lnTo>
                  <a:lnTo>
                    <a:pt x="4" y="26"/>
                  </a:lnTo>
                  <a:lnTo>
                    <a:pt x="6" y="39"/>
                  </a:lnTo>
                  <a:lnTo>
                    <a:pt x="7" y="53"/>
                  </a:lnTo>
                  <a:lnTo>
                    <a:pt x="337" y="103"/>
                  </a:lnTo>
                  <a:lnTo>
                    <a:pt x="337" y="99"/>
                  </a:lnTo>
                  <a:lnTo>
                    <a:pt x="337" y="96"/>
                  </a:lnTo>
                  <a:lnTo>
                    <a:pt x="337" y="92"/>
                  </a:lnTo>
                  <a:lnTo>
                    <a:pt x="337" y="89"/>
                  </a:lnTo>
                  <a:lnTo>
                    <a:pt x="331" y="87"/>
                  </a:lnTo>
                  <a:lnTo>
                    <a:pt x="325" y="85"/>
                  </a:lnTo>
                  <a:lnTo>
                    <a:pt x="321" y="83"/>
                  </a:lnTo>
                  <a:lnTo>
                    <a:pt x="315" y="80"/>
                  </a:lnTo>
                  <a:lnTo>
                    <a:pt x="314" y="72"/>
                  </a:lnTo>
                  <a:lnTo>
                    <a:pt x="312" y="65"/>
                  </a:lnTo>
                  <a:lnTo>
                    <a:pt x="310" y="55"/>
                  </a:lnTo>
                  <a:lnTo>
                    <a:pt x="31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270160" y="4419720"/>
              <a:ext cx="247680" cy="77760"/>
            </a:xfrm>
            <a:custGeom>
              <a:avLst/>
              <a:gdLst/>
              <a:ahLst/>
              <a:rect l="l" t="t" r="r" b="b"/>
              <a:pathLst>
                <a:path w="313" h="97">
                  <a:moveTo>
                    <a:pt x="0" y="0"/>
                  </a:moveTo>
                  <a:lnTo>
                    <a:pt x="0" y="12"/>
                  </a:lnTo>
                  <a:lnTo>
                    <a:pt x="2" y="24"/>
                  </a:lnTo>
                  <a:lnTo>
                    <a:pt x="4" y="38"/>
                  </a:lnTo>
                  <a:lnTo>
                    <a:pt x="5" y="52"/>
                  </a:lnTo>
                  <a:lnTo>
                    <a:pt x="313" y="97"/>
                  </a:lnTo>
                  <a:lnTo>
                    <a:pt x="312" y="86"/>
                  </a:lnTo>
                  <a:lnTo>
                    <a:pt x="310" y="74"/>
                  </a:lnTo>
                  <a:lnTo>
                    <a:pt x="309" y="60"/>
                  </a:lnTo>
                  <a:lnTo>
                    <a:pt x="31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271600" y="4397400"/>
              <a:ext cx="247680" cy="79560"/>
            </a:xfrm>
            <a:custGeom>
              <a:avLst/>
              <a:gdLst/>
              <a:ahLst/>
              <a:rect l="l" t="t" r="r" b="b"/>
              <a:pathLst>
                <a:path w="312" h="100">
                  <a:moveTo>
                    <a:pt x="0" y="0"/>
                  </a:moveTo>
                  <a:lnTo>
                    <a:pt x="0" y="14"/>
                  </a:lnTo>
                  <a:lnTo>
                    <a:pt x="1" y="26"/>
                  </a:lnTo>
                  <a:lnTo>
                    <a:pt x="2" y="40"/>
                  </a:lnTo>
                  <a:lnTo>
                    <a:pt x="2" y="54"/>
                  </a:lnTo>
                  <a:lnTo>
                    <a:pt x="312" y="100"/>
                  </a:lnTo>
                  <a:lnTo>
                    <a:pt x="311" y="89"/>
                  </a:lnTo>
                  <a:lnTo>
                    <a:pt x="311" y="75"/>
                  </a:lnTo>
                  <a:lnTo>
                    <a:pt x="312" y="62"/>
                  </a:lnTo>
                  <a:lnTo>
                    <a:pt x="312" y="47"/>
                  </a:lnTo>
                  <a:lnTo>
                    <a:pt x="228" y="36"/>
                  </a:lnTo>
                  <a:lnTo>
                    <a:pt x="228" y="38"/>
                  </a:lnTo>
                  <a:lnTo>
                    <a:pt x="225" y="38"/>
                  </a:lnTo>
                  <a:lnTo>
                    <a:pt x="221" y="38"/>
                  </a:lnTo>
                  <a:lnTo>
                    <a:pt x="218" y="38"/>
                  </a:lnTo>
                  <a:lnTo>
                    <a:pt x="214" y="38"/>
                  </a:lnTo>
                  <a:lnTo>
                    <a:pt x="214" y="38"/>
                  </a:lnTo>
                  <a:lnTo>
                    <a:pt x="214" y="37"/>
                  </a:lnTo>
                  <a:lnTo>
                    <a:pt x="214" y="35"/>
                  </a:lnTo>
                  <a:lnTo>
                    <a:pt x="214" y="33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52" y="18"/>
                  </a:lnTo>
                  <a:lnTo>
                    <a:pt x="49" y="22"/>
                  </a:lnTo>
                  <a:lnTo>
                    <a:pt x="45" y="25"/>
                  </a:lnTo>
                  <a:lnTo>
                    <a:pt x="43" y="25"/>
                  </a:lnTo>
                  <a:lnTo>
                    <a:pt x="41" y="24"/>
                  </a:lnTo>
                  <a:lnTo>
                    <a:pt x="38" y="22"/>
                  </a:lnTo>
                  <a:lnTo>
                    <a:pt x="36" y="21"/>
                  </a:lnTo>
                  <a:lnTo>
                    <a:pt x="36" y="17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266200" y="4378320"/>
              <a:ext cx="252360" cy="77760"/>
            </a:xfrm>
            <a:custGeom>
              <a:avLst/>
              <a:gdLst/>
              <a:ahLst/>
              <a:rect l="l" t="t" r="r" b="b"/>
              <a:pathLst>
                <a:path w="317" h="98">
                  <a:moveTo>
                    <a:pt x="0" y="0"/>
                  </a:moveTo>
                  <a:lnTo>
                    <a:pt x="0" y="12"/>
                  </a:lnTo>
                  <a:lnTo>
                    <a:pt x="0" y="25"/>
                  </a:lnTo>
                  <a:lnTo>
                    <a:pt x="1" y="39"/>
                  </a:lnTo>
                  <a:lnTo>
                    <a:pt x="2" y="53"/>
                  </a:lnTo>
                  <a:lnTo>
                    <a:pt x="312" y="98"/>
                  </a:lnTo>
                  <a:lnTo>
                    <a:pt x="312" y="86"/>
                  </a:lnTo>
                  <a:lnTo>
                    <a:pt x="314" y="74"/>
                  </a:lnTo>
                  <a:lnTo>
                    <a:pt x="316" y="60"/>
                  </a:lnTo>
                  <a:lnTo>
                    <a:pt x="317" y="47"/>
                  </a:lnTo>
                  <a:lnTo>
                    <a:pt x="231" y="33"/>
                  </a:lnTo>
                  <a:lnTo>
                    <a:pt x="229" y="40"/>
                  </a:lnTo>
                  <a:lnTo>
                    <a:pt x="228" y="47"/>
                  </a:lnTo>
                  <a:lnTo>
                    <a:pt x="228" y="55"/>
                  </a:lnTo>
                  <a:lnTo>
                    <a:pt x="228" y="62"/>
                  </a:lnTo>
                  <a:lnTo>
                    <a:pt x="225" y="62"/>
                  </a:lnTo>
                  <a:lnTo>
                    <a:pt x="221" y="62"/>
                  </a:lnTo>
                  <a:lnTo>
                    <a:pt x="218" y="62"/>
                  </a:lnTo>
                  <a:lnTo>
                    <a:pt x="214" y="62"/>
                  </a:lnTo>
                  <a:lnTo>
                    <a:pt x="214" y="60"/>
                  </a:lnTo>
                  <a:lnTo>
                    <a:pt x="214" y="53"/>
                  </a:lnTo>
                  <a:lnTo>
                    <a:pt x="214" y="42"/>
                  </a:lnTo>
                  <a:lnTo>
                    <a:pt x="214" y="31"/>
                  </a:lnTo>
                  <a:lnTo>
                    <a:pt x="152" y="22"/>
                  </a:lnTo>
                  <a:lnTo>
                    <a:pt x="151" y="26"/>
                  </a:lnTo>
                  <a:lnTo>
                    <a:pt x="150" y="32"/>
                  </a:lnTo>
                  <a:lnTo>
                    <a:pt x="149" y="37"/>
                  </a:lnTo>
                  <a:lnTo>
                    <a:pt x="148" y="40"/>
                  </a:lnTo>
                  <a:lnTo>
                    <a:pt x="147" y="39"/>
                  </a:lnTo>
                  <a:lnTo>
                    <a:pt x="145" y="36"/>
                  </a:lnTo>
                  <a:lnTo>
                    <a:pt x="145" y="30"/>
                  </a:lnTo>
                  <a:lnTo>
                    <a:pt x="145" y="22"/>
                  </a:lnTo>
                  <a:lnTo>
                    <a:pt x="58" y="7"/>
                  </a:lnTo>
                  <a:lnTo>
                    <a:pt x="59" y="19"/>
                  </a:lnTo>
                  <a:lnTo>
                    <a:pt x="57" y="30"/>
                  </a:lnTo>
                  <a:lnTo>
                    <a:pt x="53" y="40"/>
                  </a:lnTo>
                  <a:lnTo>
                    <a:pt x="45" y="49"/>
                  </a:lnTo>
                  <a:lnTo>
                    <a:pt x="43" y="49"/>
                  </a:lnTo>
                  <a:lnTo>
                    <a:pt x="41" y="48"/>
                  </a:lnTo>
                  <a:lnTo>
                    <a:pt x="38" y="46"/>
                  </a:lnTo>
                  <a:lnTo>
                    <a:pt x="36" y="45"/>
                  </a:lnTo>
                  <a:lnTo>
                    <a:pt x="36" y="36"/>
                  </a:lnTo>
                  <a:lnTo>
                    <a:pt x="36" y="26"/>
                  </a:lnTo>
                  <a:lnTo>
                    <a:pt x="36" y="16"/>
                  </a:lnTo>
                  <a:lnTo>
                    <a:pt x="36" y="7"/>
                  </a:lnTo>
                  <a:lnTo>
                    <a:pt x="32" y="6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490120" y="4375440"/>
              <a:ext cx="28440" cy="266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29"/>
                  </a:moveTo>
                  <a:lnTo>
                    <a:pt x="0" y="21"/>
                  </a:lnTo>
                  <a:lnTo>
                    <a:pt x="0" y="14"/>
                  </a:lnTo>
                  <a:lnTo>
                    <a:pt x="1" y="7"/>
                  </a:lnTo>
                  <a:lnTo>
                    <a:pt x="2" y="0"/>
                  </a:lnTo>
                  <a:lnTo>
                    <a:pt x="11" y="4"/>
                  </a:lnTo>
                  <a:lnTo>
                    <a:pt x="19" y="6"/>
                  </a:lnTo>
                  <a:lnTo>
                    <a:pt x="27" y="8"/>
                  </a:lnTo>
                  <a:lnTo>
                    <a:pt x="36" y="12"/>
                  </a:lnTo>
                  <a:lnTo>
                    <a:pt x="36" y="17"/>
                  </a:lnTo>
                  <a:lnTo>
                    <a:pt x="36" y="23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e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349360" y="4362480"/>
              <a:ext cx="131760" cy="61920"/>
            </a:xfrm>
            <a:custGeom>
              <a:avLst/>
              <a:gdLst/>
              <a:ahLst/>
              <a:rect l="l" t="t" r="r" b="b"/>
              <a:pathLst>
                <a:path w="167" h="77">
                  <a:moveTo>
                    <a:pt x="0" y="0"/>
                  </a:moveTo>
                  <a:lnTo>
                    <a:pt x="5" y="14"/>
                  </a:lnTo>
                  <a:lnTo>
                    <a:pt x="10" y="27"/>
                  </a:lnTo>
                  <a:lnTo>
                    <a:pt x="11" y="41"/>
                  </a:lnTo>
                  <a:lnTo>
                    <a:pt x="7" y="53"/>
                  </a:lnTo>
                  <a:lnTo>
                    <a:pt x="167" y="77"/>
                  </a:lnTo>
                  <a:lnTo>
                    <a:pt x="167" y="68"/>
                  </a:lnTo>
                  <a:lnTo>
                    <a:pt x="167" y="56"/>
                  </a:lnTo>
                  <a:lnTo>
                    <a:pt x="167" y="41"/>
                  </a:lnTo>
                  <a:lnTo>
                    <a:pt x="167" y="24"/>
                  </a:lnTo>
                  <a:lnTo>
                    <a:pt x="110" y="15"/>
                  </a:lnTo>
                  <a:lnTo>
                    <a:pt x="108" y="27"/>
                  </a:lnTo>
                  <a:lnTo>
                    <a:pt x="105" y="38"/>
                  </a:lnTo>
                  <a:lnTo>
                    <a:pt x="103" y="50"/>
                  </a:lnTo>
                  <a:lnTo>
                    <a:pt x="101" y="60"/>
                  </a:lnTo>
                  <a:lnTo>
                    <a:pt x="100" y="57"/>
                  </a:lnTo>
                  <a:lnTo>
                    <a:pt x="98" y="46"/>
                  </a:lnTo>
                  <a:lnTo>
                    <a:pt x="98" y="31"/>
                  </a:lnTo>
                  <a:lnTo>
                    <a:pt x="98" y="15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2"/>
                  </a:lnTo>
                  <a:lnTo>
                    <a:pt x="79" y="11"/>
                  </a:lnTo>
                  <a:lnTo>
                    <a:pt x="51" y="8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7"/>
                  </a:lnTo>
                  <a:lnTo>
                    <a:pt x="4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264760" y="4383360"/>
              <a:ext cx="73080" cy="5220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6" y="0"/>
                  </a:moveTo>
                  <a:lnTo>
                    <a:pt x="4" y="12"/>
                  </a:lnTo>
                  <a:lnTo>
                    <a:pt x="1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84" y="64"/>
                  </a:lnTo>
                  <a:lnTo>
                    <a:pt x="87" y="52"/>
                  </a:lnTo>
                  <a:lnTo>
                    <a:pt x="88" y="39"/>
                  </a:lnTo>
                  <a:lnTo>
                    <a:pt x="90" y="27"/>
                  </a:lnTo>
                  <a:lnTo>
                    <a:pt x="91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e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503440" y="4375440"/>
              <a:ext cx="15840" cy="468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5"/>
                  </a:move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1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403360" y="4340520"/>
              <a:ext cx="84240" cy="5544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0" y="0"/>
                  </a:moveTo>
                  <a:lnTo>
                    <a:pt x="2" y="13"/>
                  </a:lnTo>
                  <a:lnTo>
                    <a:pt x="6" y="27"/>
                  </a:lnTo>
                  <a:lnTo>
                    <a:pt x="12" y="41"/>
                  </a:lnTo>
                  <a:lnTo>
                    <a:pt x="17" y="54"/>
                  </a:lnTo>
                  <a:lnTo>
                    <a:pt x="104" y="69"/>
                  </a:lnTo>
                  <a:lnTo>
                    <a:pt x="104" y="56"/>
                  </a:lnTo>
                  <a:lnTo>
                    <a:pt x="104" y="42"/>
                  </a:lnTo>
                  <a:lnTo>
                    <a:pt x="104" y="28"/>
                  </a:lnTo>
                  <a:lnTo>
                    <a:pt x="104" y="16"/>
                  </a:lnTo>
                  <a:lnTo>
                    <a:pt x="95" y="13"/>
                  </a:lnTo>
                  <a:lnTo>
                    <a:pt x="94" y="19"/>
                  </a:lnTo>
                  <a:lnTo>
                    <a:pt x="92" y="24"/>
                  </a:lnTo>
                  <a:lnTo>
                    <a:pt x="91" y="31"/>
                  </a:lnTo>
                  <a:lnTo>
                    <a:pt x="91" y="38"/>
                  </a:lnTo>
                  <a:lnTo>
                    <a:pt x="88" y="38"/>
                  </a:lnTo>
                  <a:lnTo>
                    <a:pt x="87" y="39"/>
                  </a:lnTo>
                  <a:lnTo>
                    <a:pt x="86" y="40"/>
                  </a:lnTo>
                  <a:lnTo>
                    <a:pt x="85" y="40"/>
                  </a:lnTo>
                  <a:lnTo>
                    <a:pt x="85" y="33"/>
                  </a:lnTo>
                  <a:lnTo>
                    <a:pt x="85" y="26"/>
                  </a:lnTo>
                  <a:lnTo>
                    <a:pt x="85" y="19"/>
                  </a:lnTo>
                  <a:lnTo>
                    <a:pt x="85" y="13"/>
                  </a:lnTo>
                  <a:lnTo>
                    <a:pt x="64" y="9"/>
                  </a:lnTo>
                  <a:lnTo>
                    <a:pt x="61" y="18"/>
                  </a:lnTo>
                  <a:lnTo>
                    <a:pt x="58" y="26"/>
                  </a:lnTo>
                  <a:lnTo>
                    <a:pt x="57" y="34"/>
                  </a:lnTo>
                  <a:lnTo>
                    <a:pt x="55" y="40"/>
                  </a:lnTo>
                  <a:lnTo>
                    <a:pt x="54" y="32"/>
                  </a:lnTo>
                  <a:lnTo>
                    <a:pt x="53" y="24"/>
                  </a:lnTo>
                  <a:lnTo>
                    <a:pt x="53" y="16"/>
                  </a:lnTo>
                  <a:lnTo>
                    <a:pt x="5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347200" y="4354560"/>
              <a:ext cx="50760" cy="47520"/>
            </a:xfrm>
            <a:custGeom>
              <a:avLst/>
              <a:gdLst/>
              <a:ahLst/>
              <a:rect l="l" t="t" r="r" b="b"/>
              <a:pathLst>
                <a:path w="65" h="60">
                  <a:moveTo>
                    <a:pt x="13" y="0"/>
                  </a:moveTo>
                  <a:lnTo>
                    <a:pt x="9" y="13"/>
                  </a:lnTo>
                  <a:lnTo>
                    <a:pt x="6" y="25"/>
                  </a:lnTo>
                  <a:lnTo>
                    <a:pt x="4" y="38"/>
                  </a:lnTo>
                  <a:lnTo>
                    <a:pt x="0" y="51"/>
                  </a:lnTo>
                  <a:lnTo>
                    <a:pt x="62" y="60"/>
                  </a:lnTo>
                  <a:lnTo>
                    <a:pt x="62" y="47"/>
                  </a:lnTo>
                  <a:lnTo>
                    <a:pt x="62" y="33"/>
                  </a:lnTo>
                  <a:lnTo>
                    <a:pt x="64" y="20"/>
                  </a:lnTo>
                  <a:lnTo>
                    <a:pt x="65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261520" y="4362480"/>
              <a:ext cx="74520" cy="54000"/>
            </a:xfrm>
            <a:custGeom>
              <a:avLst/>
              <a:gdLst/>
              <a:ahLst/>
              <a:rect l="l" t="t" r="r" b="b"/>
              <a:pathLst>
                <a:path w="93" h="67">
                  <a:moveTo>
                    <a:pt x="5" y="0"/>
                  </a:moveTo>
                  <a:lnTo>
                    <a:pt x="3" y="14"/>
                  </a:lnTo>
                  <a:lnTo>
                    <a:pt x="2" y="28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86" y="67"/>
                  </a:lnTo>
                  <a:lnTo>
                    <a:pt x="88" y="54"/>
                  </a:lnTo>
                  <a:lnTo>
                    <a:pt x="89" y="41"/>
                  </a:lnTo>
                  <a:lnTo>
                    <a:pt x="92" y="28"/>
                  </a:lnTo>
                  <a:lnTo>
                    <a:pt x="93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443320" y="4319640"/>
              <a:ext cx="47520" cy="475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1" y="13"/>
                  </a:lnTo>
                  <a:lnTo>
                    <a:pt x="5" y="27"/>
                  </a:lnTo>
                  <a:lnTo>
                    <a:pt x="8" y="40"/>
                  </a:lnTo>
                  <a:lnTo>
                    <a:pt x="11" y="54"/>
                  </a:lnTo>
                  <a:lnTo>
                    <a:pt x="60" y="60"/>
                  </a:lnTo>
                  <a:lnTo>
                    <a:pt x="59" y="47"/>
                  </a:lnTo>
                  <a:lnTo>
                    <a:pt x="59" y="35"/>
                  </a:lnTo>
                  <a:lnTo>
                    <a:pt x="59" y="21"/>
                  </a:lnTo>
                  <a:lnTo>
                    <a:pt x="6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419200" y="4329360"/>
              <a:ext cx="22320" cy="410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2" y="0"/>
                  </a:moveTo>
                  <a:lnTo>
                    <a:pt x="9" y="12"/>
                  </a:lnTo>
                  <a:lnTo>
                    <a:pt x="6" y="26"/>
                  </a:lnTo>
                  <a:lnTo>
                    <a:pt x="2" y="39"/>
                  </a:lnTo>
                  <a:lnTo>
                    <a:pt x="0" y="50"/>
                  </a:lnTo>
                  <a:lnTo>
                    <a:pt x="28" y="53"/>
                  </a:lnTo>
                  <a:lnTo>
                    <a:pt x="28" y="40"/>
                  </a:lnTo>
                  <a:lnTo>
                    <a:pt x="29" y="27"/>
                  </a:lnTo>
                  <a:lnTo>
                    <a:pt x="29" y="15"/>
                  </a:lnTo>
                  <a:lnTo>
                    <a:pt x="28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403360" y="4332240"/>
              <a:ext cx="12960" cy="4320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0" y="51"/>
                  </a:moveTo>
                  <a:lnTo>
                    <a:pt x="0" y="50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4" y="35"/>
                  </a:lnTo>
                  <a:lnTo>
                    <a:pt x="7" y="23"/>
                  </a:lnTo>
                  <a:lnTo>
                    <a:pt x="12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22"/>
                  </a:lnTo>
                  <a:lnTo>
                    <a:pt x="16" y="37"/>
                  </a:lnTo>
                  <a:lnTo>
                    <a:pt x="16" y="53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47920" y="4337280"/>
              <a:ext cx="47520" cy="4428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0" y="47"/>
                  </a:moveTo>
                  <a:lnTo>
                    <a:pt x="3" y="36"/>
                  </a:lnTo>
                  <a:lnTo>
                    <a:pt x="7" y="24"/>
                  </a:lnTo>
                  <a:lnTo>
                    <a:pt x="9" y="1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60" y="5"/>
                  </a:lnTo>
                  <a:lnTo>
                    <a:pt x="60" y="15"/>
                  </a:lnTo>
                  <a:lnTo>
                    <a:pt x="60" y="28"/>
                  </a:lnTo>
                  <a:lnTo>
                    <a:pt x="59" y="43"/>
                  </a:lnTo>
                  <a:lnTo>
                    <a:pt x="57" y="56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258280" y="4345200"/>
              <a:ext cx="74520" cy="50760"/>
            </a:xfrm>
            <a:custGeom>
              <a:avLst/>
              <a:gdLst/>
              <a:ahLst/>
              <a:rect l="l" t="t" r="r" b="b"/>
              <a:pathLst>
                <a:path w="95" h="65">
                  <a:moveTo>
                    <a:pt x="5" y="0"/>
                  </a:moveTo>
                  <a:lnTo>
                    <a:pt x="4" y="13"/>
                  </a:lnTo>
                  <a:lnTo>
                    <a:pt x="1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85" y="65"/>
                  </a:lnTo>
                  <a:lnTo>
                    <a:pt x="88" y="52"/>
                  </a:lnTo>
                  <a:lnTo>
                    <a:pt x="90" y="39"/>
                  </a:lnTo>
                  <a:lnTo>
                    <a:pt x="92" y="26"/>
                  </a:lnTo>
                  <a:lnTo>
                    <a:pt x="95" y="12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6" y="15"/>
                  </a:lnTo>
                  <a:lnTo>
                    <a:pt x="75" y="16"/>
                  </a:lnTo>
                  <a:lnTo>
                    <a:pt x="74" y="19"/>
                  </a:lnTo>
                  <a:lnTo>
                    <a:pt x="69" y="19"/>
                  </a:lnTo>
                  <a:lnTo>
                    <a:pt x="66" y="19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9" y="14"/>
                  </a:lnTo>
                  <a:lnTo>
                    <a:pt x="59" y="13"/>
                  </a:lnTo>
                  <a:lnTo>
                    <a:pt x="59" y="11"/>
                  </a:lnTo>
                  <a:lnTo>
                    <a:pt x="59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41520" y="4300560"/>
              <a:ext cx="47520" cy="460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" y="51"/>
                  </a:moveTo>
                  <a:lnTo>
                    <a:pt x="1" y="4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14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1"/>
                  </a:lnTo>
                  <a:lnTo>
                    <a:pt x="22" y="7"/>
                  </a:lnTo>
                  <a:lnTo>
                    <a:pt x="23" y="3"/>
                  </a:lnTo>
                  <a:lnTo>
                    <a:pt x="25" y="0"/>
                  </a:lnTo>
                  <a:lnTo>
                    <a:pt x="61" y="7"/>
                  </a:lnTo>
                  <a:lnTo>
                    <a:pt x="60" y="19"/>
                  </a:lnTo>
                  <a:lnTo>
                    <a:pt x="58" y="32"/>
                  </a:lnTo>
                  <a:lnTo>
                    <a:pt x="57" y="45"/>
                  </a:lnTo>
                  <a:lnTo>
                    <a:pt x="57" y="57"/>
                  </a:lnTo>
                  <a:lnTo>
                    <a:pt x="4" y="51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417040" y="4308480"/>
              <a:ext cx="17640" cy="428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0"/>
                  </a:moveTo>
                  <a:lnTo>
                    <a:pt x="3" y="36"/>
                  </a:lnTo>
                  <a:lnTo>
                    <a:pt x="7" y="23"/>
                  </a:lnTo>
                  <a:lnTo>
                    <a:pt x="9" y="11"/>
                  </a:lnTo>
                  <a:lnTo>
                    <a:pt x="12" y="0"/>
                  </a:lnTo>
                  <a:lnTo>
                    <a:pt x="18" y="12"/>
                  </a:lnTo>
                  <a:lnTo>
                    <a:pt x="22" y="24"/>
                  </a:lnTo>
                  <a:lnTo>
                    <a:pt x="23" y="38"/>
                  </a:lnTo>
                  <a:lnTo>
                    <a:pt x="21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403360" y="4329360"/>
              <a:ext cx="792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28"/>
                  </a:moveTo>
                  <a:lnTo>
                    <a:pt x="2" y="21"/>
                  </a:lnTo>
                  <a:lnTo>
                    <a:pt x="4" y="15"/>
                  </a:lnTo>
                  <a:lnTo>
                    <a:pt x="6" y="8"/>
                  </a:lnTo>
                  <a:lnTo>
                    <a:pt x="9" y="0"/>
                  </a:lnTo>
                  <a:lnTo>
                    <a:pt x="9" y="3"/>
                  </a:lnTo>
                  <a:lnTo>
                    <a:pt x="9" y="10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347200" y="4334040"/>
              <a:ext cx="4140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0" y="27"/>
                  </a:move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29" y="2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2" y="5"/>
                  </a:lnTo>
                  <a:lnTo>
                    <a:pt x="52" y="12"/>
                  </a:lnTo>
                  <a:lnTo>
                    <a:pt x="52" y="22"/>
                  </a:lnTo>
                  <a:lnTo>
                    <a:pt x="52" y="3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254320" y="4329360"/>
              <a:ext cx="77760" cy="4608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0" y="41"/>
                  </a:moveTo>
                  <a:lnTo>
                    <a:pt x="0" y="32"/>
                  </a:lnTo>
                  <a:lnTo>
                    <a:pt x="2" y="24"/>
                  </a:lnTo>
                  <a:lnTo>
                    <a:pt x="3" y="15"/>
                  </a:lnTo>
                  <a:lnTo>
                    <a:pt x="3" y="5"/>
                  </a:lnTo>
                  <a:lnTo>
                    <a:pt x="11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60" y="10"/>
                  </a:lnTo>
                  <a:lnTo>
                    <a:pt x="59" y="19"/>
                  </a:lnTo>
                  <a:lnTo>
                    <a:pt x="58" y="27"/>
                  </a:lnTo>
                  <a:lnTo>
                    <a:pt x="57" y="34"/>
                  </a:lnTo>
                  <a:lnTo>
                    <a:pt x="60" y="35"/>
                  </a:lnTo>
                  <a:lnTo>
                    <a:pt x="64" y="37"/>
                  </a:lnTo>
                  <a:lnTo>
                    <a:pt x="67" y="37"/>
                  </a:lnTo>
                  <a:lnTo>
                    <a:pt x="72" y="37"/>
                  </a:lnTo>
                  <a:lnTo>
                    <a:pt x="73" y="27"/>
                  </a:lnTo>
                  <a:lnTo>
                    <a:pt x="75" y="19"/>
                  </a:lnTo>
                  <a:lnTo>
                    <a:pt x="76" y="10"/>
                  </a:lnTo>
                  <a:lnTo>
                    <a:pt x="76" y="1"/>
                  </a:lnTo>
                  <a:lnTo>
                    <a:pt x="97" y="5"/>
                  </a:lnTo>
                  <a:lnTo>
                    <a:pt x="95" y="18"/>
                  </a:lnTo>
                  <a:lnTo>
                    <a:pt x="93" y="31"/>
                  </a:lnTo>
                  <a:lnTo>
                    <a:pt x="90" y="44"/>
                  </a:lnTo>
                  <a:lnTo>
                    <a:pt x="88" y="5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440800" y="4292640"/>
              <a:ext cx="49320" cy="316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0" y="33"/>
                  </a:moveTo>
                  <a:lnTo>
                    <a:pt x="1" y="30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21" y="18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9" y="2"/>
                  </a:lnTo>
                  <a:lnTo>
                    <a:pt x="37" y="2"/>
                  </a:lnTo>
                  <a:lnTo>
                    <a:pt x="46" y="1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60" y="31"/>
                  </a:lnTo>
                  <a:lnTo>
                    <a:pt x="60" y="4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419200" y="430848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26"/>
                  </a:moveTo>
                  <a:lnTo>
                    <a:pt x="2" y="19"/>
                  </a:lnTo>
                  <a:lnTo>
                    <a:pt x="3" y="12"/>
                  </a:lnTo>
                  <a:lnTo>
                    <a:pt x="5" y="6"/>
                  </a:lnTo>
                  <a:lnTo>
                    <a:pt x="7" y="0"/>
                  </a:lnTo>
                  <a:lnTo>
                    <a:pt x="10" y="6"/>
                  </a:lnTo>
                  <a:lnTo>
                    <a:pt x="13" y="12"/>
                  </a:lnTo>
                  <a:lnTo>
                    <a:pt x="15" y="20"/>
                  </a:lnTo>
                  <a:lnTo>
                    <a:pt x="16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401920" y="4329360"/>
              <a:ext cx="1440" cy="28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47920" y="4334040"/>
              <a:ext cx="30240" cy="648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0" y="4"/>
                  </a:moveTo>
                  <a:lnTo>
                    <a:pt x="4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8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282760" y="4329360"/>
              <a:ext cx="47520" cy="205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18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8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57" y="7"/>
                  </a:lnTo>
                  <a:lnTo>
                    <a:pt x="56" y="14"/>
                  </a:lnTo>
                  <a:lnTo>
                    <a:pt x="55" y="19"/>
                  </a:lnTo>
                  <a:lnTo>
                    <a:pt x="54" y="2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251080" y="4311720"/>
              <a:ext cx="22320" cy="4140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5" y="0"/>
                  </a:moveTo>
                  <a:lnTo>
                    <a:pt x="5" y="13"/>
                  </a:lnTo>
                  <a:lnTo>
                    <a:pt x="4" y="24"/>
                  </a:lnTo>
                  <a:lnTo>
                    <a:pt x="1" y="37"/>
                  </a:lnTo>
                  <a:lnTo>
                    <a:pt x="0" y="49"/>
                  </a:lnTo>
                  <a:lnTo>
                    <a:pt x="19" y="52"/>
                  </a:lnTo>
                  <a:lnTo>
                    <a:pt x="21" y="39"/>
                  </a:lnTo>
                  <a:lnTo>
                    <a:pt x="23" y="26"/>
                  </a:lnTo>
                  <a:lnTo>
                    <a:pt x="27" y="15"/>
                  </a:lnTo>
                  <a:lnTo>
                    <a:pt x="29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441520" y="4292640"/>
              <a:ext cx="28800" cy="126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9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1" y="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3"/>
                  </a:lnTo>
                  <a:lnTo>
                    <a:pt x="36" y="7"/>
                  </a:lnTo>
                  <a:lnTo>
                    <a:pt x="36" y="11"/>
                  </a:lnTo>
                  <a:lnTo>
                    <a:pt x="36" y="1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246400" y="4291200"/>
              <a:ext cx="25200" cy="4284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5" y="0"/>
                  </a:moveTo>
                  <a:lnTo>
                    <a:pt x="5" y="13"/>
                  </a:lnTo>
                  <a:lnTo>
                    <a:pt x="4" y="25"/>
                  </a:lnTo>
                  <a:lnTo>
                    <a:pt x="2" y="37"/>
                  </a:lnTo>
                  <a:lnTo>
                    <a:pt x="0" y="50"/>
                  </a:lnTo>
                  <a:lnTo>
                    <a:pt x="21" y="54"/>
                  </a:lnTo>
                  <a:lnTo>
                    <a:pt x="25" y="41"/>
                  </a:lnTo>
                  <a:lnTo>
                    <a:pt x="28" y="28"/>
                  </a:lnTo>
                  <a:lnTo>
                    <a:pt x="29" y="15"/>
                  </a:lnTo>
                  <a:lnTo>
                    <a:pt x="32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42440" y="4270320"/>
              <a:ext cx="27000" cy="4464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4" y="0"/>
                  </a:moveTo>
                  <a:lnTo>
                    <a:pt x="4" y="12"/>
                  </a:lnTo>
                  <a:lnTo>
                    <a:pt x="3" y="25"/>
                  </a:lnTo>
                  <a:lnTo>
                    <a:pt x="1" y="39"/>
                  </a:lnTo>
                  <a:lnTo>
                    <a:pt x="0" y="53"/>
                  </a:lnTo>
                  <a:lnTo>
                    <a:pt x="24" y="55"/>
                  </a:lnTo>
                  <a:lnTo>
                    <a:pt x="27" y="42"/>
                  </a:lnTo>
                  <a:lnTo>
                    <a:pt x="30" y="29"/>
                  </a:lnTo>
                  <a:lnTo>
                    <a:pt x="31" y="16"/>
                  </a:lnTo>
                  <a:lnTo>
                    <a:pt x="33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239200" y="4251600"/>
              <a:ext cx="27000" cy="4104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0" y="50"/>
                  </a:moveTo>
                  <a:lnTo>
                    <a:pt x="1" y="40"/>
                  </a:lnTo>
                  <a:lnTo>
                    <a:pt x="2" y="28"/>
                  </a:lnTo>
                  <a:lnTo>
                    <a:pt x="3" y="18"/>
                  </a:lnTo>
                  <a:lnTo>
                    <a:pt x="5" y="8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22" y="8"/>
                  </a:lnTo>
                  <a:lnTo>
                    <a:pt x="23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6" y="3"/>
                  </a:lnTo>
                  <a:lnTo>
                    <a:pt x="33" y="15"/>
                  </a:lnTo>
                  <a:lnTo>
                    <a:pt x="32" y="27"/>
                  </a:lnTo>
                  <a:lnTo>
                    <a:pt x="30" y="40"/>
                  </a:lnTo>
                  <a:lnTo>
                    <a:pt x="27" y="5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35240" y="4232520"/>
              <a:ext cx="30240" cy="410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0" y="47"/>
                  </a:moveTo>
                  <a:lnTo>
                    <a:pt x="0" y="43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31"/>
                  </a:lnTo>
                  <a:lnTo>
                    <a:pt x="6" y="31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20" y="31"/>
                  </a:lnTo>
                  <a:lnTo>
                    <a:pt x="23" y="23"/>
                  </a:lnTo>
                  <a:lnTo>
                    <a:pt x="28" y="16"/>
                  </a:lnTo>
                  <a:lnTo>
                    <a:pt x="33" y="8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6" y="11"/>
                  </a:lnTo>
                  <a:lnTo>
                    <a:pt x="35" y="24"/>
                  </a:lnTo>
                  <a:lnTo>
                    <a:pt x="33" y="38"/>
                  </a:lnTo>
                  <a:lnTo>
                    <a:pt x="29" y="51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234520" y="4230720"/>
              <a:ext cx="11160" cy="2376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0" y="26"/>
                  </a:moveTo>
                  <a:lnTo>
                    <a:pt x="3" y="20"/>
                  </a:lnTo>
                  <a:lnTo>
                    <a:pt x="6" y="14"/>
                  </a:lnTo>
                  <a:lnTo>
                    <a:pt x="10" y="7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2" y="13"/>
                  </a:lnTo>
                  <a:lnTo>
                    <a:pt x="10" y="21"/>
                  </a:lnTo>
                  <a:lnTo>
                    <a:pt x="9" y="2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27320" y="4386240"/>
              <a:ext cx="33120" cy="10008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5" y="127"/>
                  </a:moveTo>
                  <a:lnTo>
                    <a:pt x="3" y="115"/>
                  </a:lnTo>
                  <a:lnTo>
                    <a:pt x="0" y="84"/>
                  </a:lnTo>
                  <a:lnTo>
                    <a:pt x="18" y="0"/>
                  </a:lnTo>
                  <a:lnTo>
                    <a:pt x="43" y="5"/>
                  </a:lnTo>
                  <a:lnTo>
                    <a:pt x="33" y="36"/>
                  </a:lnTo>
                  <a:lnTo>
                    <a:pt x="24" y="66"/>
                  </a:lnTo>
                  <a:lnTo>
                    <a:pt x="19" y="95"/>
                  </a:lnTo>
                  <a:lnTo>
                    <a:pt x="15" y="124"/>
                  </a:lnTo>
                  <a:lnTo>
                    <a:pt x="5" y="1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201040" y="4237200"/>
              <a:ext cx="42840" cy="131760"/>
            </a:xfrm>
            <a:custGeom>
              <a:avLst/>
              <a:gdLst/>
              <a:ahLst/>
              <a:rect l="l" t="t" r="r" b="b"/>
              <a:pathLst>
                <a:path w="54" h="167">
                  <a:moveTo>
                    <a:pt x="0" y="167"/>
                  </a:moveTo>
                  <a:lnTo>
                    <a:pt x="29" y="34"/>
                  </a:lnTo>
                  <a:lnTo>
                    <a:pt x="33" y="2"/>
                  </a:lnTo>
                  <a:lnTo>
                    <a:pt x="54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338560" y="4199040"/>
              <a:ext cx="47520" cy="122400"/>
            </a:xfrm>
            <a:custGeom>
              <a:avLst/>
              <a:gdLst/>
              <a:ahLst/>
              <a:rect l="l" t="t" r="r" b="b"/>
              <a:pathLst>
                <a:path w="61" h="154">
                  <a:moveTo>
                    <a:pt x="5" y="150"/>
                  </a:moveTo>
                  <a:lnTo>
                    <a:pt x="5" y="130"/>
                  </a:lnTo>
                  <a:lnTo>
                    <a:pt x="3" y="109"/>
                  </a:lnTo>
                  <a:lnTo>
                    <a:pt x="0" y="102"/>
                  </a:lnTo>
                  <a:lnTo>
                    <a:pt x="7" y="66"/>
                  </a:lnTo>
                  <a:lnTo>
                    <a:pt x="19" y="69"/>
                  </a:lnTo>
                  <a:lnTo>
                    <a:pt x="21" y="9"/>
                  </a:lnTo>
                  <a:lnTo>
                    <a:pt x="61" y="0"/>
                  </a:lnTo>
                  <a:lnTo>
                    <a:pt x="45" y="11"/>
                  </a:lnTo>
                  <a:lnTo>
                    <a:pt x="43" y="36"/>
                  </a:lnTo>
                  <a:lnTo>
                    <a:pt x="41" y="56"/>
                  </a:lnTo>
                  <a:lnTo>
                    <a:pt x="43" y="66"/>
                  </a:lnTo>
                  <a:lnTo>
                    <a:pt x="38" y="74"/>
                  </a:lnTo>
                  <a:lnTo>
                    <a:pt x="50" y="85"/>
                  </a:lnTo>
                  <a:lnTo>
                    <a:pt x="52" y="49"/>
                  </a:lnTo>
                  <a:lnTo>
                    <a:pt x="61" y="43"/>
                  </a:lnTo>
                  <a:lnTo>
                    <a:pt x="54" y="154"/>
                  </a:lnTo>
                  <a:lnTo>
                    <a:pt x="5" y="15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272680" y="4222800"/>
              <a:ext cx="58680" cy="92160"/>
            </a:xfrm>
            <a:custGeom>
              <a:avLst/>
              <a:gdLst/>
              <a:ahLst/>
              <a:rect l="l" t="t" r="r" b="b"/>
              <a:pathLst>
                <a:path w="74" h="115">
                  <a:moveTo>
                    <a:pt x="17" y="113"/>
                  </a:moveTo>
                  <a:lnTo>
                    <a:pt x="17" y="108"/>
                  </a:lnTo>
                  <a:lnTo>
                    <a:pt x="0" y="100"/>
                  </a:lnTo>
                  <a:lnTo>
                    <a:pt x="5" y="24"/>
                  </a:lnTo>
                  <a:lnTo>
                    <a:pt x="14" y="22"/>
                  </a:lnTo>
                  <a:lnTo>
                    <a:pt x="21" y="22"/>
                  </a:lnTo>
                  <a:lnTo>
                    <a:pt x="26" y="44"/>
                  </a:lnTo>
                  <a:lnTo>
                    <a:pt x="23" y="64"/>
                  </a:lnTo>
                  <a:lnTo>
                    <a:pt x="30" y="64"/>
                  </a:lnTo>
                  <a:lnTo>
                    <a:pt x="45" y="8"/>
                  </a:lnTo>
                  <a:lnTo>
                    <a:pt x="57" y="3"/>
                  </a:lnTo>
                  <a:lnTo>
                    <a:pt x="64" y="0"/>
                  </a:lnTo>
                  <a:lnTo>
                    <a:pt x="74" y="3"/>
                  </a:lnTo>
                  <a:lnTo>
                    <a:pt x="57" y="115"/>
                  </a:lnTo>
                  <a:lnTo>
                    <a:pt x="17" y="1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415600" y="4159440"/>
              <a:ext cx="52200" cy="135000"/>
            </a:xfrm>
            <a:custGeom>
              <a:avLst/>
              <a:gdLst/>
              <a:ahLst/>
              <a:rect l="l" t="t" r="r" b="b"/>
              <a:pathLst>
                <a:path w="64" h="172">
                  <a:moveTo>
                    <a:pt x="64" y="172"/>
                  </a:moveTo>
                  <a:lnTo>
                    <a:pt x="54" y="163"/>
                  </a:lnTo>
                  <a:lnTo>
                    <a:pt x="54" y="153"/>
                  </a:lnTo>
                  <a:lnTo>
                    <a:pt x="0" y="150"/>
                  </a:lnTo>
                  <a:lnTo>
                    <a:pt x="25" y="6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5" y="29"/>
                  </a:lnTo>
                  <a:lnTo>
                    <a:pt x="47" y="79"/>
                  </a:lnTo>
                  <a:lnTo>
                    <a:pt x="54" y="65"/>
                  </a:lnTo>
                  <a:lnTo>
                    <a:pt x="61" y="5"/>
                  </a:lnTo>
                  <a:lnTo>
                    <a:pt x="61" y="160"/>
                  </a:lnTo>
                  <a:lnTo>
                    <a:pt x="64" y="17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413080" y="4159440"/>
              <a:ext cx="55440" cy="137880"/>
            </a:xfrm>
            <a:custGeom>
              <a:avLst/>
              <a:gdLst/>
              <a:ahLst/>
              <a:rect l="l" t="t" r="r" b="b"/>
              <a:pathLst>
                <a:path w="69" h="174">
                  <a:moveTo>
                    <a:pt x="69" y="174"/>
                  </a:moveTo>
                  <a:lnTo>
                    <a:pt x="54" y="163"/>
                  </a:lnTo>
                  <a:lnTo>
                    <a:pt x="54" y="153"/>
                  </a:lnTo>
                  <a:lnTo>
                    <a:pt x="0" y="150"/>
                  </a:lnTo>
                  <a:lnTo>
                    <a:pt x="25" y="6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5" y="29"/>
                  </a:lnTo>
                  <a:lnTo>
                    <a:pt x="47" y="79"/>
                  </a:lnTo>
                  <a:lnTo>
                    <a:pt x="54" y="65"/>
                  </a:lnTo>
                  <a:lnTo>
                    <a:pt x="61" y="5"/>
                  </a:lnTo>
                  <a:lnTo>
                    <a:pt x="61" y="160"/>
                  </a:lnTo>
                  <a:lnTo>
                    <a:pt x="69" y="17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410560" y="4159440"/>
              <a:ext cx="57240" cy="139680"/>
            </a:xfrm>
            <a:custGeom>
              <a:avLst/>
              <a:gdLst/>
              <a:ahLst/>
              <a:rect l="l" t="t" r="r" b="b"/>
              <a:pathLst>
                <a:path w="71" h="177">
                  <a:moveTo>
                    <a:pt x="71" y="177"/>
                  </a:moveTo>
                  <a:lnTo>
                    <a:pt x="54" y="163"/>
                  </a:lnTo>
                  <a:lnTo>
                    <a:pt x="54" y="153"/>
                  </a:lnTo>
                  <a:lnTo>
                    <a:pt x="0" y="150"/>
                  </a:lnTo>
                  <a:lnTo>
                    <a:pt x="25" y="6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5" y="29"/>
                  </a:lnTo>
                  <a:lnTo>
                    <a:pt x="47" y="79"/>
                  </a:lnTo>
                  <a:lnTo>
                    <a:pt x="54" y="65"/>
                  </a:lnTo>
                  <a:lnTo>
                    <a:pt x="61" y="5"/>
                  </a:lnTo>
                  <a:lnTo>
                    <a:pt x="61" y="160"/>
                  </a:lnTo>
                  <a:lnTo>
                    <a:pt x="71" y="17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390040" y="4189680"/>
              <a:ext cx="19080" cy="99720"/>
            </a:xfrm>
            <a:custGeom>
              <a:avLst/>
              <a:gdLst/>
              <a:ahLst/>
              <a:rect l="l" t="t" r="r" b="b"/>
              <a:pathLst>
                <a:path w="23" h="127">
                  <a:moveTo>
                    <a:pt x="0" y="127"/>
                  </a:moveTo>
                  <a:lnTo>
                    <a:pt x="5" y="56"/>
                  </a:lnTo>
                  <a:lnTo>
                    <a:pt x="5" y="41"/>
                  </a:lnTo>
                  <a:lnTo>
                    <a:pt x="10" y="13"/>
                  </a:lnTo>
                  <a:lnTo>
                    <a:pt x="7" y="0"/>
                  </a:lnTo>
                  <a:lnTo>
                    <a:pt x="21" y="5"/>
                  </a:lnTo>
                  <a:lnTo>
                    <a:pt x="23" y="15"/>
                  </a:lnTo>
                  <a:lnTo>
                    <a:pt x="21" y="87"/>
                  </a:lnTo>
                  <a:lnTo>
                    <a:pt x="10" y="91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161440" y="3654720"/>
              <a:ext cx="298440" cy="574560"/>
            </a:xfrm>
            <a:custGeom>
              <a:avLst/>
              <a:gdLst/>
              <a:ahLst/>
              <a:rect l="l" t="t" r="r" b="b"/>
              <a:pathLst>
                <a:path w="377" h="724">
                  <a:moveTo>
                    <a:pt x="172" y="711"/>
                  </a:moveTo>
                  <a:lnTo>
                    <a:pt x="174" y="697"/>
                  </a:lnTo>
                  <a:lnTo>
                    <a:pt x="173" y="689"/>
                  </a:lnTo>
                  <a:lnTo>
                    <a:pt x="168" y="682"/>
                  </a:lnTo>
                  <a:lnTo>
                    <a:pt x="162" y="671"/>
                  </a:lnTo>
                  <a:lnTo>
                    <a:pt x="140" y="673"/>
                  </a:lnTo>
                  <a:lnTo>
                    <a:pt x="126" y="673"/>
                  </a:lnTo>
                  <a:lnTo>
                    <a:pt x="116" y="672"/>
                  </a:lnTo>
                  <a:lnTo>
                    <a:pt x="111" y="670"/>
                  </a:lnTo>
                  <a:lnTo>
                    <a:pt x="106" y="666"/>
                  </a:lnTo>
                  <a:lnTo>
                    <a:pt x="101" y="662"/>
                  </a:lnTo>
                  <a:lnTo>
                    <a:pt x="92" y="657"/>
                  </a:lnTo>
                  <a:lnTo>
                    <a:pt x="78" y="650"/>
                  </a:lnTo>
                  <a:lnTo>
                    <a:pt x="77" y="644"/>
                  </a:lnTo>
                  <a:lnTo>
                    <a:pt x="76" y="638"/>
                  </a:lnTo>
                  <a:lnTo>
                    <a:pt x="75" y="632"/>
                  </a:lnTo>
                  <a:lnTo>
                    <a:pt x="74" y="626"/>
                  </a:lnTo>
                  <a:lnTo>
                    <a:pt x="64" y="623"/>
                  </a:lnTo>
                  <a:lnTo>
                    <a:pt x="55" y="619"/>
                  </a:lnTo>
                  <a:lnTo>
                    <a:pt x="47" y="616"/>
                  </a:lnTo>
                  <a:lnTo>
                    <a:pt x="39" y="613"/>
                  </a:lnTo>
                  <a:lnTo>
                    <a:pt x="30" y="611"/>
                  </a:lnTo>
                  <a:lnTo>
                    <a:pt x="21" y="610"/>
                  </a:lnTo>
                  <a:lnTo>
                    <a:pt x="11" y="610"/>
                  </a:lnTo>
                  <a:lnTo>
                    <a:pt x="0" y="611"/>
                  </a:lnTo>
                  <a:lnTo>
                    <a:pt x="7" y="556"/>
                  </a:lnTo>
                  <a:lnTo>
                    <a:pt x="14" y="502"/>
                  </a:lnTo>
                  <a:lnTo>
                    <a:pt x="22" y="446"/>
                  </a:lnTo>
                  <a:lnTo>
                    <a:pt x="29" y="392"/>
                  </a:lnTo>
                  <a:lnTo>
                    <a:pt x="37" y="338"/>
                  </a:lnTo>
                  <a:lnTo>
                    <a:pt x="46" y="284"/>
                  </a:lnTo>
                  <a:lnTo>
                    <a:pt x="55" y="231"/>
                  </a:lnTo>
                  <a:lnTo>
                    <a:pt x="67" y="177"/>
                  </a:lnTo>
                  <a:lnTo>
                    <a:pt x="67" y="187"/>
                  </a:lnTo>
                  <a:lnTo>
                    <a:pt x="67" y="196"/>
                  </a:lnTo>
                  <a:lnTo>
                    <a:pt x="66" y="205"/>
                  </a:lnTo>
                  <a:lnTo>
                    <a:pt x="64" y="215"/>
                  </a:lnTo>
                  <a:lnTo>
                    <a:pt x="75" y="192"/>
                  </a:lnTo>
                  <a:lnTo>
                    <a:pt x="85" y="170"/>
                  </a:lnTo>
                  <a:lnTo>
                    <a:pt x="93" y="147"/>
                  </a:lnTo>
                  <a:lnTo>
                    <a:pt x="102" y="124"/>
                  </a:lnTo>
                  <a:lnTo>
                    <a:pt x="111" y="102"/>
                  </a:lnTo>
                  <a:lnTo>
                    <a:pt x="120" y="79"/>
                  </a:lnTo>
                  <a:lnTo>
                    <a:pt x="130" y="57"/>
                  </a:lnTo>
                  <a:lnTo>
                    <a:pt x="143" y="34"/>
                  </a:lnTo>
                  <a:lnTo>
                    <a:pt x="152" y="37"/>
                  </a:lnTo>
                  <a:lnTo>
                    <a:pt x="160" y="39"/>
                  </a:lnTo>
                  <a:lnTo>
                    <a:pt x="169" y="41"/>
                  </a:lnTo>
                  <a:lnTo>
                    <a:pt x="176" y="43"/>
                  </a:lnTo>
                  <a:lnTo>
                    <a:pt x="183" y="33"/>
                  </a:lnTo>
                  <a:lnTo>
                    <a:pt x="192" y="21"/>
                  </a:lnTo>
                  <a:lnTo>
                    <a:pt x="200" y="11"/>
                  </a:lnTo>
                  <a:lnTo>
                    <a:pt x="207" y="0"/>
                  </a:lnTo>
                  <a:lnTo>
                    <a:pt x="213" y="22"/>
                  </a:lnTo>
                  <a:lnTo>
                    <a:pt x="223" y="37"/>
                  </a:lnTo>
                  <a:lnTo>
                    <a:pt x="238" y="48"/>
                  </a:lnTo>
                  <a:lnTo>
                    <a:pt x="256" y="52"/>
                  </a:lnTo>
                  <a:lnTo>
                    <a:pt x="275" y="53"/>
                  </a:lnTo>
                  <a:lnTo>
                    <a:pt x="296" y="52"/>
                  </a:lnTo>
                  <a:lnTo>
                    <a:pt x="318" y="50"/>
                  </a:lnTo>
                  <a:lnTo>
                    <a:pt x="339" y="48"/>
                  </a:lnTo>
                  <a:lnTo>
                    <a:pt x="339" y="42"/>
                  </a:lnTo>
                  <a:lnTo>
                    <a:pt x="340" y="37"/>
                  </a:lnTo>
                  <a:lnTo>
                    <a:pt x="341" y="31"/>
                  </a:lnTo>
                  <a:lnTo>
                    <a:pt x="341" y="27"/>
                  </a:lnTo>
                  <a:lnTo>
                    <a:pt x="346" y="28"/>
                  </a:lnTo>
                  <a:lnTo>
                    <a:pt x="350" y="30"/>
                  </a:lnTo>
                  <a:lnTo>
                    <a:pt x="354" y="31"/>
                  </a:lnTo>
                  <a:lnTo>
                    <a:pt x="357" y="34"/>
                  </a:lnTo>
                  <a:lnTo>
                    <a:pt x="354" y="59"/>
                  </a:lnTo>
                  <a:lnTo>
                    <a:pt x="350" y="83"/>
                  </a:lnTo>
                  <a:lnTo>
                    <a:pt x="348" y="109"/>
                  </a:lnTo>
                  <a:lnTo>
                    <a:pt x="346" y="134"/>
                  </a:lnTo>
                  <a:lnTo>
                    <a:pt x="353" y="111"/>
                  </a:lnTo>
                  <a:lnTo>
                    <a:pt x="361" y="87"/>
                  </a:lnTo>
                  <a:lnTo>
                    <a:pt x="369" y="63"/>
                  </a:lnTo>
                  <a:lnTo>
                    <a:pt x="377" y="38"/>
                  </a:lnTo>
                  <a:lnTo>
                    <a:pt x="371" y="79"/>
                  </a:lnTo>
                  <a:lnTo>
                    <a:pt x="364" y="119"/>
                  </a:lnTo>
                  <a:lnTo>
                    <a:pt x="357" y="159"/>
                  </a:lnTo>
                  <a:lnTo>
                    <a:pt x="350" y="198"/>
                  </a:lnTo>
                  <a:lnTo>
                    <a:pt x="351" y="193"/>
                  </a:lnTo>
                  <a:lnTo>
                    <a:pt x="353" y="188"/>
                  </a:lnTo>
                  <a:lnTo>
                    <a:pt x="355" y="184"/>
                  </a:lnTo>
                  <a:lnTo>
                    <a:pt x="357" y="179"/>
                  </a:lnTo>
                  <a:lnTo>
                    <a:pt x="350" y="252"/>
                  </a:lnTo>
                  <a:lnTo>
                    <a:pt x="343" y="321"/>
                  </a:lnTo>
                  <a:lnTo>
                    <a:pt x="335" y="389"/>
                  </a:lnTo>
                  <a:lnTo>
                    <a:pt x="327" y="454"/>
                  </a:lnTo>
                  <a:lnTo>
                    <a:pt x="317" y="521"/>
                  </a:lnTo>
                  <a:lnTo>
                    <a:pt x="303" y="587"/>
                  </a:lnTo>
                  <a:lnTo>
                    <a:pt x="286" y="655"/>
                  </a:lnTo>
                  <a:lnTo>
                    <a:pt x="265" y="724"/>
                  </a:lnTo>
                  <a:lnTo>
                    <a:pt x="260" y="716"/>
                  </a:lnTo>
                  <a:lnTo>
                    <a:pt x="257" y="708"/>
                  </a:lnTo>
                  <a:lnTo>
                    <a:pt x="253" y="700"/>
                  </a:lnTo>
                  <a:lnTo>
                    <a:pt x="250" y="693"/>
                  </a:lnTo>
                  <a:lnTo>
                    <a:pt x="240" y="695"/>
                  </a:lnTo>
                  <a:lnTo>
                    <a:pt x="230" y="697"/>
                  </a:lnTo>
                  <a:lnTo>
                    <a:pt x="220" y="701"/>
                  </a:lnTo>
                  <a:lnTo>
                    <a:pt x="211" y="703"/>
                  </a:lnTo>
                  <a:lnTo>
                    <a:pt x="202" y="706"/>
                  </a:lnTo>
                  <a:lnTo>
                    <a:pt x="191" y="708"/>
                  </a:lnTo>
                  <a:lnTo>
                    <a:pt x="182" y="709"/>
                  </a:lnTo>
                  <a:lnTo>
                    <a:pt x="172" y="71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461320" y="4159440"/>
              <a:ext cx="3240" cy="3024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20"/>
                  </a:lnTo>
                  <a:lnTo>
                    <a:pt x="5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459160" y="4154760"/>
              <a:ext cx="1440" cy="1872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0"/>
                  </a:moveTo>
                  <a:lnTo>
                    <a:pt x="0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135160" y="3387960"/>
              <a:ext cx="100080" cy="41040"/>
            </a:xfrm>
            <a:custGeom>
              <a:avLst/>
              <a:gdLst/>
              <a:ahLst/>
              <a:rect l="l" t="t" r="r" b="b"/>
              <a:pathLst>
                <a:path w="127" h="52">
                  <a:moveTo>
                    <a:pt x="0" y="0"/>
                  </a:moveTo>
                  <a:lnTo>
                    <a:pt x="16" y="2"/>
                  </a:lnTo>
                  <a:lnTo>
                    <a:pt x="34" y="6"/>
                  </a:lnTo>
                  <a:lnTo>
                    <a:pt x="51" y="9"/>
                  </a:lnTo>
                  <a:lnTo>
                    <a:pt x="70" y="14"/>
                  </a:lnTo>
                  <a:lnTo>
                    <a:pt x="86" y="20"/>
                  </a:lnTo>
                  <a:lnTo>
                    <a:pt x="101" y="26"/>
                  </a:lnTo>
                  <a:lnTo>
                    <a:pt x="116" y="35"/>
                  </a:lnTo>
                  <a:lnTo>
                    <a:pt x="127" y="45"/>
                  </a:lnTo>
                  <a:lnTo>
                    <a:pt x="127" y="46"/>
                  </a:lnTo>
                  <a:lnTo>
                    <a:pt x="127" y="48"/>
                  </a:lnTo>
                  <a:lnTo>
                    <a:pt x="127" y="50"/>
                  </a:lnTo>
                  <a:lnTo>
                    <a:pt x="12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8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134440" y="3386160"/>
              <a:ext cx="128520" cy="58680"/>
            </a:xfrm>
            <a:custGeom>
              <a:avLst/>
              <a:gdLst/>
              <a:ahLst/>
              <a:rect l="l" t="t" r="r" b="b"/>
              <a:pathLst>
                <a:path w="162" h="74">
                  <a:moveTo>
                    <a:pt x="0" y="5"/>
                  </a:move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9" y="8"/>
                  </a:lnTo>
                  <a:lnTo>
                    <a:pt x="12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39" y="3"/>
                  </a:lnTo>
                  <a:lnTo>
                    <a:pt x="58" y="6"/>
                  </a:lnTo>
                  <a:lnTo>
                    <a:pt x="78" y="11"/>
                  </a:lnTo>
                  <a:lnTo>
                    <a:pt x="98" y="14"/>
                  </a:lnTo>
                  <a:lnTo>
                    <a:pt x="116" y="20"/>
                  </a:lnTo>
                  <a:lnTo>
                    <a:pt x="133" y="27"/>
                  </a:lnTo>
                  <a:lnTo>
                    <a:pt x="149" y="36"/>
                  </a:lnTo>
                  <a:lnTo>
                    <a:pt x="162" y="48"/>
                  </a:lnTo>
                  <a:lnTo>
                    <a:pt x="162" y="55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8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131920" y="3386160"/>
              <a:ext cx="144720" cy="76320"/>
            </a:xfrm>
            <a:custGeom>
              <a:avLst/>
              <a:gdLst/>
              <a:ahLst/>
              <a:rect l="l" t="t" r="r" b="b"/>
              <a:pathLst>
                <a:path w="183" h="95">
                  <a:moveTo>
                    <a:pt x="0" y="17"/>
                  </a:moveTo>
                  <a:lnTo>
                    <a:pt x="1" y="14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9" y="6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3"/>
                  </a:lnTo>
                  <a:lnTo>
                    <a:pt x="178" y="55"/>
                  </a:lnTo>
                  <a:lnTo>
                    <a:pt x="178" y="65"/>
                  </a:lnTo>
                  <a:lnTo>
                    <a:pt x="179" y="76"/>
                  </a:lnTo>
                  <a:lnTo>
                    <a:pt x="180" y="86"/>
                  </a:lnTo>
                  <a:lnTo>
                    <a:pt x="183" y="9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e8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122560" y="3390840"/>
              <a:ext cx="179280" cy="90720"/>
            </a:xfrm>
            <a:custGeom>
              <a:avLst/>
              <a:gdLst/>
              <a:ahLst/>
              <a:rect l="l" t="t" r="r" b="b"/>
              <a:pathLst>
                <a:path w="226" h="114">
                  <a:moveTo>
                    <a:pt x="0" y="19"/>
                  </a:moveTo>
                  <a:lnTo>
                    <a:pt x="0" y="16"/>
                  </a:lnTo>
                  <a:lnTo>
                    <a:pt x="2" y="15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11" y="20"/>
                  </a:lnTo>
                  <a:lnTo>
                    <a:pt x="15" y="21"/>
                  </a:lnTo>
                  <a:lnTo>
                    <a:pt x="21" y="22"/>
                  </a:lnTo>
                  <a:lnTo>
                    <a:pt x="26" y="23"/>
                  </a:lnTo>
                  <a:lnTo>
                    <a:pt x="28" y="18"/>
                  </a:lnTo>
                  <a:lnTo>
                    <a:pt x="32" y="12"/>
                  </a:lnTo>
                  <a:lnTo>
                    <a:pt x="34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210" y="69"/>
                  </a:lnTo>
                  <a:lnTo>
                    <a:pt x="212" y="81"/>
                  </a:lnTo>
                  <a:lnTo>
                    <a:pt x="215" y="92"/>
                  </a:lnTo>
                  <a:lnTo>
                    <a:pt x="219" y="103"/>
                  </a:lnTo>
                  <a:lnTo>
                    <a:pt x="226" y="112"/>
                  </a:lnTo>
                  <a:lnTo>
                    <a:pt x="226" y="11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38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122560" y="3399120"/>
              <a:ext cx="187200" cy="95040"/>
            </a:xfrm>
            <a:custGeom>
              <a:avLst/>
              <a:gdLst/>
              <a:ahLst/>
              <a:rect l="l" t="t" r="r" b="b"/>
              <a:pathLst>
                <a:path w="236" h="118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8" y="8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21" y="8"/>
                  </a:lnTo>
                  <a:lnTo>
                    <a:pt x="25" y="9"/>
                  </a:lnTo>
                  <a:lnTo>
                    <a:pt x="31" y="10"/>
                  </a:lnTo>
                  <a:lnTo>
                    <a:pt x="36" y="11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39" y="3"/>
                  </a:lnTo>
                  <a:lnTo>
                    <a:pt x="42" y="0"/>
                  </a:lnTo>
                  <a:lnTo>
                    <a:pt x="225" y="78"/>
                  </a:lnTo>
                  <a:lnTo>
                    <a:pt x="227" y="84"/>
                  </a:lnTo>
                  <a:lnTo>
                    <a:pt x="229" y="89"/>
                  </a:lnTo>
                  <a:lnTo>
                    <a:pt x="232" y="94"/>
                  </a:lnTo>
                  <a:lnTo>
                    <a:pt x="236" y="100"/>
                  </a:lnTo>
                  <a:lnTo>
                    <a:pt x="236" y="104"/>
                  </a:lnTo>
                  <a:lnTo>
                    <a:pt x="235" y="108"/>
                  </a:lnTo>
                  <a:lnTo>
                    <a:pt x="234" y="114"/>
                  </a:lnTo>
                  <a:lnTo>
                    <a:pt x="234" y="1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98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121840" y="3405240"/>
              <a:ext cx="189000" cy="104760"/>
            </a:xfrm>
            <a:custGeom>
              <a:avLst/>
              <a:gdLst/>
              <a:ahLst/>
              <a:rect l="l" t="t" r="r" b="b"/>
              <a:pathLst>
                <a:path w="238" h="131">
                  <a:moveTo>
                    <a:pt x="0" y="33"/>
                  </a:moveTo>
                  <a:lnTo>
                    <a:pt x="1" y="27"/>
                  </a:lnTo>
                  <a:lnTo>
                    <a:pt x="2" y="23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7" y="8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38" y="95"/>
                  </a:lnTo>
                  <a:lnTo>
                    <a:pt x="237" y="102"/>
                  </a:lnTo>
                  <a:lnTo>
                    <a:pt x="236" y="111"/>
                  </a:lnTo>
                  <a:lnTo>
                    <a:pt x="235" y="121"/>
                  </a:lnTo>
                  <a:lnTo>
                    <a:pt x="234" y="1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e9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123280" y="3416400"/>
              <a:ext cx="189000" cy="106200"/>
            </a:xfrm>
            <a:custGeom>
              <a:avLst/>
              <a:gdLst/>
              <a:ahLst/>
              <a:rect l="l" t="t" r="r" b="b"/>
              <a:pathLst>
                <a:path w="239" h="132">
                  <a:moveTo>
                    <a:pt x="5" y="0"/>
                  </a:moveTo>
                  <a:lnTo>
                    <a:pt x="5" y="9"/>
                  </a:lnTo>
                  <a:lnTo>
                    <a:pt x="4" y="17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234" y="132"/>
                  </a:lnTo>
                  <a:lnTo>
                    <a:pt x="234" y="123"/>
                  </a:lnTo>
                  <a:lnTo>
                    <a:pt x="235" y="115"/>
                  </a:lnTo>
                  <a:lnTo>
                    <a:pt x="238" y="106"/>
                  </a:lnTo>
                  <a:lnTo>
                    <a:pt x="239" y="9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9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125080" y="3432240"/>
              <a:ext cx="191880" cy="104760"/>
            </a:xfrm>
            <a:custGeom>
              <a:avLst/>
              <a:gdLst/>
              <a:ahLst/>
              <a:rect l="l" t="t" r="r" b="b"/>
              <a:pathLst>
                <a:path w="241" h="134">
                  <a:moveTo>
                    <a:pt x="7" y="0"/>
                  </a:moveTo>
                  <a:lnTo>
                    <a:pt x="7" y="9"/>
                  </a:lnTo>
                  <a:lnTo>
                    <a:pt x="6" y="17"/>
                  </a:lnTo>
                  <a:lnTo>
                    <a:pt x="3" y="25"/>
                  </a:lnTo>
                  <a:lnTo>
                    <a:pt x="0" y="34"/>
                  </a:lnTo>
                  <a:lnTo>
                    <a:pt x="236" y="134"/>
                  </a:lnTo>
                  <a:lnTo>
                    <a:pt x="236" y="125"/>
                  </a:lnTo>
                  <a:lnTo>
                    <a:pt x="237" y="115"/>
                  </a:lnTo>
                  <a:lnTo>
                    <a:pt x="239" y="107"/>
                  </a:lnTo>
                  <a:lnTo>
                    <a:pt x="241" y="9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9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127240" y="3444840"/>
              <a:ext cx="193680" cy="108000"/>
            </a:xfrm>
            <a:custGeom>
              <a:avLst/>
              <a:gdLst/>
              <a:ahLst/>
              <a:rect l="l" t="t" r="r" b="b"/>
              <a:pathLst>
                <a:path w="243" h="135">
                  <a:moveTo>
                    <a:pt x="9" y="0"/>
                  </a:moveTo>
                  <a:lnTo>
                    <a:pt x="7" y="8"/>
                  </a:lnTo>
                  <a:lnTo>
                    <a:pt x="5" y="18"/>
                  </a:lnTo>
                  <a:lnTo>
                    <a:pt x="3" y="26"/>
                  </a:lnTo>
                  <a:lnTo>
                    <a:pt x="0" y="33"/>
                  </a:lnTo>
                  <a:lnTo>
                    <a:pt x="241" y="135"/>
                  </a:lnTo>
                  <a:lnTo>
                    <a:pt x="241" y="126"/>
                  </a:lnTo>
                  <a:lnTo>
                    <a:pt x="241" y="118"/>
                  </a:lnTo>
                  <a:lnTo>
                    <a:pt x="242" y="108"/>
                  </a:lnTo>
                  <a:lnTo>
                    <a:pt x="243" y="9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a9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127960" y="3457800"/>
              <a:ext cx="196920" cy="109440"/>
            </a:xfrm>
            <a:custGeom>
              <a:avLst/>
              <a:gdLst/>
              <a:ahLst/>
              <a:rect l="l" t="t" r="r" b="b"/>
              <a:pathLst>
                <a:path w="248" h="138">
                  <a:moveTo>
                    <a:pt x="12" y="0"/>
                  </a:moveTo>
                  <a:lnTo>
                    <a:pt x="10" y="8"/>
                  </a:lnTo>
                  <a:lnTo>
                    <a:pt x="7" y="16"/>
                  </a:lnTo>
                  <a:lnTo>
                    <a:pt x="4" y="24"/>
                  </a:lnTo>
                  <a:lnTo>
                    <a:pt x="0" y="31"/>
                  </a:lnTo>
                  <a:lnTo>
                    <a:pt x="248" y="138"/>
                  </a:lnTo>
                  <a:lnTo>
                    <a:pt x="248" y="129"/>
                  </a:lnTo>
                  <a:lnTo>
                    <a:pt x="248" y="119"/>
                  </a:lnTo>
                  <a:lnTo>
                    <a:pt x="248" y="110"/>
                  </a:lnTo>
                  <a:lnTo>
                    <a:pt x="248" y="10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f9e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124000" y="3470400"/>
              <a:ext cx="209520" cy="114120"/>
            </a:xfrm>
            <a:custGeom>
              <a:avLst/>
              <a:gdLst/>
              <a:ahLst/>
              <a:rect l="l" t="t" r="r" b="b"/>
              <a:pathLst>
                <a:path w="264" h="144">
                  <a:moveTo>
                    <a:pt x="16" y="0"/>
                  </a:moveTo>
                  <a:lnTo>
                    <a:pt x="13" y="9"/>
                  </a:lnTo>
                  <a:lnTo>
                    <a:pt x="8" y="17"/>
                  </a:lnTo>
                  <a:lnTo>
                    <a:pt x="4" y="24"/>
                  </a:lnTo>
                  <a:lnTo>
                    <a:pt x="0" y="31"/>
                  </a:lnTo>
                  <a:lnTo>
                    <a:pt x="264" y="144"/>
                  </a:lnTo>
                  <a:lnTo>
                    <a:pt x="260" y="134"/>
                  </a:lnTo>
                  <a:lnTo>
                    <a:pt x="259" y="124"/>
                  </a:lnTo>
                  <a:lnTo>
                    <a:pt x="257" y="114"/>
                  </a:lnTo>
                  <a:lnTo>
                    <a:pt x="257" y="10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29e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107440" y="3483000"/>
              <a:ext cx="235080" cy="122400"/>
            </a:xfrm>
            <a:custGeom>
              <a:avLst/>
              <a:gdLst/>
              <a:ahLst/>
              <a:rect l="l" t="t" r="r" b="b"/>
              <a:pathLst>
                <a:path w="297" h="154">
                  <a:moveTo>
                    <a:pt x="22" y="0"/>
                  </a:moveTo>
                  <a:lnTo>
                    <a:pt x="17" y="8"/>
                  </a:lnTo>
                  <a:lnTo>
                    <a:pt x="12" y="16"/>
                  </a:lnTo>
                  <a:lnTo>
                    <a:pt x="6" y="24"/>
                  </a:lnTo>
                  <a:lnTo>
                    <a:pt x="0" y="31"/>
                  </a:lnTo>
                  <a:lnTo>
                    <a:pt x="294" y="154"/>
                  </a:lnTo>
                  <a:lnTo>
                    <a:pt x="294" y="153"/>
                  </a:lnTo>
                  <a:lnTo>
                    <a:pt x="294" y="151"/>
                  </a:lnTo>
                  <a:lnTo>
                    <a:pt x="295" y="149"/>
                  </a:lnTo>
                  <a:lnTo>
                    <a:pt x="297" y="149"/>
                  </a:lnTo>
                  <a:lnTo>
                    <a:pt x="286" y="141"/>
                  </a:lnTo>
                  <a:lnTo>
                    <a:pt x="279" y="131"/>
                  </a:lnTo>
                  <a:lnTo>
                    <a:pt x="273" y="119"/>
                  </a:lnTo>
                  <a:lnTo>
                    <a:pt x="270" y="10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7a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107440" y="3495960"/>
              <a:ext cx="244440" cy="125280"/>
            </a:xfrm>
            <a:custGeom>
              <a:avLst/>
              <a:gdLst/>
              <a:ahLst/>
              <a:rect l="l" t="t" r="r" b="b"/>
              <a:pathLst>
                <a:path w="308" h="158">
                  <a:moveTo>
                    <a:pt x="24" y="0"/>
                  </a:moveTo>
                  <a:lnTo>
                    <a:pt x="18" y="8"/>
                  </a:lnTo>
                  <a:lnTo>
                    <a:pt x="13" y="15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308" y="158"/>
                  </a:lnTo>
                  <a:lnTo>
                    <a:pt x="305" y="158"/>
                  </a:lnTo>
                  <a:lnTo>
                    <a:pt x="304" y="157"/>
                  </a:lnTo>
                  <a:lnTo>
                    <a:pt x="302" y="154"/>
                  </a:lnTo>
                  <a:lnTo>
                    <a:pt x="299" y="153"/>
                  </a:lnTo>
                  <a:lnTo>
                    <a:pt x="302" y="148"/>
                  </a:lnTo>
                  <a:lnTo>
                    <a:pt x="304" y="143"/>
                  </a:lnTo>
                  <a:lnTo>
                    <a:pt x="305" y="138"/>
                  </a:lnTo>
                  <a:lnTo>
                    <a:pt x="308" y="133"/>
                  </a:lnTo>
                  <a:lnTo>
                    <a:pt x="301" y="130"/>
                  </a:lnTo>
                  <a:lnTo>
                    <a:pt x="296" y="124"/>
                  </a:lnTo>
                  <a:lnTo>
                    <a:pt x="291" y="120"/>
                  </a:lnTo>
                  <a:lnTo>
                    <a:pt x="288" y="1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101680" y="3506760"/>
              <a:ext cx="260640" cy="130320"/>
            </a:xfrm>
            <a:custGeom>
              <a:avLst/>
              <a:gdLst/>
              <a:ahLst/>
              <a:rect l="l" t="t" r="r" b="b"/>
              <a:pathLst>
                <a:path w="329" h="163">
                  <a:moveTo>
                    <a:pt x="23" y="0"/>
                  </a:moveTo>
                  <a:lnTo>
                    <a:pt x="18" y="7"/>
                  </a:lnTo>
                  <a:lnTo>
                    <a:pt x="13" y="14"/>
                  </a:lnTo>
                  <a:lnTo>
                    <a:pt x="7" y="21"/>
                  </a:lnTo>
                  <a:lnTo>
                    <a:pt x="0" y="26"/>
                  </a:lnTo>
                  <a:lnTo>
                    <a:pt x="324" y="163"/>
                  </a:lnTo>
                  <a:lnTo>
                    <a:pt x="324" y="163"/>
                  </a:lnTo>
                  <a:lnTo>
                    <a:pt x="325" y="162"/>
                  </a:lnTo>
                  <a:lnTo>
                    <a:pt x="328" y="161"/>
                  </a:lnTo>
                  <a:lnTo>
                    <a:pt x="329" y="161"/>
                  </a:lnTo>
                  <a:lnTo>
                    <a:pt x="329" y="158"/>
                  </a:lnTo>
                  <a:lnTo>
                    <a:pt x="329" y="155"/>
                  </a:lnTo>
                  <a:lnTo>
                    <a:pt x="329" y="153"/>
                  </a:lnTo>
                  <a:lnTo>
                    <a:pt x="329" y="150"/>
                  </a:lnTo>
                  <a:lnTo>
                    <a:pt x="325" y="146"/>
                  </a:lnTo>
                  <a:lnTo>
                    <a:pt x="321" y="144"/>
                  </a:lnTo>
                  <a:lnTo>
                    <a:pt x="316" y="142"/>
                  </a:lnTo>
                  <a:lnTo>
                    <a:pt x="311" y="138"/>
                  </a:lnTo>
                  <a:lnTo>
                    <a:pt x="313" y="135"/>
                  </a:lnTo>
                  <a:lnTo>
                    <a:pt x="314" y="130"/>
                  </a:lnTo>
                  <a:lnTo>
                    <a:pt x="315" y="127"/>
                  </a:lnTo>
                  <a:lnTo>
                    <a:pt x="317" y="1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1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100960" y="3517920"/>
              <a:ext cx="271800" cy="127080"/>
            </a:xfrm>
            <a:custGeom>
              <a:avLst/>
              <a:gdLst/>
              <a:ahLst/>
              <a:rect l="l" t="t" r="r" b="b"/>
              <a:pathLst>
                <a:path w="344" h="160">
                  <a:moveTo>
                    <a:pt x="123" y="76"/>
                  </a:moveTo>
                  <a:lnTo>
                    <a:pt x="123" y="73"/>
                  </a:lnTo>
                  <a:lnTo>
                    <a:pt x="124" y="72"/>
                  </a:lnTo>
                  <a:lnTo>
                    <a:pt x="125" y="70"/>
                  </a:lnTo>
                  <a:lnTo>
                    <a:pt x="125" y="69"/>
                  </a:lnTo>
                  <a:lnTo>
                    <a:pt x="127" y="69"/>
                  </a:lnTo>
                  <a:lnTo>
                    <a:pt x="128" y="69"/>
                  </a:lnTo>
                  <a:lnTo>
                    <a:pt x="131" y="68"/>
                  </a:lnTo>
                  <a:lnTo>
                    <a:pt x="132" y="66"/>
                  </a:lnTo>
                  <a:lnTo>
                    <a:pt x="128" y="68"/>
                  </a:lnTo>
                  <a:lnTo>
                    <a:pt x="126" y="70"/>
                  </a:lnTo>
                  <a:lnTo>
                    <a:pt x="123" y="71"/>
                  </a:lnTo>
                  <a:lnTo>
                    <a:pt x="119" y="71"/>
                  </a:lnTo>
                  <a:lnTo>
                    <a:pt x="117" y="73"/>
                  </a:lnTo>
                  <a:lnTo>
                    <a:pt x="0" y="24"/>
                  </a:lnTo>
                  <a:lnTo>
                    <a:pt x="7" y="18"/>
                  </a:lnTo>
                  <a:lnTo>
                    <a:pt x="14" y="11"/>
                  </a:lnTo>
                  <a:lnTo>
                    <a:pt x="21" y="5"/>
                  </a:lnTo>
                  <a:lnTo>
                    <a:pt x="27" y="0"/>
                  </a:lnTo>
                  <a:lnTo>
                    <a:pt x="335" y="129"/>
                  </a:lnTo>
                  <a:lnTo>
                    <a:pt x="337" y="130"/>
                  </a:lnTo>
                  <a:lnTo>
                    <a:pt x="339" y="132"/>
                  </a:lnTo>
                  <a:lnTo>
                    <a:pt x="341" y="133"/>
                  </a:lnTo>
                  <a:lnTo>
                    <a:pt x="344" y="136"/>
                  </a:lnTo>
                  <a:lnTo>
                    <a:pt x="344" y="139"/>
                  </a:lnTo>
                  <a:lnTo>
                    <a:pt x="344" y="141"/>
                  </a:lnTo>
                  <a:lnTo>
                    <a:pt x="344" y="144"/>
                  </a:lnTo>
                  <a:lnTo>
                    <a:pt x="344" y="147"/>
                  </a:lnTo>
                  <a:lnTo>
                    <a:pt x="335" y="151"/>
                  </a:lnTo>
                  <a:lnTo>
                    <a:pt x="328" y="153"/>
                  </a:lnTo>
                  <a:lnTo>
                    <a:pt x="322" y="155"/>
                  </a:lnTo>
                  <a:lnTo>
                    <a:pt x="317" y="160"/>
                  </a:lnTo>
                  <a:lnTo>
                    <a:pt x="123" y="76"/>
                  </a:lnTo>
                  <a:close/>
                </a:path>
              </a:pathLst>
            </a:custGeom>
            <a:solidFill>
              <a:srgbClr val="c4a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104200" y="3529080"/>
              <a:ext cx="281160" cy="125640"/>
            </a:xfrm>
            <a:custGeom>
              <a:avLst/>
              <a:gdLst/>
              <a:ahLst/>
              <a:rect l="l" t="t" r="r" b="b"/>
              <a:pathLst>
                <a:path w="355" h="159">
                  <a:moveTo>
                    <a:pt x="133" y="81"/>
                  </a:moveTo>
                  <a:lnTo>
                    <a:pt x="135" y="76"/>
                  </a:lnTo>
                  <a:lnTo>
                    <a:pt x="137" y="71"/>
                  </a:lnTo>
                  <a:lnTo>
                    <a:pt x="139" y="64"/>
                  </a:lnTo>
                  <a:lnTo>
                    <a:pt x="141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7" y="56"/>
                  </a:lnTo>
                  <a:lnTo>
                    <a:pt x="148" y="54"/>
                  </a:lnTo>
                  <a:lnTo>
                    <a:pt x="144" y="56"/>
                  </a:lnTo>
                  <a:lnTo>
                    <a:pt x="142" y="58"/>
                  </a:lnTo>
                  <a:lnTo>
                    <a:pt x="139" y="59"/>
                  </a:lnTo>
                  <a:lnTo>
                    <a:pt x="135" y="59"/>
                  </a:lnTo>
                  <a:lnTo>
                    <a:pt x="132" y="64"/>
                  </a:lnTo>
                  <a:lnTo>
                    <a:pt x="129" y="68"/>
                  </a:lnTo>
                  <a:lnTo>
                    <a:pt x="128" y="74"/>
                  </a:lnTo>
                  <a:lnTo>
                    <a:pt x="126" y="79"/>
                  </a:lnTo>
                  <a:lnTo>
                    <a:pt x="0" y="26"/>
                  </a:lnTo>
                  <a:lnTo>
                    <a:pt x="8" y="19"/>
                  </a:lnTo>
                  <a:lnTo>
                    <a:pt x="16" y="13"/>
                  </a:lnTo>
                  <a:lnTo>
                    <a:pt x="23" y="7"/>
                  </a:lnTo>
                  <a:lnTo>
                    <a:pt x="31" y="0"/>
                  </a:lnTo>
                  <a:lnTo>
                    <a:pt x="355" y="137"/>
                  </a:lnTo>
                  <a:lnTo>
                    <a:pt x="346" y="141"/>
                  </a:lnTo>
                  <a:lnTo>
                    <a:pt x="339" y="144"/>
                  </a:lnTo>
                  <a:lnTo>
                    <a:pt x="333" y="150"/>
                  </a:lnTo>
                  <a:lnTo>
                    <a:pt x="329" y="159"/>
                  </a:lnTo>
                  <a:lnTo>
                    <a:pt x="324" y="159"/>
                  </a:lnTo>
                  <a:lnTo>
                    <a:pt x="321" y="159"/>
                  </a:lnTo>
                  <a:lnTo>
                    <a:pt x="318" y="158"/>
                  </a:lnTo>
                  <a:lnTo>
                    <a:pt x="315" y="157"/>
                  </a:lnTo>
                  <a:lnTo>
                    <a:pt x="133" y="81"/>
                  </a:lnTo>
                  <a:close/>
                </a:path>
              </a:pathLst>
            </a:custGeom>
            <a:solidFill>
              <a:srgbClr val="c9a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121840" y="3578400"/>
              <a:ext cx="160200" cy="76320"/>
            </a:xfrm>
            <a:custGeom>
              <a:avLst/>
              <a:gdLst/>
              <a:ahLst/>
              <a:rect l="l" t="t" r="r" b="b"/>
              <a:pathLst>
                <a:path w="203" h="95">
                  <a:moveTo>
                    <a:pt x="0" y="24"/>
                  </a:moveTo>
                  <a:lnTo>
                    <a:pt x="0" y="35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32" y="80"/>
                  </a:lnTo>
                  <a:lnTo>
                    <a:pt x="140" y="81"/>
                  </a:lnTo>
                  <a:lnTo>
                    <a:pt x="148" y="85"/>
                  </a:lnTo>
                  <a:lnTo>
                    <a:pt x="156" y="88"/>
                  </a:lnTo>
                  <a:lnTo>
                    <a:pt x="168" y="92"/>
                  </a:lnTo>
                  <a:lnTo>
                    <a:pt x="181" y="94"/>
                  </a:lnTo>
                  <a:lnTo>
                    <a:pt x="199" y="95"/>
                  </a:lnTo>
                  <a:lnTo>
                    <a:pt x="200" y="92"/>
                  </a:lnTo>
                  <a:lnTo>
                    <a:pt x="201" y="88"/>
                  </a:lnTo>
                  <a:lnTo>
                    <a:pt x="202" y="86"/>
                  </a:lnTo>
                  <a:lnTo>
                    <a:pt x="203" y="84"/>
                  </a:lnTo>
                  <a:lnTo>
                    <a:pt x="9" y="0"/>
                  </a:lnTo>
                  <a:lnTo>
                    <a:pt x="6" y="7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281320" y="3576600"/>
              <a:ext cx="1440" cy="6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282760" y="3537000"/>
              <a:ext cx="115920" cy="63720"/>
            </a:xfrm>
            <a:custGeom>
              <a:avLst/>
              <a:gdLst/>
              <a:ahLst/>
              <a:rect l="l" t="t" r="r" b="b"/>
              <a:pathLst>
                <a:path w="145" h="78">
                  <a:moveTo>
                    <a:pt x="145" y="56"/>
                  </a:moveTo>
                  <a:lnTo>
                    <a:pt x="145" y="49"/>
                  </a:lnTo>
                  <a:lnTo>
                    <a:pt x="31" y="0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7" y="19"/>
                  </a:lnTo>
                  <a:lnTo>
                    <a:pt x="0" y="26"/>
                  </a:lnTo>
                  <a:lnTo>
                    <a:pt x="79" y="60"/>
                  </a:lnTo>
                  <a:lnTo>
                    <a:pt x="82" y="57"/>
                  </a:lnTo>
                  <a:lnTo>
                    <a:pt x="86" y="56"/>
                  </a:lnTo>
                  <a:lnTo>
                    <a:pt x="88" y="55"/>
                  </a:lnTo>
                  <a:lnTo>
                    <a:pt x="91" y="54"/>
                  </a:lnTo>
                  <a:lnTo>
                    <a:pt x="90" y="56"/>
                  </a:lnTo>
                  <a:lnTo>
                    <a:pt x="88" y="57"/>
                  </a:lnTo>
                  <a:lnTo>
                    <a:pt x="87" y="60"/>
                  </a:lnTo>
                  <a:lnTo>
                    <a:pt x="84" y="62"/>
                  </a:lnTo>
                  <a:lnTo>
                    <a:pt x="125" y="78"/>
                  </a:lnTo>
                  <a:lnTo>
                    <a:pt x="127" y="75"/>
                  </a:lnTo>
                  <a:lnTo>
                    <a:pt x="128" y="71"/>
                  </a:lnTo>
                  <a:lnTo>
                    <a:pt x="130" y="69"/>
                  </a:lnTo>
                  <a:lnTo>
                    <a:pt x="132" y="67"/>
                  </a:lnTo>
                  <a:lnTo>
                    <a:pt x="133" y="69"/>
                  </a:lnTo>
                  <a:lnTo>
                    <a:pt x="135" y="71"/>
                  </a:lnTo>
                  <a:lnTo>
                    <a:pt x="136" y="74"/>
                  </a:lnTo>
                  <a:lnTo>
                    <a:pt x="136" y="76"/>
                  </a:lnTo>
                  <a:lnTo>
                    <a:pt x="139" y="71"/>
                  </a:lnTo>
                  <a:lnTo>
                    <a:pt x="141" y="67"/>
                  </a:lnTo>
                  <a:lnTo>
                    <a:pt x="143" y="62"/>
                  </a:lnTo>
                  <a:lnTo>
                    <a:pt x="145" y="56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282040" y="3597480"/>
              <a:ext cx="4680" cy="936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11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cea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135880" y="3592800"/>
              <a:ext cx="149400" cy="60120"/>
            </a:xfrm>
            <a:custGeom>
              <a:avLst/>
              <a:gdLst/>
              <a:ahLst/>
              <a:rect l="l" t="t" r="r" b="b"/>
              <a:pathLst>
                <a:path w="188" h="76">
                  <a:moveTo>
                    <a:pt x="6" y="0"/>
                  </a:moveTo>
                  <a:lnTo>
                    <a:pt x="1" y="10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97" y="76"/>
                  </a:lnTo>
                  <a:lnTo>
                    <a:pt x="112" y="68"/>
                  </a:lnTo>
                  <a:lnTo>
                    <a:pt x="123" y="63"/>
                  </a:lnTo>
                  <a:lnTo>
                    <a:pt x="134" y="62"/>
                  </a:lnTo>
                  <a:lnTo>
                    <a:pt x="142" y="64"/>
                  </a:lnTo>
                  <a:lnTo>
                    <a:pt x="151" y="68"/>
                  </a:lnTo>
                  <a:lnTo>
                    <a:pt x="160" y="71"/>
                  </a:lnTo>
                  <a:lnTo>
                    <a:pt x="173" y="74"/>
                  </a:lnTo>
                  <a:lnTo>
                    <a:pt x="188" y="7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287440" y="3548160"/>
              <a:ext cx="123840" cy="6336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157" y="53"/>
                  </a:moveTo>
                  <a:lnTo>
                    <a:pt x="156" y="55"/>
                  </a:lnTo>
                  <a:lnTo>
                    <a:pt x="155" y="57"/>
                  </a:lnTo>
                  <a:lnTo>
                    <a:pt x="153" y="60"/>
                  </a:lnTo>
                  <a:lnTo>
                    <a:pt x="152" y="62"/>
                  </a:lnTo>
                  <a:lnTo>
                    <a:pt x="152" y="60"/>
                  </a:lnTo>
                  <a:lnTo>
                    <a:pt x="151" y="57"/>
                  </a:lnTo>
                  <a:lnTo>
                    <a:pt x="149" y="55"/>
                  </a:lnTo>
                  <a:lnTo>
                    <a:pt x="148" y="53"/>
                  </a:lnTo>
                  <a:lnTo>
                    <a:pt x="144" y="58"/>
                  </a:lnTo>
                  <a:lnTo>
                    <a:pt x="140" y="64"/>
                  </a:lnTo>
                  <a:lnTo>
                    <a:pt x="134" y="71"/>
                  </a:lnTo>
                  <a:lnTo>
                    <a:pt x="128" y="79"/>
                  </a:lnTo>
                  <a:lnTo>
                    <a:pt x="88" y="60"/>
                  </a:lnTo>
                  <a:lnTo>
                    <a:pt x="92" y="56"/>
                  </a:lnTo>
                  <a:lnTo>
                    <a:pt x="97" y="51"/>
                  </a:lnTo>
                  <a:lnTo>
                    <a:pt x="102" y="46"/>
                  </a:lnTo>
                  <a:lnTo>
                    <a:pt x="107" y="40"/>
                  </a:lnTo>
                  <a:lnTo>
                    <a:pt x="98" y="45"/>
                  </a:lnTo>
                  <a:lnTo>
                    <a:pt x="91" y="48"/>
                  </a:lnTo>
                  <a:lnTo>
                    <a:pt x="84" y="53"/>
                  </a:lnTo>
                  <a:lnTo>
                    <a:pt x="78" y="57"/>
                  </a:lnTo>
                  <a:lnTo>
                    <a:pt x="0" y="24"/>
                  </a:lnTo>
                  <a:lnTo>
                    <a:pt x="8" y="17"/>
                  </a:lnTo>
                  <a:lnTo>
                    <a:pt x="16" y="11"/>
                  </a:lnTo>
                  <a:lnTo>
                    <a:pt x="23" y="5"/>
                  </a:lnTo>
                  <a:lnTo>
                    <a:pt x="31" y="0"/>
                  </a:lnTo>
                  <a:lnTo>
                    <a:pt x="157" y="53"/>
                  </a:lnTo>
                  <a:close/>
                </a:path>
              </a:pathLst>
            </a:custGeom>
            <a:solidFill>
              <a:srgbClr val="d1a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193840" y="3605400"/>
              <a:ext cx="93600" cy="6012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7" y="46"/>
                  </a:moveTo>
                  <a:lnTo>
                    <a:pt x="19" y="44"/>
                  </a:lnTo>
                  <a:lnTo>
                    <a:pt x="9" y="30"/>
                  </a:lnTo>
                  <a:lnTo>
                    <a:pt x="3" y="19"/>
                  </a:lnTo>
                  <a:lnTo>
                    <a:pt x="1" y="9"/>
                  </a:lnTo>
                  <a:lnTo>
                    <a:pt x="0" y="0"/>
                  </a:lnTo>
                  <a:lnTo>
                    <a:pt x="117" y="51"/>
                  </a:lnTo>
                  <a:lnTo>
                    <a:pt x="112" y="53"/>
                  </a:lnTo>
                  <a:lnTo>
                    <a:pt x="106" y="57"/>
                  </a:lnTo>
                  <a:lnTo>
                    <a:pt x="99" y="61"/>
                  </a:lnTo>
                  <a:lnTo>
                    <a:pt x="91" y="67"/>
                  </a:lnTo>
                  <a:lnTo>
                    <a:pt x="91" y="69"/>
                  </a:lnTo>
                  <a:lnTo>
                    <a:pt x="92" y="72"/>
                  </a:lnTo>
                  <a:lnTo>
                    <a:pt x="93" y="74"/>
                  </a:lnTo>
                  <a:lnTo>
                    <a:pt x="93" y="76"/>
                  </a:lnTo>
                  <a:lnTo>
                    <a:pt x="17" y="46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299680" y="3587760"/>
              <a:ext cx="42840" cy="3492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0" y="14"/>
                  </a:moveTo>
                  <a:lnTo>
                    <a:pt x="0" y="31"/>
                  </a:lnTo>
                  <a:lnTo>
                    <a:pt x="34" y="45"/>
                  </a:lnTo>
                  <a:lnTo>
                    <a:pt x="40" y="38"/>
                  </a:lnTo>
                  <a:lnTo>
                    <a:pt x="45" y="30"/>
                  </a:lnTo>
                  <a:lnTo>
                    <a:pt x="50" y="23"/>
                  </a:lnTo>
                  <a:lnTo>
                    <a:pt x="56" y="16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7" y="7"/>
                  </a:lnTo>
                  <a:lnTo>
                    <a:pt x="4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36760" y="3579840"/>
              <a:ext cx="6480" cy="97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343240" y="3559320"/>
              <a:ext cx="79200" cy="4428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100" y="38"/>
                  </a:moveTo>
                  <a:lnTo>
                    <a:pt x="100" y="28"/>
                  </a:lnTo>
                  <a:lnTo>
                    <a:pt x="31" y="0"/>
                  </a:lnTo>
                  <a:lnTo>
                    <a:pt x="23" y="6"/>
                  </a:lnTo>
                  <a:lnTo>
                    <a:pt x="15" y="11"/>
                  </a:lnTo>
                  <a:lnTo>
                    <a:pt x="8" y="16"/>
                  </a:lnTo>
                  <a:lnTo>
                    <a:pt x="0" y="23"/>
                  </a:lnTo>
                  <a:lnTo>
                    <a:pt x="27" y="36"/>
                  </a:lnTo>
                  <a:lnTo>
                    <a:pt x="30" y="33"/>
                  </a:lnTo>
                  <a:lnTo>
                    <a:pt x="35" y="29"/>
                  </a:lnTo>
                  <a:lnTo>
                    <a:pt x="40" y="28"/>
                  </a:lnTo>
                  <a:lnTo>
                    <a:pt x="46" y="26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40" y="37"/>
                  </a:lnTo>
                  <a:lnTo>
                    <a:pt x="38" y="41"/>
                  </a:lnTo>
                  <a:lnTo>
                    <a:pt x="80" y="57"/>
                  </a:lnTo>
                  <a:lnTo>
                    <a:pt x="85" y="52"/>
                  </a:lnTo>
                  <a:lnTo>
                    <a:pt x="90" y="46"/>
                  </a:lnTo>
                  <a:lnTo>
                    <a:pt x="96" y="42"/>
                  </a:lnTo>
                  <a:lnTo>
                    <a:pt x="100" y="38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343240" y="3597480"/>
              <a:ext cx="7920" cy="1404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17"/>
                  </a:moveTo>
                  <a:lnTo>
                    <a:pt x="9" y="0"/>
                  </a:lnTo>
                  <a:lnTo>
                    <a:pt x="7" y="3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6b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208960" y="3622680"/>
              <a:ext cx="73080" cy="55800"/>
            </a:xfrm>
            <a:custGeom>
              <a:avLst/>
              <a:gdLst/>
              <a:ahLst/>
              <a:rect l="l" t="t" r="r" b="b"/>
              <a:pathLst>
                <a:path w="94" h="69">
                  <a:moveTo>
                    <a:pt x="27" y="47"/>
                  </a:moveTo>
                  <a:lnTo>
                    <a:pt x="23" y="45"/>
                  </a:lnTo>
                  <a:lnTo>
                    <a:pt x="20" y="43"/>
                  </a:lnTo>
                  <a:lnTo>
                    <a:pt x="17" y="39"/>
                  </a:lnTo>
                  <a:lnTo>
                    <a:pt x="13" y="36"/>
                  </a:lnTo>
                  <a:lnTo>
                    <a:pt x="13" y="32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2"/>
                  </a:lnTo>
                  <a:lnTo>
                    <a:pt x="11" y="15"/>
                  </a:lnTo>
                  <a:lnTo>
                    <a:pt x="6" y="9"/>
                  </a:lnTo>
                  <a:lnTo>
                    <a:pt x="3" y="3"/>
                  </a:lnTo>
                  <a:lnTo>
                    <a:pt x="0" y="0"/>
                  </a:lnTo>
                  <a:lnTo>
                    <a:pt x="94" y="38"/>
                  </a:lnTo>
                  <a:lnTo>
                    <a:pt x="93" y="39"/>
                  </a:lnTo>
                  <a:lnTo>
                    <a:pt x="90" y="41"/>
                  </a:lnTo>
                  <a:lnTo>
                    <a:pt x="89" y="43"/>
                  </a:lnTo>
                  <a:lnTo>
                    <a:pt x="87" y="45"/>
                  </a:lnTo>
                  <a:lnTo>
                    <a:pt x="89" y="51"/>
                  </a:lnTo>
                  <a:lnTo>
                    <a:pt x="90" y="55"/>
                  </a:lnTo>
                  <a:lnTo>
                    <a:pt x="93" y="61"/>
                  </a:lnTo>
                  <a:lnTo>
                    <a:pt x="94" y="67"/>
                  </a:lnTo>
                  <a:lnTo>
                    <a:pt x="90" y="67"/>
                  </a:lnTo>
                  <a:lnTo>
                    <a:pt x="88" y="68"/>
                  </a:lnTo>
                  <a:lnTo>
                    <a:pt x="86" y="69"/>
                  </a:lnTo>
                  <a:lnTo>
                    <a:pt x="82" y="69"/>
                  </a:lnTo>
                  <a:lnTo>
                    <a:pt x="83" y="66"/>
                  </a:lnTo>
                  <a:lnTo>
                    <a:pt x="85" y="63"/>
                  </a:lnTo>
                  <a:lnTo>
                    <a:pt x="85" y="62"/>
                  </a:lnTo>
                  <a:lnTo>
                    <a:pt x="85" y="60"/>
                  </a:lnTo>
                  <a:lnTo>
                    <a:pt x="80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6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4"/>
                  </a:lnTo>
                  <a:lnTo>
                    <a:pt x="47" y="43"/>
                  </a:lnTo>
                  <a:lnTo>
                    <a:pt x="44" y="46"/>
                  </a:lnTo>
                  <a:lnTo>
                    <a:pt x="43" y="48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309040" y="3595680"/>
              <a:ext cx="42840" cy="381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19"/>
                  </a:moveTo>
                  <a:lnTo>
                    <a:pt x="0" y="33"/>
                  </a:lnTo>
                  <a:lnTo>
                    <a:pt x="33" y="47"/>
                  </a:lnTo>
                  <a:lnTo>
                    <a:pt x="39" y="40"/>
                  </a:lnTo>
                  <a:lnTo>
                    <a:pt x="44" y="33"/>
                  </a:lnTo>
                  <a:lnTo>
                    <a:pt x="49" y="26"/>
                  </a:lnTo>
                  <a:lnTo>
                    <a:pt x="54" y="19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7" y="9"/>
                  </a:lnTo>
                  <a:lnTo>
                    <a:pt x="3" y="1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348640" y="3592800"/>
              <a:ext cx="3240" cy="2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352600" y="3567240"/>
              <a:ext cx="82800" cy="4428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105" y="36"/>
                  </a:moveTo>
                  <a:lnTo>
                    <a:pt x="105" y="31"/>
                  </a:lnTo>
                  <a:lnTo>
                    <a:pt x="31" y="0"/>
                  </a:lnTo>
                  <a:lnTo>
                    <a:pt x="23" y="6"/>
                  </a:lnTo>
                  <a:lnTo>
                    <a:pt x="16" y="11"/>
                  </a:lnTo>
                  <a:lnTo>
                    <a:pt x="8" y="18"/>
                  </a:lnTo>
                  <a:lnTo>
                    <a:pt x="0" y="24"/>
                  </a:lnTo>
                  <a:lnTo>
                    <a:pt x="29" y="36"/>
                  </a:lnTo>
                  <a:lnTo>
                    <a:pt x="36" y="30"/>
                  </a:lnTo>
                  <a:lnTo>
                    <a:pt x="44" y="24"/>
                  </a:lnTo>
                  <a:lnTo>
                    <a:pt x="52" y="18"/>
                  </a:lnTo>
                  <a:lnTo>
                    <a:pt x="62" y="14"/>
                  </a:lnTo>
                  <a:lnTo>
                    <a:pt x="60" y="22"/>
                  </a:lnTo>
                  <a:lnTo>
                    <a:pt x="55" y="29"/>
                  </a:lnTo>
                  <a:lnTo>
                    <a:pt x="51" y="34"/>
                  </a:lnTo>
                  <a:lnTo>
                    <a:pt x="45" y="40"/>
                  </a:lnTo>
                  <a:lnTo>
                    <a:pt x="51" y="42"/>
                  </a:lnTo>
                  <a:lnTo>
                    <a:pt x="56" y="44"/>
                  </a:lnTo>
                  <a:lnTo>
                    <a:pt x="61" y="46"/>
                  </a:lnTo>
                  <a:lnTo>
                    <a:pt x="67" y="47"/>
                  </a:lnTo>
                  <a:lnTo>
                    <a:pt x="71" y="49"/>
                  </a:lnTo>
                  <a:lnTo>
                    <a:pt x="76" y="51"/>
                  </a:lnTo>
                  <a:lnTo>
                    <a:pt x="81" y="53"/>
                  </a:lnTo>
                  <a:lnTo>
                    <a:pt x="85" y="55"/>
                  </a:lnTo>
                  <a:lnTo>
                    <a:pt x="91" y="49"/>
                  </a:lnTo>
                  <a:lnTo>
                    <a:pt x="97" y="44"/>
                  </a:lnTo>
                  <a:lnTo>
                    <a:pt x="101" y="39"/>
                  </a:lnTo>
                  <a:lnTo>
                    <a:pt x="105" y="36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351880" y="3611520"/>
              <a:ext cx="1800" cy="1116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14"/>
                  </a:moveTo>
                  <a:lnTo>
                    <a:pt x="2" y="0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208960" y="3641760"/>
              <a:ext cx="63720" cy="36720"/>
            </a:xfrm>
            <a:custGeom>
              <a:avLst/>
              <a:gdLst/>
              <a:ahLst/>
              <a:rect l="l" t="t" r="r" b="b"/>
              <a:pathLst>
                <a:path w="81" h="45">
                  <a:moveTo>
                    <a:pt x="16" y="36"/>
                  </a:moveTo>
                  <a:lnTo>
                    <a:pt x="16" y="34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9" y="26"/>
                  </a:lnTo>
                  <a:lnTo>
                    <a:pt x="14" y="22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76" y="30"/>
                  </a:lnTo>
                  <a:lnTo>
                    <a:pt x="77" y="35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81" y="43"/>
                  </a:lnTo>
                  <a:lnTo>
                    <a:pt x="77" y="43"/>
                  </a:lnTo>
                  <a:lnTo>
                    <a:pt x="75" y="44"/>
                  </a:lnTo>
                  <a:lnTo>
                    <a:pt x="73" y="45"/>
                  </a:lnTo>
                  <a:lnTo>
                    <a:pt x="69" y="45"/>
                  </a:lnTo>
                  <a:lnTo>
                    <a:pt x="70" y="42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2" y="36"/>
                  </a:lnTo>
                  <a:lnTo>
                    <a:pt x="67" y="32"/>
                  </a:lnTo>
                  <a:lnTo>
                    <a:pt x="62" y="30"/>
                  </a:lnTo>
                  <a:lnTo>
                    <a:pt x="58" y="28"/>
                  </a:lnTo>
                  <a:lnTo>
                    <a:pt x="53" y="26"/>
                  </a:lnTo>
                  <a:lnTo>
                    <a:pt x="49" y="23"/>
                  </a:lnTo>
                  <a:lnTo>
                    <a:pt x="44" y="21"/>
                  </a:lnTo>
                  <a:lnTo>
                    <a:pt x="38" y="20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6" y="36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317680" y="3606840"/>
              <a:ext cx="36720" cy="349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20"/>
                  </a:moveTo>
                  <a:lnTo>
                    <a:pt x="42" y="26"/>
                  </a:lnTo>
                  <a:lnTo>
                    <a:pt x="38" y="30"/>
                  </a:lnTo>
                  <a:lnTo>
                    <a:pt x="34" y="37"/>
                  </a:lnTo>
                  <a:lnTo>
                    <a:pt x="31" y="44"/>
                  </a:lnTo>
                  <a:lnTo>
                    <a:pt x="19" y="40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6"/>
                  </a:lnTo>
                  <a:lnTo>
                    <a:pt x="4" y="0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359800" y="3591000"/>
              <a:ext cx="39960" cy="20520"/>
            </a:xfrm>
            <a:custGeom>
              <a:avLst/>
              <a:gdLst/>
              <a:ahLst/>
              <a:rect l="l" t="t" r="r" b="b"/>
              <a:pathLst>
                <a:path w="51" h="26">
                  <a:moveTo>
                    <a:pt x="51" y="16"/>
                  </a:moveTo>
                  <a:lnTo>
                    <a:pt x="48" y="18"/>
                  </a:lnTo>
                  <a:lnTo>
                    <a:pt x="46" y="20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6" y="24"/>
                  </a:lnTo>
                  <a:lnTo>
                    <a:pt x="31" y="22"/>
                  </a:lnTo>
                  <a:lnTo>
                    <a:pt x="26" y="20"/>
                  </a:lnTo>
                  <a:lnTo>
                    <a:pt x="22" y="18"/>
                  </a:lnTo>
                  <a:lnTo>
                    <a:pt x="16" y="17"/>
                  </a:lnTo>
                  <a:lnTo>
                    <a:pt x="11" y="15"/>
                  </a:lnTo>
                  <a:lnTo>
                    <a:pt x="6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3"/>
                  </a:lnTo>
                  <a:lnTo>
                    <a:pt x="9" y="0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401200" y="3576600"/>
              <a:ext cx="42840" cy="30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27" y="38"/>
                  </a:moveTo>
                  <a:lnTo>
                    <a:pt x="33" y="31"/>
                  </a:lnTo>
                  <a:lnTo>
                    <a:pt x="39" y="26"/>
                  </a:lnTo>
                  <a:lnTo>
                    <a:pt x="46" y="20"/>
                  </a:lnTo>
                  <a:lnTo>
                    <a:pt x="54" y="13"/>
                  </a:lnTo>
                  <a:lnTo>
                    <a:pt x="27" y="0"/>
                  </a:lnTo>
                  <a:lnTo>
                    <a:pt x="20" y="6"/>
                  </a:lnTo>
                  <a:lnTo>
                    <a:pt x="13" y="13"/>
                  </a:lnTo>
                  <a:lnTo>
                    <a:pt x="6" y="20"/>
                  </a:lnTo>
                  <a:lnTo>
                    <a:pt x="0" y="27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e0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254320" y="3660840"/>
              <a:ext cx="7920" cy="97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3"/>
                  </a:moveTo>
                  <a:lnTo>
                    <a:pt x="2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e2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325600" y="362124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5" y="16"/>
                  </a:moveTo>
                  <a:lnTo>
                    <a:pt x="35" y="18"/>
                  </a:lnTo>
                  <a:lnTo>
                    <a:pt x="34" y="19"/>
                  </a:lnTo>
                  <a:lnTo>
                    <a:pt x="32" y="23"/>
                  </a:lnTo>
                  <a:lnTo>
                    <a:pt x="31" y="26"/>
                  </a:lnTo>
                  <a:lnTo>
                    <a:pt x="17" y="20"/>
                  </a:lnTo>
                  <a:lnTo>
                    <a:pt x="6" y="13"/>
                  </a:lnTo>
                  <a:lnTo>
                    <a:pt x="2" y="7"/>
                  </a:lnTo>
                  <a:lnTo>
                    <a:pt x="0" y="0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e2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412360" y="3587760"/>
              <a:ext cx="44280" cy="30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26" y="38"/>
                  </a:moveTo>
                  <a:lnTo>
                    <a:pt x="34" y="32"/>
                  </a:lnTo>
                  <a:lnTo>
                    <a:pt x="41" y="25"/>
                  </a:lnTo>
                  <a:lnTo>
                    <a:pt x="48" y="18"/>
                  </a:lnTo>
                  <a:lnTo>
                    <a:pt x="55" y="12"/>
                  </a:lnTo>
                  <a:lnTo>
                    <a:pt x="26" y="0"/>
                  </a:lnTo>
                  <a:lnTo>
                    <a:pt x="20" y="7"/>
                  </a:lnTo>
                  <a:lnTo>
                    <a:pt x="13" y="13"/>
                  </a:lnTo>
                  <a:lnTo>
                    <a:pt x="6" y="18"/>
                  </a:lnTo>
                  <a:lnTo>
                    <a:pt x="0" y="25"/>
                  </a:lnTo>
                  <a:lnTo>
                    <a:pt x="26" y="38"/>
                  </a:lnTo>
                  <a:close/>
                </a:path>
              </a:pathLst>
            </a:custGeom>
            <a:solidFill>
              <a:srgbClr val="e2b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421720" y="3597480"/>
              <a:ext cx="42840" cy="252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9" y="31"/>
                  </a:moveTo>
                  <a:lnTo>
                    <a:pt x="17" y="30"/>
                  </a:lnTo>
                  <a:lnTo>
                    <a:pt x="25" y="29"/>
                  </a:lnTo>
                  <a:lnTo>
                    <a:pt x="31" y="26"/>
                  </a:lnTo>
                  <a:lnTo>
                    <a:pt x="37" y="24"/>
                  </a:lnTo>
                  <a:lnTo>
                    <a:pt x="43" y="22"/>
                  </a:lnTo>
                  <a:lnTo>
                    <a:pt x="46" y="18"/>
                  </a:lnTo>
                  <a:lnTo>
                    <a:pt x="51" y="15"/>
                  </a:lnTo>
                  <a:lnTo>
                    <a:pt x="54" y="11"/>
                  </a:lnTo>
                  <a:lnTo>
                    <a:pt x="27" y="0"/>
                  </a:lnTo>
                  <a:lnTo>
                    <a:pt x="18" y="6"/>
                  </a:lnTo>
                  <a:lnTo>
                    <a:pt x="12" y="13"/>
                  </a:lnTo>
                  <a:lnTo>
                    <a:pt x="6" y="19"/>
                  </a:lnTo>
                  <a:lnTo>
                    <a:pt x="0" y="26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e8b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434680" y="3606840"/>
              <a:ext cx="34920" cy="1764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13"/>
                  </a:moveTo>
                  <a:lnTo>
                    <a:pt x="40" y="14"/>
                  </a:lnTo>
                  <a:lnTo>
                    <a:pt x="35" y="17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7" y="21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8" y="12"/>
                  </a:lnTo>
                  <a:lnTo>
                    <a:pt x="13" y="6"/>
                  </a:lnTo>
                  <a:lnTo>
                    <a:pt x="17" y="0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ed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458440" y="3619440"/>
              <a:ext cx="11160" cy="50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5"/>
                  </a:moveTo>
                  <a:lnTo>
                    <a:pt x="11" y="5"/>
                  </a:lnTo>
                  <a:lnTo>
                    <a:pt x="7" y="5"/>
                  </a:lnTo>
                  <a:lnTo>
                    <a:pt x="4" y="6"/>
                  </a:lnTo>
                  <a:lnTo>
                    <a:pt x="0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f2c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487600" y="3606840"/>
              <a:ext cx="47520" cy="15840"/>
            </a:xfrm>
            <a:custGeom>
              <a:avLst/>
              <a:gdLst/>
              <a:ahLst/>
              <a:rect l="l" t="t" r="r" b="b"/>
              <a:pathLst>
                <a:path w="60" h="20">
                  <a:moveTo>
                    <a:pt x="0" y="0"/>
                  </a:moveTo>
                  <a:lnTo>
                    <a:pt x="35" y="15"/>
                  </a:lnTo>
                  <a:lnTo>
                    <a:pt x="50" y="20"/>
                  </a:lnTo>
                  <a:lnTo>
                    <a:pt x="6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481120" y="3600720"/>
              <a:ext cx="61920" cy="18720"/>
            </a:xfrm>
            <a:custGeom>
              <a:avLst/>
              <a:gdLst/>
              <a:ahLst/>
              <a:rect l="l" t="t" r="r" b="b"/>
              <a:pathLst>
                <a:path w="78" h="24">
                  <a:moveTo>
                    <a:pt x="43" y="22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78" y="12"/>
                  </a:lnTo>
                  <a:lnTo>
                    <a:pt x="67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e5e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478240" y="3595680"/>
              <a:ext cx="64800" cy="19080"/>
            </a:xfrm>
            <a:custGeom>
              <a:avLst/>
              <a:gdLst/>
              <a:ahLst/>
              <a:rect l="l" t="t" r="r" b="b"/>
              <a:pathLst>
                <a:path w="83" h="24">
                  <a:moveTo>
                    <a:pt x="12" y="13"/>
                  </a:moveTo>
                  <a:lnTo>
                    <a:pt x="0" y="9"/>
                  </a:lnTo>
                  <a:lnTo>
                    <a:pt x="5" y="0"/>
                  </a:lnTo>
                  <a:lnTo>
                    <a:pt x="83" y="11"/>
                  </a:lnTo>
                  <a:lnTo>
                    <a:pt x="72" y="24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e8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473200" y="3591000"/>
              <a:ext cx="68400" cy="1764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7" y="0"/>
                  </a:moveTo>
                  <a:lnTo>
                    <a:pt x="0" y="11"/>
                  </a:lnTo>
                  <a:lnTo>
                    <a:pt x="76" y="23"/>
                  </a:lnTo>
                  <a:lnTo>
                    <a:pt x="87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8e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467800" y="3584520"/>
              <a:ext cx="71640" cy="2088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" y="0"/>
                  </a:moveTo>
                  <a:lnTo>
                    <a:pt x="0" y="14"/>
                  </a:lnTo>
                  <a:lnTo>
                    <a:pt x="78" y="25"/>
                  </a:lnTo>
                  <a:lnTo>
                    <a:pt x="91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8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63120" y="3579840"/>
              <a:ext cx="73080" cy="20880"/>
            </a:xfrm>
            <a:custGeom>
              <a:avLst/>
              <a:gdLst/>
              <a:ahLst/>
              <a:rect l="l" t="t" r="r" b="b"/>
              <a:pathLst>
                <a:path w="91" h="24">
                  <a:moveTo>
                    <a:pt x="11" y="0"/>
                  </a:moveTo>
                  <a:lnTo>
                    <a:pt x="0" y="13"/>
                  </a:lnTo>
                  <a:lnTo>
                    <a:pt x="80" y="24"/>
                  </a:lnTo>
                  <a:lnTo>
                    <a:pt x="91" y="13"/>
                  </a:lnTo>
                  <a:lnTo>
                    <a:pt x="65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a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458440" y="3575160"/>
              <a:ext cx="74520" cy="1908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8" y="0"/>
                  </a:moveTo>
                  <a:lnTo>
                    <a:pt x="0" y="13"/>
                  </a:lnTo>
                  <a:lnTo>
                    <a:pt x="82" y="24"/>
                  </a:lnTo>
                  <a:lnTo>
                    <a:pt x="93" y="13"/>
                  </a:lnTo>
                  <a:lnTo>
                    <a:pt x="67" y="9"/>
                  </a:lnTo>
                  <a:lnTo>
                    <a:pt x="64" y="15"/>
                  </a:lnTo>
                  <a:lnTo>
                    <a:pt x="58" y="15"/>
                  </a:lnTo>
                  <a:lnTo>
                    <a:pt x="67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ad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455200" y="3570480"/>
              <a:ext cx="73080" cy="20520"/>
            </a:xfrm>
            <a:custGeom>
              <a:avLst/>
              <a:gdLst/>
              <a:ahLst/>
              <a:rect l="l" t="t" r="r" b="b"/>
              <a:pathLst>
                <a:path w="92" h="27">
                  <a:moveTo>
                    <a:pt x="7" y="0"/>
                  </a:moveTo>
                  <a:lnTo>
                    <a:pt x="0" y="14"/>
                  </a:lnTo>
                  <a:lnTo>
                    <a:pt x="54" y="22"/>
                  </a:lnTo>
                  <a:lnTo>
                    <a:pt x="69" y="9"/>
                  </a:lnTo>
                  <a:lnTo>
                    <a:pt x="92" y="14"/>
                  </a:lnTo>
                  <a:lnTo>
                    <a:pt x="80" y="27"/>
                  </a:lnTo>
                  <a:lnTo>
                    <a:pt x="54" y="22"/>
                  </a:lnTo>
                  <a:lnTo>
                    <a:pt x="58" y="22"/>
                  </a:lnTo>
                  <a:lnTo>
                    <a:pt x="69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450520" y="3565800"/>
              <a:ext cx="75960" cy="18720"/>
            </a:xfrm>
            <a:custGeom>
              <a:avLst/>
              <a:gdLst/>
              <a:ahLst/>
              <a:rect l="l" t="t" r="r" b="b"/>
              <a:pathLst>
                <a:path w="94" h="24">
                  <a:moveTo>
                    <a:pt x="9" y="0"/>
                  </a:moveTo>
                  <a:lnTo>
                    <a:pt x="0" y="11"/>
                  </a:lnTo>
                  <a:lnTo>
                    <a:pt x="59" y="20"/>
                  </a:lnTo>
                  <a:lnTo>
                    <a:pt x="74" y="9"/>
                  </a:lnTo>
                  <a:lnTo>
                    <a:pt x="94" y="11"/>
                  </a:lnTo>
                  <a:lnTo>
                    <a:pt x="85" y="24"/>
                  </a:lnTo>
                  <a:lnTo>
                    <a:pt x="59" y="20"/>
                  </a:lnTo>
                  <a:lnTo>
                    <a:pt x="7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444040" y="3567240"/>
              <a:ext cx="25560" cy="126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7"/>
                  </a:moveTo>
                  <a:lnTo>
                    <a:pt x="0" y="14"/>
                  </a:lnTo>
                  <a:lnTo>
                    <a:pt x="19" y="16"/>
                  </a:lnTo>
                  <a:lnTo>
                    <a:pt x="32" y="4"/>
                  </a:lnTo>
                  <a:lnTo>
                    <a:pt x="1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465280" y="3567240"/>
              <a:ext cx="504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0" y="7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469600" y="356076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16"/>
                  </a:moveTo>
                  <a:lnTo>
                    <a:pt x="66" y="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62" y="20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470320" y="357372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440080" y="356400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7"/>
                  </a:moveTo>
                  <a:lnTo>
                    <a:pt x="0" y="12"/>
                  </a:lnTo>
                  <a:lnTo>
                    <a:pt x="18" y="14"/>
                  </a:lnTo>
                  <a:lnTo>
                    <a:pt x="31" y="5"/>
                  </a:lnTo>
                  <a:lnTo>
                    <a:pt x="33" y="3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465280" y="3554640"/>
              <a:ext cx="54000" cy="19080"/>
            </a:xfrm>
            <a:custGeom>
              <a:avLst/>
              <a:gdLst/>
              <a:ahLst/>
              <a:rect l="l" t="t" r="r" b="b"/>
              <a:pathLst>
                <a:path w="67" h="24">
                  <a:moveTo>
                    <a:pt x="67" y="15"/>
                  </a:moveTo>
                  <a:lnTo>
                    <a:pt x="67" y="10"/>
                  </a:lnTo>
                  <a:lnTo>
                    <a:pt x="9" y="0"/>
                  </a:lnTo>
                  <a:lnTo>
                    <a:pt x="7" y="3"/>
                  </a:lnTo>
                  <a:lnTo>
                    <a:pt x="0" y="15"/>
                  </a:lnTo>
                  <a:lnTo>
                    <a:pt x="62" y="24"/>
                  </a:lnTo>
                  <a:lnTo>
                    <a:pt x="67" y="15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464560" y="3570480"/>
              <a:ext cx="3240" cy="32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428920" y="355932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0"/>
                  </a:moveTo>
                  <a:lnTo>
                    <a:pt x="0" y="12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1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460600" y="3549600"/>
              <a:ext cx="55440" cy="1764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69" y="13"/>
                  </a:moveTo>
                  <a:lnTo>
                    <a:pt x="69" y="10"/>
                  </a:lnTo>
                  <a:lnTo>
                    <a:pt x="45" y="5"/>
                  </a:lnTo>
                  <a:lnTo>
                    <a:pt x="38" y="10"/>
                  </a:lnTo>
                  <a:lnTo>
                    <a:pt x="40" y="5"/>
                  </a:lnTo>
                  <a:lnTo>
                    <a:pt x="11" y="0"/>
                  </a:lnTo>
                  <a:lnTo>
                    <a:pt x="2" y="8"/>
                  </a:lnTo>
                  <a:lnTo>
                    <a:pt x="0" y="13"/>
                  </a:lnTo>
                  <a:lnTo>
                    <a:pt x="62" y="22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e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425680" y="3554640"/>
              <a:ext cx="30240" cy="111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10"/>
                  </a:moveTo>
                  <a:lnTo>
                    <a:pt x="0" y="12"/>
                  </a:lnTo>
                  <a:lnTo>
                    <a:pt x="19" y="15"/>
                  </a:lnTo>
                  <a:lnTo>
                    <a:pt x="31" y="10"/>
                  </a:lnTo>
                  <a:lnTo>
                    <a:pt x="38" y="5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f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453400" y="3552840"/>
              <a:ext cx="1800" cy="18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455920" y="3544920"/>
              <a:ext cx="55440" cy="1764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2" y="12"/>
                  </a:moveTo>
                  <a:lnTo>
                    <a:pt x="72" y="9"/>
                  </a:lnTo>
                  <a:lnTo>
                    <a:pt x="49" y="7"/>
                  </a:lnTo>
                  <a:lnTo>
                    <a:pt x="34" y="17"/>
                  </a:lnTo>
                  <a:lnTo>
                    <a:pt x="38" y="5"/>
                  </a:lnTo>
                  <a:lnTo>
                    <a:pt x="12" y="0"/>
                  </a:lnTo>
                  <a:lnTo>
                    <a:pt x="10" y="5"/>
                  </a:lnTo>
                  <a:lnTo>
                    <a:pt x="0" y="12"/>
                  </a:lnTo>
                  <a:lnTo>
                    <a:pt x="63" y="2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ef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419200" y="3549600"/>
              <a:ext cx="30240" cy="129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10"/>
                  </a:moveTo>
                  <a:lnTo>
                    <a:pt x="0" y="10"/>
                  </a:lnTo>
                  <a:lnTo>
                    <a:pt x="26" y="15"/>
                  </a:lnTo>
                  <a:lnTo>
                    <a:pt x="38" y="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449440" y="3544920"/>
              <a:ext cx="28800" cy="144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6" y="5"/>
                  </a:moveTo>
                  <a:lnTo>
                    <a:pt x="36" y="5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4" y="17"/>
                  </a:lnTo>
                  <a:lnTo>
                    <a:pt x="31" y="7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475720" y="35434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477520" y="3541680"/>
              <a:ext cx="28440" cy="1296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6" y="5"/>
                  </a:moveTo>
                  <a:lnTo>
                    <a:pt x="36" y="3"/>
                  </a:lnTo>
                  <a:lnTo>
                    <a:pt x="11" y="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29" y="17"/>
                  </a:lnTo>
                  <a:lnTo>
                    <a:pt x="34" y="5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413080" y="354492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2"/>
                  </a:moveTo>
                  <a:lnTo>
                    <a:pt x="0" y="12"/>
                  </a:lnTo>
                  <a:lnTo>
                    <a:pt x="23" y="17"/>
                  </a:lnTo>
                  <a:lnTo>
                    <a:pt x="36" y="7"/>
                  </a:lnTo>
                  <a:lnTo>
                    <a:pt x="38" y="5"/>
                  </a:lnTo>
                  <a:lnTo>
                    <a:pt x="1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442600" y="354024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5"/>
                  </a:moveTo>
                  <a:lnTo>
                    <a:pt x="34" y="5"/>
                  </a:lnTo>
                  <a:lnTo>
                    <a:pt x="7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34" y="5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470320" y="3535560"/>
              <a:ext cx="33120" cy="126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7"/>
                  </a:moveTo>
                  <a:lnTo>
                    <a:pt x="41" y="5"/>
                  </a:lnTo>
                  <a:lnTo>
                    <a:pt x="10" y="0"/>
                  </a:lnTo>
                  <a:lnTo>
                    <a:pt x="6" y="5"/>
                  </a:lnTo>
                  <a:lnTo>
                    <a:pt x="0" y="12"/>
                  </a:lnTo>
                  <a:lnTo>
                    <a:pt x="26" y="17"/>
                  </a:lnTo>
                  <a:lnTo>
                    <a:pt x="29" y="12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470320" y="3546720"/>
              <a:ext cx="2880" cy="2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f2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437560" y="3535560"/>
              <a:ext cx="27000" cy="126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7"/>
                  </a:moveTo>
                  <a:lnTo>
                    <a:pt x="0" y="12"/>
                  </a:lnTo>
                  <a:lnTo>
                    <a:pt x="21" y="17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461320" y="3533760"/>
              <a:ext cx="324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407680" y="3541680"/>
              <a:ext cx="29880" cy="111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2"/>
                  </a:moveTo>
                  <a:lnTo>
                    <a:pt x="9" y="5"/>
                  </a:lnTo>
                  <a:lnTo>
                    <a:pt x="16" y="0"/>
                  </a:lnTo>
                  <a:lnTo>
                    <a:pt x="38" y="3"/>
                  </a:lnTo>
                  <a:lnTo>
                    <a:pt x="29" y="12"/>
                  </a:lnTo>
                  <a:lnTo>
                    <a:pt x="23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464560" y="3532320"/>
              <a:ext cx="33480" cy="1116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40" y="9"/>
                  </a:moveTo>
                  <a:lnTo>
                    <a:pt x="40" y="2"/>
                  </a:lnTo>
                  <a:lnTo>
                    <a:pt x="11" y="0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5" y="14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f2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431440" y="3530880"/>
              <a:ext cx="28440" cy="126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9"/>
                  </a:moveTo>
                  <a:lnTo>
                    <a:pt x="0" y="13"/>
                  </a:lnTo>
                  <a:lnTo>
                    <a:pt x="22" y="16"/>
                  </a:lnTo>
                  <a:lnTo>
                    <a:pt x="29" y="11"/>
                  </a:lnTo>
                  <a:lnTo>
                    <a:pt x="36" y="4"/>
                  </a:lnTo>
                  <a:lnTo>
                    <a:pt x="7" y="0"/>
                  </a:lnTo>
                  <a:lnTo>
                    <a:pt x="5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4d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401200" y="3535560"/>
              <a:ext cx="28440" cy="126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2"/>
                  </a:moveTo>
                  <a:lnTo>
                    <a:pt x="0" y="12"/>
                  </a:lnTo>
                  <a:lnTo>
                    <a:pt x="7" y="5"/>
                  </a:lnTo>
                  <a:lnTo>
                    <a:pt x="11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22" y="1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d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459880" y="3525840"/>
              <a:ext cx="33480" cy="144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3" y="10"/>
                  </a:moveTo>
                  <a:lnTo>
                    <a:pt x="43" y="6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f4d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427120" y="352584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8"/>
                  </a:moveTo>
                  <a:lnTo>
                    <a:pt x="0" y="12"/>
                  </a:lnTo>
                  <a:lnTo>
                    <a:pt x="24" y="17"/>
                  </a:lnTo>
                  <a:lnTo>
                    <a:pt x="31" y="10"/>
                  </a:lnTo>
                  <a:lnTo>
                    <a:pt x="38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396520" y="3532320"/>
              <a:ext cx="28440" cy="1116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11"/>
                  </a:moveTo>
                  <a:lnTo>
                    <a:pt x="0" y="9"/>
                  </a:lnTo>
                  <a:lnTo>
                    <a:pt x="13" y="0"/>
                  </a:lnTo>
                  <a:lnTo>
                    <a:pt x="36" y="2"/>
                  </a:lnTo>
                  <a:lnTo>
                    <a:pt x="29" y="9"/>
                  </a:lnTo>
                  <a:lnTo>
                    <a:pt x="22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457360" y="3522600"/>
              <a:ext cx="31680" cy="129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8"/>
                  </a:moveTo>
                  <a:lnTo>
                    <a:pt x="41" y="3"/>
                  </a:lnTo>
                  <a:lnTo>
                    <a:pt x="34" y="3"/>
                  </a:lnTo>
                  <a:lnTo>
                    <a:pt x="29" y="8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34" y="17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456640" y="353232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4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421000" y="3522600"/>
              <a:ext cx="3168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0" y="11"/>
                  </a:moveTo>
                  <a:lnTo>
                    <a:pt x="0" y="1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40" y="3"/>
                  </a:lnTo>
                  <a:lnTo>
                    <a:pt x="1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448720" y="3519720"/>
              <a:ext cx="324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392200" y="3525840"/>
              <a:ext cx="28800" cy="144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15" y="0"/>
                  </a:moveTo>
                  <a:lnTo>
                    <a:pt x="0" y="12"/>
                  </a:lnTo>
                  <a:lnTo>
                    <a:pt x="25" y="17"/>
                  </a:lnTo>
                  <a:lnTo>
                    <a:pt x="36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452680" y="3517920"/>
              <a:ext cx="30240" cy="129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38" y="4"/>
                  </a:moveTo>
                  <a:lnTo>
                    <a:pt x="38" y="2"/>
                  </a:lnTo>
                  <a:lnTo>
                    <a:pt x="31" y="0"/>
                  </a:lnTo>
                  <a:lnTo>
                    <a:pt x="22" y="12"/>
                  </a:lnTo>
                  <a:lnTo>
                    <a:pt x="5" y="4"/>
                  </a:lnTo>
                  <a:lnTo>
                    <a:pt x="0" y="9"/>
                  </a:lnTo>
                  <a:lnTo>
                    <a:pt x="31" y="15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414520" y="3516480"/>
              <a:ext cx="30240" cy="144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0" y="10"/>
                  </a:moveTo>
                  <a:lnTo>
                    <a:pt x="0" y="12"/>
                  </a:lnTo>
                  <a:lnTo>
                    <a:pt x="23" y="18"/>
                  </a:lnTo>
                  <a:lnTo>
                    <a:pt x="38" y="5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390760" y="3522600"/>
              <a:ext cx="23760" cy="111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16" y="0"/>
                  </a:moveTo>
                  <a:lnTo>
                    <a:pt x="0" y="13"/>
                  </a:lnTo>
                  <a:lnTo>
                    <a:pt x="23" y="15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444760" y="3514680"/>
              <a:ext cx="17280" cy="9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22" y="0"/>
                  </a:lnTo>
                  <a:lnTo>
                    <a:pt x="9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8" y="5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444040" y="3524400"/>
              <a:ext cx="3240" cy="1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4d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409840" y="3513240"/>
              <a:ext cx="30240" cy="111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9"/>
                  </a:moveTo>
                  <a:lnTo>
                    <a:pt x="0" y="11"/>
                  </a:lnTo>
                  <a:lnTo>
                    <a:pt x="23" y="14"/>
                  </a:lnTo>
                  <a:lnTo>
                    <a:pt x="38" y="2"/>
                  </a:lnTo>
                  <a:lnTo>
                    <a:pt x="17" y="0"/>
                  </a:lnTo>
                  <a:lnTo>
                    <a:pt x="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390040" y="3517920"/>
              <a:ext cx="19080" cy="111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9"/>
                  </a:moveTo>
                  <a:lnTo>
                    <a:pt x="14" y="0"/>
                  </a:lnTo>
                  <a:lnTo>
                    <a:pt x="23" y="9"/>
                  </a:lnTo>
                  <a:lnTo>
                    <a:pt x="21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439360" y="3510000"/>
              <a:ext cx="19080" cy="972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24" y="5"/>
                  </a:moveTo>
                  <a:lnTo>
                    <a:pt x="24" y="2"/>
                  </a:lnTo>
                  <a:lnTo>
                    <a:pt x="9" y="0"/>
                  </a:lnTo>
                  <a:lnTo>
                    <a:pt x="0" y="12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437560" y="3519720"/>
              <a:ext cx="180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7d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403360" y="3510000"/>
              <a:ext cx="28800" cy="972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0" y="9"/>
                  </a:moveTo>
                  <a:lnTo>
                    <a:pt x="0" y="9"/>
                  </a:lnTo>
                  <a:lnTo>
                    <a:pt x="22" y="14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1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429640" y="3505320"/>
              <a:ext cx="1800" cy="14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391480" y="3517920"/>
              <a:ext cx="9720" cy="64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4"/>
                  </a:moveTo>
                  <a:lnTo>
                    <a:pt x="4" y="0"/>
                  </a:lnTo>
                  <a:lnTo>
                    <a:pt x="1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32160" y="3503880"/>
              <a:ext cx="23760" cy="1080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9" y="5"/>
                  </a:moveTo>
                  <a:lnTo>
                    <a:pt x="2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4"/>
                  </a:lnTo>
                  <a:lnTo>
                    <a:pt x="15" y="14"/>
                  </a:lnTo>
                  <a:lnTo>
                    <a:pt x="19" y="12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f7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426400" y="3500640"/>
              <a:ext cx="24120" cy="1116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0" y="11"/>
                  </a:moveTo>
                  <a:lnTo>
                    <a:pt x="5" y="4"/>
                  </a:lnTo>
                  <a:lnTo>
                    <a:pt x="13" y="0"/>
                  </a:lnTo>
                  <a:lnTo>
                    <a:pt x="32" y="2"/>
                  </a:lnTo>
                  <a:lnTo>
                    <a:pt x="18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9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1920" y="3503880"/>
              <a:ext cx="25200" cy="1080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17" y="0"/>
                  </a:moveTo>
                  <a:lnTo>
                    <a:pt x="0" y="12"/>
                  </a:lnTo>
                  <a:lnTo>
                    <a:pt x="21" y="14"/>
                  </a:lnTo>
                  <a:lnTo>
                    <a:pt x="26" y="12"/>
                  </a:lnTo>
                  <a:lnTo>
                    <a:pt x="31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9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420280" y="3494160"/>
              <a:ext cx="270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3"/>
                  </a:moveTo>
                  <a:lnTo>
                    <a:pt x="8" y="5"/>
                  </a:lnTo>
                  <a:lnTo>
                    <a:pt x="17" y="0"/>
                  </a:lnTo>
                  <a:lnTo>
                    <a:pt x="33" y="3"/>
                  </a:lnTo>
                  <a:lnTo>
                    <a:pt x="2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9d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400480" y="3500640"/>
              <a:ext cx="18720" cy="111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11"/>
                  </a:moveTo>
                  <a:lnTo>
                    <a:pt x="10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1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9d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416320" y="3489480"/>
              <a:ext cx="25200" cy="1260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13"/>
                  </a:moveTo>
                  <a:lnTo>
                    <a:pt x="0" y="9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19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9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398680" y="3497400"/>
              <a:ext cx="1440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8"/>
                  </a:moveTo>
                  <a:lnTo>
                    <a:pt x="2" y="8"/>
                  </a:lnTo>
                  <a:lnTo>
                    <a:pt x="18" y="0"/>
                  </a:lnTo>
                  <a:lnTo>
                    <a:pt x="14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9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411280" y="3486240"/>
              <a:ext cx="22320" cy="972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0" y="9"/>
                  </a:moveTo>
                  <a:lnTo>
                    <a:pt x="12" y="5"/>
                  </a:lnTo>
                  <a:lnTo>
                    <a:pt x="22" y="5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6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cc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404440" y="3481560"/>
              <a:ext cx="21960" cy="111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12"/>
                  </a:moveTo>
                  <a:lnTo>
                    <a:pt x="2" y="12"/>
                  </a:lnTo>
                  <a:lnTo>
                    <a:pt x="12" y="12"/>
                  </a:lnTo>
                  <a:lnTo>
                    <a:pt x="15" y="0"/>
                  </a:lnTo>
                  <a:lnTo>
                    <a:pt x="26" y="3"/>
                  </a:lnTo>
                  <a:lnTo>
                    <a:pt x="12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cc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401200" y="3479760"/>
              <a:ext cx="12600" cy="64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9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c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401200" y="3479760"/>
              <a:ext cx="12600" cy="324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2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550960" y="3584520"/>
              <a:ext cx="30240" cy="162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16" y="18"/>
                  </a:moveTo>
                  <a:lnTo>
                    <a:pt x="2" y="11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3" y="11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546280" y="3576600"/>
              <a:ext cx="36720" cy="1908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4" y="2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7" y="7"/>
                  </a:lnTo>
                  <a:lnTo>
                    <a:pt x="35" y="22"/>
                  </a:lnTo>
                  <a:lnTo>
                    <a:pt x="27" y="25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e5e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539440" y="3571920"/>
              <a:ext cx="42840" cy="190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2" y="18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54" y="7"/>
                  </a:lnTo>
                  <a:lnTo>
                    <a:pt x="40" y="25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e5e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534400" y="3565800"/>
              <a:ext cx="47880" cy="172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16" y="0"/>
                  </a:moveTo>
                  <a:lnTo>
                    <a:pt x="0" y="13"/>
                  </a:lnTo>
                  <a:lnTo>
                    <a:pt x="47" y="20"/>
                  </a:lnTo>
                  <a:lnTo>
                    <a:pt x="61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529000" y="3560760"/>
              <a:ext cx="48960" cy="15840"/>
            </a:xfrm>
            <a:custGeom>
              <a:avLst/>
              <a:gdLst/>
              <a:ahLst/>
              <a:rect l="l" t="t" r="r" b="b"/>
              <a:pathLst>
                <a:path w="63" h="20">
                  <a:moveTo>
                    <a:pt x="17" y="0"/>
                  </a:moveTo>
                  <a:lnTo>
                    <a:pt x="0" y="13"/>
                  </a:lnTo>
                  <a:lnTo>
                    <a:pt x="48" y="20"/>
                  </a:lnTo>
                  <a:lnTo>
                    <a:pt x="63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8e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522520" y="3552840"/>
              <a:ext cx="47520" cy="1908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17" y="0"/>
                  </a:moveTo>
                  <a:lnTo>
                    <a:pt x="0" y="18"/>
                  </a:lnTo>
                  <a:lnTo>
                    <a:pt x="45" y="24"/>
                  </a:lnTo>
                  <a:lnTo>
                    <a:pt x="60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8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517840" y="3546720"/>
              <a:ext cx="47520" cy="17280"/>
            </a:xfrm>
            <a:custGeom>
              <a:avLst/>
              <a:gdLst/>
              <a:ahLst/>
              <a:rect l="l" t="t" r="r" b="b"/>
              <a:pathLst>
                <a:path w="59" h="22">
                  <a:moveTo>
                    <a:pt x="19" y="0"/>
                  </a:moveTo>
                  <a:lnTo>
                    <a:pt x="0" y="18"/>
                  </a:lnTo>
                  <a:lnTo>
                    <a:pt x="46" y="22"/>
                  </a:lnTo>
                  <a:lnTo>
                    <a:pt x="59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e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511360" y="3541680"/>
              <a:ext cx="46080" cy="1764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16" y="0"/>
                  </a:moveTo>
                  <a:lnTo>
                    <a:pt x="0" y="14"/>
                  </a:lnTo>
                  <a:lnTo>
                    <a:pt x="43" y="22"/>
                  </a:lnTo>
                  <a:lnTo>
                    <a:pt x="56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ad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05960" y="3533760"/>
              <a:ext cx="42840" cy="1908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16" y="0"/>
                  </a:moveTo>
                  <a:lnTo>
                    <a:pt x="0" y="16"/>
                  </a:lnTo>
                  <a:lnTo>
                    <a:pt x="40" y="23"/>
                  </a:lnTo>
                  <a:lnTo>
                    <a:pt x="54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498040" y="3529080"/>
              <a:ext cx="44280" cy="1584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0" y="16"/>
                  </a:moveTo>
                  <a:lnTo>
                    <a:pt x="14" y="3"/>
                  </a:lnTo>
                  <a:lnTo>
                    <a:pt x="20" y="0"/>
                  </a:lnTo>
                  <a:lnTo>
                    <a:pt x="58" y="5"/>
                  </a:lnTo>
                  <a:lnTo>
                    <a:pt x="47" y="14"/>
                  </a:lnTo>
                  <a:lnTo>
                    <a:pt x="4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d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490840" y="3522600"/>
              <a:ext cx="46080" cy="1764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0" y="15"/>
                  </a:moveTo>
                  <a:lnTo>
                    <a:pt x="5" y="11"/>
                  </a:lnTo>
                  <a:lnTo>
                    <a:pt x="20" y="0"/>
                  </a:lnTo>
                  <a:lnTo>
                    <a:pt x="58" y="5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dd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482920" y="3516480"/>
              <a:ext cx="46080" cy="15840"/>
            </a:xfrm>
            <a:custGeom>
              <a:avLst/>
              <a:gdLst/>
              <a:ahLst/>
              <a:rect l="l" t="t" r="r" b="b"/>
              <a:pathLst>
                <a:path w="56" h="20">
                  <a:moveTo>
                    <a:pt x="18" y="0"/>
                  </a:moveTo>
                  <a:lnTo>
                    <a:pt x="0" y="15"/>
                  </a:lnTo>
                  <a:lnTo>
                    <a:pt x="38" y="20"/>
                  </a:lnTo>
                  <a:lnTo>
                    <a:pt x="5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d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847520" y="3335400"/>
              <a:ext cx="879480" cy="301680"/>
              <a:chOff x="1847520" y="3335400"/>
              <a:chExt cx="879480" cy="30168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2477520" y="3510000"/>
                <a:ext cx="42840" cy="1584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18" y="0"/>
                    </a:moveTo>
                    <a:lnTo>
                      <a:pt x="0" y="16"/>
                    </a:lnTo>
                    <a:lnTo>
                      <a:pt x="38" y="21"/>
                    </a:lnTo>
                    <a:lnTo>
                      <a:pt x="54" y="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469600" y="3503520"/>
                <a:ext cx="42840" cy="1584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20" y="0"/>
                    </a:moveTo>
                    <a:lnTo>
                      <a:pt x="0" y="16"/>
                    </a:lnTo>
                    <a:lnTo>
                      <a:pt x="38" y="21"/>
                    </a:lnTo>
                    <a:lnTo>
                      <a:pt x="55" y="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461680" y="3497400"/>
                <a:ext cx="44280" cy="17280"/>
              </a:xfrm>
              <a:custGeom>
                <a:avLst/>
                <a:gdLst/>
                <a:ahLst/>
                <a:rect l="l" t="t" r="r" b="b"/>
                <a:pathLst>
                  <a:path w="56" h="22">
                    <a:moveTo>
                      <a:pt x="20" y="0"/>
                    </a:moveTo>
                    <a:lnTo>
                      <a:pt x="0" y="15"/>
                    </a:lnTo>
                    <a:lnTo>
                      <a:pt x="36" y="22"/>
                    </a:lnTo>
                    <a:lnTo>
                      <a:pt x="56" y="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455200" y="3492360"/>
                <a:ext cx="42840" cy="1440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18" y="0"/>
                    </a:moveTo>
                    <a:lnTo>
                      <a:pt x="0" y="15"/>
                    </a:lnTo>
                    <a:lnTo>
                      <a:pt x="35" y="20"/>
                    </a:lnTo>
                    <a:lnTo>
                      <a:pt x="54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447280" y="3484440"/>
                <a:ext cx="42840" cy="1764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22" y="0"/>
                    </a:moveTo>
                    <a:lnTo>
                      <a:pt x="0" y="16"/>
                    </a:lnTo>
                    <a:lnTo>
                      <a:pt x="36" y="22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437920" y="3479760"/>
                <a:ext cx="44280" cy="1584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22" y="0"/>
                    </a:moveTo>
                    <a:lnTo>
                      <a:pt x="0" y="16"/>
                    </a:lnTo>
                    <a:lnTo>
                      <a:pt x="36" y="21"/>
                    </a:lnTo>
                    <a:lnTo>
                      <a:pt x="45" y="14"/>
                    </a:lnTo>
                    <a:lnTo>
                      <a:pt x="58" y="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2428560" y="3473280"/>
                <a:ext cx="44640" cy="16200"/>
              </a:xfrm>
              <a:custGeom>
                <a:avLst/>
                <a:gdLst/>
                <a:ahLst/>
                <a:rect l="l" t="t" r="r" b="b"/>
                <a:pathLst>
                  <a:path w="56" h="21">
                    <a:moveTo>
                      <a:pt x="18" y="0"/>
                    </a:moveTo>
                    <a:lnTo>
                      <a:pt x="0" y="14"/>
                    </a:lnTo>
                    <a:lnTo>
                      <a:pt x="32" y="21"/>
                    </a:lnTo>
                    <a:lnTo>
                      <a:pt x="52" y="9"/>
                    </a:lnTo>
                    <a:lnTo>
                      <a:pt x="56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2420640" y="3467160"/>
                <a:ext cx="44640" cy="17280"/>
              </a:xfrm>
              <a:custGeom>
                <a:avLst/>
                <a:gdLst/>
                <a:ahLst/>
                <a:rect l="l" t="t" r="r" b="b"/>
                <a:pathLst>
                  <a:path w="56" h="22">
                    <a:moveTo>
                      <a:pt x="0" y="15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2401200" y="3462480"/>
                <a:ext cx="57240" cy="14040"/>
              </a:xfrm>
              <a:custGeom>
                <a:avLst/>
                <a:gdLst/>
                <a:ahLst/>
                <a:rect l="l" t="t" r="r" b="b"/>
                <a:pathLst>
                  <a:path w="72" h="20">
                    <a:moveTo>
                      <a:pt x="0" y="15"/>
                    </a:moveTo>
                    <a:lnTo>
                      <a:pt x="9" y="7"/>
                    </a:lnTo>
                    <a:lnTo>
                      <a:pt x="22" y="5"/>
                    </a:lnTo>
                    <a:lnTo>
                      <a:pt x="31" y="0"/>
                    </a:lnTo>
                    <a:lnTo>
                      <a:pt x="72" y="7"/>
                    </a:lnTo>
                    <a:lnTo>
                      <a:pt x="69" y="7"/>
                    </a:lnTo>
                    <a:lnTo>
                      <a:pt x="47" y="12"/>
                    </a:lnTo>
                    <a:lnTo>
                      <a:pt x="38" y="2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394720" y="3456000"/>
                <a:ext cx="55800" cy="144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0" y="14"/>
                    </a:moveTo>
                    <a:lnTo>
                      <a:pt x="13" y="12"/>
                    </a:lnTo>
                    <a:lnTo>
                      <a:pt x="34" y="0"/>
                    </a:lnTo>
                    <a:lnTo>
                      <a:pt x="72" y="7"/>
                    </a:lnTo>
                    <a:lnTo>
                      <a:pt x="60" y="14"/>
                    </a:lnTo>
                    <a:lnTo>
                      <a:pt x="38" y="1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384280" y="3451320"/>
                <a:ext cx="48960" cy="15840"/>
              </a:xfrm>
              <a:custGeom>
                <a:avLst/>
                <a:gdLst/>
                <a:ahLst/>
                <a:rect l="l" t="t" r="r" b="b"/>
                <a:pathLst>
                  <a:path w="63" h="21">
                    <a:moveTo>
                      <a:pt x="25" y="0"/>
                    </a:moveTo>
                    <a:lnTo>
                      <a:pt x="0" y="14"/>
                    </a:lnTo>
                    <a:lnTo>
                      <a:pt x="41" y="21"/>
                    </a:lnTo>
                    <a:lnTo>
                      <a:pt x="63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2374200" y="344484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62" h="21">
                    <a:moveTo>
                      <a:pt x="0" y="14"/>
                    </a:moveTo>
                    <a:lnTo>
                      <a:pt x="22" y="0"/>
                    </a:lnTo>
                    <a:lnTo>
                      <a:pt x="24" y="0"/>
                    </a:lnTo>
                    <a:lnTo>
                      <a:pt x="62" y="5"/>
                    </a:lnTo>
                    <a:lnTo>
                      <a:pt x="38" y="2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2368080" y="3438360"/>
                <a:ext cx="45720" cy="162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15"/>
                    </a:moveTo>
                    <a:lnTo>
                      <a:pt x="9" y="8"/>
                    </a:lnTo>
                    <a:lnTo>
                      <a:pt x="23" y="0"/>
                    </a:lnTo>
                    <a:lnTo>
                      <a:pt x="58" y="5"/>
                    </a:lnTo>
                    <a:lnTo>
                      <a:pt x="38" y="2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2358720" y="343368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24" y="0"/>
                    </a:moveTo>
                    <a:lnTo>
                      <a:pt x="0" y="15"/>
                    </a:lnTo>
                    <a:lnTo>
                      <a:pt x="38" y="20"/>
                    </a:lnTo>
                    <a:lnTo>
                      <a:pt x="60" y="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2349360" y="3427560"/>
                <a:ext cx="47520" cy="14040"/>
              </a:xfrm>
              <a:custGeom>
                <a:avLst/>
                <a:gdLst/>
                <a:ahLst/>
                <a:rect l="l" t="t" r="r" b="b"/>
                <a:pathLst>
                  <a:path w="59" h="18">
                    <a:moveTo>
                      <a:pt x="0" y="13"/>
                    </a:moveTo>
                    <a:lnTo>
                      <a:pt x="17" y="2"/>
                    </a:lnTo>
                    <a:lnTo>
                      <a:pt x="26" y="0"/>
                    </a:lnTo>
                    <a:lnTo>
                      <a:pt x="59" y="4"/>
                    </a:lnTo>
                    <a:lnTo>
                      <a:pt x="35" y="1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341080" y="3422520"/>
                <a:ext cx="44280" cy="144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0" y="13"/>
                    </a:moveTo>
                    <a:lnTo>
                      <a:pt x="5" y="9"/>
                    </a:lnTo>
                    <a:lnTo>
                      <a:pt x="34" y="0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36" y="1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341440" y="3417840"/>
                <a:ext cx="33120" cy="1440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0" y="12"/>
                    </a:moveTo>
                    <a:lnTo>
                      <a:pt x="38" y="0"/>
                    </a:lnTo>
                    <a:lnTo>
                      <a:pt x="43" y="9"/>
                    </a:lnTo>
                    <a:lnTo>
                      <a:pt x="33" y="1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2341440" y="341784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5"/>
                    </a:moveTo>
                    <a:lnTo>
                      <a:pt x="18" y="0"/>
                    </a:lnTo>
                    <a:lnTo>
                      <a:pt x="23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2588760" y="356400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27" y="19"/>
                    </a:moveTo>
                    <a:lnTo>
                      <a:pt x="20" y="16"/>
                    </a:lnTo>
                    <a:lnTo>
                      <a:pt x="13" y="1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47" y="5"/>
                    </a:lnTo>
                    <a:lnTo>
                      <a:pt x="43" y="8"/>
                    </a:lnTo>
                    <a:lnTo>
                      <a:pt x="37" y="12"/>
                    </a:lnTo>
                    <a:lnTo>
                      <a:pt x="32" y="15"/>
                    </a:lnTo>
                    <a:lnTo>
                      <a:pt x="27" y="19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2577960" y="3552840"/>
                <a:ext cx="48960" cy="2376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9" y="27"/>
                    </a:moveTo>
                    <a:lnTo>
                      <a:pt x="7" y="27"/>
                    </a:lnTo>
                    <a:lnTo>
                      <a:pt x="5" y="27"/>
                    </a:lnTo>
                    <a:lnTo>
                      <a:pt x="3" y="26"/>
                    </a:lnTo>
                    <a:lnTo>
                      <a:pt x="0" y="24"/>
                    </a:lnTo>
                    <a:lnTo>
                      <a:pt x="3" y="19"/>
                    </a:lnTo>
                    <a:lnTo>
                      <a:pt x="4" y="14"/>
                    </a:lnTo>
                    <a:lnTo>
                      <a:pt x="6" y="7"/>
                    </a:lnTo>
                    <a:lnTo>
                      <a:pt x="9" y="0"/>
                    </a:lnTo>
                    <a:lnTo>
                      <a:pt x="62" y="11"/>
                    </a:lnTo>
                    <a:lnTo>
                      <a:pt x="56" y="15"/>
                    </a:lnTo>
                    <a:lnTo>
                      <a:pt x="47" y="21"/>
                    </a:lnTo>
                    <a:lnTo>
                      <a:pt x="38" y="26"/>
                    </a:lnTo>
                    <a:lnTo>
                      <a:pt x="31" y="31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655720" y="3546360"/>
                <a:ext cx="1440" cy="1800"/>
              </a:xfrm>
              <a:prstGeom prst="rect">
                <a:avLst/>
              </a:pr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565000" y="3543120"/>
                <a:ext cx="60480" cy="24120"/>
              </a:xfrm>
              <a:custGeom>
                <a:avLst/>
                <a:gdLst/>
                <a:ahLst/>
                <a:rect l="l" t="t" r="r" b="b"/>
                <a:pathLst>
                  <a:path w="76" h="31">
                    <a:moveTo>
                      <a:pt x="13" y="0"/>
                    </a:moveTo>
                    <a:lnTo>
                      <a:pt x="10" y="7"/>
                    </a:lnTo>
                    <a:lnTo>
                      <a:pt x="6" y="12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44" y="31"/>
                    </a:lnTo>
                    <a:lnTo>
                      <a:pt x="53" y="25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6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647800" y="353520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3"/>
                    </a:moveTo>
                    <a:lnTo>
                      <a:pt x="18" y="6"/>
                    </a:lnTo>
                    <a:lnTo>
                      <a:pt x="16" y="10"/>
                    </a:lnTo>
                    <a:lnTo>
                      <a:pt x="13" y="12"/>
                    </a:lnTo>
                    <a:lnTo>
                      <a:pt x="9" y="14"/>
                    </a:lnTo>
                    <a:lnTo>
                      <a:pt x="7" y="12"/>
                    </a:lnTo>
                    <a:lnTo>
                      <a:pt x="5" y="9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552040" y="353376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85" h="34">
                    <a:moveTo>
                      <a:pt x="18" y="0"/>
                    </a:moveTo>
                    <a:lnTo>
                      <a:pt x="14" y="7"/>
                    </a:lnTo>
                    <a:lnTo>
                      <a:pt x="10" y="13"/>
                    </a:lnTo>
                    <a:lnTo>
                      <a:pt x="4" y="17"/>
                    </a:lnTo>
                    <a:lnTo>
                      <a:pt x="0" y="23"/>
                    </a:lnTo>
                    <a:lnTo>
                      <a:pt x="53" y="34"/>
                    </a:lnTo>
                    <a:lnTo>
                      <a:pt x="61" y="28"/>
                    </a:lnTo>
                    <a:lnTo>
                      <a:pt x="70" y="22"/>
                    </a:lnTo>
                    <a:lnTo>
                      <a:pt x="76" y="16"/>
                    </a:lnTo>
                    <a:lnTo>
                      <a:pt x="85" y="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2638080" y="3524400"/>
                <a:ext cx="36720" cy="2196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22" y="28"/>
                    </a:moveTo>
                    <a:lnTo>
                      <a:pt x="29" y="23"/>
                    </a:lnTo>
                    <a:lnTo>
                      <a:pt x="35" y="18"/>
                    </a:lnTo>
                    <a:lnTo>
                      <a:pt x="41" y="12"/>
                    </a:lnTo>
                    <a:lnTo>
                      <a:pt x="46" y="8"/>
                    </a:lnTo>
                    <a:lnTo>
                      <a:pt x="0" y="0"/>
                    </a:lnTo>
                    <a:lnTo>
                      <a:pt x="6" y="8"/>
                    </a:lnTo>
                    <a:lnTo>
                      <a:pt x="13" y="16"/>
                    </a:lnTo>
                    <a:lnTo>
                      <a:pt x="18" y="23"/>
                    </a:lnTo>
                    <a:lnTo>
                      <a:pt x="22" y="28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40880" y="3524400"/>
                <a:ext cx="73080" cy="25200"/>
              </a:xfrm>
              <a:custGeom>
                <a:avLst/>
                <a:gdLst/>
                <a:ahLst/>
                <a:rect l="l" t="t" r="r" b="b"/>
                <a:pathLst>
                  <a:path w="91" h="33">
                    <a:moveTo>
                      <a:pt x="22" y="0"/>
                    </a:moveTo>
                    <a:lnTo>
                      <a:pt x="16" y="6"/>
                    </a:lnTo>
                    <a:lnTo>
                      <a:pt x="12" y="13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3" y="33"/>
                    </a:lnTo>
                    <a:lnTo>
                      <a:pt x="71" y="27"/>
                    </a:lnTo>
                    <a:lnTo>
                      <a:pt x="78" y="23"/>
                    </a:lnTo>
                    <a:lnTo>
                      <a:pt x="84" y="17"/>
                    </a:lnTo>
                    <a:lnTo>
                      <a:pt x="91" y="1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2628720" y="351324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60" h="31">
                    <a:moveTo>
                      <a:pt x="36" y="31"/>
                    </a:moveTo>
                    <a:lnTo>
                      <a:pt x="41" y="25"/>
                    </a:lnTo>
                    <a:lnTo>
                      <a:pt x="48" y="19"/>
                    </a:lnTo>
                    <a:lnTo>
                      <a:pt x="54" y="15"/>
                    </a:lnTo>
                    <a:lnTo>
                      <a:pt x="60" y="9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10"/>
                    </a:lnTo>
                    <a:lnTo>
                      <a:pt x="6" y="16"/>
                    </a:lnTo>
                    <a:lnTo>
                      <a:pt x="9" y="23"/>
                    </a:lnTo>
                    <a:lnTo>
                      <a:pt x="15" y="28"/>
                    </a:lnTo>
                    <a:lnTo>
                      <a:pt x="36" y="31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2530080" y="3514680"/>
                <a:ext cx="76320" cy="27000"/>
              </a:xfrm>
              <a:custGeom>
                <a:avLst/>
                <a:gdLst/>
                <a:ahLst/>
                <a:rect l="l" t="t" r="r" b="b"/>
                <a:pathLst>
                  <a:path w="94" h="33">
                    <a:moveTo>
                      <a:pt x="20" y="0"/>
                    </a:moveTo>
                    <a:lnTo>
                      <a:pt x="16" y="7"/>
                    </a:lnTo>
                    <a:lnTo>
                      <a:pt x="10" y="13"/>
                    </a:lnTo>
                    <a:lnTo>
                      <a:pt x="5" y="18"/>
                    </a:lnTo>
                    <a:lnTo>
                      <a:pt x="0" y="24"/>
                    </a:lnTo>
                    <a:lnTo>
                      <a:pt x="67" y="33"/>
                    </a:lnTo>
                    <a:lnTo>
                      <a:pt x="73" y="28"/>
                    </a:lnTo>
                    <a:lnTo>
                      <a:pt x="80" y="23"/>
                    </a:lnTo>
                    <a:lnTo>
                      <a:pt x="87" y="17"/>
                    </a:lnTo>
                    <a:lnTo>
                      <a:pt x="94" y="1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618640" y="3503520"/>
                <a:ext cx="57240" cy="27000"/>
              </a:xfrm>
              <a:custGeom>
                <a:avLst/>
                <a:gdLst/>
                <a:ahLst/>
                <a:rect l="l" t="t" r="r" b="b"/>
                <a:pathLst>
                  <a:path w="71" h="34">
                    <a:moveTo>
                      <a:pt x="48" y="34"/>
                    </a:moveTo>
                    <a:lnTo>
                      <a:pt x="54" y="27"/>
                    </a:lnTo>
                    <a:lnTo>
                      <a:pt x="60" y="20"/>
                    </a:lnTo>
                    <a:lnTo>
                      <a:pt x="66" y="15"/>
                    </a:lnTo>
                    <a:lnTo>
                      <a:pt x="71" y="9"/>
                    </a:lnTo>
                    <a:lnTo>
                      <a:pt x="7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48" y="34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688480" y="3500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2520720" y="3506760"/>
                <a:ext cx="76320" cy="27000"/>
              </a:xfrm>
              <a:custGeom>
                <a:avLst/>
                <a:gdLst/>
                <a:ahLst/>
                <a:rect l="l" t="t" r="r" b="b"/>
                <a:pathLst>
                  <a:path w="96" h="33">
                    <a:moveTo>
                      <a:pt x="22" y="0"/>
                    </a:moveTo>
                    <a:lnTo>
                      <a:pt x="16" y="4"/>
                    </a:lnTo>
                    <a:lnTo>
                      <a:pt x="12" y="10"/>
                    </a:lnTo>
                    <a:lnTo>
                      <a:pt x="6" y="15"/>
                    </a:lnTo>
                    <a:lnTo>
                      <a:pt x="0" y="21"/>
                    </a:lnTo>
                    <a:lnTo>
                      <a:pt x="69" y="33"/>
                    </a:lnTo>
                    <a:lnTo>
                      <a:pt x="76" y="27"/>
                    </a:lnTo>
                    <a:lnTo>
                      <a:pt x="83" y="21"/>
                    </a:lnTo>
                    <a:lnTo>
                      <a:pt x="89" y="15"/>
                    </a:lnTo>
                    <a:lnTo>
                      <a:pt x="96" y="9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2609280" y="3494160"/>
                <a:ext cx="66600" cy="25200"/>
              </a:xfrm>
              <a:custGeom>
                <a:avLst/>
                <a:gdLst/>
                <a:ahLst/>
                <a:rect l="l" t="t" r="r" b="b"/>
                <a:pathLst>
                  <a:path w="84" h="34">
                    <a:moveTo>
                      <a:pt x="0" y="25"/>
                    </a:moveTo>
                    <a:lnTo>
                      <a:pt x="0" y="25"/>
                    </a:lnTo>
                    <a:lnTo>
                      <a:pt x="60" y="34"/>
                    </a:lnTo>
                    <a:lnTo>
                      <a:pt x="66" y="28"/>
                    </a:lnTo>
                    <a:lnTo>
                      <a:pt x="71" y="22"/>
                    </a:lnTo>
                    <a:lnTo>
                      <a:pt x="78" y="17"/>
                    </a:lnTo>
                    <a:lnTo>
                      <a:pt x="84" y="11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9" y="10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2674800" y="3492360"/>
                <a:ext cx="1440" cy="1800"/>
              </a:xfrm>
              <a:prstGeom prst="rect">
                <a:avLst/>
              </a:pr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2675880" y="3487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5" y="4"/>
                    </a:moveTo>
                    <a:lnTo>
                      <a:pt x="25" y="4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7" y="17"/>
                    </a:lnTo>
                    <a:lnTo>
                      <a:pt x="11" y="13"/>
                    </a:lnTo>
                    <a:lnTo>
                      <a:pt x="17" y="10"/>
                    </a:lnTo>
                    <a:lnTo>
                      <a:pt x="22" y="8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2674800" y="3513240"/>
                <a:ext cx="1440" cy="1440"/>
              </a:xfrm>
              <a:prstGeom prst="rect">
                <a:avLst/>
              </a:pr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2509560" y="3497400"/>
                <a:ext cx="79200" cy="270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25" y="0"/>
                    </a:moveTo>
                    <a:lnTo>
                      <a:pt x="19" y="6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22"/>
                    </a:lnTo>
                    <a:lnTo>
                      <a:pt x="74" y="34"/>
                    </a:lnTo>
                    <a:lnTo>
                      <a:pt x="80" y="28"/>
                    </a:lnTo>
                    <a:lnTo>
                      <a:pt x="87" y="23"/>
                    </a:lnTo>
                    <a:lnTo>
                      <a:pt x="94" y="17"/>
                    </a:lnTo>
                    <a:lnTo>
                      <a:pt x="101" y="1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2599920" y="3484440"/>
                <a:ext cx="66960" cy="27000"/>
              </a:xfrm>
              <a:custGeom>
                <a:avLst/>
                <a:gdLst/>
                <a:ahLst/>
                <a:rect l="l" t="t" r="r" b="b"/>
                <a:pathLst>
                  <a:path w="83" h="33">
                    <a:moveTo>
                      <a:pt x="0" y="16"/>
                    </a:moveTo>
                    <a:lnTo>
                      <a:pt x="0" y="24"/>
                    </a:lnTo>
                    <a:lnTo>
                      <a:pt x="58" y="33"/>
                    </a:lnTo>
                    <a:lnTo>
                      <a:pt x="64" y="28"/>
                    </a:lnTo>
                    <a:lnTo>
                      <a:pt x="71" y="21"/>
                    </a:lnTo>
                    <a:lnTo>
                      <a:pt x="77" y="15"/>
                    </a:lnTo>
                    <a:lnTo>
                      <a:pt x="83" y="9"/>
                    </a:lnTo>
                    <a:lnTo>
                      <a:pt x="18" y="0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2661840" y="34830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2666520" y="34765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11"/>
                    </a:moveTo>
                    <a:lnTo>
                      <a:pt x="46" y="7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8" y="14"/>
                    </a:lnTo>
                    <a:lnTo>
                      <a:pt x="11" y="20"/>
                    </a:lnTo>
                    <a:lnTo>
                      <a:pt x="15" y="29"/>
                    </a:lnTo>
                    <a:lnTo>
                      <a:pt x="17" y="29"/>
                    </a:lnTo>
                    <a:lnTo>
                      <a:pt x="25" y="24"/>
                    </a:lnTo>
                    <a:lnTo>
                      <a:pt x="32" y="19"/>
                    </a:lnTo>
                    <a:lnTo>
                      <a:pt x="39" y="15"/>
                    </a:lnTo>
                    <a:lnTo>
                      <a:pt x="46" y="11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2666520" y="34974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8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498040" y="348768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103" h="33">
                    <a:moveTo>
                      <a:pt x="23" y="0"/>
                    </a:moveTo>
                    <a:lnTo>
                      <a:pt x="17" y="5"/>
                    </a:lnTo>
                    <a:lnTo>
                      <a:pt x="13" y="11"/>
                    </a:lnTo>
                    <a:lnTo>
                      <a:pt x="7" y="17"/>
                    </a:lnTo>
                    <a:lnTo>
                      <a:pt x="0" y="24"/>
                    </a:lnTo>
                    <a:lnTo>
                      <a:pt x="74" y="33"/>
                    </a:lnTo>
                    <a:lnTo>
                      <a:pt x="81" y="27"/>
                    </a:lnTo>
                    <a:lnTo>
                      <a:pt x="88" y="23"/>
                    </a:lnTo>
                    <a:lnTo>
                      <a:pt x="95" y="17"/>
                    </a:lnTo>
                    <a:lnTo>
                      <a:pt x="103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2588760" y="3475080"/>
                <a:ext cx="66960" cy="27000"/>
              </a:xfrm>
              <a:custGeom>
                <a:avLst/>
                <a:gdLst/>
                <a:ahLst/>
                <a:rect l="l" t="t" r="r" b="b"/>
                <a:pathLst>
                  <a:path w="83" h="34">
                    <a:moveTo>
                      <a:pt x="0" y="17"/>
                    </a:moveTo>
                    <a:lnTo>
                      <a:pt x="0" y="23"/>
                    </a:lnTo>
                    <a:lnTo>
                      <a:pt x="58" y="34"/>
                    </a:lnTo>
                    <a:lnTo>
                      <a:pt x="65" y="28"/>
                    </a:lnTo>
                    <a:lnTo>
                      <a:pt x="71" y="22"/>
                    </a:lnTo>
                    <a:lnTo>
                      <a:pt x="77" y="18"/>
                    </a:lnTo>
                    <a:lnTo>
                      <a:pt x="83" y="12"/>
                    </a:lnTo>
                    <a:lnTo>
                      <a:pt x="20" y="0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4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2649240" y="34732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2655720" y="3467160"/>
                <a:ext cx="48960" cy="2520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62" y="13"/>
                    </a:moveTo>
                    <a:lnTo>
                      <a:pt x="62" y="8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5" y="19"/>
                    </a:lnTo>
                    <a:lnTo>
                      <a:pt x="8" y="23"/>
                    </a:lnTo>
                    <a:lnTo>
                      <a:pt x="11" y="27"/>
                    </a:lnTo>
                    <a:lnTo>
                      <a:pt x="36" y="31"/>
                    </a:lnTo>
                    <a:lnTo>
                      <a:pt x="44" y="28"/>
                    </a:lnTo>
                    <a:lnTo>
                      <a:pt x="51" y="23"/>
                    </a:lnTo>
                    <a:lnTo>
                      <a:pt x="57" y="17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655360" y="34876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488680" y="347976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24" y="0"/>
                    </a:moveTo>
                    <a:lnTo>
                      <a:pt x="18" y="6"/>
                    </a:lnTo>
                    <a:lnTo>
                      <a:pt x="12" y="10"/>
                    </a:lnTo>
                    <a:lnTo>
                      <a:pt x="7" y="16"/>
                    </a:lnTo>
                    <a:lnTo>
                      <a:pt x="0" y="23"/>
                    </a:lnTo>
                    <a:lnTo>
                      <a:pt x="76" y="36"/>
                    </a:lnTo>
                    <a:lnTo>
                      <a:pt x="83" y="29"/>
                    </a:lnTo>
                    <a:lnTo>
                      <a:pt x="90" y="23"/>
                    </a:lnTo>
                    <a:lnTo>
                      <a:pt x="96" y="17"/>
                    </a:lnTo>
                    <a:lnTo>
                      <a:pt x="102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2576160" y="3467160"/>
                <a:ext cx="68400" cy="25200"/>
              </a:xfrm>
              <a:custGeom>
                <a:avLst/>
                <a:gdLst/>
                <a:ahLst/>
                <a:rect l="l" t="t" r="r" b="b"/>
                <a:pathLst>
                  <a:path w="87" h="31">
                    <a:moveTo>
                      <a:pt x="0" y="15"/>
                    </a:moveTo>
                    <a:lnTo>
                      <a:pt x="0" y="24"/>
                    </a:lnTo>
                    <a:lnTo>
                      <a:pt x="56" y="31"/>
                    </a:lnTo>
                    <a:lnTo>
                      <a:pt x="63" y="25"/>
                    </a:lnTo>
                    <a:lnTo>
                      <a:pt x="71" y="21"/>
                    </a:lnTo>
                    <a:lnTo>
                      <a:pt x="79" y="15"/>
                    </a:lnTo>
                    <a:lnTo>
                      <a:pt x="87" y="10"/>
                    </a:lnTo>
                    <a:lnTo>
                      <a:pt x="20" y="0"/>
                    </a:lnTo>
                    <a:lnTo>
                      <a:pt x="15" y="4"/>
                    </a:lnTo>
                    <a:lnTo>
                      <a:pt x="10" y="7"/>
                    </a:lnTo>
                    <a:lnTo>
                      <a:pt x="5" y="1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2638080" y="34653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2644200" y="3457440"/>
                <a:ext cx="60120" cy="25560"/>
              </a:xfrm>
              <a:custGeom>
                <a:avLst/>
                <a:gdLst/>
                <a:ahLst/>
                <a:rect l="l" t="t" r="r" b="b"/>
                <a:pathLst>
                  <a:path w="76" h="31">
                    <a:moveTo>
                      <a:pt x="76" y="16"/>
                    </a:moveTo>
                    <a:lnTo>
                      <a:pt x="76" y="9"/>
                    </a:lnTo>
                    <a:lnTo>
                      <a:pt x="27" y="0"/>
                    </a:lnTo>
                    <a:lnTo>
                      <a:pt x="21" y="3"/>
                    </a:lnTo>
                    <a:lnTo>
                      <a:pt x="15" y="4"/>
                    </a:lnTo>
                    <a:lnTo>
                      <a:pt x="12" y="6"/>
                    </a:lnTo>
                    <a:lnTo>
                      <a:pt x="7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7"/>
                    </a:lnTo>
                    <a:lnTo>
                      <a:pt x="0" y="21"/>
                    </a:lnTo>
                    <a:lnTo>
                      <a:pt x="3" y="24"/>
                    </a:lnTo>
                    <a:lnTo>
                      <a:pt x="53" y="31"/>
                    </a:lnTo>
                    <a:lnTo>
                      <a:pt x="59" y="27"/>
                    </a:lnTo>
                    <a:lnTo>
                      <a:pt x="64" y="24"/>
                    </a:lnTo>
                    <a:lnTo>
                      <a:pt x="69" y="20"/>
                    </a:lnTo>
                    <a:lnTo>
                      <a:pt x="76" y="16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2644200" y="3479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706120" y="3454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2477520" y="3468600"/>
                <a:ext cx="82440" cy="28800"/>
              </a:xfrm>
              <a:custGeom>
                <a:avLst/>
                <a:gdLst/>
                <a:ahLst/>
                <a:rect l="l" t="t" r="r" b="b"/>
                <a:pathLst>
                  <a:path w="105" h="36">
                    <a:moveTo>
                      <a:pt x="24" y="0"/>
                    </a:moveTo>
                    <a:lnTo>
                      <a:pt x="19" y="6"/>
                    </a:lnTo>
                    <a:lnTo>
                      <a:pt x="13" y="12"/>
                    </a:lnTo>
                    <a:lnTo>
                      <a:pt x="6" y="18"/>
                    </a:lnTo>
                    <a:lnTo>
                      <a:pt x="0" y="25"/>
                    </a:lnTo>
                    <a:lnTo>
                      <a:pt x="80" y="36"/>
                    </a:lnTo>
                    <a:lnTo>
                      <a:pt x="87" y="30"/>
                    </a:lnTo>
                    <a:lnTo>
                      <a:pt x="92" y="25"/>
                    </a:lnTo>
                    <a:lnTo>
                      <a:pt x="98" y="19"/>
                    </a:lnTo>
                    <a:lnTo>
                      <a:pt x="105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2563560" y="345744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3">
                    <a:moveTo>
                      <a:pt x="0" y="13"/>
                    </a:moveTo>
                    <a:lnTo>
                      <a:pt x="0" y="24"/>
                    </a:lnTo>
                    <a:lnTo>
                      <a:pt x="56" y="33"/>
                    </a:lnTo>
                    <a:lnTo>
                      <a:pt x="66" y="26"/>
                    </a:lnTo>
                    <a:lnTo>
                      <a:pt x="74" y="20"/>
                    </a:lnTo>
                    <a:lnTo>
                      <a:pt x="82" y="15"/>
                    </a:lnTo>
                    <a:lnTo>
                      <a:pt x="90" y="9"/>
                    </a:lnTo>
                    <a:lnTo>
                      <a:pt x="21" y="0"/>
                    </a:lnTo>
                    <a:lnTo>
                      <a:pt x="16" y="3"/>
                    </a:lnTo>
                    <a:lnTo>
                      <a:pt x="10" y="6"/>
                    </a:lnTo>
                    <a:lnTo>
                      <a:pt x="6" y="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2626920" y="3456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5"/>
                    </a:lnTo>
                    <a:lnTo>
                      <a:pt x="6" y="4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2634840" y="3451320"/>
                <a:ext cx="61920" cy="23760"/>
              </a:xfrm>
              <a:custGeom>
                <a:avLst/>
                <a:gdLst/>
                <a:ahLst/>
                <a:rect l="l" t="t" r="r" b="b"/>
                <a:pathLst>
                  <a:path w="78" h="31">
                    <a:moveTo>
                      <a:pt x="78" y="14"/>
                    </a:moveTo>
                    <a:lnTo>
                      <a:pt x="78" y="7"/>
                    </a:lnTo>
                    <a:lnTo>
                      <a:pt x="35" y="0"/>
                    </a:lnTo>
                    <a:lnTo>
                      <a:pt x="30" y="3"/>
                    </a:lnTo>
                    <a:lnTo>
                      <a:pt x="25" y="5"/>
                    </a:lnTo>
                    <a:lnTo>
                      <a:pt x="19" y="8"/>
                    </a:lnTo>
                    <a:lnTo>
                      <a:pt x="15" y="10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58" y="31"/>
                    </a:lnTo>
                    <a:lnTo>
                      <a:pt x="64" y="27"/>
                    </a:lnTo>
                    <a:lnTo>
                      <a:pt x="69" y="22"/>
                    </a:lnTo>
                    <a:lnTo>
                      <a:pt x="75" y="18"/>
                    </a:lnTo>
                    <a:lnTo>
                      <a:pt x="78" y="14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2634840" y="34686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11"/>
                    </a:moveTo>
                    <a:lnTo>
                      <a:pt x="7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691720" y="3446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2696760" y="344160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8"/>
                    </a:moveTo>
                    <a:lnTo>
                      <a:pt x="2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7"/>
                    </a:lnTo>
                    <a:lnTo>
                      <a:pt x="4" y="11"/>
                    </a:lnTo>
                    <a:lnTo>
                      <a:pt x="7" y="15"/>
                    </a:lnTo>
                    <a:lnTo>
                      <a:pt x="12" y="20"/>
                    </a:lnTo>
                    <a:lnTo>
                      <a:pt x="15" y="16"/>
                    </a:lnTo>
                    <a:lnTo>
                      <a:pt x="19" y="14"/>
                    </a:lnTo>
                    <a:lnTo>
                      <a:pt x="22" y="11"/>
                    </a:lnTo>
                    <a:lnTo>
                      <a:pt x="27" y="8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96760" y="34639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2464920" y="3459240"/>
                <a:ext cx="83880" cy="28440"/>
              </a:xfrm>
              <a:custGeom>
                <a:avLst/>
                <a:gdLst/>
                <a:ahLst/>
                <a:rect l="l" t="t" r="r" b="b"/>
                <a:pathLst>
                  <a:path w="105" h="36">
                    <a:moveTo>
                      <a:pt x="0" y="22"/>
                    </a:moveTo>
                    <a:lnTo>
                      <a:pt x="0" y="24"/>
                    </a:lnTo>
                    <a:lnTo>
                      <a:pt x="76" y="36"/>
                    </a:lnTo>
                    <a:lnTo>
                      <a:pt x="83" y="30"/>
                    </a:lnTo>
                    <a:lnTo>
                      <a:pt x="91" y="25"/>
                    </a:lnTo>
                    <a:lnTo>
                      <a:pt x="98" y="19"/>
                    </a:lnTo>
                    <a:lnTo>
                      <a:pt x="105" y="14"/>
                    </a:lnTo>
                    <a:lnTo>
                      <a:pt x="19" y="0"/>
                    </a:lnTo>
                    <a:lnTo>
                      <a:pt x="15" y="6"/>
                    </a:lnTo>
                    <a:lnTo>
                      <a:pt x="11" y="10"/>
                    </a:lnTo>
                    <a:lnTo>
                      <a:pt x="5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2545560" y="3457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2548800" y="345132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91" h="31">
                    <a:moveTo>
                      <a:pt x="91" y="12"/>
                    </a:moveTo>
                    <a:lnTo>
                      <a:pt x="91" y="10"/>
                    </a:lnTo>
                    <a:lnTo>
                      <a:pt x="22" y="0"/>
                    </a:lnTo>
                    <a:lnTo>
                      <a:pt x="16" y="4"/>
                    </a:lnTo>
                    <a:lnTo>
                      <a:pt x="12" y="7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58" y="31"/>
                    </a:lnTo>
                    <a:lnTo>
                      <a:pt x="65" y="26"/>
                    </a:lnTo>
                    <a:lnTo>
                      <a:pt x="73" y="20"/>
                    </a:lnTo>
                    <a:lnTo>
                      <a:pt x="82" y="15"/>
                    </a:lnTo>
                    <a:lnTo>
                      <a:pt x="91" y="12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2548800" y="3476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614320" y="344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2620440" y="3441600"/>
                <a:ext cx="60120" cy="2376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76" y="15"/>
                    </a:moveTo>
                    <a:lnTo>
                      <a:pt x="76" y="6"/>
                    </a:lnTo>
                    <a:lnTo>
                      <a:pt x="38" y="0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2" y="8"/>
                    </a:lnTo>
                    <a:lnTo>
                      <a:pt x="16" y="11"/>
                    </a:lnTo>
                    <a:lnTo>
                      <a:pt x="12" y="14"/>
                    </a:lnTo>
                    <a:lnTo>
                      <a:pt x="8" y="16"/>
                    </a:lnTo>
                    <a:lnTo>
                      <a:pt x="4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55" y="29"/>
                    </a:lnTo>
                    <a:lnTo>
                      <a:pt x="61" y="25"/>
                    </a:lnTo>
                    <a:lnTo>
                      <a:pt x="66" y="22"/>
                    </a:lnTo>
                    <a:lnTo>
                      <a:pt x="72" y="18"/>
                    </a:lnTo>
                    <a:lnTo>
                      <a:pt x="76" y="15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620800" y="3462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0"/>
                    </a:lnTo>
                    <a:lnTo>
                      <a:pt x="7" y="1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2677320" y="3436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2680920" y="343368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5" y="7"/>
                    </a:moveTo>
                    <a:lnTo>
                      <a:pt x="45" y="5"/>
                    </a:lnTo>
                    <a:lnTo>
                      <a:pt x="14" y="0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7" y="27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9" y="19"/>
                    </a:lnTo>
                    <a:lnTo>
                      <a:pt x="37" y="13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2680560" y="3457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2455200" y="3440160"/>
                <a:ext cx="152280" cy="39600"/>
              </a:xfrm>
              <a:custGeom>
                <a:avLst/>
                <a:gdLst/>
                <a:ahLst/>
                <a:rect l="l" t="t" r="r" b="b"/>
                <a:pathLst>
                  <a:path w="193" h="48">
                    <a:moveTo>
                      <a:pt x="0" y="15"/>
                    </a:moveTo>
                    <a:lnTo>
                      <a:pt x="0" y="24"/>
                    </a:lnTo>
                    <a:lnTo>
                      <a:pt x="57" y="31"/>
                    </a:lnTo>
                    <a:lnTo>
                      <a:pt x="63" y="28"/>
                    </a:lnTo>
                    <a:lnTo>
                      <a:pt x="68" y="26"/>
                    </a:lnTo>
                    <a:lnTo>
                      <a:pt x="73" y="24"/>
                    </a:lnTo>
                    <a:lnTo>
                      <a:pt x="79" y="22"/>
                    </a:lnTo>
                    <a:lnTo>
                      <a:pt x="85" y="20"/>
                    </a:lnTo>
                    <a:lnTo>
                      <a:pt x="89" y="18"/>
                    </a:lnTo>
                    <a:lnTo>
                      <a:pt x="95" y="17"/>
                    </a:lnTo>
                    <a:lnTo>
                      <a:pt x="101" y="15"/>
                    </a:lnTo>
                    <a:lnTo>
                      <a:pt x="96" y="19"/>
                    </a:lnTo>
                    <a:lnTo>
                      <a:pt x="91" y="25"/>
                    </a:lnTo>
                    <a:lnTo>
                      <a:pt x="87" y="30"/>
                    </a:lnTo>
                    <a:lnTo>
                      <a:pt x="83" y="35"/>
                    </a:lnTo>
                    <a:lnTo>
                      <a:pt x="164" y="48"/>
                    </a:lnTo>
                    <a:lnTo>
                      <a:pt x="172" y="42"/>
                    </a:lnTo>
                    <a:lnTo>
                      <a:pt x="179" y="37"/>
                    </a:lnTo>
                    <a:lnTo>
                      <a:pt x="186" y="32"/>
                    </a:lnTo>
                    <a:lnTo>
                      <a:pt x="193" y="26"/>
                    </a:lnTo>
                    <a:lnTo>
                      <a:pt x="23" y="0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6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2598480" y="34383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0"/>
                    </a:moveTo>
                    <a:lnTo>
                      <a:pt x="0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2607840" y="3433680"/>
                <a:ext cx="59040" cy="22320"/>
              </a:xfrm>
              <a:custGeom>
                <a:avLst/>
                <a:gdLst/>
                <a:ahLst/>
                <a:rect l="l" t="t" r="r" b="b"/>
                <a:pathLst>
                  <a:path w="73" h="29">
                    <a:moveTo>
                      <a:pt x="73" y="15"/>
                    </a:moveTo>
                    <a:lnTo>
                      <a:pt x="73" y="7"/>
                    </a:lnTo>
                    <a:lnTo>
                      <a:pt x="38" y="0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2" y="8"/>
                    </a:lnTo>
                    <a:lnTo>
                      <a:pt x="17" y="11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4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9" y="29"/>
                    </a:lnTo>
                    <a:lnTo>
                      <a:pt x="56" y="26"/>
                    </a:lnTo>
                    <a:lnTo>
                      <a:pt x="62" y="22"/>
                    </a:lnTo>
                    <a:lnTo>
                      <a:pt x="68" y="19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2607480" y="345276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9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2664720" y="3429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2666520" y="3425760"/>
                <a:ext cx="50760" cy="2052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7"/>
                    </a:moveTo>
                    <a:lnTo>
                      <a:pt x="65" y="5"/>
                    </a:lnTo>
                    <a:lnTo>
                      <a:pt x="31" y="0"/>
                    </a:lnTo>
                    <a:lnTo>
                      <a:pt x="22" y="5"/>
                    </a:lnTo>
                    <a:lnTo>
                      <a:pt x="14" y="9"/>
                    </a:lnTo>
                    <a:lnTo>
                      <a:pt x="7" y="15"/>
                    </a:lnTo>
                    <a:lnTo>
                      <a:pt x="0" y="21"/>
                    </a:lnTo>
                    <a:lnTo>
                      <a:pt x="31" y="27"/>
                    </a:lnTo>
                    <a:lnTo>
                      <a:pt x="39" y="21"/>
                    </a:lnTo>
                    <a:lnTo>
                      <a:pt x="47" y="15"/>
                    </a:lnTo>
                    <a:lnTo>
                      <a:pt x="55" y="11"/>
                    </a:lnTo>
                    <a:lnTo>
                      <a:pt x="65" y="7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2666880" y="345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2715480" y="3422520"/>
                <a:ext cx="1800" cy="1800"/>
              </a:xfrm>
              <a:prstGeom prst="rect">
                <a:avLst/>
              </a:pr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2441160" y="3433680"/>
                <a:ext cx="152640" cy="36720"/>
              </a:xfrm>
              <a:custGeom>
                <a:avLst/>
                <a:gdLst/>
                <a:ahLst/>
                <a:rect l="l" t="t" r="r" b="b"/>
                <a:pathLst>
                  <a:path w="191" h="48">
                    <a:moveTo>
                      <a:pt x="0" y="12"/>
                    </a:moveTo>
                    <a:lnTo>
                      <a:pt x="0" y="22"/>
                    </a:lnTo>
                    <a:lnTo>
                      <a:pt x="60" y="32"/>
                    </a:lnTo>
                    <a:lnTo>
                      <a:pt x="66" y="29"/>
                    </a:lnTo>
                    <a:lnTo>
                      <a:pt x="70" y="28"/>
                    </a:lnTo>
                    <a:lnTo>
                      <a:pt x="76" y="26"/>
                    </a:lnTo>
                    <a:lnTo>
                      <a:pt x="82" y="25"/>
                    </a:lnTo>
                    <a:lnTo>
                      <a:pt x="79" y="28"/>
                    </a:lnTo>
                    <a:lnTo>
                      <a:pt x="77" y="30"/>
                    </a:lnTo>
                    <a:lnTo>
                      <a:pt x="76" y="32"/>
                    </a:lnTo>
                    <a:lnTo>
                      <a:pt x="74" y="34"/>
                    </a:lnTo>
                    <a:lnTo>
                      <a:pt x="160" y="48"/>
                    </a:lnTo>
                    <a:lnTo>
                      <a:pt x="167" y="41"/>
                    </a:lnTo>
                    <a:lnTo>
                      <a:pt x="175" y="35"/>
                    </a:lnTo>
                    <a:lnTo>
                      <a:pt x="183" y="30"/>
                    </a:lnTo>
                    <a:lnTo>
                      <a:pt x="191" y="25"/>
                    </a:lnTo>
                    <a:lnTo>
                      <a:pt x="24" y="0"/>
                    </a:lnTo>
                    <a:lnTo>
                      <a:pt x="18" y="3"/>
                    </a:lnTo>
                    <a:lnTo>
                      <a:pt x="13" y="5"/>
                    </a:lnTo>
                    <a:lnTo>
                      <a:pt x="6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580840" y="34290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7"/>
                    </a:lnTo>
                    <a:lnTo>
                      <a:pt x="8" y="6"/>
                    </a:lnTo>
                    <a:lnTo>
                      <a:pt x="11" y="3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2593800" y="3425760"/>
                <a:ext cx="55440" cy="23760"/>
              </a:xfrm>
              <a:custGeom>
                <a:avLst/>
                <a:gdLst/>
                <a:ahLst/>
                <a:rect l="l" t="t" r="r" b="b"/>
                <a:pathLst>
                  <a:path w="72" h="29">
                    <a:moveTo>
                      <a:pt x="72" y="14"/>
                    </a:moveTo>
                    <a:lnTo>
                      <a:pt x="72" y="5"/>
                    </a:lnTo>
                    <a:lnTo>
                      <a:pt x="38" y="0"/>
                    </a:lnTo>
                    <a:lnTo>
                      <a:pt x="34" y="3"/>
                    </a:lnTo>
                    <a:lnTo>
                      <a:pt x="28" y="5"/>
                    </a:lnTo>
                    <a:lnTo>
                      <a:pt x="23" y="8"/>
                    </a:lnTo>
                    <a:lnTo>
                      <a:pt x="19" y="11"/>
                    </a:lnTo>
                    <a:lnTo>
                      <a:pt x="14" y="13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45" y="29"/>
                    </a:lnTo>
                    <a:lnTo>
                      <a:pt x="52" y="26"/>
                    </a:lnTo>
                    <a:lnTo>
                      <a:pt x="59" y="21"/>
                    </a:lnTo>
                    <a:lnTo>
                      <a:pt x="65" y="16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2593800" y="34416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647800" y="3422520"/>
                <a:ext cx="1440" cy="1800"/>
              </a:xfrm>
              <a:prstGeom prst="rect">
                <a:avLst/>
              </a:pr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2649240" y="341640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69" h="25">
                    <a:moveTo>
                      <a:pt x="69" y="7"/>
                    </a:moveTo>
                    <a:lnTo>
                      <a:pt x="69" y="7"/>
                    </a:lnTo>
                    <a:lnTo>
                      <a:pt x="34" y="0"/>
                    </a:lnTo>
                    <a:lnTo>
                      <a:pt x="26" y="4"/>
                    </a:lnTo>
                    <a:lnTo>
                      <a:pt x="18" y="9"/>
                    </a:lnTo>
                    <a:lnTo>
                      <a:pt x="9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4" y="25"/>
                    </a:lnTo>
                    <a:lnTo>
                      <a:pt x="37" y="23"/>
                    </a:lnTo>
                    <a:lnTo>
                      <a:pt x="42" y="22"/>
                    </a:lnTo>
                    <a:lnTo>
                      <a:pt x="45" y="19"/>
                    </a:lnTo>
                    <a:lnTo>
                      <a:pt x="50" y="17"/>
                    </a:lnTo>
                    <a:lnTo>
                      <a:pt x="54" y="15"/>
                    </a:lnTo>
                    <a:lnTo>
                      <a:pt x="59" y="11"/>
                    </a:lnTo>
                    <a:lnTo>
                      <a:pt x="65" y="9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2649240" y="3440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2703240" y="3411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2704680" y="3409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4"/>
                    </a:moveTo>
                    <a:lnTo>
                      <a:pt x="29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7" y="10"/>
                    </a:lnTo>
                    <a:lnTo>
                      <a:pt x="10" y="12"/>
                    </a:lnTo>
                    <a:lnTo>
                      <a:pt x="13" y="15"/>
                    </a:lnTo>
                    <a:lnTo>
                      <a:pt x="17" y="12"/>
                    </a:lnTo>
                    <a:lnTo>
                      <a:pt x="20" y="10"/>
                    </a:lnTo>
                    <a:lnTo>
                      <a:pt x="25" y="7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704320" y="3432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2428200" y="3425760"/>
                <a:ext cx="144360" cy="36720"/>
              </a:xfrm>
              <a:custGeom>
                <a:avLst/>
                <a:gdLst/>
                <a:ahLst/>
                <a:rect l="l" t="t" r="r" b="b"/>
                <a:pathLst>
                  <a:path w="183" h="45">
                    <a:moveTo>
                      <a:pt x="0" y="7"/>
                    </a:moveTo>
                    <a:lnTo>
                      <a:pt x="0" y="21"/>
                    </a:lnTo>
                    <a:lnTo>
                      <a:pt x="150" y="45"/>
                    </a:lnTo>
                    <a:lnTo>
                      <a:pt x="159" y="39"/>
                    </a:lnTo>
                    <a:lnTo>
                      <a:pt x="167" y="35"/>
                    </a:lnTo>
                    <a:lnTo>
                      <a:pt x="175" y="29"/>
                    </a:lnTo>
                    <a:lnTo>
                      <a:pt x="183" y="24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7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2557080" y="3422520"/>
                <a:ext cx="15840" cy="504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0" y="5"/>
                    </a:lnTo>
                    <a:lnTo>
                      <a:pt x="16" y="4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572920" y="3417840"/>
                <a:ext cx="59040" cy="2052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74" y="12"/>
                    </a:moveTo>
                    <a:lnTo>
                      <a:pt x="74" y="5"/>
                    </a:lnTo>
                    <a:lnTo>
                      <a:pt x="36" y="0"/>
                    </a:lnTo>
                    <a:lnTo>
                      <a:pt x="31" y="2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10"/>
                    </a:lnTo>
                    <a:lnTo>
                      <a:pt x="10" y="14"/>
                    </a:lnTo>
                    <a:lnTo>
                      <a:pt x="5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43" y="25"/>
                    </a:lnTo>
                    <a:lnTo>
                      <a:pt x="50" y="22"/>
                    </a:lnTo>
                    <a:lnTo>
                      <a:pt x="59" y="18"/>
                    </a:lnTo>
                    <a:lnTo>
                      <a:pt x="67" y="15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72920" y="343224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4"/>
                    </a:moveTo>
                    <a:lnTo>
                      <a:pt x="20" y="0"/>
                    </a:lnTo>
                    <a:lnTo>
                      <a:pt x="17" y="4"/>
                    </a:lnTo>
                    <a:lnTo>
                      <a:pt x="12" y="6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629800" y="3411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631960" y="340848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69" y="7"/>
                    </a:moveTo>
                    <a:lnTo>
                      <a:pt x="69" y="5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4" y="8"/>
                    </a:lnTo>
                    <a:lnTo>
                      <a:pt x="7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9" y="27"/>
                    </a:lnTo>
                    <a:lnTo>
                      <a:pt x="34" y="25"/>
                    </a:lnTo>
                    <a:lnTo>
                      <a:pt x="38" y="22"/>
                    </a:lnTo>
                    <a:lnTo>
                      <a:pt x="43" y="20"/>
                    </a:lnTo>
                    <a:lnTo>
                      <a:pt x="47" y="18"/>
                    </a:lnTo>
                    <a:lnTo>
                      <a:pt x="53" y="15"/>
                    </a:lnTo>
                    <a:lnTo>
                      <a:pt x="58" y="13"/>
                    </a:lnTo>
                    <a:lnTo>
                      <a:pt x="64" y="10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2631600" y="3433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2680920" y="34052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687400" y="339876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51" h="29">
                    <a:moveTo>
                      <a:pt x="51" y="11"/>
                    </a:moveTo>
                    <a:lnTo>
                      <a:pt x="51" y="7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8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7" y="24"/>
                    </a:lnTo>
                    <a:lnTo>
                      <a:pt x="10" y="26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7" y="26"/>
                    </a:lnTo>
                    <a:lnTo>
                      <a:pt x="21" y="24"/>
                    </a:lnTo>
                    <a:lnTo>
                      <a:pt x="26" y="22"/>
                    </a:lnTo>
                    <a:lnTo>
                      <a:pt x="30" y="19"/>
                    </a:lnTo>
                    <a:lnTo>
                      <a:pt x="35" y="17"/>
                    </a:lnTo>
                    <a:lnTo>
                      <a:pt x="40" y="15"/>
                    </a:lnTo>
                    <a:lnTo>
                      <a:pt x="45" y="14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687040" y="3422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2414160" y="340848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252" h="56">
                    <a:moveTo>
                      <a:pt x="0" y="20"/>
                    </a:moveTo>
                    <a:lnTo>
                      <a:pt x="0" y="25"/>
                    </a:lnTo>
                    <a:lnTo>
                      <a:pt x="42" y="29"/>
                    </a:lnTo>
                    <a:lnTo>
                      <a:pt x="49" y="26"/>
                    </a:lnTo>
                    <a:lnTo>
                      <a:pt x="57" y="23"/>
                    </a:lnTo>
                    <a:lnTo>
                      <a:pt x="66" y="22"/>
                    </a:lnTo>
                    <a:lnTo>
                      <a:pt x="75" y="20"/>
                    </a:lnTo>
                    <a:lnTo>
                      <a:pt x="69" y="22"/>
                    </a:lnTo>
                    <a:lnTo>
                      <a:pt x="64" y="25"/>
                    </a:lnTo>
                    <a:lnTo>
                      <a:pt x="58" y="28"/>
                    </a:lnTo>
                    <a:lnTo>
                      <a:pt x="51" y="31"/>
                    </a:lnTo>
                    <a:lnTo>
                      <a:pt x="218" y="56"/>
                    </a:lnTo>
                    <a:lnTo>
                      <a:pt x="225" y="50"/>
                    </a:lnTo>
                    <a:lnTo>
                      <a:pt x="233" y="44"/>
                    </a:lnTo>
                    <a:lnTo>
                      <a:pt x="242" y="39"/>
                    </a:lnTo>
                    <a:lnTo>
                      <a:pt x="252" y="34"/>
                    </a:lnTo>
                    <a:lnTo>
                      <a:pt x="34" y="0"/>
                    </a:lnTo>
                    <a:lnTo>
                      <a:pt x="26" y="5"/>
                    </a:lnTo>
                    <a:lnTo>
                      <a:pt x="18" y="10"/>
                    </a:lnTo>
                    <a:lnTo>
                      <a:pt x="10" y="1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2607840" y="34052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2613960" y="3402000"/>
                <a:ext cx="58680" cy="20520"/>
              </a:xfrm>
              <a:custGeom>
                <a:avLst/>
                <a:gdLst/>
                <a:ahLst/>
                <a:rect l="l" t="t" r="r" b="b"/>
                <a:pathLst>
                  <a:path w="73" h="27">
                    <a:moveTo>
                      <a:pt x="73" y="9"/>
                    </a:moveTo>
                    <a:lnTo>
                      <a:pt x="73" y="5"/>
                    </a:lnTo>
                    <a:lnTo>
                      <a:pt x="31" y="0"/>
                    </a:lnTo>
                    <a:lnTo>
                      <a:pt x="24" y="4"/>
                    </a:lnTo>
                    <a:lnTo>
                      <a:pt x="16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28" y="27"/>
                    </a:lnTo>
                    <a:lnTo>
                      <a:pt x="34" y="24"/>
                    </a:lnTo>
                    <a:lnTo>
                      <a:pt x="40" y="22"/>
                    </a:lnTo>
                    <a:lnTo>
                      <a:pt x="46" y="20"/>
                    </a:lnTo>
                    <a:lnTo>
                      <a:pt x="51" y="17"/>
                    </a:lnTo>
                    <a:lnTo>
                      <a:pt x="57" y="15"/>
                    </a:lnTo>
                    <a:lnTo>
                      <a:pt x="63" y="13"/>
                    </a:lnTo>
                    <a:lnTo>
                      <a:pt x="68" y="12"/>
                    </a:lnTo>
                    <a:lnTo>
                      <a:pt x="73" y="9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2613960" y="3424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2661480" y="33973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2673000" y="339084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70" h="28">
                    <a:moveTo>
                      <a:pt x="70" y="14"/>
                    </a:moveTo>
                    <a:lnTo>
                      <a:pt x="70" y="9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3" y="16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2" y="28"/>
                    </a:lnTo>
                    <a:lnTo>
                      <a:pt x="36" y="26"/>
                    </a:lnTo>
                    <a:lnTo>
                      <a:pt x="41" y="24"/>
                    </a:lnTo>
                    <a:lnTo>
                      <a:pt x="47" y="22"/>
                    </a:lnTo>
                    <a:lnTo>
                      <a:pt x="51" y="21"/>
                    </a:lnTo>
                    <a:lnTo>
                      <a:pt x="56" y="19"/>
                    </a:lnTo>
                    <a:lnTo>
                      <a:pt x="60" y="18"/>
                    </a:lnTo>
                    <a:lnTo>
                      <a:pt x="65" y="15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672640" y="34113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8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2401200" y="3402000"/>
                <a:ext cx="189000" cy="42840"/>
              </a:xfrm>
              <a:custGeom>
                <a:avLst/>
                <a:gdLst/>
                <a:ahLst/>
                <a:rect l="l" t="t" r="r" b="b"/>
                <a:pathLst>
                  <a:path w="239" h="55">
                    <a:moveTo>
                      <a:pt x="0" y="12"/>
                    </a:moveTo>
                    <a:lnTo>
                      <a:pt x="0" y="24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0"/>
                    </a:lnTo>
                    <a:lnTo>
                      <a:pt x="45" y="29"/>
                    </a:lnTo>
                    <a:lnTo>
                      <a:pt x="46" y="29"/>
                    </a:lnTo>
                    <a:lnTo>
                      <a:pt x="44" y="31"/>
                    </a:lnTo>
                    <a:lnTo>
                      <a:pt x="205" y="55"/>
                    </a:lnTo>
                    <a:lnTo>
                      <a:pt x="213" y="50"/>
                    </a:lnTo>
                    <a:lnTo>
                      <a:pt x="221" y="44"/>
                    </a:lnTo>
                    <a:lnTo>
                      <a:pt x="229" y="39"/>
                    </a:lnTo>
                    <a:lnTo>
                      <a:pt x="239" y="34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8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2579040" y="339876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0" y="4"/>
                    </a:lnTo>
                    <a:lnTo>
                      <a:pt x="4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590560" y="3394080"/>
                <a:ext cx="63360" cy="2052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78" y="11"/>
                    </a:moveTo>
                    <a:lnTo>
                      <a:pt x="78" y="7"/>
                    </a:lnTo>
                    <a:lnTo>
                      <a:pt x="31" y="0"/>
                    </a:lnTo>
                    <a:lnTo>
                      <a:pt x="24" y="3"/>
                    </a:lnTo>
                    <a:lnTo>
                      <a:pt x="16" y="6"/>
                    </a:lnTo>
                    <a:lnTo>
                      <a:pt x="7" y="8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29" y="25"/>
                    </a:lnTo>
                    <a:lnTo>
                      <a:pt x="34" y="23"/>
                    </a:lnTo>
                    <a:lnTo>
                      <a:pt x="41" y="21"/>
                    </a:lnTo>
                    <a:lnTo>
                      <a:pt x="47" y="18"/>
                    </a:lnTo>
                    <a:lnTo>
                      <a:pt x="54" y="16"/>
                    </a:lnTo>
                    <a:lnTo>
                      <a:pt x="60" y="15"/>
                    </a:lnTo>
                    <a:lnTo>
                      <a:pt x="65" y="14"/>
                    </a:lnTo>
                    <a:lnTo>
                      <a:pt x="72" y="13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590200" y="34099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2"/>
                    </a:moveTo>
                    <a:lnTo>
                      <a:pt x="16" y="0"/>
                    </a:lnTo>
                    <a:lnTo>
                      <a:pt x="12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0" y="10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2642400" y="339084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2653560" y="3379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4" h="31">
                    <a:moveTo>
                      <a:pt x="94" y="19"/>
                    </a:moveTo>
                    <a:lnTo>
                      <a:pt x="94" y="12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8"/>
                    </a:lnTo>
                    <a:lnTo>
                      <a:pt x="7" y="12"/>
                    </a:lnTo>
                    <a:lnTo>
                      <a:pt x="4" y="17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8" y="31"/>
                    </a:lnTo>
                    <a:lnTo>
                      <a:pt x="62" y="30"/>
                    </a:lnTo>
                    <a:lnTo>
                      <a:pt x="66" y="27"/>
                    </a:lnTo>
                    <a:lnTo>
                      <a:pt x="70" y="26"/>
                    </a:lnTo>
                    <a:lnTo>
                      <a:pt x="74" y="25"/>
                    </a:lnTo>
                    <a:lnTo>
                      <a:pt x="79" y="24"/>
                    </a:lnTo>
                    <a:lnTo>
                      <a:pt x="83" y="23"/>
                    </a:lnTo>
                    <a:lnTo>
                      <a:pt x="89" y="20"/>
                    </a:lnTo>
                    <a:lnTo>
                      <a:pt x="94" y="19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2653560" y="34034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2385720" y="3386160"/>
                <a:ext cx="249120" cy="49320"/>
              </a:xfrm>
              <a:custGeom>
                <a:avLst/>
                <a:gdLst/>
                <a:ahLst/>
                <a:rect l="l" t="t" r="r" b="b"/>
                <a:pathLst>
                  <a:path w="312" h="62">
                    <a:moveTo>
                      <a:pt x="0" y="12"/>
                    </a:moveTo>
                    <a:lnTo>
                      <a:pt x="0" y="21"/>
                    </a:lnTo>
                    <a:lnTo>
                      <a:pt x="33" y="26"/>
                    </a:lnTo>
                    <a:lnTo>
                      <a:pt x="40" y="25"/>
                    </a:lnTo>
                    <a:lnTo>
                      <a:pt x="47" y="23"/>
                    </a:lnTo>
                    <a:lnTo>
                      <a:pt x="54" y="21"/>
                    </a:lnTo>
                    <a:lnTo>
                      <a:pt x="60" y="19"/>
                    </a:lnTo>
                    <a:lnTo>
                      <a:pt x="67" y="18"/>
                    </a:lnTo>
                    <a:lnTo>
                      <a:pt x="73" y="18"/>
                    </a:lnTo>
                    <a:lnTo>
                      <a:pt x="79" y="17"/>
                    </a:lnTo>
                    <a:lnTo>
                      <a:pt x="85" y="17"/>
                    </a:lnTo>
                    <a:lnTo>
                      <a:pt x="79" y="19"/>
                    </a:lnTo>
                    <a:lnTo>
                      <a:pt x="74" y="21"/>
                    </a:lnTo>
                    <a:lnTo>
                      <a:pt x="67" y="25"/>
                    </a:lnTo>
                    <a:lnTo>
                      <a:pt x="59" y="28"/>
                    </a:lnTo>
                    <a:lnTo>
                      <a:pt x="277" y="62"/>
                    </a:lnTo>
                    <a:lnTo>
                      <a:pt x="281" y="59"/>
                    </a:lnTo>
                    <a:lnTo>
                      <a:pt x="286" y="56"/>
                    </a:lnTo>
                    <a:lnTo>
                      <a:pt x="289" y="54"/>
                    </a:lnTo>
                    <a:lnTo>
                      <a:pt x="294" y="51"/>
                    </a:lnTo>
                    <a:lnTo>
                      <a:pt x="298" y="49"/>
                    </a:lnTo>
                    <a:lnTo>
                      <a:pt x="303" y="46"/>
                    </a:lnTo>
                    <a:lnTo>
                      <a:pt x="308" y="43"/>
                    </a:lnTo>
                    <a:lnTo>
                      <a:pt x="312" y="41"/>
                    </a:lnTo>
                    <a:lnTo>
                      <a:pt x="31" y="0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7" y="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2623320" y="33814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2634840" y="337500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7"/>
                    </a:moveTo>
                    <a:lnTo>
                      <a:pt x="109" y="9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5" y="3"/>
                    </a:lnTo>
                    <a:lnTo>
                      <a:pt x="29" y="4"/>
                    </a:lnTo>
                    <a:lnTo>
                      <a:pt x="23" y="5"/>
                    </a:lnTo>
                    <a:lnTo>
                      <a:pt x="17" y="8"/>
                    </a:lnTo>
                    <a:lnTo>
                      <a:pt x="11" y="8"/>
                    </a:lnTo>
                    <a:lnTo>
                      <a:pt x="6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73" y="28"/>
                    </a:lnTo>
                    <a:lnTo>
                      <a:pt x="78" y="27"/>
                    </a:lnTo>
                    <a:lnTo>
                      <a:pt x="82" y="26"/>
                    </a:lnTo>
                    <a:lnTo>
                      <a:pt x="86" y="25"/>
                    </a:lnTo>
                    <a:lnTo>
                      <a:pt x="91" y="24"/>
                    </a:lnTo>
                    <a:lnTo>
                      <a:pt x="95" y="22"/>
                    </a:lnTo>
                    <a:lnTo>
                      <a:pt x="100" y="20"/>
                    </a:lnTo>
                    <a:lnTo>
                      <a:pt x="104" y="18"/>
                    </a:lnTo>
                    <a:lnTo>
                      <a:pt x="109" y="17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634840" y="33955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9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9" y="4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2369880" y="3376440"/>
                <a:ext cx="247680" cy="51120"/>
              </a:xfrm>
              <a:custGeom>
                <a:avLst/>
                <a:gdLst/>
                <a:ahLst/>
                <a:rect l="l" t="t" r="r" b="b"/>
                <a:pathLst>
                  <a:path w="312" h="65">
                    <a:moveTo>
                      <a:pt x="0" y="15"/>
                    </a:moveTo>
                    <a:lnTo>
                      <a:pt x="0" y="24"/>
                    </a:lnTo>
                    <a:lnTo>
                      <a:pt x="48" y="31"/>
                    </a:lnTo>
                    <a:lnTo>
                      <a:pt x="52" y="30"/>
                    </a:lnTo>
                    <a:lnTo>
                      <a:pt x="56" y="29"/>
                    </a:lnTo>
                    <a:lnTo>
                      <a:pt x="61" y="29"/>
                    </a:lnTo>
                    <a:lnTo>
                      <a:pt x="64" y="29"/>
                    </a:lnTo>
                    <a:lnTo>
                      <a:pt x="63" y="29"/>
                    </a:lnTo>
                    <a:lnTo>
                      <a:pt x="61" y="30"/>
                    </a:lnTo>
                    <a:lnTo>
                      <a:pt x="60" y="31"/>
                    </a:lnTo>
                    <a:lnTo>
                      <a:pt x="57" y="31"/>
                    </a:lnTo>
                    <a:lnTo>
                      <a:pt x="272" y="65"/>
                    </a:lnTo>
                    <a:lnTo>
                      <a:pt x="276" y="62"/>
                    </a:lnTo>
                    <a:lnTo>
                      <a:pt x="282" y="59"/>
                    </a:lnTo>
                    <a:lnTo>
                      <a:pt x="287" y="56"/>
                    </a:lnTo>
                    <a:lnTo>
                      <a:pt x="292" y="54"/>
                    </a:lnTo>
                    <a:lnTo>
                      <a:pt x="297" y="52"/>
                    </a:lnTo>
                    <a:lnTo>
                      <a:pt x="302" y="48"/>
                    </a:lnTo>
                    <a:lnTo>
                      <a:pt x="307" y="46"/>
                    </a:lnTo>
                    <a:lnTo>
                      <a:pt x="312" y="43"/>
                    </a:lnTo>
                    <a:lnTo>
                      <a:pt x="33" y="0"/>
                    </a:lnTo>
                    <a:lnTo>
                      <a:pt x="25" y="5"/>
                    </a:lnTo>
                    <a:lnTo>
                      <a:pt x="17" y="8"/>
                    </a:lnTo>
                    <a:lnTo>
                      <a:pt x="9" y="1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606040" y="337356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0" y="10"/>
                    </a:lnTo>
                    <a:lnTo>
                      <a:pt x="3" y="7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2617200" y="3367080"/>
                <a:ext cx="88920" cy="25560"/>
              </a:xfrm>
              <a:custGeom>
                <a:avLst/>
                <a:gdLst/>
                <a:ahLst/>
                <a:rect l="l" t="t" r="r" b="b"/>
                <a:pathLst>
                  <a:path w="112" h="32">
                    <a:moveTo>
                      <a:pt x="112" y="17"/>
                    </a:moveTo>
                    <a:lnTo>
                      <a:pt x="112" y="7"/>
                    </a:lnTo>
                    <a:lnTo>
                      <a:pt x="55" y="0"/>
                    </a:lnTo>
                    <a:lnTo>
                      <a:pt x="48" y="3"/>
                    </a:lnTo>
                    <a:lnTo>
                      <a:pt x="41" y="5"/>
                    </a:lnTo>
                    <a:lnTo>
                      <a:pt x="35" y="9"/>
                    </a:lnTo>
                    <a:lnTo>
                      <a:pt x="28" y="10"/>
                    </a:lnTo>
                    <a:lnTo>
                      <a:pt x="21" y="12"/>
                    </a:lnTo>
                    <a:lnTo>
                      <a:pt x="14" y="14"/>
                    </a:lnTo>
                    <a:lnTo>
                      <a:pt x="7" y="15"/>
                    </a:lnTo>
                    <a:lnTo>
                      <a:pt x="0" y="17"/>
                    </a:lnTo>
                    <a:lnTo>
                      <a:pt x="81" y="32"/>
                    </a:lnTo>
                    <a:lnTo>
                      <a:pt x="90" y="28"/>
                    </a:lnTo>
                    <a:lnTo>
                      <a:pt x="98" y="24"/>
                    </a:lnTo>
                    <a:lnTo>
                      <a:pt x="105" y="20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2617200" y="33876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2358360" y="3359160"/>
                <a:ext cx="322200" cy="58680"/>
              </a:xfrm>
              <a:custGeom>
                <a:avLst/>
                <a:gdLst/>
                <a:ahLst/>
                <a:rect l="l" t="t" r="r" b="b"/>
                <a:pathLst>
                  <a:path w="408" h="75">
                    <a:moveTo>
                      <a:pt x="91" y="34"/>
                    </a:moveTo>
                    <a:lnTo>
                      <a:pt x="99" y="30"/>
                    </a:lnTo>
                    <a:lnTo>
                      <a:pt x="107" y="27"/>
                    </a:lnTo>
                    <a:lnTo>
                      <a:pt x="114" y="23"/>
                    </a:lnTo>
                    <a:lnTo>
                      <a:pt x="122" y="20"/>
                    </a:lnTo>
                    <a:lnTo>
                      <a:pt x="119" y="17"/>
                    </a:lnTo>
                    <a:lnTo>
                      <a:pt x="115" y="16"/>
                    </a:lnTo>
                    <a:lnTo>
                      <a:pt x="112" y="14"/>
                    </a:lnTo>
                    <a:lnTo>
                      <a:pt x="107" y="10"/>
                    </a:lnTo>
                    <a:lnTo>
                      <a:pt x="103" y="15"/>
                    </a:lnTo>
                    <a:lnTo>
                      <a:pt x="96" y="21"/>
                    </a:lnTo>
                    <a:lnTo>
                      <a:pt x="85" y="25"/>
                    </a:lnTo>
                    <a:lnTo>
                      <a:pt x="74" y="31"/>
                    </a:lnTo>
                    <a:lnTo>
                      <a:pt x="0" y="20"/>
                    </a:lnTo>
                    <a:lnTo>
                      <a:pt x="6" y="17"/>
                    </a:lnTo>
                    <a:lnTo>
                      <a:pt x="12" y="15"/>
                    </a:lnTo>
                    <a:lnTo>
                      <a:pt x="17" y="12"/>
                    </a:lnTo>
                    <a:lnTo>
                      <a:pt x="24" y="9"/>
                    </a:lnTo>
                    <a:lnTo>
                      <a:pt x="30" y="7"/>
                    </a:lnTo>
                    <a:lnTo>
                      <a:pt x="37" y="5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408" y="53"/>
                    </a:lnTo>
                    <a:lnTo>
                      <a:pt x="408" y="54"/>
                    </a:lnTo>
                    <a:lnTo>
                      <a:pt x="408" y="57"/>
                    </a:lnTo>
                    <a:lnTo>
                      <a:pt x="408" y="58"/>
                    </a:lnTo>
                    <a:lnTo>
                      <a:pt x="408" y="60"/>
                    </a:lnTo>
                    <a:lnTo>
                      <a:pt x="403" y="62"/>
                    </a:lnTo>
                    <a:lnTo>
                      <a:pt x="399" y="63"/>
                    </a:lnTo>
                    <a:lnTo>
                      <a:pt x="394" y="66"/>
                    </a:lnTo>
                    <a:lnTo>
                      <a:pt x="390" y="67"/>
                    </a:lnTo>
                    <a:lnTo>
                      <a:pt x="385" y="69"/>
                    </a:lnTo>
                    <a:lnTo>
                      <a:pt x="381" y="70"/>
                    </a:lnTo>
                    <a:lnTo>
                      <a:pt x="377" y="73"/>
                    </a:lnTo>
                    <a:lnTo>
                      <a:pt x="372" y="75"/>
                    </a:lnTo>
                    <a:lnTo>
                      <a:pt x="91" y="34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2358720" y="3351240"/>
                <a:ext cx="287280" cy="58680"/>
              </a:xfrm>
              <a:custGeom>
                <a:avLst/>
                <a:gdLst/>
                <a:ahLst/>
                <a:rect l="l" t="t" r="r" b="b"/>
                <a:pathLst>
                  <a:path w="363" h="74">
                    <a:moveTo>
                      <a:pt x="0" y="13"/>
                    </a:moveTo>
                    <a:lnTo>
                      <a:pt x="0" y="22"/>
                    </a:lnTo>
                    <a:lnTo>
                      <a:pt x="51" y="29"/>
                    </a:lnTo>
                    <a:lnTo>
                      <a:pt x="54" y="26"/>
                    </a:lnTo>
                    <a:lnTo>
                      <a:pt x="58" y="25"/>
                    </a:lnTo>
                    <a:lnTo>
                      <a:pt x="60" y="23"/>
                    </a:lnTo>
                    <a:lnTo>
                      <a:pt x="62" y="19"/>
                    </a:lnTo>
                    <a:lnTo>
                      <a:pt x="67" y="23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7" y="29"/>
                    </a:lnTo>
                    <a:lnTo>
                      <a:pt x="75" y="30"/>
                    </a:lnTo>
                    <a:lnTo>
                      <a:pt x="73" y="31"/>
                    </a:lnTo>
                    <a:lnTo>
                      <a:pt x="71" y="31"/>
                    </a:lnTo>
                    <a:lnTo>
                      <a:pt x="69" y="31"/>
                    </a:lnTo>
                    <a:lnTo>
                      <a:pt x="348" y="74"/>
                    </a:lnTo>
                    <a:lnTo>
                      <a:pt x="351" y="72"/>
                    </a:lnTo>
                    <a:lnTo>
                      <a:pt x="356" y="71"/>
                    </a:lnTo>
                    <a:lnTo>
                      <a:pt x="360" y="70"/>
                    </a:lnTo>
                    <a:lnTo>
                      <a:pt x="363" y="69"/>
                    </a:lnTo>
                    <a:lnTo>
                      <a:pt x="362" y="66"/>
                    </a:lnTo>
                    <a:lnTo>
                      <a:pt x="361" y="61"/>
                    </a:lnTo>
                    <a:lnTo>
                      <a:pt x="361" y="55"/>
                    </a:lnTo>
                    <a:lnTo>
                      <a:pt x="361" y="51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5" y="4"/>
                    </a:lnTo>
                    <a:lnTo>
                      <a:pt x="8" y="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634480" y="3348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646000" y="33465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7"/>
                    </a:moveTo>
                    <a:lnTo>
                      <a:pt x="16" y="2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2646000" y="336240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9"/>
                    </a:moveTo>
                    <a:lnTo>
                      <a:pt x="21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2358720" y="3341520"/>
                <a:ext cx="300240" cy="60480"/>
              </a:xfrm>
              <a:custGeom>
                <a:avLst/>
                <a:gdLst/>
                <a:ahLst/>
                <a:rect l="l" t="t" r="r" b="b"/>
                <a:pathLst>
                  <a:path w="379" h="76">
                    <a:moveTo>
                      <a:pt x="21" y="23"/>
                    </a:moveTo>
                    <a:lnTo>
                      <a:pt x="25" y="21"/>
                    </a:lnTo>
                    <a:lnTo>
                      <a:pt x="30" y="20"/>
                    </a:lnTo>
                    <a:lnTo>
                      <a:pt x="36" y="17"/>
                    </a:lnTo>
                    <a:lnTo>
                      <a:pt x="40" y="16"/>
                    </a:lnTo>
                    <a:lnTo>
                      <a:pt x="45" y="14"/>
                    </a:lnTo>
                    <a:lnTo>
                      <a:pt x="48" y="13"/>
                    </a:lnTo>
                    <a:lnTo>
                      <a:pt x="53" y="10"/>
                    </a:lnTo>
                    <a:lnTo>
                      <a:pt x="56" y="9"/>
                    </a:lnTo>
                    <a:lnTo>
                      <a:pt x="48" y="9"/>
                    </a:lnTo>
                    <a:lnTo>
                      <a:pt x="41" y="10"/>
                    </a:lnTo>
                    <a:lnTo>
                      <a:pt x="34" y="10"/>
                    </a:lnTo>
                    <a:lnTo>
                      <a:pt x="28" y="12"/>
                    </a:lnTo>
                    <a:lnTo>
                      <a:pt x="21" y="13"/>
                    </a:lnTo>
                    <a:lnTo>
                      <a:pt x="14" y="14"/>
                    </a:lnTo>
                    <a:lnTo>
                      <a:pt x="7" y="15"/>
                    </a:lnTo>
                    <a:lnTo>
                      <a:pt x="0" y="16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1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4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377" y="50"/>
                    </a:lnTo>
                    <a:lnTo>
                      <a:pt x="377" y="58"/>
                    </a:lnTo>
                    <a:lnTo>
                      <a:pt x="377" y="65"/>
                    </a:lnTo>
                    <a:lnTo>
                      <a:pt x="378" y="70"/>
                    </a:lnTo>
                    <a:lnTo>
                      <a:pt x="379" y="76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360160" y="3341520"/>
                <a:ext cx="293760" cy="51120"/>
              </a:xfrm>
              <a:custGeom>
                <a:avLst/>
                <a:gdLst/>
                <a:ahLst/>
                <a:rect l="l" t="t" r="r" b="b"/>
                <a:pathLst>
                  <a:path w="370" h="65">
                    <a:moveTo>
                      <a:pt x="38" y="14"/>
                    </a:moveTo>
                    <a:lnTo>
                      <a:pt x="41" y="13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49" y="9"/>
                    </a:lnTo>
                    <a:lnTo>
                      <a:pt x="42" y="9"/>
                    </a:lnTo>
                    <a:lnTo>
                      <a:pt x="36" y="9"/>
                    </a:lnTo>
                    <a:lnTo>
                      <a:pt x="30" y="10"/>
                    </a:lnTo>
                    <a:lnTo>
                      <a:pt x="24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19" y="1"/>
                    </a:lnTo>
                    <a:lnTo>
                      <a:pt x="34" y="1"/>
                    </a:lnTo>
                    <a:lnTo>
                      <a:pt x="49" y="1"/>
                    </a:lnTo>
                    <a:lnTo>
                      <a:pt x="63" y="1"/>
                    </a:lnTo>
                    <a:lnTo>
                      <a:pt x="78" y="1"/>
                    </a:lnTo>
                    <a:lnTo>
                      <a:pt x="93" y="1"/>
                    </a:lnTo>
                    <a:lnTo>
                      <a:pt x="107" y="1"/>
                    </a:lnTo>
                    <a:lnTo>
                      <a:pt x="122" y="0"/>
                    </a:lnTo>
                    <a:lnTo>
                      <a:pt x="355" y="36"/>
                    </a:lnTo>
                    <a:lnTo>
                      <a:pt x="358" y="36"/>
                    </a:lnTo>
                    <a:lnTo>
                      <a:pt x="360" y="37"/>
                    </a:lnTo>
                    <a:lnTo>
                      <a:pt x="364" y="39"/>
                    </a:lnTo>
                    <a:lnTo>
                      <a:pt x="367" y="40"/>
                    </a:lnTo>
                    <a:lnTo>
                      <a:pt x="369" y="46"/>
                    </a:lnTo>
                    <a:lnTo>
                      <a:pt x="370" y="51"/>
                    </a:lnTo>
                    <a:lnTo>
                      <a:pt x="370" y="58"/>
                    </a:lnTo>
                    <a:lnTo>
                      <a:pt x="370" y="65"/>
                    </a:lnTo>
                    <a:lnTo>
                      <a:pt x="38" y="14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360160" y="3336840"/>
                <a:ext cx="255600" cy="42840"/>
              </a:xfrm>
              <a:custGeom>
                <a:avLst/>
                <a:gdLst/>
                <a:ahLst/>
                <a:rect l="l" t="t" r="r" b="b"/>
                <a:pathLst>
                  <a:path w="323" h="55">
                    <a:moveTo>
                      <a:pt x="134" y="0"/>
                    </a:moveTo>
                    <a:lnTo>
                      <a:pt x="118" y="2"/>
                    </a:lnTo>
                    <a:lnTo>
                      <a:pt x="101" y="3"/>
                    </a:lnTo>
                    <a:lnTo>
                      <a:pt x="85" y="4"/>
                    </a:lnTo>
                    <a:lnTo>
                      <a:pt x="68" y="5"/>
                    </a:lnTo>
                    <a:lnTo>
                      <a:pt x="52" y="6"/>
                    </a:lnTo>
                    <a:lnTo>
                      <a:pt x="35" y="6"/>
                    </a:lnTo>
                    <a:lnTo>
                      <a:pt x="17" y="7"/>
                    </a:lnTo>
                    <a:lnTo>
                      <a:pt x="0" y="7"/>
                    </a:lnTo>
                    <a:lnTo>
                      <a:pt x="323" y="55"/>
                    </a:lnTo>
                    <a:lnTo>
                      <a:pt x="322" y="52"/>
                    </a:lnTo>
                    <a:lnTo>
                      <a:pt x="320" y="50"/>
                    </a:lnTo>
                    <a:lnTo>
                      <a:pt x="320" y="48"/>
                    </a:lnTo>
                    <a:lnTo>
                      <a:pt x="320" y="45"/>
                    </a:lnTo>
                    <a:lnTo>
                      <a:pt x="315" y="43"/>
                    </a:lnTo>
                    <a:lnTo>
                      <a:pt x="309" y="41"/>
                    </a:lnTo>
                    <a:lnTo>
                      <a:pt x="304" y="38"/>
                    </a:lnTo>
                    <a:lnTo>
                      <a:pt x="301" y="36"/>
                    </a:lnTo>
                    <a:lnTo>
                      <a:pt x="301" y="34"/>
                    </a:lnTo>
                    <a:lnTo>
                      <a:pt x="302" y="33"/>
                    </a:lnTo>
                    <a:lnTo>
                      <a:pt x="303" y="29"/>
                    </a:lnTo>
                    <a:lnTo>
                      <a:pt x="303" y="26"/>
                    </a:lnTo>
                    <a:lnTo>
                      <a:pt x="304" y="26"/>
                    </a:lnTo>
                    <a:lnTo>
                      <a:pt x="305" y="26"/>
                    </a:lnTo>
                    <a:lnTo>
                      <a:pt x="305" y="26"/>
                    </a:lnTo>
                    <a:lnTo>
                      <a:pt x="305" y="26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2351880" y="3335400"/>
                <a:ext cx="204840" cy="33120"/>
              </a:xfrm>
              <a:custGeom>
                <a:avLst/>
                <a:gdLst/>
                <a:ahLst/>
                <a:rect l="l" t="t" r="r" b="b"/>
                <a:pathLst>
                  <a:path w="257" h="43">
                    <a:moveTo>
                      <a:pt x="130" y="0"/>
                    </a:moveTo>
                    <a:lnTo>
                      <a:pt x="114" y="0"/>
                    </a:lnTo>
                    <a:lnTo>
                      <a:pt x="98" y="1"/>
                    </a:lnTo>
                    <a:lnTo>
                      <a:pt x="82" y="1"/>
                    </a:lnTo>
                    <a:lnTo>
                      <a:pt x="66" y="2"/>
                    </a:lnTo>
                    <a:lnTo>
                      <a:pt x="48" y="4"/>
                    </a:lnTo>
                    <a:lnTo>
                      <a:pt x="32" y="5"/>
                    </a:lnTo>
                    <a:lnTo>
                      <a:pt x="16" y="6"/>
                    </a:lnTo>
                    <a:lnTo>
                      <a:pt x="0" y="7"/>
                    </a:lnTo>
                    <a:lnTo>
                      <a:pt x="233" y="43"/>
                    </a:lnTo>
                    <a:lnTo>
                      <a:pt x="232" y="42"/>
                    </a:lnTo>
                    <a:lnTo>
                      <a:pt x="229" y="40"/>
                    </a:lnTo>
                    <a:lnTo>
                      <a:pt x="228" y="39"/>
                    </a:lnTo>
                    <a:lnTo>
                      <a:pt x="226" y="38"/>
                    </a:lnTo>
                    <a:lnTo>
                      <a:pt x="226" y="36"/>
                    </a:lnTo>
                    <a:lnTo>
                      <a:pt x="227" y="35"/>
                    </a:lnTo>
                    <a:lnTo>
                      <a:pt x="228" y="31"/>
                    </a:lnTo>
                    <a:lnTo>
                      <a:pt x="228" y="28"/>
                    </a:lnTo>
                    <a:lnTo>
                      <a:pt x="235" y="25"/>
                    </a:lnTo>
                    <a:lnTo>
                      <a:pt x="243" y="24"/>
                    </a:lnTo>
                    <a:lnTo>
                      <a:pt x="250" y="22"/>
                    </a:lnTo>
                    <a:lnTo>
                      <a:pt x="257" y="19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2347560" y="3335400"/>
                <a:ext cx="162000" cy="22320"/>
              </a:xfrm>
              <a:custGeom>
                <a:avLst/>
                <a:gdLst/>
                <a:ahLst/>
                <a:rect l="l" t="t" r="r" b="b"/>
                <a:pathLst>
                  <a:path w="205" h="28">
                    <a:moveTo>
                      <a:pt x="0" y="2"/>
                    </a:moveTo>
                    <a:lnTo>
                      <a:pt x="12" y="1"/>
                    </a:lnTo>
                    <a:lnTo>
                      <a:pt x="25" y="1"/>
                    </a:lnTo>
                    <a:lnTo>
                      <a:pt x="38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5" y="0"/>
                    </a:lnTo>
                    <a:lnTo>
                      <a:pt x="87" y="0"/>
                    </a:lnTo>
                    <a:lnTo>
                      <a:pt x="101" y="0"/>
                    </a:lnTo>
                    <a:lnTo>
                      <a:pt x="114" y="1"/>
                    </a:lnTo>
                    <a:lnTo>
                      <a:pt x="126" y="2"/>
                    </a:lnTo>
                    <a:lnTo>
                      <a:pt x="139" y="4"/>
                    </a:lnTo>
                    <a:lnTo>
                      <a:pt x="152" y="6"/>
                    </a:lnTo>
                    <a:lnTo>
                      <a:pt x="166" y="8"/>
                    </a:lnTo>
                    <a:lnTo>
                      <a:pt x="178" y="11"/>
                    </a:lnTo>
                    <a:lnTo>
                      <a:pt x="191" y="13"/>
                    </a:lnTo>
                    <a:lnTo>
                      <a:pt x="205" y="16"/>
                    </a:lnTo>
                    <a:lnTo>
                      <a:pt x="197" y="20"/>
                    </a:lnTo>
                    <a:lnTo>
                      <a:pt x="189" y="23"/>
                    </a:lnTo>
                    <a:lnTo>
                      <a:pt x="179" y="25"/>
                    </a:lnTo>
                    <a:lnTo>
                      <a:pt x="171" y="2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2347200" y="3335400"/>
                <a:ext cx="104760" cy="14400"/>
              </a:xfrm>
              <a:custGeom>
                <a:avLst/>
                <a:gdLst/>
                <a:ahLst/>
                <a:rect l="l" t="t" r="r" b="b"/>
                <a:pathLst>
                  <a:path w="134" h="19">
                    <a:moveTo>
                      <a:pt x="0" y="0"/>
                    </a:moveTo>
                    <a:lnTo>
                      <a:pt x="16" y="0"/>
                    </a:lnTo>
                    <a:lnTo>
                      <a:pt x="32" y="1"/>
                    </a:lnTo>
                    <a:lnTo>
                      <a:pt x="50" y="2"/>
                    </a:lnTo>
                    <a:lnTo>
                      <a:pt x="66" y="4"/>
                    </a:lnTo>
                    <a:lnTo>
                      <a:pt x="83" y="6"/>
                    </a:lnTo>
                    <a:lnTo>
                      <a:pt x="100" y="9"/>
                    </a:lnTo>
                    <a:lnTo>
                      <a:pt x="117" y="13"/>
                    </a:lnTo>
                    <a:lnTo>
                      <a:pt x="134" y="16"/>
                    </a:lnTo>
                    <a:lnTo>
                      <a:pt x="133" y="16"/>
                    </a:lnTo>
                    <a:lnTo>
                      <a:pt x="130" y="17"/>
                    </a:lnTo>
                    <a:lnTo>
                      <a:pt x="129" y="19"/>
                    </a:lnTo>
                    <a:lnTo>
                      <a:pt x="127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636280" y="355428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0" y="0"/>
                    </a:moveTo>
                    <a:lnTo>
                      <a:pt x="0" y="8"/>
                    </a:lnTo>
                    <a:lnTo>
                      <a:pt x="1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2631600" y="354960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8" y="0"/>
                    </a:moveTo>
                    <a:lnTo>
                      <a:pt x="0" y="8"/>
                    </a:lnTo>
                    <a:lnTo>
                      <a:pt x="5" y="10"/>
                    </a:lnTo>
                    <a:lnTo>
                      <a:pt x="15" y="5"/>
                    </a:lnTo>
                    <a:lnTo>
                      <a:pt x="17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2628360" y="354636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8" y="0"/>
                    </a:moveTo>
                    <a:lnTo>
                      <a:pt x="0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7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2625480" y="35431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7" y="0"/>
                    </a:moveTo>
                    <a:lnTo>
                      <a:pt x="0" y="9"/>
                    </a:lnTo>
                    <a:lnTo>
                      <a:pt x="9" y="11"/>
                    </a:lnTo>
                    <a:lnTo>
                      <a:pt x="1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2620800" y="354168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7" y="0"/>
                    </a:moveTo>
                    <a:lnTo>
                      <a:pt x="0" y="7"/>
                    </a:lnTo>
                    <a:lnTo>
                      <a:pt x="9" y="10"/>
                    </a:lnTo>
                    <a:lnTo>
                      <a:pt x="1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2619000" y="35370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9" y="0"/>
                    </a:moveTo>
                    <a:lnTo>
                      <a:pt x="0" y="7"/>
                    </a:lnTo>
                    <a:lnTo>
                      <a:pt x="12" y="9"/>
                    </a:lnTo>
                    <a:lnTo>
                      <a:pt x="18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615760" y="35337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7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8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2611080" y="353052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7" y="0"/>
                    </a:moveTo>
                    <a:lnTo>
                      <a:pt x="0" y="9"/>
                    </a:lnTo>
                    <a:lnTo>
                      <a:pt x="9" y="11"/>
                    </a:lnTo>
                    <a:lnTo>
                      <a:pt x="2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2607480" y="352908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9" y="0"/>
                    </a:moveTo>
                    <a:lnTo>
                      <a:pt x="0" y="7"/>
                    </a:lnTo>
                    <a:lnTo>
                      <a:pt x="11" y="9"/>
                    </a:lnTo>
                    <a:lnTo>
                      <a:pt x="2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2606400" y="35244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7" y="0"/>
                    </a:moveTo>
                    <a:lnTo>
                      <a:pt x="0" y="8"/>
                    </a:lnTo>
                    <a:lnTo>
                      <a:pt x="13" y="10"/>
                    </a:lnTo>
                    <a:lnTo>
                      <a:pt x="2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2601720" y="351936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8" y="0"/>
                    </a:moveTo>
                    <a:lnTo>
                      <a:pt x="0" y="10"/>
                    </a:lnTo>
                    <a:lnTo>
                      <a:pt x="12" y="10"/>
                    </a:lnTo>
                    <a:lnTo>
                      <a:pt x="19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598480" y="35164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8" y="0"/>
                    </a:moveTo>
                    <a:lnTo>
                      <a:pt x="0" y="10"/>
                    </a:lnTo>
                    <a:lnTo>
                      <a:pt x="13" y="12"/>
                    </a:lnTo>
                    <a:lnTo>
                      <a:pt x="22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2595240" y="35146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7" y="0"/>
                    </a:moveTo>
                    <a:lnTo>
                      <a:pt x="0" y="7"/>
                    </a:lnTo>
                    <a:lnTo>
                      <a:pt x="11" y="9"/>
                    </a:lnTo>
                    <a:lnTo>
                      <a:pt x="2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2593800" y="35114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9" y="0"/>
                    </a:moveTo>
                    <a:lnTo>
                      <a:pt x="0" y="7"/>
                    </a:lnTo>
                    <a:lnTo>
                      <a:pt x="14" y="10"/>
                    </a:lnTo>
                    <a:lnTo>
                      <a:pt x="21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2588400" y="35067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7" y="0"/>
                    </a:moveTo>
                    <a:lnTo>
                      <a:pt x="0" y="9"/>
                    </a:lnTo>
                    <a:lnTo>
                      <a:pt x="14" y="11"/>
                    </a:lnTo>
                    <a:lnTo>
                      <a:pt x="18" y="4"/>
                    </a:lnTo>
                    <a:lnTo>
                      <a:pt x="2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2582280" y="35035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7" y="0"/>
                    </a:moveTo>
                    <a:lnTo>
                      <a:pt x="0" y="9"/>
                    </a:lnTo>
                    <a:lnTo>
                      <a:pt x="12" y="12"/>
                    </a:lnTo>
                    <a:lnTo>
                      <a:pt x="14" y="9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2579040" y="3502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9" y="0"/>
                    </a:moveTo>
                    <a:lnTo>
                      <a:pt x="0" y="7"/>
                    </a:lnTo>
                    <a:lnTo>
                      <a:pt x="13" y="9"/>
                    </a:lnTo>
                    <a:lnTo>
                      <a:pt x="26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2576160" y="34974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0"/>
                    </a:moveTo>
                    <a:lnTo>
                      <a:pt x="0" y="8"/>
                    </a:lnTo>
                    <a:lnTo>
                      <a:pt x="18" y="13"/>
                    </a:lnTo>
                    <a:lnTo>
                      <a:pt x="24" y="6"/>
                    </a:lnTo>
                    <a:lnTo>
                      <a:pt x="27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571480" y="3494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0" y="11"/>
                    </a:moveTo>
                    <a:lnTo>
                      <a:pt x="4" y="3"/>
                    </a:lnTo>
                    <a:lnTo>
                      <a:pt x="7" y="0"/>
                    </a:lnTo>
                    <a:lnTo>
                      <a:pt x="26" y="3"/>
                    </a:lnTo>
                    <a:lnTo>
                      <a:pt x="19" y="11"/>
                    </a:lnTo>
                    <a:lnTo>
                      <a:pt x="17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2569680" y="348948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9"/>
                    </a:moveTo>
                    <a:lnTo>
                      <a:pt x="2" y="7"/>
                    </a:lnTo>
                    <a:lnTo>
                      <a:pt x="8" y="0"/>
                    </a:lnTo>
                    <a:lnTo>
                      <a:pt x="27" y="4"/>
                    </a:lnTo>
                    <a:lnTo>
                      <a:pt x="20" y="1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2566440" y="34876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8" y="0"/>
                    </a:moveTo>
                    <a:lnTo>
                      <a:pt x="0" y="6"/>
                    </a:lnTo>
                    <a:lnTo>
                      <a:pt x="19" y="9"/>
                    </a:lnTo>
                    <a:lnTo>
                      <a:pt x="26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2563200" y="348444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9" y="0"/>
                    </a:moveTo>
                    <a:lnTo>
                      <a:pt x="0" y="7"/>
                    </a:lnTo>
                    <a:lnTo>
                      <a:pt x="19" y="11"/>
                    </a:lnTo>
                    <a:lnTo>
                      <a:pt x="28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559960" y="348156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9" y="0"/>
                    </a:moveTo>
                    <a:lnTo>
                      <a:pt x="0" y="10"/>
                    </a:lnTo>
                    <a:lnTo>
                      <a:pt x="18" y="12"/>
                    </a:lnTo>
                    <a:lnTo>
                      <a:pt x="25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2557080" y="3479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0" y="7"/>
                    </a:moveTo>
                    <a:lnTo>
                      <a:pt x="5" y="2"/>
                    </a:lnTo>
                    <a:lnTo>
                      <a:pt x="10" y="0"/>
                    </a:lnTo>
                    <a:lnTo>
                      <a:pt x="27" y="2"/>
                    </a:lnTo>
                    <a:lnTo>
                      <a:pt x="19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552040" y="3475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7"/>
                    </a:moveTo>
                    <a:lnTo>
                      <a:pt x="0" y="7"/>
                    </a:lnTo>
                    <a:lnTo>
                      <a:pt x="12" y="0"/>
                    </a:lnTo>
                    <a:lnTo>
                      <a:pt x="27" y="3"/>
                    </a:lnTo>
                    <a:lnTo>
                      <a:pt x="16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549160" y="34704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11" y="0"/>
                    </a:moveTo>
                    <a:lnTo>
                      <a:pt x="0" y="10"/>
                    </a:lnTo>
                    <a:lnTo>
                      <a:pt x="17" y="12"/>
                    </a:lnTo>
                    <a:lnTo>
                      <a:pt x="26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547720" y="34686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2" y="0"/>
                    </a:moveTo>
                    <a:lnTo>
                      <a:pt x="0" y="8"/>
                    </a:lnTo>
                    <a:lnTo>
                      <a:pt x="15" y="11"/>
                    </a:lnTo>
                    <a:lnTo>
                      <a:pt x="21" y="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2543040" y="34653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7"/>
                    </a:moveTo>
                    <a:lnTo>
                      <a:pt x="13" y="2"/>
                    </a:lnTo>
                    <a:lnTo>
                      <a:pt x="15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2539440" y="346392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7"/>
                    </a:moveTo>
                    <a:lnTo>
                      <a:pt x="5" y="5"/>
                    </a:lnTo>
                    <a:lnTo>
                      <a:pt x="19" y="0"/>
                    </a:lnTo>
                    <a:lnTo>
                      <a:pt x="9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2539800" y="346392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3"/>
                    </a:moveTo>
                    <a:lnTo>
                      <a:pt x="12" y="0"/>
                    </a:lnTo>
                    <a:lnTo>
                      <a:pt x="7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026800" y="3621240"/>
                <a:ext cx="59040" cy="15840"/>
              </a:xfrm>
              <a:custGeom>
                <a:avLst/>
                <a:gdLst/>
                <a:ahLst/>
                <a:rect l="l" t="t" r="r" b="b"/>
                <a:pathLst>
                  <a:path w="75" h="20">
                    <a:moveTo>
                      <a:pt x="0" y="0"/>
                    </a:moveTo>
                    <a:lnTo>
                      <a:pt x="5" y="4"/>
                    </a:lnTo>
                    <a:lnTo>
                      <a:pt x="11" y="10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19"/>
                    </a:lnTo>
                    <a:lnTo>
                      <a:pt x="37" y="17"/>
                    </a:lnTo>
                    <a:lnTo>
                      <a:pt x="44" y="16"/>
                    </a:lnTo>
                    <a:lnTo>
                      <a:pt x="50" y="15"/>
                    </a:lnTo>
                    <a:lnTo>
                      <a:pt x="55" y="13"/>
                    </a:lnTo>
                    <a:lnTo>
                      <a:pt x="62" y="13"/>
                    </a:lnTo>
                    <a:lnTo>
                      <a:pt x="68" y="12"/>
                    </a:lnTo>
                    <a:lnTo>
                      <a:pt x="75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985400" y="3608280"/>
                <a:ext cx="106200" cy="27000"/>
              </a:xfrm>
              <a:custGeom>
                <a:avLst/>
                <a:gdLst/>
                <a:ahLst/>
                <a:rect l="l" t="t" r="r" b="b"/>
                <a:pathLst>
                  <a:path w="134" h="33">
                    <a:moveTo>
                      <a:pt x="0" y="0"/>
                    </a:moveTo>
                    <a:lnTo>
                      <a:pt x="4" y="8"/>
                    </a:lnTo>
                    <a:lnTo>
                      <a:pt x="9" y="15"/>
                    </a:lnTo>
                    <a:lnTo>
                      <a:pt x="15" y="22"/>
                    </a:lnTo>
                    <a:lnTo>
                      <a:pt x="24" y="28"/>
                    </a:lnTo>
                    <a:lnTo>
                      <a:pt x="43" y="33"/>
                    </a:lnTo>
                    <a:lnTo>
                      <a:pt x="54" y="31"/>
                    </a:lnTo>
                    <a:lnTo>
                      <a:pt x="66" y="28"/>
                    </a:lnTo>
                    <a:lnTo>
                      <a:pt x="77" y="26"/>
                    </a:lnTo>
                    <a:lnTo>
                      <a:pt x="89" y="25"/>
                    </a:lnTo>
                    <a:lnTo>
                      <a:pt x="99" y="24"/>
                    </a:lnTo>
                    <a:lnTo>
                      <a:pt x="111" y="23"/>
                    </a:lnTo>
                    <a:lnTo>
                      <a:pt x="122" y="22"/>
                    </a:lnTo>
                    <a:lnTo>
                      <a:pt x="134" y="22"/>
                    </a:lnTo>
                    <a:lnTo>
                      <a:pt x="34" y="5"/>
                    </a:lnTo>
                    <a:lnTo>
                      <a:pt x="35" y="9"/>
                    </a:lnTo>
                    <a:lnTo>
                      <a:pt x="36" y="11"/>
                    </a:lnTo>
                    <a:lnTo>
                      <a:pt x="37" y="14"/>
                    </a:lnTo>
                    <a:lnTo>
                      <a:pt x="38" y="17"/>
                    </a:lnTo>
                    <a:lnTo>
                      <a:pt x="35" y="14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1964880" y="3597120"/>
                <a:ext cx="130320" cy="33480"/>
              </a:xfrm>
              <a:custGeom>
                <a:avLst/>
                <a:gdLst/>
                <a:ahLst/>
                <a:rect l="l" t="t" r="r" b="b"/>
                <a:pathLst>
                  <a:path w="164" h="40">
                    <a:moveTo>
                      <a:pt x="0" y="0"/>
                    </a:moveTo>
                    <a:lnTo>
                      <a:pt x="3" y="8"/>
                    </a:lnTo>
                    <a:lnTo>
                      <a:pt x="5" y="15"/>
                    </a:lnTo>
                    <a:lnTo>
                      <a:pt x="8" y="22"/>
                    </a:lnTo>
                    <a:lnTo>
                      <a:pt x="11" y="29"/>
                    </a:lnTo>
                    <a:lnTo>
                      <a:pt x="86" y="40"/>
                    </a:lnTo>
                    <a:lnTo>
                      <a:pt x="95" y="39"/>
                    </a:lnTo>
                    <a:lnTo>
                      <a:pt x="105" y="37"/>
                    </a:lnTo>
                    <a:lnTo>
                      <a:pt x="115" y="36"/>
                    </a:lnTo>
                    <a:lnTo>
                      <a:pt x="124" y="34"/>
                    </a:lnTo>
                    <a:lnTo>
                      <a:pt x="133" y="34"/>
                    </a:lnTo>
                    <a:lnTo>
                      <a:pt x="144" y="33"/>
                    </a:lnTo>
                    <a:lnTo>
                      <a:pt x="154" y="33"/>
                    </a:lnTo>
                    <a:lnTo>
                      <a:pt x="164" y="33"/>
                    </a:lnTo>
                    <a:lnTo>
                      <a:pt x="163" y="31"/>
                    </a:lnTo>
                    <a:lnTo>
                      <a:pt x="161" y="30"/>
                    </a:lnTo>
                    <a:lnTo>
                      <a:pt x="160" y="28"/>
                    </a:lnTo>
                    <a:lnTo>
                      <a:pt x="158" y="24"/>
                    </a:lnTo>
                    <a:lnTo>
                      <a:pt x="33" y="7"/>
                    </a:lnTo>
                    <a:lnTo>
                      <a:pt x="35" y="13"/>
                    </a:lnTo>
                    <a:lnTo>
                      <a:pt x="37" y="18"/>
                    </a:lnTo>
                    <a:lnTo>
                      <a:pt x="39" y="24"/>
                    </a:lnTo>
                    <a:lnTo>
                      <a:pt x="42" y="31"/>
                    </a:lnTo>
                    <a:lnTo>
                      <a:pt x="35" y="24"/>
                    </a:lnTo>
                    <a:lnTo>
                      <a:pt x="31" y="17"/>
                    </a:lnTo>
                    <a:lnTo>
                      <a:pt x="25" y="11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2071440" y="3611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1964880" y="3592440"/>
                <a:ext cx="108000" cy="33480"/>
              </a:xfrm>
              <a:custGeom>
                <a:avLst/>
                <a:gdLst/>
                <a:ahLst/>
                <a:rect l="l" t="t" r="r" b="b"/>
                <a:pathLst>
                  <a:path w="136" h="43">
                    <a:moveTo>
                      <a:pt x="0" y="0"/>
                    </a:moveTo>
                    <a:lnTo>
                      <a:pt x="0" y="5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7" y="21"/>
                    </a:lnTo>
                    <a:lnTo>
                      <a:pt x="10" y="26"/>
                    </a:lnTo>
                    <a:lnTo>
                      <a:pt x="110" y="43"/>
                    </a:lnTo>
                    <a:lnTo>
                      <a:pt x="116" y="41"/>
                    </a:lnTo>
                    <a:lnTo>
                      <a:pt x="121" y="40"/>
                    </a:lnTo>
                    <a:lnTo>
                      <a:pt x="128" y="40"/>
                    </a:lnTo>
                    <a:lnTo>
                      <a:pt x="136" y="40"/>
                    </a:lnTo>
                    <a:lnTo>
                      <a:pt x="132" y="35"/>
                    </a:lnTo>
                    <a:lnTo>
                      <a:pt x="127" y="30"/>
                    </a:lnTo>
                    <a:lnTo>
                      <a:pt x="121" y="23"/>
                    </a:lnTo>
                    <a:lnTo>
                      <a:pt x="117" y="16"/>
                    </a:lnTo>
                    <a:lnTo>
                      <a:pt x="43" y="7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1" y="8"/>
                    </a:lnTo>
                    <a:lnTo>
                      <a:pt x="40" y="6"/>
                    </a:lnTo>
                    <a:lnTo>
                      <a:pt x="3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1946160" y="36082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3"/>
                    </a:moveTo>
                    <a:lnTo>
                      <a:pt x="6" y="4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2072520" y="35924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072880" y="3589200"/>
                <a:ext cx="28800" cy="241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35" y="31"/>
                    </a:moveTo>
                    <a:lnTo>
                      <a:pt x="35" y="29"/>
                    </a:lnTo>
                    <a:lnTo>
                      <a:pt x="32" y="22"/>
                    </a:lnTo>
                    <a:lnTo>
                      <a:pt x="29" y="15"/>
                    </a:lnTo>
                    <a:lnTo>
                      <a:pt x="25" y="10"/>
                    </a:lnTo>
                    <a:lnTo>
                      <a:pt x="22" y="3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4"/>
                    </a:lnTo>
                    <a:lnTo>
                      <a:pt x="9" y="20"/>
                    </a:lnTo>
                    <a:lnTo>
                      <a:pt x="11" y="26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2077920" y="35971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1969920" y="3579840"/>
                <a:ext cx="109440" cy="38160"/>
              </a:xfrm>
              <a:custGeom>
                <a:avLst/>
                <a:gdLst/>
                <a:ahLst/>
                <a:rect l="l" t="t" r="r" b="b"/>
                <a:pathLst>
                  <a:path w="139" h="46">
                    <a:moveTo>
                      <a:pt x="0" y="0"/>
                    </a:moveTo>
                    <a:lnTo>
                      <a:pt x="0" y="2"/>
                    </a:lnTo>
                    <a:lnTo>
                      <a:pt x="5" y="8"/>
                    </a:lnTo>
                    <a:lnTo>
                      <a:pt x="8" y="15"/>
                    </a:lnTo>
                    <a:lnTo>
                      <a:pt x="11" y="22"/>
                    </a:lnTo>
                    <a:lnTo>
                      <a:pt x="14" y="29"/>
                    </a:lnTo>
                    <a:lnTo>
                      <a:pt x="139" y="46"/>
                    </a:lnTo>
                    <a:lnTo>
                      <a:pt x="133" y="39"/>
                    </a:lnTo>
                    <a:lnTo>
                      <a:pt x="127" y="32"/>
                    </a:lnTo>
                    <a:lnTo>
                      <a:pt x="122" y="25"/>
                    </a:lnTo>
                    <a:lnTo>
                      <a:pt x="117" y="17"/>
                    </a:lnTo>
                    <a:lnTo>
                      <a:pt x="45" y="8"/>
                    </a:lnTo>
                    <a:lnTo>
                      <a:pt x="49" y="13"/>
                    </a:lnTo>
                    <a:lnTo>
                      <a:pt x="51" y="17"/>
                    </a:lnTo>
                    <a:lnTo>
                      <a:pt x="52" y="21"/>
                    </a:lnTo>
                    <a:lnTo>
                      <a:pt x="52" y="24"/>
                    </a:lnTo>
                    <a:lnTo>
                      <a:pt x="46" y="21"/>
                    </a:lnTo>
                    <a:lnTo>
                      <a:pt x="42" y="16"/>
                    </a:lnTo>
                    <a:lnTo>
                      <a:pt x="36" y="10"/>
                    </a:lnTo>
                    <a:lnTo>
                      <a:pt x="3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1909080" y="360360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9" y="2"/>
                    </a:moveTo>
                    <a:lnTo>
                      <a:pt x="29" y="4"/>
                    </a:lnTo>
                    <a:lnTo>
                      <a:pt x="29" y="6"/>
                    </a:lnTo>
                    <a:lnTo>
                      <a:pt x="30" y="8"/>
                    </a:lnTo>
                    <a:lnTo>
                      <a:pt x="32" y="10"/>
                    </a:lnTo>
                    <a:lnTo>
                      <a:pt x="28" y="11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3" y="7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1946160" y="359712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18" y="2"/>
                    </a:moveTo>
                    <a:lnTo>
                      <a:pt x="21" y="8"/>
                    </a:lnTo>
                    <a:lnTo>
                      <a:pt x="24" y="13"/>
                    </a:lnTo>
                    <a:lnTo>
                      <a:pt x="26" y="18"/>
                    </a:lnTo>
                    <a:lnTo>
                      <a:pt x="29" y="24"/>
                    </a:lnTo>
                    <a:lnTo>
                      <a:pt x="23" y="18"/>
                    </a:lnTo>
                    <a:lnTo>
                      <a:pt x="16" y="11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079000" y="3579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2079000" y="35766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33" y="31"/>
                    </a:moveTo>
                    <a:lnTo>
                      <a:pt x="33" y="27"/>
                    </a:lnTo>
                    <a:lnTo>
                      <a:pt x="31" y="21"/>
                    </a:lnTo>
                    <a:lnTo>
                      <a:pt x="27" y="16"/>
                    </a:lnTo>
                    <a:lnTo>
                      <a:pt x="24" y="10"/>
                    </a:lnTo>
                    <a:lnTo>
                      <a:pt x="21" y="3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13"/>
                    </a:lnTo>
                    <a:lnTo>
                      <a:pt x="9" y="19"/>
                    </a:lnTo>
                    <a:lnTo>
                      <a:pt x="11" y="23"/>
                    </a:lnTo>
                    <a:lnTo>
                      <a:pt x="14" y="27"/>
                    </a:lnTo>
                    <a:lnTo>
                      <a:pt x="33" y="31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1948680" y="3608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1909080" y="359100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0" y="0"/>
                    </a:moveTo>
                    <a:lnTo>
                      <a:pt x="0" y="0"/>
                    </a:lnTo>
                    <a:lnTo>
                      <a:pt x="6" y="4"/>
                    </a:lnTo>
                    <a:lnTo>
                      <a:pt x="11" y="8"/>
                    </a:lnTo>
                    <a:lnTo>
                      <a:pt x="17" y="12"/>
                    </a:lnTo>
                    <a:lnTo>
                      <a:pt x="22" y="17"/>
                    </a:lnTo>
                    <a:lnTo>
                      <a:pt x="28" y="20"/>
                    </a:lnTo>
                    <a:lnTo>
                      <a:pt x="32" y="24"/>
                    </a:lnTo>
                    <a:lnTo>
                      <a:pt x="37" y="27"/>
                    </a:lnTo>
                    <a:lnTo>
                      <a:pt x="40" y="31"/>
                    </a:lnTo>
                    <a:lnTo>
                      <a:pt x="42" y="31"/>
                    </a:lnTo>
                    <a:lnTo>
                      <a:pt x="45" y="30"/>
                    </a:lnTo>
                    <a:lnTo>
                      <a:pt x="47" y="27"/>
                    </a:lnTo>
                    <a:lnTo>
                      <a:pt x="51" y="26"/>
                    </a:lnTo>
                    <a:lnTo>
                      <a:pt x="48" y="20"/>
                    </a:lnTo>
                    <a:lnTo>
                      <a:pt x="47" y="15"/>
                    </a:lnTo>
                    <a:lnTo>
                      <a:pt x="44" y="10"/>
                    </a:lnTo>
                    <a:lnTo>
                      <a:pt x="4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881000" y="35971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4"/>
                    </a:moveTo>
                    <a:lnTo>
                      <a:pt x="18" y="4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1948680" y="3591000"/>
                <a:ext cx="1800" cy="1440"/>
              </a:xfrm>
              <a:prstGeom prst="rect">
                <a:avLst/>
              </a:pr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1950840" y="3575160"/>
                <a:ext cx="95040" cy="36360"/>
              </a:xfrm>
              <a:custGeom>
                <a:avLst/>
                <a:gdLst/>
                <a:ahLst/>
                <a:rect l="l" t="t" r="r" b="b"/>
                <a:pathLst>
                  <a:path w="121" h="46">
                    <a:moveTo>
                      <a:pt x="121" y="46"/>
                    </a:moveTo>
                    <a:lnTo>
                      <a:pt x="121" y="43"/>
                    </a:lnTo>
                    <a:lnTo>
                      <a:pt x="117" y="37"/>
                    </a:lnTo>
                    <a:lnTo>
                      <a:pt x="113" y="31"/>
                    </a:lnTo>
                    <a:lnTo>
                      <a:pt x="108" y="24"/>
                    </a:lnTo>
                    <a:lnTo>
                      <a:pt x="105" y="17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6" y="20"/>
                    </a:lnTo>
                    <a:lnTo>
                      <a:pt x="7" y="24"/>
                    </a:lnTo>
                    <a:lnTo>
                      <a:pt x="9" y="29"/>
                    </a:lnTo>
                    <a:lnTo>
                      <a:pt x="83" y="38"/>
                    </a:lnTo>
                    <a:lnTo>
                      <a:pt x="79" y="32"/>
                    </a:lnTo>
                    <a:lnTo>
                      <a:pt x="76" y="28"/>
                    </a:lnTo>
                    <a:lnTo>
                      <a:pt x="72" y="22"/>
                    </a:lnTo>
                    <a:lnTo>
                      <a:pt x="69" y="17"/>
                    </a:lnTo>
                    <a:lnTo>
                      <a:pt x="75" y="18"/>
                    </a:lnTo>
                    <a:lnTo>
                      <a:pt x="82" y="21"/>
                    </a:lnTo>
                    <a:lnTo>
                      <a:pt x="87" y="24"/>
                    </a:lnTo>
                    <a:lnTo>
                      <a:pt x="93" y="28"/>
                    </a:lnTo>
                    <a:lnTo>
                      <a:pt x="99" y="31"/>
                    </a:lnTo>
                    <a:lnTo>
                      <a:pt x="106" y="35"/>
                    </a:lnTo>
                    <a:lnTo>
                      <a:pt x="110" y="39"/>
                    </a:lnTo>
                    <a:lnTo>
                      <a:pt x="116" y="43"/>
                    </a:lnTo>
                    <a:lnTo>
                      <a:pt x="121" y="46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2043000" y="3594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2045520" y="3575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6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2045520" y="357012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51" y="34"/>
                    </a:moveTo>
                    <a:lnTo>
                      <a:pt x="51" y="31"/>
                    </a:lnTo>
                    <a:lnTo>
                      <a:pt x="44" y="25"/>
                    </a:lnTo>
                    <a:lnTo>
                      <a:pt x="38" y="19"/>
                    </a:lnTo>
                    <a:lnTo>
                      <a:pt x="32" y="12"/>
                    </a:lnTo>
                    <a:lnTo>
                      <a:pt x="27" y="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3"/>
                    </a:lnTo>
                    <a:lnTo>
                      <a:pt x="9" y="17"/>
                    </a:lnTo>
                    <a:lnTo>
                      <a:pt x="13" y="23"/>
                    </a:lnTo>
                    <a:lnTo>
                      <a:pt x="15" y="29"/>
                    </a:lnTo>
                    <a:lnTo>
                      <a:pt x="51" y="34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083680" y="3587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085840" y="35701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2085480" y="356724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25" y="29"/>
                    </a:moveTo>
                    <a:lnTo>
                      <a:pt x="25" y="24"/>
                    </a:lnTo>
                    <a:lnTo>
                      <a:pt x="22" y="18"/>
                    </a:lnTo>
                    <a:lnTo>
                      <a:pt x="18" y="11"/>
                    </a:lnTo>
                    <a:lnTo>
                      <a:pt x="15" y="6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7" y="26"/>
                    </a:ln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1955160" y="35924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0" y="9"/>
                    </a:lnTo>
                    <a:lnTo>
                      <a:pt x="7" y="9"/>
                    </a:lnTo>
                    <a:lnTo>
                      <a:pt x="6" y="7"/>
                    </a:lnTo>
                    <a:lnTo>
                      <a:pt x="3" y="6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1911240" y="3578400"/>
                <a:ext cx="48960" cy="26640"/>
              </a:xfrm>
              <a:custGeom>
                <a:avLst/>
                <a:gdLst/>
                <a:ahLst/>
                <a:rect l="l" t="t" r="r" b="b"/>
                <a:pathLst>
                  <a:path w="62" h="33">
                    <a:moveTo>
                      <a:pt x="0" y="0"/>
                    </a:moveTo>
                    <a:lnTo>
                      <a:pt x="0" y="4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7" y="24"/>
                    </a:lnTo>
                    <a:lnTo>
                      <a:pt x="33" y="31"/>
                    </a:lnTo>
                    <a:lnTo>
                      <a:pt x="62" y="33"/>
                    </a:lnTo>
                    <a:lnTo>
                      <a:pt x="59" y="26"/>
                    </a:lnTo>
                    <a:lnTo>
                      <a:pt x="54" y="19"/>
                    </a:lnTo>
                    <a:lnTo>
                      <a:pt x="50" y="13"/>
                    </a:lnTo>
                    <a:lnTo>
                      <a:pt x="45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1872720" y="35877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5" y="7"/>
                    </a:moveTo>
                    <a:lnTo>
                      <a:pt x="46" y="7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2" y="13"/>
                    </a:lnTo>
                    <a:lnTo>
                      <a:pt x="38" y="16"/>
                    </a:lnTo>
                    <a:lnTo>
                      <a:pt x="33" y="20"/>
                    </a:lnTo>
                    <a:lnTo>
                      <a:pt x="28" y="23"/>
                    </a:lnTo>
                    <a:lnTo>
                      <a:pt x="20" y="17"/>
                    </a:lnTo>
                    <a:lnTo>
                      <a:pt x="13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1959840" y="35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1959840" y="3564000"/>
                <a:ext cx="95400" cy="36360"/>
              </a:xfrm>
              <a:custGeom>
                <a:avLst/>
                <a:gdLst/>
                <a:ahLst/>
                <a:rect l="l" t="t" r="r" b="b"/>
                <a:pathLst>
                  <a:path w="120" h="45">
                    <a:moveTo>
                      <a:pt x="120" y="45"/>
                    </a:moveTo>
                    <a:lnTo>
                      <a:pt x="120" y="36"/>
                    </a:lnTo>
                    <a:lnTo>
                      <a:pt x="118" y="31"/>
                    </a:lnTo>
                    <a:lnTo>
                      <a:pt x="115" y="27"/>
                    </a:lnTo>
                    <a:lnTo>
                      <a:pt x="112" y="22"/>
                    </a:lnTo>
                    <a:lnTo>
                      <a:pt x="109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8"/>
                    </a:lnTo>
                    <a:lnTo>
                      <a:pt x="9" y="16"/>
                    </a:lnTo>
                    <a:lnTo>
                      <a:pt x="13" y="23"/>
                    </a:lnTo>
                    <a:lnTo>
                      <a:pt x="15" y="29"/>
                    </a:lnTo>
                    <a:lnTo>
                      <a:pt x="87" y="38"/>
                    </a:lnTo>
                    <a:lnTo>
                      <a:pt x="87" y="36"/>
                    </a:lnTo>
                    <a:lnTo>
                      <a:pt x="85" y="35"/>
                    </a:lnTo>
                    <a:lnTo>
                      <a:pt x="83" y="32"/>
                    </a:lnTo>
                    <a:lnTo>
                      <a:pt x="82" y="31"/>
                    </a:lnTo>
                    <a:lnTo>
                      <a:pt x="89" y="32"/>
                    </a:lnTo>
                    <a:lnTo>
                      <a:pt x="96" y="35"/>
                    </a:lnTo>
                    <a:lnTo>
                      <a:pt x="103" y="38"/>
                    </a:lnTo>
                    <a:lnTo>
                      <a:pt x="109" y="43"/>
                    </a:lnTo>
                    <a:lnTo>
                      <a:pt x="120" y="45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2053440" y="3584520"/>
                <a:ext cx="1800" cy="180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2053440" y="3564000"/>
                <a:ext cx="1800" cy="144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2055240" y="3560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31"/>
                    </a:moveTo>
                    <a:lnTo>
                      <a:pt x="42" y="31"/>
                    </a:lnTo>
                    <a:lnTo>
                      <a:pt x="36" y="23"/>
                    </a:lnTo>
                    <a:lnTo>
                      <a:pt x="31" y="16"/>
                    </a:lnTo>
                    <a:lnTo>
                      <a:pt x="25" y="9"/>
                    </a:lnTo>
                    <a:lnTo>
                      <a:pt x="19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2088360" y="3578400"/>
                <a:ext cx="1800" cy="144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2088360" y="3560760"/>
                <a:ext cx="1800" cy="144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2090520" y="356544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6"/>
                    </a:moveTo>
                    <a:lnTo>
                      <a:pt x="19" y="16"/>
                    </a:lnTo>
                    <a:lnTo>
                      <a:pt x="16" y="12"/>
                    </a:lnTo>
                    <a:lnTo>
                      <a:pt x="14" y="8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6" y="3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19" y="16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1870920" y="3592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1847160" y="358308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1" h="8">
                    <a:moveTo>
                      <a:pt x="0" y="0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16" y="7"/>
                    </a:lnTo>
                    <a:lnTo>
                      <a:pt x="24" y="8"/>
                    </a:lnTo>
                    <a:lnTo>
                      <a:pt x="31" y="8"/>
                    </a:lnTo>
                    <a:lnTo>
                      <a:pt x="31" y="7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1873080" y="3583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873080" y="357516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60" y="24"/>
                    </a:moveTo>
                    <a:lnTo>
                      <a:pt x="60" y="22"/>
                    </a:lnTo>
                    <a:lnTo>
                      <a:pt x="56" y="20"/>
                    </a:lnTo>
                    <a:lnTo>
                      <a:pt x="52" y="15"/>
                    </a:lnTo>
                    <a:lnTo>
                      <a:pt x="46" y="10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" y="10"/>
                    </a:lnTo>
                    <a:lnTo>
                      <a:pt x="15" y="17"/>
                    </a:lnTo>
                    <a:lnTo>
                      <a:pt x="22" y="23"/>
                    </a:lnTo>
                    <a:lnTo>
                      <a:pt x="29" y="29"/>
                    </a:lnTo>
                    <a:lnTo>
                      <a:pt x="48" y="33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27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647720" y="3318120"/>
              <a:ext cx="1085760" cy="306360"/>
              <a:chOff x="1647720" y="3318120"/>
              <a:chExt cx="1085760" cy="306360"/>
            </a:xfrm>
          </p:grpSpPr>
          <p:sp>
            <p:nvSpPr>
              <p:cNvPr id="495" name=""/>
              <p:cNvSpPr/>
              <p:nvPr/>
            </p:nvSpPr>
            <p:spPr>
              <a:xfrm flipH="1">
                <a:off x="1917000" y="3592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1920600" y="3575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1920600" y="356760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61" h="33">
                    <a:moveTo>
                      <a:pt x="61" y="33"/>
                    </a:moveTo>
                    <a:lnTo>
                      <a:pt x="61" y="31"/>
                    </a:lnTo>
                    <a:lnTo>
                      <a:pt x="56" y="24"/>
                    </a:lnTo>
                    <a:lnTo>
                      <a:pt x="51" y="17"/>
                    </a:lnTo>
                    <a:lnTo>
                      <a:pt x="46" y="11"/>
                    </a:lnTo>
                    <a:lnTo>
                      <a:pt x="40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2"/>
                    </a:lnTo>
                    <a:lnTo>
                      <a:pt x="10" y="17"/>
                    </a:lnTo>
                    <a:lnTo>
                      <a:pt x="16" y="23"/>
                    </a:lnTo>
                    <a:lnTo>
                      <a:pt x="23" y="29"/>
                    </a:lnTo>
                    <a:lnTo>
                      <a:pt x="61" y="33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1963080" y="3576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0" y="15"/>
                    </a:lnTo>
                    <a:lnTo>
                      <a:pt x="7" y="15"/>
                    </a:lnTo>
                    <a:lnTo>
                      <a:pt x="6" y="12"/>
                    </a:lnTo>
                    <a:lnTo>
                      <a:pt x="3" y="7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2096280" y="35658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1968120" y="3565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9"/>
                    </a:moveTo>
                    <a:lnTo>
                      <a:pt x="11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7" y="6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1968120" y="3553200"/>
                <a:ext cx="93600" cy="36360"/>
              </a:xfrm>
              <a:custGeom>
                <a:avLst/>
                <a:gdLst/>
                <a:ahLst/>
                <a:rect l="l" t="t" r="r" b="b"/>
                <a:pathLst>
                  <a:path w="118" h="46">
                    <a:moveTo>
                      <a:pt x="118" y="46"/>
                    </a:moveTo>
                    <a:lnTo>
                      <a:pt x="118" y="31"/>
                    </a:lnTo>
                    <a:lnTo>
                      <a:pt x="114" y="28"/>
                    </a:lnTo>
                    <a:lnTo>
                      <a:pt x="111" y="24"/>
                    </a:lnTo>
                    <a:lnTo>
                      <a:pt x="110" y="21"/>
                    </a:lnTo>
                    <a:lnTo>
                      <a:pt x="107" y="18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8" y="16"/>
                    </a:lnTo>
                    <a:lnTo>
                      <a:pt x="12" y="23"/>
                    </a:lnTo>
                    <a:lnTo>
                      <a:pt x="15" y="29"/>
                    </a:lnTo>
                    <a:lnTo>
                      <a:pt x="118" y="46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2064960" y="354852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38" h="31">
                    <a:moveTo>
                      <a:pt x="0" y="0"/>
                    </a:moveTo>
                    <a:lnTo>
                      <a:pt x="3" y="5"/>
                    </a:lnTo>
                    <a:lnTo>
                      <a:pt x="7" y="12"/>
                    </a:lnTo>
                    <a:lnTo>
                      <a:pt x="8" y="19"/>
                    </a:lnTo>
                    <a:lnTo>
                      <a:pt x="9" y="26"/>
                    </a:lnTo>
                    <a:lnTo>
                      <a:pt x="38" y="31"/>
                    </a:lnTo>
                    <a:lnTo>
                      <a:pt x="33" y="24"/>
                    </a:lnTo>
                    <a:lnTo>
                      <a:pt x="27" y="17"/>
                    </a:lnTo>
                    <a:lnTo>
                      <a:pt x="23" y="10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1874160" y="3584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0" y="7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1847520" y="3570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0"/>
                    </a:moveTo>
                    <a:lnTo>
                      <a:pt x="0" y="7"/>
                    </a:lnTo>
                    <a:lnTo>
                      <a:pt x="6" y="12"/>
                    </a:lnTo>
                    <a:lnTo>
                      <a:pt x="12" y="15"/>
                    </a:lnTo>
                    <a:lnTo>
                      <a:pt x="17" y="19"/>
                    </a:lnTo>
                    <a:lnTo>
                      <a:pt x="23" y="21"/>
                    </a:lnTo>
                    <a:lnTo>
                      <a:pt x="29" y="23"/>
                    </a:lnTo>
                    <a:lnTo>
                      <a:pt x="35" y="24"/>
                    </a:lnTo>
                    <a:lnTo>
                      <a:pt x="39" y="24"/>
                    </a:lnTo>
                    <a:lnTo>
                      <a:pt x="45" y="24"/>
                    </a:lnTo>
                    <a:lnTo>
                      <a:pt x="41" y="19"/>
                    </a:lnTo>
                    <a:lnTo>
                      <a:pt x="38" y="14"/>
                    </a:lnTo>
                    <a:lnTo>
                      <a:pt x="33" y="9"/>
                    </a:lnTo>
                    <a:lnTo>
                      <a:pt x="2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1815840" y="357876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2"/>
                    </a:moveTo>
                    <a:lnTo>
                      <a:pt x="17" y="2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4" y="8"/>
                    </a:lnTo>
                    <a:lnTo>
                      <a:pt x="10" y="5"/>
                    </a:lnTo>
                    <a:lnTo>
                      <a:pt x="7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1884240" y="35704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7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4"/>
                    </a:lnTo>
                    <a:lnTo>
                      <a:pt x="8" y="5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1883880" y="3564360"/>
                <a:ext cx="45720" cy="270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60" y="34"/>
                    </a:moveTo>
                    <a:lnTo>
                      <a:pt x="60" y="27"/>
                    </a:lnTo>
                    <a:lnTo>
                      <a:pt x="55" y="21"/>
                    </a:lnTo>
                    <a:lnTo>
                      <a:pt x="50" y="15"/>
                    </a:lnTo>
                    <a:lnTo>
                      <a:pt x="44" y="11"/>
                    </a:lnTo>
                    <a:lnTo>
                      <a:pt x="38" y="5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7" y="9"/>
                    </a:lnTo>
                    <a:lnTo>
                      <a:pt x="14" y="16"/>
                    </a:lnTo>
                    <a:lnTo>
                      <a:pt x="21" y="23"/>
                    </a:lnTo>
                    <a:lnTo>
                      <a:pt x="27" y="29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1924920" y="3578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4"/>
                    </a:lnTo>
                    <a:lnTo>
                      <a:pt x="7" y="8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074320" y="35373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0" y="0"/>
                    </a:moveTo>
                    <a:lnTo>
                      <a:pt x="5" y="7"/>
                    </a:lnTo>
                    <a:lnTo>
                      <a:pt x="10" y="14"/>
                    </a:lnTo>
                    <a:lnTo>
                      <a:pt x="13" y="21"/>
                    </a:lnTo>
                    <a:lnTo>
                      <a:pt x="17" y="29"/>
                    </a:lnTo>
                    <a:lnTo>
                      <a:pt x="36" y="31"/>
                    </a:lnTo>
                    <a:lnTo>
                      <a:pt x="30" y="23"/>
                    </a:lnTo>
                    <a:lnTo>
                      <a:pt x="26" y="16"/>
                    </a:lnTo>
                    <a:lnTo>
                      <a:pt x="20" y="9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1929960" y="35625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1929960" y="3543480"/>
                <a:ext cx="136800" cy="39960"/>
              </a:xfrm>
              <a:custGeom>
                <a:avLst/>
                <a:gdLst/>
                <a:ahLst/>
                <a:rect l="l" t="t" r="r" b="b"/>
                <a:pathLst>
                  <a:path w="172" h="49">
                    <a:moveTo>
                      <a:pt x="172" y="49"/>
                    </a:moveTo>
                    <a:lnTo>
                      <a:pt x="172" y="45"/>
                    </a:lnTo>
                    <a:lnTo>
                      <a:pt x="166" y="39"/>
                    </a:lnTo>
                    <a:lnTo>
                      <a:pt x="162" y="34"/>
                    </a:lnTo>
                    <a:lnTo>
                      <a:pt x="156" y="29"/>
                    </a:lnTo>
                    <a:lnTo>
                      <a:pt x="150" y="22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7" y="14"/>
                    </a:lnTo>
                    <a:lnTo>
                      <a:pt x="11" y="20"/>
                    </a:lnTo>
                    <a:lnTo>
                      <a:pt x="14" y="26"/>
                    </a:lnTo>
                    <a:lnTo>
                      <a:pt x="123" y="42"/>
                    </a:lnTo>
                    <a:lnTo>
                      <a:pt x="118" y="37"/>
                    </a:lnTo>
                    <a:lnTo>
                      <a:pt x="114" y="31"/>
                    </a:lnTo>
                    <a:lnTo>
                      <a:pt x="111" y="25"/>
                    </a:lnTo>
                    <a:lnTo>
                      <a:pt x="108" y="19"/>
                    </a:lnTo>
                    <a:lnTo>
                      <a:pt x="111" y="25"/>
                    </a:lnTo>
                    <a:lnTo>
                      <a:pt x="116" y="31"/>
                    </a:lnTo>
                    <a:lnTo>
                      <a:pt x="123" y="38"/>
                    </a:lnTo>
                    <a:lnTo>
                      <a:pt x="129" y="45"/>
                    </a:lnTo>
                    <a:lnTo>
                      <a:pt x="172" y="49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1847160" y="3584880"/>
                <a:ext cx="1800" cy="1800"/>
              </a:xfrm>
              <a:prstGeom prst="rect">
                <a:avLst/>
              </a:pr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1814040" y="35658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9" y="6"/>
                    </a:lnTo>
                    <a:lnTo>
                      <a:pt x="13" y="9"/>
                    </a:lnTo>
                    <a:lnTo>
                      <a:pt x="19" y="12"/>
                    </a:lnTo>
                    <a:lnTo>
                      <a:pt x="24" y="14"/>
                    </a:lnTo>
                    <a:lnTo>
                      <a:pt x="28" y="18"/>
                    </a:lnTo>
                    <a:lnTo>
                      <a:pt x="33" y="20"/>
                    </a:lnTo>
                    <a:lnTo>
                      <a:pt x="38" y="24"/>
                    </a:lnTo>
                    <a:lnTo>
                      <a:pt x="40" y="21"/>
                    </a:lnTo>
                    <a:lnTo>
                      <a:pt x="41" y="19"/>
                    </a:lnTo>
                    <a:lnTo>
                      <a:pt x="43" y="17"/>
                    </a:lnTo>
                    <a:lnTo>
                      <a:pt x="45" y="13"/>
                    </a:lnTo>
                    <a:lnTo>
                      <a:pt x="42" y="11"/>
                    </a:lnTo>
                    <a:lnTo>
                      <a:pt x="40" y="9"/>
                    </a:lnTo>
                    <a:lnTo>
                      <a:pt x="38" y="6"/>
                    </a:lnTo>
                    <a:lnTo>
                      <a:pt x="3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1783800" y="357228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2" y="5"/>
                    </a:moveTo>
                    <a:lnTo>
                      <a:pt x="24" y="6"/>
                    </a:lnTo>
                    <a:lnTo>
                      <a:pt x="25" y="8"/>
                    </a:lnTo>
                    <a:lnTo>
                      <a:pt x="27" y="10"/>
                    </a:lnTo>
                    <a:lnTo>
                      <a:pt x="29" y="12"/>
                    </a:lnTo>
                    <a:lnTo>
                      <a:pt x="23" y="11"/>
                    </a:lnTo>
                    <a:lnTo>
                      <a:pt x="16" y="8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1847160" y="3565800"/>
                <a:ext cx="1800" cy="1800"/>
              </a:xfrm>
              <a:prstGeom prst="rect">
                <a:avLst/>
              </a:pr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1849320" y="355968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60" y="34"/>
                    </a:moveTo>
                    <a:lnTo>
                      <a:pt x="60" y="34"/>
                    </a:lnTo>
                    <a:lnTo>
                      <a:pt x="53" y="28"/>
                    </a:lnTo>
                    <a:lnTo>
                      <a:pt x="46" y="21"/>
                    </a:lnTo>
                    <a:lnTo>
                      <a:pt x="40" y="13"/>
                    </a:lnTo>
                    <a:lnTo>
                      <a:pt x="35" y="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15" y="20"/>
                    </a:lnTo>
                    <a:lnTo>
                      <a:pt x="22" y="24"/>
                    </a:lnTo>
                    <a:lnTo>
                      <a:pt x="29" y="30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1886760" y="357228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0"/>
                    </a:moveTo>
                    <a:lnTo>
                      <a:pt x="0" y="10"/>
                    </a:lnTo>
                    <a:lnTo>
                      <a:pt x="12" y="10"/>
                    </a:lnTo>
                    <a:lnTo>
                      <a:pt x="9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1896840" y="35564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9"/>
                    </a:moveTo>
                    <a:lnTo>
                      <a:pt x="12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1896480" y="3549960"/>
                <a:ext cx="44280" cy="28800"/>
              </a:xfrm>
              <a:custGeom>
                <a:avLst/>
                <a:gdLst/>
                <a:ahLst/>
                <a:rect l="l" t="t" r="r" b="b"/>
                <a:pathLst>
                  <a:path w="57" h="36">
                    <a:moveTo>
                      <a:pt x="57" y="36"/>
                    </a:moveTo>
                    <a:lnTo>
                      <a:pt x="57" y="26"/>
                    </a:lnTo>
                    <a:lnTo>
                      <a:pt x="53" y="22"/>
                    </a:lnTo>
                    <a:lnTo>
                      <a:pt x="49" y="16"/>
                    </a:lnTo>
                    <a:lnTo>
                      <a:pt x="44" y="11"/>
                    </a:lnTo>
                    <a:lnTo>
                      <a:pt x="41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7" y="14"/>
                    </a:lnTo>
                    <a:lnTo>
                      <a:pt x="13" y="18"/>
                    </a:lnTo>
                    <a:lnTo>
                      <a:pt x="19" y="24"/>
                    </a:lnTo>
                    <a:lnTo>
                      <a:pt x="26" y="31"/>
                    </a:lnTo>
                    <a:lnTo>
                      <a:pt x="57" y="36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1936080" y="3565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2082600" y="35262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2" y="8"/>
                    </a:lnTo>
                    <a:lnTo>
                      <a:pt x="6" y="15"/>
                    </a:lnTo>
                    <a:lnTo>
                      <a:pt x="10" y="22"/>
                    </a:lnTo>
                    <a:lnTo>
                      <a:pt x="14" y="29"/>
                    </a:lnTo>
                    <a:lnTo>
                      <a:pt x="31" y="31"/>
                    </a:lnTo>
                    <a:lnTo>
                      <a:pt x="25" y="24"/>
                    </a:lnTo>
                    <a:lnTo>
                      <a:pt x="19" y="17"/>
                    </a:lnTo>
                    <a:lnTo>
                      <a:pt x="15" y="10"/>
                    </a:lnTo>
                    <a:lnTo>
                      <a:pt x="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1941120" y="3549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8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6" y="6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1940760" y="3532680"/>
                <a:ext cx="133560" cy="39600"/>
              </a:xfrm>
              <a:custGeom>
                <a:avLst/>
                <a:gdLst/>
                <a:ahLst/>
                <a:rect l="l" t="t" r="r" b="b"/>
                <a:pathLst>
                  <a:path w="167" h="49">
                    <a:moveTo>
                      <a:pt x="167" y="49"/>
                    </a:moveTo>
                    <a:lnTo>
                      <a:pt x="167" y="43"/>
                    </a:lnTo>
                    <a:lnTo>
                      <a:pt x="161" y="39"/>
                    </a:lnTo>
                    <a:lnTo>
                      <a:pt x="157" y="33"/>
                    </a:lnTo>
                    <a:lnTo>
                      <a:pt x="152" y="28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38" y="4"/>
                    </a:lnTo>
                    <a:lnTo>
                      <a:pt x="39" y="6"/>
                    </a:lnTo>
                    <a:lnTo>
                      <a:pt x="42" y="8"/>
                    </a:lnTo>
                    <a:lnTo>
                      <a:pt x="43" y="9"/>
                    </a:lnTo>
                    <a:lnTo>
                      <a:pt x="43" y="11"/>
                    </a:lnTo>
                    <a:lnTo>
                      <a:pt x="42" y="14"/>
                    </a:lnTo>
                    <a:lnTo>
                      <a:pt x="39" y="16"/>
                    </a:lnTo>
                    <a:lnTo>
                      <a:pt x="38" y="17"/>
                    </a:lnTo>
                    <a:lnTo>
                      <a:pt x="36" y="18"/>
                    </a:lnTo>
                    <a:lnTo>
                      <a:pt x="32" y="15"/>
                    </a:lnTo>
                    <a:lnTo>
                      <a:pt x="29" y="11"/>
                    </a:lnTo>
                    <a:lnTo>
                      <a:pt x="26" y="7"/>
                    </a:lnTo>
                    <a:lnTo>
                      <a:pt x="21" y="2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9" y="14"/>
                    </a:lnTo>
                    <a:lnTo>
                      <a:pt x="13" y="19"/>
                    </a:lnTo>
                    <a:lnTo>
                      <a:pt x="16" y="25"/>
                    </a:lnTo>
                    <a:lnTo>
                      <a:pt x="123" y="43"/>
                    </a:lnTo>
                    <a:lnTo>
                      <a:pt x="122" y="40"/>
                    </a:lnTo>
                    <a:lnTo>
                      <a:pt x="120" y="38"/>
                    </a:lnTo>
                    <a:lnTo>
                      <a:pt x="119" y="36"/>
                    </a:lnTo>
                    <a:lnTo>
                      <a:pt x="117" y="33"/>
                    </a:lnTo>
                    <a:lnTo>
                      <a:pt x="119" y="36"/>
                    </a:lnTo>
                    <a:lnTo>
                      <a:pt x="120" y="38"/>
                    </a:lnTo>
                    <a:lnTo>
                      <a:pt x="122" y="40"/>
                    </a:lnTo>
                    <a:lnTo>
                      <a:pt x="123" y="43"/>
                    </a:lnTo>
                    <a:lnTo>
                      <a:pt x="167" y="4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1814040" y="3573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1783800" y="356112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0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2" y="12"/>
                    </a:lnTo>
                    <a:lnTo>
                      <a:pt x="18" y="16"/>
                    </a:lnTo>
                    <a:lnTo>
                      <a:pt x="25" y="19"/>
                    </a:lnTo>
                    <a:lnTo>
                      <a:pt x="31" y="21"/>
                    </a:lnTo>
                    <a:lnTo>
                      <a:pt x="37" y="24"/>
                    </a:lnTo>
                    <a:lnTo>
                      <a:pt x="41" y="25"/>
                    </a:lnTo>
                    <a:lnTo>
                      <a:pt x="45" y="25"/>
                    </a:lnTo>
                    <a:lnTo>
                      <a:pt x="40" y="19"/>
                    </a:lnTo>
                    <a:lnTo>
                      <a:pt x="35" y="15"/>
                    </a:lnTo>
                    <a:lnTo>
                      <a:pt x="31" y="9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1818720" y="35596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1818720" y="355320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56" h="36">
                    <a:moveTo>
                      <a:pt x="56" y="36"/>
                    </a:moveTo>
                    <a:lnTo>
                      <a:pt x="56" y="27"/>
                    </a:lnTo>
                    <a:lnTo>
                      <a:pt x="52" y="22"/>
                    </a:lnTo>
                    <a:lnTo>
                      <a:pt x="48" y="16"/>
                    </a:lnTo>
                    <a:lnTo>
                      <a:pt x="43" y="12"/>
                    </a:lnTo>
                    <a:lnTo>
                      <a:pt x="38" y="8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7"/>
                    </a:lnTo>
                    <a:lnTo>
                      <a:pt x="10" y="12"/>
                    </a:lnTo>
                    <a:lnTo>
                      <a:pt x="15" y="15"/>
                    </a:lnTo>
                    <a:lnTo>
                      <a:pt x="20" y="20"/>
                    </a:lnTo>
                    <a:lnTo>
                      <a:pt x="26" y="23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42" y="34"/>
                    </a:lnTo>
                    <a:lnTo>
                      <a:pt x="56" y="36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1861920" y="3570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1863000" y="35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1863360" y="35467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58" y="34"/>
                    </a:moveTo>
                    <a:lnTo>
                      <a:pt x="58" y="29"/>
                    </a:lnTo>
                    <a:lnTo>
                      <a:pt x="54" y="23"/>
                    </a:lnTo>
                    <a:lnTo>
                      <a:pt x="51" y="19"/>
                    </a:lnTo>
                    <a:lnTo>
                      <a:pt x="49" y="13"/>
                    </a:lnTo>
                    <a:lnTo>
                      <a:pt x="47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" y="13"/>
                    </a:lnTo>
                    <a:lnTo>
                      <a:pt x="10" y="19"/>
                    </a:lnTo>
                    <a:lnTo>
                      <a:pt x="16" y="23"/>
                    </a:lnTo>
                    <a:lnTo>
                      <a:pt x="23" y="29"/>
                    </a:lnTo>
                    <a:lnTo>
                      <a:pt x="58" y="34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1900080" y="35596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lnTo>
                      <a:pt x="0" y="10"/>
                    </a:lnTo>
                    <a:lnTo>
                      <a:pt x="11" y="12"/>
                    </a:lnTo>
                    <a:lnTo>
                      <a:pt x="9" y="8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1909080" y="3545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lnTo>
                      <a:pt x="13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1909440" y="3524760"/>
                <a:ext cx="138240" cy="41040"/>
              </a:xfrm>
              <a:custGeom>
                <a:avLst/>
                <a:gdLst/>
                <a:ahLst/>
                <a:rect l="l" t="t" r="r" b="b"/>
                <a:pathLst>
                  <a:path w="174" h="53">
                    <a:moveTo>
                      <a:pt x="174" y="53"/>
                    </a:moveTo>
                    <a:lnTo>
                      <a:pt x="174" y="43"/>
                    </a:lnTo>
                    <a:lnTo>
                      <a:pt x="170" y="38"/>
                    </a:lnTo>
                    <a:lnTo>
                      <a:pt x="167" y="33"/>
                    </a:lnTo>
                    <a:lnTo>
                      <a:pt x="163" y="29"/>
                    </a:lnTo>
                    <a:lnTo>
                      <a:pt x="161" y="26"/>
                    </a:lnTo>
                    <a:lnTo>
                      <a:pt x="42" y="8"/>
                    </a:lnTo>
                    <a:lnTo>
                      <a:pt x="42" y="11"/>
                    </a:lnTo>
                    <a:lnTo>
                      <a:pt x="42" y="13"/>
                    </a:lnTo>
                    <a:lnTo>
                      <a:pt x="43" y="14"/>
                    </a:lnTo>
                    <a:lnTo>
                      <a:pt x="45" y="17"/>
                    </a:lnTo>
                    <a:lnTo>
                      <a:pt x="41" y="14"/>
                    </a:lnTo>
                    <a:lnTo>
                      <a:pt x="38" y="12"/>
                    </a:lnTo>
                    <a:lnTo>
                      <a:pt x="35" y="10"/>
                    </a:lnTo>
                    <a:lnTo>
                      <a:pt x="33" y="8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4" y="13"/>
                    </a:lnTo>
                    <a:lnTo>
                      <a:pt x="6" y="18"/>
                    </a:lnTo>
                    <a:lnTo>
                      <a:pt x="9" y="21"/>
                    </a:lnTo>
                    <a:lnTo>
                      <a:pt x="8" y="23"/>
                    </a:lnTo>
                    <a:lnTo>
                      <a:pt x="6" y="25"/>
                    </a:lnTo>
                    <a:lnTo>
                      <a:pt x="5" y="26"/>
                    </a:lnTo>
                    <a:lnTo>
                      <a:pt x="4" y="28"/>
                    </a:lnTo>
                    <a:lnTo>
                      <a:pt x="125" y="46"/>
                    </a:lnTo>
                    <a:lnTo>
                      <a:pt x="122" y="42"/>
                    </a:lnTo>
                    <a:lnTo>
                      <a:pt x="119" y="38"/>
                    </a:lnTo>
                    <a:lnTo>
                      <a:pt x="117" y="34"/>
                    </a:lnTo>
                    <a:lnTo>
                      <a:pt x="114" y="31"/>
                    </a:lnTo>
                    <a:lnTo>
                      <a:pt x="115" y="31"/>
                    </a:lnTo>
                    <a:lnTo>
                      <a:pt x="116" y="29"/>
                    </a:lnTo>
                    <a:lnTo>
                      <a:pt x="117" y="27"/>
                    </a:lnTo>
                    <a:lnTo>
                      <a:pt x="118" y="26"/>
                    </a:lnTo>
                    <a:lnTo>
                      <a:pt x="124" y="32"/>
                    </a:lnTo>
                    <a:lnTo>
                      <a:pt x="131" y="36"/>
                    </a:lnTo>
                    <a:lnTo>
                      <a:pt x="137" y="42"/>
                    </a:lnTo>
                    <a:lnTo>
                      <a:pt x="142" y="48"/>
                    </a:lnTo>
                    <a:lnTo>
                      <a:pt x="174" y="5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2045520" y="3543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2091600" y="351684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0"/>
                    </a:moveTo>
                    <a:lnTo>
                      <a:pt x="3" y="7"/>
                    </a:lnTo>
                    <a:lnTo>
                      <a:pt x="4" y="14"/>
                    </a:lnTo>
                    <a:lnTo>
                      <a:pt x="6" y="21"/>
                    </a:lnTo>
                    <a:lnTo>
                      <a:pt x="9" y="27"/>
                    </a:lnTo>
                    <a:lnTo>
                      <a:pt x="23" y="29"/>
                    </a:lnTo>
                    <a:lnTo>
                      <a:pt x="20" y="22"/>
                    </a:lnTo>
                    <a:lnTo>
                      <a:pt x="15" y="14"/>
                    </a:lnTo>
                    <a:lnTo>
                      <a:pt x="9" y="6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047680" y="3524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2047680" y="3519720"/>
                <a:ext cx="31680" cy="255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41" y="31"/>
                    </a:moveTo>
                    <a:lnTo>
                      <a:pt x="41" y="29"/>
                    </a:lnTo>
                    <a:lnTo>
                      <a:pt x="34" y="23"/>
                    </a:lnTo>
                    <a:lnTo>
                      <a:pt x="27" y="17"/>
                    </a:lnTo>
                    <a:lnTo>
                      <a:pt x="22" y="10"/>
                    </a:lnTo>
                    <a:lnTo>
                      <a:pt x="16" y="2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7" y="15"/>
                    </a:lnTo>
                    <a:lnTo>
                      <a:pt x="12" y="22"/>
                    </a:lnTo>
                    <a:lnTo>
                      <a:pt x="16" y="29"/>
                    </a:lnTo>
                    <a:lnTo>
                      <a:pt x="41" y="31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1820160" y="3561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9"/>
                    </a:lnTo>
                    <a:lnTo>
                      <a:pt x="11" y="11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1788480" y="3546720"/>
                <a:ext cx="41400" cy="28800"/>
              </a:xfrm>
              <a:custGeom>
                <a:avLst/>
                <a:gdLst/>
                <a:ahLst/>
                <a:rect l="l" t="t" r="r" b="b"/>
                <a:pathLst>
                  <a:path w="52" h="36">
                    <a:moveTo>
                      <a:pt x="0" y="0"/>
                    </a:moveTo>
                    <a:lnTo>
                      <a:pt x="0" y="10"/>
                    </a:lnTo>
                    <a:lnTo>
                      <a:pt x="7" y="15"/>
                    </a:lnTo>
                    <a:lnTo>
                      <a:pt x="15" y="22"/>
                    </a:lnTo>
                    <a:lnTo>
                      <a:pt x="23" y="27"/>
                    </a:lnTo>
                    <a:lnTo>
                      <a:pt x="30" y="31"/>
                    </a:lnTo>
                    <a:lnTo>
                      <a:pt x="52" y="36"/>
                    </a:lnTo>
                    <a:lnTo>
                      <a:pt x="46" y="28"/>
                    </a:lnTo>
                    <a:lnTo>
                      <a:pt x="40" y="20"/>
                    </a:lnTo>
                    <a:lnTo>
                      <a:pt x="33" y="13"/>
                    </a:lnTo>
                    <a:lnTo>
                      <a:pt x="2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1742400" y="355644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44" y="7"/>
                    </a:moveTo>
                    <a:lnTo>
                      <a:pt x="41" y="8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1" y="10"/>
                    </a:lnTo>
                    <a:lnTo>
                      <a:pt x="13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1830240" y="3546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1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4"/>
                    </a:lnTo>
                    <a:lnTo>
                      <a:pt x="8" y="6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1829880" y="351360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287" h="69">
                    <a:moveTo>
                      <a:pt x="287" y="69"/>
                    </a:moveTo>
                    <a:lnTo>
                      <a:pt x="287" y="60"/>
                    </a:lnTo>
                    <a:lnTo>
                      <a:pt x="281" y="54"/>
                    </a:lnTo>
                    <a:lnTo>
                      <a:pt x="276" y="49"/>
                    </a:lnTo>
                    <a:lnTo>
                      <a:pt x="273" y="45"/>
                    </a:lnTo>
                    <a:lnTo>
                      <a:pt x="270" y="40"/>
                    </a:lnTo>
                    <a:lnTo>
                      <a:pt x="48" y="7"/>
                    </a:lnTo>
                    <a:lnTo>
                      <a:pt x="51" y="8"/>
                    </a:lnTo>
                    <a:lnTo>
                      <a:pt x="52" y="10"/>
                    </a:lnTo>
                    <a:lnTo>
                      <a:pt x="54" y="11"/>
                    </a:lnTo>
                    <a:lnTo>
                      <a:pt x="55" y="14"/>
                    </a:lnTo>
                    <a:lnTo>
                      <a:pt x="55" y="19"/>
                    </a:lnTo>
                    <a:lnTo>
                      <a:pt x="55" y="24"/>
                    </a:lnTo>
                    <a:lnTo>
                      <a:pt x="56" y="27"/>
                    </a:lnTo>
                    <a:lnTo>
                      <a:pt x="58" y="31"/>
                    </a:lnTo>
                    <a:lnTo>
                      <a:pt x="51" y="25"/>
                    </a:lnTo>
                    <a:lnTo>
                      <a:pt x="45" y="18"/>
                    </a:lnTo>
                    <a:lnTo>
                      <a:pt x="39" y="12"/>
                    </a:lnTo>
                    <a:lnTo>
                      <a:pt x="33" y="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8"/>
                    </a:lnTo>
                    <a:lnTo>
                      <a:pt x="10" y="15"/>
                    </a:lnTo>
                    <a:lnTo>
                      <a:pt x="14" y="22"/>
                    </a:lnTo>
                    <a:lnTo>
                      <a:pt x="17" y="28"/>
                    </a:lnTo>
                    <a:lnTo>
                      <a:pt x="127" y="45"/>
                    </a:lnTo>
                    <a:lnTo>
                      <a:pt x="128" y="43"/>
                    </a:lnTo>
                    <a:lnTo>
                      <a:pt x="129" y="42"/>
                    </a:lnTo>
                    <a:lnTo>
                      <a:pt x="130" y="41"/>
                    </a:lnTo>
                    <a:lnTo>
                      <a:pt x="131" y="40"/>
                    </a:lnTo>
                    <a:lnTo>
                      <a:pt x="134" y="41"/>
                    </a:lnTo>
                    <a:lnTo>
                      <a:pt x="135" y="43"/>
                    </a:lnTo>
                    <a:lnTo>
                      <a:pt x="137" y="45"/>
                    </a:lnTo>
                    <a:lnTo>
                      <a:pt x="138" y="47"/>
                    </a:lnTo>
                    <a:lnTo>
                      <a:pt x="187" y="55"/>
                    </a:lnTo>
                    <a:lnTo>
                      <a:pt x="182" y="49"/>
                    </a:lnTo>
                    <a:lnTo>
                      <a:pt x="177" y="45"/>
                    </a:lnTo>
                    <a:lnTo>
                      <a:pt x="174" y="40"/>
                    </a:lnTo>
                    <a:lnTo>
                      <a:pt x="172" y="38"/>
                    </a:lnTo>
                    <a:lnTo>
                      <a:pt x="176" y="41"/>
                    </a:lnTo>
                    <a:lnTo>
                      <a:pt x="181" y="45"/>
                    </a:lnTo>
                    <a:lnTo>
                      <a:pt x="185" y="49"/>
                    </a:lnTo>
                    <a:lnTo>
                      <a:pt x="191" y="55"/>
                    </a:lnTo>
                    <a:lnTo>
                      <a:pt x="238" y="62"/>
                    </a:lnTo>
                    <a:lnTo>
                      <a:pt x="237" y="58"/>
                    </a:lnTo>
                    <a:lnTo>
                      <a:pt x="235" y="53"/>
                    </a:lnTo>
                    <a:lnTo>
                      <a:pt x="234" y="48"/>
                    </a:lnTo>
                    <a:lnTo>
                      <a:pt x="234" y="45"/>
                    </a:lnTo>
                    <a:lnTo>
                      <a:pt x="241" y="50"/>
                    </a:lnTo>
                    <a:lnTo>
                      <a:pt x="248" y="55"/>
                    </a:lnTo>
                    <a:lnTo>
                      <a:pt x="255" y="61"/>
                    </a:lnTo>
                    <a:lnTo>
                      <a:pt x="263" y="67"/>
                    </a:lnTo>
                    <a:lnTo>
                      <a:pt x="287" y="69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056680" y="3534120"/>
                <a:ext cx="1800" cy="1440"/>
              </a:xfrm>
              <a:prstGeom prst="rect">
                <a:avLst/>
              </a:pr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2098080" y="3513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16"/>
                    </a:moveTo>
                    <a:lnTo>
                      <a:pt x="4" y="12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7" y="8"/>
                    </a:lnTo>
                    <a:lnTo>
                      <a:pt x="11" y="14"/>
                    </a:lnTo>
                    <a:lnTo>
                      <a:pt x="14" y="19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2056680" y="35136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2058480" y="351036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1"/>
                    </a:moveTo>
                    <a:lnTo>
                      <a:pt x="36" y="31"/>
                    </a:lnTo>
                    <a:lnTo>
                      <a:pt x="30" y="23"/>
                    </a:lnTo>
                    <a:lnTo>
                      <a:pt x="24" y="16"/>
                    </a:lnTo>
                    <a:lnTo>
                      <a:pt x="19" y="9"/>
                    </a:lnTo>
                    <a:lnTo>
                      <a:pt x="13" y="2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8" y="14"/>
                    </a:lnTo>
                    <a:lnTo>
                      <a:pt x="12" y="21"/>
                    </a:lnTo>
                    <a:lnTo>
                      <a:pt x="15" y="29"/>
                    </a:lnTo>
                    <a:lnTo>
                      <a:pt x="36" y="31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1798200" y="35564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1728360" y="3542040"/>
                <a:ext cx="74880" cy="25560"/>
              </a:xfrm>
              <a:custGeom>
                <a:avLst/>
                <a:gdLst/>
                <a:ahLst/>
                <a:rect l="l" t="t" r="r" b="b"/>
                <a:pathLst>
                  <a:path w="95" h="34">
                    <a:moveTo>
                      <a:pt x="0" y="0"/>
                    </a:moveTo>
                    <a:lnTo>
                      <a:pt x="0" y="3"/>
                    </a:lnTo>
                    <a:lnTo>
                      <a:pt x="7" y="6"/>
                    </a:lnTo>
                    <a:lnTo>
                      <a:pt x="14" y="10"/>
                    </a:lnTo>
                    <a:lnTo>
                      <a:pt x="22" y="13"/>
                    </a:lnTo>
                    <a:lnTo>
                      <a:pt x="29" y="18"/>
                    </a:lnTo>
                    <a:lnTo>
                      <a:pt x="37" y="21"/>
                    </a:lnTo>
                    <a:lnTo>
                      <a:pt x="45" y="26"/>
                    </a:lnTo>
                    <a:lnTo>
                      <a:pt x="53" y="29"/>
                    </a:lnTo>
                    <a:lnTo>
                      <a:pt x="61" y="34"/>
                    </a:lnTo>
                    <a:lnTo>
                      <a:pt x="71" y="29"/>
                    </a:lnTo>
                    <a:lnTo>
                      <a:pt x="80" y="25"/>
                    </a:lnTo>
                    <a:lnTo>
                      <a:pt x="88" y="20"/>
                    </a:lnTo>
                    <a:lnTo>
                      <a:pt x="9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1802880" y="354204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3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1802880" y="3510360"/>
                <a:ext cx="222120" cy="52200"/>
              </a:xfrm>
              <a:custGeom>
                <a:avLst/>
                <a:gdLst/>
                <a:ahLst/>
                <a:rect l="l" t="t" r="r" b="b"/>
                <a:pathLst>
                  <a:path w="279" h="67">
                    <a:moveTo>
                      <a:pt x="279" y="67"/>
                    </a:moveTo>
                    <a:lnTo>
                      <a:pt x="279" y="60"/>
                    </a:lnTo>
                    <a:lnTo>
                      <a:pt x="273" y="54"/>
                    </a:lnTo>
                    <a:lnTo>
                      <a:pt x="268" y="48"/>
                    </a:lnTo>
                    <a:lnTo>
                      <a:pt x="263" y="44"/>
                    </a:lnTo>
                    <a:lnTo>
                      <a:pt x="260" y="38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8"/>
                    </a:lnTo>
                    <a:lnTo>
                      <a:pt x="7" y="12"/>
                    </a:lnTo>
                    <a:lnTo>
                      <a:pt x="11" y="15"/>
                    </a:lnTo>
                    <a:lnTo>
                      <a:pt x="14" y="19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4"/>
                    </a:lnTo>
                    <a:lnTo>
                      <a:pt x="14" y="27"/>
                    </a:lnTo>
                    <a:lnTo>
                      <a:pt x="133" y="45"/>
                    </a:lnTo>
                    <a:lnTo>
                      <a:pt x="132" y="44"/>
                    </a:lnTo>
                    <a:lnTo>
                      <a:pt x="131" y="43"/>
                    </a:lnTo>
                    <a:lnTo>
                      <a:pt x="131" y="43"/>
                    </a:lnTo>
                    <a:lnTo>
                      <a:pt x="131" y="43"/>
                    </a:lnTo>
                    <a:lnTo>
                      <a:pt x="131" y="43"/>
                    </a:lnTo>
                    <a:lnTo>
                      <a:pt x="132" y="43"/>
                    </a:lnTo>
                    <a:lnTo>
                      <a:pt x="133" y="44"/>
                    </a:lnTo>
                    <a:lnTo>
                      <a:pt x="133" y="45"/>
                    </a:lnTo>
                    <a:lnTo>
                      <a:pt x="193" y="54"/>
                    </a:lnTo>
                    <a:lnTo>
                      <a:pt x="193" y="53"/>
                    </a:lnTo>
                    <a:lnTo>
                      <a:pt x="193" y="51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95" y="50"/>
                    </a:lnTo>
                    <a:lnTo>
                      <a:pt x="196" y="51"/>
                    </a:lnTo>
                    <a:lnTo>
                      <a:pt x="199" y="53"/>
                    </a:lnTo>
                    <a:lnTo>
                      <a:pt x="200" y="54"/>
                    </a:lnTo>
                    <a:lnTo>
                      <a:pt x="242" y="62"/>
                    </a:lnTo>
                    <a:lnTo>
                      <a:pt x="235" y="55"/>
                    </a:lnTo>
                    <a:lnTo>
                      <a:pt x="230" y="48"/>
                    </a:lnTo>
                    <a:lnTo>
                      <a:pt x="225" y="44"/>
                    </a:lnTo>
                    <a:lnTo>
                      <a:pt x="219" y="38"/>
                    </a:lnTo>
                    <a:lnTo>
                      <a:pt x="226" y="43"/>
                    </a:lnTo>
                    <a:lnTo>
                      <a:pt x="234" y="48"/>
                    </a:lnTo>
                    <a:lnTo>
                      <a:pt x="244" y="54"/>
                    </a:lnTo>
                    <a:lnTo>
                      <a:pt x="253" y="62"/>
                    </a:lnTo>
                    <a:lnTo>
                      <a:pt x="279" y="6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2021760" y="3524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0" y="5"/>
                    </a:lnTo>
                    <a:lnTo>
                      <a:pt x="5" y="8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2106000" y="3513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2025360" y="350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2025360" y="35024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50" h="33">
                    <a:moveTo>
                      <a:pt x="50" y="33"/>
                    </a:moveTo>
                    <a:lnTo>
                      <a:pt x="50" y="28"/>
                    </a:lnTo>
                    <a:lnTo>
                      <a:pt x="45" y="22"/>
                    </a:lnTo>
                    <a:lnTo>
                      <a:pt x="40" y="17"/>
                    </a:lnTo>
                    <a:lnTo>
                      <a:pt x="37" y="11"/>
                    </a:lnTo>
                    <a:lnTo>
                      <a:pt x="33" y="7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9" y="14"/>
                    </a:lnTo>
                    <a:lnTo>
                      <a:pt x="14" y="21"/>
                    </a:lnTo>
                    <a:lnTo>
                      <a:pt x="19" y="28"/>
                    </a:lnTo>
                    <a:lnTo>
                      <a:pt x="50" y="33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2066400" y="34977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0"/>
                    </a:moveTo>
                    <a:lnTo>
                      <a:pt x="3" y="8"/>
                    </a:lnTo>
                    <a:lnTo>
                      <a:pt x="9" y="15"/>
                    </a:lnTo>
                    <a:lnTo>
                      <a:pt x="14" y="22"/>
                    </a:lnTo>
                    <a:lnTo>
                      <a:pt x="17" y="29"/>
                    </a:lnTo>
                    <a:lnTo>
                      <a:pt x="33" y="31"/>
                    </a:lnTo>
                    <a:lnTo>
                      <a:pt x="28" y="24"/>
                    </a:lnTo>
                    <a:lnTo>
                      <a:pt x="22" y="17"/>
                    </a:lnTo>
                    <a:lnTo>
                      <a:pt x="15" y="10"/>
                    </a:lnTo>
                    <a:lnTo>
                      <a:pt x="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2031840" y="351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0"/>
                    </a:moveTo>
                    <a:lnTo>
                      <a:pt x="0" y="7"/>
                    </a:lnTo>
                    <a:lnTo>
                      <a:pt x="4" y="10"/>
                    </a:lnTo>
                    <a:lnTo>
                      <a:pt x="3" y="6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1715760" y="3495960"/>
                <a:ext cx="318960" cy="66600"/>
              </a:xfrm>
              <a:custGeom>
                <a:avLst/>
                <a:gdLst/>
                <a:ahLst/>
                <a:rect l="l" t="t" r="r" b="b"/>
                <a:pathLst>
                  <a:path w="403" h="84">
                    <a:moveTo>
                      <a:pt x="0" y="0"/>
                    </a:moveTo>
                    <a:lnTo>
                      <a:pt x="0" y="8"/>
                    </a:lnTo>
                    <a:lnTo>
                      <a:pt x="4" y="15"/>
                    </a:lnTo>
                    <a:lnTo>
                      <a:pt x="10" y="19"/>
                    </a:lnTo>
                    <a:lnTo>
                      <a:pt x="15" y="25"/>
                    </a:lnTo>
                    <a:lnTo>
                      <a:pt x="19" y="29"/>
                    </a:lnTo>
                    <a:lnTo>
                      <a:pt x="241" y="62"/>
                    </a:lnTo>
                    <a:lnTo>
                      <a:pt x="238" y="60"/>
                    </a:lnTo>
                    <a:lnTo>
                      <a:pt x="236" y="59"/>
                    </a:lnTo>
                    <a:lnTo>
                      <a:pt x="234" y="56"/>
                    </a:lnTo>
                    <a:lnTo>
                      <a:pt x="231" y="55"/>
                    </a:lnTo>
                    <a:lnTo>
                      <a:pt x="235" y="57"/>
                    </a:lnTo>
                    <a:lnTo>
                      <a:pt x="237" y="59"/>
                    </a:lnTo>
                    <a:lnTo>
                      <a:pt x="241" y="61"/>
                    </a:lnTo>
                    <a:lnTo>
                      <a:pt x="245" y="64"/>
                    </a:lnTo>
                    <a:lnTo>
                      <a:pt x="283" y="69"/>
                    </a:lnTo>
                    <a:lnTo>
                      <a:pt x="279" y="63"/>
                    </a:lnTo>
                    <a:lnTo>
                      <a:pt x="273" y="57"/>
                    </a:lnTo>
                    <a:lnTo>
                      <a:pt x="268" y="50"/>
                    </a:lnTo>
                    <a:lnTo>
                      <a:pt x="262" y="44"/>
                    </a:lnTo>
                    <a:lnTo>
                      <a:pt x="270" y="48"/>
                    </a:lnTo>
                    <a:lnTo>
                      <a:pt x="277" y="53"/>
                    </a:lnTo>
                    <a:lnTo>
                      <a:pt x="285" y="57"/>
                    </a:lnTo>
                    <a:lnTo>
                      <a:pt x="294" y="62"/>
                    </a:lnTo>
                    <a:lnTo>
                      <a:pt x="300" y="65"/>
                    </a:lnTo>
                    <a:lnTo>
                      <a:pt x="309" y="69"/>
                    </a:lnTo>
                    <a:lnTo>
                      <a:pt x="315" y="74"/>
                    </a:lnTo>
                    <a:lnTo>
                      <a:pt x="323" y="77"/>
                    </a:lnTo>
                    <a:lnTo>
                      <a:pt x="367" y="84"/>
                    </a:lnTo>
                    <a:lnTo>
                      <a:pt x="372" y="82"/>
                    </a:lnTo>
                    <a:lnTo>
                      <a:pt x="376" y="78"/>
                    </a:lnTo>
                    <a:lnTo>
                      <a:pt x="381" y="76"/>
                    </a:lnTo>
                    <a:lnTo>
                      <a:pt x="386" y="72"/>
                    </a:lnTo>
                    <a:lnTo>
                      <a:pt x="390" y="70"/>
                    </a:lnTo>
                    <a:lnTo>
                      <a:pt x="394" y="68"/>
                    </a:lnTo>
                    <a:lnTo>
                      <a:pt x="398" y="64"/>
                    </a:lnTo>
                    <a:lnTo>
                      <a:pt x="403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2076120" y="348660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4" y="7"/>
                    </a:lnTo>
                    <a:lnTo>
                      <a:pt x="7" y="14"/>
                    </a:lnTo>
                    <a:lnTo>
                      <a:pt x="12" y="22"/>
                    </a:lnTo>
                    <a:lnTo>
                      <a:pt x="16" y="29"/>
                    </a:lnTo>
                    <a:lnTo>
                      <a:pt x="29" y="31"/>
                    </a:lnTo>
                    <a:lnTo>
                      <a:pt x="23" y="24"/>
                    </a:lnTo>
                    <a:lnTo>
                      <a:pt x="17" y="16"/>
                    </a:lnTo>
                    <a:lnTo>
                      <a:pt x="10" y="9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2034720" y="349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8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6" y="6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2034720" y="34898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48" y="33"/>
                    </a:moveTo>
                    <a:lnTo>
                      <a:pt x="48" y="26"/>
                    </a:lnTo>
                    <a:lnTo>
                      <a:pt x="44" y="23"/>
                    </a:lnTo>
                    <a:lnTo>
                      <a:pt x="41" y="18"/>
                    </a:lnTo>
                    <a:lnTo>
                      <a:pt x="37" y="13"/>
                    </a:lnTo>
                    <a:lnTo>
                      <a:pt x="34" y="7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10" y="14"/>
                    </a:lnTo>
                    <a:lnTo>
                      <a:pt x="14" y="22"/>
                    </a:lnTo>
                    <a:lnTo>
                      <a:pt x="19" y="29"/>
                    </a:lnTo>
                    <a:lnTo>
                      <a:pt x="48" y="33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2037960" y="3500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6"/>
                    </a:lnTo>
                    <a:lnTo>
                      <a:pt x="5" y="9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1706040" y="3486600"/>
                <a:ext cx="336600" cy="66600"/>
              </a:xfrm>
              <a:custGeom>
                <a:avLst/>
                <a:gdLst/>
                <a:ahLst/>
                <a:rect l="l" t="t" r="r" b="b"/>
                <a:pathLst>
                  <a:path w="425" h="83">
                    <a:moveTo>
                      <a:pt x="0" y="0"/>
                    </a:moveTo>
                    <a:lnTo>
                      <a:pt x="0" y="5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11" y="22"/>
                    </a:lnTo>
                    <a:lnTo>
                      <a:pt x="14" y="27"/>
                    </a:lnTo>
                    <a:lnTo>
                      <a:pt x="282" y="67"/>
                    </a:lnTo>
                    <a:lnTo>
                      <a:pt x="278" y="65"/>
                    </a:lnTo>
                    <a:lnTo>
                      <a:pt x="276" y="62"/>
                    </a:lnTo>
                    <a:lnTo>
                      <a:pt x="275" y="59"/>
                    </a:lnTo>
                    <a:lnTo>
                      <a:pt x="272" y="56"/>
                    </a:lnTo>
                    <a:lnTo>
                      <a:pt x="278" y="60"/>
                    </a:lnTo>
                    <a:lnTo>
                      <a:pt x="283" y="64"/>
                    </a:lnTo>
                    <a:lnTo>
                      <a:pt x="289" y="66"/>
                    </a:lnTo>
                    <a:lnTo>
                      <a:pt x="293" y="69"/>
                    </a:lnTo>
                    <a:lnTo>
                      <a:pt x="396" y="83"/>
                    </a:lnTo>
                    <a:lnTo>
                      <a:pt x="403" y="80"/>
                    </a:lnTo>
                    <a:lnTo>
                      <a:pt x="411" y="75"/>
                    </a:lnTo>
                    <a:lnTo>
                      <a:pt x="418" y="71"/>
                    </a:lnTo>
                    <a:lnTo>
                      <a:pt x="425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2085480" y="34768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0"/>
                    </a:moveTo>
                    <a:lnTo>
                      <a:pt x="2" y="6"/>
                    </a:lnTo>
                    <a:lnTo>
                      <a:pt x="6" y="11"/>
                    </a:lnTo>
                    <a:lnTo>
                      <a:pt x="11" y="18"/>
                    </a:lnTo>
                    <a:lnTo>
                      <a:pt x="14" y="25"/>
                    </a:lnTo>
                    <a:lnTo>
                      <a:pt x="23" y="29"/>
                    </a:lnTo>
                    <a:lnTo>
                      <a:pt x="17" y="20"/>
                    </a:lnTo>
                    <a:lnTo>
                      <a:pt x="12" y="14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2042640" y="3484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2043000" y="348012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9" y="33"/>
                    </a:moveTo>
                    <a:lnTo>
                      <a:pt x="49" y="27"/>
                    </a:lnTo>
                    <a:lnTo>
                      <a:pt x="46" y="21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38" y="7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10" y="14"/>
                    </a:lnTo>
                    <a:lnTo>
                      <a:pt x="16" y="21"/>
                    </a:lnTo>
                    <a:lnTo>
                      <a:pt x="21" y="29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045520" y="34866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0" y="9"/>
                    </a:lnTo>
                    <a:lnTo>
                      <a:pt x="5" y="12"/>
                    </a:lnTo>
                    <a:lnTo>
                      <a:pt x="4" y="8"/>
                    </a:lnTo>
                    <a:lnTo>
                      <a:pt x="3" y="5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698480" y="3475440"/>
                <a:ext cx="350640" cy="69840"/>
              </a:xfrm>
              <a:custGeom>
                <a:avLst/>
                <a:gdLst/>
                <a:ahLst/>
                <a:rect l="l" t="t" r="r" b="b"/>
                <a:pathLst>
                  <a:path w="443" h="88">
                    <a:moveTo>
                      <a:pt x="0" y="0"/>
                    </a:moveTo>
                    <a:lnTo>
                      <a:pt x="0" y="7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2"/>
                    </a:lnTo>
                    <a:lnTo>
                      <a:pt x="12" y="26"/>
                    </a:lnTo>
                    <a:lnTo>
                      <a:pt x="422" y="88"/>
                    </a:lnTo>
                    <a:lnTo>
                      <a:pt x="428" y="85"/>
                    </a:lnTo>
                    <a:lnTo>
                      <a:pt x="432" y="79"/>
                    </a:lnTo>
                    <a:lnTo>
                      <a:pt x="438" y="74"/>
                    </a:lnTo>
                    <a:lnTo>
                      <a:pt x="443" y="67"/>
                    </a:lnTo>
                    <a:lnTo>
                      <a:pt x="443" y="67"/>
                    </a:lnTo>
                    <a:lnTo>
                      <a:pt x="162" y="23"/>
                    </a:lnTo>
                    <a:lnTo>
                      <a:pt x="162" y="25"/>
                    </a:lnTo>
                    <a:lnTo>
                      <a:pt x="163" y="26"/>
                    </a:lnTo>
                    <a:lnTo>
                      <a:pt x="164" y="27"/>
                    </a:lnTo>
                    <a:lnTo>
                      <a:pt x="164" y="28"/>
                    </a:lnTo>
                    <a:lnTo>
                      <a:pt x="163" y="27"/>
                    </a:lnTo>
                    <a:lnTo>
                      <a:pt x="160" y="25"/>
                    </a:lnTo>
                    <a:lnTo>
                      <a:pt x="159" y="23"/>
                    </a:lnTo>
                    <a:lnTo>
                      <a:pt x="15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2094840" y="3476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11"/>
                    </a:move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6" y="7"/>
                    </a:lnTo>
                    <a:lnTo>
                      <a:pt x="8" y="10"/>
                    </a:lnTo>
                    <a:lnTo>
                      <a:pt x="12" y="14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2049120" y="34736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9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049120" y="346752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55" y="33"/>
                    </a:moveTo>
                    <a:lnTo>
                      <a:pt x="55" y="24"/>
                    </a:lnTo>
                    <a:lnTo>
                      <a:pt x="54" y="22"/>
                    </a:lnTo>
                    <a:lnTo>
                      <a:pt x="53" y="21"/>
                    </a:lnTo>
                    <a:lnTo>
                      <a:pt x="53" y="19"/>
                    </a:lnTo>
                    <a:lnTo>
                      <a:pt x="53" y="17"/>
                    </a:lnTo>
                    <a:lnTo>
                      <a:pt x="47" y="16"/>
                    </a:lnTo>
                    <a:lnTo>
                      <a:pt x="40" y="14"/>
                    </a:lnTo>
                    <a:lnTo>
                      <a:pt x="33" y="10"/>
                    </a:lnTo>
                    <a:lnTo>
                      <a:pt x="26" y="5"/>
                    </a:lnTo>
                    <a:lnTo>
                      <a:pt x="0" y="0"/>
                    </a:lnTo>
                    <a:lnTo>
                      <a:pt x="7" y="9"/>
                    </a:lnTo>
                    <a:lnTo>
                      <a:pt x="14" y="16"/>
                    </a:lnTo>
                    <a:lnTo>
                      <a:pt x="20" y="23"/>
                    </a:lnTo>
                    <a:lnTo>
                      <a:pt x="26" y="29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2052360" y="3481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3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698120" y="3464280"/>
                <a:ext cx="360360" cy="73080"/>
              </a:xfrm>
              <a:custGeom>
                <a:avLst/>
                <a:gdLst/>
                <a:ahLst/>
                <a:rect l="l" t="t" r="r" b="b"/>
                <a:pathLst>
                  <a:path w="453" h="94">
                    <a:moveTo>
                      <a:pt x="0" y="0"/>
                    </a:moveTo>
                    <a:lnTo>
                      <a:pt x="0" y="10"/>
                    </a:lnTo>
                    <a:lnTo>
                      <a:pt x="3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3" y="27"/>
                    </a:lnTo>
                    <a:lnTo>
                      <a:pt x="444" y="94"/>
                    </a:lnTo>
                    <a:lnTo>
                      <a:pt x="447" y="90"/>
                    </a:lnTo>
                    <a:lnTo>
                      <a:pt x="449" y="88"/>
                    </a:lnTo>
                    <a:lnTo>
                      <a:pt x="450" y="86"/>
                    </a:lnTo>
                    <a:lnTo>
                      <a:pt x="453" y="82"/>
                    </a:lnTo>
                    <a:lnTo>
                      <a:pt x="449" y="78"/>
                    </a:lnTo>
                    <a:lnTo>
                      <a:pt x="445" y="74"/>
                    </a:lnTo>
                    <a:lnTo>
                      <a:pt x="440" y="70"/>
                    </a:lnTo>
                    <a:lnTo>
                      <a:pt x="437" y="65"/>
                    </a:lnTo>
                    <a:lnTo>
                      <a:pt x="160" y="25"/>
                    </a:lnTo>
                    <a:lnTo>
                      <a:pt x="164" y="28"/>
                    </a:lnTo>
                    <a:lnTo>
                      <a:pt x="167" y="33"/>
                    </a:lnTo>
                    <a:lnTo>
                      <a:pt x="170" y="38"/>
                    </a:lnTo>
                    <a:lnTo>
                      <a:pt x="174" y="43"/>
                    </a:lnTo>
                    <a:lnTo>
                      <a:pt x="167" y="37"/>
                    </a:lnTo>
                    <a:lnTo>
                      <a:pt x="160" y="33"/>
                    </a:lnTo>
                    <a:lnTo>
                      <a:pt x="153" y="27"/>
                    </a:lnTo>
                    <a:lnTo>
                      <a:pt x="146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2102760" y="3476880"/>
                <a:ext cx="1800" cy="1800"/>
              </a:xfrm>
              <a:prstGeom prst="rect">
                <a:avLst/>
              </a:pr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058480" y="34628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7" y="12"/>
                    </a:moveTo>
                    <a:lnTo>
                      <a:pt x="7" y="2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2058480" y="345636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34"/>
                    </a:moveTo>
                    <a:lnTo>
                      <a:pt x="54" y="31"/>
                    </a:lnTo>
                    <a:lnTo>
                      <a:pt x="49" y="29"/>
                    </a:lnTo>
                    <a:lnTo>
                      <a:pt x="45" y="27"/>
                    </a:lnTo>
                    <a:lnTo>
                      <a:pt x="40" y="22"/>
                    </a:lnTo>
                    <a:lnTo>
                      <a:pt x="35" y="19"/>
                    </a:lnTo>
                    <a:lnTo>
                      <a:pt x="31" y="14"/>
                    </a:lnTo>
                    <a:lnTo>
                      <a:pt x="25" y="11"/>
                    </a:lnTo>
                    <a:lnTo>
                      <a:pt x="20" y="6"/>
                    </a:lnTo>
                    <a:lnTo>
                      <a:pt x="16" y="3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7" y="12"/>
                    </a:lnTo>
                    <a:lnTo>
                      <a:pt x="12" y="18"/>
                    </a:lnTo>
                    <a:lnTo>
                      <a:pt x="18" y="23"/>
                    </a:lnTo>
                    <a:lnTo>
                      <a:pt x="24" y="29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925280" y="3486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7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698480" y="3470760"/>
                <a:ext cx="234720" cy="58680"/>
              </a:xfrm>
              <a:custGeom>
                <a:avLst/>
                <a:gdLst/>
                <a:ahLst/>
                <a:rect l="l" t="t" r="r" b="b"/>
                <a:pathLst>
                  <a:path w="295" h="72">
                    <a:moveTo>
                      <a:pt x="0" y="0"/>
                    </a:moveTo>
                    <a:lnTo>
                      <a:pt x="0" y="10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0" y="24"/>
                    </a:lnTo>
                    <a:lnTo>
                      <a:pt x="14" y="28"/>
                    </a:lnTo>
                    <a:lnTo>
                      <a:pt x="295" y="72"/>
                    </a:lnTo>
                    <a:lnTo>
                      <a:pt x="290" y="68"/>
                    </a:lnTo>
                    <a:lnTo>
                      <a:pt x="286" y="63"/>
                    </a:lnTo>
                    <a:lnTo>
                      <a:pt x="282" y="60"/>
                    </a:lnTo>
                    <a:lnTo>
                      <a:pt x="277" y="55"/>
                    </a:lnTo>
                    <a:lnTo>
                      <a:pt x="273" y="52"/>
                    </a:lnTo>
                    <a:lnTo>
                      <a:pt x="267" y="48"/>
                    </a:lnTo>
                    <a:lnTo>
                      <a:pt x="262" y="45"/>
                    </a:lnTo>
                    <a:lnTo>
                      <a:pt x="257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933200" y="3470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1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33200" y="3451680"/>
                <a:ext cx="139680" cy="41040"/>
              </a:xfrm>
              <a:custGeom>
                <a:avLst/>
                <a:gdLst/>
                <a:ahLst/>
                <a:rect l="l" t="t" r="r" b="b"/>
                <a:pathLst>
                  <a:path w="177" h="52">
                    <a:moveTo>
                      <a:pt x="177" y="52"/>
                    </a:moveTo>
                    <a:lnTo>
                      <a:pt x="177" y="45"/>
                    </a:lnTo>
                    <a:lnTo>
                      <a:pt x="169" y="40"/>
                    </a:lnTo>
                    <a:lnTo>
                      <a:pt x="161" y="35"/>
                    </a:lnTo>
                    <a:lnTo>
                      <a:pt x="151" y="28"/>
                    </a:lnTo>
                    <a:lnTo>
                      <a:pt x="143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11" y="14"/>
                    </a:lnTo>
                    <a:lnTo>
                      <a:pt x="17" y="21"/>
                    </a:lnTo>
                    <a:lnTo>
                      <a:pt x="21" y="29"/>
                    </a:lnTo>
                    <a:lnTo>
                      <a:pt x="177" y="52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071440" y="3470760"/>
                <a:ext cx="1440" cy="1440"/>
              </a:xfrm>
              <a:prstGeom prst="rect">
                <a:avLst/>
              </a:pr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071440" y="3451680"/>
                <a:ext cx="1440" cy="1440"/>
              </a:xfrm>
              <a:prstGeom prst="rect">
                <a:avLst/>
              </a:pr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072880" y="3453120"/>
                <a:ext cx="28800" cy="1764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35" y="23"/>
                    </a:moveTo>
                    <a:lnTo>
                      <a:pt x="35" y="23"/>
                    </a:lnTo>
                    <a:lnTo>
                      <a:pt x="27" y="16"/>
                    </a:lnTo>
                    <a:lnTo>
                      <a:pt x="19" y="9"/>
                    </a:lnTo>
                    <a:lnTo>
                      <a:pt x="12" y="4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6" y="13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940760" y="347544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0"/>
                    </a:moveTo>
                    <a:lnTo>
                      <a:pt x="0" y="5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711080" y="3459600"/>
                <a:ext cx="239760" cy="55440"/>
              </a:xfrm>
              <a:custGeom>
                <a:avLst/>
                <a:gdLst/>
                <a:ahLst/>
                <a:rect l="l" t="t" r="r" b="b"/>
                <a:pathLst>
                  <a:path w="301" h="69">
                    <a:moveTo>
                      <a:pt x="0" y="0"/>
                    </a:moveTo>
                    <a:lnTo>
                      <a:pt x="0" y="4"/>
                    </a:lnTo>
                    <a:lnTo>
                      <a:pt x="6" y="10"/>
                    </a:lnTo>
                    <a:lnTo>
                      <a:pt x="13" y="16"/>
                    </a:lnTo>
                    <a:lnTo>
                      <a:pt x="18" y="22"/>
                    </a:lnTo>
                    <a:lnTo>
                      <a:pt x="24" y="29"/>
                    </a:lnTo>
                    <a:lnTo>
                      <a:pt x="301" y="69"/>
                    </a:lnTo>
                    <a:lnTo>
                      <a:pt x="295" y="66"/>
                    </a:lnTo>
                    <a:lnTo>
                      <a:pt x="289" y="62"/>
                    </a:lnTo>
                    <a:lnTo>
                      <a:pt x="284" y="57"/>
                    </a:lnTo>
                    <a:lnTo>
                      <a:pt x="279" y="53"/>
                    </a:lnTo>
                    <a:lnTo>
                      <a:pt x="273" y="49"/>
                    </a:lnTo>
                    <a:lnTo>
                      <a:pt x="267" y="45"/>
                    </a:lnTo>
                    <a:lnTo>
                      <a:pt x="261" y="41"/>
                    </a:lnTo>
                    <a:lnTo>
                      <a:pt x="256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088360" y="345312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950840" y="3457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12" y="2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1950840" y="3438720"/>
                <a:ext cx="131760" cy="41400"/>
              </a:xfrm>
              <a:custGeom>
                <a:avLst/>
                <a:gdLst/>
                <a:ahLst/>
                <a:rect l="l" t="t" r="r" b="b"/>
                <a:pathLst>
                  <a:path w="166" h="51">
                    <a:moveTo>
                      <a:pt x="166" y="51"/>
                    </a:moveTo>
                    <a:lnTo>
                      <a:pt x="166" y="46"/>
                    </a:lnTo>
                    <a:lnTo>
                      <a:pt x="158" y="40"/>
                    </a:lnTo>
                    <a:lnTo>
                      <a:pt x="150" y="33"/>
                    </a:lnTo>
                    <a:lnTo>
                      <a:pt x="143" y="28"/>
                    </a:lnTo>
                    <a:lnTo>
                      <a:pt x="135" y="2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10" y="14"/>
                    </a:lnTo>
                    <a:lnTo>
                      <a:pt x="16" y="22"/>
                    </a:lnTo>
                    <a:lnTo>
                      <a:pt x="23" y="29"/>
                    </a:lnTo>
                    <a:lnTo>
                      <a:pt x="166" y="51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958760" y="345780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0"/>
                    </a:moveTo>
                    <a:lnTo>
                      <a:pt x="0" y="9"/>
                    </a:lnTo>
                    <a:lnTo>
                      <a:pt x="17" y="11"/>
                    </a:lnTo>
                    <a:lnTo>
                      <a:pt x="14" y="8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1728360" y="3445200"/>
                <a:ext cx="244800" cy="58680"/>
              </a:xfrm>
              <a:custGeom>
                <a:avLst/>
                <a:gdLst/>
                <a:ahLst/>
                <a:rect l="l" t="t" r="r" b="b"/>
                <a:pathLst>
                  <a:path w="308" h="74">
                    <a:moveTo>
                      <a:pt x="0" y="0"/>
                    </a:moveTo>
                    <a:lnTo>
                      <a:pt x="0" y="7"/>
                    </a:lnTo>
                    <a:lnTo>
                      <a:pt x="6" y="10"/>
                    </a:lnTo>
                    <a:lnTo>
                      <a:pt x="10" y="13"/>
                    </a:lnTo>
                    <a:lnTo>
                      <a:pt x="16" y="15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30" y="25"/>
                    </a:lnTo>
                    <a:lnTo>
                      <a:pt x="35" y="28"/>
                    </a:lnTo>
                    <a:lnTo>
                      <a:pt x="39" y="33"/>
                    </a:lnTo>
                    <a:lnTo>
                      <a:pt x="308" y="74"/>
                    </a:lnTo>
                    <a:lnTo>
                      <a:pt x="302" y="70"/>
                    </a:lnTo>
                    <a:lnTo>
                      <a:pt x="296" y="65"/>
                    </a:lnTo>
                    <a:lnTo>
                      <a:pt x="290" y="60"/>
                    </a:lnTo>
                    <a:lnTo>
                      <a:pt x="284" y="56"/>
                    </a:lnTo>
                    <a:lnTo>
                      <a:pt x="278" y="52"/>
                    </a:lnTo>
                    <a:lnTo>
                      <a:pt x="271" y="48"/>
                    </a:lnTo>
                    <a:lnTo>
                      <a:pt x="264" y="44"/>
                    </a:lnTo>
                    <a:lnTo>
                      <a:pt x="258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1972800" y="344196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10"/>
                    </a:moveTo>
                    <a:lnTo>
                      <a:pt x="16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8" y="6"/>
                    </a:lnTo>
                    <a:lnTo>
                      <a:pt x="13" y="8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1972800" y="3429360"/>
                <a:ext cx="112680" cy="36360"/>
              </a:xfrm>
              <a:custGeom>
                <a:avLst/>
                <a:gdLst/>
                <a:ahLst/>
                <a:rect l="l" t="t" r="r" b="b"/>
                <a:pathLst>
                  <a:path w="143" h="45">
                    <a:moveTo>
                      <a:pt x="143" y="45"/>
                    </a:moveTo>
                    <a:lnTo>
                      <a:pt x="143" y="36"/>
                    </a:lnTo>
                    <a:lnTo>
                      <a:pt x="138" y="32"/>
                    </a:lnTo>
                    <a:lnTo>
                      <a:pt x="134" y="29"/>
                    </a:lnTo>
                    <a:lnTo>
                      <a:pt x="129" y="25"/>
                    </a:lnTo>
                    <a:lnTo>
                      <a:pt x="125" y="22"/>
                    </a:lnTo>
                    <a:lnTo>
                      <a:pt x="121" y="22"/>
                    </a:lnTo>
                    <a:lnTo>
                      <a:pt x="118" y="22"/>
                    </a:lnTo>
                    <a:lnTo>
                      <a:pt x="113" y="22"/>
                    </a:lnTo>
                    <a:lnTo>
                      <a:pt x="107" y="21"/>
                    </a:lnTo>
                    <a:lnTo>
                      <a:pt x="102" y="18"/>
                    </a:lnTo>
                    <a:lnTo>
                      <a:pt x="96" y="16"/>
                    </a:lnTo>
                    <a:lnTo>
                      <a:pt x="89" y="12"/>
                    </a:lnTo>
                    <a:lnTo>
                      <a:pt x="82" y="9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9" y="16"/>
                    </a:lnTo>
                    <a:lnTo>
                      <a:pt x="14" y="21"/>
                    </a:lnTo>
                    <a:lnTo>
                      <a:pt x="17" y="26"/>
                    </a:lnTo>
                    <a:lnTo>
                      <a:pt x="143" y="4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1974240" y="34452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0"/>
                    </a:moveTo>
                    <a:lnTo>
                      <a:pt x="0" y="10"/>
                    </a:lnTo>
                    <a:lnTo>
                      <a:pt x="34" y="14"/>
                    </a:lnTo>
                    <a:lnTo>
                      <a:pt x="29" y="11"/>
                    </a:lnTo>
                    <a:lnTo>
                      <a:pt x="25" y="7"/>
                    </a:lnTo>
                    <a:lnTo>
                      <a:pt x="21" y="5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1747440" y="3432600"/>
                <a:ext cx="254160" cy="57240"/>
              </a:xfrm>
              <a:custGeom>
                <a:avLst/>
                <a:gdLst/>
                <a:ahLst/>
                <a:rect l="l" t="t" r="r" b="b"/>
                <a:pathLst>
                  <a:path w="321" h="74">
                    <a:moveTo>
                      <a:pt x="0" y="0"/>
                    </a:moveTo>
                    <a:lnTo>
                      <a:pt x="0" y="7"/>
                    </a:lnTo>
                    <a:lnTo>
                      <a:pt x="7" y="9"/>
                    </a:lnTo>
                    <a:lnTo>
                      <a:pt x="14" y="13"/>
                    </a:lnTo>
                    <a:lnTo>
                      <a:pt x="21" y="15"/>
                    </a:lnTo>
                    <a:lnTo>
                      <a:pt x="28" y="19"/>
                    </a:lnTo>
                    <a:lnTo>
                      <a:pt x="34" y="22"/>
                    </a:lnTo>
                    <a:lnTo>
                      <a:pt x="41" y="25"/>
                    </a:lnTo>
                    <a:lnTo>
                      <a:pt x="46" y="29"/>
                    </a:lnTo>
                    <a:lnTo>
                      <a:pt x="53" y="34"/>
                    </a:lnTo>
                    <a:lnTo>
                      <a:pt x="321" y="74"/>
                    </a:lnTo>
                    <a:lnTo>
                      <a:pt x="314" y="69"/>
                    </a:lnTo>
                    <a:lnTo>
                      <a:pt x="307" y="65"/>
                    </a:lnTo>
                    <a:lnTo>
                      <a:pt x="300" y="60"/>
                    </a:lnTo>
                    <a:lnTo>
                      <a:pt x="292" y="55"/>
                    </a:lnTo>
                    <a:lnTo>
                      <a:pt x="284" y="52"/>
                    </a:lnTo>
                    <a:lnTo>
                      <a:pt x="277" y="47"/>
                    </a:lnTo>
                    <a:lnTo>
                      <a:pt x="269" y="43"/>
                    </a:lnTo>
                    <a:lnTo>
                      <a:pt x="261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001600" y="342792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30" y="11"/>
                    </a:moveTo>
                    <a:lnTo>
                      <a:pt x="30" y="4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5"/>
                    </a:lnTo>
                    <a:lnTo>
                      <a:pt x="23" y="8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2001600" y="3421440"/>
                <a:ext cx="84240" cy="31680"/>
              </a:xfrm>
              <a:custGeom>
                <a:avLst/>
                <a:gdLst/>
                <a:ahLst/>
                <a:rect l="l" t="t" r="r" b="b"/>
                <a:pathLst>
                  <a:path w="107" h="41">
                    <a:moveTo>
                      <a:pt x="107" y="41"/>
                    </a:moveTo>
                    <a:lnTo>
                      <a:pt x="107" y="31"/>
                    </a:lnTo>
                    <a:lnTo>
                      <a:pt x="99" y="29"/>
                    </a:lnTo>
                    <a:lnTo>
                      <a:pt x="91" y="26"/>
                    </a:lnTo>
                    <a:lnTo>
                      <a:pt x="82" y="22"/>
                    </a:lnTo>
                    <a:lnTo>
                      <a:pt x="72" y="19"/>
                    </a:lnTo>
                    <a:lnTo>
                      <a:pt x="61" y="14"/>
                    </a:lnTo>
                    <a:lnTo>
                      <a:pt x="52" y="11"/>
                    </a:lnTo>
                    <a:lnTo>
                      <a:pt x="43" y="6"/>
                    </a:lnTo>
                    <a:lnTo>
                      <a:pt x="34" y="3"/>
                    </a:lnTo>
                    <a:lnTo>
                      <a:pt x="13" y="0"/>
                    </a:lnTo>
                    <a:lnTo>
                      <a:pt x="9" y="5"/>
                    </a:lnTo>
                    <a:lnTo>
                      <a:pt x="7" y="10"/>
                    </a:lnTo>
                    <a:lnTo>
                      <a:pt x="4" y="14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107" y="41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2022120" y="343260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5"/>
                    </a:lnTo>
                    <a:lnTo>
                      <a:pt x="22" y="7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1767960" y="3416760"/>
                <a:ext cx="269640" cy="60120"/>
              </a:xfrm>
              <a:custGeom>
                <a:avLst/>
                <a:gdLst/>
                <a:ahLst/>
                <a:rect l="l" t="t" r="r" b="b"/>
                <a:pathLst>
                  <a:path w="341" h="76">
                    <a:moveTo>
                      <a:pt x="0" y="0"/>
                    </a:moveTo>
                    <a:lnTo>
                      <a:pt x="0" y="7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5" y="16"/>
                    </a:lnTo>
                    <a:lnTo>
                      <a:pt x="34" y="19"/>
                    </a:lnTo>
                    <a:lnTo>
                      <a:pt x="42" y="23"/>
                    </a:lnTo>
                    <a:lnTo>
                      <a:pt x="51" y="25"/>
                    </a:lnTo>
                    <a:lnTo>
                      <a:pt x="59" y="28"/>
                    </a:lnTo>
                    <a:lnTo>
                      <a:pt x="67" y="32"/>
                    </a:lnTo>
                    <a:lnTo>
                      <a:pt x="341" y="76"/>
                    </a:lnTo>
                    <a:lnTo>
                      <a:pt x="332" y="70"/>
                    </a:lnTo>
                    <a:lnTo>
                      <a:pt x="323" y="65"/>
                    </a:lnTo>
                    <a:lnTo>
                      <a:pt x="314" y="61"/>
                    </a:lnTo>
                    <a:lnTo>
                      <a:pt x="305" y="56"/>
                    </a:lnTo>
                    <a:lnTo>
                      <a:pt x="296" y="52"/>
                    </a:lnTo>
                    <a:lnTo>
                      <a:pt x="287" y="47"/>
                    </a:lnTo>
                    <a:lnTo>
                      <a:pt x="279" y="43"/>
                    </a:lnTo>
                    <a:lnTo>
                      <a:pt x="27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037600" y="341172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13"/>
                    </a:moveTo>
                    <a:lnTo>
                      <a:pt x="22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2" y="1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2037960" y="341676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54" y="18"/>
                    </a:lnTo>
                    <a:lnTo>
                      <a:pt x="47" y="16"/>
                    </a:lnTo>
                    <a:lnTo>
                      <a:pt x="40" y="12"/>
                    </a:lnTo>
                    <a:lnTo>
                      <a:pt x="35" y="10"/>
                    </a:lnTo>
                    <a:lnTo>
                      <a:pt x="29" y="7"/>
                    </a:lnTo>
                    <a:lnTo>
                      <a:pt x="23" y="4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060280" y="3422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1795320" y="3402360"/>
                <a:ext cx="266400" cy="60480"/>
              </a:xfrm>
              <a:custGeom>
                <a:avLst/>
                <a:gdLst/>
                <a:ahLst/>
                <a:rect l="l" t="t" r="r" b="b"/>
                <a:pathLst>
                  <a:path w="337" h="76">
                    <a:moveTo>
                      <a:pt x="0" y="0"/>
                    </a:moveTo>
                    <a:lnTo>
                      <a:pt x="0" y="9"/>
                    </a:lnTo>
                    <a:lnTo>
                      <a:pt x="6" y="13"/>
                    </a:lnTo>
                    <a:lnTo>
                      <a:pt x="12" y="16"/>
                    </a:lnTo>
                    <a:lnTo>
                      <a:pt x="18" y="20"/>
                    </a:lnTo>
                    <a:lnTo>
                      <a:pt x="23" y="23"/>
                    </a:lnTo>
                    <a:lnTo>
                      <a:pt x="29" y="25"/>
                    </a:lnTo>
                    <a:lnTo>
                      <a:pt x="35" y="28"/>
                    </a:lnTo>
                    <a:lnTo>
                      <a:pt x="41" y="31"/>
                    </a:lnTo>
                    <a:lnTo>
                      <a:pt x="46" y="34"/>
                    </a:lnTo>
                    <a:lnTo>
                      <a:pt x="337" y="76"/>
                    </a:lnTo>
                    <a:lnTo>
                      <a:pt x="326" y="72"/>
                    </a:lnTo>
                    <a:lnTo>
                      <a:pt x="315" y="66"/>
                    </a:lnTo>
                    <a:lnTo>
                      <a:pt x="303" y="61"/>
                    </a:lnTo>
                    <a:lnTo>
                      <a:pt x="292" y="57"/>
                    </a:lnTo>
                    <a:lnTo>
                      <a:pt x="280" y="52"/>
                    </a:lnTo>
                    <a:lnTo>
                      <a:pt x="269" y="47"/>
                    </a:lnTo>
                    <a:lnTo>
                      <a:pt x="257" y="43"/>
                    </a:lnTo>
                    <a:lnTo>
                      <a:pt x="246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2061360" y="3402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9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2061720" y="341676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8" y="7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1825200" y="3395880"/>
                <a:ext cx="238320" cy="54000"/>
              </a:xfrm>
              <a:custGeom>
                <a:avLst/>
                <a:gdLst/>
                <a:ahLst/>
                <a:rect l="l" t="t" r="r" b="b"/>
                <a:pathLst>
                  <a:path w="301" h="67">
                    <a:moveTo>
                      <a:pt x="9" y="21"/>
                    </a:moveTo>
                    <a:lnTo>
                      <a:pt x="7" y="19"/>
                    </a:lnTo>
                    <a:lnTo>
                      <a:pt x="5" y="17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5" y="6"/>
                    </a:lnTo>
                    <a:lnTo>
                      <a:pt x="53" y="6"/>
                    </a:lnTo>
                    <a:lnTo>
                      <a:pt x="60" y="7"/>
                    </a:lnTo>
                    <a:lnTo>
                      <a:pt x="68" y="8"/>
                    </a:lnTo>
                    <a:lnTo>
                      <a:pt x="76" y="8"/>
                    </a:lnTo>
                    <a:lnTo>
                      <a:pt x="84" y="9"/>
                    </a:lnTo>
                    <a:lnTo>
                      <a:pt x="84" y="9"/>
                    </a:lnTo>
                    <a:lnTo>
                      <a:pt x="84" y="9"/>
                    </a:lnTo>
                    <a:lnTo>
                      <a:pt x="85" y="8"/>
                    </a:lnTo>
                    <a:lnTo>
                      <a:pt x="86" y="7"/>
                    </a:lnTo>
                    <a:lnTo>
                      <a:pt x="174" y="21"/>
                    </a:lnTo>
                    <a:lnTo>
                      <a:pt x="189" y="26"/>
                    </a:lnTo>
                    <a:lnTo>
                      <a:pt x="205" y="30"/>
                    </a:lnTo>
                    <a:lnTo>
                      <a:pt x="220" y="36"/>
                    </a:lnTo>
                    <a:lnTo>
                      <a:pt x="236" y="42"/>
                    </a:lnTo>
                    <a:lnTo>
                      <a:pt x="252" y="47"/>
                    </a:lnTo>
                    <a:lnTo>
                      <a:pt x="268" y="53"/>
                    </a:lnTo>
                    <a:lnTo>
                      <a:pt x="285" y="60"/>
                    </a:lnTo>
                    <a:lnTo>
                      <a:pt x="301" y="67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1866240" y="3395880"/>
                <a:ext cx="196920" cy="36720"/>
              </a:xfrm>
              <a:custGeom>
                <a:avLst/>
                <a:gdLst/>
                <a:ahLst/>
                <a:rect l="l" t="t" r="r" b="b"/>
                <a:pathLst>
                  <a:path w="248" h="45">
                    <a:moveTo>
                      <a:pt x="0" y="7"/>
                    </a:move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5" y="6"/>
                    </a:lnTo>
                    <a:lnTo>
                      <a:pt x="53" y="6"/>
                    </a:lnTo>
                    <a:lnTo>
                      <a:pt x="60" y="7"/>
                    </a:lnTo>
                    <a:lnTo>
                      <a:pt x="68" y="8"/>
                    </a:lnTo>
                    <a:lnTo>
                      <a:pt x="76" y="8"/>
                    </a:lnTo>
                    <a:lnTo>
                      <a:pt x="84" y="9"/>
                    </a:lnTo>
                    <a:lnTo>
                      <a:pt x="86" y="7"/>
                    </a:lnTo>
                    <a:lnTo>
                      <a:pt x="88" y="6"/>
                    </a:lnTo>
                    <a:lnTo>
                      <a:pt x="90" y="4"/>
                    </a:lnTo>
                    <a:lnTo>
                      <a:pt x="91" y="2"/>
                    </a:lnTo>
                    <a:lnTo>
                      <a:pt x="109" y="6"/>
                    </a:lnTo>
                    <a:lnTo>
                      <a:pt x="129" y="11"/>
                    </a:lnTo>
                    <a:lnTo>
                      <a:pt x="149" y="15"/>
                    </a:lnTo>
                    <a:lnTo>
                      <a:pt x="168" y="20"/>
                    </a:lnTo>
                    <a:lnTo>
                      <a:pt x="189" y="26"/>
                    </a:lnTo>
                    <a:lnTo>
                      <a:pt x="209" y="32"/>
                    </a:lnTo>
                    <a:lnTo>
                      <a:pt x="228" y="38"/>
                    </a:lnTo>
                    <a:lnTo>
                      <a:pt x="248" y="4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1925280" y="3397680"/>
                <a:ext cx="69840" cy="1404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5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15" y="3"/>
                    </a:lnTo>
                    <a:lnTo>
                      <a:pt x="25" y="4"/>
                    </a:lnTo>
                    <a:lnTo>
                      <a:pt x="35" y="6"/>
                    </a:lnTo>
                    <a:lnTo>
                      <a:pt x="45" y="7"/>
                    </a:lnTo>
                    <a:lnTo>
                      <a:pt x="56" y="10"/>
                    </a:lnTo>
                    <a:lnTo>
                      <a:pt x="66" y="13"/>
                    </a:lnTo>
                    <a:lnTo>
                      <a:pt x="78" y="15"/>
                    </a:lnTo>
                    <a:lnTo>
                      <a:pt x="88" y="1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1990440" y="36198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3"/>
                    </a:moveTo>
                    <a:lnTo>
                      <a:pt x="9" y="3"/>
                    </a:lnTo>
                    <a:lnTo>
                      <a:pt x="0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1988640" y="361836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0"/>
                    </a:moveTo>
                    <a:lnTo>
                      <a:pt x="0" y="0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1989000" y="361512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0"/>
                    </a:moveTo>
                    <a:lnTo>
                      <a:pt x="2" y="2"/>
                    </a:lnTo>
                    <a:lnTo>
                      <a:pt x="8" y="4"/>
                    </a:lnTo>
                    <a:lnTo>
                      <a:pt x="17" y="7"/>
                    </a:lnTo>
                    <a:lnTo>
                      <a:pt x="1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1989000" y="361368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0"/>
                    </a:moveTo>
                    <a:lnTo>
                      <a:pt x="2" y="5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1989000" y="361368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3" y="3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1986840" y="361188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3" y="2"/>
                    </a:lnTo>
                    <a:lnTo>
                      <a:pt x="22" y="7"/>
                    </a:lnTo>
                    <a:lnTo>
                      <a:pt x="2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1987200" y="36086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" y="5"/>
                    </a:lnTo>
                    <a:lnTo>
                      <a:pt x="24" y="8"/>
                    </a:lnTo>
                    <a:lnTo>
                      <a:pt x="2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1987200" y="360720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" y="6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1985760" y="3607200"/>
                <a:ext cx="22320" cy="64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3"/>
                    </a:lnTo>
                    <a:lnTo>
                      <a:pt x="27" y="8"/>
                    </a:lnTo>
                    <a:lnTo>
                      <a:pt x="29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1985760" y="36054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1" h="8">
                    <a:moveTo>
                      <a:pt x="0" y="0"/>
                    </a:moveTo>
                    <a:lnTo>
                      <a:pt x="2" y="2"/>
                    </a:lnTo>
                    <a:lnTo>
                      <a:pt x="29" y="8"/>
                    </a:lnTo>
                    <a:lnTo>
                      <a:pt x="3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1985760" y="360396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0" y="0"/>
                    </a:moveTo>
                    <a:lnTo>
                      <a:pt x="2" y="4"/>
                    </a:lnTo>
                    <a:lnTo>
                      <a:pt x="31" y="10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1985400" y="3602520"/>
                <a:ext cx="27000" cy="6120"/>
              </a:xfrm>
              <a:custGeom>
                <a:avLst/>
                <a:gdLst/>
                <a:ahLst/>
                <a:rect l="l" t="t" r="r" b="b"/>
                <a:pathLst>
                  <a:path w="33" h="10">
                    <a:moveTo>
                      <a:pt x="0" y="0"/>
                    </a:moveTo>
                    <a:lnTo>
                      <a:pt x="2" y="5"/>
                    </a:lnTo>
                    <a:lnTo>
                      <a:pt x="33" y="10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1985400" y="360252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0" y="0"/>
                    </a:moveTo>
                    <a:lnTo>
                      <a:pt x="2" y="3"/>
                    </a:lnTo>
                    <a:lnTo>
                      <a:pt x="33" y="7"/>
                    </a:lnTo>
                    <a:lnTo>
                      <a:pt x="2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1986840" y="360072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29" y="5"/>
                    </a:lnTo>
                    <a:lnTo>
                      <a:pt x="34" y="7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1989000" y="359748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" y="4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29" y="4"/>
                    </a:lnTo>
                    <a:lnTo>
                      <a:pt x="31" y="9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1990440" y="35974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0" y="0"/>
                    </a:moveTo>
                    <a:lnTo>
                      <a:pt x="0" y="2"/>
                    </a:lnTo>
                    <a:lnTo>
                      <a:pt x="29" y="7"/>
                    </a:lnTo>
                    <a:lnTo>
                      <a:pt x="2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1990080" y="3596040"/>
                <a:ext cx="25560" cy="648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0"/>
                    </a:moveTo>
                    <a:lnTo>
                      <a:pt x="2" y="2"/>
                    </a:lnTo>
                    <a:lnTo>
                      <a:pt x="31" y="6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1993680" y="359460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4" y="5"/>
                    </a:lnTo>
                    <a:lnTo>
                      <a:pt x="29" y="7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995120" y="359460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2" y="3"/>
                    </a:lnTo>
                    <a:lnTo>
                      <a:pt x="26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996920" y="359280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3" y="0"/>
                    </a:moveTo>
                    <a:lnTo>
                      <a:pt x="0" y="2"/>
                    </a:lnTo>
                    <a:lnTo>
                      <a:pt x="22" y="7"/>
                    </a:lnTo>
                    <a:lnTo>
                      <a:pt x="16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1998360" y="3591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3" y="0"/>
                    </a:moveTo>
                    <a:lnTo>
                      <a:pt x="0" y="4"/>
                    </a:lnTo>
                    <a:lnTo>
                      <a:pt x="20" y="7"/>
                    </a:lnTo>
                    <a:lnTo>
                      <a:pt x="1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2001240" y="35913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2" y="0"/>
                    </a:moveTo>
                    <a:lnTo>
                      <a:pt x="0" y="2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2002680" y="358956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2" y="0"/>
                    </a:moveTo>
                    <a:lnTo>
                      <a:pt x="0" y="3"/>
                    </a:lnTo>
                    <a:lnTo>
                      <a:pt x="11" y="5"/>
                    </a:lnTo>
                    <a:lnTo>
                      <a:pt x="6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2004480" y="358956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0"/>
                    </a:moveTo>
                    <a:lnTo>
                      <a:pt x="0" y="3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2005920" y="35895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2005920" y="3589560"/>
                <a:ext cx="1800" cy="1800"/>
              </a:xfrm>
              <a:prstGeom prst="rect">
                <a:avLst/>
              </a:pr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1894680" y="36230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2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894680" y="36230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2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663200" y="351504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0" y="0"/>
                    </a:moveTo>
                    <a:lnTo>
                      <a:pt x="3" y="2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25" y="7"/>
                    </a:lnTo>
                    <a:lnTo>
                      <a:pt x="30" y="6"/>
                    </a:lnTo>
                    <a:lnTo>
                      <a:pt x="36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656720" y="3510360"/>
                <a:ext cx="44280" cy="12600"/>
              </a:xfrm>
              <a:custGeom>
                <a:avLst/>
                <a:gdLst/>
                <a:ahLst/>
                <a:rect l="l" t="t" r="r" b="b"/>
                <a:pathLst>
                  <a:path w="58" h="16">
                    <a:moveTo>
                      <a:pt x="0" y="0"/>
                    </a:moveTo>
                    <a:lnTo>
                      <a:pt x="6" y="4"/>
                    </a:lnTo>
                    <a:lnTo>
                      <a:pt x="12" y="7"/>
                    </a:lnTo>
                    <a:lnTo>
                      <a:pt x="16" y="10"/>
                    </a:lnTo>
                    <a:lnTo>
                      <a:pt x="22" y="14"/>
                    </a:lnTo>
                    <a:lnTo>
                      <a:pt x="31" y="16"/>
                    </a:lnTo>
                    <a:lnTo>
                      <a:pt x="39" y="14"/>
                    </a:lnTo>
                    <a:lnTo>
                      <a:pt x="46" y="13"/>
                    </a:lnTo>
                    <a:lnTo>
                      <a:pt x="52" y="10"/>
                    </a:lnTo>
                    <a:lnTo>
                      <a:pt x="5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1652400" y="3502440"/>
                <a:ext cx="56880" cy="1584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0" y="0"/>
                    </a:moveTo>
                    <a:lnTo>
                      <a:pt x="6" y="3"/>
                    </a:lnTo>
                    <a:lnTo>
                      <a:pt x="10" y="8"/>
                    </a:lnTo>
                    <a:lnTo>
                      <a:pt x="16" y="13"/>
                    </a:lnTo>
                    <a:lnTo>
                      <a:pt x="22" y="16"/>
                    </a:lnTo>
                    <a:lnTo>
                      <a:pt x="58" y="21"/>
                    </a:lnTo>
                    <a:lnTo>
                      <a:pt x="61" y="18"/>
                    </a:lnTo>
                    <a:lnTo>
                      <a:pt x="64" y="17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1649160" y="349596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88" h="24">
                    <a:moveTo>
                      <a:pt x="0" y="0"/>
                    </a:moveTo>
                    <a:lnTo>
                      <a:pt x="6" y="4"/>
                    </a:lnTo>
                    <a:lnTo>
                      <a:pt x="11" y="8"/>
                    </a:lnTo>
                    <a:lnTo>
                      <a:pt x="17" y="12"/>
                    </a:lnTo>
                    <a:lnTo>
                      <a:pt x="21" y="17"/>
                    </a:lnTo>
                    <a:lnTo>
                      <a:pt x="79" y="24"/>
                    </a:lnTo>
                    <a:lnTo>
                      <a:pt x="81" y="22"/>
                    </a:lnTo>
                    <a:lnTo>
                      <a:pt x="82" y="19"/>
                    </a:lnTo>
                    <a:lnTo>
                      <a:pt x="84" y="17"/>
                    </a:lnTo>
                    <a:lnTo>
                      <a:pt x="88" y="12"/>
                    </a:lnTo>
                    <a:lnTo>
                      <a:pt x="72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647360" y="3488040"/>
                <a:ext cx="82440" cy="2376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0" y="0"/>
                    </a:moveTo>
                    <a:lnTo>
                      <a:pt x="7" y="3"/>
                    </a:lnTo>
                    <a:lnTo>
                      <a:pt x="14" y="8"/>
                    </a:lnTo>
                    <a:lnTo>
                      <a:pt x="20" y="12"/>
                    </a:lnTo>
                    <a:lnTo>
                      <a:pt x="27" y="17"/>
                    </a:lnTo>
                    <a:lnTo>
                      <a:pt x="98" y="28"/>
                    </a:lnTo>
                    <a:lnTo>
                      <a:pt x="101" y="26"/>
                    </a:lnTo>
                    <a:lnTo>
                      <a:pt x="102" y="25"/>
                    </a:lnTo>
                    <a:lnTo>
                      <a:pt x="104" y="23"/>
                    </a:lnTo>
                    <a:lnTo>
                      <a:pt x="105" y="19"/>
                    </a:lnTo>
                    <a:lnTo>
                      <a:pt x="98" y="20"/>
                    </a:lnTo>
                    <a:lnTo>
                      <a:pt x="94" y="20"/>
                    </a:lnTo>
                    <a:lnTo>
                      <a:pt x="88" y="19"/>
                    </a:lnTo>
                    <a:lnTo>
                      <a:pt x="85" y="19"/>
                    </a:lnTo>
                    <a:lnTo>
                      <a:pt x="85" y="19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5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1653840" y="3483360"/>
                <a:ext cx="85680" cy="20520"/>
              </a:xfrm>
              <a:custGeom>
                <a:avLst/>
                <a:gdLst/>
                <a:ahLst/>
                <a:rect l="l" t="t" r="r" b="b"/>
                <a:pathLst>
                  <a:path w="107" h="26">
                    <a:moveTo>
                      <a:pt x="0" y="0"/>
                    </a:moveTo>
                    <a:lnTo>
                      <a:pt x="6" y="3"/>
                    </a:lnTo>
                    <a:lnTo>
                      <a:pt x="11" y="7"/>
                    </a:lnTo>
                    <a:lnTo>
                      <a:pt x="18" y="11"/>
                    </a:lnTo>
                    <a:lnTo>
                      <a:pt x="26" y="16"/>
                    </a:lnTo>
                    <a:lnTo>
                      <a:pt x="96" y="26"/>
                    </a:lnTo>
                    <a:lnTo>
                      <a:pt x="96" y="24"/>
                    </a:lnTo>
                    <a:lnTo>
                      <a:pt x="96" y="23"/>
                    </a:lnTo>
                    <a:lnTo>
                      <a:pt x="96" y="20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101" y="16"/>
                    </a:lnTo>
                    <a:lnTo>
                      <a:pt x="104" y="16"/>
                    </a:lnTo>
                    <a:lnTo>
                      <a:pt x="107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647360" y="35038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1650240" y="3475440"/>
                <a:ext cx="101880" cy="25200"/>
              </a:xfrm>
              <a:custGeom>
                <a:avLst/>
                <a:gdLst/>
                <a:ahLst/>
                <a:rect l="l" t="t" r="r" b="b"/>
                <a:pathLst>
                  <a:path w="127" h="32">
                    <a:moveTo>
                      <a:pt x="0" y="0"/>
                    </a:moveTo>
                    <a:lnTo>
                      <a:pt x="8" y="4"/>
                    </a:lnTo>
                    <a:lnTo>
                      <a:pt x="15" y="9"/>
                    </a:lnTo>
                    <a:lnTo>
                      <a:pt x="21" y="13"/>
                    </a:lnTo>
                    <a:lnTo>
                      <a:pt x="26" y="17"/>
                    </a:lnTo>
                    <a:lnTo>
                      <a:pt x="111" y="32"/>
                    </a:lnTo>
                    <a:lnTo>
                      <a:pt x="111" y="29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4" y="27"/>
                    </a:lnTo>
                    <a:lnTo>
                      <a:pt x="117" y="26"/>
                    </a:lnTo>
                    <a:lnTo>
                      <a:pt x="122" y="25"/>
                    </a:lnTo>
                    <a:lnTo>
                      <a:pt x="127" y="23"/>
                    </a:lnTo>
                    <a:lnTo>
                      <a:pt x="127" y="22"/>
                    </a:lnTo>
                    <a:lnTo>
                      <a:pt x="127" y="21"/>
                    </a:lnTo>
                    <a:lnTo>
                      <a:pt x="127" y="20"/>
                    </a:lnTo>
                    <a:lnTo>
                      <a:pt x="127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1650240" y="346896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141" h="34">
                    <a:moveTo>
                      <a:pt x="0" y="0"/>
                    </a:moveTo>
                    <a:lnTo>
                      <a:pt x="7" y="5"/>
                    </a:lnTo>
                    <a:lnTo>
                      <a:pt x="15" y="8"/>
                    </a:lnTo>
                    <a:lnTo>
                      <a:pt x="22" y="13"/>
                    </a:lnTo>
                    <a:lnTo>
                      <a:pt x="29" y="18"/>
                    </a:lnTo>
                    <a:lnTo>
                      <a:pt x="136" y="34"/>
                    </a:lnTo>
                    <a:lnTo>
                      <a:pt x="136" y="33"/>
                    </a:lnTo>
                    <a:lnTo>
                      <a:pt x="137" y="31"/>
                    </a:lnTo>
                    <a:lnTo>
                      <a:pt x="139" y="31"/>
                    </a:lnTo>
                    <a:lnTo>
                      <a:pt x="141" y="31"/>
                    </a:lnTo>
                    <a:lnTo>
                      <a:pt x="141" y="29"/>
                    </a:lnTo>
                    <a:lnTo>
                      <a:pt x="141" y="27"/>
                    </a:lnTo>
                    <a:lnTo>
                      <a:pt x="141" y="25"/>
                    </a:lnTo>
                    <a:lnTo>
                      <a:pt x="141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1648800" y="3462840"/>
                <a:ext cx="127080" cy="27000"/>
              </a:xfrm>
              <a:custGeom>
                <a:avLst/>
                <a:gdLst/>
                <a:ahLst/>
                <a:rect l="l" t="t" r="r" b="b"/>
                <a:pathLst>
                  <a:path w="159" h="36">
                    <a:moveTo>
                      <a:pt x="0" y="0"/>
                    </a:moveTo>
                    <a:lnTo>
                      <a:pt x="8" y="4"/>
                    </a:lnTo>
                    <a:lnTo>
                      <a:pt x="16" y="8"/>
                    </a:lnTo>
                    <a:lnTo>
                      <a:pt x="23" y="13"/>
                    </a:lnTo>
                    <a:lnTo>
                      <a:pt x="30" y="17"/>
                    </a:lnTo>
                    <a:lnTo>
                      <a:pt x="157" y="36"/>
                    </a:lnTo>
                    <a:lnTo>
                      <a:pt x="157" y="32"/>
                    </a:lnTo>
                    <a:lnTo>
                      <a:pt x="158" y="30"/>
                    </a:lnTo>
                    <a:lnTo>
                      <a:pt x="159" y="28"/>
                    </a:lnTo>
                    <a:lnTo>
                      <a:pt x="159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1649160" y="3454920"/>
                <a:ext cx="139680" cy="31680"/>
              </a:xfrm>
              <a:custGeom>
                <a:avLst/>
                <a:gdLst/>
                <a:ahLst/>
                <a:rect l="l" t="t" r="r" b="b"/>
                <a:pathLst>
                  <a:path w="176" h="40">
                    <a:moveTo>
                      <a:pt x="0" y="0"/>
                    </a:moveTo>
                    <a:lnTo>
                      <a:pt x="8" y="3"/>
                    </a:lnTo>
                    <a:lnTo>
                      <a:pt x="17" y="8"/>
                    </a:lnTo>
                    <a:lnTo>
                      <a:pt x="25" y="14"/>
                    </a:lnTo>
                    <a:lnTo>
                      <a:pt x="33" y="18"/>
                    </a:lnTo>
                    <a:lnTo>
                      <a:pt x="174" y="40"/>
                    </a:lnTo>
                    <a:lnTo>
                      <a:pt x="175" y="37"/>
                    </a:lnTo>
                    <a:lnTo>
                      <a:pt x="176" y="33"/>
                    </a:lnTo>
                    <a:lnTo>
                      <a:pt x="176" y="30"/>
                    </a:lnTo>
                    <a:lnTo>
                      <a:pt x="176" y="26"/>
                    </a:lnTo>
                    <a:lnTo>
                      <a:pt x="17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1649160" y="3446640"/>
                <a:ext cx="156960" cy="35280"/>
              </a:xfrm>
              <a:custGeom>
                <a:avLst/>
                <a:gdLst/>
                <a:ahLst/>
                <a:rect l="l" t="t" r="r" b="b"/>
                <a:pathLst>
                  <a:path w="198" h="42">
                    <a:moveTo>
                      <a:pt x="0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16" y="7"/>
                    </a:lnTo>
                    <a:lnTo>
                      <a:pt x="21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198" y="42"/>
                    </a:lnTo>
                    <a:lnTo>
                      <a:pt x="198" y="40"/>
                    </a:lnTo>
                    <a:lnTo>
                      <a:pt x="198" y="39"/>
                    </a:lnTo>
                    <a:lnTo>
                      <a:pt x="198" y="37"/>
                    </a:lnTo>
                    <a:lnTo>
                      <a:pt x="198" y="35"/>
                    </a:lnTo>
                    <a:lnTo>
                      <a:pt x="197" y="33"/>
                    </a:lnTo>
                    <a:lnTo>
                      <a:pt x="194" y="31"/>
                    </a:lnTo>
                    <a:lnTo>
                      <a:pt x="193" y="30"/>
                    </a:lnTo>
                    <a:lnTo>
                      <a:pt x="19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648800" y="343872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6">
                    <a:moveTo>
                      <a:pt x="0" y="0"/>
                    </a:moveTo>
                    <a:lnTo>
                      <a:pt x="6" y="3"/>
                    </a:lnTo>
                    <a:lnTo>
                      <a:pt x="10" y="4"/>
                    </a:lnTo>
                    <a:lnTo>
                      <a:pt x="16" y="7"/>
                    </a:lnTo>
                    <a:lnTo>
                      <a:pt x="22" y="10"/>
                    </a:lnTo>
                    <a:lnTo>
                      <a:pt x="27" y="12"/>
                    </a:lnTo>
                    <a:lnTo>
                      <a:pt x="32" y="14"/>
                    </a:lnTo>
                    <a:lnTo>
                      <a:pt x="37" y="18"/>
                    </a:lnTo>
                    <a:lnTo>
                      <a:pt x="43" y="20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1" y="38"/>
                    </a:lnTo>
                    <a:lnTo>
                      <a:pt x="205" y="35"/>
                    </a:lnTo>
                    <a:lnTo>
                      <a:pt x="201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1653480" y="343260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38" h="47">
                    <a:moveTo>
                      <a:pt x="0" y="0"/>
                    </a:moveTo>
                    <a:lnTo>
                      <a:pt x="6" y="2"/>
                    </a:lnTo>
                    <a:lnTo>
                      <a:pt x="12" y="4"/>
                    </a:lnTo>
                    <a:lnTo>
                      <a:pt x="18" y="6"/>
                    </a:lnTo>
                    <a:lnTo>
                      <a:pt x="25" y="8"/>
                    </a:lnTo>
                    <a:lnTo>
                      <a:pt x="31" y="12"/>
                    </a:lnTo>
                    <a:lnTo>
                      <a:pt x="36" y="14"/>
                    </a:lnTo>
                    <a:lnTo>
                      <a:pt x="41" y="16"/>
                    </a:lnTo>
                    <a:lnTo>
                      <a:pt x="47" y="20"/>
                    </a:lnTo>
                    <a:lnTo>
                      <a:pt x="238" y="47"/>
                    </a:lnTo>
                    <a:lnTo>
                      <a:pt x="232" y="44"/>
                    </a:lnTo>
                    <a:lnTo>
                      <a:pt x="227" y="39"/>
                    </a:lnTo>
                    <a:lnTo>
                      <a:pt x="221" y="35"/>
                    </a:lnTo>
                    <a:lnTo>
                      <a:pt x="2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663560" y="3422880"/>
                <a:ext cx="204480" cy="41400"/>
              </a:xfrm>
              <a:custGeom>
                <a:avLst/>
                <a:gdLst/>
                <a:ahLst/>
                <a:rect l="l" t="t" r="r" b="b"/>
                <a:pathLst>
                  <a:path w="259" h="51">
                    <a:moveTo>
                      <a:pt x="0" y="0"/>
                    </a:moveTo>
                    <a:lnTo>
                      <a:pt x="8" y="2"/>
                    </a:lnTo>
                    <a:lnTo>
                      <a:pt x="15" y="4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7" y="12"/>
                    </a:lnTo>
                    <a:lnTo>
                      <a:pt x="44" y="15"/>
                    </a:lnTo>
                    <a:lnTo>
                      <a:pt x="51" y="18"/>
                    </a:lnTo>
                    <a:lnTo>
                      <a:pt x="58" y="20"/>
                    </a:lnTo>
                    <a:lnTo>
                      <a:pt x="259" y="51"/>
                    </a:lnTo>
                    <a:lnTo>
                      <a:pt x="253" y="47"/>
                    </a:lnTo>
                    <a:lnTo>
                      <a:pt x="246" y="42"/>
                    </a:lnTo>
                    <a:lnTo>
                      <a:pt x="239" y="39"/>
                    </a:lnTo>
                    <a:lnTo>
                      <a:pt x="232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674360" y="3411720"/>
                <a:ext cx="222480" cy="44640"/>
              </a:xfrm>
              <a:custGeom>
                <a:avLst/>
                <a:gdLst/>
                <a:ahLst/>
                <a:rect l="l" t="t" r="r" b="b"/>
                <a:pathLst>
                  <a:path w="281" h="55">
                    <a:moveTo>
                      <a:pt x="0" y="0"/>
                    </a:moveTo>
                    <a:lnTo>
                      <a:pt x="9" y="3"/>
                    </a:lnTo>
                    <a:lnTo>
                      <a:pt x="17" y="6"/>
                    </a:lnTo>
                    <a:lnTo>
                      <a:pt x="26" y="9"/>
                    </a:lnTo>
                    <a:lnTo>
                      <a:pt x="34" y="11"/>
                    </a:lnTo>
                    <a:lnTo>
                      <a:pt x="42" y="15"/>
                    </a:lnTo>
                    <a:lnTo>
                      <a:pt x="50" y="17"/>
                    </a:lnTo>
                    <a:lnTo>
                      <a:pt x="58" y="21"/>
                    </a:lnTo>
                    <a:lnTo>
                      <a:pt x="67" y="24"/>
                    </a:lnTo>
                    <a:lnTo>
                      <a:pt x="281" y="55"/>
                    </a:lnTo>
                    <a:lnTo>
                      <a:pt x="274" y="51"/>
                    </a:lnTo>
                    <a:lnTo>
                      <a:pt x="266" y="46"/>
                    </a:lnTo>
                    <a:lnTo>
                      <a:pt x="258" y="43"/>
                    </a:lnTo>
                    <a:lnTo>
                      <a:pt x="25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1683720" y="3408840"/>
                <a:ext cx="222120" cy="42840"/>
              </a:xfrm>
              <a:custGeom>
                <a:avLst/>
                <a:gdLst/>
                <a:ahLst/>
                <a:rect l="l" t="t" r="r" b="b"/>
                <a:pathLst>
                  <a:path w="279" h="53">
                    <a:moveTo>
                      <a:pt x="47" y="18"/>
                    </a:moveTo>
                    <a:lnTo>
                      <a:pt x="42" y="15"/>
                    </a:lnTo>
                    <a:lnTo>
                      <a:pt x="37" y="14"/>
                    </a:lnTo>
                    <a:lnTo>
                      <a:pt x="30" y="12"/>
                    </a:lnTo>
                    <a:lnTo>
                      <a:pt x="24" y="10"/>
                    </a:lnTo>
                    <a:lnTo>
                      <a:pt x="19" y="7"/>
                    </a:lnTo>
                    <a:lnTo>
                      <a:pt x="13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6" y="3"/>
                    </a:lnTo>
                    <a:lnTo>
                      <a:pt x="30" y="3"/>
                    </a:lnTo>
                    <a:lnTo>
                      <a:pt x="36" y="3"/>
                    </a:lnTo>
                    <a:lnTo>
                      <a:pt x="41" y="3"/>
                    </a:lnTo>
                    <a:lnTo>
                      <a:pt x="236" y="31"/>
                    </a:lnTo>
                    <a:lnTo>
                      <a:pt x="242" y="34"/>
                    </a:lnTo>
                    <a:lnTo>
                      <a:pt x="247" y="36"/>
                    </a:lnTo>
                    <a:lnTo>
                      <a:pt x="253" y="38"/>
                    </a:lnTo>
                    <a:lnTo>
                      <a:pt x="257" y="41"/>
                    </a:lnTo>
                    <a:lnTo>
                      <a:pt x="263" y="44"/>
                    </a:lnTo>
                    <a:lnTo>
                      <a:pt x="267" y="46"/>
                    </a:lnTo>
                    <a:lnTo>
                      <a:pt x="273" y="50"/>
                    </a:lnTo>
                    <a:lnTo>
                      <a:pt x="279" y="53"/>
                    </a:lnTo>
                    <a:lnTo>
                      <a:pt x="47" y="18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698120" y="3408840"/>
                <a:ext cx="207720" cy="33120"/>
              </a:xfrm>
              <a:custGeom>
                <a:avLst/>
                <a:gdLst/>
                <a:ahLst/>
                <a:rect l="l" t="t" r="r" b="b"/>
                <a:pathLst>
                  <a:path w="262" h="43">
                    <a:moveTo>
                      <a:pt x="12" y="5"/>
                    </a:moveTo>
                    <a:lnTo>
                      <a:pt x="9" y="4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5" y="1"/>
                    </a:lnTo>
                    <a:lnTo>
                      <a:pt x="29" y="3"/>
                    </a:lnTo>
                    <a:lnTo>
                      <a:pt x="44" y="3"/>
                    </a:lnTo>
                    <a:lnTo>
                      <a:pt x="60" y="4"/>
                    </a:lnTo>
                    <a:lnTo>
                      <a:pt x="75" y="5"/>
                    </a:lnTo>
                    <a:lnTo>
                      <a:pt x="90" y="7"/>
                    </a:lnTo>
                    <a:lnTo>
                      <a:pt x="106" y="8"/>
                    </a:lnTo>
                    <a:lnTo>
                      <a:pt x="121" y="11"/>
                    </a:lnTo>
                    <a:lnTo>
                      <a:pt x="181" y="18"/>
                    </a:lnTo>
                    <a:lnTo>
                      <a:pt x="191" y="20"/>
                    </a:lnTo>
                    <a:lnTo>
                      <a:pt x="202" y="23"/>
                    </a:lnTo>
                    <a:lnTo>
                      <a:pt x="212" y="26"/>
                    </a:lnTo>
                    <a:lnTo>
                      <a:pt x="223" y="28"/>
                    </a:lnTo>
                    <a:lnTo>
                      <a:pt x="233" y="31"/>
                    </a:lnTo>
                    <a:lnTo>
                      <a:pt x="242" y="35"/>
                    </a:lnTo>
                    <a:lnTo>
                      <a:pt x="253" y="38"/>
                    </a:lnTo>
                    <a:lnTo>
                      <a:pt x="262" y="43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1719000" y="3410280"/>
                <a:ext cx="155520" cy="23760"/>
              </a:xfrm>
              <a:custGeom>
                <a:avLst/>
                <a:gdLst/>
                <a:ahLst/>
                <a:rect l="l" t="t" r="r" b="b"/>
                <a:pathLst>
                  <a:path w="195" h="28">
                    <a:moveTo>
                      <a:pt x="195" y="28"/>
                    </a:moveTo>
                    <a:lnTo>
                      <a:pt x="184" y="25"/>
                    </a:lnTo>
                    <a:lnTo>
                      <a:pt x="171" y="22"/>
                    </a:lnTo>
                    <a:lnTo>
                      <a:pt x="160" y="19"/>
                    </a:lnTo>
                    <a:lnTo>
                      <a:pt x="148" y="17"/>
                    </a:lnTo>
                    <a:lnTo>
                      <a:pt x="135" y="15"/>
                    </a:lnTo>
                    <a:lnTo>
                      <a:pt x="123" y="12"/>
                    </a:lnTo>
                    <a:lnTo>
                      <a:pt x="111" y="10"/>
                    </a:lnTo>
                    <a:lnTo>
                      <a:pt x="99" y="8"/>
                    </a:lnTo>
                    <a:lnTo>
                      <a:pt x="86" y="7"/>
                    </a:lnTo>
                    <a:lnTo>
                      <a:pt x="73" y="5"/>
                    </a:lnTo>
                    <a:lnTo>
                      <a:pt x="61" y="3"/>
                    </a:lnTo>
                    <a:lnTo>
                      <a:pt x="49" y="2"/>
                    </a:lnTo>
                    <a:lnTo>
                      <a:pt x="36" y="2"/>
                    </a:lnTo>
                    <a:lnTo>
                      <a:pt x="24" y="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95" y="28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1761840" y="3416760"/>
                <a:ext cx="47520" cy="612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60" y="7"/>
                    </a:moveTo>
                    <a:lnTo>
                      <a:pt x="53" y="5"/>
                    </a:lnTo>
                    <a:lnTo>
                      <a:pt x="45" y="4"/>
                    </a:lnTo>
                    <a:lnTo>
                      <a:pt x="38" y="3"/>
                    </a:lnTo>
                    <a:lnTo>
                      <a:pt x="30" y="2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6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698560" y="336276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2" y="0"/>
                    </a:moveTo>
                    <a:lnTo>
                      <a:pt x="0" y="2"/>
                    </a:lnTo>
                    <a:lnTo>
                      <a:pt x="1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692080" y="336276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1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2688480" y="336276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" y="0"/>
                    </a:moveTo>
                    <a:lnTo>
                      <a:pt x="0" y="0"/>
                    </a:lnTo>
                    <a:lnTo>
                      <a:pt x="9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2687040" y="336276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5" y="0"/>
                    </a:moveTo>
                    <a:lnTo>
                      <a:pt x="0" y="0"/>
                    </a:lnTo>
                    <a:lnTo>
                      <a:pt x="17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2687400" y="335952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5" y="0"/>
                    </a:moveTo>
                    <a:lnTo>
                      <a:pt x="0" y="4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2685240" y="335952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" y="0"/>
                    </a:moveTo>
                    <a:lnTo>
                      <a:pt x="0" y="4"/>
                    </a:lnTo>
                    <a:lnTo>
                      <a:pt x="19" y="6"/>
                    </a:lnTo>
                    <a:lnTo>
                      <a:pt x="2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2685240" y="3359520"/>
                <a:ext cx="16200" cy="324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2" y="0"/>
                    </a:moveTo>
                    <a:lnTo>
                      <a:pt x="0" y="0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2683800" y="3359520"/>
                <a:ext cx="17640" cy="32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6" y="0"/>
                    </a:moveTo>
                    <a:lnTo>
                      <a:pt x="0" y="0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2680560" y="335808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6" y="0"/>
                    </a:moveTo>
                    <a:lnTo>
                      <a:pt x="0" y="2"/>
                    </a:lnTo>
                    <a:lnTo>
                      <a:pt x="17" y="6"/>
                    </a:lnTo>
                    <a:lnTo>
                      <a:pt x="22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680920" y="335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2" y="0"/>
                    </a:moveTo>
                    <a:lnTo>
                      <a:pt x="0" y="2"/>
                    </a:lnTo>
                    <a:lnTo>
                      <a:pt x="16" y="6"/>
                    </a:lnTo>
                    <a:lnTo>
                      <a:pt x="18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679480" y="33580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2" y="0"/>
                    </a:moveTo>
                    <a:lnTo>
                      <a:pt x="0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2679480" y="33580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0"/>
                    </a:moveTo>
                    <a:lnTo>
                      <a:pt x="0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2677680" y="335628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5" y="0"/>
                    </a:moveTo>
                    <a:lnTo>
                      <a:pt x="0" y="3"/>
                    </a:lnTo>
                    <a:lnTo>
                      <a:pt x="16" y="5"/>
                    </a:lnTo>
                    <a:lnTo>
                      <a:pt x="19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2677680" y="335628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2" y="0"/>
                    </a:moveTo>
                    <a:lnTo>
                      <a:pt x="0" y="3"/>
                    </a:lnTo>
                    <a:lnTo>
                      <a:pt x="13" y="5"/>
                    </a:lnTo>
                    <a:lnTo>
                      <a:pt x="16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2675880" y="335628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2" y="0"/>
                    </a:moveTo>
                    <a:lnTo>
                      <a:pt x="0" y="0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2675880" y="335628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4" y="0"/>
                    </a:moveTo>
                    <a:lnTo>
                      <a:pt x="0" y="0"/>
                    </a:lnTo>
                    <a:lnTo>
                      <a:pt x="14" y="3"/>
                    </a:lnTo>
                    <a:lnTo>
                      <a:pt x="1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2675880" y="33548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2" y="0"/>
                    </a:moveTo>
                    <a:lnTo>
                      <a:pt x="0" y="2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674800" y="33548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674800" y="33548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72640" y="33548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7" y="0"/>
                    </a:moveTo>
                    <a:lnTo>
                      <a:pt x="0" y="0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2671560" y="33516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5" y="0"/>
                    </a:moveTo>
                    <a:lnTo>
                      <a:pt x="0" y="2"/>
                    </a:lnTo>
                    <a:lnTo>
                      <a:pt x="7" y="4"/>
                    </a:lnTo>
                    <a:lnTo>
                      <a:pt x="1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2671200" y="33516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0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2668320" y="3351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2" y="0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2668320" y="3351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5" y="0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6880" y="33516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5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2666520" y="33516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5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2665080" y="33501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2661840" y="33501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2661480" y="3350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2707560" y="334836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6" y="9"/>
                    </a:lnTo>
                    <a:lnTo>
                      <a:pt x="15" y="8"/>
                    </a:lnTo>
                    <a:lnTo>
                      <a:pt x="23" y="6"/>
                    </a:lnTo>
                    <a:lnTo>
                      <a:pt x="3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2696760" y="3345120"/>
                <a:ext cx="36720" cy="1116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5" y="13"/>
                    </a:lnTo>
                    <a:lnTo>
                      <a:pt x="21" y="11"/>
                    </a:lnTo>
                    <a:lnTo>
                      <a:pt x="30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2683800" y="3341880"/>
                <a:ext cx="49320" cy="972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9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2" y="9"/>
                    </a:lnTo>
                    <a:lnTo>
                      <a:pt x="55" y="9"/>
                    </a:lnTo>
                    <a:lnTo>
                      <a:pt x="47" y="10"/>
                    </a:lnTo>
                    <a:lnTo>
                      <a:pt x="38" y="13"/>
                    </a:lnTo>
                    <a:lnTo>
                      <a:pt x="31" y="1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2673000" y="333720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76" h="17">
                    <a:moveTo>
                      <a:pt x="0" y="10"/>
                    </a:moveTo>
                    <a:lnTo>
                      <a:pt x="0" y="7"/>
                    </a:lnTo>
                    <a:lnTo>
                      <a:pt x="3" y="5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76" y="10"/>
                    </a:lnTo>
                    <a:lnTo>
                      <a:pt x="70" y="11"/>
                    </a:lnTo>
                    <a:lnTo>
                      <a:pt x="63" y="13"/>
                    </a:lnTo>
                    <a:lnTo>
                      <a:pt x="54" y="14"/>
                    </a:lnTo>
                    <a:lnTo>
                      <a:pt x="46" y="1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2656800" y="3335760"/>
                <a:ext cx="71640" cy="12600"/>
              </a:xfrm>
              <a:custGeom>
                <a:avLst/>
                <a:gdLst/>
                <a:ahLst/>
                <a:rect l="l" t="t" r="r" b="b"/>
                <a:pathLst>
                  <a:path w="91" h="16">
                    <a:moveTo>
                      <a:pt x="22" y="0"/>
                    </a:moveTo>
                    <a:lnTo>
                      <a:pt x="16" y="1"/>
                    </a:lnTo>
                    <a:lnTo>
                      <a:pt x="12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58" y="16"/>
                    </a:lnTo>
                    <a:lnTo>
                      <a:pt x="66" y="14"/>
                    </a:lnTo>
                    <a:lnTo>
                      <a:pt x="74" y="13"/>
                    </a:lnTo>
                    <a:lnTo>
                      <a:pt x="82" y="11"/>
                    </a:lnTo>
                    <a:lnTo>
                      <a:pt x="91" y="9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2642760" y="3331080"/>
                <a:ext cx="76320" cy="14040"/>
              </a:xfrm>
              <a:custGeom>
                <a:avLst/>
                <a:gdLst/>
                <a:ahLst/>
                <a:rect l="l" t="t" r="r" b="b"/>
                <a:pathLst>
                  <a:path w="97" h="18">
                    <a:moveTo>
                      <a:pt x="21" y="0"/>
                    </a:moveTo>
                    <a:lnTo>
                      <a:pt x="16" y="3"/>
                    </a:lnTo>
                    <a:lnTo>
                      <a:pt x="10" y="5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59" y="18"/>
                    </a:lnTo>
                    <a:lnTo>
                      <a:pt x="64" y="18"/>
                    </a:lnTo>
                    <a:lnTo>
                      <a:pt x="69" y="18"/>
                    </a:lnTo>
                    <a:lnTo>
                      <a:pt x="75" y="17"/>
                    </a:lnTo>
                    <a:lnTo>
                      <a:pt x="79" y="17"/>
                    </a:lnTo>
                    <a:lnTo>
                      <a:pt x="84" y="15"/>
                    </a:lnTo>
                    <a:lnTo>
                      <a:pt x="87" y="14"/>
                    </a:lnTo>
                    <a:lnTo>
                      <a:pt x="92" y="14"/>
                    </a:lnTo>
                    <a:lnTo>
                      <a:pt x="97" y="1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2626920" y="3329280"/>
                <a:ext cx="84240" cy="14400"/>
              </a:xfrm>
              <a:custGeom>
                <a:avLst/>
                <a:gdLst/>
                <a:ahLst/>
                <a:rect l="l" t="t" r="r" b="b"/>
                <a:pathLst>
                  <a:path w="107" h="17">
                    <a:moveTo>
                      <a:pt x="24" y="0"/>
                    </a:moveTo>
                    <a:lnTo>
                      <a:pt x="18" y="2"/>
                    </a:lnTo>
                    <a:lnTo>
                      <a:pt x="13" y="4"/>
                    </a:lnTo>
                    <a:lnTo>
                      <a:pt x="7" y="6"/>
                    </a:lnTo>
                    <a:lnTo>
                      <a:pt x="0" y="8"/>
                    </a:lnTo>
                    <a:lnTo>
                      <a:pt x="69" y="17"/>
                    </a:lnTo>
                    <a:lnTo>
                      <a:pt x="74" y="17"/>
                    </a:lnTo>
                    <a:lnTo>
                      <a:pt x="78" y="17"/>
                    </a:lnTo>
                    <a:lnTo>
                      <a:pt x="83" y="16"/>
                    </a:lnTo>
                    <a:lnTo>
                      <a:pt x="89" y="16"/>
                    </a:lnTo>
                    <a:lnTo>
                      <a:pt x="93" y="15"/>
                    </a:lnTo>
                    <a:lnTo>
                      <a:pt x="98" y="14"/>
                    </a:lnTo>
                    <a:lnTo>
                      <a:pt x="103" y="14"/>
                    </a:lnTo>
                    <a:lnTo>
                      <a:pt x="107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2609640" y="3326040"/>
                <a:ext cx="93600" cy="15840"/>
              </a:xfrm>
              <a:custGeom>
                <a:avLst/>
                <a:gdLst/>
                <a:ahLst/>
                <a:rect l="l" t="t" r="r" b="b"/>
                <a:pathLst>
                  <a:path w="117" h="20">
                    <a:moveTo>
                      <a:pt x="24" y="0"/>
                    </a:moveTo>
                    <a:lnTo>
                      <a:pt x="18" y="2"/>
                    </a:lnTo>
                    <a:lnTo>
                      <a:pt x="13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76" y="20"/>
                    </a:lnTo>
                    <a:lnTo>
                      <a:pt x="81" y="19"/>
                    </a:lnTo>
                    <a:lnTo>
                      <a:pt x="86" y="19"/>
                    </a:lnTo>
                    <a:lnTo>
                      <a:pt x="92" y="18"/>
                    </a:lnTo>
                    <a:lnTo>
                      <a:pt x="96" y="18"/>
                    </a:lnTo>
                    <a:lnTo>
                      <a:pt x="101" y="18"/>
                    </a:lnTo>
                    <a:lnTo>
                      <a:pt x="107" y="17"/>
                    </a:lnTo>
                    <a:lnTo>
                      <a:pt x="111" y="17"/>
                    </a:lnTo>
                    <a:lnTo>
                      <a:pt x="117" y="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2593440" y="3324600"/>
                <a:ext cx="98280" cy="14400"/>
              </a:xfrm>
              <a:custGeom>
                <a:avLst/>
                <a:gdLst/>
                <a:ahLst/>
                <a:rect l="l" t="t" r="r" b="b"/>
                <a:pathLst>
                  <a:path w="126" h="20">
                    <a:moveTo>
                      <a:pt x="23" y="0"/>
                    </a:moveTo>
                    <a:lnTo>
                      <a:pt x="18" y="1"/>
                    </a:lnTo>
                    <a:lnTo>
                      <a:pt x="13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4" y="19"/>
                    </a:lnTo>
                    <a:lnTo>
                      <a:pt x="99" y="17"/>
                    </a:lnTo>
                    <a:lnTo>
                      <a:pt x="105" y="17"/>
                    </a:lnTo>
                    <a:lnTo>
                      <a:pt x="110" y="17"/>
                    </a:lnTo>
                    <a:lnTo>
                      <a:pt x="115" y="16"/>
                    </a:lnTo>
                    <a:lnTo>
                      <a:pt x="120" y="16"/>
                    </a:lnTo>
                    <a:lnTo>
                      <a:pt x="126" y="1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2572560" y="3319920"/>
                <a:ext cx="111240" cy="17280"/>
              </a:xfrm>
              <a:custGeom>
                <a:avLst/>
                <a:gdLst/>
                <a:ahLst/>
                <a:rect l="l" t="t" r="r" b="b"/>
                <a:pathLst>
                  <a:path w="138" h="21">
                    <a:moveTo>
                      <a:pt x="24" y="0"/>
                    </a:moveTo>
                    <a:lnTo>
                      <a:pt x="18" y="1"/>
                    </a:lnTo>
                    <a:lnTo>
                      <a:pt x="12" y="3"/>
                    </a:lnTo>
                    <a:lnTo>
                      <a:pt x="7" y="4"/>
                    </a:lnTo>
                    <a:lnTo>
                      <a:pt x="0" y="6"/>
                    </a:lnTo>
                    <a:lnTo>
                      <a:pt x="93" y="21"/>
                    </a:lnTo>
                    <a:lnTo>
                      <a:pt x="99" y="21"/>
                    </a:lnTo>
                    <a:lnTo>
                      <a:pt x="103" y="21"/>
                    </a:lnTo>
                    <a:lnTo>
                      <a:pt x="109" y="20"/>
                    </a:lnTo>
                    <a:lnTo>
                      <a:pt x="116" y="20"/>
                    </a:lnTo>
                    <a:lnTo>
                      <a:pt x="122" y="19"/>
                    </a:lnTo>
                    <a:lnTo>
                      <a:pt x="128" y="18"/>
                    </a:lnTo>
                    <a:lnTo>
                      <a:pt x="132" y="18"/>
                    </a:lnTo>
                    <a:lnTo>
                      <a:pt x="138" y="1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2553840" y="3318120"/>
                <a:ext cx="120960" cy="17640"/>
              </a:xfrm>
              <a:custGeom>
                <a:avLst/>
                <a:gdLst/>
                <a:ahLst/>
                <a:rect l="l" t="t" r="r" b="b"/>
                <a:pathLst>
                  <a:path w="151" h="22">
                    <a:moveTo>
                      <a:pt x="27" y="0"/>
                    </a:moveTo>
                    <a:lnTo>
                      <a:pt x="20" y="1"/>
                    </a:lnTo>
                    <a:lnTo>
                      <a:pt x="13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103" y="22"/>
                    </a:lnTo>
                    <a:lnTo>
                      <a:pt x="109" y="22"/>
                    </a:lnTo>
                    <a:lnTo>
                      <a:pt x="116" y="22"/>
                    </a:lnTo>
                    <a:lnTo>
                      <a:pt x="121" y="21"/>
                    </a:lnTo>
                    <a:lnTo>
                      <a:pt x="127" y="21"/>
                    </a:lnTo>
                    <a:lnTo>
                      <a:pt x="133" y="21"/>
                    </a:lnTo>
                    <a:lnTo>
                      <a:pt x="139" y="20"/>
                    </a:lnTo>
                    <a:lnTo>
                      <a:pt x="145" y="20"/>
                    </a:lnTo>
                    <a:lnTo>
                      <a:pt x="151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1620720" y="2897280"/>
              <a:ext cx="1157040" cy="520560"/>
              <a:chOff x="1620720" y="2897280"/>
              <a:chExt cx="1157040" cy="520560"/>
            </a:xfrm>
          </p:grpSpPr>
          <p:sp>
            <p:nvSpPr>
              <p:cNvPr id="696" name=""/>
              <p:cNvSpPr/>
              <p:nvPr/>
            </p:nvSpPr>
            <p:spPr>
              <a:xfrm flipH="1">
                <a:off x="2534760" y="3314520"/>
                <a:ext cx="129960" cy="19080"/>
              </a:xfrm>
              <a:custGeom>
                <a:avLst/>
                <a:gdLst/>
                <a:ahLst/>
                <a:rect l="l" t="t" r="r" b="b"/>
                <a:pathLst>
                  <a:path w="164" h="24">
                    <a:moveTo>
                      <a:pt x="28" y="0"/>
                    </a:moveTo>
                    <a:lnTo>
                      <a:pt x="21" y="1"/>
                    </a:lnTo>
                    <a:lnTo>
                      <a:pt x="14" y="3"/>
                    </a:lnTo>
                    <a:lnTo>
                      <a:pt x="7" y="4"/>
                    </a:lnTo>
                    <a:lnTo>
                      <a:pt x="0" y="7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7" y="24"/>
                    </a:lnTo>
                    <a:lnTo>
                      <a:pt x="132" y="23"/>
                    </a:lnTo>
                    <a:lnTo>
                      <a:pt x="139" y="22"/>
                    </a:lnTo>
                    <a:lnTo>
                      <a:pt x="145" y="22"/>
                    </a:lnTo>
                    <a:lnTo>
                      <a:pt x="151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2512800" y="3313080"/>
                <a:ext cx="141120" cy="20520"/>
              </a:xfrm>
              <a:custGeom>
                <a:avLst/>
                <a:gdLst/>
                <a:ahLst/>
                <a:rect l="l" t="t" r="r" b="b"/>
                <a:pathLst>
                  <a:path w="176" h="27">
                    <a:moveTo>
                      <a:pt x="29" y="0"/>
                    </a:moveTo>
                    <a:lnTo>
                      <a:pt x="22" y="1"/>
                    </a:lnTo>
                    <a:lnTo>
                      <a:pt x="15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124" y="27"/>
                    </a:lnTo>
                    <a:lnTo>
                      <a:pt x="130" y="26"/>
                    </a:lnTo>
                    <a:lnTo>
                      <a:pt x="137" y="25"/>
                    </a:lnTo>
                    <a:lnTo>
                      <a:pt x="144" y="25"/>
                    </a:lnTo>
                    <a:lnTo>
                      <a:pt x="151" y="23"/>
                    </a:lnTo>
                    <a:lnTo>
                      <a:pt x="156" y="23"/>
                    </a:lnTo>
                    <a:lnTo>
                      <a:pt x="163" y="22"/>
                    </a:lnTo>
                    <a:lnTo>
                      <a:pt x="170" y="22"/>
                    </a:lnTo>
                    <a:lnTo>
                      <a:pt x="176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2490120" y="3311640"/>
                <a:ext cx="152280" cy="19080"/>
              </a:xfrm>
              <a:custGeom>
                <a:avLst/>
                <a:gdLst/>
                <a:ahLst/>
                <a:rect l="l" t="t" r="r" b="b"/>
                <a:pathLst>
                  <a:path w="191" h="25">
                    <a:moveTo>
                      <a:pt x="31" y="0"/>
                    </a:moveTo>
                    <a:lnTo>
                      <a:pt x="24" y="1"/>
                    </a:lnTo>
                    <a:lnTo>
                      <a:pt x="16" y="3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136" y="25"/>
                    </a:lnTo>
                    <a:lnTo>
                      <a:pt x="142" y="25"/>
                    </a:lnTo>
                    <a:lnTo>
                      <a:pt x="149" y="25"/>
                    </a:lnTo>
                    <a:lnTo>
                      <a:pt x="156" y="24"/>
                    </a:lnTo>
                    <a:lnTo>
                      <a:pt x="163" y="24"/>
                    </a:lnTo>
                    <a:lnTo>
                      <a:pt x="170" y="24"/>
                    </a:lnTo>
                    <a:lnTo>
                      <a:pt x="177" y="23"/>
                    </a:lnTo>
                    <a:lnTo>
                      <a:pt x="184" y="23"/>
                    </a:lnTo>
                    <a:lnTo>
                      <a:pt x="191" y="2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2468160" y="3308400"/>
                <a:ext cx="162000" cy="20520"/>
              </a:xfrm>
              <a:custGeom>
                <a:avLst/>
                <a:gdLst/>
                <a:ahLst/>
                <a:rect l="l" t="t" r="r" b="b"/>
                <a:pathLst>
                  <a:path w="205" h="25">
                    <a:moveTo>
                      <a:pt x="33" y="0"/>
                    </a:moveTo>
                    <a:lnTo>
                      <a:pt x="26" y="0"/>
                    </a:lnTo>
                    <a:lnTo>
                      <a:pt x="17" y="1"/>
                    </a:lnTo>
                    <a:lnTo>
                      <a:pt x="9" y="3"/>
                    </a:lnTo>
                    <a:lnTo>
                      <a:pt x="0" y="4"/>
                    </a:lnTo>
                    <a:lnTo>
                      <a:pt x="147" y="25"/>
                    </a:lnTo>
                    <a:lnTo>
                      <a:pt x="154" y="25"/>
                    </a:lnTo>
                    <a:lnTo>
                      <a:pt x="162" y="25"/>
                    </a:lnTo>
                    <a:lnTo>
                      <a:pt x="169" y="25"/>
                    </a:lnTo>
                    <a:lnTo>
                      <a:pt x="176" y="25"/>
                    </a:lnTo>
                    <a:lnTo>
                      <a:pt x="183" y="25"/>
                    </a:lnTo>
                    <a:lnTo>
                      <a:pt x="190" y="25"/>
                    </a:lnTo>
                    <a:lnTo>
                      <a:pt x="198" y="25"/>
                    </a:lnTo>
                    <a:lnTo>
                      <a:pt x="205" y="2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2442600" y="3306600"/>
                <a:ext cx="174600" cy="22320"/>
              </a:xfrm>
              <a:custGeom>
                <a:avLst/>
                <a:gdLst/>
                <a:ahLst/>
                <a:rect l="l" t="t" r="r" b="b"/>
                <a:pathLst>
                  <a:path w="220" h="28">
                    <a:moveTo>
                      <a:pt x="35" y="0"/>
                    </a:moveTo>
                    <a:lnTo>
                      <a:pt x="31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4" y="4"/>
                    </a:lnTo>
                    <a:lnTo>
                      <a:pt x="0" y="5"/>
                    </a:lnTo>
                    <a:lnTo>
                      <a:pt x="160" y="28"/>
                    </a:lnTo>
                    <a:lnTo>
                      <a:pt x="167" y="28"/>
                    </a:lnTo>
                    <a:lnTo>
                      <a:pt x="174" y="28"/>
                    </a:lnTo>
                    <a:lnTo>
                      <a:pt x="182" y="27"/>
                    </a:lnTo>
                    <a:lnTo>
                      <a:pt x="190" y="27"/>
                    </a:lnTo>
                    <a:lnTo>
                      <a:pt x="197" y="27"/>
                    </a:lnTo>
                    <a:lnTo>
                      <a:pt x="205" y="26"/>
                    </a:lnTo>
                    <a:lnTo>
                      <a:pt x="213" y="26"/>
                    </a:lnTo>
                    <a:lnTo>
                      <a:pt x="220" y="2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2418840" y="3305160"/>
                <a:ext cx="183960" cy="23760"/>
              </a:xfrm>
              <a:custGeom>
                <a:avLst/>
                <a:gdLst/>
                <a:ahLst/>
                <a:rect l="l" t="t" r="r" b="b"/>
                <a:pathLst>
                  <a:path w="233" h="30">
                    <a:moveTo>
                      <a:pt x="40" y="0"/>
                    </a:moveTo>
                    <a:lnTo>
                      <a:pt x="36" y="0"/>
                    </a:lnTo>
                    <a:lnTo>
                      <a:pt x="30" y="0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5"/>
                    </a:lnTo>
                    <a:lnTo>
                      <a:pt x="172" y="30"/>
                    </a:lnTo>
                    <a:lnTo>
                      <a:pt x="180" y="29"/>
                    </a:lnTo>
                    <a:lnTo>
                      <a:pt x="187" y="29"/>
                    </a:lnTo>
                    <a:lnTo>
                      <a:pt x="195" y="28"/>
                    </a:lnTo>
                    <a:lnTo>
                      <a:pt x="203" y="28"/>
                    </a:lnTo>
                    <a:lnTo>
                      <a:pt x="210" y="28"/>
                    </a:lnTo>
                    <a:lnTo>
                      <a:pt x="218" y="28"/>
                    </a:lnTo>
                    <a:lnTo>
                      <a:pt x="225" y="28"/>
                    </a:lnTo>
                    <a:lnTo>
                      <a:pt x="233" y="28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2395080" y="3301920"/>
                <a:ext cx="193680" cy="25560"/>
              </a:xfrm>
              <a:custGeom>
                <a:avLst/>
                <a:gdLst/>
                <a:ahLst/>
                <a:rect l="l" t="t" r="r" b="b"/>
                <a:pathLst>
                  <a:path w="246" h="31">
                    <a:moveTo>
                      <a:pt x="44" y="0"/>
                    </a:moveTo>
                    <a:lnTo>
                      <a:pt x="38" y="0"/>
                    </a:lnTo>
                    <a:lnTo>
                      <a:pt x="33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6" y="4"/>
                    </a:lnTo>
                    <a:lnTo>
                      <a:pt x="0" y="5"/>
                    </a:lnTo>
                    <a:lnTo>
                      <a:pt x="185" y="31"/>
                    </a:lnTo>
                    <a:lnTo>
                      <a:pt x="192" y="31"/>
                    </a:lnTo>
                    <a:lnTo>
                      <a:pt x="200" y="31"/>
                    </a:lnTo>
                    <a:lnTo>
                      <a:pt x="207" y="31"/>
                    </a:lnTo>
                    <a:lnTo>
                      <a:pt x="215" y="31"/>
                    </a:lnTo>
                    <a:lnTo>
                      <a:pt x="223" y="31"/>
                    </a:lnTo>
                    <a:lnTo>
                      <a:pt x="230" y="30"/>
                    </a:lnTo>
                    <a:lnTo>
                      <a:pt x="238" y="30"/>
                    </a:lnTo>
                    <a:lnTo>
                      <a:pt x="246" y="2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2380680" y="3300480"/>
                <a:ext cx="190440" cy="27000"/>
              </a:xfrm>
              <a:custGeom>
                <a:avLst/>
                <a:gdLst/>
                <a:ahLst/>
                <a:rect l="l" t="t" r="r" b="b"/>
                <a:pathLst>
                  <a:path w="241" h="34">
                    <a:moveTo>
                      <a:pt x="48" y="0"/>
                    </a:moveTo>
                    <a:lnTo>
                      <a:pt x="42" y="0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4"/>
                    </a:lnTo>
                    <a:lnTo>
                      <a:pt x="6" y="5"/>
                    </a:lnTo>
                    <a:lnTo>
                      <a:pt x="0" y="6"/>
                    </a:lnTo>
                    <a:lnTo>
                      <a:pt x="193" y="34"/>
                    </a:lnTo>
                    <a:lnTo>
                      <a:pt x="199" y="34"/>
                    </a:lnTo>
                    <a:lnTo>
                      <a:pt x="204" y="34"/>
                    </a:lnTo>
                    <a:lnTo>
                      <a:pt x="210" y="33"/>
                    </a:lnTo>
                    <a:lnTo>
                      <a:pt x="216" y="33"/>
                    </a:lnTo>
                    <a:lnTo>
                      <a:pt x="223" y="33"/>
                    </a:lnTo>
                    <a:lnTo>
                      <a:pt x="228" y="31"/>
                    </a:lnTo>
                    <a:lnTo>
                      <a:pt x="234" y="31"/>
                    </a:lnTo>
                    <a:lnTo>
                      <a:pt x="241" y="31"/>
                    </a:lnTo>
                    <a:lnTo>
                      <a:pt x="238" y="31"/>
                    </a:lnTo>
                    <a:lnTo>
                      <a:pt x="235" y="30"/>
                    </a:lnTo>
                    <a:lnTo>
                      <a:pt x="234" y="29"/>
                    </a:lnTo>
                    <a:lnTo>
                      <a:pt x="232" y="2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2381040" y="3300480"/>
                <a:ext cx="172800" cy="25200"/>
              </a:xfrm>
              <a:custGeom>
                <a:avLst/>
                <a:gdLst/>
                <a:ahLst/>
                <a:rect l="l" t="t" r="r" b="b"/>
                <a:pathLst>
                  <a:path w="219" h="31">
                    <a:moveTo>
                      <a:pt x="61" y="0"/>
                    </a:move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0" y="3"/>
                    </a:lnTo>
                    <a:lnTo>
                      <a:pt x="202" y="31"/>
                    </a:lnTo>
                    <a:lnTo>
                      <a:pt x="205" y="31"/>
                    </a:lnTo>
                    <a:lnTo>
                      <a:pt x="210" y="31"/>
                    </a:lnTo>
                    <a:lnTo>
                      <a:pt x="215" y="31"/>
                    </a:lnTo>
                    <a:lnTo>
                      <a:pt x="219" y="31"/>
                    </a:lnTo>
                    <a:lnTo>
                      <a:pt x="215" y="30"/>
                    </a:lnTo>
                    <a:lnTo>
                      <a:pt x="210" y="28"/>
                    </a:lnTo>
                    <a:lnTo>
                      <a:pt x="204" y="27"/>
                    </a:lnTo>
                    <a:lnTo>
                      <a:pt x="200" y="25"/>
                    </a:lnTo>
                    <a:lnTo>
                      <a:pt x="195" y="23"/>
                    </a:lnTo>
                    <a:lnTo>
                      <a:pt x="190" y="22"/>
                    </a:lnTo>
                    <a:lnTo>
                      <a:pt x="186" y="21"/>
                    </a:lnTo>
                    <a:lnTo>
                      <a:pt x="181" y="2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388960" y="3300480"/>
                <a:ext cx="146160" cy="23760"/>
              </a:xfrm>
              <a:custGeom>
                <a:avLst/>
                <a:gdLst/>
                <a:ahLst/>
                <a:rect l="l" t="t" r="r" b="b"/>
                <a:pathLst>
                  <a:path w="184" h="29">
                    <a:moveTo>
                      <a:pt x="184" y="29"/>
                    </a:moveTo>
                    <a:lnTo>
                      <a:pt x="174" y="25"/>
                    </a:lnTo>
                    <a:lnTo>
                      <a:pt x="163" y="21"/>
                    </a:lnTo>
                    <a:lnTo>
                      <a:pt x="152" y="18"/>
                    </a:lnTo>
                    <a:lnTo>
                      <a:pt x="141" y="14"/>
                    </a:lnTo>
                    <a:lnTo>
                      <a:pt x="130" y="12"/>
                    </a:lnTo>
                    <a:lnTo>
                      <a:pt x="118" y="10"/>
                    </a:lnTo>
                    <a:lnTo>
                      <a:pt x="107" y="7"/>
                    </a:lnTo>
                    <a:lnTo>
                      <a:pt x="95" y="5"/>
                    </a:lnTo>
                    <a:lnTo>
                      <a:pt x="84" y="4"/>
                    </a:lnTo>
                    <a:lnTo>
                      <a:pt x="72" y="3"/>
                    </a:lnTo>
                    <a:lnTo>
                      <a:pt x="60" y="1"/>
                    </a:lnTo>
                    <a:lnTo>
                      <a:pt x="48" y="0"/>
                    </a:lnTo>
                    <a:lnTo>
                      <a:pt x="35" y="0"/>
                    </a:lnTo>
                    <a:lnTo>
                      <a:pt x="24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84" y="29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2411280" y="3300480"/>
                <a:ext cx="95040" cy="15840"/>
              </a:xfrm>
              <a:custGeom>
                <a:avLst/>
                <a:gdLst/>
                <a:ahLst/>
                <a:rect l="l" t="t" r="r" b="b"/>
                <a:pathLst>
                  <a:path w="120" h="20">
                    <a:moveTo>
                      <a:pt x="120" y="20"/>
                    </a:moveTo>
                    <a:lnTo>
                      <a:pt x="106" y="15"/>
                    </a:lnTo>
                    <a:lnTo>
                      <a:pt x="91" y="12"/>
                    </a:lnTo>
                    <a:lnTo>
                      <a:pt x="78" y="10"/>
                    </a:lnTo>
                    <a:lnTo>
                      <a:pt x="63" y="6"/>
                    </a:lnTo>
                    <a:lnTo>
                      <a:pt x="48" y="5"/>
                    </a:lnTo>
                    <a:lnTo>
                      <a:pt x="33" y="3"/>
                    </a:lnTo>
                    <a:lnTo>
                      <a:pt x="16" y="1"/>
                    </a:lnTo>
                    <a:lnTo>
                      <a:pt x="0" y="0"/>
                    </a:lnTo>
                    <a:lnTo>
                      <a:pt x="120" y="2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2715840" y="329400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0" y="29"/>
                    </a:moveTo>
                    <a:lnTo>
                      <a:pt x="0" y="34"/>
                    </a:lnTo>
                    <a:lnTo>
                      <a:pt x="1" y="34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12" y="27"/>
                    </a:lnTo>
                    <a:lnTo>
                      <a:pt x="19" y="21"/>
                    </a:lnTo>
                    <a:lnTo>
                      <a:pt x="26" y="16"/>
                    </a:lnTo>
                    <a:lnTo>
                      <a:pt x="35" y="12"/>
                    </a:lnTo>
                    <a:lnTo>
                      <a:pt x="38" y="14"/>
                    </a:lnTo>
                    <a:lnTo>
                      <a:pt x="39" y="17"/>
                    </a:lnTo>
                    <a:lnTo>
                      <a:pt x="41" y="20"/>
                    </a:lnTo>
                    <a:lnTo>
                      <a:pt x="45" y="22"/>
                    </a:lnTo>
                    <a:lnTo>
                      <a:pt x="50" y="19"/>
                    </a:lnTo>
                    <a:lnTo>
                      <a:pt x="56" y="14"/>
                    </a:lnTo>
                    <a:lnTo>
                      <a:pt x="61" y="10"/>
                    </a:lnTo>
                    <a:lnTo>
                      <a:pt x="66" y="7"/>
                    </a:lnTo>
                    <a:lnTo>
                      <a:pt x="16" y="0"/>
                    </a:lnTo>
                    <a:lnTo>
                      <a:pt x="12" y="7"/>
                    </a:lnTo>
                    <a:lnTo>
                      <a:pt x="8" y="14"/>
                    </a:lnTo>
                    <a:lnTo>
                      <a:pt x="3" y="2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2766240" y="3290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2768040" y="32907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2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768400" y="3316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c95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2690280" y="327168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85" h="50">
                    <a:moveTo>
                      <a:pt x="0" y="31"/>
                    </a:moveTo>
                    <a:lnTo>
                      <a:pt x="0" y="50"/>
                    </a:lnTo>
                    <a:lnTo>
                      <a:pt x="6" y="47"/>
                    </a:lnTo>
                    <a:lnTo>
                      <a:pt x="11" y="43"/>
                    </a:lnTo>
                    <a:lnTo>
                      <a:pt x="17" y="40"/>
                    </a:lnTo>
                    <a:lnTo>
                      <a:pt x="22" y="38"/>
                    </a:lnTo>
                    <a:lnTo>
                      <a:pt x="25" y="40"/>
                    </a:lnTo>
                    <a:lnTo>
                      <a:pt x="26" y="43"/>
                    </a:lnTo>
                    <a:lnTo>
                      <a:pt x="28" y="46"/>
                    </a:lnTo>
                    <a:lnTo>
                      <a:pt x="32" y="48"/>
                    </a:lnTo>
                    <a:lnTo>
                      <a:pt x="38" y="43"/>
                    </a:lnTo>
                    <a:lnTo>
                      <a:pt x="45" y="39"/>
                    </a:lnTo>
                    <a:lnTo>
                      <a:pt x="52" y="34"/>
                    </a:lnTo>
                    <a:lnTo>
                      <a:pt x="59" y="30"/>
                    </a:lnTo>
                    <a:lnTo>
                      <a:pt x="65" y="25"/>
                    </a:lnTo>
                    <a:lnTo>
                      <a:pt x="72" y="20"/>
                    </a:lnTo>
                    <a:lnTo>
                      <a:pt x="78" y="15"/>
                    </a:lnTo>
                    <a:lnTo>
                      <a:pt x="85" y="10"/>
                    </a:lnTo>
                    <a:lnTo>
                      <a:pt x="20" y="0"/>
                    </a:lnTo>
                    <a:lnTo>
                      <a:pt x="15" y="8"/>
                    </a:lnTo>
                    <a:lnTo>
                      <a:pt x="11" y="15"/>
                    </a:lnTo>
                    <a:lnTo>
                      <a:pt x="6" y="2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2747160" y="3270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0"/>
                    </a:moveTo>
                    <a:lnTo>
                      <a:pt x="0" y="13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2757240" y="327024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18" h="36">
                    <a:moveTo>
                      <a:pt x="18" y="13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3" y="10"/>
                    </a:lnTo>
                    <a:lnTo>
                      <a:pt x="9" y="19"/>
                    </a:lnTo>
                    <a:lnTo>
                      <a:pt x="5" y="27"/>
                    </a:lnTo>
                    <a:lnTo>
                      <a:pt x="0" y="36"/>
                    </a:lnTo>
                    <a:lnTo>
                      <a:pt x="5" y="29"/>
                    </a:lnTo>
                    <a:lnTo>
                      <a:pt x="9" y="22"/>
                    </a:lnTo>
                    <a:lnTo>
                      <a:pt x="14" y="18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2757240" y="329724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19"/>
                    </a:moveTo>
                    <a:lnTo>
                      <a:pt x="11" y="0"/>
                    </a:lnTo>
                    <a:lnTo>
                      <a:pt x="8" y="5"/>
                    </a:lnTo>
                    <a:lnTo>
                      <a:pt x="6" y="10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c6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2666520" y="3249720"/>
                <a:ext cx="98280" cy="48960"/>
              </a:xfrm>
              <a:custGeom>
                <a:avLst/>
                <a:gdLst/>
                <a:ahLst/>
                <a:rect l="l" t="t" r="r" b="b"/>
                <a:pathLst>
                  <a:path w="125" h="61">
                    <a:moveTo>
                      <a:pt x="0" y="43"/>
                    </a:moveTo>
                    <a:lnTo>
                      <a:pt x="0" y="47"/>
                    </a:lnTo>
                    <a:lnTo>
                      <a:pt x="4" y="43"/>
                    </a:lnTo>
                    <a:lnTo>
                      <a:pt x="8" y="39"/>
                    </a:lnTo>
                    <a:lnTo>
                      <a:pt x="12" y="36"/>
                    </a:lnTo>
                    <a:lnTo>
                      <a:pt x="16" y="31"/>
                    </a:lnTo>
                    <a:lnTo>
                      <a:pt x="22" y="28"/>
                    </a:lnTo>
                    <a:lnTo>
                      <a:pt x="27" y="23"/>
                    </a:lnTo>
                    <a:lnTo>
                      <a:pt x="32" y="18"/>
                    </a:lnTo>
                    <a:lnTo>
                      <a:pt x="38" y="14"/>
                    </a:lnTo>
                    <a:lnTo>
                      <a:pt x="31" y="24"/>
                    </a:lnTo>
                    <a:lnTo>
                      <a:pt x="26" y="33"/>
                    </a:lnTo>
                    <a:lnTo>
                      <a:pt x="19" y="44"/>
                    </a:lnTo>
                    <a:lnTo>
                      <a:pt x="12" y="54"/>
                    </a:lnTo>
                    <a:lnTo>
                      <a:pt x="62" y="61"/>
                    </a:lnTo>
                    <a:lnTo>
                      <a:pt x="71" y="55"/>
                    </a:lnTo>
                    <a:lnTo>
                      <a:pt x="79" y="50"/>
                    </a:lnTo>
                    <a:lnTo>
                      <a:pt x="87" y="44"/>
                    </a:lnTo>
                    <a:lnTo>
                      <a:pt x="94" y="37"/>
                    </a:lnTo>
                    <a:lnTo>
                      <a:pt x="102" y="31"/>
                    </a:lnTo>
                    <a:lnTo>
                      <a:pt x="110" y="25"/>
                    </a:lnTo>
                    <a:lnTo>
                      <a:pt x="118" y="20"/>
                    </a:lnTo>
                    <a:lnTo>
                      <a:pt x="125" y="14"/>
                    </a:lnTo>
                    <a:lnTo>
                      <a:pt x="20" y="0"/>
                    </a:lnTo>
                    <a:lnTo>
                      <a:pt x="14" y="10"/>
                    </a:lnTo>
                    <a:lnTo>
                      <a:pt x="8" y="21"/>
                    </a:lnTo>
                    <a:lnTo>
                      <a:pt x="4" y="3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2763720" y="3246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6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764800" y="32464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6"/>
                    </a:moveTo>
                    <a:lnTo>
                      <a:pt x="16" y="0"/>
                    </a:lnTo>
                    <a:lnTo>
                      <a:pt x="2" y="0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2764800" y="3284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4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2642760" y="3228840"/>
                <a:ext cx="106560" cy="50760"/>
              </a:xfrm>
              <a:custGeom>
                <a:avLst/>
                <a:gdLst/>
                <a:ahLst/>
                <a:rect l="l" t="t" r="r" b="b"/>
                <a:pathLst>
                  <a:path w="135" h="65">
                    <a:moveTo>
                      <a:pt x="0" y="27"/>
                    </a:moveTo>
                    <a:lnTo>
                      <a:pt x="0" y="52"/>
                    </a:lnTo>
                    <a:lnTo>
                      <a:pt x="2" y="55"/>
                    </a:lnTo>
                    <a:lnTo>
                      <a:pt x="6" y="51"/>
                    </a:lnTo>
                    <a:lnTo>
                      <a:pt x="9" y="48"/>
                    </a:lnTo>
                    <a:lnTo>
                      <a:pt x="14" y="44"/>
                    </a:lnTo>
                    <a:lnTo>
                      <a:pt x="18" y="41"/>
                    </a:lnTo>
                    <a:lnTo>
                      <a:pt x="16" y="44"/>
                    </a:lnTo>
                    <a:lnTo>
                      <a:pt x="14" y="48"/>
                    </a:lnTo>
                    <a:lnTo>
                      <a:pt x="11" y="51"/>
                    </a:lnTo>
                    <a:lnTo>
                      <a:pt x="9" y="55"/>
                    </a:lnTo>
                    <a:lnTo>
                      <a:pt x="74" y="65"/>
                    </a:lnTo>
                    <a:lnTo>
                      <a:pt x="80" y="59"/>
                    </a:lnTo>
                    <a:lnTo>
                      <a:pt x="89" y="53"/>
                    </a:lnTo>
                    <a:lnTo>
                      <a:pt x="95" y="48"/>
                    </a:lnTo>
                    <a:lnTo>
                      <a:pt x="104" y="42"/>
                    </a:lnTo>
                    <a:lnTo>
                      <a:pt x="112" y="36"/>
                    </a:lnTo>
                    <a:lnTo>
                      <a:pt x="118" y="30"/>
                    </a:lnTo>
                    <a:lnTo>
                      <a:pt x="127" y="25"/>
                    </a:lnTo>
                    <a:lnTo>
                      <a:pt x="135" y="19"/>
                    </a:lnTo>
                    <a:lnTo>
                      <a:pt x="14" y="0"/>
                    </a:lnTo>
                    <a:lnTo>
                      <a:pt x="10" y="6"/>
                    </a:lnTo>
                    <a:lnTo>
                      <a:pt x="7" y="12"/>
                    </a:lnTo>
                    <a:lnTo>
                      <a:pt x="3" y="1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2739240" y="322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lnTo>
                      <a:pt x="0" y="12"/>
                    </a:lnTo>
                    <a:lnTo>
                      <a:pt x="3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2748960" y="322416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36" h="47">
                    <a:moveTo>
                      <a:pt x="36" y="16"/>
                    </a:moveTo>
                    <a:lnTo>
                      <a:pt x="36" y="4"/>
                    </a:lnTo>
                    <a:lnTo>
                      <a:pt x="7" y="0"/>
                    </a:lnTo>
                    <a:lnTo>
                      <a:pt x="6" y="10"/>
                    </a:lnTo>
                    <a:lnTo>
                      <a:pt x="4" y="21"/>
                    </a:lnTo>
                    <a:lnTo>
                      <a:pt x="2" y="34"/>
                    </a:lnTo>
                    <a:lnTo>
                      <a:pt x="0" y="47"/>
                    </a:lnTo>
                    <a:lnTo>
                      <a:pt x="5" y="43"/>
                    </a:lnTo>
                    <a:lnTo>
                      <a:pt x="9" y="40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2" y="27"/>
                    </a:lnTo>
                    <a:lnTo>
                      <a:pt x="27" y="23"/>
                    </a:lnTo>
                    <a:lnTo>
                      <a:pt x="31" y="19"/>
                    </a:lnTo>
                    <a:lnTo>
                      <a:pt x="36" y="16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2749320" y="324972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13" y="25"/>
                    </a:moveTo>
                    <a:lnTo>
                      <a:pt x="13" y="0"/>
                    </a:lnTo>
                    <a:lnTo>
                      <a:pt x="9" y="6"/>
                    </a:lnTo>
                    <a:lnTo>
                      <a:pt x="7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c45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2615760" y="3203640"/>
                <a:ext cx="160560" cy="57240"/>
              </a:xfrm>
              <a:custGeom>
                <a:avLst/>
                <a:gdLst/>
                <a:ahLst/>
                <a:rect l="l" t="t" r="r" b="b"/>
                <a:pathLst>
                  <a:path w="202" h="74">
                    <a:moveTo>
                      <a:pt x="34" y="60"/>
                    </a:moveTo>
                    <a:lnTo>
                      <a:pt x="37" y="51"/>
                    </a:lnTo>
                    <a:lnTo>
                      <a:pt x="41" y="43"/>
                    </a:lnTo>
                    <a:lnTo>
                      <a:pt x="45" y="36"/>
                    </a:lnTo>
                    <a:lnTo>
                      <a:pt x="50" y="29"/>
                    </a:lnTo>
                    <a:lnTo>
                      <a:pt x="42" y="36"/>
                    </a:lnTo>
                    <a:lnTo>
                      <a:pt x="34" y="43"/>
                    </a:lnTo>
                    <a:lnTo>
                      <a:pt x="26" y="50"/>
                    </a:lnTo>
                    <a:lnTo>
                      <a:pt x="17" y="57"/>
                    </a:lnTo>
                    <a:lnTo>
                      <a:pt x="0" y="54"/>
                    </a:lnTo>
                    <a:lnTo>
                      <a:pt x="3" y="40"/>
                    </a:lnTo>
                    <a:lnTo>
                      <a:pt x="5" y="27"/>
                    </a:lnTo>
                    <a:lnTo>
                      <a:pt x="8" y="13"/>
                    </a:lnTo>
                    <a:lnTo>
                      <a:pt x="12" y="0"/>
                    </a:lnTo>
                    <a:lnTo>
                      <a:pt x="202" y="29"/>
                    </a:lnTo>
                    <a:lnTo>
                      <a:pt x="194" y="35"/>
                    </a:lnTo>
                    <a:lnTo>
                      <a:pt x="186" y="39"/>
                    </a:lnTo>
                    <a:lnTo>
                      <a:pt x="178" y="45"/>
                    </a:lnTo>
                    <a:lnTo>
                      <a:pt x="171" y="51"/>
                    </a:lnTo>
                    <a:lnTo>
                      <a:pt x="163" y="58"/>
                    </a:lnTo>
                    <a:lnTo>
                      <a:pt x="155" y="63"/>
                    </a:lnTo>
                    <a:lnTo>
                      <a:pt x="147" y="68"/>
                    </a:lnTo>
                    <a:lnTo>
                      <a:pt x="139" y="74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c15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1632960" y="337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c15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588760" y="3181320"/>
                <a:ext cx="182880" cy="61920"/>
              </a:xfrm>
              <a:custGeom>
                <a:avLst/>
                <a:gdLst/>
                <a:ahLst/>
                <a:rect l="l" t="t" r="r" b="b"/>
                <a:pathLst>
                  <a:path w="230" h="78">
                    <a:moveTo>
                      <a:pt x="43" y="59"/>
                    </a:moveTo>
                    <a:lnTo>
                      <a:pt x="43" y="58"/>
                    </a:lnTo>
                    <a:lnTo>
                      <a:pt x="44" y="57"/>
                    </a:lnTo>
                    <a:lnTo>
                      <a:pt x="45" y="56"/>
                    </a:lnTo>
                    <a:lnTo>
                      <a:pt x="45" y="55"/>
                    </a:lnTo>
                    <a:lnTo>
                      <a:pt x="44" y="56"/>
                    </a:lnTo>
                    <a:lnTo>
                      <a:pt x="43" y="57"/>
                    </a:lnTo>
                    <a:lnTo>
                      <a:pt x="41" y="58"/>
                    </a:lnTo>
                    <a:lnTo>
                      <a:pt x="40" y="59"/>
                    </a:lnTo>
                    <a:lnTo>
                      <a:pt x="0" y="53"/>
                    </a:lnTo>
                    <a:lnTo>
                      <a:pt x="3" y="39"/>
                    </a:lnTo>
                    <a:lnTo>
                      <a:pt x="8" y="25"/>
                    </a:lnTo>
                    <a:lnTo>
                      <a:pt x="14" y="12"/>
                    </a:lnTo>
                    <a:lnTo>
                      <a:pt x="18" y="0"/>
                    </a:lnTo>
                    <a:lnTo>
                      <a:pt x="230" y="31"/>
                    </a:lnTo>
                    <a:lnTo>
                      <a:pt x="222" y="36"/>
                    </a:lnTo>
                    <a:lnTo>
                      <a:pt x="213" y="42"/>
                    </a:lnTo>
                    <a:lnTo>
                      <a:pt x="205" y="48"/>
                    </a:lnTo>
                    <a:lnTo>
                      <a:pt x="197" y="54"/>
                    </a:lnTo>
                    <a:lnTo>
                      <a:pt x="188" y="61"/>
                    </a:lnTo>
                    <a:lnTo>
                      <a:pt x="180" y="66"/>
                    </a:lnTo>
                    <a:lnTo>
                      <a:pt x="172" y="72"/>
                    </a:lnTo>
                    <a:lnTo>
                      <a:pt x="164" y="78"/>
                    </a:lnTo>
                    <a:lnTo>
                      <a:pt x="43" y="59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1626840" y="3349800"/>
                <a:ext cx="20880" cy="2844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27" y="2"/>
                    </a:moveTo>
                    <a:lnTo>
                      <a:pt x="24" y="11"/>
                    </a:lnTo>
                    <a:lnTo>
                      <a:pt x="22" y="19"/>
                    </a:lnTo>
                    <a:lnTo>
                      <a:pt x="19" y="27"/>
                    </a:lnTo>
                    <a:lnTo>
                      <a:pt x="15" y="35"/>
                    </a:lnTo>
                    <a:lnTo>
                      <a:pt x="12" y="25"/>
                    </a:lnTo>
                    <a:lnTo>
                      <a:pt x="8" y="16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563560" y="3160800"/>
                <a:ext cx="203040" cy="65160"/>
              </a:xfrm>
              <a:custGeom>
                <a:avLst/>
                <a:gdLst/>
                <a:ahLst/>
                <a:rect l="l" t="t" r="r" b="b"/>
                <a:pathLst>
                  <a:path w="257" h="82">
                    <a:moveTo>
                      <a:pt x="26" y="0"/>
                    </a:moveTo>
                    <a:lnTo>
                      <a:pt x="20" y="13"/>
                    </a:lnTo>
                    <a:lnTo>
                      <a:pt x="13" y="25"/>
                    </a:lnTo>
                    <a:lnTo>
                      <a:pt x="6" y="39"/>
                    </a:lnTo>
                    <a:lnTo>
                      <a:pt x="0" y="53"/>
                    </a:lnTo>
                    <a:lnTo>
                      <a:pt x="190" y="82"/>
                    </a:lnTo>
                    <a:lnTo>
                      <a:pt x="198" y="76"/>
                    </a:lnTo>
                    <a:lnTo>
                      <a:pt x="206" y="69"/>
                    </a:lnTo>
                    <a:lnTo>
                      <a:pt x="214" y="63"/>
                    </a:lnTo>
                    <a:lnTo>
                      <a:pt x="223" y="58"/>
                    </a:lnTo>
                    <a:lnTo>
                      <a:pt x="232" y="52"/>
                    </a:lnTo>
                    <a:lnTo>
                      <a:pt x="240" y="47"/>
                    </a:lnTo>
                    <a:lnTo>
                      <a:pt x="249" y="42"/>
                    </a:lnTo>
                    <a:lnTo>
                      <a:pt x="257" y="3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1620360" y="3325680"/>
                <a:ext cx="36360" cy="4932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29" y="63"/>
                    </a:moveTo>
                    <a:lnTo>
                      <a:pt x="33" y="47"/>
                    </a:lnTo>
                    <a:lnTo>
                      <a:pt x="39" y="33"/>
                    </a:lnTo>
                    <a:lnTo>
                      <a:pt x="42" y="19"/>
                    </a:lnTo>
                    <a:lnTo>
                      <a:pt x="45" y="7"/>
                    </a:lnTo>
                    <a:lnTo>
                      <a:pt x="0" y="0"/>
                    </a:lnTo>
                    <a:lnTo>
                      <a:pt x="3" y="15"/>
                    </a:lnTo>
                    <a:lnTo>
                      <a:pt x="10" y="29"/>
                    </a:lnTo>
                    <a:lnTo>
                      <a:pt x="17" y="44"/>
                    </a:lnTo>
                    <a:lnTo>
                      <a:pt x="23" y="60"/>
                    </a:lnTo>
                    <a:lnTo>
                      <a:pt x="29" y="63"/>
                    </a:lnTo>
                    <a:close/>
                  </a:path>
                </a:pathLst>
              </a:custGeom>
              <a:solidFill>
                <a:srgbClr val="bf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2536200" y="3139920"/>
                <a:ext cx="220680" cy="66960"/>
              </a:xfrm>
              <a:custGeom>
                <a:avLst/>
                <a:gdLst/>
                <a:ahLst/>
                <a:rect l="l" t="t" r="r" b="b"/>
                <a:pathLst>
                  <a:path w="279" h="83">
                    <a:moveTo>
                      <a:pt x="32" y="0"/>
                    </a:moveTo>
                    <a:lnTo>
                      <a:pt x="23" y="12"/>
                    </a:lnTo>
                    <a:lnTo>
                      <a:pt x="15" y="25"/>
                    </a:lnTo>
                    <a:lnTo>
                      <a:pt x="9" y="38"/>
                    </a:lnTo>
                    <a:lnTo>
                      <a:pt x="0" y="52"/>
                    </a:lnTo>
                    <a:lnTo>
                      <a:pt x="212" y="83"/>
                    </a:lnTo>
                    <a:lnTo>
                      <a:pt x="221" y="77"/>
                    </a:lnTo>
                    <a:lnTo>
                      <a:pt x="230" y="72"/>
                    </a:lnTo>
                    <a:lnTo>
                      <a:pt x="238" y="67"/>
                    </a:lnTo>
                    <a:lnTo>
                      <a:pt x="246" y="60"/>
                    </a:lnTo>
                    <a:lnTo>
                      <a:pt x="255" y="54"/>
                    </a:lnTo>
                    <a:lnTo>
                      <a:pt x="263" y="48"/>
                    </a:lnTo>
                    <a:lnTo>
                      <a:pt x="271" y="43"/>
                    </a:lnTo>
                    <a:lnTo>
                      <a:pt x="279" y="3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c4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1620720" y="3298680"/>
                <a:ext cx="69840" cy="52560"/>
              </a:xfrm>
              <a:custGeom>
                <a:avLst/>
                <a:gdLst/>
                <a:ahLst/>
                <a:rect l="l" t="t" r="r" b="b"/>
                <a:pathLst>
                  <a:path w="89" h="67">
                    <a:moveTo>
                      <a:pt x="81" y="67"/>
                    </a:moveTo>
                    <a:lnTo>
                      <a:pt x="85" y="52"/>
                    </a:lnTo>
                    <a:lnTo>
                      <a:pt x="88" y="38"/>
                    </a:lnTo>
                    <a:lnTo>
                      <a:pt x="89" y="25"/>
                    </a:lnTo>
                    <a:lnTo>
                      <a:pt x="88" y="1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9" y="7"/>
                    </a:lnTo>
                    <a:lnTo>
                      <a:pt x="14" y="10"/>
                    </a:lnTo>
                    <a:lnTo>
                      <a:pt x="20" y="14"/>
                    </a:lnTo>
                    <a:lnTo>
                      <a:pt x="24" y="16"/>
                    </a:lnTo>
                    <a:lnTo>
                      <a:pt x="30" y="18"/>
                    </a:lnTo>
                    <a:lnTo>
                      <a:pt x="37" y="22"/>
                    </a:lnTo>
                    <a:lnTo>
                      <a:pt x="43" y="24"/>
                    </a:lnTo>
                    <a:lnTo>
                      <a:pt x="43" y="35"/>
                    </a:lnTo>
                    <a:lnTo>
                      <a:pt x="45" y="44"/>
                    </a:lnTo>
                    <a:lnTo>
                      <a:pt x="50" y="54"/>
                    </a:lnTo>
                    <a:lnTo>
                      <a:pt x="54" y="65"/>
                    </a:lnTo>
                    <a:lnTo>
                      <a:pt x="81" y="67"/>
                    </a:lnTo>
                    <a:close/>
                  </a:path>
                </a:pathLst>
              </a:custGeom>
              <a:solidFill>
                <a:srgbClr val="bc4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2506320" y="3121200"/>
                <a:ext cx="239760" cy="68040"/>
              </a:xfrm>
              <a:custGeom>
                <a:avLst/>
                <a:gdLst/>
                <a:ahLst/>
                <a:rect l="l" t="t" r="r" b="b"/>
                <a:pathLst>
                  <a:path w="302" h="86">
                    <a:moveTo>
                      <a:pt x="36" y="0"/>
                    </a:moveTo>
                    <a:lnTo>
                      <a:pt x="32" y="6"/>
                    </a:lnTo>
                    <a:lnTo>
                      <a:pt x="27" y="12"/>
                    </a:lnTo>
                    <a:lnTo>
                      <a:pt x="21" y="18"/>
                    </a:lnTo>
                    <a:lnTo>
                      <a:pt x="17" y="24"/>
                    </a:lnTo>
                    <a:lnTo>
                      <a:pt x="12" y="30"/>
                    </a:lnTo>
                    <a:lnTo>
                      <a:pt x="8" y="36"/>
                    </a:lnTo>
                    <a:lnTo>
                      <a:pt x="4" y="43"/>
                    </a:lnTo>
                    <a:lnTo>
                      <a:pt x="0" y="50"/>
                    </a:lnTo>
                    <a:lnTo>
                      <a:pt x="231" y="86"/>
                    </a:lnTo>
                    <a:lnTo>
                      <a:pt x="240" y="80"/>
                    </a:lnTo>
                    <a:lnTo>
                      <a:pt x="249" y="74"/>
                    </a:lnTo>
                    <a:lnTo>
                      <a:pt x="259" y="68"/>
                    </a:lnTo>
                    <a:lnTo>
                      <a:pt x="267" y="63"/>
                    </a:lnTo>
                    <a:lnTo>
                      <a:pt x="276" y="57"/>
                    </a:lnTo>
                    <a:lnTo>
                      <a:pt x="285" y="52"/>
                    </a:lnTo>
                    <a:lnTo>
                      <a:pt x="293" y="47"/>
                    </a:lnTo>
                    <a:lnTo>
                      <a:pt x="302" y="4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1620360" y="3270240"/>
                <a:ext cx="104760" cy="60480"/>
              </a:xfrm>
              <a:custGeom>
                <a:avLst/>
                <a:gdLst/>
                <a:ahLst/>
                <a:rect l="l" t="t" r="r" b="b"/>
                <a:pathLst>
                  <a:path w="133" h="76">
                    <a:moveTo>
                      <a:pt x="132" y="76"/>
                    </a:moveTo>
                    <a:lnTo>
                      <a:pt x="133" y="61"/>
                    </a:lnTo>
                    <a:lnTo>
                      <a:pt x="132" y="46"/>
                    </a:lnTo>
                    <a:lnTo>
                      <a:pt x="131" y="33"/>
                    </a:lnTo>
                    <a:lnTo>
                      <a:pt x="127" y="20"/>
                    </a:lnTo>
                    <a:lnTo>
                      <a:pt x="0" y="0"/>
                    </a:lnTo>
                    <a:lnTo>
                      <a:pt x="11" y="10"/>
                    </a:lnTo>
                    <a:lnTo>
                      <a:pt x="21" y="18"/>
                    </a:lnTo>
                    <a:lnTo>
                      <a:pt x="31" y="27"/>
                    </a:lnTo>
                    <a:lnTo>
                      <a:pt x="41" y="34"/>
                    </a:lnTo>
                    <a:lnTo>
                      <a:pt x="51" y="42"/>
                    </a:lnTo>
                    <a:lnTo>
                      <a:pt x="63" y="49"/>
                    </a:lnTo>
                    <a:lnTo>
                      <a:pt x="74" y="54"/>
                    </a:lnTo>
                    <a:lnTo>
                      <a:pt x="87" y="60"/>
                    </a:lnTo>
                    <a:lnTo>
                      <a:pt x="87" y="63"/>
                    </a:lnTo>
                    <a:lnTo>
                      <a:pt x="87" y="65"/>
                    </a:lnTo>
                    <a:lnTo>
                      <a:pt x="87" y="67"/>
                    </a:lnTo>
                    <a:lnTo>
                      <a:pt x="87" y="69"/>
                    </a:lnTo>
                    <a:lnTo>
                      <a:pt x="132" y="76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2475720" y="3102120"/>
                <a:ext cx="257400" cy="68040"/>
              </a:xfrm>
              <a:custGeom>
                <a:avLst/>
                <a:gdLst/>
                <a:ahLst/>
                <a:rect l="l" t="t" r="r" b="b"/>
                <a:pathLst>
                  <a:path w="323" h="87">
                    <a:moveTo>
                      <a:pt x="42" y="0"/>
                    </a:moveTo>
                    <a:lnTo>
                      <a:pt x="36" y="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0" y="23"/>
                    </a:lnTo>
                    <a:lnTo>
                      <a:pt x="15" y="30"/>
                    </a:lnTo>
                    <a:lnTo>
                      <a:pt x="10" y="36"/>
                    </a:lnTo>
                    <a:lnTo>
                      <a:pt x="4" y="42"/>
                    </a:lnTo>
                    <a:lnTo>
                      <a:pt x="0" y="49"/>
                    </a:lnTo>
                    <a:lnTo>
                      <a:pt x="247" y="87"/>
                    </a:lnTo>
                    <a:lnTo>
                      <a:pt x="254" y="82"/>
                    </a:lnTo>
                    <a:lnTo>
                      <a:pt x="261" y="77"/>
                    </a:lnTo>
                    <a:lnTo>
                      <a:pt x="268" y="74"/>
                    </a:lnTo>
                    <a:lnTo>
                      <a:pt x="275" y="69"/>
                    </a:lnTo>
                    <a:lnTo>
                      <a:pt x="282" y="66"/>
                    </a:lnTo>
                    <a:lnTo>
                      <a:pt x="289" y="61"/>
                    </a:lnTo>
                    <a:lnTo>
                      <a:pt x="296" y="58"/>
                    </a:lnTo>
                    <a:lnTo>
                      <a:pt x="303" y="53"/>
                    </a:lnTo>
                    <a:lnTo>
                      <a:pt x="308" y="51"/>
                    </a:lnTo>
                    <a:lnTo>
                      <a:pt x="313" y="49"/>
                    </a:lnTo>
                    <a:lnTo>
                      <a:pt x="319" y="45"/>
                    </a:lnTo>
                    <a:lnTo>
                      <a:pt x="323" y="4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1620720" y="3243240"/>
                <a:ext cx="139680" cy="65160"/>
              </a:xfrm>
              <a:custGeom>
                <a:avLst/>
                <a:gdLst/>
                <a:ahLst/>
                <a:rect l="l" t="t" r="r" b="b"/>
                <a:pathLst>
                  <a:path w="177" h="82">
                    <a:moveTo>
                      <a:pt x="177" y="82"/>
                    </a:moveTo>
                    <a:lnTo>
                      <a:pt x="176" y="67"/>
                    </a:lnTo>
                    <a:lnTo>
                      <a:pt x="171" y="52"/>
                    </a:lnTo>
                    <a:lnTo>
                      <a:pt x="164" y="37"/>
                    </a:lnTo>
                    <a:lnTo>
                      <a:pt x="155" y="2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7" y="5"/>
                    </a:lnTo>
                    <a:lnTo>
                      <a:pt x="13" y="7"/>
                    </a:lnTo>
                    <a:lnTo>
                      <a:pt x="20" y="8"/>
                    </a:lnTo>
                    <a:lnTo>
                      <a:pt x="27" y="10"/>
                    </a:lnTo>
                    <a:lnTo>
                      <a:pt x="34" y="13"/>
                    </a:lnTo>
                    <a:lnTo>
                      <a:pt x="41" y="15"/>
                    </a:lnTo>
                    <a:lnTo>
                      <a:pt x="46" y="17"/>
                    </a:lnTo>
                    <a:lnTo>
                      <a:pt x="53" y="19"/>
                    </a:lnTo>
                    <a:lnTo>
                      <a:pt x="51" y="19"/>
                    </a:lnTo>
                    <a:lnTo>
                      <a:pt x="49" y="19"/>
                    </a:lnTo>
                    <a:lnTo>
                      <a:pt x="48" y="18"/>
                    </a:lnTo>
                    <a:lnTo>
                      <a:pt x="45" y="17"/>
                    </a:lnTo>
                    <a:lnTo>
                      <a:pt x="45" y="22"/>
                    </a:lnTo>
                    <a:lnTo>
                      <a:pt x="45" y="26"/>
                    </a:lnTo>
                    <a:lnTo>
                      <a:pt x="45" y="30"/>
                    </a:lnTo>
                    <a:lnTo>
                      <a:pt x="45" y="33"/>
                    </a:lnTo>
                    <a:lnTo>
                      <a:pt x="51" y="38"/>
                    </a:lnTo>
                    <a:lnTo>
                      <a:pt x="57" y="43"/>
                    </a:lnTo>
                    <a:lnTo>
                      <a:pt x="61" y="47"/>
                    </a:lnTo>
                    <a:lnTo>
                      <a:pt x="67" y="52"/>
                    </a:lnTo>
                    <a:lnTo>
                      <a:pt x="73" y="56"/>
                    </a:lnTo>
                    <a:lnTo>
                      <a:pt x="78" y="60"/>
                    </a:lnTo>
                    <a:lnTo>
                      <a:pt x="83" y="64"/>
                    </a:lnTo>
                    <a:lnTo>
                      <a:pt x="89" y="69"/>
                    </a:lnTo>
                    <a:lnTo>
                      <a:pt x="177" y="82"/>
                    </a:lnTo>
                    <a:close/>
                  </a:path>
                </a:pathLst>
              </a:custGeom>
              <a:solidFill>
                <a:srgbClr val="ba42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2431800" y="3084480"/>
                <a:ext cx="285840" cy="68400"/>
              </a:xfrm>
              <a:custGeom>
                <a:avLst/>
                <a:gdLst/>
                <a:ahLst/>
                <a:rect l="l" t="t" r="r" b="b"/>
                <a:pathLst>
                  <a:path w="360" h="88">
                    <a:moveTo>
                      <a:pt x="52" y="0"/>
                    </a:moveTo>
                    <a:lnTo>
                      <a:pt x="45" y="6"/>
                    </a:lnTo>
                    <a:lnTo>
                      <a:pt x="38" y="11"/>
                    </a:lnTo>
                    <a:lnTo>
                      <a:pt x="31" y="16"/>
                    </a:lnTo>
                    <a:lnTo>
                      <a:pt x="25" y="22"/>
                    </a:lnTo>
                    <a:lnTo>
                      <a:pt x="19" y="28"/>
                    </a:lnTo>
                    <a:lnTo>
                      <a:pt x="13" y="34"/>
                    </a:lnTo>
                    <a:lnTo>
                      <a:pt x="6" y="41"/>
                    </a:lnTo>
                    <a:lnTo>
                      <a:pt x="0" y="47"/>
                    </a:lnTo>
                    <a:lnTo>
                      <a:pt x="266" y="88"/>
                    </a:lnTo>
                    <a:lnTo>
                      <a:pt x="270" y="84"/>
                    </a:lnTo>
                    <a:lnTo>
                      <a:pt x="276" y="82"/>
                    </a:lnTo>
                    <a:lnTo>
                      <a:pt x="280" y="80"/>
                    </a:lnTo>
                    <a:lnTo>
                      <a:pt x="284" y="76"/>
                    </a:lnTo>
                    <a:lnTo>
                      <a:pt x="291" y="72"/>
                    </a:lnTo>
                    <a:lnTo>
                      <a:pt x="299" y="67"/>
                    </a:lnTo>
                    <a:lnTo>
                      <a:pt x="308" y="64"/>
                    </a:lnTo>
                    <a:lnTo>
                      <a:pt x="317" y="59"/>
                    </a:lnTo>
                    <a:lnTo>
                      <a:pt x="326" y="56"/>
                    </a:lnTo>
                    <a:lnTo>
                      <a:pt x="338" y="52"/>
                    </a:lnTo>
                    <a:lnTo>
                      <a:pt x="348" y="49"/>
                    </a:lnTo>
                    <a:lnTo>
                      <a:pt x="360" y="4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b73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1623600" y="3216240"/>
                <a:ext cx="176400" cy="69840"/>
              </a:xfrm>
              <a:custGeom>
                <a:avLst/>
                <a:gdLst/>
                <a:ahLst/>
                <a:rect l="l" t="t" r="r" b="b"/>
                <a:pathLst>
                  <a:path w="221" h="89">
                    <a:moveTo>
                      <a:pt x="221" y="89"/>
                    </a:moveTo>
                    <a:lnTo>
                      <a:pt x="218" y="82"/>
                    </a:lnTo>
                    <a:lnTo>
                      <a:pt x="213" y="74"/>
                    </a:lnTo>
                    <a:lnTo>
                      <a:pt x="210" y="67"/>
                    </a:lnTo>
                    <a:lnTo>
                      <a:pt x="205" y="59"/>
                    </a:lnTo>
                    <a:lnTo>
                      <a:pt x="199" y="52"/>
                    </a:lnTo>
                    <a:lnTo>
                      <a:pt x="193" y="44"/>
                    </a:lnTo>
                    <a:lnTo>
                      <a:pt x="188" y="36"/>
                    </a:lnTo>
                    <a:lnTo>
                      <a:pt x="181" y="2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5" y="6"/>
                    </a:lnTo>
                    <a:lnTo>
                      <a:pt x="22" y="8"/>
                    </a:lnTo>
                    <a:lnTo>
                      <a:pt x="30" y="11"/>
                    </a:lnTo>
                    <a:lnTo>
                      <a:pt x="38" y="13"/>
                    </a:lnTo>
                    <a:lnTo>
                      <a:pt x="45" y="15"/>
                    </a:lnTo>
                    <a:lnTo>
                      <a:pt x="53" y="16"/>
                    </a:lnTo>
                    <a:lnTo>
                      <a:pt x="61" y="17"/>
                    </a:lnTo>
                    <a:lnTo>
                      <a:pt x="59" y="24"/>
                    </a:lnTo>
                    <a:lnTo>
                      <a:pt x="56" y="29"/>
                    </a:lnTo>
                    <a:lnTo>
                      <a:pt x="53" y="34"/>
                    </a:lnTo>
                    <a:lnTo>
                      <a:pt x="49" y="38"/>
                    </a:lnTo>
                    <a:lnTo>
                      <a:pt x="56" y="41"/>
                    </a:lnTo>
                    <a:lnTo>
                      <a:pt x="62" y="43"/>
                    </a:lnTo>
                    <a:lnTo>
                      <a:pt x="69" y="44"/>
                    </a:lnTo>
                    <a:lnTo>
                      <a:pt x="76" y="46"/>
                    </a:lnTo>
                    <a:lnTo>
                      <a:pt x="83" y="49"/>
                    </a:lnTo>
                    <a:lnTo>
                      <a:pt x="90" y="51"/>
                    </a:lnTo>
                    <a:lnTo>
                      <a:pt x="95" y="53"/>
                    </a:lnTo>
                    <a:lnTo>
                      <a:pt x="102" y="55"/>
                    </a:lnTo>
                    <a:lnTo>
                      <a:pt x="100" y="55"/>
                    </a:lnTo>
                    <a:lnTo>
                      <a:pt x="98" y="55"/>
                    </a:lnTo>
                    <a:lnTo>
                      <a:pt x="97" y="54"/>
                    </a:lnTo>
                    <a:lnTo>
                      <a:pt x="94" y="53"/>
                    </a:lnTo>
                    <a:lnTo>
                      <a:pt x="94" y="58"/>
                    </a:lnTo>
                    <a:lnTo>
                      <a:pt x="94" y="62"/>
                    </a:lnTo>
                    <a:lnTo>
                      <a:pt x="94" y="66"/>
                    </a:lnTo>
                    <a:lnTo>
                      <a:pt x="94" y="69"/>
                    </a:lnTo>
                    <a:lnTo>
                      <a:pt x="94" y="69"/>
                    </a:lnTo>
                    <a:lnTo>
                      <a:pt x="221" y="89"/>
                    </a:lnTo>
                    <a:close/>
                  </a:path>
                </a:pathLst>
              </a:custGeom>
              <a:solidFill>
                <a:srgbClr val="b73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2368080" y="3065400"/>
                <a:ext cx="330120" cy="68400"/>
              </a:xfrm>
              <a:custGeom>
                <a:avLst/>
                <a:gdLst/>
                <a:ahLst/>
                <a:rect l="l" t="t" r="r" b="b"/>
                <a:pathLst>
                  <a:path w="417" h="88">
                    <a:moveTo>
                      <a:pt x="58" y="0"/>
                    </a:moveTo>
                    <a:lnTo>
                      <a:pt x="50" y="6"/>
                    </a:lnTo>
                    <a:lnTo>
                      <a:pt x="43" y="10"/>
                    </a:lnTo>
                    <a:lnTo>
                      <a:pt x="35" y="16"/>
                    </a:lnTo>
                    <a:lnTo>
                      <a:pt x="28" y="22"/>
                    </a:lnTo>
                    <a:lnTo>
                      <a:pt x="21" y="28"/>
                    </a:lnTo>
                    <a:lnTo>
                      <a:pt x="14" y="35"/>
                    </a:lnTo>
                    <a:lnTo>
                      <a:pt x="7" y="40"/>
                    </a:lnTo>
                    <a:lnTo>
                      <a:pt x="0" y="47"/>
                    </a:lnTo>
                    <a:lnTo>
                      <a:pt x="281" y="88"/>
                    </a:lnTo>
                    <a:lnTo>
                      <a:pt x="295" y="83"/>
                    </a:lnTo>
                    <a:lnTo>
                      <a:pt x="310" y="77"/>
                    </a:lnTo>
                    <a:lnTo>
                      <a:pt x="326" y="73"/>
                    </a:lnTo>
                    <a:lnTo>
                      <a:pt x="344" y="69"/>
                    </a:lnTo>
                    <a:lnTo>
                      <a:pt x="361" y="65"/>
                    </a:lnTo>
                    <a:lnTo>
                      <a:pt x="379" y="61"/>
                    </a:lnTo>
                    <a:lnTo>
                      <a:pt x="398" y="58"/>
                    </a:lnTo>
                    <a:lnTo>
                      <a:pt x="417" y="5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b538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1638000" y="3182760"/>
                <a:ext cx="223920" cy="78120"/>
              </a:xfrm>
              <a:custGeom>
                <a:avLst/>
                <a:gdLst/>
                <a:ahLst/>
                <a:rect l="l" t="t" r="r" b="b"/>
                <a:pathLst>
                  <a:path w="281" h="98">
                    <a:moveTo>
                      <a:pt x="240" y="36"/>
                    </a:moveTo>
                    <a:lnTo>
                      <a:pt x="240" y="37"/>
                    </a:lnTo>
                    <a:lnTo>
                      <a:pt x="242" y="39"/>
                    </a:lnTo>
                    <a:lnTo>
                      <a:pt x="243" y="40"/>
                    </a:lnTo>
                    <a:lnTo>
                      <a:pt x="243" y="40"/>
                    </a:lnTo>
                    <a:lnTo>
                      <a:pt x="243" y="42"/>
                    </a:lnTo>
                    <a:lnTo>
                      <a:pt x="243" y="45"/>
                    </a:lnTo>
                    <a:lnTo>
                      <a:pt x="243" y="48"/>
                    </a:lnTo>
                    <a:lnTo>
                      <a:pt x="243" y="51"/>
                    </a:lnTo>
                    <a:lnTo>
                      <a:pt x="249" y="57"/>
                    </a:lnTo>
                    <a:lnTo>
                      <a:pt x="253" y="63"/>
                    </a:lnTo>
                    <a:lnTo>
                      <a:pt x="259" y="70"/>
                    </a:lnTo>
                    <a:lnTo>
                      <a:pt x="263" y="76"/>
                    </a:lnTo>
                    <a:lnTo>
                      <a:pt x="268" y="82"/>
                    </a:lnTo>
                    <a:lnTo>
                      <a:pt x="272" y="87"/>
                    </a:lnTo>
                    <a:lnTo>
                      <a:pt x="276" y="92"/>
                    </a:lnTo>
                    <a:lnTo>
                      <a:pt x="281" y="98"/>
                    </a:lnTo>
                    <a:lnTo>
                      <a:pt x="129" y="76"/>
                    </a:lnTo>
                    <a:lnTo>
                      <a:pt x="132" y="71"/>
                    </a:lnTo>
                    <a:lnTo>
                      <a:pt x="134" y="68"/>
                    </a:lnTo>
                    <a:lnTo>
                      <a:pt x="136" y="63"/>
                    </a:lnTo>
                    <a:lnTo>
                      <a:pt x="138" y="57"/>
                    </a:lnTo>
                    <a:lnTo>
                      <a:pt x="119" y="54"/>
                    </a:lnTo>
                    <a:lnTo>
                      <a:pt x="102" y="49"/>
                    </a:lnTo>
                    <a:lnTo>
                      <a:pt x="85" y="44"/>
                    </a:lnTo>
                    <a:lnTo>
                      <a:pt x="68" y="36"/>
                    </a:lnTo>
                    <a:lnTo>
                      <a:pt x="50" y="27"/>
                    </a:lnTo>
                    <a:lnTo>
                      <a:pt x="34" y="19"/>
                    </a:lnTo>
                    <a:lnTo>
                      <a:pt x="17" y="10"/>
                    </a:lnTo>
                    <a:lnTo>
                      <a:pt x="0" y="0"/>
                    </a:lnTo>
                    <a:lnTo>
                      <a:pt x="240" y="36"/>
                    </a:lnTo>
                    <a:close/>
                  </a:path>
                </a:pathLst>
              </a:custGeom>
              <a:solidFill>
                <a:srgbClr val="b538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2269440" y="3044880"/>
                <a:ext cx="406440" cy="74520"/>
              </a:xfrm>
              <a:custGeom>
                <a:avLst/>
                <a:gdLst/>
                <a:ahLst/>
                <a:rect l="l" t="t" r="r" b="b"/>
                <a:pathLst>
                  <a:path w="513" h="93">
                    <a:moveTo>
                      <a:pt x="65" y="0"/>
                    </a:moveTo>
                    <a:lnTo>
                      <a:pt x="55" y="6"/>
                    </a:lnTo>
                    <a:lnTo>
                      <a:pt x="47" y="11"/>
                    </a:lnTo>
                    <a:lnTo>
                      <a:pt x="39" y="17"/>
                    </a:lnTo>
                    <a:lnTo>
                      <a:pt x="31" y="22"/>
                    </a:lnTo>
                    <a:lnTo>
                      <a:pt x="23" y="29"/>
                    </a:lnTo>
                    <a:lnTo>
                      <a:pt x="15" y="34"/>
                    </a:lnTo>
                    <a:lnTo>
                      <a:pt x="7" y="41"/>
                    </a:lnTo>
                    <a:lnTo>
                      <a:pt x="0" y="48"/>
                    </a:lnTo>
                    <a:lnTo>
                      <a:pt x="308" y="93"/>
                    </a:lnTo>
                    <a:lnTo>
                      <a:pt x="319" y="91"/>
                    </a:lnTo>
                    <a:lnTo>
                      <a:pt x="330" y="87"/>
                    </a:lnTo>
                    <a:lnTo>
                      <a:pt x="341" y="85"/>
                    </a:lnTo>
                    <a:lnTo>
                      <a:pt x="354" y="83"/>
                    </a:lnTo>
                    <a:lnTo>
                      <a:pt x="365" y="81"/>
                    </a:lnTo>
                    <a:lnTo>
                      <a:pt x="378" y="79"/>
                    </a:lnTo>
                    <a:lnTo>
                      <a:pt x="391" y="77"/>
                    </a:lnTo>
                    <a:lnTo>
                      <a:pt x="403" y="76"/>
                    </a:lnTo>
                    <a:lnTo>
                      <a:pt x="416" y="74"/>
                    </a:lnTo>
                    <a:lnTo>
                      <a:pt x="430" y="72"/>
                    </a:lnTo>
                    <a:lnTo>
                      <a:pt x="444" y="71"/>
                    </a:lnTo>
                    <a:lnTo>
                      <a:pt x="456" y="70"/>
                    </a:lnTo>
                    <a:lnTo>
                      <a:pt x="470" y="70"/>
                    </a:lnTo>
                    <a:lnTo>
                      <a:pt x="484" y="69"/>
                    </a:lnTo>
                    <a:lnTo>
                      <a:pt x="499" y="69"/>
                    </a:lnTo>
                    <a:lnTo>
                      <a:pt x="513" y="69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53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1657080" y="3152880"/>
                <a:ext cx="263520" cy="83880"/>
              </a:xfrm>
              <a:custGeom>
                <a:avLst/>
                <a:gdLst/>
                <a:ahLst/>
                <a:rect l="l" t="t" r="r" b="b"/>
                <a:pathLst>
                  <a:path w="332" h="105">
                    <a:moveTo>
                      <a:pt x="279" y="40"/>
                    </a:moveTo>
                    <a:lnTo>
                      <a:pt x="284" y="46"/>
                    </a:lnTo>
                    <a:lnTo>
                      <a:pt x="291" y="52"/>
                    </a:lnTo>
                    <a:lnTo>
                      <a:pt x="296" y="56"/>
                    </a:lnTo>
                    <a:lnTo>
                      <a:pt x="302" y="61"/>
                    </a:lnTo>
                    <a:lnTo>
                      <a:pt x="306" y="65"/>
                    </a:lnTo>
                    <a:lnTo>
                      <a:pt x="310" y="70"/>
                    </a:lnTo>
                    <a:lnTo>
                      <a:pt x="313" y="75"/>
                    </a:lnTo>
                    <a:lnTo>
                      <a:pt x="317" y="78"/>
                    </a:lnTo>
                    <a:lnTo>
                      <a:pt x="317" y="80"/>
                    </a:lnTo>
                    <a:lnTo>
                      <a:pt x="317" y="83"/>
                    </a:lnTo>
                    <a:lnTo>
                      <a:pt x="317" y="86"/>
                    </a:lnTo>
                    <a:lnTo>
                      <a:pt x="317" y="89"/>
                    </a:lnTo>
                    <a:lnTo>
                      <a:pt x="321" y="92"/>
                    </a:lnTo>
                    <a:lnTo>
                      <a:pt x="325" y="97"/>
                    </a:lnTo>
                    <a:lnTo>
                      <a:pt x="328" y="101"/>
                    </a:lnTo>
                    <a:lnTo>
                      <a:pt x="332" y="105"/>
                    </a:lnTo>
                    <a:lnTo>
                      <a:pt x="151" y="78"/>
                    </a:lnTo>
                    <a:lnTo>
                      <a:pt x="136" y="71"/>
                    </a:lnTo>
                    <a:lnTo>
                      <a:pt x="120" y="63"/>
                    </a:lnTo>
                    <a:lnTo>
                      <a:pt x="105" y="55"/>
                    </a:lnTo>
                    <a:lnTo>
                      <a:pt x="90" y="46"/>
                    </a:lnTo>
                    <a:lnTo>
                      <a:pt x="75" y="38"/>
                    </a:lnTo>
                    <a:lnTo>
                      <a:pt x="60" y="30"/>
                    </a:lnTo>
                    <a:lnTo>
                      <a:pt x="45" y="22"/>
                    </a:lnTo>
                    <a:lnTo>
                      <a:pt x="29" y="15"/>
                    </a:lnTo>
                    <a:lnTo>
                      <a:pt x="23" y="10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279" y="40"/>
                    </a:lnTo>
                    <a:close/>
                  </a:path>
                </a:pathLst>
              </a:custGeom>
              <a:solidFill>
                <a:srgbClr val="b53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1669680" y="3029040"/>
                <a:ext cx="984240" cy="182520"/>
              </a:xfrm>
              <a:custGeom>
                <a:avLst/>
                <a:gdLst/>
                <a:ahLst/>
                <a:rect l="l" t="t" r="r" b="b"/>
                <a:pathLst>
                  <a:path w="1238" h="231">
                    <a:moveTo>
                      <a:pt x="76" y="0"/>
                    </a:moveTo>
                    <a:lnTo>
                      <a:pt x="65" y="6"/>
                    </a:lnTo>
                    <a:lnTo>
                      <a:pt x="56" y="10"/>
                    </a:lnTo>
                    <a:lnTo>
                      <a:pt x="47" y="16"/>
                    </a:lnTo>
                    <a:lnTo>
                      <a:pt x="37" y="21"/>
                    </a:lnTo>
                    <a:lnTo>
                      <a:pt x="27" y="27"/>
                    </a:lnTo>
                    <a:lnTo>
                      <a:pt x="18" y="32"/>
                    </a:lnTo>
                    <a:lnTo>
                      <a:pt x="9" y="39"/>
                    </a:lnTo>
                    <a:lnTo>
                      <a:pt x="0" y="45"/>
                    </a:lnTo>
                    <a:lnTo>
                      <a:pt x="359" y="99"/>
                    </a:lnTo>
                    <a:lnTo>
                      <a:pt x="397" y="95"/>
                    </a:lnTo>
                    <a:lnTo>
                      <a:pt x="436" y="91"/>
                    </a:lnTo>
                    <a:lnTo>
                      <a:pt x="477" y="90"/>
                    </a:lnTo>
                    <a:lnTo>
                      <a:pt x="518" y="89"/>
                    </a:lnTo>
                    <a:lnTo>
                      <a:pt x="561" y="90"/>
                    </a:lnTo>
                    <a:lnTo>
                      <a:pt x="604" y="92"/>
                    </a:lnTo>
                    <a:lnTo>
                      <a:pt x="645" y="95"/>
                    </a:lnTo>
                    <a:lnTo>
                      <a:pt x="687" y="99"/>
                    </a:lnTo>
                    <a:lnTo>
                      <a:pt x="727" y="105"/>
                    </a:lnTo>
                    <a:lnTo>
                      <a:pt x="766" y="111"/>
                    </a:lnTo>
                    <a:lnTo>
                      <a:pt x="804" y="119"/>
                    </a:lnTo>
                    <a:lnTo>
                      <a:pt x="840" y="127"/>
                    </a:lnTo>
                    <a:lnTo>
                      <a:pt x="872" y="137"/>
                    </a:lnTo>
                    <a:lnTo>
                      <a:pt x="902" y="148"/>
                    </a:lnTo>
                    <a:lnTo>
                      <a:pt x="930" y="159"/>
                    </a:lnTo>
                    <a:lnTo>
                      <a:pt x="953" y="172"/>
                    </a:lnTo>
                    <a:lnTo>
                      <a:pt x="958" y="174"/>
                    </a:lnTo>
                    <a:lnTo>
                      <a:pt x="965" y="178"/>
                    </a:lnTo>
                    <a:lnTo>
                      <a:pt x="971" y="180"/>
                    </a:lnTo>
                    <a:lnTo>
                      <a:pt x="977" y="183"/>
                    </a:lnTo>
                    <a:lnTo>
                      <a:pt x="982" y="187"/>
                    </a:lnTo>
                    <a:lnTo>
                      <a:pt x="987" y="189"/>
                    </a:lnTo>
                    <a:lnTo>
                      <a:pt x="992" y="193"/>
                    </a:lnTo>
                    <a:lnTo>
                      <a:pt x="998" y="195"/>
                    </a:lnTo>
                    <a:lnTo>
                      <a:pt x="1238" y="231"/>
                    </a:lnTo>
                    <a:lnTo>
                      <a:pt x="1232" y="224"/>
                    </a:lnTo>
                    <a:lnTo>
                      <a:pt x="1225" y="217"/>
                    </a:lnTo>
                    <a:lnTo>
                      <a:pt x="1215" y="210"/>
                    </a:lnTo>
                    <a:lnTo>
                      <a:pt x="1206" y="201"/>
                    </a:lnTo>
                    <a:lnTo>
                      <a:pt x="1197" y="193"/>
                    </a:lnTo>
                    <a:lnTo>
                      <a:pt x="1187" y="183"/>
                    </a:lnTo>
                    <a:lnTo>
                      <a:pt x="1175" y="174"/>
                    </a:lnTo>
                    <a:lnTo>
                      <a:pt x="1165" y="16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b2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1698120" y="3011400"/>
                <a:ext cx="927000" cy="174600"/>
              </a:xfrm>
              <a:custGeom>
                <a:avLst/>
                <a:gdLst/>
                <a:ahLst/>
                <a:rect l="l" t="t" r="r" b="b"/>
                <a:pathLst>
                  <a:path w="1167" h="219">
                    <a:moveTo>
                      <a:pt x="0" y="43"/>
                    </a:moveTo>
                    <a:lnTo>
                      <a:pt x="9" y="38"/>
                    </a:lnTo>
                    <a:lnTo>
                      <a:pt x="18" y="32"/>
                    </a:lnTo>
                    <a:lnTo>
                      <a:pt x="27" y="28"/>
                    </a:lnTo>
                    <a:lnTo>
                      <a:pt x="36" y="23"/>
                    </a:lnTo>
                    <a:lnTo>
                      <a:pt x="46" y="19"/>
                    </a:lnTo>
                    <a:lnTo>
                      <a:pt x="56" y="14"/>
                    </a:lnTo>
                    <a:lnTo>
                      <a:pt x="64" y="9"/>
                    </a:lnTo>
                    <a:lnTo>
                      <a:pt x="73" y="5"/>
                    </a:lnTo>
                    <a:lnTo>
                      <a:pt x="74" y="4"/>
                    </a:lnTo>
                    <a:lnTo>
                      <a:pt x="76" y="1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1091" y="152"/>
                    </a:lnTo>
                    <a:lnTo>
                      <a:pt x="1100" y="160"/>
                    </a:lnTo>
                    <a:lnTo>
                      <a:pt x="1109" y="170"/>
                    </a:lnTo>
                    <a:lnTo>
                      <a:pt x="1119" y="178"/>
                    </a:lnTo>
                    <a:lnTo>
                      <a:pt x="1129" y="186"/>
                    </a:lnTo>
                    <a:lnTo>
                      <a:pt x="1139" y="195"/>
                    </a:lnTo>
                    <a:lnTo>
                      <a:pt x="1148" y="203"/>
                    </a:lnTo>
                    <a:lnTo>
                      <a:pt x="1158" y="211"/>
                    </a:lnTo>
                    <a:lnTo>
                      <a:pt x="1167" y="219"/>
                    </a:lnTo>
                    <a:lnTo>
                      <a:pt x="888" y="179"/>
                    </a:lnTo>
                    <a:lnTo>
                      <a:pt x="868" y="171"/>
                    </a:lnTo>
                    <a:lnTo>
                      <a:pt x="848" y="163"/>
                    </a:lnTo>
                    <a:lnTo>
                      <a:pt x="825" y="155"/>
                    </a:lnTo>
                    <a:lnTo>
                      <a:pt x="799" y="148"/>
                    </a:lnTo>
                    <a:lnTo>
                      <a:pt x="774" y="142"/>
                    </a:lnTo>
                    <a:lnTo>
                      <a:pt x="747" y="136"/>
                    </a:lnTo>
                    <a:lnTo>
                      <a:pt x="719" y="130"/>
                    </a:lnTo>
                    <a:lnTo>
                      <a:pt x="691" y="126"/>
                    </a:lnTo>
                    <a:lnTo>
                      <a:pt x="661" y="122"/>
                    </a:lnTo>
                    <a:lnTo>
                      <a:pt x="631" y="119"/>
                    </a:lnTo>
                    <a:lnTo>
                      <a:pt x="600" y="115"/>
                    </a:lnTo>
                    <a:lnTo>
                      <a:pt x="570" y="114"/>
                    </a:lnTo>
                    <a:lnTo>
                      <a:pt x="539" y="112"/>
                    </a:lnTo>
                    <a:lnTo>
                      <a:pt x="509" y="112"/>
                    </a:lnTo>
                    <a:lnTo>
                      <a:pt x="478" y="112"/>
                    </a:lnTo>
                    <a:lnTo>
                      <a:pt x="448" y="112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f2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1728360" y="2992320"/>
                <a:ext cx="865440" cy="166680"/>
              </a:xfrm>
              <a:custGeom>
                <a:avLst/>
                <a:gdLst/>
                <a:ahLst/>
                <a:rect l="l" t="t" r="r" b="b"/>
                <a:pathLst>
                  <a:path w="1089" h="210">
                    <a:moveTo>
                      <a:pt x="0" y="46"/>
                    </a:moveTo>
                    <a:lnTo>
                      <a:pt x="9" y="41"/>
                    </a:lnTo>
                    <a:lnTo>
                      <a:pt x="17" y="37"/>
                    </a:lnTo>
                    <a:lnTo>
                      <a:pt x="25" y="32"/>
                    </a:lnTo>
                    <a:lnTo>
                      <a:pt x="33" y="29"/>
                    </a:lnTo>
                    <a:lnTo>
                      <a:pt x="40" y="21"/>
                    </a:lnTo>
                    <a:lnTo>
                      <a:pt x="48" y="13"/>
                    </a:lnTo>
                    <a:lnTo>
                      <a:pt x="56" y="6"/>
                    </a:lnTo>
                    <a:lnTo>
                      <a:pt x="64" y="0"/>
                    </a:lnTo>
                    <a:lnTo>
                      <a:pt x="1017" y="143"/>
                    </a:lnTo>
                    <a:lnTo>
                      <a:pt x="1023" y="150"/>
                    </a:lnTo>
                    <a:lnTo>
                      <a:pt x="1031" y="158"/>
                    </a:lnTo>
                    <a:lnTo>
                      <a:pt x="1039" y="166"/>
                    </a:lnTo>
                    <a:lnTo>
                      <a:pt x="1048" y="174"/>
                    </a:lnTo>
                    <a:lnTo>
                      <a:pt x="1058" y="183"/>
                    </a:lnTo>
                    <a:lnTo>
                      <a:pt x="1068" y="192"/>
                    </a:lnTo>
                    <a:lnTo>
                      <a:pt x="1078" y="201"/>
                    </a:lnTo>
                    <a:lnTo>
                      <a:pt x="1089" y="21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af2b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1758600" y="2973240"/>
                <a:ext cx="804960" cy="158760"/>
              </a:xfrm>
              <a:custGeom>
                <a:avLst/>
                <a:gdLst/>
                <a:ahLst/>
                <a:rect l="l" t="t" r="r" b="b"/>
                <a:pathLst>
                  <a:path w="1013" h="199">
                    <a:moveTo>
                      <a:pt x="62" y="0"/>
                    </a:moveTo>
                    <a:lnTo>
                      <a:pt x="54" y="5"/>
                    </a:lnTo>
                    <a:lnTo>
                      <a:pt x="46" y="9"/>
                    </a:lnTo>
                    <a:lnTo>
                      <a:pt x="38" y="14"/>
                    </a:lnTo>
                    <a:lnTo>
                      <a:pt x="30" y="20"/>
                    </a:lnTo>
                    <a:lnTo>
                      <a:pt x="23" y="25"/>
                    </a:lnTo>
                    <a:lnTo>
                      <a:pt x="15" y="32"/>
                    </a:lnTo>
                    <a:lnTo>
                      <a:pt x="7" y="39"/>
                    </a:lnTo>
                    <a:lnTo>
                      <a:pt x="0" y="47"/>
                    </a:lnTo>
                    <a:lnTo>
                      <a:pt x="1013" y="199"/>
                    </a:lnTo>
                    <a:lnTo>
                      <a:pt x="1003" y="191"/>
                    </a:lnTo>
                    <a:lnTo>
                      <a:pt x="994" y="183"/>
                    </a:lnTo>
                    <a:lnTo>
                      <a:pt x="987" y="175"/>
                    </a:lnTo>
                    <a:lnTo>
                      <a:pt x="980" y="168"/>
                    </a:lnTo>
                    <a:lnTo>
                      <a:pt x="976" y="161"/>
                    </a:lnTo>
                    <a:lnTo>
                      <a:pt x="972" y="157"/>
                    </a:lnTo>
                    <a:lnTo>
                      <a:pt x="970" y="151"/>
                    </a:lnTo>
                    <a:lnTo>
                      <a:pt x="970" y="147"/>
                    </a:lnTo>
                    <a:lnTo>
                      <a:pt x="964" y="144"/>
                    </a:lnTo>
                    <a:lnTo>
                      <a:pt x="956" y="141"/>
                    </a:lnTo>
                    <a:lnTo>
                      <a:pt x="948" y="137"/>
                    </a:lnTo>
                    <a:lnTo>
                      <a:pt x="941" y="13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d2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1785240" y="2957400"/>
                <a:ext cx="755640" cy="147600"/>
              </a:xfrm>
              <a:custGeom>
                <a:avLst/>
                <a:gdLst/>
                <a:ahLst/>
                <a:rect l="l" t="t" r="r" b="b"/>
                <a:pathLst>
                  <a:path w="953" h="188">
                    <a:moveTo>
                      <a:pt x="72" y="0"/>
                    </a:moveTo>
                    <a:lnTo>
                      <a:pt x="65" y="5"/>
                    </a:lnTo>
                    <a:lnTo>
                      <a:pt x="57" y="10"/>
                    </a:lnTo>
                    <a:lnTo>
                      <a:pt x="48" y="15"/>
                    </a:lnTo>
                    <a:lnTo>
                      <a:pt x="38" y="21"/>
                    </a:lnTo>
                    <a:lnTo>
                      <a:pt x="29" y="27"/>
                    </a:lnTo>
                    <a:lnTo>
                      <a:pt x="19" y="32"/>
                    </a:lnTo>
                    <a:lnTo>
                      <a:pt x="10" y="38"/>
                    </a:lnTo>
                    <a:lnTo>
                      <a:pt x="0" y="45"/>
                    </a:lnTo>
                    <a:lnTo>
                      <a:pt x="953" y="188"/>
                    </a:lnTo>
                    <a:lnTo>
                      <a:pt x="949" y="183"/>
                    </a:lnTo>
                    <a:lnTo>
                      <a:pt x="945" y="178"/>
                    </a:lnTo>
                    <a:lnTo>
                      <a:pt x="944" y="173"/>
                    </a:lnTo>
                    <a:lnTo>
                      <a:pt x="944" y="169"/>
                    </a:lnTo>
                    <a:lnTo>
                      <a:pt x="937" y="165"/>
                    </a:lnTo>
                    <a:lnTo>
                      <a:pt x="929" y="161"/>
                    </a:lnTo>
                    <a:lnTo>
                      <a:pt x="920" y="157"/>
                    </a:lnTo>
                    <a:lnTo>
                      <a:pt x="912" y="152"/>
                    </a:lnTo>
                    <a:lnTo>
                      <a:pt x="904" y="148"/>
                    </a:lnTo>
                    <a:lnTo>
                      <a:pt x="898" y="143"/>
                    </a:lnTo>
                    <a:lnTo>
                      <a:pt x="895" y="136"/>
                    </a:lnTo>
                    <a:lnTo>
                      <a:pt x="893" y="129"/>
                    </a:lnTo>
                    <a:lnTo>
                      <a:pt x="890" y="127"/>
                    </a:lnTo>
                    <a:lnTo>
                      <a:pt x="886" y="126"/>
                    </a:lnTo>
                    <a:lnTo>
                      <a:pt x="882" y="123"/>
                    </a:lnTo>
                    <a:lnTo>
                      <a:pt x="877" y="12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a23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1815840" y="2936880"/>
                <a:ext cx="696960" cy="142920"/>
              </a:xfrm>
              <a:custGeom>
                <a:avLst/>
                <a:gdLst/>
                <a:ahLst/>
                <a:rect l="l" t="t" r="r" b="b"/>
                <a:pathLst>
                  <a:path w="879" h="178">
                    <a:moveTo>
                      <a:pt x="0" y="46"/>
                    </a:moveTo>
                    <a:lnTo>
                      <a:pt x="9" y="40"/>
                    </a:lnTo>
                    <a:lnTo>
                      <a:pt x="17" y="36"/>
                    </a:lnTo>
                    <a:lnTo>
                      <a:pt x="25" y="30"/>
                    </a:lnTo>
                    <a:lnTo>
                      <a:pt x="34" y="25"/>
                    </a:lnTo>
                    <a:lnTo>
                      <a:pt x="40" y="19"/>
                    </a:lnTo>
                    <a:lnTo>
                      <a:pt x="47" y="14"/>
                    </a:lnTo>
                    <a:lnTo>
                      <a:pt x="53" y="8"/>
                    </a:lnTo>
                    <a:lnTo>
                      <a:pt x="58" y="2"/>
                    </a:lnTo>
                    <a:lnTo>
                      <a:pt x="61" y="2"/>
                    </a:lnTo>
                    <a:lnTo>
                      <a:pt x="65" y="2"/>
                    </a:lnTo>
                    <a:lnTo>
                      <a:pt x="69" y="1"/>
                    </a:lnTo>
                    <a:lnTo>
                      <a:pt x="74" y="0"/>
                    </a:lnTo>
                    <a:lnTo>
                      <a:pt x="792" y="109"/>
                    </a:lnTo>
                    <a:lnTo>
                      <a:pt x="799" y="115"/>
                    </a:lnTo>
                    <a:lnTo>
                      <a:pt x="806" y="122"/>
                    </a:lnTo>
                    <a:lnTo>
                      <a:pt x="814" y="128"/>
                    </a:lnTo>
                    <a:lnTo>
                      <a:pt x="822" y="132"/>
                    </a:lnTo>
                    <a:lnTo>
                      <a:pt x="830" y="138"/>
                    </a:lnTo>
                    <a:lnTo>
                      <a:pt x="838" y="144"/>
                    </a:lnTo>
                    <a:lnTo>
                      <a:pt x="847" y="149"/>
                    </a:lnTo>
                    <a:lnTo>
                      <a:pt x="857" y="153"/>
                    </a:lnTo>
                    <a:lnTo>
                      <a:pt x="860" y="161"/>
                    </a:lnTo>
                    <a:lnTo>
                      <a:pt x="864" y="167"/>
                    </a:lnTo>
                    <a:lnTo>
                      <a:pt x="871" y="173"/>
                    </a:lnTo>
                    <a:lnTo>
                      <a:pt x="879" y="17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a81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1845720" y="2922480"/>
                <a:ext cx="639720" cy="130320"/>
              </a:xfrm>
              <a:custGeom>
                <a:avLst/>
                <a:gdLst/>
                <a:ahLst/>
                <a:rect l="l" t="t" r="r" b="b"/>
                <a:pathLst>
                  <a:path w="805" h="164">
                    <a:moveTo>
                      <a:pt x="0" y="43"/>
                    </a:moveTo>
                    <a:lnTo>
                      <a:pt x="7" y="37"/>
                    </a:lnTo>
                    <a:lnTo>
                      <a:pt x="12" y="33"/>
                    </a:lnTo>
                    <a:lnTo>
                      <a:pt x="17" y="27"/>
                    </a:lnTo>
                    <a:lnTo>
                      <a:pt x="22" y="21"/>
                    </a:lnTo>
                    <a:lnTo>
                      <a:pt x="29" y="21"/>
                    </a:lnTo>
                    <a:lnTo>
                      <a:pt x="36" y="20"/>
                    </a:lnTo>
                    <a:lnTo>
                      <a:pt x="45" y="18"/>
                    </a:lnTo>
                    <a:lnTo>
                      <a:pt x="54" y="15"/>
                    </a:lnTo>
                    <a:lnTo>
                      <a:pt x="63" y="12"/>
                    </a:lnTo>
                    <a:lnTo>
                      <a:pt x="74" y="8"/>
                    </a:lnTo>
                    <a:lnTo>
                      <a:pt x="85" y="5"/>
                    </a:lnTo>
                    <a:lnTo>
                      <a:pt x="95" y="0"/>
                    </a:lnTo>
                    <a:lnTo>
                      <a:pt x="660" y="86"/>
                    </a:lnTo>
                    <a:lnTo>
                      <a:pt x="662" y="88"/>
                    </a:lnTo>
                    <a:lnTo>
                      <a:pt x="663" y="90"/>
                    </a:lnTo>
                    <a:lnTo>
                      <a:pt x="666" y="94"/>
                    </a:lnTo>
                    <a:lnTo>
                      <a:pt x="667" y="96"/>
                    </a:lnTo>
                    <a:lnTo>
                      <a:pt x="673" y="97"/>
                    </a:lnTo>
                    <a:lnTo>
                      <a:pt x="680" y="97"/>
                    </a:lnTo>
                    <a:lnTo>
                      <a:pt x="685" y="97"/>
                    </a:lnTo>
                    <a:lnTo>
                      <a:pt x="691" y="97"/>
                    </a:lnTo>
                    <a:lnTo>
                      <a:pt x="697" y="97"/>
                    </a:lnTo>
                    <a:lnTo>
                      <a:pt x="703" y="96"/>
                    </a:lnTo>
                    <a:lnTo>
                      <a:pt x="708" y="95"/>
                    </a:lnTo>
                    <a:lnTo>
                      <a:pt x="714" y="93"/>
                    </a:lnTo>
                    <a:lnTo>
                      <a:pt x="725" y="96"/>
                    </a:lnTo>
                    <a:lnTo>
                      <a:pt x="735" y="106"/>
                    </a:lnTo>
                    <a:lnTo>
                      <a:pt x="744" y="117"/>
                    </a:lnTo>
                    <a:lnTo>
                      <a:pt x="753" y="126"/>
                    </a:lnTo>
                    <a:lnTo>
                      <a:pt x="764" y="135"/>
                    </a:lnTo>
                    <a:lnTo>
                      <a:pt x="773" y="143"/>
                    </a:lnTo>
                    <a:lnTo>
                      <a:pt x="782" y="151"/>
                    </a:lnTo>
                    <a:lnTo>
                      <a:pt x="794" y="158"/>
                    </a:lnTo>
                    <a:lnTo>
                      <a:pt x="805" y="164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81c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1885320" y="2906640"/>
                <a:ext cx="569880" cy="117720"/>
              </a:xfrm>
              <a:custGeom>
                <a:avLst/>
                <a:gdLst/>
                <a:ahLst/>
                <a:rect l="l" t="t" r="r" b="b"/>
                <a:pathLst>
                  <a:path w="718" h="147">
                    <a:moveTo>
                      <a:pt x="109" y="0"/>
                    </a:moveTo>
                    <a:lnTo>
                      <a:pt x="95" y="4"/>
                    </a:lnTo>
                    <a:lnTo>
                      <a:pt x="82" y="10"/>
                    </a:lnTo>
                    <a:lnTo>
                      <a:pt x="67" y="16"/>
                    </a:lnTo>
                    <a:lnTo>
                      <a:pt x="53" y="21"/>
                    </a:lnTo>
                    <a:lnTo>
                      <a:pt x="39" y="26"/>
                    </a:lnTo>
                    <a:lnTo>
                      <a:pt x="25" y="31"/>
                    </a:lnTo>
                    <a:lnTo>
                      <a:pt x="13" y="34"/>
                    </a:lnTo>
                    <a:lnTo>
                      <a:pt x="0" y="38"/>
                    </a:lnTo>
                    <a:lnTo>
                      <a:pt x="718" y="147"/>
                    </a:lnTo>
                    <a:lnTo>
                      <a:pt x="710" y="139"/>
                    </a:lnTo>
                    <a:lnTo>
                      <a:pt x="702" y="131"/>
                    </a:lnTo>
                    <a:lnTo>
                      <a:pt x="692" y="122"/>
                    </a:lnTo>
                    <a:lnTo>
                      <a:pt x="684" y="112"/>
                    </a:lnTo>
                    <a:lnTo>
                      <a:pt x="677" y="114"/>
                    </a:lnTo>
                    <a:lnTo>
                      <a:pt x="670" y="115"/>
                    </a:lnTo>
                    <a:lnTo>
                      <a:pt x="664" y="116"/>
                    </a:lnTo>
                    <a:lnTo>
                      <a:pt x="657" y="116"/>
                    </a:lnTo>
                    <a:lnTo>
                      <a:pt x="650" y="116"/>
                    </a:lnTo>
                    <a:lnTo>
                      <a:pt x="643" y="116"/>
                    </a:lnTo>
                    <a:lnTo>
                      <a:pt x="636" y="116"/>
                    </a:lnTo>
                    <a:lnTo>
                      <a:pt x="629" y="115"/>
                    </a:lnTo>
                    <a:lnTo>
                      <a:pt x="622" y="106"/>
                    </a:lnTo>
                    <a:lnTo>
                      <a:pt x="616" y="97"/>
                    </a:lnTo>
                    <a:lnTo>
                      <a:pt x="612" y="89"/>
                    </a:lnTo>
                    <a:lnTo>
                      <a:pt x="605" y="79"/>
                    </a:lnTo>
                    <a:lnTo>
                      <a:pt x="594" y="86"/>
                    </a:lnTo>
                    <a:lnTo>
                      <a:pt x="584" y="91"/>
                    </a:lnTo>
                    <a:lnTo>
                      <a:pt x="574" y="93"/>
                    </a:lnTo>
                    <a:lnTo>
                      <a:pt x="562" y="93"/>
                    </a:lnTo>
                    <a:lnTo>
                      <a:pt x="553" y="90"/>
                    </a:lnTo>
                    <a:lnTo>
                      <a:pt x="545" y="85"/>
                    </a:lnTo>
                    <a:lnTo>
                      <a:pt x="538" y="76"/>
                    </a:lnTo>
                    <a:lnTo>
                      <a:pt x="533" y="6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1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1960200" y="2897280"/>
                <a:ext cx="449280" cy="93600"/>
              </a:xfrm>
              <a:custGeom>
                <a:avLst/>
                <a:gdLst/>
                <a:ahLst/>
                <a:rect l="l" t="t" r="r" b="b"/>
                <a:pathLst>
                  <a:path w="565" h="119">
                    <a:moveTo>
                      <a:pt x="0" y="33"/>
                    </a:moveTo>
                    <a:lnTo>
                      <a:pt x="14" y="28"/>
                    </a:lnTo>
                    <a:lnTo>
                      <a:pt x="27" y="23"/>
                    </a:lnTo>
                    <a:lnTo>
                      <a:pt x="40" y="17"/>
                    </a:lnTo>
                    <a:lnTo>
                      <a:pt x="52" y="13"/>
                    </a:lnTo>
                    <a:lnTo>
                      <a:pt x="65" y="9"/>
                    </a:lnTo>
                    <a:lnTo>
                      <a:pt x="76" y="5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0" y="3"/>
                    </a:lnTo>
                    <a:lnTo>
                      <a:pt x="103" y="7"/>
                    </a:lnTo>
                    <a:lnTo>
                      <a:pt x="106" y="10"/>
                    </a:lnTo>
                    <a:lnTo>
                      <a:pt x="110" y="14"/>
                    </a:lnTo>
                    <a:lnTo>
                      <a:pt x="118" y="12"/>
                    </a:lnTo>
                    <a:lnTo>
                      <a:pt x="126" y="9"/>
                    </a:lnTo>
                    <a:lnTo>
                      <a:pt x="134" y="8"/>
                    </a:lnTo>
                    <a:lnTo>
                      <a:pt x="142" y="7"/>
                    </a:lnTo>
                    <a:lnTo>
                      <a:pt x="150" y="6"/>
                    </a:lnTo>
                    <a:lnTo>
                      <a:pt x="158" y="5"/>
                    </a:lnTo>
                    <a:lnTo>
                      <a:pt x="166" y="5"/>
                    </a:lnTo>
                    <a:lnTo>
                      <a:pt x="174" y="5"/>
                    </a:lnTo>
                    <a:lnTo>
                      <a:pt x="346" y="31"/>
                    </a:lnTo>
                    <a:lnTo>
                      <a:pt x="352" y="36"/>
                    </a:lnTo>
                    <a:lnTo>
                      <a:pt x="356" y="39"/>
                    </a:lnTo>
                    <a:lnTo>
                      <a:pt x="361" y="41"/>
                    </a:lnTo>
                    <a:lnTo>
                      <a:pt x="365" y="41"/>
                    </a:lnTo>
                    <a:lnTo>
                      <a:pt x="368" y="41"/>
                    </a:lnTo>
                    <a:lnTo>
                      <a:pt x="373" y="40"/>
                    </a:lnTo>
                    <a:lnTo>
                      <a:pt x="377" y="38"/>
                    </a:lnTo>
                    <a:lnTo>
                      <a:pt x="382" y="36"/>
                    </a:lnTo>
                    <a:lnTo>
                      <a:pt x="405" y="38"/>
                    </a:lnTo>
                    <a:lnTo>
                      <a:pt x="413" y="46"/>
                    </a:lnTo>
                    <a:lnTo>
                      <a:pt x="420" y="52"/>
                    </a:lnTo>
                    <a:lnTo>
                      <a:pt x="428" y="56"/>
                    </a:lnTo>
                    <a:lnTo>
                      <a:pt x="436" y="61"/>
                    </a:lnTo>
                    <a:lnTo>
                      <a:pt x="444" y="65"/>
                    </a:lnTo>
                    <a:lnTo>
                      <a:pt x="453" y="67"/>
                    </a:lnTo>
                    <a:lnTo>
                      <a:pt x="464" y="69"/>
                    </a:lnTo>
                    <a:lnTo>
                      <a:pt x="476" y="71"/>
                    </a:lnTo>
                    <a:lnTo>
                      <a:pt x="480" y="85"/>
                    </a:lnTo>
                    <a:lnTo>
                      <a:pt x="486" y="96"/>
                    </a:lnTo>
                    <a:lnTo>
                      <a:pt x="494" y="104"/>
                    </a:lnTo>
                    <a:lnTo>
                      <a:pt x="504" y="107"/>
                    </a:lnTo>
                    <a:lnTo>
                      <a:pt x="514" y="108"/>
                    </a:lnTo>
                    <a:lnTo>
                      <a:pt x="526" y="106"/>
                    </a:lnTo>
                    <a:lnTo>
                      <a:pt x="537" y="100"/>
                    </a:lnTo>
                    <a:lnTo>
                      <a:pt x="548" y="93"/>
                    </a:lnTo>
                    <a:lnTo>
                      <a:pt x="554" y="100"/>
                    </a:lnTo>
                    <a:lnTo>
                      <a:pt x="558" y="106"/>
                    </a:lnTo>
                    <a:lnTo>
                      <a:pt x="562" y="112"/>
                    </a:lnTo>
                    <a:lnTo>
                      <a:pt x="565" y="119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31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1909440" y="2995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1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2031480" y="2897280"/>
                <a:ext cx="336600" cy="61920"/>
              </a:xfrm>
              <a:custGeom>
                <a:avLst/>
                <a:gdLst/>
                <a:ahLst/>
                <a:rect l="l" t="t" r="r" b="b"/>
                <a:pathLst>
                  <a:path w="424" h="78">
                    <a:moveTo>
                      <a:pt x="0" y="14"/>
                    </a:moveTo>
                    <a:lnTo>
                      <a:pt x="6" y="12"/>
                    </a:lnTo>
                    <a:lnTo>
                      <a:pt x="13" y="9"/>
                    </a:lnTo>
                    <a:lnTo>
                      <a:pt x="19" y="7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48" y="3"/>
                    </a:lnTo>
                    <a:lnTo>
                      <a:pt x="51" y="7"/>
                    </a:lnTo>
                    <a:lnTo>
                      <a:pt x="54" y="10"/>
                    </a:lnTo>
                    <a:lnTo>
                      <a:pt x="58" y="14"/>
                    </a:lnTo>
                    <a:lnTo>
                      <a:pt x="74" y="10"/>
                    </a:lnTo>
                    <a:lnTo>
                      <a:pt x="90" y="7"/>
                    </a:lnTo>
                    <a:lnTo>
                      <a:pt x="105" y="5"/>
                    </a:lnTo>
                    <a:lnTo>
                      <a:pt x="120" y="3"/>
                    </a:lnTo>
                    <a:lnTo>
                      <a:pt x="135" y="3"/>
                    </a:lnTo>
                    <a:lnTo>
                      <a:pt x="150" y="2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4" y="5"/>
                    </a:lnTo>
                    <a:lnTo>
                      <a:pt x="208" y="6"/>
                    </a:lnTo>
                    <a:lnTo>
                      <a:pt x="223" y="7"/>
                    </a:lnTo>
                    <a:lnTo>
                      <a:pt x="237" y="8"/>
                    </a:lnTo>
                    <a:lnTo>
                      <a:pt x="251" y="8"/>
                    </a:lnTo>
                    <a:lnTo>
                      <a:pt x="266" y="9"/>
                    </a:lnTo>
                    <a:lnTo>
                      <a:pt x="281" y="9"/>
                    </a:lnTo>
                    <a:lnTo>
                      <a:pt x="296" y="9"/>
                    </a:lnTo>
                    <a:lnTo>
                      <a:pt x="295" y="15"/>
                    </a:lnTo>
                    <a:lnTo>
                      <a:pt x="294" y="20"/>
                    </a:lnTo>
                    <a:lnTo>
                      <a:pt x="293" y="24"/>
                    </a:lnTo>
                    <a:lnTo>
                      <a:pt x="292" y="29"/>
                    </a:lnTo>
                    <a:lnTo>
                      <a:pt x="299" y="36"/>
                    </a:lnTo>
                    <a:lnTo>
                      <a:pt x="304" y="40"/>
                    </a:lnTo>
                    <a:lnTo>
                      <a:pt x="309" y="43"/>
                    </a:lnTo>
                    <a:lnTo>
                      <a:pt x="315" y="43"/>
                    </a:lnTo>
                    <a:lnTo>
                      <a:pt x="319" y="41"/>
                    </a:lnTo>
                    <a:lnTo>
                      <a:pt x="325" y="38"/>
                    </a:lnTo>
                    <a:lnTo>
                      <a:pt x="332" y="33"/>
                    </a:lnTo>
                    <a:lnTo>
                      <a:pt x="341" y="29"/>
                    </a:lnTo>
                    <a:lnTo>
                      <a:pt x="352" y="39"/>
                    </a:lnTo>
                    <a:lnTo>
                      <a:pt x="361" y="47"/>
                    </a:lnTo>
                    <a:lnTo>
                      <a:pt x="370" y="54"/>
                    </a:lnTo>
                    <a:lnTo>
                      <a:pt x="378" y="59"/>
                    </a:lnTo>
                    <a:lnTo>
                      <a:pt x="387" y="63"/>
                    </a:lnTo>
                    <a:lnTo>
                      <a:pt x="398" y="67"/>
                    </a:lnTo>
                    <a:lnTo>
                      <a:pt x="409" y="69"/>
                    </a:lnTo>
                    <a:lnTo>
                      <a:pt x="424" y="71"/>
                    </a:lnTo>
                    <a:lnTo>
                      <a:pt x="424" y="73"/>
                    </a:lnTo>
                    <a:lnTo>
                      <a:pt x="424" y="75"/>
                    </a:lnTo>
                    <a:lnTo>
                      <a:pt x="424" y="76"/>
                    </a:lnTo>
                    <a:lnTo>
                      <a:pt x="424" y="7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a314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2133360" y="2898720"/>
                <a:ext cx="138240" cy="22320"/>
              </a:xfrm>
              <a:custGeom>
                <a:avLst/>
                <a:gdLst/>
                <a:ahLst/>
                <a:rect l="l" t="t" r="r" b="b"/>
                <a:pathLst>
                  <a:path w="174" h="28">
                    <a:moveTo>
                      <a:pt x="0" y="2"/>
                    </a:moveTo>
                    <a:lnTo>
                      <a:pt x="22" y="0"/>
                    </a:lnTo>
                    <a:lnTo>
                      <a:pt x="44" y="0"/>
                    </a:lnTo>
                    <a:lnTo>
                      <a:pt x="65" y="2"/>
                    </a:lnTo>
                    <a:lnTo>
                      <a:pt x="86" y="3"/>
                    </a:lnTo>
                    <a:lnTo>
                      <a:pt x="108" y="5"/>
                    </a:lnTo>
                    <a:lnTo>
                      <a:pt x="129" y="6"/>
                    </a:lnTo>
                    <a:lnTo>
                      <a:pt x="151" y="6"/>
                    </a:lnTo>
                    <a:lnTo>
                      <a:pt x="174" y="6"/>
                    </a:lnTo>
                    <a:lnTo>
                      <a:pt x="173" y="12"/>
                    </a:lnTo>
                    <a:lnTo>
                      <a:pt x="172" y="17"/>
                    </a:lnTo>
                    <a:lnTo>
                      <a:pt x="171" y="21"/>
                    </a:lnTo>
                    <a:lnTo>
                      <a:pt x="170" y="26"/>
                    </a:lnTo>
                    <a:lnTo>
                      <a:pt x="171" y="26"/>
                    </a:lnTo>
                    <a:lnTo>
                      <a:pt x="172" y="26"/>
                    </a:lnTo>
                    <a:lnTo>
                      <a:pt x="172" y="27"/>
                    </a:lnTo>
                    <a:lnTo>
                      <a:pt x="172" y="2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00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2088360" y="2919240"/>
                <a:ext cx="17640" cy="82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7"/>
                    </a:moveTo>
                    <a:lnTo>
                      <a:pt x="2" y="4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5" y="3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0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2110680" y="3416400"/>
                <a:ext cx="1800" cy="1440"/>
              </a:xfrm>
              <a:prstGeom prst="rect">
                <a:avLst/>
              </a:pr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2112840" y="3416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2112840" y="3414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2112840" y="3414600"/>
                <a:ext cx="1440" cy="1800"/>
              </a:xfrm>
              <a:prstGeom prst="rect">
                <a:avLst/>
              </a:pr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2109240" y="34146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2109240" y="34146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210924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210924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210924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2109240" y="3411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109240" y="340992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109600" y="3409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2109600" y="3409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2" y="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109600" y="3409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0" y="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2109600" y="34084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2107440" y="3408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0" y="3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2107800" y="34084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2107800" y="34084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2107800" y="340668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0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2107800" y="3406680"/>
                <a:ext cx="12960" cy="18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0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2107800" y="3406680"/>
                <a:ext cx="12960" cy="18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0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2107800" y="34066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3" y="0"/>
                    </a:moveTo>
                    <a:lnTo>
                      <a:pt x="0" y="0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2107800" y="34066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3" y="0"/>
                    </a:moveTo>
                    <a:lnTo>
                      <a:pt x="0" y="0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2674440" y="3311640"/>
                <a:ext cx="34920" cy="612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25" y="0"/>
                    </a:moveTo>
                    <a:lnTo>
                      <a:pt x="19" y="2"/>
                    </a:lnTo>
                    <a:lnTo>
                      <a:pt x="13" y="5"/>
                    </a:lnTo>
                    <a:lnTo>
                      <a:pt x="7" y="7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4" y="6"/>
                    </a:lnTo>
                    <a:lnTo>
                      <a:pt x="40" y="6"/>
                    </a:lnTo>
                    <a:lnTo>
                      <a:pt x="45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2650680" y="330516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31" y="0"/>
                    </a:moveTo>
                    <a:lnTo>
                      <a:pt x="24" y="4"/>
                    </a:lnTo>
                    <a:lnTo>
                      <a:pt x="16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11" y="16"/>
                    </a:lnTo>
                    <a:lnTo>
                      <a:pt x="18" y="15"/>
                    </a:lnTo>
                    <a:lnTo>
                      <a:pt x="24" y="14"/>
                    </a:lnTo>
                    <a:lnTo>
                      <a:pt x="31" y="13"/>
                    </a:lnTo>
                    <a:lnTo>
                      <a:pt x="39" y="12"/>
                    </a:lnTo>
                    <a:lnTo>
                      <a:pt x="46" y="10"/>
                    </a:lnTo>
                    <a:lnTo>
                      <a:pt x="53" y="9"/>
                    </a:lnTo>
                    <a:lnTo>
                      <a:pt x="60" y="8"/>
                    </a:lnTo>
                    <a:lnTo>
                      <a:pt x="67" y="7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2630160" y="3298680"/>
                <a:ext cx="60480" cy="15840"/>
              </a:xfrm>
              <a:custGeom>
                <a:avLst/>
                <a:gdLst/>
                <a:ahLst/>
                <a:rect l="l" t="t" r="r" b="b"/>
                <a:pathLst>
                  <a:path w="76" h="20">
                    <a:moveTo>
                      <a:pt x="23" y="0"/>
                    </a:moveTo>
                    <a:lnTo>
                      <a:pt x="18" y="3"/>
                    </a:lnTo>
                    <a:lnTo>
                      <a:pt x="13" y="7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20" y="20"/>
                    </a:lnTo>
                    <a:lnTo>
                      <a:pt x="26" y="18"/>
                    </a:lnTo>
                    <a:lnTo>
                      <a:pt x="32" y="17"/>
                    </a:lnTo>
                    <a:lnTo>
                      <a:pt x="38" y="16"/>
                    </a:lnTo>
                    <a:lnTo>
                      <a:pt x="42" y="15"/>
                    </a:lnTo>
                    <a:lnTo>
                      <a:pt x="48" y="14"/>
                    </a:lnTo>
                    <a:lnTo>
                      <a:pt x="53" y="14"/>
                    </a:lnTo>
                    <a:lnTo>
                      <a:pt x="57" y="13"/>
                    </a:lnTo>
                    <a:lnTo>
                      <a:pt x="61" y="13"/>
                    </a:lnTo>
                    <a:lnTo>
                      <a:pt x="65" y="12"/>
                    </a:lnTo>
                    <a:lnTo>
                      <a:pt x="69" y="10"/>
                    </a:lnTo>
                    <a:lnTo>
                      <a:pt x="72" y="10"/>
                    </a:lnTo>
                    <a:lnTo>
                      <a:pt x="76" y="1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2609640" y="329400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89" h="22">
                    <a:moveTo>
                      <a:pt x="22" y="0"/>
                    </a:moveTo>
                    <a:lnTo>
                      <a:pt x="17" y="4"/>
                    </a:lnTo>
                    <a:lnTo>
                      <a:pt x="11" y="7"/>
                    </a:lnTo>
                    <a:lnTo>
                      <a:pt x="5" y="10"/>
                    </a:lnTo>
                    <a:lnTo>
                      <a:pt x="0" y="15"/>
                    </a:lnTo>
                    <a:lnTo>
                      <a:pt x="36" y="22"/>
                    </a:lnTo>
                    <a:lnTo>
                      <a:pt x="40" y="21"/>
                    </a:lnTo>
                    <a:lnTo>
                      <a:pt x="42" y="20"/>
                    </a:lnTo>
                    <a:lnTo>
                      <a:pt x="44" y="20"/>
                    </a:lnTo>
                    <a:lnTo>
                      <a:pt x="48" y="20"/>
                    </a:lnTo>
                    <a:lnTo>
                      <a:pt x="53" y="19"/>
                    </a:lnTo>
                    <a:lnTo>
                      <a:pt x="59" y="16"/>
                    </a:lnTo>
                    <a:lnTo>
                      <a:pt x="64" y="15"/>
                    </a:lnTo>
                    <a:lnTo>
                      <a:pt x="70" y="14"/>
                    </a:lnTo>
                    <a:lnTo>
                      <a:pt x="74" y="13"/>
                    </a:lnTo>
                    <a:lnTo>
                      <a:pt x="80" y="13"/>
                    </a:lnTo>
                    <a:lnTo>
                      <a:pt x="84" y="12"/>
                    </a:lnTo>
                    <a:lnTo>
                      <a:pt x="89" y="1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2579400" y="3287880"/>
                <a:ext cx="93600" cy="18720"/>
              </a:xfrm>
              <a:custGeom>
                <a:avLst/>
                <a:gdLst/>
                <a:ahLst/>
                <a:rect l="l" t="t" r="r" b="b"/>
                <a:pathLst>
                  <a:path w="117" h="24">
                    <a:moveTo>
                      <a:pt x="24" y="0"/>
                    </a:moveTo>
                    <a:lnTo>
                      <a:pt x="18" y="4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53" y="24"/>
                    </a:lnTo>
                    <a:lnTo>
                      <a:pt x="61" y="22"/>
                    </a:lnTo>
                    <a:lnTo>
                      <a:pt x="69" y="21"/>
                    </a:lnTo>
                    <a:lnTo>
                      <a:pt x="77" y="19"/>
                    </a:lnTo>
                    <a:lnTo>
                      <a:pt x="85" y="17"/>
                    </a:lnTo>
                    <a:lnTo>
                      <a:pt x="93" y="16"/>
                    </a:lnTo>
                    <a:lnTo>
                      <a:pt x="101" y="16"/>
                    </a:lnTo>
                    <a:lnTo>
                      <a:pt x="109" y="15"/>
                    </a:lnTo>
                    <a:lnTo>
                      <a:pt x="117" y="1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2339280" y="3282840"/>
                <a:ext cx="322200" cy="46080"/>
              </a:xfrm>
              <a:custGeom>
                <a:avLst/>
                <a:gdLst/>
                <a:ahLst/>
                <a:rect l="l" t="t" r="r" b="b"/>
                <a:pathLst>
                  <a:path w="407" h="59">
                    <a:moveTo>
                      <a:pt x="23" y="0"/>
                    </a:moveTo>
                    <a:lnTo>
                      <a:pt x="18" y="4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67" y="26"/>
                    </a:lnTo>
                    <a:lnTo>
                      <a:pt x="91" y="23"/>
                    </a:lnTo>
                    <a:lnTo>
                      <a:pt x="113" y="22"/>
                    </a:lnTo>
                    <a:lnTo>
                      <a:pt x="136" y="22"/>
                    </a:lnTo>
                    <a:lnTo>
                      <a:pt x="158" y="22"/>
                    </a:lnTo>
                    <a:lnTo>
                      <a:pt x="180" y="24"/>
                    </a:lnTo>
                    <a:lnTo>
                      <a:pt x="201" y="28"/>
                    </a:lnTo>
                    <a:lnTo>
                      <a:pt x="222" y="31"/>
                    </a:lnTo>
                    <a:lnTo>
                      <a:pt x="242" y="35"/>
                    </a:lnTo>
                    <a:lnTo>
                      <a:pt x="263" y="38"/>
                    </a:lnTo>
                    <a:lnTo>
                      <a:pt x="283" y="43"/>
                    </a:lnTo>
                    <a:lnTo>
                      <a:pt x="303" y="46"/>
                    </a:lnTo>
                    <a:lnTo>
                      <a:pt x="324" y="50"/>
                    </a:lnTo>
                    <a:lnTo>
                      <a:pt x="345" y="53"/>
                    </a:lnTo>
                    <a:lnTo>
                      <a:pt x="364" y="57"/>
                    </a:lnTo>
                    <a:lnTo>
                      <a:pt x="386" y="58"/>
                    </a:lnTo>
                    <a:lnTo>
                      <a:pt x="407" y="59"/>
                    </a:lnTo>
                    <a:lnTo>
                      <a:pt x="407" y="5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2339280" y="3276720"/>
                <a:ext cx="314280" cy="52200"/>
              </a:xfrm>
              <a:custGeom>
                <a:avLst/>
                <a:gdLst/>
                <a:ahLst/>
                <a:rect l="l" t="t" r="r" b="b"/>
                <a:pathLst>
                  <a:path w="395" h="66">
                    <a:moveTo>
                      <a:pt x="24" y="0"/>
                    </a:moveTo>
                    <a:lnTo>
                      <a:pt x="17" y="4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93" y="28"/>
                    </a:lnTo>
                    <a:lnTo>
                      <a:pt x="114" y="28"/>
                    </a:lnTo>
                    <a:lnTo>
                      <a:pt x="133" y="28"/>
                    </a:lnTo>
                    <a:lnTo>
                      <a:pt x="153" y="29"/>
                    </a:lnTo>
                    <a:lnTo>
                      <a:pt x="171" y="31"/>
                    </a:lnTo>
                    <a:lnTo>
                      <a:pt x="191" y="34"/>
                    </a:lnTo>
                    <a:lnTo>
                      <a:pt x="210" y="37"/>
                    </a:lnTo>
                    <a:lnTo>
                      <a:pt x="228" y="41"/>
                    </a:lnTo>
                    <a:lnTo>
                      <a:pt x="246" y="44"/>
                    </a:lnTo>
                    <a:lnTo>
                      <a:pt x="264" y="48"/>
                    </a:lnTo>
                    <a:lnTo>
                      <a:pt x="282" y="52"/>
                    </a:lnTo>
                    <a:lnTo>
                      <a:pt x="301" y="56"/>
                    </a:lnTo>
                    <a:lnTo>
                      <a:pt x="319" y="58"/>
                    </a:lnTo>
                    <a:lnTo>
                      <a:pt x="337" y="61"/>
                    </a:lnTo>
                    <a:lnTo>
                      <a:pt x="357" y="64"/>
                    </a:lnTo>
                    <a:lnTo>
                      <a:pt x="375" y="65"/>
                    </a:lnTo>
                    <a:lnTo>
                      <a:pt x="395" y="66"/>
                    </a:lnTo>
                    <a:lnTo>
                      <a:pt x="395" y="63"/>
                    </a:lnTo>
                    <a:lnTo>
                      <a:pt x="395" y="60"/>
                    </a:lnTo>
                    <a:lnTo>
                      <a:pt x="395" y="59"/>
                    </a:lnTo>
                    <a:lnTo>
                      <a:pt x="395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2339280" y="3270240"/>
                <a:ext cx="304920" cy="58680"/>
              </a:xfrm>
              <a:custGeom>
                <a:avLst/>
                <a:gdLst/>
                <a:ahLst/>
                <a:rect l="l" t="t" r="r" b="b"/>
                <a:pathLst>
                  <a:path w="384" h="74">
                    <a:moveTo>
                      <a:pt x="22" y="0"/>
                    </a:moveTo>
                    <a:lnTo>
                      <a:pt x="16" y="4"/>
                    </a:lnTo>
                    <a:lnTo>
                      <a:pt x="12" y="7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384" y="74"/>
                    </a:lnTo>
                    <a:lnTo>
                      <a:pt x="384" y="69"/>
                    </a:lnTo>
                    <a:lnTo>
                      <a:pt x="383" y="64"/>
                    </a:lnTo>
                    <a:lnTo>
                      <a:pt x="383" y="59"/>
                    </a:lnTo>
                    <a:lnTo>
                      <a:pt x="384" y="5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2339640" y="3265560"/>
                <a:ext cx="295200" cy="55440"/>
              </a:xfrm>
              <a:custGeom>
                <a:avLst/>
                <a:gdLst/>
                <a:ahLst/>
                <a:rect l="l" t="t" r="r" b="b"/>
                <a:pathLst>
                  <a:path w="371" h="72">
                    <a:moveTo>
                      <a:pt x="21" y="0"/>
                    </a:moveTo>
                    <a:lnTo>
                      <a:pt x="16" y="4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0" y="15"/>
                    </a:lnTo>
                    <a:lnTo>
                      <a:pt x="371" y="72"/>
                    </a:lnTo>
                    <a:lnTo>
                      <a:pt x="370" y="67"/>
                    </a:lnTo>
                    <a:lnTo>
                      <a:pt x="370" y="63"/>
                    </a:lnTo>
                    <a:lnTo>
                      <a:pt x="370" y="58"/>
                    </a:lnTo>
                    <a:lnTo>
                      <a:pt x="371" y="5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2336040" y="3259080"/>
                <a:ext cx="290520" cy="55440"/>
              </a:xfrm>
              <a:custGeom>
                <a:avLst/>
                <a:gdLst/>
                <a:ahLst/>
                <a:rect l="l" t="t" r="r" b="b"/>
                <a:pathLst>
                  <a:path w="367" h="70">
                    <a:moveTo>
                      <a:pt x="22" y="0"/>
                    </a:moveTo>
                    <a:lnTo>
                      <a:pt x="16" y="4"/>
                    </a:lnTo>
                    <a:lnTo>
                      <a:pt x="11" y="7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362" y="70"/>
                    </a:lnTo>
                    <a:lnTo>
                      <a:pt x="362" y="66"/>
                    </a:lnTo>
                    <a:lnTo>
                      <a:pt x="363" y="63"/>
                    </a:lnTo>
                    <a:lnTo>
                      <a:pt x="365" y="58"/>
                    </a:lnTo>
                    <a:lnTo>
                      <a:pt x="367" y="52"/>
                    </a:lnTo>
                    <a:lnTo>
                      <a:pt x="367" y="52"/>
                    </a:lnTo>
                    <a:lnTo>
                      <a:pt x="367" y="52"/>
                    </a:lnTo>
                    <a:lnTo>
                      <a:pt x="365" y="52"/>
                    </a:lnTo>
                    <a:lnTo>
                      <a:pt x="364" y="5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2336040" y="3254400"/>
                <a:ext cx="281160" cy="52200"/>
              </a:xfrm>
              <a:custGeom>
                <a:avLst/>
                <a:gdLst/>
                <a:ahLst/>
                <a:rect l="l" t="t" r="r" b="b"/>
                <a:pathLst>
                  <a:path w="355" h="66">
                    <a:moveTo>
                      <a:pt x="22" y="0"/>
                    </a:moveTo>
                    <a:lnTo>
                      <a:pt x="16" y="3"/>
                    </a:lnTo>
                    <a:lnTo>
                      <a:pt x="11" y="6"/>
                    </a:lnTo>
                    <a:lnTo>
                      <a:pt x="5" y="10"/>
                    </a:lnTo>
                    <a:lnTo>
                      <a:pt x="0" y="13"/>
                    </a:lnTo>
                    <a:lnTo>
                      <a:pt x="350" y="66"/>
                    </a:lnTo>
                    <a:lnTo>
                      <a:pt x="351" y="64"/>
                    </a:lnTo>
                    <a:lnTo>
                      <a:pt x="352" y="62"/>
                    </a:lnTo>
                    <a:lnTo>
                      <a:pt x="353" y="61"/>
                    </a:lnTo>
                    <a:lnTo>
                      <a:pt x="355" y="58"/>
                    </a:lnTo>
                    <a:lnTo>
                      <a:pt x="350" y="56"/>
                    </a:lnTo>
                    <a:lnTo>
                      <a:pt x="344" y="54"/>
                    </a:lnTo>
                    <a:lnTo>
                      <a:pt x="340" y="50"/>
                    </a:lnTo>
                    <a:lnTo>
                      <a:pt x="334" y="47"/>
                    </a:lnTo>
                    <a:lnTo>
                      <a:pt x="334" y="4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2320200" y="329400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3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2337840" y="329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2320560" y="32860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0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15" y="10"/>
                    </a:lnTo>
                    <a:lnTo>
                      <a:pt x="20" y="15"/>
                    </a:lnTo>
                    <a:lnTo>
                      <a:pt x="26" y="18"/>
                    </a:lnTo>
                    <a:lnTo>
                      <a:pt x="22" y="15"/>
                    </a:lnTo>
                    <a:lnTo>
                      <a:pt x="17" y="10"/>
                    </a:lnTo>
                    <a:lnTo>
                      <a:pt x="12" y="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2341440" y="32846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2341080" y="3247920"/>
                <a:ext cx="268200" cy="50760"/>
              </a:xfrm>
              <a:custGeom>
                <a:avLst/>
                <a:gdLst/>
                <a:ahLst/>
                <a:rect l="l" t="t" r="r" b="b"/>
                <a:pathLst>
                  <a:path w="338" h="64">
                    <a:moveTo>
                      <a:pt x="338" y="64"/>
                    </a:moveTo>
                    <a:lnTo>
                      <a:pt x="338" y="64"/>
                    </a:lnTo>
                    <a:lnTo>
                      <a:pt x="334" y="62"/>
                    </a:lnTo>
                    <a:lnTo>
                      <a:pt x="331" y="59"/>
                    </a:lnTo>
                    <a:lnTo>
                      <a:pt x="327" y="57"/>
                    </a:lnTo>
                    <a:lnTo>
                      <a:pt x="324" y="55"/>
                    </a:lnTo>
                    <a:lnTo>
                      <a:pt x="324" y="53"/>
                    </a:lnTo>
                    <a:lnTo>
                      <a:pt x="325" y="50"/>
                    </a:lnTo>
                    <a:lnTo>
                      <a:pt x="326" y="48"/>
                    </a:lnTo>
                    <a:lnTo>
                      <a:pt x="326" y="46"/>
                    </a:lnTo>
                    <a:lnTo>
                      <a:pt x="23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338" y="64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2328480" y="3241800"/>
                <a:ext cx="271440" cy="54000"/>
              </a:xfrm>
              <a:custGeom>
                <a:avLst/>
                <a:gdLst/>
                <a:ahLst/>
                <a:rect l="l" t="t" r="r" b="b"/>
                <a:pathLst>
                  <a:path w="343" h="66">
                    <a:moveTo>
                      <a:pt x="26" y="0"/>
                    </a:moveTo>
                    <a:lnTo>
                      <a:pt x="19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0" y="15"/>
                    </a:lnTo>
                    <a:lnTo>
                      <a:pt x="312" y="62"/>
                    </a:lnTo>
                    <a:lnTo>
                      <a:pt x="313" y="58"/>
                    </a:lnTo>
                    <a:lnTo>
                      <a:pt x="314" y="55"/>
                    </a:lnTo>
                    <a:lnTo>
                      <a:pt x="315" y="51"/>
                    </a:lnTo>
                    <a:lnTo>
                      <a:pt x="316" y="48"/>
                    </a:lnTo>
                    <a:lnTo>
                      <a:pt x="325" y="50"/>
                    </a:lnTo>
                    <a:lnTo>
                      <a:pt x="331" y="55"/>
                    </a:lnTo>
                    <a:lnTo>
                      <a:pt x="337" y="60"/>
                    </a:lnTo>
                    <a:lnTo>
                      <a:pt x="343" y="66"/>
                    </a:lnTo>
                    <a:lnTo>
                      <a:pt x="341" y="64"/>
                    </a:lnTo>
                    <a:lnTo>
                      <a:pt x="336" y="62"/>
                    </a:lnTo>
                    <a:lnTo>
                      <a:pt x="331" y="58"/>
                    </a:lnTo>
                    <a:lnTo>
                      <a:pt x="327" y="56"/>
                    </a:lnTo>
                    <a:lnTo>
                      <a:pt x="322" y="54"/>
                    </a:lnTo>
                    <a:lnTo>
                      <a:pt x="318" y="51"/>
                    </a:lnTo>
                    <a:lnTo>
                      <a:pt x="314" y="48"/>
                    </a:lnTo>
                    <a:lnTo>
                      <a:pt x="310" y="46"/>
                    </a:lnTo>
                    <a:lnTo>
                      <a:pt x="305" y="4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2336400" y="3236760"/>
                <a:ext cx="254160" cy="49320"/>
              </a:xfrm>
              <a:custGeom>
                <a:avLst/>
                <a:gdLst/>
                <a:ahLst/>
                <a:rect l="l" t="t" r="r" b="b"/>
                <a:pathLst>
                  <a:path w="322" h="62">
                    <a:moveTo>
                      <a:pt x="29" y="0"/>
                    </a:moveTo>
                    <a:lnTo>
                      <a:pt x="22" y="3"/>
                    </a:lnTo>
                    <a:lnTo>
                      <a:pt x="15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303" y="60"/>
                    </a:lnTo>
                    <a:lnTo>
                      <a:pt x="304" y="58"/>
                    </a:lnTo>
                    <a:lnTo>
                      <a:pt x="305" y="57"/>
                    </a:lnTo>
                    <a:lnTo>
                      <a:pt x="305" y="56"/>
                    </a:lnTo>
                    <a:lnTo>
                      <a:pt x="305" y="55"/>
                    </a:lnTo>
                    <a:lnTo>
                      <a:pt x="310" y="56"/>
                    </a:lnTo>
                    <a:lnTo>
                      <a:pt x="315" y="57"/>
                    </a:lnTo>
                    <a:lnTo>
                      <a:pt x="318" y="60"/>
                    </a:lnTo>
                    <a:lnTo>
                      <a:pt x="322" y="62"/>
                    </a:lnTo>
                    <a:lnTo>
                      <a:pt x="312" y="60"/>
                    </a:lnTo>
                    <a:lnTo>
                      <a:pt x="308" y="57"/>
                    </a:lnTo>
                    <a:lnTo>
                      <a:pt x="302" y="54"/>
                    </a:lnTo>
                    <a:lnTo>
                      <a:pt x="297" y="52"/>
                    </a:lnTo>
                    <a:lnTo>
                      <a:pt x="293" y="48"/>
                    </a:lnTo>
                    <a:lnTo>
                      <a:pt x="287" y="46"/>
                    </a:lnTo>
                    <a:lnTo>
                      <a:pt x="282" y="42"/>
                    </a:lnTo>
                    <a:lnTo>
                      <a:pt x="277" y="39"/>
                    </a:lnTo>
                    <a:lnTo>
                      <a:pt x="272" y="35"/>
                    </a:lnTo>
                    <a:lnTo>
                      <a:pt x="210" y="26"/>
                    </a:lnTo>
                    <a:lnTo>
                      <a:pt x="209" y="27"/>
                    </a:lnTo>
                    <a:lnTo>
                      <a:pt x="208" y="28"/>
                    </a:lnTo>
                    <a:lnTo>
                      <a:pt x="206" y="30"/>
                    </a:lnTo>
                    <a:lnTo>
                      <a:pt x="205" y="31"/>
                    </a:lnTo>
                    <a:lnTo>
                      <a:pt x="203" y="30"/>
                    </a:lnTo>
                    <a:lnTo>
                      <a:pt x="202" y="27"/>
                    </a:lnTo>
                    <a:lnTo>
                      <a:pt x="199" y="26"/>
                    </a:lnTo>
                    <a:lnTo>
                      <a:pt x="196" y="26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2358360" y="3230640"/>
                <a:ext cx="220680" cy="46080"/>
              </a:xfrm>
              <a:custGeom>
                <a:avLst/>
                <a:gdLst/>
                <a:ahLst/>
                <a:rect l="l" t="t" r="r" b="b"/>
                <a:pathLst>
                  <a:path w="279" h="57">
                    <a:moveTo>
                      <a:pt x="34" y="0"/>
                    </a:moveTo>
                    <a:lnTo>
                      <a:pt x="24" y="3"/>
                    </a:lnTo>
                    <a:lnTo>
                      <a:pt x="16" y="7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279" y="57"/>
                    </a:lnTo>
                    <a:lnTo>
                      <a:pt x="273" y="54"/>
                    </a:lnTo>
                    <a:lnTo>
                      <a:pt x="267" y="49"/>
                    </a:lnTo>
                    <a:lnTo>
                      <a:pt x="263" y="46"/>
                    </a:lnTo>
                    <a:lnTo>
                      <a:pt x="257" y="42"/>
                    </a:lnTo>
                    <a:lnTo>
                      <a:pt x="251" y="40"/>
                    </a:lnTo>
                    <a:lnTo>
                      <a:pt x="246" y="37"/>
                    </a:lnTo>
                    <a:lnTo>
                      <a:pt x="239" y="33"/>
                    </a:lnTo>
                    <a:lnTo>
                      <a:pt x="233" y="31"/>
                    </a:lnTo>
                    <a:lnTo>
                      <a:pt x="197" y="26"/>
                    </a:lnTo>
                    <a:lnTo>
                      <a:pt x="197" y="26"/>
                    </a:lnTo>
                    <a:lnTo>
                      <a:pt x="197" y="27"/>
                    </a:lnTo>
                    <a:lnTo>
                      <a:pt x="198" y="29"/>
                    </a:lnTo>
                    <a:lnTo>
                      <a:pt x="199" y="29"/>
                    </a:lnTo>
                    <a:lnTo>
                      <a:pt x="196" y="32"/>
                    </a:lnTo>
                    <a:lnTo>
                      <a:pt x="194" y="34"/>
                    </a:lnTo>
                    <a:lnTo>
                      <a:pt x="193" y="35"/>
                    </a:lnTo>
                    <a:lnTo>
                      <a:pt x="190" y="38"/>
                    </a:lnTo>
                    <a:lnTo>
                      <a:pt x="182" y="33"/>
                    </a:lnTo>
                    <a:lnTo>
                      <a:pt x="174" y="27"/>
                    </a:lnTo>
                    <a:lnTo>
                      <a:pt x="166" y="23"/>
                    </a:lnTo>
                    <a:lnTo>
                      <a:pt x="157" y="18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2431440" y="3228840"/>
                <a:ext cx="136440" cy="28800"/>
              </a:xfrm>
              <a:custGeom>
                <a:avLst/>
                <a:gdLst/>
                <a:ahLst/>
                <a:rect l="l" t="t" r="r" b="b"/>
                <a:pathLst>
                  <a:path w="172" h="36">
                    <a:moveTo>
                      <a:pt x="53" y="0"/>
                    </a:moveTo>
                    <a:lnTo>
                      <a:pt x="46" y="0"/>
                    </a:lnTo>
                    <a:lnTo>
                      <a:pt x="39" y="2"/>
                    </a:lnTo>
                    <a:lnTo>
                      <a:pt x="32" y="2"/>
                    </a:lnTo>
                    <a:lnTo>
                      <a:pt x="25" y="3"/>
                    </a:lnTo>
                    <a:lnTo>
                      <a:pt x="20" y="5"/>
                    </a:lnTo>
                    <a:lnTo>
                      <a:pt x="13" y="6"/>
                    </a:lnTo>
                    <a:lnTo>
                      <a:pt x="7" y="9"/>
                    </a:lnTo>
                    <a:lnTo>
                      <a:pt x="0" y="10"/>
                    </a:lnTo>
                    <a:lnTo>
                      <a:pt x="167" y="36"/>
                    </a:lnTo>
                    <a:lnTo>
                      <a:pt x="159" y="30"/>
                    </a:lnTo>
                    <a:lnTo>
                      <a:pt x="151" y="26"/>
                    </a:lnTo>
                    <a:lnTo>
                      <a:pt x="144" y="22"/>
                    </a:lnTo>
                    <a:lnTo>
                      <a:pt x="137" y="19"/>
                    </a:lnTo>
                    <a:lnTo>
                      <a:pt x="129" y="15"/>
                    </a:lnTo>
                    <a:lnTo>
                      <a:pt x="122" y="13"/>
                    </a:lnTo>
                    <a:lnTo>
                      <a:pt x="116" y="10"/>
                    </a:lnTo>
                    <a:lnTo>
                      <a:pt x="109" y="7"/>
                    </a:lnTo>
                    <a:lnTo>
                      <a:pt x="172" y="17"/>
                    </a:lnTo>
                    <a:lnTo>
                      <a:pt x="164" y="17"/>
                    </a:lnTo>
                    <a:lnTo>
                      <a:pt x="156" y="17"/>
                    </a:lnTo>
                    <a:lnTo>
                      <a:pt x="146" y="17"/>
                    </a:lnTo>
                    <a:lnTo>
                      <a:pt x="136" y="15"/>
                    </a:lnTo>
                    <a:lnTo>
                      <a:pt x="126" y="13"/>
                    </a:lnTo>
                    <a:lnTo>
                      <a:pt x="114" y="11"/>
                    </a:lnTo>
                    <a:lnTo>
                      <a:pt x="103" y="9"/>
                    </a:lnTo>
                    <a:lnTo>
                      <a:pt x="91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2374560" y="324324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64" h="26">
                    <a:moveTo>
                      <a:pt x="2" y="17"/>
                    </a:moveTo>
                    <a:lnTo>
                      <a:pt x="2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5" y="10"/>
                    </a:lnTo>
                    <a:lnTo>
                      <a:pt x="3" y="7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23" y="6"/>
                    </a:lnTo>
                    <a:lnTo>
                      <a:pt x="28" y="8"/>
                    </a:lnTo>
                    <a:lnTo>
                      <a:pt x="34" y="11"/>
                    </a:lnTo>
                    <a:lnTo>
                      <a:pt x="41" y="15"/>
                    </a:lnTo>
                    <a:lnTo>
                      <a:pt x="47" y="18"/>
                    </a:lnTo>
                    <a:lnTo>
                      <a:pt x="53" y="21"/>
                    </a:lnTo>
                    <a:lnTo>
                      <a:pt x="58" y="24"/>
                    </a:lnTo>
                    <a:lnTo>
                      <a:pt x="64" y="26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2394720" y="3225960"/>
                <a:ext cx="109800" cy="2988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7"/>
                    </a:moveTo>
                    <a:lnTo>
                      <a:pt x="0" y="16"/>
                    </a:lnTo>
                    <a:lnTo>
                      <a:pt x="62" y="25"/>
                    </a:lnTo>
                    <a:lnTo>
                      <a:pt x="54" y="22"/>
                    </a:lnTo>
                    <a:lnTo>
                      <a:pt x="46" y="18"/>
                    </a:lnTo>
                    <a:lnTo>
                      <a:pt x="38" y="16"/>
                    </a:lnTo>
                    <a:lnTo>
                      <a:pt x="31" y="14"/>
                    </a:lnTo>
                    <a:lnTo>
                      <a:pt x="23" y="11"/>
                    </a:lnTo>
                    <a:lnTo>
                      <a:pt x="15" y="9"/>
                    </a:lnTo>
                    <a:lnTo>
                      <a:pt x="7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8" y="11"/>
                    </a:lnTo>
                    <a:lnTo>
                      <a:pt x="94" y="15"/>
                    </a:lnTo>
                    <a:lnTo>
                      <a:pt x="101" y="18"/>
                    </a:lnTo>
                    <a:lnTo>
                      <a:pt x="107" y="21"/>
                    </a:lnTo>
                    <a:lnTo>
                      <a:pt x="114" y="24"/>
                    </a:lnTo>
                    <a:lnTo>
                      <a:pt x="119" y="28"/>
                    </a:lnTo>
                    <a:lnTo>
                      <a:pt x="125" y="31"/>
                    </a:lnTo>
                    <a:lnTo>
                      <a:pt x="132" y="34"/>
                    </a:lnTo>
                    <a:lnTo>
                      <a:pt x="138" y="38"/>
                    </a:lnTo>
                    <a:lnTo>
                      <a:pt x="102" y="33"/>
                    </a:lnTo>
                    <a:lnTo>
                      <a:pt x="101" y="30"/>
                    </a:lnTo>
                    <a:lnTo>
                      <a:pt x="99" y="26"/>
                    </a:lnTo>
                    <a:lnTo>
                      <a:pt x="98" y="24"/>
                    </a:lnTo>
                    <a:lnTo>
                      <a:pt x="98" y="21"/>
                    </a:lnTo>
                    <a:lnTo>
                      <a:pt x="89" y="22"/>
                    </a:lnTo>
                    <a:lnTo>
                      <a:pt x="79" y="22"/>
                    </a:lnTo>
                    <a:lnTo>
                      <a:pt x="68" y="21"/>
                    </a:lnTo>
                    <a:lnTo>
                      <a:pt x="56" y="18"/>
                    </a:lnTo>
                    <a:lnTo>
                      <a:pt x="42" y="16"/>
                    </a:lnTo>
                    <a:lnTo>
                      <a:pt x="28" y="14"/>
                    </a:lnTo>
                    <a:lnTo>
                      <a:pt x="15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2504880" y="3217680"/>
                <a:ext cx="47520" cy="20880"/>
              </a:xfrm>
              <a:custGeom>
                <a:avLst/>
                <a:gdLst/>
                <a:ahLst/>
                <a:rect l="l" t="t" r="r" b="b"/>
                <a:pathLst>
                  <a:path w="61" h="27">
                    <a:moveTo>
                      <a:pt x="61" y="18"/>
                    </a:moveTo>
                    <a:lnTo>
                      <a:pt x="61" y="11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2" y="3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5" y="10"/>
                    </a:lnTo>
                    <a:lnTo>
                      <a:pt x="43" y="12"/>
                    </a:lnTo>
                    <a:lnTo>
                      <a:pt x="51" y="15"/>
                    </a:lnTo>
                    <a:lnTo>
                      <a:pt x="61" y="18"/>
                    </a:lnTo>
                    <a:lnTo>
                      <a:pt x="61" y="27"/>
                    </a:lnTo>
                    <a:lnTo>
                      <a:pt x="0" y="18"/>
                    </a:lnTo>
                    <a:lnTo>
                      <a:pt x="6" y="17"/>
                    </a:lnTo>
                    <a:lnTo>
                      <a:pt x="15" y="17"/>
                    </a:lnTo>
                    <a:lnTo>
                      <a:pt x="21" y="15"/>
                    </a:lnTo>
                    <a:lnTo>
                      <a:pt x="29" y="15"/>
                    </a:lnTo>
                    <a:lnTo>
                      <a:pt x="38" y="15"/>
                    </a:lnTo>
                    <a:lnTo>
                      <a:pt x="44" y="15"/>
                    </a:lnTo>
                    <a:lnTo>
                      <a:pt x="53" y="17"/>
                    </a:lnTo>
                    <a:lnTo>
                      <a:pt x="61" y="18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412720" y="3211560"/>
                <a:ext cx="139680" cy="34920"/>
              </a:xfrm>
              <a:custGeom>
                <a:avLst/>
                <a:gdLst/>
                <a:ahLst/>
                <a:rect l="l" t="t" r="r" b="b"/>
                <a:pathLst>
                  <a:path w="176" h="42">
                    <a:moveTo>
                      <a:pt x="89" y="28"/>
                    </a:moveTo>
                    <a:lnTo>
                      <a:pt x="81" y="27"/>
                    </a:lnTo>
                    <a:lnTo>
                      <a:pt x="74" y="25"/>
                    </a:lnTo>
                    <a:lnTo>
                      <a:pt x="66" y="24"/>
                    </a:lnTo>
                    <a:lnTo>
                      <a:pt x="59" y="23"/>
                    </a:lnTo>
                    <a:lnTo>
                      <a:pt x="53" y="21"/>
                    </a:lnTo>
                    <a:lnTo>
                      <a:pt x="46" y="21"/>
                    </a:lnTo>
                    <a:lnTo>
                      <a:pt x="39" y="21"/>
                    </a:lnTo>
                    <a:lnTo>
                      <a:pt x="33" y="21"/>
                    </a:lnTo>
                    <a:lnTo>
                      <a:pt x="71" y="26"/>
                    </a:lnTo>
                    <a:lnTo>
                      <a:pt x="61" y="24"/>
                    </a:lnTo>
                    <a:lnTo>
                      <a:pt x="50" y="20"/>
                    </a:lnTo>
                    <a:lnTo>
                      <a:pt x="40" y="18"/>
                    </a:lnTo>
                    <a:lnTo>
                      <a:pt x="31" y="15"/>
                    </a:lnTo>
                    <a:lnTo>
                      <a:pt x="21" y="12"/>
                    </a:lnTo>
                    <a:lnTo>
                      <a:pt x="13" y="10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121" y="17"/>
                    </a:lnTo>
                    <a:lnTo>
                      <a:pt x="127" y="19"/>
                    </a:lnTo>
                    <a:lnTo>
                      <a:pt x="134" y="23"/>
                    </a:lnTo>
                    <a:lnTo>
                      <a:pt x="141" y="25"/>
                    </a:lnTo>
                    <a:lnTo>
                      <a:pt x="148" y="28"/>
                    </a:lnTo>
                    <a:lnTo>
                      <a:pt x="155" y="32"/>
                    </a:lnTo>
                    <a:lnTo>
                      <a:pt x="162" y="35"/>
                    </a:lnTo>
                    <a:lnTo>
                      <a:pt x="169" y="39"/>
                    </a:lnTo>
                    <a:lnTo>
                      <a:pt x="176" y="42"/>
                    </a:lnTo>
                    <a:lnTo>
                      <a:pt x="159" y="40"/>
                    </a:lnTo>
                    <a:lnTo>
                      <a:pt x="159" y="39"/>
                    </a:lnTo>
                    <a:lnTo>
                      <a:pt x="159" y="38"/>
                    </a:lnTo>
                    <a:lnTo>
                      <a:pt x="159" y="38"/>
                    </a:lnTo>
                    <a:lnTo>
                      <a:pt x="159" y="38"/>
                    </a:lnTo>
                    <a:lnTo>
                      <a:pt x="157" y="38"/>
                    </a:lnTo>
                    <a:lnTo>
                      <a:pt x="155" y="38"/>
                    </a:lnTo>
                    <a:lnTo>
                      <a:pt x="154" y="38"/>
                    </a:lnTo>
                    <a:lnTo>
                      <a:pt x="152" y="38"/>
                    </a:lnTo>
                    <a:lnTo>
                      <a:pt x="89" y="28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2432880" y="3205080"/>
                <a:ext cx="119160" cy="30240"/>
              </a:xfrm>
              <a:custGeom>
                <a:avLst/>
                <a:gdLst/>
                <a:ahLst/>
                <a:rect l="l" t="t" r="r" b="b"/>
                <a:pathLst>
                  <a:path w="149" h="38">
                    <a:moveTo>
                      <a:pt x="0" y="16"/>
                    </a:moveTo>
                    <a:lnTo>
                      <a:pt x="0" y="16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11" y="4"/>
                    </a:lnTo>
                    <a:lnTo>
                      <a:pt x="16" y="0"/>
                    </a:lnTo>
                    <a:lnTo>
                      <a:pt x="94" y="12"/>
                    </a:lnTo>
                    <a:lnTo>
                      <a:pt x="101" y="15"/>
                    </a:lnTo>
                    <a:lnTo>
                      <a:pt x="107" y="20"/>
                    </a:lnTo>
                    <a:lnTo>
                      <a:pt x="114" y="23"/>
                    </a:lnTo>
                    <a:lnTo>
                      <a:pt x="121" y="27"/>
                    </a:lnTo>
                    <a:lnTo>
                      <a:pt x="127" y="29"/>
                    </a:lnTo>
                    <a:lnTo>
                      <a:pt x="134" y="33"/>
                    </a:lnTo>
                    <a:lnTo>
                      <a:pt x="142" y="36"/>
                    </a:lnTo>
                    <a:lnTo>
                      <a:pt x="149" y="3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2457000" y="319896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115" h="34">
                    <a:moveTo>
                      <a:pt x="17" y="0"/>
                    </a:moveTo>
                    <a:lnTo>
                      <a:pt x="13" y="4"/>
                    </a:lnTo>
                    <a:lnTo>
                      <a:pt x="9" y="7"/>
                    </a:lnTo>
                    <a:lnTo>
                      <a:pt x="4" y="12"/>
                    </a:lnTo>
                    <a:lnTo>
                      <a:pt x="0" y="17"/>
                    </a:lnTo>
                    <a:lnTo>
                      <a:pt x="115" y="34"/>
                    </a:lnTo>
                    <a:lnTo>
                      <a:pt x="109" y="30"/>
                    </a:lnTo>
                    <a:lnTo>
                      <a:pt x="102" y="27"/>
                    </a:lnTo>
                    <a:lnTo>
                      <a:pt x="95" y="23"/>
                    </a:lnTo>
                    <a:lnTo>
                      <a:pt x="89" y="20"/>
                    </a:lnTo>
                    <a:lnTo>
                      <a:pt x="82" y="17"/>
                    </a:lnTo>
                    <a:lnTo>
                      <a:pt x="75" y="14"/>
                    </a:lnTo>
                    <a:lnTo>
                      <a:pt x="68" y="11"/>
                    </a:lnTo>
                    <a:lnTo>
                      <a:pt x="63" y="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477880" y="319392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15" y="0"/>
                    </a:moveTo>
                    <a:lnTo>
                      <a:pt x="10" y="3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78" y="25"/>
                    </a:lnTo>
                    <a:lnTo>
                      <a:pt x="72" y="23"/>
                    </a:lnTo>
                    <a:lnTo>
                      <a:pt x="65" y="19"/>
                    </a:lnTo>
                    <a:lnTo>
                      <a:pt x="60" y="17"/>
                    </a:lnTo>
                    <a:lnTo>
                      <a:pt x="53" y="13"/>
                    </a:lnTo>
                    <a:lnTo>
                      <a:pt x="47" y="10"/>
                    </a:lnTo>
                    <a:lnTo>
                      <a:pt x="40" y="6"/>
                    </a:lnTo>
                    <a:lnTo>
                      <a:pt x="33" y="3"/>
                    </a:lnTo>
                    <a:lnTo>
                      <a:pt x="2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2498400" y="3189240"/>
                <a:ext cx="36720" cy="158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12"/>
                    </a:moveTo>
                    <a:lnTo>
                      <a:pt x="2" y="9"/>
                    </a:lnTo>
                    <a:lnTo>
                      <a:pt x="5" y="7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9" y="6"/>
                    </a:lnTo>
                    <a:lnTo>
                      <a:pt x="27" y="10"/>
                    </a:lnTo>
                    <a:lnTo>
                      <a:pt x="36" y="15"/>
                    </a:lnTo>
                    <a:lnTo>
                      <a:pt x="46" y="1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2518560" y="318924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2261520" y="33624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4"/>
                    </a:moveTo>
                    <a:lnTo>
                      <a:pt x="24" y="4"/>
                    </a:lnTo>
                    <a:lnTo>
                      <a:pt x="24" y="5"/>
                    </a:lnTo>
                    <a:lnTo>
                      <a:pt x="23" y="8"/>
                    </a:lnTo>
                    <a:lnTo>
                      <a:pt x="22" y="9"/>
                    </a:lnTo>
                    <a:lnTo>
                      <a:pt x="16" y="5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2261520" y="33591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22" y="10"/>
                    </a:moveTo>
                    <a:lnTo>
                      <a:pt x="23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7"/>
                    </a:lnTo>
                    <a:lnTo>
                      <a:pt x="16" y="9"/>
                    </a:lnTo>
                    <a:lnTo>
                      <a:pt x="22" y="1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2260080" y="33559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4" y="13"/>
                    </a:moveTo>
                    <a:lnTo>
                      <a:pt x="24" y="11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2260080" y="33512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4" y="13"/>
                    </a:moveTo>
                    <a:lnTo>
                      <a:pt x="25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2292120" y="33480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2258640" y="33498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29" y="11"/>
                    </a:moveTo>
                    <a:lnTo>
                      <a:pt x="29" y="9"/>
                    </a:lnTo>
                    <a:lnTo>
                      <a:pt x="30" y="8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2290320" y="3344760"/>
                <a:ext cx="30240" cy="972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8" y="4"/>
                    </a:moveTo>
                    <a:lnTo>
                      <a:pt x="37" y="5"/>
                    </a:lnTo>
                    <a:lnTo>
                      <a:pt x="36" y="8"/>
                    </a:lnTo>
                    <a:lnTo>
                      <a:pt x="35" y="9"/>
                    </a:lnTo>
                    <a:lnTo>
                      <a:pt x="34" y="11"/>
                    </a:lnTo>
                    <a:lnTo>
                      <a:pt x="26" y="8"/>
                    </a:lnTo>
                    <a:lnTo>
                      <a:pt x="17" y="5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2258640" y="334656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29" y="11"/>
                    </a:moveTo>
                    <a:lnTo>
                      <a:pt x="30" y="9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2288880" y="334152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36" y="14"/>
                    </a:moveTo>
                    <a:lnTo>
                      <a:pt x="36" y="12"/>
                    </a:lnTo>
                    <a:lnTo>
                      <a:pt x="37" y="10"/>
                    </a:lnTo>
                    <a:lnTo>
                      <a:pt x="39" y="8"/>
                    </a:lnTo>
                    <a:lnTo>
                      <a:pt x="41" y="7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6"/>
                    </a:lnTo>
                    <a:lnTo>
                      <a:pt x="9" y="8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36" y="1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2256840" y="334476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4" y="11"/>
                    </a:moveTo>
                    <a:lnTo>
                      <a:pt x="34" y="9"/>
                    </a:lnTo>
                    <a:lnTo>
                      <a:pt x="35" y="8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2287440" y="3338640"/>
                <a:ext cx="33120" cy="9360"/>
              </a:xfrm>
              <a:custGeom>
                <a:avLst/>
                <a:gdLst/>
                <a:ahLst/>
                <a:rect l="l" t="t" r="r" b="b"/>
                <a:pathLst>
                  <a:path w="43" h="11">
                    <a:moveTo>
                      <a:pt x="38" y="11"/>
                    </a:moveTo>
                    <a:lnTo>
                      <a:pt x="38" y="9"/>
                    </a:lnTo>
                    <a:lnTo>
                      <a:pt x="39" y="8"/>
                    </a:lnTo>
                    <a:lnTo>
                      <a:pt x="42" y="6"/>
                    </a:lnTo>
                    <a:lnTo>
                      <a:pt x="43" y="4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8" y="11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2257200" y="3335400"/>
                <a:ext cx="61920" cy="14400"/>
              </a:xfrm>
              <a:custGeom>
                <a:avLst/>
                <a:gdLst/>
                <a:ahLst/>
                <a:rect l="l" t="t" r="r" b="b"/>
                <a:pathLst>
                  <a:path w="78" h="19">
                    <a:moveTo>
                      <a:pt x="76" y="19"/>
                    </a:moveTo>
                    <a:lnTo>
                      <a:pt x="77" y="16"/>
                    </a:lnTo>
                    <a:lnTo>
                      <a:pt x="78" y="15"/>
                    </a:lnTo>
                    <a:lnTo>
                      <a:pt x="78" y="13"/>
                    </a:lnTo>
                    <a:lnTo>
                      <a:pt x="78" y="1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9" y="11"/>
                    </a:lnTo>
                    <a:lnTo>
                      <a:pt x="41" y="8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3" y="11"/>
                    </a:lnTo>
                    <a:lnTo>
                      <a:pt x="44" y="12"/>
                    </a:lnTo>
                    <a:lnTo>
                      <a:pt x="44" y="14"/>
                    </a:lnTo>
                    <a:lnTo>
                      <a:pt x="76" y="1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2253600" y="333360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80" h="18">
                    <a:moveTo>
                      <a:pt x="78" y="18"/>
                    </a:moveTo>
                    <a:lnTo>
                      <a:pt x="78" y="16"/>
                    </a:lnTo>
                    <a:lnTo>
                      <a:pt x="79" y="15"/>
                    </a:lnTo>
                    <a:lnTo>
                      <a:pt x="80" y="13"/>
                    </a:lnTo>
                    <a:lnTo>
                      <a:pt x="80" y="1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9"/>
                    </a:lnTo>
                    <a:lnTo>
                      <a:pt x="42" y="9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78" y="18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2253600" y="3328920"/>
                <a:ext cx="65160" cy="15840"/>
              </a:xfrm>
              <a:custGeom>
                <a:avLst/>
                <a:gdLst/>
                <a:ahLst/>
                <a:rect l="l" t="t" r="r" b="b"/>
                <a:pathLst>
                  <a:path w="80" h="20">
                    <a:moveTo>
                      <a:pt x="78" y="20"/>
                    </a:moveTo>
                    <a:lnTo>
                      <a:pt x="79" y="17"/>
                    </a:lnTo>
                    <a:lnTo>
                      <a:pt x="80" y="16"/>
                    </a:lnTo>
                    <a:lnTo>
                      <a:pt x="80" y="14"/>
                    </a:lnTo>
                    <a:lnTo>
                      <a:pt x="80" y="13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78" y="2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2252520" y="33274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9"/>
                    </a:moveTo>
                    <a:lnTo>
                      <a:pt x="78" y="17"/>
                    </a:lnTo>
                    <a:lnTo>
                      <a:pt x="79" y="16"/>
                    </a:lnTo>
                    <a:lnTo>
                      <a:pt x="80" y="14"/>
                    </a:lnTo>
                    <a:lnTo>
                      <a:pt x="80" y="1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78" y="19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2250360" y="332424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2" h="20">
                    <a:moveTo>
                      <a:pt x="76" y="20"/>
                    </a:moveTo>
                    <a:lnTo>
                      <a:pt x="77" y="17"/>
                    </a:lnTo>
                    <a:lnTo>
                      <a:pt x="78" y="16"/>
                    </a:lnTo>
                    <a:lnTo>
                      <a:pt x="80" y="14"/>
                    </a:lnTo>
                    <a:lnTo>
                      <a:pt x="82" y="13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2250720" y="332100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6" y="19"/>
                    </a:moveTo>
                    <a:lnTo>
                      <a:pt x="76" y="17"/>
                    </a:lnTo>
                    <a:lnTo>
                      <a:pt x="79" y="16"/>
                    </a:lnTo>
                    <a:lnTo>
                      <a:pt x="80" y="14"/>
                    </a:lnTo>
                    <a:lnTo>
                      <a:pt x="80" y="11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76" y="19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2247120" y="3319560"/>
                <a:ext cx="63720" cy="14040"/>
              </a:xfrm>
              <a:custGeom>
                <a:avLst/>
                <a:gdLst/>
                <a:ahLst/>
                <a:rect l="l" t="t" r="r" b="b"/>
                <a:pathLst>
                  <a:path w="79" h="17">
                    <a:moveTo>
                      <a:pt x="77" y="17"/>
                    </a:moveTo>
                    <a:lnTo>
                      <a:pt x="77" y="15"/>
                    </a:lnTo>
                    <a:lnTo>
                      <a:pt x="77" y="12"/>
                    </a:lnTo>
                    <a:lnTo>
                      <a:pt x="78" y="11"/>
                    </a:lnTo>
                    <a:lnTo>
                      <a:pt x="79" y="9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77" y="17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2247480" y="3316320"/>
                <a:ext cx="61920" cy="14400"/>
              </a:xfrm>
              <a:custGeom>
                <a:avLst/>
                <a:gdLst/>
                <a:ahLst/>
                <a:rect l="l" t="t" r="r" b="b"/>
                <a:pathLst>
                  <a:path w="77" h="18">
                    <a:moveTo>
                      <a:pt x="75" y="18"/>
                    </a:moveTo>
                    <a:lnTo>
                      <a:pt x="75" y="16"/>
                    </a:lnTo>
                    <a:lnTo>
                      <a:pt x="76" y="15"/>
                    </a:lnTo>
                    <a:lnTo>
                      <a:pt x="77" y="13"/>
                    </a:lnTo>
                    <a:lnTo>
                      <a:pt x="77" y="1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75" y="18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2246040" y="3314520"/>
                <a:ext cx="61920" cy="12960"/>
              </a:xfrm>
              <a:custGeom>
                <a:avLst/>
                <a:gdLst/>
                <a:ahLst/>
                <a:rect l="l" t="t" r="r" b="b"/>
                <a:pathLst>
                  <a:path w="78" h="16">
                    <a:moveTo>
                      <a:pt x="75" y="16"/>
                    </a:moveTo>
                    <a:lnTo>
                      <a:pt x="75" y="13"/>
                    </a:lnTo>
                    <a:lnTo>
                      <a:pt x="75" y="12"/>
                    </a:lnTo>
                    <a:lnTo>
                      <a:pt x="76" y="10"/>
                    </a:lnTo>
                    <a:lnTo>
                      <a:pt x="78" y="9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75" y="16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2245680" y="331308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9" y="16"/>
                    </a:moveTo>
                    <a:lnTo>
                      <a:pt x="69" y="14"/>
                    </a:lnTo>
                    <a:lnTo>
                      <a:pt x="70" y="13"/>
                    </a:lnTo>
                    <a:lnTo>
                      <a:pt x="72" y="11"/>
                    </a:lnTo>
                    <a:lnTo>
                      <a:pt x="72" y="1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69" y="16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2244600" y="3308400"/>
                <a:ext cx="55440" cy="12600"/>
              </a:xfrm>
              <a:custGeom>
                <a:avLst/>
                <a:gdLst/>
                <a:ahLst/>
                <a:rect l="l" t="t" r="r" b="b"/>
                <a:pathLst>
                  <a:path w="69" h="16">
                    <a:moveTo>
                      <a:pt x="67" y="16"/>
                    </a:moveTo>
                    <a:lnTo>
                      <a:pt x="67" y="14"/>
                    </a:lnTo>
                    <a:lnTo>
                      <a:pt x="67" y="12"/>
                    </a:lnTo>
                    <a:lnTo>
                      <a:pt x="68" y="10"/>
                    </a:lnTo>
                    <a:lnTo>
                      <a:pt x="69" y="9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67" y="16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2244240" y="3306600"/>
                <a:ext cx="50760" cy="1296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3" y="17"/>
                    </a:moveTo>
                    <a:lnTo>
                      <a:pt x="63" y="14"/>
                    </a:lnTo>
                    <a:lnTo>
                      <a:pt x="64" y="13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10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63" y="1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2242440" y="33051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60" y="14"/>
                    </a:moveTo>
                    <a:lnTo>
                      <a:pt x="60" y="12"/>
                    </a:lnTo>
                    <a:lnTo>
                      <a:pt x="60" y="10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60" y="1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2242800" y="330192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57" h="15">
                    <a:moveTo>
                      <a:pt x="55" y="15"/>
                    </a:moveTo>
                    <a:lnTo>
                      <a:pt x="55" y="12"/>
                    </a:lnTo>
                    <a:lnTo>
                      <a:pt x="56" y="11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55" y="15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2241360" y="3300480"/>
                <a:ext cx="41040" cy="11160"/>
              </a:xfrm>
              <a:custGeom>
                <a:avLst/>
                <a:gdLst/>
                <a:ahLst/>
                <a:rect l="l" t="t" r="r" b="b"/>
                <a:pathLst>
                  <a:path w="53" h="13">
                    <a:moveTo>
                      <a:pt x="51" y="13"/>
                    </a:moveTo>
                    <a:lnTo>
                      <a:pt x="51" y="11"/>
                    </a:lnTo>
                    <a:lnTo>
                      <a:pt x="51" y="10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2241000" y="32986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2" y="13"/>
                    </a:moveTo>
                    <a:lnTo>
                      <a:pt x="42" y="10"/>
                    </a:lnTo>
                    <a:lnTo>
                      <a:pt x="43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42" y="1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2239560" y="329724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5" y="10"/>
                    </a:moveTo>
                    <a:lnTo>
                      <a:pt x="35" y="8"/>
                    </a:lnTo>
                    <a:lnTo>
                      <a:pt x="35" y="5"/>
                    </a:lnTo>
                    <a:lnTo>
                      <a:pt x="37" y="4"/>
                    </a:lnTo>
                    <a:lnTo>
                      <a:pt x="38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2239560" y="329580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8" y="10"/>
                    </a:moveTo>
                    <a:lnTo>
                      <a:pt x="28" y="7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1" y="3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4" y="4"/>
                    </a:lnTo>
                    <a:lnTo>
                      <a:pt x="0" y="5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2236320" y="329400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2" y="7"/>
                    </a:moveTo>
                    <a:lnTo>
                      <a:pt x="22" y="5"/>
                    </a:lnTo>
                    <a:lnTo>
                      <a:pt x="22" y="4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2236680" y="32907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2" y="7"/>
                    </a:moveTo>
                    <a:lnTo>
                      <a:pt x="12" y="4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2236320" y="3290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2190240" y="33717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2"/>
                    </a:lnTo>
                    <a:lnTo>
                      <a:pt x="3" y="7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2190240" y="3368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187360" y="33670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3" y="0"/>
                    </a:moveTo>
                    <a:lnTo>
                      <a:pt x="0" y="5"/>
                    </a:lnTo>
                    <a:lnTo>
                      <a:pt x="8" y="7"/>
                    </a:lnTo>
                    <a:lnTo>
                      <a:pt x="1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2171520" y="3371760"/>
                <a:ext cx="1440" cy="1800"/>
              </a:xfrm>
              <a:prstGeom prst="rect">
                <a:avLst/>
              </a:pr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2185200" y="33656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3" y="0"/>
                    </a:moveTo>
                    <a:lnTo>
                      <a:pt x="0" y="5"/>
                    </a:lnTo>
                    <a:lnTo>
                      <a:pt x="8" y="7"/>
                    </a:lnTo>
                    <a:lnTo>
                      <a:pt x="1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2169360" y="3368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2184120" y="33638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0" y="4"/>
                    </a:lnTo>
                    <a:lnTo>
                      <a:pt x="7" y="7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167920" y="3367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7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2182680" y="33624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3" y="0"/>
                    </a:moveTo>
                    <a:lnTo>
                      <a:pt x="0" y="4"/>
                    </a:lnTo>
                    <a:lnTo>
                      <a:pt x="10" y="6"/>
                    </a:lnTo>
                    <a:lnTo>
                      <a:pt x="1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2163600" y="33638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12" y="2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2182680" y="33591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3" y="0"/>
                    </a:moveTo>
                    <a:lnTo>
                      <a:pt x="0" y="6"/>
                    </a:lnTo>
                    <a:lnTo>
                      <a:pt x="12" y="8"/>
                    </a:lnTo>
                    <a:lnTo>
                      <a:pt x="1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2161440" y="336240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5" y="6"/>
                    </a:moveTo>
                    <a:lnTo>
                      <a:pt x="13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2180520" y="3355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0" y="9"/>
                    </a:lnTo>
                    <a:lnTo>
                      <a:pt x="11" y="11"/>
                    </a:lnTo>
                    <a:lnTo>
                      <a:pt x="1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2157120" y="33591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0" y="8"/>
                    </a:moveTo>
                    <a:lnTo>
                      <a:pt x="17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2155320" y="335448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2" y="0"/>
                    </a:moveTo>
                    <a:lnTo>
                      <a:pt x="0" y="7"/>
                    </a:lnTo>
                    <a:lnTo>
                      <a:pt x="11" y="7"/>
                    </a:lnTo>
                    <a:lnTo>
                      <a:pt x="16" y="2"/>
                    </a:lnTo>
                    <a:lnTo>
                      <a:pt x="27" y="7"/>
                    </a:lnTo>
                    <a:lnTo>
                      <a:pt x="25" y="11"/>
                    </a:lnTo>
                    <a:lnTo>
                      <a:pt x="38" y="13"/>
                    </a:lnTo>
                    <a:lnTo>
                      <a:pt x="45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2152440" y="3351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49" h="13">
                    <a:moveTo>
                      <a:pt x="2" y="0"/>
                    </a:moveTo>
                    <a:lnTo>
                      <a:pt x="0" y="4"/>
                    </a:lnTo>
                    <a:lnTo>
                      <a:pt x="14" y="7"/>
                    </a:lnTo>
                    <a:lnTo>
                      <a:pt x="16" y="4"/>
                    </a:lnTo>
                    <a:lnTo>
                      <a:pt x="25" y="9"/>
                    </a:lnTo>
                    <a:lnTo>
                      <a:pt x="42" y="13"/>
                    </a:lnTo>
                    <a:lnTo>
                      <a:pt x="49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2150280" y="334980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0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50" y="6"/>
                    </a:lnTo>
                    <a:lnTo>
                      <a:pt x="43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2148840" y="3348000"/>
                <a:ext cx="41400" cy="972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0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2" y="7"/>
                    </a:lnTo>
                    <a:lnTo>
                      <a:pt x="50" y="9"/>
                    </a:lnTo>
                    <a:lnTo>
                      <a:pt x="47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2145960" y="334656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0" y="0"/>
                    </a:moveTo>
                    <a:lnTo>
                      <a:pt x="0" y="5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2145960" y="3344760"/>
                <a:ext cx="44640" cy="972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2" y="0"/>
                    </a:moveTo>
                    <a:lnTo>
                      <a:pt x="0" y="4"/>
                    </a:lnTo>
                    <a:lnTo>
                      <a:pt x="52" y="11"/>
                    </a:lnTo>
                    <a:lnTo>
                      <a:pt x="54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2144520" y="334152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2" y="0"/>
                    </a:moveTo>
                    <a:lnTo>
                      <a:pt x="0" y="7"/>
                    </a:lnTo>
                    <a:lnTo>
                      <a:pt x="54" y="14"/>
                    </a:lnTo>
                    <a:lnTo>
                      <a:pt x="56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2142720" y="333864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0" y="0"/>
                    </a:moveTo>
                    <a:lnTo>
                      <a:pt x="0" y="7"/>
                    </a:lnTo>
                    <a:lnTo>
                      <a:pt x="52" y="14"/>
                    </a:lnTo>
                    <a:lnTo>
                      <a:pt x="5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2142720" y="333684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0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7" y="10"/>
                    </a:lnTo>
                    <a:lnTo>
                      <a:pt x="54" y="1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2141280" y="333540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0" y="5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9" y="9"/>
                    </a:lnTo>
                    <a:lnTo>
                      <a:pt x="57" y="1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2138040" y="33336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4" y="0"/>
                    </a:moveTo>
                    <a:lnTo>
                      <a:pt x="0" y="4"/>
                    </a:lnTo>
                    <a:lnTo>
                      <a:pt x="54" y="14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2136600" y="3330720"/>
                <a:ext cx="47520" cy="12600"/>
              </a:xfrm>
              <a:custGeom>
                <a:avLst/>
                <a:gdLst/>
                <a:ahLst/>
                <a:rect l="l" t="t" r="r" b="b"/>
                <a:pathLst>
                  <a:path w="60" h="15">
                    <a:moveTo>
                      <a:pt x="5" y="0"/>
                    </a:moveTo>
                    <a:lnTo>
                      <a:pt x="0" y="6"/>
                    </a:lnTo>
                    <a:lnTo>
                      <a:pt x="54" y="15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2134440" y="3328920"/>
                <a:ext cx="47880" cy="12600"/>
              </a:xfrm>
              <a:custGeom>
                <a:avLst/>
                <a:gdLst/>
                <a:ahLst/>
                <a:rect l="l" t="t" r="r" b="b"/>
                <a:pathLst>
                  <a:path w="60" h="15">
                    <a:moveTo>
                      <a:pt x="0" y="6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0" y="8"/>
                    </a:lnTo>
                    <a:lnTo>
                      <a:pt x="56" y="1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2133360" y="332748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59" h="15">
                    <a:moveTo>
                      <a:pt x="0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59" y="8"/>
                    </a:lnTo>
                    <a:lnTo>
                      <a:pt x="55" y="1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2131200" y="332568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2" y="0"/>
                    </a:moveTo>
                    <a:lnTo>
                      <a:pt x="0" y="5"/>
                    </a:lnTo>
                    <a:lnTo>
                      <a:pt x="55" y="13"/>
                    </a:lnTo>
                    <a:lnTo>
                      <a:pt x="60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2131200" y="3324240"/>
                <a:ext cx="47880" cy="936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2" y="0"/>
                    </a:moveTo>
                    <a:lnTo>
                      <a:pt x="0" y="5"/>
                    </a:lnTo>
                    <a:lnTo>
                      <a:pt x="57" y="13"/>
                    </a:lnTo>
                    <a:lnTo>
                      <a:pt x="60" y="9"/>
                    </a:lnTo>
                    <a:lnTo>
                      <a:pt x="57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2131560" y="331956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8" h="13">
                    <a:moveTo>
                      <a:pt x="0" y="0"/>
                    </a:moveTo>
                    <a:lnTo>
                      <a:pt x="0" y="6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2133000" y="3317760"/>
                <a:ext cx="42840" cy="1116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0" y="7"/>
                    </a:moveTo>
                    <a:lnTo>
                      <a:pt x="0" y="0"/>
                    </a:lnTo>
                    <a:lnTo>
                      <a:pt x="51" y="7"/>
                    </a:lnTo>
                    <a:lnTo>
                      <a:pt x="5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2134440" y="3317760"/>
                <a:ext cx="41400" cy="9720"/>
              </a:xfrm>
              <a:custGeom>
                <a:avLst/>
                <a:gdLst/>
                <a:ahLst/>
                <a:rect l="l" t="t" r="r" b="b"/>
                <a:pathLst>
                  <a:path w="53" h="12">
                    <a:moveTo>
                      <a:pt x="0" y="3"/>
                    </a:moveTo>
                    <a:lnTo>
                      <a:pt x="0" y="0"/>
                    </a:lnTo>
                    <a:lnTo>
                      <a:pt x="51" y="7"/>
                    </a:lnTo>
                    <a:lnTo>
                      <a:pt x="53" y="1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2221920" y="33670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0" y="0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2220480" y="336564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0"/>
                    </a:moveTo>
                    <a:lnTo>
                      <a:pt x="0" y="2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2220480" y="336240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6"/>
                    </a:lnTo>
                    <a:lnTo>
                      <a:pt x="15" y="9"/>
                    </a:lnTo>
                    <a:lnTo>
                      <a:pt x="1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2217600" y="33591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2" y="0"/>
                    </a:moveTo>
                    <a:lnTo>
                      <a:pt x="0" y="8"/>
                    </a:lnTo>
                    <a:lnTo>
                      <a:pt x="17" y="10"/>
                    </a:lnTo>
                    <a:lnTo>
                      <a:pt x="19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2215440" y="335772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2" y="2"/>
                    </a:lnTo>
                    <a:lnTo>
                      <a:pt x="17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2214360" y="335592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22" y="3"/>
                    </a:lnTo>
                    <a:lnTo>
                      <a:pt x="17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2214360" y="335448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7" y="0"/>
                    </a:moveTo>
                    <a:lnTo>
                      <a:pt x="0" y="5"/>
                    </a:lnTo>
                    <a:lnTo>
                      <a:pt x="20" y="7"/>
                    </a:lnTo>
                    <a:lnTo>
                      <a:pt x="22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2212560" y="33512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19" y="2"/>
                    </a:lnTo>
                    <a:lnTo>
                      <a:pt x="17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2211120" y="33480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" y="7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21" y="3"/>
                    </a:lnTo>
                    <a:lnTo>
                      <a:pt x="19" y="5"/>
                    </a:lnTo>
                    <a:lnTo>
                      <a:pt x="17" y="9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2209320" y="334656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0"/>
                    </a:moveTo>
                    <a:lnTo>
                      <a:pt x="9" y="7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2209680" y="334332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1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2206080" y="33415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5" y="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6" y="5"/>
                    </a:lnTo>
                    <a:lnTo>
                      <a:pt x="34" y="9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2204640" y="333864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3" y="0"/>
                    </a:moveTo>
                    <a:lnTo>
                      <a:pt x="0" y="4"/>
                    </a:lnTo>
                    <a:lnTo>
                      <a:pt x="34" y="9"/>
                    </a:lnTo>
                    <a:lnTo>
                      <a:pt x="38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2203200" y="333540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0" y="7"/>
                    </a:lnTo>
                    <a:lnTo>
                      <a:pt x="33" y="12"/>
                    </a:lnTo>
                    <a:lnTo>
                      <a:pt x="3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2201760" y="333360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0" y="0"/>
                    </a:moveTo>
                    <a:lnTo>
                      <a:pt x="0" y="7"/>
                    </a:lnTo>
                    <a:lnTo>
                      <a:pt x="35" y="11"/>
                    </a:lnTo>
                    <a:lnTo>
                      <a:pt x="4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2199600" y="3330720"/>
                <a:ext cx="33480" cy="1080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0" y="0"/>
                    </a:moveTo>
                    <a:lnTo>
                      <a:pt x="0" y="6"/>
                    </a:lnTo>
                    <a:lnTo>
                      <a:pt x="38" y="13"/>
                    </a:lnTo>
                    <a:lnTo>
                      <a:pt x="4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2198160" y="332748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2" y="0"/>
                    </a:moveTo>
                    <a:lnTo>
                      <a:pt x="0" y="8"/>
                    </a:lnTo>
                    <a:lnTo>
                      <a:pt x="40" y="15"/>
                    </a:lnTo>
                    <a:lnTo>
                      <a:pt x="45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2198160" y="33256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2" y="0"/>
                    </a:moveTo>
                    <a:lnTo>
                      <a:pt x="0" y="7"/>
                    </a:lnTo>
                    <a:lnTo>
                      <a:pt x="42" y="13"/>
                    </a:lnTo>
                    <a:lnTo>
                      <a:pt x="45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2196360" y="3324240"/>
                <a:ext cx="34920" cy="936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0"/>
                    </a:moveTo>
                    <a:lnTo>
                      <a:pt x="0" y="5"/>
                    </a:lnTo>
                    <a:lnTo>
                      <a:pt x="43" y="13"/>
                    </a:lnTo>
                    <a:lnTo>
                      <a:pt x="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2193480" y="3321000"/>
                <a:ext cx="38160" cy="972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0" y="0"/>
                    </a:moveTo>
                    <a:lnTo>
                      <a:pt x="0" y="4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2192040" y="331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0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1" y="9"/>
                    </a:lnTo>
                    <a:lnTo>
                      <a:pt x="4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2190600" y="3316320"/>
                <a:ext cx="41040" cy="1116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0" y="7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3" y="7"/>
                    </a:lnTo>
                    <a:lnTo>
                      <a:pt x="48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187000" y="331452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7" y="0"/>
                    </a:moveTo>
                    <a:lnTo>
                      <a:pt x="0" y="4"/>
                    </a:lnTo>
                    <a:lnTo>
                      <a:pt x="51" y="13"/>
                    </a:lnTo>
                    <a:lnTo>
                      <a:pt x="55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2185200" y="3313080"/>
                <a:ext cx="42840" cy="7920"/>
              </a:xfrm>
              <a:custGeom>
                <a:avLst/>
                <a:gdLst/>
                <a:ahLst/>
                <a:rect l="l" t="t" r="r" b="b"/>
                <a:pathLst>
                  <a:path w="53" h="12">
                    <a:moveTo>
                      <a:pt x="4" y="0"/>
                    </a:moveTo>
                    <a:lnTo>
                      <a:pt x="0" y="5"/>
                    </a:lnTo>
                    <a:lnTo>
                      <a:pt x="48" y="12"/>
                    </a:lnTo>
                    <a:lnTo>
                      <a:pt x="53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2185200" y="3311640"/>
                <a:ext cx="41400" cy="792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6" y="0"/>
                    </a:moveTo>
                    <a:lnTo>
                      <a:pt x="0" y="5"/>
                    </a:lnTo>
                    <a:lnTo>
                      <a:pt x="48" y="12"/>
                    </a:lnTo>
                    <a:lnTo>
                      <a:pt x="5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1657440" y="3198960"/>
              <a:ext cx="566640" cy="234720"/>
              <a:chOff x="1657440" y="3198960"/>
              <a:chExt cx="566640" cy="234720"/>
            </a:xfrm>
          </p:grpSpPr>
          <p:sp>
            <p:nvSpPr>
              <p:cNvPr id="897" name=""/>
              <p:cNvSpPr/>
              <p:nvPr/>
            </p:nvSpPr>
            <p:spPr>
              <a:xfrm flipH="1">
                <a:off x="2184480" y="33084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1" h="11">
                    <a:moveTo>
                      <a:pt x="6" y="0"/>
                    </a:moveTo>
                    <a:lnTo>
                      <a:pt x="0" y="4"/>
                    </a:lnTo>
                    <a:lnTo>
                      <a:pt x="49" y="11"/>
                    </a:lnTo>
                    <a:lnTo>
                      <a:pt x="51" y="7"/>
                    </a:lnTo>
                    <a:lnTo>
                      <a:pt x="34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2184480" y="3306600"/>
                <a:ext cx="38160" cy="972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0" y="5"/>
                    </a:moveTo>
                    <a:lnTo>
                      <a:pt x="2" y="0"/>
                    </a:lnTo>
                    <a:lnTo>
                      <a:pt x="47" y="10"/>
                    </a:lnTo>
                    <a:lnTo>
                      <a:pt x="45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2198520" y="330660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3"/>
                    </a:moveTo>
                    <a:lnTo>
                      <a:pt x="0" y="0"/>
                    </a:lnTo>
                    <a:lnTo>
                      <a:pt x="28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089080" y="339084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3"/>
                    </a:moveTo>
                    <a:lnTo>
                      <a:pt x="19" y="4"/>
                    </a:lnTo>
                    <a:lnTo>
                      <a:pt x="19" y="6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1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2085840" y="338616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25" y="10"/>
                    </a:moveTo>
                    <a:lnTo>
                      <a:pt x="25" y="10"/>
                    </a:lnTo>
                    <a:lnTo>
                      <a:pt x="25" y="9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6"/>
                    </a:lnTo>
                    <a:lnTo>
                      <a:pt x="12" y="8"/>
                    </a:lnTo>
                    <a:lnTo>
                      <a:pt x="16" y="10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2085840" y="3381480"/>
                <a:ext cx="28440" cy="1116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4" y="13"/>
                    </a:moveTo>
                    <a:lnTo>
                      <a:pt x="35" y="11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9" y="6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2085840" y="337968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42" y="12"/>
                    </a:moveTo>
                    <a:lnTo>
                      <a:pt x="42" y="10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3"/>
                    </a:lnTo>
                    <a:lnTo>
                      <a:pt x="10" y="4"/>
                    </a:lnTo>
                    <a:lnTo>
                      <a:pt x="15" y="7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2084040" y="3376440"/>
                <a:ext cx="41400" cy="11160"/>
              </a:xfrm>
              <a:custGeom>
                <a:avLst/>
                <a:gdLst/>
                <a:ahLst/>
                <a:rect l="l" t="t" r="r" b="b"/>
                <a:pathLst>
                  <a:path w="53" h="15">
                    <a:moveTo>
                      <a:pt x="49" y="15"/>
                    </a:moveTo>
                    <a:lnTo>
                      <a:pt x="49" y="13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3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3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49" y="15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2084040" y="33735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59" y="14"/>
                    </a:moveTo>
                    <a:lnTo>
                      <a:pt x="59" y="14"/>
                    </a:lnTo>
                    <a:lnTo>
                      <a:pt x="61" y="13"/>
                    </a:lnTo>
                    <a:lnTo>
                      <a:pt x="63" y="11"/>
                    </a:lnTo>
                    <a:lnTo>
                      <a:pt x="63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10"/>
                    </a:lnTo>
                    <a:lnTo>
                      <a:pt x="59" y="14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2084400" y="336852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78" h="16">
                    <a:moveTo>
                      <a:pt x="0" y="0"/>
                    </a:moveTo>
                    <a:lnTo>
                      <a:pt x="0" y="2"/>
                    </a:lnTo>
                    <a:lnTo>
                      <a:pt x="5" y="2"/>
                    </a:lnTo>
                    <a:lnTo>
                      <a:pt x="11" y="3"/>
                    </a:lnTo>
                    <a:lnTo>
                      <a:pt x="18" y="6"/>
                    </a:lnTo>
                    <a:lnTo>
                      <a:pt x="25" y="9"/>
                    </a:lnTo>
                    <a:lnTo>
                      <a:pt x="78" y="16"/>
                    </a:lnTo>
                    <a:lnTo>
                      <a:pt x="78" y="15"/>
                    </a:lnTo>
                    <a:lnTo>
                      <a:pt x="78" y="12"/>
                    </a:lnTo>
                    <a:lnTo>
                      <a:pt x="78" y="11"/>
                    </a:lnTo>
                    <a:lnTo>
                      <a:pt x="78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2084400" y="3367080"/>
                <a:ext cx="60480" cy="12600"/>
              </a:xfrm>
              <a:custGeom>
                <a:avLst/>
                <a:gdLst/>
                <a:ahLst/>
                <a:rect l="l" t="t" r="r" b="b"/>
                <a:pathLst>
                  <a:path w="78" h="17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78" y="17"/>
                    </a:lnTo>
                    <a:lnTo>
                      <a:pt x="78" y="14"/>
                    </a:lnTo>
                    <a:lnTo>
                      <a:pt x="78" y="13"/>
                    </a:lnTo>
                    <a:lnTo>
                      <a:pt x="78" y="11"/>
                    </a:lnTo>
                    <a:lnTo>
                      <a:pt x="78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2084400" y="336384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3" y="0"/>
                    </a:moveTo>
                    <a:lnTo>
                      <a:pt x="3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78" y="18"/>
                    </a:lnTo>
                    <a:lnTo>
                      <a:pt x="78" y="16"/>
                    </a:lnTo>
                    <a:lnTo>
                      <a:pt x="78" y="15"/>
                    </a:lnTo>
                    <a:lnTo>
                      <a:pt x="78" y="13"/>
                    </a:lnTo>
                    <a:lnTo>
                      <a:pt x="78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2084040" y="3362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75" h="16">
                    <a:moveTo>
                      <a:pt x="2" y="0"/>
                    </a:move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5" y="13"/>
                    </a:lnTo>
                    <a:lnTo>
                      <a:pt x="75" y="12"/>
                    </a:lnTo>
                    <a:lnTo>
                      <a:pt x="75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2082600" y="3359160"/>
                <a:ext cx="60120" cy="14400"/>
              </a:xfrm>
              <a:custGeom>
                <a:avLst/>
                <a:gdLst/>
                <a:ahLst/>
                <a:rect l="l" t="t" r="r" b="b"/>
                <a:pathLst>
                  <a:path w="77" h="17">
                    <a:moveTo>
                      <a:pt x="6" y="0"/>
                    </a:moveTo>
                    <a:lnTo>
                      <a:pt x="6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75" y="17"/>
                    </a:lnTo>
                    <a:lnTo>
                      <a:pt x="75" y="15"/>
                    </a:lnTo>
                    <a:lnTo>
                      <a:pt x="75" y="14"/>
                    </a:lnTo>
                    <a:lnTo>
                      <a:pt x="76" y="12"/>
                    </a:lnTo>
                    <a:lnTo>
                      <a:pt x="77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2082600" y="3357720"/>
                <a:ext cx="58680" cy="1404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6" y="0"/>
                    </a:moveTo>
                    <a:lnTo>
                      <a:pt x="6" y="1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73" y="17"/>
                    </a:lnTo>
                    <a:lnTo>
                      <a:pt x="74" y="15"/>
                    </a:lnTo>
                    <a:lnTo>
                      <a:pt x="75" y="14"/>
                    </a:lnTo>
                    <a:lnTo>
                      <a:pt x="75" y="11"/>
                    </a:lnTo>
                    <a:lnTo>
                      <a:pt x="75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2082960" y="33559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71" h="15">
                    <a:moveTo>
                      <a:pt x="4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4"/>
                    </a:lnTo>
                    <a:lnTo>
                      <a:pt x="71" y="12"/>
                    </a:lnTo>
                    <a:lnTo>
                      <a:pt x="71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2082960" y="335448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69" h="15">
                    <a:moveTo>
                      <a:pt x="7" y="0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69" y="15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9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2082600" y="3349800"/>
                <a:ext cx="52200" cy="140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7" y="0"/>
                    </a:moveTo>
                    <a:lnTo>
                      <a:pt x="6" y="1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7" y="17"/>
                    </a:lnTo>
                    <a:lnTo>
                      <a:pt x="67" y="15"/>
                    </a:lnTo>
                    <a:lnTo>
                      <a:pt x="67" y="12"/>
                    </a:lnTo>
                    <a:lnTo>
                      <a:pt x="67" y="11"/>
                    </a:lnTo>
                    <a:lnTo>
                      <a:pt x="6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2079360" y="3348000"/>
                <a:ext cx="52200" cy="14400"/>
              </a:xfrm>
              <a:custGeom>
                <a:avLst/>
                <a:gdLst/>
                <a:ahLst/>
                <a:rect l="l" t="t" r="r" b="b"/>
                <a:pathLst>
                  <a:path w="64" h="18">
                    <a:moveTo>
                      <a:pt x="4" y="0"/>
                    </a:moveTo>
                    <a:lnTo>
                      <a:pt x="3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2" y="18"/>
                    </a:lnTo>
                    <a:lnTo>
                      <a:pt x="62" y="15"/>
                    </a:lnTo>
                    <a:lnTo>
                      <a:pt x="62" y="13"/>
                    </a:lnTo>
                    <a:lnTo>
                      <a:pt x="63" y="12"/>
                    </a:lnTo>
                    <a:lnTo>
                      <a:pt x="6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2079360" y="33465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5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2079720" y="334476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5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2079720" y="334332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4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8"/>
                    </a:lnTo>
                    <a:lnTo>
                      <a:pt x="57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2077920" y="3341520"/>
                <a:ext cx="45720" cy="828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55" y="12"/>
                    </a:lnTo>
                    <a:lnTo>
                      <a:pt x="55" y="10"/>
                    </a:lnTo>
                    <a:lnTo>
                      <a:pt x="56" y="9"/>
                    </a:lnTo>
                    <a:lnTo>
                      <a:pt x="58" y="8"/>
                    </a:lnTo>
                    <a:lnTo>
                      <a:pt x="58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2076480" y="333684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58" h="14">
                    <a:moveTo>
                      <a:pt x="3" y="0"/>
                    </a:move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3" y="14"/>
                    </a:lnTo>
                    <a:lnTo>
                      <a:pt x="54" y="13"/>
                    </a:lnTo>
                    <a:lnTo>
                      <a:pt x="56" y="12"/>
                    </a:lnTo>
                    <a:lnTo>
                      <a:pt x="57" y="11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2" y="9"/>
                    </a:lnTo>
                    <a:lnTo>
                      <a:pt x="49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2076480" y="333540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2" y="0"/>
                    </a:moveTo>
                    <a:lnTo>
                      <a:pt x="2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3" y="13"/>
                    </a:lnTo>
                    <a:lnTo>
                      <a:pt x="54" y="12"/>
                    </a:lnTo>
                    <a:lnTo>
                      <a:pt x="55" y="12"/>
                    </a:lnTo>
                    <a:lnTo>
                      <a:pt x="49" y="11"/>
                    </a:lnTo>
                    <a:lnTo>
                      <a:pt x="42" y="9"/>
                    </a:lnTo>
                    <a:lnTo>
                      <a:pt x="35" y="7"/>
                    </a:lnTo>
                    <a:lnTo>
                      <a:pt x="28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2084400" y="333360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2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46" y="11"/>
                    </a:lnTo>
                    <a:lnTo>
                      <a:pt x="38" y="9"/>
                    </a:lnTo>
                    <a:lnTo>
                      <a:pt x="28" y="7"/>
                    </a:lnTo>
                    <a:lnTo>
                      <a:pt x="20" y="3"/>
                    </a:lnTo>
                    <a:lnTo>
                      <a:pt x="1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2097000" y="33307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3" y="5"/>
                    </a:lnTo>
                    <a:lnTo>
                      <a:pt x="19" y="7"/>
                    </a:lnTo>
                    <a:lnTo>
                      <a:pt x="26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2109960" y="333072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2025720" y="3373560"/>
                <a:ext cx="38160" cy="61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0"/>
                    </a:moveTo>
                    <a:lnTo>
                      <a:pt x="0" y="7"/>
                    </a:lnTo>
                    <a:lnTo>
                      <a:pt x="29" y="10"/>
                    </a:lnTo>
                    <a:lnTo>
                      <a:pt x="38" y="10"/>
                    </a:lnTo>
                    <a:lnTo>
                      <a:pt x="4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2014200" y="3371760"/>
                <a:ext cx="49320" cy="7920"/>
              </a:xfrm>
              <a:custGeom>
                <a:avLst/>
                <a:gdLst/>
                <a:ahLst/>
                <a:rect l="l" t="t" r="r" b="b"/>
                <a:pathLst>
                  <a:path w="62" h="12">
                    <a:moveTo>
                      <a:pt x="0" y="7"/>
                    </a:moveTo>
                    <a:lnTo>
                      <a:pt x="2" y="0"/>
                    </a:lnTo>
                    <a:lnTo>
                      <a:pt x="22" y="5"/>
                    </a:lnTo>
                    <a:lnTo>
                      <a:pt x="26" y="2"/>
                    </a:lnTo>
                    <a:lnTo>
                      <a:pt x="62" y="7"/>
                    </a:lnTo>
                    <a:lnTo>
                      <a:pt x="38" y="12"/>
                    </a:lnTo>
                    <a:lnTo>
                      <a:pt x="29" y="12"/>
                    </a:lnTo>
                    <a:lnTo>
                      <a:pt x="17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1996920" y="3368520"/>
                <a:ext cx="66600" cy="9720"/>
              </a:xfrm>
              <a:custGeom>
                <a:avLst/>
                <a:gdLst/>
                <a:ahLst/>
                <a:rect l="l" t="t" r="r" b="b"/>
                <a:pathLst>
                  <a:path w="84" h="11">
                    <a:moveTo>
                      <a:pt x="0" y="4"/>
                    </a:moveTo>
                    <a:lnTo>
                      <a:pt x="2" y="2"/>
                    </a:lnTo>
                    <a:lnTo>
                      <a:pt x="22" y="7"/>
                    </a:lnTo>
                    <a:lnTo>
                      <a:pt x="33" y="0"/>
                    </a:lnTo>
                    <a:lnTo>
                      <a:pt x="84" y="9"/>
                    </a:lnTo>
                    <a:lnTo>
                      <a:pt x="65" y="9"/>
                    </a:lnTo>
                    <a:lnTo>
                      <a:pt x="4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1977840" y="3367080"/>
                <a:ext cx="65160" cy="9360"/>
              </a:xfrm>
              <a:custGeom>
                <a:avLst/>
                <a:gdLst/>
                <a:ahLst/>
                <a:rect l="l" t="t" r="r" b="b"/>
                <a:pathLst>
                  <a:path w="81" h="12">
                    <a:moveTo>
                      <a:pt x="0" y="7"/>
                    </a:moveTo>
                    <a:lnTo>
                      <a:pt x="12" y="3"/>
                    </a:lnTo>
                    <a:lnTo>
                      <a:pt x="17" y="0"/>
                    </a:lnTo>
                    <a:lnTo>
                      <a:pt x="81" y="10"/>
                    </a:lnTo>
                    <a:lnTo>
                      <a:pt x="39" y="12"/>
                    </a:lnTo>
                    <a:lnTo>
                      <a:pt x="36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1960560" y="3363840"/>
                <a:ext cx="76320" cy="1260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0" y="7"/>
                    </a:moveTo>
                    <a:lnTo>
                      <a:pt x="5" y="7"/>
                    </a:lnTo>
                    <a:lnTo>
                      <a:pt x="20" y="0"/>
                    </a:lnTo>
                    <a:lnTo>
                      <a:pt x="96" y="11"/>
                    </a:lnTo>
                    <a:lnTo>
                      <a:pt x="76" y="14"/>
                    </a:lnTo>
                    <a:lnTo>
                      <a:pt x="51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1944720" y="3362400"/>
                <a:ext cx="85680" cy="12600"/>
              </a:xfrm>
              <a:custGeom>
                <a:avLst/>
                <a:gdLst/>
                <a:ahLst/>
                <a:rect l="l" t="t" r="r" b="b"/>
                <a:pathLst>
                  <a:path w="107" h="16">
                    <a:moveTo>
                      <a:pt x="19" y="0"/>
                    </a:moveTo>
                    <a:lnTo>
                      <a:pt x="0" y="6"/>
                    </a:lnTo>
                    <a:lnTo>
                      <a:pt x="64" y="16"/>
                    </a:lnTo>
                    <a:lnTo>
                      <a:pt x="66" y="16"/>
                    </a:lnTo>
                    <a:lnTo>
                      <a:pt x="104" y="13"/>
                    </a:lnTo>
                    <a:lnTo>
                      <a:pt x="107" y="1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1927440" y="3359160"/>
                <a:ext cx="95040" cy="14400"/>
              </a:xfrm>
              <a:custGeom>
                <a:avLst/>
                <a:gdLst/>
                <a:ahLst/>
                <a:rect l="l" t="t" r="r" b="b"/>
                <a:pathLst>
                  <a:path w="119" h="17">
                    <a:moveTo>
                      <a:pt x="18" y="0"/>
                    </a:moveTo>
                    <a:lnTo>
                      <a:pt x="0" y="6"/>
                    </a:lnTo>
                    <a:lnTo>
                      <a:pt x="76" y="17"/>
                    </a:lnTo>
                    <a:lnTo>
                      <a:pt x="94" y="17"/>
                    </a:lnTo>
                    <a:lnTo>
                      <a:pt x="119" y="1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1911600" y="3357720"/>
                <a:ext cx="102960" cy="15840"/>
              </a:xfrm>
              <a:custGeom>
                <a:avLst/>
                <a:gdLst/>
                <a:ahLst/>
                <a:rect l="l" t="t" r="r" b="b"/>
                <a:pathLst>
                  <a:path w="129" h="19">
                    <a:moveTo>
                      <a:pt x="0" y="6"/>
                    </a:moveTo>
                    <a:lnTo>
                      <a:pt x="12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129" y="15"/>
                    </a:lnTo>
                    <a:lnTo>
                      <a:pt x="125" y="15"/>
                    </a:lnTo>
                    <a:lnTo>
                      <a:pt x="88" y="1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1893600" y="3354480"/>
                <a:ext cx="112680" cy="17280"/>
              </a:xfrm>
              <a:custGeom>
                <a:avLst/>
                <a:gdLst/>
                <a:ahLst/>
                <a:rect l="l" t="t" r="r" b="b"/>
                <a:pathLst>
                  <a:path w="143" h="22">
                    <a:moveTo>
                      <a:pt x="0" y="7"/>
                    </a:moveTo>
                    <a:lnTo>
                      <a:pt x="3" y="5"/>
                    </a:lnTo>
                    <a:lnTo>
                      <a:pt x="20" y="5"/>
                    </a:lnTo>
                    <a:lnTo>
                      <a:pt x="29" y="0"/>
                    </a:lnTo>
                    <a:lnTo>
                      <a:pt x="143" y="20"/>
                    </a:lnTo>
                    <a:lnTo>
                      <a:pt x="116" y="20"/>
                    </a:lnTo>
                    <a:lnTo>
                      <a:pt x="101" y="2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1874880" y="3351240"/>
                <a:ext cx="114480" cy="17280"/>
              </a:xfrm>
              <a:custGeom>
                <a:avLst/>
                <a:gdLst/>
                <a:ahLst/>
                <a:rect l="l" t="t" r="r" b="b"/>
                <a:pathLst>
                  <a:path w="146" h="22">
                    <a:moveTo>
                      <a:pt x="16" y="0"/>
                    </a:moveTo>
                    <a:lnTo>
                      <a:pt x="0" y="7"/>
                    </a:lnTo>
                    <a:lnTo>
                      <a:pt x="98" y="22"/>
                    </a:lnTo>
                    <a:lnTo>
                      <a:pt x="146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1855440" y="3349800"/>
                <a:ext cx="128520" cy="18720"/>
              </a:xfrm>
              <a:custGeom>
                <a:avLst/>
                <a:gdLst/>
                <a:ahLst/>
                <a:rect l="l" t="t" r="r" b="b"/>
                <a:pathLst>
                  <a:path w="163" h="24">
                    <a:moveTo>
                      <a:pt x="0" y="4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163" y="19"/>
                    </a:lnTo>
                    <a:lnTo>
                      <a:pt x="155" y="19"/>
                    </a:lnTo>
                    <a:lnTo>
                      <a:pt x="114" y="2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830240" y="3348000"/>
                <a:ext cx="145800" cy="190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0" y="5"/>
                    </a:moveTo>
                    <a:lnTo>
                      <a:pt x="3" y="3"/>
                    </a:lnTo>
                    <a:lnTo>
                      <a:pt x="32" y="0"/>
                    </a:lnTo>
                    <a:lnTo>
                      <a:pt x="185" y="22"/>
                    </a:lnTo>
                    <a:lnTo>
                      <a:pt x="146" y="22"/>
                    </a:lnTo>
                    <a:lnTo>
                      <a:pt x="130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1803240" y="3346560"/>
                <a:ext cx="161640" cy="19080"/>
              </a:xfrm>
              <a:custGeom>
                <a:avLst/>
                <a:gdLst/>
                <a:ahLst/>
                <a:rect l="l" t="t" r="r" b="b"/>
                <a:pathLst>
                  <a:path w="203" h="24">
                    <a:moveTo>
                      <a:pt x="34" y="0"/>
                    </a:moveTo>
                    <a:lnTo>
                      <a:pt x="0" y="5"/>
                    </a:lnTo>
                    <a:lnTo>
                      <a:pt x="139" y="24"/>
                    </a:lnTo>
                    <a:lnTo>
                      <a:pt x="203" y="2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1779840" y="3344760"/>
                <a:ext cx="172800" cy="20880"/>
              </a:xfrm>
              <a:custGeom>
                <a:avLst/>
                <a:gdLst/>
                <a:ahLst/>
                <a:rect l="l" t="t" r="r" b="b"/>
                <a:pathLst>
                  <a:path w="216" h="26">
                    <a:moveTo>
                      <a:pt x="33" y="0"/>
                    </a:moveTo>
                    <a:lnTo>
                      <a:pt x="0" y="4"/>
                    </a:lnTo>
                    <a:lnTo>
                      <a:pt x="153" y="26"/>
                    </a:lnTo>
                    <a:lnTo>
                      <a:pt x="216" y="2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1755360" y="3343320"/>
                <a:ext cx="182520" cy="22320"/>
              </a:xfrm>
              <a:custGeom>
                <a:avLst/>
                <a:gdLst/>
                <a:ahLst/>
                <a:rect l="l" t="t" r="r" b="b"/>
                <a:pathLst>
                  <a:path w="230" h="29">
                    <a:moveTo>
                      <a:pt x="33" y="0"/>
                    </a:moveTo>
                    <a:lnTo>
                      <a:pt x="0" y="5"/>
                    </a:lnTo>
                    <a:lnTo>
                      <a:pt x="169" y="29"/>
                    </a:lnTo>
                    <a:lnTo>
                      <a:pt x="230" y="2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1716120" y="3341520"/>
                <a:ext cx="209520" cy="30240"/>
              </a:xfrm>
              <a:custGeom>
                <a:avLst/>
                <a:gdLst/>
                <a:ahLst/>
                <a:rect l="l" t="t" r="r" b="b"/>
                <a:pathLst>
                  <a:path w="265" h="38">
                    <a:moveTo>
                      <a:pt x="33" y="0"/>
                    </a:moveTo>
                    <a:lnTo>
                      <a:pt x="0" y="5"/>
                    </a:lnTo>
                    <a:lnTo>
                      <a:pt x="183" y="31"/>
                    </a:lnTo>
                    <a:lnTo>
                      <a:pt x="238" y="31"/>
                    </a:lnTo>
                    <a:lnTo>
                      <a:pt x="260" y="38"/>
                    </a:lnTo>
                    <a:lnTo>
                      <a:pt x="265" y="3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1707840" y="3338640"/>
                <a:ext cx="203400" cy="33120"/>
              </a:xfrm>
              <a:custGeom>
                <a:avLst/>
                <a:gdLst/>
                <a:ahLst/>
                <a:rect l="l" t="t" r="r" b="b"/>
                <a:pathLst>
                  <a:path w="257" h="40">
                    <a:moveTo>
                      <a:pt x="34" y="0"/>
                    </a:moveTo>
                    <a:lnTo>
                      <a:pt x="0" y="4"/>
                    </a:lnTo>
                    <a:lnTo>
                      <a:pt x="197" y="33"/>
                    </a:lnTo>
                    <a:lnTo>
                      <a:pt x="221" y="33"/>
                    </a:lnTo>
                    <a:lnTo>
                      <a:pt x="243" y="40"/>
                    </a:lnTo>
                    <a:lnTo>
                      <a:pt x="257" y="3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1657440" y="3336840"/>
                <a:ext cx="241200" cy="34920"/>
              </a:xfrm>
              <a:custGeom>
                <a:avLst/>
                <a:gdLst/>
                <a:ahLst/>
                <a:rect l="l" t="t" r="r" b="b"/>
                <a:pathLst>
                  <a:path w="306" h="43">
                    <a:moveTo>
                      <a:pt x="34" y="0"/>
                    </a:moveTo>
                    <a:lnTo>
                      <a:pt x="0" y="5"/>
                    </a:lnTo>
                    <a:lnTo>
                      <a:pt x="232" y="38"/>
                    </a:lnTo>
                    <a:lnTo>
                      <a:pt x="246" y="34"/>
                    </a:lnTo>
                    <a:lnTo>
                      <a:pt x="301" y="43"/>
                    </a:lnTo>
                    <a:lnTo>
                      <a:pt x="306" y="41"/>
                    </a:lnTo>
                    <a:lnTo>
                      <a:pt x="306" y="4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>
                <a:off x="1657080" y="3333600"/>
                <a:ext cx="228600" cy="38160"/>
              </a:xfrm>
              <a:custGeom>
                <a:avLst/>
                <a:gdLst/>
                <a:ahLst/>
                <a:rect l="l" t="t" r="r" b="b"/>
                <a:pathLst>
                  <a:path w="288" h="47">
                    <a:moveTo>
                      <a:pt x="0" y="7"/>
                    </a:moveTo>
                    <a:lnTo>
                      <a:pt x="23" y="2"/>
                    </a:lnTo>
                    <a:lnTo>
                      <a:pt x="27" y="0"/>
                    </a:lnTo>
                    <a:lnTo>
                      <a:pt x="285" y="40"/>
                    </a:lnTo>
                    <a:lnTo>
                      <a:pt x="288" y="45"/>
                    </a:lnTo>
                    <a:lnTo>
                      <a:pt x="283" y="47"/>
                    </a:lnTo>
                    <a:lnTo>
                      <a:pt x="228" y="38"/>
                    </a:lnTo>
                    <a:lnTo>
                      <a:pt x="223" y="4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1657440" y="3330720"/>
                <a:ext cx="216000" cy="37800"/>
              </a:xfrm>
              <a:custGeom>
                <a:avLst/>
                <a:gdLst/>
                <a:ahLst/>
                <a:rect l="l" t="t" r="r" b="b"/>
                <a:pathLst>
                  <a:path w="272" h="49">
                    <a:moveTo>
                      <a:pt x="0" y="8"/>
                    </a:moveTo>
                    <a:lnTo>
                      <a:pt x="7" y="6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269" y="40"/>
                    </a:lnTo>
                    <a:lnTo>
                      <a:pt x="272" y="4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1658520" y="3328920"/>
                <a:ext cx="204840" cy="36720"/>
              </a:xfrm>
              <a:custGeom>
                <a:avLst/>
                <a:gdLst/>
                <a:ahLst/>
                <a:rect l="l" t="t" r="r" b="b"/>
                <a:pathLst>
                  <a:path w="258" h="46">
                    <a:moveTo>
                      <a:pt x="0" y="6"/>
                    </a:moveTo>
                    <a:lnTo>
                      <a:pt x="6" y="6"/>
                    </a:lnTo>
                    <a:lnTo>
                      <a:pt x="18" y="2"/>
                    </a:lnTo>
                    <a:lnTo>
                      <a:pt x="34" y="0"/>
                    </a:lnTo>
                    <a:lnTo>
                      <a:pt x="256" y="33"/>
                    </a:lnTo>
                    <a:lnTo>
                      <a:pt x="256" y="38"/>
                    </a:lnTo>
                    <a:lnTo>
                      <a:pt x="258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1658880" y="3328920"/>
                <a:ext cx="193680" cy="33480"/>
              </a:xfrm>
              <a:custGeom>
                <a:avLst/>
                <a:gdLst/>
                <a:ahLst/>
                <a:rect l="l" t="t" r="r" b="b"/>
                <a:pathLst>
                  <a:path w="245" h="42">
                    <a:moveTo>
                      <a:pt x="0" y="2"/>
                    </a:moveTo>
                    <a:lnTo>
                      <a:pt x="5" y="2"/>
                    </a:lnTo>
                    <a:lnTo>
                      <a:pt x="40" y="0"/>
                    </a:lnTo>
                    <a:lnTo>
                      <a:pt x="239" y="29"/>
                    </a:lnTo>
                    <a:lnTo>
                      <a:pt x="243" y="38"/>
                    </a:lnTo>
                    <a:lnTo>
                      <a:pt x="245" y="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1660320" y="3327480"/>
                <a:ext cx="176040" cy="28440"/>
              </a:xfrm>
              <a:custGeom>
                <a:avLst/>
                <a:gdLst/>
                <a:ahLst/>
                <a:rect l="l" t="t" r="r" b="b"/>
                <a:pathLst>
                  <a:path w="222" h="35">
                    <a:moveTo>
                      <a:pt x="0" y="2"/>
                    </a:moveTo>
                    <a:lnTo>
                      <a:pt x="33" y="0"/>
                    </a:lnTo>
                    <a:lnTo>
                      <a:pt x="41" y="0"/>
                    </a:lnTo>
                    <a:lnTo>
                      <a:pt x="212" y="26"/>
                    </a:lnTo>
                    <a:lnTo>
                      <a:pt x="218" y="31"/>
                    </a:lnTo>
                    <a:lnTo>
                      <a:pt x="222" y="3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1663920" y="3325680"/>
                <a:ext cx="156960" cy="25560"/>
              </a:xfrm>
              <a:custGeom>
                <a:avLst/>
                <a:gdLst/>
                <a:ahLst/>
                <a:rect l="l" t="t" r="r" b="b"/>
                <a:pathLst>
                  <a:path w="199" h="34">
                    <a:moveTo>
                      <a:pt x="0" y="5"/>
                    </a:moveTo>
                    <a:lnTo>
                      <a:pt x="14" y="3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186" y="22"/>
                    </a:lnTo>
                    <a:lnTo>
                      <a:pt x="199" y="34"/>
                    </a:lnTo>
                    <a:lnTo>
                      <a:pt x="199" y="3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1668240" y="3325680"/>
                <a:ext cx="135000" cy="22320"/>
              </a:xfrm>
              <a:custGeom>
                <a:avLst/>
                <a:gdLst/>
                <a:ahLst/>
                <a:rect l="l" t="t" r="r" b="b"/>
                <a:pathLst>
                  <a:path w="171" h="29">
                    <a:moveTo>
                      <a:pt x="0" y="3"/>
                    </a:moveTo>
                    <a:lnTo>
                      <a:pt x="23" y="0"/>
                    </a:lnTo>
                    <a:lnTo>
                      <a:pt x="61" y="3"/>
                    </a:lnTo>
                    <a:lnTo>
                      <a:pt x="157" y="18"/>
                    </a:lnTo>
                    <a:lnTo>
                      <a:pt x="171" y="29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1674360" y="3325680"/>
                <a:ext cx="111240" cy="17640"/>
              </a:xfrm>
              <a:custGeom>
                <a:avLst/>
                <a:gdLst/>
                <a:ahLst/>
                <a:rect l="l" t="t" r="r" b="b"/>
                <a:pathLst>
                  <a:path w="141" h="22">
                    <a:moveTo>
                      <a:pt x="74" y="3"/>
                    </a:moveTo>
                    <a:lnTo>
                      <a:pt x="0" y="0"/>
                    </a:lnTo>
                    <a:lnTo>
                      <a:pt x="141" y="22"/>
                    </a:lnTo>
                    <a:lnTo>
                      <a:pt x="127" y="11"/>
                    </a:lnTo>
                    <a:lnTo>
                      <a:pt x="127" y="11"/>
                    </a:lnTo>
                    <a:lnTo>
                      <a:pt x="74" y="3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1679400" y="3327480"/>
                <a:ext cx="75960" cy="1116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0" y="0"/>
                    </a:moveTo>
                    <a:lnTo>
                      <a:pt x="72" y="0"/>
                    </a:lnTo>
                    <a:lnTo>
                      <a:pt x="89" y="8"/>
                    </a:lnTo>
                    <a:lnTo>
                      <a:pt x="9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1684080" y="3327480"/>
                <a:ext cx="42840" cy="6120"/>
              </a:xfrm>
              <a:custGeom>
                <a:avLst/>
                <a:gdLst/>
                <a:ahLst/>
                <a:rect l="l" t="t" r="r" b="b"/>
                <a:pathLst>
                  <a:path w="53" h="8">
                    <a:moveTo>
                      <a:pt x="0" y="0"/>
                    </a:moveTo>
                    <a:lnTo>
                      <a:pt x="36" y="0"/>
                    </a:lnTo>
                    <a:lnTo>
                      <a:pt x="53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1915920" y="338472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12" y="0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2" y="3"/>
                    </a:lnTo>
                    <a:lnTo>
                      <a:pt x="24" y="5"/>
                    </a:lnTo>
                    <a:lnTo>
                      <a:pt x="36" y="6"/>
                    </a:lnTo>
                    <a:lnTo>
                      <a:pt x="48" y="8"/>
                    </a:lnTo>
                    <a:lnTo>
                      <a:pt x="60" y="9"/>
                    </a:lnTo>
                    <a:lnTo>
                      <a:pt x="71" y="11"/>
                    </a:lnTo>
                    <a:lnTo>
                      <a:pt x="84" y="12"/>
                    </a:lnTo>
                    <a:lnTo>
                      <a:pt x="96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>
                <a:off x="1681200" y="342576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1" y="5"/>
                    </a:move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8"/>
                    </a:lnTo>
                    <a:lnTo>
                      <a:pt x="29" y="7"/>
                    </a:lnTo>
                    <a:lnTo>
                      <a:pt x="24" y="6"/>
                    </a:lnTo>
                    <a:lnTo>
                      <a:pt x="20" y="5"/>
                    </a:lnTo>
                    <a:lnTo>
                      <a:pt x="14" y="4"/>
                    </a:lnTo>
                    <a:lnTo>
                      <a:pt x="10" y="3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1825200" y="3381480"/>
                <a:ext cx="165240" cy="23760"/>
              </a:xfrm>
              <a:custGeom>
                <a:avLst/>
                <a:gdLst/>
                <a:ahLst/>
                <a:rect l="l" t="t" r="r" b="b"/>
                <a:pathLst>
                  <a:path w="210" h="29">
                    <a:moveTo>
                      <a:pt x="33" y="0"/>
                    </a:moveTo>
                    <a:lnTo>
                      <a:pt x="24" y="1"/>
                    </a:lnTo>
                    <a:lnTo>
                      <a:pt x="15" y="2"/>
                    </a:lnTo>
                    <a:lnTo>
                      <a:pt x="7" y="2"/>
                    </a:lnTo>
                    <a:lnTo>
                      <a:pt x="0" y="2"/>
                    </a:lnTo>
                    <a:lnTo>
                      <a:pt x="13" y="5"/>
                    </a:lnTo>
                    <a:lnTo>
                      <a:pt x="27" y="7"/>
                    </a:lnTo>
                    <a:lnTo>
                      <a:pt x="39" y="9"/>
                    </a:lnTo>
                    <a:lnTo>
                      <a:pt x="52" y="10"/>
                    </a:lnTo>
                    <a:lnTo>
                      <a:pt x="66" y="13"/>
                    </a:lnTo>
                    <a:lnTo>
                      <a:pt x="78" y="14"/>
                    </a:lnTo>
                    <a:lnTo>
                      <a:pt x="92" y="15"/>
                    </a:lnTo>
                    <a:lnTo>
                      <a:pt x="105" y="17"/>
                    </a:lnTo>
                    <a:lnTo>
                      <a:pt x="118" y="18"/>
                    </a:lnTo>
                    <a:lnTo>
                      <a:pt x="131" y="19"/>
                    </a:lnTo>
                    <a:lnTo>
                      <a:pt x="144" y="21"/>
                    </a:lnTo>
                    <a:lnTo>
                      <a:pt x="158" y="23"/>
                    </a:lnTo>
                    <a:lnTo>
                      <a:pt x="171" y="24"/>
                    </a:lnTo>
                    <a:lnTo>
                      <a:pt x="183" y="25"/>
                    </a:lnTo>
                    <a:lnTo>
                      <a:pt x="197" y="28"/>
                    </a:lnTo>
                    <a:lnTo>
                      <a:pt x="210" y="2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1681200" y="341136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108" h="26">
                    <a:moveTo>
                      <a:pt x="105" y="26"/>
                    </a:moveTo>
                    <a:lnTo>
                      <a:pt x="105" y="24"/>
                    </a:lnTo>
                    <a:lnTo>
                      <a:pt x="106" y="22"/>
                    </a:lnTo>
                    <a:lnTo>
                      <a:pt x="108" y="20"/>
                    </a:lnTo>
                    <a:lnTo>
                      <a:pt x="108" y="17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26" y="6"/>
                    </a:lnTo>
                    <a:lnTo>
                      <a:pt x="38" y="9"/>
                    </a:lnTo>
                    <a:lnTo>
                      <a:pt x="51" y="11"/>
                    </a:lnTo>
                    <a:lnTo>
                      <a:pt x="63" y="15"/>
                    </a:lnTo>
                    <a:lnTo>
                      <a:pt x="75" y="18"/>
                    </a:lnTo>
                    <a:lnTo>
                      <a:pt x="88" y="22"/>
                    </a:lnTo>
                    <a:lnTo>
                      <a:pt x="101" y="26"/>
                    </a:lnTo>
                    <a:lnTo>
                      <a:pt x="105" y="26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1679760" y="3381480"/>
                <a:ext cx="303120" cy="47520"/>
              </a:xfrm>
              <a:custGeom>
                <a:avLst/>
                <a:gdLst/>
                <a:ahLst/>
                <a:rect l="l" t="t" r="r" b="b"/>
                <a:pathLst>
                  <a:path w="381" h="60">
                    <a:moveTo>
                      <a:pt x="42" y="0"/>
                    </a:moveTo>
                    <a:lnTo>
                      <a:pt x="36" y="0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21" y="1"/>
                    </a:lnTo>
                    <a:lnTo>
                      <a:pt x="16" y="1"/>
                    </a:lnTo>
                    <a:lnTo>
                      <a:pt x="11" y="2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84" y="15"/>
                    </a:lnTo>
                    <a:lnTo>
                      <a:pt x="100" y="16"/>
                    </a:lnTo>
                    <a:lnTo>
                      <a:pt x="116" y="18"/>
                    </a:lnTo>
                    <a:lnTo>
                      <a:pt x="132" y="19"/>
                    </a:lnTo>
                    <a:lnTo>
                      <a:pt x="147" y="22"/>
                    </a:lnTo>
                    <a:lnTo>
                      <a:pt x="163" y="23"/>
                    </a:lnTo>
                    <a:lnTo>
                      <a:pt x="179" y="25"/>
                    </a:lnTo>
                    <a:lnTo>
                      <a:pt x="195" y="28"/>
                    </a:lnTo>
                    <a:lnTo>
                      <a:pt x="212" y="30"/>
                    </a:lnTo>
                    <a:lnTo>
                      <a:pt x="228" y="32"/>
                    </a:lnTo>
                    <a:lnTo>
                      <a:pt x="244" y="34"/>
                    </a:lnTo>
                    <a:lnTo>
                      <a:pt x="259" y="37"/>
                    </a:lnTo>
                    <a:lnTo>
                      <a:pt x="275" y="40"/>
                    </a:lnTo>
                    <a:lnTo>
                      <a:pt x="291" y="44"/>
                    </a:lnTo>
                    <a:lnTo>
                      <a:pt x="307" y="47"/>
                    </a:lnTo>
                    <a:lnTo>
                      <a:pt x="322" y="51"/>
                    </a:lnTo>
                    <a:lnTo>
                      <a:pt x="338" y="55"/>
                    </a:lnTo>
                    <a:lnTo>
                      <a:pt x="379" y="60"/>
                    </a:lnTo>
                    <a:lnTo>
                      <a:pt x="379" y="58"/>
                    </a:lnTo>
                    <a:lnTo>
                      <a:pt x="379" y="55"/>
                    </a:lnTo>
                    <a:lnTo>
                      <a:pt x="380" y="53"/>
                    </a:lnTo>
                    <a:lnTo>
                      <a:pt x="381" y="5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>
                <a:off x="1662120" y="3379680"/>
                <a:ext cx="303120" cy="46080"/>
              </a:xfrm>
              <a:custGeom>
                <a:avLst/>
                <a:gdLst/>
                <a:ahLst/>
                <a:rect l="l" t="t" r="r" b="b"/>
                <a:pathLst>
                  <a:path w="382" h="57">
                    <a:moveTo>
                      <a:pt x="45" y="0"/>
                    </a:moveTo>
                    <a:lnTo>
                      <a:pt x="40" y="0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177" y="31"/>
                    </a:lnTo>
                    <a:lnTo>
                      <a:pt x="186" y="32"/>
                    </a:lnTo>
                    <a:lnTo>
                      <a:pt x="196" y="33"/>
                    </a:lnTo>
                    <a:lnTo>
                      <a:pt x="206" y="33"/>
                    </a:lnTo>
                    <a:lnTo>
                      <a:pt x="215" y="34"/>
                    </a:lnTo>
                    <a:lnTo>
                      <a:pt x="224" y="35"/>
                    </a:lnTo>
                    <a:lnTo>
                      <a:pt x="232" y="36"/>
                    </a:lnTo>
                    <a:lnTo>
                      <a:pt x="241" y="39"/>
                    </a:lnTo>
                    <a:lnTo>
                      <a:pt x="250" y="40"/>
                    </a:lnTo>
                    <a:lnTo>
                      <a:pt x="358" y="57"/>
                    </a:lnTo>
                    <a:lnTo>
                      <a:pt x="358" y="55"/>
                    </a:lnTo>
                    <a:lnTo>
                      <a:pt x="359" y="54"/>
                    </a:lnTo>
                    <a:lnTo>
                      <a:pt x="360" y="51"/>
                    </a:lnTo>
                    <a:lnTo>
                      <a:pt x="360" y="50"/>
                    </a:lnTo>
                    <a:lnTo>
                      <a:pt x="366" y="50"/>
                    </a:lnTo>
                    <a:lnTo>
                      <a:pt x="370" y="51"/>
                    </a:lnTo>
                    <a:lnTo>
                      <a:pt x="376" y="53"/>
                    </a:lnTo>
                    <a:lnTo>
                      <a:pt x="382" y="53"/>
                    </a:lnTo>
                    <a:lnTo>
                      <a:pt x="381" y="53"/>
                    </a:lnTo>
                    <a:lnTo>
                      <a:pt x="380" y="51"/>
                    </a:lnTo>
                    <a:lnTo>
                      <a:pt x="378" y="50"/>
                    </a:lnTo>
                    <a:lnTo>
                      <a:pt x="376" y="5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1662120" y="3378240"/>
                <a:ext cx="285840" cy="44280"/>
              </a:xfrm>
              <a:custGeom>
                <a:avLst/>
                <a:gdLst/>
                <a:ahLst/>
                <a:rect l="l" t="t" r="r" b="b"/>
                <a:pathLst>
                  <a:path w="361" h="56">
                    <a:moveTo>
                      <a:pt x="46" y="0"/>
                    </a:moveTo>
                    <a:lnTo>
                      <a:pt x="40" y="1"/>
                    </a:lnTo>
                    <a:lnTo>
                      <a:pt x="35" y="1"/>
                    </a:lnTo>
                    <a:lnTo>
                      <a:pt x="30" y="3"/>
                    </a:lnTo>
                    <a:lnTo>
                      <a:pt x="24" y="3"/>
                    </a:lnTo>
                    <a:lnTo>
                      <a:pt x="19" y="3"/>
                    </a:lnTo>
                    <a:lnTo>
                      <a:pt x="13" y="4"/>
                    </a:lnTo>
                    <a:lnTo>
                      <a:pt x="6" y="4"/>
                    </a:lnTo>
                    <a:lnTo>
                      <a:pt x="0" y="5"/>
                    </a:lnTo>
                    <a:lnTo>
                      <a:pt x="339" y="56"/>
                    </a:lnTo>
                    <a:lnTo>
                      <a:pt x="339" y="53"/>
                    </a:lnTo>
                    <a:lnTo>
                      <a:pt x="345" y="53"/>
                    </a:lnTo>
                    <a:lnTo>
                      <a:pt x="349" y="54"/>
                    </a:lnTo>
                    <a:lnTo>
                      <a:pt x="355" y="56"/>
                    </a:lnTo>
                    <a:lnTo>
                      <a:pt x="361" y="56"/>
                    </a:lnTo>
                    <a:lnTo>
                      <a:pt x="356" y="53"/>
                    </a:lnTo>
                    <a:lnTo>
                      <a:pt x="352" y="52"/>
                    </a:lnTo>
                    <a:lnTo>
                      <a:pt x="348" y="49"/>
                    </a:lnTo>
                    <a:lnTo>
                      <a:pt x="346" y="4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1666800" y="3378240"/>
                <a:ext cx="262080" cy="42840"/>
              </a:xfrm>
              <a:custGeom>
                <a:avLst/>
                <a:gdLst/>
                <a:ahLst/>
                <a:rect l="l" t="t" r="r" b="b"/>
                <a:pathLst>
                  <a:path w="331" h="53">
                    <a:moveTo>
                      <a:pt x="45" y="0"/>
                    </a:moveTo>
                    <a:lnTo>
                      <a:pt x="40" y="0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2" y="1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331" y="53"/>
                    </a:lnTo>
                    <a:lnTo>
                      <a:pt x="326" y="50"/>
                    </a:lnTo>
                    <a:lnTo>
                      <a:pt x="322" y="46"/>
                    </a:lnTo>
                    <a:lnTo>
                      <a:pt x="318" y="44"/>
                    </a:lnTo>
                    <a:lnTo>
                      <a:pt x="315" y="4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1674720" y="3376440"/>
                <a:ext cx="236880" cy="38160"/>
              </a:xfrm>
              <a:custGeom>
                <a:avLst/>
                <a:gdLst/>
                <a:ahLst/>
                <a:rect l="l" t="t" r="r" b="b"/>
                <a:pathLst>
                  <a:path w="300" h="47">
                    <a:moveTo>
                      <a:pt x="45" y="0"/>
                    </a:moveTo>
                    <a:lnTo>
                      <a:pt x="39" y="0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18" y="1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300" y="47"/>
                    </a:lnTo>
                    <a:lnTo>
                      <a:pt x="296" y="45"/>
                    </a:lnTo>
                    <a:lnTo>
                      <a:pt x="294" y="43"/>
                    </a:lnTo>
                    <a:lnTo>
                      <a:pt x="292" y="40"/>
                    </a:lnTo>
                    <a:lnTo>
                      <a:pt x="291" y="3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1679400" y="3376440"/>
                <a:ext cx="214200" cy="33480"/>
              </a:xfrm>
              <a:custGeom>
                <a:avLst/>
                <a:gdLst/>
                <a:ahLst/>
                <a:rect l="l" t="t" r="r" b="b"/>
                <a:pathLst>
                  <a:path w="270" h="43">
                    <a:moveTo>
                      <a:pt x="49" y="0"/>
                    </a:moveTo>
                    <a:lnTo>
                      <a:pt x="42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270" y="43"/>
                    </a:lnTo>
                    <a:lnTo>
                      <a:pt x="269" y="39"/>
                    </a:lnTo>
                    <a:lnTo>
                      <a:pt x="266" y="37"/>
                    </a:lnTo>
                    <a:lnTo>
                      <a:pt x="265" y="35"/>
                    </a:lnTo>
                    <a:lnTo>
                      <a:pt x="265" y="3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1680840" y="3375000"/>
                <a:ext cx="195480" cy="31680"/>
              </a:xfrm>
              <a:custGeom>
                <a:avLst/>
                <a:gdLst/>
                <a:ahLst/>
                <a:rect l="l" t="t" r="r" b="b"/>
                <a:pathLst>
                  <a:path w="246" h="40">
                    <a:moveTo>
                      <a:pt x="52" y="0"/>
                    </a:moveTo>
                    <a:lnTo>
                      <a:pt x="46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4" y="2"/>
                    </a:lnTo>
                    <a:lnTo>
                      <a:pt x="7" y="2"/>
                    </a:lnTo>
                    <a:lnTo>
                      <a:pt x="0" y="2"/>
                    </a:lnTo>
                    <a:lnTo>
                      <a:pt x="246" y="40"/>
                    </a:lnTo>
                    <a:lnTo>
                      <a:pt x="244" y="37"/>
                    </a:lnTo>
                    <a:lnTo>
                      <a:pt x="243" y="34"/>
                    </a:lnTo>
                    <a:lnTo>
                      <a:pt x="243" y="32"/>
                    </a:lnTo>
                    <a:lnTo>
                      <a:pt x="243" y="28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1683000" y="3375000"/>
                <a:ext cx="172800" cy="27000"/>
              </a:xfrm>
              <a:custGeom>
                <a:avLst/>
                <a:gdLst/>
                <a:ahLst/>
                <a:rect l="l" t="t" r="r" b="b"/>
                <a:pathLst>
                  <a:path w="216" h="33">
                    <a:moveTo>
                      <a:pt x="54" y="0"/>
                    </a:moveTo>
                    <a:lnTo>
                      <a:pt x="48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7" y="1"/>
                    </a:lnTo>
                    <a:lnTo>
                      <a:pt x="0" y="2"/>
                    </a:lnTo>
                    <a:lnTo>
                      <a:pt x="216" y="33"/>
                    </a:lnTo>
                    <a:lnTo>
                      <a:pt x="216" y="31"/>
                    </a:lnTo>
                    <a:lnTo>
                      <a:pt x="216" y="30"/>
                    </a:lnTo>
                    <a:lnTo>
                      <a:pt x="216" y="27"/>
                    </a:lnTo>
                    <a:lnTo>
                      <a:pt x="216" y="2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1682640" y="3375000"/>
                <a:ext cx="152280" cy="22320"/>
              </a:xfrm>
              <a:custGeom>
                <a:avLst/>
                <a:gdLst/>
                <a:ahLst/>
                <a:rect l="l" t="t" r="r" b="b"/>
                <a:pathLst>
                  <a:path w="191" h="28">
                    <a:moveTo>
                      <a:pt x="67" y="0"/>
                    </a:moveTo>
                    <a:lnTo>
                      <a:pt x="59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91" y="28"/>
                    </a:lnTo>
                    <a:lnTo>
                      <a:pt x="191" y="26"/>
                    </a:lnTo>
                    <a:lnTo>
                      <a:pt x="191" y="25"/>
                    </a:lnTo>
                    <a:lnTo>
                      <a:pt x="191" y="23"/>
                    </a:lnTo>
                    <a:lnTo>
                      <a:pt x="191" y="19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1683000" y="3375000"/>
                <a:ext cx="126720" cy="19080"/>
              </a:xfrm>
              <a:custGeom>
                <a:avLst/>
                <a:gdLst/>
                <a:ahLst/>
                <a:rect l="l" t="t" r="r" b="b"/>
                <a:pathLst>
                  <a:path w="160" h="24">
                    <a:moveTo>
                      <a:pt x="91" y="4"/>
                    </a:moveTo>
                    <a:lnTo>
                      <a:pt x="80" y="3"/>
                    </a:lnTo>
                    <a:lnTo>
                      <a:pt x="68" y="2"/>
                    </a:lnTo>
                    <a:lnTo>
                      <a:pt x="57" y="1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60" y="24"/>
                    </a:lnTo>
                    <a:lnTo>
                      <a:pt x="160" y="22"/>
                    </a:lnTo>
                    <a:lnTo>
                      <a:pt x="160" y="20"/>
                    </a:lnTo>
                    <a:lnTo>
                      <a:pt x="160" y="17"/>
                    </a:lnTo>
                    <a:lnTo>
                      <a:pt x="160" y="14"/>
                    </a:lnTo>
                    <a:lnTo>
                      <a:pt x="91" y="4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1682640" y="3375000"/>
                <a:ext cx="99720" cy="15840"/>
              </a:xfrm>
              <a:custGeom>
                <a:avLst/>
                <a:gdLst/>
                <a:ahLst/>
                <a:rect l="l" t="t" r="r" b="b"/>
                <a:pathLst>
                  <a:path w="124" h="19">
                    <a:moveTo>
                      <a:pt x="0" y="0"/>
                    </a:moveTo>
                    <a:lnTo>
                      <a:pt x="15" y="1"/>
                    </a:lnTo>
                    <a:lnTo>
                      <a:pt x="30" y="2"/>
                    </a:lnTo>
                    <a:lnTo>
                      <a:pt x="46" y="3"/>
                    </a:lnTo>
                    <a:lnTo>
                      <a:pt x="61" y="4"/>
                    </a:lnTo>
                    <a:lnTo>
                      <a:pt x="77" y="5"/>
                    </a:lnTo>
                    <a:lnTo>
                      <a:pt x="92" y="8"/>
                    </a:lnTo>
                    <a:lnTo>
                      <a:pt x="108" y="10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6"/>
                    </a:lnTo>
                    <a:lnTo>
                      <a:pt x="124" y="17"/>
                    </a:lnTo>
                    <a:lnTo>
                      <a:pt x="12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1683000" y="337824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0"/>
                    </a:moveTo>
                    <a:lnTo>
                      <a:pt x="8" y="0"/>
                    </a:lnTo>
                    <a:lnTo>
                      <a:pt x="16" y="1"/>
                    </a:lnTo>
                    <a:lnTo>
                      <a:pt x="24" y="1"/>
                    </a:lnTo>
                    <a:lnTo>
                      <a:pt x="34" y="3"/>
                    </a:lnTo>
                    <a:lnTo>
                      <a:pt x="43" y="5"/>
                    </a:lnTo>
                    <a:lnTo>
                      <a:pt x="51" y="6"/>
                    </a:lnTo>
                    <a:lnTo>
                      <a:pt x="60" y="8"/>
                    </a:lnTo>
                    <a:lnTo>
                      <a:pt x="69" y="10"/>
                    </a:lnTo>
                    <a:lnTo>
                      <a:pt x="69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2031840" y="335448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11" y="0"/>
                    </a:moveTo>
                    <a:lnTo>
                      <a:pt x="8" y="2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4" y="6"/>
                    </a:lnTo>
                    <a:lnTo>
                      <a:pt x="3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2017440" y="3349800"/>
                <a:ext cx="41400" cy="9360"/>
              </a:xfrm>
              <a:custGeom>
                <a:avLst/>
                <a:gdLst/>
                <a:ahLst/>
                <a:rect l="l" t="t" r="r" b="b"/>
                <a:pathLst>
                  <a:path w="51" h="11">
                    <a:moveTo>
                      <a:pt x="13" y="0"/>
                    </a:moveTo>
                    <a:lnTo>
                      <a:pt x="9" y="2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15" y="11"/>
                    </a:lnTo>
                    <a:lnTo>
                      <a:pt x="19" y="10"/>
                    </a:lnTo>
                    <a:lnTo>
                      <a:pt x="24" y="10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37" y="9"/>
                    </a:lnTo>
                    <a:lnTo>
                      <a:pt x="41" y="8"/>
                    </a:lnTo>
                    <a:lnTo>
                      <a:pt x="46" y="8"/>
                    </a:lnTo>
                    <a:lnTo>
                      <a:pt x="51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2005200" y="334656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61" h="14">
                    <a:moveTo>
                      <a:pt x="11" y="0"/>
                    </a:moveTo>
                    <a:lnTo>
                      <a:pt x="8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27" y="14"/>
                    </a:lnTo>
                    <a:lnTo>
                      <a:pt x="35" y="11"/>
                    </a:lnTo>
                    <a:lnTo>
                      <a:pt x="43" y="10"/>
                    </a:lnTo>
                    <a:lnTo>
                      <a:pt x="53" y="8"/>
                    </a:lnTo>
                    <a:lnTo>
                      <a:pt x="61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1990440" y="3343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71" h="16">
                    <a:moveTo>
                      <a:pt x="13" y="0"/>
                    </a:moveTo>
                    <a:lnTo>
                      <a:pt x="9" y="4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38" y="16"/>
                    </a:lnTo>
                    <a:lnTo>
                      <a:pt x="45" y="14"/>
                    </a:lnTo>
                    <a:lnTo>
                      <a:pt x="53" y="13"/>
                    </a:lnTo>
                    <a:lnTo>
                      <a:pt x="62" y="11"/>
                    </a:lnTo>
                    <a:lnTo>
                      <a:pt x="71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981440" y="3338640"/>
                <a:ext cx="63360" cy="12600"/>
              </a:xfrm>
              <a:custGeom>
                <a:avLst/>
                <a:gdLst/>
                <a:ahLst/>
                <a:rect l="l" t="t" r="r" b="b"/>
                <a:pathLst>
                  <a:path w="81" h="16">
                    <a:moveTo>
                      <a:pt x="16" y="0"/>
                    </a:moveTo>
                    <a:lnTo>
                      <a:pt x="13" y="3"/>
                    </a:lnTo>
                    <a:lnTo>
                      <a:pt x="9" y="6"/>
                    </a:lnTo>
                    <a:lnTo>
                      <a:pt x="5" y="7"/>
                    </a:lnTo>
                    <a:lnTo>
                      <a:pt x="0" y="9"/>
                    </a:lnTo>
                    <a:lnTo>
                      <a:pt x="50" y="16"/>
                    </a:lnTo>
                    <a:lnTo>
                      <a:pt x="58" y="15"/>
                    </a:lnTo>
                    <a:lnTo>
                      <a:pt x="66" y="12"/>
                    </a:lnTo>
                    <a:lnTo>
                      <a:pt x="74" y="11"/>
                    </a:lnTo>
                    <a:lnTo>
                      <a:pt x="81" y="1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1967040" y="3336840"/>
                <a:ext cx="69840" cy="12960"/>
              </a:xfrm>
              <a:custGeom>
                <a:avLst/>
                <a:gdLst/>
                <a:ahLst/>
                <a:rect l="l" t="t" r="r" b="b"/>
                <a:pathLst>
                  <a:path w="89" h="17">
                    <a:moveTo>
                      <a:pt x="18" y="0"/>
                    </a:moveTo>
                    <a:lnTo>
                      <a:pt x="14" y="2"/>
                    </a:lnTo>
                    <a:lnTo>
                      <a:pt x="10" y="4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58" y="17"/>
                    </a:lnTo>
                    <a:lnTo>
                      <a:pt x="65" y="14"/>
                    </a:lnTo>
                    <a:lnTo>
                      <a:pt x="72" y="13"/>
                    </a:lnTo>
                    <a:lnTo>
                      <a:pt x="80" y="11"/>
                    </a:lnTo>
                    <a:lnTo>
                      <a:pt x="89" y="1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1954440" y="333360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98" h="18">
                    <a:moveTo>
                      <a:pt x="22" y="0"/>
                    </a:moveTo>
                    <a:lnTo>
                      <a:pt x="16" y="1"/>
                    </a:lnTo>
                    <a:lnTo>
                      <a:pt x="12" y="3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65" y="18"/>
                    </a:lnTo>
                    <a:lnTo>
                      <a:pt x="74" y="16"/>
                    </a:lnTo>
                    <a:lnTo>
                      <a:pt x="82" y="15"/>
                    </a:lnTo>
                    <a:lnTo>
                      <a:pt x="90" y="13"/>
                    </a:lnTo>
                    <a:lnTo>
                      <a:pt x="98" y="1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1941480" y="3328920"/>
                <a:ext cx="82800" cy="1584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20" y="0"/>
                    </a:moveTo>
                    <a:lnTo>
                      <a:pt x="16" y="2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71" y="20"/>
                    </a:lnTo>
                    <a:lnTo>
                      <a:pt x="78" y="17"/>
                    </a:lnTo>
                    <a:lnTo>
                      <a:pt x="86" y="16"/>
                    </a:lnTo>
                    <a:lnTo>
                      <a:pt x="94" y="14"/>
                    </a:lnTo>
                    <a:lnTo>
                      <a:pt x="102" y="1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1928880" y="3327480"/>
                <a:ext cx="85680" cy="15840"/>
              </a:xfrm>
              <a:custGeom>
                <a:avLst/>
                <a:gdLst/>
                <a:ahLst/>
                <a:rect l="l" t="t" r="r" b="b"/>
                <a:pathLst>
                  <a:path w="107" h="19">
                    <a:moveTo>
                      <a:pt x="22" y="0"/>
                    </a:moveTo>
                    <a:lnTo>
                      <a:pt x="16" y="2"/>
                    </a:lnTo>
                    <a:lnTo>
                      <a:pt x="11" y="3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76" y="19"/>
                    </a:lnTo>
                    <a:lnTo>
                      <a:pt x="83" y="17"/>
                    </a:lnTo>
                    <a:lnTo>
                      <a:pt x="91" y="16"/>
                    </a:lnTo>
                    <a:lnTo>
                      <a:pt x="99" y="14"/>
                    </a:lnTo>
                    <a:lnTo>
                      <a:pt x="107" y="1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1917360" y="3324240"/>
                <a:ext cx="88920" cy="14400"/>
              </a:xfrm>
              <a:custGeom>
                <a:avLst/>
                <a:gdLst/>
                <a:ahLst/>
                <a:rect l="l" t="t" r="r" b="b"/>
                <a:pathLst>
                  <a:path w="112" h="20">
                    <a:moveTo>
                      <a:pt x="27" y="0"/>
                    </a:moveTo>
                    <a:lnTo>
                      <a:pt x="20" y="1"/>
                    </a:lnTo>
                    <a:lnTo>
                      <a:pt x="14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82" y="20"/>
                    </a:lnTo>
                    <a:lnTo>
                      <a:pt x="89" y="20"/>
                    </a:lnTo>
                    <a:lnTo>
                      <a:pt x="97" y="19"/>
                    </a:lnTo>
                    <a:lnTo>
                      <a:pt x="105" y="16"/>
                    </a:lnTo>
                    <a:lnTo>
                      <a:pt x="112" y="1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1905120" y="3321000"/>
                <a:ext cx="92160" cy="15840"/>
              </a:xfrm>
              <a:custGeom>
                <a:avLst/>
                <a:gdLst/>
                <a:ahLst/>
                <a:rect l="l" t="t" r="r" b="b"/>
                <a:pathLst>
                  <a:path w="116" h="19">
                    <a:moveTo>
                      <a:pt x="25" y="0"/>
                    </a:moveTo>
                    <a:lnTo>
                      <a:pt x="19" y="1"/>
                    </a:lnTo>
                    <a:lnTo>
                      <a:pt x="13" y="3"/>
                    </a:lnTo>
                    <a:lnTo>
                      <a:pt x="7" y="4"/>
                    </a:lnTo>
                    <a:lnTo>
                      <a:pt x="0" y="7"/>
                    </a:lnTo>
                    <a:lnTo>
                      <a:pt x="85" y="19"/>
                    </a:lnTo>
                    <a:lnTo>
                      <a:pt x="92" y="17"/>
                    </a:lnTo>
                    <a:lnTo>
                      <a:pt x="101" y="16"/>
                    </a:lnTo>
                    <a:lnTo>
                      <a:pt x="110" y="14"/>
                    </a:lnTo>
                    <a:lnTo>
                      <a:pt x="116" y="1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1892520" y="3317760"/>
                <a:ext cx="93600" cy="17640"/>
              </a:xfrm>
              <a:custGeom>
                <a:avLst/>
                <a:gdLst/>
                <a:ahLst/>
                <a:rect l="l" t="t" r="r" b="b"/>
                <a:pathLst>
                  <a:path w="119" h="22">
                    <a:moveTo>
                      <a:pt x="26" y="0"/>
                    </a:moveTo>
                    <a:lnTo>
                      <a:pt x="18" y="1"/>
                    </a:lnTo>
                    <a:lnTo>
                      <a:pt x="11" y="4"/>
                    </a:lnTo>
                    <a:lnTo>
                      <a:pt x="6" y="5"/>
                    </a:lnTo>
                    <a:lnTo>
                      <a:pt x="0" y="7"/>
                    </a:lnTo>
                    <a:lnTo>
                      <a:pt x="85" y="22"/>
                    </a:lnTo>
                    <a:lnTo>
                      <a:pt x="94" y="20"/>
                    </a:lnTo>
                    <a:lnTo>
                      <a:pt x="102" y="18"/>
                    </a:lnTo>
                    <a:lnTo>
                      <a:pt x="111" y="16"/>
                    </a:lnTo>
                    <a:lnTo>
                      <a:pt x="119" y="1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1877760" y="3316320"/>
                <a:ext cx="98280" cy="14400"/>
              </a:xfrm>
              <a:custGeom>
                <a:avLst/>
                <a:gdLst/>
                <a:ahLst/>
                <a:rect l="l" t="t" r="r" b="b"/>
                <a:pathLst>
                  <a:path w="125" h="18">
                    <a:moveTo>
                      <a:pt x="29" y="0"/>
                    </a:moveTo>
                    <a:lnTo>
                      <a:pt x="22" y="1"/>
                    </a:lnTo>
                    <a:lnTo>
                      <a:pt x="15" y="3"/>
                    </a:lnTo>
                    <a:lnTo>
                      <a:pt x="9" y="5"/>
                    </a:lnTo>
                    <a:lnTo>
                      <a:pt x="0" y="7"/>
                    </a:lnTo>
                    <a:lnTo>
                      <a:pt x="91" y="18"/>
                    </a:lnTo>
                    <a:lnTo>
                      <a:pt x="100" y="17"/>
                    </a:lnTo>
                    <a:lnTo>
                      <a:pt x="109" y="16"/>
                    </a:lnTo>
                    <a:lnTo>
                      <a:pt x="117" y="15"/>
                    </a:lnTo>
                    <a:lnTo>
                      <a:pt x="125" y="1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1865160" y="3313080"/>
                <a:ext cx="99720" cy="15840"/>
              </a:xfrm>
              <a:custGeom>
                <a:avLst/>
                <a:gdLst/>
                <a:ahLst/>
                <a:rect l="l" t="t" r="r" b="b"/>
                <a:pathLst>
                  <a:path w="126" h="21">
                    <a:moveTo>
                      <a:pt x="29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93" y="21"/>
                    </a:lnTo>
                    <a:lnTo>
                      <a:pt x="102" y="19"/>
                    </a:lnTo>
                    <a:lnTo>
                      <a:pt x="110" y="18"/>
                    </a:lnTo>
                    <a:lnTo>
                      <a:pt x="118" y="15"/>
                    </a:lnTo>
                    <a:lnTo>
                      <a:pt x="126" y="1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1850760" y="3311640"/>
                <a:ext cx="103320" cy="15840"/>
              </a:xfrm>
              <a:custGeom>
                <a:avLst/>
                <a:gdLst/>
                <a:ahLst/>
                <a:rect l="l" t="t" r="r" b="b"/>
                <a:pathLst>
                  <a:path w="129" h="21">
                    <a:moveTo>
                      <a:pt x="31" y="0"/>
                    </a:moveTo>
                    <a:lnTo>
                      <a:pt x="23" y="1"/>
                    </a:lnTo>
                    <a:lnTo>
                      <a:pt x="15" y="3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96" y="21"/>
                    </a:lnTo>
                    <a:lnTo>
                      <a:pt x="105" y="18"/>
                    </a:lnTo>
                    <a:lnTo>
                      <a:pt x="113" y="17"/>
                    </a:lnTo>
                    <a:lnTo>
                      <a:pt x="122" y="15"/>
                    </a:lnTo>
                    <a:lnTo>
                      <a:pt x="129" y="1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1836360" y="3306600"/>
                <a:ext cx="104760" cy="17640"/>
              </a:xfrm>
              <a:custGeom>
                <a:avLst/>
                <a:gdLst/>
                <a:ahLst/>
                <a:rect l="l" t="t" r="r" b="b"/>
                <a:pathLst>
                  <a:path w="133" h="21">
                    <a:moveTo>
                      <a:pt x="30" y="0"/>
                    </a:moveTo>
                    <a:lnTo>
                      <a:pt x="23" y="2"/>
                    </a:lnTo>
                    <a:lnTo>
                      <a:pt x="16" y="4"/>
                    </a:lnTo>
                    <a:lnTo>
                      <a:pt x="8" y="5"/>
                    </a:lnTo>
                    <a:lnTo>
                      <a:pt x="0" y="7"/>
                    </a:lnTo>
                    <a:lnTo>
                      <a:pt x="97" y="21"/>
                    </a:lnTo>
                    <a:lnTo>
                      <a:pt x="102" y="20"/>
                    </a:lnTo>
                    <a:lnTo>
                      <a:pt x="106" y="20"/>
                    </a:lnTo>
                    <a:lnTo>
                      <a:pt x="111" y="19"/>
                    </a:lnTo>
                    <a:lnTo>
                      <a:pt x="115" y="19"/>
                    </a:lnTo>
                    <a:lnTo>
                      <a:pt x="120" y="19"/>
                    </a:lnTo>
                    <a:lnTo>
                      <a:pt x="124" y="18"/>
                    </a:lnTo>
                    <a:lnTo>
                      <a:pt x="128" y="18"/>
                    </a:lnTo>
                    <a:lnTo>
                      <a:pt x="133" y="1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1820880" y="3305160"/>
                <a:ext cx="108000" cy="15840"/>
              </a:xfrm>
              <a:custGeom>
                <a:avLst/>
                <a:gdLst/>
                <a:ahLst/>
                <a:rect l="l" t="t" r="r" b="b"/>
                <a:pathLst>
                  <a:path w="136" h="21">
                    <a:moveTo>
                      <a:pt x="31" y="0"/>
                    </a:moveTo>
                    <a:lnTo>
                      <a:pt x="25" y="1"/>
                    </a:lnTo>
                    <a:lnTo>
                      <a:pt x="16" y="4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98" y="21"/>
                    </a:lnTo>
                    <a:lnTo>
                      <a:pt x="103" y="20"/>
                    </a:lnTo>
                    <a:lnTo>
                      <a:pt x="109" y="20"/>
                    </a:lnTo>
                    <a:lnTo>
                      <a:pt x="113" y="19"/>
                    </a:lnTo>
                    <a:lnTo>
                      <a:pt x="118" y="17"/>
                    </a:lnTo>
                    <a:lnTo>
                      <a:pt x="123" y="17"/>
                    </a:lnTo>
                    <a:lnTo>
                      <a:pt x="127" y="16"/>
                    </a:lnTo>
                    <a:lnTo>
                      <a:pt x="132" y="16"/>
                    </a:lnTo>
                    <a:lnTo>
                      <a:pt x="136" y="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1803240" y="3301920"/>
                <a:ext cx="114120" cy="17640"/>
              </a:xfrm>
              <a:custGeom>
                <a:avLst/>
                <a:gdLst/>
                <a:ahLst/>
                <a:rect l="l" t="t" r="r" b="b"/>
                <a:pathLst>
                  <a:path w="144" h="22">
                    <a:moveTo>
                      <a:pt x="34" y="0"/>
                    </a:moveTo>
                    <a:lnTo>
                      <a:pt x="27" y="2"/>
                    </a:lnTo>
                    <a:lnTo>
                      <a:pt x="19" y="4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03" y="22"/>
                    </a:lnTo>
                    <a:lnTo>
                      <a:pt x="109" y="20"/>
                    </a:lnTo>
                    <a:lnTo>
                      <a:pt x="114" y="20"/>
                    </a:lnTo>
                    <a:lnTo>
                      <a:pt x="119" y="19"/>
                    </a:lnTo>
                    <a:lnTo>
                      <a:pt x="125" y="18"/>
                    </a:lnTo>
                    <a:lnTo>
                      <a:pt x="129" y="18"/>
                    </a:lnTo>
                    <a:lnTo>
                      <a:pt x="135" y="17"/>
                    </a:lnTo>
                    <a:lnTo>
                      <a:pt x="140" y="17"/>
                    </a:lnTo>
                    <a:lnTo>
                      <a:pt x="144" y="1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1784160" y="3300480"/>
                <a:ext cx="120600" cy="17280"/>
              </a:xfrm>
              <a:custGeom>
                <a:avLst/>
                <a:gdLst/>
                <a:ahLst/>
                <a:rect l="l" t="t" r="r" b="b"/>
                <a:pathLst>
                  <a:path w="153" h="22">
                    <a:moveTo>
                      <a:pt x="34" y="0"/>
                    </a:moveTo>
                    <a:lnTo>
                      <a:pt x="27" y="0"/>
                    </a:lnTo>
                    <a:lnTo>
                      <a:pt x="18" y="1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105" y="22"/>
                    </a:lnTo>
                    <a:lnTo>
                      <a:pt x="111" y="21"/>
                    </a:lnTo>
                    <a:lnTo>
                      <a:pt x="117" y="21"/>
                    </a:lnTo>
                    <a:lnTo>
                      <a:pt x="123" y="20"/>
                    </a:lnTo>
                    <a:lnTo>
                      <a:pt x="130" y="19"/>
                    </a:lnTo>
                    <a:lnTo>
                      <a:pt x="135" y="19"/>
                    </a:lnTo>
                    <a:lnTo>
                      <a:pt x="141" y="18"/>
                    </a:lnTo>
                    <a:lnTo>
                      <a:pt x="147" y="18"/>
                    </a:lnTo>
                    <a:lnTo>
                      <a:pt x="153" y="18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1758600" y="3297240"/>
                <a:ext cx="133560" cy="19080"/>
              </a:xfrm>
              <a:custGeom>
                <a:avLst/>
                <a:gdLst/>
                <a:ahLst/>
                <a:rect l="l" t="t" r="r" b="b"/>
                <a:pathLst>
                  <a:path w="167" h="24">
                    <a:moveTo>
                      <a:pt x="35" y="0"/>
                    </a:moveTo>
                    <a:lnTo>
                      <a:pt x="31" y="1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5"/>
                    </a:lnTo>
                    <a:lnTo>
                      <a:pt x="0" y="7"/>
                    </a:lnTo>
                    <a:lnTo>
                      <a:pt x="110" y="24"/>
                    </a:lnTo>
                    <a:lnTo>
                      <a:pt x="117" y="23"/>
                    </a:lnTo>
                    <a:lnTo>
                      <a:pt x="124" y="23"/>
                    </a:lnTo>
                    <a:lnTo>
                      <a:pt x="131" y="22"/>
                    </a:lnTo>
                    <a:lnTo>
                      <a:pt x="139" y="22"/>
                    </a:lnTo>
                    <a:lnTo>
                      <a:pt x="146" y="22"/>
                    </a:lnTo>
                    <a:lnTo>
                      <a:pt x="153" y="22"/>
                    </a:lnTo>
                    <a:lnTo>
                      <a:pt x="160" y="22"/>
                    </a:lnTo>
                    <a:lnTo>
                      <a:pt x="167" y="2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1722600" y="3295800"/>
                <a:ext cx="155520" cy="20520"/>
              </a:xfrm>
              <a:custGeom>
                <a:avLst/>
                <a:gdLst/>
                <a:ahLst/>
                <a:rect l="l" t="t" r="r" b="b"/>
                <a:pathLst>
                  <a:path w="197" h="27">
                    <a:moveTo>
                      <a:pt x="36" y="0"/>
                    </a:moveTo>
                    <a:lnTo>
                      <a:pt x="31" y="2"/>
                    </a:lnTo>
                    <a:lnTo>
                      <a:pt x="28" y="2"/>
                    </a:lnTo>
                    <a:lnTo>
                      <a:pt x="23" y="3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10" y="5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119" y="25"/>
                    </a:lnTo>
                    <a:lnTo>
                      <a:pt x="129" y="23"/>
                    </a:lnTo>
                    <a:lnTo>
                      <a:pt x="139" y="23"/>
                    </a:lnTo>
                    <a:lnTo>
                      <a:pt x="150" y="23"/>
                    </a:lnTo>
                    <a:lnTo>
                      <a:pt x="160" y="23"/>
                    </a:lnTo>
                    <a:lnTo>
                      <a:pt x="169" y="23"/>
                    </a:lnTo>
                    <a:lnTo>
                      <a:pt x="178" y="25"/>
                    </a:lnTo>
                    <a:lnTo>
                      <a:pt x="188" y="26"/>
                    </a:lnTo>
                    <a:lnTo>
                      <a:pt x="197" y="27"/>
                    </a:lnTo>
                    <a:lnTo>
                      <a:pt x="196" y="27"/>
                    </a:lnTo>
                    <a:lnTo>
                      <a:pt x="193" y="26"/>
                    </a:lnTo>
                    <a:lnTo>
                      <a:pt x="192" y="25"/>
                    </a:lnTo>
                    <a:lnTo>
                      <a:pt x="192" y="2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1722600" y="3294000"/>
                <a:ext cx="141120" cy="22320"/>
              </a:xfrm>
              <a:custGeom>
                <a:avLst/>
                <a:gdLst/>
                <a:ahLst/>
                <a:rect l="l" t="t" r="r" b="b"/>
                <a:pathLst>
                  <a:path w="179" h="29">
                    <a:moveTo>
                      <a:pt x="36" y="0"/>
                    </a:moveTo>
                    <a:lnTo>
                      <a:pt x="31" y="1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5"/>
                    </a:lnTo>
                    <a:lnTo>
                      <a:pt x="132" y="27"/>
                    </a:lnTo>
                    <a:lnTo>
                      <a:pt x="139" y="27"/>
                    </a:lnTo>
                    <a:lnTo>
                      <a:pt x="144" y="27"/>
                    </a:lnTo>
                    <a:lnTo>
                      <a:pt x="150" y="27"/>
                    </a:lnTo>
                    <a:lnTo>
                      <a:pt x="157" y="27"/>
                    </a:lnTo>
                    <a:lnTo>
                      <a:pt x="163" y="27"/>
                    </a:lnTo>
                    <a:lnTo>
                      <a:pt x="169" y="28"/>
                    </a:lnTo>
                    <a:lnTo>
                      <a:pt x="173" y="28"/>
                    </a:lnTo>
                    <a:lnTo>
                      <a:pt x="179" y="29"/>
                    </a:lnTo>
                    <a:lnTo>
                      <a:pt x="175" y="27"/>
                    </a:lnTo>
                    <a:lnTo>
                      <a:pt x="171" y="24"/>
                    </a:lnTo>
                    <a:lnTo>
                      <a:pt x="166" y="22"/>
                    </a:lnTo>
                    <a:lnTo>
                      <a:pt x="163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1725840" y="3290760"/>
                <a:ext cx="123840" cy="2376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35" y="0"/>
                    </a:moveTo>
                    <a:lnTo>
                      <a:pt x="32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0" y="3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156" y="29"/>
                    </a:lnTo>
                    <a:lnTo>
                      <a:pt x="152" y="25"/>
                    </a:lnTo>
                    <a:lnTo>
                      <a:pt x="146" y="22"/>
                    </a:lnTo>
                    <a:lnTo>
                      <a:pt x="141" y="18"/>
                    </a:lnTo>
                    <a:lnTo>
                      <a:pt x="136" y="1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1735200" y="3287880"/>
                <a:ext cx="100080" cy="20520"/>
              </a:xfrm>
              <a:custGeom>
                <a:avLst/>
                <a:gdLst/>
                <a:ahLst/>
                <a:rect l="l" t="t" r="r" b="b"/>
                <a:pathLst>
                  <a:path w="127" h="27">
                    <a:moveTo>
                      <a:pt x="36" y="0"/>
                    </a:moveTo>
                    <a:lnTo>
                      <a:pt x="31" y="1"/>
                    </a:lnTo>
                    <a:lnTo>
                      <a:pt x="27" y="1"/>
                    </a:lnTo>
                    <a:lnTo>
                      <a:pt x="23" y="3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127" y="27"/>
                    </a:lnTo>
                    <a:lnTo>
                      <a:pt x="123" y="23"/>
                    </a:lnTo>
                    <a:lnTo>
                      <a:pt x="119" y="19"/>
                    </a:lnTo>
                    <a:lnTo>
                      <a:pt x="114" y="15"/>
                    </a:lnTo>
                    <a:lnTo>
                      <a:pt x="111" y="1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1741680" y="3286080"/>
                <a:ext cx="79200" cy="15840"/>
              </a:xfrm>
              <a:custGeom>
                <a:avLst/>
                <a:gdLst/>
                <a:ahLst/>
                <a:rect l="l" t="t" r="r" b="b"/>
                <a:pathLst>
                  <a:path w="101" h="21">
                    <a:moveTo>
                      <a:pt x="38" y="0"/>
                    </a:moveTo>
                    <a:lnTo>
                      <a:pt x="34" y="1"/>
                    </a:lnTo>
                    <a:lnTo>
                      <a:pt x="29" y="1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101" y="21"/>
                    </a:lnTo>
                    <a:lnTo>
                      <a:pt x="97" y="17"/>
                    </a:lnTo>
                    <a:lnTo>
                      <a:pt x="94" y="14"/>
                    </a:lnTo>
                    <a:lnTo>
                      <a:pt x="89" y="10"/>
                    </a:lnTo>
                    <a:lnTo>
                      <a:pt x="86" y="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1747440" y="328464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75" h="16">
                    <a:moveTo>
                      <a:pt x="35" y="0"/>
                    </a:moveTo>
                    <a:lnTo>
                      <a:pt x="32" y="1"/>
                    </a:lnTo>
                    <a:lnTo>
                      <a:pt x="29" y="1"/>
                    </a:lnTo>
                    <a:lnTo>
                      <a:pt x="24" y="2"/>
                    </a:lnTo>
                    <a:lnTo>
                      <a:pt x="19" y="2"/>
                    </a:lnTo>
                    <a:lnTo>
                      <a:pt x="15" y="2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0" y="4"/>
                    </a:lnTo>
                    <a:lnTo>
                      <a:pt x="75" y="16"/>
                    </a:lnTo>
                    <a:lnTo>
                      <a:pt x="72" y="13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4" y="7"/>
                    </a:lnTo>
                    <a:lnTo>
                      <a:pt x="64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1753920" y="328284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36" y="0"/>
                    </a:move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0" y="1"/>
                    </a:lnTo>
                    <a:lnTo>
                      <a:pt x="15" y="3"/>
                    </a:lnTo>
                    <a:lnTo>
                      <a:pt x="11" y="4"/>
                    </a:lnTo>
                    <a:lnTo>
                      <a:pt x="5" y="4"/>
                    </a:lnTo>
                    <a:lnTo>
                      <a:pt x="0" y="5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5" y="11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7"/>
                    </a:lnTo>
                    <a:lnTo>
                      <a:pt x="46" y="6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1752840" y="3278160"/>
                <a:ext cx="25200" cy="9720"/>
              </a:xfrm>
              <a:custGeom>
                <a:avLst/>
                <a:gdLst/>
                <a:ahLst/>
                <a:rect l="l" t="t" r="r" b="b"/>
                <a:pathLst>
                  <a:path w="34" h="11">
                    <a:moveTo>
                      <a:pt x="0" y="7"/>
                    </a:moveTo>
                    <a:lnTo>
                      <a:pt x="11" y="4"/>
                    </a:lnTo>
                    <a:lnTo>
                      <a:pt x="20" y="3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33" y="3"/>
                    </a:lnTo>
                    <a:lnTo>
                      <a:pt x="32" y="5"/>
                    </a:lnTo>
                    <a:lnTo>
                      <a:pt x="30" y="8"/>
                    </a:lnTo>
                    <a:lnTo>
                      <a:pt x="29" y="1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1752840" y="32781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4" y="3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2044440" y="33354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11" y="0"/>
                    </a:moveTo>
                    <a:lnTo>
                      <a:pt x="0" y="9"/>
                    </a:lnTo>
                    <a:lnTo>
                      <a:pt x="26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2033280" y="33307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2" y="0"/>
                    </a:moveTo>
                    <a:lnTo>
                      <a:pt x="0" y="11"/>
                    </a:lnTo>
                    <a:lnTo>
                      <a:pt x="4" y="11"/>
                    </a:lnTo>
                    <a:lnTo>
                      <a:pt x="33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2024280" y="332748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0" y="10"/>
                    </a:moveTo>
                    <a:lnTo>
                      <a:pt x="8" y="2"/>
                    </a:lnTo>
                    <a:lnTo>
                      <a:pt x="13" y="0"/>
                    </a:lnTo>
                    <a:lnTo>
                      <a:pt x="42" y="2"/>
                    </a:lnTo>
                    <a:lnTo>
                      <a:pt x="39" y="4"/>
                    </a:lnTo>
                    <a:lnTo>
                      <a:pt x="15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2004840" y="332424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3">
                    <a:moveTo>
                      <a:pt x="0" y="9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43" y="5"/>
                    </a:lnTo>
                    <a:lnTo>
                      <a:pt x="31" y="9"/>
                    </a:lnTo>
                    <a:lnTo>
                      <a:pt x="21" y="1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1998720" y="3319560"/>
                <a:ext cx="47520" cy="936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0" y="9"/>
                    </a:moveTo>
                    <a:lnTo>
                      <a:pt x="7" y="2"/>
                    </a:lnTo>
                    <a:lnTo>
                      <a:pt x="11" y="0"/>
                    </a:lnTo>
                    <a:lnTo>
                      <a:pt x="60" y="6"/>
                    </a:lnTo>
                    <a:lnTo>
                      <a:pt x="52" y="11"/>
                    </a:lnTo>
                    <a:lnTo>
                      <a:pt x="38" y="9"/>
                    </a:lnTo>
                    <a:lnTo>
                      <a:pt x="29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1993680" y="3316320"/>
                <a:ext cx="49320" cy="12600"/>
              </a:xfrm>
              <a:custGeom>
                <a:avLst/>
                <a:gdLst/>
                <a:ahLst/>
                <a:rect l="l" t="t" r="r" b="b"/>
                <a:pathLst>
                  <a:path w="63" h="16">
                    <a:moveTo>
                      <a:pt x="0" y="9"/>
                    </a:moveTo>
                    <a:lnTo>
                      <a:pt x="3" y="7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63" y="7"/>
                    </a:lnTo>
                    <a:lnTo>
                      <a:pt x="48" y="1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1982880" y="331308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70" h="16">
                    <a:moveTo>
                      <a:pt x="0" y="10"/>
                    </a:moveTo>
                    <a:lnTo>
                      <a:pt x="10" y="5"/>
                    </a:lnTo>
                    <a:lnTo>
                      <a:pt x="20" y="0"/>
                    </a:lnTo>
                    <a:lnTo>
                      <a:pt x="70" y="7"/>
                    </a:lnTo>
                    <a:lnTo>
                      <a:pt x="58" y="10"/>
                    </a:lnTo>
                    <a:lnTo>
                      <a:pt x="49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1967040" y="3308400"/>
                <a:ext cx="63360" cy="12600"/>
              </a:xfrm>
              <a:custGeom>
                <a:avLst/>
                <a:gdLst/>
                <a:ahLst/>
                <a:rect l="l" t="t" r="r" b="b"/>
                <a:pathLst>
                  <a:path w="79" h="16">
                    <a:moveTo>
                      <a:pt x="19" y="0"/>
                    </a:moveTo>
                    <a:lnTo>
                      <a:pt x="0" y="9"/>
                    </a:lnTo>
                    <a:lnTo>
                      <a:pt x="46" y="16"/>
                    </a:lnTo>
                    <a:lnTo>
                      <a:pt x="48" y="14"/>
                    </a:lnTo>
                    <a:lnTo>
                      <a:pt x="79" y="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1951200" y="330660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90" h="14">
                    <a:moveTo>
                      <a:pt x="0" y="7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90" y="10"/>
                    </a:lnTo>
                    <a:lnTo>
                      <a:pt x="90" y="10"/>
                    </a:lnTo>
                    <a:lnTo>
                      <a:pt x="5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1947600" y="3301920"/>
                <a:ext cx="66600" cy="14400"/>
              </a:xfrm>
              <a:custGeom>
                <a:avLst/>
                <a:gdLst/>
                <a:ahLst/>
                <a:rect l="l" t="t" r="r" b="b"/>
                <a:pathLst>
                  <a:path w="83" h="17">
                    <a:moveTo>
                      <a:pt x="0" y="8"/>
                    </a:moveTo>
                    <a:lnTo>
                      <a:pt x="5" y="5"/>
                    </a:lnTo>
                    <a:lnTo>
                      <a:pt x="14" y="5"/>
                    </a:lnTo>
                    <a:lnTo>
                      <a:pt x="27" y="0"/>
                    </a:lnTo>
                    <a:lnTo>
                      <a:pt x="83" y="10"/>
                    </a:lnTo>
                    <a:lnTo>
                      <a:pt x="81" y="15"/>
                    </a:lnTo>
                    <a:lnTo>
                      <a:pt x="60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1946520" y="329868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20" y="0"/>
                    </a:moveTo>
                    <a:lnTo>
                      <a:pt x="0" y="10"/>
                    </a:lnTo>
                    <a:lnTo>
                      <a:pt x="65" y="20"/>
                    </a:lnTo>
                    <a:lnTo>
                      <a:pt x="69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1937880" y="3295800"/>
                <a:ext cx="55800" cy="158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18" y="0"/>
                    </a:moveTo>
                    <a:lnTo>
                      <a:pt x="0" y="10"/>
                    </a:lnTo>
                    <a:lnTo>
                      <a:pt x="56" y="20"/>
                    </a:lnTo>
                    <a:lnTo>
                      <a:pt x="58" y="13"/>
                    </a:lnTo>
                    <a:lnTo>
                      <a:pt x="69" y="1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1928520" y="3290760"/>
                <a:ext cx="57240" cy="14400"/>
              </a:xfrm>
              <a:custGeom>
                <a:avLst/>
                <a:gdLst/>
                <a:ahLst/>
                <a:rect l="l" t="t" r="r" b="b"/>
                <a:pathLst>
                  <a:path w="71" h="17">
                    <a:moveTo>
                      <a:pt x="20" y="0"/>
                    </a:moveTo>
                    <a:lnTo>
                      <a:pt x="0" y="9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62" y="11"/>
                    </a:lnTo>
                    <a:lnTo>
                      <a:pt x="71" y="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1917720" y="3289320"/>
                <a:ext cx="60480" cy="12600"/>
              </a:xfrm>
              <a:custGeom>
                <a:avLst/>
                <a:gdLst/>
                <a:ahLst/>
                <a:rect l="l" t="t" r="r" b="b"/>
                <a:pathLst>
                  <a:path w="76" h="16">
                    <a:moveTo>
                      <a:pt x="0" y="6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53" y="13"/>
                    </a:lnTo>
                    <a:lnTo>
                      <a:pt x="51" y="1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1909800" y="3286080"/>
                <a:ext cx="60480" cy="12600"/>
              </a:xfrm>
              <a:custGeom>
                <a:avLst/>
                <a:gdLst/>
                <a:ahLst/>
                <a:rect l="l" t="t" r="r" b="b"/>
                <a:pathLst>
                  <a:path w="76" h="16">
                    <a:moveTo>
                      <a:pt x="0" y="7"/>
                    </a:moveTo>
                    <a:lnTo>
                      <a:pt x="6" y="5"/>
                    </a:lnTo>
                    <a:lnTo>
                      <a:pt x="13" y="0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61" y="14"/>
                    </a:lnTo>
                    <a:lnTo>
                      <a:pt x="51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1898280" y="3282840"/>
                <a:ext cx="66600" cy="12960"/>
              </a:xfrm>
              <a:custGeom>
                <a:avLst/>
                <a:gdLst/>
                <a:ahLst/>
                <a:rect l="l" t="t" r="r" b="b"/>
                <a:pathLst>
                  <a:path w="83" h="16">
                    <a:moveTo>
                      <a:pt x="0" y="10"/>
                    </a:moveTo>
                    <a:lnTo>
                      <a:pt x="10" y="3"/>
                    </a:lnTo>
                    <a:lnTo>
                      <a:pt x="14" y="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70" y="14"/>
                    </a:lnTo>
                    <a:lnTo>
                      <a:pt x="59" y="1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1885680" y="327816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4" h="18">
                    <a:moveTo>
                      <a:pt x="0" y="9"/>
                    </a:moveTo>
                    <a:lnTo>
                      <a:pt x="3" y="7"/>
                    </a:lnTo>
                    <a:lnTo>
                      <a:pt x="19" y="0"/>
                    </a:lnTo>
                    <a:lnTo>
                      <a:pt x="94" y="11"/>
                    </a:lnTo>
                    <a:lnTo>
                      <a:pt x="76" y="14"/>
                    </a:lnTo>
                    <a:lnTo>
                      <a:pt x="63" y="1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1874520" y="3276720"/>
                <a:ext cx="79560" cy="12600"/>
              </a:xfrm>
              <a:custGeom>
                <a:avLst/>
                <a:gdLst/>
                <a:ahLst/>
                <a:rect l="l" t="t" r="r" b="b"/>
                <a:pathLst>
                  <a:path w="101" h="17">
                    <a:moveTo>
                      <a:pt x="0" y="7"/>
                    </a:moveTo>
                    <a:lnTo>
                      <a:pt x="12" y="3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101" y="10"/>
                    </a:lnTo>
                    <a:lnTo>
                      <a:pt x="87" y="14"/>
                    </a:lnTo>
                    <a:lnTo>
                      <a:pt x="69" y="1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1863360" y="3271680"/>
                <a:ext cx="81000" cy="16200"/>
              </a:xfrm>
              <a:custGeom>
                <a:avLst/>
                <a:gdLst/>
                <a:ahLst/>
                <a:rect l="l" t="t" r="r" b="b"/>
                <a:pathLst>
                  <a:path w="102" h="19">
                    <a:moveTo>
                      <a:pt x="0" y="8"/>
                    </a:moveTo>
                    <a:lnTo>
                      <a:pt x="0" y="8"/>
                    </a:lnTo>
                    <a:lnTo>
                      <a:pt x="22" y="5"/>
                    </a:lnTo>
                    <a:lnTo>
                      <a:pt x="31" y="0"/>
                    </a:lnTo>
                    <a:lnTo>
                      <a:pt x="102" y="12"/>
                    </a:lnTo>
                    <a:lnTo>
                      <a:pt x="75" y="19"/>
                    </a:lnTo>
                    <a:lnTo>
                      <a:pt x="75" y="1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1851120" y="3268800"/>
                <a:ext cx="76320" cy="1584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22" y="0"/>
                    </a:moveTo>
                    <a:lnTo>
                      <a:pt x="0" y="10"/>
                    </a:lnTo>
                    <a:lnTo>
                      <a:pt x="67" y="20"/>
                    </a:lnTo>
                    <a:lnTo>
                      <a:pt x="95" y="1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1839600" y="3267000"/>
                <a:ext cx="81000" cy="15840"/>
              </a:xfrm>
              <a:custGeom>
                <a:avLst/>
                <a:gdLst/>
                <a:ahLst/>
                <a:rect l="l" t="t" r="r" b="b"/>
                <a:pathLst>
                  <a:path w="100" h="19">
                    <a:moveTo>
                      <a:pt x="0" y="7"/>
                    </a:moveTo>
                    <a:lnTo>
                      <a:pt x="15" y="2"/>
                    </a:lnTo>
                    <a:lnTo>
                      <a:pt x="22" y="0"/>
                    </a:lnTo>
                    <a:lnTo>
                      <a:pt x="100" y="12"/>
                    </a:lnTo>
                    <a:lnTo>
                      <a:pt x="71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1828440" y="3263760"/>
                <a:ext cx="81000" cy="1440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0" y="7"/>
                    </a:moveTo>
                    <a:lnTo>
                      <a:pt x="2" y="7"/>
                    </a:lnTo>
                    <a:lnTo>
                      <a:pt x="13" y="2"/>
                    </a:lnTo>
                    <a:lnTo>
                      <a:pt x="23" y="0"/>
                    </a:lnTo>
                    <a:lnTo>
                      <a:pt x="102" y="12"/>
                    </a:lnTo>
                    <a:lnTo>
                      <a:pt x="73" y="2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1816200" y="3260880"/>
                <a:ext cx="87120" cy="1584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0" y="7"/>
                    </a:moveTo>
                    <a:lnTo>
                      <a:pt x="4" y="4"/>
                    </a:lnTo>
                    <a:lnTo>
                      <a:pt x="29" y="0"/>
                    </a:lnTo>
                    <a:lnTo>
                      <a:pt x="109" y="11"/>
                    </a:lnTo>
                    <a:lnTo>
                      <a:pt x="78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1814760" y="325764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98" h="19">
                    <a:moveTo>
                      <a:pt x="0" y="7"/>
                    </a:moveTo>
                    <a:lnTo>
                      <a:pt x="19" y="2"/>
                    </a:lnTo>
                    <a:lnTo>
                      <a:pt x="28" y="0"/>
                    </a:lnTo>
                    <a:lnTo>
                      <a:pt x="73" y="7"/>
                    </a:lnTo>
                    <a:lnTo>
                      <a:pt x="71" y="12"/>
                    </a:lnTo>
                    <a:lnTo>
                      <a:pt x="98" y="14"/>
                    </a:lnTo>
                    <a:lnTo>
                      <a:pt x="79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1814760" y="3255840"/>
                <a:ext cx="64800" cy="14400"/>
              </a:xfrm>
              <a:custGeom>
                <a:avLst/>
                <a:gdLst/>
                <a:ahLst/>
                <a:rect l="l" t="t" r="r" b="b"/>
                <a:pathLst>
                  <a:path w="83" h="18">
                    <a:moveTo>
                      <a:pt x="0" y="7"/>
                    </a:moveTo>
                    <a:lnTo>
                      <a:pt x="4" y="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58" y="4"/>
                    </a:lnTo>
                    <a:lnTo>
                      <a:pt x="56" y="14"/>
                    </a:lnTo>
                    <a:lnTo>
                      <a:pt x="83" y="16"/>
                    </a:lnTo>
                    <a:lnTo>
                      <a:pt x="80" y="1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1830240" y="325296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0" y="7"/>
                    </a:moveTo>
                    <a:lnTo>
                      <a:pt x="13" y="5"/>
                    </a:lnTo>
                    <a:lnTo>
                      <a:pt x="25" y="0"/>
                    </a:lnTo>
                    <a:lnTo>
                      <a:pt x="49" y="3"/>
                    </a:lnTo>
                    <a:lnTo>
                      <a:pt x="4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1819440" y="3247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25" y="0"/>
                    </a:moveTo>
                    <a:lnTo>
                      <a:pt x="0" y="10"/>
                    </a:lnTo>
                    <a:lnTo>
                      <a:pt x="32" y="14"/>
                    </a:lnTo>
                    <a:lnTo>
                      <a:pt x="36" y="8"/>
                    </a:lnTo>
                    <a:lnTo>
                      <a:pt x="50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1809360" y="324648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49" h="11">
                    <a:moveTo>
                      <a:pt x="26" y="0"/>
                    </a:moveTo>
                    <a:lnTo>
                      <a:pt x="0" y="8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49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1801800" y="3246480"/>
                <a:ext cx="36720" cy="648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3"/>
                    </a:moveTo>
                    <a:lnTo>
                      <a:pt x="15" y="0"/>
                    </a:lnTo>
                    <a:lnTo>
                      <a:pt x="47" y="0"/>
                    </a:lnTo>
                    <a:lnTo>
                      <a:pt x="25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1801440" y="324648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34" h="3">
                    <a:moveTo>
                      <a:pt x="0" y="0"/>
                    </a:moveTo>
                    <a:lnTo>
                      <a:pt x="2" y="0"/>
                    </a:lnTo>
                    <a:lnTo>
                      <a:pt x="34" y="0"/>
                    </a:lnTo>
                    <a:lnTo>
                      <a:pt x="2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2063880" y="33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7" h="15">
                    <a:moveTo>
                      <a:pt x="22" y="15"/>
                    </a:moveTo>
                    <a:lnTo>
                      <a:pt x="16" y="10"/>
                    </a:lnTo>
                    <a:lnTo>
                      <a:pt x="10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7" y="7"/>
                    </a:lnTo>
                    <a:lnTo>
                      <a:pt x="40" y="9"/>
                    </a:lnTo>
                    <a:lnTo>
                      <a:pt x="34" y="10"/>
                    </a:lnTo>
                    <a:lnTo>
                      <a:pt x="29" y="13"/>
                    </a:lnTo>
                    <a:lnTo>
                      <a:pt x="22" y="1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2052360" y="3316320"/>
                <a:ext cx="49320" cy="14400"/>
              </a:xfrm>
              <a:custGeom>
                <a:avLst/>
                <a:gdLst/>
                <a:ahLst/>
                <a:rect l="l" t="t" r="r" b="b"/>
                <a:pathLst>
                  <a:path w="62" h="18">
                    <a:moveTo>
                      <a:pt x="14" y="14"/>
                    </a:moveTo>
                    <a:lnTo>
                      <a:pt x="10" y="11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62" y="7"/>
                    </a:lnTo>
                    <a:lnTo>
                      <a:pt x="53" y="10"/>
                    </a:lnTo>
                    <a:lnTo>
                      <a:pt x="45" y="13"/>
                    </a:lnTo>
                    <a:lnTo>
                      <a:pt x="38" y="15"/>
                    </a:lnTo>
                    <a:lnTo>
                      <a:pt x="31" y="18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2043360" y="331164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12" y="0"/>
                    </a:moveTo>
                    <a:lnTo>
                      <a:pt x="8" y="3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45" y="21"/>
                    </a:lnTo>
                    <a:lnTo>
                      <a:pt x="51" y="17"/>
                    </a:lnTo>
                    <a:lnTo>
                      <a:pt x="58" y="15"/>
                    </a:lnTo>
                    <a:lnTo>
                      <a:pt x="65" y="13"/>
                    </a:lnTo>
                    <a:lnTo>
                      <a:pt x="71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2032200" y="3306600"/>
                <a:ext cx="63360" cy="1440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15" y="0"/>
                    </a:moveTo>
                    <a:lnTo>
                      <a:pt x="10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55" y="19"/>
                    </a:lnTo>
                    <a:lnTo>
                      <a:pt x="61" y="17"/>
                    </a:lnTo>
                    <a:lnTo>
                      <a:pt x="66" y="14"/>
                    </a:lnTo>
                    <a:lnTo>
                      <a:pt x="73" y="12"/>
                    </a:lnTo>
                    <a:lnTo>
                      <a:pt x="8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2022480" y="3300480"/>
                <a:ext cx="68400" cy="1728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15" y="0"/>
                    </a:moveTo>
                    <a:lnTo>
                      <a:pt x="11" y="5"/>
                    </a:lnTo>
                    <a:lnTo>
                      <a:pt x="8" y="8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59" y="22"/>
                    </a:lnTo>
                    <a:lnTo>
                      <a:pt x="66" y="20"/>
                    </a:lnTo>
                    <a:lnTo>
                      <a:pt x="72" y="18"/>
                    </a:lnTo>
                    <a:lnTo>
                      <a:pt x="79" y="15"/>
                    </a:lnTo>
                    <a:lnTo>
                      <a:pt x="86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2013120" y="3295800"/>
                <a:ext cx="71280" cy="18720"/>
              </a:xfrm>
              <a:custGeom>
                <a:avLst/>
                <a:gdLst/>
                <a:ahLst/>
                <a:rect l="l" t="t" r="r" b="b"/>
                <a:pathLst>
                  <a:path w="90" h="25">
                    <a:moveTo>
                      <a:pt x="13" y="0"/>
                    </a:moveTo>
                    <a:lnTo>
                      <a:pt x="10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65" y="25"/>
                    </a:lnTo>
                    <a:lnTo>
                      <a:pt x="71" y="21"/>
                    </a:lnTo>
                    <a:lnTo>
                      <a:pt x="77" y="19"/>
                    </a:lnTo>
                    <a:lnTo>
                      <a:pt x="83" y="17"/>
                    </a:lnTo>
                    <a:lnTo>
                      <a:pt x="9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2003400" y="3290760"/>
                <a:ext cx="74880" cy="20880"/>
              </a:xfrm>
              <a:custGeom>
                <a:avLst/>
                <a:gdLst/>
                <a:ahLst/>
                <a:rect l="l" t="t" r="r" b="b"/>
                <a:pathLst>
                  <a:path w="94" h="24">
                    <a:moveTo>
                      <a:pt x="11" y="0"/>
                    </a:moveTo>
                    <a:lnTo>
                      <a:pt x="9" y="2"/>
                    </a:lnTo>
                    <a:lnTo>
                      <a:pt x="6" y="4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71" y="24"/>
                    </a:lnTo>
                    <a:lnTo>
                      <a:pt x="77" y="21"/>
                    </a:lnTo>
                    <a:lnTo>
                      <a:pt x="81" y="17"/>
                    </a:lnTo>
                    <a:lnTo>
                      <a:pt x="87" y="14"/>
                    </a:lnTo>
                    <a:lnTo>
                      <a:pt x="94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1994040" y="3286080"/>
                <a:ext cx="79200" cy="19080"/>
              </a:xfrm>
              <a:custGeom>
                <a:avLst/>
                <a:gdLst/>
                <a:ahLst/>
                <a:rect l="l" t="t" r="r" b="b"/>
                <a:pathLst>
                  <a:path w="101" h="24">
                    <a:moveTo>
                      <a:pt x="12" y="0"/>
                    </a:moveTo>
                    <a:lnTo>
                      <a:pt x="9" y="3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0" y="11"/>
                    </a:lnTo>
                    <a:lnTo>
                      <a:pt x="77" y="24"/>
                    </a:lnTo>
                    <a:lnTo>
                      <a:pt x="82" y="22"/>
                    </a:lnTo>
                    <a:lnTo>
                      <a:pt x="87" y="18"/>
                    </a:lnTo>
                    <a:lnTo>
                      <a:pt x="94" y="15"/>
                    </a:lnTo>
                    <a:lnTo>
                      <a:pt x="101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1985760" y="3279600"/>
                <a:ext cx="82440" cy="20880"/>
              </a:xfrm>
              <a:custGeom>
                <a:avLst/>
                <a:gdLst/>
                <a:ahLst/>
                <a:rect l="l" t="t" r="r" b="b"/>
                <a:pathLst>
                  <a:path w="105" h="25">
                    <a:moveTo>
                      <a:pt x="14" y="0"/>
                    </a:moveTo>
                    <a:lnTo>
                      <a:pt x="10" y="3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83" y="25"/>
                    </a:lnTo>
                    <a:lnTo>
                      <a:pt x="89" y="22"/>
                    </a:lnTo>
                    <a:lnTo>
                      <a:pt x="95" y="20"/>
                    </a:lnTo>
                    <a:lnTo>
                      <a:pt x="99" y="17"/>
                    </a:lnTo>
                    <a:lnTo>
                      <a:pt x="105" y="14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1976040" y="3276720"/>
                <a:ext cx="87480" cy="19080"/>
              </a:xfrm>
              <a:custGeom>
                <a:avLst/>
                <a:gdLst/>
                <a:ahLst/>
                <a:rect l="l" t="t" r="r" b="b"/>
                <a:pathLst>
                  <a:path w="109" h="23">
                    <a:moveTo>
                      <a:pt x="0" y="12"/>
                    </a:moveTo>
                    <a:lnTo>
                      <a:pt x="3" y="8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2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2" y="5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0" y="0"/>
                    </a:lnTo>
                    <a:lnTo>
                      <a:pt x="109" y="14"/>
                    </a:lnTo>
                    <a:lnTo>
                      <a:pt x="105" y="17"/>
                    </a:lnTo>
                    <a:lnTo>
                      <a:pt x="99" y="19"/>
                    </a:lnTo>
                    <a:lnTo>
                      <a:pt x="94" y="21"/>
                    </a:lnTo>
                    <a:lnTo>
                      <a:pt x="89" y="2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1967040" y="3270240"/>
                <a:ext cx="87120" cy="2052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13"/>
                    </a:moveTo>
                    <a:lnTo>
                      <a:pt x="0" y="15"/>
                    </a:lnTo>
                    <a:lnTo>
                      <a:pt x="85" y="27"/>
                    </a:lnTo>
                    <a:lnTo>
                      <a:pt x="92" y="25"/>
                    </a:lnTo>
                    <a:lnTo>
                      <a:pt x="98" y="22"/>
                    </a:lnTo>
                    <a:lnTo>
                      <a:pt x="103" y="19"/>
                    </a:lnTo>
                    <a:lnTo>
                      <a:pt x="109" y="15"/>
                    </a:lnTo>
                    <a:lnTo>
                      <a:pt x="13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2052720" y="3276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2054160" y="3276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2052720" y="3279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1957320" y="3267000"/>
                <a:ext cx="90720" cy="20880"/>
              </a:xfrm>
              <a:custGeom>
                <a:avLst/>
                <a:gdLst/>
                <a:ahLst/>
                <a:rect l="l" t="t" r="r" b="b"/>
                <a:pathLst>
                  <a:path w="114" h="26">
                    <a:moveTo>
                      <a:pt x="16" y="0"/>
                    </a:move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89" y="26"/>
                    </a:lnTo>
                    <a:lnTo>
                      <a:pt x="95" y="23"/>
                    </a:lnTo>
                    <a:lnTo>
                      <a:pt x="101" y="20"/>
                    </a:lnTo>
                    <a:lnTo>
                      <a:pt x="107" y="18"/>
                    </a:lnTo>
                    <a:lnTo>
                      <a:pt x="114" y="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1951200" y="3260880"/>
                <a:ext cx="92160" cy="21960"/>
              </a:xfrm>
              <a:custGeom>
                <a:avLst/>
                <a:gdLst/>
                <a:ahLst/>
                <a:rect l="l" t="t" r="r" b="b"/>
                <a:pathLst>
                  <a:path w="117" h="26">
                    <a:moveTo>
                      <a:pt x="17" y="0"/>
                    </a:moveTo>
                    <a:lnTo>
                      <a:pt x="13" y="3"/>
                    </a:lnTo>
                    <a:lnTo>
                      <a:pt x="10" y="7"/>
                    </a:lnTo>
                    <a:lnTo>
                      <a:pt x="5" y="9"/>
                    </a:lnTo>
                    <a:lnTo>
                      <a:pt x="0" y="11"/>
                    </a:lnTo>
                    <a:lnTo>
                      <a:pt x="96" y="26"/>
                    </a:lnTo>
                    <a:lnTo>
                      <a:pt x="102" y="24"/>
                    </a:lnTo>
                    <a:lnTo>
                      <a:pt x="106" y="22"/>
                    </a:lnTo>
                    <a:lnTo>
                      <a:pt x="112" y="18"/>
                    </a:lnTo>
                    <a:lnTo>
                      <a:pt x="117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1940040" y="3257640"/>
                <a:ext cx="95040" cy="20520"/>
              </a:xfrm>
              <a:custGeom>
                <a:avLst/>
                <a:gdLst/>
                <a:ahLst/>
                <a:rect l="l" t="t" r="r" b="b"/>
                <a:pathLst>
                  <a:path w="120" h="27">
                    <a:moveTo>
                      <a:pt x="15" y="0"/>
                    </a:moveTo>
                    <a:lnTo>
                      <a:pt x="11" y="2"/>
                    </a:lnTo>
                    <a:lnTo>
                      <a:pt x="8" y="5"/>
                    </a:lnTo>
                    <a:lnTo>
                      <a:pt x="3" y="8"/>
                    </a:lnTo>
                    <a:lnTo>
                      <a:pt x="0" y="12"/>
                    </a:lnTo>
                    <a:lnTo>
                      <a:pt x="98" y="27"/>
                    </a:lnTo>
                    <a:lnTo>
                      <a:pt x="103" y="23"/>
                    </a:lnTo>
                    <a:lnTo>
                      <a:pt x="108" y="20"/>
                    </a:lnTo>
                    <a:lnTo>
                      <a:pt x="114" y="17"/>
                    </a:lnTo>
                    <a:lnTo>
                      <a:pt x="120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1930320" y="3252960"/>
                <a:ext cx="100080" cy="2052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7" y="0"/>
                    </a:moveTo>
                    <a:lnTo>
                      <a:pt x="12" y="4"/>
                    </a:lnTo>
                    <a:lnTo>
                      <a:pt x="8" y="7"/>
                    </a:lnTo>
                    <a:lnTo>
                      <a:pt x="4" y="9"/>
                    </a:lnTo>
                    <a:lnTo>
                      <a:pt x="0" y="12"/>
                    </a:lnTo>
                    <a:lnTo>
                      <a:pt x="100" y="28"/>
                    </a:lnTo>
                    <a:lnTo>
                      <a:pt x="107" y="24"/>
                    </a:lnTo>
                    <a:lnTo>
                      <a:pt x="114" y="21"/>
                    </a:lnTo>
                    <a:lnTo>
                      <a:pt x="118" y="19"/>
                    </a:lnTo>
                    <a:lnTo>
                      <a:pt x="124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1922040" y="3246480"/>
                <a:ext cx="101880" cy="22320"/>
              </a:xfrm>
              <a:custGeom>
                <a:avLst/>
                <a:gdLst/>
                <a:ahLst/>
                <a:rect l="l" t="t" r="r" b="b"/>
                <a:pathLst>
                  <a:path w="128" h="29">
                    <a:moveTo>
                      <a:pt x="16" y="0"/>
                    </a:moveTo>
                    <a:lnTo>
                      <a:pt x="12" y="5"/>
                    </a:lnTo>
                    <a:lnTo>
                      <a:pt x="8" y="8"/>
                    </a:lnTo>
                    <a:lnTo>
                      <a:pt x="3" y="12"/>
                    </a:lnTo>
                    <a:lnTo>
                      <a:pt x="0" y="15"/>
                    </a:lnTo>
                    <a:lnTo>
                      <a:pt x="105" y="29"/>
                    </a:lnTo>
                    <a:lnTo>
                      <a:pt x="110" y="27"/>
                    </a:lnTo>
                    <a:lnTo>
                      <a:pt x="116" y="24"/>
                    </a:lnTo>
                    <a:lnTo>
                      <a:pt x="122" y="22"/>
                    </a:lnTo>
                    <a:lnTo>
                      <a:pt x="128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1911240" y="3241800"/>
                <a:ext cx="104760" cy="23760"/>
              </a:xfrm>
              <a:custGeom>
                <a:avLst/>
                <a:gdLst/>
                <a:ahLst/>
                <a:rect l="l" t="t" r="r" b="b"/>
                <a:pathLst>
                  <a:path w="131" h="28">
                    <a:moveTo>
                      <a:pt x="14" y="0"/>
                    </a:moveTo>
                    <a:lnTo>
                      <a:pt x="10" y="3"/>
                    </a:lnTo>
                    <a:lnTo>
                      <a:pt x="7" y="5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107" y="28"/>
                    </a:lnTo>
                    <a:lnTo>
                      <a:pt x="113" y="25"/>
                    </a:lnTo>
                    <a:lnTo>
                      <a:pt x="119" y="23"/>
                    </a:lnTo>
                    <a:lnTo>
                      <a:pt x="125" y="20"/>
                    </a:lnTo>
                    <a:lnTo>
                      <a:pt x="131" y="17"/>
                    </a:lnTo>
                    <a:lnTo>
                      <a:pt x="36" y="2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29" y="7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903320" y="3236760"/>
                <a:ext cx="108000" cy="24120"/>
              </a:xfrm>
              <a:custGeom>
                <a:avLst/>
                <a:gdLst/>
                <a:ahLst/>
                <a:rect l="l" t="t" r="r" b="b"/>
                <a:pathLst>
                  <a:path w="136" h="31">
                    <a:moveTo>
                      <a:pt x="17" y="0"/>
                    </a:moveTo>
                    <a:lnTo>
                      <a:pt x="11" y="3"/>
                    </a:lnTo>
                    <a:lnTo>
                      <a:pt x="7" y="7"/>
                    </a:lnTo>
                    <a:lnTo>
                      <a:pt x="3" y="9"/>
                    </a:lnTo>
                    <a:lnTo>
                      <a:pt x="0" y="11"/>
                    </a:lnTo>
                    <a:lnTo>
                      <a:pt x="112" y="31"/>
                    </a:lnTo>
                    <a:lnTo>
                      <a:pt x="117" y="27"/>
                    </a:lnTo>
                    <a:lnTo>
                      <a:pt x="124" y="24"/>
                    </a:lnTo>
                    <a:lnTo>
                      <a:pt x="130" y="22"/>
                    </a:lnTo>
                    <a:lnTo>
                      <a:pt x="136" y="19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14"/>
                    </a:lnTo>
                    <a:lnTo>
                      <a:pt x="25" y="11"/>
                    </a:lnTo>
                    <a:lnTo>
                      <a:pt x="29" y="9"/>
                    </a:lnTo>
                    <a:lnTo>
                      <a:pt x="32" y="7"/>
                    </a:lnTo>
                    <a:lnTo>
                      <a:pt x="36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1893600" y="3235320"/>
                <a:ext cx="88920" cy="20520"/>
              </a:xfrm>
              <a:custGeom>
                <a:avLst/>
                <a:gdLst/>
                <a:ahLst/>
                <a:rect l="l" t="t" r="r" b="b"/>
                <a:pathLst>
                  <a:path w="111" h="27">
                    <a:moveTo>
                      <a:pt x="0" y="10"/>
                    </a:moveTo>
                    <a:lnTo>
                      <a:pt x="0" y="14"/>
                    </a:lnTo>
                    <a:lnTo>
                      <a:pt x="88" y="27"/>
                    </a:lnTo>
                    <a:lnTo>
                      <a:pt x="94" y="25"/>
                    </a:lnTo>
                    <a:lnTo>
                      <a:pt x="100" y="22"/>
                    </a:lnTo>
                    <a:lnTo>
                      <a:pt x="106" y="19"/>
                    </a:lnTo>
                    <a:lnTo>
                      <a:pt x="111" y="17"/>
                    </a:lnTo>
                    <a:lnTo>
                      <a:pt x="97" y="14"/>
                    </a:lnTo>
                    <a:lnTo>
                      <a:pt x="94" y="14"/>
                    </a:lnTo>
                    <a:lnTo>
                      <a:pt x="91" y="15"/>
                    </a:lnTo>
                    <a:lnTo>
                      <a:pt x="87" y="17"/>
                    </a:lnTo>
                    <a:lnTo>
                      <a:pt x="84" y="17"/>
                    </a:lnTo>
                    <a:lnTo>
                      <a:pt x="86" y="17"/>
                    </a:lnTo>
                    <a:lnTo>
                      <a:pt x="88" y="15"/>
                    </a:lnTo>
                    <a:lnTo>
                      <a:pt x="91" y="13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38" y="5"/>
                    </a:lnTo>
                    <a:lnTo>
                      <a:pt x="36" y="5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3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1977840" y="3233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1982880" y="32338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9"/>
                    </a:moveTo>
                    <a:lnTo>
                      <a:pt x="29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2"/>
                    </a:lnTo>
                    <a:lnTo>
                      <a:pt x="22" y="14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7" y="10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982520" y="3241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1881360" y="3230640"/>
                <a:ext cx="93600" cy="22320"/>
              </a:xfrm>
              <a:custGeom>
                <a:avLst/>
                <a:gdLst/>
                <a:ahLst/>
                <a:rect l="l" t="t" r="r" b="b"/>
                <a:pathLst>
                  <a:path w="117" h="26">
                    <a:moveTo>
                      <a:pt x="0" y="9"/>
                    </a:moveTo>
                    <a:lnTo>
                      <a:pt x="0" y="11"/>
                    </a:lnTo>
                    <a:lnTo>
                      <a:pt x="91" y="26"/>
                    </a:lnTo>
                    <a:lnTo>
                      <a:pt x="98" y="23"/>
                    </a:lnTo>
                    <a:lnTo>
                      <a:pt x="103" y="19"/>
                    </a:lnTo>
                    <a:lnTo>
                      <a:pt x="110" y="17"/>
                    </a:lnTo>
                    <a:lnTo>
                      <a:pt x="117" y="14"/>
                    </a:lnTo>
                    <a:lnTo>
                      <a:pt x="110" y="14"/>
                    </a:lnTo>
                    <a:lnTo>
                      <a:pt x="106" y="14"/>
                    </a:lnTo>
                    <a:lnTo>
                      <a:pt x="101" y="15"/>
                    </a:lnTo>
                    <a:lnTo>
                      <a:pt x="95" y="15"/>
                    </a:lnTo>
                    <a:lnTo>
                      <a:pt x="91" y="16"/>
                    </a:lnTo>
                    <a:lnTo>
                      <a:pt x="86" y="17"/>
                    </a:lnTo>
                    <a:lnTo>
                      <a:pt x="83" y="18"/>
                    </a:lnTo>
                    <a:lnTo>
                      <a:pt x="78" y="19"/>
                    </a:lnTo>
                    <a:lnTo>
                      <a:pt x="75" y="21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82" y="17"/>
                    </a:lnTo>
                    <a:lnTo>
                      <a:pt x="84" y="16"/>
                    </a:lnTo>
                    <a:lnTo>
                      <a:pt x="84" y="15"/>
                    </a:lnTo>
                    <a:lnTo>
                      <a:pt x="84" y="14"/>
                    </a:lnTo>
                    <a:lnTo>
                      <a:pt x="84" y="11"/>
                    </a:lnTo>
                    <a:lnTo>
                      <a:pt x="84" y="9"/>
                    </a:lnTo>
                    <a:lnTo>
                      <a:pt x="44" y="4"/>
                    </a:lnTo>
                    <a:lnTo>
                      <a:pt x="38" y="6"/>
                    </a:lnTo>
                    <a:lnTo>
                      <a:pt x="32" y="8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6" y="9"/>
                    </a:lnTo>
                    <a:lnTo>
                      <a:pt x="29" y="7"/>
                    </a:lnTo>
                    <a:lnTo>
                      <a:pt x="31" y="4"/>
                    </a:lnTo>
                    <a:lnTo>
                      <a:pt x="33" y="2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969920" y="32288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1974960" y="32274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5"/>
                    </a:moveTo>
                    <a:lnTo>
                      <a:pt x="28" y="2"/>
                    </a:lnTo>
                    <a:lnTo>
                      <a:pt x="16" y="0"/>
                    </a:lnTo>
                    <a:lnTo>
                      <a:pt x="12" y="4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0" y="12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2" y="11"/>
                    </a:lnTo>
                    <a:lnTo>
                      <a:pt x="24" y="8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1974960" y="32385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1881000" y="324180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2"/>
                    </a:moveTo>
                    <a:lnTo>
                      <a:pt x="0" y="4"/>
                    </a:lnTo>
                    <a:lnTo>
                      <a:pt x="11" y="7"/>
                    </a:lnTo>
                    <a:lnTo>
                      <a:pt x="15" y="4"/>
                    </a:lnTo>
                    <a:lnTo>
                      <a:pt x="19" y="3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900440" y="3235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1903320" y="3228840"/>
                <a:ext cx="43200" cy="144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56" y="7"/>
                    </a:moveTo>
                    <a:lnTo>
                      <a:pt x="56" y="7"/>
                    </a:lnTo>
                    <a:lnTo>
                      <a:pt x="20" y="0"/>
                    </a:lnTo>
                    <a:lnTo>
                      <a:pt x="15" y="4"/>
                    </a:lnTo>
                    <a:lnTo>
                      <a:pt x="10" y="6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51" y="11"/>
                    </a:lnTo>
                    <a:lnTo>
                      <a:pt x="52" y="10"/>
                    </a:lnTo>
                    <a:lnTo>
                      <a:pt x="55" y="9"/>
                    </a:lnTo>
                    <a:lnTo>
                      <a:pt x="56" y="7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1902960" y="32432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194004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7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1946160" y="32259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9"/>
                    </a:moveTo>
                    <a:lnTo>
                      <a:pt x="25" y="2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6" y="16"/>
                    </a:lnTo>
                    <a:lnTo>
                      <a:pt x="19" y="14"/>
                    </a:lnTo>
                    <a:lnTo>
                      <a:pt x="21" y="13"/>
                    </a:lnTo>
                    <a:lnTo>
                      <a:pt x="23" y="10"/>
                    </a:lnTo>
                    <a:lnTo>
                      <a:pt x="25" y="9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1946160" y="323676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1960560" y="32259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1967040" y="322416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4"/>
                    </a:moveTo>
                    <a:lnTo>
                      <a:pt x="31" y="2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0" y="11"/>
                    </a:lnTo>
                    <a:lnTo>
                      <a:pt x="16" y="13"/>
                    </a:lnTo>
                    <a:lnTo>
                      <a:pt x="17" y="11"/>
                    </a:lnTo>
                    <a:lnTo>
                      <a:pt x="20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31" y="4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1966680" y="3233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1893600" y="322596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54" h="16">
                    <a:moveTo>
                      <a:pt x="0" y="9"/>
                    </a:moveTo>
                    <a:lnTo>
                      <a:pt x="0" y="11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40" y="13"/>
                    </a:lnTo>
                    <a:lnTo>
                      <a:pt x="45" y="10"/>
                    </a:lnTo>
                    <a:lnTo>
                      <a:pt x="50" y="8"/>
                    </a:lnTo>
                    <a:lnTo>
                      <a:pt x="54" y="4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4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1935360" y="3224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1881000" y="32418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1936800" y="322272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5"/>
                    </a:moveTo>
                    <a:lnTo>
                      <a:pt x="29" y="3"/>
                    </a:lnTo>
                    <a:lnTo>
                      <a:pt x="14" y="0"/>
                    </a:lnTo>
                    <a:lnTo>
                      <a:pt x="11" y="3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4" y="14"/>
                    </a:lnTo>
                    <a:lnTo>
                      <a:pt x="18" y="12"/>
                    </a:lnTo>
                    <a:lnTo>
                      <a:pt x="22" y="11"/>
                    </a:lnTo>
                    <a:lnTo>
                      <a:pt x="26" y="8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1936440" y="32338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1955520" y="3219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1959120" y="321768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31" y="9"/>
                    </a:moveTo>
                    <a:lnTo>
                      <a:pt x="31" y="3"/>
                    </a:lnTo>
                    <a:lnTo>
                      <a:pt x="18" y="0"/>
                    </a:lnTo>
                    <a:lnTo>
                      <a:pt x="13" y="4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0" y="13"/>
                    </a:lnTo>
                    <a:lnTo>
                      <a:pt x="18" y="15"/>
                    </a:lnTo>
                    <a:lnTo>
                      <a:pt x="20" y="15"/>
                    </a:lnTo>
                    <a:lnTo>
                      <a:pt x="23" y="13"/>
                    </a:lnTo>
                    <a:lnTo>
                      <a:pt x="28" y="12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1958760" y="32288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1885680" y="322272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0" y="9"/>
                    </a:moveTo>
                    <a:lnTo>
                      <a:pt x="0" y="12"/>
                    </a:lnTo>
                    <a:lnTo>
                      <a:pt x="36" y="16"/>
                    </a:lnTo>
                    <a:lnTo>
                      <a:pt x="40" y="13"/>
                    </a:lnTo>
                    <a:lnTo>
                      <a:pt x="44" y="9"/>
                    </a:lnTo>
                    <a:lnTo>
                      <a:pt x="50" y="7"/>
                    </a:lnTo>
                    <a:lnTo>
                      <a:pt x="56" y="5"/>
                    </a:lnTo>
                    <a:lnTo>
                      <a:pt x="20" y="0"/>
                    </a:lnTo>
                    <a:lnTo>
                      <a:pt x="14" y="3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1927440" y="3217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1928880" y="321768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3"/>
                    </a:moveTo>
                    <a:lnTo>
                      <a:pt x="28" y="0"/>
                    </a:lnTo>
                    <a:lnTo>
                      <a:pt x="15" y="0"/>
                    </a:lnTo>
                    <a:lnTo>
                      <a:pt x="10" y="3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5" y="15"/>
                    </a:lnTo>
                    <a:lnTo>
                      <a:pt x="18" y="12"/>
                    </a:lnTo>
                    <a:lnTo>
                      <a:pt x="21" y="10"/>
                    </a:lnTo>
                    <a:lnTo>
                      <a:pt x="25" y="6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1928880" y="3228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1947600" y="321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>
                <a:off x="1952280" y="3213000"/>
                <a:ext cx="25560" cy="129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34" y="4"/>
                    </a:moveTo>
                    <a:lnTo>
                      <a:pt x="34" y="2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6" y="8"/>
                    </a:lnTo>
                    <a:lnTo>
                      <a:pt x="0" y="13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7" y="11"/>
                    </a:lnTo>
                    <a:lnTo>
                      <a:pt x="30" y="8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1952280" y="322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>
                <a:off x="1877760" y="3216240"/>
                <a:ext cx="44280" cy="1260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0" y="11"/>
                    </a:moveTo>
                    <a:lnTo>
                      <a:pt x="0" y="13"/>
                    </a:lnTo>
                    <a:lnTo>
                      <a:pt x="35" y="17"/>
                    </a:lnTo>
                    <a:lnTo>
                      <a:pt x="40" y="15"/>
                    </a:lnTo>
                    <a:lnTo>
                      <a:pt x="45" y="13"/>
                    </a:lnTo>
                    <a:lnTo>
                      <a:pt x="49" y="9"/>
                    </a:lnTo>
                    <a:lnTo>
                      <a:pt x="55" y="5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>
                <a:off x="1920960" y="3213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1922040" y="3211560"/>
                <a:ext cx="24120" cy="1260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2" y="4"/>
                    </a:moveTo>
                    <a:lnTo>
                      <a:pt x="32" y="2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6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5" y="15"/>
                    </a:lnTo>
                    <a:lnTo>
                      <a:pt x="20" y="12"/>
                    </a:lnTo>
                    <a:lnTo>
                      <a:pt x="25" y="9"/>
                    </a:lnTo>
                    <a:lnTo>
                      <a:pt x="28" y="6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>
                <a:off x="1922040" y="3224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1944360" y="3209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1946520" y="32083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5"/>
                    </a:moveTo>
                    <a:lnTo>
                      <a:pt x="29" y="2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18" y="14"/>
                    </a:lnTo>
                    <a:lnTo>
                      <a:pt x="21" y="11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>
                <a:off x="1946520" y="3219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1873440" y="3211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0" y="9"/>
                    </a:moveTo>
                    <a:lnTo>
                      <a:pt x="0" y="12"/>
                    </a:lnTo>
                    <a:lnTo>
                      <a:pt x="34" y="17"/>
                    </a:lnTo>
                    <a:lnTo>
                      <a:pt x="37" y="13"/>
                    </a:lnTo>
                    <a:lnTo>
                      <a:pt x="42" y="10"/>
                    </a:lnTo>
                    <a:lnTo>
                      <a:pt x="46" y="6"/>
                    </a:lnTo>
                    <a:lnTo>
                      <a:pt x="50" y="4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4"/>
                    </a:lnTo>
                    <a:lnTo>
                      <a:pt x="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1909440" y="3209760"/>
                <a:ext cx="1800" cy="1800"/>
              </a:xfrm>
              <a:prstGeom prst="rect">
                <a:avLst/>
              </a:pr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1911600" y="3208320"/>
                <a:ext cx="26640" cy="1116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33" y="2"/>
                    </a:moveTo>
                    <a:lnTo>
                      <a:pt x="33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9" y="5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1911600" y="3219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1936800" y="3205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1937880" y="320508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31" y="3"/>
                    </a:moveTo>
                    <a:lnTo>
                      <a:pt x="31" y="0"/>
                    </a:lnTo>
                    <a:lnTo>
                      <a:pt x="20" y="0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2"/>
                    </a:lnTo>
                    <a:lnTo>
                      <a:pt x="18" y="14"/>
                    </a:lnTo>
                    <a:lnTo>
                      <a:pt x="20" y="11"/>
                    </a:lnTo>
                    <a:lnTo>
                      <a:pt x="24" y="7"/>
                    </a:lnTo>
                    <a:lnTo>
                      <a:pt x="27" y="5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1937880" y="3216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933560" y="319896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2" y="0"/>
                    </a:moveTo>
                    <a:lnTo>
                      <a:pt x="16" y="4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14" y="14"/>
                    </a:lnTo>
                    <a:lnTo>
                      <a:pt x="20" y="1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1866960" y="3132360"/>
              <a:ext cx="640800" cy="178920"/>
              <a:chOff x="1866960" y="3132360"/>
              <a:chExt cx="640800" cy="178920"/>
            </a:xfrm>
          </p:grpSpPr>
          <p:sp>
            <p:nvSpPr>
              <p:cNvPr id="1098" name=""/>
              <p:cNvSpPr/>
              <p:nvPr/>
            </p:nvSpPr>
            <p:spPr>
              <a:xfrm flipH="1">
                <a:off x="1904760" y="3203640"/>
                <a:ext cx="24840" cy="900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22" y="0"/>
                    </a:moveTo>
                    <a:lnTo>
                      <a:pt x="16" y="3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14" y="14"/>
                    </a:lnTo>
                    <a:lnTo>
                      <a:pt x="20" y="10"/>
                    </a:lnTo>
                    <a:lnTo>
                      <a:pt x="25" y="8"/>
                    </a:lnTo>
                    <a:lnTo>
                      <a:pt x="30" y="6"/>
                    </a:lnTo>
                    <a:lnTo>
                      <a:pt x="33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1866960" y="3211560"/>
                <a:ext cx="36000" cy="756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0" y="6"/>
                    </a:moveTo>
                    <a:lnTo>
                      <a:pt x="6" y="5"/>
                    </a:lnTo>
                    <a:lnTo>
                      <a:pt x="10" y="3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5" y="2"/>
                    </a:lnTo>
                    <a:lnTo>
                      <a:pt x="41" y="5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1927440" y="319572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11"/>
                    </a:moveTo>
                    <a:lnTo>
                      <a:pt x="6" y="8"/>
                    </a:lnTo>
                    <a:lnTo>
                      <a:pt x="13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1897200" y="3198960"/>
                <a:ext cx="26640" cy="104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24" y="0"/>
                    </a:moveTo>
                    <a:lnTo>
                      <a:pt x="19" y="3"/>
                    </a:lnTo>
                    <a:lnTo>
                      <a:pt x="13" y="5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15" y="14"/>
                    </a:lnTo>
                    <a:lnTo>
                      <a:pt x="20" y="11"/>
                    </a:lnTo>
                    <a:lnTo>
                      <a:pt x="26" y="7"/>
                    </a:lnTo>
                    <a:lnTo>
                      <a:pt x="30" y="5"/>
                    </a:lnTo>
                    <a:lnTo>
                      <a:pt x="34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1866960" y="3209760"/>
                <a:ext cx="25200" cy="612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3"/>
                    </a:moveTo>
                    <a:lnTo>
                      <a:pt x="8" y="1"/>
                    </a:lnTo>
                    <a:lnTo>
                      <a:pt x="16" y="0"/>
                    </a:lnTo>
                    <a:lnTo>
                      <a:pt x="24" y="1"/>
                    </a:lnTo>
                    <a:lnTo>
                      <a:pt x="31" y="3"/>
                    </a:lnTo>
                    <a:lnTo>
                      <a:pt x="30" y="4"/>
                    </a:lnTo>
                    <a:lnTo>
                      <a:pt x="27" y="5"/>
                    </a:lnTo>
                    <a:lnTo>
                      <a:pt x="26" y="6"/>
                    </a:lnTo>
                    <a:lnTo>
                      <a:pt x="24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1927080" y="3195720"/>
                <a:ext cx="10440" cy="43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1890360" y="3195720"/>
                <a:ext cx="23400" cy="90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5" y="0"/>
                    </a:moveTo>
                    <a:lnTo>
                      <a:pt x="18" y="2"/>
                    </a:lnTo>
                    <a:lnTo>
                      <a:pt x="13" y="4"/>
                    </a:lnTo>
                    <a:lnTo>
                      <a:pt x="7" y="7"/>
                    </a:lnTo>
                    <a:lnTo>
                      <a:pt x="0" y="9"/>
                    </a:lnTo>
                    <a:lnTo>
                      <a:pt x="11" y="11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6" y="3"/>
                    </a:lnTo>
                    <a:lnTo>
                      <a:pt x="3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1886040" y="319392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6"/>
                    </a:moveTo>
                    <a:lnTo>
                      <a:pt x="6" y="4"/>
                    </a:lnTo>
                    <a:lnTo>
                      <a:pt x="11" y="3"/>
                    </a:lnTo>
                    <a:lnTo>
                      <a:pt x="18" y="1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1885680" y="319392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2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2276640" y="3270240"/>
                <a:ext cx="59760" cy="1872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60" y="25"/>
                    </a:moveTo>
                    <a:lnTo>
                      <a:pt x="54" y="20"/>
                    </a:lnTo>
                    <a:lnTo>
                      <a:pt x="49" y="15"/>
                    </a:lnTo>
                    <a:lnTo>
                      <a:pt x="45" y="13"/>
                    </a:lnTo>
                    <a:lnTo>
                      <a:pt x="40" y="11"/>
                    </a:lnTo>
                    <a:lnTo>
                      <a:pt x="35" y="8"/>
                    </a:lnTo>
                    <a:lnTo>
                      <a:pt x="31" y="8"/>
                    </a:lnTo>
                    <a:lnTo>
                      <a:pt x="24" y="10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71" y="13"/>
                    </a:lnTo>
                    <a:lnTo>
                      <a:pt x="71" y="15"/>
                    </a:lnTo>
                    <a:lnTo>
                      <a:pt x="73" y="18"/>
                    </a:lnTo>
                    <a:lnTo>
                      <a:pt x="75" y="20"/>
                    </a:lnTo>
                    <a:lnTo>
                      <a:pt x="75" y="22"/>
                    </a:lnTo>
                    <a:lnTo>
                      <a:pt x="70" y="23"/>
                    </a:lnTo>
                    <a:lnTo>
                      <a:pt x="65" y="25"/>
                    </a:lnTo>
                    <a:lnTo>
                      <a:pt x="62" y="25"/>
                    </a:lnTo>
                    <a:lnTo>
                      <a:pt x="60" y="25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2200320" y="32893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6" y="2"/>
                    </a:moveTo>
                    <a:lnTo>
                      <a:pt x="16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2276640" y="3260880"/>
                <a:ext cx="75600" cy="26640"/>
              </a:xfrm>
              <a:custGeom>
                <a:avLst/>
                <a:gdLst/>
                <a:ahLst/>
                <a:rect l="l" t="t" r="r" b="b"/>
                <a:pathLst>
                  <a:path w="96" h="33">
                    <a:moveTo>
                      <a:pt x="74" y="29"/>
                    </a:moveTo>
                    <a:lnTo>
                      <a:pt x="69" y="26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9" y="21"/>
                    </a:lnTo>
                    <a:lnTo>
                      <a:pt x="54" y="19"/>
                    </a:lnTo>
                    <a:lnTo>
                      <a:pt x="49" y="19"/>
                    </a:lnTo>
                    <a:lnTo>
                      <a:pt x="45" y="21"/>
                    </a:lnTo>
                    <a:lnTo>
                      <a:pt x="38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2"/>
                    </a:lnTo>
                    <a:lnTo>
                      <a:pt x="19" y="10"/>
                    </a:lnTo>
                    <a:lnTo>
                      <a:pt x="15" y="8"/>
                    </a:lnTo>
                    <a:lnTo>
                      <a:pt x="10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90" y="14"/>
                    </a:lnTo>
                    <a:lnTo>
                      <a:pt x="90" y="19"/>
                    </a:lnTo>
                    <a:lnTo>
                      <a:pt x="91" y="24"/>
                    </a:lnTo>
                    <a:lnTo>
                      <a:pt x="93" y="29"/>
                    </a:lnTo>
                    <a:lnTo>
                      <a:pt x="96" y="33"/>
                    </a:lnTo>
                    <a:lnTo>
                      <a:pt x="74" y="29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2198520" y="328284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1" y="3"/>
                    </a:moveTo>
                    <a:lnTo>
                      <a:pt x="21" y="6"/>
                    </a:lnTo>
                    <a:lnTo>
                      <a:pt x="19" y="10"/>
                    </a:lnTo>
                    <a:lnTo>
                      <a:pt x="17" y="13"/>
                    </a:lnTo>
                    <a:lnTo>
                      <a:pt x="16" y="16"/>
                    </a:lnTo>
                    <a:lnTo>
                      <a:pt x="13" y="16"/>
                    </a:lnTo>
                    <a:lnTo>
                      <a:pt x="9" y="15"/>
                    </a:lnTo>
                    <a:lnTo>
                      <a:pt x="6" y="14"/>
                    </a:lnTo>
                    <a:lnTo>
                      <a:pt x="2" y="14"/>
                    </a:lnTo>
                    <a:lnTo>
                      <a:pt x="2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2259000" y="3273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2259000" y="3252960"/>
                <a:ext cx="110880" cy="26280"/>
              </a:xfrm>
              <a:custGeom>
                <a:avLst/>
                <a:gdLst/>
                <a:ahLst/>
                <a:rect l="l" t="t" r="r" b="b"/>
                <a:pathLst>
                  <a:path w="141" h="36">
                    <a:moveTo>
                      <a:pt x="0" y="0"/>
                    </a:moveTo>
                    <a:lnTo>
                      <a:pt x="6" y="3"/>
                    </a:lnTo>
                    <a:lnTo>
                      <a:pt x="12" y="6"/>
                    </a:lnTo>
                    <a:lnTo>
                      <a:pt x="16" y="8"/>
                    </a:lnTo>
                    <a:lnTo>
                      <a:pt x="22" y="12"/>
                    </a:lnTo>
                    <a:lnTo>
                      <a:pt x="26" y="15"/>
                    </a:lnTo>
                    <a:lnTo>
                      <a:pt x="32" y="18"/>
                    </a:lnTo>
                    <a:lnTo>
                      <a:pt x="37" y="21"/>
                    </a:lnTo>
                    <a:lnTo>
                      <a:pt x="43" y="23"/>
                    </a:lnTo>
                    <a:lnTo>
                      <a:pt x="114" y="36"/>
                    </a:lnTo>
                    <a:lnTo>
                      <a:pt x="113" y="33"/>
                    </a:lnTo>
                    <a:lnTo>
                      <a:pt x="112" y="29"/>
                    </a:lnTo>
                    <a:lnTo>
                      <a:pt x="112" y="27"/>
                    </a:lnTo>
                    <a:lnTo>
                      <a:pt x="112" y="23"/>
                    </a:lnTo>
                    <a:lnTo>
                      <a:pt x="120" y="23"/>
                    </a:lnTo>
                    <a:lnTo>
                      <a:pt x="127" y="26"/>
                    </a:lnTo>
                    <a:lnTo>
                      <a:pt x="134" y="28"/>
                    </a:lnTo>
                    <a:lnTo>
                      <a:pt x="141" y="31"/>
                    </a:lnTo>
                    <a:lnTo>
                      <a:pt x="141" y="29"/>
                    </a:lnTo>
                    <a:lnTo>
                      <a:pt x="141" y="26"/>
                    </a:lnTo>
                    <a:lnTo>
                      <a:pt x="141" y="23"/>
                    </a:lnTo>
                    <a:lnTo>
                      <a:pt x="141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2197080" y="3273480"/>
                <a:ext cx="17280" cy="16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8" y="22"/>
                    </a:moveTo>
                    <a:lnTo>
                      <a:pt x="19" y="18"/>
                    </a:lnTo>
                    <a:lnTo>
                      <a:pt x="22" y="14"/>
                    </a:lnTo>
                    <a:lnTo>
                      <a:pt x="23" y="9"/>
                    </a:lnTo>
                    <a:lnTo>
                      <a:pt x="23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2259000" y="3241800"/>
                <a:ext cx="126720" cy="3456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0" y="0"/>
                    </a:moveTo>
                    <a:lnTo>
                      <a:pt x="6" y="2"/>
                    </a:lnTo>
                    <a:lnTo>
                      <a:pt x="11" y="5"/>
                    </a:lnTo>
                    <a:lnTo>
                      <a:pt x="16" y="9"/>
                    </a:lnTo>
                    <a:lnTo>
                      <a:pt x="21" y="11"/>
                    </a:lnTo>
                    <a:lnTo>
                      <a:pt x="27" y="15"/>
                    </a:lnTo>
                    <a:lnTo>
                      <a:pt x="31" y="18"/>
                    </a:lnTo>
                    <a:lnTo>
                      <a:pt x="37" y="21"/>
                    </a:lnTo>
                    <a:lnTo>
                      <a:pt x="43" y="24"/>
                    </a:lnTo>
                    <a:lnTo>
                      <a:pt x="133" y="38"/>
                    </a:lnTo>
                    <a:lnTo>
                      <a:pt x="133" y="36"/>
                    </a:lnTo>
                    <a:lnTo>
                      <a:pt x="133" y="35"/>
                    </a:lnTo>
                    <a:lnTo>
                      <a:pt x="133" y="35"/>
                    </a:lnTo>
                    <a:lnTo>
                      <a:pt x="133" y="35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50" y="38"/>
                    </a:lnTo>
                    <a:lnTo>
                      <a:pt x="157" y="40"/>
                    </a:lnTo>
                    <a:lnTo>
                      <a:pt x="162" y="43"/>
                    </a:lnTo>
                    <a:lnTo>
                      <a:pt x="162" y="38"/>
                    </a:lnTo>
                    <a:lnTo>
                      <a:pt x="162" y="33"/>
                    </a:lnTo>
                    <a:lnTo>
                      <a:pt x="162" y="28"/>
                    </a:lnTo>
                    <a:lnTo>
                      <a:pt x="16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2192040" y="3267000"/>
                <a:ext cx="23400" cy="1728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23" y="22"/>
                    </a:moveTo>
                    <a:lnTo>
                      <a:pt x="25" y="18"/>
                    </a:lnTo>
                    <a:lnTo>
                      <a:pt x="27" y="15"/>
                    </a:lnTo>
                    <a:lnTo>
                      <a:pt x="28" y="10"/>
                    </a:lnTo>
                    <a:lnTo>
                      <a:pt x="31" y="4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2230200" y="3265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>
                <a:off x="2244600" y="326088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2"/>
                    </a:moveTo>
                    <a:lnTo>
                      <a:pt x="10" y="3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2190960" y="3230640"/>
                <a:ext cx="213840" cy="47160"/>
              </a:xfrm>
              <a:custGeom>
                <a:avLst/>
                <a:gdLst/>
                <a:ahLst/>
                <a:rect l="l" t="t" r="r" b="b"/>
                <a:pathLst>
                  <a:path w="272" h="60">
                    <a:moveTo>
                      <a:pt x="0" y="0"/>
                    </a:moveTo>
                    <a:lnTo>
                      <a:pt x="6" y="3"/>
                    </a:lnTo>
                    <a:lnTo>
                      <a:pt x="10" y="7"/>
                    </a:lnTo>
                    <a:lnTo>
                      <a:pt x="16" y="9"/>
                    </a:lnTo>
                    <a:lnTo>
                      <a:pt x="23" y="12"/>
                    </a:lnTo>
                    <a:lnTo>
                      <a:pt x="29" y="16"/>
                    </a:lnTo>
                    <a:lnTo>
                      <a:pt x="35" y="19"/>
                    </a:lnTo>
                    <a:lnTo>
                      <a:pt x="39" y="23"/>
                    </a:lnTo>
                    <a:lnTo>
                      <a:pt x="45" y="26"/>
                    </a:lnTo>
                    <a:lnTo>
                      <a:pt x="186" y="47"/>
                    </a:lnTo>
                    <a:lnTo>
                      <a:pt x="186" y="44"/>
                    </a:lnTo>
                    <a:lnTo>
                      <a:pt x="186" y="41"/>
                    </a:lnTo>
                    <a:lnTo>
                      <a:pt x="186" y="39"/>
                    </a:lnTo>
                    <a:lnTo>
                      <a:pt x="186" y="35"/>
                    </a:lnTo>
                    <a:lnTo>
                      <a:pt x="188" y="37"/>
                    </a:lnTo>
                    <a:lnTo>
                      <a:pt x="190" y="39"/>
                    </a:lnTo>
                    <a:lnTo>
                      <a:pt x="194" y="40"/>
                    </a:lnTo>
                    <a:lnTo>
                      <a:pt x="198" y="40"/>
                    </a:lnTo>
                    <a:lnTo>
                      <a:pt x="198" y="41"/>
                    </a:lnTo>
                    <a:lnTo>
                      <a:pt x="198" y="44"/>
                    </a:lnTo>
                    <a:lnTo>
                      <a:pt x="198" y="45"/>
                    </a:lnTo>
                    <a:lnTo>
                      <a:pt x="198" y="47"/>
                    </a:lnTo>
                    <a:lnTo>
                      <a:pt x="201" y="45"/>
                    </a:lnTo>
                    <a:lnTo>
                      <a:pt x="202" y="42"/>
                    </a:lnTo>
                    <a:lnTo>
                      <a:pt x="204" y="39"/>
                    </a:lnTo>
                    <a:lnTo>
                      <a:pt x="205" y="35"/>
                    </a:lnTo>
                    <a:lnTo>
                      <a:pt x="207" y="35"/>
                    </a:lnTo>
                    <a:lnTo>
                      <a:pt x="210" y="35"/>
                    </a:lnTo>
                    <a:lnTo>
                      <a:pt x="213" y="37"/>
                    </a:lnTo>
                    <a:lnTo>
                      <a:pt x="217" y="38"/>
                    </a:lnTo>
                    <a:lnTo>
                      <a:pt x="217" y="40"/>
                    </a:lnTo>
                    <a:lnTo>
                      <a:pt x="218" y="42"/>
                    </a:lnTo>
                    <a:lnTo>
                      <a:pt x="220" y="45"/>
                    </a:lnTo>
                    <a:lnTo>
                      <a:pt x="221" y="47"/>
                    </a:lnTo>
                    <a:lnTo>
                      <a:pt x="221" y="45"/>
                    </a:lnTo>
                    <a:lnTo>
                      <a:pt x="222" y="42"/>
                    </a:lnTo>
                    <a:lnTo>
                      <a:pt x="224" y="39"/>
                    </a:lnTo>
                    <a:lnTo>
                      <a:pt x="224" y="35"/>
                    </a:lnTo>
                    <a:lnTo>
                      <a:pt x="227" y="37"/>
                    </a:lnTo>
                    <a:lnTo>
                      <a:pt x="232" y="39"/>
                    </a:lnTo>
                    <a:lnTo>
                      <a:pt x="236" y="40"/>
                    </a:lnTo>
                    <a:lnTo>
                      <a:pt x="241" y="40"/>
                    </a:lnTo>
                    <a:lnTo>
                      <a:pt x="240" y="44"/>
                    </a:lnTo>
                    <a:lnTo>
                      <a:pt x="240" y="47"/>
                    </a:lnTo>
                    <a:lnTo>
                      <a:pt x="240" y="50"/>
                    </a:lnTo>
                    <a:lnTo>
                      <a:pt x="241" y="54"/>
                    </a:lnTo>
                    <a:lnTo>
                      <a:pt x="264" y="60"/>
                    </a:lnTo>
                    <a:lnTo>
                      <a:pt x="266" y="54"/>
                    </a:lnTo>
                    <a:lnTo>
                      <a:pt x="269" y="49"/>
                    </a:lnTo>
                    <a:lnTo>
                      <a:pt x="270" y="46"/>
                    </a:lnTo>
                    <a:lnTo>
                      <a:pt x="272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2187360" y="3222720"/>
                <a:ext cx="239400" cy="47160"/>
              </a:xfrm>
              <a:custGeom>
                <a:avLst/>
                <a:gdLst/>
                <a:ahLst/>
                <a:rect l="l" t="t" r="r" b="b"/>
                <a:pathLst>
                  <a:path w="300" h="61">
                    <a:moveTo>
                      <a:pt x="0" y="0"/>
                    </a:moveTo>
                    <a:lnTo>
                      <a:pt x="6" y="3"/>
                    </a:lnTo>
                    <a:lnTo>
                      <a:pt x="12" y="6"/>
                    </a:lnTo>
                    <a:lnTo>
                      <a:pt x="19" y="8"/>
                    </a:lnTo>
                    <a:lnTo>
                      <a:pt x="25" y="12"/>
                    </a:lnTo>
                    <a:lnTo>
                      <a:pt x="31" y="15"/>
                    </a:lnTo>
                    <a:lnTo>
                      <a:pt x="38" y="19"/>
                    </a:lnTo>
                    <a:lnTo>
                      <a:pt x="43" y="22"/>
                    </a:lnTo>
                    <a:lnTo>
                      <a:pt x="50" y="26"/>
                    </a:lnTo>
                    <a:lnTo>
                      <a:pt x="212" y="50"/>
                    </a:lnTo>
                    <a:lnTo>
                      <a:pt x="212" y="47"/>
                    </a:lnTo>
                    <a:lnTo>
                      <a:pt x="214" y="49"/>
                    </a:lnTo>
                    <a:lnTo>
                      <a:pt x="215" y="50"/>
                    </a:lnTo>
                    <a:lnTo>
                      <a:pt x="217" y="50"/>
                    </a:lnTo>
                    <a:lnTo>
                      <a:pt x="218" y="50"/>
                    </a:lnTo>
                    <a:lnTo>
                      <a:pt x="229" y="52"/>
                    </a:lnTo>
                    <a:lnTo>
                      <a:pt x="229" y="51"/>
                    </a:lnTo>
                    <a:lnTo>
                      <a:pt x="229" y="50"/>
                    </a:lnTo>
                    <a:lnTo>
                      <a:pt x="230" y="49"/>
                    </a:lnTo>
                    <a:lnTo>
                      <a:pt x="231" y="47"/>
                    </a:lnTo>
                    <a:lnTo>
                      <a:pt x="233" y="47"/>
                    </a:lnTo>
                    <a:lnTo>
                      <a:pt x="236" y="47"/>
                    </a:lnTo>
                    <a:lnTo>
                      <a:pt x="239" y="49"/>
                    </a:lnTo>
                    <a:lnTo>
                      <a:pt x="243" y="50"/>
                    </a:lnTo>
                    <a:lnTo>
                      <a:pt x="243" y="51"/>
                    </a:lnTo>
                    <a:lnTo>
                      <a:pt x="243" y="52"/>
                    </a:lnTo>
                    <a:lnTo>
                      <a:pt x="244" y="53"/>
                    </a:lnTo>
                    <a:lnTo>
                      <a:pt x="245" y="54"/>
                    </a:lnTo>
                    <a:lnTo>
                      <a:pt x="247" y="54"/>
                    </a:lnTo>
                    <a:lnTo>
                      <a:pt x="247" y="52"/>
                    </a:lnTo>
                    <a:lnTo>
                      <a:pt x="248" y="51"/>
                    </a:lnTo>
                    <a:lnTo>
                      <a:pt x="250" y="49"/>
                    </a:lnTo>
                    <a:lnTo>
                      <a:pt x="250" y="47"/>
                    </a:lnTo>
                    <a:lnTo>
                      <a:pt x="253" y="49"/>
                    </a:lnTo>
                    <a:lnTo>
                      <a:pt x="258" y="51"/>
                    </a:lnTo>
                    <a:lnTo>
                      <a:pt x="262" y="52"/>
                    </a:lnTo>
                    <a:lnTo>
                      <a:pt x="267" y="52"/>
                    </a:lnTo>
                    <a:lnTo>
                      <a:pt x="266" y="53"/>
                    </a:lnTo>
                    <a:lnTo>
                      <a:pt x="265" y="56"/>
                    </a:lnTo>
                    <a:lnTo>
                      <a:pt x="265" y="57"/>
                    </a:lnTo>
                    <a:lnTo>
                      <a:pt x="265" y="57"/>
                    </a:lnTo>
                    <a:lnTo>
                      <a:pt x="296" y="61"/>
                    </a:lnTo>
                    <a:lnTo>
                      <a:pt x="296" y="58"/>
                    </a:lnTo>
                    <a:lnTo>
                      <a:pt x="297" y="53"/>
                    </a:lnTo>
                    <a:lnTo>
                      <a:pt x="299" y="49"/>
                    </a:lnTo>
                    <a:lnTo>
                      <a:pt x="30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2185560" y="3209760"/>
                <a:ext cx="261720" cy="55440"/>
              </a:xfrm>
              <a:custGeom>
                <a:avLst/>
                <a:gdLst/>
                <a:ahLst/>
                <a:rect l="l" t="t" r="r" b="b"/>
                <a:pathLst>
                  <a:path w="330" h="69">
                    <a:moveTo>
                      <a:pt x="0" y="0"/>
                    </a:moveTo>
                    <a:lnTo>
                      <a:pt x="7" y="4"/>
                    </a:lnTo>
                    <a:lnTo>
                      <a:pt x="13" y="7"/>
                    </a:lnTo>
                    <a:lnTo>
                      <a:pt x="20" y="11"/>
                    </a:lnTo>
                    <a:lnTo>
                      <a:pt x="27" y="13"/>
                    </a:lnTo>
                    <a:lnTo>
                      <a:pt x="33" y="16"/>
                    </a:lnTo>
                    <a:lnTo>
                      <a:pt x="40" y="20"/>
                    </a:lnTo>
                    <a:lnTo>
                      <a:pt x="46" y="23"/>
                    </a:lnTo>
                    <a:lnTo>
                      <a:pt x="53" y="27"/>
                    </a:lnTo>
                    <a:lnTo>
                      <a:pt x="325" y="69"/>
                    </a:lnTo>
                    <a:lnTo>
                      <a:pt x="325" y="65"/>
                    </a:lnTo>
                    <a:lnTo>
                      <a:pt x="326" y="60"/>
                    </a:lnTo>
                    <a:lnTo>
                      <a:pt x="328" y="56"/>
                    </a:lnTo>
                    <a:lnTo>
                      <a:pt x="33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2184120" y="3200400"/>
                <a:ext cx="286920" cy="56880"/>
              </a:xfrm>
              <a:custGeom>
                <a:avLst/>
                <a:gdLst/>
                <a:ahLst/>
                <a:rect l="l" t="t" r="r" b="b"/>
                <a:pathLst>
                  <a:path w="362" h="71">
                    <a:moveTo>
                      <a:pt x="0" y="0"/>
                    </a:moveTo>
                    <a:lnTo>
                      <a:pt x="7" y="2"/>
                    </a:lnTo>
                    <a:lnTo>
                      <a:pt x="14" y="5"/>
                    </a:lnTo>
                    <a:lnTo>
                      <a:pt x="21" y="9"/>
                    </a:lnTo>
                    <a:lnTo>
                      <a:pt x="29" y="11"/>
                    </a:lnTo>
                    <a:lnTo>
                      <a:pt x="36" y="15"/>
                    </a:lnTo>
                    <a:lnTo>
                      <a:pt x="43" y="18"/>
                    </a:lnTo>
                    <a:lnTo>
                      <a:pt x="50" y="23"/>
                    </a:lnTo>
                    <a:lnTo>
                      <a:pt x="57" y="26"/>
                    </a:lnTo>
                    <a:lnTo>
                      <a:pt x="357" y="71"/>
                    </a:lnTo>
                    <a:lnTo>
                      <a:pt x="358" y="67"/>
                    </a:lnTo>
                    <a:lnTo>
                      <a:pt x="360" y="62"/>
                    </a:lnTo>
                    <a:lnTo>
                      <a:pt x="361" y="57"/>
                    </a:lnTo>
                    <a:lnTo>
                      <a:pt x="362" y="54"/>
                    </a:lnTo>
                    <a:lnTo>
                      <a:pt x="101" y="14"/>
                    </a:lnTo>
                    <a:lnTo>
                      <a:pt x="101" y="14"/>
                    </a:lnTo>
                    <a:lnTo>
                      <a:pt x="100" y="14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2182680" y="3187800"/>
                <a:ext cx="320040" cy="61560"/>
              </a:xfrm>
              <a:custGeom>
                <a:avLst/>
                <a:gdLst/>
                <a:ahLst/>
                <a:rect l="l" t="t" r="r" b="b"/>
                <a:pathLst>
                  <a:path w="403" h="80">
                    <a:moveTo>
                      <a:pt x="0" y="0"/>
                    </a:moveTo>
                    <a:lnTo>
                      <a:pt x="9" y="4"/>
                    </a:lnTo>
                    <a:lnTo>
                      <a:pt x="17" y="9"/>
                    </a:lnTo>
                    <a:lnTo>
                      <a:pt x="26" y="12"/>
                    </a:lnTo>
                    <a:lnTo>
                      <a:pt x="34" y="15"/>
                    </a:lnTo>
                    <a:lnTo>
                      <a:pt x="44" y="19"/>
                    </a:lnTo>
                    <a:lnTo>
                      <a:pt x="52" y="22"/>
                    </a:lnTo>
                    <a:lnTo>
                      <a:pt x="61" y="26"/>
                    </a:lnTo>
                    <a:lnTo>
                      <a:pt x="69" y="29"/>
                    </a:lnTo>
                    <a:lnTo>
                      <a:pt x="399" y="80"/>
                    </a:lnTo>
                    <a:lnTo>
                      <a:pt x="400" y="75"/>
                    </a:lnTo>
                    <a:lnTo>
                      <a:pt x="401" y="71"/>
                    </a:lnTo>
                    <a:lnTo>
                      <a:pt x="402" y="66"/>
                    </a:lnTo>
                    <a:lnTo>
                      <a:pt x="403" y="63"/>
                    </a:lnTo>
                    <a:lnTo>
                      <a:pt x="140" y="22"/>
                    </a:lnTo>
                    <a:lnTo>
                      <a:pt x="143" y="23"/>
                    </a:lnTo>
                    <a:lnTo>
                      <a:pt x="144" y="25"/>
                    </a:lnTo>
                    <a:lnTo>
                      <a:pt x="144" y="25"/>
                    </a:lnTo>
                    <a:lnTo>
                      <a:pt x="144" y="25"/>
                    </a:lnTo>
                    <a:lnTo>
                      <a:pt x="144" y="27"/>
                    </a:lnTo>
                    <a:lnTo>
                      <a:pt x="143" y="29"/>
                    </a:lnTo>
                    <a:lnTo>
                      <a:pt x="140" y="30"/>
                    </a:lnTo>
                    <a:lnTo>
                      <a:pt x="140" y="32"/>
                    </a:lnTo>
                    <a:lnTo>
                      <a:pt x="136" y="29"/>
                    </a:lnTo>
                    <a:lnTo>
                      <a:pt x="131" y="27"/>
                    </a:lnTo>
                    <a:lnTo>
                      <a:pt x="127" y="23"/>
                    </a:lnTo>
                    <a:lnTo>
                      <a:pt x="12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>
                <a:off x="2392560" y="32083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>
                <a:off x="2180880" y="3197160"/>
                <a:ext cx="215640" cy="45720"/>
              </a:xfrm>
              <a:custGeom>
                <a:avLst/>
                <a:gdLst/>
                <a:ahLst/>
                <a:rect l="l" t="t" r="r" b="b"/>
                <a:pathLst>
                  <a:path w="272" h="59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6" y="19"/>
                    </a:lnTo>
                    <a:lnTo>
                      <a:pt x="267" y="59"/>
                    </a:lnTo>
                    <a:lnTo>
                      <a:pt x="268" y="54"/>
                    </a:lnTo>
                    <a:lnTo>
                      <a:pt x="270" y="50"/>
                    </a:lnTo>
                    <a:lnTo>
                      <a:pt x="272" y="45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3" y="40"/>
                    </a:lnTo>
                    <a:lnTo>
                      <a:pt x="262" y="40"/>
                    </a:lnTo>
                    <a:lnTo>
                      <a:pt x="261" y="40"/>
                    </a:lnTo>
                    <a:lnTo>
                      <a:pt x="26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2397240" y="3197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2396880" y="3179880"/>
                <a:ext cx="110880" cy="31320"/>
              </a:xfrm>
              <a:custGeom>
                <a:avLst/>
                <a:gdLst/>
                <a:ahLst/>
                <a:rect l="l" t="t" r="r" b="b"/>
                <a:pathLst>
                  <a:path w="141" h="41">
                    <a:moveTo>
                      <a:pt x="141" y="41"/>
                    </a:moveTo>
                    <a:lnTo>
                      <a:pt x="141" y="36"/>
                    </a:lnTo>
                    <a:lnTo>
                      <a:pt x="134" y="32"/>
                    </a:lnTo>
                    <a:lnTo>
                      <a:pt x="128" y="28"/>
                    </a:lnTo>
                    <a:lnTo>
                      <a:pt x="122" y="22"/>
                    </a:lnTo>
                    <a:lnTo>
                      <a:pt x="115" y="18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9"/>
                    </a:lnTo>
                    <a:lnTo>
                      <a:pt x="12" y="11"/>
                    </a:lnTo>
                    <a:lnTo>
                      <a:pt x="17" y="14"/>
                    </a:lnTo>
                    <a:lnTo>
                      <a:pt x="23" y="16"/>
                    </a:lnTo>
                    <a:lnTo>
                      <a:pt x="29" y="19"/>
                    </a:lnTo>
                    <a:lnTo>
                      <a:pt x="35" y="21"/>
                    </a:lnTo>
                    <a:lnTo>
                      <a:pt x="40" y="24"/>
                    </a:lnTo>
                    <a:lnTo>
                      <a:pt x="46" y="27"/>
                    </a:lnTo>
                    <a:lnTo>
                      <a:pt x="141" y="41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>
                <a:off x="2405160" y="3200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2179800" y="3187800"/>
                <a:ext cx="228240" cy="48600"/>
              </a:xfrm>
              <a:custGeom>
                <a:avLst/>
                <a:gdLst/>
                <a:ahLst/>
                <a:rect l="l" t="t" r="r" b="b"/>
                <a:pathLst>
                  <a:path w="288" h="63">
                    <a:moveTo>
                      <a:pt x="0" y="0"/>
                    </a:moveTo>
                    <a:lnTo>
                      <a:pt x="0" y="3"/>
                    </a:lnTo>
                    <a:lnTo>
                      <a:pt x="6" y="9"/>
                    </a:lnTo>
                    <a:lnTo>
                      <a:pt x="10" y="14"/>
                    </a:lnTo>
                    <a:lnTo>
                      <a:pt x="16" y="19"/>
                    </a:lnTo>
                    <a:lnTo>
                      <a:pt x="20" y="22"/>
                    </a:lnTo>
                    <a:lnTo>
                      <a:pt x="283" y="63"/>
                    </a:lnTo>
                    <a:lnTo>
                      <a:pt x="284" y="59"/>
                    </a:lnTo>
                    <a:lnTo>
                      <a:pt x="287" y="55"/>
                    </a:lnTo>
                    <a:lnTo>
                      <a:pt x="288" y="50"/>
                    </a:lnTo>
                    <a:lnTo>
                      <a:pt x="288" y="47"/>
                    </a:lnTo>
                    <a:lnTo>
                      <a:pt x="286" y="47"/>
                    </a:lnTo>
                    <a:lnTo>
                      <a:pt x="284" y="48"/>
                    </a:lnTo>
                    <a:lnTo>
                      <a:pt x="282" y="50"/>
                    </a:lnTo>
                    <a:lnTo>
                      <a:pt x="281" y="51"/>
                    </a:lnTo>
                    <a:lnTo>
                      <a:pt x="279" y="53"/>
                    </a:lnTo>
                    <a:lnTo>
                      <a:pt x="275" y="53"/>
                    </a:lnTo>
                    <a:lnTo>
                      <a:pt x="273" y="52"/>
                    </a:lnTo>
                    <a:lnTo>
                      <a:pt x="269" y="50"/>
                    </a:lnTo>
                    <a:lnTo>
                      <a:pt x="266" y="49"/>
                    </a:lnTo>
                    <a:lnTo>
                      <a:pt x="268" y="47"/>
                    </a:lnTo>
                    <a:lnTo>
                      <a:pt x="269" y="45"/>
                    </a:lnTo>
                    <a:lnTo>
                      <a:pt x="269" y="43"/>
                    </a:lnTo>
                    <a:lnTo>
                      <a:pt x="269" y="41"/>
                    </a:lnTo>
                    <a:lnTo>
                      <a:pt x="261" y="41"/>
                    </a:lnTo>
                    <a:lnTo>
                      <a:pt x="261" y="43"/>
                    </a:lnTo>
                    <a:lnTo>
                      <a:pt x="261" y="45"/>
                    </a:lnTo>
                    <a:lnTo>
                      <a:pt x="260" y="47"/>
                    </a:lnTo>
                    <a:lnTo>
                      <a:pt x="259" y="49"/>
                    </a:lnTo>
                    <a:lnTo>
                      <a:pt x="258" y="49"/>
                    </a:lnTo>
                    <a:lnTo>
                      <a:pt x="256" y="48"/>
                    </a:lnTo>
                    <a:lnTo>
                      <a:pt x="254" y="47"/>
                    </a:lnTo>
                    <a:lnTo>
                      <a:pt x="252" y="47"/>
                    </a:lnTo>
                    <a:lnTo>
                      <a:pt x="252" y="44"/>
                    </a:lnTo>
                    <a:lnTo>
                      <a:pt x="251" y="42"/>
                    </a:lnTo>
                    <a:lnTo>
                      <a:pt x="250" y="41"/>
                    </a:lnTo>
                    <a:lnTo>
                      <a:pt x="25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2408400" y="31878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2407680" y="3174840"/>
                <a:ext cx="99720" cy="284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7" y="36"/>
                    </a:moveTo>
                    <a:lnTo>
                      <a:pt x="127" y="34"/>
                    </a:lnTo>
                    <a:lnTo>
                      <a:pt x="120" y="28"/>
                    </a:lnTo>
                    <a:lnTo>
                      <a:pt x="113" y="23"/>
                    </a:lnTo>
                    <a:lnTo>
                      <a:pt x="106" y="18"/>
                    </a:lnTo>
                    <a:lnTo>
                      <a:pt x="100" y="14"/>
                    </a:lnTo>
                    <a:lnTo>
                      <a:pt x="10" y="0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127" y="36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2416320" y="3193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2190960" y="3179880"/>
                <a:ext cx="228240" cy="48600"/>
              </a:xfrm>
              <a:custGeom>
                <a:avLst/>
                <a:gdLst/>
                <a:ahLst/>
                <a:rect l="l" t="t" r="r" b="b"/>
                <a:pathLst>
                  <a:path w="289" h="62">
                    <a:moveTo>
                      <a:pt x="0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1" y="11"/>
                    </a:lnTo>
                    <a:lnTo>
                      <a:pt x="17" y="16"/>
                    </a:lnTo>
                    <a:lnTo>
                      <a:pt x="24" y="22"/>
                    </a:lnTo>
                    <a:lnTo>
                      <a:pt x="289" y="62"/>
                    </a:lnTo>
                    <a:lnTo>
                      <a:pt x="287" y="61"/>
                    </a:lnTo>
                    <a:lnTo>
                      <a:pt x="286" y="60"/>
                    </a:lnTo>
                    <a:lnTo>
                      <a:pt x="283" y="59"/>
                    </a:lnTo>
                    <a:lnTo>
                      <a:pt x="281" y="58"/>
                    </a:lnTo>
                    <a:lnTo>
                      <a:pt x="283" y="54"/>
                    </a:lnTo>
                    <a:lnTo>
                      <a:pt x="286" y="50"/>
                    </a:lnTo>
                    <a:lnTo>
                      <a:pt x="287" y="46"/>
                    </a:lnTo>
                    <a:lnTo>
                      <a:pt x="287" y="43"/>
                    </a:lnTo>
                    <a:lnTo>
                      <a:pt x="276" y="41"/>
                    </a:lnTo>
                    <a:lnTo>
                      <a:pt x="276" y="44"/>
                    </a:lnTo>
                    <a:lnTo>
                      <a:pt x="276" y="49"/>
                    </a:lnTo>
                    <a:lnTo>
                      <a:pt x="275" y="54"/>
                    </a:lnTo>
                    <a:lnTo>
                      <a:pt x="274" y="58"/>
                    </a:lnTo>
                    <a:lnTo>
                      <a:pt x="273" y="58"/>
                    </a:lnTo>
                    <a:lnTo>
                      <a:pt x="271" y="57"/>
                    </a:lnTo>
                    <a:lnTo>
                      <a:pt x="269" y="56"/>
                    </a:lnTo>
                    <a:lnTo>
                      <a:pt x="267" y="56"/>
                    </a:lnTo>
                    <a:lnTo>
                      <a:pt x="266" y="51"/>
                    </a:lnTo>
                    <a:lnTo>
                      <a:pt x="265" y="47"/>
                    </a:lnTo>
                    <a:lnTo>
                      <a:pt x="264" y="43"/>
                    </a:lnTo>
                    <a:lnTo>
                      <a:pt x="26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2176200" y="321948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2"/>
                    </a:moveTo>
                    <a:lnTo>
                      <a:pt x="3" y="9"/>
                    </a:lnTo>
                    <a:lnTo>
                      <a:pt x="5" y="7"/>
                    </a:lnTo>
                    <a:lnTo>
                      <a:pt x="8" y="3"/>
                    </a:lnTo>
                    <a:lnTo>
                      <a:pt x="11" y="0"/>
                    </a:lnTo>
                    <a:lnTo>
                      <a:pt x="10" y="3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2419200" y="31780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2419200" y="3168720"/>
                <a:ext cx="86760" cy="24840"/>
              </a:xfrm>
              <a:custGeom>
                <a:avLst/>
                <a:gdLst/>
                <a:ahLst/>
                <a:rect l="l" t="t" r="r" b="b"/>
                <a:pathLst>
                  <a:path w="110" h="32">
                    <a:moveTo>
                      <a:pt x="110" y="32"/>
                    </a:moveTo>
                    <a:lnTo>
                      <a:pt x="110" y="32"/>
                    </a:lnTo>
                    <a:lnTo>
                      <a:pt x="103" y="26"/>
                    </a:lnTo>
                    <a:lnTo>
                      <a:pt x="96" y="20"/>
                    </a:lnTo>
                    <a:lnTo>
                      <a:pt x="89" y="15"/>
                    </a:lnTo>
                    <a:lnTo>
                      <a:pt x="82" y="10"/>
                    </a:lnTo>
                    <a:lnTo>
                      <a:pt x="20" y="0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0" y="14"/>
                    </a:lnTo>
                    <a:lnTo>
                      <a:pt x="110" y="32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2428920" y="3182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2210040" y="3170160"/>
                <a:ext cx="220320" cy="47160"/>
              </a:xfrm>
              <a:custGeom>
                <a:avLst/>
                <a:gdLst/>
                <a:ahLst/>
                <a:rect l="l" t="t" r="r" b="b"/>
                <a:pathLst>
                  <a:path w="279" h="58">
                    <a:moveTo>
                      <a:pt x="0" y="0"/>
                    </a:moveTo>
                    <a:lnTo>
                      <a:pt x="0" y="0"/>
                    </a:lnTo>
                    <a:lnTo>
                      <a:pt x="6" y="4"/>
                    </a:lnTo>
                    <a:lnTo>
                      <a:pt x="13" y="10"/>
                    </a:lnTo>
                    <a:lnTo>
                      <a:pt x="18" y="15"/>
                    </a:lnTo>
                    <a:lnTo>
                      <a:pt x="24" y="20"/>
                    </a:lnTo>
                    <a:lnTo>
                      <a:pt x="279" y="58"/>
                    </a:lnTo>
                    <a:lnTo>
                      <a:pt x="278" y="55"/>
                    </a:lnTo>
                    <a:lnTo>
                      <a:pt x="276" y="50"/>
                    </a:lnTo>
                    <a:lnTo>
                      <a:pt x="276" y="45"/>
                    </a:lnTo>
                    <a:lnTo>
                      <a:pt x="27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2190600" y="32050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2" y="12"/>
                    </a:lnTo>
                    <a:lnTo>
                      <a:pt x="13" y="7"/>
                    </a:lnTo>
                    <a:lnTo>
                      <a:pt x="1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2176560" y="3219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2430360" y="3170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2430360" y="3162240"/>
                <a:ext cx="69480" cy="2016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88" y="27"/>
                    </a:moveTo>
                    <a:lnTo>
                      <a:pt x="88" y="27"/>
                    </a:lnTo>
                    <a:lnTo>
                      <a:pt x="81" y="21"/>
                    </a:lnTo>
                    <a:lnTo>
                      <a:pt x="74" y="16"/>
                    </a:lnTo>
                    <a:lnTo>
                      <a:pt x="67" y="11"/>
                    </a:lnTo>
                    <a:lnTo>
                      <a:pt x="59" y="6"/>
                    </a:lnTo>
                    <a:lnTo>
                      <a:pt x="26" y="0"/>
                    </a:lnTo>
                    <a:lnTo>
                      <a:pt x="19" y="5"/>
                    </a:lnTo>
                    <a:lnTo>
                      <a:pt x="12" y="8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88" y="27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2439720" y="3176640"/>
                <a:ext cx="1080" cy="1080"/>
              </a:xfrm>
              <a:prstGeom prst="rect">
                <a:avLst/>
              </a:pr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>
                <a:off x="2210040" y="3160800"/>
                <a:ext cx="231120" cy="48600"/>
              </a:xfrm>
              <a:custGeom>
                <a:avLst/>
                <a:gdLst/>
                <a:ahLst/>
                <a:rect l="l" t="t" r="r" b="b"/>
                <a:pathLst>
                  <a:path w="293" h="62">
                    <a:moveTo>
                      <a:pt x="0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9" y="16"/>
                    </a:lnTo>
                    <a:lnTo>
                      <a:pt x="25" y="22"/>
                    </a:lnTo>
                    <a:lnTo>
                      <a:pt x="290" y="62"/>
                    </a:lnTo>
                    <a:lnTo>
                      <a:pt x="290" y="59"/>
                    </a:lnTo>
                    <a:lnTo>
                      <a:pt x="290" y="54"/>
                    </a:lnTo>
                    <a:lnTo>
                      <a:pt x="292" y="50"/>
                    </a:lnTo>
                    <a:lnTo>
                      <a:pt x="293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2187720" y="3198960"/>
                <a:ext cx="12240" cy="136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11" y="19"/>
                    </a:lnTo>
                    <a:lnTo>
                      <a:pt x="12" y="14"/>
                    </a:lnTo>
                    <a:lnTo>
                      <a:pt x="14" y="10"/>
                    </a:lnTo>
                    <a:lnTo>
                      <a:pt x="15" y="5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2439720" y="3160800"/>
                <a:ext cx="1080" cy="1080"/>
              </a:xfrm>
              <a:prstGeom prst="rect">
                <a:avLst/>
              </a:pr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2441520" y="3157560"/>
                <a:ext cx="48960" cy="18720"/>
              </a:xfrm>
              <a:custGeom>
                <a:avLst/>
                <a:gdLst/>
                <a:ahLst/>
                <a:rect l="l" t="t" r="r" b="b"/>
                <a:pathLst>
                  <a:path w="62" h="25">
                    <a:moveTo>
                      <a:pt x="62" y="25"/>
                    </a:moveTo>
                    <a:lnTo>
                      <a:pt x="62" y="25"/>
                    </a:lnTo>
                    <a:lnTo>
                      <a:pt x="54" y="18"/>
                    </a:lnTo>
                    <a:lnTo>
                      <a:pt x="47" y="12"/>
                    </a:lnTo>
                    <a:lnTo>
                      <a:pt x="39" y="6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8" y="5"/>
                    </a:lnTo>
                    <a:lnTo>
                      <a:pt x="13" y="8"/>
                    </a:lnTo>
                    <a:lnTo>
                      <a:pt x="7" y="12"/>
                    </a:lnTo>
                    <a:lnTo>
                      <a:pt x="0" y="15"/>
                    </a:lnTo>
                    <a:lnTo>
                      <a:pt x="62" y="25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2452680" y="3156120"/>
                <a:ext cx="26640" cy="104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9"/>
                    </a:moveTo>
                    <a:lnTo>
                      <a:pt x="3" y="7"/>
                    </a:lnTo>
                    <a:lnTo>
                      <a:pt x="7" y="5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8" y="4"/>
                    </a:lnTo>
                    <a:lnTo>
                      <a:pt x="23" y="7"/>
                    </a:lnTo>
                    <a:lnTo>
                      <a:pt x="29" y="10"/>
                    </a:lnTo>
                    <a:lnTo>
                      <a:pt x="33" y="1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2210040" y="3152880"/>
                <a:ext cx="237600" cy="50400"/>
              </a:xfrm>
              <a:custGeom>
                <a:avLst/>
                <a:gdLst/>
                <a:ahLst/>
                <a:rect l="l" t="t" r="r" b="b"/>
                <a:pathLst>
                  <a:path w="301" h="62">
                    <a:moveTo>
                      <a:pt x="20" y="22"/>
                    </a:moveTo>
                    <a:lnTo>
                      <a:pt x="15" y="17"/>
                    </a:lnTo>
                    <a:lnTo>
                      <a:pt x="9" y="12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1" y="7"/>
                    </a:lnTo>
                    <a:lnTo>
                      <a:pt x="53" y="9"/>
                    </a:lnTo>
                    <a:lnTo>
                      <a:pt x="54" y="10"/>
                    </a:lnTo>
                    <a:lnTo>
                      <a:pt x="57" y="12"/>
                    </a:lnTo>
                    <a:lnTo>
                      <a:pt x="60" y="15"/>
                    </a:lnTo>
                    <a:lnTo>
                      <a:pt x="60" y="12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292" y="42"/>
                    </a:lnTo>
                    <a:lnTo>
                      <a:pt x="294" y="44"/>
                    </a:lnTo>
                    <a:lnTo>
                      <a:pt x="296" y="45"/>
                    </a:lnTo>
                    <a:lnTo>
                      <a:pt x="298" y="46"/>
                    </a:lnTo>
                    <a:lnTo>
                      <a:pt x="301" y="47"/>
                    </a:lnTo>
                    <a:lnTo>
                      <a:pt x="301" y="52"/>
                    </a:lnTo>
                    <a:lnTo>
                      <a:pt x="300" y="55"/>
                    </a:lnTo>
                    <a:lnTo>
                      <a:pt x="298" y="59"/>
                    </a:lnTo>
                    <a:lnTo>
                      <a:pt x="298" y="62"/>
                    </a:lnTo>
                    <a:lnTo>
                      <a:pt x="20" y="22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2185560" y="319104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3" y="20"/>
                    </a:lnTo>
                    <a:lnTo>
                      <a:pt x="14" y="16"/>
                    </a:lnTo>
                    <a:lnTo>
                      <a:pt x="16" y="12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>
                <a:off x="2465640" y="31561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2210040" y="3147840"/>
                <a:ext cx="237600" cy="48960"/>
              </a:xfrm>
              <a:custGeom>
                <a:avLst/>
                <a:gdLst/>
                <a:ahLst/>
                <a:rect l="l" t="t" r="r" b="b"/>
                <a:pathLst>
                  <a:path w="301" h="62">
                    <a:moveTo>
                      <a:pt x="8" y="16"/>
                    </a:moveTo>
                    <a:lnTo>
                      <a:pt x="6" y="15"/>
                    </a:lnTo>
                    <a:lnTo>
                      <a:pt x="5" y="14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36" y="2"/>
                    </a:lnTo>
                    <a:lnTo>
                      <a:pt x="42" y="7"/>
                    </a:lnTo>
                    <a:lnTo>
                      <a:pt x="47" y="13"/>
                    </a:lnTo>
                    <a:lnTo>
                      <a:pt x="53" y="17"/>
                    </a:lnTo>
                    <a:lnTo>
                      <a:pt x="60" y="22"/>
                    </a:lnTo>
                    <a:lnTo>
                      <a:pt x="60" y="16"/>
                    </a:lnTo>
                    <a:lnTo>
                      <a:pt x="60" y="13"/>
                    </a:lnTo>
                    <a:lnTo>
                      <a:pt x="59" y="9"/>
                    </a:lnTo>
                    <a:lnTo>
                      <a:pt x="58" y="7"/>
                    </a:lnTo>
                    <a:lnTo>
                      <a:pt x="277" y="40"/>
                    </a:lnTo>
                    <a:lnTo>
                      <a:pt x="281" y="44"/>
                    </a:lnTo>
                    <a:lnTo>
                      <a:pt x="286" y="47"/>
                    </a:lnTo>
                    <a:lnTo>
                      <a:pt x="293" y="51"/>
                    </a:lnTo>
                    <a:lnTo>
                      <a:pt x="301" y="54"/>
                    </a:lnTo>
                    <a:lnTo>
                      <a:pt x="301" y="56"/>
                    </a:lnTo>
                    <a:lnTo>
                      <a:pt x="301" y="59"/>
                    </a:lnTo>
                    <a:lnTo>
                      <a:pt x="301" y="60"/>
                    </a:lnTo>
                    <a:lnTo>
                      <a:pt x="301" y="62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2184120" y="31827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3" y="0"/>
                    </a:moveTo>
                    <a:lnTo>
                      <a:pt x="1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5" y="19"/>
                    </a:lnTo>
                    <a:lnTo>
                      <a:pt x="16" y="16"/>
                    </a:lnTo>
                    <a:lnTo>
                      <a:pt x="18" y="11"/>
                    </a:lnTo>
                    <a:lnTo>
                      <a:pt x="19" y="7"/>
                    </a:lnTo>
                    <a:lnTo>
                      <a:pt x="2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2408400" y="314172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0" y="1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25" y="5"/>
                    </a:lnTo>
                    <a:lnTo>
                      <a:pt x="33" y="10"/>
                    </a:lnTo>
                    <a:lnTo>
                      <a:pt x="40" y="15"/>
                    </a:lnTo>
                    <a:lnTo>
                      <a:pt x="47" y="2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2216160" y="3146400"/>
                <a:ext cx="188640" cy="41040"/>
              </a:xfrm>
              <a:custGeom>
                <a:avLst/>
                <a:gdLst/>
                <a:ahLst/>
                <a:rect l="l" t="t" r="r" b="b"/>
                <a:pathLst>
                  <a:path w="239" h="51">
                    <a:moveTo>
                      <a:pt x="0" y="0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7" y="12"/>
                    </a:lnTo>
                    <a:lnTo>
                      <a:pt x="7" y="18"/>
                    </a:lnTo>
                    <a:lnTo>
                      <a:pt x="239" y="51"/>
                    </a:lnTo>
                    <a:lnTo>
                      <a:pt x="230" y="48"/>
                    </a:lnTo>
                    <a:lnTo>
                      <a:pt x="226" y="43"/>
                    </a:lnTo>
                    <a:lnTo>
                      <a:pt x="224" y="39"/>
                    </a:lnTo>
                    <a:lnTo>
                      <a:pt x="221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>
                <a:off x="2184120" y="31766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3" y="0"/>
                    </a:moveTo>
                    <a:lnTo>
                      <a:pt x="3" y="4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8" y="22"/>
                    </a:lnTo>
                    <a:lnTo>
                      <a:pt x="19" y="16"/>
                    </a:lnTo>
                    <a:lnTo>
                      <a:pt x="20" y="11"/>
                    </a:lnTo>
                    <a:lnTo>
                      <a:pt x="20" y="7"/>
                    </a:lnTo>
                    <a:lnTo>
                      <a:pt x="2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2419560" y="3141720"/>
                <a:ext cx="18720" cy="75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7"/>
                    </a:moveTo>
                    <a:lnTo>
                      <a:pt x="2" y="5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16" y="5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2228400" y="3135240"/>
                <a:ext cx="182520" cy="44280"/>
              </a:xfrm>
              <a:custGeom>
                <a:avLst/>
                <a:gdLst/>
                <a:ahLst/>
                <a:rect l="l" t="t" r="r" b="b"/>
                <a:pathLst>
                  <a:path w="231" h="55">
                    <a:moveTo>
                      <a:pt x="0" y="0"/>
                    </a:moveTo>
                    <a:lnTo>
                      <a:pt x="5" y="7"/>
                    </a:lnTo>
                    <a:lnTo>
                      <a:pt x="8" y="13"/>
                    </a:lnTo>
                    <a:lnTo>
                      <a:pt x="11" y="17"/>
                    </a:lnTo>
                    <a:lnTo>
                      <a:pt x="12" y="22"/>
                    </a:lnTo>
                    <a:lnTo>
                      <a:pt x="231" y="55"/>
                    </a:lnTo>
                    <a:lnTo>
                      <a:pt x="229" y="52"/>
                    </a:lnTo>
                    <a:lnTo>
                      <a:pt x="228" y="47"/>
                    </a:lnTo>
                    <a:lnTo>
                      <a:pt x="228" y="41"/>
                    </a:lnTo>
                    <a:lnTo>
                      <a:pt x="228" y="37"/>
                    </a:lnTo>
                    <a:lnTo>
                      <a:pt x="212" y="33"/>
                    </a:lnTo>
                    <a:lnTo>
                      <a:pt x="212" y="33"/>
                    </a:lnTo>
                    <a:lnTo>
                      <a:pt x="21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2184120" y="316872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7" y="21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7" y="8"/>
                    </a:lnTo>
                    <a:lnTo>
                      <a:pt x="1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2228400" y="3132360"/>
                <a:ext cx="183960" cy="41040"/>
              </a:xfrm>
              <a:custGeom>
                <a:avLst/>
                <a:gdLst/>
                <a:ahLst/>
                <a:rect l="l" t="t" r="r" b="b"/>
                <a:pathLst>
                  <a:path w="233" h="51">
                    <a:moveTo>
                      <a:pt x="9" y="18"/>
                    </a:moveTo>
                    <a:lnTo>
                      <a:pt x="7" y="14"/>
                    </a:lnTo>
                    <a:lnTo>
                      <a:pt x="6" y="11"/>
                    </a:lnTo>
                    <a:lnTo>
                      <a:pt x="3" y="7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207" y="27"/>
                    </a:lnTo>
                    <a:lnTo>
                      <a:pt x="207" y="30"/>
                    </a:lnTo>
                    <a:lnTo>
                      <a:pt x="210" y="34"/>
                    </a:lnTo>
                    <a:lnTo>
                      <a:pt x="211" y="36"/>
                    </a:lnTo>
                    <a:lnTo>
                      <a:pt x="214" y="38"/>
                    </a:lnTo>
                    <a:lnTo>
                      <a:pt x="214" y="38"/>
                    </a:lnTo>
                    <a:lnTo>
                      <a:pt x="215" y="38"/>
                    </a:lnTo>
                    <a:lnTo>
                      <a:pt x="218" y="37"/>
                    </a:lnTo>
                    <a:lnTo>
                      <a:pt x="219" y="36"/>
                    </a:lnTo>
                    <a:lnTo>
                      <a:pt x="219" y="34"/>
                    </a:lnTo>
                    <a:lnTo>
                      <a:pt x="219" y="33"/>
                    </a:lnTo>
                    <a:lnTo>
                      <a:pt x="219" y="30"/>
                    </a:lnTo>
                    <a:lnTo>
                      <a:pt x="219" y="29"/>
                    </a:lnTo>
                    <a:lnTo>
                      <a:pt x="233" y="31"/>
                    </a:lnTo>
                    <a:lnTo>
                      <a:pt x="231" y="37"/>
                    </a:lnTo>
                    <a:lnTo>
                      <a:pt x="230" y="42"/>
                    </a:lnTo>
                    <a:lnTo>
                      <a:pt x="230" y="46"/>
                    </a:lnTo>
                    <a:lnTo>
                      <a:pt x="230" y="51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2184120" y="316224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2244960" y="3132360"/>
                <a:ext cx="167760" cy="29880"/>
              </a:xfrm>
              <a:custGeom>
                <a:avLst/>
                <a:gdLst/>
                <a:ahLst/>
                <a:rect l="l" t="t" r="r" b="b"/>
                <a:pathLst>
                  <a:path w="212" h="38">
                    <a:moveTo>
                      <a:pt x="2" y="5"/>
                    </a:move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1" y="1"/>
                    </a:lnTo>
                    <a:lnTo>
                      <a:pt x="23" y="1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7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205" y="20"/>
                    </a:lnTo>
                    <a:lnTo>
                      <a:pt x="205" y="25"/>
                    </a:lnTo>
                    <a:lnTo>
                      <a:pt x="207" y="29"/>
                    </a:lnTo>
                    <a:lnTo>
                      <a:pt x="208" y="34"/>
                    </a:lnTo>
                    <a:lnTo>
                      <a:pt x="212" y="38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2228400" y="31478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18"/>
                    </a:moveTo>
                    <a:lnTo>
                      <a:pt x="1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4" y="9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9" y="2"/>
                    </a:lnTo>
                    <a:lnTo>
                      <a:pt x="19" y="7"/>
                    </a:lnTo>
                    <a:lnTo>
                      <a:pt x="19" y="13"/>
                    </a:lnTo>
                    <a:lnTo>
                      <a:pt x="17" y="17"/>
                    </a:lnTo>
                    <a:lnTo>
                      <a:pt x="16" y="2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2184120" y="315612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2" y="0"/>
                    </a:moveTo>
                    <a:lnTo>
                      <a:pt x="2" y="4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7" y="22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6" y="6"/>
                    </a:lnTo>
                    <a:lnTo>
                      <a:pt x="15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2247840" y="3132360"/>
                <a:ext cx="141120" cy="20520"/>
              </a:xfrm>
              <a:custGeom>
                <a:avLst/>
                <a:gdLst/>
                <a:ahLst/>
                <a:rect l="l" t="t" r="r" b="b"/>
                <a:pathLst>
                  <a:path w="176" h="27">
                    <a:moveTo>
                      <a:pt x="137" y="3"/>
                    </a:moveTo>
                    <a:lnTo>
                      <a:pt x="120" y="3"/>
                    </a:lnTo>
                    <a:lnTo>
                      <a:pt x="102" y="3"/>
                    </a:lnTo>
                    <a:lnTo>
                      <a:pt x="85" y="1"/>
                    </a:lnTo>
                    <a:lnTo>
                      <a:pt x="68" y="1"/>
                    </a:lnTo>
                    <a:lnTo>
                      <a:pt x="51" y="1"/>
                    </a:lnTo>
                    <a:lnTo>
                      <a:pt x="33" y="0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176" y="27"/>
                    </a:lnTo>
                    <a:lnTo>
                      <a:pt x="175" y="23"/>
                    </a:lnTo>
                    <a:lnTo>
                      <a:pt x="174" y="19"/>
                    </a:lnTo>
                    <a:lnTo>
                      <a:pt x="174" y="14"/>
                    </a:lnTo>
                    <a:lnTo>
                      <a:pt x="174" y="11"/>
                    </a:lnTo>
                    <a:lnTo>
                      <a:pt x="137" y="3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2226960" y="314172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3" y="16"/>
                    </a:lnTo>
                    <a:lnTo>
                      <a:pt x="17" y="18"/>
                    </a:lnTo>
                    <a:lnTo>
                      <a:pt x="17" y="15"/>
                    </a:lnTo>
                    <a:lnTo>
                      <a:pt x="18" y="10"/>
                    </a:lnTo>
                    <a:lnTo>
                      <a:pt x="19" y="6"/>
                    </a:lnTo>
                    <a:lnTo>
                      <a:pt x="1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2184120" y="31478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2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17" y="22"/>
                    </a:lnTo>
                    <a:lnTo>
                      <a:pt x="17" y="16"/>
                    </a:lnTo>
                    <a:lnTo>
                      <a:pt x="16" y="10"/>
                    </a:lnTo>
                    <a:lnTo>
                      <a:pt x="13" y="6"/>
                    </a:lnTo>
                    <a:lnTo>
                      <a:pt x="1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2250720" y="3132360"/>
                <a:ext cx="90360" cy="15480"/>
              </a:xfrm>
              <a:custGeom>
                <a:avLst/>
                <a:gdLst/>
                <a:ahLst/>
                <a:rect l="l" t="t" r="r" b="b"/>
                <a:pathLst>
                  <a:path w="115" h="20">
                    <a:moveTo>
                      <a:pt x="0" y="0"/>
                    </a:moveTo>
                    <a:lnTo>
                      <a:pt x="14" y="1"/>
                    </a:lnTo>
                    <a:lnTo>
                      <a:pt x="29" y="1"/>
                    </a:lnTo>
                    <a:lnTo>
                      <a:pt x="42" y="3"/>
                    </a:lnTo>
                    <a:lnTo>
                      <a:pt x="57" y="3"/>
                    </a:lnTo>
                    <a:lnTo>
                      <a:pt x="71" y="4"/>
                    </a:lnTo>
                    <a:lnTo>
                      <a:pt x="86" y="4"/>
                    </a:lnTo>
                    <a:lnTo>
                      <a:pt x="100" y="4"/>
                    </a:lnTo>
                    <a:lnTo>
                      <a:pt x="115" y="3"/>
                    </a:lnTo>
                    <a:lnTo>
                      <a:pt x="115" y="7"/>
                    </a:lnTo>
                    <a:lnTo>
                      <a:pt x="115" y="12"/>
                    </a:lnTo>
                    <a:lnTo>
                      <a:pt x="115" y="16"/>
                    </a:lnTo>
                    <a:lnTo>
                      <a:pt x="115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2226960" y="31352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0" y="11"/>
                    </a:lnTo>
                    <a:lnTo>
                      <a:pt x="0" y="8"/>
                    </a:lnTo>
                    <a:lnTo>
                      <a:pt x="2" y="5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9" y="10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2185920" y="31399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3" y="0"/>
                    </a:moveTo>
                    <a:lnTo>
                      <a:pt x="1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0"/>
                    </a:lnTo>
                    <a:lnTo>
                      <a:pt x="13" y="16"/>
                    </a:lnTo>
                    <a:lnTo>
                      <a:pt x="11" y="10"/>
                    </a:lnTo>
                    <a:lnTo>
                      <a:pt x="9" y="5"/>
                    </a:lnTo>
                    <a:lnTo>
                      <a:pt x="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2250720" y="3133800"/>
                <a:ext cx="28440" cy="57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0" y="0"/>
                    </a:moveTo>
                    <a:lnTo>
                      <a:pt x="5" y="1"/>
                    </a:lnTo>
                    <a:lnTo>
                      <a:pt x="9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3" y="1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7" y="5"/>
                    </a:lnTo>
                    <a:lnTo>
                      <a:pt x="3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2224080" y="31338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10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0" y="3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2187360" y="31352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15"/>
                    </a:moveTo>
                    <a:lnTo>
                      <a:pt x="0" y="11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6" y="5"/>
                    </a:lnTo>
                    <a:lnTo>
                      <a:pt x="7" y="9"/>
                    </a:lnTo>
                    <a:lnTo>
                      <a:pt x="9" y="14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2223720" y="313380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2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2190600" y="313524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2122200" y="33019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1" y="10"/>
                    </a:moveTo>
                    <a:lnTo>
                      <a:pt x="8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2150640" y="329868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2"/>
                    </a:moveTo>
                    <a:lnTo>
                      <a:pt x="19" y="5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4" y="10"/>
                    </a:lnTo>
                    <a:lnTo>
                      <a:pt x="10" y="10"/>
                    </a:lnTo>
                    <a:lnTo>
                      <a:pt x="7" y="9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2115720" y="329724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7" y="0"/>
                    </a:moveTo>
                    <a:lnTo>
                      <a:pt x="6" y="3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11" y="17"/>
                    </a:lnTo>
                    <a:lnTo>
                      <a:pt x="15" y="14"/>
                    </a:lnTo>
                    <a:lnTo>
                      <a:pt x="18" y="9"/>
                    </a:lnTo>
                    <a:lnTo>
                      <a:pt x="22" y="5"/>
                    </a:lnTo>
                    <a:lnTo>
                      <a:pt x="25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2144880" y="329400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14" y="17"/>
                    </a:moveTo>
                    <a:lnTo>
                      <a:pt x="17" y="13"/>
                    </a:lnTo>
                    <a:lnTo>
                      <a:pt x="20" y="9"/>
                    </a:lnTo>
                    <a:lnTo>
                      <a:pt x="22" y="6"/>
                    </a:lnTo>
                    <a:lnTo>
                      <a:pt x="25" y="2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2108160" y="329076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5" y="0"/>
                    </a:moveTo>
                    <a:lnTo>
                      <a:pt x="5" y="3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14" y="17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26" y="6"/>
                    </a:lnTo>
                    <a:lnTo>
                      <a:pt x="3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2141640" y="328788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14" y="16"/>
                    </a:moveTo>
                    <a:lnTo>
                      <a:pt x="17" y="13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5" y="3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14" y="16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2103480" y="3284640"/>
                <a:ext cx="28080" cy="1368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7" y="0"/>
                    </a:moveTo>
                    <a:lnTo>
                      <a:pt x="5" y="3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18" y="18"/>
                    </a:lnTo>
                    <a:lnTo>
                      <a:pt x="24" y="15"/>
                    </a:lnTo>
                    <a:lnTo>
                      <a:pt x="29" y="11"/>
                    </a:lnTo>
                    <a:lnTo>
                      <a:pt x="32" y="8"/>
                    </a:lnTo>
                    <a:lnTo>
                      <a:pt x="35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2136960" y="328284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16" y="16"/>
                    </a:moveTo>
                    <a:lnTo>
                      <a:pt x="19" y="13"/>
                    </a:lnTo>
                    <a:lnTo>
                      <a:pt x="20" y="10"/>
                    </a:lnTo>
                    <a:lnTo>
                      <a:pt x="23" y="6"/>
                    </a:lnTo>
                    <a:lnTo>
                      <a:pt x="27" y="3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16" y="16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2089080" y="3289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2097000" y="3278160"/>
                <a:ext cx="31680" cy="1548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7" y="0"/>
                    </a:moveTo>
                    <a:lnTo>
                      <a:pt x="6" y="3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27" y="18"/>
                    </a:lnTo>
                    <a:lnTo>
                      <a:pt x="30" y="15"/>
                    </a:lnTo>
                    <a:lnTo>
                      <a:pt x="33" y="11"/>
                    </a:lnTo>
                    <a:lnTo>
                      <a:pt x="37" y="8"/>
                    </a:lnTo>
                    <a:lnTo>
                      <a:pt x="4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2133720" y="3273480"/>
                <a:ext cx="20160" cy="154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16" y="20"/>
                    </a:moveTo>
                    <a:lnTo>
                      <a:pt x="18" y="16"/>
                    </a:lnTo>
                    <a:lnTo>
                      <a:pt x="21" y="13"/>
                    </a:lnTo>
                    <a:lnTo>
                      <a:pt x="23" y="8"/>
                    </a:lnTo>
                    <a:lnTo>
                      <a:pt x="26" y="3"/>
                    </a:lnTo>
                    <a:lnTo>
                      <a:pt x="9" y="0"/>
                    </a:lnTo>
                    <a:lnTo>
                      <a:pt x="7" y="5"/>
                    </a:lnTo>
                    <a:lnTo>
                      <a:pt x="5" y="8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2076120" y="328464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2"/>
                    </a:moveTo>
                    <a:lnTo>
                      <a:pt x="13" y="4"/>
                    </a:lnTo>
                    <a:lnTo>
                      <a:pt x="9" y="5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2067120" y="3271680"/>
                <a:ext cx="58320" cy="17280"/>
              </a:xfrm>
              <a:custGeom>
                <a:avLst/>
                <a:gdLst/>
                <a:ahLst/>
                <a:rect l="l" t="t" r="r" b="b"/>
                <a:pathLst>
                  <a:path w="73" h="22">
                    <a:moveTo>
                      <a:pt x="7" y="0"/>
                    </a:moveTo>
                    <a:lnTo>
                      <a:pt x="5" y="4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8" y="19"/>
                    </a:lnTo>
                    <a:lnTo>
                      <a:pt x="32" y="16"/>
                    </a:lnTo>
                    <a:lnTo>
                      <a:pt x="35" y="13"/>
                    </a:lnTo>
                    <a:lnTo>
                      <a:pt x="39" y="11"/>
                    </a:lnTo>
                    <a:lnTo>
                      <a:pt x="42" y="8"/>
                    </a:lnTo>
                    <a:lnTo>
                      <a:pt x="46" y="9"/>
                    </a:lnTo>
                    <a:lnTo>
                      <a:pt x="48" y="10"/>
                    </a:lnTo>
                    <a:lnTo>
                      <a:pt x="51" y="11"/>
                    </a:lnTo>
                    <a:lnTo>
                      <a:pt x="55" y="12"/>
                    </a:lnTo>
                    <a:lnTo>
                      <a:pt x="51" y="15"/>
                    </a:lnTo>
                    <a:lnTo>
                      <a:pt x="48" y="17"/>
                    </a:lnTo>
                    <a:lnTo>
                      <a:pt x="47" y="19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53" y="20"/>
                    </a:lnTo>
                    <a:lnTo>
                      <a:pt x="58" y="18"/>
                    </a:lnTo>
                    <a:lnTo>
                      <a:pt x="65" y="15"/>
                    </a:lnTo>
                    <a:lnTo>
                      <a:pt x="73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2129040" y="3268800"/>
                <a:ext cx="21600" cy="154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17" y="20"/>
                    </a:moveTo>
                    <a:lnTo>
                      <a:pt x="19" y="15"/>
                    </a:lnTo>
                    <a:lnTo>
                      <a:pt x="21" y="10"/>
                    </a:lnTo>
                    <a:lnTo>
                      <a:pt x="24" y="6"/>
                    </a:lnTo>
                    <a:lnTo>
                      <a:pt x="26" y="2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4" y="8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17" y="2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2060280" y="3267000"/>
                <a:ext cx="63000" cy="1872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9" y="0"/>
                    </a:moveTo>
                    <a:lnTo>
                      <a:pt x="6" y="3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33" y="19"/>
                    </a:lnTo>
                    <a:lnTo>
                      <a:pt x="36" y="18"/>
                    </a:lnTo>
                    <a:lnTo>
                      <a:pt x="37" y="17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4" y="16"/>
                    </a:lnTo>
                    <a:lnTo>
                      <a:pt x="46" y="17"/>
                    </a:lnTo>
                    <a:lnTo>
                      <a:pt x="49" y="18"/>
                    </a:lnTo>
                    <a:lnTo>
                      <a:pt x="53" y="19"/>
                    </a:lnTo>
                    <a:lnTo>
                      <a:pt x="52" y="19"/>
                    </a:lnTo>
                    <a:lnTo>
                      <a:pt x="51" y="20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60" y="24"/>
                    </a:lnTo>
                    <a:lnTo>
                      <a:pt x="66" y="22"/>
                    </a:lnTo>
                    <a:lnTo>
                      <a:pt x="70" y="19"/>
                    </a:lnTo>
                    <a:lnTo>
                      <a:pt x="76" y="16"/>
                    </a:lnTo>
                    <a:lnTo>
                      <a:pt x="8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2125800" y="326376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7" y="17"/>
                    </a:moveTo>
                    <a:lnTo>
                      <a:pt x="20" y="13"/>
                    </a:lnTo>
                    <a:lnTo>
                      <a:pt x="22" y="9"/>
                    </a:lnTo>
                    <a:lnTo>
                      <a:pt x="24" y="6"/>
                    </a:lnTo>
                    <a:lnTo>
                      <a:pt x="27" y="2"/>
                    </a:lnTo>
                    <a:lnTo>
                      <a:pt x="13" y="0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2052360" y="3260880"/>
                <a:ext cx="68040" cy="18360"/>
              </a:xfrm>
              <a:custGeom>
                <a:avLst/>
                <a:gdLst/>
                <a:ahLst/>
                <a:rect l="l" t="t" r="r" b="b"/>
                <a:pathLst>
                  <a:path w="86" h="24">
                    <a:moveTo>
                      <a:pt x="9" y="0"/>
                    </a:moveTo>
                    <a:lnTo>
                      <a:pt x="5" y="3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66" y="24"/>
                    </a:lnTo>
                    <a:lnTo>
                      <a:pt x="70" y="22"/>
                    </a:lnTo>
                    <a:lnTo>
                      <a:pt x="74" y="18"/>
                    </a:lnTo>
                    <a:lnTo>
                      <a:pt x="80" y="15"/>
                    </a:lnTo>
                    <a:lnTo>
                      <a:pt x="86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>
                <a:off x="2122560" y="325764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17" y="16"/>
                    </a:moveTo>
                    <a:lnTo>
                      <a:pt x="19" y="13"/>
                    </a:lnTo>
                    <a:lnTo>
                      <a:pt x="22" y="9"/>
                    </a:lnTo>
                    <a:lnTo>
                      <a:pt x="24" y="6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2044440" y="3255840"/>
                <a:ext cx="70920" cy="20520"/>
              </a:xfrm>
              <a:custGeom>
                <a:avLst/>
                <a:gdLst/>
                <a:ahLst/>
                <a:rect l="l" t="t" r="r" b="b"/>
                <a:pathLst>
                  <a:path w="91" h="26">
                    <a:moveTo>
                      <a:pt x="11" y="0"/>
                    </a:moveTo>
                    <a:lnTo>
                      <a:pt x="7" y="3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72" y="26"/>
                    </a:lnTo>
                    <a:lnTo>
                      <a:pt x="77" y="22"/>
                    </a:lnTo>
                    <a:lnTo>
                      <a:pt x="82" y="18"/>
                    </a:lnTo>
                    <a:lnTo>
                      <a:pt x="87" y="15"/>
                    </a:lnTo>
                    <a:lnTo>
                      <a:pt x="91" y="11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1" y="8"/>
                    </a:lnTo>
                    <a:lnTo>
                      <a:pt x="50" y="10"/>
                    </a:lnTo>
                    <a:lnTo>
                      <a:pt x="49" y="11"/>
                    </a:lnTo>
                    <a:lnTo>
                      <a:pt x="46" y="11"/>
                    </a:lnTo>
                    <a:lnTo>
                      <a:pt x="44" y="11"/>
                    </a:lnTo>
                    <a:lnTo>
                      <a:pt x="40" y="10"/>
                    </a:lnTo>
                    <a:lnTo>
                      <a:pt x="38" y="9"/>
                    </a:lnTo>
                    <a:lnTo>
                      <a:pt x="40" y="9"/>
                    </a:lnTo>
                    <a:lnTo>
                      <a:pt x="43" y="8"/>
                    </a:lnTo>
                    <a:lnTo>
                      <a:pt x="44" y="6"/>
                    </a:lnTo>
                    <a:lnTo>
                      <a:pt x="46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2119320" y="325296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14" y="16"/>
                    </a:moveTo>
                    <a:lnTo>
                      <a:pt x="16" y="13"/>
                    </a:lnTo>
                    <a:lnTo>
                      <a:pt x="18" y="9"/>
                    </a:lnTo>
                    <a:lnTo>
                      <a:pt x="21" y="6"/>
                    </a:lnTo>
                    <a:lnTo>
                      <a:pt x="23" y="3"/>
                    </a:lnTo>
                    <a:lnTo>
                      <a:pt x="11" y="0"/>
                    </a:lnTo>
                    <a:lnTo>
                      <a:pt x="8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14" y="16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2038320" y="3246480"/>
                <a:ext cx="95040" cy="23400"/>
              </a:xfrm>
              <a:custGeom>
                <a:avLst/>
                <a:gdLst/>
                <a:ahLst/>
                <a:rect l="l" t="t" r="r" b="b"/>
                <a:pathLst>
                  <a:path w="119" h="31">
                    <a:moveTo>
                      <a:pt x="26" y="20"/>
                    </a:moveTo>
                    <a:lnTo>
                      <a:pt x="28" y="17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7" y="9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0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12" y="0"/>
                    </a:lnTo>
                    <a:lnTo>
                      <a:pt x="74" y="11"/>
                    </a:lnTo>
                    <a:lnTo>
                      <a:pt x="71" y="14"/>
                    </a:lnTo>
                    <a:lnTo>
                      <a:pt x="67" y="17"/>
                    </a:lnTo>
                    <a:lnTo>
                      <a:pt x="64" y="20"/>
                    </a:lnTo>
                    <a:lnTo>
                      <a:pt x="59" y="22"/>
                    </a:lnTo>
                    <a:lnTo>
                      <a:pt x="61" y="23"/>
                    </a:lnTo>
                    <a:lnTo>
                      <a:pt x="65" y="24"/>
                    </a:lnTo>
                    <a:lnTo>
                      <a:pt x="67" y="24"/>
                    </a:lnTo>
                    <a:lnTo>
                      <a:pt x="70" y="24"/>
                    </a:lnTo>
                    <a:lnTo>
                      <a:pt x="73" y="21"/>
                    </a:lnTo>
                    <a:lnTo>
                      <a:pt x="75" y="17"/>
                    </a:lnTo>
                    <a:lnTo>
                      <a:pt x="76" y="15"/>
                    </a:lnTo>
                    <a:lnTo>
                      <a:pt x="79" y="13"/>
                    </a:lnTo>
                    <a:lnTo>
                      <a:pt x="119" y="17"/>
                    </a:lnTo>
                    <a:lnTo>
                      <a:pt x="116" y="21"/>
                    </a:lnTo>
                    <a:lnTo>
                      <a:pt x="111" y="24"/>
                    </a:lnTo>
                    <a:lnTo>
                      <a:pt x="106" y="28"/>
                    </a:lnTo>
                    <a:lnTo>
                      <a:pt x="103" y="31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2031840" y="3249720"/>
                <a:ext cx="40680" cy="1548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0" y="9"/>
                    </a:moveTo>
                    <a:lnTo>
                      <a:pt x="0" y="14"/>
                    </a:lnTo>
                    <a:lnTo>
                      <a:pt x="36" y="18"/>
                    </a:lnTo>
                    <a:lnTo>
                      <a:pt x="40" y="15"/>
                    </a:lnTo>
                    <a:lnTo>
                      <a:pt x="43" y="11"/>
                    </a:lnTo>
                    <a:lnTo>
                      <a:pt x="48" y="8"/>
                    </a:lnTo>
                    <a:lnTo>
                      <a:pt x="52" y="5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2068560" y="3247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2072880" y="3240000"/>
                <a:ext cx="53640" cy="1872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69" y="15"/>
                    </a:moveTo>
                    <a:lnTo>
                      <a:pt x="69" y="1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20" y="16"/>
                    </a:lnTo>
                    <a:lnTo>
                      <a:pt x="23" y="18"/>
                    </a:lnTo>
                    <a:lnTo>
                      <a:pt x="27" y="18"/>
                    </a:lnTo>
                    <a:lnTo>
                      <a:pt x="25" y="20"/>
                    </a:lnTo>
                    <a:lnTo>
                      <a:pt x="60" y="24"/>
                    </a:lnTo>
                    <a:lnTo>
                      <a:pt x="63" y="22"/>
                    </a:lnTo>
                    <a:lnTo>
                      <a:pt x="65" y="20"/>
                    </a:lnTo>
                    <a:lnTo>
                      <a:pt x="67" y="18"/>
                    </a:lnTo>
                    <a:lnTo>
                      <a:pt x="69" y="15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2073240" y="3257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2025720" y="3243240"/>
                <a:ext cx="41040" cy="1548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10"/>
                    </a:moveTo>
                    <a:lnTo>
                      <a:pt x="0" y="15"/>
                    </a:lnTo>
                    <a:lnTo>
                      <a:pt x="36" y="19"/>
                    </a:lnTo>
                    <a:lnTo>
                      <a:pt x="40" y="16"/>
                    </a:lnTo>
                    <a:lnTo>
                      <a:pt x="44" y="13"/>
                    </a:lnTo>
                    <a:lnTo>
                      <a:pt x="49" y="9"/>
                    </a:lnTo>
                    <a:lnTo>
                      <a:pt x="53" y="5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2063880" y="32418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066760" y="3235320"/>
                <a:ext cx="56520" cy="187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71" y="14"/>
                    </a:moveTo>
                    <a:lnTo>
                      <a:pt x="71" y="1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62" y="25"/>
                    </a:lnTo>
                    <a:lnTo>
                      <a:pt x="64" y="22"/>
                    </a:lnTo>
                    <a:lnTo>
                      <a:pt x="66" y="19"/>
                    </a:lnTo>
                    <a:lnTo>
                      <a:pt x="68" y="17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2067120" y="32529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019240" y="3238560"/>
                <a:ext cx="42480" cy="15480"/>
              </a:xfrm>
              <a:custGeom>
                <a:avLst/>
                <a:gdLst/>
                <a:ahLst/>
                <a:rect l="l" t="t" r="r" b="b"/>
                <a:pathLst>
                  <a:path w="53" h="20">
                    <a:moveTo>
                      <a:pt x="0" y="9"/>
                    </a:moveTo>
                    <a:lnTo>
                      <a:pt x="0" y="15"/>
                    </a:lnTo>
                    <a:lnTo>
                      <a:pt x="38" y="20"/>
                    </a:lnTo>
                    <a:lnTo>
                      <a:pt x="43" y="16"/>
                    </a:lnTo>
                    <a:lnTo>
                      <a:pt x="46" y="13"/>
                    </a:lnTo>
                    <a:lnTo>
                      <a:pt x="50" y="9"/>
                    </a:lnTo>
                    <a:lnTo>
                      <a:pt x="53" y="7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2058840" y="32367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2062080" y="3230640"/>
                <a:ext cx="56880" cy="1692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71" y="11"/>
                    </a:moveTo>
                    <a:lnTo>
                      <a:pt x="71" y="7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62" y="21"/>
                    </a:lnTo>
                    <a:lnTo>
                      <a:pt x="64" y="18"/>
                    </a:lnTo>
                    <a:lnTo>
                      <a:pt x="66" y="17"/>
                    </a:lnTo>
                    <a:lnTo>
                      <a:pt x="68" y="15"/>
                    </a:lnTo>
                    <a:lnTo>
                      <a:pt x="71" y="11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2062080" y="3246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2013120" y="3233880"/>
                <a:ext cx="42480" cy="136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12"/>
                    </a:moveTo>
                    <a:lnTo>
                      <a:pt x="0" y="14"/>
                    </a:lnTo>
                    <a:lnTo>
                      <a:pt x="39" y="19"/>
                    </a:lnTo>
                    <a:lnTo>
                      <a:pt x="43" y="16"/>
                    </a:lnTo>
                    <a:lnTo>
                      <a:pt x="46" y="14"/>
                    </a:lnTo>
                    <a:lnTo>
                      <a:pt x="51" y="10"/>
                    </a:lnTo>
                    <a:lnTo>
                      <a:pt x="56" y="7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3" y="8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2052720" y="32306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2055960" y="3225960"/>
                <a:ext cx="56880" cy="15480"/>
              </a:xfrm>
              <a:custGeom>
                <a:avLst/>
                <a:gdLst/>
                <a:ahLst/>
                <a:rect l="l" t="t" r="r" b="b"/>
                <a:pathLst>
                  <a:path w="71" h="21">
                    <a:moveTo>
                      <a:pt x="71" y="11"/>
                    </a:moveTo>
                    <a:lnTo>
                      <a:pt x="71" y="7"/>
                    </a:lnTo>
                    <a:lnTo>
                      <a:pt x="17" y="0"/>
                    </a:lnTo>
                    <a:lnTo>
                      <a:pt x="14" y="3"/>
                    </a:lnTo>
                    <a:lnTo>
                      <a:pt x="9" y="6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62" y="21"/>
                    </a:lnTo>
                    <a:lnTo>
                      <a:pt x="64" y="18"/>
                    </a:lnTo>
                    <a:lnTo>
                      <a:pt x="67" y="16"/>
                    </a:lnTo>
                    <a:lnTo>
                      <a:pt x="69" y="14"/>
                    </a:lnTo>
                    <a:lnTo>
                      <a:pt x="71" y="11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2055960" y="32418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2006640" y="3227400"/>
                <a:ext cx="42480" cy="1548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0" y="9"/>
                    </a:moveTo>
                    <a:lnTo>
                      <a:pt x="0" y="14"/>
                    </a:lnTo>
                    <a:lnTo>
                      <a:pt x="38" y="21"/>
                    </a:lnTo>
                    <a:lnTo>
                      <a:pt x="42" y="17"/>
                    </a:lnTo>
                    <a:lnTo>
                      <a:pt x="46" y="14"/>
                    </a:lnTo>
                    <a:lnTo>
                      <a:pt x="51" y="11"/>
                    </a:lnTo>
                    <a:lnTo>
                      <a:pt x="54" y="7"/>
                    </a:lnTo>
                    <a:lnTo>
                      <a:pt x="19" y="0"/>
                    </a:lnTo>
                    <a:lnTo>
                      <a:pt x="14" y="4"/>
                    </a:lnTo>
                    <a:lnTo>
                      <a:pt x="9" y="6"/>
                    </a:lnTo>
                    <a:lnTo>
                      <a:pt x="5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2046240" y="3225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2049480" y="3219480"/>
                <a:ext cx="55440" cy="16920"/>
              </a:xfrm>
              <a:custGeom>
                <a:avLst/>
                <a:gdLst/>
                <a:ahLst/>
                <a:rect l="l" t="t" r="r" b="b"/>
                <a:pathLst>
                  <a:path w="69" h="22">
                    <a:moveTo>
                      <a:pt x="69" y="12"/>
                    </a:moveTo>
                    <a:lnTo>
                      <a:pt x="69" y="8"/>
                    </a:lnTo>
                    <a:lnTo>
                      <a:pt x="16" y="0"/>
                    </a:lnTo>
                    <a:lnTo>
                      <a:pt x="13" y="4"/>
                    </a:lnTo>
                    <a:lnTo>
                      <a:pt x="8" y="8"/>
                    </a:lnTo>
                    <a:lnTo>
                      <a:pt x="4" y="11"/>
                    </a:lnTo>
                    <a:lnTo>
                      <a:pt x="0" y="15"/>
                    </a:lnTo>
                    <a:lnTo>
                      <a:pt x="59" y="22"/>
                    </a:lnTo>
                    <a:lnTo>
                      <a:pt x="61" y="19"/>
                    </a:lnTo>
                    <a:lnTo>
                      <a:pt x="64" y="18"/>
                    </a:lnTo>
                    <a:lnTo>
                      <a:pt x="66" y="16"/>
                    </a:lnTo>
                    <a:lnTo>
                      <a:pt x="69" y="12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2049480" y="32353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2001960" y="3224160"/>
                <a:ext cx="41040" cy="1404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0" y="11"/>
                    </a:moveTo>
                    <a:lnTo>
                      <a:pt x="0" y="11"/>
                    </a:lnTo>
                    <a:lnTo>
                      <a:pt x="39" y="18"/>
                    </a:lnTo>
                    <a:lnTo>
                      <a:pt x="42" y="15"/>
                    </a:lnTo>
                    <a:lnTo>
                      <a:pt x="45" y="11"/>
                    </a:lnTo>
                    <a:lnTo>
                      <a:pt x="49" y="8"/>
                    </a:lnTo>
                    <a:lnTo>
                      <a:pt x="52" y="4"/>
                    </a:lnTo>
                    <a:lnTo>
                      <a:pt x="20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2041560" y="3219480"/>
                <a:ext cx="1440" cy="2880"/>
              </a:xfrm>
              <a:prstGeom prst="rect">
                <a:avLst/>
              </a:pr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2043000" y="3213000"/>
                <a:ext cx="55080" cy="17280"/>
              </a:xfrm>
              <a:custGeom>
                <a:avLst/>
                <a:gdLst/>
                <a:ahLst/>
                <a:rect l="l" t="t" r="r" b="b"/>
                <a:pathLst>
                  <a:path w="71" h="22">
                    <a:moveTo>
                      <a:pt x="71" y="10"/>
                    </a:moveTo>
                    <a:lnTo>
                      <a:pt x="71" y="7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0" y="15"/>
                    </a:lnTo>
                    <a:lnTo>
                      <a:pt x="60" y="22"/>
                    </a:lnTo>
                    <a:lnTo>
                      <a:pt x="62" y="19"/>
                    </a:lnTo>
                    <a:lnTo>
                      <a:pt x="65" y="17"/>
                    </a:lnTo>
                    <a:lnTo>
                      <a:pt x="68" y="14"/>
                    </a:lnTo>
                    <a:lnTo>
                      <a:pt x="71" y="1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2043000" y="3233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2036520" y="3208320"/>
                <a:ext cx="55080" cy="1872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0" y="14"/>
                    </a:moveTo>
                    <a:lnTo>
                      <a:pt x="1" y="14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9" y="9"/>
                    </a:lnTo>
                    <a:lnTo>
                      <a:pt x="66" y="13"/>
                    </a:lnTo>
                    <a:lnTo>
                      <a:pt x="64" y="16"/>
                    </a:lnTo>
                    <a:lnTo>
                      <a:pt x="61" y="21"/>
                    </a:lnTo>
                    <a:lnTo>
                      <a:pt x="58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1995120" y="3217680"/>
                <a:ext cx="3924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17" y="0"/>
                    </a:moveTo>
                    <a:lnTo>
                      <a:pt x="14" y="5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0" y="13"/>
                    </a:lnTo>
                    <a:lnTo>
                      <a:pt x="35" y="20"/>
                    </a:lnTo>
                    <a:lnTo>
                      <a:pt x="39" y="17"/>
                    </a:lnTo>
                    <a:lnTo>
                      <a:pt x="43" y="13"/>
                    </a:lnTo>
                    <a:lnTo>
                      <a:pt x="47" y="10"/>
                    </a:lnTo>
                    <a:lnTo>
                      <a:pt x="50" y="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2031840" y="3203640"/>
                <a:ext cx="56520" cy="187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14"/>
                    </a:moveTo>
                    <a:lnTo>
                      <a:pt x="1" y="12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71" y="9"/>
                    </a:lnTo>
                    <a:lnTo>
                      <a:pt x="68" y="13"/>
                    </a:lnTo>
                    <a:lnTo>
                      <a:pt x="64" y="16"/>
                    </a:lnTo>
                    <a:lnTo>
                      <a:pt x="61" y="20"/>
                    </a:lnTo>
                    <a:lnTo>
                      <a:pt x="57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>
                <a:off x="1989360" y="3211560"/>
                <a:ext cx="37440" cy="1548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14" y="0"/>
                    </a:move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0" y="15"/>
                    </a:lnTo>
                    <a:lnTo>
                      <a:pt x="32" y="19"/>
                    </a:lnTo>
                    <a:lnTo>
                      <a:pt x="37" y="16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47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2025360" y="3198960"/>
                <a:ext cx="60120" cy="16920"/>
              </a:xfrm>
              <a:custGeom>
                <a:avLst/>
                <a:gdLst/>
                <a:ahLst/>
                <a:rect l="l" t="t" r="r" b="b"/>
                <a:pathLst>
                  <a:path w="77" h="21">
                    <a:moveTo>
                      <a:pt x="0" y="12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7"/>
                    </a:lnTo>
                    <a:lnTo>
                      <a:pt x="17" y="6"/>
                    </a:lnTo>
                    <a:lnTo>
                      <a:pt x="24" y="4"/>
                    </a:lnTo>
                    <a:lnTo>
                      <a:pt x="31" y="0"/>
                    </a:lnTo>
                    <a:lnTo>
                      <a:pt x="77" y="7"/>
                    </a:lnTo>
                    <a:lnTo>
                      <a:pt x="73" y="11"/>
                    </a:lnTo>
                    <a:lnTo>
                      <a:pt x="69" y="14"/>
                    </a:lnTo>
                    <a:lnTo>
                      <a:pt x="66" y="18"/>
                    </a:lnTo>
                    <a:lnTo>
                      <a:pt x="62" y="2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1983960" y="3206880"/>
                <a:ext cx="37800" cy="1548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14" y="0"/>
                    </a:moveTo>
                    <a:lnTo>
                      <a:pt x="10" y="3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33" y="19"/>
                    </a:lnTo>
                    <a:lnTo>
                      <a:pt x="37" y="15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47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2022120" y="3193920"/>
                <a:ext cx="52200" cy="15480"/>
              </a:xfrm>
              <a:custGeom>
                <a:avLst/>
                <a:gdLst/>
                <a:ahLst/>
                <a:rect l="l" t="t" r="r" b="b"/>
                <a:pathLst>
                  <a:path w="67" h="20">
                    <a:moveTo>
                      <a:pt x="27" y="0"/>
                    </a:moveTo>
                    <a:lnTo>
                      <a:pt x="21" y="3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0" y="11"/>
                    </a:lnTo>
                    <a:lnTo>
                      <a:pt x="54" y="20"/>
                    </a:lnTo>
                    <a:lnTo>
                      <a:pt x="58" y="17"/>
                    </a:lnTo>
                    <a:lnTo>
                      <a:pt x="61" y="14"/>
                    </a:lnTo>
                    <a:lnTo>
                      <a:pt x="64" y="13"/>
                    </a:lnTo>
                    <a:lnTo>
                      <a:pt x="67" y="11"/>
                    </a:lnTo>
                    <a:lnTo>
                      <a:pt x="66" y="9"/>
                    </a:lnTo>
                    <a:lnTo>
                      <a:pt x="65" y="8"/>
                    </a:lnTo>
                    <a:lnTo>
                      <a:pt x="64" y="5"/>
                    </a:lnTo>
                    <a:lnTo>
                      <a:pt x="62" y="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1977840" y="3200400"/>
                <a:ext cx="37800" cy="1548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16" y="0"/>
                    </a:moveTo>
                    <a:lnTo>
                      <a:pt x="13" y="3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0" y="14"/>
                    </a:lnTo>
                    <a:lnTo>
                      <a:pt x="33" y="18"/>
                    </a:lnTo>
                    <a:lnTo>
                      <a:pt x="37" y="15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4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2022120" y="3187800"/>
                <a:ext cx="39240" cy="1692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20" y="0"/>
                    </a:moveTo>
                    <a:lnTo>
                      <a:pt x="16" y="4"/>
                    </a:lnTo>
                    <a:lnTo>
                      <a:pt x="11" y="7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46" y="22"/>
                    </a:lnTo>
                    <a:lnTo>
                      <a:pt x="48" y="21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51" y="20"/>
                    </a:lnTo>
                    <a:lnTo>
                      <a:pt x="50" y="17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6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>
                <a:off x="1969920" y="3195720"/>
                <a:ext cx="40680" cy="13680"/>
              </a:xfrm>
              <a:custGeom>
                <a:avLst/>
                <a:gdLst/>
                <a:ahLst/>
                <a:rect l="l" t="t" r="r" b="b"/>
                <a:pathLst>
                  <a:path w="51" h="18">
                    <a:moveTo>
                      <a:pt x="17" y="0"/>
                    </a:moveTo>
                    <a:lnTo>
                      <a:pt x="12" y="3"/>
                    </a:lnTo>
                    <a:lnTo>
                      <a:pt x="9" y="7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33" y="18"/>
                    </a:lnTo>
                    <a:lnTo>
                      <a:pt x="38" y="15"/>
                    </a:lnTo>
                    <a:lnTo>
                      <a:pt x="42" y="11"/>
                    </a:lnTo>
                    <a:lnTo>
                      <a:pt x="46" y="8"/>
                    </a:lnTo>
                    <a:lnTo>
                      <a:pt x="51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2019240" y="3181320"/>
                <a:ext cx="34560" cy="154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18" y="0"/>
                    </a:moveTo>
                    <a:lnTo>
                      <a:pt x="13" y="3"/>
                    </a:lnTo>
                    <a:lnTo>
                      <a:pt x="9" y="6"/>
                    </a:lnTo>
                    <a:lnTo>
                      <a:pt x="4" y="10"/>
                    </a:lnTo>
                    <a:lnTo>
                      <a:pt x="0" y="15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8" y="12"/>
                    </a:lnTo>
                    <a:lnTo>
                      <a:pt x="39" y="9"/>
                    </a:lnTo>
                    <a:lnTo>
                      <a:pt x="41" y="6"/>
                    </a:lnTo>
                    <a:lnTo>
                      <a:pt x="42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1964880" y="3189240"/>
                <a:ext cx="37800" cy="1548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17" y="0"/>
                    </a:moveTo>
                    <a:lnTo>
                      <a:pt x="13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0" y="15"/>
                    </a:lnTo>
                    <a:lnTo>
                      <a:pt x="31" y="19"/>
                    </a:lnTo>
                    <a:lnTo>
                      <a:pt x="36" y="16"/>
                    </a:lnTo>
                    <a:lnTo>
                      <a:pt x="40" y="12"/>
                    </a:lnTo>
                    <a:lnTo>
                      <a:pt x="45" y="9"/>
                    </a:lnTo>
                    <a:lnTo>
                      <a:pt x="48" y="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2016360" y="3178080"/>
                <a:ext cx="29520" cy="1260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16" y="0"/>
                    </a:moveTo>
                    <a:lnTo>
                      <a:pt x="13" y="2"/>
                    </a:lnTo>
                    <a:lnTo>
                      <a:pt x="9" y="5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29" y="16"/>
                    </a:lnTo>
                    <a:lnTo>
                      <a:pt x="31" y="13"/>
                    </a:lnTo>
                    <a:lnTo>
                      <a:pt x="33" y="9"/>
                    </a:lnTo>
                    <a:lnTo>
                      <a:pt x="36" y="6"/>
                    </a:lnTo>
                    <a:lnTo>
                      <a:pt x="38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1958760" y="318600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23" y="0"/>
                    </a:moveTo>
                    <a:lnTo>
                      <a:pt x="16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0" y="13"/>
                    </a:lnTo>
                    <a:lnTo>
                      <a:pt x="34" y="17"/>
                    </a:lnTo>
                    <a:lnTo>
                      <a:pt x="37" y="14"/>
                    </a:lnTo>
                    <a:lnTo>
                      <a:pt x="40" y="9"/>
                    </a:lnTo>
                    <a:lnTo>
                      <a:pt x="44" y="6"/>
                    </a:lnTo>
                    <a:lnTo>
                      <a:pt x="47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2011320" y="3173400"/>
                <a:ext cx="26640" cy="1224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5" y="0"/>
                    </a:moveTo>
                    <a:lnTo>
                      <a:pt x="10" y="2"/>
                    </a:lnTo>
                    <a:lnTo>
                      <a:pt x="7" y="5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24" y="16"/>
                    </a:lnTo>
                    <a:lnTo>
                      <a:pt x="27" y="13"/>
                    </a:lnTo>
                    <a:lnTo>
                      <a:pt x="29" y="9"/>
                    </a:lnTo>
                    <a:lnTo>
                      <a:pt x="32" y="6"/>
                    </a:lnTo>
                    <a:lnTo>
                      <a:pt x="36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1954440" y="31798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2"/>
                    </a:moveTo>
                    <a:lnTo>
                      <a:pt x="5" y="11"/>
                    </a:lnTo>
                    <a:lnTo>
                      <a:pt x="10" y="8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5" y="13"/>
                    </a:lnTo>
                    <a:lnTo>
                      <a:pt x="31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2006640" y="3166920"/>
                <a:ext cx="26640" cy="126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15" y="0"/>
                    </a:moveTo>
                    <a:lnTo>
                      <a:pt x="12" y="4"/>
                    </a:lnTo>
                    <a:lnTo>
                      <a:pt x="8" y="7"/>
                    </a:lnTo>
                    <a:lnTo>
                      <a:pt x="3" y="10"/>
                    </a:lnTo>
                    <a:lnTo>
                      <a:pt x="0" y="14"/>
                    </a:lnTo>
                    <a:lnTo>
                      <a:pt x="22" y="16"/>
                    </a:lnTo>
                    <a:lnTo>
                      <a:pt x="25" y="13"/>
                    </a:lnTo>
                    <a:lnTo>
                      <a:pt x="29" y="9"/>
                    </a:lnTo>
                    <a:lnTo>
                      <a:pt x="31" y="6"/>
                    </a:lnTo>
                    <a:lnTo>
                      <a:pt x="33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>
                <a:off x="1947600" y="317484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14"/>
                    </a:moveTo>
                    <a:lnTo>
                      <a:pt x="1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38" y="5"/>
                    </a:lnTo>
                    <a:lnTo>
                      <a:pt x="36" y="7"/>
                    </a:lnTo>
                    <a:lnTo>
                      <a:pt x="32" y="10"/>
                    </a:lnTo>
                    <a:lnTo>
                      <a:pt x="28" y="13"/>
                    </a:lnTo>
                    <a:lnTo>
                      <a:pt x="24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2001600" y="3160800"/>
                <a:ext cx="24840" cy="13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16" y="0"/>
                    </a:moveTo>
                    <a:lnTo>
                      <a:pt x="12" y="5"/>
                    </a:lnTo>
                    <a:lnTo>
                      <a:pt x="7" y="8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21" y="17"/>
                    </a:lnTo>
                    <a:lnTo>
                      <a:pt x="23" y="14"/>
                    </a:lnTo>
                    <a:lnTo>
                      <a:pt x="25" y="10"/>
                    </a:lnTo>
                    <a:lnTo>
                      <a:pt x="29" y="7"/>
                    </a:lnTo>
                    <a:lnTo>
                      <a:pt x="32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1944360" y="3168720"/>
                <a:ext cx="28440" cy="1368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0" y="14"/>
                    </a:moveTo>
                    <a:lnTo>
                      <a:pt x="0" y="12"/>
                    </a:lnTo>
                    <a:lnTo>
                      <a:pt x="5" y="8"/>
                    </a:lnTo>
                    <a:lnTo>
                      <a:pt x="9" y="6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3" y="10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1996920" y="315612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21" y="0"/>
                    </a:moveTo>
                    <a:lnTo>
                      <a:pt x="16" y="4"/>
                    </a:lnTo>
                    <a:lnTo>
                      <a:pt x="10" y="7"/>
                    </a:lnTo>
                    <a:lnTo>
                      <a:pt x="6" y="10"/>
                    </a:lnTo>
                    <a:lnTo>
                      <a:pt x="0" y="15"/>
                    </a:lnTo>
                    <a:lnTo>
                      <a:pt x="18" y="17"/>
                    </a:lnTo>
                    <a:lnTo>
                      <a:pt x="22" y="14"/>
                    </a:lnTo>
                    <a:lnTo>
                      <a:pt x="24" y="9"/>
                    </a:lnTo>
                    <a:lnTo>
                      <a:pt x="28" y="6"/>
                    </a:lnTo>
                    <a:lnTo>
                      <a:pt x="31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1944360" y="3165480"/>
                <a:ext cx="21960" cy="122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1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20" y="3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4"/>
                    </a:lnTo>
                    <a:lnTo>
                      <a:pt x="24" y="15"/>
                    </a:lnTo>
                    <a:lnTo>
                      <a:pt x="23" y="1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1994040" y="3151080"/>
                <a:ext cx="20160" cy="108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1"/>
                    </a:moveTo>
                    <a:lnTo>
                      <a:pt x="6" y="8"/>
                    </a:lnTo>
                    <a:lnTo>
                      <a:pt x="12" y="4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2" y="6"/>
                    </a:lnTo>
                    <a:lnTo>
                      <a:pt x="19" y="10"/>
                    </a:lnTo>
                    <a:lnTo>
                      <a:pt x="16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1947960" y="316548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4"/>
                    </a:moveTo>
                    <a:lnTo>
                      <a:pt x="3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1994040" y="315108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4"/>
                    </a:moveTo>
                    <a:lnTo>
                      <a:pt x="3" y="3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2179440" y="32734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2179440" y="3273480"/>
                <a:ext cx="1080" cy="2880"/>
              </a:xfrm>
              <a:prstGeom prst="rect">
                <a:avLst/>
              </a:pr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2179440" y="3271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2179440" y="3271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2179440" y="3270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2176560" y="32702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2176560" y="32688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2176560" y="3268800"/>
                <a:ext cx="4320" cy="1080"/>
              </a:xfrm>
              <a:prstGeom prst="rect">
                <a:avLst/>
              </a:pr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2176560" y="32688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2175120" y="326700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2175120" y="326700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2175120" y="326556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2175120" y="3265560"/>
                <a:ext cx="4320" cy="1080"/>
              </a:xfrm>
              <a:prstGeom prst="rect">
                <a:avLst/>
              </a:pr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2172960" y="32637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2172960" y="32637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2172960" y="32608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2171520" y="32608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2171520" y="3259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3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2171520" y="3259080"/>
                <a:ext cx="7560" cy="1440"/>
              </a:xfrm>
              <a:prstGeom prst="rect">
                <a:avLst/>
              </a:pr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2171520" y="3257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2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2170080" y="32576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2170080" y="32576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2169720" y="3255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2" y="0"/>
                    </a:moveTo>
                    <a:lnTo>
                      <a:pt x="0" y="2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2169720" y="325584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5" y="0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2168280" y="32544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5" y="0"/>
                    </a:moveTo>
                    <a:lnTo>
                      <a:pt x="0" y="2"/>
                    </a:lnTo>
                    <a:lnTo>
                      <a:pt x="7" y="4"/>
                    </a:lnTo>
                    <a:lnTo>
                      <a:pt x="10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d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>
                <a:off x="2168640" y="32544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4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9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2168640" y="32544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cc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2168280" y="3252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c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2165400" y="32529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2165400" y="32529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2145960" y="325584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2144520" y="32529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2" y="0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7" y="12"/>
                    </a:lnTo>
                    <a:lnTo>
                      <a:pt x="1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>
                <a:off x="2143080" y="32479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3" y="0"/>
                    </a:moveTo>
                    <a:lnTo>
                      <a:pt x="0" y="10"/>
                    </a:lnTo>
                    <a:lnTo>
                      <a:pt x="7" y="12"/>
                    </a:lnTo>
                    <a:lnTo>
                      <a:pt x="12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2141640" y="32432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5" y="0"/>
                    </a:moveTo>
                    <a:lnTo>
                      <a:pt x="0" y="10"/>
                    </a:lnTo>
                    <a:lnTo>
                      <a:pt x="9" y="13"/>
                    </a:lnTo>
                    <a:lnTo>
                      <a:pt x="1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2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2138400" y="324000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2" y="0"/>
                    </a:moveTo>
                    <a:lnTo>
                      <a:pt x="0" y="10"/>
                    </a:lnTo>
                    <a:lnTo>
                      <a:pt x="9" y="13"/>
                    </a:lnTo>
                    <a:lnTo>
                      <a:pt x="1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>
                <a:off x="2136960" y="323676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2" y="0"/>
                    </a:moveTo>
                    <a:lnTo>
                      <a:pt x="0" y="9"/>
                    </a:lnTo>
                    <a:lnTo>
                      <a:pt x="9" y="11"/>
                    </a:lnTo>
                    <a:lnTo>
                      <a:pt x="15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8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2134800" y="323388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4" y="0"/>
                    </a:moveTo>
                    <a:lnTo>
                      <a:pt x="0" y="9"/>
                    </a:lnTo>
                    <a:lnTo>
                      <a:pt x="13" y="12"/>
                    </a:lnTo>
                    <a:lnTo>
                      <a:pt x="1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2133720" y="322884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5" y="0"/>
                    </a:moveTo>
                    <a:lnTo>
                      <a:pt x="0" y="10"/>
                    </a:lnTo>
                    <a:lnTo>
                      <a:pt x="13" y="12"/>
                    </a:lnTo>
                    <a:lnTo>
                      <a:pt x="1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a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2131560" y="32259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3" y="0"/>
                    </a:moveTo>
                    <a:lnTo>
                      <a:pt x="0" y="9"/>
                    </a:lnTo>
                    <a:lnTo>
                      <a:pt x="13" y="11"/>
                    </a:lnTo>
                    <a:lnTo>
                      <a:pt x="1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>
                <a:off x="2129040" y="3222720"/>
                <a:ext cx="13680" cy="75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9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7" y="3"/>
                    </a:lnTo>
                    <a:lnTo>
                      <a:pt x="12" y="1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d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2129040" y="321768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17" y="3"/>
                    </a:lnTo>
                    <a:lnTo>
                      <a:pt x="15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d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2126880" y="321300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8" y="0"/>
                    </a:moveTo>
                    <a:lnTo>
                      <a:pt x="6" y="3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15" y="13"/>
                    </a:lnTo>
                    <a:lnTo>
                      <a:pt x="17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d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>
                <a:off x="2125800" y="320976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4" y="0"/>
                    </a:moveTo>
                    <a:lnTo>
                      <a:pt x="3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9" y="12"/>
                    </a:lnTo>
                    <a:lnTo>
                      <a:pt x="1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2124000" y="320688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5" y="0"/>
                    </a:move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9" y="11"/>
                    </a:lnTo>
                    <a:lnTo>
                      <a:pt x="1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d8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2122560" y="320364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5" y="0"/>
                    </a:moveTo>
                    <a:lnTo>
                      <a:pt x="4" y="3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1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2d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2120760" y="320040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9" y="9"/>
                    </a:lnTo>
                    <a:lnTo>
                      <a:pt x="1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2119320" y="319716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3" y="1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9" y="9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2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2116080" y="319392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2114640" y="318924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4" y="0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4d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2112840" y="318600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5" y="0"/>
                    </a:moveTo>
                    <a:lnTo>
                      <a:pt x="5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9" y="11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2109960" y="318132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5" y="0"/>
                    </a:moveTo>
                    <a:lnTo>
                      <a:pt x="5" y="2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d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2107800" y="317808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4" y="0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d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2106720" y="317484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7" y="0"/>
                    </a:move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7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 flipH="1">
              <a:off x="2498040" y="3071880"/>
              <a:ext cx="12600" cy="324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9d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2498040" y="3071880"/>
              <a:ext cx="12600" cy="324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9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498040" y="3070440"/>
              <a:ext cx="11160" cy="324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2" y="0"/>
                  </a:moveTo>
                  <a:lnTo>
                    <a:pt x="0" y="2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2503440" y="3070440"/>
              <a:ext cx="648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1986120" y="31622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1982880" y="3160800"/>
              <a:ext cx="1440" cy="14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4d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1980360" y="3157560"/>
              <a:ext cx="180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1975680" y="315612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1434960" y="5292720"/>
            <a:ext cx="3240" cy="1440"/>
          </a:xfrm>
          <a:prstGeom prst="rect">
            <a:avLst/>
          </a:prstGeom>
          <a:solidFill>
            <a:srgbClr val="d3c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438200" y="5292720"/>
            <a:ext cx="324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ddc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46120" y="5289480"/>
            <a:ext cx="1800" cy="1800"/>
          </a:xfrm>
          <a:prstGeom prst="rect">
            <a:avLst/>
          </a:prstGeom>
          <a:solidFill>
            <a:srgbClr val="f4c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47920" y="5289480"/>
            <a:ext cx="1440" cy="1800"/>
          </a:xfrm>
          <a:prstGeom prst="rect">
            <a:avLst/>
          </a:prstGeom>
          <a:solidFill>
            <a:srgbClr val="f7c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47640" y="4713120"/>
            <a:ext cx="12960" cy="1800"/>
          </a:xfrm>
          <a:custGeom>
            <a:avLst/>
            <a:gdLst/>
            <a:ahLst/>
            <a:rect l="l" t="t" r="r" b="b"/>
            <a:pathLst>
              <a:path w="17" h="4">
                <a:moveTo>
                  <a:pt x="0" y="4"/>
                </a:moveTo>
                <a:lnTo>
                  <a:pt x="17" y="0"/>
                </a:lnTo>
                <a:lnTo>
                  <a:pt x="17" y="4"/>
                </a:lnTo>
                <a:lnTo>
                  <a:pt x="0" y="4"/>
                </a:lnTo>
                <a:close/>
              </a:path>
            </a:pathLst>
          </a:custGeom>
          <a:solidFill>
            <a:srgbClr val="f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554120" y="4713120"/>
            <a:ext cx="6480" cy="180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4"/>
                </a:moveTo>
                <a:lnTo>
                  <a:pt x="9" y="0"/>
                </a:lnTo>
                <a:lnTo>
                  <a:pt x="9" y="4"/>
                </a:lnTo>
                <a:lnTo>
                  <a:pt x="0" y="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535720" y="5005440"/>
            <a:ext cx="1440" cy="11160"/>
          </a:xfrm>
          <a:prstGeom prst="rect">
            <a:avLst/>
          </a:prstGeom>
          <a:solidFill>
            <a:srgbClr val="8c5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35720" y="5000760"/>
            <a:ext cx="1440" cy="9360"/>
          </a:xfrm>
          <a:prstGeom prst="rect">
            <a:avLst/>
          </a:prstGeom>
          <a:solidFill>
            <a:srgbClr val="875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535720" y="4994280"/>
            <a:ext cx="1440" cy="11160"/>
          </a:xfrm>
          <a:custGeom>
            <a:avLst/>
            <a:gdLst/>
            <a:ahLst/>
            <a:rect l="l" t="t" r="r" b="b"/>
            <a:pathLst>
              <a:path w="3" h="13">
                <a:moveTo>
                  <a:pt x="3" y="0"/>
                </a:moveTo>
                <a:lnTo>
                  <a:pt x="0" y="13"/>
                </a:lnTo>
                <a:lnTo>
                  <a:pt x="3" y="13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824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535720" y="4989600"/>
            <a:ext cx="1440" cy="11160"/>
          </a:xfrm>
          <a:custGeom>
            <a:avLst/>
            <a:gdLst/>
            <a:ahLst/>
            <a:rect l="l" t="t" r="r" b="b"/>
            <a:pathLst>
              <a:path w="3" h="14">
                <a:moveTo>
                  <a:pt x="3" y="0"/>
                </a:moveTo>
                <a:lnTo>
                  <a:pt x="0" y="14"/>
                </a:lnTo>
                <a:lnTo>
                  <a:pt x="3" y="14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7c49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680080" y="4983120"/>
            <a:ext cx="1440" cy="11160"/>
          </a:xfrm>
          <a:custGeom>
            <a:avLst/>
            <a:gdLst/>
            <a:ahLst/>
            <a:rect l="l" t="t" r="r" b="b"/>
            <a:pathLst>
              <a:path w="4" h="14">
                <a:moveTo>
                  <a:pt x="0" y="0"/>
                </a:moveTo>
                <a:lnTo>
                  <a:pt x="4" y="14"/>
                </a:lnTo>
                <a:lnTo>
                  <a:pt x="0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7542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381560" y="2190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b86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430880" y="22543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b86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240080" y="2274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b869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21148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361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6248520" y="2825640"/>
            <a:ext cx="1326960" cy="1968480"/>
            <a:chOff x="6248520" y="2825640"/>
            <a:chExt cx="1326960" cy="1968480"/>
          </a:xfrm>
        </p:grpSpPr>
        <p:grpSp>
          <p:nvGrpSpPr>
            <p:cNvPr id="1323" name=""/>
            <p:cNvGrpSpPr/>
            <p:nvPr/>
          </p:nvGrpSpPr>
          <p:grpSpPr>
            <a:xfrm>
              <a:off x="6248520" y="2825640"/>
              <a:ext cx="1326960" cy="1968480"/>
              <a:chOff x="6248520" y="2825640"/>
              <a:chExt cx="1326960" cy="1968480"/>
            </a:xfrm>
          </p:grpSpPr>
          <p:sp>
            <p:nvSpPr>
              <p:cNvPr id="1324" name=""/>
              <p:cNvSpPr/>
              <p:nvPr/>
            </p:nvSpPr>
            <p:spPr>
              <a:xfrm flipH="1">
                <a:off x="6248520" y="2825640"/>
                <a:ext cx="1326960" cy="1968480"/>
              </a:xfrm>
              <a:custGeom>
                <a:avLst/>
                <a:gdLst/>
                <a:ahLst/>
                <a:rect l="l" t="t" r="r" b="b"/>
                <a:pathLst>
                  <a:path w="926" h="1286">
                    <a:moveTo>
                      <a:pt x="559" y="84"/>
                    </a:moveTo>
                    <a:lnTo>
                      <a:pt x="572" y="84"/>
                    </a:lnTo>
                    <a:lnTo>
                      <a:pt x="590" y="86"/>
                    </a:lnTo>
                    <a:lnTo>
                      <a:pt x="605" y="89"/>
                    </a:lnTo>
                    <a:lnTo>
                      <a:pt x="623" y="91"/>
                    </a:lnTo>
                    <a:lnTo>
                      <a:pt x="636" y="93"/>
                    </a:lnTo>
                    <a:lnTo>
                      <a:pt x="654" y="97"/>
                    </a:lnTo>
                    <a:lnTo>
                      <a:pt x="669" y="100"/>
                    </a:lnTo>
                    <a:lnTo>
                      <a:pt x="687" y="106"/>
                    </a:lnTo>
                    <a:lnTo>
                      <a:pt x="700" y="108"/>
                    </a:lnTo>
                    <a:lnTo>
                      <a:pt x="718" y="113"/>
                    </a:lnTo>
                    <a:lnTo>
                      <a:pt x="732" y="115"/>
                    </a:lnTo>
                    <a:lnTo>
                      <a:pt x="749" y="122"/>
                    </a:lnTo>
                    <a:lnTo>
                      <a:pt x="763" y="126"/>
                    </a:lnTo>
                    <a:lnTo>
                      <a:pt x="780" y="133"/>
                    </a:lnTo>
                    <a:lnTo>
                      <a:pt x="794" y="139"/>
                    </a:lnTo>
                    <a:lnTo>
                      <a:pt x="811" y="148"/>
                    </a:lnTo>
                    <a:lnTo>
                      <a:pt x="822" y="153"/>
                    </a:lnTo>
                    <a:lnTo>
                      <a:pt x="836" y="162"/>
                    </a:lnTo>
                    <a:lnTo>
                      <a:pt x="844" y="170"/>
                    </a:lnTo>
                    <a:lnTo>
                      <a:pt x="856" y="184"/>
                    </a:lnTo>
                    <a:lnTo>
                      <a:pt x="864" y="195"/>
                    </a:lnTo>
                    <a:lnTo>
                      <a:pt x="876" y="206"/>
                    </a:lnTo>
                    <a:lnTo>
                      <a:pt x="884" y="217"/>
                    </a:lnTo>
                    <a:lnTo>
                      <a:pt x="895" y="230"/>
                    </a:lnTo>
                    <a:lnTo>
                      <a:pt x="902" y="244"/>
                    </a:lnTo>
                    <a:lnTo>
                      <a:pt x="909" y="261"/>
                    </a:lnTo>
                    <a:lnTo>
                      <a:pt x="915" y="277"/>
                    </a:lnTo>
                    <a:lnTo>
                      <a:pt x="922" y="294"/>
                    </a:lnTo>
                    <a:lnTo>
                      <a:pt x="924" y="312"/>
                    </a:lnTo>
                    <a:lnTo>
                      <a:pt x="926" y="330"/>
                    </a:lnTo>
                    <a:lnTo>
                      <a:pt x="926" y="348"/>
                    </a:lnTo>
                    <a:lnTo>
                      <a:pt x="926" y="368"/>
                    </a:lnTo>
                    <a:lnTo>
                      <a:pt x="922" y="387"/>
                    </a:lnTo>
                    <a:lnTo>
                      <a:pt x="920" y="410"/>
                    </a:lnTo>
                    <a:lnTo>
                      <a:pt x="913" y="430"/>
                    </a:lnTo>
                    <a:lnTo>
                      <a:pt x="902" y="449"/>
                    </a:lnTo>
                    <a:lnTo>
                      <a:pt x="880" y="458"/>
                    </a:lnTo>
                    <a:lnTo>
                      <a:pt x="858" y="467"/>
                    </a:lnTo>
                    <a:lnTo>
                      <a:pt x="836" y="472"/>
                    </a:lnTo>
                    <a:lnTo>
                      <a:pt x="816" y="478"/>
                    </a:lnTo>
                    <a:lnTo>
                      <a:pt x="791" y="480"/>
                    </a:lnTo>
                    <a:lnTo>
                      <a:pt x="769" y="483"/>
                    </a:lnTo>
                    <a:lnTo>
                      <a:pt x="747" y="483"/>
                    </a:lnTo>
                    <a:lnTo>
                      <a:pt x="725" y="485"/>
                    </a:lnTo>
                    <a:lnTo>
                      <a:pt x="700" y="483"/>
                    </a:lnTo>
                    <a:lnTo>
                      <a:pt x="678" y="480"/>
                    </a:lnTo>
                    <a:lnTo>
                      <a:pt x="654" y="478"/>
                    </a:lnTo>
                    <a:lnTo>
                      <a:pt x="632" y="476"/>
                    </a:lnTo>
                    <a:lnTo>
                      <a:pt x="607" y="472"/>
                    </a:lnTo>
                    <a:lnTo>
                      <a:pt x="585" y="472"/>
                    </a:lnTo>
                    <a:lnTo>
                      <a:pt x="563" y="469"/>
                    </a:lnTo>
                    <a:lnTo>
                      <a:pt x="543" y="469"/>
                    </a:lnTo>
                    <a:lnTo>
                      <a:pt x="537" y="483"/>
                    </a:lnTo>
                    <a:lnTo>
                      <a:pt x="532" y="498"/>
                    </a:lnTo>
                    <a:lnTo>
                      <a:pt x="528" y="511"/>
                    </a:lnTo>
                    <a:lnTo>
                      <a:pt x="525" y="529"/>
                    </a:lnTo>
                    <a:lnTo>
                      <a:pt x="532" y="545"/>
                    </a:lnTo>
                    <a:lnTo>
                      <a:pt x="539" y="562"/>
                    </a:lnTo>
                    <a:lnTo>
                      <a:pt x="541" y="582"/>
                    </a:lnTo>
                    <a:lnTo>
                      <a:pt x="545" y="602"/>
                    </a:lnTo>
                    <a:lnTo>
                      <a:pt x="548" y="616"/>
                    </a:lnTo>
                    <a:lnTo>
                      <a:pt x="550" y="631"/>
                    </a:lnTo>
                    <a:lnTo>
                      <a:pt x="550" y="647"/>
                    </a:lnTo>
                    <a:lnTo>
                      <a:pt x="550" y="664"/>
                    </a:lnTo>
                    <a:lnTo>
                      <a:pt x="548" y="678"/>
                    </a:lnTo>
                    <a:lnTo>
                      <a:pt x="545" y="695"/>
                    </a:lnTo>
                    <a:lnTo>
                      <a:pt x="545" y="709"/>
                    </a:lnTo>
                    <a:lnTo>
                      <a:pt x="550" y="726"/>
                    </a:lnTo>
                    <a:lnTo>
                      <a:pt x="552" y="740"/>
                    </a:lnTo>
                    <a:lnTo>
                      <a:pt x="554" y="753"/>
                    </a:lnTo>
                    <a:lnTo>
                      <a:pt x="556" y="766"/>
                    </a:lnTo>
                    <a:lnTo>
                      <a:pt x="559" y="782"/>
                    </a:lnTo>
                    <a:lnTo>
                      <a:pt x="559" y="795"/>
                    </a:lnTo>
                    <a:lnTo>
                      <a:pt x="559" y="808"/>
                    </a:lnTo>
                    <a:lnTo>
                      <a:pt x="559" y="824"/>
                    </a:lnTo>
                    <a:lnTo>
                      <a:pt x="559" y="839"/>
                    </a:lnTo>
                    <a:lnTo>
                      <a:pt x="554" y="852"/>
                    </a:lnTo>
                    <a:lnTo>
                      <a:pt x="554" y="868"/>
                    </a:lnTo>
                    <a:lnTo>
                      <a:pt x="550" y="881"/>
                    </a:lnTo>
                    <a:lnTo>
                      <a:pt x="550" y="897"/>
                    </a:lnTo>
                    <a:lnTo>
                      <a:pt x="548" y="910"/>
                    </a:lnTo>
                    <a:lnTo>
                      <a:pt x="545" y="926"/>
                    </a:lnTo>
                    <a:lnTo>
                      <a:pt x="545" y="941"/>
                    </a:lnTo>
                    <a:lnTo>
                      <a:pt x="545" y="957"/>
                    </a:lnTo>
                    <a:lnTo>
                      <a:pt x="539" y="970"/>
                    </a:lnTo>
                    <a:lnTo>
                      <a:pt x="537" y="983"/>
                    </a:lnTo>
                    <a:lnTo>
                      <a:pt x="532" y="996"/>
                    </a:lnTo>
                    <a:lnTo>
                      <a:pt x="530" y="1012"/>
                    </a:lnTo>
                    <a:lnTo>
                      <a:pt x="525" y="1025"/>
                    </a:lnTo>
                    <a:lnTo>
                      <a:pt x="523" y="1041"/>
                    </a:lnTo>
                    <a:lnTo>
                      <a:pt x="519" y="1054"/>
                    </a:lnTo>
                    <a:lnTo>
                      <a:pt x="517" y="1069"/>
                    </a:lnTo>
                    <a:lnTo>
                      <a:pt x="512" y="1083"/>
                    </a:lnTo>
                    <a:lnTo>
                      <a:pt x="510" y="1096"/>
                    </a:lnTo>
                    <a:lnTo>
                      <a:pt x="506" y="1109"/>
                    </a:lnTo>
                    <a:lnTo>
                      <a:pt x="503" y="1125"/>
                    </a:lnTo>
                    <a:lnTo>
                      <a:pt x="499" y="1138"/>
                    </a:lnTo>
                    <a:lnTo>
                      <a:pt x="497" y="1154"/>
                    </a:lnTo>
                    <a:lnTo>
                      <a:pt x="492" y="1167"/>
                    </a:lnTo>
                    <a:lnTo>
                      <a:pt x="490" y="1182"/>
                    </a:lnTo>
                    <a:lnTo>
                      <a:pt x="481" y="1198"/>
                    </a:lnTo>
                    <a:lnTo>
                      <a:pt x="472" y="1216"/>
                    </a:lnTo>
                    <a:lnTo>
                      <a:pt x="461" y="1231"/>
                    </a:lnTo>
                    <a:lnTo>
                      <a:pt x="450" y="1247"/>
                    </a:lnTo>
                    <a:lnTo>
                      <a:pt x="435" y="1258"/>
                    </a:lnTo>
                    <a:lnTo>
                      <a:pt x="419" y="1269"/>
                    </a:lnTo>
                    <a:lnTo>
                      <a:pt x="401" y="1273"/>
                    </a:lnTo>
                    <a:lnTo>
                      <a:pt x="384" y="1280"/>
                    </a:lnTo>
                    <a:lnTo>
                      <a:pt x="366" y="1282"/>
                    </a:lnTo>
                    <a:lnTo>
                      <a:pt x="350" y="1284"/>
                    </a:lnTo>
                    <a:lnTo>
                      <a:pt x="333" y="1284"/>
                    </a:lnTo>
                    <a:lnTo>
                      <a:pt x="319" y="1286"/>
                    </a:lnTo>
                    <a:lnTo>
                      <a:pt x="304" y="1284"/>
                    </a:lnTo>
                    <a:lnTo>
                      <a:pt x="288" y="1280"/>
                    </a:lnTo>
                    <a:lnTo>
                      <a:pt x="275" y="1273"/>
                    </a:lnTo>
                    <a:lnTo>
                      <a:pt x="262" y="1267"/>
                    </a:lnTo>
                    <a:lnTo>
                      <a:pt x="242" y="1249"/>
                    </a:lnTo>
                    <a:lnTo>
                      <a:pt x="226" y="1233"/>
                    </a:lnTo>
                    <a:lnTo>
                      <a:pt x="211" y="1213"/>
                    </a:lnTo>
                    <a:lnTo>
                      <a:pt x="198" y="1196"/>
                    </a:lnTo>
                    <a:lnTo>
                      <a:pt x="184" y="1174"/>
                    </a:lnTo>
                    <a:lnTo>
                      <a:pt x="173" y="1154"/>
                    </a:lnTo>
                    <a:lnTo>
                      <a:pt x="162" y="1134"/>
                    </a:lnTo>
                    <a:lnTo>
                      <a:pt x="156" y="1114"/>
                    </a:lnTo>
                    <a:lnTo>
                      <a:pt x="149" y="1094"/>
                    </a:lnTo>
                    <a:lnTo>
                      <a:pt x="142" y="1074"/>
                    </a:lnTo>
                    <a:lnTo>
                      <a:pt x="136" y="1054"/>
                    </a:lnTo>
                    <a:lnTo>
                      <a:pt x="133" y="1034"/>
                    </a:lnTo>
                    <a:lnTo>
                      <a:pt x="129" y="1014"/>
                    </a:lnTo>
                    <a:lnTo>
                      <a:pt x="127" y="994"/>
                    </a:lnTo>
                    <a:lnTo>
                      <a:pt x="124" y="974"/>
                    </a:lnTo>
                    <a:lnTo>
                      <a:pt x="124" y="957"/>
                    </a:lnTo>
                    <a:lnTo>
                      <a:pt x="122" y="937"/>
                    </a:lnTo>
                    <a:lnTo>
                      <a:pt x="122" y="917"/>
                    </a:lnTo>
                    <a:lnTo>
                      <a:pt x="122" y="897"/>
                    </a:lnTo>
                    <a:lnTo>
                      <a:pt x="122" y="877"/>
                    </a:lnTo>
                    <a:lnTo>
                      <a:pt x="122" y="855"/>
                    </a:lnTo>
                    <a:lnTo>
                      <a:pt x="124" y="835"/>
                    </a:lnTo>
                    <a:lnTo>
                      <a:pt x="127" y="815"/>
                    </a:lnTo>
                    <a:lnTo>
                      <a:pt x="131" y="795"/>
                    </a:lnTo>
                    <a:lnTo>
                      <a:pt x="131" y="782"/>
                    </a:lnTo>
                    <a:lnTo>
                      <a:pt x="133" y="768"/>
                    </a:lnTo>
                    <a:lnTo>
                      <a:pt x="136" y="755"/>
                    </a:lnTo>
                    <a:lnTo>
                      <a:pt x="138" y="744"/>
                    </a:lnTo>
                    <a:lnTo>
                      <a:pt x="140" y="731"/>
                    </a:lnTo>
                    <a:lnTo>
                      <a:pt x="144" y="717"/>
                    </a:lnTo>
                    <a:lnTo>
                      <a:pt x="147" y="704"/>
                    </a:lnTo>
                    <a:lnTo>
                      <a:pt x="153" y="693"/>
                    </a:lnTo>
                    <a:lnTo>
                      <a:pt x="158" y="680"/>
                    </a:lnTo>
                    <a:lnTo>
                      <a:pt x="162" y="669"/>
                    </a:lnTo>
                    <a:lnTo>
                      <a:pt x="167" y="655"/>
                    </a:lnTo>
                    <a:lnTo>
                      <a:pt x="173" y="644"/>
                    </a:lnTo>
                    <a:lnTo>
                      <a:pt x="184" y="620"/>
                    </a:lnTo>
                    <a:lnTo>
                      <a:pt x="198" y="600"/>
                    </a:lnTo>
                    <a:lnTo>
                      <a:pt x="204" y="580"/>
                    </a:lnTo>
                    <a:lnTo>
                      <a:pt x="215" y="560"/>
                    </a:lnTo>
                    <a:lnTo>
                      <a:pt x="224" y="542"/>
                    </a:lnTo>
                    <a:lnTo>
                      <a:pt x="237" y="525"/>
                    </a:lnTo>
                    <a:lnTo>
                      <a:pt x="249" y="505"/>
                    </a:lnTo>
                    <a:lnTo>
                      <a:pt x="262" y="489"/>
                    </a:lnTo>
                    <a:lnTo>
                      <a:pt x="275" y="476"/>
                    </a:lnTo>
                    <a:lnTo>
                      <a:pt x="293" y="463"/>
                    </a:lnTo>
                    <a:lnTo>
                      <a:pt x="302" y="458"/>
                    </a:lnTo>
                    <a:lnTo>
                      <a:pt x="313" y="458"/>
                    </a:lnTo>
                    <a:lnTo>
                      <a:pt x="339" y="421"/>
                    </a:lnTo>
                    <a:lnTo>
                      <a:pt x="319" y="412"/>
                    </a:lnTo>
                    <a:lnTo>
                      <a:pt x="300" y="403"/>
                    </a:lnTo>
                    <a:lnTo>
                      <a:pt x="282" y="392"/>
                    </a:lnTo>
                    <a:lnTo>
                      <a:pt x="264" y="385"/>
                    </a:lnTo>
                    <a:lnTo>
                      <a:pt x="249" y="374"/>
                    </a:lnTo>
                    <a:lnTo>
                      <a:pt x="233" y="368"/>
                    </a:lnTo>
                    <a:lnTo>
                      <a:pt x="218" y="356"/>
                    </a:lnTo>
                    <a:lnTo>
                      <a:pt x="204" y="350"/>
                    </a:lnTo>
                    <a:lnTo>
                      <a:pt x="189" y="339"/>
                    </a:lnTo>
                    <a:lnTo>
                      <a:pt x="173" y="330"/>
                    </a:lnTo>
                    <a:lnTo>
                      <a:pt x="160" y="321"/>
                    </a:lnTo>
                    <a:lnTo>
                      <a:pt x="147" y="312"/>
                    </a:lnTo>
                    <a:lnTo>
                      <a:pt x="131" y="301"/>
                    </a:lnTo>
                    <a:lnTo>
                      <a:pt x="118" y="290"/>
                    </a:lnTo>
                    <a:lnTo>
                      <a:pt x="105" y="279"/>
                    </a:lnTo>
                    <a:lnTo>
                      <a:pt x="91" y="270"/>
                    </a:lnTo>
                    <a:lnTo>
                      <a:pt x="78" y="257"/>
                    </a:lnTo>
                    <a:lnTo>
                      <a:pt x="65" y="246"/>
                    </a:lnTo>
                    <a:lnTo>
                      <a:pt x="51" y="235"/>
                    </a:lnTo>
                    <a:lnTo>
                      <a:pt x="40" y="224"/>
                    </a:lnTo>
                    <a:lnTo>
                      <a:pt x="23" y="201"/>
                    </a:lnTo>
                    <a:lnTo>
                      <a:pt x="9" y="182"/>
                    </a:lnTo>
                    <a:lnTo>
                      <a:pt x="0" y="157"/>
                    </a:lnTo>
                    <a:lnTo>
                      <a:pt x="0" y="135"/>
                    </a:lnTo>
                    <a:lnTo>
                      <a:pt x="12" y="115"/>
                    </a:lnTo>
                    <a:lnTo>
                      <a:pt x="27" y="97"/>
                    </a:lnTo>
                    <a:lnTo>
                      <a:pt x="40" y="80"/>
                    </a:lnTo>
                    <a:lnTo>
                      <a:pt x="60" y="66"/>
                    </a:lnTo>
                    <a:lnTo>
                      <a:pt x="78" y="51"/>
                    </a:lnTo>
                    <a:lnTo>
                      <a:pt x="98" y="38"/>
                    </a:lnTo>
                    <a:lnTo>
                      <a:pt x="116" y="24"/>
                    </a:lnTo>
                    <a:lnTo>
                      <a:pt x="136" y="15"/>
                    </a:lnTo>
                    <a:lnTo>
                      <a:pt x="156" y="9"/>
                    </a:lnTo>
                    <a:lnTo>
                      <a:pt x="178" y="7"/>
                    </a:lnTo>
                    <a:lnTo>
                      <a:pt x="187" y="4"/>
                    </a:lnTo>
                    <a:lnTo>
                      <a:pt x="198" y="2"/>
                    </a:lnTo>
                    <a:lnTo>
                      <a:pt x="211" y="2"/>
                    </a:lnTo>
                    <a:lnTo>
                      <a:pt x="224" y="2"/>
                    </a:lnTo>
                    <a:lnTo>
                      <a:pt x="244" y="0"/>
                    </a:lnTo>
                    <a:lnTo>
                      <a:pt x="266" y="2"/>
                    </a:lnTo>
                    <a:lnTo>
                      <a:pt x="286" y="4"/>
                    </a:lnTo>
                    <a:lnTo>
                      <a:pt x="308" y="9"/>
                    </a:lnTo>
                    <a:lnTo>
                      <a:pt x="328" y="13"/>
                    </a:lnTo>
                    <a:lnTo>
                      <a:pt x="348" y="20"/>
                    </a:lnTo>
                    <a:lnTo>
                      <a:pt x="368" y="27"/>
                    </a:lnTo>
                    <a:lnTo>
                      <a:pt x="390" y="35"/>
                    </a:lnTo>
                    <a:lnTo>
                      <a:pt x="410" y="42"/>
                    </a:lnTo>
                    <a:lnTo>
                      <a:pt x="430" y="49"/>
                    </a:lnTo>
                    <a:lnTo>
                      <a:pt x="450" y="55"/>
                    </a:lnTo>
                    <a:lnTo>
                      <a:pt x="472" y="62"/>
                    </a:lnTo>
                    <a:lnTo>
                      <a:pt x="492" y="66"/>
                    </a:lnTo>
                    <a:lnTo>
                      <a:pt x="512" y="73"/>
                    </a:lnTo>
                    <a:lnTo>
                      <a:pt x="534" y="77"/>
                    </a:lnTo>
                    <a:lnTo>
                      <a:pt x="559" y="84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6264720" y="2842560"/>
                <a:ext cx="1293840" cy="630360"/>
              </a:xfrm>
              <a:custGeom>
                <a:avLst/>
                <a:gdLst/>
                <a:ahLst/>
                <a:rect l="l" t="t" r="r" b="b"/>
                <a:pathLst>
                  <a:path w="903" h="412">
                    <a:moveTo>
                      <a:pt x="607" y="91"/>
                    </a:moveTo>
                    <a:lnTo>
                      <a:pt x="620" y="91"/>
                    </a:lnTo>
                    <a:lnTo>
                      <a:pt x="635" y="93"/>
                    </a:lnTo>
                    <a:lnTo>
                      <a:pt x="649" y="95"/>
                    </a:lnTo>
                    <a:lnTo>
                      <a:pt x="664" y="97"/>
                    </a:lnTo>
                    <a:lnTo>
                      <a:pt x="677" y="100"/>
                    </a:lnTo>
                    <a:lnTo>
                      <a:pt x="693" y="104"/>
                    </a:lnTo>
                    <a:lnTo>
                      <a:pt x="706" y="106"/>
                    </a:lnTo>
                    <a:lnTo>
                      <a:pt x="722" y="113"/>
                    </a:lnTo>
                    <a:lnTo>
                      <a:pt x="733" y="115"/>
                    </a:lnTo>
                    <a:lnTo>
                      <a:pt x="746" y="120"/>
                    </a:lnTo>
                    <a:lnTo>
                      <a:pt x="759" y="126"/>
                    </a:lnTo>
                    <a:lnTo>
                      <a:pt x="773" y="133"/>
                    </a:lnTo>
                    <a:lnTo>
                      <a:pt x="784" y="140"/>
                    </a:lnTo>
                    <a:lnTo>
                      <a:pt x="797" y="146"/>
                    </a:lnTo>
                    <a:lnTo>
                      <a:pt x="810" y="155"/>
                    </a:lnTo>
                    <a:lnTo>
                      <a:pt x="824" y="164"/>
                    </a:lnTo>
                    <a:lnTo>
                      <a:pt x="839" y="182"/>
                    </a:lnTo>
                    <a:lnTo>
                      <a:pt x="857" y="202"/>
                    </a:lnTo>
                    <a:lnTo>
                      <a:pt x="870" y="221"/>
                    </a:lnTo>
                    <a:lnTo>
                      <a:pt x="886" y="246"/>
                    </a:lnTo>
                    <a:lnTo>
                      <a:pt x="895" y="268"/>
                    </a:lnTo>
                    <a:lnTo>
                      <a:pt x="901" y="292"/>
                    </a:lnTo>
                    <a:lnTo>
                      <a:pt x="901" y="306"/>
                    </a:lnTo>
                    <a:lnTo>
                      <a:pt x="903" y="319"/>
                    </a:lnTo>
                    <a:lnTo>
                      <a:pt x="903" y="332"/>
                    </a:lnTo>
                    <a:lnTo>
                      <a:pt x="903" y="348"/>
                    </a:lnTo>
                    <a:lnTo>
                      <a:pt x="901" y="363"/>
                    </a:lnTo>
                    <a:lnTo>
                      <a:pt x="901" y="379"/>
                    </a:lnTo>
                    <a:lnTo>
                      <a:pt x="897" y="394"/>
                    </a:lnTo>
                    <a:lnTo>
                      <a:pt x="892" y="412"/>
                    </a:lnTo>
                    <a:lnTo>
                      <a:pt x="886" y="410"/>
                    </a:lnTo>
                    <a:lnTo>
                      <a:pt x="879" y="407"/>
                    </a:lnTo>
                    <a:lnTo>
                      <a:pt x="861" y="399"/>
                    </a:lnTo>
                    <a:lnTo>
                      <a:pt x="844" y="390"/>
                    </a:lnTo>
                    <a:lnTo>
                      <a:pt x="826" y="381"/>
                    </a:lnTo>
                    <a:lnTo>
                      <a:pt x="810" y="374"/>
                    </a:lnTo>
                    <a:lnTo>
                      <a:pt x="793" y="365"/>
                    </a:lnTo>
                    <a:lnTo>
                      <a:pt x="775" y="359"/>
                    </a:lnTo>
                    <a:lnTo>
                      <a:pt x="757" y="352"/>
                    </a:lnTo>
                    <a:lnTo>
                      <a:pt x="742" y="345"/>
                    </a:lnTo>
                    <a:lnTo>
                      <a:pt x="722" y="337"/>
                    </a:lnTo>
                    <a:lnTo>
                      <a:pt x="706" y="330"/>
                    </a:lnTo>
                    <a:lnTo>
                      <a:pt x="686" y="323"/>
                    </a:lnTo>
                    <a:lnTo>
                      <a:pt x="671" y="319"/>
                    </a:lnTo>
                    <a:lnTo>
                      <a:pt x="651" y="312"/>
                    </a:lnTo>
                    <a:lnTo>
                      <a:pt x="635" y="310"/>
                    </a:lnTo>
                    <a:lnTo>
                      <a:pt x="615" y="306"/>
                    </a:lnTo>
                    <a:lnTo>
                      <a:pt x="600" y="303"/>
                    </a:lnTo>
                    <a:lnTo>
                      <a:pt x="587" y="297"/>
                    </a:lnTo>
                    <a:lnTo>
                      <a:pt x="576" y="295"/>
                    </a:lnTo>
                    <a:lnTo>
                      <a:pt x="562" y="290"/>
                    </a:lnTo>
                    <a:lnTo>
                      <a:pt x="551" y="288"/>
                    </a:lnTo>
                    <a:lnTo>
                      <a:pt x="536" y="279"/>
                    </a:lnTo>
                    <a:lnTo>
                      <a:pt x="520" y="272"/>
                    </a:lnTo>
                    <a:lnTo>
                      <a:pt x="505" y="264"/>
                    </a:lnTo>
                    <a:lnTo>
                      <a:pt x="491" y="257"/>
                    </a:lnTo>
                    <a:lnTo>
                      <a:pt x="476" y="248"/>
                    </a:lnTo>
                    <a:lnTo>
                      <a:pt x="460" y="241"/>
                    </a:lnTo>
                    <a:lnTo>
                      <a:pt x="445" y="233"/>
                    </a:lnTo>
                    <a:lnTo>
                      <a:pt x="432" y="226"/>
                    </a:lnTo>
                    <a:lnTo>
                      <a:pt x="416" y="217"/>
                    </a:lnTo>
                    <a:lnTo>
                      <a:pt x="400" y="210"/>
                    </a:lnTo>
                    <a:lnTo>
                      <a:pt x="385" y="202"/>
                    </a:lnTo>
                    <a:lnTo>
                      <a:pt x="372" y="195"/>
                    </a:lnTo>
                    <a:lnTo>
                      <a:pt x="356" y="188"/>
                    </a:lnTo>
                    <a:lnTo>
                      <a:pt x="341" y="182"/>
                    </a:lnTo>
                    <a:lnTo>
                      <a:pt x="325" y="175"/>
                    </a:lnTo>
                    <a:lnTo>
                      <a:pt x="312" y="168"/>
                    </a:lnTo>
                    <a:lnTo>
                      <a:pt x="294" y="162"/>
                    </a:lnTo>
                    <a:lnTo>
                      <a:pt x="279" y="155"/>
                    </a:lnTo>
                    <a:lnTo>
                      <a:pt x="263" y="148"/>
                    </a:lnTo>
                    <a:lnTo>
                      <a:pt x="248" y="144"/>
                    </a:lnTo>
                    <a:lnTo>
                      <a:pt x="230" y="137"/>
                    </a:lnTo>
                    <a:lnTo>
                      <a:pt x="217" y="133"/>
                    </a:lnTo>
                    <a:lnTo>
                      <a:pt x="199" y="128"/>
                    </a:lnTo>
                    <a:lnTo>
                      <a:pt x="186" y="126"/>
                    </a:lnTo>
                    <a:lnTo>
                      <a:pt x="168" y="120"/>
                    </a:lnTo>
                    <a:lnTo>
                      <a:pt x="152" y="117"/>
                    </a:lnTo>
                    <a:lnTo>
                      <a:pt x="135" y="113"/>
                    </a:lnTo>
                    <a:lnTo>
                      <a:pt x="119" y="113"/>
                    </a:lnTo>
                    <a:lnTo>
                      <a:pt x="101" y="111"/>
                    </a:lnTo>
                    <a:lnTo>
                      <a:pt x="86" y="109"/>
                    </a:lnTo>
                    <a:lnTo>
                      <a:pt x="68" y="109"/>
                    </a:lnTo>
                    <a:lnTo>
                      <a:pt x="53" y="111"/>
                    </a:lnTo>
                    <a:lnTo>
                      <a:pt x="31" y="115"/>
                    </a:lnTo>
                    <a:lnTo>
                      <a:pt x="11" y="120"/>
                    </a:lnTo>
                    <a:lnTo>
                      <a:pt x="0" y="126"/>
                    </a:lnTo>
                    <a:lnTo>
                      <a:pt x="4" y="111"/>
                    </a:lnTo>
                    <a:lnTo>
                      <a:pt x="13" y="100"/>
                    </a:lnTo>
                    <a:lnTo>
                      <a:pt x="22" y="86"/>
                    </a:lnTo>
                    <a:lnTo>
                      <a:pt x="35" y="80"/>
                    </a:lnTo>
                    <a:lnTo>
                      <a:pt x="57" y="60"/>
                    </a:lnTo>
                    <a:lnTo>
                      <a:pt x="81" y="42"/>
                    </a:lnTo>
                    <a:lnTo>
                      <a:pt x="99" y="27"/>
                    </a:lnTo>
                    <a:lnTo>
                      <a:pt x="119" y="18"/>
                    </a:lnTo>
                    <a:lnTo>
                      <a:pt x="139" y="9"/>
                    </a:lnTo>
                    <a:lnTo>
                      <a:pt x="163" y="4"/>
                    </a:lnTo>
                    <a:lnTo>
                      <a:pt x="183" y="0"/>
                    </a:lnTo>
                    <a:lnTo>
                      <a:pt x="208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48" y="0"/>
                    </a:lnTo>
                    <a:lnTo>
                      <a:pt x="261" y="2"/>
                    </a:lnTo>
                    <a:lnTo>
                      <a:pt x="281" y="4"/>
                    </a:lnTo>
                    <a:lnTo>
                      <a:pt x="303" y="9"/>
                    </a:lnTo>
                    <a:lnTo>
                      <a:pt x="325" y="16"/>
                    </a:lnTo>
                    <a:lnTo>
                      <a:pt x="347" y="22"/>
                    </a:lnTo>
                    <a:lnTo>
                      <a:pt x="367" y="27"/>
                    </a:lnTo>
                    <a:lnTo>
                      <a:pt x="389" y="33"/>
                    </a:lnTo>
                    <a:lnTo>
                      <a:pt x="409" y="40"/>
                    </a:lnTo>
                    <a:lnTo>
                      <a:pt x="432" y="49"/>
                    </a:lnTo>
                    <a:lnTo>
                      <a:pt x="451" y="55"/>
                    </a:lnTo>
                    <a:lnTo>
                      <a:pt x="471" y="62"/>
                    </a:lnTo>
                    <a:lnTo>
                      <a:pt x="494" y="69"/>
                    </a:lnTo>
                    <a:lnTo>
                      <a:pt x="516" y="75"/>
                    </a:lnTo>
                    <a:lnTo>
                      <a:pt x="536" y="80"/>
                    </a:lnTo>
                    <a:lnTo>
                      <a:pt x="560" y="84"/>
                    </a:lnTo>
                    <a:lnTo>
                      <a:pt x="582" y="86"/>
                    </a:lnTo>
                    <a:lnTo>
                      <a:pt x="607" y="91"/>
                    </a:lnTo>
                    <a:close/>
                  </a:path>
                </a:pathLst>
              </a:custGeom>
              <a:solidFill>
                <a:srgbClr val="e3a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6667200" y="2940480"/>
                <a:ext cx="428040" cy="300960"/>
              </a:xfrm>
              <a:custGeom>
                <a:avLst/>
                <a:gdLst/>
                <a:ahLst/>
                <a:rect l="l" t="t" r="r" b="b"/>
                <a:pathLst>
                  <a:path w="299" h="197">
                    <a:moveTo>
                      <a:pt x="4" y="82"/>
                    </a:moveTo>
                    <a:lnTo>
                      <a:pt x="11" y="93"/>
                    </a:lnTo>
                    <a:lnTo>
                      <a:pt x="27" y="111"/>
                    </a:lnTo>
                    <a:lnTo>
                      <a:pt x="35" y="120"/>
                    </a:lnTo>
                    <a:lnTo>
                      <a:pt x="46" y="129"/>
                    </a:lnTo>
                    <a:lnTo>
                      <a:pt x="60" y="138"/>
                    </a:lnTo>
                    <a:lnTo>
                      <a:pt x="75" y="149"/>
                    </a:lnTo>
                    <a:lnTo>
                      <a:pt x="89" y="155"/>
                    </a:lnTo>
                    <a:lnTo>
                      <a:pt x="102" y="164"/>
                    </a:lnTo>
                    <a:lnTo>
                      <a:pt x="117" y="171"/>
                    </a:lnTo>
                    <a:lnTo>
                      <a:pt x="133" y="180"/>
                    </a:lnTo>
                    <a:lnTo>
                      <a:pt x="148" y="184"/>
                    </a:lnTo>
                    <a:lnTo>
                      <a:pt x="166" y="191"/>
                    </a:lnTo>
                    <a:lnTo>
                      <a:pt x="182" y="193"/>
                    </a:lnTo>
                    <a:lnTo>
                      <a:pt x="199" y="197"/>
                    </a:lnTo>
                    <a:lnTo>
                      <a:pt x="213" y="195"/>
                    </a:lnTo>
                    <a:lnTo>
                      <a:pt x="226" y="193"/>
                    </a:lnTo>
                    <a:lnTo>
                      <a:pt x="239" y="186"/>
                    </a:lnTo>
                    <a:lnTo>
                      <a:pt x="253" y="182"/>
                    </a:lnTo>
                    <a:lnTo>
                      <a:pt x="270" y="164"/>
                    </a:lnTo>
                    <a:lnTo>
                      <a:pt x="286" y="146"/>
                    </a:lnTo>
                    <a:lnTo>
                      <a:pt x="292" y="122"/>
                    </a:lnTo>
                    <a:lnTo>
                      <a:pt x="299" y="102"/>
                    </a:lnTo>
                    <a:lnTo>
                      <a:pt x="299" y="82"/>
                    </a:lnTo>
                    <a:lnTo>
                      <a:pt x="299" y="69"/>
                    </a:lnTo>
                    <a:lnTo>
                      <a:pt x="288" y="53"/>
                    </a:lnTo>
                    <a:lnTo>
                      <a:pt x="270" y="40"/>
                    </a:lnTo>
                    <a:lnTo>
                      <a:pt x="257" y="33"/>
                    </a:lnTo>
                    <a:lnTo>
                      <a:pt x="246" y="27"/>
                    </a:lnTo>
                    <a:lnTo>
                      <a:pt x="233" y="22"/>
                    </a:lnTo>
                    <a:lnTo>
                      <a:pt x="221" y="18"/>
                    </a:lnTo>
                    <a:lnTo>
                      <a:pt x="206" y="11"/>
                    </a:lnTo>
                    <a:lnTo>
                      <a:pt x="190" y="7"/>
                    </a:lnTo>
                    <a:lnTo>
                      <a:pt x="175" y="2"/>
                    </a:lnTo>
                    <a:lnTo>
                      <a:pt x="162" y="2"/>
                    </a:lnTo>
                    <a:lnTo>
                      <a:pt x="148" y="0"/>
                    </a:lnTo>
                    <a:lnTo>
                      <a:pt x="135" y="0"/>
                    </a:lnTo>
                    <a:lnTo>
                      <a:pt x="122" y="0"/>
                    </a:lnTo>
                    <a:lnTo>
                      <a:pt x="111" y="5"/>
                    </a:lnTo>
                    <a:lnTo>
                      <a:pt x="97" y="5"/>
                    </a:lnTo>
                    <a:lnTo>
                      <a:pt x="84" y="7"/>
                    </a:lnTo>
                    <a:lnTo>
                      <a:pt x="73" y="9"/>
                    </a:lnTo>
                    <a:lnTo>
                      <a:pt x="64" y="16"/>
                    </a:lnTo>
                    <a:lnTo>
                      <a:pt x="42" y="22"/>
                    </a:lnTo>
                    <a:lnTo>
                      <a:pt x="27" y="33"/>
                    </a:lnTo>
                    <a:lnTo>
                      <a:pt x="11" y="45"/>
                    </a:lnTo>
                    <a:lnTo>
                      <a:pt x="4" y="58"/>
                    </a:lnTo>
                    <a:lnTo>
                      <a:pt x="0" y="69"/>
                    </a:lnTo>
                    <a:lnTo>
                      <a:pt x="4" y="82"/>
                    </a:lnTo>
                    <a:close/>
                  </a:path>
                </a:pathLst>
              </a:custGeom>
              <a:solidFill>
                <a:srgbClr val="e3a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6685920" y="2967840"/>
                <a:ext cx="388080" cy="267840"/>
              </a:xfrm>
              <a:custGeom>
                <a:avLst/>
                <a:gdLst/>
                <a:ahLst/>
                <a:rect l="l" t="t" r="r" b="b"/>
                <a:pathLst>
                  <a:path w="271" h="175">
                    <a:moveTo>
                      <a:pt x="5" y="73"/>
                    </a:moveTo>
                    <a:lnTo>
                      <a:pt x="12" y="84"/>
                    </a:lnTo>
                    <a:lnTo>
                      <a:pt x="27" y="100"/>
                    </a:lnTo>
                    <a:lnTo>
                      <a:pt x="34" y="106"/>
                    </a:lnTo>
                    <a:lnTo>
                      <a:pt x="45" y="115"/>
                    </a:lnTo>
                    <a:lnTo>
                      <a:pt x="56" y="122"/>
                    </a:lnTo>
                    <a:lnTo>
                      <a:pt x="69" y="133"/>
                    </a:lnTo>
                    <a:lnTo>
                      <a:pt x="80" y="139"/>
                    </a:lnTo>
                    <a:lnTo>
                      <a:pt x="94" y="146"/>
                    </a:lnTo>
                    <a:lnTo>
                      <a:pt x="107" y="153"/>
                    </a:lnTo>
                    <a:lnTo>
                      <a:pt x="120" y="159"/>
                    </a:lnTo>
                    <a:lnTo>
                      <a:pt x="133" y="164"/>
                    </a:lnTo>
                    <a:lnTo>
                      <a:pt x="149" y="168"/>
                    </a:lnTo>
                    <a:lnTo>
                      <a:pt x="164" y="170"/>
                    </a:lnTo>
                    <a:lnTo>
                      <a:pt x="180" y="175"/>
                    </a:lnTo>
                    <a:lnTo>
                      <a:pt x="191" y="173"/>
                    </a:lnTo>
                    <a:lnTo>
                      <a:pt x="204" y="170"/>
                    </a:lnTo>
                    <a:lnTo>
                      <a:pt x="215" y="166"/>
                    </a:lnTo>
                    <a:lnTo>
                      <a:pt x="226" y="162"/>
                    </a:lnTo>
                    <a:lnTo>
                      <a:pt x="242" y="146"/>
                    </a:lnTo>
                    <a:lnTo>
                      <a:pt x="257" y="131"/>
                    </a:lnTo>
                    <a:lnTo>
                      <a:pt x="264" y="111"/>
                    </a:lnTo>
                    <a:lnTo>
                      <a:pt x="271" y="91"/>
                    </a:lnTo>
                    <a:lnTo>
                      <a:pt x="271" y="71"/>
                    </a:lnTo>
                    <a:lnTo>
                      <a:pt x="269" y="60"/>
                    </a:lnTo>
                    <a:lnTo>
                      <a:pt x="257" y="46"/>
                    </a:lnTo>
                    <a:lnTo>
                      <a:pt x="242" y="33"/>
                    </a:lnTo>
                    <a:lnTo>
                      <a:pt x="222" y="22"/>
                    </a:lnTo>
                    <a:lnTo>
                      <a:pt x="200" y="13"/>
                    </a:lnTo>
                    <a:lnTo>
                      <a:pt x="187" y="7"/>
                    </a:lnTo>
                    <a:lnTo>
                      <a:pt x="173" y="4"/>
                    </a:lnTo>
                    <a:lnTo>
                      <a:pt x="160" y="0"/>
                    </a:lnTo>
                    <a:lnTo>
                      <a:pt x="147" y="0"/>
                    </a:lnTo>
                    <a:lnTo>
                      <a:pt x="133" y="0"/>
                    </a:lnTo>
                    <a:lnTo>
                      <a:pt x="122" y="0"/>
                    </a:lnTo>
                    <a:lnTo>
                      <a:pt x="109" y="0"/>
                    </a:lnTo>
                    <a:lnTo>
                      <a:pt x="100" y="2"/>
                    </a:lnTo>
                    <a:lnTo>
                      <a:pt x="78" y="4"/>
                    </a:lnTo>
                    <a:lnTo>
                      <a:pt x="58" y="11"/>
                    </a:lnTo>
                    <a:lnTo>
                      <a:pt x="38" y="18"/>
                    </a:lnTo>
                    <a:lnTo>
                      <a:pt x="25" y="29"/>
                    </a:lnTo>
                    <a:lnTo>
                      <a:pt x="12" y="38"/>
                    </a:lnTo>
                    <a:lnTo>
                      <a:pt x="5" y="49"/>
                    </a:lnTo>
                    <a:lnTo>
                      <a:pt x="0" y="60"/>
                    </a:lnTo>
                    <a:lnTo>
                      <a:pt x="5" y="73"/>
                    </a:lnTo>
                    <a:close/>
                  </a:path>
                </a:pathLst>
              </a:custGeom>
              <a:solidFill>
                <a:srgbClr val="d19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6708600" y="2990520"/>
                <a:ext cx="336600" cy="237240"/>
              </a:xfrm>
              <a:custGeom>
                <a:avLst/>
                <a:gdLst/>
                <a:ahLst/>
                <a:rect l="l" t="t" r="r" b="b"/>
                <a:pathLst>
                  <a:path w="235" h="155">
                    <a:moveTo>
                      <a:pt x="0" y="65"/>
                    </a:moveTo>
                    <a:lnTo>
                      <a:pt x="5" y="76"/>
                    </a:lnTo>
                    <a:lnTo>
                      <a:pt x="18" y="89"/>
                    </a:lnTo>
                    <a:lnTo>
                      <a:pt x="34" y="102"/>
                    </a:lnTo>
                    <a:lnTo>
                      <a:pt x="56" y="118"/>
                    </a:lnTo>
                    <a:lnTo>
                      <a:pt x="65" y="122"/>
                    </a:lnTo>
                    <a:lnTo>
                      <a:pt x="78" y="129"/>
                    </a:lnTo>
                    <a:lnTo>
                      <a:pt x="89" y="136"/>
                    </a:lnTo>
                    <a:lnTo>
                      <a:pt x="102" y="142"/>
                    </a:lnTo>
                    <a:lnTo>
                      <a:pt x="116" y="144"/>
                    </a:lnTo>
                    <a:lnTo>
                      <a:pt x="129" y="149"/>
                    </a:lnTo>
                    <a:lnTo>
                      <a:pt x="142" y="151"/>
                    </a:lnTo>
                    <a:lnTo>
                      <a:pt x="155" y="155"/>
                    </a:lnTo>
                    <a:lnTo>
                      <a:pt x="175" y="151"/>
                    </a:lnTo>
                    <a:lnTo>
                      <a:pt x="195" y="144"/>
                    </a:lnTo>
                    <a:lnTo>
                      <a:pt x="211" y="131"/>
                    </a:lnTo>
                    <a:lnTo>
                      <a:pt x="224" y="118"/>
                    </a:lnTo>
                    <a:lnTo>
                      <a:pt x="231" y="100"/>
                    </a:lnTo>
                    <a:lnTo>
                      <a:pt x="235" y="82"/>
                    </a:lnTo>
                    <a:lnTo>
                      <a:pt x="235" y="65"/>
                    </a:lnTo>
                    <a:lnTo>
                      <a:pt x="233" y="54"/>
                    </a:lnTo>
                    <a:lnTo>
                      <a:pt x="224" y="40"/>
                    </a:lnTo>
                    <a:lnTo>
                      <a:pt x="211" y="31"/>
                    </a:lnTo>
                    <a:lnTo>
                      <a:pt x="191" y="20"/>
                    </a:lnTo>
                    <a:lnTo>
                      <a:pt x="171" y="14"/>
                    </a:lnTo>
                    <a:lnTo>
                      <a:pt x="147" y="7"/>
                    </a:lnTo>
                    <a:lnTo>
                      <a:pt x="124" y="3"/>
                    </a:lnTo>
                    <a:lnTo>
                      <a:pt x="102" y="0"/>
                    </a:lnTo>
                    <a:lnTo>
                      <a:pt x="85" y="3"/>
                    </a:lnTo>
                    <a:lnTo>
                      <a:pt x="65" y="5"/>
                    </a:lnTo>
                    <a:lnTo>
                      <a:pt x="49" y="12"/>
                    </a:lnTo>
                    <a:lnTo>
                      <a:pt x="31" y="18"/>
                    </a:lnTo>
                    <a:lnTo>
                      <a:pt x="20" y="27"/>
                    </a:lnTo>
                    <a:lnTo>
                      <a:pt x="3" y="4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48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6730200" y="3018600"/>
                <a:ext cx="292320" cy="203400"/>
              </a:xfrm>
              <a:custGeom>
                <a:avLst/>
                <a:gdLst/>
                <a:ahLst/>
                <a:rect l="l" t="t" r="r" b="b"/>
                <a:pathLst>
                  <a:path w="204" h="133">
                    <a:moveTo>
                      <a:pt x="2" y="56"/>
                    </a:moveTo>
                    <a:lnTo>
                      <a:pt x="7" y="62"/>
                    </a:lnTo>
                    <a:lnTo>
                      <a:pt x="18" y="75"/>
                    </a:lnTo>
                    <a:lnTo>
                      <a:pt x="29" y="87"/>
                    </a:lnTo>
                    <a:lnTo>
                      <a:pt x="49" y="100"/>
                    </a:lnTo>
                    <a:lnTo>
                      <a:pt x="69" y="111"/>
                    </a:lnTo>
                    <a:lnTo>
                      <a:pt x="91" y="122"/>
                    </a:lnTo>
                    <a:lnTo>
                      <a:pt x="111" y="126"/>
                    </a:lnTo>
                    <a:lnTo>
                      <a:pt x="135" y="133"/>
                    </a:lnTo>
                    <a:lnTo>
                      <a:pt x="153" y="131"/>
                    </a:lnTo>
                    <a:lnTo>
                      <a:pt x="170" y="124"/>
                    </a:lnTo>
                    <a:lnTo>
                      <a:pt x="184" y="111"/>
                    </a:lnTo>
                    <a:lnTo>
                      <a:pt x="195" y="100"/>
                    </a:lnTo>
                    <a:lnTo>
                      <a:pt x="199" y="82"/>
                    </a:lnTo>
                    <a:lnTo>
                      <a:pt x="204" y="69"/>
                    </a:lnTo>
                    <a:lnTo>
                      <a:pt x="204" y="56"/>
                    </a:lnTo>
                    <a:lnTo>
                      <a:pt x="204" y="47"/>
                    </a:lnTo>
                    <a:lnTo>
                      <a:pt x="195" y="36"/>
                    </a:lnTo>
                    <a:lnTo>
                      <a:pt x="182" y="27"/>
                    </a:lnTo>
                    <a:lnTo>
                      <a:pt x="166" y="18"/>
                    </a:lnTo>
                    <a:lnTo>
                      <a:pt x="148" y="11"/>
                    </a:lnTo>
                    <a:lnTo>
                      <a:pt x="128" y="5"/>
                    </a:lnTo>
                    <a:lnTo>
                      <a:pt x="108" y="0"/>
                    </a:lnTo>
                    <a:lnTo>
                      <a:pt x="89" y="0"/>
                    </a:lnTo>
                    <a:lnTo>
                      <a:pt x="73" y="2"/>
                    </a:lnTo>
                    <a:lnTo>
                      <a:pt x="55" y="2"/>
                    </a:lnTo>
                    <a:lnTo>
                      <a:pt x="42" y="9"/>
                    </a:lnTo>
                    <a:lnTo>
                      <a:pt x="26" y="13"/>
                    </a:lnTo>
                    <a:lnTo>
                      <a:pt x="18" y="22"/>
                    </a:lnTo>
                    <a:lnTo>
                      <a:pt x="0" y="38"/>
                    </a:lnTo>
                    <a:lnTo>
                      <a:pt x="2" y="56"/>
                    </a:lnTo>
                    <a:close/>
                  </a:path>
                </a:pathLst>
              </a:custGeom>
              <a:solidFill>
                <a:srgbClr val="b37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6753240" y="3042720"/>
                <a:ext cx="243360" cy="175680"/>
              </a:xfrm>
              <a:custGeom>
                <a:avLst/>
                <a:gdLst/>
                <a:ahLst/>
                <a:rect l="l" t="t" r="r" b="b"/>
                <a:pathLst>
                  <a:path w="170" h="115">
                    <a:moveTo>
                      <a:pt x="0" y="48"/>
                    </a:moveTo>
                    <a:lnTo>
                      <a:pt x="2" y="55"/>
                    </a:lnTo>
                    <a:lnTo>
                      <a:pt x="11" y="64"/>
                    </a:lnTo>
                    <a:lnTo>
                      <a:pt x="22" y="75"/>
                    </a:lnTo>
                    <a:lnTo>
                      <a:pt x="40" y="86"/>
                    </a:lnTo>
                    <a:lnTo>
                      <a:pt x="55" y="95"/>
                    </a:lnTo>
                    <a:lnTo>
                      <a:pt x="75" y="104"/>
                    </a:lnTo>
                    <a:lnTo>
                      <a:pt x="93" y="110"/>
                    </a:lnTo>
                    <a:lnTo>
                      <a:pt x="113" y="115"/>
                    </a:lnTo>
                    <a:lnTo>
                      <a:pt x="128" y="110"/>
                    </a:lnTo>
                    <a:lnTo>
                      <a:pt x="144" y="106"/>
                    </a:lnTo>
                    <a:lnTo>
                      <a:pt x="155" y="95"/>
                    </a:lnTo>
                    <a:lnTo>
                      <a:pt x="164" y="86"/>
                    </a:lnTo>
                    <a:lnTo>
                      <a:pt x="168" y="73"/>
                    </a:lnTo>
                    <a:lnTo>
                      <a:pt x="170" y="59"/>
                    </a:lnTo>
                    <a:lnTo>
                      <a:pt x="170" y="46"/>
                    </a:lnTo>
                    <a:lnTo>
                      <a:pt x="170" y="40"/>
                    </a:lnTo>
                    <a:lnTo>
                      <a:pt x="164" y="31"/>
                    </a:lnTo>
                    <a:lnTo>
                      <a:pt x="152" y="22"/>
                    </a:lnTo>
                    <a:lnTo>
                      <a:pt x="139" y="15"/>
                    </a:lnTo>
                    <a:lnTo>
                      <a:pt x="126" y="11"/>
                    </a:lnTo>
                    <a:lnTo>
                      <a:pt x="108" y="4"/>
                    </a:lnTo>
                    <a:lnTo>
                      <a:pt x="90" y="2"/>
                    </a:lnTo>
                    <a:lnTo>
                      <a:pt x="75" y="0"/>
                    </a:lnTo>
                    <a:lnTo>
                      <a:pt x="62" y="2"/>
                    </a:lnTo>
                    <a:lnTo>
                      <a:pt x="46" y="2"/>
                    </a:lnTo>
                    <a:lnTo>
                      <a:pt x="33" y="6"/>
                    </a:lnTo>
                    <a:lnTo>
                      <a:pt x="20" y="13"/>
                    </a:lnTo>
                    <a:lnTo>
                      <a:pt x="13" y="20"/>
                    </a:lnTo>
                    <a:lnTo>
                      <a:pt x="0" y="33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a361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6771600" y="3065760"/>
                <a:ext cx="206280" cy="145440"/>
              </a:xfrm>
              <a:custGeom>
                <a:avLst/>
                <a:gdLst/>
                <a:ahLst/>
                <a:rect l="l" t="t" r="r" b="b"/>
                <a:pathLst>
                  <a:path w="144" h="95">
                    <a:moveTo>
                      <a:pt x="2" y="40"/>
                    </a:moveTo>
                    <a:lnTo>
                      <a:pt x="4" y="44"/>
                    </a:lnTo>
                    <a:lnTo>
                      <a:pt x="11" y="53"/>
                    </a:lnTo>
                    <a:lnTo>
                      <a:pt x="22" y="60"/>
                    </a:lnTo>
                    <a:lnTo>
                      <a:pt x="35" y="71"/>
                    </a:lnTo>
                    <a:lnTo>
                      <a:pt x="49" y="78"/>
                    </a:lnTo>
                    <a:lnTo>
                      <a:pt x="64" y="87"/>
                    </a:lnTo>
                    <a:lnTo>
                      <a:pt x="77" y="91"/>
                    </a:lnTo>
                    <a:lnTo>
                      <a:pt x="95" y="95"/>
                    </a:lnTo>
                    <a:lnTo>
                      <a:pt x="106" y="91"/>
                    </a:lnTo>
                    <a:lnTo>
                      <a:pt x="120" y="87"/>
                    </a:lnTo>
                    <a:lnTo>
                      <a:pt x="128" y="78"/>
                    </a:lnTo>
                    <a:lnTo>
                      <a:pt x="137" y="71"/>
                    </a:lnTo>
                    <a:lnTo>
                      <a:pt x="144" y="49"/>
                    </a:lnTo>
                    <a:lnTo>
                      <a:pt x="144" y="36"/>
                    </a:lnTo>
                    <a:lnTo>
                      <a:pt x="137" y="27"/>
                    </a:lnTo>
                    <a:lnTo>
                      <a:pt x="128" y="20"/>
                    </a:lnTo>
                    <a:lnTo>
                      <a:pt x="115" y="13"/>
                    </a:lnTo>
                    <a:lnTo>
                      <a:pt x="104" y="9"/>
                    </a:lnTo>
                    <a:lnTo>
                      <a:pt x="89" y="2"/>
                    </a:lnTo>
                    <a:lnTo>
                      <a:pt x="75" y="2"/>
                    </a:lnTo>
                    <a:lnTo>
                      <a:pt x="62" y="0"/>
                    </a:lnTo>
                    <a:lnTo>
                      <a:pt x="53" y="2"/>
                    </a:lnTo>
                    <a:lnTo>
                      <a:pt x="29" y="7"/>
                    </a:lnTo>
                    <a:lnTo>
                      <a:pt x="13" y="18"/>
                    </a:lnTo>
                    <a:lnTo>
                      <a:pt x="0" y="27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9454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6794280" y="3093480"/>
                <a:ext cx="157320" cy="114480"/>
              </a:xfrm>
              <a:custGeom>
                <a:avLst/>
                <a:gdLst/>
                <a:ahLst/>
                <a:rect l="l" t="t" r="r" b="b"/>
                <a:pathLst>
                  <a:path w="110" h="75">
                    <a:moveTo>
                      <a:pt x="0" y="31"/>
                    </a:moveTo>
                    <a:lnTo>
                      <a:pt x="6" y="42"/>
                    </a:lnTo>
                    <a:lnTo>
                      <a:pt x="26" y="55"/>
                    </a:lnTo>
                    <a:lnTo>
                      <a:pt x="35" y="62"/>
                    </a:lnTo>
                    <a:lnTo>
                      <a:pt x="48" y="69"/>
                    </a:lnTo>
                    <a:lnTo>
                      <a:pt x="59" y="71"/>
                    </a:lnTo>
                    <a:lnTo>
                      <a:pt x="73" y="75"/>
                    </a:lnTo>
                    <a:lnTo>
                      <a:pt x="93" y="69"/>
                    </a:lnTo>
                    <a:lnTo>
                      <a:pt x="106" y="55"/>
                    </a:lnTo>
                    <a:lnTo>
                      <a:pt x="110" y="38"/>
                    </a:lnTo>
                    <a:lnTo>
                      <a:pt x="110" y="26"/>
                    </a:lnTo>
                    <a:lnTo>
                      <a:pt x="99" y="13"/>
                    </a:lnTo>
                    <a:lnTo>
                      <a:pt x="82" y="7"/>
                    </a:lnTo>
                    <a:lnTo>
                      <a:pt x="57" y="0"/>
                    </a:lnTo>
                    <a:lnTo>
                      <a:pt x="40" y="2"/>
                    </a:lnTo>
                    <a:lnTo>
                      <a:pt x="20" y="4"/>
                    </a:lnTo>
                    <a:lnTo>
                      <a:pt x="9" y="13"/>
                    </a:lnTo>
                    <a:lnTo>
                      <a:pt x="0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8242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>
                <a:off x="6813360" y="3116520"/>
                <a:ext cx="119880" cy="85680"/>
              </a:xfrm>
              <a:custGeom>
                <a:avLst/>
                <a:gdLst/>
                <a:ahLst/>
                <a:rect l="l" t="t" r="r" b="b"/>
                <a:pathLst>
                  <a:path w="84" h="56">
                    <a:moveTo>
                      <a:pt x="2" y="23"/>
                    </a:moveTo>
                    <a:lnTo>
                      <a:pt x="9" y="31"/>
                    </a:lnTo>
                    <a:lnTo>
                      <a:pt x="22" y="42"/>
                    </a:lnTo>
                    <a:lnTo>
                      <a:pt x="38" y="49"/>
                    </a:lnTo>
                    <a:lnTo>
                      <a:pt x="58" y="56"/>
                    </a:lnTo>
                    <a:lnTo>
                      <a:pt x="71" y="51"/>
                    </a:lnTo>
                    <a:lnTo>
                      <a:pt x="80" y="40"/>
                    </a:lnTo>
                    <a:lnTo>
                      <a:pt x="84" y="29"/>
                    </a:lnTo>
                    <a:lnTo>
                      <a:pt x="84" y="20"/>
                    </a:lnTo>
                    <a:lnTo>
                      <a:pt x="73" y="11"/>
                    </a:lnTo>
                    <a:lnTo>
                      <a:pt x="60" y="5"/>
                    </a:lnTo>
                    <a:lnTo>
                      <a:pt x="44" y="0"/>
                    </a:lnTo>
                    <a:lnTo>
                      <a:pt x="31" y="3"/>
                    </a:lnTo>
                    <a:lnTo>
                      <a:pt x="18" y="5"/>
                    </a:lnTo>
                    <a:lnTo>
                      <a:pt x="7" y="9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03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6834600" y="3140640"/>
                <a:ext cx="73080" cy="5364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0" y="15"/>
                    </a:moveTo>
                    <a:lnTo>
                      <a:pt x="2" y="20"/>
                    </a:lnTo>
                    <a:lnTo>
                      <a:pt x="11" y="26"/>
                    </a:lnTo>
                    <a:lnTo>
                      <a:pt x="22" y="31"/>
                    </a:lnTo>
                    <a:lnTo>
                      <a:pt x="33" y="35"/>
                    </a:lnTo>
                    <a:lnTo>
                      <a:pt x="40" y="31"/>
                    </a:lnTo>
                    <a:lnTo>
                      <a:pt x="48" y="26"/>
                    </a:lnTo>
                    <a:lnTo>
                      <a:pt x="48" y="18"/>
                    </a:lnTo>
                    <a:lnTo>
                      <a:pt x="51" y="13"/>
                    </a:lnTo>
                    <a:lnTo>
                      <a:pt x="44" y="7"/>
                    </a:lnTo>
                    <a:lnTo>
                      <a:pt x="37" y="4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2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3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>
                <a:off x="6273360" y="3029040"/>
                <a:ext cx="406800" cy="368640"/>
              </a:xfrm>
              <a:custGeom>
                <a:avLst/>
                <a:gdLst/>
                <a:ahLst/>
                <a:rect l="l" t="t" r="r" b="b"/>
                <a:pathLst>
                  <a:path w="284" h="241">
                    <a:moveTo>
                      <a:pt x="27" y="173"/>
                    </a:moveTo>
                    <a:lnTo>
                      <a:pt x="33" y="177"/>
                    </a:lnTo>
                    <a:lnTo>
                      <a:pt x="44" y="184"/>
                    </a:lnTo>
                    <a:lnTo>
                      <a:pt x="56" y="190"/>
                    </a:lnTo>
                    <a:lnTo>
                      <a:pt x="71" y="197"/>
                    </a:lnTo>
                    <a:lnTo>
                      <a:pt x="84" y="201"/>
                    </a:lnTo>
                    <a:lnTo>
                      <a:pt x="102" y="208"/>
                    </a:lnTo>
                    <a:lnTo>
                      <a:pt x="118" y="215"/>
                    </a:lnTo>
                    <a:lnTo>
                      <a:pt x="135" y="221"/>
                    </a:lnTo>
                    <a:lnTo>
                      <a:pt x="151" y="223"/>
                    </a:lnTo>
                    <a:lnTo>
                      <a:pt x="169" y="228"/>
                    </a:lnTo>
                    <a:lnTo>
                      <a:pt x="184" y="232"/>
                    </a:lnTo>
                    <a:lnTo>
                      <a:pt x="202" y="237"/>
                    </a:lnTo>
                    <a:lnTo>
                      <a:pt x="217" y="237"/>
                    </a:lnTo>
                    <a:lnTo>
                      <a:pt x="233" y="239"/>
                    </a:lnTo>
                    <a:lnTo>
                      <a:pt x="246" y="239"/>
                    </a:lnTo>
                    <a:lnTo>
                      <a:pt x="259" y="241"/>
                    </a:lnTo>
                    <a:lnTo>
                      <a:pt x="275" y="232"/>
                    </a:lnTo>
                    <a:lnTo>
                      <a:pt x="284" y="217"/>
                    </a:lnTo>
                    <a:lnTo>
                      <a:pt x="284" y="204"/>
                    </a:lnTo>
                    <a:lnTo>
                      <a:pt x="284" y="192"/>
                    </a:lnTo>
                    <a:lnTo>
                      <a:pt x="282" y="179"/>
                    </a:lnTo>
                    <a:lnTo>
                      <a:pt x="279" y="168"/>
                    </a:lnTo>
                    <a:lnTo>
                      <a:pt x="273" y="150"/>
                    </a:lnTo>
                    <a:lnTo>
                      <a:pt x="266" y="137"/>
                    </a:lnTo>
                    <a:lnTo>
                      <a:pt x="257" y="119"/>
                    </a:lnTo>
                    <a:lnTo>
                      <a:pt x="251" y="106"/>
                    </a:lnTo>
                    <a:lnTo>
                      <a:pt x="239" y="93"/>
                    </a:lnTo>
                    <a:lnTo>
                      <a:pt x="231" y="80"/>
                    </a:lnTo>
                    <a:lnTo>
                      <a:pt x="222" y="66"/>
                    </a:lnTo>
                    <a:lnTo>
                      <a:pt x="213" y="57"/>
                    </a:lnTo>
                    <a:lnTo>
                      <a:pt x="191" y="35"/>
                    </a:lnTo>
                    <a:lnTo>
                      <a:pt x="169" y="22"/>
                    </a:lnTo>
                    <a:lnTo>
                      <a:pt x="146" y="9"/>
                    </a:lnTo>
                    <a:lnTo>
                      <a:pt x="126" y="4"/>
                    </a:lnTo>
                    <a:lnTo>
                      <a:pt x="104" y="0"/>
                    </a:lnTo>
                    <a:lnTo>
                      <a:pt x="82" y="2"/>
                    </a:lnTo>
                    <a:lnTo>
                      <a:pt x="62" y="6"/>
                    </a:lnTo>
                    <a:lnTo>
                      <a:pt x="47" y="20"/>
                    </a:lnTo>
                    <a:lnTo>
                      <a:pt x="29" y="31"/>
                    </a:lnTo>
                    <a:lnTo>
                      <a:pt x="16" y="51"/>
                    </a:lnTo>
                    <a:lnTo>
                      <a:pt x="7" y="71"/>
                    </a:lnTo>
                    <a:lnTo>
                      <a:pt x="2" y="93"/>
                    </a:lnTo>
                    <a:lnTo>
                      <a:pt x="0" y="115"/>
                    </a:lnTo>
                    <a:lnTo>
                      <a:pt x="5" y="137"/>
                    </a:lnTo>
                    <a:lnTo>
                      <a:pt x="11" y="155"/>
                    </a:lnTo>
                    <a:lnTo>
                      <a:pt x="27" y="173"/>
                    </a:lnTo>
                    <a:close/>
                  </a:path>
                </a:pathLst>
              </a:custGeom>
              <a:solidFill>
                <a:srgbClr val="e3a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6296400" y="3048840"/>
                <a:ext cx="357840" cy="329040"/>
              </a:xfrm>
              <a:custGeom>
                <a:avLst/>
                <a:gdLst/>
                <a:ahLst/>
                <a:rect l="l" t="t" r="r" b="b"/>
                <a:pathLst>
                  <a:path w="250" h="215">
                    <a:moveTo>
                      <a:pt x="24" y="153"/>
                    </a:moveTo>
                    <a:lnTo>
                      <a:pt x="40" y="164"/>
                    </a:lnTo>
                    <a:lnTo>
                      <a:pt x="62" y="175"/>
                    </a:lnTo>
                    <a:lnTo>
                      <a:pt x="75" y="179"/>
                    </a:lnTo>
                    <a:lnTo>
                      <a:pt x="89" y="186"/>
                    </a:lnTo>
                    <a:lnTo>
                      <a:pt x="104" y="191"/>
                    </a:lnTo>
                    <a:lnTo>
                      <a:pt x="120" y="197"/>
                    </a:lnTo>
                    <a:lnTo>
                      <a:pt x="133" y="199"/>
                    </a:lnTo>
                    <a:lnTo>
                      <a:pt x="148" y="204"/>
                    </a:lnTo>
                    <a:lnTo>
                      <a:pt x="164" y="206"/>
                    </a:lnTo>
                    <a:lnTo>
                      <a:pt x="179" y="210"/>
                    </a:lnTo>
                    <a:lnTo>
                      <a:pt x="193" y="210"/>
                    </a:lnTo>
                    <a:lnTo>
                      <a:pt x="206" y="213"/>
                    </a:lnTo>
                    <a:lnTo>
                      <a:pt x="217" y="213"/>
                    </a:lnTo>
                    <a:lnTo>
                      <a:pt x="230" y="215"/>
                    </a:lnTo>
                    <a:lnTo>
                      <a:pt x="244" y="206"/>
                    </a:lnTo>
                    <a:lnTo>
                      <a:pt x="250" y="193"/>
                    </a:lnTo>
                    <a:lnTo>
                      <a:pt x="250" y="173"/>
                    </a:lnTo>
                    <a:lnTo>
                      <a:pt x="246" y="151"/>
                    </a:lnTo>
                    <a:lnTo>
                      <a:pt x="239" y="135"/>
                    </a:lnTo>
                    <a:lnTo>
                      <a:pt x="233" y="122"/>
                    </a:lnTo>
                    <a:lnTo>
                      <a:pt x="226" y="109"/>
                    </a:lnTo>
                    <a:lnTo>
                      <a:pt x="219" y="98"/>
                    </a:lnTo>
                    <a:lnTo>
                      <a:pt x="210" y="84"/>
                    </a:lnTo>
                    <a:lnTo>
                      <a:pt x="204" y="71"/>
                    </a:lnTo>
                    <a:lnTo>
                      <a:pt x="195" y="60"/>
                    </a:lnTo>
                    <a:lnTo>
                      <a:pt x="188" y="53"/>
                    </a:lnTo>
                    <a:lnTo>
                      <a:pt x="168" y="33"/>
                    </a:lnTo>
                    <a:lnTo>
                      <a:pt x="148" y="22"/>
                    </a:lnTo>
                    <a:lnTo>
                      <a:pt x="128" y="9"/>
                    </a:lnTo>
                    <a:lnTo>
                      <a:pt x="111" y="5"/>
                    </a:lnTo>
                    <a:lnTo>
                      <a:pt x="91" y="0"/>
                    </a:lnTo>
                    <a:lnTo>
                      <a:pt x="71" y="2"/>
                    </a:lnTo>
                    <a:lnTo>
                      <a:pt x="53" y="7"/>
                    </a:lnTo>
                    <a:lnTo>
                      <a:pt x="40" y="20"/>
                    </a:lnTo>
                    <a:lnTo>
                      <a:pt x="24" y="31"/>
                    </a:lnTo>
                    <a:lnTo>
                      <a:pt x="13" y="47"/>
                    </a:lnTo>
                    <a:lnTo>
                      <a:pt x="4" y="64"/>
                    </a:lnTo>
                    <a:lnTo>
                      <a:pt x="2" y="84"/>
                    </a:lnTo>
                    <a:lnTo>
                      <a:pt x="0" y="102"/>
                    </a:lnTo>
                    <a:lnTo>
                      <a:pt x="2" y="122"/>
                    </a:lnTo>
                    <a:lnTo>
                      <a:pt x="9" y="137"/>
                    </a:lnTo>
                    <a:lnTo>
                      <a:pt x="24" y="153"/>
                    </a:lnTo>
                    <a:close/>
                  </a:path>
                </a:pathLst>
              </a:custGeom>
              <a:solidFill>
                <a:srgbClr val="e6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6314400" y="3068640"/>
                <a:ext cx="317880" cy="289440"/>
              </a:xfrm>
              <a:custGeom>
                <a:avLst/>
                <a:gdLst/>
                <a:ahLst/>
                <a:rect l="l" t="t" r="r" b="b"/>
                <a:pathLst>
                  <a:path w="222" h="189">
                    <a:moveTo>
                      <a:pt x="23" y="135"/>
                    </a:moveTo>
                    <a:lnTo>
                      <a:pt x="36" y="144"/>
                    </a:lnTo>
                    <a:lnTo>
                      <a:pt x="56" y="155"/>
                    </a:lnTo>
                    <a:lnTo>
                      <a:pt x="67" y="160"/>
                    </a:lnTo>
                    <a:lnTo>
                      <a:pt x="80" y="164"/>
                    </a:lnTo>
                    <a:lnTo>
                      <a:pt x="93" y="169"/>
                    </a:lnTo>
                    <a:lnTo>
                      <a:pt x="107" y="175"/>
                    </a:lnTo>
                    <a:lnTo>
                      <a:pt x="118" y="178"/>
                    </a:lnTo>
                    <a:lnTo>
                      <a:pt x="131" y="180"/>
                    </a:lnTo>
                    <a:lnTo>
                      <a:pt x="144" y="182"/>
                    </a:lnTo>
                    <a:lnTo>
                      <a:pt x="158" y="184"/>
                    </a:lnTo>
                    <a:lnTo>
                      <a:pt x="180" y="186"/>
                    </a:lnTo>
                    <a:lnTo>
                      <a:pt x="202" y="189"/>
                    </a:lnTo>
                    <a:lnTo>
                      <a:pt x="215" y="182"/>
                    </a:lnTo>
                    <a:lnTo>
                      <a:pt x="222" y="169"/>
                    </a:lnTo>
                    <a:lnTo>
                      <a:pt x="222" y="149"/>
                    </a:lnTo>
                    <a:lnTo>
                      <a:pt x="218" y="131"/>
                    </a:lnTo>
                    <a:lnTo>
                      <a:pt x="206" y="107"/>
                    </a:lnTo>
                    <a:lnTo>
                      <a:pt x="195" y="85"/>
                    </a:lnTo>
                    <a:lnTo>
                      <a:pt x="180" y="62"/>
                    </a:lnTo>
                    <a:lnTo>
                      <a:pt x="167" y="47"/>
                    </a:lnTo>
                    <a:lnTo>
                      <a:pt x="149" y="31"/>
                    </a:lnTo>
                    <a:lnTo>
                      <a:pt x="131" y="18"/>
                    </a:lnTo>
                    <a:lnTo>
                      <a:pt x="113" y="9"/>
                    </a:lnTo>
                    <a:lnTo>
                      <a:pt x="98" y="5"/>
                    </a:lnTo>
                    <a:lnTo>
                      <a:pt x="80" y="0"/>
                    </a:lnTo>
                    <a:lnTo>
                      <a:pt x="65" y="3"/>
                    </a:lnTo>
                    <a:lnTo>
                      <a:pt x="51" y="7"/>
                    </a:lnTo>
                    <a:lnTo>
                      <a:pt x="38" y="18"/>
                    </a:lnTo>
                    <a:lnTo>
                      <a:pt x="25" y="27"/>
                    </a:lnTo>
                    <a:lnTo>
                      <a:pt x="14" y="40"/>
                    </a:lnTo>
                    <a:lnTo>
                      <a:pt x="7" y="56"/>
                    </a:lnTo>
                    <a:lnTo>
                      <a:pt x="3" y="76"/>
                    </a:lnTo>
                    <a:lnTo>
                      <a:pt x="0" y="91"/>
                    </a:lnTo>
                    <a:lnTo>
                      <a:pt x="5" y="109"/>
                    </a:lnTo>
                    <a:lnTo>
                      <a:pt x="9" y="122"/>
                    </a:lnTo>
                    <a:lnTo>
                      <a:pt x="23" y="135"/>
                    </a:lnTo>
                    <a:close/>
                  </a:path>
                </a:pathLst>
              </a:custGeom>
              <a:solidFill>
                <a:srgbClr val="e8b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6337800" y="3093480"/>
                <a:ext cx="269280" cy="243000"/>
              </a:xfrm>
              <a:custGeom>
                <a:avLst/>
                <a:gdLst/>
                <a:ahLst/>
                <a:rect l="l" t="t" r="r" b="b"/>
                <a:pathLst>
                  <a:path w="188" h="159">
                    <a:moveTo>
                      <a:pt x="18" y="113"/>
                    </a:moveTo>
                    <a:lnTo>
                      <a:pt x="29" y="119"/>
                    </a:lnTo>
                    <a:lnTo>
                      <a:pt x="47" y="128"/>
                    </a:lnTo>
                    <a:lnTo>
                      <a:pt x="67" y="137"/>
                    </a:lnTo>
                    <a:lnTo>
                      <a:pt x="91" y="146"/>
                    </a:lnTo>
                    <a:lnTo>
                      <a:pt x="111" y="150"/>
                    </a:lnTo>
                    <a:lnTo>
                      <a:pt x="135" y="155"/>
                    </a:lnTo>
                    <a:lnTo>
                      <a:pt x="153" y="157"/>
                    </a:lnTo>
                    <a:lnTo>
                      <a:pt x="173" y="159"/>
                    </a:lnTo>
                    <a:lnTo>
                      <a:pt x="182" y="153"/>
                    </a:lnTo>
                    <a:lnTo>
                      <a:pt x="188" y="142"/>
                    </a:lnTo>
                    <a:lnTo>
                      <a:pt x="188" y="126"/>
                    </a:lnTo>
                    <a:lnTo>
                      <a:pt x="184" y="111"/>
                    </a:lnTo>
                    <a:lnTo>
                      <a:pt x="175" y="88"/>
                    </a:lnTo>
                    <a:lnTo>
                      <a:pt x="166" y="71"/>
                    </a:lnTo>
                    <a:lnTo>
                      <a:pt x="153" y="51"/>
                    </a:lnTo>
                    <a:lnTo>
                      <a:pt x="142" y="38"/>
                    </a:lnTo>
                    <a:lnTo>
                      <a:pt x="126" y="24"/>
                    </a:lnTo>
                    <a:lnTo>
                      <a:pt x="113" y="13"/>
                    </a:lnTo>
                    <a:lnTo>
                      <a:pt x="98" y="7"/>
                    </a:lnTo>
                    <a:lnTo>
                      <a:pt x="84" y="2"/>
                    </a:lnTo>
                    <a:lnTo>
                      <a:pt x="69" y="0"/>
                    </a:lnTo>
                    <a:lnTo>
                      <a:pt x="56" y="0"/>
                    </a:lnTo>
                    <a:lnTo>
                      <a:pt x="42" y="4"/>
                    </a:lnTo>
                    <a:lnTo>
                      <a:pt x="31" y="13"/>
                    </a:lnTo>
                    <a:lnTo>
                      <a:pt x="18" y="20"/>
                    </a:lnTo>
                    <a:lnTo>
                      <a:pt x="11" y="33"/>
                    </a:lnTo>
                    <a:lnTo>
                      <a:pt x="5" y="46"/>
                    </a:lnTo>
                    <a:lnTo>
                      <a:pt x="2" y="62"/>
                    </a:lnTo>
                    <a:lnTo>
                      <a:pt x="0" y="75"/>
                    </a:lnTo>
                    <a:lnTo>
                      <a:pt x="2" y="91"/>
                    </a:lnTo>
                    <a:lnTo>
                      <a:pt x="9" y="102"/>
                    </a:lnTo>
                    <a:lnTo>
                      <a:pt x="18" y="113"/>
                    </a:lnTo>
                    <a:close/>
                  </a:path>
                </a:pathLst>
              </a:custGeom>
              <a:solidFill>
                <a:srgbClr val="ebb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6359400" y="3113280"/>
                <a:ext cx="221760" cy="206280"/>
              </a:xfrm>
              <a:custGeom>
                <a:avLst/>
                <a:gdLst/>
                <a:ahLst/>
                <a:rect l="l" t="t" r="r" b="b"/>
                <a:pathLst>
                  <a:path w="155" h="135">
                    <a:moveTo>
                      <a:pt x="13" y="95"/>
                    </a:moveTo>
                    <a:lnTo>
                      <a:pt x="22" y="102"/>
                    </a:lnTo>
                    <a:lnTo>
                      <a:pt x="38" y="109"/>
                    </a:lnTo>
                    <a:lnTo>
                      <a:pt x="53" y="115"/>
                    </a:lnTo>
                    <a:lnTo>
                      <a:pt x="73" y="122"/>
                    </a:lnTo>
                    <a:lnTo>
                      <a:pt x="91" y="126"/>
                    </a:lnTo>
                    <a:lnTo>
                      <a:pt x="111" y="131"/>
                    </a:lnTo>
                    <a:lnTo>
                      <a:pt x="126" y="133"/>
                    </a:lnTo>
                    <a:lnTo>
                      <a:pt x="142" y="135"/>
                    </a:lnTo>
                    <a:lnTo>
                      <a:pt x="150" y="129"/>
                    </a:lnTo>
                    <a:lnTo>
                      <a:pt x="155" y="120"/>
                    </a:lnTo>
                    <a:lnTo>
                      <a:pt x="155" y="106"/>
                    </a:lnTo>
                    <a:lnTo>
                      <a:pt x="153" y="93"/>
                    </a:lnTo>
                    <a:lnTo>
                      <a:pt x="144" y="75"/>
                    </a:lnTo>
                    <a:lnTo>
                      <a:pt x="137" y="60"/>
                    </a:lnTo>
                    <a:lnTo>
                      <a:pt x="126" y="44"/>
                    </a:lnTo>
                    <a:lnTo>
                      <a:pt x="115" y="33"/>
                    </a:lnTo>
                    <a:lnTo>
                      <a:pt x="91" y="13"/>
                    </a:lnTo>
                    <a:lnTo>
                      <a:pt x="69" y="2"/>
                    </a:lnTo>
                    <a:lnTo>
                      <a:pt x="44" y="0"/>
                    </a:lnTo>
                    <a:lnTo>
                      <a:pt x="26" y="11"/>
                    </a:lnTo>
                    <a:lnTo>
                      <a:pt x="15" y="18"/>
                    </a:lnTo>
                    <a:lnTo>
                      <a:pt x="9" y="29"/>
                    </a:lnTo>
                    <a:lnTo>
                      <a:pt x="2" y="40"/>
                    </a:lnTo>
                    <a:lnTo>
                      <a:pt x="0" y="53"/>
                    </a:lnTo>
                    <a:lnTo>
                      <a:pt x="0" y="75"/>
                    </a:lnTo>
                    <a:lnTo>
                      <a:pt x="13" y="95"/>
                    </a:lnTo>
                    <a:close/>
                  </a:path>
                </a:pathLst>
              </a:custGeom>
              <a:solidFill>
                <a:srgbClr val="edbd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6381720" y="3137760"/>
                <a:ext cx="173160" cy="15876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1" y="75"/>
                    </a:moveTo>
                    <a:lnTo>
                      <a:pt x="17" y="79"/>
                    </a:lnTo>
                    <a:lnTo>
                      <a:pt x="31" y="84"/>
                    </a:lnTo>
                    <a:lnTo>
                      <a:pt x="42" y="88"/>
                    </a:lnTo>
                    <a:lnTo>
                      <a:pt x="57" y="95"/>
                    </a:lnTo>
                    <a:lnTo>
                      <a:pt x="70" y="97"/>
                    </a:lnTo>
                    <a:lnTo>
                      <a:pt x="86" y="102"/>
                    </a:lnTo>
                    <a:lnTo>
                      <a:pt x="99" y="102"/>
                    </a:lnTo>
                    <a:lnTo>
                      <a:pt x="113" y="104"/>
                    </a:lnTo>
                    <a:lnTo>
                      <a:pt x="119" y="97"/>
                    </a:lnTo>
                    <a:lnTo>
                      <a:pt x="121" y="93"/>
                    </a:lnTo>
                    <a:lnTo>
                      <a:pt x="121" y="82"/>
                    </a:lnTo>
                    <a:lnTo>
                      <a:pt x="119" y="71"/>
                    </a:lnTo>
                    <a:lnTo>
                      <a:pt x="113" y="57"/>
                    </a:lnTo>
                    <a:lnTo>
                      <a:pt x="108" y="44"/>
                    </a:lnTo>
                    <a:lnTo>
                      <a:pt x="99" y="33"/>
                    </a:lnTo>
                    <a:lnTo>
                      <a:pt x="93" y="24"/>
                    </a:lnTo>
                    <a:lnTo>
                      <a:pt x="73" y="9"/>
                    </a:lnTo>
                    <a:lnTo>
                      <a:pt x="53" y="0"/>
                    </a:lnTo>
                    <a:lnTo>
                      <a:pt x="35" y="0"/>
                    </a:lnTo>
                    <a:lnTo>
                      <a:pt x="20" y="6"/>
                    </a:lnTo>
                    <a:lnTo>
                      <a:pt x="6" y="20"/>
                    </a:lnTo>
                    <a:lnTo>
                      <a:pt x="0" y="40"/>
                    </a:lnTo>
                    <a:lnTo>
                      <a:pt x="0" y="57"/>
                    </a:lnTo>
                    <a:lnTo>
                      <a:pt x="11" y="75"/>
                    </a:lnTo>
                    <a:close/>
                  </a:path>
                </a:pathLst>
              </a:custGeom>
              <a:solidFill>
                <a:srgbClr val="f0c4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6403680" y="3157560"/>
                <a:ext cx="127080" cy="117360"/>
              </a:xfrm>
              <a:custGeom>
                <a:avLst/>
                <a:gdLst/>
                <a:ahLst/>
                <a:rect l="l" t="t" r="r" b="b"/>
                <a:pathLst>
                  <a:path w="89" h="77">
                    <a:moveTo>
                      <a:pt x="9" y="55"/>
                    </a:moveTo>
                    <a:lnTo>
                      <a:pt x="22" y="62"/>
                    </a:lnTo>
                    <a:lnTo>
                      <a:pt x="42" y="71"/>
                    </a:lnTo>
                    <a:lnTo>
                      <a:pt x="65" y="75"/>
                    </a:lnTo>
                    <a:lnTo>
                      <a:pt x="82" y="77"/>
                    </a:lnTo>
                    <a:lnTo>
                      <a:pt x="89" y="69"/>
                    </a:lnTo>
                    <a:lnTo>
                      <a:pt x="89" y="53"/>
                    </a:lnTo>
                    <a:lnTo>
                      <a:pt x="80" y="33"/>
                    </a:lnTo>
                    <a:lnTo>
                      <a:pt x="69" y="18"/>
                    </a:lnTo>
                    <a:lnTo>
                      <a:pt x="53" y="7"/>
                    </a:lnTo>
                    <a:lnTo>
                      <a:pt x="40" y="2"/>
                    </a:lnTo>
                    <a:lnTo>
                      <a:pt x="27" y="0"/>
                    </a:lnTo>
                    <a:lnTo>
                      <a:pt x="16" y="7"/>
                    </a:lnTo>
                    <a:lnTo>
                      <a:pt x="5" y="15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9" y="55"/>
                    </a:lnTo>
                    <a:close/>
                  </a:path>
                </a:pathLst>
              </a:custGeom>
              <a:solidFill>
                <a:srgbClr val="f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421680" y="3180600"/>
                <a:ext cx="83160" cy="74880"/>
              </a:xfrm>
              <a:custGeom>
                <a:avLst/>
                <a:gdLst/>
                <a:ahLst/>
                <a:rect l="l" t="t" r="r" b="b"/>
                <a:pathLst>
                  <a:path w="58" h="49">
                    <a:moveTo>
                      <a:pt x="4" y="36"/>
                    </a:moveTo>
                    <a:lnTo>
                      <a:pt x="13" y="40"/>
                    </a:lnTo>
                    <a:lnTo>
                      <a:pt x="27" y="45"/>
                    </a:lnTo>
                    <a:lnTo>
                      <a:pt x="40" y="47"/>
                    </a:lnTo>
                    <a:lnTo>
                      <a:pt x="53" y="49"/>
                    </a:lnTo>
                    <a:lnTo>
                      <a:pt x="58" y="45"/>
                    </a:lnTo>
                    <a:lnTo>
                      <a:pt x="58" y="34"/>
                    </a:lnTo>
                    <a:lnTo>
                      <a:pt x="51" y="20"/>
                    </a:lnTo>
                    <a:lnTo>
                      <a:pt x="44" y="12"/>
                    </a:lnTo>
                    <a:lnTo>
                      <a:pt x="27" y="0"/>
                    </a:lnTo>
                    <a:lnTo>
                      <a:pt x="9" y="3"/>
                    </a:lnTo>
                    <a:lnTo>
                      <a:pt x="0" y="18"/>
                    </a:lnTo>
                    <a:lnTo>
                      <a:pt x="4" y="36"/>
                    </a:lnTo>
                    <a:close/>
                  </a:path>
                </a:pathLst>
              </a:custGeom>
              <a:solidFill>
                <a:srgbClr val="f2d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6444720" y="3202200"/>
                <a:ext cx="34200" cy="334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" y="15"/>
                    </a:moveTo>
                    <a:lnTo>
                      <a:pt x="11" y="20"/>
                    </a:lnTo>
                    <a:lnTo>
                      <a:pt x="22" y="22"/>
                    </a:lnTo>
                    <a:lnTo>
                      <a:pt x="24" y="15"/>
                    </a:lnTo>
                    <a:lnTo>
                      <a:pt x="17" y="4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9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7d9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7032600" y="2842560"/>
                <a:ext cx="421200" cy="209520"/>
              </a:xfrm>
              <a:custGeom>
                <a:avLst/>
                <a:gdLst/>
                <a:ahLst/>
                <a:rect l="l" t="t" r="r" b="b"/>
                <a:pathLst>
                  <a:path w="294" h="137">
                    <a:moveTo>
                      <a:pt x="8" y="86"/>
                    </a:moveTo>
                    <a:lnTo>
                      <a:pt x="20" y="93"/>
                    </a:lnTo>
                    <a:lnTo>
                      <a:pt x="39" y="102"/>
                    </a:lnTo>
                    <a:lnTo>
                      <a:pt x="48" y="104"/>
                    </a:lnTo>
                    <a:lnTo>
                      <a:pt x="62" y="111"/>
                    </a:lnTo>
                    <a:lnTo>
                      <a:pt x="75" y="113"/>
                    </a:lnTo>
                    <a:lnTo>
                      <a:pt x="90" y="120"/>
                    </a:lnTo>
                    <a:lnTo>
                      <a:pt x="104" y="122"/>
                    </a:lnTo>
                    <a:lnTo>
                      <a:pt x="117" y="124"/>
                    </a:lnTo>
                    <a:lnTo>
                      <a:pt x="133" y="126"/>
                    </a:lnTo>
                    <a:lnTo>
                      <a:pt x="148" y="131"/>
                    </a:lnTo>
                    <a:lnTo>
                      <a:pt x="161" y="133"/>
                    </a:lnTo>
                    <a:lnTo>
                      <a:pt x="177" y="135"/>
                    </a:lnTo>
                    <a:lnTo>
                      <a:pt x="190" y="135"/>
                    </a:lnTo>
                    <a:lnTo>
                      <a:pt x="206" y="137"/>
                    </a:lnTo>
                    <a:lnTo>
                      <a:pt x="217" y="135"/>
                    </a:lnTo>
                    <a:lnTo>
                      <a:pt x="230" y="133"/>
                    </a:lnTo>
                    <a:lnTo>
                      <a:pt x="239" y="128"/>
                    </a:lnTo>
                    <a:lnTo>
                      <a:pt x="250" y="124"/>
                    </a:lnTo>
                    <a:lnTo>
                      <a:pt x="268" y="111"/>
                    </a:lnTo>
                    <a:lnTo>
                      <a:pt x="281" y="97"/>
                    </a:lnTo>
                    <a:lnTo>
                      <a:pt x="288" y="80"/>
                    </a:lnTo>
                    <a:lnTo>
                      <a:pt x="294" y="66"/>
                    </a:lnTo>
                    <a:lnTo>
                      <a:pt x="294" y="51"/>
                    </a:lnTo>
                    <a:lnTo>
                      <a:pt x="290" y="42"/>
                    </a:lnTo>
                    <a:lnTo>
                      <a:pt x="281" y="35"/>
                    </a:lnTo>
                    <a:lnTo>
                      <a:pt x="274" y="31"/>
                    </a:lnTo>
                    <a:lnTo>
                      <a:pt x="265" y="27"/>
                    </a:lnTo>
                    <a:lnTo>
                      <a:pt x="254" y="22"/>
                    </a:lnTo>
                    <a:lnTo>
                      <a:pt x="241" y="16"/>
                    </a:lnTo>
                    <a:lnTo>
                      <a:pt x="228" y="13"/>
                    </a:lnTo>
                    <a:lnTo>
                      <a:pt x="212" y="9"/>
                    </a:lnTo>
                    <a:lnTo>
                      <a:pt x="197" y="7"/>
                    </a:lnTo>
                    <a:lnTo>
                      <a:pt x="179" y="2"/>
                    </a:lnTo>
                    <a:lnTo>
                      <a:pt x="164" y="0"/>
                    </a:lnTo>
                    <a:lnTo>
                      <a:pt x="146" y="0"/>
                    </a:lnTo>
                    <a:lnTo>
                      <a:pt x="133" y="0"/>
                    </a:lnTo>
                    <a:lnTo>
                      <a:pt x="117" y="0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9" y="9"/>
                    </a:lnTo>
                    <a:lnTo>
                      <a:pt x="57" y="16"/>
                    </a:lnTo>
                    <a:lnTo>
                      <a:pt x="39" y="27"/>
                    </a:lnTo>
                    <a:lnTo>
                      <a:pt x="24" y="35"/>
                    </a:lnTo>
                    <a:lnTo>
                      <a:pt x="13" y="47"/>
                    </a:lnTo>
                    <a:lnTo>
                      <a:pt x="0" y="66"/>
                    </a:lnTo>
                    <a:lnTo>
                      <a:pt x="8" y="86"/>
                    </a:lnTo>
                    <a:close/>
                  </a:path>
                </a:pathLst>
              </a:custGeom>
              <a:solidFill>
                <a:srgbClr val="e3a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7054200" y="2853000"/>
                <a:ext cx="378000" cy="185040"/>
              </a:xfrm>
              <a:custGeom>
                <a:avLst/>
                <a:gdLst/>
                <a:ahLst/>
                <a:rect l="l" t="t" r="r" b="b"/>
                <a:pathLst>
                  <a:path w="264" h="121">
                    <a:moveTo>
                      <a:pt x="9" y="77"/>
                    </a:moveTo>
                    <a:lnTo>
                      <a:pt x="18" y="84"/>
                    </a:lnTo>
                    <a:lnTo>
                      <a:pt x="36" y="90"/>
                    </a:lnTo>
                    <a:lnTo>
                      <a:pt x="42" y="93"/>
                    </a:lnTo>
                    <a:lnTo>
                      <a:pt x="53" y="97"/>
                    </a:lnTo>
                    <a:lnTo>
                      <a:pt x="67" y="102"/>
                    </a:lnTo>
                    <a:lnTo>
                      <a:pt x="80" y="106"/>
                    </a:lnTo>
                    <a:lnTo>
                      <a:pt x="91" y="108"/>
                    </a:lnTo>
                    <a:lnTo>
                      <a:pt x="104" y="110"/>
                    </a:lnTo>
                    <a:lnTo>
                      <a:pt x="118" y="113"/>
                    </a:lnTo>
                    <a:lnTo>
                      <a:pt x="131" y="117"/>
                    </a:lnTo>
                    <a:lnTo>
                      <a:pt x="144" y="117"/>
                    </a:lnTo>
                    <a:lnTo>
                      <a:pt x="157" y="119"/>
                    </a:lnTo>
                    <a:lnTo>
                      <a:pt x="171" y="119"/>
                    </a:lnTo>
                    <a:lnTo>
                      <a:pt x="184" y="121"/>
                    </a:lnTo>
                    <a:lnTo>
                      <a:pt x="204" y="117"/>
                    </a:lnTo>
                    <a:lnTo>
                      <a:pt x="224" y="110"/>
                    </a:lnTo>
                    <a:lnTo>
                      <a:pt x="237" y="97"/>
                    </a:lnTo>
                    <a:lnTo>
                      <a:pt x="250" y="86"/>
                    </a:lnTo>
                    <a:lnTo>
                      <a:pt x="257" y="71"/>
                    </a:lnTo>
                    <a:lnTo>
                      <a:pt x="264" y="57"/>
                    </a:lnTo>
                    <a:lnTo>
                      <a:pt x="262" y="44"/>
                    </a:lnTo>
                    <a:lnTo>
                      <a:pt x="259" y="35"/>
                    </a:lnTo>
                    <a:lnTo>
                      <a:pt x="246" y="26"/>
                    </a:lnTo>
                    <a:lnTo>
                      <a:pt x="228" y="17"/>
                    </a:lnTo>
                    <a:lnTo>
                      <a:pt x="215" y="13"/>
                    </a:lnTo>
                    <a:lnTo>
                      <a:pt x="202" y="11"/>
                    </a:lnTo>
                    <a:lnTo>
                      <a:pt x="188" y="6"/>
                    </a:lnTo>
                    <a:lnTo>
                      <a:pt x="177" y="6"/>
                    </a:lnTo>
                    <a:lnTo>
                      <a:pt x="162" y="2"/>
                    </a:lnTo>
                    <a:lnTo>
                      <a:pt x="146" y="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06" y="0"/>
                    </a:lnTo>
                    <a:lnTo>
                      <a:pt x="93" y="0"/>
                    </a:lnTo>
                    <a:lnTo>
                      <a:pt x="80" y="2"/>
                    </a:lnTo>
                    <a:lnTo>
                      <a:pt x="73" y="6"/>
                    </a:lnTo>
                    <a:lnTo>
                      <a:pt x="53" y="13"/>
                    </a:lnTo>
                    <a:lnTo>
                      <a:pt x="36" y="22"/>
                    </a:lnTo>
                    <a:lnTo>
                      <a:pt x="22" y="31"/>
                    </a:lnTo>
                    <a:lnTo>
                      <a:pt x="13" y="42"/>
                    </a:lnTo>
                    <a:lnTo>
                      <a:pt x="0" y="59"/>
                    </a:lnTo>
                    <a:lnTo>
                      <a:pt x="9" y="77"/>
                    </a:lnTo>
                    <a:close/>
                  </a:path>
                </a:pathLst>
              </a:custGeom>
              <a:solidFill>
                <a:srgbClr val="e6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7079400" y="2859120"/>
                <a:ext cx="326520" cy="162000"/>
              </a:xfrm>
              <a:custGeom>
                <a:avLst/>
                <a:gdLst/>
                <a:ahLst/>
                <a:rect l="l" t="t" r="r" b="b"/>
                <a:pathLst>
                  <a:path w="228" h="106">
                    <a:moveTo>
                      <a:pt x="6" y="69"/>
                    </a:moveTo>
                    <a:lnTo>
                      <a:pt x="13" y="73"/>
                    </a:lnTo>
                    <a:lnTo>
                      <a:pt x="29" y="80"/>
                    </a:lnTo>
                    <a:lnTo>
                      <a:pt x="46" y="86"/>
                    </a:lnTo>
                    <a:lnTo>
                      <a:pt x="71" y="93"/>
                    </a:lnTo>
                    <a:lnTo>
                      <a:pt x="91" y="98"/>
                    </a:lnTo>
                    <a:lnTo>
                      <a:pt x="115" y="102"/>
                    </a:lnTo>
                    <a:lnTo>
                      <a:pt x="137" y="104"/>
                    </a:lnTo>
                    <a:lnTo>
                      <a:pt x="162" y="106"/>
                    </a:lnTo>
                    <a:lnTo>
                      <a:pt x="179" y="102"/>
                    </a:lnTo>
                    <a:lnTo>
                      <a:pt x="195" y="95"/>
                    </a:lnTo>
                    <a:lnTo>
                      <a:pt x="208" y="84"/>
                    </a:lnTo>
                    <a:lnTo>
                      <a:pt x="219" y="75"/>
                    </a:lnTo>
                    <a:lnTo>
                      <a:pt x="224" y="62"/>
                    </a:lnTo>
                    <a:lnTo>
                      <a:pt x="228" y="51"/>
                    </a:lnTo>
                    <a:lnTo>
                      <a:pt x="228" y="40"/>
                    </a:lnTo>
                    <a:lnTo>
                      <a:pt x="226" y="33"/>
                    </a:lnTo>
                    <a:lnTo>
                      <a:pt x="215" y="24"/>
                    </a:lnTo>
                    <a:lnTo>
                      <a:pt x="197" y="18"/>
                    </a:lnTo>
                    <a:lnTo>
                      <a:pt x="177" y="11"/>
                    </a:lnTo>
                    <a:lnTo>
                      <a:pt x="155" y="7"/>
                    </a:lnTo>
                    <a:lnTo>
                      <a:pt x="142" y="2"/>
                    </a:lnTo>
                    <a:lnTo>
                      <a:pt x="128" y="0"/>
                    </a:lnTo>
                    <a:lnTo>
                      <a:pt x="115" y="0"/>
                    </a:lnTo>
                    <a:lnTo>
                      <a:pt x="104" y="0"/>
                    </a:lnTo>
                    <a:lnTo>
                      <a:pt x="82" y="2"/>
                    </a:lnTo>
                    <a:lnTo>
                      <a:pt x="64" y="9"/>
                    </a:lnTo>
                    <a:lnTo>
                      <a:pt x="46" y="13"/>
                    </a:lnTo>
                    <a:lnTo>
                      <a:pt x="33" y="20"/>
                    </a:lnTo>
                    <a:lnTo>
                      <a:pt x="20" y="29"/>
                    </a:lnTo>
                    <a:lnTo>
                      <a:pt x="11" y="38"/>
                    </a:lnTo>
                    <a:lnTo>
                      <a:pt x="0" y="53"/>
                    </a:lnTo>
                    <a:lnTo>
                      <a:pt x="6" y="69"/>
                    </a:lnTo>
                    <a:close/>
                  </a:path>
                </a:pathLst>
              </a:custGeom>
              <a:solidFill>
                <a:srgbClr val="e8b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7101360" y="2869920"/>
                <a:ext cx="279360" cy="13896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6" y="57"/>
                    </a:moveTo>
                    <a:lnTo>
                      <a:pt x="13" y="62"/>
                    </a:lnTo>
                    <a:lnTo>
                      <a:pt x="26" y="66"/>
                    </a:lnTo>
                    <a:lnTo>
                      <a:pt x="39" y="71"/>
                    </a:lnTo>
                    <a:lnTo>
                      <a:pt x="59" y="77"/>
                    </a:lnTo>
                    <a:lnTo>
                      <a:pt x="77" y="82"/>
                    </a:lnTo>
                    <a:lnTo>
                      <a:pt x="97" y="86"/>
                    </a:lnTo>
                    <a:lnTo>
                      <a:pt x="117" y="88"/>
                    </a:lnTo>
                    <a:lnTo>
                      <a:pt x="137" y="91"/>
                    </a:lnTo>
                    <a:lnTo>
                      <a:pt x="150" y="86"/>
                    </a:lnTo>
                    <a:lnTo>
                      <a:pt x="164" y="82"/>
                    </a:lnTo>
                    <a:lnTo>
                      <a:pt x="175" y="73"/>
                    </a:lnTo>
                    <a:lnTo>
                      <a:pt x="186" y="64"/>
                    </a:lnTo>
                    <a:lnTo>
                      <a:pt x="195" y="42"/>
                    </a:lnTo>
                    <a:lnTo>
                      <a:pt x="192" y="26"/>
                    </a:lnTo>
                    <a:lnTo>
                      <a:pt x="181" y="20"/>
                    </a:lnTo>
                    <a:lnTo>
                      <a:pt x="168" y="13"/>
                    </a:lnTo>
                    <a:lnTo>
                      <a:pt x="148" y="6"/>
                    </a:lnTo>
                    <a:lnTo>
                      <a:pt x="130" y="4"/>
                    </a:lnTo>
                    <a:lnTo>
                      <a:pt x="106" y="0"/>
                    </a:lnTo>
                    <a:lnTo>
                      <a:pt x="86" y="0"/>
                    </a:lnTo>
                    <a:lnTo>
                      <a:pt x="66" y="0"/>
                    </a:lnTo>
                    <a:lnTo>
                      <a:pt x="53" y="6"/>
                    </a:lnTo>
                    <a:lnTo>
                      <a:pt x="37" y="11"/>
                    </a:lnTo>
                    <a:lnTo>
                      <a:pt x="26" y="17"/>
                    </a:lnTo>
                    <a:lnTo>
                      <a:pt x="15" y="24"/>
                    </a:lnTo>
                    <a:lnTo>
                      <a:pt x="8" y="31"/>
                    </a:lnTo>
                    <a:lnTo>
                      <a:pt x="0" y="44"/>
                    </a:lnTo>
                    <a:lnTo>
                      <a:pt x="6" y="57"/>
                    </a:lnTo>
                    <a:close/>
                  </a:path>
                </a:pathLst>
              </a:custGeom>
              <a:solidFill>
                <a:srgbClr val="ebb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7126560" y="2876040"/>
                <a:ext cx="232200" cy="114480"/>
              </a:xfrm>
              <a:custGeom>
                <a:avLst/>
                <a:gdLst/>
                <a:ahLst/>
                <a:rect l="l" t="t" r="r" b="b"/>
                <a:pathLst>
                  <a:path w="162" h="75">
                    <a:moveTo>
                      <a:pt x="7" y="49"/>
                    </a:moveTo>
                    <a:lnTo>
                      <a:pt x="11" y="53"/>
                    </a:lnTo>
                    <a:lnTo>
                      <a:pt x="22" y="58"/>
                    </a:lnTo>
                    <a:lnTo>
                      <a:pt x="33" y="62"/>
                    </a:lnTo>
                    <a:lnTo>
                      <a:pt x="49" y="67"/>
                    </a:lnTo>
                    <a:lnTo>
                      <a:pt x="64" y="69"/>
                    </a:lnTo>
                    <a:lnTo>
                      <a:pt x="80" y="71"/>
                    </a:lnTo>
                    <a:lnTo>
                      <a:pt x="95" y="73"/>
                    </a:lnTo>
                    <a:lnTo>
                      <a:pt x="113" y="75"/>
                    </a:lnTo>
                    <a:lnTo>
                      <a:pt x="124" y="71"/>
                    </a:lnTo>
                    <a:lnTo>
                      <a:pt x="137" y="67"/>
                    </a:lnTo>
                    <a:lnTo>
                      <a:pt x="146" y="60"/>
                    </a:lnTo>
                    <a:lnTo>
                      <a:pt x="155" y="53"/>
                    </a:lnTo>
                    <a:lnTo>
                      <a:pt x="162" y="36"/>
                    </a:lnTo>
                    <a:lnTo>
                      <a:pt x="160" y="25"/>
                    </a:lnTo>
                    <a:lnTo>
                      <a:pt x="151" y="18"/>
                    </a:lnTo>
                    <a:lnTo>
                      <a:pt x="140" y="13"/>
                    </a:lnTo>
                    <a:lnTo>
                      <a:pt x="124" y="7"/>
                    </a:lnTo>
                    <a:lnTo>
                      <a:pt x="109" y="5"/>
                    </a:lnTo>
                    <a:lnTo>
                      <a:pt x="91" y="0"/>
                    </a:lnTo>
                    <a:lnTo>
                      <a:pt x="73" y="0"/>
                    </a:lnTo>
                    <a:lnTo>
                      <a:pt x="58" y="0"/>
                    </a:lnTo>
                    <a:lnTo>
                      <a:pt x="47" y="7"/>
                    </a:lnTo>
                    <a:lnTo>
                      <a:pt x="33" y="9"/>
                    </a:lnTo>
                    <a:lnTo>
                      <a:pt x="22" y="16"/>
                    </a:lnTo>
                    <a:lnTo>
                      <a:pt x="13" y="20"/>
                    </a:lnTo>
                    <a:lnTo>
                      <a:pt x="9" y="27"/>
                    </a:lnTo>
                    <a:lnTo>
                      <a:pt x="0" y="38"/>
                    </a:lnTo>
                    <a:lnTo>
                      <a:pt x="7" y="49"/>
                    </a:lnTo>
                    <a:close/>
                  </a:path>
                </a:pathLst>
              </a:custGeom>
              <a:solidFill>
                <a:srgbClr val="edbd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7153200" y="2886480"/>
                <a:ext cx="180000" cy="91800"/>
              </a:xfrm>
              <a:custGeom>
                <a:avLst/>
                <a:gdLst/>
                <a:ahLst/>
                <a:rect l="l" t="t" r="r" b="b"/>
                <a:pathLst>
                  <a:path w="126" h="60">
                    <a:moveTo>
                      <a:pt x="4" y="37"/>
                    </a:moveTo>
                    <a:lnTo>
                      <a:pt x="9" y="40"/>
                    </a:lnTo>
                    <a:lnTo>
                      <a:pt x="15" y="44"/>
                    </a:lnTo>
                    <a:lnTo>
                      <a:pt x="26" y="46"/>
                    </a:lnTo>
                    <a:lnTo>
                      <a:pt x="40" y="51"/>
                    </a:lnTo>
                    <a:lnTo>
                      <a:pt x="51" y="53"/>
                    </a:lnTo>
                    <a:lnTo>
                      <a:pt x="64" y="55"/>
                    </a:lnTo>
                    <a:lnTo>
                      <a:pt x="77" y="57"/>
                    </a:lnTo>
                    <a:lnTo>
                      <a:pt x="91" y="60"/>
                    </a:lnTo>
                    <a:lnTo>
                      <a:pt x="108" y="53"/>
                    </a:lnTo>
                    <a:lnTo>
                      <a:pt x="122" y="42"/>
                    </a:lnTo>
                    <a:lnTo>
                      <a:pt x="126" y="26"/>
                    </a:lnTo>
                    <a:lnTo>
                      <a:pt x="126" y="18"/>
                    </a:lnTo>
                    <a:lnTo>
                      <a:pt x="119" y="13"/>
                    </a:lnTo>
                    <a:lnTo>
                      <a:pt x="111" y="9"/>
                    </a:lnTo>
                    <a:lnTo>
                      <a:pt x="97" y="4"/>
                    </a:lnTo>
                    <a:lnTo>
                      <a:pt x="86" y="4"/>
                    </a:lnTo>
                    <a:lnTo>
                      <a:pt x="71" y="0"/>
                    </a:lnTo>
                    <a:lnTo>
                      <a:pt x="57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18" y="11"/>
                    </a:lnTo>
                    <a:lnTo>
                      <a:pt x="6" y="20"/>
                    </a:lnTo>
                    <a:lnTo>
                      <a:pt x="0" y="29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f0c4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7174440" y="2892960"/>
                <a:ext cx="133200" cy="7164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2" y="29"/>
                    </a:moveTo>
                    <a:lnTo>
                      <a:pt x="11" y="33"/>
                    </a:lnTo>
                    <a:lnTo>
                      <a:pt x="28" y="40"/>
                    </a:lnTo>
                    <a:lnTo>
                      <a:pt x="46" y="42"/>
                    </a:lnTo>
                    <a:lnTo>
                      <a:pt x="66" y="47"/>
                    </a:lnTo>
                    <a:lnTo>
                      <a:pt x="79" y="42"/>
                    </a:lnTo>
                    <a:lnTo>
                      <a:pt x="88" y="33"/>
                    </a:lnTo>
                    <a:lnTo>
                      <a:pt x="93" y="22"/>
                    </a:lnTo>
                    <a:lnTo>
                      <a:pt x="93" y="16"/>
                    </a:lnTo>
                    <a:lnTo>
                      <a:pt x="79" y="9"/>
                    </a:lnTo>
                    <a:lnTo>
                      <a:pt x="62" y="2"/>
                    </a:lnTo>
                    <a:lnTo>
                      <a:pt x="42" y="0"/>
                    </a:lnTo>
                    <a:lnTo>
                      <a:pt x="26" y="5"/>
                    </a:lnTo>
                    <a:lnTo>
                      <a:pt x="13" y="9"/>
                    </a:lnTo>
                    <a:lnTo>
                      <a:pt x="4" y="16"/>
                    </a:lnTo>
                    <a:lnTo>
                      <a:pt x="0" y="2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f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7197480" y="2903400"/>
                <a:ext cx="85680" cy="442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0" y="20"/>
                    </a:moveTo>
                    <a:lnTo>
                      <a:pt x="5" y="22"/>
                    </a:lnTo>
                    <a:lnTo>
                      <a:pt x="18" y="24"/>
                    </a:lnTo>
                    <a:lnTo>
                      <a:pt x="29" y="26"/>
                    </a:lnTo>
                    <a:lnTo>
                      <a:pt x="42" y="29"/>
                    </a:lnTo>
                    <a:lnTo>
                      <a:pt x="58" y="20"/>
                    </a:lnTo>
                    <a:lnTo>
                      <a:pt x="60" y="9"/>
                    </a:lnTo>
                    <a:lnTo>
                      <a:pt x="51" y="4"/>
                    </a:lnTo>
                    <a:lnTo>
                      <a:pt x="40" y="2"/>
                    </a:lnTo>
                    <a:lnTo>
                      <a:pt x="27" y="0"/>
                    </a:lnTo>
                    <a:lnTo>
                      <a:pt x="18" y="2"/>
                    </a:lnTo>
                    <a:lnTo>
                      <a:pt x="2" y="1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2d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7218720" y="2914200"/>
                <a:ext cx="38520" cy="1944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8"/>
                    </a:moveTo>
                    <a:lnTo>
                      <a:pt x="7" y="11"/>
                    </a:lnTo>
                    <a:lnTo>
                      <a:pt x="18" y="13"/>
                    </a:lnTo>
                    <a:lnTo>
                      <a:pt x="24" y="8"/>
                    </a:lnTo>
                    <a:lnTo>
                      <a:pt x="27" y="4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7d9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6711840" y="2909880"/>
                <a:ext cx="389520" cy="116280"/>
              </a:xfrm>
              <a:custGeom>
                <a:avLst/>
                <a:gdLst/>
                <a:ahLst/>
                <a:rect l="l" t="t" r="r" b="b"/>
                <a:pathLst>
                  <a:path w="272" h="76">
                    <a:moveTo>
                      <a:pt x="59" y="22"/>
                    </a:moveTo>
                    <a:lnTo>
                      <a:pt x="70" y="25"/>
                    </a:lnTo>
                    <a:lnTo>
                      <a:pt x="84" y="29"/>
                    </a:lnTo>
                    <a:lnTo>
                      <a:pt x="97" y="34"/>
                    </a:lnTo>
                    <a:lnTo>
                      <a:pt x="110" y="38"/>
                    </a:lnTo>
                    <a:lnTo>
                      <a:pt x="124" y="40"/>
                    </a:lnTo>
                    <a:lnTo>
                      <a:pt x="137" y="45"/>
                    </a:lnTo>
                    <a:lnTo>
                      <a:pt x="150" y="49"/>
                    </a:lnTo>
                    <a:lnTo>
                      <a:pt x="163" y="53"/>
                    </a:lnTo>
                    <a:lnTo>
                      <a:pt x="177" y="56"/>
                    </a:lnTo>
                    <a:lnTo>
                      <a:pt x="190" y="58"/>
                    </a:lnTo>
                    <a:lnTo>
                      <a:pt x="203" y="60"/>
                    </a:lnTo>
                    <a:lnTo>
                      <a:pt x="217" y="65"/>
                    </a:lnTo>
                    <a:lnTo>
                      <a:pt x="230" y="67"/>
                    </a:lnTo>
                    <a:lnTo>
                      <a:pt x="243" y="69"/>
                    </a:lnTo>
                    <a:lnTo>
                      <a:pt x="257" y="71"/>
                    </a:lnTo>
                    <a:lnTo>
                      <a:pt x="272" y="76"/>
                    </a:lnTo>
                    <a:lnTo>
                      <a:pt x="248" y="71"/>
                    </a:lnTo>
                    <a:lnTo>
                      <a:pt x="228" y="69"/>
                    </a:lnTo>
                    <a:lnTo>
                      <a:pt x="203" y="65"/>
                    </a:lnTo>
                    <a:lnTo>
                      <a:pt x="183" y="65"/>
                    </a:lnTo>
                    <a:lnTo>
                      <a:pt x="161" y="60"/>
                    </a:lnTo>
                    <a:lnTo>
                      <a:pt x="139" y="58"/>
                    </a:lnTo>
                    <a:lnTo>
                      <a:pt x="117" y="53"/>
                    </a:lnTo>
                    <a:lnTo>
                      <a:pt x="97" y="51"/>
                    </a:lnTo>
                    <a:lnTo>
                      <a:pt x="19" y="34"/>
                    </a:lnTo>
                    <a:lnTo>
                      <a:pt x="35" y="31"/>
                    </a:lnTo>
                    <a:lnTo>
                      <a:pt x="53" y="38"/>
                    </a:lnTo>
                    <a:lnTo>
                      <a:pt x="68" y="42"/>
                    </a:lnTo>
                    <a:lnTo>
                      <a:pt x="88" y="47"/>
                    </a:lnTo>
                    <a:lnTo>
                      <a:pt x="108" y="49"/>
                    </a:lnTo>
                    <a:lnTo>
                      <a:pt x="128" y="53"/>
                    </a:lnTo>
                    <a:lnTo>
                      <a:pt x="148" y="58"/>
                    </a:lnTo>
                    <a:lnTo>
                      <a:pt x="170" y="60"/>
                    </a:lnTo>
                    <a:lnTo>
                      <a:pt x="146" y="53"/>
                    </a:lnTo>
                    <a:lnTo>
                      <a:pt x="126" y="47"/>
                    </a:lnTo>
                    <a:lnTo>
                      <a:pt x="101" y="40"/>
                    </a:lnTo>
                    <a:lnTo>
                      <a:pt x="81" y="34"/>
                    </a:lnTo>
                    <a:lnTo>
                      <a:pt x="59" y="25"/>
                    </a:lnTo>
                    <a:lnTo>
                      <a:pt x="39" y="18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28" y="9"/>
                    </a:lnTo>
                    <a:lnTo>
                      <a:pt x="44" y="16"/>
                    </a:lnTo>
                    <a:lnTo>
                      <a:pt x="59" y="22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7149600" y="2926440"/>
                <a:ext cx="339480" cy="60840"/>
              </a:xfrm>
              <a:custGeom>
                <a:avLst/>
                <a:gdLst/>
                <a:ahLst/>
                <a:rect l="l" t="t" r="r" b="b"/>
                <a:pathLst>
                  <a:path w="237" h="40">
                    <a:moveTo>
                      <a:pt x="237" y="16"/>
                    </a:moveTo>
                    <a:lnTo>
                      <a:pt x="237" y="18"/>
                    </a:lnTo>
                    <a:lnTo>
                      <a:pt x="224" y="14"/>
                    </a:lnTo>
                    <a:lnTo>
                      <a:pt x="211" y="11"/>
                    </a:lnTo>
                    <a:lnTo>
                      <a:pt x="197" y="9"/>
                    </a:lnTo>
                    <a:lnTo>
                      <a:pt x="186" y="7"/>
                    </a:lnTo>
                    <a:lnTo>
                      <a:pt x="173" y="5"/>
                    </a:lnTo>
                    <a:lnTo>
                      <a:pt x="162" y="3"/>
                    </a:lnTo>
                    <a:lnTo>
                      <a:pt x="149" y="3"/>
                    </a:lnTo>
                    <a:lnTo>
                      <a:pt x="138" y="3"/>
                    </a:lnTo>
                    <a:lnTo>
                      <a:pt x="124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89" y="5"/>
                    </a:lnTo>
                    <a:lnTo>
                      <a:pt x="64" y="9"/>
                    </a:lnTo>
                    <a:lnTo>
                      <a:pt x="45" y="20"/>
                    </a:lnTo>
                    <a:lnTo>
                      <a:pt x="64" y="16"/>
                    </a:lnTo>
                    <a:lnTo>
                      <a:pt x="84" y="16"/>
                    </a:lnTo>
                    <a:lnTo>
                      <a:pt x="107" y="16"/>
                    </a:lnTo>
                    <a:lnTo>
                      <a:pt x="129" y="18"/>
                    </a:lnTo>
                    <a:lnTo>
                      <a:pt x="149" y="18"/>
                    </a:lnTo>
                    <a:lnTo>
                      <a:pt x="169" y="23"/>
                    </a:lnTo>
                    <a:lnTo>
                      <a:pt x="189" y="27"/>
                    </a:lnTo>
                    <a:lnTo>
                      <a:pt x="208" y="36"/>
                    </a:lnTo>
                    <a:lnTo>
                      <a:pt x="189" y="29"/>
                    </a:lnTo>
                    <a:lnTo>
                      <a:pt x="169" y="25"/>
                    </a:lnTo>
                    <a:lnTo>
                      <a:pt x="146" y="20"/>
                    </a:lnTo>
                    <a:lnTo>
                      <a:pt x="127" y="20"/>
                    </a:lnTo>
                    <a:lnTo>
                      <a:pt x="102" y="18"/>
                    </a:lnTo>
                    <a:lnTo>
                      <a:pt x="82" y="20"/>
                    </a:lnTo>
                    <a:lnTo>
                      <a:pt x="58" y="23"/>
                    </a:lnTo>
                    <a:lnTo>
                      <a:pt x="38" y="29"/>
                    </a:lnTo>
                    <a:lnTo>
                      <a:pt x="18" y="3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1" y="27"/>
                    </a:lnTo>
                    <a:lnTo>
                      <a:pt x="25" y="20"/>
                    </a:lnTo>
                    <a:lnTo>
                      <a:pt x="38" y="14"/>
                    </a:lnTo>
                    <a:lnTo>
                      <a:pt x="53" y="11"/>
                    </a:lnTo>
                    <a:lnTo>
                      <a:pt x="67" y="5"/>
                    </a:lnTo>
                    <a:lnTo>
                      <a:pt x="82" y="3"/>
                    </a:lnTo>
                    <a:lnTo>
                      <a:pt x="98" y="3"/>
                    </a:lnTo>
                    <a:lnTo>
                      <a:pt x="115" y="3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60" y="3"/>
                    </a:lnTo>
                    <a:lnTo>
                      <a:pt x="175" y="5"/>
                    </a:lnTo>
                    <a:lnTo>
                      <a:pt x="191" y="5"/>
                    </a:lnTo>
                    <a:lnTo>
                      <a:pt x="206" y="9"/>
                    </a:lnTo>
                    <a:lnTo>
                      <a:pt x="222" y="11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7218720" y="2971080"/>
                <a:ext cx="216360" cy="38160"/>
              </a:xfrm>
              <a:custGeom>
                <a:avLst/>
                <a:gdLst/>
                <a:ahLst/>
                <a:rect l="l" t="t" r="r" b="b"/>
                <a:pathLst>
                  <a:path w="151" h="25">
                    <a:moveTo>
                      <a:pt x="131" y="16"/>
                    </a:moveTo>
                    <a:lnTo>
                      <a:pt x="139" y="18"/>
                    </a:lnTo>
                    <a:lnTo>
                      <a:pt x="151" y="25"/>
                    </a:lnTo>
                    <a:lnTo>
                      <a:pt x="131" y="16"/>
                    </a:lnTo>
                    <a:lnTo>
                      <a:pt x="113" y="11"/>
                    </a:lnTo>
                    <a:lnTo>
                      <a:pt x="95" y="7"/>
                    </a:lnTo>
                    <a:lnTo>
                      <a:pt x="77" y="5"/>
                    </a:lnTo>
                    <a:lnTo>
                      <a:pt x="58" y="2"/>
                    </a:lnTo>
                    <a:lnTo>
                      <a:pt x="38" y="2"/>
                    </a:lnTo>
                    <a:lnTo>
                      <a:pt x="18" y="2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40" y="0"/>
                    </a:lnTo>
                    <a:lnTo>
                      <a:pt x="60" y="0"/>
                    </a:lnTo>
                    <a:lnTo>
                      <a:pt x="82" y="2"/>
                    </a:lnTo>
                    <a:lnTo>
                      <a:pt x="126" y="11"/>
                    </a:lnTo>
                    <a:lnTo>
                      <a:pt x="131" y="16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7223040" y="2990520"/>
                <a:ext cx="136080" cy="38160"/>
              </a:xfrm>
              <a:custGeom>
                <a:avLst/>
                <a:gdLst/>
                <a:ahLst/>
                <a:rect l="l" t="t" r="r" b="b"/>
                <a:pathLst>
                  <a:path w="95" h="25">
                    <a:moveTo>
                      <a:pt x="95" y="25"/>
                    </a:moveTo>
                    <a:lnTo>
                      <a:pt x="82" y="20"/>
                    </a:lnTo>
                    <a:lnTo>
                      <a:pt x="71" y="18"/>
                    </a:lnTo>
                    <a:lnTo>
                      <a:pt x="58" y="14"/>
                    </a:lnTo>
                    <a:lnTo>
                      <a:pt x="47" y="12"/>
                    </a:lnTo>
                    <a:lnTo>
                      <a:pt x="22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1" y="0"/>
                    </a:lnTo>
                    <a:lnTo>
                      <a:pt x="24" y="3"/>
                    </a:lnTo>
                    <a:lnTo>
                      <a:pt x="36" y="5"/>
                    </a:lnTo>
                    <a:lnTo>
                      <a:pt x="49" y="9"/>
                    </a:lnTo>
                    <a:lnTo>
                      <a:pt x="71" y="16"/>
                    </a:lnTo>
                    <a:lnTo>
                      <a:pt x="95" y="25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7210080" y="30092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6311880" y="3029040"/>
                <a:ext cx="295200" cy="223200"/>
              </a:xfrm>
              <a:custGeom>
                <a:avLst/>
                <a:gdLst/>
                <a:ahLst/>
                <a:rect l="l" t="t" r="r" b="b"/>
                <a:pathLst>
                  <a:path w="206" h="146">
                    <a:moveTo>
                      <a:pt x="140" y="66"/>
                    </a:moveTo>
                    <a:lnTo>
                      <a:pt x="153" y="82"/>
                    </a:lnTo>
                    <a:lnTo>
                      <a:pt x="171" y="99"/>
                    </a:lnTo>
                    <a:lnTo>
                      <a:pt x="186" y="119"/>
                    </a:lnTo>
                    <a:lnTo>
                      <a:pt x="202" y="142"/>
                    </a:lnTo>
                    <a:lnTo>
                      <a:pt x="204" y="142"/>
                    </a:lnTo>
                    <a:lnTo>
                      <a:pt x="206" y="146"/>
                    </a:lnTo>
                    <a:lnTo>
                      <a:pt x="193" y="133"/>
                    </a:lnTo>
                    <a:lnTo>
                      <a:pt x="184" y="119"/>
                    </a:lnTo>
                    <a:lnTo>
                      <a:pt x="171" y="106"/>
                    </a:lnTo>
                    <a:lnTo>
                      <a:pt x="162" y="95"/>
                    </a:lnTo>
                    <a:lnTo>
                      <a:pt x="149" y="82"/>
                    </a:lnTo>
                    <a:lnTo>
                      <a:pt x="137" y="71"/>
                    </a:lnTo>
                    <a:lnTo>
                      <a:pt x="126" y="57"/>
                    </a:lnTo>
                    <a:lnTo>
                      <a:pt x="115" y="49"/>
                    </a:lnTo>
                    <a:lnTo>
                      <a:pt x="102" y="35"/>
                    </a:lnTo>
                    <a:lnTo>
                      <a:pt x="89" y="26"/>
                    </a:lnTo>
                    <a:lnTo>
                      <a:pt x="75" y="20"/>
                    </a:lnTo>
                    <a:lnTo>
                      <a:pt x="62" y="13"/>
                    </a:lnTo>
                    <a:lnTo>
                      <a:pt x="47" y="6"/>
                    </a:lnTo>
                    <a:lnTo>
                      <a:pt x="31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40" y="2"/>
                    </a:lnTo>
                    <a:lnTo>
                      <a:pt x="58" y="9"/>
                    </a:lnTo>
                    <a:lnTo>
                      <a:pt x="75" y="18"/>
                    </a:lnTo>
                    <a:lnTo>
                      <a:pt x="91" y="26"/>
                    </a:lnTo>
                    <a:lnTo>
                      <a:pt x="106" y="40"/>
                    </a:lnTo>
                    <a:lnTo>
                      <a:pt x="122" y="53"/>
                    </a:lnTo>
                    <a:lnTo>
                      <a:pt x="140" y="66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>
                <a:off x="6706080" y="3038400"/>
                <a:ext cx="363600" cy="186480"/>
              </a:xfrm>
              <a:custGeom>
                <a:avLst/>
                <a:gdLst/>
                <a:ahLst/>
                <a:rect l="l" t="t" r="r" b="b"/>
                <a:pathLst>
                  <a:path w="254" h="122">
                    <a:moveTo>
                      <a:pt x="179" y="12"/>
                    </a:moveTo>
                    <a:lnTo>
                      <a:pt x="197" y="12"/>
                    </a:lnTo>
                    <a:lnTo>
                      <a:pt x="215" y="18"/>
                    </a:lnTo>
                    <a:lnTo>
                      <a:pt x="230" y="27"/>
                    </a:lnTo>
                    <a:lnTo>
                      <a:pt x="246" y="43"/>
                    </a:lnTo>
                    <a:lnTo>
                      <a:pt x="252" y="60"/>
                    </a:lnTo>
                    <a:lnTo>
                      <a:pt x="254" y="82"/>
                    </a:lnTo>
                    <a:lnTo>
                      <a:pt x="252" y="102"/>
                    </a:lnTo>
                    <a:lnTo>
                      <a:pt x="246" y="122"/>
                    </a:lnTo>
                    <a:lnTo>
                      <a:pt x="230" y="118"/>
                    </a:lnTo>
                    <a:lnTo>
                      <a:pt x="215" y="113"/>
                    </a:lnTo>
                    <a:lnTo>
                      <a:pt x="199" y="107"/>
                    </a:lnTo>
                    <a:lnTo>
                      <a:pt x="184" y="105"/>
                    </a:lnTo>
                    <a:lnTo>
                      <a:pt x="170" y="102"/>
                    </a:lnTo>
                    <a:lnTo>
                      <a:pt x="157" y="100"/>
                    </a:lnTo>
                    <a:lnTo>
                      <a:pt x="144" y="98"/>
                    </a:lnTo>
                    <a:lnTo>
                      <a:pt x="130" y="96"/>
                    </a:lnTo>
                    <a:lnTo>
                      <a:pt x="106" y="89"/>
                    </a:lnTo>
                    <a:lnTo>
                      <a:pt x="84" y="82"/>
                    </a:lnTo>
                    <a:lnTo>
                      <a:pt x="59" y="69"/>
                    </a:lnTo>
                    <a:lnTo>
                      <a:pt x="40" y="56"/>
                    </a:lnTo>
                    <a:lnTo>
                      <a:pt x="20" y="38"/>
                    </a:lnTo>
                    <a:lnTo>
                      <a:pt x="4" y="18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22" y="3"/>
                    </a:lnTo>
                    <a:lnTo>
                      <a:pt x="42" y="0"/>
                    </a:lnTo>
                    <a:lnTo>
                      <a:pt x="62" y="0"/>
                    </a:lnTo>
                    <a:lnTo>
                      <a:pt x="82" y="5"/>
                    </a:lnTo>
                    <a:lnTo>
                      <a:pt x="102" y="7"/>
                    </a:lnTo>
                    <a:lnTo>
                      <a:pt x="122" y="12"/>
                    </a:lnTo>
                    <a:lnTo>
                      <a:pt x="141" y="14"/>
                    </a:lnTo>
                    <a:lnTo>
                      <a:pt x="161" y="14"/>
                    </a:lnTo>
                    <a:lnTo>
                      <a:pt x="179" y="12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6340320" y="3048840"/>
                <a:ext cx="1170360" cy="460440"/>
              </a:xfrm>
              <a:custGeom>
                <a:avLst/>
                <a:gdLst/>
                <a:ahLst/>
                <a:rect l="l" t="t" r="r" b="b"/>
                <a:pathLst>
                  <a:path w="817" h="301">
                    <a:moveTo>
                      <a:pt x="445" y="140"/>
                    </a:moveTo>
                    <a:lnTo>
                      <a:pt x="465" y="148"/>
                    </a:lnTo>
                    <a:lnTo>
                      <a:pt x="485" y="157"/>
                    </a:lnTo>
                    <a:lnTo>
                      <a:pt x="507" y="164"/>
                    </a:lnTo>
                    <a:lnTo>
                      <a:pt x="531" y="173"/>
                    </a:lnTo>
                    <a:lnTo>
                      <a:pt x="554" y="179"/>
                    </a:lnTo>
                    <a:lnTo>
                      <a:pt x="578" y="186"/>
                    </a:lnTo>
                    <a:lnTo>
                      <a:pt x="600" y="193"/>
                    </a:lnTo>
                    <a:lnTo>
                      <a:pt x="624" y="199"/>
                    </a:lnTo>
                    <a:lnTo>
                      <a:pt x="647" y="206"/>
                    </a:lnTo>
                    <a:lnTo>
                      <a:pt x="669" y="213"/>
                    </a:lnTo>
                    <a:lnTo>
                      <a:pt x="691" y="219"/>
                    </a:lnTo>
                    <a:lnTo>
                      <a:pt x="715" y="228"/>
                    </a:lnTo>
                    <a:lnTo>
                      <a:pt x="735" y="235"/>
                    </a:lnTo>
                    <a:lnTo>
                      <a:pt x="757" y="246"/>
                    </a:lnTo>
                    <a:lnTo>
                      <a:pt x="780" y="255"/>
                    </a:lnTo>
                    <a:lnTo>
                      <a:pt x="802" y="268"/>
                    </a:lnTo>
                    <a:lnTo>
                      <a:pt x="817" y="275"/>
                    </a:lnTo>
                    <a:lnTo>
                      <a:pt x="802" y="281"/>
                    </a:lnTo>
                    <a:lnTo>
                      <a:pt x="786" y="290"/>
                    </a:lnTo>
                    <a:lnTo>
                      <a:pt x="771" y="295"/>
                    </a:lnTo>
                    <a:lnTo>
                      <a:pt x="757" y="301"/>
                    </a:lnTo>
                    <a:lnTo>
                      <a:pt x="740" y="301"/>
                    </a:lnTo>
                    <a:lnTo>
                      <a:pt x="722" y="301"/>
                    </a:lnTo>
                    <a:lnTo>
                      <a:pt x="704" y="301"/>
                    </a:lnTo>
                    <a:lnTo>
                      <a:pt x="689" y="301"/>
                    </a:lnTo>
                    <a:lnTo>
                      <a:pt x="653" y="290"/>
                    </a:lnTo>
                    <a:lnTo>
                      <a:pt x="664" y="290"/>
                    </a:lnTo>
                    <a:lnTo>
                      <a:pt x="678" y="295"/>
                    </a:lnTo>
                    <a:lnTo>
                      <a:pt x="691" y="292"/>
                    </a:lnTo>
                    <a:lnTo>
                      <a:pt x="704" y="292"/>
                    </a:lnTo>
                    <a:lnTo>
                      <a:pt x="695" y="284"/>
                    </a:lnTo>
                    <a:lnTo>
                      <a:pt x="680" y="284"/>
                    </a:lnTo>
                    <a:lnTo>
                      <a:pt x="660" y="279"/>
                    </a:lnTo>
                    <a:lnTo>
                      <a:pt x="642" y="277"/>
                    </a:lnTo>
                    <a:lnTo>
                      <a:pt x="624" y="272"/>
                    </a:lnTo>
                    <a:lnTo>
                      <a:pt x="609" y="270"/>
                    </a:lnTo>
                    <a:lnTo>
                      <a:pt x="591" y="264"/>
                    </a:lnTo>
                    <a:lnTo>
                      <a:pt x="576" y="257"/>
                    </a:lnTo>
                    <a:lnTo>
                      <a:pt x="558" y="250"/>
                    </a:lnTo>
                    <a:lnTo>
                      <a:pt x="545" y="244"/>
                    </a:lnTo>
                    <a:lnTo>
                      <a:pt x="527" y="224"/>
                    </a:lnTo>
                    <a:lnTo>
                      <a:pt x="509" y="208"/>
                    </a:lnTo>
                    <a:lnTo>
                      <a:pt x="489" y="193"/>
                    </a:lnTo>
                    <a:lnTo>
                      <a:pt x="469" y="186"/>
                    </a:lnTo>
                    <a:lnTo>
                      <a:pt x="452" y="177"/>
                    </a:lnTo>
                    <a:lnTo>
                      <a:pt x="434" y="173"/>
                    </a:lnTo>
                    <a:lnTo>
                      <a:pt x="416" y="168"/>
                    </a:lnTo>
                    <a:lnTo>
                      <a:pt x="399" y="168"/>
                    </a:lnTo>
                    <a:lnTo>
                      <a:pt x="379" y="166"/>
                    </a:lnTo>
                    <a:lnTo>
                      <a:pt x="361" y="166"/>
                    </a:lnTo>
                    <a:lnTo>
                      <a:pt x="343" y="166"/>
                    </a:lnTo>
                    <a:lnTo>
                      <a:pt x="325" y="166"/>
                    </a:lnTo>
                    <a:lnTo>
                      <a:pt x="312" y="164"/>
                    </a:lnTo>
                    <a:lnTo>
                      <a:pt x="299" y="162"/>
                    </a:lnTo>
                    <a:lnTo>
                      <a:pt x="286" y="160"/>
                    </a:lnTo>
                    <a:lnTo>
                      <a:pt x="274" y="160"/>
                    </a:lnTo>
                    <a:lnTo>
                      <a:pt x="250" y="151"/>
                    </a:lnTo>
                    <a:lnTo>
                      <a:pt x="230" y="142"/>
                    </a:lnTo>
                    <a:lnTo>
                      <a:pt x="221" y="144"/>
                    </a:lnTo>
                    <a:lnTo>
                      <a:pt x="219" y="148"/>
                    </a:lnTo>
                    <a:lnTo>
                      <a:pt x="226" y="153"/>
                    </a:lnTo>
                    <a:lnTo>
                      <a:pt x="237" y="160"/>
                    </a:lnTo>
                    <a:lnTo>
                      <a:pt x="217" y="155"/>
                    </a:lnTo>
                    <a:lnTo>
                      <a:pt x="197" y="153"/>
                    </a:lnTo>
                    <a:lnTo>
                      <a:pt x="179" y="148"/>
                    </a:lnTo>
                    <a:lnTo>
                      <a:pt x="161" y="144"/>
                    </a:lnTo>
                    <a:lnTo>
                      <a:pt x="144" y="135"/>
                    </a:lnTo>
                    <a:lnTo>
                      <a:pt x="128" y="129"/>
                    </a:lnTo>
                    <a:lnTo>
                      <a:pt x="111" y="120"/>
                    </a:lnTo>
                    <a:lnTo>
                      <a:pt x="97" y="111"/>
                    </a:lnTo>
                    <a:lnTo>
                      <a:pt x="91" y="115"/>
                    </a:lnTo>
                    <a:lnTo>
                      <a:pt x="93" y="120"/>
                    </a:lnTo>
                    <a:lnTo>
                      <a:pt x="106" y="126"/>
                    </a:lnTo>
                    <a:lnTo>
                      <a:pt x="119" y="135"/>
                    </a:lnTo>
                    <a:lnTo>
                      <a:pt x="133" y="142"/>
                    </a:lnTo>
                    <a:lnTo>
                      <a:pt x="148" y="148"/>
                    </a:lnTo>
                    <a:lnTo>
                      <a:pt x="161" y="153"/>
                    </a:lnTo>
                    <a:lnTo>
                      <a:pt x="177" y="160"/>
                    </a:lnTo>
                    <a:lnTo>
                      <a:pt x="192" y="164"/>
                    </a:lnTo>
                    <a:lnTo>
                      <a:pt x="210" y="171"/>
                    </a:lnTo>
                    <a:lnTo>
                      <a:pt x="226" y="173"/>
                    </a:lnTo>
                    <a:lnTo>
                      <a:pt x="243" y="175"/>
                    </a:lnTo>
                    <a:lnTo>
                      <a:pt x="259" y="177"/>
                    </a:lnTo>
                    <a:lnTo>
                      <a:pt x="277" y="179"/>
                    </a:lnTo>
                    <a:lnTo>
                      <a:pt x="292" y="182"/>
                    </a:lnTo>
                    <a:lnTo>
                      <a:pt x="310" y="184"/>
                    </a:lnTo>
                    <a:lnTo>
                      <a:pt x="325" y="186"/>
                    </a:lnTo>
                    <a:lnTo>
                      <a:pt x="343" y="188"/>
                    </a:lnTo>
                    <a:lnTo>
                      <a:pt x="330" y="204"/>
                    </a:lnTo>
                    <a:lnTo>
                      <a:pt x="323" y="222"/>
                    </a:lnTo>
                    <a:lnTo>
                      <a:pt x="312" y="239"/>
                    </a:lnTo>
                    <a:lnTo>
                      <a:pt x="303" y="257"/>
                    </a:lnTo>
                    <a:lnTo>
                      <a:pt x="283" y="248"/>
                    </a:lnTo>
                    <a:lnTo>
                      <a:pt x="263" y="239"/>
                    </a:lnTo>
                    <a:lnTo>
                      <a:pt x="246" y="228"/>
                    </a:lnTo>
                    <a:lnTo>
                      <a:pt x="228" y="219"/>
                    </a:lnTo>
                    <a:lnTo>
                      <a:pt x="210" y="206"/>
                    </a:lnTo>
                    <a:lnTo>
                      <a:pt x="192" y="195"/>
                    </a:lnTo>
                    <a:lnTo>
                      <a:pt x="175" y="184"/>
                    </a:lnTo>
                    <a:lnTo>
                      <a:pt x="159" y="175"/>
                    </a:lnTo>
                    <a:lnTo>
                      <a:pt x="139" y="160"/>
                    </a:lnTo>
                    <a:lnTo>
                      <a:pt x="119" y="146"/>
                    </a:lnTo>
                    <a:lnTo>
                      <a:pt x="99" y="131"/>
                    </a:lnTo>
                    <a:lnTo>
                      <a:pt x="79" y="115"/>
                    </a:lnTo>
                    <a:lnTo>
                      <a:pt x="60" y="98"/>
                    </a:lnTo>
                    <a:lnTo>
                      <a:pt x="44" y="82"/>
                    </a:lnTo>
                    <a:lnTo>
                      <a:pt x="29" y="64"/>
                    </a:lnTo>
                    <a:lnTo>
                      <a:pt x="15" y="47"/>
                    </a:lnTo>
                    <a:lnTo>
                      <a:pt x="6" y="27"/>
                    </a:lnTo>
                    <a:lnTo>
                      <a:pt x="0" y="9"/>
                    </a:lnTo>
                    <a:lnTo>
                      <a:pt x="17" y="2"/>
                    </a:lnTo>
                    <a:lnTo>
                      <a:pt x="37" y="2"/>
                    </a:lnTo>
                    <a:lnTo>
                      <a:pt x="57" y="0"/>
                    </a:lnTo>
                    <a:lnTo>
                      <a:pt x="77" y="0"/>
                    </a:lnTo>
                    <a:lnTo>
                      <a:pt x="88" y="0"/>
                    </a:lnTo>
                    <a:lnTo>
                      <a:pt x="102" y="0"/>
                    </a:lnTo>
                    <a:lnTo>
                      <a:pt x="113" y="0"/>
                    </a:lnTo>
                    <a:lnTo>
                      <a:pt x="126" y="2"/>
                    </a:lnTo>
                    <a:lnTo>
                      <a:pt x="137" y="5"/>
                    </a:lnTo>
                    <a:lnTo>
                      <a:pt x="150" y="7"/>
                    </a:lnTo>
                    <a:lnTo>
                      <a:pt x="161" y="9"/>
                    </a:lnTo>
                    <a:lnTo>
                      <a:pt x="175" y="13"/>
                    </a:lnTo>
                    <a:lnTo>
                      <a:pt x="197" y="20"/>
                    </a:lnTo>
                    <a:lnTo>
                      <a:pt x="221" y="29"/>
                    </a:lnTo>
                    <a:lnTo>
                      <a:pt x="243" y="38"/>
                    </a:lnTo>
                    <a:lnTo>
                      <a:pt x="268" y="49"/>
                    </a:lnTo>
                    <a:lnTo>
                      <a:pt x="288" y="58"/>
                    </a:lnTo>
                    <a:lnTo>
                      <a:pt x="310" y="69"/>
                    </a:lnTo>
                    <a:lnTo>
                      <a:pt x="332" y="80"/>
                    </a:lnTo>
                    <a:lnTo>
                      <a:pt x="356" y="93"/>
                    </a:lnTo>
                    <a:lnTo>
                      <a:pt x="376" y="104"/>
                    </a:lnTo>
                    <a:lnTo>
                      <a:pt x="399" y="115"/>
                    </a:lnTo>
                    <a:lnTo>
                      <a:pt x="421" y="126"/>
                    </a:lnTo>
                    <a:lnTo>
                      <a:pt x="445" y="140"/>
                    </a:lnTo>
                    <a:close/>
                  </a:path>
                </a:pathLst>
              </a:custGeom>
              <a:solidFill>
                <a:srgbClr val="ffd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>
                <a:off x="6714360" y="3048840"/>
                <a:ext cx="315360" cy="119160"/>
              </a:xfrm>
              <a:custGeom>
                <a:avLst/>
                <a:gdLst/>
                <a:ahLst/>
                <a:rect l="l" t="t" r="r" b="b"/>
                <a:pathLst>
                  <a:path w="220" h="78">
                    <a:moveTo>
                      <a:pt x="156" y="9"/>
                    </a:moveTo>
                    <a:lnTo>
                      <a:pt x="171" y="11"/>
                    </a:lnTo>
                    <a:lnTo>
                      <a:pt x="187" y="18"/>
                    </a:lnTo>
                    <a:lnTo>
                      <a:pt x="198" y="27"/>
                    </a:lnTo>
                    <a:lnTo>
                      <a:pt x="211" y="40"/>
                    </a:lnTo>
                    <a:lnTo>
                      <a:pt x="218" y="58"/>
                    </a:lnTo>
                    <a:lnTo>
                      <a:pt x="220" y="78"/>
                    </a:lnTo>
                    <a:lnTo>
                      <a:pt x="213" y="62"/>
                    </a:lnTo>
                    <a:lnTo>
                      <a:pt x="209" y="49"/>
                    </a:lnTo>
                    <a:lnTo>
                      <a:pt x="200" y="36"/>
                    </a:lnTo>
                    <a:lnTo>
                      <a:pt x="189" y="31"/>
                    </a:lnTo>
                    <a:lnTo>
                      <a:pt x="175" y="24"/>
                    </a:lnTo>
                    <a:lnTo>
                      <a:pt x="164" y="22"/>
                    </a:lnTo>
                    <a:lnTo>
                      <a:pt x="151" y="22"/>
                    </a:lnTo>
                    <a:lnTo>
                      <a:pt x="140" y="24"/>
                    </a:lnTo>
                    <a:lnTo>
                      <a:pt x="127" y="24"/>
                    </a:lnTo>
                    <a:lnTo>
                      <a:pt x="113" y="24"/>
                    </a:lnTo>
                    <a:lnTo>
                      <a:pt x="100" y="24"/>
                    </a:lnTo>
                    <a:lnTo>
                      <a:pt x="87" y="27"/>
                    </a:lnTo>
                    <a:lnTo>
                      <a:pt x="65" y="20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0" y="5"/>
                    </a:lnTo>
                    <a:lnTo>
                      <a:pt x="16" y="0"/>
                    </a:lnTo>
                    <a:lnTo>
                      <a:pt x="34" y="0"/>
                    </a:lnTo>
                    <a:lnTo>
                      <a:pt x="49" y="2"/>
                    </a:lnTo>
                    <a:lnTo>
                      <a:pt x="65" y="7"/>
                    </a:lnTo>
                    <a:lnTo>
                      <a:pt x="78" y="9"/>
                    </a:lnTo>
                    <a:lnTo>
                      <a:pt x="96" y="13"/>
                    </a:lnTo>
                    <a:lnTo>
                      <a:pt x="111" y="13"/>
                    </a:lnTo>
                    <a:lnTo>
                      <a:pt x="131" y="13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300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6721560" y="3065760"/>
                <a:ext cx="308160" cy="145440"/>
              </a:xfrm>
              <a:custGeom>
                <a:avLst/>
                <a:gdLst/>
                <a:ahLst/>
                <a:rect l="l" t="t" r="r" b="b"/>
                <a:pathLst>
                  <a:path w="215" h="95">
                    <a:moveTo>
                      <a:pt x="167" y="20"/>
                    </a:moveTo>
                    <a:lnTo>
                      <a:pt x="180" y="22"/>
                    </a:lnTo>
                    <a:lnTo>
                      <a:pt x="193" y="33"/>
                    </a:lnTo>
                    <a:lnTo>
                      <a:pt x="202" y="44"/>
                    </a:lnTo>
                    <a:lnTo>
                      <a:pt x="211" y="60"/>
                    </a:lnTo>
                    <a:lnTo>
                      <a:pt x="213" y="75"/>
                    </a:lnTo>
                    <a:lnTo>
                      <a:pt x="215" y="95"/>
                    </a:lnTo>
                    <a:lnTo>
                      <a:pt x="200" y="89"/>
                    </a:lnTo>
                    <a:lnTo>
                      <a:pt x="184" y="87"/>
                    </a:lnTo>
                    <a:lnTo>
                      <a:pt x="169" y="80"/>
                    </a:lnTo>
                    <a:lnTo>
                      <a:pt x="156" y="78"/>
                    </a:lnTo>
                    <a:lnTo>
                      <a:pt x="140" y="73"/>
                    </a:lnTo>
                    <a:lnTo>
                      <a:pt x="125" y="69"/>
                    </a:lnTo>
                    <a:lnTo>
                      <a:pt x="111" y="64"/>
                    </a:lnTo>
                    <a:lnTo>
                      <a:pt x="98" y="62"/>
                    </a:lnTo>
                    <a:lnTo>
                      <a:pt x="85" y="56"/>
                    </a:lnTo>
                    <a:lnTo>
                      <a:pt x="71" y="49"/>
                    </a:lnTo>
                    <a:lnTo>
                      <a:pt x="58" y="42"/>
                    </a:lnTo>
                    <a:lnTo>
                      <a:pt x="45" y="38"/>
                    </a:lnTo>
                    <a:lnTo>
                      <a:pt x="20" y="20"/>
                    </a:lnTo>
                    <a:lnTo>
                      <a:pt x="0" y="0"/>
                    </a:lnTo>
                    <a:lnTo>
                      <a:pt x="20" y="5"/>
                    </a:lnTo>
                    <a:lnTo>
                      <a:pt x="40" y="9"/>
                    </a:lnTo>
                    <a:lnTo>
                      <a:pt x="60" y="13"/>
                    </a:lnTo>
                    <a:lnTo>
                      <a:pt x="80" y="18"/>
                    </a:lnTo>
                    <a:lnTo>
                      <a:pt x="100" y="20"/>
                    </a:lnTo>
                    <a:lnTo>
                      <a:pt x="122" y="22"/>
                    </a:lnTo>
                    <a:lnTo>
                      <a:pt x="144" y="20"/>
                    </a:lnTo>
                    <a:lnTo>
                      <a:pt x="167" y="20"/>
                    </a:lnTo>
                    <a:close/>
                  </a:path>
                </a:pathLst>
              </a:custGeom>
              <a:solidFill>
                <a:srgbClr val="b34d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6740280" y="3076560"/>
                <a:ext cx="266400" cy="125640"/>
              </a:xfrm>
              <a:custGeom>
                <a:avLst/>
                <a:gdLst/>
                <a:ahLst/>
                <a:rect l="l" t="t" r="r" b="b"/>
                <a:pathLst>
                  <a:path w="186" h="82">
                    <a:moveTo>
                      <a:pt x="146" y="18"/>
                    </a:moveTo>
                    <a:lnTo>
                      <a:pt x="157" y="18"/>
                    </a:lnTo>
                    <a:lnTo>
                      <a:pt x="168" y="26"/>
                    </a:lnTo>
                    <a:lnTo>
                      <a:pt x="175" y="35"/>
                    </a:lnTo>
                    <a:lnTo>
                      <a:pt x="182" y="49"/>
                    </a:lnTo>
                    <a:lnTo>
                      <a:pt x="184" y="64"/>
                    </a:lnTo>
                    <a:lnTo>
                      <a:pt x="186" y="82"/>
                    </a:lnTo>
                    <a:lnTo>
                      <a:pt x="173" y="77"/>
                    </a:lnTo>
                    <a:lnTo>
                      <a:pt x="159" y="73"/>
                    </a:lnTo>
                    <a:lnTo>
                      <a:pt x="146" y="68"/>
                    </a:lnTo>
                    <a:lnTo>
                      <a:pt x="135" y="66"/>
                    </a:lnTo>
                    <a:lnTo>
                      <a:pt x="122" y="62"/>
                    </a:lnTo>
                    <a:lnTo>
                      <a:pt x="109" y="60"/>
                    </a:lnTo>
                    <a:lnTo>
                      <a:pt x="97" y="55"/>
                    </a:lnTo>
                    <a:lnTo>
                      <a:pt x="86" y="53"/>
                    </a:lnTo>
                    <a:lnTo>
                      <a:pt x="62" y="42"/>
                    </a:lnTo>
                    <a:lnTo>
                      <a:pt x="40" y="31"/>
                    </a:lnTo>
                    <a:lnTo>
                      <a:pt x="18" y="15"/>
                    </a:lnTo>
                    <a:lnTo>
                      <a:pt x="0" y="0"/>
                    </a:lnTo>
                    <a:lnTo>
                      <a:pt x="15" y="2"/>
                    </a:lnTo>
                    <a:lnTo>
                      <a:pt x="33" y="6"/>
                    </a:lnTo>
                    <a:lnTo>
                      <a:pt x="51" y="11"/>
                    </a:lnTo>
                    <a:lnTo>
                      <a:pt x="71" y="15"/>
                    </a:lnTo>
                    <a:lnTo>
                      <a:pt x="89" y="18"/>
                    </a:lnTo>
                    <a:lnTo>
                      <a:pt x="106" y="20"/>
                    </a:lnTo>
                    <a:lnTo>
                      <a:pt x="126" y="18"/>
                    </a:lnTo>
                    <a:lnTo>
                      <a:pt x="146" y="18"/>
                    </a:lnTo>
                    <a:close/>
                  </a:path>
                </a:pathLst>
              </a:custGeom>
              <a:solidFill>
                <a:srgbClr val="a640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6758640" y="3085920"/>
                <a:ext cx="219240" cy="105480"/>
              </a:xfrm>
              <a:custGeom>
                <a:avLst/>
                <a:gdLst/>
                <a:ahLst/>
                <a:rect l="l" t="t" r="r" b="b"/>
                <a:pathLst>
                  <a:path w="153" h="69">
                    <a:moveTo>
                      <a:pt x="120" y="14"/>
                    </a:moveTo>
                    <a:lnTo>
                      <a:pt x="137" y="23"/>
                    </a:lnTo>
                    <a:lnTo>
                      <a:pt x="148" y="43"/>
                    </a:lnTo>
                    <a:lnTo>
                      <a:pt x="151" y="54"/>
                    </a:lnTo>
                    <a:lnTo>
                      <a:pt x="153" y="69"/>
                    </a:lnTo>
                    <a:lnTo>
                      <a:pt x="131" y="62"/>
                    </a:lnTo>
                    <a:lnTo>
                      <a:pt x="108" y="56"/>
                    </a:lnTo>
                    <a:lnTo>
                      <a:pt x="89" y="49"/>
                    </a:lnTo>
                    <a:lnTo>
                      <a:pt x="69" y="45"/>
                    </a:lnTo>
                    <a:lnTo>
                      <a:pt x="49" y="36"/>
                    </a:lnTo>
                    <a:lnTo>
                      <a:pt x="31" y="27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27" y="7"/>
                    </a:lnTo>
                    <a:lnTo>
                      <a:pt x="42" y="9"/>
                    </a:lnTo>
                    <a:lnTo>
                      <a:pt x="58" y="14"/>
                    </a:lnTo>
                    <a:lnTo>
                      <a:pt x="71" y="14"/>
                    </a:lnTo>
                    <a:lnTo>
                      <a:pt x="86" y="16"/>
                    </a:lnTo>
                    <a:lnTo>
                      <a:pt x="102" y="14"/>
                    </a:lnTo>
                    <a:lnTo>
                      <a:pt x="120" y="14"/>
                    </a:lnTo>
                    <a:close/>
                  </a:path>
                </a:pathLst>
              </a:custGeom>
              <a:solidFill>
                <a:srgbClr val="993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6778440" y="3096720"/>
                <a:ext cx="173160" cy="83880"/>
              </a:xfrm>
              <a:custGeom>
                <a:avLst/>
                <a:gdLst/>
                <a:ahLst/>
                <a:rect l="l" t="t" r="r" b="b"/>
                <a:pathLst>
                  <a:path w="121" h="55">
                    <a:moveTo>
                      <a:pt x="95" y="13"/>
                    </a:moveTo>
                    <a:lnTo>
                      <a:pt x="108" y="18"/>
                    </a:lnTo>
                    <a:lnTo>
                      <a:pt x="119" y="33"/>
                    </a:lnTo>
                    <a:lnTo>
                      <a:pt x="121" y="44"/>
                    </a:lnTo>
                    <a:lnTo>
                      <a:pt x="121" y="55"/>
                    </a:lnTo>
                    <a:lnTo>
                      <a:pt x="104" y="49"/>
                    </a:lnTo>
                    <a:lnTo>
                      <a:pt x="88" y="44"/>
                    </a:lnTo>
                    <a:lnTo>
                      <a:pt x="71" y="40"/>
                    </a:lnTo>
                    <a:lnTo>
                      <a:pt x="55" y="36"/>
                    </a:lnTo>
                    <a:lnTo>
                      <a:pt x="40" y="27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22" y="5"/>
                    </a:lnTo>
                    <a:lnTo>
                      <a:pt x="46" y="9"/>
                    </a:lnTo>
                    <a:lnTo>
                      <a:pt x="57" y="11"/>
                    </a:lnTo>
                    <a:lnTo>
                      <a:pt x="68" y="13"/>
                    </a:lnTo>
                    <a:lnTo>
                      <a:pt x="82" y="13"/>
                    </a:lnTo>
                    <a:lnTo>
                      <a:pt x="95" y="13"/>
                    </a:lnTo>
                    <a:close/>
                  </a:path>
                </a:pathLst>
              </a:custGeom>
              <a:solidFill>
                <a:srgbClr val="8a2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6797520" y="3106800"/>
                <a:ext cx="129960" cy="64440"/>
              </a:xfrm>
              <a:custGeom>
                <a:avLst/>
                <a:gdLst/>
                <a:ahLst/>
                <a:rect l="l" t="t" r="r" b="b"/>
                <a:pathLst>
                  <a:path w="91" h="42">
                    <a:moveTo>
                      <a:pt x="71" y="9"/>
                    </a:moveTo>
                    <a:lnTo>
                      <a:pt x="82" y="13"/>
                    </a:lnTo>
                    <a:lnTo>
                      <a:pt x="89" y="24"/>
                    </a:lnTo>
                    <a:lnTo>
                      <a:pt x="89" y="33"/>
                    </a:lnTo>
                    <a:lnTo>
                      <a:pt x="91" y="42"/>
                    </a:lnTo>
                    <a:lnTo>
                      <a:pt x="78" y="37"/>
                    </a:lnTo>
                    <a:lnTo>
                      <a:pt x="67" y="33"/>
                    </a:lnTo>
                    <a:lnTo>
                      <a:pt x="54" y="29"/>
                    </a:lnTo>
                    <a:lnTo>
                      <a:pt x="42" y="26"/>
                    </a:lnTo>
                    <a:lnTo>
                      <a:pt x="18" y="15"/>
                    </a:lnTo>
                    <a:lnTo>
                      <a:pt x="0" y="0"/>
                    </a:lnTo>
                    <a:lnTo>
                      <a:pt x="16" y="2"/>
                    </a:lnTo>
                    <a:lnTo>
                      <a:pt x="34" y="6"/>
                    </a:lnTo>
                    <a:lnTo>
                      <a:pt x="51" y="9"/>
                    </a:lnTo>
                    <a:lnTo>
                      <a:pt x="71" y="9"/>
                    </a:lnTo>
                    <a:close/>
                  </a:path>
                </a:pathLst>
              </a:custGeom>
              <a:solidFill>
                <a:srgbClr val="7d1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6813360" y="3120840"/>
                <a:ext cx="88560" cy="39600"/>
              </a:xfrm>
              <a:custGeom>
                <a:avLst/>
                <a:gdLst/>
                <a:ahLst/>
                <a:rect l="l" t="t" r="r" b="b"/>
                <a:pathLst>
                  <a:path w="62" h="26">
                    <a:moveTo>
                      <a:pt x="47" y="4"/>
                    </a:moveTo>
                    <a:lnTo>
                      <a:pt x="53" y="6"/>
                    </a:lnTo>
                    <a:lnTo>
                      <a:pt x="60" y="15"/>
                    </a:lnTo>
                    <a:lnTo>
                      <a:pt x="60" y="20"/>
                    </a:lnTo>
                    <a:lnTo>
                      <a:pt x="62" y="26"/>
                    </a:lnTo>
                    <a:lnTo>
                      <a:pt x="44" y="20"/>
                    </a:lnTo>
                    <a:lnTo>
                      <a:pt x="29" y="15"/>
                    </a:lnTo>
                    <a:lnTo>
                      <a:pt x="13" y="6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6e0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6834600" y="3130200"/>
                <a:ext cx="38520" cy="16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2" y="2"/>
                    </a:moveTo>
                    <a:lnTo>
                      <a:pt x="24" y="2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61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7345800" y="3065760"/>
                <a:ext cx="196200" cy="220320"/>
              </a:xfrm>
              <a:custGeom>
                <a:avLst/>
                <a:gdLst/>
                <a:ahLst/>
                <a:rect l="l" t="t" r="r" b="b"/>
                <a:pathLst>
                  <a:path w="137" h="144">
                    <a:moveTo>
                      <a:pt x="31" y="42"/>
                    </a:moveTo>
                    <a:lnTo>
                      <a:pt x="42" y="56"/>
                    </a:lnTo>
                    <a:lnTo>
                      <a:pt x="53" y="69"/>
                    </a:lnTo>
                    <a:lnTo>
                      <a:pt x="66" y="82"/>
                    </a:lnTo>
                    <a:lnTo>
                      <a:pt x="79" y="95"/>
                    </a:lnTo>
                    <a:lnTo>
                      <a:pt x="93" y="106"/>
                    </a:lnTo>
                    <a:lnTo>
                      <a:pt x="108" y="120"/>
                    </a:lnTo>
                    <a:lnTo>
                      <a:pt x="121" y="131"/>
                    </a:lnTo>
                    <a:lnTo>
                      <a:pt x="137" y="144"/>
                    </a:lnTo>
                    <a:lnTo>
                      <a:pt x="117" y="131"/>
                    </a:lnTo>
                    <a:lnTo>
                      <a:pt x="99" y="118"/>
                    </a:lnTo>
                    <a:lnTo>
                      <a:pt x="82" y="104"/>
                    </a:lnTo>
                    <a:lnTo>
                      <a:pt x="66" y="91"/>
                    </a:lnTo>
                    <a:lnTo>
                      <a:pt x="48" y="75"/>
                    </a:lnTo>
                    <a:lnTo>
                      <a:pt x="33" y="60"/>
                    </a:lnTo>
                    <a:lnTo>
                      <a:pt x="20" y="44"/>
                    </a:lnTo>
                    <a:lnTo>
                      <a:pt x="6" y="29"/>
                    </a:lnTo>
                    <a:lnTo>
                      <a:pt x="2" y="18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22" y="20"/>
                    </a:lnTo>
                    <a:lnTo>
                      <a:pt x="31" y="42"/>
                    </a:lnTo>
                    <a:close/>
                  </a:path>
                </a:pathLst>
              </a:custGeom>
              <a:solidFill>
                <a:srgbClr val="ffcc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6342840" y="3068640"/>
                <a:ext cx="212040" cy="21132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01" y="73"/>
                    </a:moveTo>
                    <a:lnTo>
                      <a:pt x="108" y="80"/>
                    </a:lnTo>
                    <a:lnTo>
                      <a:pt x="115" y="91"/>
                    </a:lnTo>
                    <a:lnTo>
                      <a:pt x="121" y="100"/>
                    </a:lnTo>
                    <a:lnTo>
                      <a:pt x="130" y="113"/>
                    </a:lnTo>
                    <a:lnTo>
                      <a:pt x="139" y="124"/>
                    </a:lnTo>
                    <a:lnTo>
                      <a:pt x="148" y="138"/>
                    </a:lnTo>
                    <a:lnTo>
                      <a:pt x="130" y="116"/>
                    </a:lnTo>
                    <a:lnTo>
                      <a:pt x="115" y="96"/>
                    </a:lnTo>
                    <a:lnTo>
                      <a:pt x="99" y="76"/>
                    </a:lnTo>
                    <a:lnTo>
                      <a:pt x="84" y="56"/>
                    </a:lnTo>
                    <a:lnTo>
                      <a:pt x="64" y="36"/>
                    </a:lnTo>
                    <a:lnTo>
                      <a:pt x="44" y="20"/>
                    </a:lnTo>
                    <a:lnTo>
                      <a:pt x="22" y="7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8" y="7"/>
                    </a:lnTo>
                    <a:lnTo>
                      <a:pt x="42" y="14"/>
                    </a:lnTo>
                    <a:lnTo>
                      <a:pt x="57" y="25"/>
                    </a:lnTo>
                    <a:lnTo>
                      <a:pt x="68" y="36"/>
                    </a:lnTo>
                    <a:lnTo>
                      <a:pt x="82" y="49"/>
                    </a:lnTo>
                    <a:lnTo>
                      <a:pt x="90" y="60"/>
                    </a:lnTo>
                    <a:lnTo>
                      <a:pt x="101" y="73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6883560" y="3073320"/>
                <a:ext cx="157320" cy="100800"/>
              </a:xfrm>
              <a:custGeom>
                <a:avLst/>
                <a:gdLst/>
                <a:ahLst/>
                <a:rect l="l" t="t" r="r" b="b"/>
                <a:pathLst>
                  <a:path w="110" h="66">
                    <a:moveTo>
                      <a:pt x="110" y="66"/>
                    </a:moveTo>
                    <a:lnTo>
                      <a:pt x="93" y="62"/>
                    </a:lnTo>
                    <a:lnTo>
                      <a:pt x="77" y="57"/>
                    </a:lnTo>
                    <a:lnTo>
                      <a:pt x="59" y="51"/>
                    </a:lnTo>
                    <a:lnTo>
                      <a:pt x="46" y="44"/>
                    </a:lnTo>
                    <a:lnTo>
                      <a:pt x="33" y="33"/>
                    </a:lnTo>
                    <a:lnTo>
                      <a:pt x="20" y="24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1" y="8"/>
                    </a:lnTo>
                    <a:lnTo>
                      <a:pt x="24" y="20"/>
                    </a:lnTo>
                    <a:lnTo>
                      <a:pt x="37" y="28"/>
                    </a:lnTo>
                    <a:lnTo>
                      <a:pt x="51" y="39"/>
                    </a:lnTo>
                    <a:lnTo>
                      <a:pt x="64" y="46"/>
                    </a:lnTo>
                    <a:lnTo>
                      <a:pt x="77" y="55"/>
                    </a:lnTo>
                    <a:lnTo>
                      <a:pt x="93" y="59"/>
                    </a:lnTo>
                    <a:lnTo>
                      <a:pt x="110" y="66"/>
                    </a:lnTo>
                    <a:close/>
                  </a:path>
                </a:pathLst>
              </a:custGeom>
              <a:solidFill>
                <a:srgbClr val="300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6377760" y="3110040"/>
                <a:ext cx="143280" cy="19584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128"/>
                    </a:moveTo>
                    <a:lnTo>
                      <a:pt x="86" y="111"/>
                    </a:lnTo>
                    <a:lnTo>
                      <a:pt x="75" y="93"/>
                    </a:lnTo>
                    <a:lnTo>
                      <a:pt x="64" y="75"/>
                    </a:lnTo>
                    <a:lnTo>
                      <a:pt x="53" y="60"/>
                    </a:lnTo>
                    <a:lnTo>
                      <a:pt x="40" y="42"/>
                    </a:lnTo>
                    <a:lnTo>
                      <a:pt x="27" y="29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29" y="24"/>
                    </a:lnTo>
                    <a:lnTo>
                      <a:pt x="42" y="40"/>
                    </a:lnTo>
                    <a:lnTo>
                      <a:pt x="55" y="58"/>
                    </a:lnTo>
                    <a:lnTo>
                      <a:pt x="66" y="73"/>
                    </a:lnTo>
                    <a:lnTo>
                      <a:pt x="77" y="91"/>
                    </a:lnTo>
                    <a:lnTo>
                      <a:pt x="89" y="108"/>
                    </a:lnTo>
                    <a:lnTo>
                      <a:pt x="100" y="128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6361920" y="3205080"/>
                <a:ext cx="124200" cy="17280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18" y="20"/>
                    </a:moveTo>
                    <a:lnTo>
                      <a:pt x="22" y="31"/>
                    </a:lnTo>
                    <a:lnTo>
                      <a:pt x="29" y="44"/>
                    </a:lnTo>
                    <a:lnTo>
                      <a:pt x="36" y="55"/>
                    </a:lnTo>
                    <a:lnTo>
                      <a:pt x="45" y="69"/>
                    </a:lnTo>
                    <a:lnTo>
                      <a:pt x="53" y="80"/>
                    </a:lnTo>
                    <a:lnTo>
                      <a:pt x="65" y="91"/>
                    </a:lnTo>
                    <a:lnTo>
                      <a:pt x="73" y="102"/>
                    </a:lnTo>
                    <a:lnTo>
                      <a:pt x="87" y="113"/>
                    </a:lnTo>
                    <a:lnTo>
                      <a:pt x="71" y="100"/>
                    </a:lnTo>
                    <a:lnTo>
                      <a:pt x="58" y="89"/>
                    </a:lnTo>
                    <a:lnTo>
                      <a:pt x="47" y="75"/>
                    </a:lnTo>
                    <a:lnTo>
                      <a:pt x="36" y="64"/>
                    </a:lnTo>
                    <a:lnTo>
                      <a:pt x="25" y="46"/>
                    </a:lnTo>
                    <a:lnTo>
                      <a:pt x="18" y="33"/>
                    </a:lnTo>
                    <a:lnTo>
                      <a:pt x="11" y="15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6454800" y="3266280"/>
                <a:ext cx="189000" cy="67320"/>
              </a:xfrm>
              <a:custGeom>
                <a:avLst/>
                <a:gdLst/>
                <a:ahLst/>
                <a:rect l="l" t="t" r="r" b="b"/>
                <a:pathLst>
                  <a:path w="132" h="44">
                    <a:moveTo>
                      <a:pt x="132" y="44"/>
                    </a:moveTo>
                    <a:lnTo>
                      <a:pt x="115" y="40"/>
                    </a:lnTo>
                    <a:lnTo>
                      <a:pt x="99" y="35"/>
                    </a:lnTo>
                    <a:lnTo>
                      <a:pt x="82" y="31"/>
                    </a:lnTo>
                    <a:lnTo>
                      <a:pt x="66" y="29"/>
                    </a:lnTo>
                    <a:lnTo>
                      <a:pt x="48" y="22"/>
                    </a:lnTo>
                    <a:lnTo>
                      <a:pt x="33" y="18"/>
                    </a:lnTo>
                    <a:lnTo>
                      <a:pt x="15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31" y="13"/>
                    </a:lnTo>
                    <a:lnTo>
                      <a:pt x="46" y="18"/>
                    </a:lnTo>
                    <a:lnTo>
                      <a:pt x="66" y="24"/>
                    </a:lnTo>
                    <a:lnTo>
                      <a:pt x="82" y="29"/>
                    </a:lnTo>
                    <a:lnTo>
                      <a:pt x="99" y="33"/>
                    </a:lnTo>
                    <a:lnTo>
                      <a:pt x="115" y="37"/>
                    </a:lnTo>
                    <a:lnTo>
                      <a:pt x="132" y="44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>
                <a:off x="6339240" y="328320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6510960" y="3303000"/>
                <a:ext cx="111600" cy="302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78" y="20"/>
                    </a:moveTo>
                    <a:lnTo>
                      <a:pt x="58" y="13"/>
                    </a:lnTo>
                    <a:lnTo>
                      <a:pt x="40" y="9"/>
                    </a:lnTo>
                    <a:lnTo>
                      <a:pt x="20" y="5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0" y="7"/>
                    </a:lnTo>
                    <a:lnTo>
                      <a:pt x="58" y="11"/>
                    </a:lnTo>
                    <a:lnTo>
                      <a:pt x="78" y="2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6369120" y="3317040"/>
                <a:ext cx="5400" cy="100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0"/>
                    </a:moveTo>
                    <a:lnTo>
                      <a:pt x="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6758640" y="3336840"/>
                <a:ext cx="352440" cy="306000"/>
              </a:xfrm>
              <a:custGeom>
                <a:avLst/>
                <a:gdLst/>
                <a:ahLst/>
                <a:rect l="l" t="t" r="r" b="b"/>
                <a:pathLst>
                  <a:path w="246" h="200">
                    <a:moveTo>
                      <a:pt x="246" y="60"/>
                    </a:moveTo>
                    <a:lnTo>
                      <a:pt x="235" y="76"/>
                    </a:lnTo>
                    <a:lnTo>
                      <a:pt x="226" y="91"/>
                    </a:lnTo>
                    <a:lnTo>
                      <a:pt x="215" y="107"/>
                    </a:lnTo>
                    <a:lnTo>
                      <a:pt x="208" y="127"/>
                    </a:lnTo>
                    <a:lnTo>
                      <a:pt x="201" y="142"/>
                    </a:lnTo>
                    <a:lnTo>
                      <a:pt x="195" y="160"/>
                    </a:lnTo>
                    <a:lnTo>
                      <a:pt x="190" y="180"/>
                    </a:lnTo>
                    <a:lnTo>
                      <a:pt x="190" y="200"/>
                    </a:lnTo>
                    <a:lnTo>
                      <a:pt x="177" y="197"/>
                    </a:lnTo>
                    <a:lnTo>
                      <a:pt x="164" y="195"/>
                    </a:lnTo>
                    <a:lnTo>
                      <a:pt x="151" y="193"/>
                    </a:lnTo>
                    <a:lnTo>
                      <a:pt x="139" y="193"/>
                    </a:lnTo>
                    <a:lnTo>
                      <a:pt x="126" y="189"/>
                    </a:lnTo>
                    <a:lnTo>
                      <a:pt x="113" y="186"/>
                    </a:lnTo>
                    <a:lnTo>
                      <a:pt x="102" y="184"/>
                    </a:lnTo>
                    <a:lnTo>
                      <a:pt x="91" y="182"/>
                    </a:lnTo>
                    <a:lnTo>
                      <a:pt x="66" y="171"/>
                    </a:lnTo>
                    <a:lnTo>
                      <a:pt x="44" y="160"/>
                    </a:lnTo>
                    <a:lnTo>
                      <a:pt x="20" y="144"/>
                    </a:lnTo>
                    <a:lnTo>
                      <a:pt x="0" y="131"/>
                    </a:lnTo>
                    <a:lnTo>
                      <a:pt x="13" y="107"/>
                    </a:lnTo>
                    <a:lnTo>
                      <a:pt x="31" y="84"/>
                    </a:lnTo>
                    <a:lnTo>
                      <a:pt x="35" y="73"/>
                    </a:lnTo>
                    <a:lnTo>
                      <a:pt x="42" y="62"/>
                    </a:lnTo>
                    <a:lnTo>
                      <a:pt x="49" y="49"/>
                    </a:lnTo>
                    <a:lnTo>
                      <a:pt x="55" y="38"/>
                    </a:lnTo>
                    <a:lnTo>
                      <a:pt x="77" y="0"/>
                    </a:lnTo>
                    <a:lnTo>
                      <a:pt x="100" y="0"/>
                    </a:lnTo>
                    <a:lnTo>
                      <a:pt x="124" y="0"/>
                    </a:lnTo>
                    <a:lnTo>
                      <a:pt x="146" y="3"/>
                    </a:lnTo>
                    <a:lnTo>
                      <a:pt x="170" y="9"/>
                    </a:lnTo>
                    <a:lnTo>
                      <a:pt x="190" y="14"/>
                    </a:lnTo>
                    <a:lnTo>
                      <a:pt x="210" y="25"/>
                    </a:lnTo>
                    <a:lnTo>
                      <a:pt x="228" y="38"/>
                    </a:lnTo>
                    <a:lnTo>
                      <a:pt x="246" y="60"/>
                    </a:lnTo>
                    <a:close/>
                  </a:path>
                </a:pathLst>
              </a:custGeom>
              <a:solidFill>
                <a:srgbClr val="fae6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6765840" y="3341160"/>
                <a:ext cx="335160" cy="297000"/>
              </a:xfrm>
              <a:custGeom>
                <a:avLst/>
                <a:gdLst/>
                <a:ahLst/>
                <a:rect l="l" t="t" r="r" b="b"/>
                <a:pathLst>
                  <a:path w="234" h="194">
                    <a:moveTo>
                      <a:pt x="234" y="55"/>
                    </a:moveTo>
                    <a:lnTo>
                      <a:pt x="223" y="68"/>
                    </a:lnTo>
                    <a:lnTo>
                      <a:pt x="217" y="86"/>
                    </a:lnTo>
                    <a:lnTo>
                      <a:pt x="206" y="101"/>
                    </a:lnTo>
                    <a:lnTo>
                      <a:pt x="199" y="121"/>
                    </a:lnTo>
                    <a:lnTo>
                      <a:pt x="190" y="139"/>
                    </a:lnTo>
                    <a:lnTo>
                      <a:pt x="183" y="157"/>
                    </a:lnTo>
                    <a:lnTo>
                      <a:pt x="179" y="174"/>
                    </a:lnTo>
                    <a:lnTo>
                      <a:pt x="179" y="194"/>
                    </a:lnTo>
                    <a:lnTo>
                      <a:pt x="166" y="192"/>
                    </a:lnTo>
                    <a:lnTo>
                      <a:pt x="155" y="190"/>
                    </a:lnTo>
                    <a:lnTo>
                      <a:pt x="141" y="188"/>
                    </a:lnTo>
                    <a:lnTo>
                      <a:pt x="130" y="188"/>
                    </a:lnTo>
                    <a:lnTo>
                      <a:pt x="106" y="183"/>
                    </a:lnTo>
                    <a:lnTo>
                      <a:pt x="84" y="179"/>
                    </a:lnTo>
                    <a:lnTo>
                      <a:pt x="62" y="168"/>
                    </a:lnTo>
                    <a:lnTo>
                      <a:pt x="39" y="157"/>
                    </a:lnTo>
                    <a:lnTo>
                      <a:pt x="19" y="143"/>
                    </a:lnTo>
                    <a:lnTo>
                      <a:pt x="0" y="132"/>
                    </a:lnTo>
                    <a:lnTo>
                      <a:pt x="6" y="119"/>
                    </a:lnTo>
                    <a:lnTo>
                      <a:pt x="13" y="108"/>
                    </a:lnTo>
                    <a:lnTo>
                      <a:pt x="19" y="95"/>
                    </a:lnTo>
                    <a:lnTo>
                      <a:pt x="28" y="84"/>
                    </a:lnTo>
                    <a:lnTo>
                      <a:pt x="42" y="59"/>
                    </a:lnTo>
                    <a:lnTo>
                      <a:pt x="55" y="37"/>
                    </a:lnTo>
                    <a:lnTo>
                      <a:pt x="64" y="17"/>
                    </a:lnTo>
                    <a:lnTo>
                      <a:pt x="75" y="0"/>
                    </a:lnTo>
                    <a:lnTo>
                      <a:pt x="95" y="0"/>
                    </a:lnTo>
                    <a:lnTo>
                      <a:pt x="117" y="0"/>
                    </a:lnTo>
                    <a:lnTo>
                      <a:pt x="139" y="0"/>
                    </a:lnTo>
                    <a:lnTo>
                      <a:pt x="161" y="6"/>
                    </a:lnTo>
                    <a:lnTo>
                      <a:pt x="181" y="13"/>
                    </a:lnTo>
                    <a:lnTo>
                      <a:pt x="201" y="24"/>
                    </a:lnTo>
                    <a:lnTo>
                      <a:pt x="217" y="35"/>
                    </a:lnTo>
                    <a:lnTo>
                      <a:pt x="234" y="55"/>
                    </a:lnTo>
                    <a:close/>
                  </a:path>
                </a:pathLst>
              </a:custGeom>
              <a:solidFill>
                <a:srgbClr val="fae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6771600" y="3344400"/>
                <a:ext cx="320760" cy="293760"/>
              </a:xfrm>
              <a:custGeom>
                <a:avLst/>
                <a:gdLst/>
                <a:ahLst/>
                <a:rect l="l" t="t" r="r" b="b"/>
                <a:pathLst>
                  <a:path w="224" h="192">
                    <a:moveTo>
                      <a:pt x="224" y="51"/>
                    </a:moveTo>
                    <a:lnTo>
                      <a:pt x="213" y="64"/>
                    </a:lnTo>
                    <a:lnTo>
                      <a:pt x="206" y="82"/>
                    </a:lnTo>
                    <a:lnTo>
                      <a:pt x="195" y="99"/>
                    </a:lnTo>
                    <a:lnTo>
                      <a:pt x="188" y="119"/>
                    </a:lnTo>
                    <a:lnTo>
                      <a:pt x="180" y="137"/>
                    </a:lnTo>
                    <a:lnTo>
                      <a:pt x="173" y="155"/>
                    </a:lnTo>
                    <a:lnTo>
                      <a:pt x="169" y="172"/>
                    </a:lnTo>
                    <a:lnTo>
                      <a:pt x="169" y="192"/>
                    </a:lnTo>
                    <a:lnTo>
                      <a:pt x="144" y="188"/>
                    </a:lnTo>
                    <a:lnTo>
                      <a:pt x="122" y="186"/>
                    </a:lnTo>
                    <a:lnTo>
                      <a:pt x="100" y="181"/>
                    </a:lnTo>
                    <a:lnTo>
                      <a:pt x="80" y="177"/>
                    </a:lnTo>
                    <a:lnTo>
                      <a:pt x="58" y="166"/>
                    </a:lnTo>
                    <a:lnTo>
                      <a:pt x="38" y="155"/>
                    </a:lnTo>
                    <a:lnTo>
                      <a:pt x="18" y="144"/>
                    </a:lnTo>
                    <a:lnTo>
                      <a:pt x="0" y="133"/>
                    </a:lnTo>
                    <a:lnTo>
                      <a:pt x="7" y="119"/>
                    </a:lnTo>
                    <a:lnTo>
                      <a:pt x="13" y="108"/>
                    </a:lnTo>
                    <a:lnTo>
                      <a:pt x="22" y="95"/>
                    </a:lnTo>
                    <a:lnTo>
                      <a:pt x="31" y="84"/>
                    </a:lnTo>
                    <a:lnTo>
                      <a:pt x="38" y="71"/>
                    </a:lnTo>
                    <a:lnTo>
                      <a:pt x="44" y="57"/>
                    </a:lnTo>
                    <a:lnTo>
                      <a:pt x="49" y="44"/>
                    </a:lnTo>
                    <a:lnTo>
                      <a:pt x="56" y="35"/>
                    </a:lnTo>
                    <a:lnTo>
                      <a:pt x="64" y="15"/>
                    </a:lnTo>
                    <a:lnTo>
                      <a:pt x="73" y="0"/>
                    </a:lnTo>
                    <a:lnTo>
                      <a:pt x="93" y="0"/>
                    </a:lnTo>
                    <a:lnTo>
                      <a:pt x="115" y="0"/>
                    </a:lnTo>
                    <a:lnTo>
                      <a:pt x="135" y="0"/>
                    </a:lnTo>
                    <a:lnTo>
                      <a:pt x="157" y="6"/>
                    </a:lnTo>
                    <a:lnTo>
                      <a:pt x="175" y="11"/>
                    </a:lnTo>
                    <a:lnTo>
                      <a:pt x="193" y="22"/>
                    </a:lnTo>
                    <a:lnTo>
                      <a:pt x="208" y="33"/>
                    </a:lnTo>
                    <a:lnTo>
                      <a:pt x="224" y="51"/>
                    </a:lnTo>
                    <a:close/>
                  </a:path>
                </a:pathLst>
              </a:custGeom>
              <a:solidFill>
                <a:srgbClr val="faeb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6778800" y="3347640"/>
                <a:ext cx="303480" cy="287640"/>
              </a:xfrm>
              <a:custGeom>
                <a:avLst/>
                <a:gdLst/>
                <a:ahLst/>
                <a:rect l="l" t="t" r="r" b="b"/>
                <a:pathLst>
                  <a:path w="212" h="188">
                    <a:moveTo>
                      <a:pt x="212" y="49"/>
                    </a:moveTo>
                    <a:lnTo>
                      <a:pt x="201" y="62"/>
                    </a:lnTo>
                    <a:lnTo>
                      <a:pt x="195" y="77"/>
                    </a:lnTo>
                    <a:lnTo>
                      <a:pt x="184" y="95"/>
                    </a:lnTo>
                    <a:lnTo>
                      <a:pt x="177" y="115"/>
                    </a:lnTo>
                    <a:lnTo>
                      <a:pt x="166" y="133"/>
                    </a:lnTo>
                    <a:lnTo>
                      <a:pt x="159" y="151"/>
                    </a:lnTo>
                    <a:lnTo>
                      <a:pt x="155" y="168"/>
                    </a:lnTo>
                    <a:lnTo>
                      <a:pt x="155" y="188"/>
                    </a:lnTo>
                    <a:lnTo>
                      <a:pt x="133" y="184"/>
                    </a:lnTo>
                    <a:lnTo>
                      <a:pt x="113" y="182"/>
                    </a:lnTo>
                    <a:lnTo>
                      <a:pt x="93" y="177"/>
                    </a:lnTo>
                    <a:lnTo>
                      <a:pt x="73" y="173"/>
                    </a:lnTo>
                    <a:lnTo>
                      <a:pt x="53" y="164"/>
                    </a:lnTo>
                    <a:lnTo>
                      <a:pt x="35" y="155"/>
                    </a:lnTo>
                    <a:lnTo>
                      <a:pt x="18" y="144"/>
                    </a:lnTo>
                    <a:lnTo>
                      <a:pt x="0" y="133"/>
                    </a:lnTo>
                    <a:lnTo>
                      <a:pt x="4" y="120"/>
                    </a:lnTo>
                    <a:lnTo>
                      <a:pt x="11" y="108"/>
                    </a:lnTo>
                    <a:lnTo>
                      <a:pt x="20" y="95"/>
                    </a:lnTo>
                    <a:lnTo>
                      <a:pt x="29" y="82"/>
                    </a:lnTo>
                    <a:lnTo>
                      <a:pt x="35" y="69"/>
                    </a:lnTo>
                    <a:lnTo>
                      <a:pt x="44" y="55"/>
                    </a:lnTo>
                    <a:lnTo>
                      <a:pt x="49" y="42"/>
                    </a:lnTo>
                    <a:lnTo>
                      <a:pt x="55" y="33"/>
                    </a:lnTo>
                    <a:lnTo>
                      <a:pt x="64" y="15"/>
                    </a:lnTo>
                    <a:lnTo>
                      <a:pt x="73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8" y="2"/>
                    </a:lnTo>
                    <a:lnTo>
                      <a:pt x="148" y="9"/>
                    </a:lnTo>
                    <a:lnTo>
                      <a:pt x="164" y="13"/>
                    </a:lnTo>
                    <a:lnTo>
                      <a:pt x="181" y="22"/>
                    </a:lnTo>
                    <a:lnTo>
                      <a:pt x="197" y="33"/>
                    </a:lnTo>
                    <a:lnTo>
                      <a:pt x="212" y="49"/>
                    </a:lnTo>
                    <a:close/>
                  </a:path>
                </a:pathLst>
              </a:custGeom>
              <a:solidFill>
                <a:srgbClr val="fcf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6784560" y="3350520"/>
                <a:ext cx="289080" cy="28116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202" y="47"/>
                    </a:moveTo>
                    <a:lnTo>
                      <a:pt x="193" y="58"/>
                    </a:lnTo>
                    <a:lnTo>
                      <a:pt x="184" y="75"/>
                    </a:lnTo>
                    <a:lnTo>
                      <a:pt x="173" y="91"/>
                    </a:lnTo>
                    <a:lnTo>
                      <a:pt x="167" y="111"/>
                    </a:lnTo>
                    <a:lnTo>
                      <a:pt x="158" y="129"/>
                    </a:lnTo>
                    <a:lnTo>
                      <a:pt x="151" y="149"/>
                    </a:lnTo>
                    <a:lnTo>
                      <a:pt x="144" y="166"/>
                    </a:lnTo>
                    <a:lnTo>
                      <a:pt x="144" y="184"/>
                    </a:lnTo>
                    <a:lnTo>
                      <a:pt x="125" y="182"/>
                    </a:lnTo>
                    <a:lnTo>
                      <a:pt x="107" y="180"/>
                    </a:lnTo>
                    <a:lnTo>
                      <a:pt x="87" y="175"/>
                    </a:lnTo>
                    <a:lnTo>
                      <a:pt x="69" y="171"/>
                    </a:lnTo>
                    <a:lnTo>
                      <a:pt x="49" y="162"/>
                    </a:lnTo>
                    <a:lnTo>
                      <a:pt x="34" y="153"/>
                    </a:lnTo>
                    <a:lnTo>
                      <a:pt x="16" y="142"/>
                    </a:lnTo>
                    <a:lnTo>
                      <a:pt x="0" y="133"/>
                    </a:lnTo>
                    <a:lnTo>
                      <a:pt x="5" y="120"/>
                    </a:lnTo>
                    <a:lnTo>
                      <a:pt x="12" y="109"/>
                    </a:lnTo>
                    <a:lnTo>
                      <a:pt x="20" y="95"/>
                    </a:lnTo>
                    <a:lnTo>
                      <a:pt x="29" y="82"/>
                    </a:lnTo>
                    <a:lnTo>
                      <a:pt x="36" y="67"/>
                    </a:lnTo>
                    <a:lnTo>
                      <a:pt x="45" y="53"/>
                    </a:lnTo>
                    <a:lnTo>
                      <a:pt x="49" y="40"/>
                    </a:lnTo>
                    <a:lnTo>
                      <a:pt x="56" y="31"/>
                    </a:lnTo>
                    <a:lnTo>
                      <a:pt x="62" y="16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07" y="2"/>
                    </a:lnTo>
                    <a:lnTo>
                      <a:pt x="125" y="2"/>
                    </a:lnTo>
                    <a:lnTo>
                      <a:pt x="142" y="9"/>
                    </a:lnTo>
                    <a:lnTo>
                      <a:pt x="158" y="11"/>
                    </a:lnTo>
                    <a:lnTo>
                      <a:pt x="173" y="20"/>
                    </a:lnTo>
                    <a:lnTo>
                      <a:pt x="187" y="31"/>
                    </a:lnTo>
                    <a:lnTo>
                      <a:pt x="202" y="47"/>
                    </a:lnTo>
                    <a:close/>
                  </a:path>
                </a:pathLst>
              </a:custGeom>
              <a:solidFill>
                <a:srgbClr val="fcf0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6790320" y="3358440"/>
                <a:ext cx="273240" cy="270720"/>
              </a:xfrm>
              <a:custGeom>
                <a:avLst/>
                <a:gdLst/>
                <a:ahLst/>
                <a:rect l="l" t="t" r="r" b="b"/>
                <a:pathLst>
                  <a:path w="191" h="177">
                    <a:moveTo>
                      <a:pt x="191" y="39"/>
                    </a:moveTo>
                    <a:lnTo>
                      <a:pt x="182" y="51"/>
                    </a:lnTo>
                    <a:lnTo>
                      <a:pt x="173" y="68"/>
                    </a:lnTo>
                    <a:lnTo>
                      <a:pt x="164" y="86"/>
                    </a:lnTo>
                    <a:lnTo>
                      <a:pt x="155" y="106"/>
                    </a:lnTo>
                    <a:lnTo>
                      <a:pt x="146" y="124"/>
                    </a:lnTo>
                    <a:lnTo>
                      <a:pt x="140" y="141"/>
                    </a:lnTo>
                    <a:lnTo>
                      <a:pt x="133" y="159"/>
                    </a:lnTo>
                    <a:lnTo>
                      <a:pt x="133" y="177"/>
                    </a:lnTo>
                    <a:lnTo>
                      <a:pt x="115" y="175"/>
                    </a:lnTo>
                    <a:lnTo>
                      <a:pt x="98" y="172"/>
                    </a:lnTo>
                    <a:lnTo>
                      <a:pt x="78" y="168"/>
                    </a:lnTo>
                    <a:lnTo>
                      <a:pt x="62" y="166"/>
                    </a:lnTo>
                    <a:lnTo>
                      <a:pt x="44" y="157"/>
                    </a:lnTo>
                    <a:lnTo>
                      <a:pt x="29" y="148"/>
                    </a:lnTo>
                    <a:lnTo>
                      <a:pt x="13" y="139"/>
                    </a:lnTo>
                    <a:lnTo>
                      <a:pt x="0" y="130"/>
                    </a:lnTo>
                    <a:lnTo>
                      <a:pt x="5" y="119"/>
                    </a:lnTo>
                    <a:lnTo>
                      <a:pt x="11" y="106"/>
                    </a:lnTo>
                    <a:lnTo>
                      <a:pt x="20" y="90"/>
                    </a:lnTo>
                    <a:lnTo>
                      <a:pt x="29" y="77"/>
                    </a:lnTo>
                    <a:lnTo>
                      <a:pt x="36" y="62"/>
                    </a:lnTo>
                    <a:lnTo>
                      <a:pt x="44" y="48"/>
                    </a:lnTo>
                    <a:lnTo>
                      <a:pt x="49" y="35"/>
                    </a:lnTo>
                    <a:lnTo>
                      <a:pt x="55" y="26"/>
                    </a:lnTo>
                    <a:lnTo>
                      <a:pt x="62" y="11"/>
                    </a:lnTo>
                    <a:lnTo>
                      <a:pt x="71" y="0"/>
                    </a:lnTo>
                    <a:lnTo>
                      <a:pt x="87" y="0"/>
                    </a:lnTo>
                    <a:lnTo>
                      <a:pt x="102" y="0"/>
                    </a:lnTo>
                    <a:lnTo>
                      <a:pt x="118" y="0"/>
                    </a:lnTo>
                    <a:lnTo>
                      <a:pt x="135" y="4"/>
                    </a:lnTo>
                    <a:lnTo>
                      <a:pt x="149" y="6"/>
                    </a:lnTo>
                    <a:lnTo>
                      <a:pt x="164" y="15"/>
                    </a:lnTo>
                    <a:lnTo>
                      <a:pt x="177" y="24"/>
                    </a:lnTo>
                    <a:lnTo>
                      <a:pt x="191" y="39"/>
                    </a:lnTo>
                    <a:close/>
                  </a:path>
                </a:pathLst>
              </a:custGeom>
              <a:solidFill>
                <a:srgbClr val="fff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6797160" y="3360960"/>
                <a:ext cx="256680" cy="264600"/>
              </a:xfrm>
              <a:custGeom>
                <a:avLst/>
                <a:gdLst/>
                <a:ahLst/>
                <a:rect l="l" t="t" r="r" b="b"/>
                <a:pathLst>
                  <a:path w="179" h="173">
                    <a:moveTo>
                      <a:pt x="179" y="37"/>
                    </a:moveTo>
                    <a:lnTo>
                      <a:pt x="170" y="49"/>
                    </a:lnTo>
                    <a:lnTo>
                      <a:pt x="161" y="64"/>
                    </a:lnTo>
                    <a:lnTo>
                      <a:pt x="153" y="82"/>
                    </a:lnTo>
                    <a:lnTo>
                      <a:pt x="144" y="102"/>
                    </a:lnTo>
                    <a:lnTo>
                      <a:pt x="135" y="119"/>
                    </a:lnTo>
                    <a:lnTo>
                      <a:pt x="128" y="139"/>
                    </a:lnTo>
                    <a:lnTo>
                      <a:pt x="122" y="157"/>
                    </a:lnTo>
                    <a:lnTo>
                      <a:pt x="122" y="173"/>
                    </a:lnTo>
                    <a:lnTo>
                      <a:pt x="104" y="170"/>
                    </a:lnTo>
                    <a:lnTo>
                      <a:pt x="88" y="168"/>
                    </a:lnTo>
                    <a:lnTo>
                      <a:pt x="71" y="164"/>
                    </a:lnTo>
                    <a:lnTo>
                      <a:pt x="57" y="161"/>
                    </a:lnTo>
                    <a:lnTo>
                      <a:pt x="42" y="153"/>
                    </a:lnTo>
                    <a:lnTo>
                      <a:pt x="29" y="146"/>
                    </a:lnTo>
                    <a:lnTo>
                      <a:pt x="13" y="137"/>
                    </a:lnTo>
                    <a:lnTo>
                      <a:pt x="0" y="130"/>
                    </a:lnTo>
                    <a:lnTo>
                      <a:pt x="4" y="119"/>
                    </a:lnTo>
                    <a:lnTo>
                      <a:pt x="11" y="106"/>
                    </a:lnTo>
                    <a:lnTo>
                      <a:pt x="20" y="91"/>
                    </a:lnTo>
                    <a:lnTo>
                      <a:pt x="29" y="77"/>
                    </a:lnTo>
                    <a:lnTo>
                      <a:pt x="35" y="60"/>
                    </a:lnTo>
                    <a:lnTo>
                      <a:pt x="44" y="46"/>
                    </a:lnTo>
                    <a:lnTo>
                      <a:pt x="48" y="33"/>
                    </a:lnTo>
                    <a:lnTo>
                      <a:pt x="55" y="24"/>
                    </a:lnTo>
                    <a:lnTo>
                      <a:pt x="71" y="0"/>
                    </a:lnTo>
                    <a:lnTo>
                      <a:pt x="84" y="0"/>
                    </a:lnTo>
                    <a:lnTo>
                      <a:pt x="99" y="0"/>
                    </a:lnTo>
                    <a:lnTo>
                      <a:pt x="115" y="0"/>
                    </a:lnTo>
                    <a:lnTo>
                      <a:pt x="130" y="4"/>
                    </a:lnTo>
                    <a:lnTo>
                      <a:pt x="142" y="6"/>
                    </a:lnTo>
                    <a:lnTo>
                      <a:pt x="155" y="13"/>
                    </a:lnTo>
                    <a:lnTo>
                      <a:pt x="166" y="22"/>
                    </a:lnTo>
                    <a:lnTo>
                      <a:pt x="179" y="37"/>
                    </a:lnTo>
                    <a:close/>
                  </a:path>
                </a:pathLst>
              </a:custGeom>
              <a:solidFill>
                <a:srgbClr val="fff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>
                <a:off x="6810840" y="3370320"/>
                <a:ext cx="234720" cy="244440"/>
              </a:xfrm>
              <a:custGeom>
                <a:avLst/>
                <a:gdLst/>
                <a:ahLst/>
                <a:rect l="l" t="t" r="r" b="b"/>
                <a:pathLst>
                  <a:path w="164" h="160">
                    <a:moveTo>
                      <a:pt x="164" y="34"/>
                    </a:moveTo>
                    <a:lnTo>
                      <a:pt x="155" y="45"/>
                    </a:lnTo>
                    <a:lnTo>
                      <a:pt x="147" y="60"/>
                    </a:lnTo>
                    <a:lnTo>
                      <a:pt x="138" y="76"/>
                    </a:lnTo>
                    <a:lnTo>
                      <a:pt x="131" y="96"/>
                    </a:lnTo>
                    <a:lnTo>
                      <a:pt x="122" y="113"/>
                    </a:lnTo>
                    <a:lnTo>
                      <a:pt x="116" y="131"/>
                    </a:lnTo>
                    <a:lnTo>
                      <a:pt x="111" y="144"/>
                    </a:lnTo>
                    <a:lnTo>
                      <a:pt x="111" y="160"/>
                    </a:lnTo>
                    <a:lnTo>
                      <a:pt x="96" y="158"/>
                    </a:lnTo>
                    <a:lnTo>
                      <a:pt x="80" y="155"/>
                    </a:lnTo>
                    <a:lnTo>
                      <a:pt x="67" y="151"/>
                    </a:lnTo>
                    <a:lnTo>
                      <a:pt x="54" y="149"/>
                    </a:lnTo>
                    <a:lnTo>
                      <a:pt x="40" y="142"/>
                    </a:lnTo>
                    <a:lnTo>
                      <a:pt x="27" y="136"/>
                    </a:lnTo>
                    <a:lnTo>
                      <a:pt x="14" y="127"/>
                    </a:lnTo>
                    <a:lnTo>
                      <a:pt x="0" y="120"/>
                    </a:lnTo>
                    <a:lnTo>
                      <a:pt x="3" y="109"/>
                    </a:lnTo>
                    <a:lnTo>
                      <a:pt x="9" y="98"/>
                    </a:lnTo>
                    <a:lnTo>
                      <a:pt x="18" y="85"/>
                    </a:lnTo>
                    <a:lnTo>
                      <a:pt x="27" y="71"/>
                    </a:lnTo>
                    <a:lnTo>
                      <a:pt x="34" y="56"/>
                    </a:lnTo>
                    <a:lnTo>
                      <a:pt x="40" y="43"/>
                    </a:lnTo>
                    <a:lnTo>
                      <a:pt x="45" y="29"/>
                    </a:lnTo>
                    <a:lnTo>
                      <a:pt x="51" y="23"/>
                    </a:lnTo>
                    <a:lnTo>
                      <a:pt x="58" y="12"/>
                    </a:lnTo>
                    <a:lnTo>
                      <a:pt x="65" y="0"/>
                    </a:lnTo>
                    <a:lnTo>
                      <a:pt x="78" y="0"/>
                    </a:lnTo>
                    <a:lnTo>
                      <a:pt x="91" y="0"/>
                    </a:lnTo>
                    <a:lnTo>
                      <a:pt x="105" y="0"/>
                    </a:lnTo>
                    <a:lnTo>
                      <a:pt x="118" y="5"/>
                    </a:lnTo>
                    <a:lnTo>
                      <a:pt x="129" y="7"/>
                    </a:lnTo>
                    <a:lnTo>
                      <a:pt x="142" y="14"/>
                    </a:lnTo>
                    <a:lnTo>
                      <a:pt x="153" y="20"/>
                    </a:lnTo>
                    <a:lnTo>
                      <a:pt x="164" y="34"/>
                    </a:lnTo>
                    <a:close/>
                  </a:path>
                </a:pathLst>
              </a:custGeom>
              <a:solidFill>
                <a:srgbClr val="fff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>
                <a:off x="6825960" y="3381120"/>
                <a:ext cx="209160" cy="2203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46" y="33"/>
                    </a:moveTo>
                    <a:lnTo>
                      <a:pt x="140" y="42"/>
                    </a:lnTo>
                    <a:lnTo>
                      <a:pt x="133" y="55"/>
                    </a:lnTo>
                    <a:lnTo>
                      <a:pt x="126" y="69"/>
                    </a:lnTo>
                    <a:lnTo>
                      <a:pt x="120" y="86"/>
                    </a:lnTo>
                    <a:lnTo>
                      <a:pt x="111" y="102"/>
                    </a:lnTo>
                    <a:lnTo>
                      <a:pt x="104" y="117"/>
                    </a:lnTo>
                    <a:lnTo>
                      <a:pt x="100" y="131"/>
                    </a:lnTo>
                    <a:lnTo>
                      <a:pt x="100" y="144"/>
                    </a:lnTo>
                    <a:lnTo>
                      <a:pt x="86" y="142"/>
                    </a:lnTo>
                    <a:lnTo>
                      <a:pt x="73" y="140"/>
                    </a:lnTo>
                    <a:lnTo>
                      <a:pt x="60" y="137"/>
                    </a:lnTo>
                    <a:lnTo>
                      <a:pt x="47" y="135"/>
                    </a:lnTo>
                    <a:lnTo>
                      <a:pt x="22" y="122"/>
                    </a:lnTo>
                    <a:lnTo>
                      <a:pt x="0" y="109"/>
                    </a:lnTo>
                    <a:lnTo>
                      <a:pt x="2" y="100"/>
                    </a:lnTo>
                    <a:lnTo>
                      <a:pt x="9" y="89"/>
                    </a:lnTo>
                    <a:lnTo>
                      <a:pt x="16" y="75"/>
                    </a:lnTo>
                    <a:lnTo>
                      <a:pt x="22" y="64"/>
                    </a:lnTo>
                    <a:lnTo>
                      <a:pt x="29" y="51"/>
                    </a:lnTo>
                    <a:lnTo>
                      <a:pt x="35" y="40"/>
                    </a:lnTo>
                    <a:lnTo>
                      <a:pt x="40" y="29"/>
                    </a:lnTo>
                    <a:lnTo>
                      <a:pt x="47" y="22"/>
                    </a:lnTo>
                    <a:lnTo>
                      <a:pt x="51" y="11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82" y="2"/>
                    </a:lnTo>
                    <a:lnTo>
                      <a:pt x="93" y="2"/>
                    </a:lnTo>
                    <a:lnTo>
                      <a:pt x="106" y="7"/>
                    </a:lnTo>
                    <a:lnTo>
                      <a:pt x="126" y="16"/>
                    </a:lnTo>
                    <a:lnTo>
                      <a:pt x="146" y="33"/>
                    </a:lnTo>
                    <a:close/>
                  </a:path>
                </a:pathLst>
              </a:custGeom>
              <a:solidFill>
                <a:srgbClr val="fff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>
                <a:off x="6838920" y="3394800"/>
                <a:ext cx="186120" cy="195840"/>
              </a:xfrm>
              <a:custGeom>
                <a:avLst/>
                <a:gdLst/>
                <a:ahLst/>
                <a:rect l="l" t="t" r="r" b="b"/>
                <a:pathLst>
                  <a:path w="130" h="128">
                    <a:moveTo>
                      <a:pt x="130" y="29"/>
                    </a:moveTo>
                    <a:lnTo>
                      <a:pt x="124" y="35"/>
                    </a:lnTo>
                    <a:lnTo>
                      <a:pt x="117" y="49"/>
                    </a:lnTo>
                    <a:lnTo>
                      <a:pt x="110" y="60"/>
                    </a:lnTo>
                    <a:lnTo>
                      <a:pt x="104" y="75"/>
                    </a:lnTo>
                    <a:lnTo>
                      <a:pt x="97" y="89"/>
                    </a:lnTo>
                    <a:lnTo>
                      <a:pt x="93" y="104"/>
                    </a:lnTo>
                    <a:lnTo>
                      <a:pt x="88" y="115"/>
                    </a:lnTo>
                    <a:lnTo>
                      <a:pt x="88" y="128"/>
                    </a:lnTo>
                    <a:lnTo>
                      <a:pt x="64" y="124"/>
                    </a:lnTo>
                    <a:lnTo>
                      <a:pt x="42" y="120"/>
                    </a:lnTo>
                    <a:lnTo>
                      <a:pt x="20" y="108"/>
                    </a:lnTo>
                    <a:lnTo>
                      <a:pt x="0" y="97"/>
                    </a:lnTo>
                    <a:lnTo>
                      <a:pt x="9" y="80"/>
                    </a:lnTo>
                    <a:lnTo>
                      <a:pt x="20" y="58"/>
                    </a:lnTo>
                    <a:lnTo>
                      <a:pt x="24" y="44"/>
                    </a:lnTo>
                    <a:lnTo>
                      <a:pt x="31" y="33"/>
                    </a:lnTo>
                    <a:lnTo>
                      <a:pt x="35" y="22"/>
                    </a:lnTo>
                    <a:lnTo>
                      <a:pt x="40" y="18"/>
                    </a:lnTo>
                    <a:lnTo>
                      <a:pt x="44" y="9"/>
                    </a:lnTo>
                    <a:lnTo>
                      <a:pt x="51" y="0"/>
                    </a:lnTo>
                    <a:lnTo>
                      <a:pt x="71" y="0"/>
                    </a:lnTo>
                    <a:lnTo>
                      <a:pt x="93" y="4"/>
                    </a:lnTo>
                    <a:lnTo>
                      <a:pt x="113" y="13"/>
                    </a:lnTo>
                    <a:lnTo>
                      <a:pt x="130" y="29"/>
                    </a:lnTo>
                    <a:close/>
                  </a:path>
                </a:pathLst>
              </a:custGeom>
              <a:solidFill>
                <a:srgbClr val="ff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>
                <a:off x="6850440" y="3408480"/>
                <a:ext cx="166320" cy="169920"/>
              </a:xfrm>
              <a:custGeom>
                <a:avLst/>
                <a:gdLst/>
                <a:ahLst/>
                <a:rect l="l" t="t" r="r" b="b"/>
                <a:pathLst>
                  <a:path w="116" h="111">
                    <a:moveTo>
                      <a:pt x="116" y="24"/>
                    </a:moveTo>
                    <a:lnTo>
                      <a:pt x="109" y="31"/>
                    </a:lnTo>
                    <a:lnTo>
                      <a:pt x="102" y="42"/>
                    </a:lnTo>
                    <a:lnTo>
                      <a:pt x="96" y="53"/>
                    </a:lnTo>
                    <a:lnTo>
                      <a:pt x="91" y="66"/>
                    </a:lnTo>
                    <a:lnTo>
                      <a:pt x="85" y="77"/>
                    </a:lnTo>
                    <a:lnTo>
                      <a:pt x="80" y="88"/>
                    </a:lnTo>
                    <a:lnTo>
                      <a:pt x="78" y="99"/>
                    </a:lnTo>
                    <a:lnTo>
                      <a:pt x="78" y="111"/>
                    </a:lnTo>
                    <a:lnTo>
                      <a:pt x="56" y="106"/>
                    </a:lnTo>
                    <a:lnTo>
                      <a:pt x="38" y="104"/>
                    </a:lnTo>
                    <a:lnTo>
                      <a:pt x="18" y="93"/>
                    </a:lnTo>
                    <a:lnTo>
                      <a:pt x="0" y="82"/>
                    </a:lnTo>
                    <a:lnTo>
                      <a:pt x="7" y="66"/>
                    </a:lnTo>
                    <a:lnTo>
                      <a:pt x="18" y="49"/>
                    </a:lnTo>
                    <a:lnTo>
                      <a:pt x="27" y="29"/>
                    </a:lnTo>
                    <a:lnTo>
                      <a:pt x="36" y="15"/>
                    </a:lnTo>
                    <a:lnTo>
                      <a:pt x="40" y="6"/>
                    </a:lnTo>
                    <a:lnTo>
                      <a:pt x="45" y="0"/>
                    </a:lnTo>
                    <a:lnTo>
                      <a:pt x="62" y="0"/>
                    </a:lnTo>
                    <a:lnTo>
                      <a:pt x="82" y="2"/>
                    </a:lnTo>
                    <a:lnTo>
                      <a:pt x="100" y="9"/>
                    </a:lnTo>
                    <a:lnTo>
                      <a:pt x="116" y="24"/>
                    </a:lnTo>
                    <a:close/>
                  </a:path>
                </a:pathLst>
              </a:cu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6867720" y="3417840"/>
                <a:ext cx="138960" cy="146520"/>
              </a:xfrm>
              <a:custGeom>
                <a:avLst/>
                <a:gdLst/>
                <a:ahLst/>
                <a:rect l="l" t="t" r="r" b="b"/>
                <a:pathLst>
                  <a:path w="97" h="96">
                    <a:moveTo>
                      <a:pt x="97" y="23"/>
                    </a:moveTo>
                    <a:lnTo>
                      <a:pt x="89" y="36"/>
                    </a:lnTo>
                    <a:lnTo>
                      <a:pt x="78" y="58"/>
                    </a:lnTo>
                    <a:lnTo>
                      <a:pt x="69" y="78"/>
                    </a:lnTo>
                    <a:lnTo>
                      <a:pt x="66" y="96"/>
                    </a:lnTo>
                    <a:lnTo>
                      <a:pt x="49" y="93"/>
                    </a:lnTo>
                    <a:lnTo>
                      <a:pt x="31" y="91"/>
                    </a:lnTo>
                    <a:lnTo>
                      <a:pt x="15" y="82"/>
                    </a:lnTo>
                    <a:lnTo>
                      <a:pt x="0" y="74"/>
                    </a:lnTo>
                    <a:lnTo>
                      <a:pt x="4" y="60"/>
                    </a:lnTo>
                    <a:lnTo>
                      <a:pt x="15" y="43"/>
                    </a:lnTo>
                    <a:lnTo>
                      <a:pt x="24" y="25"/>
                    </a:lnTo>
                    <a:lnTo>
                      <a:pt x="31" y="14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3" y="0"/>
                    </a:lnTo>
                    <a:lnTo>
                      <a:pt x="71" y="3"/>
                    </a:lnTo>
                    <a:lnTo>
                      <a:pt x="84" y="9"/>
                    </a:lnTo>
                    <a:lnTo>
                      <a:pt x="97" y="23"/>
                    </a:lnTo>
                    <a:close/>
                  </a:path>
                </a:pathLst>
              </a:cu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>
                <a:off x="6879240" y="3431520"/>
                <a:ext cx="117000" cy="12240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82" y="16"/>
                    </a:moveTo>
                    <a:lnTo>
                      <a:pt x="73" y="29"/>
                    </a:lnTo>
                    <a:lnTo>
                      <a:pt x="66" y="47"/>
                    </a:lnTo>
                    <a:lnTo>
                      <a:pt x="57" y="65"/>
                    </a:lnTo>
                    <a:lnTo>
                      <a:pt x="55" y="80"/>
                    </a:lnTo>
                    <a:lnTo>
                      <a:pt x="40" y="78"/>
                    </a:lnTo>
                    <a:lnTo>
                      <a:pt x="26" y="76"/>
                    </a:lnTo>
                    <a:lnTo>
                      <a:pt x="11" y="67"/>
                    </a:lnTo>
                    <a:lnTo>
                      <a:pt x="0" y="60"/>
                    </a:lnTo>
                    <a:lnTo>
                      <a:pt x="4" y="49"/>
                    </a:lnTo>
                    <a:lnTo>
                      <a:pt x="13" y="36"/>
                    </a:lnTo>
                    <a:lnTo>
                      <a:pt x="20" y="20"/>
                    </a:lnTo>
                    <a:lnTo>
                      <a:pt x="26" y="11"/>
                    </a:lnTo>
                    <a:lnTo>
                      <a:pt x="31" y="0"/>
                    </a:lnTo>
                    <a:lnTo>
                      <a:pt x="44" y="0"/>
                    </a:lnTo>
                    <a:lnTo>
                      <a:pt x="59" y="0"/>
                    </a:lnTo>
                    <a:lnTo>
                      <a:pt x="71" y="5"/>
                    </a:lnTo>
                    <a:lnTo>
                      <a:pt x="8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6987960" y="3367440"/>
                <a:ext cx="65880" cy="163800"/>
              </a:xfrm>
              <a:custGeom>
                <a:avLst/>
                <a:gdLst/>
                <a:ahLst/>
                <a:rect l="l" t="t" r="r" b="b"/>
                <a:pathLst>
                  <a:path w="46" h="107">
                    <a:moveTo>
                      <a:pt x="46" y="0"/>
                    </a:moveTo>
                    <a:lnTo>
                      <a:pt x="40" y="14"/>
                    </a:lnTo>
                    <a:lnTo>
                      <a:pt x="35" y="27"/>
                    </a:lnTo>
                    <a:lnTo>
                      <a:pt x="31" y="40"/>
                    </a:lnTo>
                    <a:lnTo>
                      <a:pt x="26" y="53"/>
                    </a:lnTo>
                    <a:lnTo>
                      <a:pt x="20" y="67"/>
                    </a:lnTo>
                    <a:lnTo>
                      <a:pt x="13" y="80"/>
                    </a:lnTo>
                    <a:lnTo>
                      <a:pt x="6" y="93"/>
                    </a:lnTo>
                    <a:lnTo>
                      <a:pt x="0" y="107"/>
                    </a:lnTo>
                    <a:lnTo>
                      <a:pt x="4" y="93"/>
                    </a:lnTo>
                    <a:lnTo>
                      <a:pt x="11" y="80"/>
                    </a:lnTo>
                    <a:lnTo>
                      <a:pt x="15" y="67"/>
                    </a:lnTo>
                    <a:lnTo>
                      <a:pt x="22" y="53"/>
                    </a:lnTo>
                    <a:lnTo>
                      <a:pt x="26" y="40"/>
                    </a:lnTo>
                    <a:lnTo>
                      <a:pt x="31" y="27"/>
                    </a:lnTo>
                    <a:lnTo>
                      <a:pt x="35" y="14"/>
                    </a:lnTo>
                    <a:lnTo>
                      <a:pt x="42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6847920" y="3400920"/>
                <a:ext cx="79920" cy="166680"/>
              </a:xfrm>
              <a:custGeom>
                <a:avLst/>
                <a:gdLst/>
                <a:ahLst/>
                <a:rect l="l" t="t" r="r" b="b"/>
                <a:pathLst>
                  <a:path w="56" h="109">
                    <a:moveTo>
                      <a:pt x="49" y="0"/>
                    </a:moveTo>
                    <a:lnTo>
                      <a:pt x="49" y="5"/>
                    </a:lnTo>
                    <a:lnTo>
                      <a:pt x="47" y="11"/>
                    </a:lnTo>
                    <a:lnTo>
                      <a:pt x="56" y="9"/>
                    </a:lnTo>
                    <a:lnTo>
                      <a:pt x="47" y="18"/>
                    </a:lnTo>
                    <a:lnTo>
                      <a:pt x="38" y="29"/>
                    </a:lnTo>
                    <a:lnTo>
                      <a:pt x="31" y="42"/>
                    </a:lnTo>
                    <a:lnTo>
                      <a:pt x="25" y="56"/>
                    </a:lnTo>
                    <a:lnTo>
                      <a:pt x="18" y="67"/>
                    </a:lnTo>
                    <a:lnTo>
                      <a:pt x="11" y="80"/>
                    </a:lnTo>
                    <a:lnTo>
                      <a:pt x="7" y="93"/>
                    </a:lnTo>
                    <a:lnTo>
                      <a:pt x="7" y="109"/>
                    </a:lnTo>
                    <a:lnTo>
                      <a:pt x="7" y="93"/>
                    </a:lnTo>
                    <a:lnTo>
                      <a:pt x="3" y="100"/>
                    </a:lnTo>
                    <a:lnTo>
                      <a:pt x="0" y="107"/>
                    </a:lnTo>
                    <a:lnTo>
                      <a:pt x="0" y="91"/>
                    </a:lnTo>
                    <a:lnTo>
                      <a:pt x="7" y="78"/>
                    </a:lnTo>
                    <a:lnTo>
                      <a:pt x="14" y="65"/>
                    </a:lnTo>
                    <a:lnTo>
                      <a:pt x="20" y="51"/>
                    </a:lnTo>
                    <a:lnTo>
                      <a:pt x="27" y="38"/>
                    </a:lnTo>
                    <a:lnTo>
                      <a:pt x="34" y="25"/>
                    </a:lnTo>
                    <a:lnTo>
                      <a:pt x="40" y="11"/>
                    </a:lnTo>
                    <a:lnTo>
                      <a:pt x="47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6977880" y="3405600"/>
                <a:ext cx="73080" cy="148320"/>
              </a:xfrm>
              <a:custGeom>
                <a:avLst/>
                <a:gdLst/>
                <a:ahLst/>
                <a:rect l="l" t="t" r="r" b="b"/>
                <a:pathLst>
                  <a:path w="51" h="97">
                    <a:moveTo>
                      <a:pt x="51" y="0"/>
                    </a:moveTo>
                    <a:lnTo>
                      <a:pt x="46" y="11"/>
                    </a:lnTo>
                    <a:lnTo>
                      <a:pt x="42" y="24"/>
                    </a:lnTo>
                    <a:lnTo>
                      <a:pt x="35" y="37"/>
                    </a:lnTo>
                    <a:lnTo>
                      <a:pt x="31" y="51"/>
                    </a:lnTo>
                    <a:lnTo>
                      <a:pt x="15" y="73"/>
                    </a:lnTo>
                    <a:lnTo>
                      <a:pt x="0" y="97"/>
                    </a:lnTo>
                    <a:lnTo>
                      <a:pt x="7" y="84"/>
                    </a:lnTo>
                    <a:lnTo>
                      <a:pt x="13" y="73"/>
                    </a:lnTo>
                    <a:lnTo>
                      <a:pt x="20" y="59"/>
                    </a:lnTo>
                    <a:lnTo>
                      <a:pt x="27" y="48"/>
                    </a:lnTo>
                    <a:lnTo>
                      <a:pt x="31" y="35"/>
                    </a:lnTo>
                    <a:lnTo>
                      <a:pt x="38" y="24"/>
                    </a:lnTo>
                    <a:lnTo>
                      <a:pt x="42" y="11"/>
                    </a:lnTo>
                    <a:lnTo>
                      <a:pt x="49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6518520" y="3439080"/>
                <a:ext cx="263520" cy="91800"/>
              </a:xfrm>
              <a:custGeom>
                <a:avLst/>
                <a:gdLst/>
                <a:ahLst/>
                <a:rect l="l" t="t" r="r" b="b"/>
                <a:pathLst>
                  <a:path w="184" h="60">
                    <a:moveTo>
                      <a:pt x="184" y="60"/>
                    </a:moveTo>
                    <a:lnTo>
                      <a:pt x="160" y="60"/>
                    </a:lnTo>
                    <a:lnTo>
                      <a:pt x="138" y="60"/>
                    </a:lnTo>
                    <a:lnTo>
                      <a:pt x="113" y="57"/>
                    </a:lnTo>
                    <a:lnTo>
                      <a:pt x="91" y="57"/>
                    </a:lnTo>
                    <a:lnTo>
                      <a:pt x="67" y="53"/>
                    </a:lnTo>
                    <a:lnTo>
                      <a:pt x="45" y="53"/>
                    </a:lnTo>
                    <a:lnTo>
                      <a:pt x="22" y="48"/>
                    </a:lnTo>
                    <a:lnTo>
                      <a:pt x="0" y="48"/>
                    </a:lnTo>
                    <a:lnTo>
                      <a:pt x="5" y="35"/>
                    </a:lnTo>
                    <a:lnTo>
                      <a:pt x="11" y="22"/>
                    </a:lnTo>
                    <a:lnTo>
                      <a:pt x="18" y="9"/>
                    </a:lnTo>
                    <a:lnTo>
                      <a:pt x="29" y="0"/>
                    </a:lnTo>
                    <a:lnTo>
                      <a:pt x="47" y="9"/>
                    </a:lnTo>
                    <a:lnTo>
                      <a:pt x="65" y="17"/>
                    </a:lnTo>
                    <a:lnTo>
                      <a:pt x="84" y="26"/>
                    </a:lnTo>
                    <a:lnTo>
                      <a:pt x="104" y="35"/>
                    </a:lnTo>
                    <a:lnTo>
                      <a:pt x="124" y="40"/>
                    </a:lnTo>
                    <a:lnTo>
                      <a:pt x="144" y="46"/>
                    </a:lnTo>
                    <a:lnTo>
                      <a:pt x="164" y="53"/>
                    </a:lnTo>
                    <a:lnTo>
                      <a:pt x="184" y="60"/>
                    </a:lnTo>
                    <a:close/>
                  </a:path>
                </a:pathLst>
              </a:custGeom>
              <a:solidFill>
                <a:srgbClr val="ffd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>
                <a:off x="6816240" y="3459240"/>
                <a:ext cx="31320" cy="122040"/>
              </a:xfrm>
              <a:custGeom>
                <a:avLst/>
                <a:gdLst/>
                <a:ahLst/>
                <a:rect l="l" t="t" r="r" b="b"/>
                <a:pathLst>
                  <a:path w="22" h="80">
                    <a:moveTo>
                      <a:pt x="22" y="0"/>
                    </a:moveTo>
                    <a:lnTo>
                      <a:pt x="11" y="18"/>
                    </a:lnTo>
                    <a:lnTo>
                      <a:pt x="6" y="38"/>
                    </a:lnTo>
                    <a:lnTo>
                      <a:pt x="2" y="58"/>
                    </a:lnTo>
                    <a:lnTo>
                      <a:pt x="0" y="80"/>
                    </a:lnTo>
                    <a:lnTo>
                      <a:pt x="2" y="58"/>
                    </a:lnTo>
                    <a:lnTo>
                      <a:pt x="4" y="38"/>
                    </a:lnTo>
                    <a:lnTo>
                      <a:pt x="9" y="18"/>
                    </a:lnTo>
                    <a:lnTo>
                      <a:pt x="2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>
                <a:off x="6857640" y="3469680"/>
                <a:ext cx="50040" cy="104040"/>
              </a:xfrm>
              <a:custGeom>
                <a:avLst/>
                <a:gdLst/>
                <a:ahLst/>
                <a:rect l="l" t="t" r="r" b="b"/>
                <a:pathLst>
                  <a:path w="35" h="68">
                    <a:moveTo>
                      <a:pt x="35" y="0"/>
                    </a:moveTo>
                    <a:lnTo>
                      <a:pt x="24" y="17"/>
                    </a:lnTo>
                    <a:lnTo>
                      <a:pt x="15" y="35"/>
                    </a:lnTo>
                    <a:lnTo>
                      <a:pt x="6" y="51"/>
                    </a:lnTo>
                    <a:lnTo>
                      <a:pt x="0" y="68"/>
                    </a:lnTo>
                    <a:lnTo>
                      <a:pt x="6" y="48"/>
                    </a:lnTo>
                    <a:lnTo>
                      <a:pt x="13" y="31"/>
                    </a:lnTo>
                    <a:lnTo>
                      <a:pt x="22" y="1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6967800" y="3479040"/>
                <a:ext cx="44280" cy="9180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0" y="60"/>
                    </a:moveTo>
                    <a:lnTo>
                      <a:pt x="2" y="42"/>
                    </a:lnTo>
                    <a:lnTo>
                      <a:pt x="8" y="29"/>
                    </a:lnTo>
                    <a:lnTo>
                      <a:pt x="17" y="16"/>
                    </a:lnTo>
                    <a:lnTo>
                      <a:pt x="26" y="3"/>
                    </a:lnTo>
                    <a:lnTo>
                      <a:pt x="31" y="0"/>
                    </a:lnTo>
                    <a:lnTo>
                      <a:pt x="22" y="14"/>
                    </a:lnTo>
                    <a:lnTo>
                      <a:pt x="15" y="29"/>
                    </a:lnTo>
                    <a:lnTo>
                      <a:pt x="4" y="4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6320160" y="3479040"/>
                <a:ext cx="168840" cy="60840"/>
              </a:xfrm>
              <a:custGeom>
                <a:avLst/>
                <a:gdLst/>
                <a:ahLst/>
                <a:rect l="l" t="t" r="r" b="b"/>
                <a:pathLst>
                  <a:path w="118" h="40">
                    <a:moveTo>
                      <a:pt x="118" y="7"/>
                    </a:moveTo>
                    <a:lnTo>
                      <a:pt x="109" y="20"/>
                    </a:lnTo>
                    <a:lnTo>
                      <a:pt x="95" y="29"/>
                    </a:lnTo>
                    <a:lnTo>
                      <a:pt x="82" y="31"/>
                    </a:lnTo>
                    <a:lnTo>
                      <a:pt x="71" y="36"/>
                    </a:lnTo>
                    <a:lnTo>
                      <a:pt x="58" y="36"/>
                    </a:lnTo>
                    <a:lnTo>
                      <a:pt x="47" y="38"/>
                    </a:lnTo>
                    <a:lnTo>
                      <a:pt x="33" y="38"/>
                    </a:lnTo>
                    <a:lnTo>
                      <a:pt x="22" y="38"/>
                    </a:lnTo>
                    <a:lnTo>
                      <a:pt x="9" y="38"/>
                    </a:lnTo>
                    <a:lnTo>
                      <a:pt x="0" y="40"/>
                    </a:lnTo>
                    <a:lnTo>
                      <a:pt x="13" y="34"/>
                    </a:lnTo>
                    <a:lnTo>
                      <a:pt x="27" y="31"/>
                    </a:lnTo>
                    <a:lnTo>
                      <a:pt x="40" y="27"/>
                    </a:lnTo>
                    <a:lnTo>
                      <a:pt x="55" y="25"/>
                    </a:lnTo>
                    <a:lnTo>
                      <a:pt x="69" y="20"/>
                    </a:lnTo>
                    <a:lnTo>
                      <a:pt x="82" y="16"/>
                    </a:lnTo>
                    <a:lnTo>
                      <a:pt x="95" y="7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8" y="7"/>
                    </a:lnTo>
                    <a:close/>
                  </a:path>
                </a:pathLst>
              </a:custGeom>
              <a:solidFill>
                <a:srgbClr val="ffcc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6784560" y="3543120"/>
                <a:ext cx="605880" cy="1238400"/>
              </a:xfrm>
              <a:custGeom>
                <a:avLst/>
                <a:gdLst/>
                <a:ahLst/>
                <a:rect l="l" t="t" r="r" b="b"/>
                <a:pathLst>
                  <a:path w="423" h="809">
                    <a:moveTo>
                      <a:pt x="219" y="27"/>
                    </a:moveTo>
                    <a:lnTo>
                      <a:pt x="239" y="36"/>
                    </a:lnTo>
                    <a:lnTo>
                      <a:pt x="261" y="47"/>
                    </a:lnTo>
                    <a:lnTo>
                      <a:pt x="281" y="56"/>
                    </a:lnTo>
                    <a:lnTo>
                      <a:pt x="306" y="69"/>
                    </a:lnTo>
                    <a:lnTo>
                      <a:pt x="306" y="69"/>
                    </a:lnTo>
                    <a:lnTo>
                      <a:pt x="308" y="71"/>
                    </a:lnTo>
                    <a:lnTo>
                      <a:pt x="308" y="69"/>
                    </a:lnTo>
                    <a:lnTo>
                      <a:pt x="328" y="73"/>
                    </a:lnTo>
                    <a:lnTo>
                      <a:pt x="348" y="76"/>
                    </a:lnTo>
                    <a:lnTo>
                      <a:pt x="368" y="76"/>
                    </a:lnTo>
                    <a:lnTo>
                      <a:pt x="390" y="78"/>
                    </a:lnTo>
                    <a:lnTo>
                      <a:pt x="396" y="89"/>
                    </a:lnTo>
                    <a:lnTo>
                      <a:pt x="399" y="102"/>
                    </a:lnTo>
                    <a:lnTo>
                      <a:pt x="401" y="116"/>
                    </a:lnTo>
                    <a:lnTo>
                      <a:pt x="408" y="129"/>
                    </a:lnTo>
                    <a:lnTo>
                      <a:pt x="408" y="142"/>
                    </a:lnTo>
                    <a:lnTo>
                      <a:pt x="410" y="158"/>
                    </a:lnTo>
                    <a:lnTo>
                      <a:pt x="410" y="173"/>
                    </a:lnTo>
                    <a:lnTo>
                      <a:pt x="412" y="191"/>
                    </a:lnTo>
                    <a:lnTo>
                      <a:pt x="410" y="206"/>
                    </a:lnTo>
                    <a:lnTo>
                      <a:pt x="410" y="224"/>
                    </a:lnTo>
                    <a:lnTo>
                      <a:pt x="410" y="240"/>
                    </a:lnTo>
                    <a:lnTo>
                      <a:pt x="414" y="257"/>
                    </a:lnTo>
                    <a:lnTo>
                      <a:pt x="414" y="268"/>
                    </a:lnTo>
                    <a:lnTo>
                      <a:pt x="416" y="282"/>
                    </a:lnTo>
                    <a:lnTo>
                      <a:pt x="419" y="293"/>
                    </a:lnTo>
                    <a:lnTo>
                      <a:pt x="421" y="306"/>
                    </a:lnTo>
                    <a:lnTo>
                      <a:pt x="421" y="319"/>
                    </a:lnTo>
                    <a:lnTo>
                      <a:pt x="421" y="333"/>
                    </a:lnTo>
                    <a:lnTo>
                      <a:pt x="421" y="346"/>
                    </a:lnTo>
                    <a:lnTo>
                      <a:pt x="423" y="359"/>
                    </a:lnTo>
                    <a:lnTo>
                      <a:pt x="421" y="370"/>
                    </a:lnTo>
                    <a:lnTo>
                      <a:pt x="421" y="383"/>
                    </a:lnTo>
                    <a:lnTo>
                      <a:pt x="419" y="395"/>
                    </a:lnTo>
                    <a:lnTo>
                      <a:pt x="419" y="408"/>
                    </a:lnTo>
                    <a:lnTo>
                      <a:pt x="416" y="421"/>
                    </a:lnTo>
                    <a:lnTo>
                      <a:pt x="414" y="434"/>
                    </a:lnTo>
                    <a:lnTo>
                      <a:pt x="412" y="448"/>
                    </a:lnTo>
                    <a:lnTo>
                      <a:pt x="412" y="461"/>
                    </a:lnTo>
                    <a:lnTo>
                      <a:pt x="408" y="472"/>
                    </a:lnTo>
                    <a:lnTo>
                      <a:pt x="405" y="485"/>
                    </a:lnTo>
                    <a:lnTo>
                      <a:pt x="401" y="496"/>
                    </a:lnTo>
                    <a:lnTo>
                      <a:pt x="399" y="510"/>
                    </a:lnTo>
                    <a:lnTo>
                      <a:pt x="394" y="521"/>
                    </a:lnTo>
                    <a:lnTo>
                      <a:pt x="392" y="534"/>
                    </a:lnTo>
                    <a:lnTo>
                      <a:pt x="390" y="547"/>
                    </a:lnTo>
                    <a:lnTo>
                      <a:pt x="388" y="561"/>
                    </a:lnTo>
                    <a:lnTo>
                      <a:pt x="383" y="572"/>
                    </a:lnTo>
                    <a:lnTo>
                      <a:pt x="381" y="585"/>
                    </a:lnTo>
                    <a:lnTo>
                      <a:pt x="377" y="598"/>
                    </a:lnTo>
                    <a:lnTo>
                      <a:pt x="377" y="612"/>
                    </a:lnTo>
                    <a:lnTo>
                      <a:pt x="372" y="623"/>
                    </a:lnTo>
                    <a:lnTo>
                      <a:pt x="370" y="636"/>
                    </a:lnTo>
                    <a:lnTo>
                      <a:pt x="368" y="649"/>
                    </a:lnTo>
                    <a:lnTo>
                      <a:pt x="368" y="662"/>
                    </a:lnTo>
                    <a:lnTo>
                      <a:pt x="361" y="680"/>
                    </a:lnTo>
                    <a:lnTo>
                      <a:pt x="357" y="698"/>
                    </a:lnTo>
                    <a:lnTo>
                      <a:pt x="348" y="716"/>
                    </a:lnTo>
                    <a:lnTo>
                      <a:pt x="341" y="736"/>
                    </a:lnTo>
                    <a:lnTo>
                      <a:pt x="328" y="751"/>
                    </a:lnTo>
                    <a:lnTo>
                      <a:pt x="317" y="767"/>
                    </a:lnTo>
                    <a:lnTo>
                      <a:pt x="301" y="780"/>
                    </a:lnTo>
                    <a:lnTo>
                      <a:pt x="288" y="793"/>
                    </a:lnTo>
                    <a:lnTo>
                      <a:pt x="268" y="798"/>
                    </a:lnTo>
                    <a:lnTo>
                      <a:pt x="248" y="802"/>
                    </a:lnTo>
                    <a:lnTo>
                      <a:pt x="228" y="804"/>
                    </a:lnTo>
                    <a:lnTo>
                      <a:pt x="208" y="809"/>
                    </a:lnTo>
                    <a:lnTo>
                      <a:pt x="188" y="806"/>
                    </a:lnTo>
                    <a:lnTo>
                      <a:pt x="168" y="804"/>
                    </a:lnTo>
                    <a:lnTo>
                      <a:pt x="148" y="798"/>
                    </a:lnTo>
                    <a:lnTo>
                      <a:pt x="135" y="789"/>
                    </a:lnTo>
                    <a:lnTo>
                      <a:pt x="115" y="771"/>
                    </a:lnTo>
                    <a:lnTo>
                      <a:pt x="100" y="753"/>
                    </a:lnTo>
                    <a:lnTo>
                      <a:pt x="86" y="733"/>
                    </a:lnTo>
                    <a:lnTo>
                      <a:pt x="73" y="716"/>
                    </a:lnTo>
                    <a:lnTo>
                      <a:pt x="60" y="696"/>
                    </a:lnTo>
                    <a:lnTo>
                      <a:pt x="51" y="676"/>
                    </a:lnTo>
                    <a:lnTo>
                      <a:pt x="40" y="656"/>
                    </a:lnTo>
                    <a:lnTo>
                      <a:pt x="33" y="636"/>
                    </a:lnTo>
                    <a:lnTo>
                      <a:pt x="27" y="618"/>
                    </a:lnTo>
                    <a:lnTo>
                      <a:pt x="20" y="600"/>
                    </a:lnTo>
                    <a:lnTo>
                      <a:pt x="15" y="583"/>
                    </a:lnTo>
                    <a:lnTo>
                      <a:pt x="13" y="567"/>
                    </a:lnTo>
                    <a:lnTo>
                      <a:pt x="9" y="550"/>
                    </a:lnTo>
                    <a:lnTo>
                      <a:pt x="7" y="532"/>
                    </a:lnTo>
                    <a:lnTo>
                      <a:pt x="4" y="514"/>
                    </a:lnTo>
                    <a:lnTo>
                      <a:pt x="4" y="499"/>
                    </a:lnTo>
                    <a:lnTo>
                      <a:pt x="2" y="479"/>
                    </a:lnTo>
                    <a:lnTo>
                      <a:pt x="0" y="461"/>
                    </a:lnTo>
                    <a:lnTo>
                      <a:pt x="0" y="443"/>
                    </a:lnTo>
                    <a:lnTo>
                      <a:pt x="0" y="426"/>
                    </a:lnTo>
                    <a:lnTo>
                      <a:pt x="0" y="408"/>
                    </a:lnTo>
                    <a:lnTo>
                      <a:pt x="2" y="390"/>
                    </a:lnTo>
                    <a:lnTo>
                      <a:pt x="4" y="372"/>
                    </a:lnTo>
                    <a:lnTo>
                      <a:pt x="9" y="357"/>
                    </a:lnTo>
                    <a:lnTo>
                      <a:pt x="9" y="337"/>
                    </a:lnTo>
                    <a:lnTo>
                      <a:pt x="11" y="317"/>
                    </a:lnTo>
                    <a:lnTo>
                      <a:pt x="13" y="297"/>
                    </a:lnTo>
                    <a:lnTo>
                      <a:pt x="18" y="277"/>
                    </a:lnTo>
                    <a:lnTo>
                      <a:pt x="20" y="257"/>
                    </a:lnTo>
                    <a:lnTo>
                      <a:pt x="27" y="240"/>
                    </a:lnTo>
                    <a:lnTo>
                      <a:pt x="33" y="222"/>
                    </a:lnTo>
                    <a:lnTo>
                      <a:pt x="40" y="206"/>
                    </a:lnTo>
                    <a:lnTo>
                      <a:pt x="46" y="186"/>
                    </a:lnTo>
                    <a:lnTo>
                      <a:pt x="53" y="171"/>
                    </a:lnTo>
                    <a:lnTo>
                      <a:pt x="62" y="151"/>
                    </a:lnTo>
                    <a:lnTo>
                      <a:pt x="71" y="135"/>
                    </a:lnTo>
                    <a:lnTo>
                      <a:pt x="77" y="118"/>
                    </a:lnTo>
                    <a:lnTo>
                      <a:pt x="86" y="102"/>
                    </a:lnTo>
                    <a:lnTo>
                      <a:pt x="95" y="85"/>
                    </a:lnTo>
                    <a:lnTo>
                      <a:pt x="106" y="69"/>
                    </a:lnTo>
                    <a:lnTo>
                      <a:pt x="122" y="49"/>
                    </a:lnTo>
                    <a:lnTo>
                      <a:pt x="137" y="29"/>
                    </a:lnTo>
                    <a:lnTo>
                      <a:pt x="155" y="11"/>
                    </a:lnTo>
                    <a:lnTo>
                      <a:pt x="177" y="0"/>
                    </a:lnTo>
                    <a:lnTo>
                      <a:pt x="197" y="11"/>
                    </a:lnTo>
                    <a:lnTo>
                      <a:pt x="219" y="27"/>
                    </a:lnTo>
                    <a:close/>
                  </a:path>
                </a:pathLst>
              </a:custGeom>
              <a:solidFill>
                <a:srgbClr val="e3a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6787440" y="3551040"/>
                <a:ext cx="597240" cy="1213560"/>
              </a:xfrm>
              <a:custGeom>
                <a:avLst/>
                <a:gdLst/>
                <a:ahLst/>
                <a:rect l="l" t="t" r="r" b="b"/>
                <a:pathLst>
                  <a:path w="417" h="793">
                    <a:moveTo>
                      <a:pt x="217" y="24"/>
                    </a:moveTo>
                    <a:lnTo>
                      <a:pt x="237" y="33"/>
                    </a:lnTo>
                    <a:lnTo>
                      <a:pt x="257" y="44"/>
                    </a:lnTo>
                    <a:lnTo>
                      <a:pt x="277" y="53"/>
                    </a:lnTo>
                    <a:lnTo>
                      <a:pt x="299" y="66"/>
                    </a:lnTo>
                    <a:lnTo>
                      <a:pt x="302" y="66"/>
                    </a:lnTo>
                    <a:lnTo>
                      <a:pt x="304" y="68"/>
                    </a:lnTo>
                    <a:lnTo>
                      <a:pt x="304" y="66"/>
                    </a:lnTo>
                    <a:lnTo>
                      <a:pt x="324" y="71"/>
                    </a:lnTo>
                    <a:lnTo>
                      <a:pt x="344" y="73"/>
                    </a:lnTo>
                    <a:lnTo>
                      <a:pt x="364" y="73"/>
                    </a:lnTo>
                    <a:lnTo>
                      <a:pt x="384" y="75"/>
                    </a:lnTo>
                    <a:lnTo>
                      <a:pt x="388" y="84"/>
                    </a:lnTo>
                    <a:lnTo>
                      <a:pt x="392" y="97"/>
                    </a:lnTo>
                    <a:lnTo>
                      <a:pt x="395" y="111"/>
                    </a:lnTo>
                    <a:lnTo>
                      <a:pt x="401" y="124"/>
                    </a:lnTo>
                    <a:lnTo>
                      <a:pt x="401" y="137"/>
                    </a:lnTo>
                    <a:lnTo>
                      <a:pt x="404" y="153"/>
                    </a:lnTo>
                    <a:lnTo>
                      <a:pt x="404" y="168"/>
                    </a:lnTo>
                    <a:lnTo>
                      <a:pt x="406" y="186"/>
                    </a:lnTo>
                    <a:lnTo>
                      <a:pt x="404" y="201"/>
                    </a:lnTo>
                    <a:lnTo>
                      <a:pt x="404" y="219"/>
                    </a:lnTo>
                    <a:lnTo>
                      <a:pt x="404" y="235"/>
                    </a:lnTo>
                    <a:lnTo>
                      <a:pt x="408" y="252"/>
                    </a:lnTo>
                    <a:lnTo>
                      <a:pt x="408" y="263"/>
                    </a:lnTo>
                    <a:lnTo>
                      <a:pt x="410" y="277"/>
                    </a:lnTo>
                    <a:lnTo>
                      <a:pt x="412" y="288"/>
                    </a:lnTo>
                    <a:lnTo>
                      <a:pt x="415" y="301"/>
                    </a:lnTo>
                    <a:lnTo>
                      <a:pt x="415" y="312"/>
                    </a:lnTo>
                    <a:lnTo>
                      <a:pt x="415" y="325"/>
                    </a:lnTo>
                    <a:lnTo>
                      <a:pt x="415" y="339"/>
                    </a:lnTo>
                    <a:lnTo>
                      <a:pt x="417" y="352"/>
                    </a:lnTo>
                    <a:lnTo>
                      <a:pt x="415" y="363"/>
                    </a:lnTo>
                    <a:lnTo>
                      <a:pt x="415" y="376"/>
                    </a:lnTo>
                    <a:lnTo>
                      <a:pt x="412" y="387"/>
                    </a:lnTo>
                    <a:lnTo>
                      <a:pt x="412" y="401"/>
                    </a:lnTo>
                    <a:lnTo>
                      <a:pt x="410" y="412"/>
                    </a:lnTo>
                    <a:lnTo>
                      <a:pt x="408" y="425"/>
                    </a:lnTo>
                    <a:lnTo>
                      <a:pt x="406" y="438"/>
                    </a:lnTo>
                    <a:lnTo>
                      <a:pt x="406" y="452"/>
                    </a:lnTo>
                    <a:lnTo>
                      <a:pt x="401" y="463"/>
                    </a:lnTo>
                    <a:lnTo>
                      <a:pt x="399" y="474"/>
                    </a:lnTo>
                    <a:lnTo>
                      <a:pt x="395" y="487"/>
                    </a:lnTo>
                    <a:lnTo>
                      <a:pt x="392" y="500"/>
                    </a:lnTo>
                    <a:lnTo>
                      <a:pt x="388" y="511"/>
                    </a:lnTo>
                    <a:lnTo>
                      <a:pt x="386" y="522"/>
                    </a:lnTo>
                    <a:lnTo>
                      <a:pt x="384" y="536"/>
                    </a:lnTo>
                    <a:lnTo>
                      <a:pt x="381" y="549"/>
                    </a:lnTo>
                    <a:lnTo>
                      <a:pt x="377" y="560"/>
                    </a:lnTo>
                    <a:lnTo>
                      <a:pt x="375" y="571"/>
                    </a:lnTo>
                    <a:lnTo>
                      <a:pt x="370" y="584"/>
                    </a:lnTo>
                    <a:lnTo>
                      <a:pt x="370" y="598"/>
                    </a:lnTo>
                    <a:lnTo>
                      <a:pt x="366" y="609"/>
                    </a:lnTo>
                    <a:lnTo>
                      <a:pt x="364" y="620"/>
                    </a:lnTo>
                    <a:lnTo>
                      <a:pt x="361" y="633"/>
                    </a:lnTo>
                    <a:lnTo>
                      <a:pt x="361" y="646"/>
                    </a:lnTo>
                    <a:lnTo>
                      <a:pt x="355" y="664"/>
                    </a:lnTo>
                    <a:lnTo>
                      <a:pt x="350" y="682"/>
                    </a:lnTo>
                    <a:lnTo>
                      <a:pt x="342" y="700"/>
                    </a:lnTo>
                    <a:lnTo>
                      <a:pt x="335" y="719"/>
                    </a:lnTo>
                    <a:lnTo>
                      <a:pt x="324" y="735"/>
                    </a:lnTo>
                    <a:lnTo>
                      <a:pt x="313" y="750"/>
                    </a:lnTo>
                    <a:lnTo>
                      <a:pt x="297" y="762"/>
                    </a:lnTo>
                    <a:lnTo>
                      <a:pt x="284" y="775"/>
                    </a:lnTo>
                    <a:lnTo>
                      <a:pt x="264" y="779"/>
                    </a:lnTo>
                    <a:lnTo>
                      <a:pt x="244" y="784"/>
                    </a:lnTo>
                    <a:lnTo>
                      <a:pt x="224" y="788"/>
                    </a:lnTo>
                    <a:lnTo>
                      <a:pt x="206" y="793"/>
                    </a:lnTo>
                    <a:lnTo>
                      <a:pt x="186" y="790"/>
                    </a:lnTo>
                    <a:lnTo>
                      <a:pt x="167" y="788"/>
                    </a:lnTo>
                    <a:lnTo>
                      <a:pt x="147" y="781"/>
                    </a:lnTo>
                    <a:lnTo>
                      <a:pt x="133" y="773"/>
                    </a:lnTo>
                    <a:lnTo>
                      <a:pt x="113" y="755"/>
                    </a:lnTo>
                    <a:lnTo>
                      <a:pt x="100" y="739"/>
                    </a:lnTo>
                    <a:lnTo>
                      <a:pt x="85" y="719"/>
                    </a:lnTo>
                    <a:lnTo>
                      <a:pt x="73" y="702"/>
                    </a:lnTo>
                    <a:lnTo>
                      <a:pt x="60" y="682"/>
                    </a:lnTo>
                    <a:lnTo>
                      <a:pt x="51" y="662"/>
                    </a:lnTo>
                    <a:lnTo>
                      <a:pt x="42" y="642"/>
                    </a:lnTo>
                    <a:lnTo>
                      <a:pt x="36" y="622"/>
                    </a:lnTo>
                    <a:lnTo>
                      <a:pt x="29" y="604"/>
                    </a:lnTo>
                    <a:lnTo>
                      <a:pt x="23" y="589"/>
                    </a:lnTo>
                    <a:lnTo>
                      <a:pt x="18" y="571"/>
                    </a:lnTo>
                    <a:lnTo>
                      <a:pt x="16" y="556"/>
                    </a:lnTo>
                    <a:lnTo>
                      <a:pt x="9" y="538"/>
                    </a:lnTo>
                    <a:lnTo>
                      <a:pt x="7" y="520"/>
                    </a:lnTo>
                    <a:lnTo>
                      <a:pt x="5" y="502"/>
                    </a:lnTo>
                    <a:lnTo>
                      <a:pt x="5" y="487"/>
                    </a:lnTo>
                    <a:lnTo>
                      <a:pt x="3" y="467"/>
                    </a:lnTo>
                    <a:lnTo>
                      <a:pt x="0" y="452"/>
                    </a:lnTo>
                    <a:lnTo>
                      <a:pt x="0" y="432"/>
                    </a:lnTo>
                    <a:lnTo>
                      <a:pt x="0" y="416"/>
                    </a:lnTo>
                    <a:lnTo>
                      <a:pt x="0" y="398"/>
                    </a:lnTo>
                    <a:lnTo>
                      <a:pt x="3" y="381"/>
                    </a:lnTo>
                    <a:lnTo>
                      <a:pt x="5" y="363"/>
                    </a:lnTo>
                    <a:lnTo>
                      <a:pt x="9" y="347"/>
                    </a:lnTo>
                    <a:lnTo>
                      <a:pt x="9" y="328"/>
                    </a:lnTo>
                    <a:lnTo>
                      <a:pt x="11" y="308"/>
                    </a:lnTo>
                    <a:lnTo>
                      <a:pt x="14" y="288"/>
                    </a:lnTo>
                    <a:lnTo>
                      <a:pt x="18" y="270"/>
                    </a:lnTo>
                    <a:lnTo>
                      <a:pt x="20" y="250"/>
                    </a:lnTo>
                    <a:lnTo>
                      <a:pt x="27" y="232"/>
                    </a:lnTo>
                    <a:lnTo>
                      <a:pt x="34" y="215"/>
                    </a:lnTo>
                    <a:lnTo>
                      <a:pt x="40" y="199"/>
                    </a:lnTo>
                    <a:lnTo>
                      <a:pt x="47" y="181"/>
                    </a:lnTo>
                    <a:lnTo>
                      <a:pt x="54" y="166"/>
                    </a:lnTo>
                    <a:lnTo>
                      <a:pt x="62" y="148"/>
                    </a:lnTo>
                    <a:lnTo>
                      <a:pt x="71" y="133"/>
                    </a:lnTo>
                    <a:lnTo>
                      <a:pt x="78" y="115"/>
                    </a:lnTo>
                    <a:lnTo>
                      <a:pt x="87" y="99"/>
                    </a:lnTo>
                    <a:lnTo>
                      <a:pt x="96" y="82"/>
                    </a:lnTo>
                    <a:lnTo>
                      <a:pt x="107" y="66"/>
                    </a:lnTo>
                    <a:lnTo>
                      <a:pt x="120" y="46"/>
                    </a:lnTo>
                    <a:lnTo>
                      <a:pt x="138" y="26"/>
                    </a:lnTo>
                    <a:lnTo>
                      <a:pt x="153" y="9"/>
                    </a:lnTo>
                    <a:lnTo>
                      <a:pt x="175" y="0"/>
                    </a:lnTo>
                    <a:lnTo>
                      <a:pt x="195" y="9"/>
                    </a:lnTo>
                    <a:lnTo>
                      <a:pt x="217" y="24"/>
                    </a:lnTo>
                    <a:close/>
                  </a:path>
                </a:pathLst>
              </a:custGeom>
              <a:solidFill>
                <a:srgbClr val="e3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6790320" y="3553920"/>
                <a:ext cx="587160" cy="1189080"/>
              </a:xfrm>
              <a:custGeom>
                <a:avLst/>
                <a:gdLst/>
                <a:ahLst/>
                <a:rect l="l" t="t" r="r" b="b"/>
                <a:pathLst>
                  <a:path w="410" h="777">
                    <a:moveTo>
                      <a:pt x="212" y="24"/>
                    </a:moveTo>
                    <a:lnTo>
                      <a:pt x="232" y="33"/>
                    </a:lnTo>
                    <a:lnTo>
                      <a:pt x="252" y="44"/>
                    </a:lnTo>
                    <a:lnTo>
                      <a:pt x="272" y="53"/>
                    </a:lnTo>
                    <a:lnTo>
                      <a:pt x="294" y="66"/>
                    </a:lnTo>
                    <a:lnTo>
                      <a:pt x="297" y="69"/>
                    </a:lnTo>
                    <a:lnTo>
                      <a:pt x="297" y="66"/>
                    </a:lnTo>
                    <a:lnTo>
                      <a:pt x="299" y="66"/>
                    </a:lnTo>
                    <a:lnTo>
                      <a:pt x="317" y="69"/>
                    </a:lnTo>
                    <a:lnTo>
                      <a:pt x="337" y="73"/>
                    </a:lnTo>
                    <a:lnTo>
                      <a:pt x="356" y="73"/>
                    </a:lnTo>
                    <a:lnTo>
                      <a:pt x="376" y="73"/>
                    </a:lnTo>
                    <a:lnTo>
                      <a:pt x="381" y="84"/>
                    </a:lnTo>
                    <a:lnTo>
                      <a:pt x="385" y="97"/>
                    </a:lnTo>
                    <a:lnTo>
                      <a:pt x="387" y="111"/>
                    </a:lnTo>
                    <a:lnTo>
                      <a:pt x="394" y="124"/>
                    </a:lnTo>
                    <a:lnTo>
                      <a:pt x="394" y="137"/>
                    </a:lnTo>
                    <a:lnTo>
                      <a:pt x="396" y="153"/>
                    </a:lnTo>
                    <a:lnTo>
                      <a:pt x="396" y="166"/>
                    </a:lnTo>
                    <a:lnTo>
                      <a:pt x="399" y="184"/>
                    </a:lnTo>
                    <a:lnTo>
                      <a:pt x="396" y="199"/>
                    </a:lnTo>
                    <a:lnTo>
                      <a:pt x="396" y="215"/>
                    </a:lnTo>
                    <a:lnTo>
                      <a:pt x="396" y="230"/>
                    </a:lnTo>
                    <a:lnTo>
                      <a:pt x="401" y="248"/>
                    </a:lnTo>
                    <a:lnTo>
                      <a:pt x="403" y="270"/>
                    </a:lnTo>
                    <a:lnTo>
                      <a:pt x="407" y="295"/>
                    </a:lnTo>
                    <a:lnTo>
                      <a:pt x="407" y="306"/>
                    </a:lnTo>
                    <a:lnTo>
                      <a:pt x="407" y="319"/>
                    </a:lnTo>
                    <a:lnTo>
                      <a:pt x="407" y="332"/>
                    </a:lnTo>
                    <a:lnTo>
                      <a:pt x="410" y="345"/>
                    </a:lnTo>
                    <a:lnTo>
                      <a:pt x="407" y="368"/>
                    </a:lnTo>
                    <a:lnTo>
                      <a:pt x="405" y="392"/>
                    </a:lnTo>
                    <a:lnTo>
                      <a:pt x="403" y="403"/>
                    </a:lnTo>
                    <a:lnTo>
                      <a:pt x="401" y="416"/>
                    </a:lnTo>
                    <a:lnTo>
                      <a:pt x="399" y="430"/>
                    </a:lnTo>
                    <a:lnTo>
                      <a:pt x="399" y="443"/>
                    </a:lnTo>
                    <a:lnTo>
                      <a:pt x="394" y="454"/>
                    </a:lnTo>
                    <a:lnTo>
                      <a:pt x="392" y="465"/>
                    </a:lnTo>
                    <a:lnTo>
                      <a:pt x="387" y="478"/>
                    </a:lnTo>
                    <a:lnTo>
                      <a:pt x="385" y="492"/>
                    </a:lnTo>
                    <a:lnTo>
                      <a:pt x="381" y="503"/>
                    </a:lnTo>
                    <a:lnTo>
                      <a:pt x="379" y="514"/>
                    </a:lnTo>
                    <a:lnTo>
                      <a:pt x="376" y="527"/>
                    </a:lnTo>
                    <a:lnTo>
                      <a:pt x="374" y="540"/>
                    </a:lnTo>
                    <a:lnTo>
                      <a:pt x="370" y="551"/>
                    </a:lnTo>
                    <a:lnTo>
                      <a:pt x="368" y="562"/>
                    </a:lnTo>
                    <a:lnTo>
                      <a:pt x="363" y="576"/>
                    </a:lnTo>
                    <a:lnTo>
                      <a:pt x="363" y="589"/>
                    </a:lnTo>
                    <a:lnTo>
                      <a:pt x="359" y="600"/>
                    </a:lnTo>
                    <a:lnTo>
                      <a:pt x="356" y="611"/>
                    </a:lnTo>
                    <a:lnTo>
                      <a:pt x="354" y="624"/>
                    </a:lnTo>
                    <a:lnTo>
                      <a:pt x="354" y="638"/>
                    </a:lnTo>
                    <a:lnTo>
                      <a:pt x="350" y="655"/>
                    </a:lnTo>
                    <a:lnTo>
                      <a:pt x="345" y="673"/>
                    </a:lnTo>
                    <a:lnTo>
                      <a:pt x="337" y="689"/>
                    </a:lnTo>
                    <a:lnTo>
                      <a:pt x="330" y="706"/>
                    </a:lnTo>
                    <a:lnTo>
                      <a:pt x="319" y="722"/>
                    </a:lnTo>
                    <a:lnTo>
                      <a:pt x="308" y="737"/>
                    </a:lnTo>
                    <a:lnTo>
                      <a:pt x="292" y="751"/>
                    </a:lnTo>
                    <a:lnTo>
                      <a:pt x="279" y="764"/>
                    </a:lnTo>
                    <a:lnTo>
                      <a:pt x="259" y="766"/>
                    </a:lnTo>
                    <a:lnTo>
                      <a:pt x="239" y="771"/>
                    </a:lnTo>
                    <a:lnTo>
                      <a:pt x="219" y="775"/>
                    </a:lnTo>
                    <a:lnTo>
                      <a:pt x="201" y="777"/>
                    </a:lnTo>
                    <a:lnTo>
                      <a:pt x="181" y="775"/>
                    </a:lnTo>
                    <a:lnTo>
                      <a:pt x="164" y="775"/>
                    </a:lnTo>
                    <a:lnTo>
                      <a:pt x="144" y="768"/>
                    </a:lnTo>
                    <a:lnTo>
                      <a:pt x="130" y="760"/>
                    </a:lnTo>
                    <a:lnTo>
                      <a:pt x="111" y="742"/>
                    </a:lnTo>
                    <a:lnTo>
                      <a:pt x="97" y="726"/>
                    </a:lnTo>
                    <a:lnTo>
                      <a:pt x="84" y="706"/>
                    </a:lnTo>
                    <a:lnTo>
                      <a:pt x="73" y="689"/>
                    </a:lnTo>
                    <a:lnTo>
                      <a:pt x="60" y="669"/>
                    </a:lnTo>
                    <a:lnTo>
                      <a:pt x="51" y="649"/>
                    </a:lnTo>
                    <a:lnTo>
                      <a:pt x="42" y="629"/>
                    </a:lnTo>
                    <a:lnTo>
                      <a:pt x="35" y="611"/>
                    </a:lnTo>
                    <a:lnTo>
                      <a:pt x="29" y="593"/>
                    </a:lnTo>
                    <a:lnTo>
                      <a:pt x="22" y="578"/>
                    </a:lnTo>
                    <a:lnTo>
                      <a:pt x="18" y="560"/>
                    </a:lnTo>
                    <a:lnTo>
                      <a:pt x="15" y="545"/>
                    </a:lnTo>
                    <a:lnTo>
                      <a:pt x="9" y="527"/>
                    </a:lnTo>
                    <a:lnTo>
                      <a:pt x="6" y="512"/>
                    </a:lnTo>
                    <a:lnTo>
                      <a:pt x="4" y="496"/>
                    </a:lnTo>
                    <a:lnTo>
                      <a:pt x="4" y="481"/>
                    </a:lnTo>
                    <a:lnTo>
                      <a:pt x="2" y="461"/>
                    </a:lnTo>
                    <a:lnTo>
                      <a:pt x="0" y="445"/>
                    </a:lnTo>
                    <a:lnTo>
                      <a:pt x="0" y="425"/>
                    </a:lnTo>
                    <a:lnTo>
                      <a:pt x="2" y="410"/>
                    </a:lnTo>
                    <a:lnTo>
                      <a:pt x="2" y="392"/>
                    </a:lnTo>
                    <a:lnTo>
                      <a:pt x="2" y="376"/>
                    </a:lnTo>
                    <a:lnTo>
                      <a:pt x="4" y="359"/>
                    </a:lnTo>
                    <a:lnTo>
                      <a:pt x="9" y="343"/>
                    </a:lnTo>
                    <a:lnTo>
                      <a:pt x="9" y="323"/>
                    </a:lnTo>
                    <a:lnTo>
                      <a:pt x="11" y="303"/>
                    </a:lnTo>
                    <a:lnTo>
                      <a:pt x="13" y="286"/>
                    </a:lnTo>
                    <a:lnTo>
                      <a:pt x="18" y="268"/>
                    </a:lnTo>
                    <a:lnTo>
                      <a:pt x="20" y="248"/>
                    </a:lnTo>
                    <a:lnTo>
                      <a:pt x="26" y="230"/>
                    </a:lnTo>
                    <a:lnTo>
                      <a:pt x="33" y="213"/>
                    </a:lnTo>
                    <a:lnTo>
                      <a:pt x="40" y="197"/>
                    </a:lnTo>
                    <a:lnTo>
                      <a:pt x="46" y="179"/>
                    </a:lnTo>
                    <a:lnTo>
                      <a:pt x="53" y="164"/>
                    </a:lnTo>
                    <a:lnTo>
                      <a:pt x="60" y="146"/>
                    </a:lnTo>
                    <a:lnTo>
                      <a:pt x="68" y="131"/>
                    </a:lnTo>
                    <a:lnTo>
                      <a:pt x="75" y="113"/>
                    </a:lnTo>
                    <a:lnTo>
                      <a:pt x="86" y="97"/>
                    </a:lnTo>
                    <a:lnTo>
                      <a:pt x="93" y="80"/>
                    </a:lnTo>
                    <a:lnTo>
                      <a:pt x="104" y="66"/>
                    </a:lnTo>
                    <a:lnTo>
                      <a:pt x="117" y="47"/>
                    </a:lnTo>
                    <a:lnTo>
                      <a:pt x="133" y="29"/>
                    </a:lnTo>
                    <a:lnTo>
                      <a:pt x="150" y="11"/>
                    </a:lnTo>
                    <a:lnTo>
                      <a:pt x="170" y="0"/>
                    </a:lnTo>
                    <a:lnTo>
                      <a:pt x="181" y="2"/>
                    </a:lnTo>
                    <a:lnTo>
                      <a:pt x="190" y="11"/>
                    </a:lnTo>
                    <a:lnTo>
                      <a:pt x="199" y="18"/>
                    </a:lnTo>
                    <a:lnTo>
                      <a:pt x="212" y="24"/>
                    </a:lnTo>
                    <a:close/>
                  </a:path>
                </a:pathLst>
              </a:custGeom>
              <a:solidFill>
                <a:srgbClr val="e6ad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6797520" y="3560400"/>
                <a:ext cx="571680" cy="1166040"/>
              </a:xfrm>
              <a:custGeom>
                <a:avLst/>
                <a:gdLst/>
                <a:ahLst/>
                <a:rect l="l" t="t" r="r" b="b"/>
                <a:pathLst>
                  <a:path w="399" h="762">
                    <a:moveTo>
                      <a:pt x="209" y="23"/>
                    </a:moveTo>
                    <a:lnTo>
                      <a:pt x="226" y="34"/>
                    </a:lnTo>
                    <a:lnTo>
                      <a:pt x="246" y="45"/>
                    </a:lnTo>
                    <a:lnTo>
                      <a:pt x="266" y="54"/>
                    </a:lnTo>
                    <a:lnTo>
                      <a:pt x="288" y="67"/>
                    </a:lnTo>
                    <a:lnTo>
                      <a:pt x="288" y="65"/>
                    </a:lnTo>
                    <a:lnTo>
                      <a:pt x="291" y="67"/>
                    </a:lnTo>
                    <a:lnTo>
                      <a:pt x="291" y="65"/>
                    </a:lnTo>
                    <a:lnTo>
                      <a:pt x="308" y="67"/>
                    </a:lnTo>
                    <a:lnTo>
                      <a:pt x="328" y="71"/>
                    </a:lnTo>
                    <a:lnTo>
                      <a:pt x="348" y="71"/>
                    </a:lnTo>
                    <a:lnTo>
                      <a:pt x="368" y="71"/>
                    </a:lnTo>
                    <a:lnTo>
                      <a:pt x="373" y="80"/>
                    </a:lnTo>
                    <a:lnTo>
                      <a:pt x="375" y="93"/>
                    </a:lnTo>
                    <a:lnTo>
                      <a:pt x="377" y="107"/>
                    </a:lnTo>
                    <a:lnTo>
                      <a:pt x="384" y="120"/>
                    </a:lnTo>
                    <a:lnTo>
                      <a:pt x="386" y="133"/>
                    </a:lnTo>
                    <a:lnTo>
                      <a:pt x="388" y="147"/>
                    </a:lnTo>
                    <a:lnTo>
                      <a:pt x="388" y="162"/>
                    </a:lnTo>
                    <a:lnTo>
                      <a:pt x="388" y="180"/>
                    </a:lnTo>
                    <a:lnTo>
                      <a:pt x="386" y="193"/>
                    </a:lnTo>
                    <a:lnTo>
                      <a:pt x="386" y="211"/>
                    </a:lnTo>
                    <a:lnTo>
                      <a:pt x="386" y="226"/>
                    </a:lnTo>
                    <a:lnTo>
                      <a:pt x="390" y="244"/>
                    </a:lnTo>
                    <a:lnTo>
                      <a:pt x="393" y="266"/>
                    </a:lnTo>
                    <a:lnTo>
                      <a:pt x="397" y="291"/>
                    </a:lnTo>
                    <a:lnTo>
                      <a:pt x="397" y="302"/>
                    </a:lnTo>
                    <a:lnTo>
                      <a:pt x="397" y="315"/>
                    </a:lnTo>
                    <a:lnTo>
                      <a:pt x="397" y="326"/>
                    </a:lnTo>
                    <a:lnTo>
                      <a:pt x="399" y="339"/>
                    </a:lnTo>
                    <a:lnTo>
                      <a:pt x="397" y="361"/>
                    </a:lnTo>
                    <a:lnTo>
                      <a:pt x="395" y="386"/>
                    </a:lnTo>
                    <a:lnTo>
                      <a:pt x="393" y="397"/>
                    </a:lnTo>
                    <a:lnTo>
                      <a:pt x="390" y="410"/>
                    </a:lnTo>
                    <a:lnTo>
                      <a:pt x="388" y="421"/>
                    </a:lnTo>
                    <a:lnTo>
                      <a:pt x="388" y="434"/>
                    </a:lnTo>
                    <a:lnTo>
                      <a:pt x="381" y="457"/>
                    </a:lnTo>
                    <a:lnTo>
                      <a:pt x="377" y="481"/>
                    </a:lnTo>
                    <a:lnTo>
                      <a:pt x="373" y="492"/>
                    </a:lnTo>
                    <a:lnTo>
                      <a:pt x="373" y="505"/>
                    </a:lnTo>
                    <a:lnTo>
                      <a:pt x="368" y="516"/>
                    </a:lnTo>
                    <a:lnTo>
                      <a:pt x="368" y="530"/>
                    </a:lnTo>
                    <a:lnTo>
                      <a:pt x="362" y="552"/>
                    </a:lnTo>
                    <a:lnTo>
                      <a:pt x="355" y="576"/>
                    </a:lnTo>
                    <a:lnTo>
                      <a:pt x="353" y="587"/>
                    </a:lnTo>
                    <a:lnTo>
                      <a:pt x="350" y="601"/>
                    </a:lnTo>
                    <a:lnTo>
                      <a:pt x="348" y="612"/>
                    </a:lnTo>
                    <a:lnTo>
                      <a:pt x="348" y="625"/>
                    </a:lnTo>
                    <a:lnTo>
                      <a:pt x="342" y="640"/>
                    </a:lnTo>
                    <a:lnTo>
                      <a:pt x="337" y="658"/>
                    </a:lnTo>
                    <a:lnTo>
                      <a:pt x="328" y="674"/>
                    </a:lnTo>
                    <a:lnTo>
                      <a:pt x="322" y="691"/>
                    </a:lnTo>
                    <a:lnTo>
                      <a:pt x="311" y="707"/>
                    </a:lnTo>
                    <a:lnTo>
                      <a:pt x="300" y="722"/>
                    </a:lnTo>
                    <a:lnTo>
                      <a:pt x="286" y="733"/>
                    </a:lnTo>
                    <a:lnTo>
                      <a:pt x="273" y="747"/>
                    </a:lnTo>
                    <a:lnTo>
                      <a:pt x="253" y="751"/>
                    </a:lnTo>
                    <a:lnTo>
                      <a:pt x="233" y="756"/>
                    </a:lnTo>
                    <a:lnTo>
                      <a:pt x="213" y="758"/>
                    </a:lnTo>
                    <a:lnTo>
                      <a:pt x="195" y="762"/>
                    </a:lnTo>
                    <a:lnTo>
                      <a:pt x="175" y="760"/>
                    </a:lnTo>
                    <a:lnTo>
                      <a:pt x="158" y="760"/>
                    </a:lnTo>
                    <a:lnTo>
                      <a:pt x="140" y="753"/>
                    </a:lnTo>
                    <a:lnTo>
                      <a:pt x="127" y="744"/>
                    </a:lnTo>
                    <a:lnTo>
                      <a:pt x="109" y="727"/>
                    </a:lnTo>
                    <a:lnTo>
                      <a:pt x="93" y="711"/>
                    </a:lnTo>
                    <a:lnTo>
                      <a:pt x="80" y="694"/>
                    </a:lnTo>
                    <a:lnTo>
                      <a:pt x="69" y="676"/>
                    </a:lnTo>
                    <a:lnTo>
                      <a:pt x="58" y="656"/>
                    </a:lnTo>
                    <a:lnTo>
                      <a:pt x="49" y="638"/>
                    </a:lnTo>
                    <a:lnTo>
                      <a:pt x="40" y="618"/>
                    </a:lnTo>
                    <a:lnTo>
                      <a:pt x="34" y="601"/>
                    </a:lnTo>
                    <a:lnTo>
                      <a:pt x="27" y="583"/>
                    </a:lnTo>
                    <a:lnTo>
                      <a:pt x="20" y="567"/>
                    </a:lnTo>
                    <a:lnTo>
                      <a:pt x="16" y="550"/>
                    </a:lnTo>
                    <a:lnTo>
                      <a:pt x="14" y="534"/>
                    </a:lnTo>
                    <a:lnTo>
                      <a:pt x="9" y="516"/>
                    </a:lnTo>
                    <a:lnTo>
                      <a:pt x="7" y="501"/>
                    </a:lnTo>
                    <a:lnTo>
                      <a:pt x="5" y="485"/>
                    </a:lnTo>
                    <a:lnTo>
                      <a:pt x="5" y="470"/>
                    </a:lnTo>
                    <a:lnTo>
                      <a:pt x="3" y="452"/>
                    </a:lnTo>
                    <a:lnTo>
                      <a:pt x="0" y="437"/>
                    </a:lnTo>
                    <a:lnTo>
                      <a:pt x="0" y="419"/>
                    </a:lnTo>
                    <a:lnTo>
                      <a:pt x="0" y="403"/>
                    </a:lnTo>
                    <a:lnTo>
                      <a:pt x="0" y="386"/>
                    </a:lnTo>
                    <a:lnTo>
                      <a:pt x="3" y="370"/>
                    </a:lnTo>
                    <a:lnTo>
                      <a:pt x="5" y="353"/>
                    </a:lnTo>
                    <a:lnTo>
                      <a:pt x="9" y="337"/>
                    </a:lnTo>
                    <a:lnTo>
                      <a:pt x="9" y="317"/>
                    </a:lnTo>
                    <a:lnTo>
                      <a:pt x="9" y="297"/>
                    </a:lnTo>
                    <a:lnTo>
                      <a:pt x="12" y="279"/>
                    </a:lnTo>
                    <a:lnTo>
                      <a:pt x="16" y="262"/>
                    </a:lnTo>
                    <a:lnTo>
                      <a:pt x="18" y="244"/>
                    </a:lnTo>
                    <a:lnTo>
                      <a:pt x="25" y="229"/>
                    </a:lnTo>
                    <a:lnTo>
                      <a:pt x="31" y="211"/>
                    </a:lnTo>
                    <a:lnTo>
                      <a:pt x="38" y="195"/>
                    </a:lnTo>
                    <a:lnTo>
                      <a:pt x="45" y="178"/>
                    </a:lnTo>
                    <a:lnTo>
                      <a:pt x="51" y="162"/>
                    </a:lnTo>
                    <a:lnTo>
                      <a:pt x="58" y="144"/>
                    </a:lnTo>
                    <a:lnTo>
                      <a:pt x="67" y="129"/>
                    </a:lnTo>
                    <a:lnTo>
                      <a:pt x="74" y="111"/>
                    </a:lnTo>
                    <a:lnTo>
                      <a:pt x="82" y="98"/>
                    </a:lnTo>
                    <a:lnTo>
                      <a:pt x="91" y="80"/>
                    </a:lnTo>
                    <a:lnTo>
                      <a:pt x="102" y="67"/>
                    </a:lnTo>
                    <a:lnTo>
                      <a:pt x="116" y="47"/>
                    </a:lnTo>
                    <a:lnTo>
                      <a:pt x="131" y="27"/>
                    </a:lnTo>
                    <a:lnTo>
                      <a:pt x="147" y="9"/>
                    </a:lnTo>
                    <a:lnTo>
                      <a:pt x="167" y="0"/>
                    </a:lnTo>
                    <a:lnTo>
                      <a:pt x="187" y="9"/>
                    </a:lnTo>
                    <a:lnTo>
                      <a:pt x="209" y="23"/>
                    </a:lnTo>
                    <a:close/>
                  </a:path>
                </a:pathLst>
              </a:custGeom>
              <a:solidFill>
                <a:srgbClr val="e8b0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6800760" y="3564720"/>
                <a:ext cx="561600" cy="1144440"/>
              </a:xfrm>
              <a:custGeom>
                <a:avLst/>
                <a:gdLst/>
                <a:ahLst/>
                <a:rect l="l" t="t" r="r" b="b"/>
                <a:pathLst>
                  <a:path w="392" h="748">
                    <a:moveTo>
                      <a:pt x="204" y="24"/>
                    </a:moveTo>
                    <a:lnTo>
                      <a:pt x="221" y="33"/>
                    </a:lnTo>
                    <a:lnTo>
                      <a:pt x="241" y="44"/>
                    </a:lnTo>
                    <a:lnTo>
                      <a:pt x="261" y="53"/>
                    </a:lnTo>
                    <a:lnTo>
                      <a:pt x="281" y="66"/>
                    </a:lnTo>
                    <a:lnTo>
                      <a:pt x="281" y="64"/>
                    </a:lnTo>
                    <a:lnTo>
                      <a:pt x="283" y="64"/>
                    </a:lnTo>
                    <a:lnTo>
                      <a:pt x="286" y="66"/>
                    </a:lnTo>
                    <a:lnTo>
                      <a:pt x="286" y="64"/>
                    </a:lnTo>
                    <a:lnTo>
                      <a:pt x="303" y="66"/>
                    </a:lnTo>
                    <a:lnTo>
                      <a:pt x="323" y="71"/>
                    </a:lnTo>
                    <a:lnTo>
                      <a:pt x="341" y="71"/>
                    </a:lnTo>
                    <a:lnTo>
                      <a:pt x="361" y="71"/>
                    </a:lnTo>
                    <a:lnTo>
                      <a:pt x="365" y="79"/>
                    </a:lnTo>
                    <a:lnTo>
                      <a:pt x="368" y="93"/>
                    </a:lnTo>
                    <a:lnTo>
                      <a:pt x="370" y="106"/>
                    </a:lnTo>
                    <a:lnTo>
                      <a:pt x="376" y="119"/>
                    </a:lnTo>
                    <a:lnTo>
                      <a:pt x="376" y="133"/>
                    </a:lnTo>
                    <a:lnTo>
                      <a:pt x="379" y="146"/>
                    </a:lnTo>
                    <a:lnTo>
                      <a:pt x="379" y="161"/>
                    </a:lnTo>
                    <a:lnTo>
                      <a:pt x="381" y="177"/>
                    </a:lnTo>
                    <a:lnTo>
                      <a:pt x="379" y="190"/>
                    </a:lnTo>
                    <a:lnTo>
                      <a:pt x="379" y="208"/>
                    </a:lnTo>
                    <a:lnTo>
                      <a:pt x="379" y="221"/>
                    </a:lnTo>
                    <a:lnTo>
                      <a:pt x="383" y="239"/>
                    </a:lnTo>
                    <a:lnTo>
                      <a:pt x="385" y="261"/>
                    </a:lnTo>
                    <a:lnTo>
                      <a:pt x="390" y="285"/>
                    </a:lnTo>
                    <a:lnTo>
                      <a:pt x="390" y="307"/>
                    </a:lnTo>
                    <a:lnTo>
                      <a:pt x="392" y="332"/>
                    </a:lnTo>
                    <a:lnTo>
                      <a:pt x="390" y="354"/>
                    </a:lnTo>
                    <a:lnTo>
                      <a:pt x="388" y="378"/>
                    </a:lnTo>
                    <a:lnTo>
                      <a:pt x="385" y="389"/>
                    </a:lnTo>
                    <a:lnTo>
                      <a:pt x="383" y="403"/>
                    </a:lnTo>
                    <a:lnTo>
                      <a:pt x="381" y="414"/>
                    </a:lnTo>
                    <a:lnTo>
                      <a:pt x="381" y="427"/>
                    </a:lnTo>
                    <a:lnTo>
                      <a:pt x="374" y="449"/>
                    </a:lnTo>
                    <a:lnTo>
                      <a:pt x="370" y="474"/>
                    </a:lnTo>
                    <a:lnTo>
                      <a:pt x="365" y="496"/>
                    </a:lnTo>
                    <a:lnTo>
                      <a:pt x="361" y="520"/>
                    </a:lnTo>
                    <a:lnTo>
                      <a:pt x="354" y="542"/>
                    </a:lnTo>
                    <a:lnTo>
                      <a:pt x="348" y="567"/>
                    </a:lnTo>
                    <a:lnTo>
                      <a:pt x="343" y="589"/>
                    </a:lnTo>
                    <a:lnTo>
                      <a:pt x="341" y="613"/>
                    </a:lnTo>
                    <a:lnTo>
                      <a:pt x="334" y="629"/>
                    </a:lnTo>
                    <a:lnTo>
                      <a:pt x="330" y="646"/>
                    </a:lnTo>
                    <a:lnTo>
                      <a:pt x="323" y="662"/>
                    </a:lnTo>
                    <a:lnTo>
                      <a:pt x="317" y="679"/>
                    </a:lnTo>
                    <a:lnTo>
                      <a:pt x="306" y="693"/>
                    </a:lnTo>
                    <a:lnTo>
                      <a:pt x="295" y="708"/>
                    </a:lnTo>
                    <a:lnTo>
                      <a:pt x="281" y="719"/>
                    </a:lnTo>
                    <a:lnTo>
                      <a:pt x="268" y="733"/>
                    </a:lnTo>
                    <a:lnTo>
                      <a:pt x="248" y="737"/>
                    </a:lnTo>
                    <a:lnTo>
                      <a:pt x="230" y="741"/>
                    </a:lnTo>
                    <a:lnTo>
                      <a:pt x="210" y="744"/>
                    </a:lnTo>
                    <a:lnTo>
                      <a:pt x="193" y="748"/>
                    </a:lnTo>
                    <a:lnTo>
                      <a:pt x="173" y="746"/>
                    </a:lnTo>
                    <a:lnTo>
                      <a:pt x="155" y="746"/>
                    </a:lnTo>
                    <a:lnTo>
                      <a:pt x="137" y="737"/>
                    </a:lnTo>
                    <a:lnTo>
                      <a:pt x="124" y="730"/>
                    </a:lnTo>
                    <a:lnTo>
                      <a:pt x="106" y="713"/>
                    </a:lnTo>
                    <a:lnTo>
                      <a:pt x="93" y="697"/>
                    </a:lnTo>
                    <a:lnTo>
                      <a:pt x="80" y="679"/>
                    </a:lnTo>
                    <a:lnTo>
                      <a:pt x="69" y="662"/>
                    </a:lnTo>
                    <a:lnTo>
                      <a:pt x="55" y="642"/>
                    </a:lnTo>
                    <a:lnTo>
                      <a:pt x="46" y="624"/>
                    </a:lnTo>
                    <a:lnTo>
                      <a:pt x="38" y="606"/>
                    </a:lnTo>
                    <a:lnTo>
                      <a:pt x="31" y="589"/>
                    </a:lnTo>
                    <a:lnTo>
                      <a:pt x="24" y="571"/>
                    </a:lnTo>
                    <a:lnTo>
                      <a:pt x="20" y="555"/>
                    </a:lnTo>
                    <a:lnTo>
                      <a:pt x="15" y="540"/>
                    </a:lnTo>
                    <a:lnTo>
                      <a:pt x="13" y="524"/>
                    </a:lnTo>
                    <a:lnTo>
                      <a:pt x="9" y="507"/>
                    </a:lnTo>
                    <a:lnTo>
                      <a:pt x="7" y="491"/>
                    </a:lnTo>
                    <a:lnTo>
                      <a:pt x="4" y="476"/>
                    </a:lnTo>
                    <a:lnTo>
                      <a:pt x="4" y="460"/>
                    </a:lnTo>
                    <a:lnTo>
                      <a:pt x="2" y="443"/>
                    </a:lnTo>
                    <a:lnTo>
                      <a:pt x="0" y="427"/>
                    </a:lnTo>
                    <a:lnTo>
                      <a:pt x="0" y="409"/>
                    </a:lnTo>
                    <a:lnTo>
                      <a:pt x="2" y="394"/>
                    </a:lnTo>
                    <a:lnTo>
                      <a:pt x="2" y="376"/>
                    </a:lnTo>
                    <a:lnTo>
                      <a:pt x="2" y="361"/>
                    </a:lnTo>
                    <a:lnTo>
                      <a:pt x="4" y="343"/>
                    </a:lnTo>
                    <a:lnTo>
                      <a:pt x="9" y="330"/>
                    </a:lnTo>
                    <a:lnTo>
                      <a:pt x="9" y="310"/>
                    </a:lnTo>
                    <a:lnTo>
                      <a:pt x="9" y="292"/>
                    </a:lnTo>
                    <a:lnTo>
                      <a:pt x="11" y="274"/>
                    </a:lnTo>
                    <a:lnTo>
                      <a:pt x="15" y="257"/>
                    </a:lnTo>
                    <a:lnTo>
                      <a:pt x="18" y="239"/>
                    </a:lnTo>
                    <a:lnTo>
                      <a:pt x="24" y="223"/>
                    </a:lnTo>
                    <a:lnTo>
                      <a:pt x="31" y="206"/>
                    </a:lnTo>
                    <a:lnTo>
                      <a:pt x="38" y="190"/>
                    </a:lnTo>
                    <a:lnTo>
                      <a:pt x="44" y="172"/>
                    </a:lnTo>
                    <a:lnTo>
                      <a:pt x="51" y="157"/>
                    </a:lnTo>
                    <a:lnTo>
                      <a:pt x="57" y="141"/>
                    </a:lnTo>
                    <a:lnTo>
                      <a:pt x="66" y="126"/>
                    </a:lnTo>
                    <a:lnTo>
                      <a:pt x="73" y="110"/>
                    </a:lnTo>
                    <a:lnTo>
                      <a:pt x="82" y="95"/>
                    </a:lnTo>
                    <a:lnTo>
                      <a:pt x="91" y="79"/>
                    </a:lnTo>
                    <a:lnTo>
                      <a:pt x="100" y="66"/>
                    </a:lnTo>
                    <a:lnTo>
                      <a:pt x="113" y="46"/>
                    </a:lnTo>
                    <a:lnTo>
                      <a:pt x="128" y="28"/>
                    </a:lnTo>
                    <a:lnTo>
                      <a:pt x="144" y="11"/>
                    </a:lnTo>
                    <a:lnTo>
                      <a:pt x="164" y="0"/>
                    </a:lnTo>
                    <a:lnTo>
                      <a:pt x="184" y="9"/>
                    </a:lnTo>
                    <a:lnTo>
                      <a:pt x="204" y="24"/>
                    </a:lnTo>
                    <a:close/>
                  </a:path>
                </a:pathLst>
              </a:custGeom>
              <a:solidFill>
                <a:srgbClr val="ebb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6803280" y="3571200"/>
                <a:ext cx="552960" cy="1121760"/>
              </a:xfrm>
              <a:custGeom>
                <a:avLst/>
                <a:gdLst/>
                <a:ahLst/>
                <a:rect l="l" t="t" r="r" b="b"/>
                <a:pathLst>
                  <a:path w="386" h="733">
                    <a:moveTo>
                      <a:pt x="200" y="22"/>
                    </a:moveTo>
                    <a:lnTo>
                      <a:pt x="217" y="31"/>
                    </a:lnTo>
                    <a:lnTo>
                      <a:pt x="237" y="42"/>
                    </a:lnTo>
                    <a:lnTo>
                      <a:pt x="257" y="51"/>
                    </a:lnTo>
                    <a:lnTo>
                      <a:pt x="277" y="62"/>
                    </a:lnTo>
                    <a:lnTo>
                      <a:pt x="279" y="62"/>
                    </a:lnTo>
                    <a:lnTo>
                      <a:pt x="279" y="64"/>
                    </a:lnTo>
                    <a:lnTo>
                      <a:pt x="279" y="62"/>
                    </a:lnTo>
                    <a:lnTo>
                      <a:pt x="282" y="62"/>
                    </a:lnTo>
                    <a:lnTo>
                      <a:pt x="299" y="64"/>
                    </a:lnTo>
                    <a:lnTo>
                      <a:pt x="317" y="67"/>
                    </a:lnTo>
                    <a:lnTo>
                      <a:pt x="335" y="67"/>
                    </a:lnTo>
                    <a:lnTo>
                      <a:pt x="355" y="69"/>
                    </a:lnTo>
                    <a:lnTo>
                      <a:pt x="359" y="78"/>
                    </a:lnTo>
                    <a:lnTo>
                      <a:pt x="361" y="91"/>
                    </a:lnTo>
                    <a:lnTo>
                      <a:pt x="364" y="102"/>
                    </a:lnTo>
                    <a:lnTo>
                      <a:pt x="370" y="115"/>
                    </a:lnTo>
                    <a:lnTo>
                      <a:pt x="370" y="129"/>
                    </a:lnTo>
                    <a:lnTo>
                      <a:pt x="372" y="142"/>
                    </a:lnTo>
                    <a:lnTo>
                      <a:pt x="372" y="157"/>
                    </a:lnTo>
                    <a:lnTo>
                      <a:pt x="375" y="173"/>
                    </a:lnTo>
                    <a:lnTo>
                      <a:pt x="372" y="186"/>
                    </a:lnTo>
                    <a:lnTo>
                      <a:pt x="372" y="202"/>
                    </a:lnTo>
                    <a:lnTo>
                      <a:pt x="372" y="217"/>
                    </a:lnTo>
                    <a:lnTo>
                      <a:pt x="377" y="233"/>
                    </a:lnTo>
                    <a:lnTo>
                      <a:pt x="379" y="255"/>
                    </a:lnTo>
                    <a:lnTo>
                      <a:pt x="384" y="277"/>
                    </a:lnTo>
                    <a:lnTo>
                      <a:pt x="384" y="299"/>
                    </a:lnTo>
                    <a:lnTo>
                      <a:pt x="386" y="323"/>
                    </a:lnTo>
                    <a:lnTo>
                      <a:pt x="381" y="346"/>
                    </a:lnTo>
                    <a:lnTo>
                      <a:pt x="379" y="370"/>
                    </a:lnTo>
                    <a:lnTo>
                      <a:pt x="377" y="392"/>
                    </a:lnTo>
                    <a:lnTo>
                      <a:pt x="375" y="416"/>
                    </a:lnTo>
                    <a:lnTo>
                      <a:pt x="368" y="439"/>
                    </a:lnTo>
                    <a:lnTo>
                      <a:pt x="364" y="461"/>
                    </a:lnTo>
                    <a:lnTo>
                      <a:pt x="359" y="483"/>
                    </a:lnTo>
                    <a:lnTo>
                      <a:pt x="355" y="507"/>
                    </a:lnTo>
                    <a:lnTo>
                      <a:pt x="348" y="529"/>
                    </a:lnTo>
                    <a:lnTo>
                      <a:pt x="341" y="554"/>
                    </a:lnTo>
                    <a:lnTo>
                      <a:pt x="337" y="576"/>
                    </a:lnTo>
                    <a:lnTo>
                      <a:pt x="335" y="600"/>
                    </a:lnTo>
                    <a:lnTo>
                      <a:pt x="330" y="616"/>
                    </a:lnTo>
                    <a:lnTo>
                      <a:pt x="326" y="633"/>
                    </a:lnTo>
                    <a:lnTo>
                      <a:pt x="317" y="649"/>
                    </a:lnTo>
                    <a:lnTo>
                      <a:pt x="310" y="667"/>
                    </a:lnTo>
                    <a:lnTo>
                      <a:pt x="299" y="680"/>
                    </a:lnTo>
                    <a:lnTo>
                      <a:pt x="288" y="693"/>
                    </a:lnTo>
                    <a:lnTo>
                      <a:pt x="275" y="706"/>
                    </a:lnTo>
                    <a:lnTo>
                      <a:pt x="262" y="720"/>
                    </a:lnTo>
                    <a:lnTo>
                      <a:pt x="244" y="722"/>
                    </a:lnTo>
                    <a:lnTo>
                      <a:pt x="226" y="726"/>
                    </a:lnTo>
                    <a:lnTo>
                      <a:pt x="209" y="729"/>
                    </a:lnTo>
                    <a:lnTo>
                      <a:pt x="191" y="733"/>
                    </a:lnTo>
                    <a:lnTo>
                      <a:pt x="171" y="731"/>
                    </a:lnTo>
                    <a:lnTo>
                      <a:pt x="153" y="729"/>
                    </a:lnTo>
                    <a:lnTo>
                      <a:pt x="138" y="722"/>
                    </a:lnTo>
                    <a:lnTo>
                      <a:pt x="124" y="713"/>
                    </a:lnTo>
                    <a:lnTo>
                      <a:pt x="107" y="698"/>
                    </a:lnTo>
                    <a:lnTo>
                      <a:pt x="93" y="682"/>
                    </a:lnTo>
                    <a:lnTo>
                      <a:pt x="80" y="664"/>
                    </a:lnTo>
                    <a:lnTo>
                      <a:pt x="69" y="649"/>
                    </a:lnTo>
                    <a:lnTo>
                      <a:pt x="56" y="629"/>
                    </a:lnTo>
                    <a:lnTo>
                      <a:pt x="47" y="611"/>
                    </a:lnTo>
                    <a:lnTo>
                      <a:pt x="38" y="594"/>
                    </a:lnTo>
                    <a:lnTo>
                      <a:pt x="31" y="576"/>
                    </a:lnTo>
                    <a:lnTo>
                      <a:pt x="25" y="558"/>
                    </a:lnTo>
                    <a:lnTo>
                      <a:pt x="20" y="545"/>
                    </a:lnTo>
                    <a:lnTo>
                      <a:pt x="16" y="527"/>
                    </a:lnTo>
                    <a:lnTo>
                      <a:pt x="14" y="514"/>
                    </a:lnTo>
                    <a:lnTo>
                      <a:pt x="9" y="496"/>
                    </a:lnTo>
                    <a:lnTo>
                      <a:pt x="7" y="483"/>
                    </a:lnTo>
                    <a:lnTo>
                      <a:pt x="5" y="465"/>
                    </a:lnTo>
                    <a:lnTo>
                      <a:pt x="5" y="452"/>
                    </a:lnTo>
                    <a:lnTo>
                      <a:pt x="3" y="434"/>
                    </a:lnTo>
                    <a:lnTo>
                      <a:pt x="0" y="419"/>
                    </a:lnTo>
                    <a:lnTo>
                      <a:pt x="0" y="401"/>
                    </a:lnTo>
                    <a:lnTo>
                      <a:pt x="3" y="385"/>
                    </a:lnTo>
                    <a:lnTo>
                      <a:pt x="3" y="368"/>
                    </a:lnTo>
                    <a:lnTo>
                      <a:pt x="3" y="354"/>
                    </a:lnTo>
                    <a:lnTo>
                      <a:pt x="5" y="337"/>
                    </a:lnTo>
                    <a:lnTo>
                      <a:pt x="9" y="323"/>
                    </a:lnTo>
                    <a:lnTo>
                      <a:pt x="9" y="303"/>
                    </a:lnTo>
                    <a:lnTo>
                      <a:pt x="9" y="286"/>
                    </a:lnTo>
                    <a:lnTo>
                      <a:pt x="11" y="268"/>
                    </a:lnTo>
                    <a:lnTo>
                      <a:pt x="16" y="250"/>
                    </a:lnTo>
                    <a:lnTo>
                      <a:pt x="18" y="233"/>
                    </a:lnTo>
                    <a:lnTo>
                      <a:pt x="25" y="217"/>
                    </a:lnTo>
                    <a:lnTo>
                      <a:pt x="31" y="199"/>
                    </a:lnTo>
                    <a:lnTo>
                      <a:pt x="38" y="186"/>
                    </a:lnTo>
                    <a:lnTo>
                      <a:pt x="45" y="168"/>
                    </a:lnTo>
                    <a:lnTo>
                      <a:pt x="51" y="153"/>
                    </a:lnTo>
                    <a:lnTo>
                      <a:pt x="58" y="137"/>
                    </a:lnTo>
                    <a:lnTo>
                      <a:pt x="67" y="122"/>
                    </a:lnTo>
                    <a:lnTo>
                      <a:pt x="73" y="106"/>
                    </a:lnTo>
                    <a:lnTo>
                      <a:pt x="82" y="91"/>
                    </a:lnTo>
                    <a:lnTo>
                      <a:pt x="91" y="75"/>
                    </a:lnTo>
                    <a:lnTo>
                      <a:pt x="100" y="62"/>
                    </a:lnTo>
                    <a:lnTo>
                      <a:pt x="113" y="44"/>
                    </a:lnTo>
                    <a:lnTo>
                      <a:pt x="127" y="27"/>
                    </a:lnTo>
                    <a:lnTo>
                      <a:pt x="140" y="9"/>
                    </a:lnTo>
                    <a:lnTo>
                      <a:pt x="160" y="0"/>
                    </a:lnTo>
                    <a:lnTo>
                      <a:pt x="171" y="2"/>
                    </a:lnTo>
                    <a:lnTo>
                      <a:pt x="180" y="9"/>
                    </a:lnTo>
                    <a:lnTo>
                      <a:pt x="189" y="16"/>
                    </a:lnTo>
                    <a:lnTo>
                      <a:pt x="200" y="22"/>
                    </a:lnTo>
                    <a:close/>
                  </a:path>
                </a:pathLst>
              </a:custGeom>
              <a:solidFill>
                <a:srgbClr val="edb8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6806160" y="3573720"/>
                <a:ext cx="542880" cy="1101960"/>
              </a:xfrm>
              <a:custGeom>
                <a:avLst/>
                <a:gdLst/>
                <a:ahLst/>
                <a:rect l="l" t="t" r="r" b="b"/>
                <a:pathLst>
                  <a:path w="379" h="720">
                    <a:moveTo>
                      <a:pt x="197" y="22"/>
                    </a:moveTo>
                    <a:lnTo>
                      <a:pt x="215" y="31"/>
                    </a:lnTo>
                    <a:lnTo>
                      <a:pt x="235" y="42"/>
                    </a:lnTo>
                    <a:lnTo>
                      <a:pt x="252" y="51"/>
                    </a:lnTo>
                    <a:lnTo>
                      <a:pt x="272" y="62"/>
                    </a:lnTo>
                    <a:lnTo>
                      <a:pt x="274" y="65"/>
                    </a:lnTo>
                    <a:lnTo>
                      <a:pt x="274" y="62"/>
                    </a:lnTo>
                    <a:lnTo>
                      <a:pt x="277" y="62"/>
                    </a:lnTo>
                    <a:lnTo>
                      <a:pt x="292" y="65"/>
                    </a:lnTo>
                    <a:lnTo>
                      <a:pt x="310" y="67"/>
                    </a:lnTo>
                    <a:lnTo>
                      <a:pt x="328" y="67"/>
                    </a:lnTo>
                    <a:lnTo>
                      <a:pt x="348" y="69"/>
                    </a:lnTo>
                    <a:lnTo>
                      <a:pt x="352" y="78"/>
                    </a:lnTo>
                    <a:lnTo>
                      <a:pt x="354" y="89"/>
                    </a:lnTo>
                    <a:lnTo>
                      <a:pt x="356" y="102"/>
                    </a:lnTo>
                    <a:lnTo>
                      <a:pt x="363" y="115"/>
                    </a:lnTo>
                    <a:lnTo>
                      <a:pt x="363" y="129"/>
                    </a:lnTo>
                    <a:lnTo>
                      <a:pt x="365" y="142"/>
                    </a:lnTo>
                    <a:lnTo>
                      <a:pt x="365" y="155"/>
                    </a:lnTo>
                    <a:lnTo>
                      <a:pt x="367" y="171"/>
                    </a:lnTo>
                    <a:lnTo>
                      <a:pt x="365" y="184"/>
                    </a:lnTo>
                    <a:lnTo>
                      <a:pt x="365" y="200"/>
                    </a:lnTo>
                    <a:lnTo>
                      <a:pt x="365" y="213"/>
                    </a:lnTo>
                    <a:lnTo>
                      <a:pt x="370" y="228"/>
                    </a:lnTo>
                    <a:lnTo>
                      <a:pt x="372" y="248"/>
                    </a:lnTo>
                    <a:lnTo>
                      <a:pt x="376" y="273"/>
                    </a:lnTo>
                    <a:lnTo>
                      <a:pt x="376" y="295"/>
                    </a:lnTo>
                    <a:lnTo>
                      <a:pt x="379" y="319"/>
                    </a:lnTo>
                    <a:lnTo>
                      <a:pt x="376" y="339"/>
                    </a:lnTo>
                    <a:lnTo>
                      <a:pt x="374" y="363"/>
                    </a:lnTo>
                    <a:lnTo>
                      <a:pt x="370" y="386"/>
                    </a:lnTo>
                    <a:lnTo>
                      <a:pt x="367" y="410"/>
                    </a:lnTo>
                    <a:lnTo>
                      <a:pt x="361" y="430"/>
                    </a:lnTo>
                    <a:lnTo>
                      <a:pt x="356" y="454"/>
                    </a:lnTo>
                    <a:lnTo>
                      <a:pt x="352" y="474"/>
                    </a:lnTo>
                    <a:lnTo>
                      <a:pt x="348" y="499"/>
                    </a:lnTo>
                    <a:lnTo>
                      <a:pt x="341" y="518"/>
                    </a:lnTo>
                    <a:lnTo>
                      <a:pt x="334" y="543"/>
                    </a:lnTo>
                    <a:lnTo>
                      <a:pt x="330" y="563"/>
                    </a:lnTo>
                    <a:lnTo>
                      <a:pt x="328" y="587"/>
                    </a:lnTo>
                    <a:lnTo>
                      <a:pt x="323" y="603"/>
                    </a:lnTo>
                    <a:lnTo>
                      <a:pt x="319" y="620"/>
                    </a:lnTo>
                    <a:lnTo>
                      <a:pt x="312" y="636"/>
                    </a:lnTo>
                    <a:lnTo>
                      <a:pt x="305" y="654"/>
                    </a:lnTo>
                    <a:lnTo>
                      <a:pt x="294" y="667"/>
                    </a:lnTo>
                    <a:lnTo>
                      <a:pt x="283" y="680"/>
                    </a:lnTo>
                    <a:lnTo>
                      <a:pt x="270" y="691"/>
                    </a:lnTo>
                    <a:lnTo>
                      <a:pt x="257" y="704"/>
                    </a:lnTo>
                    <a:lnTo>
                      <a:pt x="239" y="709"/>
                    </a:lnTo>
                    <a:lnTo>
                      <a:pt x="221" y="713"/>
                    </a:lnTo>
                    <a:lnTo>
                      <a:pt x="204" y="716"/>
                    </a:lnTo>
                    <a:lnTo>
                      <a:pt x="186" y="720"/>
                    </a:lnTo>
                    <a:lnTo>
                      <a:pt x="168" y="718"/>
                    </a:lnTo>
                    <a:lnTo>
                      <a:pt x="150" y="716"/>
                    </a:lnTo>
                    <a:lnTo>
                      <a:pt x="135" y="709"/>
                    </a:lnTo>
                    <a:lnTo>
                      <a:pt x="122" y="700"/>
                    </a:lnTo>
                    <a:lnTo>
                      <a:pt x="104" y="685"/>
                    </a:lnTo>
                    <a:lnTo>
                      <a:pt x="91" y="669"/>
                    </a:lnTo>
                    <a:lnTo>
                      <a:pt x="77" y="654"/>
                    </a:lnTo>
                    <a:lnTo>
                      <a:pt x="66" y="638"/>
                    </a:lnTo>
                    <a:lnTo>
                      <a:pt x="53" y="620"/>
                    </a:lnTo>
                    <a:lnTo>
                      <a:pt x="44" y="603"/>
                    </a:lnTo>
                    <a:lnTo>
                      <a:pt x="37" y="585"/>
                    </a:lnTo>
                    <a:lnTo>
                      <a:pt x="31" y="567"/>
                    </a:lnTo>
                    <a:lnTo>
                      <a:pt x="24" y="549"/>
                    </a:lnTo>
                    <a:lnTo>
                      <a:pt x="20" y="536"/>
                    </a:lnTo>
                    <a:lnTo>
                      <a:pt x="15" y="518"/>
                    </a:lnTo>
                    <a:lnTo>
                      <a:pt x="13" y="505"/>
                    </a:lnTo>
                    <a:lnTo>
                      <a:pt x="9" y="487"/>
                    </a:lnTo>
                    <a:lnTo>
                      <a:pt x="6" y="474"/>
                    </a:lnTo>
                    <a:lnTo>
                      <a:pt x="4" y="456"/>
                    </a:lnTo>
                    <a:lnTo>
                      <a:pt x="4" y="443"/>
                    </a:lnTo>
                    <a:lnTo>
                      <a:pt x="2" y="425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2" y="379"/>
                    </a:lnTo>
                    <a:lnTo>
                      <a:pt x="2" y="363"/>
                    </a:lnTo>
                    <a:lnTo>
                      <a:pt x="2" y="348"/>
                    </a:lnTo>
                    <a:lnTo>
                      <a:pt x="4" y="332"/>
                    </a:lnTo>
                    <a:lnTo>
                      <a:pt x="9" y="319"/>
                    </a:lnTo>
                    <a:lnTo>
                      <a:pt x="9" y="299"/>
                    </a:lnTo>
                    <a:lnTo>
                      <a:pt x="11" y="282"/>
                    </a:lnTo>
                    <a:lnTo>
                      <a:pt x="13" y="264"/>
                    </a:lnTo>
                    <a:lnTo>
                      <a:pt x="17" y="248"/>
                    </a:lnTo>
                    <a:lnTo>
                      <a:pt x="20" y="231"/>
                    </a:lnTo>
                    <a:lnTo>
                      <a:pt x="24" y="215"/>
                    </a:lnTo>
                    <a:lnTo>
                      <a:pt x="31" y="197"/>
                    </a:lnTo>
                    <a:lnTo>
                      <a:pt x="37" y="184"/>
                    </a:lnTo>
                    <a:lnTo>
                      <a:pt x="42" y="166"/>
                    </a:lnTo>
                    <a:lnTo>
                      <a:pt x="48" y="151"/>
                    </a:lnTo>
                    <a:lnTo>
                      <a:pt x="55" y="135"/>
                    </a:lnTo>
                    <a:lnTo>
                      <a:pt x="64" y="122"/>
                    </a:lnTo>
                    <a:lnTo>
                      <a:pt x="71" y="107"/>
                    </a:lnTo>
                    <a:lnTo>
                      <a:pt x="79" y="91"/>
                    </a:lnTo>
                    <a:lnTo>
                      <a:pt x="88" y="76"/>
                    </a:lnTo>
                    <a:lnTo>
                      <a:pt x="97" y="62"/>
                    </a:lnTo>
                    <a:lnTo>
                      <a:pt x="110" y="45"/>
                    </a:lnTo>
                    <a:lnTo>
                      <a:pt x="124" y="27"/>
                    </a:lnTo>
                    <a:lnTo>
                      <a:pt x="137" y="9"/>
                    </a:lnTo>
                    <a:lnTo>
                      <a:pt x="157" y="0"/>
                    </a:lnTo>
                    <a:lnTo>
                      <a:pt x="177" y="9"/>
                    </a:lnTo>
                    <a:lnTo>
                      <a:pt x="197" y="22"/>
                    </a:lnTo>
                    <a:close/>
                  </a:path>
                </a:pathLst>
              </a:custGeom>
              <a:solidFill>
                <a:srgbClr val="edb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6813360" y="3581640"/>
                <a:ext cx="529920" cy="1074600"/>
              </a:xfrm>
              <a:custGeom>
                <a:avLst/>
                <a:gdLst/>
                <a:ahLst/>
                <a:rect l="l" t="t" r="r" b="b"/>
                <a:pathLst>
                  <a:path w="370" h="702">
                    <a:moveTo>
                      <a:pt x="193" y="22"/>
                    </a:moveTo>
                    <a:lnTo>
                      <a:pt x="211" y="31"/>
                    </a:lnTo>
                    <a:lnTo>
                      <a:pt x="231" y="40"/>
                    </a:lnTo>
                    <a:lnTo>
                      <a:pt x="248" y="48"/>
                    </a:lnTo>
                    <a:lnTo>
                      <a:pt x="268" y="60"/>
                    </a:lnTo>
                    <a:lnTo>
                      <a:pt x="270" y="62"/>
                    </a:lnTo>
                    <a:lnTo>
                      <a:pt x="270" y="60"/>
                    </a:lnTo>
                    <a:lnTo>
                      <a:pt x="288" y="62"/>
                    </a:lnTo>
                    <a:lnTo>
                      <a:pt x="306" y="64"/>
                    </a:lnTo>
                    <a:lnTo>
                      <a:pt x="324" y="64"/>
                    </a:lnTo>
                    <a:lnTo>
                      <a:pt x="341" y="66"/>
                    </a:lnTo>
                    <a:lnTo>
                      <a:pt x="346" y="75"/>
                    </a:lnTo>
                    <a:lnTo>
                      <a:pt x="348" y="86"/>
                    </a:lnTo>
                    <a:lnTo>
                      <a:pt x="350" y="97"/>
                    </a:lnTo>
                    <a:lnTo>
                      <a:pt x="357" y="110"/>
                    </a:lnTo>
                    <a:lnTo>
                      <a:pt x="357" y="124"/>
                    </a:lnTo>
                    <a:lnTo>
                      <a:pt x="359" y="137"/>
                    </a:lnTo>
                    <a:lnTo>
                      <a:pt x="359" y="150"/>
                    </a:lnTo>
                    <a:lnTo>
                      <a:pt x="361" y="166"/>
                    </a:lnTo>
                    <a:lnTo>
                      <a:pt x="359" y="179"/>
                    </a:lnTo>
                    <a:lnTo>
                      <a:pt x="359" y="192"/>
                    </a:lnTo>
                    <a:lnTo>
                      <a:pt x="359" y="208"/>
                    </a:lnTo>
                    <a:lnTo>
                      <a:pt x="361" y="223"/>
                    </a:lnTo>
                    <a:lnTo>
                      <a:pt x="363" y="243"/>
                    </a:lnTo>
                    <a:lnTo>
                      <a:pt x="368" y="268"/>
                    </a:lnTo>
                    <a:lnTo>
                      <a:pt x="368" y="288"/>
                    </a:lnTo>
                    <a:lnTo>
                      <a:pt x="370" y="312"/>
                    </a:lnTo>
                    <a:lnTo>
                      <a:pt x="368" y="332"/>
                    </a:lnTo>
                    <a:lnTo>
                      <a:pt x="366" y="356"/>
                    </a:lnTo>
                    <a:lnTo>
                      <a:pt x="363" y="376"/>
                    </a:lnTo>
                    <a:lnTo>
                      <a:pt x="361" y="401"/>
                    </a:lnTo>
                    <a:lnTo>
                      <a:pt x="355" y="420"/>
                    </a:lnTo>
                    <a:lnTo>
                      <a:pt x="350" y="443"/>
                    </a:lnTo>
                    <a:lnTo>
                      <a:pt x="346" y="465"/>
                    </a:lnTo>
                    <a:lnTo>
                      <a:pt x="341" y="487"/>
                    </a:lnTo>
                    <a:lnTo>
                      <a:pt x="335" y="509"/>
                    </a:lnTo>
                    <a:lnTo>
                      <a:pt x="328" y="531"/>
                    </a:lnTo>
                    <a:lnTo>
                      <a:pt x="324" y="553"/>
                    </a:lnTo>
                    <a:lnTo>
                      <a:pt x="321" y="575"/>
                    </a:lnTo>
                    <a:lnTo>
                      <a:pt x="317" y="591"/>
                    </a:lnTo>
                    <a:lnTo>
                      <a:pt x="313" y="606"/>
                    </a:lnTo>
                    <a:lnTo>
                      <a:pt x="306" y="622"/>
                    </a:lnTo>
                    <a:lnTo>
                      <a:pt x="299" y="637"/>
                    </a:lnTo>
                    <a:lnTo>
                      <a:pt x="288" y="651"/>
                    </a:lnTo>
                    <a:lnTo>
                      <a:pt x="279" y="664"/>
                    </a:lnTo>
                    <a:lnTo>
                      <a:pt x="266" y="675"/>
                    </a:lnTo>
                    <a:lnTo>
                      <a:pt x="253" y="688"/>
                    </a:lnTo>
                    <a:lnTo>
                      <a:pt x="235" y="691"/>
                    </a:lnTo>
                    <a:lnTo>
                      <a:pt x="217" y="695"/>
                    </a:lnTo>
                    <a:lnTo>
                      <a:pt x="200" y="699"/>
                    </a:lnTo>
                    <a:lnTo>
                      <a:pt x="182" y="702"/>
                    </a:lnTo>
                    <a:lnTo>
                      <a:pt x="164" y="699"/>
                    </a:lnTo>
                    <a:lnTo>
                      <a:pt x="149" y="699"/>
                    </a:lnTo>
                    <a:lnTo>
                      <a:pt x="133" y="693"/>
                    </a:lnTo>
                    <a:lnTo>
                      <a:pt x="120" y="684"/>
                    </a:lnTo>
                    <a:lnTo>
                      <a:pt x="102" y="668"/>
                    </a:lnTo>
                    <a:lnTo>
                      <a:pt x="89" y="653"/>
                    </a:lnTo>
                    <a:lnTo>
                      <a:pt x="75" y="637"/>
                    </a:lnTo>
                    <a:lnTo>
                      <a:pt x="67" y="622"/>
                    </a:lnTo>
                    <a:lnTo>
                      <a:pt x="56" y="604"/>
                    </a:lnTo>
                    <a:lnTo>
                      <a:pt x="47" y="587"/>
                    </a:lnTo>
                    <a:lnTo>
                      <a:pt x="40" y="569"/>
                    </a:lnTo>
                    <a:lnTo>
                      <a:pt x="33" y="551"/>
                    </a:lnTo>
                    <a:lnTo>
                      <a:pt x="27" y="536"/>
                    </a:lnTo>
                    <a:lnTo>
                      <a:pt x="22" y="520"/>
                    </a:lnTo>
                    <a:lnTo>
                      <a:pt x="18" y="505"/>
                    </a:lnTo>
                    <a:lnTo>
                      <a:pt x="16" y="491"/>
                    </a:lnTo>
                    <a:lnTo>
                      <a:pt x="9" y="476"/>
                    </a:lnTo>
                    <a:lnTo>
                      <a:pt x="7" y="463"/>
                    </a:lnTo>
                    <a:lnTo>
                      <a:pt x="5" y="447"/>
                    </a:lnTo>
                    <a:lnTo>
                      <a:pt x="5" y="434"/>
                    </a:lnTo>
                    <a:lnTo>
                      <a:pt x="2" y="416"/>
                    </a:lnTo>
                    <a:lnTo>
                      <a:pt x="0" y="401"/>
                    </a:lnTo>
                    <a:lnTo>
                      <a:pt x="0" y="385"/>
                    </a:lnTo>
                    <a:lnTo>
                      <a:pt x="2" y="370"/>
                    </a:lnTo>
                    <a:lnTo>
                      <a:pt x="2" y="354"/>
                    </a:lnTo>
                    <a:lnTo>
                      <a:pt x="2" y="339"/>
                    </a:lnTo>
                    <a:lnTo>
                      <a:pt x="5" y="323"/>
                    </a:lnTo>
                    <a:lnTo>
                      <a:pt x="9" y="310"/>
                    </a:lnTo>
                    <a:lnTo>
                      <a:pt x="9" y="290"/>
                    </a:lnTo>
                    <a:lnTo>
                      <a:pt x="11" y="274"/>
                    </a:lnTo>
                    <a:lnTo>
                      <a:pt x="13" y="257"/>
                    </a:lnTo>
                    <a:lnTo>
                      <a:pt x="18" y="241"/>
                    </a:lnTo>
                    <a:lnTo>
                      <a:pt x="20" y="223"/>
                    </a:lnTo>
                    <a:lnTo>
                      <a:pt x="25" y="208"/>
                    </a:lnTo>
                    <a:lnTo>
                      <a:pt x="31" y="190"/>
                    </a:lnTo>
                    <a:lnTo>
                      <a:pt x="38" y="177"/>
                    </a:lnTo>
                    <a:lnTo>
                      <a:pt x="42" y="161"/>
                    </a:lnTo>
                    <a:lnTo>
                      <a:pt x="49" y="146"/>
                    </a:lnTo>
                    <a:lnTo>
                      <a:pt x="56" y="130"/>
                    </a:lnTo>
                    <a:lnTo>
                      <a:pt x="62" y="117"/>
                    </a:lnTo>
                    <a:lnTo>
                      <a:pt x="69" y="102"/>
                    </a:lnTo>
                    <a:lnTo>
                      <a:pt x="78" y="86"/>
                    </a:lnTo>
                    <a:lnTo>
                      <a:pt x="87" y="73"/>
                    </a:lnTo>
                    <a:lnTo>
                      <a:pt x="95" y="60"/>
                    </a:lnTo>
                    <a:lnTo>
                      <a:pt x="109" y="42"/>
                    </a:lnTo>
                    <a:lnTo>
                      <a:pt x="122" y="26"/>
                    </a:lnTo>
                    <a:lnTo>
                      <a:pt x="135" y="9"/>
                    </a:lnTo>
                    <a:lnTo>
                      <a:pt x="155" y="0"/>
                    </a:lnTo>
                    <a:lnTo>
                      <a:pt x="173" y="9"/>
                    </a:lnTo>
                    <a:lnTo>
                      <a:pt x="193" y="22"/>
                    </a:lnTo>
                    <a:close/>
                  </a:path>
                </a:pathLst>
              </a:custGeom>
              <a:solidFill>
                <a:srgbClr val="f0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6816240" y="3584520"/>
                <a:ext cx="516600" cy="1054800"/>
              </a:xfrm>
              <a:custGeom>
                <a:avLst/>
                <a:gdLst/>
                <a:ahLst/>
                <a:rect l="l" t="t" r="r" b="b"/>
                <a:pathLst>
                  <a:path w="361" h="689">
                    <a:moveTo>
                      <a:pt x="188" y="22"/>
                    </a:moveTo>
                    <a:lnTo>
                      <a:pt x="204" y="31"/>
                    </a:lnTo>
                    <a:lnTo>
                      <a:pt x="224" y="40"/>
                    </a:lnTo>
                    <a:lnTo>
                      <a:pt x="241" y="49"/>
                    </a:lnTo>
                    <a:lnTo>
                      <a:pt x="259" y="60"/>
                    </a:lnTo>
                    <a:lnTo>
                      <a:pt x="261" y="60"/>
                    </a:lnTo>
                    <a:lnTo>
                      <a:pt x="263" y="62"/>
                    </a:lnTo>
                    <a:lnTo>
                      <a:pt x="263" y="60"/>
                    </a:lnTo>
                    <a:lnTo>
                      <a:pt x="279" y="62"/>
                    </a:lnTo>
                    <a:lnTo>
                      <a:pt x="297" y="64"/>
                    </a:lnTo>
                    <a:lnTo>
                      <a:pt x="314" y="64"/>
                    </a:lnTo>
                    <a:lnTo>
                      <a:pt x="332" y="66"/>
                    </a:lnTo>
                    <a:lnTo>
                      <a:pt x="337" y="73"/>
                    </a:lnTo>
                    <a:lnTo>
                      <a:pt x="339" y="86"/>
                    </a:lnTo>
                    <a:lnTo>
                      <a:pt x="341" y="97"/>
                    </a:lnTo>
                    <a:lnTo>
                      <a:pt x="348" y="111"/>
                    </a:lnTo>
                    <a:lnTo>
                      <a:pt x="348" y="122"/>
                    </a:lnTo>
                    <a:lnTo>
                      <a:pt x="350" y="135"/>
                    </a:lnTo>
                    <a:lnTo>
                      <a:pt x="350" y="148"/>
                    </a:lnTo>
                    <a:lnTo>
                      <a:pt x="350" y="164"/>
                    </a:lnTo>
                    <a:lnTo>
                      <a:pt x="350" y="177"/>
                    </a:lnTo>
                    <a:lnTo>
                      <a:pt x="350" y="190"/>
                    </a:lnTo>
                    <a:lnTo>
                      <a:pt x="350" y="204"/>
                    </a:lnTo>
                    <a:lnTo>
                      <a:pt x="352" y="219"/>
                    </a:lnTo>
                    <a:lnTo>
                      <a:pt x="354" y="239"/>
                    </a:lnTo>
                    <a:lnTo>
                      <a:pt x="359" y="261"/>
                    </a:lnTo>
                    <a:lnTo>
                      <a:pt x="359" y="283"/>
                    </a:lnTo>
                    <a:lnTo>
                      <a:pt x="361" y="306"/>
                    </a:lnTo>
                    <a:lnTo>
                      <a:pt x="359" y="325"/>
                    </a:lnTo>
                    <a:lnTo>
                      <a:pt x="356" y="348"/>
                    </a:lnTo>
                    <a:lnTo>
                      <a:pt x="354" y="370"/>
                    </a:lnTo>
                    <a:lnTo>
                      <a:pt x="352" y="392"/>
                    </a:lnTo>
                    <a:lnTo>
                      <a:pt x="345" y="412"/>
                    </a:lnTo>
                    <a:lnTo>
                      <a:pt x="341" y="434"/>
                    </a:lnTo>
                    <a:lnTo>
                      <a:pt x="337" y="456"/>
                    </a:lnTo>
                    <a:lnTo>
                      <a:pt x="332" y="478"/>
                    </a:lnTo>
                    <a:lnTo>
                      <a:pt x="325" y="498"/>
                    </a:lnTo>
                    <a:lnTo>
                      <a:pt x="321" y="520"/>
                    </a:lnTo>
                    <a:lnTo>
                      <a:pt x="317" y="542"/>
                    </a:lnTo>
                    <a:lnTo>
                      <a:pt x="314" y="565"/>
                    </a:lnTo>
                    <a:lnTo>
                      <a:pt x="308" y="580"/>
                    </a:lnTo>
                    <a:lnTo>
                      <a:pt x="303" y="596"/>
                    </a:lnTo>
                    <a:lnTo>
                      <a:pt x="297" y="611"/>
                    </a:lnTo>
                    <a:lnTo>
                      <a:pt x="290" y="627"/>
                    </a:lnTo>
                    <a:lnTo>
                      <a:pt x="279" y="640"/>
                    </a:lnTo>
                    <a:lnTo>
                      <a:pt x="270" y="653"/>
                    </a:lnTo>
                    <a:lnTo>
                      <a:pt x="257" y="664"/>
                    </a:lnTo>
                    <a:lnTo>
                      <a:pt x="246" y="675"/>
                    </a:lnTo>
                    <a:lnTo>
                      <a:pt x="228" y="678"/>
                    </a:lnTo>
                    <a:lnTo>
                      <a:pt x="210" y="682"/>
                    </a:lnTo>
                    <a:lnTo>
                      <a:pt x="193" y="684"/>
                    </a:lnTo>
                    <a:lnTo>
                      <a:pt x="177" y="689"/>
                    </a:lnTo>
                    <a:lnTo>
                      <a:pt x="159" y="686"/>
                    </a:lnTo>
                    <a:lnTo>
                      <a:pt x="144" y="686"/>
                    </a:lnTo>
                    <a:lnTo>
                      <a:pt x="128" y="678"/>
                    </a:lnTo>
                    <a:lnTo>
                      <a:pt x="115" y="671"/>
                    </a:lnTo>
                    <a:lnTo>
                      <a:pt x="97" y="655"/>
                    </a:lnTo>
                    <a:lnTo>
                      <a:pt x="84" y="642"/>
                    </a:lnTo>
                    <a:lnTo>
                      <a:pt x="73" y="627"/>
                    </a:lnTo>
                    <a:lnTo>
                      <a:pt x="62" y="611"/>
                    </a:lnTo>
                    <a:lnTo>
                      <a:pt x="51" y="593"/>
                    </a:lnTo>
                    <a:lnTo>
                      <a:pt x="44" y="576"/>
                    </a:lnTo>
                    <a:lnTo>
                      <a:pt x="37" y="558"/>
                    </a:lnTo>
                    <a:lnTo>
                      <a:pt x="31" y="542"/>
                    </a:lnTo>
                    <a:lnTo>
                      <a:pt x="24" y="527"/>
                    </a:lnTo>
                    <a:lnTo>
                      <a:pt x="20" y="511"/>
                    </a:lnTo>
                    <a:lnTo>
                      <a:pt x="15" y="496"/>
                    </a:lnTo>
                    <a:lnTo>
                      <a:pt x="13" y="483"/>
                    </a:lnTo>
                    <a:lnTo>
                      <a:pt x="9" y="467"/>
                    </a:lnTo>
                    <a:lnTo>
                      <a:pt x="6" y="454"/>
                    </a:lnTo>
                    <a:lnTo>
                      <a:pt x="4" y="438"/>
                    </a:lnTo>
                    <a:lnTo>
                      <a:pt x="4" y="425"/>
                    </a:lnTo>
                    <a:lnTo>
                      <a:pt x="2" y="407"/>
                    </a:lnTo>
                    <a:lnTo>
                      <a:pt x="0" y="394"/>
                    </a:lnTo>
                    <a:lnTo>
                      <a:pt x="0" y="376"/>
                    </a:lnTo>
                    <a:lnTo>
                      <a:pt x="0" y="363"/>
                    </a:lnTo>
                    <a:lnTo>
                      <a:pt x="0" y="348"/>
                    </a:lnTo>
                    <a:lnTo>
                      <a:pt x="0" y="332"/>
                    </a:lnTo>
                    <a:lnTo>
                      <a:pt x="2" y="319"/>
                    </a:lnTo>
                    <a:lnTo>
                      <a:pt x="6" y="306"/>
                    </a:lnTo>
                    <a:lnTo>
                      <a:pt x="6" y="286"/>
                    </a:lnTo>
                    <a:lnTo>
                      <a:pt x="9" y="270"/>
                    </a:lnTo>
                    <a:lnTo>
                      <a:pt x="11" y="252"/>
                    </a:lnTo>
                    <a:lnTo>
                      <a:pt x="15" y="237"/>
                    </a:lnTo>
                    <a:lnTo>
                      <a:pt x="18" y="219"/>
                    </a:lnTo>
                    <a:lnTo>
                      <a:pt x="22" y="206"/>
                    </a:lnTo>
                    <a:lnTo>
                      <a:pt x="29" y="188"/>
                    </a:lnTo>
                    <a:lnTo>
                      <a:pt x="35" y="175"/>
                    </a:lnTo>
                    <a:lnTo>
                      <a:pt x="40" y="159"/>
                    </a:lnTo>
                    <a:lnTo>
                      <a:pt x="46" y="144"/>
                    </a:lnTo>
                    <a:lnTo>
                      <a:pt x="53" y="128"/>
                    </a:lnTo>
                    <a:lnTo>
                      <a:pt x="60" y="115"/>
                    </a:lnTo>
                    <a:lnTo>
                      <a:pt x="66" y="100"/>
                    </a:lnTo>
                    <a:lnTo>
                      <a:pt x="75" y="86"/>
                    </a:lnTo>
                    <a:lnTo>
                      <a:pt x="82" y="73"/>
                    </a:lnTo>
                    <a:lnTo>
                      <a:pt x="91" y="60"/>
                    </a:lnTo>
                    <a:lnTo>
                      <a:pt x="104" y="42"/>
                    </a:lnTo>
                    <a:lnTo>
                      <a:pt x="117" y="27"/>
                    </a:lnTo>
                    <a:lnTo>
                      <a:pt x="131" y="9"/>
                    </a:lnTo>
                    <a:lnTo>
                      <a:pt x="150" y="0"/>
                    </a:lnTo>
                    <a:lnTo>
                      <a:pt x="168" y="11"/>
                    </a:lnTo>
                    <a:lnTo>
                      <a:pt x="188" y="22"/>
                    </a:lnTo>
                    <a:close/>
                  </a:path>
                </a:pathLst>
              </a:custGeom>
              <a:solidFill>
                <a:srgbClr val="f2c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6828840" y="3595320"/>
                <a:ext cx="478440" cy="979560"/>
              </a:xfrm>
              <a:custGeom>
                <a:avLst/>
                <a:gdLst/>
                <a:ahLst/>
                <a:rect l="l" t="t" r="r" b="b"/>
                <a:pathLst>
                  <a:path w="334" h="640">
                    <a:moveTo>
                      <a:pt x="172" y="20"/>
                    </a:moveTo>
                    <a:lnTo>
                      <a:pt x="188" y="26"/>
                    </a:lnTo>
                    <a:lnTo>
                      <a:pt x="206" y="35"/>
                    </a:lnTo>
                    <a:lnTo>
                      <a:pt x="223" y="44"/>
                    </a:lnTo>
                    <a:lnTo>
                      <a:pt x="241" y="55"/>
                    </a:lnTo>
                    <a:lnTo>
                      <a:pt x="243" y="55"/>
                    </a:lnTo>
                    <a:lnTo>
                      <a:pt x="257" y="55"/>
                    </a:lnTo>
                    <a:lnTo>
                      <a:pt x="274" y="57"/>
                    </a:lnTo>
                    <a:lnTo>
                      <a:pt x="290" y="57"/>
                    </a:lnTo>
                    <a:lnTo>
                      <a:pt x="307" y="59"/>
                    </a:lnTo>
                    <a:lnTo>
                      <a:pt x="312" y="66"/>
                    </a:lnTo>
                    <a:lnTo>
                      <a:pt x="314" y="79"/>
                    </a:lnTo>
                    <a:lnTo>
                      <a:pt x="316" y="90"/>
                    </a:lnTo>
                    <a:lnTo>
                      <a:pt x="323" y="101"/>
                    </a:lnTo>
                    <a:lnTo>
                      <a:pt x="323" y="113"/>
                    </a:lnTo>
                    <a:lnTo>
                      <a:pt x="325" y="124"/>
                    </a:lnTo>
                    <a:lnTo>
                      <a:pt x="325" y="137"/>
                    </a:lnTo>
                    <a:lnTo>
                      <a:pt x="325" y="150"/>
                    </a:lnTo>
                    <a:lnTo>
                      <a:pt x="323" y="163"/>
                    </a:lnTo>
                    <a:lnTo>
                      <a:pt x="323" y="177"/>
                    </a:lnTo>
                    <a:lnTo>
                      <a:pt x="323" y="190"/>
                    </a:lnTo>
                    <a:lnTo>
                      <a:pt x="327" y="203"/>
                    </a:lnTo>
                    <a:lnTo>
                      <a:pt x="330" y="223"/>
                    </a:lnTo>
                    <a:lnTo>
                      <a:pt x="334" y="243"/>
                    </a:lnTo>
                    <a:lnTo>
                      <a:pt x="334" y="263"/>
                    </a:lnTo>
                    <a:lnTo>
                      <a:pt x="334" y="283"/>
                    </a:lnTo>
                    <a:lnTo>
                      <a:pt x="332" y="303"/>
                    </a:lnTo>
                    <a:lnTo>
                      <a:pt x="330" y="323"/>
                    </a:lnTo>
                    <a:lnTo>
                      <a:pt x="327" y="343"/>
                    </a:lnTo>
                    <a:lnTo>
                      <a:pt x="325" y="363"/>
                    </a:lnTo>
                    <a:lnTo>
                      <a:pt x="321" y="383"/>
                    </a:lnTo>
                    <a:lnTo>
                      <a:pt x="316" y="403"/>
                    </a:lnTo>
                    <a:lnTo>
                      <a:pt x="312" y="423"/>
                    </a:lnTo>
                    <a:lnTo>
                      <a:pt x="307" y="442"/>
                    </a:lnTo>
                    <a:lnTo>
                      <a:pt x="301" y="462"/>
                    </a:lnTo>
                    <a:lnTo>
                      <a:pt x="299" y="482"/>
                    </a:lnTo>
                    <a:lnTo>
                      <a:pt x="294" y="502"/>
                    </a:lnTo>
                    <a:lnTo>
                      <a:pt x="292" y="522"/>
                    </a:lnTo>
                    <a:lnTo>
                      <a:pt x="285" y="535"/>
                    </a:lnTo>
                    <a:lnTo>
                      <a:pt x="281" y="551"/>
                    </a:lnTo>
                    <a:lnTo>
                      <a:pt x="274" y="564"/>
                    </a:lnTo>
                    <a:lnTo>
                      <a:pt x="270" y="580"/>
                    </a:lnTo>
                    <a:lnTo>
                      <a:pt x="259" y="593"/>
                    </a:lnTo>
                    <a:lnTo>
                      <a:pt x="250" y="606"/>
                    </a:lnTo>
                    <a:lnTo>
                      <a:pt x="239" y="615"/>
                    </a:lnTo>
                    <a:lnTo>
                      <a:pt x="228" y="626"/>
                    </a:lnTo>
                    <a:lnTo>
                      <a:pt x="210" y="628"/>
                    </a:lnTo>
                    <a:lnTo>
                      <a:pt x="194" y="633"/>
                    </a:lnTo>
                    <a:lnTo>
                      <a:pt x="179" y="635"/>
                    </a:lnTo>
                    <a:lnTo>
                      <a:pt x="163" y="640"/>
                    </a:lnTo>
                    <a:lnTo>
                      <a:pt x="146" y="637"/>
                    </a:lnTo>
                    <a:lnTo>
                      <a:pt x="132" y="635"/>
                    </a:lnTo>
                    <a:lnTo>
                      <a:pt x="117" y="628"/>
                    </a:lnTo>
                    <a:lnTo>
                      <a:pt x="106" y="622"/>
                    </a:lnTo>
                    <a:lnTo>
                      <a:pt x="90" y="609"/>
                    </a:lnTo>
                    <a:lnTo>
                      <a:pt x="77" y="595"/>
                    </a:lnTo>
                    <a:lnTo>
                      <a:pt x="66" y="580"/>
                    </a:lnTo>
                    <a:lnTo>
                      <a:pt x="57" y="564"/>
                    </a:lnTo>
                    <a:lnTo>
                      <a:pt x="46" y="547"/>
                    </a:lnTo>
                    <a:lnTo>
                      <a:pt x="39" y="533"/>
                    </a:lnTo>
                    <a:lnTo>
                      <a:pt x="33" y="516"/>
                    </a:lnTo>
                    <a:lnTo>
                      <a:pt x="26" y="502"/>
                    </a:lnTo>
                    <a:lnTo>
                      <a:pt x="19" y="487"/>
                    </a:lnTo>
                    <a:lnTo>
                      <a:pt x="15" y="473"/>
                    </a:lnTo>
                    <a:lnTo>
                      <a:pt x="11" y="460"/>
                    </a:lnTo>
                    <a:lnTo>
                      <a:pt x="11" y="447"/>
                    </a:lnTo>
                    <a:lnTo>
                      <a:pt x="6" y="434"/>
                    </a:lnTo>
                    <a:lnTo>
                      <a:pt x="4" y="420"/>
                    </a:lnTo>
                    <a:lnTo>
                      <a:pt x="2" y="407"/>
                    </a:lnTo>
                    <a:lnTo>
                      <a:pt x="2" y="394"/>
                    </a:lnTo>
                    <a:lnTo>
                      <a:pt x="0" y="378"/>
                    </a:lnTo>
                    <a:lnTo>
                      <a:pt x="0" y="365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1"/>
                    </a:lnTo>
                    <a:lnTo>
                      <a:pt x="0" y="307"/>
                    </a:lnTo>
                    <a:lnTo>
                      <a:pt x="2" y="294"/>
                    </a:lnTo>
                    <a:lnTo>
                      <a:pt x="6" y="281"/>
                    </a:lnTo>
                    <a:lnTo>
                      <a:pt x="6" y="263"/>
                    </a:lnTo>
                    <a:lnTo>
                      <a:pt x="6" y="248"/>
                    </a:lnTo>
                    <a:lnTo>
                      <a:pt x="8" y="232"/>
                    </a:lnTo>
                    <a:lnTo>
                      <a:pt x="13" y="219"/>
                    </a:lnTo>
                    <a:lnTo>
                      <a:pt x="15" y="203"/>
                    </a:lnTo>
                    <a:lnTo>
                      <a:pt x="19" y="188"/>
                    </a:lnTo>
                    <a:lnTo>
                      <a:pt x="26" y="175"/>
                    </a:lnTo>
                    <a:lnTo>
                      <a:pt x="33" y="161"/>
                    </a:lnTo>
                    <a:lnTo>
                      <a:pt x="37" y="148"/>
                    </a:lnTo>
                    <a:lnTo>
                      <a:pt x="42" y="135"/>
                    </a:lnTo>
                    <a:lnTo>
                      <a:pt x="48" y="121"/>
                    </a:lnTo>
                    <a:lnTo>
                      <a:pt x="55" y="108"/>
                    </a:lnTo>
                    <a:lnTo>
                      <a:pt x="62" y="95"/>
                    </a:lnTo>
                    <a:lnTo>
                      <a:pt x="70" y="82"/>
                    </a:lnTo>
                    <a:lnTo>
                      <a:pt x="77" y="68"/>
                    </a:lnTo>
                    <a:lnTo>
                      <a:pt x="86" y="55"/>
                    </a:lnTo>
                    <a:lnTo>
                      <a:pt x="97" y="37"/>
                    </a:lnTo>
                    <a:lnTo>
                      <a:pt x="108" y="24"/>
                    </a:lnTo>
                    <a:lnTo>
                      <a:pt x="121" y="8"/>
                    </a:lnTo>
                    <a:lnTo>
                      <a:pt x="139" y="0"/>
                    </a:lnTo>
                    <a:lnTo>
                      <a:pt x="155" y="8"/>
                    </a:lnTo>
                    <a:lnTo>
                      <a:pt x="172" y="20"/>
                    </a:lnTo>
                    <a:close/>
                  </a:path>
                </a:pathLst>
              </a:custGeom>
              <a:solidFill>
                <a:srgbClr val="f2c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6841800" y="3604680"/>
                <a:ext cx="441000" cy="901440"/>
              </a:xfrm>
              <a:custGeom>
                <a:avLst/>
                <a:gdLst/>
                <a:ahLst/>
                <a:rect l="l" t="t" r="r" b="b"/>
                <a:pathLst>
                  <a:path w="308" h="589">
                    <a:moveTo>
                      <a:pt x="160" y="18"/>
                    </a:moveTo>
                    <a:lnTo>
                      <a:pt x="173" y="25"/>
                    </a:lnTo>
                    <a:lnTo>
                      <a:pt x="191" y="33"/>
                    </a:lnTo>
                    <a:lnTo>
                      <a:pt x="204" y="40"/>
                    </a:lnTo>
                    <a:lnTo>
                      <a:pt x="222" y="51"/>
                    </a:lnTo>
                    <a:lnTo>
                      <a:pt x="222" y="49"/>
                    </a:lnTo>
                    <a:lnTo>
                      <a:pt x="224" y="49"/>
                    </a:lnTo>
                    <a:lnTo>
                      <a:pt x="224" y="51"/>
                    </a:lnTo>
                    <a:lnTo>
                      <a:pt x="224" y="49"/>
                    </a:lnTo>
                    <a:lnTo>
                      <a:pt x="226" y="49"/>
                    </a:lnTo>
                    <a:lnTo>
                      <a:pt x="240" y="51"/>
                    </a:lnTo>
                    <a:lnTo>
                      <a:pt x="253" y="53"/>
                    </a:lnTo>
                    <a:lnTo>
                      <a:pt x="268" y="53"/>
                    </a:lnTo>
                    <a:lnTo>
                      <a:pt x="284" y="56"/>
                    </a:lnTo>
                    <a:lnTo>
                      <a:pt x="290" y="71"/>
                    </a:lnTo>
                    <a:lnTo>
                      <a:pt x="297" y="93"/>
                    </a:lnTo>
                    <a:lnTo>
                      <a:pt x="299" y="113"/>
                    </a:lnTo>
                    <a:lnTo>
                      <a:pt x="299" y="138"/>
                    </a:lnTo>
                    <a:lnTo>
                      <a:pt x="299" y="149"/>
                    </a:lnTo>
                    <a:lnTo>
                      <a:pt x="299" y="162"/>
                    </a:lnTo>
                    <a:lnTo>
                      <a:pt x="299" y="173"/>
                    </a:lnTo>
                    <a:lnTo>
                      <a:pt x="302" y="186"/>
                    </a:lnTo>
                    <a:lnTo>
                      <a:pt x="304" y="204"/>
                    </a:lnTo>
                    <a:lnTo>
                      <a:pt x="308" y="222"/>
                    </a:lnTo>
                    <a:lnTo>
                      <a:pt x="308" y="239"/>
                    </a:lnTo>
                    <a:lnTo>
                      <a:pt x="308" y="259"/>
                    </a:lnTo>
                    <a:lnTo>
                      <a:pt x="306" y="277"/>
                    </a:lnTo>
                    <a:lnTo>
                      <a:pt x="306" y="297"/>
                    </a:lnTo>
                    <a:lnTo>
                      <a:pt x="304" y="315"/>
                    </a:lnTo>
                    <a:lnTo>
                      <a:pt x="302" y="335"/>
                    </a:lnTo>
                    <a:lnTo>
                      <a:pt x="295" y="352"/>
                    </a:lnTo>
                    <a:lnTo>
                      <a:pt x="290" y="370"/>
                    </a:lnTo>
                    <a:lnTo>
                      <a:pt x="286" y="388"/>
                    </a:lnTo>
                    <a:lnTo>
                      <a:pt x="284" y="408"/>
                    </a:lnTo>
                    <a:lnTo>
                      <a:pt x="277" y="425"/>
                    </a:lnTo>
                    <a:lnTo>
                      <a:pt x="275" y="445"/>
                    </a:lnTo>
                    <a:lnTo>
                      <a:pt x="271" y="463"/>
                    </a:lnTo>
                    <a:lnTo>
                      <a:pt x="268" y="483"/>
                    </a:lnTo>
                    <a:lnTo>
                      <a:pt x="264" y="496"/>
                    </a:lnTo>
                    <a:lnTo>
                      <a:pt x="259" y="510"/>
                    </a:lnTo>
                    <a:lnTo>
                      <a:pt x="253" y="523"/>
                    </a:lnTo>
                    <a:lnTo>
                      <a:pt x="248" y="536"/>
                    </a:lnTo>
                    <a:lnTo>
                      <a:pt x="231" y="558"/>
                    </a:lnTo>
                    <a:lnTo>
                      <a:pt x="211" y="578"/>
                    </a:lnTo>
                    <a:lnTo>
                      <a:pt x="195" y="580"/>
                    </a:lnTo>
                    <a:lnTo>
                      <a:pt x="180" y="583"/>
                    </a:lnTo>
                    <a:lnTo>
                      <a:pt x="164" y="585"/>
                    </a:lnTo>
                    <a:lnTo>
                      <a:pt x="151" y="589"/>
                    </a:lnTo>
                    <a:lnTo>
                      <a:pt x="135" y="587"/>
                    </a:lnTo>
                    <a:lnTo>
                      <a:pt x="122" y="587"/>
                    </a:lnTo>
                    <a:lnTo>
                      <a:pt x="109" y="580"/>
                    </a:lnTo>
                    <a:lnTo>
                      <a:pt x="98" y="574"/>
                    </a:lnTo>
                    <a:lnTo>
                      <a:pt x="84" y="560"/>
                    </a:lnTo>
                    <a:lnTo>
                      <a:pt x="71" y="547"/>
                    </a:lnTo>
                    <a:lnTo>
                      <a:pt x="60" y="534"/>
                    </a:lnTo>
                    <a:lnTo>
                      <a:pt x="53" y="521"/>
                    </a:lnTo>
                    <a:lnTo>
                      <a:pt x="45" y="505"/>
                    </a:lnTo>
                    <a:lnTo>
                      <a:pt x="38" y="492"/>
                    </a:lnTo>
                    <a:lnTo>
                      <a:pt x="31" y="476"/>
                    </a:lnTo>
                    <a:lnTo>
                      <a:pt x="25" y="463"/>
                    </a:lnTo>
                    <a:lnTo>
                      <a:pt x="18" y="450"/>
                    </a:lnTo>
                    <a:lnTo>
                      <a:pt x="16" y="436"/>
                    </a:lnTo>
                    <a:lnTo>
                      <a:pt x="11" y="423"/>
                    </a:lnTo>
                    <a:lnTo>
                      <a:pt x="9" y="412"/>
                    </a:lnTo>
                    <a:lnTo>
                      <a:pt x="5" y="399"/>
                    </a:lnTo>
                    <a:lnTo>
                      <a:pt x="2" y="388"/>
                    </a:lnTo>
                    <a:lnTo>
                      <a:pt x="2" y="374"/>
                    </a:lnTo>
                    <a:lnTo>
                      <a:pt x="2" y="363"/>
                    </a:lnTo>
                    <a:lnTo>
                      <a:pt x="0" y="350"/>
                    </a:lnTo>
                    <a:lnTo>
                      <a:pt x="0" y="337"/>
                    </a:lnTo>
                    <a:lnTo>
                      <a:pt x="0" y="324"/>
                    </a:lnTo>
                    <a:lnTo>
                      <a:pt x="0" y="310"/>
                    </a:lnTo>
                    <a:lnTo>
                      <a:pt x="0" y="297"/>
                    </a:lnTo>
                    <a:lnTo>
                      <a:pt x="0" y="284"/>
                    </a:lnTo>
                    <a:lnTo>
                      <a:pt x="2" y="270"/>
                    </a:lnTo>
                    <a:lnTo>
                      <a:pt x="7" y="259"/>
                    </a:lnTo>
                    <a:lnTo>
                      <a:pt x="7" y="244"/>
                    </a:lnTo>
                    <a:lnTo>
                      <a:pt x="7" y="228"/>
                    </a:lnTo>
                    <a:lnTo>
                      <a:pt x="9" y="215"/>
                    </a:lnTo>
                    <a:lnTo>
                      <a:pt x="11" y="202"/>
                    </a:lnTo>
                    <a:lnTo>
                      <a:pt x="14" y="188"/>
                    </a:lnTo>
                    <a:lnTo>
                      <a:pt x="18" y="175"/>
                    </a:lnTo>
                    <a:lnTo>
                      <a:pt x="22" y="162"/>
                    </a:lnTo>
                    <a:lnTo>
                      <a:pt x="29" y="149"/>
                    </a:lnTo>
                    <a:lnTo>
                      <a:pt x="33" y="135"/>
                    </a:lnTo>
                    <a:lnTo>
                      <a:pt x="38" y="122"/>
                    </a:lnTo>
                    <a:lnTo>
                      <a:pt x="45" y="109"/>
                    </a:lnTo>
                    <a:lnTo>
                      <a:pt x="51" y="98"/>
                    </a:lnTo>
                    <a:lnTo>
                      <a:pt x="64" y="73"/>
                    </a:lnTo>
                    <a:lnTo>
                      <a:pt x="78" y="51"/>
                    </a:lnTo>
                    <a:lnTo>
                      <a:pt x="87" y="33"/>
                    </a:lnTo>
                    <a:lnTo>
                      <a:pt x="100" y="20"/>
                    </a:lnTo>
                    <a:lnTo>
                      <a:pt x="113" y="7"/>
                    </a:lnTo>
                    <a:lnTo>
                      <a:pt x="129" y="0"/>
                    </a:lnTo>
                    <a:lnTo>
                      <a:pt x="144" y="7"/>
                    </a:lnTo>
                    <a:lnTo>
                      <a:pt x="160" y="18"/>
                    </a:lnTo>
                    <a:close/>
                  </a:path>
                </a:pathLst>
              </a:custGeom>
              <a:solidFill>
                <a:srgbClr val="f2c7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6855120" y="3612240"/>
                <a:ext cx="405360" cy="829440"/>
              </a:xfrm>
              <a:custGeom>
                <a:avLst/>
                <a:gdLst/>
                <a:ahLst/>
                <a:rect l="l" t="t" r="r" b="b"/>
                <a:pathLst>
                  <a:path w="283" h="542">
                    <a:moveTo>
                      <a:pt x="148" y="17"/>
                    </a:moveTo>
                    <a:lnTo>
                      <a:pt x="161" y="24"/>
                    </a:lnTo>
                    <a:lnTo>
                      <a:pt x="175" y="31"/>
                    </a:lnTo>
                    <a:lnTo>
                      <a:pt x="188" y="37"/>
                    </a:lnTo>
                    <a:lnTo>
                      <a:pt x="204" y="46"/>
                    </a:lnTo>
                    <a:lnTo>
                      <a:pt x="206" y="46"/>
                    </a:lnTo>
                    <a:lnTo>
                      <a:pt x="208" y="48"/>
                    </a:lnTo>
                    <a:lnTo>
                      <a:pt x="208" y="46"/>
                    </a:lnTo>
                    <a:lnTo>
                      <a:pt x="221" y="48"/>
                    </a:lnTo>
                    <a:lnTo>
                      <a:pt x="235" y="51"/>
                    </a:lnTo>
                    <a:lnTo>
                      <a:pt x="248" y="51"/>
                    </a:lnTo>
                    <a:lnTo>
                      <a:pt x="263" y="51"/>
                    </a:lnTo>
                    <a:lnTo>
                      <a:pt x="268" y="68"/>
                    </a:lnTo>
                    <a:lnTo>
                      <a:pt x="274" y="86"/>
                    </a:lnTo>
                    <a:lnTo>
                      <a:pt x="274" y="106"/>
                    </a:lnTo>
                    <a:lnTo>
                      <a:pt x="274" y="128"/>
                    </a:lnTo>
                    <a:lnTo>
                      <a:pt x="274" y="148"/>
                    </a:lnTo>
                    <a:lnTo>
                      <a:pt x="277" y="172"/>
                    </a:lnTo>
                    <a:lnTo>
                      <a:pt x="279" y="188"/>
                    </a:lnTo>
                    <a:lnTo>
                      <a:pt x="281" y="206"/>
                    </a:lnTo>
                    <a:lnTo>
                      <a:pt x="281" y="221"/>
                    </a:lnTo>
                    <a:lnTo>
                      <a:pt x="283" y="239"/>
                    </a:lnTo>
                    <a:lnTo>
                      <a:pt x="281" y="254"/>
                    </a:lnTo>
                    <a:lnTo>
                      <a:pt x="281" y="272"/>
                    </a:lnTo>
                    <a:lnTo>
                      <a:pt x="279" y="290"/>
                    </a:lnTo>
                    <a:lnTo>
                      <a:pt x="277" y="307"/>
                    </a:lnTo>
                    <a:lnTo>
                      <a:pt x="272" y="323"/>
                    </a:lnTo>
                    <a:lnTo>
                      <a:pt x="268" y="341"/>
                    </a:lnTo>
                    <a:lnTo>
                      <a:pt x="263" y="356"/>
                    </a:lnTo>
                    <a:lnTo>
                      <a:pt x="261" y="374"/>
                    </a:lnTo>
                    <a:lnTo>
                      <a:pt x="255" y="389"/>
                    </a:lnTo>
                    <a:lnTo>
                      <a:pt x="252" y="407"/>
                    </a:lnTo>
                    <a:lnTo>
                      <a:pt x="248" y="425"/>
                    </a:lnTo>
                    <a:lnTo>
                      <a:pt x="248" y="443"/>
                    </a:lnTo>
                    <a:lnTo>
                      <a:pt x="243" y="454"/>
                    </a:lnTo>
                    <a:lnTo>
                      <a:pt x="239" y="467"/>
                    </a:lnTo>
                    <a:lnTo>
                      <a:pt x="232" y="478"/>
                    </a:lnTo>
                    <a:lnTo>
                      <a:pt x="228" y="491"/>
                    </a:lnTo>
                    <a:lnTo>
                      <a:pt x="212" y="511"/>
                    </a:lnTo>
                    <a:lnTo>
                      <a:pt x="195" y="531"/>
                    </a:lnTo>
                    <a:lnTo>
                      <a:pt x="179" y="533"/>
                    </a:lnTo>
                    <a:lnTo>
                      <a:pt x="166" y="536"/>
                    </a:lnTo>
                    <a:lnTo>
                      <a:pt x="153" y="538"/>
                    </a:lnTo>
                    <a:lnTo>
                      <a:pt x="139" y="542"/>
                    </a:lnTo>
                    <a:lnTo>
                      <a:pt x="126" y="540"/>
                    </a:lnTo>
                    <a:lnTo>
                      <a:pt x="113" y="538"/>
                    </a:lnTo>
                    <a:lnTo>
                      <a:pt x="99" y="533"/>
                    </a:lnTo>
                    <a:lnTo>
                      <a:pt x="91" y="527"/>
                    </a:lnTo>
                    <a:lnTo>
                      <a:pt x="77" y="513"/>
                    </a:lnTo>
                    <a:lnTo>
                      <a:pt x="68" y="502"/>
                    </a:lnTo>
                    <a:lnTo>
                      <a:pt x="57" y="489"/>
                    </a:lnTo>
                    <a:lnTo>
                      <a:pt x="51" y="478"/>
                    </a:lnTo>
                    <a:lnTo>
                      <a:pt x="42" y="465"/>
                    </a:lnTo>
                    <a:lnTo>
                      <a:pt x="35" y="451"/>
                    </a:lnTo>
                    <a:lnTo>
                      <a:pt x="29" y="438"/>
                    </a:lnTo>
                    <a:lnTo>
                      <a:pt x="24" y="425"/>
                    </a:lnTo>
                    <a:lnTo>
                      <a:pt x="15" y="400"/>
                    </a:lnTo>
                    <a:lnTo>
                      <a:pt x="11" y="378"/>
                    </a:lnTo>
                    <a:lnTo>
                      <a:pt x="4" y="356"/>
                    </a:lnTo>
                    <a:lnTo>
                      <a:pt x="4" y="334"/>
                    </a:lnTo>
                    <a:lnTo>
                      <a:pt x="2" y="321"/>
                    </a:lnTo>
                    <a:lnTo>
                      <a:pt x="0" y="307"/>
                    </a:lnTo>
                    <a:lnTo>
                      <a:pt x="0" y="296"/>
                    </a:lnTo>
                    <a:lnTo>
                      <a:pt x="2" y="285"/>
                    </a:lnTo>
                    <a:lnTo>
                      <a:pt x="2" y="261"/>
                    </a:lnTo>
                    <a:lnTo>
                      <a:pt x="6" y="239"/>
                    </a:lnTo>
                    <a:lnTo>
                      <a:pt x="6" y="226"/>
                    </a:lnTo>
                    <a:lnTo>
                      <a:pt x="6" y="212"/>
                    </a:lnTo>
                    <a:lnTo>
                      <a:pt x="9" y="199"/>
                    </a:lnTo>
                    <a:lnTo>
                      <a:pt x="11" y="186"/>
                    </a:lnTo>
                    <a:lnTo>
                      <a:pt x="17" y="161"/>
                    </a:lnTo>
                    <a:lnTo>
                      <a:pt x="29" y="139"/>
                    </a:lnTo>
                    <a:lnTo>
                      <a:pt x="31" y="126"/>
                    </a:lnTo>
                    <a:lnTo>
                      <a:pt x="35" y="113"/>
                    </a:lnTo>
                    <a:lnTo>
                      <a:pt x="42" y="102"/>
                    </a:lnTo>
                    <a:lnTo>
                      <a:pt x="48" y="90"/>
                    </a:lnTo>
                    <a:lnTo>
                      <a:pt x="60" y="68"/>
                    </a:lnTo>
                    <a:lnTo>
                      <a:pt x="73" y="46"/>
                    </a:lnTo>
                    <a:lnTo>
                      <a:pt x="82" y="33"/>
                    </a:lnTo>
                    <a:lnTo>
                      <a:pt x="93" y="20"/>
                    </a:lnTo>
                    <a:lnTo>
                      <a:pt x="104" y="6"/>
                    </a:lnTo>
                    <a:lnTo>
                      <a:pt x="119" y="0"/>
                    </a:lnTo>
                    <a:lnTo>
                      <a:pt x="133" y="6"/>
                    </a:lnTo>
                    <a:lnTo>
                      <a:pt x="148" y="17"/>
                    </a:lnTo>
                    <a:close/>
                  </a:path>
                </a:pathLst>
              </a:custGeom>
              <a:solidFill>
                <a:srgbClr val="f2c9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6863040" y="3621240"/>
                <a:ext cx="372600" cy="753120"/>
              </a:xfrm>
              <a:custGeom>
                <a:avLst/>
                <a:gdLst/>
                <a:ahLst/>
                <a:rect l="l" t="t" r="r" b="b"/>
                <a:pathLst>
                  <a:path w="260" h="492">
                    <a:moveTo>
                      <a:pt x="136" y="16"/>
                    </a:moveTo>
                    <a:lnTo>
                      <a:pt x="147" y="22"/>
                    </a:lnTo>
                    <a:lnTo>
                      <a:pt x="160" y="29"/>
                    </a:lnTo>
                    <a:lnTo>
                      <a:pt x="173" y="34"/>
                    </a:lnTo>
                    <a:lnTo>
                      <a:pt x="187" y="42"/>
                    </a:lnTo>
                    <a:lnTo>
                      <a:pt x="189" y="42"/>
                    </a:lnTo>
                    <a:lnTo>
                      <a:pt x="200" y="42"/>
                    </a:lnTo>
                    <a:lnTo>
                      <a:pt x="213" y="45"/>
                    </a:lnTo>
                    <a:lnTo>
                      <a:pt x="224" y="45"/>
                    </a:lnTo>
                    <a:lnTo>
                      <a:pt x="238" y="47"/>
                    </a:lnTo>
                    <a:lnTo>
                      <a:pt x="244" y="62"/>
                    </a:lnTo>
                    <a:lnTo>
                      <a:pt x="249" y="78"/>
                    </a:lnTo>
                    <a:lnTo>
                      <a:pt x="251" y="96"/>
                    </a:lnTo>
                    <a:lnTo>
                      <a:pt x="251" y="115"/>
                    </a:lnTo>
                    <a:lnTo>
                      <a:pt x="251" y="135"/>
                    </a:lnTo>
                    <a:lnTo>
                      <a:pt x="253" y="158"/>
                    </a:lnTo>
                    <a:lnTo>
                      <a:pt x="255" y="171"/>
                    </a:lnTo>
                    <a:lnTo>
                      <a:pt x="257" y="186"/>
                    </a:lnTo>
                    <a:lnTo>
                      <a:pt x="257" y="202"/>
                    </a:lnTo>
                    <a:lnTo>
                      <a:pt x="260" y="217"/>
                    </a:lnTo>
                    <a:lnTo>
                      <a:pt x="257" y="231"/>
                    </a:lnTo>
                    <a:lnTo>
                      <a:pt x="255" y="248"/>
                    </a:lnTo>
                    <a:lnTo>
                      <a:pt x="253" y="262"/>
                    </a:lnTo>
                    <a:lnTo>
                      <a:pt x="253" y="279"/>
                    </a:lnTo>
                    <a:lnTo>
                      <a:pt x="249" y="293"/>
                    </a:lnTo>
                    <a:lnTo>
                      <a:pt x="244" y="308"/>
                    </a:lnTo>
                    <a:lnTo>
                      <a:pt x="240" y="324"/>
                    </a:lnTo>
                    <a:lnTo>
                      <a:pt x="238" y="339"/>
                    </a:lnTo>
                    <a:lnTo>
                      <a:pt x="233" y="355"/>
                    </a:lnTo>
                    <a:lnTo>
                      <a:pt x="231" y="370"/>
                    </a:lnTo>
                    <a:lnTo>
                      <a:pt x="226" y="386"/>
                    </a:lnTo>
                    <a:lnTo>
                      <a:pt x="224" y="401"/>
                    </a:lnTo>
                    <a:lnTo>
                      <a:pt x="218" y="423"/>
                    </a:lnTo>
                    <a:lnTo>
                      <a:pt x="209" y="445"/>
                    </a:lnTo>
                    <a:lnTo>
                      <a:pt x="193" y="463"/>
                    </a:lnTo>
                    <a:lnTo>
                      <a:pt x="178" y="481"/>
                    </a:lnTo>
                    <a:lnTo>
                      <a:pt x="164" y="483"/>
                    </a:lnTo>
                    <a:lnTo>
                      <a:pt x="153" y="485"/>
                    </a:lnTo>
                    <a:lnTo>
                      <a:pt x="140" y="487"/>
                    </a:lnTo>
                    <a:lnTo>
                      <a:pt x="129" y="492"/>
                    </a:lnTo>
                    <a:lnTo>
                      <a:pt x="116" y="490"/>
                    </a:lnTo>
                    <a:lnTo>
                      <a:pt x="102" y="487"/>
                    </a:lnTo>
                    <a:lnTo>
                      <a:pt x="91" y="483"/>
                    </a:lnTo>
                    <a:lnTo>
                      <a:pt x="82" y="479"/>
                    </a:lnTo>
                    <a:lnTo>
                      <a:pt x="60" y="456"/>
                    </a:lnTo>
                    <a:lnTo>
                      <a:pt x="45" y="434"/>
                    </a:lnTo>
                    <a:lnTo>
                      <a:pt x="38" y="421"/>
                    </a:lnTo>
                    <a:lnTo>
                      <a:pt x="31" y="410"/>
                    </a:lnTo>
                    <a:lnTo>
                      <a:pt x="27" y="397"/>
                    </a:lnTo>
                    <a:lnTo>
                      <a:pt x="23" y="386"/>
                    </a:lnTo>
                    <a:lnTo>
                      <a:pt x="14" y="363"/>
                    </a:lnTo>
                    <a:lnTo>
                      <a:pt x="9" y="344"/>
                    </a:lnTo>
                    <a:lnTo>
                      <a:pt x="3" y="321"/>
                    </a:lnTo>
                    <a:lnTo>
                      <a:pt x="3" y="301"/>
                    </a:lnTo>
                    <a:lnTo>
                      <a:pt x="0" y="279"/>
                    </a:lnTo>
                    <a:lnTo>
                      <a:pt x="0" y="257"/>
                    </a:lnTo>
                    <a:lnTo>
                      <a:pt x="3" y="237"/>
                    </a:lnTo>
                    <a:lnTo>
                      <a:pt x="7" y="217"/>
                    </a:lnTo>
                    <a:lnTo>
                      <a:pt x="7" y="204"/>
                    </a:lnTo>
                    <a:lnTo>
                      <a:pt x="7" y="191"/>
                    </a:lnTo>
                    <a:lnTo>
                      <a:pt x="9" y="180"/>
                    </a:lnTo>
                    <a:lnTo>
                      <a:pt x="12" y="169"/>
                    </a:lnTo>
                    <a:lnTo>
                      <a:pt x="18" y="146"/>
                    </a:lnTo>
                    <a:lnTo>
                      <a:pt x="27" y="127"/>
                    </a:lnTo>
                    <a:lnTo>
                      <a:pt x="34" y="104"/>
                    </a:lnTo>
                    <a:lnTo>
                      <a:pt x="45" y="82"/>
                    </a:lnTo>
                    <a:lnTo>
                      <a:pt x="54" y="62"/>
                    </a:lnTo>
                    <a:lnTo>
                      <a:pt x="67" y="42"/>
                    </a:lnTo>
                    <a:lnTo>
                      <a:pt x="76" y="29"/>
                    </a:lnTo>
                    <a:lnTo>
                      <a:pt x="85" y="18"/>
                    </a:lnTo>
                    <a:lnTo>
                      <a:pt x="96" y="7"/>
                    </a:lnTo>
                    <a:lnTo>
                      <a:pt x="109" y="0"/>
                    </a:lnTo>
                    <a:lnTo>
                      <a:pt x="122" y="7"/>
                    </a:lnTo>
                    <a:lnTo>
                      <a:pt x="136" y="16"/>
                    </a:lnTo>
                    <a:close/>
                  </a:path>
                </a:pathLst>
              </a:custGeom>
              <a:solidFill>
                <a:srgbClr val="f2cc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6876720" y="3632040"/>
                <a:ext cx="333360" cy="675000"/>
              </a:xfrm>
              <a:custGeom>
                <a:avLst/>
                <a:gdLst/>
                <a:ahLst/>
                <a:rect l="l" t="t" r="r" b="b"/>
                <a:pathLst>
                  <a:path w="233" h="441">
                    <a:moveTo>
                      <a:pt x="122" y="13"/>
                    </a:moveTo>
                    <a:lnTo>
                      <a:pt x="131" y="18"/>
                    </a:lnTo>
                    <a:lnTo>
                      <a:pt x="144" y="24"/>
                    </a:lnTo>
                    <a:lnTo>
                      <a:pt x="155" y="29"/>
                    </a:lnTo>
                    <a:lnTo>
                      <a:pt x="166" y="38"/>
                    </a:lnTo>
                    <a:lnTo>
                      <a:pt x="166" y="35"/>
                    </a:lnTo>
                    <a:lnTo>
                      <a:pt x="169" y="38"/>
                    </a:lnTo>
                    <a:lnTo>
                      <a:pt x="169" y="35"/>
                    </a:lnTo>
                    <a:lnTo>
                      <a:pt x="191" y="40"/>
                    </a:lnTo>
                    <a:lnTo>
                      <a:pt x="213" y="40"/>
                    </a:lnTo>
                    <a:lnTo>
                      <a:pt x="217" y="53"/>
                    </a:lnTo>
                    <a:lnTo>
                      <a:pt x="224" y="71"/>
                    </a:lnTo>
                    <a:lnTo>
                      <a:pt x="224" y="84"/>
                    </a:lnTo>
                    <a:lnTo>
                      <a:pt x="226" y="102"/>
                    </a:lnTo>
                    <a:lnTo>
                      <a:pt x="226" y="120"/>
                    </a:lnTo>
                    <a:lnTo>
                      <a:pt x="228" y="139"/>
                    </a:lnTo>
                    <a:lnTo>
                      <a:pt x="228" y="153"/>
                    </a:lnTo>
                    <a:lnTo>
                      <a:pt x="231" y="166"/>
                    </a:lnTo>
                    <a:lnTo>
                      <a:pt x="231" y="179"/>
                    </a:lnTo>
                    <a:lnTo>
                      <a:pt x="233" y="195"/>
                    </a:lnTo>
                    <a:lnTo>
                      <a:pt x="231" y="208"/>
                    </a:lnTo>
                    <a:lnTo>
                      <a:pt x="228" y="221"/>
                    </a:lnTo>
                    <a:lnTo>
                      <a:pt x="226" y="235"/>
                    </a:lnTo>
                    <a:lnTo>
                      <a:pt x="226" y="250"/>
                    </a:lnTo>
                    <a:lnTo>
                      <a:pt x="222" y="263"/>
                    </a:lnTo>
                    <a:lnTo>
                      <a:pt x="220" y="277"/>
                    </a:lnTo>
                    <a:lnTo>
                      <a:pt x="215" y="290"/>
                    </a:lnTo>
                    <a:lnTo>
                      <a:pt x="213" y="306"/>
                    </a:lnTo>
                    <a:lnTo>
                      <a:pt x="208" y="319"/>
                    </a:lnTo>
                    <a:lnTo>
                      <a:pt x="206" y="332"/>
                    </a:lnTo>
                    <a:lnTo>
                      <a:pt x="202" y="345"/>
                    </a:lnTo>
                    <a:lnTo>
                      <a:pt x="202" y="361"/>
                    </a:lnTo>
                    <a:lnTo>
                      <a:pt x="195" y="381"/>
                    </a:lnTo>
                    <a:lnTo>
                      <a:pt x="186" y="401"/>
                    </a:lnTo>
                    <a:lnTo>
                      <a:pt x="173" y="416"/>
                    </a:lnTo>
                    <a:lnTo>
                      <a:pt x="160" y="432"/>
                    </a:lnTo>
                    <a:lnTo>
                      <a:pt x="138" y="436"/>
                    </a:lnTo>
                    <a:lnTo>
                      <a:pt x="115" y="441"/>
                    </a:lnTo>
                    <a:lnTo>
                      <a:pt x="93" y="438"/>
                    </a:lnTo>
                    <a:lnTo>
                      <a:pt x="76" y="430"/>
                    </a:lnTo>
                    <a:lnTo>
                      <a:pt x="56" y="410"/>
                    </a:lnTo>
                    <a:lnTo>
                      <a:pt x="40" y="390"/>
                    </a:lnTo>
                    <a:lnTo>
                      <a:pt x="27" y="368"/>
                    </a:lnTo>
                    <a:lnTo>
                      <a:pt x="20" y="345"/>
                    </a:lnTo>
                    <a:lnTo>
                      <a:pt x="13" y="325"/>
                    </a:lnTo>
                    <a:lnTo>
                      <a:pt x="7" y="308"/>
                    </a:lnTo>
                    <a:lnTo>
                      <a:pt x="2" y="288"/>
                    </a:lnTo>
                    <a:lnTo>
                      <a:pt x="2" y="270"/>
                    </a:lnTo>
                    <a:lnTo>
                      <a:pt x="0" y="250"/>
                    </a:lnTo>
                    <a:lnTo>
                      <a:pt x="0" y="232"/>
                    </a:lnTo>
                    <a:lnTo>
                      <a:pt x="0" y="213"/>
                    </a:lnTo>
                    <a:lnTo>
                      <a:pt x="5" y="195"/>
                    </a:lnTo>
                    <a:lnTo>
                      <a:pt x="5" y="170"/>
                    </a:lnTo>
                    <a:lnTo>
                      <a:pt x="9" y="151"/>
                    </a:lnTo>
                    <a:lnTo>
                      <a:pt x="13" y="131"/>
                    </a:lnTo>
                    <a:lnTo>
                      <a:pt x="22" y="111"/>
                    </a:lnTo>
                    <a:lnTo>
                      <a:pt x="29" y="91"/>
                    </a:lnTo>
                    <a:lnTo>
                      <a:pt x="40" y="73"/>
                    </a:lnTo>
                    <a:lnTo>
                      <a:pt x="49" y="55"/>
                    </a:lnTo>
                    <a:lnTo>
                      <a:pt x="60" y="38"/>
                    </a:lnTo>
                    <a:lnTo>
                      <a:pt x="67" y="27"/>
                    </a:lnTo>
                    <a:lnTo>
                      <a:pt x="76" y="15"/>
                    </a:lnTo>
                    <a:lnTo>
                      <a:pt x="84" y="4"/>
                    </a:lnTo>
                    <a:lnTo>
                      <a:pt x="98" y="0"/>
                    </a:lnTo>
                    <a:lnTo>
                      <a:pt x="109" y="4"/>
                    </a:lnTo>
                    <a:lnTo>
                      <a:pt x="122" y="13"/>
                    </a:lnTo>
                    <a:close/>
                  </a:path>
                </a:pathLst>
              </a:custGeom>
              <a:solidFill>
                <a:srgbClr val="f5c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6889320" y="3638520"/>
                <a:ext cx="295200" cy="604080"/>
              </a:xfrm>
              <a:custGeom>
                <a:avLst/>
                <a:gdLst/>
                <a:ahLst/>
                <a:rect l="l" t="t" r="r" b="b"/>
                <a:pathLst>
                  <a:path w="206" h="395">
                    <a:moveTo>
                      <a:pt x="108" y="14"/>
                    </a:moveTo>
                    <a:lnTo>
                      <a:pt x="126" y="25"/>
                    </a:lnTo>
                    <a:lnTo>
                      <a:pt x="148" y="36"/>
                    </a:lnTo>
                    <a:lnTo>
                      <a:pt x="148" y="34"/>
                    </a:lnTo>
                    <a:lnTo>
                      <a:pt x="148" y="36"/>
                    </a:lnTo>
                    <a:lnTo>
                      <a:pt x="148" y="34"/>
                    </a:lnTo>
                    <a:lnTo>
                      <a:pt x="151" y="34"/>
                    </a:lnTo>
                    <a:lnTo>
                      <a:pt x="168" y="36"/>
                    </a:lnTo>
                    <a:lnTo>
                      <a:pt x="190" y="38"/>
                    </a:lnTo>
                    <a:lnTo>
                      <a:pt x="193" y="49"/>
                    </a:lnTo>
                    <a:lnTo>
                      <a:pt x="197" y="62"/>
                    </a:lnTo>
                    <a:lnTo>
                      <a:pt x="197" y="76"/>
                    </a:lnTo>
                    <a:lnTo>
                      <a:pt x="199" y="93"/>
                    </a:lnTo>
                    <a:lnTo>
                      <a:pt x="199" y="109"/>
                    </a:lnTo>
                    <a:lnTo>
                      <a:pt x="202" y="127"/>
                    </a:lnTo>
                    <a:lnTo>
                      <a:pt x="202" y="138"/>
                    </a:lnTo>
                    <a:lnTo>
                      <a:pt x="204" y="151"/>
                    </a:lnTo>
                    <a:lnTo>
                      <a:pt x="204" y="162"/>
                    </a:lnTo>
                    <a:lnTo>
                      <a:pt x="206" y="175"/>
                    </a:lnTo>
                    <a:lnTo>
                      <a:pt x="204" y="186"/>
                    </a:lnTo>
                    <a:lnTo>
                      <a:pt x="202" y="200"/>
                    </a:lnTo>
                    <a:lnTo>
                      <a:pt x="199" y="211"/>
                    </a:lnTo>
                    <a:lnTo>
                      <a:pt x="199" y="224"/>
                    </a:lnTo>
                    <a:lnTo>
                      <a:pt x="195" y="235"/>
                    </a:lnTo>
                    <a:lnTo>
                      <a:pt x="193" y="248"/>
                    </a:lnTo>
                    <a:lnTo>
                      <a:pt x="190" y="259"/>
                    </a:lnTo>
                    <a:lnTo>
                      <a:pt x="188" y="273"/>
                    </a:lnTo>
                    <a:lnTo>
                      <a:pt x="184" y="284"/>
                    </a:lnTo>
                    <a:lnTo>
                      <a:pt x="182" y="297"/>
                    </a:lnTo>
                    <a:lnTo>
                      <a:pt x="179" y="310"/>
                    </a:lnTo>
                    <a:lnTo>
                      <a:pt x="179" y="324"/>
                    </a:lnTo>
                    <a:lnTo>
                      <a:pt x="173" y="339"/>
                    </a:lnTo>
                    <a:lnTo>
                      <a:pt x="166" y="357"/>
                    </a:lnTo>
                    <a:lnTo>
                      <a:pt x="153" y="372"/>
                    </a:lnTo>
                    <a:lnTo>
                      <a:pt x="139" y="386"/>
                    </a:lnTo>
                    <a:lnTo>
                      <a:pt x="120" y="390"/>
                    </a:lnTo>
                    <a:lnTo>
                      <a:pt x="102" y="395"/>
                    </a:lnTo>
                    <a:lnTo>
                      <a:pt x="82" y="392"/>
                    </a:lnTo>
                    <a:lnTo>
                      <a:pt x="66" y="383"/>
                    </a:lnTo>
                    <a:lnTo>
                      <a:pt x="49" y="366"/>
                    </a:lnTo>
                    <a:lnTo>
                      <a:pt x="35" y="348"/>
                    </a:lnTo>
                    <a:lnTo>
                      <a:pt x="24" y="328"/>
                    </a:lnTo>
                    <a:lnTo>
                      <a:pt x="18" y="310"/>
                    </a:lnTo>
                    <a:lnTo>
                      <a:pt x="11" y="293"/>
                    </a:lnTo>
                    <a:lnTo>
                      <a:pt x="7" y="275"/>
                    </a:lnTo>
                    <a:lnTo>
                      <a:pt x="2" y="257"/>
                    </a:lnTo>
                    <a:lnTo>
                      <a:pt x="2" y="242"/>
                    </a:lnTo>
                    <a:lnTo>
                      <a:pt x="0" y="224"/>
                    </a:lnTo>
                    <a:lnTo>
                      <a:pt x="0" y="209"/>
                    </a:lnTo>
                    <a:lnTo>
                      <a:pt x="0" y="191"/>
                    </a:lnTo>
                    <a:lnTo>
                      <a:pt x="4" y="175"/>
                    </a:lnTo>
                    <a:lnTo>
                      <a:pt x="4" y="155"/>
                    </a:lnTo>
                    <a:lnTo>
                      <a:pt x="9" y="135"/>
                    </a:lnTo>
                    <a:lnTo>
                      <a:pt x="13" y="118"/>
                    </a:lnTo>
                    <a:lnTo>
                      <a:pt x="20" y="100"/>
                    </a:lnTo>
                    <a:lnTo>
                      <a:pt x="27" y="82"/>
                    </a:lnTo>
                    <a:lnTo>
                      <a:pt x="33" y="67"/>
                    </a:lnTo>
                    <a:lnTo>
                      <a:pt x="42" y="49"/>
                    </a:lnTo>
                    <a:lnTo>
                      <a:pt x="53" y="36"/>
                    </a:lnTo>
                    <a:lnTo>
                      <a:pt x="66" y="14"/>
                    </a:lnTo>
                    <a:lnTo>
                      <a:pt x="86" y="0"/>
                    </a:lnTo>
                    <a:lnTo>
                      <a:pt x="97" y="5"/>
                    </a:lnTo>
                    <a:lnTo>
                      <a:pt x="108" y="14"/>
                    </a:lnTo>
                    <a:close/>
                  </a:path>
                </a:pathLst>
              </a:custGeom>
              <a:solidFill>
                <a:srgbClr val="f5d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6905160" y="3648960"/>
                <a:ext cx="253440" cy="524880"/>
              </a:xfrm>
              <a:custGeom>
                <a:avLst/>
                <a:gdLst/>
                <a:ahLst/>
                <a:rect l="l" t="t" r="r" b="b"/>
                <a:pathLst>
                  <a:path w="177" h="343">
                    <a:moveTo>
                      <a:pt x="93" y="11"/>
                    </a:moveTo>
                    <a:lnTo>
                      <a:pt x="110" y="20"/>
                    </a:lnTo>
                    <a:lnTo>
                      <a:pt x="128" y="29"/>
                    </a:lnTo>
                    <a:lnTo>
                      <a:pt x="130" y="29"/>
                    </a:lnTo>
                    <a:lnTo>
                      <a:pt x="146" y="31"/>
                    </a:lnTo>
                    <a:lnTo>
                      <a:pt x="166" y="33"/>
                    </a:lnTo>
                    <a:lnTo>
                      <a:pt x="168" y="42"/>
                    </a:lnTo>
                    <a:lnTo>
                      <a:pt x="172" y="53"/>
                    </a:lnTo>
                    <a:lnTo>
                      <a:pt x="172" y="66"/>
                    </a:lnTo>
                    <a:lnTo>
                      <a:pt x="172" y="80"/>
                    </a:lnTo>
                    <a:lnTo>
                      <a:pt x="172" y="95"/>
                    </a:lnTo>
                    <a:lnTo>
                      <a:pt x="175" y="111"/>
                    </a:lnTo>
                    <a:lnTo>
                      <a:pt x="177" y="131"/>
                    </a:lnTo>
                    <a:lnTo>
                      <a:pt x="177" y="153"/>
                    </a:lnTo>
                    <a:lnTo>
                      <a:pt x="175" y="173"/>
                    </a:lnTo>
                    <a:lnTo>
                      <a:pt x="175" y="195"/>
                    </a:lnTo>
                    <a:lnTo>
                      <a:pt x="168" y="215"/>
                    </a:lnTo>
                    <a:lnTo>
                      <a:pt x="164" y="237"/>
                    </a:lnTo>
                    <a:lnTo>
                      <a:pt x="159" y="259"/>
                    </a:lnTo>
                    <a:lnTo>
                      <a:pt x="155" y="281"/>
                    </a:lnTo>
                    <a:lnTo>
                      <a:pt x="150" y="297"/>
                    </a:lnTo>
                    <a:lnTo>
                      <a:pt x="144" y="312"/>
                    </a:lnTo>
                    <a:lnTo>
                      <a:pt x="133" y="323"/>
                    </a:lnTo>
                    <a:lnTo>
                      <a:pt x="121" y="337"/>
                    </a:lnTo>
                    <a:lnTo>
                      <a:pt x="104" y="339"/>
                    </a:lnTo>
                    <a:lnTo>
                      <a:pt x="88" y="343"/>
                    </a:lnTo>
                    <a:lnTo>
                      <a:pt x="71" y="341"/>
                    </a:lnTo>
                    <a:lnTo>
                      <a:pt x="57" y="334"/>
                    </a:lnTo>
                    <a:lnTo>
                      <a:pt x="42" y="319"/>
                    </a:lnTo>
                    <a:lnTo>
                      <a:pt x="31" y="303"/>
                    </a:lnTo>
                    <a:lnTo>
                      <a:pt x="22" y="286"/>
                    </a:lnTo>
                    <a:lnTo>
                      <a:pt x="15" y="270"/>
                    </a:lnTo>
                    <a:lnTo>
                      <a:pt x="9" y="255"/>
                    </a:lnTo>
                    <a:lnTo>
                      <a:pt x="6" y="239"/>
                    </a:lnTo>
                    <a:lnTo>
                      <a:pt x="2" y="224"/>
                    </a:lnTo>
                    <a:lnTo>
                      <a:pt x="2" y="210"/>
                    </a:lnTo>
                    <a:lnTo>
                      <a:pt x="0" y="195"/>
                    </a:lnTo>
                    <a:lnTo>
                      <a:pt x="0" y="179"/>
                    </a:lnTo>
                    <a:lnTo>
                      <a:pt x="0" y="164"/>
                    </a:lnTo>
                    <a:lnTo>
                      <a:pt x="2" y="151"/>
                    </a:lnTo>
                    <a:lnTo>
                      <a:pt x="2" y="133"/>
                    </a:lnTo>
                    <a:lnTo>
                      <a:pt x="6" y="117"/>
                    </a:lnTo>
                    <a:lnTo>
                      <a:pt x="11" y="100"/>
                    </a:lnTo>
                    <a:lnTo>
                      <a:pt x="17" y="86"/>
                    </a:lnTo>
                    <a:lnTo>
                      <a:pt x="22" y="71"/>
                    </a:lnTo>
                    <a:lnTo>
                      <a:pt x="28" y="58"/>
                    </a:lnTo>
                    <a:lnTo>
                      <a:pt x="37" y="42"/>
                    </a:lnTo>
                    <a:lnTo>
                      <a:pt x="46" y="29"/>
                    </a:lnTo>
                    <a:lnTo>
                      <a:pt x="57" y="11"/>
                    </a:lnTo>
                    <a:lnTo>
                      <a:pt x="75" y="0"/>
                    </a:lnTo>
                    <a:lnTo>
                      <a:pt x="84" y="4"/>
                    </a:lnTo>
                    <a:lnTo>
                      <a:pt x="93" y="11"/>
                    </a:lnTo>
                    <a:close/>
                  </a:path>
                </a:pathLst>
              </a:custGeom>
              <a:solidFill>
                <a:srgbClr val="f5d4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6915240" y="3655080"/>
                <a:ext cx="218880" cy="451440"/>
              </a:xfrm>
              <a:custGeom>
                <a:avLst/>
                <a:gdLst/>
                <a:ahLst/>
                <a:rect l="l" t="t" r="r" b="b"/>
                <a:pathLst>
                  <a:path w="153" h="295">
                    <a:moveTo>
                      <a:pt x="80" y="12"/>
                    </a:moveTo>
                    <a:lnTo>
                      <a:pt x="96" y="18"/>
                    </a:lnTo>
                    <a:lnTo>
                      <a:pt x="111" y="27"/>
                    </a:lnTo>
                    <a:lnTo>
                      <a:pt x="111" y="27"/>
                    </a:lnTo>
                    <a:lnTo>
                      <a:pt x="127" y="29"/>
                    </a:lnTo>
                    <a:lnTo>
                      <a:pt x="142" y="31"/>
                    </a:lnTo>
                    <a:lnTo>
                      <a:pt x="144" y="38"/>
                    </a:lnTo>
                    <a:lnTo>
                      <a:pt x="149" y="49"/>
                    </a:lnTo>
                    <a:lnTo>
                      <a:pt x="149" y="58"/>
                    </a:lnTo>
                    <a:lnTo>
                      <a:pt x="149" y="71"/>
                    </a:lnTo>
                    <a:lnTo>
                      <a:pt x="149" y="82"/>
                    </a:lnTo>
                    <a:lnTo>
                      <a:pt x="151" y="96"/>
                    </a:lnTo>
                    <a:lnTo>
                      <a:pt x="151" y="113"/>
                    </a:lnTo>
                    <a:lnTo>
                      <a:pt x="153" y="131"/>
                    </a:lnTo>
                    <a:lnTo>
                      <a:pt x="151" y="149"/>
                    </a:lnTo>
                    <a:lnTo>
                      <a:pt x="149" y="169"/>
                    </a:lnTo>
                    <a:lnTo>
                      <a:pt x="144" y="186"/>
                    </a:lnTo>
                    <a:lnTo>
                      <a:pt x="140" y="204"/>
                    </a:lnTo>
                    <a:lnTo>
                      <a:pt x="136" y="222"/>
                    </a:lnTo>
                    <a:lnTo>
                      <a:pt x="133" y="242"/>
                    </a:lnTo>
                    <a:lnTo>
                      <a:pt x="129" y="255"/>
                    </a:lnTo>
                    <a:lnTo>
                      <a:pt x="124" y="268"/>
                    </a:lnTo>
                    <a:lnTo>
                      <a:pt x="116" y="279"/>
                    </a:lnTo>
                    <a:lnTo>
                      <a:pt x="104" y="291"/>
                    </a:lnTo>
                    <a:lnTo>
                      <a:pt x="89" y="293"/>
                    </a:lnTo>
                    <a:lnTo>
                      <a:pt x="76" y="295"/>
                    </a:lnTo>
                    <a:lnTo>
                      <a:pt x="60" y="293"/>
                    </a:lnTo>
                    <a:lnTo>
                      <a:pt x="49" y="288"/>
                    </a:lnTo>
                    <a:lnTo>
                      <a:pt x="36" y="275"/>
                    </a:lnTo>
                    <a:lnTo>
                      <a:pt x="27" y="262"/>
                    </a:lnTo>
                    <a:lnTo>
                      <a:pt x="18" y="246"/>
                    </a:lnTo>
                    <a:lnTo>
                      <a:pt x="11" y="233"/>
                    </a:lnTo>
                    <a:lnTo>
                      <a:pt x="7" y="220"/>
                    </a:lnTo>
                    <a:lnTo>
                      <a:pt x="5" y="206"/>
                    </a:lnTo>
                    <a:lnTo>
                      <a:pt x="0" y="193"/>
                    </a:lnTo>
                    <a:lnTo>
                      <a:pt x="0" y="182"/>
                    </a:lnTo>
                    <a:lnTo>
                      <a:pt x="0" y="169"/>
                    </a:lnTo>
                    <a:lnTo>
                      <a:pt x="0" y="155"/>
                    </a:lnTo>
                    <a:lnTo>
                      <a:pt x="0" y="142"/>
                    </a:lnTo>
                    <a:lnTo>
                      <a:pt x="3" y="131"/>
                    </a:lnTo>
                    <a:lnTo>
                      <a:pt x="3" y="116"/>
                    </a:lnTo>
                    <a:lnTo>
                      <a:pt x="5" y="102"/>
                    </a:lnTo>
                    <a:lnTo>
                      <a:pt x="7" y="89"/>
                    </a:lnTo>
                    <a:lnTo>
                      <a:pt x="14" y="76"/>
                    </a:lnTo>
                    <a:lnTo>
                      <a:pt x="18" y="62"/>
                    </a:lnTo>
                    <a:lnTo>
                      <a:pt x="25" y="51"/>
                    </a:lnTo>
                    <a:lnTo>
                      <a:pt x="31" y="38"/>
                    </a:lnTo>
                    <a:lnTo>
                      <a:pt x="38" y="27"/>
                    </a:lnTo>
                    <a:lnTo>
                      <a:pt x="49" y="12"/>
                    </a:lnTo>
                    <a:lnTo>
                      <a:pt x="65" y="0"/>
                    </a:lnTo>
                    <a:lnTo>
                      <a:pt x="71" y="5"/>
                    </a:lnTo>
                    <a:lnTo>
                      <a:pt x="80" y="12"/>
                    </a:lnTo>
                    <a:close/>
                  </a:path>
                </a:pathLst>
              </a:custGeom>
              <a:solidFill>
                <a:srgbClr val="f7d9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7133760" y="3587760"/>
                <a:ext cx="206280" cy="454680"/>
              </a:xfrm>
              <a:custGeom>
                <a:avLst/>
                <a:gdLst/>
                <a:ahLst/>
                <a:rect l="l" t="t" r="r" b="b"/>
                <a:pathLst>
                  <a:path w="144" h="297">
                    <a:moveTo>
                      <a:pt x="144" y="13"/>
                    </a:moveTo>
                    <a:lnTo>
                      <a:pt x="131" y="36"/>
                    </a:lnTo>
                    <a:lnTo>
                      <a:pt x="120" y="60"/>
                    </a:lnTo>
                    <a:lnTo>
                      <a:pt x="104" y="82"/>
                    </a:lnTo>
                    <a:lnTo>
                      <a:pt x="89" y="104"/>
                    </a:lnTo>
                    <a:lnTo>
                      <a:pt x="71" y="124"/>
                    </a:lnTo>
                    <a:lnTo>
                      <a:pt x="58" y="146"/>
                    </a:lnTo>
                    <a:lnTo>
                      <a:pt x="51" y="157"/>
                    </a:lnTo>
                    <a:lnTo>
                      <a:pt x="45" y="168"/>
                    </a:lnTo>
                    <a:lnTo>
                      <a:pt x="40" y="182"/>
                    </a:lnTo>
                    <a:lnTo>
                      <a:pt x="38" y="195"/>
                    </a:lnTo>
                    <a:lnTo>
                      <a:pt x="34" y="208"/>
                    </a:lnTo>
                    <a:lnTo>
                      <a:pt x="31" y="222"/>
                    </a:lnTo>
                    <a:lnTo>
                      <a:pt x="27" y="235"/>
                    </a:lnTo>
                    <a:lnTo>
                      <a:pt x="25" y="248"/>
                    </a:lnTo>
                    <a:lnTo>
                      <a:pt x="20" y="259"/>
                    </a:lnTo>
                    <a:lnTo>
                      <a:pt x="16" y="273"/>
                    </a:lnTo>
                    <a:lnTo>
                      <a:pt x="11" y="284"/>
                    </a:lnTo>
                    <a:lnTo>
                      <a:pt x="7" y="297"/>
                    </a:lnTo>
                    <a:lnTo>
                      <a:pt x="3" y="297"/>
                    </a:lnTo>
                    <a:lnTo>
                      <a:pt x="0" y="277"/>
                    </a:lnTo>
                    <a:lnTo>
                      <a:pt x="3" y="261"/>
                    </a:lnTo>
                    <a:lnTo>
                      <a:pt x="5" y="244"/>
                    </a:lnTo>
                    <a:lnTo>
                      <a:pt x="11" y="228"/>
                    </a:lnTo>
                    <a:lnTo>
                      <a:pt x="14" y="211"/>
                    </a:lnTo>
                    <a:lnTo>
                      <a:pt x="20" y="197"/>
                    </a:lnTo>
                    <a:lnTo>
                      <a:pt x="25" y="180"/>
                    </a:lnTo>
                    <a:lnTo>
                      <a:pt x="29" y="166"/>
                    </a:lnTo>
                    <a:lnTo>
                      <a:pt x="29" y="153"/>
                    </a:lnTo>
                    <a:lnTo>
                      <a:pt x="36" y="142"/>
                    </a:lnTo>
                    <a:lnTo>
                      <a:pt x="42" y="129"/>
                    </a:lnTo>
                    <a:lnTo>
                      <a:pt x="49" y="120"/>
                    </a:lnTo>
                    <a:lnTo>
                      <a:pt x="65" y="100"/>
                    </a:lnTo>
                    <a:lnTo>
                      <a:pt x="82" y="82"/>
                    </a:lnTo>
                    <a:lnTo>
                      <a:pt x="98" y="62"/>
                    </a:lnTo>
                    <a:lnTo>
                      <a:pt x="113" y="44"/>
                    </a:lnTo>
                    <a:lnTo>
                      <a:pt x="127" y="22"/>
                    </a:lnTo>
                    <a:lnTo>
                      <a:pt x="136" y="0"/>
                    </a:lnTo>
                    <a:lnTo>
                      <a:pt x="140" y="0"/>
                    </a:lnTo>
                    <a:lnTo>
                      <a:pt x="144" y="0"/>
                    </a:lnTo>
                    <a:lnTo>
                      <a:pt x="144" y="13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7095600" y="3618360"/>
                <a:ext cx="196560" cy="630360"/>
              </a:xfrm>
              <a:custGeom>
                <a:avLst/>
                <a:gdLst/>
                <a:ahLst/>
                <a:rect l="l" t="t" r="r" b="b"/>
                <a:pathLst>
                  <a:path w="137" h="412">
                    <a:moveTo>
                      <a:pt x="137" y="11"/>
                    </a:moveTo>
                    <a:lnTo>
                      <a:pt x="135" y="29"/>
                    </a:lnTo>
                    <a:lnTo>
                      <a:pt x="130" y="49"/>
                    </a:lnTo>
                    <a:lnTo>
                      <a:pt x="124" y="64"/>
                    </a:lnTo>
                    <a:lnTo>
                      <a:pt x="113" y="80"/>
                    </a:lnTo>
                    <a:lnTo>
                      <a:pt x="106" y="102"/>
                    </a:lnTo>
                    <a:lnTo>
                      <a:pt x="95" y="124"/>
                    </a:lnTo>
                    <a:lnTo>
                      <a:pt x="84" y="146"/>
                    </a:lnTo>
                    <a:lnTo>
                      <a:pt x="73" y="168"/>
                    </a:lnTo>
                    <a:lnTo>
                      <a:pt x="70" y="182"/>
                    </a:lnTo>
                    <a:lnTo>
                      <a:pt x="70" y="195"/>
                    </a:lnTo>
                    <a:lnTo>
                      <a:pt x="66" y="208"/>
                    </a:lnTo>
                    <a:lnTo>
                      <a:pt x="64" y="222"/>
                    </a:lnTo>
                    <a:lnTo>
                      <a:pt x="53" y="244"/>
                    </a:lnTo>
                    <a:lnTo>
                      <a:pt x="44" y="268"/>
                    </a:lnTo>
                    <a:lnTo>
                      <a:pt x="42" y="288"/>
                    </a:lnTo>
                    <a:lnTo>
                      <a:pt x="37" y="310"/>
                    </a:lnTo>
                    <a:lnTo>
                      <a:pt x="28" y="328"/>
                    </a:lnTo>
                    <a:lnTo>
                      <a:pt x="20" y="348"/>
                    </a:lnTo>
                    <a:lnTo>
                      <a:pt x="15" y="361"/>
                    </a:lnTo>
                    <a:lnTo>
                      <a:pt x="13" y="377"/>
                    </a:lnTo>
                    <a:lnTo>
                      <a:pt x="11" y="390"/>
                    </a:lnTo>
                    <a:lnTo>
                      <a:pt x="15" y="405"/>
                    </a:lnTo>
                    <a:lnTo>
                      <a:pt x="13" y="412"/>
                    </a:lnTo>
                    <a:lnTo>
                      <a:pt x="6" y="394"/>
                    </a:lnTo>
                    <a:lnTo>
                      <a:pt x="6" y="377"/>
                    </a:lnTo>
                    <a:lnTo>
                      <a:pt x="0" y="357"/>
                    </a:lnTo>
                    <a:lnTo>
                      <a:pt x="0" y="337"/>
                    </a:lnTo>
                    <a:lnTo>
                      <a:pt x="0" y="317"/>
                    </a:lnTo>
                    <a:lnTo>
                      <a:pt x="6" y="297"/>
                    </a:lnTo>
                    <a:lnTo>
                      <a:pt x="11" y="277"/>
                    </a:lnTo>
                    <a:lnTo>
                      <a:pt x="17" y="259"/>
                    </a:lnTo>
                    <a:lnTo>
                      <a:pt x="24" y="241"/>
                    </a:lnTo>
                    <a:lnTo>
                      <a:pt x="33" y="224"/>
                    </a:lnTo>
                    <a:lnTo>
                      <a:pt x="35" y="202"/>
                    </a:lnTo>
                    <a:lnTo>
                      <a:pt x="35" y="182"/>
                    </a:lnTo>
                    <a:lnTo>
                      <a:pt x="33" y="162"/>
                    </a:lnTo>
                    <a:lnTo>
                      <a:pt x="42" y="144"/>
                    </a:lnTo>
                    <a:lnTo>
                      <a:pt x="48" y="124"/>
                    </a:lnTo>
                    <a:lnTo>
                      <a:pt x="62" y="109"/>
                    </a:lnTo>
                    <a:lnTo>
                      <a:pt x="73" y="91"/>
                    </a:lnTo>
                    <a:lnTo>
                      <a:pt x="88" y="75"/>
                    </a:lnTo>
                    <a:lnTo>
                      <a:pt x="99" y="58"/>
                    </a:lnTo>
                    <a:lnTo>
                      <a:pt x="110" y="40"/>
                    </a:lnTo>
                    <a:lnTo>
                      <a:pt x="117" y="20"/>
                    </a:lnTo>
                    <a:lnTo>
                      <a:pt x="121" y="2"/>
                    </a:lnTo>
                    <a:lnTo>
                      <a:pt x="130" y="0"/>
                    </a:lnTo>
                    <a:lnTo>
                      <a:pt x="137" y="11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7105320" y="3635280"/>
                <a:ext cx="177480" cy="546120"/>
              </a:xfrm>
              <a:custGeom>
                <a:avLst/>
                <a:gdLst/>
                <a:ahLst/>
                <a:rect l="l" t="t" r="r" b="b"/>
                <a:pathLst>
                  <a:path w="124" h="357">
                    <a:moveTo>
                      <a:pt x="100" y="69"/>
                    </a:moveTo>
                    <a:lnTo>
                      <a:pt x="98" y="80"/>
                    </a:lnTo>
                    <a:lnTo>
                      <a:pt x="96" y="91"/>
                    </a:lnTo>
                    <a:lnTo>
                      <a:pt x="89" y="102"/>
                    </a:lnTo>
                    <a:lnTo>
                      <a:pt x="84" y="115"/>
                    </a:lnTo>
                    <a:lnTo>
                      <a:pt x="71" y="135"/>
                    </a:lnTo>
                    <a:lnTo>
                      <a:pt x="60" y="160"/>
                    </a:lnTo>
                    <a:lnTo>
                      <a:pt x="58" y="171"/>
                    </a:lnTo>
                    <a:lnTo>
                      <a:pt x="58" y="184"/>
                    </a:lnTo>
                    <a:lnTo>
                      <a:pt x="56" y="197"/>
                    </a:lnTo>
                    <a:lnTo>
                      <a:pt x="53" y="211"/>
                    </a:lnTo>
                    <a:lnTo>
                      <a:pt x="42" y="233"/>
                    </a:lnTo>
                    <a:lnTo>
                      <a:pt x="33" y="257"/>
                    </a:lnTo>
                    <a:lnTo>
                      <a:pt x="33" y="270"/>
                    </a:lnTo>
                    <a:lnTo>
                      <a:pt x="31" y="284"/>
                    </a:lnTo>
                    <a:lnTo>
                      <a:pt x="27" y="295"/>
                    </a:lnTo>
                    <a:lnTo>
                      <a:pt x="22" y="308"/>
                    </a:lnTo>
                    <a:lnTo>
                      <a:pt x="16" y="317"/>
                    </a:lnTo>
                    <a:lnTo>
                      <a:pt x="9" y="330"/>
                    </a:lnTo>
                    <a:lnTo>
                      <a:pt x="5" y="341"/>
                    </a:lnTo>
                    <a:lnTo>
                      <a:pt x="5" y="357"/>
                    </a:lnTo>
                    <a:lnTo>
                      <a:pt x="0" y="343"/>
                    </a:lnTo>
                    <a:lnTo>
                      <a:pt x="0" y="330"/>
                    </a:lnTo>
                    <a:lnTo>
                      <a:pt x="0" y="319"/>
                    </a:lnTo>
                    <a:lnTo>
                      <a:pt x="2" y="308"/>
                    </a:lnTo>
                    <a:lnTo>
                      <a:pt x="7" y="284"/>
                    </a:lnTo>
                    <a:lnTo>
                      <a:pt x="14" y="264"/>
                    </a:lnTo>
                    <a:lnTo>
                      <a:pt x="20" y="242"/>
                    </a:lnTo>
                    <a:lnTo>
                      <a:pt x="27" y="222"/>
                    </a:lnTo>
                    <a:lnTo>
                      <a:pt x="31" y="199"/>
                    </a:lnTo>
                    <a:lnTo>
                      <a:pt x="36" y="180"/>
                    </a:lnTo>
                    <a:lnTo>
                      <a:pt x="33" y="166"/>
                    </a:lnTo>
                    <a:lnTo>
                      <a:pt x="33" y="153"/>
                    </a:lnTo>
                    <a:lnTo>
                      <a:pt x="36" y="140"/>
                    </a:lnTo>
                    <a:lnTo>
                      <a:pt x="42" y="129"/>
                    </a:lnTo>
                    <a:lnTo>
                      <a:pt x="56" y="106"/>
                    </a:lnTo>
                    <a:lnTo>
                      <a:pt x="73" y="87"/>
                    </a:lnTo>
                    <a:lnTo>
                      <a:pt x="87" y="64"/>
                    </a:lnTo>
                    <a:lnTo>
                      <a:pt x="104" y="44"/>
                    </a:lnTo>
                    <a:lnTo>
                      <a:pt x="115" y="22"/>
                    </a:lnTo>
                    <a:lnTo>
                      <a:pt x="124" y="0"/>
                    </a:lnTo>
                    <a:lnTo>
                      <a:pt x="124" y="18"/>
                    </a:lnTo>
                    <a:lnTo>
                      <a:pt x="118" y="36"/>
                    </a:lnTo>
                    <a:lnTo>
                      <a:pt x="109" y="51"/>
                    </a:lnTo>
                    <a:lnTo>
                      <a:pt x="100" y="69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7029720" y="3635280"/>
                <a:ext cx="138600" cy="465120"/>
              </a:xfrm>
              <a:custGeom>
                <a:avLst/>
                <a:gdLst/>
                <a:ahLst/>
                <a:rect l="l" t="t" r="r" b="b"/>
                <a:pathLst>
                  <a:path w="97" h="304">
                    <a:moveTo>
                      <a:pt x="95" y="18"/>
                    </a:moveTo>
                    <a:lnTo>
                      <a:pt x="84" y="40"/>
                    </a:lnTo>
                    <a:lnTo>
                      <a:pt x="75" y="62"/>
                    </a:lnTo>
                    <a:lnTo>
                      <a:pt x="62" y="84"/>
                    </a:lnTo>
                    <a:lnTo>
                      <a:pt x="51" y="106"/>
                    </a:lnTo>
                    <a:lnTo>
                      <a:pt x="47" y="126"/>
                    </a:lnTo>
                    <a:lnTo>
                      <a:pt x="42" y="146"/>
                    </a:lnTo>
                    <a:lnTo>
                      <a:pt x="35" y="164"/>
                    </a:lnTo>
                    <a:lnTo>
                      <a:pt x="29" y="184"/>
                    </a:lnTo>
                    <a:lnTo>
                      <a:pt x="18" y="290"/>
                    </a:lnTo>
                    <a:lnTo>
                      <a:pt x="13" y="304"/>
                    </a:lnTo>
                    <a:lnTo>
                      <a:pt x="9" y="301"/>
                    </a:lnTo>
                    <a:lnTo>
                      <a:pt x="2" y="286"/>
                    </a:lnTo>
                    <a:lnTo>
                      <a:pt x="2" y="270"/>
                    </a:lnTo>
                    <a:lnTo>
                      <a:pt x="0" y="255"/>
                    </a:lnTo>
                    <a:lnTo>
                      <a:pt x="2" y="242"/>
                    </a:lnTo>
                    <a:lnTo>
                      <a:pt x="2" y="226"/>
                    </a:lnTo>
                    <a:lnTo>
                      <a:pt x="4" y="213"/>
                    </a:lnTo>
                    <a:lnTo>
                      <a:pt x="7" y="199"/>
                    </a:lnTo>
                    <a:lnTo>
                      <a:pt x="13" y="186"/>
                    </a:lnTo>
                    <a:lnTo>
                      <a:pt x="16" y="171"/>
                    </a:lnTo>
                    <a:lnTo>
                      <a:pt x="20" y="157"/>
                    </a:lnTo>
                    <a:lnTo>
                      <a:pt x="27" y="144"/>
                    </a:lnTo>
                    <a:lnTo>
                      <a:pt x="33" y="131"/>
                    </a:lnTo>
                    <a:lnTo>
                      <a:pt x="38" y="118"/>
                    </a:lnTo>
                    <a:lnTo>
                      <a:pt x="44" y="104"/>
                    </a:lnTo>
                    <a:lnTo>
                      <a:pt x="51" y="91"/>
                    </a:lnTo>
                    <a:lnTo>
                      <a:pt x="58" y="80"/>
                    </a:lnTo>
                    <a:lnTo>
                      <a:pt x="66" y="62"/>
                    </a:lnTo>
                    <a:lnTo>
                      <a:pt x="75" y="47"/>
                    </a:lnTo>
                    <a:lnTo>
                      <a:pt x="82" y="29"/>
                    </a:lnTo>
                    <a:lnTo>
                      <a:pt x="89" y="13"/>
                    </a:lnTo>
                    <a:lnTo>
                      <a:pt x="89" y="2"/>
                    </a:lnTo>
                    <a:lnTo>
                      <a:pt x="95" y="0"/>
                    </a:lnTo>
                    <a:lnTo>
                      <a:pt x="97" y="7"/>
                    </a:lnTo>
                    <a:lnTo>
                      <a:pt x="95" y="18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>
                <a:off x="7165800" y="3662640"/>
                <a:ext cx="164520" cy="359280"/>
              </a:xfrm>
              <a:custGeom>
                <a:avLst/>
                <a:gdLst/>
                <a:ahLst/>
                <a:rect l="l" t="t" r="r" b="b"/>
                <a:pathLst>
                  <a:path w="115" h="235">
                    <a:moveTo>
                      <a:pt x="64" y="75"/>
                    </a:moveTo>
                    <a:lnTo>
                      <a:pt x="53" y="88"/>
                    </a:lnTo>
                    <a:lnTo>
                      <a:pt x="44" y="102"/>
                    </a:lnTo>
                    <a:lnTo>
                      <a:pt x="38" y="115"/>
                    </a:lnTo>
                    <a:lnTo>
                      <a:pt x="31" y="131"/>
                    </a:lnTo>
                    <a:lnTo>
                      <a:pt x="24" y="144"/>
                    </a:lnTo>
                    <a:lnTo>
                      <a:pt x="20" y="159"/>
                    </a:lnTo>
                    <a:lnTo>
                      <a:pt x="16" y="175"/>
                    </a:lnTo>
                    <a:lnTo>
                      <a:pt x="16" y="193"/>
                    </a:lnTo>
                    <a:lnTo>
                      <a:pt x="9" y="212"/>
                    </a:lnTo>
                    <a:lnTo>
                      <a:pt x="2" y="235"/>
                    </a:lnTo>
                    <a:lnTo>
                      <a:pt x="0" y="219"/>
                    </a:lnTo>
                    <a:lnTo>
                      <a:pt x="2" y="204"/>
                    </a:lnTo>
                    <a:lnTo>
                      <a:pt x="4" y="190"/>
                    </a:lnTo>
                    <a:lnTo>
                      <a:pt x="11" y="177"/>
                    </a:lnTo>
                    <a:lnTo>
                      <a:pt x="16" y="162"/>
                    </a:lnTo>
                    <a:lnTo>
                      <a:pt x="20" y="148"/>
                    </a:lnTo>
                    <a:lnTo>
                      <a:pt x="22" y="133"/>
                    </a:lnTo>
                    <a:lnTo>
                      <a:pt x="27" y="119"/>
                    </a:lnTo>
                    <a:lnTo>
                      <a:pt x="31" y="102"/>
                    </a:lnTo>
                    <a:lnTo>
                      <a:pt x="40" y="86"/>
                    </a:lnTo>
                    <a:lnTo>
                      <a:pt x="49" y="69"/>
                    </a:lnTo>
                    <a:lnTo>
                      <a:pt x="62" y="55"/>
                    </a:lnTo>
                    <a:lnTo>
                      <a:pt x="73" y="40"/>
                    </a:lnTo>
                    <a:lnTo>
                      <a:pt x="86" y="26"/>
                    </a:lnTo>
                    <a:lnTo>
                      <a:pt x="100" y="13"/>
                    </a:lnTo>
                    <a:lnTo>
                      <a:pt x="115" y="0"/>
                    </a:lnTo>
                    <a:lnTo>
                      <a:pt x="102" y="18"/>
                    </a:lnTo>
                    <a:lnTo>
                      <a:pt x="89" y="38"/>
                    </a:lnTo>
                    <a:lnTo>
                      <a:pt x="75" y="55"/>
                    </a:lnTo>
                    <a:lnTo>
                      <a:pt x="64" y="75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6905160" y="3676680"/>
                <a:ext cx="56880" cy="175680"/>
              </a:xfrm>
              <a:custGeom>
                <a:avLst/>
                <a:gdLst/>
                <a:ahLst/>
                <a:rect l="l" t="t" r="r" b="b"/>
                <a:pathLst>
                  <a:path w="40" h="115">
                    <a:moveTo>
                      <a:pt x="40" y="17"/>
                    </a:moveTo>
                    <a:lnTo>
                      <a:pt x="38" y="31"/>
                    </a:lnTo>
                    <a:lnTo>
                      <a:pt x="33" y="46"/>
                    </a:lnTo>
                    <a:lnTo>
                      <a:pt x="24" y="60"/>
                    </a:lnTo>
                    <a:lnTo>
                      <a:pt x="16" y="75"/>
                    </a:lnTo>
                    <a:lnTo>
                      <a:pt x="11" y="95"/>
                    </a:lnTo>
                    <a:lnTo>
                      <a:pt x="9" y="115"/>
                    </a:lnTo>
                    <a:lnTo>
                      <a:pt x="2" y="113"/>
                    </a:lnTo>
                    <a:lnTo>
                      <a:pt x="4" y="108"/>
                    </a:lnTo>
                    <a:lnTo>
                      <a:pt x="0" y="91"/>
                    </a:lnTo>
                    <a:lnTo>
                      <a:pt x="0" y="77"/>
                    </a:lnTo>
                    <a:lnTo>
                      <a:pt x="4" y="64"/>
                    </a:lnTo>
                    <a:lnTo>
                      <a:pt x="11" y="51"/>
                    </a:lnTo>
                    <a:lnTo>
                      <a:pt x="16" y="37"/>
                    </a:lnTo>
                    <a:lnTo>
                      <a:pt x="22" y="24"/>
                    </a:lnTo>
                    <a:lnTo>
                      <a:pt x="27" y="11"/>
                    </a:lnTo>
                    <a:lnTo>
                      <a:pt x="31" y="0"/>
                    </a:lnTo>
                    <a:lnTo>
                      <a:pt x="35" y="6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6949440" y="3682440"/>
                <a:ext cx="127080" cy="477360"/>
              </a:xfrm>
              <a:custGeom>
                <a:avLst/>
                <a:gdLst/>
                <a:ahLst/>
                <a:rect l="l" t="t" r="r" b="b"/>
                <a:pathLst>
                  <a:path w="89" h="312">
                    <a:moveTo>
                      <a:pt x="89" y="2"/>
                    </a:moveTo>
                    <a:lnTo>
                      <a:pt x="87" y="18"/>
                    </a:lnTo>
                    <a:lnTo>
                      <a:pt x="84" y="36"/>
                    </a:lnTo>
                    <a:lnTo>
                      <a:pt x="78" y="51"/>
                    </a:lnTo>
                    <a:lnTo>
                      <a:pt x="71" y="67"/>
                    </a:lnTo>
                    <a:lnTo>
                      <a:pt x="69" y="78"/>
                    </a:lnTo>
                    <a:lnTo>
                      <a:pt x="67" y="91"/>
                    </a:lnTo>
                    <a:lnTo>
                      <a:pt x="64" y="104"/>
                    </a:lnTo>
                    <a:lnTo>
                      <a:pt x="62" y="118"/>
                    </a:lnTo>
                    <a:lnTo>
                      <a:pt x="58" y="129"/>
                    </a:lnTo>
                    <a:lnTo>
                      <a:pt x="53" y="142"/>
                    </a:lnTo>
                    <a:lnTo>
                      <a:pt x="49" y="153"/>
                    </a:lnTo>
                    <a:lnTo>
                      <a:pt x="47" y="166"/>
                    </a:lnTo>
                    <a:lnTo>
                      <a:pt x="45" y="186"/>
                    </a:lnTo>
                    <a:lnTo>
                      <a:pt x="40" y="206"/>
                    </a:lnTo>
                    <a:lnTo>
                      <a:pt x="31" y="224"/>
                    </a:lnTo>
                    <a:lnTo>
                      <a:pt x="20" y="242"/>
                    </a:lnTo>
                    <a:lnTo>
                      <a:pt x="14" y="259"/>
                    </a:lnTo>
                    <a:lnTo>
                      <a:pt x="11" y="277"/>
                    </a:lnTo>
                    <a:lnTo>
                      <a:pt x="7" y="295"/>
                    </a:lnTo>
                    <a:lnTo>
                      <a:pt x="2" y="312"/>
                    </a:lnTo>
                    <a:lnTo>
                      <a:pt x="0" y="31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1"/>
                    </a:lnTo>
                    <a:lnTo>
                      <a:pt x="2" y="268"/>
                    </a:lnTo>
                    <a:lnTo>
                      <a:pt x="7" y="255"/>
                    </a:lnTo>
                    <a:lnTo>
                      <a:pt x="7" y="242"/>
                    </a:lnTo>
                    <a:lnTo>
                      <a:pt x="11" y="228"/>
                    </a:lnTo>
                    <a:lnTo>
                      <a:pt x="14" y="215"/>
                    </a:lnTo>
                    <a:lnTo>
                      <a:pt x="18" y="204"/>
                    </a:lnTo>
                    <a:lnTo>
                      <a:pt x="20" y="191"/>
                    </a:lnTo>
                    <a:lnTo>
                      <a:pt x="22" y="177"/>
                    </a:lnTo>
                    <a:lnTo>
                      <a:pt x="25" y="164"/>
                    </a:lnTo>
                    <a:lnTo>
                      <a:pt x="29" y="151"/>
                    </a:lnTo>
                    <a:lnTo>
                      <a:pt x="29" y="137"/>
                    </a:lnTo>
                    <a:lnTo>
                      <a:pt x="31" y="124"/>
                    </a:lnTo>
                    <a:lnTo>
                      <a:pt x="31" y="111"/>
                    </a:lnTo>
                    <a:lnTo>
                      <a:pt x="33" y="100"/>
                    </a:lnTo>
                    <a:lnTo>
                      <a:pt x="36" y="84"/>
                    </a:lnTo>
                    <a:lnTo>
                      <a:pt x="45" y="73"/>
                    </a:lnTo>
                    <a:lnTo>
                      <a:pt x="53" y="60"/>
                    </a:lnTo>
                    <a:lnTo>
                      <a:pt x="62" y="49"/>
                    </a:lnTo>
                    <a:lnTo>
                      <a:pt x="71" y="27"/>
                    </a:lnTo>
                    <a:lnTo>
                      <a:pt x="76" y="5"/>
                    </a:lnTo>
                    <a:lnTo>
                      <a:pt x="82" y="0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6914880" y="3699360"/>
                <a:ext cx="34200" cy="122400"/>
              </a:xfrm>
              <a:custGeom>
                <a:avLst/>
                <a:gdLst/>
                <a:ahLst/>
                <a:rect l="l" t="t" r="r" b="b"/>
                <a:pathLst>
                  <a:path w="24" h="80">
                    <a:moveTo>
                      <a:pt x="20" y="33"/>
                    </a:moveTo>
                    <a:lnTo>
                      <a:pt x="11" y="42"/>
                    </a:lnTo>
                    <a:lnTo>
                      <a:pt x="4" y="53"/>
                    </a:lnTo>
                    <a:lnTo>
                      <a:pt x="0" y="67"/>
                    </a:lnTo>
                    <a:lnTo>
                      <a:pt x="0" y="80"/>
                    </a:lnTo>
                    <a:lnTo>
                      <a:pt x="0" y="58"/>
                    </a:lnTo>
                    <a:lnTo>
                      <a:pt x="7" y="38"/>
                    </a:lnTo>
                    <a:lnTo>
                      <a:pt x="15" y="18"/>
                    </a:lnTo>
                    <a:lnTo>
                      <a:pt x="24" y="0"/>
                    </a:lnTo>
                    <a:lnTo>
                      <a:pt x="22" y="16"/>
                    </a:lnTo>
                    <a:lnTo>
                      <a:pt x="20" y="33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6959880" y="3713400"/>
                <a:ext cx="94320" cy="329040"/>
              </a:xfrm>
              <a:custGeom>
                <a:avLst/>
                <a:gdLst/>
                <a:ahLst/>
                <a:rect l="l" t="t" r="r" b="b"/>
                <a:pathLst>
                  <a:path w="66" h="215">
                    <a:moveTo>
                      <a:pt x="48" y="47"/>
                    </a:moveTo>
                    <a:lnTo>
                      <a:pt x="44" y="69"/>
                    </a:lnTo>
                    <a:lnTo>
                      <a:pt x="42" y="93"/>
                    </a:lnTo>
                    <a:lnTo>
                      <a:pt x="37" y="104"/>
                    </a:lnTo>
                    <a:lnTo>
                      <a:pt x="35" y="117"/>
                    </a:lnTo>
                    <a:lnTo>
                      <a:pt x="31" y="129"/>
                    </a:lnTo>
                    <a:lnTo>
                      <a:pt x="26" y="140"/>
                    </a:lnTo>
                    <a:lnTo>
                      <a:pt x="24" y="160"/>
                    </a:lnTo>
                    <a:lnTo>
                      <a:pt x="22" y="179"/>
                    </a:lnTo>
                    <a:lnTo>
                      <a:pt x="13" y="197"/>
                    </a:lnTo>
                    <a:lnTo>
                      <a:pt x="0" y="215"/>
                    </a:lnTo>
                    <a:lnTo>
                      <a:pt x="0" y="197"/>
                    </a:lnTo>
                    <a:lnTo>
                      <a:pt x="4" y="179"/>
                    </a:lnTo>
                    <a:lnTo>
                      <a:pt x="9" y="162"/>
                    </a:lnTo>
                    <a:lnTo>
                      <a:pt x="13" y="146"/>
                    </a:lnTo>
                    <a:lnTo>
                      <a:pt x="15" y="126"/>
                    </a:lnTo>
                    <a:lnTo>
                      <a:pt x="20" y="109"/>
                    </a:lnTo>
                    <a:lnTo>
                      <a:pt x="22" y="91"/>
                    </a:lnTo>
                    <a:lnTo>
                      <a:pt x="24" y="73"/>
                    </a:lnTo>
                    <a:lnTo>
                      <a:pt x="33" y="53"/>
                    </a:lnTo>
                    <a:lnTo>
                      <a:pt x="44" y="36"/>
                    </a:lnTo>
                    <a:lnTo>
                      <a:pt x="55" y="18"/>
                    </a:lnTo>
                    <a:lnTo>
                      <a:pt x="66" y="0"/>
                    </a:lnTo>
                    <a:lnTo>
                      <a:pt x="64" y="11"/>
                    </a:lnTo>
                    <a:lnTo>
                      <a:pt x="60" y="22"/>
                    </a:lnTo>
                    <a:lnTo>
                      <a:pt x="53" y="33"/>
                    </a:lnTo>
                    <a:lnTo>
                      <a:pt x="48" y="47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6857640" y="3716280"/>
                <a:ext cx="47160" cy="457560"/>
              </a:xfrm>
              <a:custGeom>
                <a:avLst/>
                <a:gdLst/>
                <a:ahLst/>
                <a:rect l="l" t="t" r="r" b="b"/>
                <a:pathLst>
                  <a:path w="33" h="299">
                    <a:moveTo>
                      <a:pt x="20" y="14"/>
                    </a:moveTo>
                    <a:lnTo>
                      <a:pt x="20" y="29"/>
                    </a:lnTo>
                    <a:lnTo>
                      <a:pt x="24" y="45"/>
                    </a:lnTo>
                    <a:lnTo>
                      <a:pt x="29" y="60"/>
                    </a:lnTo>
                    <a:lnTo>
                      <a:pt x="33" y="78"/>
                    </a:lnTo>
                    <a:lnTo>
                      <a:pt x="31" y="93"/>
                    </a:lnTo>
                    <a:lnTo>
                      <a:pt x="29" y="111"/>
                    </a:lnTo>
                    <a:lnTo>
                      <a:pt x="26" y="129"/>
                    </a:lnTo>
                    <a:lnTo>
                      <a:pt x="26" y="149"/>
                    </a:lnTo>
                    <a:lnTo>
                      <a:pt x="24" y="166"/>
                    </a:lnTo>
                    <a:lnTo>
                      <a:pt x="22" y="184"/>
                    </a:lnTo>
                    <a:lnTo>
                      <a:pt x="20" y="202"/>
                    </a:lnTo>
                    <a:lnTo>
                      <a:pt x="18" y="220"/>
                    </a:lnTo>
                    <a:lnTo>
                      <a:pt x="18" y="239"/>
                    </a:lnTo>
                    <a:lnTo>
                      <a:pt x="15" y="259"/>
                    </a:lnTo>
                    <a:lnTo>
                      <a:pt x="9" y="279"/>
                    </a:lnTo>
                    <a:lnTo>
                      <a:pt x="4" y="299"/>
                    </a:lnTo>
                    <a:lnTo>
                      <a:pt x="0" y="288"/>
                    </a:lnTo>
                    <a:lnTo>
                      <a:pt x="2" y="275"/>
                    </a:lnTo>
                    <a:lnTo>
                      <a:pt x="4" y="255"/>
                    </a:lnTo>
                    <a:lnTo>
                      <a:pt x="9" y="237"/>
                    </a:lnTo>
                    <a:lnTo>
                      <a:pt x="9" y="217"/>
                    </a:lnTo>
                    <a:lnTo>
                      <a:pt x="7" y="200"/>
                    </a:lnTo>
                    <a:lnTo>
                      <a:pt x="4" y="184"/>
                    </a:lnTo>
                    <a:lnTo>
                      <a:pt x="7" y="171"/>
                    </a:lnTo>
                    <a:lnTo>
                      <a:pt x="11" y="158"/>
                    </a:lnTo>
                    <a:lnTo>
                      <a:pt x="15" y="144"/>
                    </a:lnTo>
                    <a:lnTo>
                      <a:pt x="18" y="129"/>
                    </a:lnTo>
                    <a:lnTo>
                      <a:pt x="20" y="115"/>
                    </a:lnTo>
                    <a:lnTo>
                      <a:pt x="18" y="102"/>
                    </a:lnTo>
                    <a:lnTo>
                      <a:pt x="18" y="89"/>
                    </a:lnTo>
                    <a:lnTo>
                      <a:pt x="7" y="67"/>
                    </a:lnTo>
                    <a:lnTo>
                      <a:pt x="4" y="45"/>
                    </a:lnTo>
                    <a:lnTo>
                      <a:pt x="4" y="31"/>
                    </a:lnTo>
                    <a:lnTo>
                      <a:pt x="7" y="18"/>
                    </a:lnTo>
                    <a:lnTo>
                      <a:pt x="11" y="7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6863040" y="3746880"/>
                <a:ext cx="28440" cy="13284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17" y="87"/>
                    </a:moveTo>
                    <a:lnTo>
                      <a:pt x="11" y="64"/>
                    </a:lnTo>
                    <a:lnTo>
                      <a:pt x="4" y="42"/>
                    </a:lnTo>
                    <a:lnTo>
                      <a:pt x="0" y="20"/>
                    </a:lnTo>
                    <a:lnTo>
                      <a:pt x="6" y="0"/>
                    </a:lnTo>
                    <a:lnTo>
                      <a:pt x="9" y="20"/>
                    </a:lnTo>
                    <a:lnTo>
                      <a:pt x="15" y="42"/>
                    </a:lnTo>
                    <a:lnTo>
                      <a:pt x="20" y="62"/>
                    </a:lnTo>
                    <a:lnTo>
                      <a:pt x="17" y="87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6819120" y="3749760"/>
                <a:ext cx="25920" cy="177480"/>
              </a:xfrm>
              <a:custGeom>
                <a:avLst/>
                <a:gdLst/>
                <a:ahLst/>
                <a:rect l="l" t="t" r="r" b="b"/>
                <a:pathLst>
                  <a:path w="18" h="116">
                    <a:moveTo>
                      <a:pt x="13" y="0"/>
                    </a:moveTo>
                    <a:lnTo>
                      <a:pt x="15" y="14"/>
                    </a:lnTo>
                    <a:lnTo>
                      <a:pt x="18" y="27"/>
                    </a:lnTo>
                    <a:lnTo>
                      <a:pt x="18" y="40"/>
                    </a:lnTo>
                    <a:lnTo>
                      <a:pt x="18" y="56"/>
                    </a:lnTo>
                    <a:lnTo>
                      <a:pt x="13" y="69"/>
                    </a:lnTo>
                    <a:lnTo>
                      <a:pt x="11" y="85"/>
                    </a:lnTo>
                    <a:lnTo>
                      <a:pt x="7" y="98"/>
                    </a:lnTo>
                    <a:lnTo>
                      <a:pt x="4" y="113"/>
                    </a:lnTo>
                    <a:lnTo>
                      <a:pt x="2" y="113"/>
                    </a:lnTo>
                    <a:lnTo>
                      <a:pt x="2" y="116"/>
                    </a:lnTo>
                    <a:lnTo>
                      <a:pt x="0" y="102"/>
                    </a:lnTo>
                    <a:lnTo>
                      <a:pt x="2" y="91"/>
                    </a:lnTo>
                    <a:lnTo>
                      <a:pt x="4" y="78"/>
                    </a:lnTo>
                    <a:lnTo>
                      <a:pt x="11" y="69"/>
                    </a:lnTo>
                    <a:lnTo>
                      <a:pt x="15" y="47"/>
                    </a:lnTo>
                    <a:lnTo>
                      <a:pt x="13" y="27"/>
                    </a:lnTo>
                    <a:lnTo>
                      <a:pt x="9" y="1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7108920" y="3827880"/>
                <a:ext cx="49680" cy="253800"/>
              </a:xfrm>
              <a:custGeom>
                <a:avLst/>
                <a:gdLst/>
                <a:ahLst/>
                <a:rect l="l" t="t" r="r" b="b"/>
                <a:pathLst>
                  <a:path w="35" h="166">
                    <a:moveTo>
                      <a:pt x="17" y="60"/>
                    </a:moveTo>
                    <a:lnTo>
                      <a:pt x="15" y="73"/>
                    </a:lnTo>
                    <a:lnTo>
                      <a:pt x="13" y="87"/>
                    </a:lnTo>
                    <a:lnTo>
                      <a:pt x="11" y="100"/>
                    </a:lnTo>
                    <a:lnTo>
                      <a:pt x="11" y="113"/>
                    </a:lnTo>
                    <a:lnTo>
                      <a:pt x="9" y="127"/>
                    </a:lnTo>
                    <a:lnTo>
                      <a:pt x="9" y="140"/>
                    </a:lnTo>
                    <a:lnTo>
                      <a:pt x="6" y="153"/>
                    </a:lnTo>
                    <a:lnTo>
                      <a:pt x="4" y="166"/>
                    </a:lnTo>
                    <a:lnTo>
                      <a:pt x="0" y="144"/>
                    </a:lnTo>
                    <a:lnTo>
                      <a:pt x="0" y="122"/>
                    </a:lnTo>
                    <a:lnTo>
                      <a:pt x="0" y="100"/>
                    </a:lnTo>
                    <a:lnTo>
                      <a:pt x="6" y="80"/>
                    </a:lnTo>
                    <a:lnTo>
                      <a:pt x="11" y="58"/>
                    </a:lnTo>
                    <a:lnTo>
                      <a:pt x="17" y="38"/>
                    </a:lnTo>
                    <a:lnTo>
                      <a:pt x="26" y="18"/>
                    </a:lnTo>
                    <a:lnTo>
                      <a:pt x="35" y="0"/>
                    </a:lnTo>
                    <a:lnTo>
                      <a:pt x="31" y="14"/>
                    </a:lnTo>
                    <a:lnTo>
                      <a:pt x="26" y="29"/>
                    </a:lnTo>
                    <a:lnTo>
                      <a:pt x="22" y="45"/>
                    </a:lnTo>
                    <a:lnTo>
                      <a:pt x="17" y="60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>
                <a:off x="6949800" y="3882960"/>
                <a:ext cx="98640" cy="748080"/>
              </a:xfrm>
              <a:custGeom>
                <a:avLst/>
                <a:gdLst/>
                <a:ahLst/>
                <a:rect l="l" t="t" r="r" b="b"/>
                <a:pathLst>
                  <a:path w="69" h="489">
                    <a:moveTo>
                      <a:pt x="69" y="4"/>
                    </a:moveTo>
                    <a:lnTo>
                      <a:pt x="67" y="13"/>
                    </a:lnTo>
                    <a:lnTo>
                      <a:pt x="69" y="24"/>
                    </a:lnTo>
                    <a:lnTo>
                      <a:pt x="67" y="44"/>
                    </a:lnTo>
                    <a:lnTo>
                      <a:pt x="64" y="64"/>
                    </a:lnTo>
                    <a:lnTo>
                      <a:pt x="58" y="84"/>
                    </a:lnTo>
                    <a:lnTo>
                      <a:pt x="53" y="104"/>
                    </a:lnTo>
                    <a:lnTo>
                      <a:pt x="47" y="122"/>
                    </a:lnTo>
                    <a:lnTo>
                      <a:pt x="40" y="142"/>
                    </a:lnTo>
                    <a:lnTo>
                      <a:pt x="36" y="161"/>
                    </a:lnTo>
                    <a:lnTo>
                      <a:pt x="36" y="186"/>
                    </a:lnTo>
                    <a:lnTo>
                      <a:pt x="36" y="201"/>
                    </a:lnTo>
                    <a:lnTo>
                      <a:pt x="36" y="217"/>
                    </a:lnTo>
                    <a:lnTo>
                      <a:pt x="36" y="232"/>
                    </a:lnTo>
                    <a:lnTo>
                      <a:pt x="36" y="250"/>
                    </a:lnTo>
                    <a:lnTo>
                      <a:pt x="33" y="266"/>
                    </a:lnTo>
                    <a:lnTo>
                      <a:pt x="31" y="283"/>
                    </a:lnTo>
                    <a:lnTo>
                      <a:pt x="29" y="299"/>
                    </a:lnTo>
                    <a:lnTo>
                      <a:pt x="29" y="316"/>
                    </a:lnTo>
                    <a:lnTo>
                      <a:pt x="29" y="330"/>
                    </a:lnTo>
                    <a:lnTo>
                      <a:pt x="31" y="345"/>
                    </a:lnTo>
                    <a:lnTo>
                      <a:pt x="31" y="361"/>
                    </a:lnTo>
                    <a:lnTo>
                      <a:pt x="31" y="376"/>
                    </a:lnTo>
                    <a:lnTo>
                      <a:pt x="29" y="392"/>
                    </a:lnTo>
                    <a:lnTo>
                      <a:pt x="29" y="407"/>
                    </a:lnTo>
                    <a:lnTo>
                      <a:pt x="29" y="423"/>
                    </a:lnTo>
                    <a:lnTo>
                      <a:pt x="33" y="440"/>
                    </a:lnTo>
                    <a:lnTo>
                      <a:pt x="29" y="452"/>
                    </a:lnTo>
                    <a:lnTo>
                      <a:pt x="27" y="465"/>
                    </a:lnTo>
                    <a:lnTo>
                      <a:pt x="20" y="476"/>
                    </a:lnTo>
                    <a:lnTo>
                      <a:pt x="16" y="489"/>
                    </a:lnTo>
                    <a:lnTo>
                      <a:pt x="13" y="480"/>
                    </a:lnTo>
                    <a:lnTo>
                      <a:pt x="16" y="474"/>
                    </a:lnTo>
                    <a:lnTo>
                      <a:pt x="16" y="452"/>
                    </a:lnTo>
                    <a:lnTo>
                      <a:pt x="16" y="429"/>
                    </a:lnTo>
                    <a:lnTo>
                      <a:pt x="13" y="407"/>
                    </a:lnTo>
                    <a:lnTo>
                      <a:pt x="13" y="385"/>
                    </a:lnTo>
                    <a:lnTo>
                      <a:pt x="11" y="361"/>
                    </a:lnTo>
                    <a:lnTo>
                      <a:pt x="9" y="339"/>
                    </a:lnTo>
                    <a:lnTo>
                      <a:pt x="9" y="319"/>
                    </a:lnTo>
                    <a:lnTo>
                      <a:pt x="13" y="301"/>
                    </a:lnTo>
                    <a:lnTo>
                      <a:pt x="11" y="285"/>
                    </a:lnTo>
                    <a:lnTo>
                      <a:pt x="11" y="272"/>
                    </a:lnTo>
                    <a:lnTo>
                      <a:pt x="7" y="257"/>
                    </a:lnTo>
                    <a:lnTo>
                      <a:pt x="5" y="243"/>
                    </a:lnTo>
                    <a:lnTo>
                      <a:pt x="0" y="228"/>
                    </a:lnTo>
                    <a:lnTo>
                      <a:pt x="0" y="215"/>
                    </a:lnTo>
                    <a:lnTo>
                      <a:pt x="0" y="201"/>
                    </a:lnTo>
                    <a:lnTo>
                      <a:pt x="7" y="188"/>
                    </a:lnTo>
                    <a:lnTo>
                      <a:pt x="11" y="164"/>
                    </a:lnTo>
                    <a:lnTo>
                      <a:pt x="22" y="142"/>
                    </a:lnTo>
                    <a:lnTo>
                      <a:pt x="31" y="119"/>
                    </a:lnTo>
                    <a:lnTo>
                      <a:pt x="42" y="99"/>
                    </a:lnTo>
                    <a:lnTo>
                      <a:pt x="49" y="77"/>
                    </a:lnTo>
                    <a:lnTo>
                      <a:pt x="58" y="55"/>
                    </a:lnTo>
                    <a:lnTo>
                      <a:pt x="58" y="42"/>
                    </a:lnTo>
                    <a:lnTo>
                      <a:pt x="60" y="31"/>
                    </a:lnTo>
                    <a:lnTo>
                      <a:pt x="60" y="18"/>
                    </a:lnTo>
                    <a:lnTo>
                      <a:pt x="60" y="6"/>
                    </a:lnTo>
                    <a:lnTo>
                      <a:pt x="62" y="0"/>
                    </a:lnTo>
                    <a:lnTo>
                      <a:pt x="69" y="4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6873480" y="3930840"/>
                <a:ext cx="12960" cy="97560"/>
              </a:xfrm>
              <a:custGeom>
                <a:avLst/>
                <a:gdLst/>
                <a:ahLst/>
                <a:rect l="l" t="t" r="r" b="b"/>
                <a:pathLst>
                  <a:path w="9" h="64">
                    <a:moveTo>
                      <a:pt x="2" y="64"/>
                    </a:moveTo>
                    <a:lnTo>
                      <a:pt x="0" y="46"/>
                    </a:lnTo>
                    <a:lnTo>
                      <a:pt x="2" y="31"/>
                    </a:lnTo>
                    <a:lnTo>
                      <a:pt x="5" y="13"/>
                    </a:lnTo>
                    <a:lnTo>
                      <a:pt x="9" y="0"/>
                    </a:lnTo>
                    <a:lnTo>
                      <a:pt x="7" y="15"/>
                    </a:lnTo>
                    <a:lnTo>
                      <a:pt x="7" y="31"/>
                    </a:lnTo>
                    <a:lnTo>
                      <a:pt x="2" y="46"/>
                    </a:lnTo>
                    <a:lnTo>
                      <a:pt x="2" y="64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>
                <a:off x="6813720" y="3970080"/>
                <a:ext cx="49680" cy="424080"/>
              </a:xfrm>
              <a:custGeom>
                <a:avLst/>
                <a:gdLst/>
                <a:ahLst/>
                <a:rect l="l" t="t" r="r" b="b"/>
                <a:pathLst>
                  <a:path w="35" h="277">
                    <a:moveTo>
                      <a:pt x="26" y="3"/>
                    </a:moveTo>
                    <a:lnTo>
                      <a:pt x="28" y="7"/>
                    </a:lnTo>
                    <a:lnTo>
                      <a:pt x="31" y="11"/>
                    </a:lnTo>
                    <a:lnTo>
                      <a:pt x="31" y="27"/>
                    </a:lnTo>
                    <a:lnTo>
                      <a:pt x="33" y="42"/>
                    </a:lnTo>
                    <a:lnTo>
                      <a:pt x="33" y="58"/>
                    </a:lnTo>
                    <a:lnTo>
                      <a:pt x="35" y="76"/>
                    </a:lnTo>
                    <a:lnTo>
                      <a:pt x="33" y="91"/>
                    </a:lnTo>
                    <a:lnTo>
                      <a:pt x="31" y="109"/>
                    </a:lnTo>
                    <a:lnTo>
                      <a:pt x="31" y="124"/>
                    </a:lnTo>
                    <a:lnTo>
                      <a:pt x="33" y="144"/>
                    </a:lnTo>
                    <a:lnTo>
                      <a:pt x="4" y="277"/>
                    </a:lnTo>
                    <a:lnTo>
                      <a:pt x="0" y="277"/>
                    </a:lnTo>
                    <a:lnTo>
                      <a:pt x="2" y="255"/>
                    </a:lnTo>
                    <a:lnTo>
                      <a:pt x="4" y="235"/>
                    </a:lnTo>
                    <a:lnTo>
                      <a:pt x="4" y="215"/>
                    </a:lnTo>
                    <a:lnTo>
                      <a:pt x="11" y="195"/>
                    </a:lnTo>
                    <a:lnTo>
                      <a:pt x="9" y="175"/>
                    </a:lnTo>
                    <a:lnTo>
                      <a:pt x="13" y="155"/>
                    </a:lnTo>
                    <a:lnTo>
                      <a:pt x="15" y="135"/>
                    </a:lnTo>
                    <a:lnTo>
                      <a:pt x="20" y="116"/>
                    </a:lnTo>
                    <a:lnTo>
                      <a:pt x="17" y="100"/>
                    </a:lnTo>
                    <a:lnTo>
                      <a:pt x="15" y="85"/>
                    </a:lnTo>
                    <a:lnTo>
                      <a:pt x="15" y="69"/>
                    </a:lnTo>
                    <a:lnTo>
                      <a:pt x="15" y="56"/>
                    </a:lnTo>
                    <a:lnTo>
                      <a:pt x="15" y="40"/>
                    </a:lnTo>
                    <a:lnTo>
                      <a:pt x="15" y="25"/>
                    </a:lnTo>
                    <a:lnTo>
                      <a:pt x="15" y="11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6823080" y="3994920"/>
                <a:ext cx="18360" cy="273600"/>
              </a:xfrm>
              <a:custGeom>
                <a:avLst/>
                <a:gdLst/>
                <a:ahLst/>
                <a:rect l="l" t="t" r="r" b="b"/>
                <a:pathLst>
                  <a:path w="13" h="179">
                    <a:moveTo>
                      <a:pt x="13" y="64"/>
                    </a:moveTo>
                    <a:lnTo>
                      <a:pt x="11" y="77"/>
                    </a:lnTo>
                    <a:lnTo>
                      <a:pt x="11" y="93"/>
                    </a:lnTo>
                    <a:lnTo>
                      <a:pt x="11" y="106"/>
                    </a:lnTo>
                    <a:lnTo>
                      <a:pt x="11" y="122"/>
                    </a:lnTo>
                    <a:lnTo>
                      <a:pt x="7" y="135"/>
                    </a:lnTo>
                    <a:lnTo>
                      <a:pt x="5" y="150"/>
                    </a:lnTo>
                    <a:lnTo>
                      <a:pt x="2" y="164"/>
                    </a:lnTo>
                    <a:lnTo>
                      <a:pt x="0" y="179"/>
                    </a:lnTo>
                    <a:lnTo>
                      <a:pt x="0" y="159"/>
                    </a:lnTo>
                    <a:lnTo>
                      <a:pt x="2" y="139"/>
                    </a:lnTo>
                    <a:lnTo>
                      <a:pt x="5" y="122"/>
                    </a:lnTo>
                    <a:lnTo>
                      <a:pt x="9" y="106"/>
                    </a:lnTo>
                    <a:lnTo>
                      <a:pt x="7" y="91"/>
                    </a:lnTo>
                    <a:lnTo>
                      <a:pt x="7" y="77"/>
                    </a:lnTo>
                    <a:lnTo>
                      <a:pt x="5" y="64"/>
                    </a:lnTo>
                    <a:lnTo>
                      <a:pt x="5" y="51"/>
                    </a:lnTo>
                    <a:lnTo>
                      <a:pt x="5" y="38"/>
                    </a:lnTo>
                    <a:lnTo>
                      <a:pt x="5" y="24"/>
                    </a:lnTo>
                    <a:lnTo>
                      <a:pt x="5" y="11"/>
                    </a:lnTo>
                    <a:lnTo>
                      <a:pt x="9" y="0"/>
                    </a:lnTo>
                    <a:lnTo>
                      <a:pt x="11" y="15"/>
                    </a:lnTo>
                    <a:lnTo>
                      <a:pt x="13" y="31"/>
                    </a:lnTo>
                    <a:lnTo>
                      <a:pt x="13" y="46"/>
                    </a:lnTo>
                    <a:lnTo>
                      <a:pt x="13" y="64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7083000" y="4014720"/>
                <a:ext cx="59760" cy="287640"/>
              </a:xfrm>
              <a:custGeom>
                <a:avLst/>
                <a:gdLst/>
                <a:ahLst/>
                <a:rect l="l" t="t" r="r" b="b"/>
                <a:pathLst>
                  <a:path w="42" h="188">
                    <a:moveTo>
                      <a:pt x="42" y="27"/>
                    </a:moveTo>
                    <a:lnTo>
                      <a:pt x="40" y="40"/>
                    </a:lnTo>
                    <a:lnTo>
                      <a:pt x="40" y="53"/>
                    </a:lnTo>
                    <a:lnTo>
                      <a:pt x="35" y="67"/>
                    </a:lnTo>
                    <a:lnTo>
                      <a:pt x="31" y="82"/>
                    </a:lnTo>
                    <a:lnTo>
                      <a:pt x="24" y="95"/>
                    </a:lnTo>
                    <a:lnTo>
                      <a:pt x="20" y="111"/>
                    </a:lnTo>
                    <a:lnTo>
                      <a:pt x="15" y="124"/>
                    </a:lnTo>
                    <a:lnTo>
                      <a:pt x="17" y="140"/>
                    </a:lnTo>
                    <a:lnTo>
                      <a:pt x="15" y="188"/>
                    </a:lnTo>
                    <a:lnTo>
                      <a:pt x="13" y="188"/>
                    </a:lnTo>
                    <a:lnTo>
                      <a:pt x="4" y="166"/>
                    </a:lnTo>
                    <a:lnTo>
                      <a:pt x="2" y="146"/>
                    </a:lnTo>
                    <a:lnTo>
                      <a:pt x="0" y="126"/>
                    </a:lnTo>
                    <a:lnTo>
                      <a:pt x="4" y="106"/>
                    </a:lnTo>
                    <a:lnTo>
                      <a:pt x="6" y="87"/>
                    </a:lnTo>
                    <a:lnTo>
                      <a:pt x="13" y="67"/>
                    </a:lnTo>
                    <a:lnTo>
                      <a:pt x="20" y="47"/>
                    </a:lnTo>
                    <a:lnTo>
                      <a:pt x="29" y="29"/>
                    </a:lnTo>
                    <a:lnTo>
                      <a:pt x="29" y="13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7" y="7"/>
                    </a:lnTo>
                    <a:lnTo>
                      <a:pt x="35" y="16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6975000" y="4025520"/>
                <a:ext cx="63000" cy="572040"/>
              </a:xfrm>
              <a:custGeom>
                <a:avLst/>
                <a:gdLst/>
                <a:ahLst/>
                <a:rect l="l" t="t" r="r" b="b"/>
                <a:pathLst>
                  <a:path w="44" h="374">
                    <a:moveTo>
                      <a:pt x="18" y="219"/>
                    </a:moveTo>
                    <a:lnTo>
                      <a:pt x="18" y="230"/>
                    </a:lnTo>
                    <a:lnTo>
                      <a:pt x="18" y="243"/>
                    </a:lnTo>
                    <a:lnTo>
                      <a:pt x="18" y="257"/>
                    </a:lnTo>
                    <a:lnTo>
                      <a:pt x="20" y="270"/>
                    </a:lnTo>
                    <a:lnTo>
                      <a:pt x="18" y="281"/>
                    </a:lnTo>
                    <a:lnTo>
                      <a:pt x="18" y="294"/>
                    </a:lnTo>
                    <a:lnTo>
                      <a:pt x="15" y="308"/>
                    </a:lnTo>
                    <a:lnTo>
                      <a:pt x="15" y="321"/>
                    </a:lnTo>
                    <a:lnTo>
                      <a:pt x="18" y="332"/>
                    </a:lnTo>
                    <a:lnTo>
                      <a:pt x="18" y="345"/>
                    </a:lnTo>
                    <a:lnTo>
                      <a:pt x="15" y="359"/>
                    </a:lnTo>
                    <a:lnTo>
                      <a:pt x="15" y="374"/>
                    </a:lnTo>
                    <a:lnTo>
                      <a:pt x="13" y="352"/>
                    </a:lnTo>
                    <a:lnTo>
                      <a:pt x="11" y="330"/>
                    </a:lnTo>
                    <a:lnTo>
                      <a:pt x="11" y="308"/>
                    </a:lnTo>
                    <a:lnTo>
                      <a:pt x="11" y="285"/>
                    </a:lnTo>
                    <a:lnTo>
                      <a:pt x="9" y="261"/>
                    </a:lnTo>
                    <a:lnTo>
                      <a:pt x="9" y="239"/>
                    </a:lnTo>
                    <a:lnTo>
                      <a:pt x="11" y="215"/>
                    </a:lnTo>
                    <a:lnTo>
                      <a:pt x="13" y="195"/>
                    </a:lnTo>
                    <a:lnTo>
                      <a:pt x="9" y="177"/>
                    </a:lnTo>
                    <a:lnTo>
                      <a:pt x="4" y="161"/>
                    </a:lnTo>
                    <a:lnTo>
                      <a:pt x="0" y="144"/>
                    </a:lnTo>
                    <a:lnTo>
                      <a:pt x="0" y="128"/>
                    </a:lnTo>
                    <a:lnTo>
                      <a:pt x="0" y="108"/>
                    </a:lnTo>
                    <a:lnTo>
                      <a:pt x="2" y="93"/>
                    </a:lnTo>
                    <a:lnTo>
                      <a:pt x="6" y="75"/>
                    </a:lnTo>
                    <a:lnTo>
                      <a:pt x="15" y="62"/>
                    </a:lnTo>
                    <a:lnTo>
                      <a:pt x="44" y="0"/>
                    </a:lnTo>
                    <a:lnTo>
                      <a:pt x="37" y="11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6" y="51"/>
                    </a:lnTo>
                    <a:lnTo>
                      <a:pt x="24" y="64"/>
                    </a:lnTo>
                    <a:lnTo>
                      <a:pt x="24" y="77"/>
                    </a:lnTo>
                    <a:lnTo>
                      <a:pt x="24" y="91"/>
                    </a:lnTo>
                    <a:lnTo>
                      <a:pt x="24" y="106"/>
                    </a:lnTo>
                    <a:lnTo>
                      <a:pt x="22" y="119"/>
                    </a:lnTo>
                    <a:lnTo>
                      <a:pt x="22" y="133"/>
                    </a:lnTo>
                    <a:lnTo>
                      <a:pt x="22" y="146"/>
                    </a:lnTo>
                    <a:lnTo>
                      <a:pt x="22" y="161"/>
                    </a:lnTo>
                    <a:lnTo>
                      <a:pt x="20" y="175"/>
                    </a:lnTo>
                    <a:lnTo>
                      <a:pt x="20" y="190"/>
                    </a:lnTo>
                    <a:lnTo>
                      <a:pt x="18" y="204"/>
                    </a:lnTo>
                    <a:lnTo>
                      <a:pt x="18" y="219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7093080" y="4053240"/>
                <a:ext cx="41040" cy="212760"/>
              </a:xfrm>
              <a:custGeom>
                <a:avLst/>
                <a:gdLst/>
                <a:ahLst/>
                <a:rect l="l" t="t" r="r" b="b"/>
                <a:pathLst>
                  <a:path w="29" h="139">
                    <a:moveTo>
                      <a:pt x="5" y="117"/>
                    </a:moveTo>
                    <a:lnTo>
                      <a:pt x="5" y="139"/>
                    </a:lnTo>
                    <a:lnTo>
                      <a:pt x="0" y="119"/>
                    </a:lnTo>
                    <a:lnTo>
                      <a:pt x="3" y="99"/>
                    </a:lnTo>
                    <a:lnTo>
                      <a:pt x="3" y="81"/>
                    </a:lnTo>
                    <a:lnTo>
                      <a:pt x="9" y="66"/>
                    </a:lnTo>
                    <a:lnTo>
                      <a:pt x="11" y="48"/>
                    </a:lnTo>
                    <a:lnTo>
                      <a:pt x="18" y="33"/>
                    </a:lnTo>
                    <a:lnTo>
                      <a:pt x="23" y="15"/>
                    </a:lnTo>
                    <a:lnTo>
                      <a:pt x="29" y="0"/>
                    </a:lnTo>
                    <a:lnTo>
                      <a:pt x="29" y="13"/>
                    </a:lnTo>
                    <a:lnTo>
                      <a:pt x="27" y="28"/>
                    </a:lnTo>
                    <a:lnTo>
                      <a:pt x="23" y="42"/>
                    </a:lnTo>
                    <a:lnTo>
                      <a:pt x="20" y="57"/>
                    </a:lnTo>
                    <a:lnTo>
                      <a:pt x="14" y="70"/>
                    </a:lnTo>
                    <a:lnTo>
                      <a:pt x="9" y="86"/>
                    </a:lnTo>
                    <a:lnTo>
                      <a:pt x="5" y="99"/>
                    </a:lnTo>
                    <a:lnTo>
                      <a:pt x="5" y="117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7129800" y="4069800"/>
                <a:ext cx="133200" cy="690120"/>
              </a:xfrm>
              <a:custGeom>
                <a:avLst/>
                <a:gdLst/>
                <a:ahLst/>
                <a:rect l="l" t="t" r="r" b="b"/>
                <a:pathLst>
                  <a:path w="93" h="451">
                    <a:moveTo>
                      <a:pt x="44" y="31"/>
                    </a:moveTo>
                    <a:lnTo>
                      <a:pt x="42" y="44"/>
                    </a:lnTo>
                    <a:lnTo>
                      <a:pt x="42" y="57"/>
                    </a:lnTo>
                    <a:lnTo>
                      <a:pt x="39" y="70"/>
                    </a:lnTo>
                    <a:lnTo>
                      <a:pt x="39" y="84"/>
                    </a:lnTo>
                    <a:lnTo>
                      <a:pt x="35" y="95"/>
                    </a:lnTo>
                    <a:lnTo>
                      <a:pt x="33" y="108"/>
                    </a:lnTo>
                    <a:lnTo>
                      <a:pt x="33" y="121"/>
                    </a:lnTo>
                    <a:lnTo>
                      <a:pt x="35" y="137"/>
                    </a:lnTo>
                    <a:lnTo>
                      <a:pt x="31" y="157"/>
                    </a:lnTo>
                    <a:lnTo>
                      <a:pt x="35" y="179"/>
                    </a:lnTo>
                    <a:lnTo>
                      <a:pt x="37" y="199"/>
                    </a:lnTo>
                    <a:lnTo>
                      <a:pt x="37" y="219"/>
                    </a:lnTo>
                    <a:lnTo>
                      <a:pt x="35" y="237"/>
                    </a:lnTo>
                    <a:lnTo>
                      <a:pt x="39" y="254"/>
                    </a:lnTo>
                    <a:lnTo>
                      <a:pt x="42" y="272"/>
                    </a:lnTo>
                    <a:lnTo>
                      <a:pt x="48" y="292"/>
                    </a:lnTo>
                    <a:lnTo>
                      <a:pt x="53" y="307"/>
                    </a:lnTo>
                    <a:lnTo>
                      <a:pt x="57" y="325"/>
                    </a:lnTo>
                    <a:lnTo>
                      <a:pt x="62" y="343"/>
                    </a:lnTo>
                    <a:lnTo>
                      <a:pt x="68" y="363"/>
                    </a:lnTo>
                    <a:lnTo>
                      <a:pt x="79" y="378"/>
                    </a:lnTo>
                    <a:lnTo>
                      <a:pt x="86" y="400"/>
                    </a:lnTo>
                    <a:lnTo>
                      <a:pt x="90" y="420"/>
                    </a:lnTo>
                    <a:lnTo>
                      <a:pt x="93" y="445"/>
                    </a:lnTo>
                    <a:lnTo>
                      <a:pt x="88" y="449"/>
                    </a:lnTo>
                    <a:lnTo>
                      <a:pt x="86" y="451"/>
                    </a:lnTo>
                    <a:lnTo>
                      <a:pt x="77" y="431"/>
                    </a:lnTo>
                    <a:lnTo>
                      <a:pt x="70" y="414"/>
                    </a:lnTo>
                    <a:lnTo>
                      <a:pt x="57" y="400"/>
                    </a:lnTo>
                    <a:lnTo>
                      <a:pt x="50" y="389"/>
                    </a:lnTo>
                    <a:lnTo>
                      <a:pt x="44" y="376"/>
                    </a:lnTo>
                    <a:lnTo>
                      <a:pt x="39" y="363"/>
                    </a:lnTo>
                    <a:lnTo>
                      <a:pt x="35" y="347"/>
                    </a:lnTo>
                    <a:lnTo>
                      <a:pt x="33" y="334"/>
                    </a:lnTo>
                    <a:lnTo>
                      <a:pt x="33" y="321"/>
                    </a:lnTo>
                    <a:lnTo>
                      <a:pt x="33" y="307"/>
                    </a:lnTo>
                    <a:lnTo>
                      <a:pt x="26" y="290"/>
                    </a:lnTo>
                    <a:lnTo>
                      <a:pt x="19" y="272"/>
                    </a:lnTo>
                    <a:lnTo>
                      <a:pt x="13" y="254"/>
                    </a:lnTo>
                    <a:lnTo>
                      <a:pt x="8" y="239"/>
                    </a:lnTo>
                    <a:lnTo>
                      <a:pt x="2" y="221"/>
                    </a:lnTo>
                    <a:lnTo>
                      <a:pt x="0" y="203"/>
                    </a:lnTo>
                    <a:lnTo>
                      <a:pt x="2" y="186"/>
                    </a:lnTo>
                    <a:lnTo>
                      <a:pt x="13" y="170"/>
                    </a:lnTo>
                    <a:lnTo>
                      <a:pt x="17" y="148"/>
                    </a:lnTo>
                    <a:lnTo>
                      <a:pt x="22" y="128"/>
                    </a:lnTo>
                    <a:lnTo>
                      <a:pt x="26" y="106"/>
                    </a:lnTo>
                    <a:lnTo>
                      <a:pt x="31" y="86"/>
                    </a:lnTo>
                    <a:lnTo>
                      <a:pt x="33" y="64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4"/>
                    </a:lnTo>
                    <a:lnTo>
                      <a:pt x="42" y="0"/>
                    </a:lnTo>
                    <a:lnTo>
                      <a:pt x="42" y="13"/>
                    </a:lnTo>
                    <a:lnTo>
                      <a:pt x="44" y="31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7320240" y="4079160"/>
                <a:ext cx="38520" cy="189360"/>
              </a:xfrm>
              <a:custGeom>
                <a:avLst/>
                <a:gdLst/>
                <a:ahLst/>
                <a:rect l="l" t="t" r="r" b="b"/>
                <a:pathLst>
                  <a:path w="27" h="124">
                    <a:moveTo>
                      <a:pt x="27" y="7"/>
                    </a:moveTo>
                    <a:lnTo>
                      <a:pt x="27" y="20"/>
                    </a:lnTo>
                    <a:lnTo>
                      <a:pt x="27" y="33"/>
                    </a:lnTo>
                    <a:lnTo>
                      <a:pt x="24" y="47"/>
                    </a:lnTo>
                    <a:lnTo>
                      <a:pt x="22" y="62"/>
                    </a:lnTo>
                    <a:lnTo>
                      <a:pt x="16" y="76"/>
                    </a:lnTo>
                    <a:lnTo>
                      <a:pt x="13" y="91"/>
                    </a:lnTo>
                    <a:lnTo>
                      <a:pt x="11" y="104"/>
                    </a:lnTo>
                    <a:lnTo>
                      <a:pt x="11" y="122"/>
                    </a:lnTo>
                    <a:lnTo>
                      <a:pt x="9" y="122"/>
                    </a:lnTo>
                    <a:lnTo>
                      <a:pt x="5" y="124"/>
                    </a:lnTo>
                    <a:lnTo>
                      <a:pt x="0" y="107"/>
                    </a:lnTo>
                    <a:lnTo>
                      <a:pt x="0" y="91"/>
                    </a:lnTo>
                    <a:lnTo>
                      <a:pt x="2" y="76"/>
                    </a:lnTo>
                    <a:lnTo>
                      <a:pt x="7" y="62"/>
                    </a:lnTo>
                    <a:lnTo>
                      <a:pt x="9" y="47"/>
                    </a:lnTo>
                    <a:lnTo>
                      <a:pt x="13" y="33"/>
                    </a:lnTo>
                    <a:lnTo>
                      <a:pt x="13" y="18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7" y="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7061040" y="4086720"/>
                <a:ext cx="8280" cy="392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6" y="0"/>
                    </a:lnTo>
                    <a:lnTo>
                      <a:pt x="2" y="2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6918480" y="4089600"/>
                <a:ext cx="59760" cy="443880"/>
              </a:xfrm>
              <a:custGeom>
                <a:avLst/>
                <a:gdLst/>
                <a:ahLst/>
                <a:rect l="l" t="t" r="r" b="b"/>
                <a:pathLst>
                  <a:path w="42" h="290">
                    <a:moveTo>
                      <a:pt x="42" y="7"/>
                    </a:moveTo>
                    <a:lnTo>
                      <a:pt x="35" y="18"/>
                    </a:lnTo>
                    <a:lnTo>
                      <a:pt x="33" y="31"/>
                    </a:lnTo>
                    <a:lnTo>
                      <a:pt x="27" y="44"/>
                    </a:lnTo>
                    <a:lnTo>
                      <a:pt x="20" y="62"/>
                    </a:lnTo>
                    <a:lnTo>
                      <a:pt x="13" y="80"/>
                    </a:lnTo>
                    <a:lnTo>
                      <a:pt x="13" y="100"/>
                    </a:lnTo>
                    <a:lnTo>
                      <a:pt x="11" y="117"/>
                    </a:lnTo>
                    <a:lnTo>
                      <a:pt x="11" y="135"/>
                    </a:lnTo>
                    <a:lnTo>
                      <a:pt x="13" y="153"/>
                    </a:lnTo>
                    <a:lnTo>
                      <a:pt x="20" y="170"/>
                    </a:lnTo>
                    <a:lnTo>
                      <a:pt x="15" y="184"/>
                    </a:lnTo>
                    <a:lnTo>
                      <a:pt x="15" y="199"/>
                    </a:lnTo>
                    <a:lnTo>
                      <a:pt x="15" y="212"/>
                    </a:lnTo>
                    <a:lnTo>
                      <a:pt x="18" y="230"/>
                    </a:lnTo>
                    <a:lnTo>
                      <a:pt x="15" y="243"/>
                    </a:lnTo>
                    <a:lnTo>
                      <a:pt x="13" y="259"/>
                    </a:lnTo>
                    <a:lnTo>
                      <a:pt x="9" y="274"/>
                    </a:lnTo>
                    <a:lnTo>
                      <a:pt x="4" y="290"/>
                    </a:lnTo>
                    <a:lnTo>
                      <a:pt x="0" y="290"/>
                    </a:lnTo>
                    <a:lnTo>
                      <a:pt x="2" y="266"/>
                    </a:lnTo>
                    <a:lnTo>
                      <a:pt x="7" y="246"/>
                    </a:lnTo>
                    <a:lnTo>
                      <a:pt x="7" y="224"/>
                    </a:lnTo>
                    <a:lnTo>
                      <a:pt x="7" y="204"/>
                    </a:lnTo>
                    <a:lnTo>
                      <a:pt x="9" y="106"/>
                    </a:lnTo>
                    <a:lnTo>
                      <a:pt x="9" y="91"/>
                    </a:lnTo>
                    <a:lnTo>
                      <a:pt x="11" y="77"/>
                    </a:lnTo>
                    <a:lnTo>
                      <a:pt x="13" y="62"/>
                    </a:lnTo>
                    <a:lnTo>
                      <a:pt x="18" y="49"/>
                    </a:lnTo>
                    <a:lnTo>
                      <a:pt x="20" y="35"/>
                    </a:lnTo>
                    <a:lnTo>
                      <a:pt x="24" y="22"/>
                    </a:lnTo>
                    <a:lnTo>
                      <a:pt x="31" y="1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7327440" y="4134240"/>
                <a:ext cx="21240" cy="104040"/>
              </a:xfrm>
              <a:custGeom>
                <a:avLst/>
                <a:gdLst/>
                <a:ahLst/>
                <a:rect l="l" t="t" r="r" b="b"/>
                <a:pathLst>
                  <a:path w="15" h="68">
                    <a:moveTo>
                      <a:pt x="0" y="68"/>
                    </a:moveTo>
                    <a:lnTo>
                      <a:pt x="0" y="48"/>
                    </a:lnTo>
                    <a:lnTo>
                      <a:pt x="4" y="33"/>
                    </a:lnTo>
                    <a:lnTo>
                      <a:pt x="9" y="15"/>
                    </a:lnTo>
                    <a:lnTo>
                      <a:pt x="15" y="0"/>
                    </a:lnTo>
                    <a:lnTo>
                      <a:pt x="13" y="17"/>
                    </a:lnTo>
                    <a:lnTo>
                      <a:pt x="9" y="33"/>
                    </a:lnTo>
                    <a:lnTo>
                      <a:pt x="2" y="4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6863040" y="4151160"/>
                <a:ext cx="73080" cy="507960"/>
              </a:xfrm>
              <a:custGeom>
                <a:avLst/>
                <a:gdLst/>
                <a:ahLst/>
                <a:rect l="l" t="t" r="r" b="b"/>
                <a:pathLst>
                  <a:path w="51" h="332">
                    <a:moveTo>
                      <a:pt x="29" y="259"/>
                    </a:moveTo>
                    <a:lnTo>
                      <a:pt x="20" y="277"/>
                    </a:lnTo>
                    <a:lnTo>
                      <a:pt x="17" y="296"/>
                    </a:lnTo>
                    <a:lnTo>
                      <a:pt x="9" y="314"/>
                    </a:lnTo>
                    <a:lnTo>
                      <a:pt x="0" y="332"/>
                    </a:lnTo>
                    <a:lnTo>
                      <a:pt x="0" y="319"/>
                    </a:lnTo>
                    <a:lnTo>
                      <a:pt x="6" y="308"/>
                    </a:lnTo>
                    <a:lnTo>
                      <a:pt x="11" y="294"/>
                    </a:lnTo>
                    <a:lnTo>
                      <a:pt x="15" y="283"/>
                    </a:lnTo>
                    <a:lnTo>
                      <a:pt x="17" y="263"/>
                    </a:lnTo>
                    <a:lnTo>
                      <a:pt x="24" y="246"/>
                    </a:lnTo>
                    <a:lnTo>
                      <a:pt x="29" y="226"/>
                    </a:lnTo>
                    <a:lnTo>
                      <a:pt x="35" y="208"/>
                    </a:lnTo>
                    <a:lnTo>
                      <a:pt x="35" y="188"/>
                    </a:lnTo>
                    <a:lnTo>
                      <a:pt x="37" y="168"/>
                    </a:lnTo>
                    <a:lnTo>
                      <a:pt x="35" y="150"/>
                    </a:lnTo>
                    <a:lnTo>
                      <a:pt x="31" y="133"/>
                    </a:lnTo>
                    <a:lnTo>
                      <a:pt x="29" y="119"/>
                    </a:lnTo>
                    <a:lnTo>
                      <a:pt x="29" y="106"/>
                    </a:lnTo>
                    <a:lnTo>
                      <a:pt x="31" y="93"/>
                    </a:lnTo>
                    <a:lnTo>
                      <a:pt x="33" y="79"/>
                    </a:lnTo>
                    <a:lnTo>
                      <a:pt x="33" y="66"/>
                    </a:lnTo>
                    <a:lnTo>
                      <a:pt x="35" y="53"/>
                    </a:lnTo>
                    <a:lnTo>
                      <a:pt x="37" y="40"/>
                    </a:lnTo>
                    <a:lnTo>
                      <a:pt x="40" y="26"/>
                    </a:lnTo>
                    <a:lnTo>
                      <a:pt x="42" y="11"/>
                    </a:lnTo>
                    <a:lnTo>
                      <a:pt x="51" y="0"/>
                    </a:lnTo>
                    <a:lnTo>
                      <a:pt x="44" y="13"/>
                    </a:lnTo>
                    <a:lnTo>
                      <a:pt x="42" y="29"/>
                    </a:lnTo>
                    <a:lnTo>
                      <a:pt x="40" y="44"/>
                    </a:lnTo>
                    <a:lnTo>
                      <a:pt x="40" y="62"/>
                    </a:lnTo>
                    <a:lnTo>
                      <a:pt x="40" y="77"/>
                    </a:lnTo>
                    <a:lnTo>
                      <a:pt x="40" y="95"/>
                    </a:lnTo>
                    <a:lnTo>
                      <a:pt x="40" y="110"/>
                    </a:lnTo>
                    <a:lnTo>
                      <a:pt x="42" y="128"/>
                    </a:lnTo>
                    <a:lnTo>
                      <a:pt x="42" y="144"/>
                    </a:lnTo>
                    <a:lnTo>
                      <a:pt x="42" y="159"/>
                    </a:lnTo>
                    <a:lnTo>
                      <a:pt x="42" y="175"/>
                    </a:lnTo>
                    <a:lnTo>
                      <a:pt x="42" y="192"/>
                    </a:lnTo>
                    <a:lnTo>
                      <a:pt x="40" y="208"/>
                    </a:lnTo>
                    <a:lnTo>
                      <a:pt x="37" y="226"/>
                    </a:lnTo>
                    <a:lnTo>
                      <a:pt x="33" y="241"/>
                    </a:lnTo>
                    <a:lnTo>
                      <a:pt x="29" y="259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6905160" y="4238280"/>
                <a:ext cx="107280" cy="478800"/>
              </a:xfrm>
              <a:custGeom>
                <a:avLst/>
                <a:gdLst/>
                <a:ahLst/>
                <a:rect l="l" t="t" r="r" b="b"/>
                <a:pathLst>
                  <a:path w="75" h="313">
                    <a:moveTo>
                      <a:pt x="75" y="22"/>
                    </a:moveTo>
                    <a:lnTo>
                      <a:pt x="70" y="42"/>
                    </a:lnTo>
                    <a:lnTo>
                      <a:pt x="66" y="62"/>
                    </a:lnTo>
                    <a:lnTo>
                      <a:pt x="70" y="82"/>
                    </a:lnTo>
                    <a:lnTo>
                      <a:pt x="75" y="107"/>
                    </a:lnTo>
                    <a:lnTo>
                      <a:pt x="73" y="129"/>
                    </a:lnTo>
                    <a:lnTo>
                      <a:pt x="64" y="151"/>
                    </a:lnTo>
                    <a:lnTo>
                      <a:pt x="51" y="226"/>
                    </a:lnTo>
                    <a:lnTo>
                      <a:pt x="37" y="246"/>
                    </a:lnTo>
                    <a:lnTo>
                      <a:pt x="26" y="268"/>
                    </a:lnTo>
                    <a:lnTo>
                      <a:pt x="15" y="290"/>
                    </a:lnTo>
                    <a:lnTo>
                      <a:pt x="4" y="313"/>
                    </a:lnTo>
                    <a:lnTo>
                      <a:pt x="0" y="313"/>
                    </a:lnTo>
                    <a:lnTo>
                      <a:pt x="0" y="293"/>
                    </a:lnTo>
                    <a:lnTo>
                      <a:pt x="4" y="277"/>
                    </a:lnTo>
                    <a:lnTo>
                      <a:pt x="8" y="262"/>
                    </a:lnTo>
                    <a:lnTo>
                      <a:pt x="15" y="248"/>
                    </a:lnTo>
                    <a:lnTo>
                      <a:pt x="22" y="233"/>
                    </a:lnTo>
                    <a:lnTo>
                      <a:pt x="28" y="217"/>
                    </a:lnTo>
                    <a:lnTo>
                      <a:pt x="35" y="204"/>
                    </a:lnTo>
                    <a:lnTo>
                      <a:pt x="44" y="191"/>
                    </a:lnTo>
                    <a:lnTo>
                      <a:pt x="44" y="138"/>
                    </a:lnTo>
                    <a:lnTo>
                      <a:pt x="53" y="115"/>
                    </a:lnTo>
                    <a:lnTo>
                      <a:pt x="59" y="93"/>
                    </a:lnTo>
                    <a:lnTo>
                      <a:pt x="62" y="69"/>
                    </a:lnTo>
                    <a:lnTo>
                      <a:pt x="66" y="49"/>
                    </a:lnTo>
                    <a:lnTo>
                      <a:pt x="66" y="27"/>
                    </a:lnTo>
                    <a:lnTo>
                      <a:pt x="62" y="7"/>
                    </a:lnTo>
                    <a:lnTo>
                      <a:pt x="62" y="5"/>
                    </a:lnTo>
                    <a:lnTo>
                      <a:pt x="64" y="0"/>
                    </a:lnTo>
                    <a:lnTo>
                      <a:pt x="73" y="7"/>
                    </a:lnTo>
                    <a:lnTo>
                      <a:pt x="75" y="22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>
                <a:off x="7140240" y="4245840"/>
                <a:ext cx="111600" cy="500400"/>
              </a:xfrm>
              <a:custGeom>
                <a:avLst/>
                <a:gdLst/>
                <a:ahLst/>
                <a:rect l="l" t="t" r="r" b="b"/>
                <a:pathLst>
                  <a:path w="78" h="327">
                    <a:moveTo>
                      <a:pt x="25" y="88"/>
                    </a:moveTo>
                    <a:lnTo>
                      <a:pt x="23" y="99"/>
                    </a:lnTo>
                    <a:lnTo>
                      <a:pt x="23" y="115"/>
                    </a:lnTo>
                    <a:lnTo>
                      <a:pt x="23" y="128"/>
                    </a:lnTo>
                    <a:lnTo>
                      <a:pt x="25" y="141"/>
                    </a:lnTo>
                    <a:lnTo>
                      <a:pt x="29" y="157"/>
                    </a:lnTo>
                    <a:lnTo>
                      <a:pt x="34" y="177"/>
                    </a:lnTo>
                    <a:lnTo>
                      <a:pt x="38" y="195"/>
                    </a:lnTo>
                    <a:lnTo>
                      <a:pt x="42" y="215"/>
                    </a:lnTo>
                    <a:lnTo>
                      <a:pt x="47" y="232"/>
                    </a:lnTo>
                    <a:lnTo>
                      <a:pt x="54" y="250"/>
                    </a:lnTo>
                    <a:lnTo>
                      <a:pt x="62" y="265"/>
                    </a:lnTo>
                    <a:lnTo>
                      <a:pt x="76" y="283"/>
                    </a:lnTo>
                    <a:lnTo>
                      <a:pt x="76" y="292"/>
                    </a:lnTo>
                    <a:lnTo>
                      <a:pt x="78" y="305"/>
                    </a:lnTo>
                    <a:lnTo>
                      <a:pt x="78" y="316"/>
                    </a:lnTo>
                    <a:lnTo>
                      <a:pt x="78" y="327"/>
                    </a:lnTo>
                    <a:lnTo>
                      <a:pt x="76" y="310"/>
                    </a:lnTo>
                    <a:lnTo>
                      <a:pt x="69" y="296"/>
                    </a:lnTo>
                    <a:lnTo>
                      <a:pt x="60" y="285"/>
                    </a:lnTo>
                    <a:lnTo>
                      <a:pt x="51" y="274"/>
                    </a:lnTo>
                    <a:lnTo>
                      <a:pt x="40" y="261"/>
                    </a:lnTo>
                    <a:lnTo>
                      <a:pt x="36" y="250"/>
                    </a:lnTo>
                    <a:lnTo>
                      <a:pt x="31" y="234"/>
                    </a:lnTo>
                    <a:lnTo>
                      <a:pt x="34" y="219"/>
                    </a:lnTo>
                    <a:lnTo>
                      <a:pt x="31" y="199"/>
                    </a:lnTo>
                    <a:lnTo>
                      <a:pt x="29" y="184"/>
                    </a:lnTo>
                    <a:lnTo>
                      <a:pt x="23" y="170"/>
                    </a:lnTo>
                    <a:lnTo>
                      <a:pt x="18" y="157"/>
                    </a:lnTo>
                    <a:lnTo>
                      <a:pt x="11" y="141"/>
                    </a:lnTo>
                    <a:lnTo>
                      <a:pt x="5" y="126"/>
                    </a:lnTo>
                    <a:lnTo>
                      <a:pt x="0" y="110"/>
                    </a:lnTo>
                    <a:lnTo>
                      <a:pt x="0" y="97"/>
                    </a:lnTo>
                    <a:lnTo>
                      <a:pt x="0" y="84"/>
                    </a:lnTo>
                    <a:lnTo>
                      <a:pt x="5" y="71"/>
                    </a:lnTo>
                    <a:lnTo>
                      <a:pt x="7" y="60"/>
                    </a:lnTo>
                    <a:lnTo>
                      <a:pt x="11" y="48"/>
                    </a:lnTo>
                    <a:lnTo>
                      <a:pt x="11" y="35"/>
                    </a:lnTo>
                    <a:lnTo>
                      <a:pt x="16" y="22"/>
                    </a:lnTo>
                    <a:lnTo>
                      <a:pt x="18" y="11"/>
                    </a:lnTo>
                    <a:lnTo>
                      <a:pt x="23" y="0"/>
                    </a:lnTo>
                    <a:lnTo>
                      <a:pt x="20" y="20"/>
                    </a:lnTo>
                    <a:lnTo>
                      <a:pt x="20" y="44"/>
                    </a:lnTo>
                    <a:lnTo>
                      <a:pt x="23" y="64"/>
                    </a:lnTo>
                    <a:lnTo>
                      <a:pt x="25" y="88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7219080" y="4276440"/>
                <a:ext cx="98640" cy="382680"/>
              </a:xfrm>
              <a:custGeom>
                <a:avLst/>
                <a:gdLst/>
                <a:ahLst/>
                <a:rect l="l" t="t" r="r" b="b"/>
                <a:pathLst>
                  <a:path w="69" h="250">
                    <a:moveTo>
                      <a:pt x="11" y="0"/>
                    </a:moveTo>
                    <a:lnTo>
                      <a:pt x="13" y="4"/>
                    </a:lnTo>
                    <a:lnTo>
                      <a:pt x="18" y="6"/>
                    </a:lnTo>
                    <a:lnTo>
                      <a:pt x="18" y="24"/>
                    </a:lnTo>
                    <a:lnTo>
                      <a:pt x="20" y="42"/>
                    </a:lnTo>
                    <a:lnTo>
                      <a:pt x="20" y="62"/>
                    </a:lnTo>
                    <a:lnTo>
                      <a:pt x="22" y="82"/>
                    </a:lnTo>
                    <a:lnTo>
                      <a:pt x="22" y="99"/>
                    </a:lnTo>
                    <a:lnTo>
                      <a:pt x="26" y="117"/>
                    </a:lnTo>
                    <a:lnTo>
                      <a:pt x="31" y="135"/>
                    </a:lnTo>
                    <a:lnTo>
                      <a:pt x="38" y="155"/>
                    </a:lnTo>
                    <a:lnTo>
                      <a:pt x="38" y="166"/>
                    </a:lnTo>
                    <a:lnTo>
                      <a:pt x="42" y="177"/>
                    </a:lnTo>
                    <a:lnTo>
                      <a:pt x="46" y="188"/>
                    </a:lnTo>
                    <a:lnTo>
                      <a:pt x="53" y="201"/>
                    </a:lnTo>
                    <a:lnTo>
                      <a:pt x="57" y="212"/>
                    </a:lnTo>
                    <a:lnTo>
                      <a:pt x="62" y="223"/>
                    </a:lnTo>
                    <a:lnTo>
                      <a:pt x="66" y="237"/>
                    </a:lnTo>
                    <a:lnTo>
                      <a:pt x="69" y="250"/>
                    </a:lnTo>
                    <a:lnTo>
                      <a:pt x="64" y="250"/>
                    </a:lnTo>
                    <a:lnTo>
                      <a:pt x="51" y="232"/>
                    </a:lnTo>
                    <a:lnTo>
                      <a:pt x="40" y="219"/>
                    </a:lnTo>
                    <a:lnTo>
                      <a:pt x="26" y="201"/>
                    </a:lnTo>
                    <a:lnTo>
                      <a:pt x="22" y="183"/>
                    </a:lnTo>
                    <a:lnTo>
                      <a:pt x="18" y="168"/>
                    </a:lnTo>
                    <a:lnTo>
                      <a:pt x="13" y="152"/>
                    </a:lnTo>
                    <a:lnTo>
                      <a:pt x="9" y="137"/>
                    </a:lnTo>
                    <a:lnTo>
                      <a:pt x="7" y="124"/>
                    </a:lnTo>
                    <a:lnTo>
                      <a:pt x="2" y="108"/>
                    </a:lnTo>
                    <a:lnTo>
                      <a:pt x="0" y="95"/>
                    </a:lnTo>
                    <a:lnTo>
                      <a:pt x="0" y="79"/>
                    </a:lnTo>
                    <a:lnTo>
                      <a:pt x="2" y="66"/>
                    </a:lnTo>
                    <a:lnTo>
                      <a:pt x="4" y="48"/>
                    </a:lnTo>
                    <a:lnTo>
                      <a:pt x="7" y="33"/>
                    </a:lnTo>
                    <a:lnTo>
                      <a:pt x="7" y="15"/>
                    </a:lnTo>
                    <a:lnTo>
                      <a:pt x="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7061400" y="4290120"/>
                <a:ext cx="43920" cy="455760"/>
              </a:xfrm>
              <a:custGeom>
                <a:avLst/>
                <a:gdLst/>
                <a:ahLst/>
                <a:rect l="l" t="t" r="r" b="b"/>
                <a:pathLst>
                  <a:path w="31" h="298">
                    <a:moveTo>
                      <a:pt x="11" y="13"/>
                    </a:moveTo>
                    <a:lnTo>
                      <a:pt x="11" y="31"/>
                    </a:lnTo>
                    <a:lnTo>
                      <a:pt x="16" y="50"/>
                    </a:lnTo>
                    <a:lnTo>
                      <a:pt x="18" y="68"/>
                    </a:lnTo>
                    <a:lnTo>
                      <a:pt x="20" y="88"/>
                    </a:lnTo>
                    <a:lnTo>
                      <a:pt x="25" y="99"/>
                    </a:lnTo>
                    <a:lnTo>
                      <a:pt x="27" y="112"/>
                    </a:lnTo>
                    <a:lnTo>
                      <a:pt x="27" y="126"/>
                    </a:lnTo>
                    <a:lnTo>
                      <a:pt x="29" y="141"/>
                    </a:lnTo>
                    <a:lnTo>
                      <a:pt x="27" y="155"/>
                    </a:lnTo>
                    <a:lnTo>
                      <a:pt x="27" y="170"/>
                    </a:lnTo>
                    <a:lnTo>
                      <a:pt x="27" y="183"/>
                    </a:lnTo>
                    <a:lnTo>
                      <a:pt x="29" y="199"/>
                    </a:lnTo>
                    <a:lnTo>
                      <a:pt x="29" y="210"/>
                    </a:lnTo>
                    <a:lnTo>
                      <a:pt x="29" y="223"/>
                    </a:lnTo>
                    <a:lnTo>
                      <a:pt x="29" y="234"/>
                    </a:lnTo>
                    <a:lnTo>
                      <a:pt x="31" y="248"/>
                    </a:lnTo>
                    <a:lnTo>
                      <a:pt x="31" y="259"/>
                    </a:lnTo>
                    <a:lnTo>
                      <a:pt x="31" y="272"/>
                    </a:lnTo>
                    <a:lnTo>
                      <a:pt x="29" y="285"/>
                    </a:lnTo>
                    <a:lnTo>
                      <a:pt x="29" y="298"/>
                    </a:lnTo>
                    <a:lnTo>
                      <a:pt x="22" y="285"/>
                    </a:lnTo>
                    <a:lnTo>
                      <a:pt x="16" y="276"/>
                    </a:lnTo>
                    <a:lnTo>
                      <a:pt x="9" y="265"/>
                    </a:lnTo>
                    <a:lnTo>
                      <a:pt x="9" y="254"/>
                    </a:lnTo>
                    <a:lnTo>
                      <a:pt x="14" y="232"/>
                    </a:lnTo>
                    <a:lnTo>
                      <a:pt x="11" y="212"/>
                    </a:lnTo>
                    <a:lnTo>
                      <a:pt x="7" y="190"/>
                    </a:lnTo>
                    <a:lnTo>
                      <a:pt x="3" y="170"/>
                    </a:lnTo>
                    <a:lnTo>
                      <a:pt x="0" y="148"/>
                    </a:lnTo>
                    <a:lnTo>
                      <a:pt x="0" y="126"/>
                    </a:lnTo>
                    <a:lnTo>
                      <a:pt x="3" y="104"/>
                    </a:lnTo>
                    <a:lnTo>
                      <a:pt x="5" y="84"/>
                    </a:lnTo>
                    <a:lnTo>
                      <a:pt x="5" y="62"/>
                    </a:lnTo>
                    <a:lnTo>
                      <a:pt x="5" y="42"/>
                    </a:lnTo>
                    <a:lnTo>
                      <a:pt x="5" y="19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6845040" y="4290120"/>
                <a:ext cx="2880" cy="2880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0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H="1">
                <a:off x="7118280" y="4316400"/>
                <a:ext cx="34200" cy="264600"/>
              </a:xfrm>
              <a:custGeom>
                <a:avLst/>
                <a:gdLst/>
                <a:ahLst/>
                <a:rect l="l" t="t" r="r" b="b"/>
                <a:pathLst>
                  <a:path w="24" h="173">
                    <a:moveTo>
                      <a:pt x="11" y="16"/>
                    </a:moveTo>
                    <a:lnTo>
                      <a:pt x="13" y="31"/>
                    </a:lnTo>
                    <a:lnTo>
                      <a:pt x="22" y="51"/>
                    </a:lnTo>
                    <a:lnTo>
                      <a:pt x="24" y="67"/>
                    </a:lnTo>
                    <a:lnTo>
                      <a:pt x="22" y="87"/>
                    </a:lnTo>
                    <a:lnTo>
                      <a:pt x="16" y="107"/>
                    </a:lnTo>
                    <a:lnTo>
                      <a:pt x="16" y="129"/>
                    </a:lnTo>
                    <a:lnTo>
                      <a:pt x="11" y="151"/>
                    </a:lnTo>
                    <a:lnTo>
                      <a:pt x="9" y="173"/>
                    </a:lnTo>
                    <a:lnTo>
                      <a:pt x="7" y="173"/>
                    </a:lnTo>
                    <a:lnTo>
                      <a:pt x="5" y="151"/>
                    </a:lnTo>
                    <a:lnTo>
                      <a:pt x="7" y="131"/>
                    </a:lnTo>
                    <a:lnTo>
                      <a:pt x="5" y="111"/>
                    </a:lnTo>
                    <a:lnTo>
                      <a:pt x="2" y="91"/>
                    </a:lnTo>
                    <a:lnTo>
                      <a:pt x="0" y="67"/>
                    </a:lnTo>
                    <a:lnTo>
                      <a:pt x="0" y="45"/>
                    </a:lnTo>
                    <a:lnTo>
                      <a:pt x="2" y="20"/>
                    </a:lnTo>
                    <a:lnTo>
                      <a:pt x="7" y="0"/>
                    </a:lnTo>
                    <a:lnTo>
                      <a:pt x="9" y="5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6883560" y="431928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0" y="0"/>
                    </a:moveTo>
                    <a:lnTo>
                      <a:pt x="2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6956640" y="4330080"/>
                <a:ext cx="2880" cy="77760"/>
              </a:xfrm>
              <a:custGeom>
                <a:avLst/>
                <a:gdLst/>
                <a:ahLst/>
                <a:rect l="l" t="t" r="r" b="b"/>
                <a:pathLst>
                  <a:path w="2" h="51">
                    <a:moveTo>
                      <a:pt x="0" y="51"/>
                    </a:moveTo>
                    <a:lnTo>
                      <a:pt x="0" y="0"/>
                    </a:lnTo>
                    <a:lnTo>
                      <a:pt x="2" y="18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7231320" y="4333320"/>
                <a:ext cx="83160" cy="306000"/>
              </a:xfrm>
              <a:custGeom>
                <a:avLst/>
                <a:gdLst/>
                <a:ahLst/>
                <a:rect l="l" t="t" r="r" b="b"/>
                <a:pathLst>
                  <a:path w="58" h="200">
                    <a:moveTo>
                      <a:pt x="29" y="115"/>
                    </a:moveTo>
                    <a:lnTo>
                      <a:pt x="31" y="135"/>
                    </a:lnTo>
                    <a:lnTo>
                      <a:pt x="40" y="158"/>
                    </a:lnTo>
                    <a:lnTo>
                      <a:pt x="49" y="177"/>
                    </a:lnTo>
                    <a:lnTo>
                      <a:pt x="58" y="200"/>
                    </a:lnTo>
                    <a:lnTo>
                      <a:pt x="40" y="180"/>
                    </a:lnTo>
                    <a:lnTo>
                      <a:pt x="29" y="162"/>
                    </a:lnTo>
                    <a:lnTo>
                      <a:pt x="20" y="142"/>
                    </a:lnTo>
                    <a:lnTo>
                      <a:pt x="20" y="120"/>
                    </a:lnTo>
                    <a:lnTo>
                      <a:pt x="13" y="102"/>
                    </a:lnTo>
                    <a:lnTo>
                      <a:pt x="9" y="89"/>
                    </a:lnTo>
                    <a:lnTo>
                      <a:pt x="5" y="71"/>
                    </a:lnTo>
                    <a:lnTo>
                      <a:pt x="5" y="58"/>
                    </a:lnTo>
                    <a:lnTo>
                      <a:pt x="0" y="42"/>
                    </a:lnTo>
                    <a:lnTo>
                      <a:pt x="2" y="27"/>
                    </a:lnTo>
                    <a:lnTo>
                      <a:pt x="5" y="14"/>
                    </a:lnTo>
                    <a:lnTo>
                      <a:pt x="11" y="0"/>
                    </a:lnTo>
                    <a:lnTo>
                      <a:pt x="11" y="14"/>
                    </a:lnTo>
                    <a:lnTo>
                      <a:pt x="13" y="27"/>
                    </a:lnTo>
                    <a:lnTo>
                      <a:pt x="13" y="42"/>
                    </a:lnTo>
                    <a:lnTo>
                      <a:pt x="16" y="58"/>
                    </a:lnTo>
                    <a:lnTo>
                      <a:pt x="16" y="71"/>
                    </a:lnTo>
                    <a:lnTo>
                      <a:pt x="18" y="87"/>
                    </a:lnTo>
                    <a:lnTo>
                      <a:pt x="22" y="100"/>
                    </a:lnTo>
                    <a:lnTo>
                      <a:pt x="29" y="115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7126920" y="4360680"/>
                <a:ext cx="18720" cy="125640"/>
              </a:xfrm>
              <a:custGeom>
                <a:avLst/>
                <a:gdLst/>
                <a:ahLst/>
                <a:rect l="l" t="t" r="r" b="b"/>
                <a:pathLst>
                  <a:path w="13" h="82">
                    <a:moveTo>
                      <a:pt x="6" y="82"/>
                    </a:moveTo>
                    <a:lnTo>
                      <a:pt x="2" y="64"/>
                    </a:lnTo>
                    <a:lnTo>
                      <a:pt x="2" y="42"/>
                    </a:lnTo>
                    <a:lnTo>
                      <a:pt x="0" y="18"/>
                    </a:lnTo>
                    <a:lnTo>
                      <a:pt x="4" y="0"/>
                    </a:lnTo>
                    <a:lnTo>
                      <a:pt x="11" y="18"/>
                    </a:lnTo>
                    <a:lnTo>
                      <a:pt x="13" y="38"/>
                    </a:lnTo>
                    <a:lnTo>
                      <a:pt x="8" y="60"/>
                    </a:lnTo>
                    <a:lnTo>
                      <a:pt x="6" y="82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>
                <a:off x="6915240" y="4371480"/>
                <a:ext cx="85680" cy="318240"/>
              </a:xfrm>
              <a:custGeom>
                <a:avLst/>
                <a:gdLst/>
                <a:ahLst/>
                <a:rect l="l" t="t" r="r" b="b"/>
                <a:pathLst>
                  <a:path w="60" h="208">
                    <a:moveTo>
                      <a:pt x="49" y="66"/>
                    </a:moveTo>
                    <a:lnTo>
                      <a:pt x="47" y="84"/>
                    </a:lnTo>
                    <a:lnTo>
                      <a:pt x="45" y="102"/>
                    </a:lnTo>
                    <a:lnTo>
                      <a:pt x="40" y="119"/>
                    </a:lnTo>
                    <a:lnTo>
                      <a:pt x="38" y="139"/>
                    </a:lnTo>
                    <a:lnTo>
                      <a:pt x="0" y="208"/>
                    </a:lnTo>
                    <a:lnTo>
                      <a:pt x="0" y="195"/>
                    </a:lnTo>
                    <a:lnTo>
                      <a:pt x="5" y="181"/>
                    </a:lnTo>
                    <a:lnTo>
                      <a:pt x="7" y="168"/>
                    </a:lnTo>
                    <a:lnTo>
                      <a:pt x="14" y="155"/>
                    </a:lnTo>
                    <a:lnTo>
                      <a:pt x="27" y="130"/>
                    </a:lnTo>
                    <a:lnTo>
                      <a:pt x="40" y="108"/>
                    </a:lnTo>
                    <a:lnTo>
                      <a:pt x="40" y="53"/>
                    </a:lnTo>
                    <a:lnTo>
                      <a:pt x="45" y="40"/>
                    </a:lnTo>
                    <a:lnTo>
                      <a:pt x="51" y="26"/>
                    </a:lnTo>
                    <a:lnTo>
                      <a:pt x="54" y="13"/>
                    </a:lnTo>
                    <a:lnTo>
                      <a:pt x="58" y="0"/>
                    </a:lnTo>
                    <a:lnTo>
                      <a:pt x="60" y="15"/>
                    </a:lnTo>
                    <a:lnTo>
                      <a:pt x="60" y="33"/>
                    </a:lnTo>
                    <a:lnTo>
                      <a:pt x="56" y="51"/>
                    </a:lnTo>
                    <a:lnTo>
                      <a:pt x="49" y="66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7063920" y="4374720"/>
                <a:ext cx="34200" cy="351720"/>
              </a:xfrm>
              <a:custGeom>
                <a:avLst/>
                <a:gdLst/>
                <a:ahLst/>
                <a:rect l="l" t="t" r="r" b="b"/>
                <a:pathLst>
                  <a:path w="24" h="230">
                    <a:moveTo>
                      <a:pt x="20" y="55"/>
                    </a:moveTo>
                    <a:lnTo>
                      <a:pt x="17" y="75"/>
                    </a:lnTo>
                    <a:lnTo>
                      <a:pt x="17" y="97"/>
                    </a:lnTo>
                    <a:lnTo>
                      <a:pt x="17" y="119"/>
                    </a:lnTo>
                    <a:lnTo>
                      <a:pt x="20" y="142"/>
                    </a:lnTo>
                    <a:lnTo>
                      <a:pt x="20" y="162"/>
                    </a:lnTo>
                    <a:lnTo>
                      <a:pt x="20" y="186"/>
                    </a:lnTo>
                    <a:lnTo>
                      <a:pt x="22" y="206"/>
                    </a:lnTo>
                    <a:lnTo>
                      <a:pt x="24" y="230"/>
                    </a:lnTo>
                    <a:lnTo>
                      <a:pt x="13" y="219"/>
                    </a:lnTo>
                    <a:lnTo>
                      <a:pt x="9" y="208"/>
                    </a:lnTo>
                    <a:lnTo>
                      <a:pt x="9" y="195"/>
                    </a:lnTo>
                    <a:lnTo>
                      <a:pt x="11" y="184"/>
                    </a:lnTo>
                    <a:lnTo>
                      <a:pt x="13" y="159"/>
                    </a:lnTo>
                    <a:lnTo>
                      <a:pt x="9" y="137"/>
                    </a:lnTo>
                    <a:lnTo>
                      <a:pt x="2" y="119"/>
                    </a:lnTo>
                    <a:lnTo>
                      <a:pt x="0" y="104"/>
                    </a:lnTo>
                    <a:lnTo>
                      <a:pt x="0" y="86"/>
                    </a:lnTo>
                    <a:lnTo>
                      <a:pt x="0" y="69"/>
                    </a:lnTo>
                    <a:lnTo>
                      <a:pt x="0" y="51"/>
                    </a:lnTo>
                    <a:lnTo>
                      <a:pt x="2" y="33"/>
                    </a:lnTo>
                    <a:lnTo>
                      <a:pt x="4" y="15"/>
                    </a:lnTo>
                    <a:lnTo>
                      <a:pt x="6" y="0"/>
                    </a:lnTo>
                    <a:lnTo>
                      <a:pt x="6" y="13"/>
                    </a:lnTo>
                    <a:lnTo>
                      <a:pt x="9" y="29"/>
                    </a:lnTo>
                    <a:lnTo>
                      <a:pt x="11" y="42"/>
                    </a:lnTo>
                    <a:lnTo>
                      <a:pt x="20" y="55"/>
                    </a:lnTo>
                    <a:close/>
                  </a:path>
                </a:pathLst>
              </a:custGeom>
              <a:solidFill>
                <a:srgbClr val="a82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7038000" y="3059640"/>
                <a:ext cx="430920" cy="206280"/>
              </a:xfrm>
              <a:custGeom>
                <a:avLst/>
                <a:gdLst/>
                <a:ahLst/>
                <a:rect l="l" t="t" r="r" b="b"/>
                <a:pathLst>
                  <a:path w="301" h="135">
                    <a:moveTo>
                      <a:pt x="6" y="17"/>
                    </a:moveTo>
                    <a:lnTo>
                      <a:pt x="0" y="33"/>
                    </a:lnTo>
                    <a:lnTo>
                      <a:pt x="6" y="51"/>
                    </a:lnTo>
                    <a:lnTo>
                      <a:pt x="15" y="64"/>
                    </a:lnTo>
                    <a:lnTo>
                      <a:pt x="33" y="79"/>
                    </a:lnTo>
                    <a:lnTo>
                      <a:pt x="39" y="84"/>
                    </a:lnTo>
                    <a:lnTo>
                      <a:pt x="53" y="91"/>
                    </a:lnTo>
                    <a:lnTo>
                      <a:pt x="64" y="97"/>
                    </a:lnTo>
                    <a:lnTo>
                      <a:pt x="79" y="104"/>
                    </a:lnTo>
                    <a:lnTo>
                      <a:pt x="93" y="108"/>
                    </a:lnTo>
                    <a:lnTo>
                      <a:pt x="106" y="115"/>
                    </a:lnTo>
                    <a:lnTo>
                      <a:pt x="121" y="119"/>
                    </a:lnTo>
                    <a:lnTo>
                      <a:pt x="139" y="126"/>
                    </a:lnTo>
                    <a:lnTo>
                      <a:pt x="152" y="128"/>
                    </a:lnTo>
                    <a:lnTo>
                      <a:pt x="170" y="130"/>
                    </a:lnTo>
                    <a:lnTo>
                      <a:pt x="183" y="133"/>
                    </a:lnTo>
                    <a:lnTo>
                      <a:pt x="201" y="135"/>
                    </a:lnTo>
                    <a:lnTo>
                      <a:pt x="214" y="133"/>
                    </a:lnTo>
                    <a:lnTo>
                      <a:pt x="230" y="133"/>
                    </a:lnTo>
                    <a:lnTo>
                      <a:pt x="243" y="133"/>
                    </a:lnTo>
                    <a:lnTo>
                      <a:pt x="259" y="133"/>
                    </a:lnTo>
                    <a:lnTo>
                      <a:pt x="279" y="124"/>
                    </a:lnTo>
                    <a:lnTo>
                      <a:pt x="296" y="117"/>
                    </a:lnTo>
                    <a:lnTo>
                      <a:pt x="301" y="108"/>
                    </a:lnTo>
                    <a:lnTo>
                      <a:pt x="301" y="99"/>
                    </a:lnTo>
                    <a:lnTo>
                      <a:pt x="292" y="88"/>
                    </a:lnTo>
                    <a:lnTo>
                      <a:pt x="281" y="77"/>
                    </a:lnTo>
                    <a:lnTo>
                      <a:pt x="265" y="66"/>
                    </a:lnTo>
                    <a:lnTo>
                      <a:pt x="248" y="57"/>
                    </a:lnTo>
                    <a:lnTo>
                      <a:pt x="237" y="51"/>
                    </a:lnTo>
                    <a:lnTo>
                      <a:pt x="226" y="46"/>
                    </a:lnTo>
                    <a:lnTo>
                      <a:pt x="212" y="42"/>
                    </a:lnTo>
                    <a:lnTo>
                      <a:pt x="201" y="37"/>
                    </a:lnTo>
                    <a:lnTo>
                      <a:pt x="188" y="31"/>
                    </a:lnTo>
                    <a:lnTo>
                      <a:pt x="177" y="29"/>
                    </a:lnTo>
                    <a:lnTo>
                      <a:pt x="163" y="24"/>
                    </a:lnTo>
                    <a:lnTo>
                      <a:pt x="152" y="22"/>
                    </a:lnTo>
                    <a:lnTo>
                      <a:pt x="139" y="15"/>
                    </a:lnTo>
                    <a:lnTo>
                      <a:pt x="126" y="13"/>
                    </a:lnTo>
                    <a:lnTo>
                      <a:pt x="113" y="9"/>
                    </a:lnTo>
                    <a:lnTo>
                      <a:pt x="101" y="6"/>
                    </a:lnTo>
                    <a:lnTo>
                      <a:pt x="88" y="4"/>
                    </a:lnTo>
                    <a:lnTo>
                      <a:pt x="77" y="2"/>
                    </a:lnTo>
                    <a:lnTo>
                      <a:pt x="66" y="2"/>
                    </a:lnTo>
                    <a:lnTo>
                      <a:pt x="57" y="2"/>
                    </a:lnTo>
                    <a:lnTo>
                      <a:pt x="37" y="0"/>
                    </a:lnTo>
                    <a:lnTo>
                      <a:pt x="22" y="2"/>
                    </a:lnTo>
                    <a:lnTo>
                      <a:pt x="11" y="9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ffd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H="1">
                <a:off x="7064280" y="3073320"/>
                <a:ext cx="380880" cy="182160"/>
              </a:xfrm>
              <a:custGeom>
                <a:avLst/>
                <a:gdLst/>
                <a:ahLst/>
                <a:rect l="l" t="t" r="r" b="b"/>
                <a:pathLst>
                  <a:path w="266" h="119">
                    <a:moveTo>
                      <a:pt x="5" y="15"/>
                    </a:moveTo>
                    <a:lnTo>
                      <a:pt x="0" y="28"/>
                    </a:lnTo>
                    <a:lnTo>
                      <a:pt x="2" y="42"/>
                    </a:lnTo>
                    <a:lnTo>
                      <a:pt x="11" y="55"/>
                    </a:lnTo>
                    <a:lnTo>
                      <a:pt x="27" y="68"/>
                    </a:lnTo>
                    <a:lnTo>
                      <a:pt x="45" y="79"/>
                    </a:lnTo>
                    <a:lnTo>
                      <a:pt x="67" y="90"/>
                    </a:lnTo>
                    <a:lnTo>
                      <a:pt x="80" y="95"/>
                    </a:lnTo>
                    <a:lnTo>
                      <a:pt x="93" y="99"/>
                    </a:lnTo>
                    <a:lnTo>
                      <a:pt x="107" y="104"/>
                    </a:lnTo>
                    <a:lnTo>
                      <a:pt x="122" y="110"/>
                    </a:lnTo>
                    <a:lnTo>
                      <a:pt x="135" y="113"/>
                    </a:lnTo>
                    <a:lnTo>
                      <a:pt x="149" y="115"/>
                    </a:lnTo>
                    <a:lnTo>
                      <a:pt x="162" y="117"/>
                    </a:lnTo>
                    <a:lnTo>
                      <a:pt x="177" y="119"/>
                    </a:lnTo>
                    <a:lnTo>
                      <a:pt x="189" y="117"/>
                    </a:lnTo>
                    <a:lnTo>
                      <a:pt x="202" y="117"/>
                    </a:lnTo>
                    <a:lnTo>
                      <a:pt x="215" y="115"/>
                    </a:lnTo>
                    <a:lnTo>
                      <a:pt x="228" y="115"/>
                    </a:lnTo>
                    <a:lnTo>
                      <a:pt x="246" y="108"/>
                    </a:lnTo>
                    <a:lnTo>
                      <a:pt x="259" y="104"/>
                    </a:lnTo>
                    <a:lnTo>
                      <a:pt x="266" y="95"/>
                    </a:lnTo>
                    <a:lnTo>
                      <a:pt x="266" y="86"/>
                    </a:lnTo>
                    <a:lnTo>
                      <a:pt x="257" y="75"/>
                    </a:lnTo>
                    <a:lnTo>
                      <a:pt x="248" y="66"/>
                    </a:lnTo>
                    <a:lnTo>
                      <a:pt x="233" y="57"/>
                    </a:lnTo>
                    <a:lnTo>
                      <a:pt x="217" y="48"/>
                    </a:lnTo>
                    <a:lnTo>
                      <a:pt x="197" y="39"/>
                    </a:lnTo>
                    <a:lnTo>
                      <a:pt x="177" y="31"/>
                    </a:lnTo>
                    <a:lnTo>
                      <a:pt x="155" y="24"/>
                    </a:lnTo>
                    <a:lnTo>
                      <a:pt x="133" y="17"/>
                    </a:lnTo>
                    <a:lnTo>
                      <a:pt x="109" y="11"/>
                    </a:lnTo>
                    <a:lnTo>
                      <a:pt x="87" y="4"/>
                    </a:lnTo>
                    <a:lnTo>
                      <a:pt x="67" y="0"/>
                    </a:lnTo>
                    <a:lnTo>
                      <a:pt x="49" y="0"/>
                    </a:lnTo>
                    <a:lnTo>
                      <a:pt x="31" y="0"/>
                    </a:lnTo>
                    <a:lnTo>
                      <a:pt x="18" y="2"/>
                    </a:lnTo>
                    <a:lnTo>
                      <a:pt x="9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e0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>
                <a:off x="7092360" y="3082680"/>
                <a:ext cx="329400" cy="158760"/>
              </a:xfrm>
              <a:custGeom>
                <a:avLst/>
                <a:gdLst/>
                <a:ahLst/>
                <a:rect l="l" t="t" r="r" b="b"/>
                <a:pathLst>
                  <a:path w="230" h="104">
                    <a:moveTo>
                      <a:pt x="4" y="14"/>
                    </a:moveTo>
                    <a:lnTo>
                      <a:pt x="0" y="25"/>
                    </a:lnTo>
                    <a:lnTo>
                      <a:pt x="2" y="38"/>
                    </a:lnTo>
                    <a:lnTo>
                      <a:pt x="9" y="49"/>
                    </a:lnTo>
                    <a:lnTo>
                      <a:pt x="24" y="62"/>
                    </a:lnTo>
                    <a:lnTo>
                      <a:pt x="37" y="71"/>
                    </a:lnTo>
                    <a:lnTo>
                      <a:pt x="57" y="80"/>
                    </a:lnTo>
                    <a:lnTo>
                      <a:pt x="68" y="82"/>
                    </a:lnTo>
                    <a:lnTo>
                      <a:pt x="80" y="89"/>
                    </a:lnTo>
                    <a:lnTo>
                      <a:pt x="93" y="91"/>
                    </a:lnTo>
                    <a:lnTo>
                      <a:pt x="106" y="98"/>
                    </a:lnTo>
                    <a:lnTo>
                      <a:pt x="128" y="102"/>
                    </a:lnTo>
                    <a:lnTo>
                      <a:pt x="153" y="104"/>
                    </a:lnTo>
                    <a:lnTo>
                      <a:pt x="175" y="102"/>
                    </a:lnTo>
                    <a:lnTo>
                      <a:pt x="197" y="102"/>
                    </a:lnTo>
                    <a:lnTo>
                      <a:pt x="212" y="95"/>
                    </a:lnTo>
                    <a:lnTo>
                      <a:pt x="226" y="91"/>
                    </a:lnTo>
                    <a:lnTo>
                      <a:pt x="230" y="82"/>
                    </a:lnTo>
                    <a:lnTo>
                      <a:pt x="230" y="76"/>
                    </a:lnTo>
                    <a:lnTo>
                      <a:pt x="224" y="67"/>
                    </a:lnTo>
                    <a:lnTo>
                      <a:pt x="215" y="58"/>
                    </a:lnTo>
                    <a:lnTo>
                      <a:pt x="201" y="49"/>
                    </a:lnTo>
                    <a:lnTo>
                      <a:pt x="188" y="42"/>
                    </a:lnTo>
                    <a:lnTo>
                      <a:pt x="170" y="33"/>
                    </a:lnTo>
                    <a:lnTo>
                      <a:pt x="153" y="27"/>
                    </a:lnTo>
                    <a:lnTo>
                      <a:pt x="133" y="20"/>
                    </a:lnTo>
                    <a:lnTo>
                      <a:pt x="115" y="16"/>
                    </a:lnTo>
                    <a:lnTo>
                      <a:pt x="95" y="9"/>
                    </a:lnTo>
                    <a:lnTo>
                      <a:pt x="75" y="5"/>
                    </a:lnTo>
                    <a:lnTo>
                      <a:pt x="55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5" y="2"/>
                    </a:lnTo>
                    <a:lnTo>
                      <a:pt x="6" y="5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ffe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7118640" y="3093480"/>
                <a:ext cx="279360" cy="134640"/>
              </a:xfrm>
              <a:custGeom>
                <a:avLst/>
                <a:gdLst/>
                <a:ahLst/>
                <a:rect l="l" t="t" r="r" b="b"/>
                <a:pathLst>
                  <a:path w="195" h="88">
                    <a:moveTo>
                      <a:pt x="3" y="11"/>
                    </a:moveTo>
                    <a:lnTo>
                      <a:pt x="0" y="33"/>
                    </a:lnTo>
                    <a:lnTo>
                      <a:pt x="18" y="53"/>
                    </a:lnTo>
                    <a:lnTo>
                      <a:pt x="32" y="60"/>
                    </a:lnTo>
                    <a:lnTo>
                      <a:pt x="49" y="69"/>
                    </a:lnTo>
                    <a:lnTo>
                      <a:pt x="67" y="75"/>
                    </a:lnTo>
                    <a:lnTo>
                      <a:pt x="87" y="84"/>
                    </a:lnTo>
                    <a:lnTo>
                      <a:pt x="107" y="86"/>
                    </a:lnTo>
                    <a:lnTo>
                      <a:pt x="127" y="88"/>
                    </a:lnTo>
                    <a:lnTo>
                      <a:pt x="147" y="86"/>
                    </a:lnTo>
                    <a:lnTo>
                      <a:pt x="167" y="86"/>
                    </a:lnTo>
                    <a:lnTo>
                      <a:pt x="180" y="82"/>
                    </a:lnTo>
                    <a:lnTo>
                      <a:pt x="191" y="77"/>
                    </a:lnTo>
                    <a:lnTo>
                      <a:pt x="195" y="71"/>
                    </a:lnTo>
                    <a:lnTo>
                      <a:pt x="195" y="66"/>
                    </a:lnTo>
                    <a:lnTo>
                      <a:pt x="189" y="57"/>
                    </a:lnTo>
                    <a:lnTo>
                      <a:pt x="182" y="51"/>
                    </a:lnTo>
                    <a:lnTo>
                      <a:pt x="171" y="44"/>
                    </a:lnTo>
                    <a:lnTo>
                      <a:pt x="160" y="38"/>
                    </a:lnTo>
                    <a:lnTo>
                      <a:pt x="144" y="31"/>
                    </a:lnTo>
                    <a:lnTo>
                      <a:pt x="129" y="24"/>
                    </a:lnTo>
                    <a:lnTo>
                      <a:pt x="113" y="18"/>
                    </a:lnTo>
                    <a:lnTo>
                      <a:pt x="98" y="13"/>
                    </a:lnTo>
                    <a:lnTo>
                      <a:pt x="80" y="7"/>
                    </a:lnTo>
                    <a:lnTo>
                      <a:pt x="65" y="4"/>
                    </a:lnTo>
                    <a:lnTo>
                      <a:pt x="49" y="0"/>
                    </a:lnTo>
                    <a:lnTo>
                      <a:pt x="36" y="0"/>
                    </a:lnTo>
                    <a:lnTo>
                      <a:pt x="23" y="0"/>
                    </a:lnTo>
                    <a:lnTo>
                      <a:pt x="12" y="2"/>
                    </a:lnTo>
                    <a:lnTo>
                      <a:pt x="5" y="4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ffe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7143120" y="3106800"/>
                <a:ext cx="231840" cy="111600"/>
              </a:xfrm>
              <a:custGeom>
                <a:avLst/>
                <a:gdLst/>
                <a:ahLst/>
                <a:rect l="l" t="t" r="r" b="b"/>
                <a:pathLst>
                  <a:path w="162" h="73">
                    <a:moveTo>
                      <a:pt x="2" y="9"/>
                    </a:moveTo>
                    <a:lnTo>
                      <a:pt x="0" y="26"/>
                    </a:lnTo>
                    <a:lnTo>
                      <a:pt x="16" y="42"/>
                    </a:lnTo>
                    <a:lnTo>
                      <a:pt x="24" y="48"/>
                    </a:lnTo>
                    <a:lnTo>
                      <a:pt x="40" y="55"/>
                    </a:lnTo>
                    <a:lnTo>
                      <a:pt x="53" y="62"/>
                    </a:lnTo>
                    <a:lnTo>
                      <a:pt x="71" y="68"/>
                    </a:lnTo>
                    <a:lnTo>
                      <a:pt x="86" y="71"/>
                    </a:lnTo>
                    <a:lnTo>
                      <a:pt x="104" y="73"/>
                    </a:lnTo>
                    <a:lnTo>
                      <a:pt x="122" y="71"/>
                    </a:lnTo>
                    <a:lnTo>
                      <a:pt x="137" y="71"/>
                    </a:lnTo>
                    <a:lnTo>
                      <a:pt x="148" y="66"/>
                    </a:lnTo>
                    <a:lnTo>
                      <a:pt x="157" y="62"/>
                    </a:lnTo>
                    <a:lnTo>
                      <a:pt x="162" y="57"/>
                    </a:lnTo>
                    <a:lnTo>
                      <a:pt x="162" y="53"/>
                    </a:lnTo>
                    <a:lnTo>
                      <a:pt x="148" y="42"/>
                    </a:lnTo>
                    <a:lnTo>
                      <a:pt x="131" y="31"/>
                    </a:lnTo>
                    <a:lnTo>
                      <a:pt x="117" y="24"/>
                    </a:lnTo>
                    <a:lnTo>
                      <a:pt x="106" y="17"/>
                    </a:lnTo>
                    <a:lnTo>
                      <a:pt x="93" y="13"/>
                    </a:lnTo>
                    <a:lnTo>
                      <a:pt x="80" y="11"/>
                    </a:lnTo>
                    <a:lnTo>
                      <a:pt x="64" y="4"/>
                    </a:lnTo>
                    <a:lnTo>
                      <a:pt x="51" y="2"/>
                    </a:lnTo>
                    <a:lnTo>
                      <a:pt x="38" y="0"/>
                    </a:lnTo>
                    <a:lnTo>
                      <a:pt x="29" y="0"/>
                    </a:lnTo>
                    <a:lnTo>
                      <a:pt x="9" y="0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ff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7171200" y="3116520"/>
                <a:ext cx="184680" cy="88560"/>
              </a:xfrm>
              <a:custGeom>
                <a:avLst/>
                <a:gdLst/>
                <a:ahLst/>
                <a:rect l="l" t="t" r="r" b="b"/>
                <a:pathLst>
                  <a:path w="129" h="58">
                    <a:moveTo>
                      <a:pt x="3" y="9"/>
                    </a:moveTo>
                    <a:lnTo>
                      <a:pt x="0" y="23"/>
                    </a:lnTo>
                    <a:lnTo>
                      <a:pt x="14" y="36"/>
                    </a:lnTo>
                    <a:lnTo>
                      <a:pt x="20" y="40"/>
                    </a:lnTo>
                    <a:lnTo>
                      <a:pt x="31" y="45"/>
                    </a:lnTo>
                    <a:lnTo>
                      <a:pt x="45" y="49"/>
                    </a:lnTo>
                    <a:lnTo>
                      <a:pt x="58" y="56"/>
                    </a:lnTo>
                    <a:lnTo>
                      <a:pt x="71" y="56"/>
                    </a:lnTo>
                    <a:lnTo>
                      <a:pt x="84" y="58"/>
                    </a:lnTo>
                    <a:lnTo>
                      <a:pt x="96" y="56"/>
                    </a:lnTo>
                    <a:lnTo>
                      <a:pt x="109" y="56"/>
                    </a:lnTo>
                    <a:lnTo>
                      <a:pt x="124" y="49"/>
                    </a:lnTo>
                    <a:lnTo>
                      <a:pt x="129" y="42"/>
                    </a:lnTo>
                    <a:lnTo>
                      <a:pt x="120" y="31"/>
                    </a:lnTo>
                    <a:lnTo>
                      <a:pt x="104" y="25"/>
                    </a:lnTo>
                    <a:lnTo>
                      <a:pt x="84" y="16"/>
                    </a:lnTo>
                    <a:lnTo>
                      <a:pt x="65" y="9"/>
                    </a:lnTo>
                    <a:lnTo>
                      <a:pt x="42" y="3"/>
                    </a:lnTo>
                    <a:lnTo>
                      <a:pt x="22" y="0"/>
                    </a:lnTo>
                    <a:lnTo>
                      <a:pt x="9" y="0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fff2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200000" y="3130200"/>
                <a:ext cx="133200" cy="60840"/>
              </a:xfrm>
              <a:custGeom>
                <a:avLst/>
                <a:gdLst/>
                <a:ahLst/>
                <a:rect l="l" t="t" r="r" b="b"/>
                <a:pathLst>
                  <a:path w="93" h="40">
                    <a:moveTo>
                      <a:pt x="2" y="5"/>
                    </a:moveTo>
                    <a:lnTo>
                      <a:pt x="0" y="14"/>
                    </a:lnTo>
                    <a:lnTo>
                      <a:pt x="9" y="25"/>
                    </a:lnTo>
                    <a:lnTo>
                      <a:pt x="22" y="31"/>
                    </a:lnTo>
                    <a:lnTo>
                      <a:pt x="42" y="38"/>
                    </a:lnTo>
                    <a:lnTo>
                      <a:pt x="60" y="40"/>
                    </a:lnTo>
                    <a:lnTo>
                      <a:pt x="80" y="40"/>
                    </a:lnTo>
                    <a:lnTo>
                      <a:pt x="88" y="36"/>
                    </a:lnTo>
                    <a:lnTo>
                      <a:pt x="93" y="31"/>
                    </a:lnTo>
                    <a:lnTo>
                      <a:pt x="86" y="25"/>
                    </a:lnTo>
                    <a:lnTo>
                      <a:pt x="75" y="18"/>
                    </a:lnTo>
                    <a:lnTo>
                      <a:pt x="60" y="11"/>
                    </a:lnTo>
                    <a:lnTo>
                      <a:pt x="46" y="7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7226280" y="3140640"/>
                <a:ext cx="81360" cy="3960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4"/>
                    </a:moveTo>
                    <a:lnTo>
                      <a:pt x="4" y="15"/>
                    </a:lnTo>
                    <a:lnTo>
                      <a:pt x="24" y="24"/>
                    </a:lnTo>
                    <a:lnTo>
                      <a:pt x="35" y="24"/>
                    </a:lnTo>
                    <a:lnTo>
                      <a:pt x="48" y="26"/>
                    </a:lnTo>
                    <a:lnTo>
                      <a:pt x="55" y="22"/>
                    </a:lnTo>
                    <a:lnTo>
                      <a:pt x="57" y="20"/>
                    </a:lnTo>
                    <a:lnTo>
                      <a:pt x="44" y="11"/>
                    </a:lnTo>
                    <a:lnTo>
                      <a:pt x="26" y="4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a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7251480" y="3151440"/>
                <a:ext cx="34200" cy="198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4"/>
                    </a:moveTo>
                    <a:lnTo>
                      <a:pt x="0" y="8"/>
                    </a:lnTo>
                    <a:lnTo>
                      <a:pt x="9" y="13"/>
                    </a:lnTo>
                    <a:lnTo>
                      <a:pt x="20" y="11"/>
                    </a:lnTo>
                    <a:lnTo>
                      <a:pt x="24" y="11"/>
                    </a:lnTo>
                    <a:lnTo>
                      <a:pt x="18" y="6"/>
                    </a:lnTo>
                    <a:lnTo>
                      <a:pt x="11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6479280" y="3333600"/>
                <a:ext cx="276480" cy="135720"/>
              </a:xfrm>
              <a:custGeom>
                <a:avLst/>
                <a:gdLst/>
                <a:ahLst/>
                <a:rect l="l" t="t" r="r" b="b"/>
                <a:pathLst>
                  <a:path w="193" h="89">
                    <a:moveTo>
                      <a:pt x="0" y="11"/>
                    </a:moveTo>
                    <a:lnTo>
                      <a:pt x="0" y="31"/>
                    </a:lnTo>
                    <a:lnTo>
                      <a:pt x="16" y="49"/>
                    </a:lnTo>
                    <a:lnTo>
                      <a:pt x="27" y="55"/>
                    </a:lnTo>
                    <a:lnTo>
                      <a:pt x="44" y="62"/>
                    </a:lnTo>
                    <a:lnTo>
                      <a:pt x="62" y="71"/>
                    </a:lnTo>
                    <a:lnTo>
                      <a:pt x="86" y="80"/>
                    </a:lnTo>
                    <a:lnTo>
                      <a:pt x="106" y="84"/>
                    </a:lnTo>
                    <a:lnTo>
                      <a:pt x="128" y="89"/>
                    </a:lnTo>
                    <a:lnTo>
                      <a:pt x="148" y="89"/>
                    </a:lnTo>
                    <a:lnTo>
                      <a:pt x="166" y="89"/>
                    </a:lnTo>
                    <a:lnTo>
                      <a:pt x="177" y="84"/>
                    </a:lnTo>
                    <a:lnTo>
                      <a:pt x="188" y="80"/>
                    </a:lnTo>
                    <a:lnTo>
                      <a:pt x="193" y="73"/>
                    </a:lnTo>
                    <a:lnTo>
                      <a:pt x="193" y="67"/>
                    </a:lnTo>
                    <a:lnTo>
                      <a:pt x="186" y="60"/>
                    </a:lnTo>
                    <a:lnTo>
                      <a:pt x="179" y="53"/>
                    </a:lnTo>
                    <a:lnTo>
                      <a:pt x="168" y="47"/>
                    </a:lnTo>
                    <a:lnTo>
                      <a:pt x="157" y="42"/>
                    </a:lnTo>
                    <a:lnTo>
                      <a:pt x="142" y="36"/>
                    </a:lnTo>
                    <a:lnTo>
                      <a:pt x="126" y="29"/>
                    </a:lnTo>
                    <a:lnTo>
                      <a:pt x="109" y="22"/>
                    </a:lnTo>
                    <a:lnTo>
                      <a:pt x="93" y="18"/>
                    </a:lnTo>
                    <a:lnTo>
                      <a:pt x="73" y="11"/>
                    </a:lnTo>
                    <a:lnTo>
                      <a:pt x="58" y="7"/>
                    </a:lnTo>
                    <a:lnTo>
                      <a:pt x="42" y="2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7" y="2"/>
                    </a:lnTo>
                    <a:lnTo>
                      <a:pt x="0" y="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d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6502680" y="3347640"/>
                <a:ext cx="234720" cy="111600"/>
              </a:xfrm>
              <a:custGeom>
                <a:avLst/>
                <a:gdLst/>
                <a:ahLst/>
                <a:rect l="l" t="t" r="r" b="b"/>
                <a:pathLst>
                  <a:path w="164" h="73">
                    <a:moveTo>
                      <a:pt x="0" y="9"/>
                    </a:moveTo>
                    <a:lnTo>
                      <a:pt x="0" y="24"/>
                    </a:lnTo>
                    <a:lnTo>
                      <a:pt x="14" y="40"/>
                    </a:lnTo>
                    <a:lnTo>
                      <a:pt x="22" y="44"/>
                    </a:lnTo>
                    <a:lnTo>
                      <a:pt x="38" y="51"/>
                    </a:lnTo>
                    <a:lnTo>
                      <a:pt x="53" y="58"/>
                    </a:lnTo>
                    <a:lnTo>
                      <a:pt x="73" y="66"/>
                    </a:lnTo>
                    <a:lnTo>
                      <a:pt x="91" y="71"/>
                    </a:lnTo>
                    <a:lnTo>
                      <a:pt x="109" y="73"/>
                    </a:lnTo>
                    <a:lnTo>
                      <a:pt x="124" y="73"/>
                    </a:lnTo>
                    <a:lnTo>
                      <a:pt x="140" y="73"/>
                    </a:lnTo>
                    <a:lnTo>
                      <a:pt x="151" y="69"/>
                    </a:lnTo>
                    <a:lnTo>
                      <a:pt x="160" y="64"/>
                    </a:lnTo>
                    <a:lnTo>
                      <a:pt x="164" y="58"/>
                    </a:lnTo>
                    <a:lnTo>
                      <a:pt x="164" y="53"/>
                    </a:lnTo>
                    <a:lnTo>
                      <a:pt x="151" y="42"/>
                    </a:lnTo>
                    <a:lnTo>
                      <a:pt x="133" y="33"/>
                    </a:lnTo>
                    <a:lnTo>
                      <a:pt x="120" y="27"/>
                    </a:lnTo>
                    <a:lnTo>
                      <a:pt x="107" y="20"/>
                    </a:lnTo>
                    <a:lnTo>
                      <a:pt x="91" y="15"/>
                    </a:lnTo>
                    <a:lnTo>
                      <a:pt x="78" y="13"/>
                    </a:lnTo>
                    <a:lnTo>
                      <a:pt x="62" y="7"/>
                    </a:lnTo>
                    <a:lnTo>
                      <a:pt x="49" y="4"/>
                    </a:lnTo>
                    <a:lnTo>
                      <a:pt x="36" y="0"/>
                    </a:lnTo>
                    <a:lnTo>
                      <a:pt x="25" y="0"/>
                    </a:lnTo>
                    <a:lnTo>
                      <a:pt x="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e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6527160" y="3358440"/>
                <a:ext cx="190080" cy="90000"/>
              </a:xfrm>
              <a:custGeom>
                <a:avLst/>
                <a:gdLst/>
                <a:ahLst/>
                <a:rect l="l" t="t" r="r" b="b"/>
                <a:pathLst>
                  <a:path w="133" h="59">
                    <a:moveTo>
                      <a:pt x="0" y="6"/>
                    </a:moveTo>
                    <a:lnTo>
                      <a:pt x="0" y="20"/>
                    </a:lnTo>
                    <a:lnTo>
                      <a:pt x="11" y="31"/>
                    </a:lnTo>
                    <a:lnTo>
                      <a:pt x="17" y="35"/>
                    </a:lnTo>
                    <a:lnTo>
                      <a:pt x="31" y="42"/>
                    </a:lnTo>
                    <a:lnTo>
                      <a:pt x="42" y="48"/>
                    </a:lnTo>
                    <a:lnTo>
                      <a:pt x="59" y="55"/>
                    </a:lnTo>
                    <a:lnTo>
                      <a:pt x="73" y="57"/>
                    </a:lnTo>
                    <a:lnTo>
                      <a:pt x="88" y="59"/>
                    </a:lnTo>
                    <a:lnTo>
                      <a:pt x="101" y="59"/>
                    </a:lnTo>
                    <a:lnTo>
                      <a:pt x="115" y="59"/>
                    </a:lnTo>
                    <a:lnTo>
                      <a:pt x="130" y="53"/>
                    </a:lnTo>
                    <a:lnTo>
                      <a:pt x="133" y="44"/>
                    </a:lnTo>
                    <a:lnTo>
                      <a:pt x="124" y="35"/>
                    </a:lnTo>
                    <a:lnTo>
                      <a:pt x="108" y="26"/>
                    </a:lnTo>
                    <a:lnTo>
                      <a:pt x="86" y="15"/>
                    </a:lnTo>
                    <a:lnTo>
                      <a:pt x="64" y="8"/>
                    </a:lnTo>
                    <a:lnTo>
                      <a:pt x="51" y="4"/>
                    </a:lnTo>
                    <a:lnTo>
                      <a:pt x="37" y="2"/>
                    </a:lnTo>
                    <a:lnTo>
                      <a:pt x="26" y="0"/>
                    </a:lnTo>
                    <a:lnTo>
                      <a:pt x="17" y="0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8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6549480" y="3364200"/>
                <a:ext cx="149040" cy="74880"/>
              </a:xfrm>
              <a:custGeom>
                <a:avLst/>
                <a:gdLst/>
                <a:ahLst/>
                <a:rect l="l" t="t" r="r" b="b"/>
                <a:pathLst>
                  <a:path w="104" h="49">
                    <a:moveTo>
                      <a:pt x="0" y="7"/>
                    </a:moveTo>
                    <a:lnTo>
                      <a:pt x="0" y="18"/>
                    </a:lnTo>
                    <a:lnTo>
                      <a:pt x="9" y="27"/>
                    </a:lnTo>
                    <a:lnTo>
                      <a:pt x="13" y="29"/>
                    </a:lnTo>
                    <a:lnTo>
                      <a:pt x="22" y="35"/>
                    </a:lnTo>
                    <a:lnTo>
                      <a:pt x="33" y="38"/>
                    </a:lnTo>
                    <a:lnTo>
                      <a:pt x="46" y="44"/>
                    </a:lnTo>
                    <a:lnTo>
                      <a:pt x="69" y="49"/>
                    </a:lnTo>
                    <a:lnTo>
                      <a:pt x="88" y="49"/>
                    </a:lnTo>
                    <a:lnTo>
                      <a:pt x="100" y="44"/>
                    </a:lnTo>
                    <a:lnTo>
                      <a:pt x="104" y="35"/>
                    </a:lnTo>
                    <a:lnTo>
                      <a:pt x="95" y="29"/>
                    </a:lnTo>
                    <a:lnTo>
                      <a:pt x="84" y="22"/>
                    </a:lnTo>
                    <a:lnTo>
                      <a:pt x="66" y="16"/>
                    </a:lnTo>
                    <a:lnTo>
                      <a:pt x="49" y="11"/>
                    </a:lnTo>
                    <a:lnTo>
                      <a:pt x="29" y="4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6572520" y="3378240"/>
                <a:ext cx="109800" cy="5004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0" y="4"/>
                    </a:moveTo>
                    <a:lnTo>
                      <a:pt x="0" y="11"/>
                    </a:lnTo>
                    <a:lnTo>
                      <a:pt x="7" y="18"/>
                    </a:lnTo>
                    <a:lnTo>
                      <a:pt x="18" y="24"/>
                    </a:lnTo>
                    <a:lnTo>
                      <a:pt x="35" y="31"/>
                    </a:lnTo>
                    <a:lnTo>
                      <a:pt x="51" y="33"/>
                    </a:lnTo>
                    <a:lnTo>
                      <a:pt x="66" y="33"/>
                    </a:lnTo>
                    <a:lnTo>
                      <a:pt x="73" y="29"/>
                    </a:lnTo>
                    <a:lnTo>
                      <a:pt x="77" y="24"/>
                    </a:lnTo>
                    <a:lnTo>
                      <a:pt x="71" y="18"/>
                    </a:lnTo>
                    <a:lnTo>
                      <a:pt x="62" y="13"/>
                    </a:lnTo>
                    <a:lnTo>
                      <a:pt x="49" y="9"/>
                    </a:lnTo>
                    <a:lnTo>
                      <a:pt x="38" y="4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6597360" y="3388680"/>
                <a:ext cx="64080" cy="288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4"/>
                    </a:moveTo>
                    <a:lnTo>
                      <a:pt x="3" y="11"/>
                    </a:lnTo>
                    <a:lnTo>
                      <a:pt x="20" y="17"/>
                    </a:lnTo>
                    <a:lnTo>
                      <a:pt x="38" y="19"/>
                    </a:lnTo>
                    <a:lnTo>
                      <a:pt x="45" y="15"/>
                    </a:lnTo>
                    <a:lnTo>
                      <a:pt x="36" y="8"/>
                    </a:lnTo>
                    <a:lnTo>
                      <a:pt x="20" y="4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6619680" y="3400920"/>
                <a:ext cx="24120" cy="756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0"/>
                    </a:moveTo>
                    <a:lnTo>
                      <a:pt x="0" y="3"/>
                    </a:lnTo>
                    <a:lnTo>
                      <a:pt x="8" y="5"/>
                    </a:lnTo>
                    <a:lnTo>
                      <a:pt x="13" y="5"/>
                    </a:lnTo>
                    <a:lnTo>
                      <a:pt x="17" y="5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7032240" y="3306240"/>
                <a:ext cx="235080" cy="132840"/>
              </a:xfrm>
              <a:custGeom>
                <a:avLst/>
                <a:gdLst/>
                <a:ahLst/>
                <a:rect l="l" t="t" r="r" b="b"/>
                <a:pathLst>
                  <a:path w="164" h="87">
                    <a:moveTo>
                      <a:pt x="0" y="5"/>
                    </a:moveTo>
                    <a:lnTo>
                      <a:pt x="5" y="9"/>
                    </a:lnTo>
                    <a:lnTo>
                      <a:pt x="18" y="20"/>
                    </a:lnTo>
                    <a:lnTo>
                      <a:pt x="25" y="27"/>
                    </a:lnTo>
                    <a:lnTo>
                      <a:pt x="36" y="34"/>
                    </a:lnTo>
                    <a:lnTo>
                      <a:pt x="49" y="42"/>
                    </a:lnTo>
                    <a:lnTo>
                      <a:pt x="62" y="51"/>
                    </a:lnTo>
                    <a:lnTo>
                      <a:pt x="85" y="62"/>
                    </a:lnTo>
                    <a:lnTo>
                      <a:pt x="107" y="76"/>
                    </a:lnTo>
                    <a:lnTo>
                      <a:pt x="122" y="82"/>
                    </a:lnTo>
                    <a:lnTo>
                      <a:pt x="133" y="87"/>
                    </a:lnTo>
                    <a:lnTo>
                      <a:pt x="142" y="78"/>
                    </a:lnTo>
                    <a:lnTo>
                      <a:pt x="151" y="62"/>
                    </a:lnTo>
                    <a:lnTo>
                      <a:pt x="160" y="45"/>
                    </a:lnTo>
                    <a:lnTo>
                      <a:pt x="164" y="34"/>
                    </a:lnTo>
                    <a:lnTo>
                      <a:pt x="155" y="27"/>
                    </a:lnTo>
                    <a:lnTo>
                      <a:pt x="138" y="20"/>
                    </a:lnTo>
                    <a:lnTo>
                      <a:pt x="124" y="16"/>
                    </a:lnTo>
                    <a:lnTo>
                      <a:pt x="111" y="14"/>
                    </a:lnTo>
                    <a:lnTo>
                      <a:pt x="96" y="9"/>
                    </a:lnTo>
                    <a:lnTo>
                      <a:pt x="82" y="9"/>
                    </a:lnTo>
                    <a:lnTo>
                      <a:pt x="65" y="5"/>
                    </a:lnTo>
                    <a:lnTo>
                      <a:pt x="49" y="3"/>
                    </a:lnTo>
                    <a:lnTo>
                      <a:pt x="36" y="0"/>
                    </a:lnTo>
                    <a:lnTo>
                      <a:pt x="2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>
                <a:off x="7032240" y="3313800"/>
                <a:ext cx="203400" cy="117360"/>
              </a:xfrm>
              <a:custGeom>
                <a:avLst/>
                <a:gdLst/>
                <a:ahLst/>
                <a:rect l="l" t="t" r="r" b="b"/>
                <a:pathLst>
                  <a:path w="142" h="77">
                    <a:moveTo>
                      <a:pt x="0" y="4"/>
                    </a:moveTo>
                    <a:lnTo>
                      <a:pt x="3" y="6"/>
                    </a:lnTo>
                    <a:lnTo>
                      <a:pt x="16" y="18"/>
                    </a:lnTo>
                    <a:lnTo>
                      <a:pt x="31" y="29"/>
                    </a:lnTo>
                    <a:lnTo>
                      <a:pt x="54" y="44"/>
                    </a:lnTo>
                    <a:lnTo>
                      <a:pt x="71" y="55"/>
                    </a:lnTo>
                    <a:lnTo>
                      <a:pt x="91" y="68"/>
                    </a:lnTo>
                    <a:lnTo>
                      <a:pt x="105" y="75"/>
                    </a:lnTo>
                    <a:lnTo>
                      <a:pt x="113" y="77"/>
                    </a:lnTo>
                    <a:lnTo>
                      <a:pt x="120" y="68"/>
                    </a:lnTo>
                    <a:lnTo>
                      <a:pt x="131" y="55"/>
                    </a:lnTo>
                    <a:lnTo>
                      <a:pt x="138" y="40"/>
                    </a:lnTo>
                    <a:lnTo>
                      <a:pt x="142" y="29"/>
                    </a:lnTo>
                    <a:lnTo>
                      <a:pt x="136" y="22"/>
                    </a:lnTo>
                    <a:lnTo>
                      <a:pt x="120" y="18"/>
                    </a:lnTo>
                    <a:lnTo>
                      <a:pt x="107" y="13"/>
                    </a:lnTo>
                    <a:lnTo>
                      <a:pt x="96" y="11"/>
                    </a:lnTo>
                    <a:lnTo>
                      <a:pt x="82" y="6"/>
                    </a:lnTo>
                    <a:lnTo>
                      <a:pt x="71" y="6"/>
                    </a:lnTo>
                    <a:lnTo>
                      <a:pt x="58" y="4"/>
                    </a:lnTo>
                    <a:lnTo>
                      <a:pt x="45" y="2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a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7032240" y="3319920"/>
                <a:ext cx="170280" cy="10584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0" y="5"/>
                    </a:moveTo>
                    <a:lnTo>
                      <a:pt x="2" y="7"/>
                    </a:lnTo>
                    <a:lnTo>
                      <a:pt x="11" y="16"/>
                    </a:lnTo>
                    <a:lnTo>
                      <a:pt x="24" y="27"/>
                    </a:lnTo>
                    <a:lnTo>
                      <a:pt x="44" y="40"/>
                    </a:lnTo>
                    <a:lnTo>
                      <a:pt x="59" y="49"/>
                    </a:lnTo>
                    <a:lnTo>
                      <a:pt x="75" y="60"/>
                    </a:lnTo>
                    <a:lnTo>
                      <a:pt x="86" y="67"/>
                    </a:lnTo>
                    <a:lnTo>
                      <a:pt x="95" y="69"/>
                    </a:lnTo>
                    <a:lnTo>
                      <a:pt x="99" y="60"/>
                    </a:lnTo>
                    <a:lnTo>
                      <a:pt x="108" y="49"/>
                    </a:lnTo>
                    <a:lnTo>
                      <a:pt x="115" y="33"/>
                    </a:lnTo>
                    <a:lnTo>
                      <a:pt x="119" y="25"/>
                    </a:lnTo>
                    <a:lnTo>
                      <a:pt x="113" y="18"/>
                    </a:lnTo>
                    <a:lnTo>
                      <a:pt x="99" y="14"/>
                    </a:lnTo>
                    <a:lnTo>
                      <a:pt x="79" y="9"/>
                    </a:lnTo>
                    <a:lnTo>
                      <a:pt x="59" y="7"/>
                    </a:lnTo>
                    <a:lnTo>
                      <a:pt x="35" y="2"/>
                    </a:lnTo>
                    <a:lnTo>
                      <a:pt x="17" y="2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7c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7032600" y="3327480"/>
                <a:ext cx="138960" cy="90360"/>
              </a:xfrm>
              <a:custGeom>
                <a:avLst/>
                <a:gdLst/>
                <a:ahLst/>
                <a:rect l="l" t="t" r="r" b="b"/>
                <a:pathLst>
                  <a:path w="97" h="59">
                    <a:moveTo>
                      <a:pt x="0" y="4"/>
                    </a:moveTo>
                    <a:lnTo>
                      <a:pt x="0" y="6"/>
                    </a:lnTo>
                    <a:lnTo>
                      <a:pt x="9" y="15"/>
                    </a:lnTo>
                    <a:lnTo>
                      <a:pt x="20" y="24"/>
                    </a:lnTo>
                    <a:lnTo>
                      <a:pt x="33" y="35"/>
                    </a:lnTo>
                    <a:lnTo>
                      <a:pt x="46" y="44"/>
                    </a:lnTo>
                    <a:lnTo>
                      <a:pt x="60" y="53"/>
                    </a:lnTo>
                    <a:lnTo>
                      <a:pt x="68" y="57"/>
                    </a:lnTo>
                    <a:lnTo>
                      <a:pt x="75" y="59"/>
                    </a:lnTo>
                    <a:lnTo>
                      <a:pt x="80" y="51"/>
                    </a:lnTo>
                    <a:lnTo>
                      <a:pt x="88" y="42"/>
                    </a:lnTo>
                    <a:lnTo>
                      <a:pt x="93" y="28"/>
                    </a:lnTo>
                    <a:lnTo>
                      <a:pt x="97" y="20"/>
                    </a:lnTo>
                    <a:lnTo>
                      <a:pt x="93" y="15"/>
                    </a:lnTo>
                    <a:lnTo>
                      <a:pt x="82" y="11"/>
                    </a:lnTo>
                    <a:lnTo>
                      <a:pt x="64" y="6"/>
                    </a:lnTo>
                    <a:lnTo>
                      <a:pt x="49" y="4"/>
                    </a:lnTo>
                    <a:lnTo>
                      <a:pt x="29" y="2"/>
                    </a:lnTo>
                    <a:lnTo>
                      <a:pt x="13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2c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7032600" y="3336840"/>
                <a:ext cx="107280" cy="74880"/>
              </a:xfrm>
              <a:custGeom>
                <a:avLst/>
                <a:gdLst/>
                <a:ahLst/>
                <a:rect l="l" t="t" r="r" b="b"/>
                <a:pathLst>
                  <a:path w="75" h="49">
                    <a:moveTo>
                      <a:pt x="0" y="3"/>
                    </a:moveTo>
                    <a:lnTo>
                      <a:pt x="7" y="11"/>
                    </a:lnTo>
                    <a:lnTo>
                      <a:pt x="24" y="29"/>
                    </a:lnTo>
                    <a:lnTo>
                      <a:pt x="42" y="42"/>
                    </a:lnTo>
                    <a:lnTo>
                      <a:pt x="55" y="49"/>
                    </a:lnTo>
                    <a:lnTo>
                      <a:pt x="60" y="42"/>
                    </a:lnTo>
                    <a:lnTo>
                      <a:pt x="66" y="34"/>
                    </a:lnTo>
                    <a:lnTo>
                      <a:pt x="71" y="22"/>
                    </a:lnTo>
                    <a:lnTo>
                      <a:pt x="75" y="16"/>
                    </a:lnTo>
                    <a:lnTo>
                      <a:pt x="71" y="9"/>
                    </a:lnTo>
                    <a:lnTo>
                      <a:pt x="62" y="7"/>
                    </a:lnTo>
                    <a:lnTo>
                      <a:pt x="49" y="3"/>
                    </a:lnTo>
                    <a:lnTo>
                      <a:pt x="38" y="3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0b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7032240" y="3347640"/>
                <a:ext cx="78840" cy="57960"/>
              </a:xfrm>
              <a:custGeom>
                <a:avLst/>
                <a:gdLst/>
                <a:ahLst/>
                <a:rect l="l" t="t" r="r" b="b"/>
                <a:pathLst>
                  <a:path w="55" h="38">
                    <a:moveTo>
                      <a:pt x="0" y="2"/>
                    </a:moveTo>
                    <a:lnTo>
                      <a:pt x="4" y="9"/>
                    </a:lnTo>
                    <a:lnTo>
                      <a:pt x="18" y="22"/>
                    </a:lnTo>
                    <a:lnTo>
                      <a:pt x="29" y="33"/>
                    </a:lnTo>
                    <a:lnTo>
                      <a:pt x="38" y="38"/>
                    </a:lnTo>
                    <a:lnTo>
                      <a:pt x="42" y="31"/>
                    </a:lnTo>
                    <a:lnTo>
                      <a:pt x="46" y="24"/>
                    </a:lnTo>
                    <a:lnTo>
                      <a:pt x="51" y="13"/>
                    </a:lnTo>
                    <a:lnTo>
                      <a:pt x="55" y="9"/>
                    </a:lnTo>
                    <a:lnTo>
                      <a:pt x="44" y="2"/>
                    </a:lnTo>
                    <a:lnTo>
                      <a:pt x="26" y="0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b8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7032240" y="3353400"/>
                <a:ext cx="47160" cy="442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0" y="3"/>
                    </a:moveTo>
                    <a:lnTo>
                      <a:pt x="2" y="5"/>
                    </a:lnTo>
                    <a:lnTo>
                      <a:pt x="9" y="16"/>
                    </a:lnTo>
                    <a:lnTo>
                      <a:pt x="13" y="25"/>
                    </a:lnTo>
                    <a:lnTo>
                      <a:pt x="20" y="29"/>
                    </a:lnTo>
                    <a:lnTo>
                      <a:pt x="20" y="23"/>
                    </a:lnTo>
                    <a:lnTo>
                      <a:pt x="27" y="16"/>
                    </a:lnTo>
                    <a:lnTo>
                      <a:pt x="29" y="9"/>
                    </a:lnTo>
                    <a:lnTo>
                      <a:pt x="33" y="5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8b0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6628680" y="3445560"/>
                <a:ext cx="146160" cy="74880"/>
              </a:xfrm>
              <a:custGeom>
                <a:avLst/>
                <a:gdLst/>
                <a:ahLst/>
                <a:rect l="l" t="t" r="r" b="b"/>
                <a:pathLst>
                  <a:path w="102" h="49">
                    <a:moveTo>
                      <a:pt x="22" y="0"/>
                    </a:moveTo>
                    <a:lnTo>
                      <a:pt x="9" y="7"/>
                    </a:lnTo>
                    <a:lnTo>
                      <a:pt x="4" y="22"/>
                    </a:lnTo>
                    <a:lnTo>
                      <a:pt x="0" y="31"/>
                    </a:lnTo>
                    <a:lnTo>
                      <a:pt x="6" y="42"/>
                    </a:lnTo>
                    <a:lnTo>
                      <a:pt x="13" y="42"/>
                    </a:lnTo>
                    <a:lnTo>
                      <a:pt x="26" y="44"/>
                    </a:lnTo>
                    <a:lnTo>
                      <a:pt x="42" y="47"/>
                    </a:lnTo>
                    <a:lnTo>
                      <a:pt x="62" y="49"/>
                    </a:lnTo>
                    <a:lnTo>
                      <a:pt x="77" y="49"/>
                    </a:lnTo>
                    <a:lnTo>
                      <a:pt x="93" y="49"/>
                    </a:lnTo>
                    <a:lnTo>
                      <a:pt x="99" y="47"/>
                    </a:lnTo>
                    <a:lnTo>
                      <a:pt x="102" y="44"/>
                    </a:lnTo>
                    <a:lnTo>
                      <a:pt x="93" y="36"/>
                    </a:lnTo>
                    <a:lnTo>
                      <a:pt x="82" y="29"/>
                    </a:lnTo>
                    <a:lnTo>
                      <a:pt x="71" y="22"/>
                    </a:lnTo>
                    <a:lnTo>
                      <a:pt x="60" y="16"/>
                    </a:lnTo>
                    <a:lnTo>
                      <a:pt x="46" y="9"/>
                    </a:lnTo>
                    <a:lnTo>
                      <a:pt x="35" y="5"/>
                    </a:lnTo>
                    <a:lnTo>
                      <a:pt x="2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d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6644520" y="3448440"/>
                <a:ext cx="127440" cy="64080"/>
              </a:xfrm>
              <a:custGeom>
                <a:avLst/>
                <a:gdLst/>
                <a:ahLst/>
                <a:rect l="l" t="t" r="r" b="b"/>
                <a:pathLst>
                  <a:path w="89" h="42">
                    <a:moveTo>
                      <a:pt x="20" y="0"/>
                    </a:moveTo>
                    <a:lnTo>
                      <a:pt x="9" y="7"/>
                    </a:lnTo>
                    <a:lnTo>
                      <a:pt x="4" y="18"/>
                    </a:lnTo>
                    <a:lnTo>
                      <a:pt x="0" y="27"/>
                    </a:lnTo>
                    <a:lnTo>
                      <a:pt x="7" y="38"/>
                    </a:lnTo>
                    <a:lnTo>
                      <a:pt x="11" y="38"/>
                    </a:lnTo>
                    <a:lnTo>
                      <a:pt x="22" y="40"/>
                    </a:lnTo>
                    <a:lnTo>
                      <a:pt x="35" y="40"/>
                    </a:lnTo>
                    <a:lnTo>
                      <a:pt x="53" y="42"/>
                    </a:lnTo>
                    <a:lnTo>
                      <a:pt x="66" y="42"/>
                    </a:lnTo>
                    <a:lnTo>
                      <a:pt x="80" y="42"/>
                    </a:lnTo>
                    <a:lnTo>
                      <a:pt x="86" y="40"/>
                    </a:lnTo>
                    <a:lnTo>
                      <a:pt x="89" y="38"/>
                    </a:lnTo>
                    <a:lnTo>
                      <a:pt x="73" y="25"/>
                    </a:lnTo>
                    <a:lnTo>
                      <a:pt x="51" y="11"/>
                    </a:lnTo>
                    <a:lnTo>
                      <a:pt x="31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ad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6661440" y="3448440"/>
                <a:ext cx="107280" cy="57960"/>
              </a:xfrm>
              <a:custGeom>
                <a:avLst/>
                <a:gdLst/>
                <a:ahLst/>
                <a:rect l="l" t="t" r="r" b="b"/>
                <a:pathLst>
                  <a:path w="75" h="38">
                    <a:moveTo>
                      <a:pt x="16" y="0"/>
                    </a:moveTo>
                    <a:lnTo>
                      <a:pt x="7" y="7"/>
                    </a:lnTo>
                    <a:lnTo>
                      <a:pt x="2" y="18"/>
                    </a:lnTo>
                    <a:lnTo>
                      <a:pt x="0" y="25"/>
                    </a:lnTo>
                    <a:lnTo>
                      <a:pt x="5" y="34"/>
                    </a:lnTo>
                    <a:lnTo>
                      <a:pt x="9" y="34"/>
                    </a:lnTo>
                    <a:lnTo>
                      <a:pt x="20" y="36"/>
                    </a:lnTo>
                    <a:lnTo>
                      <a:pt x="31" y="36"/>
                    </a:lnTo>
                    <a:lnTo>
                      <a:pt x="47" y="38"/>
                    </a:lnTo>
                    <a:lnTo>
                      <a:pt x="58" y="38"/>
                    </a:lnTo>
                    <a:lnTo>
                      <a:pt x="69" y="38"/>
                    </a:lnTo>
                    <a:lnTo>
                      <a:pt x="73" y="36"/>
                    </a:lnTo>
                    <a:lnTo>
                      <a:pt x="75" y="34"/>
                    </a:lnTo>
                    <a:lnTo>
                      <a:pt x="60" y="23"/>
                    </a:lnTo>
                    <a:lnTo>
                      <a:pt x="44" y="11"/>
                    </a:lnTo>
                    <a:lnTo>
                      <a:pt x="27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7c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>
                <a:off x="6677280" y="3453120"/>
                <a:ext cx="88560" cy="4752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14" y="0"/>
                    </a:moveTo>
                    <a:lnTo>
                      <a:pt x="5" y="4"/>
                    </a:lnTo>
                    <a:lnTo>
                      <a:pt x="3" y="13"/>
                    </a:lnTo>
                    <a:lnTo>
                      <a:pt x="0" y="20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16" y="28"/>
                    </a:lnTo>
                    <a:lnTo>
                      <a:pt x="27" y="28"/>
                    </a:lnTo>
                    <a:lnTo>
                      <a:pt x="38" y="31"/>
                    </a:lnTo>
                    <a:lnTo>
                      <a:pt x="56" y="28"/>
                    </a:lnTo>
                    <a:lnTo>
                      <a:pt x="62" y="26"/>
                    </a:lnTo>
                    <a:lnTo>
                      <a:pt x="51" y="17"/>
                    </a:lnTo>
                    <a:lnTo>
                      <a:pt x="36" y="8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2c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6692760" y="3453120"/>
                <a:ext cx="68760" cy="3960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11" y="0"/>
                    </a:moveTo>
                    <a:lnTo>
                      <a:pt x="4" y="4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4" y="24"/>
                    </a:lnTo>
                    <a:lnTo>
                      <a:pt x="13" y="24"/>
                    </a:lnTo>
                    <a:lnTo>
                      <a:pt x="28" y="26"/>
                    </a:lnTo>
                    <a:lnTo>
                      <a:pt x="44" y="24"/>
                    </a:lnTo>
                    <a:lnTo>
                      <a:pt x="48" y="22"/>
                    </a:lnTo>
                    <a:lnTo>
                      <a:pt x="39" y="13"/>
                    </a:lnTo>
                    <a:lnTo>
                      <a:pt x="28" y="6"/>
                    </a:lnTo>
                    <a:lnTo>
                      <a:pt x="1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0b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6708960" y="3456000"/>
                <a:ext cx="49680" cy="3024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9" y="0"/>
                    </a:moveTo>
                    <a:lnTo>
                      <a:pt x="2" y="2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9" y="20"/>
                    </a:lnTo>
                    <a:lnTo>
                      <a:pt x="22" y="20"/>
                    </a:lnTo>
                    <a:lnTo>
                      <a:pt x="31" y="18"/>
                    </a:lnTo>
                    <a:lnTo>
                      <a:pt x="35" y="15"/>
                    </a:lnTo>
                    <a:lnTo>
                      <a:pt x="29" y="9"/>
                    </a:lnTo>
                    <a:lnTo>
                      <a:pt x="22" y="4"/>
                    </a:lnTo>
                    <a:lnTo>
                      <a:pt x="13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bb8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6721200" y="3459240"/>
                <a:ext cx="34200" cy="194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13" y="13"/>
                    </a:lnTo>
                    <a:lnTo>
                      <a:pt x="20" y="11"/>
                    </a:lnTo>
                    <a:lnTo>
                      <a:pt x="24" y="11"/>
                    </a:lnTo>
                    <a:lnTo>
                      <a:pt x="1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8b0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7304760" y="3079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>
                <a:off x="7286400" y="31406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7317720" y="312084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H="1">
                <a:off x="7288920" y="311004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7351920" y="30934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>
                <a:off x="7403400" y="309348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7377840" y="314064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7317720" y="318816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5" y="4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>
                <a:off x="7231680" y="317160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H="1">
                <a:off x="7244640" y="311328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7422480" y="31100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453800" y="3079440"/>
                <a:ext cx="684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7398000" y="306864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7463520" y="311004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7518240" y="30902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7505280" y="3130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7469280" y="3174480"/>
                <a:ext cx="684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7442280" y="31989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7372080" y="3177360"/>
                <a:ext cx="540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7419240" y="31514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>
                <a:off x="7343280" y="32050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7260480" y="3211200"/>
                <a:ext cx="684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5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7181640" y="314388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7215840" y="309348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7340400" y="314676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7398000" y="31914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7215840" y="3211200"/>
                <a:ext cx="684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5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7174440" y="3198960"/>
                <a:ext cx="684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7149960" y="314064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lnTo>
                      <a:pt x="4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7191720" y="31100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7121160" y="3177360"/>
                <a:ext cx="540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7149960" y="32187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>
                <a:off x="7212960" y="32356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>
                <a:off x="7200000" y="3319920"/>
                <a:ext cx="684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7158600" y="334116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7126920" y="33811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5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7095600" y="335844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7048440" y="334116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7092720" y="3397680"/>
                <a:ext cx="252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7191720" y="33534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4" name=""/>
            <p:cNvSpPr/>
            <p:nvPr/>
          </p:nvSpPr>
          <p:spPr>
            <a:xfrm flipH="1">
              <a:off x="7244640" y="3313800"/>
              <a:ext cx="2880" cy="5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7056720" y="3394800"/>
              <a:ext cx="684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095600" y="341784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7296120" y="3283200"/>
              <a:ext cx="828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7273080" y="323280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7238880" y="324936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134120" y="324648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095600" y="321120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082640" y="3174480"/>
              <a:ext cx="684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7050960" y="3188160"/>
              <a:ext cx="540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7069680" y="3232800"/>
              <a:ext cx="684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7032600" y="322488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7048440" y="324936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66800" y="3275280"/>
              <a:ext cx="68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5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7022520" y="3266280"/>
              <a:ext cx="684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7016760" y="323280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7022520" y="3202200"/>
              <a:ext cx="684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6990840" y="3235680"/>
              <a:ext cx="540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990840" y="3263040"/>
              <a:ext cx="540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7000920" y="3280320"/>
              <a:ext cx="8640" cy="57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6952320" y="3283200"/>
              <a:ext cx="720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6959520" y="3249360"/>
              <a:ext cx="540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6936480" y="3255480"/>
              <a:ext cx="684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6923520" y="3280320"/>
              <a:ext cx="972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2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6891840" y="3280320"/>
              <a:ext cx="684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6847560" y="3293640"/>
              <a:ext cx="252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6818760" y="3319920"/>
              <a:ext cx="684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6876360" y="3303000"/>
              <a:ext cx="2880" cy="104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6779160" y="332748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6779160" y="3353400"/>
              <a:ext cx="576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6739920" y="3344400"/>
              <a:ext cx="540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6737400" y="336420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6701400" y="3367440"/>
              <a:ext cx="684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6724440" y="334116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6717240" y="3394800"/>
              <a:ext cx="684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6692760" y="342252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6672960" y="3394800"/>
              <a:ext cx="684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6676920" y="3353400"/>
              <a:ext cx="540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6635880" y="336420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6641280" y="3394800"/>
              <a:ext cx="252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6635880" y="342828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6664320" y="342828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6609600" y="3400920"/>
              <a:ext cx="2520" cy="75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6536880" y="3394800"/>
              <a:ext cx="684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6555240" y="342252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6499440" y="343620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6455160" y="343908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6476400" y="346968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6419160" y="3475800"/>
              <a:ext cx="684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382080" y="3456000"/>
              <a:ext cx="5760" cy="9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476400" y="3493080"/>
              <a:ext cx="576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6597000" y="3509640"/>
              <a:ext cx="2880" cy="75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657120" y="3493080"/>
              <a:ext cx="684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6701400" y="3509640"/>
              <a:ext cx="684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6724440" y="348660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6737400" y="345924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6761520" y="3495600"/>
              <a:ext cx="684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6682680" y="349308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654240" y="3512880"/>
              <a:ext cx="684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5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6612480" y="3509640"/>
              <a:ext cx="684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6442200" y="3526560"/>
              <a:ext cx="540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4" y="3"/>
                  </a:lnTo>
                  <a:lnTo>
                    <a:pt x="4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387840" y="352044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6348960" y="3495600"/>
              <a:ext cx="3960" cy="104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6361920" y="3512880"/>
              <a:ext cx="684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6594120" y="342576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7089840" y="3255480"/>
              <a:ext cx="540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6996600" y="4622400"/>
              <a:ext cx="396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/>
          <p:nvPr/>
        </p:nvSpPr>
        <p:spPr>
          <a:xfrm>
            <a:off x="5638680" y="2665440"/>
            <a:ext cx="2286000" cy="2287440"/>
          </a:xfrm>
          <a:custGeom>
            <a:avLst/>
            <a:gdLst/>
            <a:ahLst/>
            <a:rect l="l" t="t" r="r" b="b"/>
            <a:pathLst>
              <a:path w="4696" h="4706">
                <a:moveTo>
                  <a:pt x="2350" y="4706"/>
                </a:moveTo>
                <a:lnTo>
                  <a:pt x="1124" y="2353"/>
                </a:lnTo>
                <a:lnTo>
                  <a:pt x="4690" y="2353"/>
                </a:lnTo>
                <a:lnTo>
                  <a:pt x="2350" y="0"/>
                </a:lnTo>
                <a:lnTo>
                  <a:pt x="2029" y="4683"/>
                </a:lnTo>
                <a:lnTo>
                  <a:pt x="1133" y="2188"/>
                </a:lnTo>
                <a:lnTo>
                  <a:pt x="4671" y="2670"/>
                </a:lnTo>
                <a:lnTo>
                  <a:pt x="2669" y="21"/>
                </a:lnTo>
                <a:lnTo>
                  <a:pt x="1715" y="4617"/>
                </a:lnTo>
                <a:lnTo>
                  <a:pt x="1169" y="2022"/>
                </a:lnTo>
                <a:lnTo>
                  <a:pt x="4605" y="2982"/>
                </a:lnTo>
                <a:lnTo>
                  <a:pt x="2983" y="85"/>
                </a:lnTo>
                <a:lnTo>
                  <a:pt x="1411" y="4510"/>
                </a:lnTo>
                <a:lnTo>
                  <a:pt x="1225" y="1864"/>
                </a:lnTo>
                <a:lnTo>
                  <a:pt x="4498" y="3284"/>
                </a:lnTo>
                <a:lnTo>
                  <a:pt x="3287" y="194"/>
                </a:lnTo>
                <a:lnTo>
                  <a:pt x="1128" y="4362"/>
                </a:lnTo>
                <a:lnTo>
                  <a:pt x="1301" y="1716"/>
                </a:lnTo>
                <a:lnTo>
                  <a:pt x="4350" y="3568"/>
                </a:lnTo>
                <a:lnTo>
                  <a:pt x="3571" y="342"/>
                </a:lnTo>
                <a:lnTo>
                  <a:pt x="863" y="4178"/>
                </a:lnTo>
                <a:lnTo>
                  <a:pt x="1398" y="1579"/>
                </a:lnTo>
                <a:lnTo>
                  <a:pt x="4166" y="3830"/>
                </a:lnTo>
                <a:lnTo>
                  <a:pt x="3833" y="526"/>
                </a:lnTo>
                <a:lnTo>
                  <a:pt x="628" y="3957"/>
                </a:lnTo>
                <a:lnTo>
                  <a:pt x="1514" y="1458"/>
                </a:lnTo>
                <a:lnTo>
                  <a:pt x="3949" y="4066"/>
                </a:lnTo>
                <a:lnTo>
                  <a:pt x="4069" y="745"/>
                </a:lnTo>
                <a:lnTo>
                  <a:pt x="426" y="3708"/>
                </a:lnTo>
                <a:lnTo>
                  <a:pt x="1641" y="1353"/>
                </a:lnTo>
                <a:lnTo>
                  <a:pt x="3700" y="4265"/>
                </a:lnTo>
                <a:lnTo>
                  <a:pt x="4272" y="996"/>
                </a:lnTo>
                <a:lnTo>
                  <a:pt x="259" y="3435"/>
                </a:lnTo>
                <a:lnTo>
                  <a:pt x="1785" y="1266"/>
                </a:lnTo>
                <a:lnTo>
                  <a:pt x="3428" y="4434"/>
                </a:lnTo>
                <a:lnTo>
                  <a:pt x="4437" y="1269"/>
                </a:lnTo>
                <a:lnTo>
                  <a:pt x="131" y="3140"/>
                </a:lnTo>
                <a:lnTo>
                  <a:pt x="1938" y="1199"/>
                </a:lnTo>
                <a:lnTo>
                  <a:pt x="3133" y="4560"/>
                </a:lnTo>
                <a:lnTo>
                  <a:pt x="4565" y="1564"/>
                </a:lnTo>
                <a:lnTo>
                  <a:pt x="44" y="2830"/>
                </a:lnTo>
                <a:lnTo>
                  <a:pt x="2099" y="1153"/>
                </a:lnTo>
                <a:lnTo>
                  <a:pt x="2823" y="4647"/>
                </a:lnTo>
                <a:lnTo>
                  <a:pt x="4652" y="1874"/>
                </a:lnTo>
                <a:lnTo>
                  <a:pt x="0" y="2511"/>
                </a:lnTo>
                <a:lnTo>
                  <a:pt x="2266" y="1131"/>
                </a:lnTo>
                <a:lnTo>
                  <a:pt x="2508" y="4691"/>
                </a:lnTo>
                <a:lnTo>
                  <a:pt x="4696" y="2191"/>
                </a:lnTo>
                <a:lnTo>
                  <a:pt x="0" y="2191"/>
                </a:lnTo>
                <a:lnTo>
                  <a:pt x="2432" y="1131"/>
                </a:lnTo>
                <a:lnTo>
                  <a:pt x="2188" y="4691"/>
                </a:lnTo>
                <a:lnTo>
                  <a:pt x="4696" y="2513"/>
                </a:lnTo>
                <a:lnTo>
                  <a:pt x="44" y="1874"/>
                </a:lnTo>
                <a:lnTo>
                  <a:pt x="2597" y="1153"/>
                </a:lnTo>
                <a:lnTo>
                  <a:pt x="1871" y="4647"/>
                </a:lnTo>
                <a:lnTo>
                  <a:pt x="4652" y="2830"/>
                </a:lnTo>
                <a:lnTo>
                  <a:pt x="131" y="1564"/>
                </a:lnTo>
                <a:lnTo>
                  <a:pt x="2759" y="1199"/>
                </a:lnTo>
                <a:lnTo>
                  <a:pt x="1565" y="4560"/>
                </a:lnTo>
                <a:lnTo>
                  <a:pt x="4565" y="3140"/>
                </a:lnTo>
                <a:lnTo>
                  <a:pt x="259" y="1269"/>
                </a:lnTo>
                <a:lnTo>
                  <a:pt x="2911" y="1266"/>
                </a:lnTo>
                <a:lnTo>
                  <a:pt x="1270" y="4434"/>
                </a:lnTo>
                <a:lnTo>
                  <a:pt x="4437" y="3435"/>
                </a:lnTo>
                <a:lnTo>
                  <a:pt x="426" y="994"/>
                </a:lnTo>
                <a:lnTo>
                  <a:pt x="3055" y="1353"/>
                </a:lnTo>
                <a:lnTo>
                  <a:pt x="996" y="4265"/>
                </a:lnTo>
                <a:lnTo>
                  <a:pt x="4272" y="3708"/>
                </a:lnTo>
                <a:lnTo>
                  <a:pt x="628" y="745"/>
                </a:lnTo>
                <a:lnTo>
                  <a:pt x="3185" y="1458"/>
                </a:lnTo>
                <a:lnTo>
                  <a:pt x="749" y="4062"/>
                </a:lnTo>
                <a:lnTo>
                  <a:pt x="4069" y="3957"/>
                </a:lnTo>
                <a:lnTo>
                  <a:pt x="863" y="526"/>
                </a:lnTo>
                <a:lnTo>
                  <a:pt x="3299" y="1579"/>
                </a:lnTo>
                <a:lnTo>
                  <a:pt x="531" y="3830"/>
                </a:lnTo>
                <a:lnTo>
                  <a:pt x="3833" y="4178"/>
                </a:lnTo>
                <a:lnTo>
                  <a:pt x="1128" y="342"/>
                </a:lnTo>
                <a:lnTo>
                  <a:pt x="3396" y="1716"/>
                </a:lnTo>
                <a:lnTo>
                  <a:pt x="346" y="3568"/>
                </a:lnTo>
                <a:lnTo>
                  <a:pt x="3571" y="4362"/>
                </a:lnTo>
                <a:lnTo>
                  <a:pt x="1411" y="194"/>
                </a:lnTo>
                <a:lnTo>
                  <a:pt x="3474" y="1864"/>
                </a:lnTo>
                <a:lnTo>
                  <a:pt x="198" y="3284"/>
                </a:lnTo>
                <a:lnTo>
                  <a:pt x="3285" y="4510"/>
                </a:lnTo>
                <a:lnTo>
                  <a:pt x="1715" y="85"/>
                </a:lnTo>
                <a:lnTo>
                  <a:pt x="3529" y="2022"/>
                </a:lnTo>
                <a:lnTo>
                  <a:pt x="92" y="2982"/>
                </a:lnTo>
                <a:lnTo>
                  <a:pt x="2983" y="4619"/>
                </a:lnTo>
                <a:lnTo>
                  <a:pt x="2029" y="21"/>
                </a:lnTo>
                <a:lnTo>
                  <a:pt x="3563" y="2188"/>
                </a:lnTo>
                <a:lnTo>
                  <a:pt x="27" y="2670"/>
                </a:lnTo>
                <a:lnTo>
                  <a:pt x="2669" y="4683"/>
                </a:lnTo>
                <a:lnTo>
                  <a:pt x="2350" y="0"/>
                </a:lnTo>
                <a:lnTo>
                  <a:pt x="3574" y="2353"/>
                </a:lnTo>
                <a:lnTo>
                  <a:pt x="4" y="2353"/>
                </a:lnTo>
                <a:lnTo>
                  <a:pt x="2350" y="4706"/>
                </a:lnTo>
                <a:lnTo>
                  <a:pt x="2669" y="21"/>
                </a:lnTo>
                <a:lnTo>
                  <a:pt x="3563" y="2518"/>
                </a:lnTo>
                <a:lnTo>
                  <a:pt x="27" y="2034"/>
                </a:lnTo>
                <a:lnTo>
                  <a:pt x="2029" y="4683"/>
                </a:lnTo>
                <a:lnTo>
                  <a:pt x="2983" y="85"/>
                </a:lnTo>
                <a:lnTo>
                  <a:pt x="3529" y="2682"/>
                </a:lnTo>
                <a:lnTo>
                  <a:pt x="92" y="1720"/>
                </a:lnTo>
                <a:lnTo>
                  <a:pt x="1715" y="4617"/>
                </a:lnTo>
                <a:lnTo>
                  <a:pt x="3287" y="194"/>
                </a:lnTo>
                <a:lnTo>
                  <a:pt x="3474" y="2840"/>
                </a:lnTo>
                <a:lnTo>
                  <a:pt x="198" y="1420"/>
                </a:lnTo>
                <a:lnTo>
                  <a:pt x="1411" y="4510"/>
                </a:lnTo>
                <a:lnTo>
                  <a:pt x="3571" y="342"/>
                </a:lnTo>
                <a:lnTo>
                  <a:pt x="3396" y="2988"/>
                </a:lnTo>
                <a:lnTo>
                  <a:pt x="346" y="1134"/>
                </a:lnTo>
                <a:lnTo>
                  <a:pt x="1126" y="4362"/>
                </a:lnTo>
                <a:lnTo>
                  <a:pt x="3835" y="528"/>
                </a:lnTo>
                <a:lnTo>
                  <a:pt x="3299" y="3125"/>
                </a:lnTo>
                <a:lnTo>
                  <a:pt x="533" y="872"/>
                </a:lnTo>
                <a:lnTo>
                  <a:pt x="863" y="4178"/>
                </a:lnTo>
                <a:lnTo>
                  <a:pt x="4069" y="745"/>
                </a:lnTo>
                <a:lnTo>
                  <a:pt x="3185" y="3246"/>
                </a:lnTo>
                <a:lnTo>
                  <a:pt x="749" y="640"/>
                </a:lnTo>
                <a:lnTo>
                  <a:pt x="628" y="3957"/>
                </a:lnTo>
                <a:lnTo>
                  <a:pt x="4272" y="996"/>
                </a:lnTo>
                <a:lnTo>
                  <a:pt x="3053" y="3353"/>
                </a:lnTo>
                <a:lnTo>
                  <a:pt x="996" y="437"/>
                </a:lnTo>
                <a:lnTo>
                  <a:pt x="426" y="3708"/>
                </a:lnTo>
                <a:lnTo>
                  <a:pt x="4437" y="1271"/>
                </a:lnTo>
                <a:lnTo>
                  <a:pt x="2911" y="3440"/>
                </a:lnTo>
                <a:lnTo>
                  <a:pt x="1270" y="271"/>
                </a:lnTo>
                <a:lnTo>
                  <a:pt x="259" y="3435"/>
                </a:lnTo>
                <a:lnTo>
                  <a:pt x="4565" y="1564"/>
                </a:lnTo>
                <a:lnTo>
                  <a:pt x="2759" y="3507"/>
                </a:lnTo>
                <a:lnTo>
                  <a:pt x="1565" y="142"/>
                </a:lnTo>
                <a:lnTo>
                  <a:pt x="131" y="3138"/>
                </a:lnTo>
                <a:lnTo>
                  <a:pt x="4652" y="1874"/>
                </a:lnTo>
                <a:lnTo>
                  <a:pt x="2597" y="3551"/>
                </a:lnTo>
                <a:lnTo>
                  <a:pt x="1871" y="57"/>
                </a:lnTo>
                <a:lnTo>
                  <a:pt x="44" y="2830"/>
                </a:lnTo>
                <a:lnTo>
                  <a:pt x="4696" y="2191"/>
                </a:lnTo>
                <a:lnTo>
                  <a:pt x="2432" y="3573"/>
                </a:lnTo>
                <a:lnTo>
                  <a:pt x="2190" y="13"/>
                </a:lnTo>
                <a:lnTo>
                  <a:pt x="0" y="2511"/>
                </a:lnTo>
                <a:lnTo>
                  <a:pt x="4696" y="2513"/>
                </a:lnTo>
                <a:lnTo>
                  <a:pt x="2266" y="3573"/>
                </a:lnTo>
                <a:lnTo>
                  <a:pt x="2508" y="13"/>
                </a:lnTo>
                <a:lnTo>
                  <a:pt x="0" y="2191"/>
                </a:lnTo>
                <a:lnTo>
                  <a:pt x="4652" y="2832"/>
                </a:lnTo>
                <a:lnTo>
                  <a:pt x="2099" y="3551"/>
                </a:lnTo>
                <a:lnTo>
                  <a:pt x="2825" y="57"/>
                </a:lnTo>
                <a:lnTo>
                  <a:pt x="44" y="1874"/>
                </a:lnTo>
                <a:lnTo>
                  <a:pt x="4565" y="3140"/>
                </a:lnTo>
                <a:lnTo>
                  <a:pt x="1938" y="3507"/>
                </a:lnTo>
                <a:lnTo>
                  <a:pt x="3133" y="142"/>
                </a:lnTo>
                <a:lnTo>
                  <a:pt x="131" y="1564"/>
                </a:lnTo>
                <a:lnTo>
                  <a:pt x="4437" y="3435"/>
                </a:lnTo>
                <a:lnTo>
                  <a:pt x="1785" y="3440"/>
                </a:lnTo>
                <a:lnTo>
                  <a:pt x="3428" y="271"/>
                </a:lnTo>
                <a:lnTo>
                  <a:pt x="259" y="1269"/>
                </a:lnTo>
                <a:lnTo>
                  <a:pt x="4272" y="3708"/>
                </a:lnTo>
                <a:lnTo>
                  <a:pt x="1641" y="3353"/>
                </a:lnTo>
                <a:lnTo>
                  <a:pt x="3700" y="437"/>
                </a:lnTo>
                <a:lnTo>
                  <a:pt x="426" y="994"/>
                </a:lnTo>
                <a:lnTo>
                  <a:pt x="4069" y="3959"/>
                </a:lnTo>
                <a:lnTo>
                  <a:pt x="1512" y="3246"/>
                </a:lnTo>
                <a:lnTo>
                  <a:pt x="3949" y="640"/>
                </a:lnTo>
                <a:lnTo>
                  <a:pt x="628" y="745"/>
                </a:lnTo>
                <a:lnTo>
                  <a:pt x="3833" y="4178"/>
                </a:lnTo>
                <a:lnTo>
                  <a:pt x="1398" y="3125"/>
                </a:lnTo>
                <a:lnTo>
                  <a:pt x="4166" y="872"/>
                </a:lnTo>
                <a:lnTo>
                  <a:pt x="863" y="526"/>
                </a:lnTo>
                <a:lnTo>
                  <a:pt x="3571" y="4362"/>
                </a:lnTo>
                <a:lnTo>
                  <a:pt x="1301" y="2986"/>
                </a:lnTo>
                <a:lnTo>
                  <a:pt x="4352" y="1134"/>
                </a:lnTo>
                <a:lnTo>
                  <a:pt x="1128" y="342"/>
                </a:lnTo>
                <a:lnTo>
                  <a:pt x="3285" y="4510"/>
                </a:lnTo>
                <a:lnTo>
                  <a:pt x="1225" y="2840"/>
                </a:lnTo>
                <a:lnTo>
                  <a:pt x="4498" y="1420"/>
                </a:lnTo>
                <a:lnTo>
                  <a:pt x="1411" y="194"/>
                </a:lnTo>
                <a:lnTo>
                  <a:pt x="2983" y="4619"/>
                </a:lnTo>
                <a:lnTo>
                  <a:pt x="1169" y="2682"/>
                </a:lnTo>
                <a:lnTo>
                  <a:pt x="4605" y="1720"/>
                </a:lnTo>
                <a:lnTo>
                  <a:pt x="1715" y="85"/>
                </a:lnTo>
                <a:lnTo>
                  <a:pt x="2669" y="4683"/>
                </a:lnTo>
                <a:lnTo>
                  <a:pt x="1133" y="2518"/>
                </a:lnTo>
                <a:lnTo>
                  <a:pt x="4671" y="2035"/>
                </a:lnTo>
                <a:lnTo>
                  <a:pt x="2029" y="21"/>
                </a:lnTo>
                <a:lnTo>
                  <a:pt x="2350" y="4706"/>
                </a:lnTo>
                <a:close/>
              </a:path>
            </a:pathLst>
          </a:custGeom>
          <a:solidFill>
            <a:srgbClr val="a1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135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143000" y="2666880"/>
            <a:ext cx="2286000" cy="2284560"/>
          </a:xfrm>
          <a:custGeom>
            <a:avLst/>
            <a:gdLst/>
            <a:ahLst/>
            <a:rect l="l" t="t" r="r" b="b"/>
            <a:pathLst>
              <a:path w="5304" h="5296">
                <a:moveTo>
                  <a:pt x="2074" y="1931"/>
                </a:moveTo>
                <a:lnTo>
                  <a:pt x="2654" y="2650"/>
                </a:lnTo>
                <a:lnTo>
                  <a:pt x="4447" y="696"/>
                </a:lnTo>
                <a:lnTo>
                  <a:pt x="2177" y="1859"/>
                </a:lnTo>
                <a:lnTo>
                  <a:pt x="2654" y="2650"/>
                </a:lnTo>
                <a:lnTo>
                  <a:pt x="4696" y="958"/>
                </a:lnTo>
                <a:lnTo>
                  <a:pt x="2289" y="1800"/>
                </a:lnTo>
                <a:lnTo>
                  <a:pt x="2654" y="2650"/>
                </a:lnTo>
                <a:lnTo>
                  <a:pt x="4907" y="1253"/>
                </a:lnTo>
                <a:lnTo>
                  <a:pt x="2409" y="1758"/>
                </a:lnTo>
                <a:lnTo>
                  <a:pt x="2654" y="2650"/>
                </a:lnTo>
                <a:lnTo>
                  <a:pt x="5076" y="1572"/>
                </a:lnTo>
                <a:lnTo>
                  <a:pt x="2532" y="1734"/>
                </a:lnTo>
                <a:lnTo>
                  <a:pt x="2654" y="2650"/>
                </a:lnTo>
                <a:lnTo>
                  <a:pt x="5200" y="1912"/>
                </a:lnTo>
                <a:lnTo>
                  <a:pt x="2656" y="1726"/>
                </a:lnTo>
                <a:lnTo>
                  <a:pt x="2654" y="2650"/>
                </a:lnTo>
                <a:lnTo>
                  <a:pt x="5278" y="2266"/>
                </a:lnTo>
                <a:lnTo>
                  <a:pt x="2781" y="1736"/>
                </a:lnTo>
                <a:lnTo>
                  <a:pt x="2654" y="2650"/>
                </a:lnTo>
                <a:lnTo>
                  <a:pt x="5304" y="2627"/>
                </a:lnTo>
                <a:lnTo>
                  <a:pt x="2905" y="1762"/>
                </a:lnTo>
                <a:lnTo>
                  <a:pt x="2654" y="2650"/>
                </a:lnTo>
                <a:lnTo>
                  <a:pt x="5283" y="2986"/>
                </a:lnTo>
                <a:lnTo>
                  <a:pt x="3025" y="1804"/>
                </a:lnTo>
                <a:lnTo>
                  <a:pt x="2654" y="2650"/>
                </a:lnTo>
                <a:lnTo>
                  <a:pt x="5211" y="3342"/>
                </a:lnTo>
                <a:lnTo>
                  <a:pt x="3137" y="1863"/>
                </a:lnTo>
                <a:lnTo>
                  <a:pt x="2654" y="2650"/>
                </a:lnTo>
                <a:lnTo>
                  <a:pt x="5095" y="3684"/>
                </a:lnTo>
                <a:lnTo>
                  <a:pt x="3240" y="1937"/>
                </a:lnTo>
                <a:lnTo>
                  <a:pt x="2654" y="2650"/>
                </a:lnTo>
                <a:lnTo>
                  <a:pt x="4930" y="4007"/>
                </a:lnTo>
                <a:lnTo>
                  <a:pt x="3329" y="2023"/>
                </a:lnTo>
                <a:lnTo>
                  <a:pt x="2654" y="2650"/>
                </a:lnTo>
                <a:lnTo>
                  <a:pt x="4724" y="4306"/>
                </a:lnTo>
                <a:lnTo>
                  <a:pt x="3411" y="2121"/>
                </a:lnTo>
                <a:lnTo>
                  <a:pt x="2654" y="2650"/>
                </a:lnTo>
                <a:lnTo>
                  <a:pt x="4479" y="4572"/>
                </a:lnTo>
                <a:lnTo>
                  <a:pt x="3473" y="2228"/>
                </a:lnTo>
                <a:lnTo>
                  <a:pt x="2654" y="2650"/>
                </a:lnTo>
                <a:lnTo>
                  <a:pt x="4200" y="4802"/>
                </a:lnTo>
                <a:lnTo>
                  <a:pt x="3523" y="2344"/>
                </a:lnTo>
                <a:lnTo>
                  <a:pt x="2654" y="2650"/>
                </a:lnTo>
                <a:lnTo>
                  <a:pt x="3894" y="4994"/>
                </a:lnTo>
                <a:lnTo>
                  <a:pt x="3557" y="2466"/>
                </a:lnTo>
                <a:lnTo>
                  <a:pt x="2654" y="2650"/>
                </a:lnTo>
                <a:lnTo>
                  <a:pt x="3561" y="5140"/>
                </a:lnTo>
                <a:lnTo>
                  <a:pt x="3574" y="2591"/>
                </a:lnTo>
                <a:lnTo>
                  <a:pt x="2654" y="2650"/>
                </a:lnTo>
                <a:lnTo>
                  <a:pt x="3215" y="5239"/>
                </a:lnTo>
                <a:lnTo>
                  <a:pt x="3572" y="2715"/>
                </a:lnTo>
                <a:lnTo>
                  <a:pt x="2654" y="2650"/>
                </a:lnTo>
                <a:lnTo>
                  <a:pt x="2856" y="5292"/>
                </a:lnTo>
                <a:lnTo>
                  <a:pt x="3555" y="2840"/>
                </a:lnTo>
                <a:lnTo>
                  <a:pt x="2654" y="2650"/>
                </a:lnTo>
                <a:lnTo>
                  <a:pt x="2494" y="5296"/>
                </a:lnTo>
                <a:lnTo>
                  <a:pt x="3521" y="2962"/>
                </a:lnTo>
                <a:lnTo>
                  <a:pt x="2654" y="2650"/>
                </a:lnTo>
                <a:lnTo>
                  <a:pt x="2135" y="5248"/>
                </a:lnTo>
                <a:lnTo>
                  <a:pt x="3470" y="3076"/>
                </a:lnTo>
                <a:lnTo>
                  <a:pt x="2654" y="2650"/>
                </a:lnTo>
                <a:lnTo>
                  <a:pt x="1785" y="5155"/>
                </a:lnTo>
                <a:lnTo>
                  <a:pt x="3405" y="3182"/>
                </a:lnTo>
                <a:lnTo>
                  <a:pt x="2654" y="2650"/>
                </a:lnTo>
                <a:lnTo>
                  <a:pt x="1453" y="5011"/>
                </a:lnTo>
                <a:lnTo>
                  <a:pt x="3325" y="3281"/>
                </a:lnTo>
                <a:lnTo>
                  <a:pt x="2654" y="2650"/>
                </a:lnTo>
                <a:lnTo>
                  <a:pt x="1141" y="4826"/>
                </a:lnTo>
                <a:lnTo>
                  <a:pt x="3230" y="3367"/>
                </a:lnTo>
                <a:lnTo>
                  <a:pt x="2654" y="2650"/>
                </a:lnTo>
                <a:lnTo>
                  <a:pt x="859" y="4600"/>
                </a:lnTo>
                <a:lnTo>
                  <a:pt x="3129" y="3439"/>
                </a:lnTo>
                <a:lnTo>
                  <a:pt x="2654" y="2650"/>
                </a:lnTo>
                <a:lnTo>
                  <a:pt x="608" y="4338"/>
                </a:lnTo>
                <a:lnTo>
                  <a:pt x="3015" y="3496"/>
                </a:lnTo>
                <a:lnTo>
                  <a:pt x="2654" y="2650"/>
                </a:lnTo>
                <a:lnTo>
                  <a:pt x="397" y="4043"/>
                </a:lnTo>
                <a:lnTo>
                  <a:pt x="2897" y="3538"/>
                </a:lnTo>
                <a:lnTo>
                  <a:pt x="2654" y="2650"/>
                </a:lnTo>
                <a:lnTo>
                  <a:pt x="230" y="3726"/>
                </a:lnTo>
                <a:lnTo>
                  <a:pt x="2774" y="3562"/>
                </a:lnTo>
                <a:lnTo>
                  <a:pt x="2654" y="2650"/>
                </a:lnTo>
                <a:lnTo>
                  <a:pt x="105" y="3384"/>
                </a:lnTo>
                <a:lnTo>
                  <a:pt x="2648" y="3568"/>
                </a:lnTo>
                <a:lnTo>
                  <a:pt x="2654" y="2650"/>
                </a:lnTo>
                <a:lnTo>
                  <a:pt x="29" y="3028"/>
                </a:lnTo>
                <a:lnTo>
                  <a:pt x="2523" y="3562"/>
                </a:lnTo>
                <a:lnTo>
                  <a:pt x="2654" y="2650"/>
                </a:lnTo>
                <a:lnTo>
                  <a:pt x="0" y="2669"/>
                </a:lnTo>
                <a:lnTo>
                  <a:pt x="2401" y="3536"/>
                </a:lnTo>
                <a:lnTo>
                  <a:pt x="2654" y="2650"/>
                </a:lnTo>
                <a:lnTo>
                  <a:pt x="23" y="2308"/>
                </a:lnTo>
                <a:lnTo>
                  <a:pt x="2281" y="3492"/>
                </a:lnTo>
                <a:lnTo>
                  <a:pt x="2654" y="2650"/>
                </a:lnTo>
                <a:lnTo>
                  <a:pt x="93" y="1954"/>
                </a:lnTo>
                <a:lnTo>
                  <a:pt x="2171" y="3433"/>
                </a:lnTo>
                <a:lnTo>
                  <a:pt x="2654" y="2650"/>
                </a:lnTo>
                <a:lnTo>
                  <a:pt x="213" y="1612"/>
                </a:lnTo>
                <a:lnTo>
                  <a:pt x="2069" y="3361"/>
                </a:lnTo>
                <a:lnTo>
                  <a:pt x="2654" y="2650"/>
                </a:lnTo>
                <a:lnTo>
                  <a:pt x="375" y="1289"/>
                </a:lnTo>
                <a:lnTo>
                  <a:pt x="1975" y="3273"/>
                </a:lnTo>
                <a:lnTo>
                  <a:pt x="2654" y="2650"/>
                </a:lnTo>
                <a:lnTo>
                  <a:pt x="582" y="990"/>
                </a:lnTo>
                <a:lnTo>
                  <a:pt x="1897" y="3175"/>
                </a:lnTo>
                <a:lnTo>
                  <a:pt x="2654" y="2650"/>
                </a:lnTo>
                <a:lnTo>
                  <a:pt x="825" y="726"/>
                </a:lnTo>
                <a:lnTo>
                  <a:pt x="1831" y="3066"/>
                </a:lnTo>
                <a:lnTo>
                  <a:pt x="2654" y="2650"/>
                </a:lnTo>
                <a:lnTo>
                  <a:pt x="1107" y="494"/>
                </a:lnTo>
                <a:lnTo>
                  <a:pt x="1781" y="2950"/>
                </a:lnTo>
                <a:lnTo>
                  <a:pt x="2654" y="2650"/>
                </a:lnTo>
                <a:lnTo>
                  <a:pt x="1415" y="302"/>
                </a:lnTo>
                <a:lnTo>
                  <a:pt x="1749" y="2830"/>
                </a:lnTo>
                <a:lnTo>
                  <a:pt x="2654" y="2650"/>
                </a:lnTo>
                <a:lnTo>
                  <a:pt x="1747" y="158"/>
                </a:lnTo>
                <a:lnTo>
                  <a:pt x="1732" y="2705"/>
                </a:lnTo>
                <a:lnTo>
                  <a:pt x="2654" y="2650"/>
                </a:lnTo>
                <a:lnTo>
                  <a:pt x="2093" y="57"/>
                </a:lnTo>
                <a:lnTo>
                  <a:pt x="1732" y="2581"/>
                </a:lnTo>
                <a:lnTo>
                  <a:pt x="2654" y="2650"/>
                </a:lnTo>
                <a:lnTo>
                  <a:pt x="2453" y="4"/>
                </a:lnTo>
                <a:lnTo>
                  <a:pt x="1751" y="2456"/>
                </a:lnTo>
                <a:lnTo>
                  <a:pt x="2654" y="2650"/>
                </a:lnTo>
                <a:lnTo>
                  <a:pt x="2812" y="0"/>
                </a:lnTo>
                <a:lnTo>
                  <a:pt x="1785" y="2336"/>
                </a:lnTo>
                <a:lnTo>
                  <a:pt x="2654" y="2650"/>
                </a:lnTo>
                <a:lnTo>
                  <a:pt x="3173" y="48"/>
                </a:lnTo>
                <a:lnTo>
                  <a:pt x="1837" y="2222"/>
                </a:lnTo>
                <a:lnTo>
                  <a:pt x="2654" y="2650"/>
                </a:lnTo>
                <a:lnTo>
                  <a:pt x="3521" y="143"/>
                </a:lnTo>
                <a:lnTo>
                  <a:pt x="1903" y="2112"/>
                </a:lnTo>
                <a:lnTo>
                  <a:pt x="2654" y="2650"/>
                </a:lnTo>
                <a:lnTo>
                  <a:pt x="3856" y="283"/>
                </a:lnTo>
                <a:lnTo>
                  <a:pt x="1983" y="2017"/>
                </a:lnTo>
                <a:lnTo>
                  <a:pt x="2654" y="2650"/>
                </a:lnTo>
                <a:lnTo>
                  <a:pt x="4167" y="470"/>
                </a:lnTo>
                <a:lnTo>
                  <a:pt x="2074" y="1931"/>
                </a:lnTo>
                <a:close/>
              </a:path>
            </a:pathLst>
          </a:custGeom>
          <a:solidFill>
            <a:srgbClr val="f12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5" name="MOCKBIRD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1987560" cy="2286000"/>
          </a:xfrm>
          <a:prstGeom prst="rect">
            <a:avLst/>
          </a:prstGeom>
          <a:ln w="0">
            <a:noFill/>
          </a:ln>
        </p:spPr>
      </p:pic>
      <p:sp>
        <p:nvSpPr>
          <p:cNvPr id="1596" name=""/>
          <p:cNvSpPr/>
          <p:nvPr/>
        </p:nvSpPr>
        <p:spPr>
          <a:xfrm>
            <a:off x="16783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707520" y="5149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5715360" y="2895480"/>
            <a:ext cx="2209320" cy="1828440"/>
            <a:chOff x="5715360" y="2895480"/>
            <a:chExt cx="2209320" cy="1828440"/>
          </a:xfrm>
        </p:grpSpPr>
        <p:sp>
          <p:nvSpPr>
            <p:cNvPr id="1599" name=""/>
            <p:cNvSpPr/>
            <p:nvPr/>
          </p:nvSpPr>
          <p:spPr>
            <a:xfrm flipH="1">
              <a:off x="6145560" y="2919240"/>
              <a:ext cx="1620720" cy="1667520"/>
            </a:xfrm>
            <a:custGeom>
              <a:avLst/>
              <a:gdLst/>
              <a:ahLst/>
              <a:rect l="l" t="t" r="r" b="b"/>
              <a:pathLst>
                <a:path w="2335" h="2360">
                  <a:moveTo>
                    <a:pt x="2335" y="909"/>
                  </a:moveTo>
                  <a:lnTo>
                    <a:pt x="2252" y="0"/>
                  </a:lnTo>
                  <a:lnTo>
                    <a:pt x="1857" y="403"/>
                  </a:lnTo>
                  <a:lnTo>
                    <a:pt x="1302" y="794"/>
                  </a:lnTo>
                  <a:lnTo>
                    <a:pt x="672" y="1608"/>
                  </a:lnTo>
                  <a:lnTo>
                    <a:pt x="79" y="2177"/>
                  </a:lnTo>
                  <a:lnTo>
                    <a:pt x="79" y="2186"/>
                  </a:lnTo>
                  <a:lnTo>
                    <a:pt x="76" y="2193"/>
                  </a:lnTo>
                  <a:lnTo>
                    <a:pt x="74" y="2201"/>
                  </a:lnTo>
                  <a:lnTo>
                    <a:pt x="69" y="2211"/>
                  </a:lnTo>
                  <a:lnTo>
                    <a:pt x="64" y="2221"/>
                  </a:lnTo>
                  <a:lnTo>
                    <a:pt x="59" y="2233"/>
                  </a:lnTo>
                  <a:lnTo>
                    <a:pt x="53" y="2247"/>
                  </a:lnTo>
                  <a:lnTo>
                    <a:pt x="45" y="2261"/>
                  </a:lnTo>
                  <a:lnTo>
                    <a:pt x="38" y="2276"/>
                  </a:lnTo>
                  <a:lnTo>
                    <a:pt x="32" y="2292"/>
                  </a:lnTo>
                  <a:lnTo>
                    <a:pt x="23" y="2308"/>
                  </a:lnTo>
                  <a:lnTo>
                    <a:pt x="16" y="2325"/>
                  </a:lnTo>
                  <a:lnTo>
                    <a:pt x="8" y="2343"/>
                  </a:lnTo>
                  <a:lnTo>
                    <a:pt x="0" y="2360"/>
                  </a:lnTo>
                  <a:lnTo>
                    <a:pt x="75" y="2319"/>
                  </a:lnTo>
                  <a:lnTo>
                    <a:pt x="171" y="2258"/>
                  </a:lnTo>
                  <a:lnTo>
                    <a:pt x="282" y="2182"/>
                  </a:lnTo>
                  <a:lnTo>
                    <a:pt x="395" y="2104"/>
                  </a:lnTo>
                  <a:lnTo>
                    <a:pt x="504" y="2026"/>
                  </a:lnTo>
                  <a:lnTo>
                    <a:pt x="593" y="1962"/>
                  </a:lnTo>
                  <a:lnTo>
                    <a:pt x="657" y="1917"/>
                  </a:lnTo>
                  <a:lnTo>
                    <a:pt x="682" y="1901"/>
                  </a:lnTo>
                  <a:lnTo>
                    <a:pt x="736" y="1859"/>
                  </a:lnTo>
                  <a:lnTo>
                    <a:pt x="805" y="1817"/>
                  </a:lnTo>
                  <a:lnTo>
                    <a:pt x="887" y="1779"/>
                  </a:lnTo>
                  <a:lnTo>
                    <a:pt x="975" y="1745"/>
                  </a:lnTo>
                  <a:lnTo>
                    <a:pt x="1068" y="1716"/>
                  </a:lnTo>
                  <a:lnTo>
                    <a:pt x="1161" y="1696"/>
                  </a:lnTo>
                  <a:lnTo>
                    <a:pt x="1250" y="1688"/>
                  </a:lnTo>
                  <a:lnTo>
                    <a:pt x="1332" y="1693"/>
                  </a:lnTo>
                  <a:lnTo>
                    <a:pt x="1326" y="1703"/>
                  </a:lnTo>
                  <a:lnTo>
                    <a:pt x="1324" y="1710"/>
                  </a:lnTo>
                  <a:lnTo>
                    <a:pt x="1321" y="1717"/>
                  </a:lnTo>
                  <a:lnTo>
                    <a:pt x="1318" y="1724"/>
                  </a:lnTo>
                  <a:lnTo>
                    <a:pt x="1315" y="1732"/>
                  </a:lnTo>
                  <a:lnTo>
                    <a:pt x="1313" y="1740"/>
                  </a:lnTo>
                  <a:lnTo>
                    <a:pt x="1310" y="1748"/>
                  </a:lnTo>
                  <a:lnTo>
                    <a:pt x="1309" y="1757"/>
                  </a:lnTo>
                  <a:lnTo>
                    <a:pt x="1307" y="1765"/>
                  </a:lnTo>
                  <a:lnTo>
                    <a:pt x="1305" y="1773"/>
                  </a:lnTo>
                  <a:lnTo>
                    <a:pt x="1303" y="1782"/>
                  </a:lnTo>
                  <a:lnTo>
                    <a:pt x="1302" y="1789"/>
                  </a:lnTo>
                  <a:lnTo>
                    <a:pt x="1300" y="1798"/>
                  </a:lnTo>
                  <a:lnTo>
                    <a:pt x="1299" y="1805"/>
                  </a:lnTo>
                  <a:lnTo>
                    <a:pt x="1297" y="1811"/>
                  </a:lnTo>
                  <a:lnTo>
                    <a:pt x="1296" y="1815"/>
                  </a:lnTo>
                  <a:lnTo>
                    <a:pt x="1296" y="1826"/>
                  </a:lnTo>
                  <a:lnTo>
                    <a:pt x="1297" y="1834"/>
                  </a:lnTo>
                  <a:lnTo>
                    <a:pt x="1299" y="1842"/>
                  </a:lnTo>
                  <a:lnTo>
                    <a:pt x="1300" y="1850"/>
                  </a:lnTo>
                  <a:lnTo>
                    <a:pt x="1302" y="1857"/>
                  </a:lnTo>
                  <a:lnTo>
                    <a:pt x="1303" y="1864"/>
                  </a:lnTo>
                  <a:lnTo>
                    <a:pt x="1306" y="1871"/>
                  </a:lnTo>
                  <a:lnTo>
                    <a:pt x="1309" y="1877"/>
                  </a:lnTo>
                  <a:lnTo>
                    <a:pt x="1313" y="1882"/>
                  </a:lnTo>
                  <a:lnTo>
                    <a:pt x="1324" y="1893"/>
                  </a:lnTo>
                  <a:lnTo>
                    <a:pt x="1330" y="1896"/>
                  </a:lnTo>
                  <a:lnTo>
                    <a:pt x="1345" y="1900"/>
                  </a:lnTo>
                  <a:lnTo>
                    <a:pt x="1354" y="1901"/>
                  </a:lnTo>
                  <a:lnTo>
                    <a:pt x="1359" y="1900"/>
                  </a:lnTo>
                  <a:lnTo>
                    <a:pt x="1367" y="1899"/>
                  </a:lnTo>
                  <a:lnTo>
                    <a:pt x="1378" y="1895"/>
                  </a:lnTo>
                  <a:lnTo>
                    <a:pt x="1392" y="1890"/>
                  </a:lnTo>
                  <a:lnTo>
                    <a:pt x="1405" y="1883"/>
                  </a:lnTo>
                  <a:lnTo>
                    <a:pt x="1418" y="1875"/>
                  </a:lnTo>
                  <a:lnTo>
                    <a:pt x="1432" y="1867"/>
                  </a:lnTo>
                  <a:lnTo>
                    <a:pt x="1443" y="1857"/>
                  </a:lnTo>
                  <a:lnTo>
                    <a:pt x="1456" y="1846"/>
                  </a:lnTo>
                  <a:lnTo>
                    <a:pt x="1467" y="1835"/>
                  </a:lnTo>
                  <a:lnTo>
                    <a:pt x="1478" y="1823"/>
                  </a:lnTo>
                  <a:lnTo>
                    <a:pt x="1488" y="1810"/>
                  </a:lnTo>
                  <a:lnTo>
                    <a:pt x="1497" y="1798"/>
                  </a:lnTo>
                  <a:lnTo>
                    <a:pt x="1504" y="1785"/>
                  </a:lnTo>
                  <a:lnTo>
                    <a:pt x="1511" y="1770"/>
                  </a:lnTo>
                  <a:lnTo>
                    <a:pt x="1515" y="1758"/>
                  </a:lnTo>
                  <a:lnTo>
                    <a:pt x="1521" y="1745"/>
                  </a:lnTo>
                  <a:lnTo>
                    <a:pt x="1524" y="1736"/>
                  </a:lnTo>
                  <a:lnTo>
                    <a:pt x="1526" y="1728"/>
                  </a:lnTo>
                  <a:lnTo>
                    <a:pt x="1527" y="1721"/>
                  </a:lnTo>
                  <a:lnTo>
                    <a:pt x="1529" y="1716"/>
                  </a:lnTo>
                  <a:lnTo>
                    <a:pt x="1531" y="1707"/>
                  </a:lnTo>
                  <a:lnTo>
                    <a:pt x="1535" y="1701"/>
                  </a:lnTo>
                  <a:lnTo>
                    <a:pt x="1540" y="1698"/>
                  </a:lnTo>
                  <a:lnTo>
                    <a:pt x="1549" y="1695"/>
                  </a:lnTo>
                  <a:lnTo>
                    <a:pt x="1559" y="1693"/>
                  </a:lnTo>
                  <a:lnTo>
                    <a:pt x="1565" y="1692"/>
                  </a:lnTo>
                  <a:lnTo>
                    <a:pt x="1570" y="1690"/>
                  </a:lnTo>
                  <a:lnTo>
                    <a:pt x="1576" y="1689"/>
                  </a:lnTo>
                  <a:lnTo>
                    <a:pt x="1582" y="1686"/>
                  </a:lnTo>
                  <a:lnTo>
                    <a:pt x="1589" y="1685"/>
                  </a:lnTo>
                  <a:lnTo>
                    <a:pt x="1596" y="1683"/>
                  </a:lnTo>
                  <a:lnTo>
                    <a:pt x="1603" y="1681"/>
                  </a:lnTo>
                  <a:lnTo>
                    <a:pt x="1611" y="1678"/>
                  </a:lnTo>
                  <a:lnTo>
                    <a:pt x="1618" y="1675"/>
                  </a:lnTo>
                  <a:lnTo>
                    <a:pt x="1625" y="1672"/>
                  </a:lnTo>
                  <a:lnTo>
                    <a:pt x="1634" y="1668"/>
                  </a:lnTo>
                  <a:lnTo>
                    <a:pt x="1643" y="1663"/>
                  </a:lnTo>
                  <a:lnTo>
                    <a:pt x="1635" y="1667"/>
                  </a:lnTo>
                  <a:lnTo>
                    <a:pt x="1631" y="1677"/>
                  </a:lnTo>
                  <a:lnTo>
                    <a:pt x="1630" y="1682"/>
                  </a:lnTo>
                  <a:lnTo>
                    <a:pt x="1629" y="1690"/>
                  </a:lnTo>
                  <a:lnTo>
                    <a:pt x="1630" y="1697"/>
                  </a:lnTo>
                  <a:lnTo>
                    <a:pt x="1632" y="1703"/>
                  </a:lnTo>
                  <a:lnTo>
                    <a:pt x="1634" y="1712"/>
                  </a:lnTo>
                  <a:lnTo>
                    <a:pt x="1638" y="1719"/>
                  </a:lnTo>
                  <a:lnTo>
                    <a:pt x="1643" y="1725"/>
                  </a:lnTo>
                  <a:lnTo>
                    <a:pt x="1650" y="1730"/>
                  </a:lnTo>
                  <a:lnTo>
                    <a:pt x="1656" y="1736"/>
                  </a:lnTo>
                  <a:lnTo>
                    <a:pt x="1664" y="1739"/>
                  </a:lnTo>
                  <a:lnTo>
                    <a:pt x="1674" y="1740"/>
                  </a:lnTo>
                  <a:lnTo>
                    <a:pt x="1684" y="1740"/>
                  </a:lnTo>
                  <a:lnTo>
                    <a:pt x="1690" y="1740"/>
                  </a:lnTo>
                  <a:lnTo>
                    <a:pt x="1696" y="1738"/>
                  </a:lnTo>
                  <a:lnTo>
                    <a:pt x="1709" y="1734"/>
                  </a:lnTo>
                  <a:lnTo>
                    <a:pt x="1722" y="1726"/>
                  </a:lnTo>
                  <a:lnTo>
                    <a:pt x="1734" y="1718"/>
                  </a:lnTo>
                  <a:lnTo>
                    <a:pt x="1748" y="1707"/>
                  </a:lnTo>
                  <a:lnTo>
                    <a:pt x="1761" y="1696"/>
                  </a:lnTo>
                  <a:lnTo>
                    <a:pt x="1773" y="1683"/>
                  </a:lnTo>
                  <a:lnTo>
                    <a:pt x="1786" y="1669"/>
                  </a:lnTo>
                  <a:lnTo>
                    <a:pt x="1797" y="1654"/>
                  </a:lnTo>
                  <a:lnTo>
                    <a:pt x="1808" y="1638"/>
                  </a:lnTo>
                  <a:lnTo>
                    <a:pt x="1818" y="1622"/>
                  </a:lnTo>
                  <a:lnTo>
                    <a:pt x="1829" y="1604"/>
                  </a:lnTo>
                  <a:lnTo>
                    <a:pt x="1837" y="1586"/>
                  </a:lnTo>
                  <a:lnTo>
                    <a:pt x="1844" y="1568"/>
                  </a:lnTo>
                  <a:lnTo>
                    <a:pt x="1850" y="1550"/>
                  </a:lnTo>
                  <a:lnTo>
                    <a:pt x="1855" y="1532"/>
                  </a:lnTo>
                  <a:lnTo>
                    <a:pt x="1900" y="1489"/>
                  </a:lnTo>
                  <a:lnTo>
                    <a:pt x="1966" y="1439"/>
                  </a:lnTo>
                  <a:lnTo>
                    <a:pt x="2048" y="1381"/>
                  </a:lnTo>
                  <a:lnTo>
                    <a:pt x="2133" y="1311"/>
                  </a:lnTo>
                  <a:lnTo>
                    <a:pt x="2214" y="1231"/>
                  </a:lnTo>
                  <a:lnTo>
                    <a:pt x="2279" y="1137"/>
                  </a:lnTo>
                  <a:lnTo>
                    <a:pt x="2323" y="1031"/>
                  </a:lnTo>
                  <a:lnTo>
                    <a:pt x="2335" y="90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6259320" y="3750480"/>
              <a:ext cx="1506600" cy="836280"/>
            </a:xfrm>
            <a:custGeom>
              <a:avLst/>
              <a:gdLst/>
              <a:ahLst/>
              <a:rect l="l" t="t" r="r" b="b"/>
              <a:pathLst>
                <a:path w="2170" h="1185">
                  <a:moveTo>
                    <a:pt x="2056" y="68"/>
                  </a:moveTo>
                  <a:lnTo>
                    <a:pt x="2013" y="89"/>
                  </a:lnTo>
                  <a:lnTo>
                    <a:pt x="1970" y="111"/>
                  </a:lnTo>
                  <a:lnTo>
                    <a:pt x="1926" y="133"/>
                  </a:lnTo>
                  <a:lnTo>
                    <a:pt x="1882" y="155"/>
                  </a:lnTo>
                  <a:lnTo>
                    <a:pt x="1839" y="177"/>
                  </a:lnTo>
                  <a:lnTo>
                    <a:pt x="1796" y="199"/>
                  </a:lnTo>
                  <a:lnTo>
                    <a:pt x="1753" y="221"/>
                  </a:lnTo>
                  <a:lnTo>
                    <a:pt x="1709" y="243"/>
                  </a:lnTo>
                  <a:lnTo>
                    <a:pt x="1657" y="259"/>
                  </a:lnTo>
                  <a:lnTo>
                    <a:pt x="1606" y="275"/>
                  </a:lnTo>
                  <a:lnTo>
                    <a:pt x="1553" y="290"/>
                  </a:lnTo>
                  <a:lnTo>
                    <a:pt x="1501" y="307"/>
                  </a:lnTo>
                  <a:lnTo>
                    <a:pt x="1449" y="323"/>
                  </a:lnTo>
                  <a:lnTo>
                    <a:pt x="1397" y="340"/>
                  </a:lnTo>
                  <a:lnTo>
                    <a:pt x="1346" y="355"/>
                  </a:lnTo>
                  <a:lnTo>
                    <a:pt x="1293" y="371"/>
                  </a:lnTo>
                  <a:lnTo>
                    <a:pt x="1215" y="410"/>
                  </a:lnTo>
                  <a:lnTo>
                    <a:pt x="1135" y="449"/>
                  </a:lnTo>
                  <a:lnTo>
                    <a:pt x="1056" y="486"/>
                  </a:lnTo>
                  <a:lnTo>
                    <a:pt x="977" y="525"/>
                  </a:lnTo>
                  <a:lnTo>
                    <a:pt x="898" y="564"/>
                  </a:lnTo>
                  <a:lnTo>
                    <a:pt x="819" y="603"/>
                  </a:lnTo>
                  <a:lnTo>
                    <a:pt x="740" y="641"/>
                  </a:lnTo>
                  <a:lnTo>
                    <a:pt x="661" y="680"/>
                  </a:lnTo>
                  <a:lnTo>
                    <a:pt x="580" y="756"/>
                  </a:lnTo>
                  <a:lnTo>
                    <a:pt x="501" y="817"/>
                  </a:lnTo>
                  <a:lnTo>
                    <a:pt x="425" y="868"/>
                  </a:lnTo>
                  <a:lnTo>
                    <a:pt x="349" y="911"/>
                  </a:lnTo>
                  <a:lnTo>
                    <a:pt x="276" y="948"/>
                  </a:lnTo>
                  <a:lnTo>
                    <a:pt x="201" y="986"/>
                  </a:lnTo>
                  <a:lnTo>
                    <a:pt x="128" y="1026"/>
                  </a:lnTo>
                  <a:lnTo>
                    <a:pt x="52" y="1071"/>
                  </a:lnTo>
                  <a:lnTo>
                    <a:pt x="45" y="1093"/>
                  </a:lnTo>
                  <a:lnTo>
                    <a:pt x="38" y="1107"/>
                  </a:lnTo>
                  <a:lnTo>
                    <a:pt x="27" y="1127"/>
                  </a:lnTo>
                  <a:lnTo>
                    <a:pt x="16" y="1153"/>
                  </a:lnTo>
                  <a:lnTo>
                    <a:pt x="0" y="1185"/>
                  </a:lnTo>
                  <a:lnTo>
                    <a:pt x="75" y="1144"/>
                  </a:lnTo>
                  <a:lnTo>
                    <a:pt x="171" y="1083"/>
                  </a:lnTo>
                  <a:lnTo>
                    <a:pt x="282" y="1007"/>
                  </a:lnTo>
                  <a:lnTo>
                    <a:pt x="395" y="929"/>
                  </a:lnTo>
                  <a:lnTo>
                    <a:pt x="504" y="851"/>
                  </a:lnTo>
                  <a:lnTo>
                    <a:pt x="593" y="787"/>
                  </a:lnTo>
                  <a:lnTo>
                    <a:pt x="657" y="742"/>
                  </a:lnTo>
                  <a:lnTo>
                    <a:pt x="682" y="726"/>
                  </a:lnTo>
                  <a:lnTo>
                    <a:pt x="739" y="683"/>
                  </a:lnTo>
                  <a:lnTo>
                    <a:pt x="817" y="639"/>
                  </a:lnTo>
                  <a:lnTo>
                    <a:pt x="912" y="595"/>
                  </a:lnTo>
                  <a:lnTo>
                    <a:pt x="1015" y="557"/>
                  </a:lnTo>
                  <a:lnTo>
                    <a:pt x="1125" y="526"/>
                  </a:lnTo>
                  <a:lnTo>
                    <a:pt x="1234" y="515"/>
                  </a:lnTo>
                  <a:lnTo>
                    <a:pt x="1331" y="518"/>
                  </a:lnTo>
                  <a:lnTo>
                    <a:pt x="1373" y="465"/>
                  </a:lnTo>
                  <a:lnTo>
                    <a:pt x="1388" y="470"/>
                  </a:lnTo>
                  <a:lnTo>
                    <a:pt x="1401" y="470"/>
                  </a:lnTo>
                  <a:lnTo>
                    <a:pt x="1413" y="472"/>
                  </a:lnTo>
                  <a:lnTo>
                    <a:pt x="1415" y="486"/>
                  </a:lnTo>
                  <a:lnTo>
                    <a:pt x="1407" y="503"/>
                  </a:lnTo>
                  <a:lnTo>
                    <a:pt x="1401" y="518"/>
                  </a:lnTo>
                  <a:lnTo>
                    <a:pt x="1398" y="536"/>
                  </a:lnTo>
                  <a:lnTo>
                    <a:pt x="1394" y="554"/>
                  </a:lnTo>
                  <a:lnTo>
                    <a:pt x="1391" y="575"/>
                  </a:lnTo>
                  <a:lnTo>
                    <a:pt x="1388" y="594"/>
                  </a:lnTo>
                  <a:lnTo>
                    <a:pt x="1384" y="611"/>
                  </a:lnTo>
                  <a:lnTo>
                    <a:pt x="1382" y="627"/>
                  </a:lnTo>
                  <a:lnTo>
                    <a:pt x="1378" y="642"/>
                  </a:lnTo>
                  <a:lnTo>
                    <a:pt x="1370" y="658"/>
                  </a:lnTo>
                  <a:lnTo>
                    <a:pt x="1359" y="675"/>
                  </a:lnTo>
                  <a:lnTo>
                    <a:pt x="1349" y="691"/>
                  </a:lnTo>
                  <a:lnTo>
                    <a:pt x="1340" y="704"/>
                  </a:lnTo>
                  <a:lnTo>
                    <a:pt x="1337" y="716"/>
                  </a:lnTo>
                  <a:lnTo>
                    <a:pt x="1354" y="726"/>
                  </a:lnTo>
                  <a:lnTo>
                    <a:pt x="1379" y="719"/>
                  </a:lnTo>
                  <a:lnTo>
                    <a:pt x="1405" y="707"/>
                  </a:lnTo>
                  <a:lnTo>
                    <a:pt x="1432" y="692"/>
                  </a:lnTo>
                  <a:lnTo>
                    <a:pt x="1456" y="671"/>
                  </a:lnTo>
                  <a:lnTo>
                    <a:pt x="1479" y="647"/>
                  </a:lnTo>
                  <a:lnTo>
                    <a:pt x="1498" y="621"/>
                  </a:lnTo>
                  <a:lnTo>
                    <a:pt x="1512" y="595"/>
                  </a:lnTo>
                  <a:lnTo>
                    <a:pt x="1521" y="570"/>
                  </a:lnTo>
                  <a:lnTo>
                    <a:pt x="1526" y="553"/>
                  </a:lnTo>
                  <a:lnTo>
                    <a:pt x="1529" y="541"/>
                  </a:lnTo>
                  <a:lnTo>
                    <a:pt x="1536" y="526"/>
                  </a:lnTo>
                  <a:lnTo>
                    <a:pt x="1551" y="519"/>
                  </a:lnTo>
                  <a:lnTo>
                    <a:pt x="1568" y="516"/>
                  </a:lnTo>
                  <a:lnTo>
                    <a:pt x="1588" y="510"/>
                  </a:lnTo>
                  <a:lnTo>
                    <a:pt x="1610" y="505"/>
                  </a:lnTo>
                  <a:lnTo>
                    <a:pt x="1633" y="499"/>
                  </a:lnTo>
                  <a:lnTo>
                    <a:pt x="1655" y="493"/>
                  </a:lnTo>
                  <a:lnTo>
                    <a:pt x="1678" y="485"/>
                  </a:lnTo>
                  <a:lnTo>
                    <a:pt x="1696" y="476"/>
                  </a:lnTo>
                  <a:lnTo>
                    <a:pt x="1676" y="491"/>
                  </a:lnTo>
                  <a:lnTo>
                    <a:pt x="1665" y="505"/>
                  </a:lnTo>
                  <a:lnTo>
                    <a:pt x="1658" y="523"/>
                  </a:lnTo>
                  <a:lnTo>
                    <a:pt x="1655" y="539"/>
                  </a:lnTo>
                  <a:lnTo>
                    <a:pt x="1658" y="553"/>
                  </a:lnTo>
                  <a:lnTo>
                    <a:pt x="1684" y="565"/>
                  </a:lnTo>
                  <a:lnTo>
                    <a:pt x="1709" y="558"/>
                  </a:lnTo>
                  <a:lnTo>
                    <a:pt x="1735" y="543"/>
                  </a:lnTo>
                  <a:lnTo>
                    <a:pt x="1762" y="520"/>
                  </a:lnTo>
                  <a:lnTo>
                    <a:pt x="1786" y="494"/>
                  </a:lnTo>
                  <a:lnTo>
                    <a:pt x="1809" y="462"/>
                  </a:lnTo>
                  <a:lnTo>
                    <a:pt x="1829" y="429"/>
                  </a:lnTo>
                  <a:lnTo>
                    <a:pt x="1844" y="393"/>
                  </a:lnTo>
                  <a:lnTo>
                    <a:pt x="1855" y="357"/>
                  </a:lnTo>
                  <a:lnTo>
                    <a:pt x="1870" y="342"/>
                  </a:lnTo>
                  <a:lnTo>
                    <a:pt x="1881" y="331"/>
                  </a:lnTo>
                  <a:lnTo>
                    <a:pt x="1894" y="320"/>
                  </a:lnTo>
                  <a:lnTo>
                    <a:pt x="1907" y="308"/>
                  </a:lnTo>
                  <a:lnTo>
                    <a:pt x="1923" y="297"/>
                  </a:lnTo>
                  <a:lnTo>
                    <a:pt x="1940" y="284"/>
                  </a:lnTo>
                  <a:lnTo>
                    <a:pt x="1958" y="270"/>
                  </a:lnTo>
                  <a:lnTo>
                    <a:pt x="1976" y="258"/>
                  </a:lnTo>
                  <a:lnTo>
                    <a:pt x="1996" y="243"/>
                  </a:lnTo>
                  <a:lnTo>
                    <a:pt x="2016" y="229"/>
                  </a:lnTo>
                  <a:lnTo>
                    <a:pt x="2036" y="213"/>
                  </a:lnTo>
                  <a:lnTo>
                    <a:pt x="2058" y="197"/>
                  </a:lnTo>
                  <a:lnTo>
                    <a:pt x="2079" y="180"/>
                  </a:lnTo>
                  <a:lnTo>
                    <a:pt x="2101" y="163"/>
                  </a:lnTo>
                  <a:lnTo>
                    <a:pt x="2122" y="145"/>
                  </a:lnTo>
                  <a:lnTo>
                    <a:pt x="2137" y="135"/>
                  </a:lnTo>
                  <a:lnTo>
                    <a:pt x="2128" y="147"/>
                  </a:lnTo>
                  <a:lnTo>
                    <a:pt x="2116" y="165"/>
                  </a:lnTo>
                  <a:lnTo>
                    <a:pt x="2102" y="181"/>
                  </a:lnTo>
                  <a:lnTo>
                    <a:pt x="2112" y="144"/>
                  </a:lnTo>
                  <a:lnTo>
                    <a:pt x="2148" y="80"/>
                  </a:lnTo>
                  <a:lnTo>
                    <a:pt x="2164" y="42"/>
                  </a:lnTo>
                  <a:lnTo>
                    <a:pt x="2170" y="16"/>
                  </a:lnTo>
                  <a:lnTo>
                    <a:pt x="2169" y="0"/>
                  </a:lnTo>
                  <a:lnTo>
                    <a:pt x="2145" y="0"/>
                  </a:lnTo>
                  <a:lnTo>
                    <a:pt x="2122" y="14"/>
                  </a:lnTo>
                  <a:lnTo>
                    <a:pt x="2092" y="37"/>
                  </a:lnTo>
                  <a:lnTo>
                    <a:pt x="2056" y="68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6005520" y="3131280"/>
              <a:ext cx="1566360" cy="1329840"/>
            </a:xfrm>
            <a:custGeom>
              <a:avLst/>
              <a:gdLst/>
              <a:ahLst/>
              <a:rect l="l" t="t" r="r" b="b"/>
              <a:pathLst>
                <a:path w="2256" h="1882">
                  <a:moveTo>
                    <a:pt x="2054" y="613"/>
                  </a:moveTo>
                  <a:lnTo>
                    <a:pt x="2068" y="565"/>
                  </a:lnTo>
                  <a:lnTo>
                    <a:pt x="2076" y="527"/>
                  </a:lnTo>
                  <a:lnTo>
                    <a:pt x="2077" y="497"/>
                  </a:lnTo>
                  <a:lnTo>
                    <a:pt x="2076" y="470"/>
                  </a:lnTo>
                  <a:lnTo>
                    <a:pt x="2073" y="441"/>
                  </a:lnTo>
                  <a:lnTo>
                    <a:pt x="2071" y="409"/>
                  </a:lnTo>
                  <a:lnTo>
                    <a:pt x="2061" y="362"/>
                  </a:lnTo>
                  <a:lnTo>
                    <a:pt x="2063" y="306"/>
                  </a:lnTo>
                  <a:lnTo>
                    <a:pt x="2076" y="245"/>
                  </a:lnTo>
                  <a:lnTo>
                    <a:pt x="2095" y="189"/>
                  </a:lnTo>
                  <a:lnTo>
                    <a:pt x="2125" y="136"/>
                  </a:lnTo>
                  <a:lnTo>
                    <a:pt x="2148" y="96"/>
                  </a:lnTo>
                  <a:lnTo>
                    <a:pt x="2182" y="57"/>
                  </a:lnTo>
                  <a:lnTo>
                    <a:pt x="2212" y="38"/>
                  </a:lnTo>
                  <a:lnTo>
                    <a:pt x="2236" y="14"/>
                  </a:lnTo>
                  <a:lnTo>
                    <a:pt x="2256" y="0"/>
                  </a:lnTo>
                  <a:lnTo>
                    <a:pt x="2236" y="5"/>
                  </a:lnTo>
                  <a:lnTo>
                    <a:pt x="2220" y="9"/>
                  </a:lnTo>
                  <a:lnTo>
                    <a:pt x="2207" y="12"/>
                  </a:lnTo>
                  <a:lnTo>
                    <a:pt x="2196" y="14"/>
                  </a:lnTo>
                  <a:lnTo>
                    <a:pt x="2185" y="16"/>
                  </a:lnTo>
                  <a:lnTo>
                    <a:pt x="2173" y="18"/>
                  </a:lnTo>
                  <a:lnTo>
                    <a:pt x="2158" y="22"/>
                  </a:lnTo>
                  <a:lnTo>
                    <a:pt x="2138" y="26"/>
                  </a:lnTo>
                  <a:lnTo>
                    <a:pt x="2126" y="59"/>
                  </a:lnTo>
                  <a:lnTo>
                    <a:pt x="2103" y="80"/>
                  </a:lnTo>
                  <a:lnTo>
                    <a:pt x="2068" y="97"/>
                  </a:lnTo>
                  <a:lnTo>
                    <a:pt x="2029" y="106"/>
                  </a:lnTo>
                  <a:lnTo>
                    <a:pt x="1986" y="113"/>
                  </a:lnTo>
                  <a:lnTo>
                    <a:pt x="1946" y="119"/>
                  </a:lnTo>
                  <a:lnTo>
                    <a:pt x="1911" y="123"/>
                  </a:lnTo>
                  <a:lnTo>
                    <a:pt x="1885" y="129"/>
                  </a:lnTo>
                  <a:lnTo>
                    <a:pt x="1877" y="142"/>
                  </a:lnTo>
                  <a:lnTo>
                    <a:pt x="1860" y="142"/>
                  </a:lnTo>
                  <a:lnTo>
                    <a:pt x="1846" y="144"/>
                  </a:lnTo>
                  <a:lnTo>
                    <a:pt x="1827" y="151"/>
                  </a:lnTo>
                  <a:lnTo>
                    <a:pt x="1800" y="166"/>
                  </a:lnTo>
                  <a:lnTo>
                    <a:pt x="1766" y="191"/>
                  </a:lnTo>
                  <a:lnTo>
                    <a:pt x="1769" y="203"/>
                  </a:lnTo>
                  <a:lnTo>
                    <a:pt x="1765" y="220"/>
                  </a:lnTo>
                  <a:lnTo>
                    <a:pt x="1756" y="240"/>
                  </a:lnTo>
                  <a:lnTo>
                    <a:pt x="1745" y="262"/>
                  </a:lnTo>
                  <a:lnTo>
                    <a:pt x="1731" y="286"/>
                  </a:lnTo>
                  <a:lnTo>
                    <a:pt x="1717" y="307"/>
                  </a:lnTo>
                  <a:lnTo>
                    <a:pt x="1705" y="329"/>
                  </a:lnTo>
                  <a:lnTo>
                    <a:pt x="1695" y="346"/>
                  </a:lnTo>
                  <a:lnTo>
                    <a:pt x="1740" y="351"/>
                  </a:lnTo>
                  <a:lnTo>
                    <a:pt x="1781" y="360"/>
                  </a:lnTo>
                  <a:lnTo>
                    <a:pt x="1816" y="371"/>
                  </a:lnTo>
                  <a:lnTo>
                    <a:pt x="1844" y="385"/>
                  </a:lnTo>
                  <a:lnTo>
                    <a:pt x="1866" y="400"/>
                  </a:lnTo>
                  <a:lnTo>
                    <a:pt x="1883" y="419"/>
                  </a:lnTo>
                  <a:lnTo>
                    <a:pt x="1893" y="441"/>
                  </a:lnTo>
                  <a:lnTo>
                    <a:pt x="1897" y="465"/>
                  </a:lnTo>
                  <a:lnTo>
                    <a:pt x="1856" y="494"/>
                  </a:lnTo>
                  <a:lnTo>
                    <a:pt x="1823" y="517"/>
                  </a:lnTo>
                  <a:lnTo>
                    <a:pt x="1796" y="537"/>
                  </a:lnTo>
                  <a:lnTo>
                    <a:pt x="1773" y="554"/>
                  </a:lnTo>
                  <a:lnTo>
                    <a:pt x="1751" y="574"/>
                  </a:lnTo>
                  <a:lnTo>
                    <a:pt x="1728" y="595"/>
                  </a:lnTo>
                  <a:lnTo>
                    <a:pt x="1703" y="620"/>
                  </a:lnTo>
                  <a:lnTo>
                    <a:pt x="1670" y="653"/>
                  </a:lnTo>
                  <a:lnTo>
                    <a:pt x="1727" y="638"/>
                  </a:lnTo>
                  <a:lnTo>
                    <a:pt x="1762" y="636"/>
                  </a:lnTo>
                  <a:lnTo>
                    <a:pt x="1781" y="645"/>
                  </a:lnTo>
                  <a:lnTo>
                    <a:pt x="1780" y="661"/>
                  </a:lnTo>
                  <a:lnTo>
                    <a:pt x="1764" y="685"/>
                  </a:lnTo>
                  <a:lnTo>
                    <a:pt x="1730" y="716"/>
                  </a:lnTo>
                  <a:lnTo>
                    <a:pt x="1682" y="750"/>
                  </a:lnTo>
                  <a:lnTo>
                    <a:pt x="1619" y="788"/>
                  </a:lnTo>
                  <a:lnTo>
                    <a:pt x="1599" y="793"/>
                  </a:lnTo>
                  <a:lnTo>
                    <a:pt x="1576" y="797"/>
                  </a:lnTo>
                  <a:lnTo>
                    <a:pt x="1551" y="799"/>
                  </a:lnTo>
                  <a:lnTo>
                    <a:pt x="1525" y="801"/>
                  </a:lnTo>
                  <a:lnTo>
                    <a:pt x="1498" y="804"/>
                  </a:lnTo>
                  <a:lnTo>
                    <a:pt x="1473" y="811"/>
                  </a:lnTo>
                  <a:lnTo>
                    <a:pt x="1449" y="822"/>
                  </a:lnTo>
                  <a:lnTo>
                    <a:pt x="1429" y="838"/>
                  </a:lnTo>
                  <a:lnTo>
                    <a:pt x="1443" y="836"/>
                  </a:lnTo>
                  <a:lnTo>
                    <a:pt x="1432" y="849"/>
                  </a:lnTo>
                  <a:lnTo>
                    <a:pt x="1403" y="872"/>
                  </a:lnTo>
                  <a:lnTo>
                    <a:pt x="1361" y="901"/>
                  </a:lnTo>
                  <a:lnTo>
                    <a:pt x="1313" y="933"/>
                  </a:lnTo>
                  <a:lnTo>
                    <a:pt x="1266" y="965"/>
                  </a:lnTo>
                  <a:lnTo>
                    <a:pt x="1225" y="994"/>
                  </a:lnTo>
                  <a:lnTo>
                    <a:pt x="1197" y="1014"/>
                  </a:lnTo>
                  <a:lnTo>
                    <a:pt x="1169" y="1049"/>
                  </a:lnTo>
                  <a:lnTo>
                    <a:pt x="1140" y="1077"/>
                  </a:lnTo>
                  <a:lnTo>
                    <a:pt x="1112" y="1100"/>
                  </a:lnTo>
                  <a:lnTo>
                    <a:pt x="1083" y="1120"/>
                  </a:lnTo>
                  <a:lnTo>
                    <a:pt x="1057" y="1135"/>
                  </a:lnTo>
                  <a:lnTo>
                    <a:pt x="1032" y="1148"/>
                  </a:lnTo>
                  <a:lnTo>
                    <a:pt x="1011" y="1160"/>
                  </a:lnTo>
                  <a:lnTo>
                    <a:pt x="991" y="1173"/>
                  </a:lnTo>
                  <a:lnTo>
                    <a:pt x="970" y="1185"/>
                  </a:lnTo>
                  <a:lnTo>
                    <a:pt x="940" y="1199"/>
                  </a:lnTo>
                  <a:lnTo>
                    <a:pt x="905" y="1213"/>
                  </a:lnTo>
                  <a:lnTo>
                    <a:pt x="869" y="1226"/>
                  </a:lnTo>
                  <a:lnTo>
                    <a:pt x="833" y="1240"/>
                  </a:lnTo>
                  <a:lnTo>
                    <a:pt x="802" y="1250"/>
                  </a:lnTo>
                  <a:lnTo>
                    <a:pt x="778" y="1260"/>
                  </a:lnTo>
                  <a:lnTo>
                    <a:pt x="764" y="1266"/>
                  </a:lnTo>
                  <a:lnTo>
                    <a:pt x="732" y="1286"/>
                  </a:lnTo>
                  <a:lnTo>
                    <a:pt x="700" y="1306"/>
                  </a:lnTo>
                  <a:lnTo>
                    <a:pt x="665" y="1325"/>
                  </a:lnTo>
                  <a:lnTo>
                    <a:pt x="631" y="1345"/>
                  </a:lnTo>
                  <a:lnTo>
                    <a:pt x="596" y="1362"/>
                  </a:lnTo>
                  <a:lnTo>
                    <a:pt x="564" y="1380"/>
                  </a:lnTo>
                  <a:lnTo>
                    <a:pt x="533" y="1397"/>
                  </a:lnTo>
                  <a:lnTo>
                    <a:pt x="506" y="1413"/>
                  </a:lnTo>
                  <a:lnTo>
                    <a:pt x="467" y="1443"/>
                  </a:lnTo>
                  <a:lnTo>
                    <a:pt x="406" y="1500"/>
                  </a:lnTo>
                  <a:lnTo>
                    <a:pt x="329" y="1572"/>
                  </a:lnTo>
                  <a:lnTo>
                    <a:pt x="245" y="1654"/>
                  </a:lnTo>
                  <a:lnTo>
                    <a:pt x="162" y="1734"/>
                  </a:lnTo>
                  <a:lnTo>
                    <a:pt x="89" y="1805"/>
                  </a:lnTo>
                  <a:lnTo>
                    <a:pt x="31" y="1857"/>
                  </a:lnTo>
                  <a:lnTo>
                    <a:pt x="0" y="1882"/>
                  </a:lnTo>
                  <a:lnTo>
                    <a:pt x="117" y="1797"/>
                  </a:lnTo>
                  <a:lnTo>
                    <a:pt x="244" y="1707"/>
                  </a:lnTo>
                  <a:lnTo>
                    <a:pt x="377" y="1618"/>
                  </a:lnTo>
                  <a:lnTo>
                    <a:pt x="513" y="1530"/>
                  </a:lnTo>
                  <a:lnTo>
                    <a:pt x="652" y="1446"/>
                  </a:lnTo>
                  <a:lnTo>
                    <a:pt x="787" y="1372"/>
                  </a:lnTo>
                  <a:lnTo>
                    <a:pt x="919" y="1307"/>
                  </a:lnTo>
                  <a:lnTo>
                    <a:pt x="1043" y="1255"/>
                  </a:lnTo>
                  <a:lnTo>
                    <a:pt x="1152" y="1215"/>
                  </a:lnTo>
                  <a:lnTo>
                    <a:pt x="1241" y="1176"/>
                  </a:lnTo>
                  <a:lnTo>
                    <a:pt x="1314" y="1140"/>
                  </a:lnTo>
                  <a:lnTo>
                    <a:pt x="1375" y="1108"/>
                  </a:lnTo>
                  <a:lnTo>
                    <a:pt x="1431" y="1074"/>
                  </a:lnTo>
                  <a:lnTo>
                    <a:pt x="1484" y="1042"/>
                  </a:lnTo>
                  <a:lnTo>
                    <a:pt x="1538" y="1008"/>
                  </a:lnTo>
                  <a:lnTo>
                    <a:pt x="1600" y="974"/>
                  </a:lnTo>
                  <a:lnTo>
                    <a:pt x="1662" y="932"/>
                  </a:lnTo>
                  <a:lnTo>
                    <a:pt x="1716" y="877"/>
                  </a:lnTo>
                  <a:lnTo>
                    <a:pt x="1762" y="816"/>
                  </a:lnTo>
                  <a:lnTo>
                    <a:pt x="1804" y="751"/>
                  </a:lnTo>
                  <a:lnTo>
                    <a:pt x="1841" y="690"/>
                  </a:lnTo>
                  <a:lnTo>
                    <a:pt x="1876" y="633"/>
                  </a:lnTo>
                  <a:lnTo>
                    <a:pt x="1907" y="589"/>
                  </a:lnTo>
                  <a:lnTo>
                    <a:pt x="1936" y="560"/>
                  </a:lnTo>
                  <a:lnTo>
                    <a:pt x="1966" y="545"/>
                  </a:lnTo>
                  <a:lnTo>
                    <a:pt x="1991" y="537"/>
                  </a:lnTo>
                  <a:lnTo>
                    <a:pt x="2013" y="537"/>
                  </a:lnTo>
                  <a:lnTo>
                    <a:pt x="2030" y="542"/>
                  </a:lnTo>
                  <a:lnTo>
                    <a:pt x="2044" y="553"/>
                  </a:lnTo>
                  <a:lnTo>
                    <a:pt x="2053" y="569"/>
                  </a:lnTo>
                  <a:lnTo>
                    <a:pt x="2056" y="589"/>
                  </a:lnTo>
                  <a:lnTo>
                    <a:pt x="2054" y="613"/>
                  </a:lnTo>
                  <a:close/>
                </a:path>
              </a:pathLst>
            </a:custGeom>
            <a:solidFill>
              <a:srgbClr val="ffc000"/>
            </a:solidFill>
            <a:ln w="14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6021720" y="2895480"/>
              <a:ext cx="1902600" cy="1582920"/>
            </a:xfrm>
            <a:custGeom>
              <a:avLst/>
              <a:gdLst/>
              <a:ahLst/>
              <a:rect l="l" t="t" r="r" b="b"/>
              <a:pathLst>
                <a:path w="2740" h="2239">
                  <a:moveTo>
                    <a:pt x="2699" y="149"/>
                  </a:moveTo>
                  <a:lnTo>
                    <a:pt x="2679" y="123"/>
                  </a:lnTo>
                  <a:lnTo>
                    <a:pt x="2659" y="100"/>
                  </a:lnTo>
                  <a:lnTo>
                    <a:pt x="2639" y="80"/>
                  </a:lnTo>
                  <a:lnTo>
                    <a:pt x="2618" y="64"/>
                  </a:lnTo>
                  <a:lnTo>
                    <a:pt x="2596" y="48"/>
                  </a:lnTo>
                  <a:lnTo>
                    <a:pt x="2575" y="37"/>
                  </a:lnTo>
                  <a:lnTo>
                    <a:pt x="2553" y="25"/>
                  </a:lnTo>
                  <a:lnTo>
                    <a:pt x="2532" y="18"/>
                  </a:lnTo>
                  <a:lnTo>
                    <a:pt x="2509" y="11"/>
                  </a:lnTo>
                  <a:lnTo>
                    <a:pt x="2487" y="6"/>
                  </a:lnTo>
                  <a:lnTo>
                    <a:pt x="2463" y="2"/>
                  </a:lnTo>
                  <a:lnTo>
                    <a:pt x="2441" y="1"/>
                  </a:lnTo>
                  <a:lnTo>
                    <a:pt x="2416" y="0"/>
                  </a:lnTo>
                  <a:lnTo>
                    <a:pt x="2392" y="0"/>
                  </a:lnTo>
                  <a:lnTo>
                    <a:pt x="2367" y="0"/>
                  </a:lnTo>
                  <a:lnTo>
                    <a:pt x="2343" y="1"/>
                  </a:lnTo>
                  <a:lnTo>
                    <a:pt x="2318" y="3"/>
                  </a:lnTo>
                  <a:lnTo>
                    <a:pt x="2293" y="6"/>
                  </a:lnTo>
                  <a:lnTo>
                    <a:pt x="2266" y="10"/>
                  </a:lnTo>
                  <a:lnTo>
                    <a:pt x="2242" y="17"/>
                  </a:lnTo>
                  <a:lnTo>
                    <a:pt x="2217" y="24"/>
                  </a:lnTo>
                  <a:lnTo>
                    <a:pt x="2192" y="33"/>
                  </a:lnTo>
                  <a:lnTo>
                    <a:pt x="2167" y="46"/>
                  </a:lnTo>
                  <a:lnTo>
                    <a:pt x="2143" y="62"/>
                  </a:lnTo>
                  <a:lnTo>
                    <a:pt x="2120" y="79"/>
                  </a:lnTo>
                  <a:lnTo>
                    <a:pt x="2097" y="100"/>
                  </a:lnTo>
                  <a:lnTo>
                    <a:pt x="2075" y="124"/>
                  </a:lnTo>
                  <a:lnTo>
                    <a:pt x="2054" y="152"/>
                  </a:lnTo>
                  <a:lnTo>
                    <a:pt x="2034" y="182"/>
                  </a:lnTo>
                  <a:lnTo>
                    <a:pt x="2015" y="219"/>
                  </a:lnTo>
                  <a:lnTo>
                    <a:pt x="1996" y="260"/>
                  </a:lnTo>
                  <a:lnTo>
                    <a:pt x="1980" y="304"/>
                  </a:lnTo>
                  <a:lnTo>
                    <a:pt x="1956" y="347"/>
                  </a:lnTo>
                  <a:lnTo>
                    <a:pt x="1929" y="386"/>
                  </a:lnTo>
                  <a:lnTo>
                    <a:pt x="1895" y="424"/>
                  </a:lnTo>
                  <a:lnTo>
                    <a:pt x="1859" y="461"/>
                  </a:lnTo>
                  <a:lnTo>
                    <a:pt x="1818" y="498"/>
                  </a:lnTo>
                  <a:lnTo>
                    <a:pt x="1775" y="532"/>
                  </a:lnTo>
                  <a:lnTo>
                    <a:pt x="1730" y="567"/>
                  </a:lnTo>
                  <a:lnTo>
                    <a:pt x="1683" y="601"/>
                  </a:lnTo>
                  <a:lnTo>
                    <a:pt x="1634" y="635"/>
                  </a:lnTo>
                  <a:lnTo>
                    <a:pt x="1586" y="668"/>
                  </a:lnTo>
                  <a:lnTo>
                    <a:pt x="1537" y="704"/>
                  </a:lnTo>
                  <a:lnTo>
                    <a:pt x="1490" y="741"/>
                  </a:lnTo>
                  <a:lnTo>
                    <a:pt x="1444" y="777"/>
                  </a:lnTo>
                  <a:lnTo>
                    <a:pt x="1399" y="816"/>
                  </a:lnTo>
                  <a:lnTo>
                    <a:pt x="1356" y="856"/>
                  </a:lnTo>
                  <a:lnTo>
                    <a:pt x="1318" y="897"/>
                  </a:lnTo>
                  <a:lnTo>
                    <a:pt x="1282" y="942"/>
                  </a:lnTo>
                  <a:lnTo>
                    <a:pt x="1248" y="988"/>
                  </a:lnTo>
                  <a:lnTo>
                    <a:pt x="1214" y="1038"/>
                  </a:lnTo>
                  <a:lnTo>
                    <a:pt x="1183" y="1091"/>
                  </a:lnTo>
                  <a:lnTo>
                    <a:pt x="1151" y="1144"/>
                  </a:lnTo>
                  <a:lnTo>
                    <a:pt x="1121" y="1200"/>
                  </a:lnTo>
                  <a:lnTo>
                    <a:pt x="1092" y="1255"/>
                  </a:lnTo>
                  <a:lnTo>
                    <a:pt x="1062" y="1311"/>
                  </a:lnTo>
                  <a:lnTo>
                    <a:pt x="1034" y="1366"/>
                  </a:lnTo>
                  <a:lnTo>
                    <a:pt x="1006" y="1422"/>
                  </a:lnTo>
                  <a:lnTo>
                    <a:pt x="976" y="1477"/>
                  </a:lnTo>
                  <a:lnTo>
                    <a:pt x="948" y="1532"/>
                  </a:lnTo>
                  <a:lnTo>
                    <a:pt x="918" y="1584"/>
                  </a:lnTo>
                  <a:lnTo>
                    <a:pt x="888" y="1635"/>
                  </a:lnTo>
                  <a:lnTo>
                    <a:pt x="857" y="1683"/>
                  </a:lnTo>
                  <a:lnTo>
                    <a:pt x="810" y="1719"/>
                  </a:lnTo>
                  <a:lnTo>
                    <a:pt x="758" y="1755"/>
                  </a:lnTo>
                  <a:lnTo>
                    <a:pt x="706" y="1790"/>
                  </a:lnTo>
                  <a:lnTo>
                    <a:pt x="653" y="1825"/>
                  </a:lnTo>
                  <a:lnTo>
                    <a:pt x="598" y="1859"/>
                  </a:lnTo>
                  <a:lnTo>
                    <a:pt x="542" y="1892"/>
                  </a:lnTo>
                  <a:lnTo>
                    <a:pt x="486" y="1926"/>
                  </a:lnTo>
                  <a:lnTo>
                    <a:pt x="429" y="1959"/>
                  </a:lnTo>
                  <a:lnTo>
                    <a:pt x="373" y="1993"/>
                  </a:lnTo>
                  <a:lnTo>
                    <a:pt x="316" y="2025"/>
                  </a:lnTo>
                  <a:lnTo>
                    <a:pt x="262" y="2059"/>
                  </a:lnTo>
                  <a:lnTo>
                    <a:pt x="206" y="2095"/>
                  </a:lnTo>
                  <a:lnTo>
                    <a:pt x="153" y="2128"/>
                  </a:lnTo>
                  <a:lnTo>
                    <a:pt x="100" y="2164"/>
                  </a:lnTo>
                  <a:lnTo>
                    <a:pt x="49" y="2199"/>
                  </a:lnTo>
                  <a:lnTo>
                    <a:pt x="0" y="2236"/>
                  </a:lnTo>
                  <a:lnTo>
                    <a:pt x="12" y="2238"/>
                  </a:lnTo>
                  <a:lnTo>
                    <a:pt x="27" y="2239"/>
                  </a:lnTo>
                  <a:lnTo>
                    <a:pt x="43" y="2238"/>
                  </a:lnTo>
                  <a:lnTo>
                    <a:pt x="62" y="2236"/>
                  </a:lnTo>
                  <a:lnTo>
                    <a:pt x="83" y="2233"/>
                  </a:lnTo>
                  <a:lnTo>
                    <a:pt x="105" y="2229"/>
                  </a:lnTo>
                  <a:lnTo>
                    <a:pt x="128" y="2226"/>
                  </a:lnTo>
                  <a:lnTo>
                    <a:pt x="150" y="2220"/>
                  </a:lnTo>
                  <a:lnTo>
                    <a:pt x="174" y="2215"/>
                  </a:lnTo>
                  <a:lnTo>
                    <a:pt x="197" y="2212"/>
                  </a:lnTo>
                  <a:lnTo>
                    <a:pt x="218" y="2208"/>
                  </a:lnTo>
                  <a:lnTo>
                    <a:pt x="239" y="2206"/>
                  </a:lnTo>
                  <a:lnTo>
                    <a:pt x="258" y="2203"/>
                  </a:lnTo>
                  <a:lnTo>
                    <a:pt x="274" y="2203"/>
                  </a:lnTo>
                  <a:lnTo>
                    <a:pt x="289" y="2203"/>
                  </a:lnTo>
                  <a:lnTo>
                    <a:pt x="301" y="2206"/>
                  </a:lnTo>
                  <a:lnTo>
                    <a:pt x="336" y="2188"/>
                  </a:lnTo>
                  <a:lnTo>
                    <a:pt x="374" y="2169"/>
                  </a:lnTo>
                  <a:lnTo>
                    <a:pt x="413" y="2149"/>
                  </a:lnTo>
                  <a:lnTo>
                    <a:pt x="450" y="2128"/>
                  </a:lnTo>
                  <a:lnTo>
                    <a:pt x="491" y="2104"/>
                  </a:lnTo>
                  <a:lnTo>
                    <a:pt x="531" y="2080"/>
                  </a:lnTo>
                  <a:lnTo>
                    <a:pt x="573" y="2055"/>
                  </a:lnTo>
                  <a:lnTo>
                    <a:pt x="614" y="2029"/>
                  </a:lnTo>
                  <a:lnTo>
                    <a:pt x="657" y="2000"/>
                  </a:lnTo>
                  <a:lnTo>
                    <a:pt x="699" y="1972"/>
                  </a:lnTo>
                  <a:lnTo>
                    <a:pt x="742" y="1943"/>
                  </a:lnTo>
                  <a:lnTo>
                    <a:pt x="785" y="1912"/>
                  </a:lnTo>
                  <a:lnTo>
                    <a:pt x="829" y="1882"/>
                  </a:lnTo>
                  <a:lnTo>
                    <a:pt x="872" y="1850"/>
                  </a:lnTo>
                  <a:lnTo>
                    <a:pt x="915" y="1819"/>
                  </a:lnTo>
                  <a:lnTo>
                    <a:pt x="959" y="1789"/>
                  </a:lnTo>
                  <a:lnTo>
                    <a:pt x="1008" y="1755"/>
                  </a:lnTo>
                  <a:lnTo>
                    <a:pt x="1066" y="1722"/>
                  </a:lnTo>
                  <a:lnTo>
                    <a:pt x="1132" y="1686"/>
                  </a:lnTo>
                  <a:lnTo>
                    <a:pt x="1204" y="1650"/>
                  </a:lnTo>
                  <a:lnTo>
                    <a:pt x="1280" y="1613"/>
                  </a:lnTo>
                  <a:lnTo>
                    <a:pt x="1359" y="1576"/>
                  </a:lnTo>
                  <a:lnTo>
                    <a:pt x="1442" y="1538"/>
                  </a:lnTo>
                  <a:lnTo>
                    <a:pt x="1523" y="1502"/>
                  </a:lnTo>
                  <a:lnTo>
                    <a:pt x="1605" y="1465"/>
                  </a:lnTo>
                  <a:lnTo>
                    <a:pt x="1683" y="1429"/>
                  </a:lnTo>
                  <a:lnTo>
                    <a:pt x="1757" y="1394"/>
                  </a:lnTo>
                  <a:lnTo>
                    <a:pt x="1825" y="1361"/>
                  </a:lnTo>
                  <a:lnTo>
                    <a:pt x="1887" y="1330"/>
                  </a:lnTo>
                  <a:lnTo>
                    <a:pt x="1940" y="1299"/>
                  </a:lnTo>
                  <a:lnTo>
                    <a:pt x="1983" y="1272"/>
                  </a:lnTo>
                  <a:lnTo>
                    <a:pt x="2015" y="1248"/>
                  </a:lnTo>
                  <a:lnTo>
                    <a:pt x="1965" y="1275"/>
                  </a:lnTo>
                  <a:lnTo>
                    <a:pt x="1913" y="1299"/>
                  </a:lnTo>
                  <a:lnTo>
                    <a:pt x="1862" y="1320"/>
                  </a:lnTo>
                  <a:lnTo>
                    <a:pt x="1808" y="1339"/>
                  </a:lnTo>
                  <a:lnTo>
                    <a:pt x="1758" y="1355"/>
                  </a:lnTo>
                  <a:lnTo>
                    <a:pt x="1707" y="1367"/>
                  </a:lnTo>
                  <a:lnTo>
                    <a:pt x="1656" y="1380"/>
                  </a:lnTo>
                  <a:lnTo>
                    <a:pt x="1607" y="1389"/>
                  </a:lnTo>
                  <a:lnTo>
                    <a:pt x="1560" y="1396"/>
                  </a:lnTo>
                  <a:lnTo>
                    <a:pt x="1515" y="1403"/>
                  </a:lnTo>
                  <a:lnTo>
                    <a:pt x="1473" y="1408"/>
                  </a:lnTo>
                  <a:lnTo>
                    <a:pt x="1433" y="1412"/>
                  </a:lnTo>
                  <a:lnTo>
                    <a:pt x="1398" y="1417"/>
                  </a:lnTo>
                  <a:lnTo>
                    <a:pt x="1365" y="1420"/>
                  </a:lnTo>
                  <a:lnTo>
                    <a:pt x="1337" y="1424"/>
                  </a:lnTo>
                  <a:lnTo>
                    <a:pt x="1312" y="1428"/>
                  </a:lnTo>
                  <a:lnTo>
                    <a:pt x="1310" y="1387"/>
                  </a:lnTo>
                  <a:lnTo>
                    <a:pt x="1317" y="1337"/>
                  </a:lnTo>
                  <a:lnTo>
                    <a:pt x="1334" y="1279"/>
                  </a:lnTo>
                  <a:lnTo>
                    <a:pt x="1360" y="1217"/>
                  </a:lnTo>
                  <a:lnTo>
                    <a:pt x="1395" y="1147"/>
                  </a:lnTo>
                  <a:lnTo>
                    <a:pt x="1435" y="1077"/>
                  </a:lnTo>
                  <a:lnTo>
                    <a:pt x="1484" y="1005"/>
                  </a:lnTo>
                  <a:lnTo>
                    <a:pt x="1537" y="935"/>
                  </a:lnTo>
                  <a:lnTo>
                    <a:pt x="1596" y="867"/>
                  </a:lnTo>
                  <a:lnTo>
                    <a:pt x="1659" y="803"/>
                  </a:lnTo>
                  <a:lnTo>
                    <a:pt x="1725" y="745"/>
                  </a:lnTo>
                  <a:lnTo>
                    <a:pt x="1792" y="695"/>
                  </a:lnTo>
                  <a:lnTo>
                    <a:pt x="1863" y="655"/>
                  </a:lnTo>
                  <a:lnTo>
                    <a:pt x="1934" y="626"/>
                  </a:lnTo>
                  <a:lnTo>
                    <a:pt x="2005" y="609"/>
                  </a:lnTo>
                  <a:lnTo>
                    <a:pt x="2077" y="608"/>
                  </a:lnTo>
                  <a:lnTo>
                    <a:pt x="2107" y="572"/>
                  </a:lnTo>
                  <a:lnTo>
                    <a:pt x="2094" y="526"/>
                  </a:lnTo>
                  <a:lnTo>
                    <a:pt x="2123" y="541"/>
                  </a:lnTo>
                  <a:lnTo>
                    <a:pt x="2158" y="548"/>
                  </a:lnTo>
                  <a:lnTo>
                    <a:pt x="2200" y="547"/>
                  </a:lnTo>
                  <a:lnTo>
                    <a:pt x="2243" y="541"/>
                  </a:lnTo>
                  <a:lnTo>
                    <a:pt x="2287" y="528"/>
                  </a:lnTo>
                  <a:lnTo>
                    <a:pt x="2329" y="512"/>
                  </a:lnTo>
                  <a:lnTo>
                    <a:pt x="2366" y="492"/>
                  </a:lnTo>
                  <a:lnTo>
                    <a:pt x="2396" y="471"/>
                  </a:lnTo>
                  <a:lnTo>
                    <a:pt x="2449" y="471"/>
                  </a:lnTo>
                  <a:lnTo>
                    <a:pt x="2500" y="471"/>
                  </a:lnTo>
                  <a:lnTo>
                    <a:pt x="2530" y="470"/>
                  </a:lnTo>
                  <a:lnTo>
                    <a:pt x="2559" y="465"/>
                  </a:lnTo>
                  <a:lnTo>
                    <a:pt x="2584" y="456"/>
                  </a:lnTo>
                  <a:lnTo>
                    <a:pt x="2605" y="444"/>
                  </a:lnTo>
                  <a:lnTo>
                    <a:pt x="2624" y="426"/>
                  </a:lnTo>
                  <a:lnTo>
                    <a:pt x="2636" y="404"/>
                  </a:lnTo>
                  <a:lnTo>
                    <a:pt x="2644" y="378"/>
                  </a:lnTo>
                  <a:lnTo>
                    <a:pt x="2645" y="347"/>
                  </a:lnTo>
                  <a:lnTo>
                    <a:pt x="2682" y="334"/>
                  </a:lnTo>
                  <a:lnTo>
                    <a:pt x="2706" y="317"/>
                  </a:lnTo>
                  <a:lnTo>
                    <a:pt x="2719" y="299"/>
                  </a:lnTo>
                  <a:lnTo>
                    <a:pt x="2724" y="279"/>
                  </a:lnTo>
                  <a:lnTo>
                    <a:pt x="2725" y="258"/>
                  </a:lnTo>
                  <a:lnTo>
                    <a:pt x="2726" y="238"/>
                  </a:lnTo>
                  <a:lnTo>
                    <a:pt x="2729" y="221"/>
                  </a:lnTo>
                  <a:lnTo>
                    <a:pt x="2740" y="207"/>
                  </a:lnTo>
                  <a:lnTo>
                    <a:pt x="2699" y="149"/>
                  </a:lnTo>
                  <a:close/>
                </a:path>
              </a:pathLst>
            </a:custGeom>
            <a:solidFill>
              <a:srgbClr val="303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6024960" y="2939040"/>
              <a:ext cx="321840" cy="293760"/>
            </a:xfrm>
            <a:custGeom>
              <a:avLst/>
              <a:gdLst/>
              <a:ahLst/>
              <a:rect l="l" t="t" r="r" b="b"/>
              <a:pathLst>
                <a:path w="464" h="415">
                  <a:moveTo>
                    <a:pt x="464" y="143"/>
                  </a:moveTo>
                  <a:lnTo>
                    <a:pt x="457" y="132"/>
                  </a:lnTo>
                  <a:lnTo>
                    <a:pt x="450" y="120"/>
                  </a:lnTo>
                  <a:lnTo>
                    <a:pt x="435" y="100"/>
                  </a:lnTo>
                  <a:lnTo>
                    <a:pt x="419" y="82"/>
                  </a:lnTo>
                  <a:lnTo>
                    <a:pt x="401" y="65"/>
                  </a:lnTo>
                  <a:lnTo>
                    <a:pt x="381" y="51"/>
                  </a:lnTo>
                  <a:lnTo>
                    <a:pt x="361" y="39"/>
                  </a:lnTo>
                  <a:lnTo>
                    <a:pt x="340" y="28"/>
                  </a:lnTo>
                  <a:lnTo>
                    <a:pt x="317" y="19"/>
                  </a:lnTo>
                  <a:lnTo>
                    <a:pt x="296" y="11"/>
                  </a:lnTo>
                  <a:lnTo>
                    <a:pt x="274" y="6"/>
                  </a:lnTo>
                  <a:lnTo>
                    <a:pt x="252" y="3"/>
                  </a:lnTo>
                  <a:lnTo>
                    <a:pt x="231" y="0"/>
                  </a:lnTo>
                  <a:lnTo>
                    <a:pt x="210" y="0"/>
                  </a:lnTo>
                  <a:lnTo>
                    <a:pt x="190" y="0"/>
                  </a:lnTo>
                  <a:lnTo>
                    <a:pt x="171" y="1"/>
                  </a:lnTo>
                  <a:lnTo>
                    <a:pt x="153" y="3"/>
                  </a:lnTo>
                  <a:lnTo>
                    <a:pt x="146" y="3"/>
                  </a:lnTo>
                  <a:lnTo>
                    <a:pt x="140" y="4"/>
                  </a:lnTo>
                  <a:lnTo>
                    <a:pt x="128" y="9"/>
                  </a:lnTo>
                  <a:lnTo>
                    <a:pt x="117" y="18"/>
                  </a:lnTo>
                  <a:lnTo>
                    <a:pt x="106" y="29"/>
                  </a:lnTo>
                  <a:lnTo>
                    <a:pt x="97" y="44"/>
                  </a:lnTo>
                  <a:lnTo>
                    <a:pt x="88" y="58"/>
                  </a:lnTo>
                  <a:lnTo>
                    <a:pt x="79" y="76"/>
                  </a:lnTo>
                  <a:lnTo>
                    <a:pt x="71" y="94"/>
                  </a:lnTo>
                  <a:lnTo>
                    <a:pt x="62" y="114"/>
                  </a:lnTo>
                  <a:lnTo>
                    <a:pt x="55" y="132"/>
                  </a:lnTo>
                  <a:lnTo>
                    <a:pt x="47" y="151"/>
                  </a:lnTo>
                  <a:lnTo>
                    <a:pt x="38" y="168"/>
                  </a:lnTo>
                  <a:lnTo>
                    <a:pt x="30" y="184"/>
                  </a:lnTo>
                  <a:lnTo>
                    <a:pt x="21" y="199"/>
                  </a:lnTo>
                  <a:lnTo>
                    <a:pt x="10" y="210"/>
                  </a:lnTo>
                  <a:lnTo>
                    <a:pt x="0" y="220"/>
                  </a:lnTo>
                  <a:lnTo>
                    <a:pt x="10" y="224"/>
                  </a:lnTo>
                  <a:lnTo>
                    <a:pt x="16" y="225"/>
                  </a:lnTo>
                  <a:lnTo>
                    <a:pt x="23" y="226"/>
                  </a:lnTo>
                  <a:lnTo>
                    <a:pt x="31" y="226"/>
                  </a:lnTo>
                  <a:lnTo>
                    <a:pt x="39" y="226"/>
                  </a:lnTo>
                  <a:lnTo>
                    <a:pt x="47" y="227"/>
                  </a:lnTo>
                  <a:lnTo>
                    <a:pt x="56" y="228"/>
                  </a:lnTo>
                  <a:lnTo>
                    <a:pt x="62" y="229"/>
                  </a:lnTo>
                  <a:lnTo>
                    <a:pt x="70" y="231"/>
                  </a:lnTo>
                  <a:lnTo>
                    <a:pt x="76" y="233"/>
                  </a:lnTo>
                  <a:lnTo>
                    <a:pt x="84" y="242"/>
                  </a:lnTo>
                  <a:lnTo>
                    <a:pt x="87" y="248"/>
                  </a:lnTo>
                  <a:lnTo>
                    <a:pt x="87" y="255"/>
                  </a:lnTo>
                  <a:lnTo>
                    <a:pt x="84" y="265"/>
                  </a:lnTo>
                  <a:lnTo>
                    <a:pt x="85" y="269"/>
                  </a:lnTo>
                  <a:lnTo>
                    <a:pt x="91" y="280"/>
                  </a:lnTo>
                  <a:lnTo>
                    <a:pt x="102" y="289"/>
                  </a:lnTo>
                  <a:lnTo>
                    <a:pt x="109" y="293"/>
                  </a:lnTo>
                  <a:lnTo>
                    <a:pt x="117" y="297"/>
                  </a:lnTo>
                  <a:lnTo>
                    <a:pt x="123" y="302"/>
                  </a:lnTo>
                  <a:lnTo>
                    <a:pt x="131" y="307"/>
                  </a:lnTo>
                  <a:lnTo>
                    <a:pt x="136" y="313"/>
                  </a:lnTo>
                  <a:lnTo>
                    <a:pt x="141" y="319"/>
                  </a:lnTo>
                  <a:lnTo>
                    <a:pt x="144" y="329"/>
                  </a:lnTo>
                  <a:lnTo>
                    <a:pt x="145" y="340"/>
                  </a:lnTo>
                  <a:lnTo>
                    <a:pt x="144" y="353"/>
                  </a:lnTo>
                  <a:lnTo>
                    <a:pt x="141" y="370"/>
                  </a:lnTo>
                  <a:lnTo>
                    <a:pt x="134" y="389"/>
                  </a:lnTo>
                  <a:lnTo>
                    <a:pt x="124" y="412"/>
                  </a:lnTo>
                  <a:lnTo>
                    <a:pt x="134" y="412"/>
                  </a:lnTo>
                  <a:lnTo>
                    <a:pt x="143" y="413"/>
                  </a:lnTo>
                  <a:lnTo>
                    <a:pt x="163" y="414"/>
                  </a:lnTo>
                  <a:lnTo>
                    <a:pt x="184" y="415"/>
                  </a:lnTo>
                  <a:lnTo>
                    <a:pt x="204" y="415"/>
                  </a:lnTo>
                  <a:lnTo>
                    <a:pt x="224" y="413"/>
                  </a:lnTo>
                  <a:lnTo>
                    <a:pt x="244" y="412"/>
                  </a:lnTo>
                  <a:lnTo>
                    <a:pt x="264" y="408"/>
                  </a:lnTo>
                  <a:lnTo>
                    <a:pt x="281" y="405"/>
                  </a:lnTo>
                  <a:lnTo>
                    <a:pt x="299" y="400"/>
                  </a:lnTo>
                  <a:lnTo>
                    <a:pt x="315" y="394"/>
                  </a:lnTo>
                  <a:lnTo>
                    <a:pt x="330" y="386"/>
                  </a:lnTo>
                  <a:lnTo>
                    <a:pt x="341" y="377"/>
                  </a:lnTo>
                  <a:lnTo>
                    <a:pt x="352" y="367"/>
                  </a:lnTo>
                  <a:lnTo>
                    <a:pt x="360" y="353"/>
                  </a:lnTo>
                  <a:lnTo>
                    <a:pt x="365" y="338"/>
                  </a:lnTo>
                  <a:lnTo>
                    <a:pt x="367" y="323"/>
                  </a:lnTo>
                  <a:lnTo>
                    <a:pt x="369" y="316"/>
                  </a:lnTo>
                  <a:lnTo>
                    <a:pt x="372" y="309"/>
                  </a:lnTo>
                  <a:lnTo>
                    <a:pt x="372" y="304"/>
                  </a:lnTo>
                  <a:lnTo>
                    <a:pt x="373" y="296"/>
                  </a:lnTo>
                  <a:lnTo>
                    <a:pt x="373" y="289"/>
                  </a:lnTo>
                  <a:lnTo>
                    <a:pt x="383" y="283"/>
                  </a:lnTo>
                  <a:lnTo>
                    <a:pt x="393" y="279"/>
                  </a:lnTo>
                  <a:lnTo>
                    <a:pt x="409" y="270"/>
                  </a:lnTo>
                  <a:lnTo>
                    <a:pt x="423" y="262"/>
                  </a:lnTo>
                  <a:lnTo>
                    <a:pt x="434" y="253"/>
                  </a:lnTo>
                  <a:lnTo>
                    <a:pt x="442" y="244"/>
                  </a:lnTo>
                  <a:lnTo>
                    <a:pt x="447" y="235"/>
                  </a:lnTo>
                  <a:lnTo>
                    <a:pt x="450" y="226"/>
                  </a:lnTo>
                  <a:lnTo>
                    <a:pt x="452" y="217"/>
                  </a:lnTo>
                  <a:lnTo>
                    <a:pt x="453" y="207"/>
                  </a:lnTo>
                  <a:lnTo>
                    <a:pt x="453" y="198"/>
                  </a:lnTo>
                  <a:lnTo>
                    <a:pt x="453" y="189"/>
                  </a:lnTo>
                  <a:lnTo>
                    <a:pt x="453" y="180"/>
                  </a:lnTo>
                  <a:lnTo>
                    <a:pt x="454" y="171"/>
                  </a:lnTo>
                  <a:lnTo>
                    <a:pt x="456" y="162"/>
                  </a:lnTo>
                  <a:lnTo>
                    <a:pt x="460" y="153"/>
                  </a:lnTo>
                  <a:lnTo>
                    <a:pt x="464" y="143"/>
                  </a:lnTo>
                  <a:close/>
                </a:path>
              </a:pathLst>
            </a:custGeom>
            <a:solidFill>
              <a:srgbClr val="050588"/>
            </a:solidFill>
            <a:ln w="1440">
              <a:solidFill>
                <a:srgbClr val="0505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5848200" y="3015360"/>
              <a:ext cx="261000" cy="134280"/>
            </a:xfrm>
            <a:custGeom>
              <a:avLst/>
              <a:gdLst/>
              <a:ahLst/>
              <a:rect l="l" t="t" r="r" b="b"/>
              <a:pathLst>
                <a:path w="377" h="189">
                  <a:moveTo>
                    <a:pt x="100" y="0"/>
                  </a:moveTo>
                  <a:lnTo>
                    <a:pt x="92" y="0"/>
                  </a:lnTo>
                  <a:lnTo>
                    <a:pt x="83" y="4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0" y="24"/>
                  </a:lnTo>
                  <a:lnTo>
                    <a:pt x="54" y="29"/>
                  </a:lnTo>
                  <a:lnTo>
                    <a:pt x="46" y="35"/>
                  </a:lnTo>
                  <a:lnTo>
                    <a:pt x="39" y="41"/>
                  </a:lnTo>
                  <a:lnTo>
                    <a:pt x="32" y="46"/>
                  </a:lnTo>
                  <a:lnTo>
                    <a:pt x="23" y="51"/>
                  </a:lnTo>
                  <a:lnTo>
                    <a:pt x="16" y="55"/>
                  </a:lnTo>
                  <a:lnTo>
                    <a:pt x="8" y="58"/>
                  </a:lnTo>
                  <a:lnTo>
                    <a:pt x="0" y="60"/>
                  </a:lnTo>
                  <a:lnTo>
                    <a:pt x="7" y="60"/>
                  </a:lnTo>
                  <a:lnTo>
                    <a:pt x="15" y="60"/>
                  </a:lnTo>
                  <a:lnTo>
                    <a:pt x="22" y="59"/>
                  </a:lnTo>
                  <a:lnTo>
                    <a:pt x="29" y="58"/>
                  </a:lnTo>
                  <a:lnTo>
                    <a:pt x="37" y="57"/>
                  </a:lnTo>
                  <a:lnTo>
                    <a:pt x="45" y="55"/>
                  </a:lnTo>
                  <a:lnTo>
                    <a:pt x="53" y="54"/>
                  </a:lnTo>
                  <a:lnTo>
                    <a:pt x="60" y="54"/>
                  </a:lnTo>
                  <a:lnTo>
                    <a:pt x="67" y="53"/>
                  </a:lnTo>
                  <a:lnTo>
                    <a:pt x="75" y="52"/>
                  </a:lnTo>
                  <a:lnTo>
                    <a:pt x="82" y="52"/>
                  </a:lnTo>
                  <a:lnTo>
                    <a:pt x="88" y="53"/>
                  </a:lnTo>
                  <a:lnTo>
                    <a:pt x="94" y="55"/>
                  </a:lnTo>
                  <a:lnTo>
                    <a:pt x="102" y="57"/>
                  </a:lnTo>
                  <a:lnTo>
                    <a:pt x="107" y="60"/>
                  </a:lnTo>
                  <a:lnTo>
                    <a:pt x="112" y="65"/>
                  </a:lnTo>
                  <a:lnTo>
                    <a:pt x="112" y="71"/>
                  </a:lnTo>
                  <a:lnTo>
                    <a:pt x="112" y="77"/>
                  </a:lnTo>
                  <a:lnTo>
                    <a:pt x="112" y="89"/>
                  </a:lnTo>
                  <a:lnTo>
                    <a:pt x="112" y="99"/>
                  </a:lnTo>
                  <a:lnTo>
                    <a:pt x="110" y="110"/>
                  </a:lnTo>
                  <a:lnTo>
                    <a:pt x="109" y="118"/>
                  </a:lnTo>
                  <a:lnTo>
                    <a:pt x="106" y="125"/>
                  </a:lnTo>
                  <a:lnTo>
                    <a:pt x="103" y="134"/>
                  </a:lnTo>
                  <a:lnTo>
                    <a:pt x="99" y="140"/>
                  </a:lnTo>
                  <a:lnTo>
                    <a:pt x="94" y="146"/>
                  </a:lnTo>
                  <a:lnTo>
                    <a:pt x="88" y="152"/>
                  </a:lnTo>
                  <a:lnTo>
                    <a:pt x="81" y="157"/>
                  </a:lnTo>
                  <a:lnTo>
                    <a:pt x="75" y="163"/>
                  </a:lnTo>
                  <a:lnTo>
                    <a:pt x="65" y="166"/>
                  </a:lnTo>
                  <a:lnTo>
                    <a:pt x="56" y="171"/>
                  </a:lnTo>
                  <a:lnTo>
                    <a:pt x="45" y="175"/>
                  </a:lnTo>
                  <a:lnTo>
                    <a:pt x="33" y="178"/>
                  </a:lnTo>
                  <a:lnTo>
                    <a:pt x="33" y="183"/>
                  </a:lnTo>
                  <a:lnTo>
                    <a:pt x="32" y="189"/>
                  </a:lnTo>
                  <a:lnTo>
                    <a:pt x="43" y="187"/>
                  </a:lnTo>
                  <a:lnTo>
                    <a:pt x="56" y="183"/>
                  </a:lnTo>
                  <a:lnTo>
                    <a:pt x="81" y="178"/>
                  </a:lnTo>
                  <a:lnTo>
                    <a:pt x="107" y="173"/>
                  </a:lnTo>
                  <a:lnTo>
                    <a:pt x="133" y="168"/>
                  </a:lnTo>
                  <a:lnTo>
                    <a:pt x="159" y="165"/>
                  </a:lnTo>
                  <a:lnTo>
                    <a:pt x="187" y="163"/>
                  </a:lnTo>
                  <a:lnTo>
                    <a:pt x="213" y="161"/>
                  </a:lnTo>
                  <a:lnTo>
                    <a:pt x="238" y="160"/>
                  </a:lnTo>
                  <a:lnTo>
                    <a:pt x="262" y="159"/>
                  </a:lnTo>
                  <a:lnTo>
                    <a:pt x="285" y="158"/>
                  </a:lnTo>
                  <a:lnTo>
                    <a:pt x="307" y="157"/>
                  </a:lnTo>
                  <a:lnTo>
                    <a:pt x="326" y="156"/>
                  </a:lnTo>
                  <a:lnTo>
                    <a:pt x="343" y="155"/>
                  </a:lnTo>
                  <a:lnTo>
                    <a:pt x="357" y="153"/>
                  </a:lnTo>
                  <a:lnTo>
                    <a:pt x="369" y="151"/>
                  </a:lnTo>
                  <a:lnTo>
                    <a:pt x="377" y="149"/>
                  </a:lnTo>
                  <a:lnTo>
                    <a:pt x="377" y="142"/>
                  </a:lnTo>
                  <a:lnTo>
                    <a:pt x="377" y="136"/>
                  </a:lnTo>
                  <a:lnTo>
                    <a:pt x="377" y="131"/>
                  </a:lnTo>
                  <a:lnTo>
                    <a:pt x="374" y="124"/>
                  </a:lnTo>
                  <a:lnTo>
                    <a:pt x="361" y="110"/>
                  </a:lnTo>
                  <a:lnTo>
                    <a:pt x="347" y="99"/>
                  </a:lnTo>
                  <a:lnTo>
                    <a:pt x="331" y="91"/>
                  </a:lnTo>
                  <a:lnTo>
                    <a:pt x="312" y="82"/>
                  </a:lnTo>
                  <a:lnTo>
                    <a:pt x="294" y="75"/>
                  </a:lnTo>
                  <a:lnTo>
                    <a:pt x="273" y="68"/>
                  </a:lnTo>
                  <a:lnTo>
                    <a:pt x="251" y="60"/>
                  </a:lnTo>
                  <a:lnTo>
                    <a:pt x="229" y="54"/>
                  </a:lnTo>
                  <a:lnTo>
                    <a:pt x="207" y="47"/>
                  </a:lnTo>
                  <a:lnTo>
                    <a:pt x="185" y="41"/>
                  </a:lnTo>
                  <a:lnTo>
                    <a:pt x="165" y="32"/>
                  </a:lnTo>
                  <a:lnTo>
                    <a:pt x="145" y="26"/>
                  </a:lnTo>
                  <a:lnTo>
                    <a:pt x="128" y="18"/>
                  </a:lnTo>
                  <a:lnTo>
                    <a:pt x="112" y="9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5887800" y="3053520"/>
              <a:ext cx="110880" cy="349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0" y="0"/>
                  </a:moveTo>
                  <a:lnTo>
                    <a:pt x="161" y="51"/>
                  </a:lnTo>
                  <a:lnTo>
                    <a:pt x="9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6314040" y="3233160"/>
              <a:ext cx="109440" cy="40680"/>
            </a:xfrm>
            <a:custGeom>
              <a:avLst/>
              <a:gdLst/>
              <a:ahLst/>
              <a:rect l="l" t="t" r="r" b="b"/>
              <a:pathLst>
                <a:path w="159" h="57">
                  <a:moveTo>
                    <a:pt x="159" y="12"/>
                  </a:moveTo>
                  <a:lnTo>
                    <a:pt x="152" y="7"/>
                  </a:lnTo>
                  <a:lnTo>
                    <a:pt x="146" y="5"/>
                  </a:lnTo>
                  <a:lnTo>
                    <a:pt x="139" y="4"/>
                  </a:lnTo>
                  <a:lnTo>
                    <a:pt x="130" y="2"/>
                  </a:lnTo>
                  <a:lnTo>
                    <a:pt x="120" y="1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2" y="1"/>
                  </a:lnTo>
                  <a:lnTo>
                    <a:pt x="60" y="1"/>
                  </a:lnTo>
                  <a:lnTo>
                    <a:pt x="47" y="2"/>
                  </a:lnTo>
                  <a:lnTo>
                    <a:pt x="34" y="3"/>
                  </a:lnTo>
                  <a:lnTo>
                    <a:pt x="24" y="4"/>
                  </a:lnTo>
                  <a:lnTo>
                    <a:pt x="12" y="5"/>
                  </a:lnTo>
                  <a:lnTo>
                    <a:pt x="3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39"/>
                  </a:lnTo>
                  <a:lnTo>
                    <a:pt x="7" y="45"/>
                  </a:lnTo>
                  <a:lnTo>
                    <a:pt x="11" y="51"/>
                  </a:lnTo>
                  <a:lnTo>
                    <a:pt x="16" y="56"/>
                  </a:lnTo>
                  <a:lnTo>
                    <a:pt x="20" y="57"/>
                  </a:lnTo>
                  <a:lnTo>
                    <a:pt x="35" y="57"/>
                  </a:lnTo>
                  <a:lnTo>
                    <a:pt x="46" y="56"/>
                  </a:lnTo>
                  <a:lnTo>
                    <a:pt x="55" y="55"/>
                  </a:lnTo>
                  <a:lnTo>
                    <a:pt x="67" y="53"/>
                  </a:lnTo>
                  <a:lnTo>
                    <a:pt x="77" y="52"/>
                  </a:lnTo>
                  <a:lnTo>
                    <a:pt x="89" y="49"/>
                  </a:lnTo>
                  <a:lnTo>
                    <a:pt x="99" y="47"/>
                  </a:lnTo>
                  <a:lnTo>
                    <a:pt x="109" y="45"/>
                  </a:lnTo>
                  <a:lnTo>
                    <a:pt x="119" y="41"/>
                  </a:lnTo>
                  <a:lnTo>
                    <a:pt x="128" y="36"/>
                  </a:lnTo>
                  <a:lnTo>
                    <a:pt x="137" y="32"/>
                  </a:lnTo>
                  <a:lnTo>
                    <a:pt x="144" y="27"/>
                  </a:lnTo>
                  <a:lnTo>
                    <a:pt x="150" y="23"/>
                  </a:lnTo>
                  <a:lnTo>
                    <a:pt x="159" y="1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6103800" y="3162240"/>
              <a:ext cx="145800" cy="53640"/>
            </a:xfrm>
            <a:custGeom>
              <a:avLst/>
              <a:gdLst/>
              <a:ahLst/>
              <a:rect l="l" t="t" r="r" b="b"/>
              <a:pathLst>
                <a:path w="210" h="78">
                  <a:moveTo>
                    <a:pt x="0" y="75"/>
                  </a:moveTo>
                  <a:lnTo>
                    <a:pt x="5" y="68"/>
                  </a:lnTo>
                  <a:lnTo>
                    <a:pt x="9" y="62"/>
                  </a:lnTo>
                  <a:lnTo>
                    <a:pt x="15" y="55"/>
                  </a:lnTo>
                  <a:lnTo>
                    <a:pt x="18" y="48"/>
                  </a:lnTo>
                  <a:lnTo>
                    <a:pt x="23" y="44"/>
                  </a:lnTo>
                  <a:lnTo>
                    <a:pt x="28" y="50"/>
                  </a:lnTo>
                  <a:lnTo>
                    <a:pt x="36" y="56"/>
                  </a:lnTo>
                  <a:lnTo>
                    <a:pt x="45" y="58"/>
                  </a:lnTo>
                  <a:lnTo>
                    <a:pt x="57" y="60"/>
                  </a:lnTo>
                  <a:lnTo>
                    <a:pt x="68" y="60"/>
                  </a:lnTo>
                  <a:lnTo>
                    <a:pt x="83" y="58"/>
                  </a:lnTo>
                  <a:lnTo>
                    <a:pt x="96" y="56"/>
                  </a:lnTo>
                  <a:lnTo>
                    <a:pt x="111" y="51"/>
                  </a:lnTo>
                  <a:lnTo>
                    <a:pt x="127" y="47"/>
                  </a:lnTo>
                  <a:lnTo>
                    <a:pt x="141" y="41"/>
                  </a:lnTo>
                  <a:lnTo>
                    <a:pt x="156" y="36"/>
                  </a:lnTo>
                  <a:lnTo>
                    <a:pt x="169" y="29"/>
                  </a:lnTo>
                  <a:lnTo>
                    <a:pt x="181" y="22"/>
                  </a:lnTo>
                  <a:lnTo>
                    <a:pt x="193" y="15"/>
                  </a:lnTo>
                  <a:lnTo>
                    <a:pt x="202" y="7"/>
                  </a:lnTo>
                  <a:lnTo>
                    <a:pt x="210" y="0"/>
                  </a:lnTo>
                  <a:lnTo>
                    <a:pt x="206" y="5"/>
                  </a:lnTo>
                  <a:lnTo>
                    <a:pt x="196" y="20"/>
                  </a:lnTo>
                  <a:lnTo>
                    <a:pt x="189" y="28"/>
                  </a:lnTo>
                  <a:lnTo>
                    <a:pt x="179" y="37"/>
                  </a:lnTo>
                  <a:lnTo>
                    <a:pt x="170" y="45"/>
                  </a:lnTo>
                  <a:lnTo>
                    <a:pt x="158" y="51"/>
                  </a:lnTo>
                  <a:lnTo>
                    <a:pt x="147" y="58"/>
                  </a:lnTo>
                  <a:lnTo>
                    <a:pt x="133" y="64"/>
                  </a:lnTo>
                  <a:lnTo>
                    <a:pt x="119" y="68"/>
                  </a:lnTo>
                  <a:lnTo>
                    <a:pt x="106" y="71"/>
                  </a:lnTo>
                  <a:lnTo>
                    <a:pt x="89" y="76"/>
                  </a:lnTo>
                  <a:lnTo>
                    <a:pt x="73" y="77"/>
                  </a:lnTo>
                  <a:lnTo>
                    <a:pt x="56" y="78"/>
                  </a:lnTo>
                  <a:lnTo>
                    <a:pt x="39" y="78"/>
                  </a:lnTo>
                  <a:lnTo>
                    <a:pt x="19" y="7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6176520" y="3018240"/>
              <a:ext cx="109440" cy="8604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77" y="120"/>
                  </a:moveTo>
                  <a:lnTo>
                    <a:pt x="83" y="120"/>
                  </a:lnTo>
                  <a:lnTo>
                    <a:pt x="90" y="119"/>
                  </a:lnTo>
                  <a:lnTo>
                    <a:pt x="95" y="118"/>
                  </a:lnTo>
                  <a:lnTo>
                    <a:pt x="100" y="116"/>
                  </a:lnTo>
                  <a:lnTo>
                    <a:pt x="108" y="112"/>
                  </a:lnTo>
                  <a:lnTo>
                    <a:pt x="115" y="107"/>
                  </a:lnTo>
                  <a:lnTo>
                    <a:pt x="119" y="103"/>
                  </a:lnTo>
                  <a:lnTo>
                    <a:pt x="125" y="96"/>
                  </a:lnTo>
                  <a:lnTo>
                    <a:pt x="133" y="88"/>
                  </a:lnTo>
                  <a:lnTo>
                    <a:pt x="137" y="83"/>
                  </a:lnTo>
                  <a:lnTo>
                    <a:pt x="141" y="76"/>
                  </a:lnTo>
                  <a:lnTo>
                    <a:pt x="146" y="70"/>
                  </a:lnTo>
                  <a:lnTo>
                    <a:pt x="152" y="64"/>
                  </a:lnTo>
                  <a:lnTo>
                    <a:pt x="158" y="58"/>
                  </a:lnTo>
                  <a:lnTo>
                    <a:pt x="150" y="53"/>
                  </a:lnTo>
                  <a:lnTo>
                    <a:pt x="143" y="45"/>
                  </a:lnTo>
                  <a:lnTo>
                    <a:pt x="136" y="38"/>
                  </a:lnTo>
                  <a:lnTo>
                    <a:pt x="132" y="31"/>
                  </a:lnTo>
                  <a:lnTo>
                    <a:pt x="125" y="25"/>
                  </a:lnTo>
                  <a:lnTo>
                    <a:pt x="119" y="18"/>
                  </a:lnTo>
                  <a:lnTo>
                    <a:pt x="113" y="11"/>
                  </a:lnTo>
                  <a:lnTo>
                    <a:pt x="105" y="7"/>
                  </a:lnTo>
                  <a:lnTo>
                    <a:pt x="97" y="4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49" y="7"/>
                  </a:lnTo>
                  <a:lnTo>
                    <a:pt x="40" y="11"/>
                  </a:lnTo>
                  <a:lnTo>
                    <a:pt x="35" y="18"/>
                  </a:lnTo>
                  <a:lnTo>
                    <a:pt x="29" y="25"/>
                  </a:lnTo>
                  <a:lnTo>
                    <a:pt x="26" y="33"/>
                  </a:lnTo>
                  <a:lnTo>
                    <a:pt x="22" y="41"/>
                  </a:lnTo>
                  <a:lnTo>
                    <a:pt x="17" y="50"/>
                  </a:lnTo>
                  <a:lnTo>
                    <a:pt x="12" y="58"/>
                  </a:lnTo>
                  <a:lnTo>
                    <a:pt x="7" y="66"/>
                  </a:lnTo>
                  <a:lnTo>
                    <a:pt x="1" y="73"/>
                  </a:lnTo>
                  <a:lnTo>
                    <a:pt x="0" y="77"/>
                  </a:lnTo>
                  <a:lnTo>
                    <a:pt x="6" y="80"/>
                  </a:lnTo>
                  <a:lnTo>
                    <a:pt x="12" y="82"/>
                  </a:lnTo>
                  <a:lnTo>
                    <a:pt x="18" y="87"/>
                  </a:lnTo>
                  <a:lnTo>
                    <a:pt x="25" y="92"/>
                  </a:lnTo>
                  <a:lnTo>
                    <a:pt x="29" y="97"/>
                  </a:lnTo>
                  <a:lnTo>
                    <a:pt x="35" y="103"/>
                  </a:lnTo>
                  <a:lnTo>
                    <a:pt x="40" y="109"/>
                  </a:lnTo>
                  <a:lnTo>
                    <a:pt x="49" y="114"/>
                  </a:lnTo>
                  <a:lnTo>
                    <a:pt x="54" y="116"/>
                  </a:lnTo>
                  <a:lnTo>
                    <a:pt x="62" y="119"/>
                  </a:lnTo>
                  <a:lnTo>
                    <a:pt x="68" y="120"/>
                  </a:lnTo>
                  <a:lnTo>
                    <a:pt x="74" y="120"/>
                  </a:lnTo>
                  <a:lnTo>
                    <a:pt x="77" y="12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6213600" y="3025440"/>
              <a:ext cx="17640" cy="140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5" y="11"/>
                  </a:moveTo>
                  <a:lnTo>
                    <a:pt x="25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224760" y="3057840"/>
              <a:ext cx="16560" cy="154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4" y="12"/>
                  </a:move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5718240" y="3840840"/>
              <a:ext cx="1398240" cy="563760"/>
            </a:xfrm>
            <a:custGeom>
              <a:avLst/>
              <a:gdLst/>
              <a:ahLst/>
              <a:rect l="l" t="t" r="r" b="b"/>
              <a:pathLst>
                <a:path w="2015" h="797">
                  <a:moveTo>
                    <a:pt x="2015" y="24"/>
                  </a:moveTo>
                  <a:lnTo>
                    <a:pt x="1956" y="13"/>
                  </a:lnTo>
                  <a:lnTo>
                    <a:pt x="1897" y="5"/>
                  </a:lnTo>
                  <a:lnTo>
                    <a:pt x="1835" y="1"/>
                  </a:lnTo>
                  <a:lnTo>
                    <a:pt x="1770" y="0"/>
                  </a:lnTo>
                  <a:lnTo>
                    <a:pt x="1704" y="3"/>
                  </a:lnTo>
                  <a:lnTo>
                    <a:pt x="1636" y="8"/>
                  </a:lnTo>
                  <a:lnTo>
                    <a:pt x="1568" y="18"/>
                  </a:lnTo>
                  <a:lnTo>
                    <a:pt x="1497" y="28"/>
                  </a:lnTo>
                  <a:lnTo>
                    <a:pt x="1426" y="43"/>
                  </a:lnTo>
                  <a:lnTo>
                    <a:pt x="1355" y="60"/>
                  </a:lnTo>
                  <a:lnTo>
                    <a:pt x="1284" y="79"/>
                  </a:lnTo>
                  <a:lnTo>
                    <a:pt x="1210" y="100"/>
                  </a:lnTo>
                  <a:lnTo>
                    <a:pt x="1139" y="124"/>
                  </a:lnTo>
                  <a:lnTo>
                    <a:pt x="1067" y="149"/>
                  </a:lnTo>
                  <a:lnTo>
                    <a:pt x="994" y="175"/>
                  </a:lnTo>
                  <a:lnTo>
                    <a:pt x="922" y="203"/>
                  </a:lnTo>
                  <a:lnTo>
                    <a:pt x="852" y="234"/>
                  </a:lnTo>
                  <a:lnTo>
                    <a:pt x="782" y="264"/>
                  </a:lnTo>
                  <a:lnTo>
                    <a:pt x="714" y="297"/>
                  </a:lnTo>
                  <a:lnTo>
                    <a:pt x="645" y="329"/>
                  </a:lnTo>
                  <a:lnTo>
                    <a:pt x="579" y="363"/>
                  </a:lnTo>
                  <a:lnTo>
                    <a:pt x="514" y="397"/>
                  </a:lnTo>
                  <a:lnTo>
                    <a:pt x="453" y="432"/>
                  </a:lnTo>
                  <a:lnTo>
                    <a:pt x="396" y="472"/>
                  </a:lnTo>
                  <a:lnTo>
                    <a:pt x="342" y="503"/>
                  </a:lnTo>
                  <a:lnTo>
                    <a:pt x="287" y="535"/>
                  </a:lnTo>
                  <a:lnTo>
                    <a:pt x="230" y="569"/>
                  </a:lnTo>
                  <a:lnTo>
                    <a:pt x="178" y="604"/>
                  </a:lnTo>
                  <a:lnTo>
                    <a:pt x="126" y="640"/>
                  </a:lnTo>
                  <a:lnTo>
                    <a:pt x="80" y="671"/>
                  </a:lnTo>
                  <a:lnTo>
                    <a:pt x="39" y="703"/>
                  </a:lnTo>
                  <a:lnTo>
                    <a:pt x="0" y="735"/>
                  </a:lnTo>
                  <a:lnTo>
                    <a:pt x="0" y="797"/>
                  </a:lnTo>
                  <a:lnTo>
                    <a:pt x="35" y="765"/>
                  </a:lnTo>
                  <a:lnTo>
                    <a:pt x="72" y="732"/>
                  </a:lnTo>
                  <a:lnTo>
                    <a:pt x="114" y="698"/>
                  </a:lnTo>
                  <a:lnTo>
                    <a:pt x="158" y="663"/>
                  </a:lnTo>
                  <a:lnTo>
                    <a:pt x="205" y="629"/>
                  </a:lnTo>
                  <a:lnTo>
                    <a:pt x="256" y="590"/>
                  </a:lnTo>
                  <a:lnTo>
                    <a:pt x="311" y="549"/>
                  </a:lnTo>
                  <a:lnTo>
                    <a:pt x="383" y="502"/>
                  </a:lnTo>
                  <a:lnTo>
                    <a:pt x="438" y="469"/>
                  </a:lnTo>
                  <a:lnTo>
                    <a:pt x="499" y="437"/>
                  </a:lnTo>
                  <a:lnTo>
                    <a:pt x="541" y="413"/>
                  </a:lnTo>
                  <a:lnTo>
                    <a:pt x="600" y="381"/>
                  </a:lnTo>
                  <a:lnTo>
                    <a:pt x="677" y="349"/>
                  </a:lnTo>
                  <a:lnTo>
                    <a:pt x="744" y="315"/>
                  </a:lnTo>
                  <a:lnTo>
                    <a:pt x="813" y="284"/>
                  </a:lnTo>
                  <a:lnTo>
                    <a:pt x="883" y="253"/>
                  </a:lnTo>
                  <a:lnTo>
                    <a:pt x="956" y="223"/>
                  </a:lnTo>
                  <a:lnTo>
                    <a:pt x="1027" y="196"/>
                  </a:lnTo>
                  <a:lnTo>
                    <a:pt x="1100" y="170"/>
                  </a:lnTo>
                  <a:lnTo>
                    <a:pt x="1172" y="145"/>
                  </a:lnTo>
                  <a:lnTo>
                    <a:pt x="1246" y="123"/>
                  </a:lnTo>
                  <a:lnTo>
                    <a:pt x="1319" y="102"/>
                  </a:lnTo>
                  <a:lnTo>
                    <a:pt x="1393" y="81"/>
                  </a:lnTo>
                  <a:lnTo>
                    <a:pt x="1467" y="63"/>
                  </a:lnTo>
                  <a:lnTo>
                    <a:pt x="1538" y="49"/>
                  </a:lnTo>
                  <a:lnTo>
                    <a:pt x="1612" y="37"/>
                  </a:lnTo>
                  <a:lnTo>
                    <a:pt x="1681" y="30"/>
                  </a:lnTo>
                  <a:lnTo>
                    <a:pt x="1750" y="30"/>
                  </a:lnTo>
                  <a:lnTo>
                    <a:pt x="1819" y="29"/>
                  </a:lnTo>
                  <a:lnTo>
                    <a:pt x="1886" y="31"/>
                  </a:lnTo>
                  <a:lnTo>
                    <a:pt x="1951" y="37"/>
                  </a:lnTo>
                  <a:lnTo>
                    <a:pt x="2015" y="45"/>
                  </a:lnTo>
                  <a:lnTo>
                    <a:pt x="2015" y="24"/>
                  </a:lnTo>
                  <a:close/>
                </a:path>
              </a:pathLst>
            </a:custGeom>
            <a:solidFill>
              <a:srgbClr val="00ff00"/>
            </a:solidFill>
            <a:ln w="1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5932080" y="3846600"/>
              <a:ext cx="1045440" cy="432360"/>
            </a:xfrm>
            <a:custGeom>
              <a:avLst/>
              <a:gdLst/>
              <a:ahLst/>
              <a:rect l="l" t="t" r="r" b="b"/>
              <a:pathLst>
                <a:path w="1508" h="611">
                  <a:moveTo>
                    <a:pt x="1380" y="5"/>
                  </a:moveTo>
                  <a:lnTo>
                    <a:pt x="1342" y="11"/>
                  </a:lnTo>
                  <a:lnTo>
                    <a:pt x="1278" y="24"/>
                  </a:lnTo>
                  <a:lnTo>
                    <a:pt x="1222" y="36"/>
                  </a:lnTo>
                  <a:lnTo>
                    <a:pt x="1170" y="44"/>
                  </a:lnTo>
                  <a:lnTo>
                    <a:pt x="1125" y="57"/>
                  </a:lnTo>
                  <a:lnTo>
                    <a:pt x="1022" y="85"/>
                  </a:lnTo>
                  <a:lnTo>
                    <a:pt x="992" y="97"/>
                  </a:lnTo>
                  <a:lnTo>
                    <a:pt x="940" y="116"/>
                  </a:lnTo>
                  <a:lnTo>
                    <a:pt x="868" y="141"/>
                  </a:lnTo>
                  <a:lnTo>
                    <a:pt x="795" y="167"/>
                  </a:lnTo>
                  <a:lnTo>
                    <a:pt x="723" y="195"/>
                  </a:lnTo>
                  <a:lnTo>
                    <a:pt x="653" y="226"/>
                  </a:lnTo>
                  <a:lnTo>
                    <a:pt x="583" y="256"/>
                  </a:lnTo>
                  <a:lnTo>
                    <a:pt x="515" y="289"/>
                  </a:lnTo>
                  <a:lnTo>
                    <a:pt x="450" y="317"/>
                  </a:lnTo>
                  <a:lnTo>
                    <a:pt x="387" y="351"/>
                  </a:lnTo>
                  <a:lnTo>
                    <a:pt x="328" y="382"/>
                  </a:lnTo>
                  <a:lnTo>
                    <a:pt x="271" y="414"/>
                  </a:lnTo>
                  <a:lnTo>
                    <a:pt x="216" y="446"/>
                  </a:lnTo>
                  <a:lnTo>
                    <a:pt x="160" y="476"/>
                  </a:lnTo>
                  <a:lnTo>
                    <a:pt x="106" y="510"/>
                  </a:lnTo>
                  <a:lnTo>
                    <a:pt x="53" y="546"/>
                  </a:lnTo>
                  <a:lnTo>
                    <a:pt x="0" y="581"/>
                  </a:lnTo>
                  <a:lnTo>
                    <a:pt x="0" y="588"/>
                  </a:lnTo>
                  <a:lnTo>
                    <a:pt x="6" y="590"/>
                  </a:lnTo>
                  <a:lnTo>
                    <a:pt x="13" y="591"/>
                  </a:lnTo>
                  <a:lnTo>
                    <a:pt x="19" y="592"/>
                  </a:lnTo>
                  <a:lnTo>
                    <a:pt x="25" y="593"/>
                  </a:lnTo>
                  <a:lnTo>
                    <a:pt x="20" y="611"/>
                  </a:lnTo>
                  <a:lnTo>
                    <a:pt x="88" y="565"/>
                  </a:lnTo>
                  <a:lnTo>
                    <a:pt x="139" y="533"/>
                  </a:lnTo>
                  <a:lnTo>
                    <a:pt x="193" y="498"/>
                  </a:lnTo>
                  <a:lnTo>
                    <a:pt x="248" y="467"/>
                  </a:lnTo>
                  <a:lnTo>
                    <a:pt x="304" y="435"/>
                  </a:lnTo>
                  <a:lnTo>
                    <a:pt x="362" y="404"/>
                  </a:lnTo>
                  <a:lnTo>
                    <a:pt x="420" y="372"/>
                  </a:lnTo>
                  <a:lnTo>
                    <a:pt x="482" y="342"/>
                  </a:lnTo>
                  <a:lnTo>
                    <a:pt x="545" y="307"/>
                  </a:lnTo>
                  <a:lnTo>
                    <a:pt x="614" y="276"/>
                  </a:lnTo>
                  <a:lnTo>
                    <a:pt x="684" y="245"/>
                  </a:lnTo>
                  <a:lnTo>
                    <a:pt x="757" y="215"/>
                  </a:lnTo>
                  <a:lnTo>
                    <a:pt x="828" y="188"/>
                  </a:lnTo>
                  <a:lnTo>
                    <a:pt x="901" y="162"/>
                  </a:lnTo>
                  <a:lnTo>
                    <a:pt x="973" y="137"/>
                  </a:lnTo>
                  <a:lnTo>
                    <a:pt x="1050" y="119"/>
                  </a:lnTo>
                  <a:lnTo>
                    <a:pt x="1107" y="99"/>
                  </a:lnTo>
                  <a:lnTo>
                    <a:pt x="1165" y="86"/>
                  </a:lnTo>
                  <a:lnTo>
                    <a:pt x="1219" y="70"/>
                  </a:lnTo>
                  <a:lnTo>
                    <a:pt x="1275" y="58"/>
                  </a:lnTo>
                  <a:lnTo>
                    <a:pt x="1332" y="48"/>
                  </a:lnTo>
                  <a:lnTo>
                    <a:pt x="1388" y="40"/>
                  </a:lnTo>
                  <a:lnTo>
                    <a:pt x="1445" y="33"/>
                  </a:lnTo>
                  <a:lnTo>
                    <a:pt x="1503" y="28"/>
                  </a:lnTo>
                  <a:lnTo>
                    <a:pt x="1508" y="17"/>
                  </a:lnTo>
                  <a:lnTo>
                    <a:pt x="1505" y="10"/>
                  </a:lnTo>
                  <a:lnTo>
                    <a:pt x="1494" y="5"/>
                  </a:lnTo>
                  <a:lnTo>
                    <a:pt x="1487" y="2"/>
                  </a:lnTo>
                  <a:lnTo>
                    <a:pt x="1479" y="1"/>
                  </a:lnTo>
                  <a:lnTo>
                    <a:pt x="1469" y="0"/>
                  </a:lnTo>
                  <a:lnTo>
                    <a:pt x="1459" y="0"/>
                  </a:lnTo>
                  <a:lnTo>
                    <a:pt x="1447" y="0"/>
                  </a:lnTo>
                  <a:lnTo>
                    <a:pt x="1436" y="1"/>
                  </a:lnTo>
                  <a:lnTo>
                    <a:pt x="1424" y="2"/>
                  </a:lnTo>
                  <a:lnTo>
                    <a:pt x="1413" y="4"/>
                  </a:lnTo>
                  <a:lnTo>
                    <a:pt x="1406" y="1"/>
                  </a:lnTo>
                  <a:lnTo>
                    <a:pt x="1394" y="4"/>
                  </a:lnTo>
                  <a:lnTo>
                    <a:pt x="1380" y="5"/>
                  </a:lnTo>
                  <a:close/>
                </a:path>
              </a:pathLst>
            </a:custGeom>
            <a:solidFill>
              <a:srgbClr val="058805"/>
            </a:solidFill>
            <a:ln w="1440">
              <a:solidFill>
                <a:srgbClr val="0588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5715000" y="3843720"/>
              <a:ext cx="295560" cy="87480"/>
            </a:xfrm>
            <a:custGeom>
              <a:avLst/>
              <a:gdLst/>
              <a:ahLst/>
              <a:rect l="l" t="t" r="r" b="b"/>
              <a:pathLst>
                <a:path w="424" h="126">
                  <a:moveTo>
                    <a:pt x="316" y="0"/>
                  </a:moveTo>
                  <a:lnTo>
                    <a:pt x="305" y="1"/>
                  </a:lnTo>
                  <a:lnTo>
                    <a:pt x="293" y="2"/>
                  </a:lnTo>
                  <a:lnTo>
                    <a:pt x="271" y="4"/>
                  </a:lnTo>
                  <a:lnTo>
                    <a:pt x="250" y="6"/>
                  </a:lnTo>
                  <a:lnTo>
                    <a:pt x="230" y="10"/>
                  </a:lnTo>
                  <a:lnTo>
                    <a:pt x="210" y="13"/>
                  </a:lnTo>
                  <a:lnTo>
                    <a:pt x="191" y="17"/>
                  </a:lnTo>
                  <a:lnTo>
                    <a:pt x="173" y="22"/>
                  </a:lnTo>
                  <a:lnTo>
                    <a:pt x="155" y="27"/>
                  </a:lnTo>
                  <a:lnTo>
                    <a:pt x="136" y="35"/>
                  </a:lnTo>
                  <a:lnTo>
                    <a:pt x="117" y="43"/>
                  </a:lnTo>
                  <a:lnTo>
                    <a:pt x="98" y="53"/>
                  </a:lnTo>
                  <a:lnTo>
                    <a:pt x="79" y="64"/>
                  </a:lnTo>
                  <a:lnTo>
                    <a:pt x="61" y="76"/>
                  </a:lnTo>
                  <a:lnTo>
                    <a:pt x="41" y="90"/>
                  </a:lnTo>
                  <a:lnTo>
                    <a:pt x="22" y="107"/>
                  </a:lnTo>
                  <a:lnTo>
                    <a:pt x="0" y="126"/>
                  </a:lnTo>
                  <a:lnTo>
                    <a:pt x="9" y="123"/>
                  </a:lnTo>
                  <a:lnTo>
                    <a:pt x="17" y="121"/>
                  </a:lnTo>
                  <a:lnTo>
                    <a:pt x="34" y="115"/>
                  </a:lnTo>
                  <a:lnTo>
                    <a:pt x="51" y="111"/>
                  </a:lnTo>
                  <a:lnTo>
                    <a:pt x="68" y="108"/>
                  </a:lnTo>
                  <a:lnTo>
                    <a:pt x="85" y="105"/>
                  </a:lnTo>
                  <a:lnTo>
                    <a:pt x="101" y="103"/>
                  </a:lnTo>
                  <a:lnTo>
                    <a:pt x="119" y="101"/>
                  </a:lnTo>
                  <a:lnTo>
                    <a:pt x="137" y="99"/>
                  </a:lnTo>
                  <a:lnTo>
                    <a:pt x="155" y="98"/>
                  </a:lnTo>
                  <a:lnTo>
                    <a:pt x="174" y="97"/>
                  </a:lnTo>
                  <a:lnTo>
                    <a:pt x="194" y="96"/>
                  </a:lnTo>
                  <a:lnTo>
                    <a:pt x="212" y="94"/>
                  </a:lnTo>
                  <a:lnTo>
                    <a:pt x="233" y="94"/>
                  </a:lnTo>
                  <a:lnTo>
                    <a:pt x="255" y="94"/>
                  </a:lnTo>
                  <a:lnTo>
                    <a:pt x="278" y="94"/>
                  </a:lnTo>
                  <a:lnTo>
                    <a:pt x="301" y="94"/>
                  </a:lnTo>
                  <a:lnTo>
                    <a:pt x="308" y="93"/>
                  </a:lnTo>
                  <a:lnTo>
                    <a:pt x="312" y="93"/>
                  </a:lnTo>
                  <a:lnTo>
                    <a:pt x="323" y="91"/>
                  </a:lnTo>
                  <a:lnTo>
                    <a:pt x="335" y="90"/>
                  </a:lnTo>
                  <a:lnTo>
                    <a:pt x="345" y="88"/>
                  </a:lnTo>
                  <a:lnTo>
                    <a:pt x="355" y="86"/>
                  </a:lnTo>
                  <a:lnTo>
                    <a:pt x="365" y="84"/>
                  </a:lnTo>
                  <a:lnTo>
                    <a:pt x="375" y="82"/>
                  </a:lnTo>
                  <a:lnTo>
                    <a:pt x="384" y="79"/>
                  </a:lnTo>
                  <a:lnTo>
                    <a:pt x="393" y="76"/>
                  </a:lnTo>
                  <a:lnTo>
                    <a:pt x="400" y="72"/>
                  </a:lnTo>
                  <a:lnTo>
                    <a:pt x="407" y="67"/>
                  </a:lnTo>
                  <a:lnTo>
                    <a:pt x="414" y="62"/>
                  </a:lnTo>
                  <a:lnTo>
                    <a:pt x="418" y="56"/>
                  </a:lnTo>
                  <a:lnTo>
                    <a:pt x="421" y="48"/>
                  </a:lnTo>
                  <a:lnTo>
                    <a:pt x="423" y="40"/>
                  </a:lnTo>
                  <a:lnTo>
                    <a:pt x="424" y="29"/>
                  </a:lnTo>
                  <a:lnTo>
                    <a:pt x="419" y="20"/>
                  </a:lnTo>
                  <a:lnTo>
                    <a:pt x="409" y="14"/>
                  </a:lnTo>
                  <a:lnTo>
                    <a:pt x="404" y="11"/>
                  </a:lnTo>
                  <a:lnTo>
                    <a:pt x="398" y="9"/>
                  </a:lnTo>
                  <a:lnTo>
                    <a:pt x="391" y="6"/>
                  </a:lnTo>
                  <a:lnTo>
                    <a:pt x="383" y="5"/>
                  </a:lnTo>
                  <a:lnTo>
                    <a:pt x="375" y="4"/>
                  </a:lnTo>
                  <a:lnTo>
                    <a:pt x="367" y="3"/>
                  </a:lnTo>
                  <a:lnTo>
                    <a:pt x="358" y="3"/>
                  </a:lnTo>
                  <a:lnTo>
                    <a:pt x="350" y="2"/>
                  </a:lnTo>
                  <a:lnTo>
                    <a:pt x="342" y="2"/>
                  </a:lnTo>
                  <a:lnTo>
                    <a:pt x="333" y="1"/>
                  </a:lnTo>
                  <a:lnTo>
                    <a:pt x="323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00ff00"/>
            </a:solidFill>
            <a:ln w="1440">
              <a:solidFill>
                <a:srgbClr val="0588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6671880" y="4103640"/>
              <a:ext cx="158400" cy="17640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226" y="0"/>
                  </a:moveTo>
                  <a:lnTo>
                    <a:pt x="80" y="198"/>
                  </a:lnTo>
                  <a:lnTo>
                    <a:pt x="70" y="225"/>
                  </a:lnTo>
                  <a:lnTo>
                    <a:pt x="31" y="250"/>
                  </a:lnTo>
                  <a:lnTo>
                    <a:pt x="24" y="249"/>
                  </a:lnTo>
                  <a:lnTo>
                    <a:pt x="17" y="245"/>
                  </a:lnTo>
                  <a:lnTo>
                    <a:pt x="10" y="240"/>
                  </a:lnTo>
                  <a:lnTo>
                    <a:pt x="5" y="234"/>
                  </a:lnTo>
                  <a:lnTo>
                    <a:pt x="1" y="225"/>
                  </a:lnTo>
                  <a:lnTo>
                    <a:pt x="0" y="215"/>
                  </a:lnTo>
                  <a:lnTo>
                    <a:pt x="2" y="205"/>
                  </a:lnTo>
                  <a:lnTo>
                    <a:pt x="6" y="197"/>
                  </a:lnTo>
                  <a:lnTo>
                    <a:pt x="69" y="143"/>
                  </a:lnTo>
                  <a:lnTo>
                    <a:pt x="152" y="3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80505"/>
            </a:solidFill>
            <a:ln w="1440">
              <a:solidFill>
                <a:srgbClr val="880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6280920" y="3935520"/>
              <a:ext cx="324720" cy="230400"/>
            </a:xfrm>
            <a:custGeom>
              <a:avLst/>
              <a:gdLst/>
              <a:ahLst/>
              <a:rect l="l" t="t" r="r" b="b"/>
              <a:pathLst>
                <a:path w="469" h="326">
                  <a:moveTo>
                    <a:pt x="469" y="0"/>
                  </a:moveTo>
                  <a:lnTo>
                    <a:pt x="457" y="10"/>
                  </a:lnTo>
                  <a:lnTo>
                    <a:pt x="445" y="19"/>
                  </a:lnTo>
                  <a:lnTo>
                    <a:pt x="420" y="38"/>
                  </a:lnTo>
                  <a:lnTo>
                    <a:pt x="396" y="59"/>
                  </a:lnTo>
                  <a:lnTo>
                    <a:pt x="372" y="81"/>
                  </a:lnTo>
                  <a:lnTo>
                    <a:pt x="347" y="102"/>
                  </a:lnTo>
                  <a:lnTo>
                    <a:pt x="323" y="123"/>
                  </a:lnTo>
                  <a:lnTo>
                    <a:pt x="298" y="145"/>
                  </a:lnTo>
                  <a:lnTo>
                    <a:pt x="274" y="166"/>
                  </a:lnTo>
                  <a:lnTo>
                    <a:pt x="250" y="186"/>
                  </a:lnTo>
                  <a:lnTo>
                    <a:pt x="225" y="206"/>
                  </a:lnTo>
                  <a:lnTo>
                    <a:pt x="201" y="223"/>
                  </a:lnTo>
                  <a:lnTo>
                    <a:pt x="177" y="240"/>
                  </a:lnTo>
                  <a:lnTo>
                    <a:pt x="153" y="256"/>
                  </a:lnTo>
                  <a:lnTo>
                    <a:pt x="128" y="268"/>
                  </a:lnTo>
                  <a:lnTo>
                    <a:pt x="104" y="280"/>
                  </a:lnTo>
                  <a:lnTo>
                    <a:pt x="81" y="288"/>
                  </a:lnTo>
                  <a:lnTo>
                    <a:pt x="70" y="305"/>
                  </a:lnTo>
                  <a:lnTo>
                    <a:pt x="40" y="326"/>
                  </a:lnTo>
                  <a:lnTo>
                    <a:pt x="32" y="325"/>
                  </a:lnTo>
                  <a:lnTo>
                    <a:pt x="25" y="323"/>
                  </a:lnTo>
                  <a:lnTo>
                    <a:pt x="16" y="319"/>
                  </a:lnTo>
                  <a:lnTo>
                    <a:pt x="9" y="313"/>
                  </a:lnTo>
                  <a:lnTo>
                    <a:pt x="3" y="307"/>
                  </a:lnTo>
                  <a:lnTo>
                    <a:pt x="0" y="300"/>
                  </a:lnTo>
                  <a:lnTo>
                    <a:pt x="0" y="292"/>
                  </a:lnTo>
                  <a:lnTo>
                    <a:pt x="4" y="284"/>
                  </a:lnTo>
                  <a:lnTo>
                    <a:pt x="54" y="254"/>
                  </a:lnTo>
                  <a:lnTo>
                    <a:pt x="63" y="248"/>
                  </a:lnTo>
                  <a:lnTo>
                    <a:pt x="73" y="244"/>
                  </a:lnTo>
                  <a:lnTo>
                    <a:pt x="92" y="234"/>
                  </a:lnTo>
                  <a:lnTo>
                    <a:pt x="112" y="222"/>
                  </a:lnTo>
                  <a:lnTo>
                    <a:pt x="132" y="210"/>
                  </a:lnTo>
                  <a:lnTo>
                    <a:pt x="151" y="197"/>
                  </a:lnTo>
                  <a:lnTo>
                    <a:pt x="171" y="185"/>
                  </a:lnTo>
                  <a:lnTo>
                    <a:pt x="191" y="171"/>
                  </a:lnTo>
                  <a:lnTo>
                    <a:pt x="211" y="157"/>
                  </a:lnTo>
                  <a:lnTo>
                    <a:pt x="231" y="143"/>
                  </a:lnTo>
                  <a:lnTo>
                    <a:pt x="250" y="129"/>
                  </a:lnTo>
                  <a:lnTo>
                    <a:pt x="270" y="114"/>
                  </a:lnTo>
                  <a:lnTo>
                    <a:pt x="289" y="99"/>
                  </a:lnTo>
                  <a:lnTo>
                    <a:pt x="307" y="84"/>
                  </a:lnTo>
                  <a:lnTo>
                    <a:pt x="324" y="68"/>
                  </a:lnTo>
                  <a:lnTo>
                    <a:pt x="341" y="54"/>
                  </a:lnTo>
                  <a:lnTo>
                    <a:pt x="357" y="38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880505"/>
            </a:solidFill>
            <a:ln w="1440">
              <a:solidFill>
                <a:srgbClr val="880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6813360" y="4079520"/>
              <a:ext cx="26280" cy="3528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0" y="51"/>
                  </a:moveTo>
                  <a:lnTo>
                    <a:pt x="2" y="46"/>
                  </a:lnTo>
                  <a:lnTo>
                    <a:pt x="3" y="43"/>
                  </a:lnTo>
                  <a:lnTo>
                    <a:pt x="6" y="39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7" y="21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8" y="10"/>
                  </a:lnTo>
                  <a:lnTo>
                    <a:pt x="32" y="6"/>
                  </a:lnTo>
                  <a:lnTo>
                    <a:pt x="36" y="3"/>
                  </a:lnTo>
                  <a:lnTo>
                    <a:pt x="3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6532920" y="4007520"/>
              <a:ext cx="135720" cy="105840"/>
            </a:xfrm>
            <a:custGeom>
              <a:avLst/>
              <a:gdLst/>
              <a:ahLst/>
              <a:rect l="l" t="t" r="r" b="b"/>
              <a:pathLst>
                <a:path w="196" h="150">
                  <a:moveTo>
                    <a:pt x="94" y="31"/>
                  </a:moveTo>
                  <a:lnTo>
                    <a:pt x="101" y="27"/>
                  </a:lnTo>
                  <a:lnTo>
                    <a:pt x="107" y="21"/>
                  </a:lnTo>
                  <a:lnTo>
                    <a:pt x="114" y="14"/>
                  </a:lnTo>
                  <a:lnTo>
                    <a:pt x="120" y="9"/>
                  </a:lnTo>
                  <a:lnTo>
                    <a:pt x="127" y="5"/>
                  </a:lnTo>
                  <a:lnTo>
                    <a:pt x="130" y="4"/>
                  </a:lnTo>
                  <a:lnTo>
                    <a:pt x="137" y="2"/>
                  </a:lnTo>
                  <a:lnTo>
                    <a:pt x="144" y="1"/>
                  </a:lnTo>
                  <a:lnTo>
                    <a:pt x="149" y="0"/>
                  </a:lnTo>
                  <a:lnTo>
                    <a:pt x="157" y="2"/>
                  </a:lnTo>
                  <a:lnTo>
                    <a:pt x="160" y="6"/>
                  </a:lnTo>
                  <a:lnTo>
                    <a:pt x="167" y="9"/>
                  </a:lnTo>
                  <a:lnTo>
                    <a:pt x="172" y="15"/>
                  </a:lnTo>
                  <a:lnTo>
                    <a:pt x="177" y="22"/>
                  </a:lnTo>
                  <a:lnTo>
                    <a:pt x="183" y="26"/>
                  </a:lnTo>
                  <a:lnTo>
                    <a:pt x="189" y="30"/>
                  </a:lnTo>
                  <a:lnTo>
                    <a:pt x="194" y="39"/>
                  </a:lnTo>
                  <a:lnTo>
                    <a:pt x="196" y="45"/>
                  </a:lnTo>
                  <a:lnTo>
                    <a:pt x="196" y="52"/>
                  </a:lnTo>
                  <a:lnTo>
                    <a:pt x="195" y="57"/>
                  </a:lnTo>
                  <a:lnTo>
                    <a:pt x="192" y="64"/>
                  </a:lnTo>
                  <a:lnTo>
                    <a:pt x="190" y="69"/>
                  </a:lnTo>
                  <a:lnTo>
                    <a:pt x="187" y="75"/>
                  </a:lnTo>
                  <a:lnTo>
                    <a:pt x="184" y="82"/>
                  </a:lnTo>
                  <a:lnTo>
                    <a:pt x="182" y="87"/>
                  </a:lnTo>
                  <a:lnTo>
                    <a:pt x="183" y="83"/>
                  </a:lnTo>
                  <a:lnTo>
                    <a:pt x="184" y="68"/>
                  </a:lnTo>
                  <a:lnTo>
                    <a:pt x="184" y="61"/>
                  </a:lnTo>
                  <a:lnTo>
                    <a:pt x="181" y="55"/>
                  </a:lnTo>
                  <a:lnTo>
                    <a:pt x="173" y="47"/>
                  </a:lnTo>
                  <a:lnTo>
                    <a:pt x="163" y="44"/>
                  </a:lnTo>
                  <a:lnTo>
                    <a:pt x="157" y="43"/>
                  </a:lnTo>
                  <a:lnTo>
                    <a:pt x="150" y="44"/>
                  </a:lnTo>
                  <a:lnTo>
                    <a:pt x="145" y="45"/>
                  </a:lnTo>
                  <a:lnTo>
                    <a:pt x="133" y="47"/>
                  </a:lnTo>
                  <a:lnTo>
                    <a:pt x="127" y="51"/>
                  </a:lnTo>
                  <a:lnTo>
                    <a:pt x="132" y="55"/>
                  </a:lnTo>
                  <a:lnTo>
                    <a:pt x="139" y="58"/>
                  </a:lnTo>
                  <a:lnTo>
                    <a:pt x="145" y="68"/>
                  </a:lnTo>
                  <a:lnTo>
                    <a:pt x="147" y="78"/>
                  </a:lnTo>
                  <a:lnTo>
                    <a:pt x="145" y="88"/>
                  </a:lnTo>
                  <a:lnTo>
                    <a:pt x="141" y="99"/>
                  </a:lnTo>
                  <a:lnTo>
                    <a:pt x="133" y="108"/>
                  </a:lnTo>
                  <a:lnTo>
                    <a:pt x="127" y="115"/>
                  </a:lnTo>
                  <a:lnTo>
                    <a:pt x="122" y="120"/>
                  </a:lnTo>
                  <a:lnTo>
                    <a:pt x="116" y="121"/>
                  </a:lnTo>
                  <a:lnTo>
                    <a:pt x="109" y="120"/>
                  </a:lnTo>
                  <a:lnTo>
                    <a:pt x="104" y="114"/>
                  </a:lnTo>
                  <a:lnTo>
                    <a:pt x="105" y="110"/>
                  </a:lnTo>
                  <a:lnTo>
                    <a:pt x="110" y="105"/>
                  </a:lnTo>
                  <a:lnTo>
                    <a:pt x="115" y="98"/>
                  </a:lnTo>
                  <a:lnTo>
                    <a:pt x="116" y="93"/>
                  </a:lnTo>
                  <a:lnTo>
                    <a:pt x="112" y="86"/>
                  </a:lnTo>
                  <a:lnTo>
                    <a:pt x="105" y="82"/>
                  </a:lnTo>
                  <a:lnTo>
                    <a:pt x="100" y="79"/>
                  </a:lnTo>
                  <a:lnTo>
                    <a:pt x="95" y="80"/>
                  </a:lnTo>
                  <a:lnTo>
                    <a:pt x="96" y="85"/>
                  </a:lnTo>
                  <a:lnTo>
                    <a:pt x="98" y="96"/>
                  </a:lnTo>
                  <a:lnTo>
                    <a:pt x="98" y="104"/>
                  </a:lnTo>
                  <a:lnTo>
                    <a:pt x="97" y="110"/>
                  </a:lnTo>
                  <a:lnTo>
                    <a:pt x="95" y="116"/>
                  </a:lnTo>
                  <a:lnTo>
                    <a:pt x="88" y="126"/>
                  </a:lnTo>
                  <a:lnTo>
                    <a:pt x="79" y="134"/>
                  </a:lnTo>
                  <a:lnTo>
                    <a:pt x="70" y="140"/>
                  </a:lnTo>
                  <a:lnTo>
                    <a:pt x="63" y="143"/>
                  </a:lnTo>
                  <a:lnTo>
                    <a:pt x="53" y="148"/>
                  </a:lnTo>
                  <a:lnTo>
                    <a:pt x="43" y="150"/>
                  </a:lnTo>
                  <a:lnTo>
                    <a:pt x="36" y="150"/>
                  </a:lnTo>
                  <a:lnTo>
                    <a:pt x="30" y="150"/>
                  </a:lnTo>
                  <a:lnTo>
                    <a:pt x="23" y="149"/>
                  </a:lnTo>
                  <a:lnTo>
                    <a:pt x="17" y="148"/>
                  </a:lnTo>
                  <a:lnTo>
                    <a:pt x="11" y="145"/>
                  </a:lnTo>
                  <a:lnTo>
                    <a:pt x="4" y="139"/>
                  </a:lnTo>
                  <a:lnTo>
                    <a:pt x="0" y="132"/>
                  </a:lnTo>
                  <a:lnTo>
                    <a:pt x="6" y="129"/>
                  </a:lnTo>
                  <a:lnTo>
                    <a:pt x="14" y="126"/>
                  </a:lnTo>
                  <a:lnTo>
                    <a:pt x="21" y="121"/>
                  </a:lnTo>
                  <a:lnTo>
                    <a:pt x="30" y="117"/>
                  </a:lnTo>
                  <a:lnTo>
                    <a:pt x="37" y="114"/>
                  </a:lnTo>
                  <a:lnTo>
                    <a:pt x="43" y="111"/>
                  </a:lnTo>
                  <a:lnTo>
                    <a:pt x="48" y="105"/>
                  </a:lnTo>
                  <a:lnTo>
                    <a:pt x="46" y="98"/>
                  </a:lnTo>
                  <a:lnTo>
                    <a:pt x="45" y="92"/>
                  </a:lnTo>
                  <a:lnTo>
                    <a:pt x="43" y="84"/>
                  </a:lnTo>
                  <a:lnTo>
                    <a:pt x="38" y="78"/>
                  </a:lnTo>
                  <a:lnTo>
                    <a:pt x="30" y="78"/>
                  </a:lnTo>
                  <a:lnTo>
                    <a:pt x="22" y="82"/>
                  </a:lnTo>
                  <a:lnTo>
                    <a:pt x="13" y="87"/>
                  </a:lnTo>
                  <a:lnTo>
                    <a:pt x="8" y="89"/>
                  </a:lnTo>
                  <a:lnTo>
                    <a:pt x="1" y="92"/>
                  </a:lnTo>
                  <a:lnTo>
                    <a:pt x="4" y="87"/>
                  </a:lnTo>
                  <a:lnTo>
                    <a:pt x="7" y="79"/>
                  </a:lnTo>
                  <a:lnTo>
                    <a:pt x="10" y="73"/>
                  </a:lnTo>
                  <a:lnTo>
                    <a:pt x="15" y="67"/>
                  </a:lnTo>
                  <a:lnTo>
                    <a:pt x="21" y="61"/>
                  </a:lnTo>
                  <a:lnTo>
                    <a:pt x="28" y="58"/>
                  </a:lnTo>
                  <a:lnTo>
                    <a:pt x="35" y="55"/>
                  </a:lnTo>
                  <a:lnTo>
                    <a:pt x="39" y="53"/>
                  </a:lnTo>
                  <a:lnTo>
                    <a:pt x="46" y="49"/>
                  </a:lnTo>
                  <a:lnTo>
                    <a:pt x="54" y="46"/>
                  </a:lnTo>
                  <a:lnTo>
                    <a:pt x="61" y="44"/>
                  </a:lnTo>
                  <a:lnTo>
                    <a:pt x="70" y="41"/>
                  </a:lnTo>
                  <a:lnTo>
                    <a:pt x="77" y="37"/>
                  </a:lnTo>
                  <a:lnTo>
                    <a:pt x="84" y="35"/>
                  </a:lnTo>
                  <a:lnTo>
                    <a:pt x="90" y="32"/>
                  </a:lnTo>
                  <a:lnTo>
                    <a:pt x="94" y="31"/>
                  </a:lnTo>
                  <a:close/>
                </a:path>
              </a:pathLst>
            </a:custGeom>
            <a:solidFill>
              <a:srgbClr val="88050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6141240" y="3860640"/>
              <a:ext cx="140040" cy="90360"/>
            </a:xfrm>
            <a:custGeom>
              <a:avLst/>
              <a:gdLst/>
              <a:ahLst/>
              <a:rect l="l" t="t" r="r" b="b"/>
              <a:pathLst>
                <a:path w="200" h="128">
                  <a:moveTo>
                    <a:pt x="88" y="20"/>
                  </a:moveTo>
                  <a:lnTo>
                    <a:pt x="95" y="17"/>
                  </a:lnTo>
                  <a:lnTo>
                    <a:pt x="102" y="14"/>
                  </a:lnTo>
                  <a:lnTo>
                    <a:pt x="108" y="9"/>
                  </a:lnTo>
                  <a:lnTo>
                    <a:pt x="114" y="4"/>
                  </a:lnTo>
                  <a:lnTo>
                    <a:pt x="121" y="2"/>
                  </a:lnTo>
                  <a:lnTo>
                    <a:pt x="129" y="1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8" y="2"/>
                  </a:lnTo>
                  <a:lnTo>
                    <a:pt x="152" y="7"/>
                  </a:lnTo>
                  <a:lnTo>
                    <a:pt x="157" y="9"/>
                  </a:lnTo>
                  <a:lnTo>
                    <a:pt x="163" y="12"/>
                  </a:lnTo>
                  <a:lnTo>
                    <a:pt x="171" y="16"/>
                  </a:lnTo>
                  <a:lnTo>
                    <a:pt x="176" y="19"/>
                  </a:lnTo>
                  <a:lnTo>
                    <a:pt x="183" y="24"/>
                  </a:lnTo>
                  <a:lnTo>
                    <a:pt x="190" y="31"/>
                  </a:lnTo>
                  <a:lnTo>
                    <a:pt x="194" y="37"/>
                  </a:lnTo>
                  <a:lnTo>
                    <a:pt x="197" y="43"/>
                  </a:lnTo>
                  <a:lnTo>
                    <a:pt x="199" y="50"/>
                  </a:lnTo>
                  <a:lnTo>
                    <a:pt x="200" y="56"/>
                  </a:lnTo>
                  <a:lnTo>
                    <a:pt x="200" y="61"/>
                  </a:lnTo>
                  <a:lnTo>
                    <a:pt x="198" y="66"/>
                  </a:lnTo>
                  <a:lnTo>
                    <a:pt x="195" y="74"/>
                  </a:lnTo>
                  <a:lnTo>
                    <a:pt x="191" y="80"/>
                  </a:lnTo>
                  <a:lnTo>
                    <a:pt x="184" y="82"/>
                  </a:lnTo>
                  <a:lnTo>
                    <a:pt x="176" y="82"/>
                  </a:lnTo>
                  <a:lnTo>
                    <a:pt x="175" y="77"/>
                  </a:lnTo>
                  <a:lnTo>
                    <a:pt x="177" y="62"/>
                  </a:lnTo>
                  <a:lnTo>
                    <a:pt x="176" y="54"/>
                  </a:lnTo>
                  <a:lnTo>
                    <a:pt x="174" y="48"/>
                  </a:lnTo>
                  <a:lnTo>
                    <a:pt x="168" y="40"/>
                  </a:lnTo>
                  <a:lnTo>
                    <a:pt x="156" y="37"/>
                  </a:lnTo>
                  <a:lnTo>
                    <a:pt x="151" y="36"/>
                  </a:lnTo>
                  <a:lnTo>
                    <a:pt x="144" y="35"/>
                  </a:lnTo>
                  <a:lnTo>
                    <a:pt x="138" y="36"/>
                  </a:lnTo>
                  <a:lnTo>
                    <a:pt x="133" y="37"/>
                  </a:lnTo>
                  <a:lnTo>
                    <a:pt x="124" y="40"/>
                  </a:lnTo>
                  <a:lnTo>
                    <a:pt x="118" y="43"/>
                  </a:lnTo>
                  <a:lnTo>
                    <a:pt x="122" y="44"/>
                  </a:lnTo>
                  <a:lnTo>
                    <a:pt x="132" y="50"/>
                  </a:lnTo>
                  <a:lnTo>
                    <a:pt x="138" y="59"/>
                  </a:lnTo>
                  <a:lnTo>
                    <a:pt x="139" y="69"/>
                  </a:lnTo>
                  <a:lnTo>
                    <a:pt x="137" y="80"/>
                  </a:lnTo>
                  <a:lnTo>
                    <a:pt x="132" y="90"/>
                  </a:lnTo>
                  <a:lnTo>
                    <a:pt x="126" y="99"/>
                  </a:lnTo>
                  <a:lnTo>
                    <a:pt x="118" y="106"/>
                  </a:lnTo>
                  <a:lnTo>
                    <a:pt x="113" y="109"/>
                  </a:lnTo>
                  <a:lnTo>
                    <a:pt x="106" y="110"/>
                  </a:lnTo>
                  <a:lnTo>
                    <a:pt x="99" y="109"/>
                  </a:lnTo>
                  <a:lnTo>
                    <a:pt x="94" y="105"/>
                  </a:lnTo>
                  <a:lnTo>
                    <a:pt x="94" y="101"/>
                  </a:lnTo>
                  <a:lnTo>
                    <a:pt x="102" y="95"/>
                  </a:lnTo>
                  <a:lnTo>
                    <a:pt x="106" y="88"/>
                  </a:lnTo>
                  <a:lnTo>
                    <a:pt x="107" y="81"/>
                  </a:lnTo>
                  <a:lnTo>
                    <a:pt x="106" y="77"/>
                  </a:lnTo>
                  <a:lnTo>
                    <a:pt x="98" y="69"/>
                  </a:lnTo>
                  <a:lnTo>
                    <a:pt x="93" y="66"/>
                  </a:lnTo>
                  <a:lnTo>
                    <a:pt x="87" y="66"/>
                  </a:lnTo>
                  <a:lnTo>
                    <a:pt x="86" y="70"/>
                  </a:lnTo>
                  <a:lnTo>
                    <a:pt x="88" y="82"/>
                  </a:lnTo>
                  <a:lnTo>
                    <a:pt x="88" y="89"/>
                  </a:lnTo>
                  <a:lnTo>
                    <a:pt x="87" y="95"/>
                  </a:lnTo>
                  <a:lnTo>
                    <a:pt x="86" y="100"/>
                  </a:lnTo>
                  <a:lnTo>
                    <a:pt x="81" y="109"/>
                  </a:lnTo>
                  <a:lnTo>
                    <a:pt x="73" y="117"/>
                  </a:lnTo>
                  <a:lnTo>
                    <a:pt x="64" y="122"/>
                  </a:lnTo>
                  <a:lnTo>
                    <a:pt x="54" y="125"/>
                  </a:lnTo>
                  <a:lnTo>
                    <a:pt x="45" y="127"/>
                  </a:lnTo>
                  <a:lnTo>
                    <a:pt x="41" y="128"/>
                  </a:lnTo>
                  <a:lnTo>
                    <a:pt x="34" y="126"/>
                  </a:lnTo>
                  <a:lnTo>
                    <a:pt x="26" y="123"/>
                  </a:lnTo>
                  <a:lnTo>
                    <a:pt x="19" y="118"/>
                  </a:lnTo>
                  <a:lnTo>
                    <a:pt x="11" y="112"/>
                  </a:lnTo>
                  <a:lnTo>
                    <a:pt x="5" y="108"/>
                  </a:lnTo>
                  <a:lnTo>
                    <a:pt x="12" y="104"/>
                  </a:lnTo>
                  <a:lnTo>
                    <a:pt x="20" y="101"/>
                  </a:lnTo>
                  <a:lnTo>
                    <a:pt x="27" y="99"/>
                  </a:lnTo>
                  <a:lnTo>
                    <a:pt x="33" y="97"/>
                  </a:lnTo>
                  <a:lnTo>
                    <a:pt x="40" y="96"/>
                  </a:lnTo>
                  <a:lnTo>
                    <a:pt x="45" y="90"/>
                  </a:lnTo>
                  <a:lnTo>
                    <a:pt x="46" y="82"/>
                  </a:lnTo>
                  <a:lnTo>
                    <a:pt x="45" y="77"/>
                  </a:lnTo>
                  <a:lnTo>
                    <a:pt x="40" y="69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8"/>
                  </a:lnTo>
                  <a:lnTo>
                    <a:pt x="6" y="72"/>
                  </a:lnTo>
                  <a:lnTo>
                    <a:pt x="0" y="75"/>
                  </a:lnTo>
                  <a:lnTo>
                    <a:pt x="1" y="69"/>
                  </a:lnTo>
                  <a:lnTo>
                    <a:pt x="2" y="63"/>
                  </a:lnTo>
                  <a:lnTo>
                    <a:pt x="4" y="57"/>
                  </a:lnTo>
                  <a:lnTo>
                    <a:pt x="8" y="51"/>
                  </a:lnTo>
                  <a:lnTo>
                    <a:pt x="15" y="46"/>
                  </a:lnTo>
                  <a:lnTo>
                    <a:pt x="21" y="43"/>
                  </a:lnTo>
                  <a:lnTo>
                    <a:pt x="27" y="41"/>
                  </a:lnTo>
                  <a:lnTo>
                    <a:pt x="34" y="38"/>
                  </a:lnTo>
                  <a:lnTo>
                    <a:pt x="42" y="35"/>
                  </a:lnTo>
                  <a:lnTo>
                    <a:pt x="49" y="32"/>
                  </a:lnTo>
                  <a:lnTo>
                    <a:pt x="58" y="30"/>
                  </a:lnTo>
                  <a:lnTo>
                    <a:pt x="67" y="27"/>
                  </a:lnTo>
                  <a:lnTo>
                    <a:pt x="75" y="25"/>
                  </a:lnTo>
                  <a:lnTo>
                    <a:pt x="82" y="22"/>
                  </a:lnTo>
                  <a:lnTo>
                    <a:pt x="88" y="20"/>
                  </a:lnTo>
                  <a:close/>
                </a:path>
              </a:pathLst>
            </a:custGeom>
            <a:solidFill>
              <a:srgbClr val="88050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6547320" y="4041360"/>
              <a:ext cx="18000" cy="3780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13" y="0"/>
                  </a:moveTo>
                  <a:lnTo>
                    <a:pt x="20" y="5"/>
                  </a:lnTo>
                  <a:lnTo>
                    <a:pt x="24" y="13"/>
                  </a:lnTo>
                  <a:lnTo>
                    <a:pt x="26" y="20"/>
                  </a:lnTo>
                  <a:lnTo>
                    <a:pt x="27" y="26"/>
                  </a:lnTo>
                  <a:lnTo>
                    <a:pt x="27" y="34"/>
                  </a:lnTo>
                  <a:lnTo>
                    <a:pt x="26" y="39"/>
                  </a:lnTo>
                  <a:lnTo>
                    <a:pt x="25" y="43"/>
                  </a:lnTo>
                  <a:lnTo>
                    <a:pt x="16" y="52"/>
                  </a:lnTo>
                  <a:lnTo>
                    <a:pt x="11" y="54"/>
                  </a:lnTo>
                  <a:lnTo>
                    <a:pt x="4" y="53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6" y="34"/>
                  </a:lnTo>
                  <a:lnTo>
                    <a:pt x="10" y="28"/>
                  </a:lnTo>
                  <a:lnTo>
                    <a:pt x="14" y="20"/>
                  </a:lnTo>
                  <a:lnTo>
                    <a:pt x="16" y="13"/>
                  </a:lnTo>
                  <a:lnTo>
                    <a:pt x="15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050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6163560" y="3888720"/>
              <a:ext cx="19440" cy="3780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0"/>
                  </a:moveTo>
                  <a:lnTo>
                    <a:pt x="21" y="5"/>
                  </a:lnTo>
                  <a:lnTo>
                    <a:pt x="24" y="11"/>
                  </a:lnTo>
                  <a:lnTo>
                    <a:pt x="27" y="17"/>
                  </a:lnTo>
                  <a:lnTo>
                    <a:pt x="28" y="24"/>
                  </a:lnTo>
                  <a:lnTo>
                    <a:pt x="28" y="30"/>
                  </a:lnTo>
                  <a:lnTo>
                    <a:pt x="27" y="38"/>
                  </a:lnTo>
                  <a:lnTo>
                    <a:pt x="24" y="44"/>
                  </a:lnTo>
                  <a:lnTo>
                    <a:pt x="15" y="52"/>
                  </a:lnTo>
                  <a:lnTo>
                    <a:pt x="10" y="55"/>
                  </a:lnTo>
                  <a:lnTo>
                    <a:pt x="5" y="52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7" y="34"/>
                  </a:lnTo>
                  <a:lnTo>
                    <a:pt x="12" y="26"/>
                  </a:lnTo>
                  <a:lnTo>
                    <a:pt x="16" y="18"/>
                  </a:lnTo>
                  <a:lnTo>
                    <a:pt x="17" y="11"/>
                  </a:lnTo>
                  <a:lnTo>
                    <a:pt x="15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8050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6319080" y="3614400"/>
              <a:ext cx="1163880" cy="704160"/>
            </a:xfrm>
            <a:custGeom>
              <a:avLst/>
              <a:gdLst/>
              <a:ahLst/>
              <a:rect l="l" t="t" r="r" b="b"/>
              <a:pathLst>
                <a:path w="1675" h="998">
                  <a:moveTo>
                    <a:pt x="0" y="998"/>
                  </a:moveTo>
                  <a:lnTo>
                    <a:pt x="18" y="983"/>
                  </a:lnTo>
                  <a:lnTo>
                    <a:pt x="37" y="969"/>
                  </a:lnTo>
                  <a:lnTo>
                    <a:pt x="81" y="934"/>
                  </a:lnTo>
                  <a:lnTo>
                    <a:pt x="129" y="898"/>
                  </a:lnTo>
                  <a:lnTo>
                    <a:pt x="182" y="861"/>
                  </a:lnTo>
                  <a:lnTo>
                    <a:pt x="239" y="821"/>
                  </a:lnTo>
                  <a:lnTo>
                    <a:pt x="301" y="781"/>
                  </a:lnTo>
                  <a:lnTo>
                    <a:pt x="363" y="740"/>
                  </a:lnTo>
                  <a:lnTo>
                    <a:pt x="428" y="700"/>
                  </a:lnTo>
                  <a:lnTo>
                    <a:pt x="494" y="661"/>
                  </a:lnTo>
                  <a:lnTo>
                    <a:pt x="560" y="622"/>
                  </a:lnTo>
                  <a:lnTo>
                    <a:pt x="628" y="585"/>
                  </a:lnTo>
                  <a:lnTo>
                    <a:pt x="692" y="552"/>
                  </a:lnTo>
                  <a:lnTo>
                    <a:pt x="756" y="520"/>
                  </a:lnTo>
                  <a:lnTo>
                    <a:pt x="817" y="492"/>
                  </a:lnTo>
                  <a:lnTo>
                    <a:pt x="874" y="468"/>
                  </a:lnTo>
                  <a:lnTo>
                    <a:pt x="928" y="448"/>
                  </a:lnTo>
                  <a:lnTo>
                    <a:pt x="953" y="438"/>
                  </a:lnTo>
                  <a:lnTo>
                    <a:pt x="980" y="429"/>
                  </a:lnTo>
                  <a:lnTo>
                    <a:pt x="1031" y="410"/>
                  </a:lnTo>
                  <a:lnTo>
                    <a:pt x="1083" y="388"/>
                  </a:lnTo>
                  <a:lnTo>
                    <a:pt x="1135" y="366"/>
                  </a:lnTo>
                  <a:lnTo>
                    <a:pt x="1187" y="342"/>
                  </a:lnTo>
                  <a:lnTo>
                    <a:pt x="1238" y="316"/>
                  </a:lnTo>
                  <a:lnTo>
                    <a:pt x="1290" y="290"/>
                  </a:lnTo>
                  <a:lnTo>
                    <a:pt x="1340" y="262"/>
                  </a:lnTo>
                  <a:lnTo>
                    <a:pt x="1388" y="233"/>
                  </a:lnTo>
                  <a:lnTo>
                    <a:pt x="1434" y="203"/>
                  </a:lnTo>
                  <a:lnTo>
                    <a:pt x="1480" y="171"/>
                  </a:lnTo>
                  <a:lnTo>
                    <a:pt x="1523" y="139"/>
                  </a:lnTo>
                  <a:lnTo>
                    <a:pt x="1565" y="105"/>
                  </a:lnTo>
                  <a:lnTo>
                    <a:pt x="1604" y="72"/>
                  </a:lnTo>
                  <a:lnTo>
                    <a:pt x="1641" y="36"/>
                  </a:lnTo>
                  <a:lnTo>
                    <a:pt x="1675" y="0"/>
                  </a:lnTo>
                  <a:lnTo>
                    <a:pt x="1660" y="18"/>
                  </a:lnTo>
                  <a:lnTo>
                    <a:pt x="1644" y="36"/>
                  </a:lnTo>
                  <a:lnTo>
                    <a:pt x="1609" y="72"/>
                  </a:lnTo>
                  <a:lnTo>
                    <a:pt x="1570" y="107"/>
                  </a:lnTo>
                  <a:lnTo>
                    <a:pt x="1528" y="143"/>
                  </a:lnTo>
                  <a:lnTo>
                    <a:pt x="1481" y="179"/>
                  </a:lnTo>
                  <a:lnTo>
                    <a:pt x="1434" y="212"/>
                  </a:lnTo>
                  <a:lnTo>
                    <a:pt x="1386" y="246"/>
                  </a:lnTo>
                  <a:lnTo>
                    <a:pt x="1337" y="278"/>
                  </a:lnTo>
                  <a:lnTo>
                    <a:pt x="1287" y="308"/>
                  </a:lnTo>
                  <a:lnTo>
                    <a:pt x="1237" y="338"/>
                  </a:lnTo>
                  <a:lnTo>
                    <a:pt x="1189" y="366"/>
                  </a:lnTo>
                  <a:lnTo>
                    <a:pt x="1142" y="392"/>
                  </a:lnTo>
                  <a:lnTo>
                    <a:pt x="1098" y="417"/>
                  </a:lnTo>
                  <a:lnTo>
                    <a:pt x="1056" y="439"/>
                  </a:lnTo>
                  <a:lnTo>
                    <a:pt x="1019" y="458"/>
                  </a:lnTo>
                  <a:lnTo>
                    <a:pt x="985" y="476"/>
                  </a:lnTo>
                  <a:lnTo>
                    <a:pt x="969" y="484"/>
                  </a:lnTo>
                  <a:lnTo>
                    <a:pt x="953" y="493"/>
                  </a:lnTo>
                  <a:lnTo>
                    <a:pt x="920" y="511"/>
                  </a:lnTo>
                  <a:lnTo>
                    <a:pt x="883" y="532"/>
                  </a:lnTo>
                  <a:lnTo>
                    <a:pt x="845" y="553"/>
                  </a:lnTo>
                  <a:lnTo>
                    <a:pt x="808" y="577"/>
                  </a:lnTo>
                  <a:lnTo>
                    <a:pt x="768" y="601"/>
                  </a:lnTo>
                  <a:lnTo>
                    <a:pt x="729" y="626"/>
                  </a:lnTo>
                  <a:lnTo>
                    <a:pt x="688" y="651"/>
                  </a:lnTo>
                  <a:lnTo>
                    <a:pt x="648" y="677"/>
                  </a:lnTo>
                  <a:lnTo>
                    <a:pt x="610" y="702"/>
                  </a:lnTo>
                  <a:lnTo>
                    <a:pt x="572" y="727"/>
                  </a:lnTo>
                  <a:lnTo>
                    <a:pt x="535" y="750"/>
                  </a:lnTo>
                  <a:lnTo>
                    <a:pt x="501" y="773"/>
                  </a:lnTo>
                  <a:lnTo>
                    <a:pt x="467" y="793"/>
                  </a:lnTo>
                  <a:lnTo>
                    <a:pt x="437" y="811"/>
                  </a:lnTo>
                  <a:lnTo>
                    <a:pt x="409" y="828"/>
                  </a:lnTo>
                  <a:lnTo>
                    <a:pt x="397" y="834"/>
                  </a:lnTo>
                  <a:lnTo>
                    <a:pt x="384" y="841"/>
                  </a:lnTo>
                  <a:lnTo>
                    <a:pt x="360" y="852"/>
                  </a:lnTo>
                  <a:lnTo>
                    <a:pt x="334" y="863"/>
                  </a:lnTo>
                  <a:lnTo>
                    <a:pt x="309" y="872"/>
                  </a:lnTo>
                  <a:lnTo>
                    <a:pt x="283" y="882"/>
                  </a:lnTo>
                  <a:lnTo>
                    <a:pt x="258" y="890"/>
                  </a:lnTo>
                  <a:lnTo>
                    <a:pt x="231" y="899"/>
                  </a:lnTo>
                  <a:lnTo>
                    <a:pt x="205" y="908"/>
                  </a:lnTo>
                  <a:lnTo>
                    <a:pt x="179" y="916"/>
                  </a:lnTo>
                  <a:lnTo>
                    <a:pt x="153" y="927"/>
                  </a:lnTo>
                  <a:lnTo>
                    <a:pt x="127" y="935"/>
                  </a:lnTo>
                  <a:lnTo>
                    <a:pt x="101" y="946"/>
                  </a:lnTo>
                  <a:lnTo>
                    <a:pt x="75" y="957"/>
                  </a:lnTo>
                  <a:lnTo>
                    <a:pt x="50" y="970"/>
                  </a:lnTo>
                  <a:lnTo>
                    <a:pt x="25" y="983"/>
                  </a:lnTo>
                  <a:lnTo>
                    <a:pt x="0" y="998"/>
                  </a:lnTo>
                  <a:close/>
                </a:path>
              </a:pathLst>
            </a:custGeom>
            <a:solidFill>
              <a:srgbClr val="880505"/>
            </a:solidFill>
            <a:ln w="1440">
              <a:solidFill>
                <a:srgbClr val="880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6012360" y="3135600"/>
              <a:ext cx="153720" cy="405360"/>
            </a:xfrm>
            <a:custGeom>
              <a:avLst/>
              <a:gdLst/>
              <a:ahLst/>
              <a:rect l="l" t="t" r="r" b="b"/>
              <a:pathLst>
                <a:path w="222" h="575">
                  <a:moveTo>
                    <a:pt x="222" y="0"/>
                  </a:moveTo>
                  <a:lnTo>
                    <a:pt x="215" y="3"/>
                  </a:lnTo>
                  <a:lnTo>
                    <a:pt x="209" y="3"/>
                  </a:lnTo>
                  <a:lnTo>
                    <a:pt x="202" y="4"/>
                  </a:lnTo>
                  <a:lnTo>
                    <a:pt x="194" y="6"/>
                  </a:lnTo>
                  <a:lnTo>
                    <a:pt x="188" y="7"/>
                  </a:lnTo>
                  <a:lnTo>
                    <a:pt x="182" y="8"/>
                  </a:lnTo>
                  <a:lnTo>
                    <a:pt x="174" y="9"/>
                  </a:lnTo>
                  <a:lnTo>
                    <a:pt x="167" y="10"/>
                  </a:lnTo>
                  <a:lnTo>
                    <a:pt x="161" y="11"/>
                  </a:lnTo>
                  <a:lnTo>
                    <a:pt x="153" y="12"/>
                  </a:lnTo>
                  <a:lnTo>
                    <a:pt x="147" y="13"/>
                  </a:lnTo>
                  <a:lnTo>
                    <a:pt x="141" y="14"/>
                  </a:lnTo>
                  <a:lnTo>
                    <a:pt x="134" y="15"/>
                  </a:lnTo>
                  <a:lnTo>
                    <a:pt x="127" y="17"/>
                  </a:lnTo>
                  <a:lnTo>
                    <a:pt x="120" y="18"/>
                  </a:lnTo>
                  <a:lnTo>
                    <a:pt x="114" y="19"/>
                  </a:lnTo>
                  <a:lnTo>
                    <a:pt x="113" y="26"/>
                  </a:lnTo>
                  <a:lnTo>
                    <a:pt x="112" y="32"/>
                  </a:lnTo>
                  <a:lnTo>
                    <a:pt x="109" y="43"/>
                  </a:lnTo>
                  <a:lnTo>
                    <a:pt x="107" y="55"/>
                  </a:lnTo>
                  <a:lnTo>
                    <a:pt x="104" y="65"/>
                  </a:lnTo>
                  <a:lnTo>
                    <a:pt x="100" y="74"/>
                  </a:lnTo>
                  <a:lnTo>
                    <a:pt x="95" y="82"/>
                  </a:lnTo>
                  <a:lnTo>
                    <a:pt x="89" y="91"/>
                  </a:lnTo>
                  <a:lnTo>
                    <a:pt x="84" y="97"/>
                  </a:lnTo>
                  <a:lnTo>
                    <a:pt x="77" y="103"/>
                  </a:lnTo>
                  <a:lnTo>
                    <a:pt x="71" y="108"/>
                  </a:lnTo>
                  <a:lnTo>
                    <a:pt x="63" y="113"/>
                  </a:lnTo>
                  <a:lnTo>
                    <a:pt x="56" y="117"/>
                  </a:lnTo>
                  <a:lnTo>
                    <a:pt x="49" y="121"/>
                  </a:lnTo>
                  <a:lnTo>
                    <a:pt x="41" y="123"/>
                  </a:lnTo>
                  <a:lnTo>
                    <a:pt x="33" y="125"/>
                  </a:lnTo>
                  <a:lnTo>
                    <a:pt x="26" y="127"/>
                  </a:lnTo>
                  <a:lnTo>
                    <a:pt x="19" y="141"/>
                  </a:lnTo>
                  <a:lnTo>
                    <a:pt x="13" y="153"/>
                  </a:lnTo>
                  <a:lnTo>
                    <a:pt x="5" y="182"/>
                  </a:lnTo>
                  <a:lnTo>
                    <a:pt x="0" y="211"/>
                  </a:lnTo>
                  <a:lnTo>
                    <a:pt x="0" y="243"/>
                  </a:lnTo>
                  <a:lnTo>
                    <a:pt x="1" y="274"/>
                  </a:lnTo>
                  <a:lnTo>
                    <a:pt x="6" y="306"/>
                  </a:lnTo>
                  <a:lnTo>
                    <a:pt x="11" y="339"/>
                  </a:lnTo>
                  <a:lnTo>
                    <a:pt x="17" y="371"/>
                  </a:lnTo>
                  <a:lnTo>
                    <a:pt x="25" y="403"/>
                  </a:lnTo>
                  <a:lnTo>
                    <a:pt x="32" y="433"/>
                  </a:lnTo>
                  <a:lnTo>
                    <a:pt x="37" y="462"/>
                  </a:lnTo>
                  <a:lnTo>
                    <a:pt x="42" y="490"/>
                  </a:lnTo>
                  <a:lnTo>
                    <a:pt x="44" y="514"/>
                  </a:lnTo>
                  <a:lnTo>
                    <a:pt x="44" y="538"/>
                  </a:lnTo>
                  <a:lnTo>
                    <a:pt x="41" y="557"/>
                  </a:lnTo>
                  <a:lnTo>
                    <a:pt x="35" y="575"/>
                  </a:lnTo>
                  <a:lnTo>
                    <a:pt x="39" y="567"/>
                  </a:lnTo>
                  <a:lnTo>
                    <a:pt x="42" y="560"/>
                  </a:lnTo>
                  <a:lnTo>
                    <a:pt x="49" y="545"/>
                  </a:lnTo>
                  <a:lnTo>
                    <a:pt x="52" y="531"/>
                  </a:lnTo>
                  <a:lnTo>
                    <a:pt x="55" y="515"/>
                  </a:lnTo>
                  <a:lnTo>
                    <a:pt x="55" y="500"/>
                  </a:lnTo>
                  <a:lnTo>
                    <a:pt x="55" y="485"/>
                  </a:lnTo>
                  <a:lnTo>
                    <a:pt x="55" y="469"/>
                  </a:lnTo>
                  <a:lnTo>
                    <a:pt x="53" y="452"/>
                  </a:lnTo>
                  <a:lnTo>
                    <a:pt x="52" y="436"/>
                  </a:lnTo>
                  <a:lnTo>
                    <a:pt x="50" y="420"/>
                  </a:lnTo>
                  <a:lnTo>
                    <a:pt x="49" y="402"/>
                  </a:lnTo>
                  <a:lnTo>
                    <a:pt x="48" y="384"/>
                  </a:lnTo>
                  <a:lnTo>
                    <a:pt x="47" y="365"/>
                  </a:lnTo>
                  <a:lnTo>
                    <a:pt x="48" y="346"/>
                  </a:lnTo>
                  <a:lnTo>
                    <a:pt x="49" y="327"/>
                  </a:lnTo>
                  <a:lnTo>
                    <a:pt x="52" y="307"/>
                  </a:lnTo>
                  <a:lnTo>
                    <a:pt x="53" y="297"/>
                  </a:lnTo>
                  <a:lnTo>
                    <a:pt x="56" y="288"/>
                  </a:lnTo>
                  <a:lnTo>
                    <a:pt x="61" y="267"/>
                  </a:lnTo>
                  <a:lnTo>
                    <a:pt x="67" y="245"/>
                  </a:lnTo>
                  <a:lnTo>
                    <a:pt x="74" y="224"/>
                  </a:lnTo>
                  <a:lnTo>
                    <a:pt x="82" y="202"/>
                  </a:lnTo>
                  <a:lnTo>
                    <a:pt x="91" y="181"/>
                  </a:lnTo>
                  <a:lnTo>
                    <a:pt x="101" y="160"/>
                  </a:lnTo>
                  <a:lnTo>
                    <a:pt x="112" y="140"/>
                  </a:lnTo>
                  <a:lnTo>
                    <a:pt x="123" y="119"/>
                  </a:lnTo>
                  <a:lnTo>
                    <a:pt x="136" y="99"/>
                  </a:lnTo>
                  <a:lnTo>
                    <a:pt x="148" y="80"/>
                  </a:lnTo>
                  <a:lnTo>
                    <a:pt x="162" y="62"/>
                  </a:lnTo>
                  <a:lnTo>
                    <a:pt x="175" y="46"/>
                  </a:lnTo>
                  <a:lnTo>
                    <a:pt x="191" y="29"/>
                  </a:lnTo>
                  <a:lnTo>
                    <a:pt x="206" y="14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880505"/>
            </a:solidFill>
            <a:ln w="1440">
              <a:solidFill>
                <a:srgbClr val="880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6017760" y="3138120"/>
              <a:ext cx="119160" cy="183960"/>
            </a:xfrm>
            <a:custGeom>
              <a:avLst/>
              <a:gdLst/>
              <a:ahLst/>
              <a:rect l="l" t="t" r="r" b="b"/>
              <a:pathLst>
                <a:path w="172" h="261">
                  <a:moveTo>
                    <a:pt x="172" y="0"/>
                  </a:moveTo>
                  <a:lnTo>
                    <a:pt x="167" y="4"/>
                  </a:lnTo>
                  <a:lnTo>
                    <a:pt x="161" y="7"/>
                  </a:lnTo>
                  <a:lnTo>
                    <a:pt x="155" y="12"/>
                  </a:lnTo>
                  <a:lnTo>
                    <a:pt x="149" y="16"/>
                  </a:lnTo>
                  <a:lnTo>
                    <a:pt x="143" y="23"/>
                  </a:lnTo>
                  <a:lnTo>
                    <a:pt x="137" y="29"/>
                  </a:lnTo>
                  <a:lnTo>
                    <a:pt x="130" y="35"/>
                  </a:lnTo>
                  <a:lnTo>
                    <a:pt x="123" y="43"/>
                  </a:lnTo>
                  <a:lnTo>
                    <a:pt x="117" y="50"/>
                  </a:lnTo>
                  <a:lnTo>
                    <a:pt x="109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9" y="81"/>
                  </a:lnTo>
                  <a:lnTo>
                    <a:pt x="82" y="91"/>
                  </a:lnTo>
                  <a:lnTo>
                    <a:pt x="76" y="100"/>
                  </a:lnTo>
                  <a:lnTo>
                    <a:pt x="68" y="109"/>
                  </a:lnTo>
                  <a:lnTo>
                    <a:pt x="63" y="118"/>
                  </a:lnTo>
                  <a:lnTo>
                    <a:pt x="56" y="127"/>
                  </a:lnTo>
                  <a:lnTo>
                    <a:pt x="50" y="138"/>
                  </a:lnTo>
                  <a:lnTo>
                    <a:pt x="44" y="147"/>
                  </a:lnTo>
                  <a:lnTo>
                    <a:pt x="38" y="158"/>
                  </a:lnTo>
                  <a:lnTo>
                    <a:pt x="33" y="167"/>
                  </a:lnTo>
                  <a:lnTo>
                    <a:pt x="29" y="177"/>
                  </a:lnTo>
                  <a:lnTo>
                    <a:pt x="23" y="186"/>
                  </a:lnTo>
                  <a:lnTo>
                    <a:pt x="19" y="197"/>
                  </a:lnTo>
                  <a:lnTo>
                    <a:pt x="15" y="206"/>
                  </a:lnTo>
                  <a:lnTo>
                    <a:pt x="11" y="215"/>
                  </a:lnTo>
                  <a:lnTo>
                    <a:pt x="8" y="225"/>
                  </a:lnTo>
                  <a:lnTo>
                    <a:pt x="6" y="234"/>
                  </a:lnTo>
                  <a:lnTo>
                    <a:pt x="3" y="244"/>
                  </a:lnTo>
                  <a:lnTo>
                    <a:pt x="1" y="252"/>
                  </a:lnTo>
                  <a:lnTo>
                    <a:pt x="0" y="26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6087240" y="3152520"/>
              <a:ext cx="176040" cy="78840"/>
            </a:xfrm>
            <a:custGeom>
              <a:avLst/>
              <a:gdLst/>
              <a:ahLst/>
              <a:rect l="l" t="t" r="r" b="b"/>
              <a:pathLst>
                <a:path w="255" h="112">
                  <a:moveTo>
                    <a:pt x="255" y="0"/>
                  </a:moveTo>
                  <a:lnTo>
                    <a:pt x="253" y="11"/>
                  </a:lnTo>
                  <a:lnTo>
                    <a:pt x="250" y="22"/>
                  </a:lnTo>
                  <a:lnTo>
                    <a:pt x="248" y="31"/>
                  </a:lnTo>
                  <a:lnTo>
                    <a:pt x="244" y="39"/>
                  </a:lnTo>
                  <a:lnTo>
                    <a:pt x="241" y="48"/>
                  </a:lnTo>
                  <a:lnTo>
                    <a:pt x="237" y="55"/>
                  </a:lnTo>
                  <a:lnTo>
                    <a:pt x="232" y="62"/>
                  </a:lnTo>
                  <a:lnTo>
                    <a:pt x="226" y="69"/>
                  </a:lnTo>
                  <a:lnTo>
                    <a:pt x="221" y="75"/>
                  </a:lnTo>
                  <a:lnTo>
                    <a:pt x="214" y="80"/>
                  </a:lnTo>
                  <a:lnTo>
                    <a:pt x="209" y="84"/>
                  </a:lnTo>
                  <a:lnTo>
                    <a:pt x="200" y="89"/>
                  </a:lnTo>
                  <a:lnTo>
                    <a:pt x="193" y="93"/>
                  </a:lnTo>
                  <a:lnTo>
                    <a:pt x="185" y="97"/>
                  </a:lnTo>
                  <a:lnTo>
                    <a:pt x="177" y="99"/>
                  </a:lnTo>
                  <a:lnTo>
                    <a:pt x="169" y="101"/>
                  </a:lnTo>
                  <a:lnTo>
                    <a:pt x="159" y="104"/>
                  </a:lnTo>
                  <a:lnTo>
                    <a:pt x="151" y="105"/>
                  </a:lnTo>
                  <a:lnTo>
                    <a:pt x="140" y="107"/>
                  </a:lnTo>
                  <a:lnTo>
                    <a:pt x="131" y="108"/>
                  </a:lnTo>
                  <a:lnTo>
                    <a:pt x="122" y="110"/>
                  </a:lnTo>
                  <a:lnTo>
                    <a:pt x="111" y="111"/>
                  </a:lnTo>
                  <a:lnTo>
                    <a:pt x="101" y="111"/>
                  </a:lnTo>
                  <a:lnTo>
                    <a:pt x="90" y="112"/>
                  </a:lnTo>
                  <a:lnTo>
                    <a:pt x="80" y="112"/>
                  </a:lnTo>
                  <a:lnTo>
                    <a:pt x="68" y="112"/>
                  </a:lnTo>
                  <a:lnTo>
                    <a:pt x="58" y="112"/>
                  </a:lnTo>
                  <a:lnTo>
                    <a:pt x="46" y="112"/>
                  </a:lnTo>
                  <a:lnTo>
                    <a:pt x="35" y="112"/>
                  </a:lnTo>
                  <a:lnTo>
                    <a:pt x="23" y="112"/>
                  </a:lnTo>
                  <a:lnTo>
                    <a:pt x="12" y="112"/>
                  </a:lnTo>
                  <a:lnTo>
                    <a:pt x="0" y="1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6273360" y="2941920"/>
              <a:ext cx="279000" cy="305280"/>
            </a:xfrm>
            <a:custGeom>
              <a:avLst/>
              <a:gdLst/>
              <a:ahLst/>
              <a:rect l="l" t="t" r="r" b="b"/>
              <a:pathLst>
                <a:path w="402" h="433">
                  <a:moveTo>
                    <a:pt x="402" y="0"/>
                  </a:moveTo>
                  <a:lnTo>
                    <a:pt x="391" y="0"/>
                  </a:lnTo>
                  <a:lnTo>
                    <a:pt x="378" y="0"/>
                  </a:lnTo>
                  <a:lnTo>
                    <a:pt x="351" y="3"/>
                  </a:lnTo>
                  <a:lnTo>
                    <a:pt x="324" y="8"/>
                  </a:lnTo>
                  <a:lnTo>
                    <a:pt x="294" y="15"/>
                  </a:lnTo>
                  <a:lnTo>
                    <a:pt x="265" y="23"/>
                  </a:lnTo>
                  <a:lnTo>
                    <a:pt x="237" y="33"/>
                  </a:lnTo>
                  <a:lnTo>
                    <a:pt x="209" y="45"/>
                  </a:lnTo>
                  <a:lnTo>
                    <a:pt x="181" y="57"/>
                  </a:lnTo>
                  <a:lnTo>
                    <a:pt x="156" y="70"/>
                  </a:lnTo>
                  <a:lnTo>
                    <a:pt x="133" y="84"/>
                  </a:lnTo>
                  <a:lnTo>
                    <a:pt x="113" y="97"/>
                  </a:lnTo>
                  <a:lnTo>
                    <a:pt x="96" y="112"/>
                  </a:lnTo>
                  <a:lnTo>
                    <a:pt x="84" y="126"/>
                  </a:lnTo>
                  <a:lnTo>
                    <a:pt x="77" y="140"/>
                  </a:lnTo>
                  <a:lnTo>
                    <a:pt x="73" y="155"/>
                  </a:lnTo>
                  <a:lnTo>
                    <a:pt x="77" y="169"/>
                  </a:lnTo>
                  <a:lnTo>
                    <a:pt x="84" y="174"/>
                  </a:lnTo>
                  <a:lnTo>
                    <a:pt x="89" y="174"/>
                  </a:lnTo>
                  <a:lnTo>
                    <a:pt x="97" y="172"/>
                  </a:lnTo>
                  <a:lnTo>
                    <a:pt x="106" y="168"/>
                  </a:lnTo>
                  <a:lnTo>
                    <a:pt x="115" y="162"/>
                  </a:lnTo>
                  <a:lnTo>
                    <a:pt x="127" y="157"/>
                  </a:lnTo>
                  <a:lnTo>
                    <a:pt x="138" y="150"/>
                  </a:lnTo>
                  <a:lnTo>
                    <a:pt x="151" y="143"/>
                  </a:lnTo>
                  <a:lnTo>
                    <a:pt x="162" y="136"/>
                  </a:lnTo>
                  <a:lnTo>
                    <a:pt x="175" y="131"/>
                  </a:lnTo>
                  <a:lnTo>
                    <a:pt x="188" y="125"/>
                  </a:lnTo>
                  <a:lnTo>
                    <a:pt x="199" y="119"/>
                  </a:lnTo>
                  <a:lnTo>
                    <a:pt x="210" y="116"/>
                  </a:lnTo>
                  <a:lnTo>
                    <a:pt x="220" y="113"/>
                  </a:lnTo>
                  <a:lnTo>
                    <a:pt x="230" y="113"/>
                  </a:lnTo>
                  <a:lnTo>
                    <a:pt x="223" y="114"/>
                  </a:lnTo>
                  <a:lnTo>
                    <a:pt x="206" y="118"/>
                  </a:lnTo>
                  <a:lnTo>
                    <a:pt x="195" y="124"/>
                  </a:lnTo>
                  <a:lnTo>
                    <a:pt x="182" y="130"/>
                  </a:lnTo>
                  <a:lnTo>
                    <a:pt x="170" y="136"/>
                  </a:lnTo>
                  <a:lnTo>
                    <a:pt x="156" y="145"/>
                  </a:lnTo>
                  <a:lnTo>
                    <a:pt x="144" y="153"/>
                  </a:lnTo>
                  <a:lnTo>
                    <a:pt x="132" y="161"/>
                  </a:lnTo>
                  <a:lnTo>
                    <a:pt x="122" y="172"/>
                  </a:lnTo>
                  <a:lnTo>
                    <a:pt x="111" y="181"/>
                  </a:lnTo>
                  <a:lnTo>
                    <a:pt x="103" y="191"/>
                  </a:lnTo>
                  <a:lnTo>
                    <a:pt x="96" y="201"/>
                  </a:lnTo>
                  <a:lnTo>
                    <a:pt x="92" y="209"/>
                  </a:lnTo>
                  <a:lnTo>
                    <a:pt x="90" y="219"/>
                  </a:lnTo>
                  <a:lnTo>
                    <a:pt x="90" y="227"/>
                  </a:lnTo>
                  <a:lnTo>
                    <a:pt x="93" y="235"/>
                  </a:lnTo>
                  <a:lnTo>
                    <a:pt x="103" y="240"/>
                  </a:lnTo>
                  <a:lnTo>
                    <a:pt x="108" y="240"/>
                  </a:lnTo>
                  <a:lnTo>
                    <a:pt x="114" y="238"/>
                  </a:lnTo>
                  <a:lnTo>
                    <a:pt x="122" y="235"/>
                  </a:lnTo>
                  <a:lnTo>
                    <a:pt x="130" y="230"/>
                  </a:lnTo>
                  <a:lnTo>
                    <a:pt x="139" y="225"/>
                  </a:lnTo>
                  <a:lnTo>
                    <a:pt x="149" y="220"/>
                  </a:lnTo>
                  <a:lnTo>
                    <a:pt x="159" y="215"/>
                  </a:lnTo>
                  <a:lnTo>
                    <a:pt x="171" y="208"/>
                  </a:lnTo>
                  <a:lnTo>
                    <a:pt x="183" y="202"/>
                  </a:lnTo>
                  <a:lnTo>
                    <a:pt x="196" y="198"/>
                  </a:lnTo>
                  <a:lnTo>
                    <a:pt x="211" y="193"/>
                  </a:lnTo>
                  <a:lnTo>
                    <a:pt x="226" y="190"/>
                  </a:lnTo>
                  <a:lnTo>
                    <a:pt x="243" y="189"/>
                  </a:lnTo>
                  <a:lnTo>
                    <a:pt x="260" y="189"/>
                  </a:lnTo>
                  <a:lnTo>
                    <a:pt x="255" y="189"/>
                  </a:lnTo>
                  <a:lnTo>
                    <a:pt x="248" y="190"/>
                  </a:lnTo>
                  <a:lnTo>
                    <a:pt x="234" y="193"/>
                  </a:lnTo>
                  <a:lnTo>
                    <a:pt x="218" y="198"/>
                  </a:lnTo>
                  <a:lnTo>
                    <a:pt x="201" y="206"/>
                  </a:lnTo>
                  <a:lnTo>
                    <a:pt x="183" y="215"/>
                  </a:lnTo>
                  <a:lnTo>
                    <a:pt x="165" y="225"/>
                  </a:lnTo>
                  <a:lnTo>
                    <a:pt x="147" y="236"/>
                  </a:lnTo>
                  <a:lnTo>
                    <a:pt x="129" y="247"/>
                  </a:lnTo>
                  <a:lnTo>
                    <a:pt x="111" y="260"/>
                  </a:lnTo>
                  <a:lnTo>
                    <a:pt x="95" y="271"/>
                  </a:lnTo>
                  <a:lnTo>
                    <a:pt x="82" y="283"/>
                  </a:lnTo>
                  <a:lnTo>
                    <a:pt x="69" y="293"/>
                  </a:lnTo>
                  <a:lnTo>
                    <a:pt x="60" y="304"/>
                  </a:lnTo>
                  <a:lnTo>
                    <a:pt x="53" y="312"/>
                  </a:lnTo>
                  <a:lnTo>
                    <a:pt x="50" y="320"/>
                  </a:lnTo>
                  <a:lnTo>
                    <a:pt x="51" y="325"/>
                  </a:lnTo>
                  <a:lnTo>
                    <a:pt x="53" y="329"/>
                  </a:lnTo>
                  <a:lnTo>
                    <a:pt x="62" y="337"/>
                  </a:lnTo>
                  <a:lnTo>
                    <a:pt x="68" y="339"/>
                  </a:lnTo>
                  <a:lnTo>
                    <a:pt x="78" y="339"/>
                  </a:lnTo>
                  <a:lnTo>
                    <a:pt x="87" y="338"/>
                  </a:lnTo>
                  <a:lnTo>
                    <a:pt x="99" y="335"/>
                  </a:lnTo>
                  <a:lnTo>
                    <a:pt x="110" y="332"/>
                  </a:lnTo>
                  <a:lnTo>
                    <a:pt x="122" y="327"/>
                  </a:lnTo>
                  <a:lnTo>
                    <a:pt x="134" y="321"/>
                  </a:lnTo>
                  <a:lnTo>
                    <a:pt x="147" y="315"/>
                  </a:lnTo>
                  <a:lnTo>
                    <a:pt x="160" y="308"/>
                  </a:lnTo>
                  <a:lnTo>
                    <a:pt x="173" y="302"/>
                  </a:lnTo>
                  <a:lnTo>
                    <a:pt x="185" y="295"/>
                  </a:lnTo>
                  <a:lnTo>
                    <a:pt x="197" y="290"/>
                  </a:lnTo>
                  <a:lnTo>
                    <a:pt x="210" y="285"/>
                  </a:lnTo>
                  <a:lnTo>
                    <a:pt x="219" y="282"/>
                  </a:lnTo>
                  <a:lnTo>
                    <a:pt x="211" y="283"/>
                  </a:lnTo>
                  <a:lnTo>
                    <a:pt x="202" y="287"/>
                  </a:lnTo>
                  <a:lnTo>
                    <a:pt x="192" y="292"/>
                  </a:lnTo>
                  <a:lnTo>
                    <a:pt x="182" y="300"/>
                  </a:lnTo>
                  <a:lnTo>
                    <a:pt x="172" y="308"/>
                  </a:lnTo>
                  <a:lnTo>
                    <a:pt x="167" y="313"/>
                  </a:lnTo>
                  <a:lnTo>
                    <a:pt x="161" y="317"/>
                  </a:lnTo>
                  <a:lnTo>
                    <a:pt x="155" y="323"/>
                  </a:lnTo>
                  <a:lnTo>
                    <a:pt x="149" y="328"/>
                  </a:lnTo>
                  <a:lnTo>
                    <a:pt x="144" y="333"/>
                  </a:lnTo>
                  <a:lnTo>
                    <a:pt x="136" y="338"/>
                  </a:lnTo>
                  <a:lnTo>
                    <a:pt x="129" y="344"/>
                  </a:lnTo>
                  <a:lnTo>
                    <a:pt x="121" y="350"/>
                  </a:lnTo>
                  <a:lnTo>
                    <a:pt x="111" y="356"/>
                  </a:lnTo>
                  <a:lnTo>
                    <a:pt x="101" y="361"/>
                  </a:lnTo>
                  <a:lnTo>
                    <a:pt x="89" y="367"/>
                  </a:lnTo>
                  <a:lnTo>
                    <a:pt x="79" y="373"/>
                  </a:lnTo>
                  <a:lnTo>
                    <a:pt x="67" y="378"/>
                  </a:lnTo>
                  <a:lnTo>
                    <a:pt x="56" y="383"/>
                  </a:lnTo>
                  <a:lnTo>
                    <a:pt x="45" y="389"/>
                  </a:lnTo>
                  <a:lnTo>
                    <a:pt x="35" y="395"/>
                  </a:lnTo>
                  <a:lnTo>
                    <a:pt x="24" y="399"/>
                  </a:lnTo>
                  <a:lnTo>
                    <a:pt x="17" y="404"/>
                  </a:lnTo>
                  <a:lnTo>
                    <a:pt x="9" y="409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1" y="427"/>
                  </a:lnTo>
                  <a:lnTo>
                    <a:pt x="16" y="433"/>
                  </a:lnTo>
                  <a:lnTo>
                    <a:pt x="29" y="433"/>
                  </a:lnTo>
                  <a:lnTo>
                    <a:pt x="46" y="431"/>
                  </a:lnTo>
                  <a:lnTo>
                    <a:pt x="65" y="427"/>
                  </a:lnTo>
                  <a:lnTo>
                    <a:pt x="86" y="423"/>
                  </a:lnTo>
                  <a:lnTo>
                    <a:pt x="108" y="418"/>
                  </a:lnTo>
                  <a:lnTo>
                    <a:pt x="131" y="412"/>
                  </a:lnTo>
                  <a:lnTo>
                    <a:pt x="154" y="403"/>
                  </a:lnTo>
                  <a:lnTo>
                    <a:pt x="177" y="396"/>
                  </a:lnTo>
                  <a:lnTo>
                    <a:pt x="198" y="387"/>
                  </a:lnTo>
                  <a:lnTo>
                    <a:pt x="218" y="377"/>
                  </a:lnTo>
                  <a:lnTo>
                    <a:pt x="236" y="368"/>
                  </a:lnTo>
                  <a:lnTo>
                    <a:pt x="250" y="357"/>
                  </a:lnTo>
                  <a:lnTo>
                    <a:pt x="263" y="34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6256800" y="2915280"/>
              <a:ext cx="216360" cy="80280"/>
            </a:xfrm>
            <a:custGeom>
              <a:avLst/>
              <a:gdLst/>
              <a:ahLst/>
              <a:rect l="l" t="t" r="r" b="b"/>
              <a:pathLst>
                <a:path w="312" h="114">
                  <a:moveTo>
                    <a:pt x="0" y="114"/>
                  </a:moveTo>
                  <a:lnTo>
                    <a:pt x="8" y="106"/>
                  </a:lnTo>
                  <a:lnTo>
                    <a:pt x="15" y="97"/>
                  </a:lnTo>
                  <a:lnTo>
                    <a:pt x="23" y="89"/>
                  </a:lnTo>
                  <a:lnTo>
                    <a:pt x="32" y="81"/>
                  </a:lnTo>
                  <a:lnTo>
                    <a:pt x="40" y="74"/>
                  </a:lnTo>
                  <a:lnTo>
                    <a:pt x="49" y="67"/>
                  </a:lnTo>
                  <a:lnTo>
                    <a:pt x="59" y="60"/>
                  </a:lnTo>
                  <a:lnTo>
                    <a:pt x="69" y="54"/>
                  </a:lnTo>
                  <a:lnTo>
                    <a:pt x="79" y="47"/>
                  </a:lnTo>
                  <a:lnTo>
                    <a:pt x="89" y="42"/>
                  </a:lnTo>
                  <a:lnTo>
                    <a:pt x="100" y="38"/>
                  </a:lnTo>
                  <a:lnTo>
                    <a:pt x="111" y="33"/>
                  </a:lnTo>
                  <a:lnTo>
                    <a:pt x="122" y="28"/>
                  </a:lnTo>
                  <a:lnTo>
                    <a:pt x="132" y="23"/>
                  </a:lnTo>
                  <a:lnTo>
                    <a:pt x="144" y="20"/>
                  </a:lnTo>
                  <a:lnTo>
                    <a:pt x="155" y="17"/>
                  </a:lnTo>
                  <a:lnTo>
                    <a:pt x="166" y="14"/>
                  </a:lnTo>
                  <a:lnTo>
                    <a:pt x="176" y="11"/>
                  </a:lnTo>
                  <a:lnTo>
                    <a:pt x="188" y="9"/>
                  </a:lnTo>
                  <a:lnTo>
                    <a:pt x="198" y="6"/>
                  </a:lnTo>
                  <a:lnTo>
                    <a:pt x="210" y="5"/>
                  </a:lnTo>
                  <a:lnTo>
                    <a:pt x="220" y="3"/>
                  </a:lnTo>
                  <a:lnTo>
                    <a:pt x="230" y="2"/>
                  </a:lnTo>
                  <a:lnTo>
                    <a:pt x="241" y="1"/>
                  </a:lnTo>
                  <a:lnTo>
                    <a:pt x="251" y="0"/>
                  </a:lnTo>
                  <a:lnTo>
                    <a:pt x="260" y="0"/>
                  </a:lnTo>
                  <a:lnTo>
                    <a:pt x="270" y="0"/>
                  </a:lnTo>
                  <a:lnTo>
                    <a:pt x="279" y="0"/>
                  </a:lnTo>
                  <a:lnTo>
                    <a:pt x="288" y="1"/>
                  </a:lnTo>
                  <a:lnTo>
                    <a:pt x="297" y="1"/>
                  </a:lnTo>
                  <a:lnTo>
                    <a:pt x="305" y="3"/>
                  </a:lnTo>
                  <a:lnTo>
                    <a:pt x="31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6264720" y="3228840"/>
              <a:ext cx="202680" cy="56160"/>
            </a:xfrm>
            <a:custGeom>
              <a:avLst/>
              <a:gdLst/>
              <a:ahLst/>
              <a:rect l="l" t="t" r="r" b="b"/>
              <a:pathLst>
                <a:path w="293" h="79">
                  <a:moveTo>
                    <a:pt x="293" y="0"/>
                  </a:moveTo>
                  <a:lnTo>
                    <a:pt x="288" y="5"/>
                  </a:lnTo>
                  <a:lnTo>
                    <a:pt x="281" y="9"/>
                  </a:lnTo>
                  <a:lnTo>
                    <a:pt x="276" y="14"/>
                  </a:lnTo>
                  <a:lnTo>
                    <a:pt x="269" y="18"/>
                  </a:lnTo>
                  <a:lnTo>
                    <a:pt x="262" y="22"/>
                  </a:lnTo>
                  <a:lnTo>
                    <a:pt x="254" y="27"/>
                  </a:lnTo>
                  <a:lnTo>
                    <a:pt x="247" y="32"/>
                  </a:lnTo>
                  <a:lnTo>
                    <a:pt x="237" y="36"/>
                  </a:lnTo>
                  <a:lnTo>
                    <a:pt x="229" y="40"/>
                  </a:lnTo>
                  <a:lnTo>
                    <a:pt x="220" y="45"/>
                  </a:lnTo>
                  <a:lnTo>
                    <a:pt x="210" y="49"/>
                  </a:lnTo>
                  <a:lnTo>
                    <a:pt x="201" y="53"/>
                  </a:lnTo>
                  <a:lnTo>
                    <a:pt x="190" y="57"/>
                  </a:lnTo>
                  <a:lnTo>
                    <a:pt x="180" y="61"/>
                  </a:lnTo>
                  <a:lnTo>
                    <a:pt x="169" y="64"/>
                  </a:lnTo>
                  <a:lnTo>
                    <a:pt x="159" y="68"/>
                  </a:lnTo>
                  <a:lnTo>
                    <a:pt x="148" y="71"/>
                  </a:lnTo>
                  <a:lnTo>
                    <a:pt x="138" y="73"/>
                  </a:lnTo>
                  <a:lnTo>
                    <a:pt x="127" y="75"/>
                  </a:lnTo>
                  <a:lnTo>
                    <a:pt x="116" y="77"/>
                  </a:lnTo>
                  <a:lnTo>
                    <a:pt x="105" y="78"/>
                  </a:lnTo>
                  <a:lnTo>
                    <a:pt x="95" y="79"/>
                  </a:lnTo>
                  <a:lnTo>
                    <a:pt x="84" y="79"/>
                  </a:lnTo>
                  <a:lnTo>
                    <a:pt x="74" y="79"/>
                  </a:lnTo>
                  <a:lnTo>
                    <a:pt x="63" y="78"/>
                  </a:lnTo>
                  <a:lnTo>
                    <a:pt x="54" y="77"/>
                  </a:lnTo>
                  <a:lnTo>
                    <a:pt x="44" y="75"/>
                  </a:lnTo>
                  <a:lnTo>
                    <a:pt x="34" y="73"/>
                  </a:lnTo>
                  <a:lnTo>
                    <a:pt x="25" y="70"/>
                  </a:lnTo>
                  <a:lnTo>
                    <a:pt x="16" y="65"/>
                  </a:lnTo>
                  <a:lnTo>
                    <a:pt x="7" y="60"/>
                  </a:lnTo>
                  <a:lnTo>
                    <a:pt x="0" y="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252480" y="3327840"/>
              <a:ext cx="1312560" cy="1055520"/>
            </a:xfrm>
            <a:custGeom>
              <a:avLst/>
              <a:gdLst/>
              <a:ahLst/>
              <a:rect l="l" t="t" r="r" b="b"/>
              <a:pathLst>
                <a:path w="1892" h="1493">
                  <a:moveTo>
                    <a:pt x="1686" y="69"/>
                  </a:moveTo>
                  <a:lnTo>
                    <a:pt x="1704" y="71"/>
                  </a:lnTo>
                  <a:lnTo>
                    <a:pt x="1720" y="72"/>
                  </a:lnTo>
                  <a:lnTo>
                    <a:pt x="1751" y="77"/>
                  </a:lnTo>
                  <a:lnTo>
                    <a:pt x="1780" y="84"/>
                  </a:lnTo>
                  <a:lnTo>
                    <a:pt x="1804" y="93"/>
                  </a:lnTo>
                  <a:lnTo>
                    <a:pt x="1826" y="103"/>
                  </a:lnTo>
                  <a:lnTo>
                    <a:pt x="1844" y="114"/>
                  </a:lnTo>
                  <a:lnTo>
                    <a:pt x="1859" y="128"/>
                  </a:lnTo>
                  <a:lnTo>
                    <a:pt x="1872" y="142"/>
                  </a:lnTo>
                  <a:lnTo>
                    <a:pt x="1880" y="157"/>
                  </a:lnTo>
                  <a:lnTo>
                    <a:pt x="1887" y="175"/>
                  </a:lnTo>
                  <a:lnTo>
                    <a:pt x="1891" y="193"/>
                  </a:lnTo>
                  <a:lnTo>
                    <a:pt x="1892" y="213"/>
                  </a:lnTo>
                  <a:lnTo>
                    <a:pt x="1890" y="232"/>
                  </a:lnTo>
                  <a:lnTo>
                    <a:pt x="1884" y="253"/>
                  </a:lnTo>
                  <a:lnTo>
                    <a:pt x="1878" y="274"/>
                  </a:lnTo>
                  <a:lnTo>
                    <a:pt x="1870" y="296"/>
                  </a:lnTo>
                  <a:lnTo>
                    <a:pt x="1863" y="308"/>
                  </a:lnTo>
                  <a:lnTo>
                    <a:pt x="1857" y="319"/>
                  </a:lnTo>
                  <a:lnTo>
                    <a:pt x="1844" y="342"/>
                  </a:lnTo>
                  <a:lnTo>
                    <a:pt x="1827" y="367"/>
                  </a:lnTo>
                  <a:lnTo>
                    <a:pt x="1808" y="391"/>
                  </a:lnTo>
                  <a:lnTo>
                    <a:pt x="1788" y="416"/>
                  </a:lnTo>
                  <a:lnTo>
                    <a:pt x="1766" y="440"/>
                  </a:lnTo>
                  <a:lnTo>
                    <a:pt x="1741" y="464"/>
                  </a:lnTo>
                  <a:lnTo>
                    <a:pt x="1715" y="489"/>
                  </a:lnTo>
                  <a:lnTo>
                    <a:pt x="1686" y="513"/>
                  </a:lnTo>
                  <a:lnTo>
                    <a:pt x="1656" y="537"/>
                  </a:lnTo>
                  <a:lnTo>
                    <a:pt x="1625" y="561"/>
                  </a:lnTo>
                  <a:lnTo>
                    <a:pt x="1591" y="585"/>
                  </a:lnTo>
                  <a:lnTo>
                    <a:pt x="1556" y="608"/>
                  </a:lnTo>
                  <a:lnTo>
                    <a:pt x="1520" y="630"/>
                  </a:lnTo>
                  <a:lnTo>
                    <a:pt x="1482" y="652"/>
                  </a:lnTo>
                  <a:lnTo>
                    <a:pt x="1442" y="673"/>
                  </a:lnTo>
                  <a:lnTo>
                    <a:pt x="1422" y="683"/>
                  </a:lnTo>
                  <a:lnTo>
                    <a:pt x="1401" y="694"/>
                  </a:lnTo>
                  <a:lnTo>
                    <a:pt x="1363" y="713"/>
                  </a:lnTo>
                  <a:lnTo>
                    <a:pt x="1322" y="732"/>
                  </a:lnTo>
                  <a:lnTo>
                    <a:pt x="1281" y="751"/>
                  </a:lnTo>
                  <a:lnTo>
                    <a:pt x="1239" y="769"/>
                  </a:lnTo>
                  <a:lnTo>
                    <a:pt x="1198" y="788"/>
                  </a:lnTo>
                  <a:lnTo>
                    <a:pt x="1156" y="806"/>
                  </a:lnTo>
                  <a:lnTo>
                    <a:pt x="1114" y="823"/>
                  </a:lnTo>
                  <a:lnTo>
                    <a:pt x="1071" y="842"/>
                  </a:lnTo>
                  <a:lnTo>
                    <a:pt x="1028" y="861"/>
                  </a:lnTo>
                  <a:lnTo>
                    <a:pt x="985" y="880"/>
                  </a:lnTo>
                  <a:lnTo>
                    <a:pt x="941" y="900"/>
                  </a:lnTo>
                  <a:lnTo>
                    <a:pt x="896" y="921"/>
                  </a:lnTo>
                  <a:lnTo>
                    <a:pt x="851" y="942"/>
                  </a:lnTo>
                  <a:lnTo>
                    <a:pt x="806" y="964"/>
                  </a:lnTo>
                  <a:lnTo>
                    <a:pt x="760" y="987"/>
                  </a:lnTo>
                  <a:lnTo>
                    <a:pt x="737" y="998"/>
                  </a:lnTo>
                  <a:lnTo>
                    <a:pt x="713" y="1010"/>
                  </a:lnTo>
                  <a:lnTo>
                    <a:pt x="667" y="1035"/>
                  </a:lnTo>
                  <a:lnTo>
                    <a:pt x="620" y="1061"/>
                  </a:lnTo>
                  <a:lnTo>
                    <a:pt x="573" y="1090"/>
                  </a:lnTo>
                  <a:lnTo>
                    <a:pt x="525" y="1118"/>
                  </a:lnTo>
                  <a:lnTo>
                    <a:pt x="478" y="1148"/>
                  </a:lnTo>
                  <a:lnTo>
                    <a:pt x="431" y="1178"/>
                  </a:lnTo>
                  <a:lnTo>
                    <a:pt x="382" y="1210"/>
                  </a:lnTo>
                  <a:lnTo>
                    <a:pt x="336" y="1243"/>
                  </a:lnTo>
                  <a:lnTo>
                    <a:pt x="287" y="1275"/>
                  </a:lnTo>
                  <a:lnTo>
                    <a:pt x="239" y="1310"/>
                  </a:lnTo>
                  <a:lnTo>
                    <a:pt x="191" y="1344"/>
                  </a:lnTo>
                  <a:lnTo>
                    <a:pt x="143" y="1381"/>
                  </a:lnTo>
                  <a:lnTo>
                    <a:pt x="96" y="1418"/>
                  </a:lnTo>
                  <a:lnTo>
                    <a:pt x="48" y="1455"/>
                  </a:lnTo>
                  <a:lnTo>
                    <a:pt x="0" y="1493"/>
                  </a:lnTo>
                  <a:lnTo>
                    <a:pt x="14" y="1475"/>
                  </a:lnTo>
                  <a:lnTo>
                    <a:pt x="29" y="1456"/>
                  </a:lnTo>
                  <a:lnTo>
                    <a:pt x="61" y="1418"/>
                  </a:lnTo>
                  <a:lnTo>
                    <a:pt x="96" y="1375"/>
                  </a:lnTo>
                  <a:lnTo>
                    <a:pt x="134" y="1330"/>
                  </a:lnTo>
                  <a:lnTo>
                    <a:pt x="173" y="1282"/>
                  </a:lnTo>
                  <a:lnTo>
                    <a:pt x="215" y="1233"/>
                  </a:lnTo>
                  <a:lnTo>
                    <a:pt x="258" y="1182"/>
                  </a:lnTo>
                  <a:lnTo>
                    <a:pt x="303" y="1128"/>
                  </a:lnTo>
                  <a:lnTo>
                    <a:pt x="349" y="1073"/>
                  </a:lnTo>
                  <a:lnTo>
                    <a:pt x="395" y="1016"/>
                  </a:lnTo>
                  <a:lnTo>
                    <a:pt x="443" y="958"/>
                  </a:lnTo>
                  <a:lnTo>
                    <a:pt x="490" y="899"/>
                  </a:lnTo>
                  <a:lnTo>
                    <a:pt x="538" y="839"/>
                  </a:lnTo>
                  <a:lnTo>
                    <a:pt x="584" y="778"/>
                  </a:lnTo>
                  <a:lnTo>
                    <a:pt x="630" y="716"/>
                  </a:lnTo>
                  <a:lnTo>
                    <a:pt x="674" y="654"/>
                  </a:lnTo>
                  <a:lnTo>
                    <a:pt x="696" y="623"/>
                  </a:lnTo>
                  <a:lnTo>
                    <a:pt x="719" y="593"/>
                  </a:lnTo>
                  <a:lnTo>
                    <a:pt x="766" y="533"/>
                  </a:lnTo>
                  <a:lnTo>
                    <a:pt x="816" y="476"/>
                  </a:lnTo>
                  <a:lnTo>
                    <a:pt x="865" y="420"/>
                  </a:lnTo>
                  <a:lnTo>
                    <a:pt x="915" y="368"/>
                  </a:lnTo>
                  <a:lnTo>
                    <a:pt x="967" y="317"/>
                  </a:lnTo>
                  <a:lnTo>
                    <a:pt x="1018" y="270"/>
                  </a:lnTo>
                  <a:lnTo>
                    <a:pt x="1069" y="226"/>
                  </a:lnTo>
                  <a:lnTo>
                    <a:pt x="1120" y="185"/>
                  </a:lnTo>
                  <a:lnTo>
                    <a:pt x="1170" y="148"/>
                  </a:lnTo>
                  <a:lnTo>
                    <a:pt x="1220" y="113"/>
                  </a:lnTo>
                  <a:lnTo>
                    <a:pt x="1268" y="82"/>
                  </a:lnTo>
                  <a:lnTo>
                    <a:pt x="1314" y="55"/>
                  </a:lnTo>
                  <a:lnTo>
                    <a:pt x="1361" y="32"/>
                  </a:lnTo>
                  <a:lnTo>
                    <a:pt x="1403" y="13"/>
                  </a:lnTo>
                  <a:lnTo>
                    <a:pt x="144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11280" y="3633120"/>
              <a:ext cx="203760" cy="18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984360" y="3764520"/>
              <a:ext cx="233280" cy="187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005600" y="3839400"/>
              <a:ext cx="269280" cy="193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017120" y="3885840"/>
              <a:ext cx="338760" cy="24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953040" y="3900240"/>
              <a:ext cx="495720" cy="339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870960" y="3890160"/>
              <a:ext cx="417600" cy="28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794280" y="3879000"/>
              <a:ext cx="102960" cy="73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641640" y="3506040"/>
              <a:ext cx="112320" cy="119880"/>
            </a:xfrm>
            <a:custGeom>
              <a:avLst/>
              <a:gdLst/>
              <a:ahLst/>
              <a:rect l="l" t="t" r="r" b="b"/>
              <a:pathLst>
                <a:path w="160" h="170">
                  <a:moveTo>
                    <a:pt x="142" y="0"/>
                  </a:moveTo>
                  <a:lnTo>
                    <a:pt x="149" y="5"/>
                  </a:lnTo>
                  <a:lnTo>
                    <a:pt x="154" y="8"/>
                  </a:lnTo>
                  <a:lnTo>
                    <a:pt x="157" y="13"/>
                  </a:lnTo>
                  <a:lnTo>
                    <a:pt x="159" y="18"/>
                  </a:lnTo>
                  <a:lnTo>
                    <a:pt x="160" y="22"/>
                  </a:lnTo>
                  <a:lnTo>
                    <a:pt x="160" y="29"/>
                  </a:lnTo>
                  <a:lnTo>
                    <a:pt x="160" y="34"/>
                  </a:lnTo>
                  <a:lnTo>
                    <a:pt x="157" y="39"/>
                  </a:lnTo>
                  <a:lnTo>
                    <a:pt x="155" y="45"/>
                  </a:lnTo>
                  <a:lnTo>
                    <a:pt x="152" y="52"/>
                  </a:lnTo>
                  <a:lnTo>
                    <a:pt x="147" y="58"/>
                  </a:lnTo>
                  <a:lnTo>
                    <a:pt x="142" y="63"/>
                  </a:lnTo>
                  <a:lnTo>
                    <a:pt x="137" y="69"/>
                  </a:lnTo>
                  <a:lnTo>
                    <a:pt x="131" y="76"/>
                  </a:lnTo>
                  <a:lnTo>
                    <a:pt x="125" y="82"/>
                  </a:lnTo>
                  <a:lnTo>
                    <a:pt x="117" y="88"/>
                  </a:lnTo>
                  <a:lnTo>
                    <a:pt x="110" y="95"/>
                  </a:lnTo>
                  <a:lnTo>
                    <a:pt x="103" y="101"/>
                  </a:lnTo>
                  <a:lnTo>
                    <a:pt x="95" y="107"/>
                  </a:lnTo>
                  <a:lnTo>
                    <a:pt x="87" y="114"/>
                  </a:lnTo>
                  <a:lnTo>
                    <a:pt x="78" y="120"/>
                  </a:lnTo>
                  <a:lnTo>
                    <a:pt x="70" y="125"/>
                  </a:lnTo>
                  <a:lnTo>
                    <a:pt x="62" y="130"/>
                  </a:lnTo>
                  <a:lnTo>
                    <a:pt x="53" y="136"/>
                  </a:lnTo>
                  <a:lnTo>
                    <a:pt x="46" y="142"/>
                  </a:lnTo>
                  <a:lnTo>
                    <a:pt x="39" y="146"/>
                  </a:lnTo>
                  <a:lnTo>
                    <a:pt x="31" y="151"/>
                  </a:lnTo>
                  <a:lnTo>
                    <a:pt x="24" y="155"/>
                  </a:lnTo>
                  <a:lnTo>
                    <a:pt x="18" y="160"/>
                  </a:lnTo>
                  <a:lnTo>
                    <a:pt x="11" y="164"/>
                  </a:lnTo>
                  <a:lnTo>
                    <a:pt x="5" y="167"/>
                  </a:lnTo>
                  <a:lnTo>
                    <a:pt x="0" y="17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6510960" y="3427920"/>
              <a:ext cx="110520" cy="121680"/>
            </a:xfrm>
            <a:custGeom>
              <a:avLst/>
              <a:gdLst/>
              <a:ahLst/>
              <a:rect l="l" t="t" r="r" b="b"/>
              <a:pathLst>
                <a:path w="161" h="171">
                  <a:moveTo>
                    <a:pt x="144" y="0"/>
                  </a:moveTo>
                  <a:lnTo>
                    <a:pt x="149" y="6"/>
                  </a:lnTo>
                  <a:lnTo>
                    <a:pt x="153" y="9"/>
                  </a:lnTo>
                  <a:lnTo>
                    <a:pt x="158" y="14"/>
                  </a:lnTo>
                  <a:lnTo>
                    <a:pt x="160" y="19"/>
                  </a:lnTo>
                  <a:lnTo>
                    <a:pt x="161" y="24"/>
                  </a:lnTo>
                  <a:lnTo>
                    <a:pt x="161" y="30"/>
                  </a:lnTo>
                  <a:lnTo>
                    <a:pt x="161" y="35"/>
                  </a:lnTo>
                  <a:lnTo>
                    <a:pt x="158" y="40"/>
                  </a:lnTo>
                  <a:lnTo>
                    <a:pt x="156" y="46"/>
                  </a:lnTo>
                  <a:lnTo>
                    <a:pt x="152" y="53"/>
                  </a:lnTo>
                  <a:lnTo>
                    <a:pt x="147" y="58"/>
                  </a:lnTo>
                  <a:lnTo>
                    <a:pt x="143" y="65"/>
                  </a:lnTo>
                  <a:lnTo>
                    <a:pt x="138" y="71"/>
                  </a:lnTo>
                  <a:lnTo>
                    <a:pt x="131" y="77"/>
                  </a:lnTo>
                  <a:lnTo>
                    <a:pt x="125" y="84"/>
                  </a:lnTo>
                  <a:lnTo>
                    <a:pt x="118" y="89"/>
                  </a:lnTo>
                  <a:lnTo>
                    <a:pt x="110" y="96"/>
                  </a:lnTo>
                  <a:lnTo>
                    <a:pt x="103" y="102"/>
                  </a:lnTo>
                  <a:lnTo>
                    <a:pt x="95" y="108"/>
                  </a:lnTo>
                  <a:lnTo>
                    <a:pt x="86" y="115"/>
                  </a:lnTo>
                  <a:lnTo>
                    <a:pt x="79" y="120"/>
                  </a:lnTo>
                  <a:lnTo>
                    <a:pt x="71" y="126"/>
                  </a:lnTo>
                  <a:lnTo>
                    <a:pt x="62" y="131"/>
                  </a:lnTo>
                  <a:lnTo>
                    <a:pt x="55" y="137"/>
                  </a:lnTo>
                  <a:lnTo>
                    <a:pt x="47" y="142"/>
                  </a:lnTo>
                  <a:lnTo>
                    <a:pt x="38" y="147"/>
                  </a:lnTo>
                  <a:lnTo>
                    <a:pt x="32" y="152"/>
                  </a:lnTo>
                  <a:lnTo>
                    <a:pt x="25" y="156"/>
                  </a:lnTo>
                  <a:lnTo>
                    <a:pt x="18" y="161"/>
                  </a:lnTo>
                  <a:lnTo>
                    <a:pt x="11" y="165"/>
                  </a:lnTo>
                  <a:lnTo>
                    <a:pt x="6" y="168"/>
                  </a:lnTo>
                  <a:lnTo>
                    <a:pt x="0" y="17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394320" y="3425400"/>
              <a:ext cx="110880" cy="11952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143" y="0"/>
                  </a:moveTo>
                  <a:lnTo>
                    <a:pt x="148" y="4"/>
                  </a:lnTo>
                  <a:lnTo>
                    <a:pt x="153" y="9"/>
                  </a:lnTo>
                  <a:lnTo>
                    <a:pt x="156" y="14"/>
                  </a:lnTo>
                  <a:lnTo>
                    <a:pt x="158" y="19"/>
                  </a:lnTo>
                  <a:lnTo>
                    <a:pt x="159" y="24"/>
                  </a:lnTo>
                  <a:lnTo>
                    <a:pt x="159" y="29"/>
                  </a:lnTo>
                  <a:lnTo>
                    <a:pt x="159" y="35"/>
                  </a:lnTo>
                  <a:lnTo>
                    <a:pt x="157" y="40"/>
                  </a:lnTo>
                  <a:lnTo>
                    <a:pt x="155" y="46"/>
                  </a:lnTo>
                  <a:lnTo>
                    <a:pt x="151" y="53"/>
                  </a:lnTo>
                  <a:lnTo>
                    <a:pt x="147" y="58"/>
                  </a:lnTo>
                  <a:lnTo>
                    <a:pt x="142" y="65"/>
                  </a:lnTo>
                  <a:lnTo>
                    <a:pt x="136" y="70"/>
                  </a:lnTo>
                  <a:lnTo>
                    <a:pt x="130" y="77"/>
                  </a:lnTo>
                  <a:lnTo>
                    <a:pt x="124" y="84"/>
                  </a:lnTo>
                  <a:lnTo>
                    <a:pt x="116" y="89"/>
                  </a:lnTo>
                  <a:lnTo>
                    <a:pt x="109" y="95"/>
                  </a:lnTo>
                  <a:lnTo>
                    <a:pt x="102" y="102"/>
                  </a:lnTo>
                  <a:lnTo>
                    <a:pt x="94" y="108"/>
                  </a:lnTo>
                  <a:lnTo>
                    <a:pt x="86" y="114"/>
                  </a:lnTo>
                  <a:lnTo>
                    <a:pt x="78" y="121"/>
                  </a:lnTo>
                  <a:lnTo>
                    <a:pt x="70" y="125"/>
                  </a:lnTo>
                  <a:lnTo>
                    <a:pt x="61" y="132"/>
                  </a:lnTo>
                  <a:lnTo>
                    <a:pt x="54" y="136"/>
                  </a:lnTo>
                  <a:lnTo>
                    <a:pt x="45" y="142"/>
                  </a:lnTo>
                  <a:lnTo>
                    <a:pt x="38" y="147"/>
                  </a:lnTo>
                  <a:lnTo>
                    <a:pt x="31" y="151"/>
                  </a:lnTo>
                  <a:lnTo>
                    <a:pt x="23" y="156"/>
                  </a:lnTo>
                  <a:lnTo>
                    <a:pt x="17" y="160"/>
                  </a:lnTo>
                  <a:lnTo>
                    <a:pt x="11" y="164"/>
                  </a:lnTo>
                  <a:lnTo>
                    <a:pt x="4" y="168"/>
                  </a:lnTo>
                  <a:lnTo>
                    <a:pt x="0" y="17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6532200" y="3508920"/>
              <a:ext cx="110880" cy="119880"/>
            </a:xfrm>
            <a:custGeom>
              <a:avLst/>
              <a:gdLst/>
              <a:ahLst/>
              <a:rect l="l" t="t" r="r" b="b"/>
              <a:pathLst>
                <a:path w="160" h="170">
                  <a:moveTo>
                    <a:pt x="144" y="0"/>
                  </a:moveTo>
                  <a:lnTo>
                    <a:pt x="149" y="5"/>
                  </a:lnTo>
                  <a:lnTo>
                    <a:pt x="153" y="9"/>
                  </a:lnTo>
                  <a:lnTo>
                    <a:pt x="157" y="13"/>
                  </a:lnTo>
                  <a:lnTo>
                    <a:pt x="159" y="17"/>
                  </a:lnTo>
                  <a:lnTo>
                    <a:pt x="160" y="24"/>
                  </a:lnTo>
                  <a:lnTo>
                    <a:pt x="160" y="29"/>
                  </a:lnTo>
                  <a:lnTo>
                    <a:pt x="159" y="34"/>
                  </a:lnTo>
                  <a:lnTo>
                    <a:pt x="157" y="40"/>
                  </a:lnTo>
                  <a:lnTo>
                    <a:pt x="155" y="46"/>
                  </a:lnTo>
                  <a:lnTo>
                    <a:pt x="152" y="52"/>
                  </a:lnTo>
                  <a:lnTo>
                    <a:pt x="147" y="58"/>
                  </a:lnTo>
                  <a:lnTo>
                    <a:pt x="142" y="63"/>
                  </a:lnTo>
                  <a:lnTo>
                    <a:pt x="136" y="70"/>
                  </a:lnTo>
                  <a:lnTo>
                    <a:pt x="131" y="77"/>
                  </a:lnTo>
                  <a:lnTo>
                    <a:pt x="125" y="82"/>
                  </a:lnTo>
                  <a:lnTo>
                    <a:pt x="117" y="89"/>
                  </a:lnTo>
                  <a:lnTo>
                    <a:pt x="110" y="95"/>
                  </a:lnTo>
                  <a:lnTo>
                    <a:pt x="103" y="101"/>
                  </a:lnTo>
                  <a:lnTo>
                    <a:pt x="94" y="107"/>
                  </a:lnTo>
                  <a:lnTo>
                    <a:pt x="86" y="114"/>
                  </a:lnTo>
                  <a:lnTo>
                    <a:pt x="79" y="120"/>
                  </a:lnTo>
                  <a:lnTo>
                    <a:pt x="70" y="125"/>
                  </a:lnTo>
                  <a:lnTo>
                    <a:pt x="62" y="131"/>
                  </a:lnTo>
                  <a:lnTo>
                    <a:pt x="55" y="137"/>
                  </a:lnTo>
                  <a:lnTo>
                    <a:pt x="46" y="141"/>
                  </a:lnTo>
                  <a:lnTo>
                    <a:pt x="38" y="146"/>
                  </a:lnTo>
                  <a:lnTo>
                    <a:pt x="30" y="151"/>
                  </a:lnTo>
                  <a:lnTo>
                    <a:pt x="24" y="156"/>
                  </a:lnTo>
                  <a:lnTo>
                    <a:pt x="17" y="160"/>
                  </a:lnTo>
                  <a:lnTo>
                    <a:pt x="11" y="164"/>
                  </a:lnTo>
                  <a:lnTo>
                    <a:pt x="5" y="167"/>
                  </a:lnTo>
                  <a:lnTo>
                    <a:pt x="0" y="17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6387480" y="3508920"/>
              <a:ext cx="110880" cy="119880"/>
            </a:xfrm>
            <a:custGeom>
              <a:avLst/>
              <a:gdLst/>
              <a:ahLst/>
              <a:rect l="l" t="t" r="r" b="b"/>
              <a:pathLst>
                <a:path w="159" h="170">
                  <a:moveTo>
                    <a:pt x="141" y="0"/>
                  </a:moveTo>
                  <a:lnTo>
                    <a:pt x="147" y="5"/>
                  </a:lnTo>
                  <a:lnTo>
                    <a:pt x="152" y="9"/>
                  </a:lnTo>
                  <a:lnTo>
                    <a:pt x="156" y="13"/>
                  </a:lnTo>
                  <a:lnTo>
                    <a:pt x="158" y="17"/>
                  </a:lnTo>
                  <a:lnTo>
                    <a:pt x="159" y="24"/>
                  </a:lnTo>
                  <a:lnTo>
                    <a:pt x="159" y="29"/>
                  </a:lnTo>
                  <a:lnTo>
                    <a:pt x="158" y="34"/>
                  </a:lnTo>
                  <a:lnTo>
                    <a:pt x="156" y="40"/>
                  </a:lnTo>
                  <a:lnTo>
                    <a:pt x="154" y="46"/>
                  </a:lnTo>
                  <a:lnTo>
                    <a:pt x="151" y="52"/>
                  </a:lnTo>
                  <a:lnTo>
                    <a:pt x="146" y="58"/>
                  </a:lnTo>
                  <a:lnTo>
                    <a:pt x="141" y="63"/>
                  </a:lnTo>
                  <a:lnTo>
                    <a:pt x="135" y="70"/>
                  </a:lnTo>
                  <a:lnTo>
                    <a:pt x="130" y="77"/>
                  </a:lnTo>
                  <a:lnTo>
                    <a:pt x="123" y="82"/>
                  </a:lnTo>
                  <a:lnTo>
                    <a:pt x="116" y="89"/>
                  </a:lnTo>
                  <a:lnTo>
                    <a:pt x="109" y="95"/>
                  </a:lnTo>
                  <a:lnTo>
                    <a:pt x="100" y="101"/>
                  </a:lnTo>
                  <a:lnTo>
                    <a:pt x="93" y="107"/>
                  </a:lnTo>
                  <a:lnTo>
                    <a:pt x="84" y="114"/>
                  </a:lnTo>
                  <a:lnTo>
                    <a:pt x="77" y="120"/>
                  </a:lnTo>
                  <a:lnTo>
                    <a:pt x="69" y="125"/>
                  </a:lnTo>
                  <a:lnTo>
                    <a:pt x="60" y="131"/>
                  </a:lnTo>
                  <a:lnTo>
                    <a:pt x="52" y="137"/>
                  </a:lnTo>
                  <a:lnTo>
                    <a:pt x="45" y="141"/>
                  </a:lnTo>
                  <a:lnTo>
                    <a:pt x="36" y="146"/>
                  </a:lnTo>
                  <a:lnTo>
                    <a:pt x="29" y="151"/>
                  </a:lnTo>
                  <a:lnTo>
                    <a:pt x="23" y="156"/>
                  </a:lnTo>
                  <a:lnTo>
                    <a:pt x="15" y="160"/>
                  </a:lnTo>
                  <a:lnTo>
                    <a:pt x="10" y="164"/>
                  </a:lnTo>
                  <a:lnTo>
                    <a:pt x="4" y="167"/>
                  </a:lnTo>
                  <a:lnTo>
                    <a:pt x="0" y="17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6284880" y="3450600"/>
              <a:ext cx="110880" cy="119880"/>
            </a:xfrm>
            <a:custGeom>
              <a:avLst/>
              <a:gdLst/>
              <a:ahLst/>
              <a:rect l="l" t="t" r="r" b="b"/>
              <a:pathLst>
                <a:path w="161" h="170">
                  <a:moveTo>
                    <a:pt x="144" y="0"/>
                  </a:moveTo>
                  <a:lnTo>
                    <a:pt x="149" y="4"/>
                  </a:lnTo>
                  <a:lnTo>
                    <a:pt x="153" y="8"/>
                  </a:lnTo>
                  <a:lnTo>
                    <a:pt x="157" y="12"/>
                  </a:lnTo>
                  <a:lnTo>
                    <a:pt x="160" y="18"/>
                  </a:lnTo>
                  <a:lnTo>
                    <a:pt x="161" y="23"/>
                  </a:lnTo>
                  <a:lnTo>
                    <a:pt x="161" y="28"/>
                  </a:lnTo>
                  <a:lnTo>
                    <a:pt x="160" y="33"/>
                  </a:lnTo>
                  <a:lnTo>
                    <a:pt x="159" y="40"/>
                  </a:lnTo>
                  <a:lnTo>
                    <a:pt x="155" y="45"/>
                  </a:lnTo>
                  <a:lnTo>
                    <a:pt x="152" y="52"/>
                  </a:lnTo>
                  <a:lnTo>
                    <a:pt x="147" y="57"/>
                  </a:lnTo>
                  <a:lnTo>
                    <a:pt x="143" y="64"/>
                  </a:lnTo>
                  <a:lnTo>
                    <a:pt x="138" y="70"/>
                  </a:lnTo>
                  <a:lnTo>
                    <a:pt x="131" y="76"/>
                  </a:lnTo>
                  <a:lnTo>
                    <a:pt x="124" y="83"/>
                  </a:lnTo>
                  <a:lnTo>
                    <a:pt x="118" y="88"/>
                  </a:lnTo>
                  <a:lnTo>
                    <a:pt x="110" y="95"/>
                  </a:lnTo>
                  <a:lnTo>
                    <a:pt x="103" y="101"/>
                  </a:lnTo>
                  <a:lnTo>
                    <a:pt x="95" y="107"/>
                  </a:lnTo>
                  <a:lnTo>
                    <a:pt x="87" y="114"/>
                  </a:lnTo>
                  <a:lnTo>
                    <a:pt x="79" y="119"/>
                  </a:lnTo>
                  <a:lnTo>
                    <a:pt x="71" y="126"/>
                  </a:lnTo>
                  <a:lnTo>
                    <a:pt x="62" y="131"/>
                  </a:lnTo>
                  <a:lnTo>
                    <a:pt x="55" y="136"/>
                  </a:lnTo>
                  <a:lnTo>
                    <a:pt x="46" y="141"/>
                  </a:lnTo>
                  <a:lnTo>
                    <a:pt x="39" y="145"/>
                  </a:lnTo>
                  <a:lnTo>
                    <a:pt x="31" y="152"/>
                  </a:lnTo>
                  <a:lnTo>
                    <a:pt x="24" y="155"/>
                  </a:lnTo>
                  <a:lnTo>
                    <a:pt x="18" y="159"/>
                  </a:lnTo>
                  <a:lnTo>
                    <a:pt x="11" y="163"/>
                  </a:lnTo>
                  <a:lnTo>
                    <a:pt x="6" y="166"/>
                  </a:lnTo>
                  <a:lnTo>
                    <a:pt x="0" y="17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6397200" y="3603240"/>
              <a:ext cx="112320" cy="119880"/>
            </a:xfrm>
            <a:custGeom>
              <a:avLst/>
              <a:gdLst/>
              <a:ahLst/>
              <a:rect l="l" t="t" r="r" b="b"/>
              <a:pathLst>
                <a:path w="160" h="169">
                  <a:moveTo>
                    <a:pt x="142" y="0"/>
                  </a:moveTo>
                  <a:lnTo>
                    <a:pt x="148" y="4"/>
                  </a:lnTo>
                  <a:lnTo>
                    <a:pt x="153" y="8"/>
                  </a:lnTo>
                  <a:lnTo>
                    <a:pt x="156" y="13"/>
                  </a:lnTo>
                  <a:lnTo>
                    <a:pt x="159" y="17"/>
                  </a:lnTo>
                  <a:lnTo>
                    <a:pt x="160" y="23"/>
                  </a:lnTo>
                  <a:lnTo>
                    <a:pt x="160" y="29"/>
                  </a:lnTo>
                  <a:lnTo>
                    <a:pt x="159" y="34"/>
                  </a:lnTo>
                  <a:lnTo>
                    <a:pt x="157" y="39"/>
                  </a:lnTo>
                  <a:lnTo>
                    <a:pt x="155" y="46"/>
                  </a:lnTo>
                  <a:lnTo>
                    <a:pt x="151" y="51"/>
                  </a:lnTo>
                  <a:lnTo>
                    <a:pt x="147" y="57"/>
                  </a:lnTo>
                  <a:lnTo>
                    <a:pt x="141" y="64"/>
                  </a:lnTo>
                  <a:lnTo>
                    <a:pt x="136" y="70"/>
                  </a:lnTo>
                  <a:lnTo>
                    <a:pt x="130" y="76"/>
                  </a:lnTo>
                  <a:lnTo>
                    <a:pt x="124" y="82"/>
                  </a:lnTo>
                  <a:lnTo>
                    <a:pt x="116" y="89"/>
                  </a:lnTo>
                  <a:lnTo>
                    <a:pt x="109" y="95"/>
                  </a:lnTo>
                  <a:lnTo>
                    <a:pt x="102" y="101"/>
                  </a:lnTo>
                  <a:lnTo>
                    <a:pt x="94" y="108"/>
                  </a:lnTo>
                  <a:lnTo>
                    <a:pt x="86" y="114"/>
                  </a:lnTo>
                  <a:lnTo>
                    <a:pt x="77" y="119"/>
                  </a:lnTo>
                  <a:lnTo>
                    <a:pt x="70" y="125"/>
                  </a:lnTo>
                  <a:lnTo>
                    <a:pt x="62" y="131"/>
                  </a:lnTo>
                  <a:lnTo>
                    <a:pt x="53" y="136"/>
                  </a:lnTo>
                  <a:lnTo>
                    <a:pt x="45" y="141"/>
                  </a:lnTo>
                  <a:lnTo>
                    <a:pt x="38" y="146"/>
                  </a:lnTo>
                  <a:lnTo>
                    <a:pt x="30" y="152"/>
                  </a:lnTo>
                  <a:lnTo>
                    <a:pt x="23" y="155"/>
                  </a:lnTo>
                  <a:lnTo>
                    <a:pt x="17" y="160"/>
                  </a:lnTo>
                  <a:lnTo>
                    <a:pt x="10" y="163"/>
                  </a:lnTo>
                  <a:lnTo>
                    <a:pt x="4" y="166"/>
                  </a:lnTo>
                  <a:lnTo>
                    <a:pt x="0" y="16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6540480" y="3603240"/>
              <a:ext cx="110880" cy="119880"/>
            </a:xfrm>
            <a:custGeom>
              <a:avLst/>
              <a:gdLst/>
              <a:ahLst/>
              <a:rect l="l" t="t" r="r" b="b"/>
              <a:pathLst>
                <a:path w="160" h="169">
                  <a:moveTo>
                    <a:pt x="142" y="0"/>
                  </a:moveTo>
                  <a:lnTo>
                    <a:pt x="148" y="4"/>
                  </a:lnTo>
                  <a:lnTo>
                    <a:pt x="154" y="8"/>
                  </a:lnTo>
                  <a:lnTo>
                    <a:pt x="157" y="13"/>
                  </a:lnTo>
                  <a:lnTo>
                    <a:pt x="159" y="17"/>
                  </a:lnTo>
                  <a:lnTo>
                    <a:pt x="160" y="23"/>
                  </a:lnTo>
                  <a:lnTo>
                    <a:pt x="160" y="29"/>
                  </a:lnTo>
                  <a:lnTo>
                    <a:pt x="159" y="34"/>
                  </a:lnTo>
                  <a:lnTo>
                    <a:pt x="157" y="39"/>
                  </a:lnTo>
                  <a:lnTo>
                    <a:pt x="155" y="46"/>
                  </a:lnTo>
                  <a:lnTo>
                    <a:pt x="152" y="51"/>
                  </a:lnTo>
                  <a:lnTo>
                    <a:pt x="146" y="57"/>
                  </a:lnTo>
                  <a:lnTo>
                    <a:pt x="142" y="64"/>
                  </a:lnTo>
                  <a:lnTo>
                    <a:pt x="137" y="70"/>
                  </a:lnTo>
                  <a:lnTo>
                    <a:pt x="131" y="76"/>
                  </a:lnTo>
                  <a:lnTo>
                    <a:pt x="124" y="82"/>
                  </a:lnTo>
                  <a:lnTo>
                    <a:pt x="117" y="89"/>
                  </a:lnTo>
                  <a:lnTo>
                    <a:pt x="110" y="95"/>
                  </a:lnTo>
                  <a:lnTo>
                    <a:pt x="102" y="101"/>
                  </a:lnTo>
                  <a:lnTo>
                    <a:pt x="94" y="108"/>
                  </a:lnTo>
                  <a:lnTo>
                    <a:pt x="85" y="114"/>
                  </a:lnTo>
                  <a:lnTo>
                    <a:pt x="78" y="119"/>
                  </a:lnTo>
                  <a:lnTo>
                    <a:pt x="70" y="125"/>
                  </a:lnTo>
                  <a:lnTo>
                    <a:pt x="61" y="131"/>
                  </a:lnTo>
                  <a:lnTo>
                    <a:pt x="53" y="136"/>
                  </a:lnTo>
                  <a:lnTo>
                    <a:pt x="46" y="141"/>
                  </a:lnTo>
                  <a:lnTo>
                    <a:pt x="37" y="146"/>
                  </a:lnTo>
                  <a:lnTo>
                    <a:pt x="31" y="152"/>
                  </a:lnTo>
                  <a:lnTo>
                    <a:pt x="24" y="155"/>
                  </a:lnTo>
                  <a:lnTo>
                    <a:pt x="16" y="160"/>
                  </a:lnTo>
                  <a:lnTo>
                    <a:pt x="10" y="163"/>
                  </a:lnTo>
                  <a:lnTo>
                    <a:pt x="5" y="166"/>
                  </a:lnTo>
                  <a:lnTo>
                    <a:pt x="0" y="16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409880" y="4191480"/>
              <a:ext cx="406800" cy="273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7475040" y="4268880"/>
              <a:ext cx="248400" cy="18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6381720" y="3920040"/>
              <a:ext cx="334440" cy="176400"/>
            </a:xfrm>
            <a:custGeom>
              <a:avLst/>
              <a:gdLst/>
              <a:ahLst/>
              <a:rect l="l" t="t" r="r" b="b"/>
              <a:pathLst>
                <a:path w="481" h="251">
                  <a:moveTo>
                    <a:pt x="70" y="218"/>
                  </a:moveTo>
                  <a:lnTo>
                    <a:pt x="62" y="222"/>
                  </a:lnTo>
                  <a:lnTo>
                    <a:pt x="54" y="226"/>
                  </a:lnTo>
                  <a:lnTo>
                    <a:pt x="45" y="231"/>
                  </a:lnTo>
                  <a:lnTo>
                    <a:pt x="37" y="235"/>
                  </a:lnTo>
                  <a:lnTo>
                    <a:pt x="29" y="238"/>
                  </a:lnTo>
                  <a:lnTo>
                    <a:pt x="20" y="242"/>
                  </a:lnTo>
                  <a:lnTo>
                    <a:pt x="12" y="246"/>
                  </a:lnTo>
                  <a:lnTo>
                    <a:pt x="3" y="251"/>
                  </a:lnTo>
                  <a:lnTo>
                    <a:pt x="7" y="240"/>
                  </a:lnTo>
                  <a:lnTo>
                    <a:pt x="9" y="234"/>
                  </a:lnTo>
                  <a:lnTo>
                    <a:pt x="14" y="223"/>
                  </a:lnTo>
                  <a:lnTo>
                    <a:pt x="19" y="214"/>
                  </a:lnTo>
                  <a:lnTo>
                    <a:pt x="21" y="206"/>
                  </a:lnTo>
                  <a:lnTo>
                    <a:pt x="21" y="197"/>
                  </a:lnTo>
                  <a:lnTo>
                    <a:pt x="13" y="191"/>
                  </a:lnTo>
                  <a:lnTo>
                    <a:pt x="8" y="190"/>
                  </a:lnTo>
                  <a:lnTo>
                    <a:pt x="0" y="189"/>
                  </a:lnTo>
                  <a:lnTo>
                    <a:pt x="17" y="181"/>
                  </a:lnTo>
                  <a:lnTo>
                    <a:pt x="32" y="173"/>
                  </a:lnTo>
                  <a:lnTo>
                    <a:pt x="63" y="159"/>
                  </a:lnTo>
                  <a:lnTo>
                    <a:pt x="92" y="148"/>
                  </a:lnTo>
                  <a:lnTo>
                    <a:pt x="122" y="137"/>
                  </a:lnTo>
                  <a:lnTo>
                    <a:pt x="150" y="128"/>
                  </a:lnTo>
                  <a:lnTo>
                    <a:pt x="178" y="121"/>
                  </a:lnTo>
                  <a:lnTo>
                    <a:pt x="207" y="113"/>
                  </a:lnTo>
                  <a:lnTo>
                    <a:pt x="234" y="105"/>
                  </a:lnTo>
                  <a:lnTo>
                    <a:pt x="262" y="98"/>
                  </a:lnTo>
                  <a:lnTo>
                    <a:pt x="291" y="88"/>
                  </a:lnTo>
                  <a:lnTo>
                    <a:pt x="320" y="79"/>
                  </a:lnTo>
                  <a:lnTo>
                    <a:pt x="349" y="67"/>
                  </a:lnTo>
                  <a:lnTo>
                    <a:pt x="380" y="55"/>
                  </a:lnTo>
                  <a:lnTo>
                    <a:pt x="412" y="39"/>
                  </a:lnTo>
                  <a:lnTo>
                    <a:pt x="446" y="21"/>
                  </a:lnTo>
                  <a:lnTo>
                    <a:pt x="481" y="0"/>
                  </a:lnTo>
                  <a:lnTo>
                    <a:pt x="475" y="4"/>
                  </a:lnTo>
                  <a:lnTo>
                    <a:pt x="469" y="10"/>
                  </a:lnTo>
                  <a:lnTo>
                    <a:pt x="461" y="14"/>
                  </a:lnTo>
                  <a:lnTo>
                    <a:pt x="455" y="19"/>
                  </a:lnTo>
                  <a:lnTo>
                    <a:pt x="449" y="23"/>
                  </a:lnTo>
                  <a:lnTo>
                    <a:pt x="442" y="28"/>
                  </a:lnTo>
                  <a:lnTo>
                    <a:pt x="437" y="34"/>
                  </a:lnTo>
                  <a:lnTo>
                    <a:pt x="430" y="38"/>
                  </a:lnTo>
                  <a:lnTo>
                    <a:pt x="424" y="43"/>
                  </a:lnTo>
                  <a:lnTo>
                    <a:pt x="417" y="47"/>
                  </a:lnTo>
                  <a:lnTo>
                    <a:pt x="411" y="51"/>
                  </a:lnTo>
                  <a:lnTo>
                    <a:pt x="405" y="57"/>
                  </a:lnTo>
                  <a:lnTo>
                    <a:pt x="398" y="61"/>
                  </a:lnTo>
                  <a:lnTo>
                    <a:pt x="392" y="66"/>
                  </a:lnTo>
                  <a:lnTo>
                    <a:pt x="386" y="70"/>
                  </a:lnTo>
                  <a:lnTo>
                    <a:pt x="380" y="76"/>
                  </a:lnTo>
                  <a:lnTo>
                    <a:pt x="375" y="78"/>
                  </a:lnTo>
                  <a:lnTo>
                    <a:pt x="363" y="84"/>
                  </a:lnTo>
                  <a:lnTo>
                    <a:pt x="353" y="87"/>
                  </a:lnTo>
                  <a:lnTo>
                    <a:pt x="345" y="91"/>
                  </a:lnTo>
                  <a:lnTo>
                    <a:pt x="337" y="95"/>
                  </a:lnTo>
                  <a:lnTo>
                    <a:pt x="327" y="99"/>
                  </a:lnTo>
                  <a:lnTo>
                    <a:pt x="319" y="103"/>
                  </a:lnTo>
                  <a:lnTo>
                    <a:pt x="309" y="107"/>
                  </a:lnTo>
                  <a:lnTo>
                    <a:pt x="301" y="110"/>
                  </a:lnTo>
                  <a:lnTo>
                    <a:pt x="293" y="114"/>
                  </a:lnTo>
                  <a:lnTo>
                    <a:pt x="284" y="119"/>
                  </a:lnTo>
                  <a:lnTo>
                    <a:pt x="276" y="123"/>
                  </a:lnTo>
                  <a:lnTo>
                    <a:pt x="266" y="126"/>
                  </a:lnTo>
                  <a:lnTo>
                    <a:pt x="258" y="130"/>
                  </a:lnTo>
                  <a:lnTo>
                    <a:pt x="250" y="133"/>
                  </a:lnTo>
                  <a:lnTo>
                    <a:pt x="241" y="137"/>
                  </a:lnTo>
                  <a:lnTo>
                    <a:pt x="236" y="134"/>
                  </a:lnTo>
                  <a:lnTo>
                    <a:pt x="219" y="125"/>
                  </a:lnTo>
                  <a:lnTo>
                    <a:pt x="190" y="130"/>
                  </a:lnTo>
                  <a:lnTo>
                    <a:pt x="180" y="139"/>
                  </a:lnTo>
                  <a:lnTo>
                    <a:pt x="176" y="145"/>
                  </a:lnTo>
                  <a:lnTo>
                    <a:pt x="172" y="151"/>
                  </a:lnTo>
                  <a:lnTo>
                    <a:pt x="167" y="152"/>
                  </a:lnTo>
                  <a:lnTo>
                    <a:pt x="155" y="157"/>
                  </a:lnTo>
                  <a:lnTo>
                    <a:pt x="148" y="160"/>
                  </a:lnTo>
                  <a:lnTo>
                    <a:pt x="140" y="165"/>
                  </a:lnTo>
                  <a:lnTo>
                    <a:pt x="129" y="168"/>
                  </a:lnTo>
                  <a:lnTo>
                    <a:pt x="113" y="174"/>
                  </a:lnTo>
                  <a:lnTo>
                    <a:pt x="104" y="177"/>
                  </a:lnTo>
                  <a:lnTo>
                    <a:pt x="101" y="177"/>
                  </a:lnTo>
                  <a:lnTo>
                    <a:pt x="91" y="182"/>
                  </a:lnTo>
                  <a:lnTo>
                    <a:pt x="86" y="188"/>
                  </a:lnTo>
                  <a:lnTo>
                    <a:pt x="77" y="198"/>
                  </a:lnTo>
                  <a:lnTo>
                    <a:pt x="75" y="206"/>
                  </a:lnTo>
                  <a:lnTo>
                    <a:pt x="72" y="212"/>
                  </a:lnTo>
                  <a:lnTo>
                    <a:pt x="70" y="2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669720" y="4072680"/>
              <a:ext cx="47160" cy="2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6791760" y="3912840"/>
              <a:ext cx="717840" cy="425160"/>
            </a:xfrm>
            <a:custGeom>
              <a:avLst/>
              <a:gdLst/>
              <a:ahLst/>
              <a:rect l="l" t="t" r="r" b="b"/>
              <a:pathLst>
                <a:path w="1034" h="601">
                  <a:moveTo>
                    <a:pt x="532" y="239"/>
                  </a:moveTo>
                  <a:lnTo>
                    <a:pt x="334" y="364"/>
                  </a:lnTo>
                  <a:lnTo>
                    <a:pt x="187" y="469"/>
                  </a:lnTo>
                  <a:lnTo>
                    <a:pt x="0" y="601"/>
                  </a:lnTo>
                  <a:lnTo>
                    <a:pt x="199" y="504"/>
                  </a:lnTo>
                  <a:lnTo>
                    <a:pt x="346" y="444"/>
                  </a:lnTo>
                  <a:lnTo>
                    <a:pt x="474" y="394"/>
                  </a:lnTo>
                  <a:lnTo>
                    <a:pt x="751" y="217"/>
                  </a:lnTo>
                  <a:lnTo>
                    <a:pt x="1034" y="0"/>
                  </a:lnTo>
                  <a:lnTo>
                    <a:pt x="1020" y="5"/>
                  </a:lnTo>
                  <a:lnTo>
                    <a:pt x="1004" y="11"/>
                  </a:lnTo>
                  <a:lnTo>
                    <a:pt x="974" y="24"/>
                  </a:lnTo>
                  <a:lnTo>
                    <a:pt x="942" y="36"/>
                  </a:lnTo>
                  <a:lnTo>
                    <a:pt x="911" y="49"/>
                  </a:lnTo>
                  <a:lnTo>
                    <a:pt x="879" y="63"/>
                  </a:lnTo>
                  <a:lnTo>
                    <a:pt x="848" y="76"/>
                  </a:lnTo>
                  <a:lnTo>
                    <a:pt x="815" y="91"/>
                  </a:lnTo>
                  <a:lnTo>
                    <a:pt x="784" y="104"/>
                  </a:lnTo>
                  <a:lnTo>
                    <a:pt x="752" y="120"/>
                  </a:lnTo>
                  <a:lnTo>
                    <a:pt x="720" y="136"/>
                  </a:lnTo>
                  <a:lnTo>
                    <a:pt x="689" y="152"/>
                  </a:lnTo>
                  <a:lnTo>
                    <a:pt x="657" y="167"/>
                  </a:lnTo>
                  <a:lnTo>
                    <a:pt x="626" y="184"/>
                  </a:lnTo>
                  <a:lnTo>
                    <a:pt x="594" y="202"/>
                  </a:lnTo>
                  <a:lnTo>
                    <a:pt x="564" y="221"/>
                  </a:lnTo>
                  <a:lnTo>
                    <a:pt x="532" y="23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7107120" y="4348080"/>
              <a:ext cx="347040" cy="336240"/>
            </a:xfrm>
            <a:custGeom>
              <a:avLst/>
              <a:gdLst/>
              <a:ahLst/>
              <a:rect l="l" t="t" r="r" b="b"/>
              <a:pathLst>
                <a:path w="499" h="475">
                  <a:moveTo>
                    <a:pt x="16" y="243"/>
                  </a:moveTo>
                  <a:lnTo>
                    <a:pt x="28" y="241"/>
                  </a:lnTo>
                  <a:lnTo>
                    <a:pt x="42" y="238"/>
                  </a:lnTo>
                  <a:lnTo>
                    <a:pt x="71" y="226"/>
                  </a:lnTo>
                  <a:lnTo>
                    <a:pt x="103" y="210"/>
                  </a:lnTo>
                  <a:lnTo>
                    <a:pt x="134" y="189"/>
                  </a:lnTo>
                  <a:lnTo>
                    <a:pt x="167" y="166"/>
                  </a:lnTo>
                  <a:lnTo>
                    <a:pt x="201" y="141"/>
                  </a:lnTo>
                  <a:lnTo>
                    <a:pt x="236" y="115"/>
                  </a:lnTo>
                  <a:lnTo>
                    <a:pt x="270" y="90"/>
                  </a:lnTo>
                  <a:lnTo>
                    <a:pt x="304" y="66"/>
                  </a:lnTo>
                  <a:lnTo>
                    <a:pt x="337" y="44"/>
                  </a:lnTo>
                  <a:lnTo>
                    <a:pt x="368" y="25"/>
                  </a:lnTo>
                  <a:lnTo>
                    <a:pt x="398" y="10"/>
                  </a:lnTo>
                  <a:lnTo>
                    <a:pt x="425" y="2"/>
                  </a:lnTo>
                  <a:lnTo>
                    <a:pt x="450" y="0"/>
                  </a:lnTo>
                  <a:lnTo>
                    <a:pt x="473" y="5"/>
                  </a:lnTo>
                  <a:lnTo>
                    <a:pt x="493" y="19"/>
                  </a:lnTo>
                  <a:lnTo>
                    <a:pt x="498" y="27"/>
                  </a:lnTo>
                  <a:lnTo>
                    <a:pt x="499" y="38"/>
                  </a:lnTo>
                  <a:lnTo>
                    <a:pt x="498" y="60"/>
                  </a:lnTo>
                  <a:lnTo>
                    <a:pt x="488" y="85"/>
                  </a:lnTo>
                  <a:lnTo>
                    <a:pt x="473" y="112"/>
                  </a:lnTo>
                  <a:lnTo>
                    <a:pt x="455" y="141"/>
                  </a:lnTo>
                  <a:lnTo>
                    <a:pt x="432" y="171"/>
                  </a:lnTo>
                  <a:lnTo>
                    <a:pt x="406" y="202"/>
                  </a:lnTo>
                  <a:lnTo>
                    <a:pt x="380" y="235"/>
                  </a:lnTo>
                  <a:lnTo>
                    <a:pt x="354" y="266"/>
                  </a:lnTo>
                  <a:lnTo>
                    <a:pt x="328" y="296"/>
                  </a:lnTo>
                  <a:lnTo>
                    <a:pt x="305" y="328"/>
                  </a:lnTo>
                  <a:lnTo>
                    <a:pt x="286" y="356"/>
                  </a:lnTo>
                  <a:lnTo>
                    <a:pt x="271" y="383"/>
                  </a:lnTo>
                  <a:lnTo>
                    <a:pt x="262" y="408"/>
                  </a:lnTo>
                  <a:lnTo>
                    <a:pt x="261" y="430"/>
                  </a:lnTo>
                  <a:lnTo>
                    <a:pt x="267" y="448"/>
                  </a:lnTo>
                  <a:lnTo>
                    <a:pt x="267" y="454"/>
                  </a:lnTo>
                  <a:lnTo>
                    <a:pt x="262" y="466"/>
                  </a:lnTo>
                  <a:lnTo>
                    <a:pt x="254" y="470"/>
                  </a:lnTo>
                  <a:lnTo>
                    <a:pt x="245" y="473"/>
                  </a:lnTo>
                  <a:lnTo>
                    <a:pt x="232" y="475"/>
                  </a:lnTo>
                  <a:lnTo>
                    <a:pt x="219" y="473"/>
                  </a:lnTo>
                  <a:lnTo>
                    <a:pt x="203" y="470"/>
                  </a:lnTo>
                  <a:lnTo>
                    <a:pt x="187" y="467"/>
                  </a:lnTo>
                  <a:lnTo>
                    <a:pt x="171" y="462"/>
                  </a:lnTo>
                  <a:lnTo>
                    <a:pt x="154" y="457"/>
                  </a:lnTo>
                  <a:lnTo>
                    <a:pt x="137" y="450"/>
                  </a:lnTo>
                  <a:lnTo>
                    <a:pt x="121" y="444"/>
                  </a:lnTo>
                  <a:lnTo>
                    <a:pt x="107" y="437"/>
                  </a:lnTo>
                  <a:lnTo>
                    <a:pt x="94" y="432"/>
                  </a:lnTo>
                  <a:lnTo>
                    <a:pt x="84" y="425"/>
                  </a:lnTo>
                  <a:lnTo>
                    <a:pt x="76" y="419"/>
                  </a:lnTo>
                  <a:lnTo>
                    <a:pt x="72" y="416"/>
                  </a:lnTo>
                  <a:lnTo>
                    <a:pt x="61" y="401"/>
                  </a:lnTo>
                  <a:lnTo>
                    <a:pt x="53" y="390"/>
                  </a:lnTo>
                  <a:lnTo>
                    <a:pt x="45" y="375"/>
                  </a:lnTo>
                  <a:lnTo>
                    <a:pt x="36" y="361"/>
                  </a:lnTo>
                  <a:lnTo>
                    <a:pt x="28" y="345"/>
                  </a:lnTo>
                  <a:lnTo>
                    <a:pt x="21" y="329"/>
                  </a:lnTo>
                  <a:lnTo>
                    <a:pt x="14" y="313"/>
                  </a:lnTo>
                  <a:lnTo>
                    <a:pt x="8" y="297"/>
                  </a:lnTo>
                  <a:lnTo>
                    <a:pt x="4" y="284"/>
                  </a:lnTo>
                  <a:lnTo>
                    <a:pt x="2" y="270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3" y="245"/>
                  </a:lnTo>
                  <a:lnTo>
                    <a:pt x="16" y="243"/>
                  </a:lnTo>
                  <a:close/>
                </a:path>
              </a:pathLst>
            </a:custGeom>
            <a:solidFill>
              <a:srgbClr val="fff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7099200" y="4342320"/>
              <a:ext cx="211320" cy="151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92" y="66"/>
                  </a:moveTo>
                  <a:lnTo>
                    <a:pt x="100" y="64"/>
                  </a:lnTo>
                  <a:lnTo>
                    <a:pt x="106" y="62"/>
                  </a:lnTo>
                  <a:lnTo>
                    <a:pt x="117" y="56"/>
                  </a:lnTo>
                  <a:lnTo>
                    <a:pt x="130" y="50"/>
                  </a:lnTo>
                  <a:lnTo>
                    <a:pt x="142" y="42"/>
                  </a:lnTo>
                  <a:lnTo>
                    <a:pt x="153" y="35"/>
                  </a:lnTo>
                  <a:lnTo>
                    <a:pt x="166" y="28"/>
                  </a:lnTo>
                  <a:lnTo>
                    <a:pt x="177" y="20"/>
                  </a:lnTo>
                  <a:lnTo>
                    <a:pt x="190" y="14"/>
                  </a:lnTo>
                  <a:lnTo>
                    <a:pt x="201" y="9"/>
                  </a:lnTo>
                  <a:lnTo>
                    <a:pt x="213" y="5"/>
                  </a:lnTo>
                  <a:lnTo>
                    <a:pt x="225" y="1"/>
                  </a:lnTo>
                  <a:lnTo>
                    <a:pt x="237" y="0"/>
                  </a:lnTo>
                  <a:lnTo>
                    <a:pt x="250" y="0"/>
                  </a:lnTo>
                  <a:lnTo>
                    <a:pt x="261" y="3"/>
                  </a:lnTo>
                  <a:lnTo>
                    <a:pt x="275" y="8"/>
                  </a:lnTo>
                  <a:lnTo>
                    <a:pt x="286" y="15"/>
                  </a:lnTo>
                  <a:lnTo>
                    <a:pt x="291" y="22"/>
                  </a:lnTo>
                  <a:lnTo>
                    <a:pt x="296" y="29"/>
                  </a:lnTo>
                  <a:lnTo>
                    <a:pt x="302" y="42"/>
                  </a:lnTo>
                  <a:lnTo>
                    <a:pt x="305" y="54"/>
                  </a:lnTo>
                  <a:lnTo>
                    <a:pt x="305" y="66"/>
                  </a:lnTo>
                  <a:lnTo>
                    <a:pt x="304" y="79"/>
                  </a:lnTo>
                  <a:lnTo>
                    <a:pt x="300" y="92"/>
                  </a:lnTo>
                  <a:lnTo>
                    <a:pt x="295" y="104"/>
                  </a:lnTo>
                  <a:lnTo>
                    <a:pt x="287" y="117"/>
                  </a:lnTo>
                  <a:lnTo>
                    <a:pt x="280" y="129"/>
                  </a:lnTo>
                  <a:lnTo>
                    <a:pt x="272" y="141"/>
                  </a:lnTo>
                  <a:lnTo>
                    <a:pt x="262" y="153"/>
                  </a:lnTo>
                  <a:lnTo>
                    <a:pt x="255" y="165"/>
                  </a:lnTo>
                  <a:lnTo>
                    <a:pt x="246" y="178"/>
                  </a:lnTo>
                  <a:lnTo>
                    <a:pt x="240" y="189"/>
                  </a:lnTo>
                  <a:lnTo>
                    <a:pt x="235" y="202"/>
                  </a:lnTo>
                  <a:lnTo>
                    <a:pt x="232" y="213"/>
                  </a:lnTo>
                  <a:lnTo>
                    <a:pt x="229" y="209"/>
                  </a:lnTo>
                  <a:lnTo>
                    <a:pt x="225" y="194"/>
                  </a:lnTo>
                  <a:lnTo>
                    <a:pt x="225" y="185"/>
                  </a:lnTo>
                  <a:lnTo>
                    <a:pt x="226" y="174"/>
                  </a:lnTo>
                  <a:lnTo>
                    <a:pt x="229" y="164"/>
                  </a:lnTo>
                  <a:lnTo>
                    <a:pt x="233" y="153"/>
                  </a:lnTo>
                  <a:lnTo>
                    <a:pt x="236" y="142"/>
                  </a:lnTo>
                  <a:lnTo>
                    <a:pt x="241" y="130"/>
                  </a:lnTo>
                  <a:lnTo>
                    <a:pt x="245" y="120"/>
                  </a:lnTo>
                  <a:lnTo>
                    <a:pt x="251" y="108"/>
                  </a:lnTo>
                  <a:lnTo>
                    <a:pt x="254" y="98"/>
                  </a:lnTo>
                  <a:lnTo>
                    <a:pt x="258" y="88"/>
                  </a:lnTo>
                  <a:lnTo>
                    <a:pt x="261" y="78"/>
                  </a:lnTo>
                  <a:lnTo>
                    <a:pt x="262" y="70"/>
                  </a:lnTo>
                  <a:lnTo>
                    <a:pt x="262" y="62"/>
                  </a:lnTo>
                  <a:lnTo>
                    <a:pt x="262" y="55"/>
                  </a:lnTo>
                  <a:lnTo>
                    <a:pt x="254" y="51"/>
                  </a:lnTo>
                  <a:lnTo>
                    <a:pt x="245" y="50"/>
                  </a:lnTo>
                  <a:lnTo>
                    <a:pt x="231" y="49"/>
                  </a:lnTo>
                  <a:lnTo>
                    <a:pt x="215" y="51"/>
                  </a:lnTo>
                  <a:lnTo>
                    <a:pt x="198" y="57"/>
                  </a:lnTo>
                  <a:lnTo>
                    <a:pt x="180" y="65"/>
                  </a:lnTo>
                  <a:lnTo>
                    <a:pt x="164" y="76"/>
                  </a:lnTo>
                  <a:lnTo>
                    <a:pt x="147" y="90"/>
                  </a:lnTo>
                  <a:lnTo>
                    <a:pt x="129" y="103"/>
                  </a:lnTo>
                  <a:lnTo>
                    <a:pt x="111" y="118"/>
                  </a:lnTo>
                  <a:lnTo>
                    <a:pt x="94" y="132"/>
                  </a:lnTo>
                  <a:lnTo>
                    <a:pt x="77" y="148"/>
                  </a:lnTo>
                  <a:lnTo>
                    <a:pt x="61" y="163"/>
                  </a:lnTo>
                  <a:lnTo>
                    <a:pt x="44" y="175"/>
                  </a:lnTo>
                  <a:lnTo>
                    <a:pt x="29" y="187"/>
                  </a:lnTo>
                  <a:lnTo>
                    <a:pt x="14" y="197"/>
                  </a:lnTo>
                  <a:lnTo>
                    <a:pt x="0" y="204"/>
                  </a:lnTo>
                  <a:lnTo>
                    <a:pt x="4" y="198"/>
                  </a:lnTo>
                  <a:lnTo>
                    <a:pt x="20" y="183"/>
                  </a:lnTo>
                  <a:lnTo>
                    <a:pt x="33" y="171"/>
                  </a:lnTo>
                  <a:lnTo>
                    <a:pt x="46" y="159"/>
                  </a:lnTo>
                  <a:lnTo>
                    <a:pt x="61" y="146"/>
                  </a:lnTo>
                  <a:lnTo>
                    <a:pt x="75" y="132"/>
                  </a:lnTo>
                  <a:lnTo>
                    <a:pt x="88" y="120"/>
                  </a:lnTo>
                  <a:lnTo>
                    <a:pt x="101" y="108"/>
                  </a:lnTo>
                  <a:lnTo>
                    <a:pt x="111" y="97"/>
                  </a:lnTo>
                  <a:lnTo>
                    <a:pt x="120" y="86"/>
                  </a:lnTo>
                  <a:lnTo>
                    <a:pt x="125" y="77"/>
                  </a:lnTo>
                  <a:lnTo>
                    <a:pt x="128" y="71"/>
                  </a:lnTo>
                  <a:lnTo>
                    <a:pt x="120" y="63"/>
                  </a:lnTo>
                  <a:lnTo>
                    <a:pt x="109" y="63"/>
                  </a:lnTo>
                  <a:lnTo>
                    <a:pt x="92" y="66"/>
                  </a:lnTo>
                  <a:close/>
                </a:path>
              </a:pathLst>
            </a:custGeom>
            <a:solidFill>
              <a:srgbClr val="00ff00"/>
            </a:solidFill>
            <a:ln w="1440">
              <a:solidFill>
                <a:srgbClr val="0588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7268040" y="4520520"/>
              <a:ext cx="173520" cy="142920"/>
            </a:xfrm>
            <a:custGeom>
              <a:avLst/>
              <a:gdLst/>
              <a:ahLst/>
              <a:rect l="l" t="t" r="r" b="b"/>
              <a:pathLst>
                <a:path w="249" h="201">
                  <a:moveTo>
                    <a:pt x="0" y="0"/>
                  </a:moveTo>
                  <a:lnTo>
                    <a:pt x="6" y="6"/>
                  </a:lnTo>
                  <a:lnTo>
                    <a:pt x="11" y="11"/>
                  </a:lnTo>
                  <a:lnTo>
                    <a:pt x="18" y="16"/>
                  </a:lnTo>
                  <a:lnTo>
                    <a:pt x="24" y="21"/>
                  </a:lnTo>
                  <a:lnTo>
                    <a:pt x="30" y="23"/>
                  </a:lnTo>
                  <a:lnTo>
                    <a:pt x="35" y="24"/>
                  </a:lnTo>
                  <a:lnTo>
                    <a:pt x="42" y="25"/>
                  </a:lnTo>
                  <a:lnTo>
                    <a:pt x="48" y="26"/>
                  </a:lnTo>
                  <a:lnTo>
                    <a:pt x="54" y="26"/>
                  </a:lnTo>
                  <a:lnTo>
                    <a:pt x="60" y="25"/>
                  </a:lnTo>
                  <a:lnTo>
                    <a:pt x="68" y="24"/>
                  </a:lnTo>
                  <a:lnTo>
                    <a:pt x="75" y="23"/>
                  </a:lnTo>
                  <a:lnTo>
                    <a:pt x="83" y="21"/>
                  </a:lnTo>
                  <a:lnTo>
                    <a:pt x="92" y="18"/>
                  </a:lnTo>
                  <a:lnTo>
                    <a:pt x="101" y="16"/>
                  </a:lnTo>
                  <a:lnTo>
                    <a:pt x="111" y="13"/>
                  </a:lnTo>
                  <a:lnTo>
                    <a:pt x="107" y="20"/>
                  </a:lnTo>
                  <a:lnTo>
                    <a:pt x="104" y="26"/>
                  </a:lnTo>
                  <a:lnTo>
                    <a:pt x="101" y="39"/>
                  </a:lnTo>
                  <a:lnTo>
                    <a:pt x="102" y="51"/>
                  </a:lnTo>
                  <a:lnTo>
                    <a:pt x="107" y="63"/>
                  </a:lnTo>
                  <a:lnTo>
                    <a:pt x="113" y="75"/>
                  </a:lnTo>
                  <a:lnTo>
                    <a:pt x="121" y="87"/>
                  </a:lnTo>
                  <a:lnTo>
                    <a:pt x="132" y="98"/>
                  </a:lnTo>
                  <a:lnTo>
                    <a:pt x="144" y="110"/>
                  </a:lnTo>
                  <a:lnTo>
                    <a:pt x="157" y="120"/>
                  </a:lnTo>
                  <a:lnTo>
                    <a:pt x="169" y="131"/>
                  </a:lnTo>
                  <a:lnTo>
                    <a:pt x="183" y="141"/>
                  </a:lnTo>
                  <a:lnTo>
                    <a:pt x="196" y="151"/>
                  </a:lnTo>
                  <a:lnTo>
                    <a:pt x="207" y="160"/>
                  </a:lnTo>
                  <a:lnTo>
                    <a:pt x="218" y="170"/>
                  </a:lnTo>
                  <a:lnTo>
                    <a:pt x="226" y="178"/>
                  </a:lnTo>
                  <a:lnTo>
                    <a:pt x="232" y="186"/>
                  </a:lnTo>
                  <a:lnTo>
                    <a:pt x="236" y="192"/>
                  </a:lnTo>
                  <a:lnTo>
                    <a:pt x="243" y="197"/>
                  </a:lnTo>
                  <a:lnTo>
                    <a:pt x="249" y="2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7314120" y="4488120"/>
              <a:ext cx="51120" cy="435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0" y="62"/>
                  </a:moveTo>
                  <a:lnTo>
                    <a:pt x="4" y="57"/>
                  </a:lnTo>
                  <a:lnTo>
                    <a:pt x="6" y="54"/>
                  </a:lnTo>
                  <a:lnTo>
                    <a:pt x="10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20" y="42"/>
                  </a:lnTo>
                  <a:lnTo>
                    <a:pt x="22" y="40"/>
                  </a:lnTo>
                  <a:lnTo>
                    <a:pt x="27" y="35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38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7" y="21"/>
                  </a:lnTo>
                  <a:lnTo>
                    <a:pt x="49" y="19"/>
                  </a:lnTo>
                  <a:lnTo>
                    <a:pt x="51" y="17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8" y="11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8" y="4"/>
                  </a:lnTo>
                  <a:lnTo>
                    <a:pt x="71" y="2"/>
                  </a:lnTo>
                  <a:lnTo>
                    <a:pt x="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7376400" y="4602600"/>
              <a:ext cx="94320" cy="90360"/>
            </a:xfrm>
            <a:custGeom>
              <a:avLst/>
              <a:gdLst/>
              <a:ahLst/>
              <a:rect l="l" t="t" r="r" b="b"/>
              <a:pathLst>
                <a:path w="137" h="128">
                  <a:moveTo>
                    <a:pt x="137" y="0"/>
                  </a:moveTo>
                  <a:lnTo>
                    <a:pt x="131" y="4"/>
                  </a:lnTo>
                  <a:lnTo>
                    <a:pt x="126" y="9"/>
                  </a:lnTo>
                  <a:lnTo>
                    <a:pt x="121" y="13"/>
                  </a:lnTo>
                  <a:lnTo>
                    <a:pt x="116" y="16"/>
                  </a:lnTo>
                  <a:lnTo>
                    <a:pt x="112" y="20"/>
                  </a:lnTo>
                  <a:lnTo>
                    <a:pt x="107" y="23"/>
                  </a:lnTo>
                  <a:lnTo>
                    <a:pt x="102" y="27"/>
                  </a:lnTo>
                  <a:lnTo>
                    <a:pt x="98" y="31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3" y="42"/>
                  </a:lnTo>
                  <a:lnTo>
                    <a:pt x="80" y="46"/>
                  </a:lnTo>
                  <a:lnTo>
                    <a:pt x="75" y="51"/>
                  </a:lnTo>
                  <a:lnTo>
                    <a:pt x="71" y="55"/>
                  </a:lnTo>
                  <a:lnTo>
                    <a:pt x="67" y="58"/>
                  </a:lnTo>
                  <a:lnTo>
                    <a:pt x="63" y="62"/>
                  </a:lnTo>
                  <a:lnTo>
                    <a:pt x="58" y="66"/>
                  </a:lnTo>
                  <a:lnTo>
                    <a:pt x="54" y="69"/>
                  </a:lnTo>
                  <a:lnTo>
                    <a:pt x="51" y="74"/>
                  </a:lnTo>
                  <a:lnTo>
                    <a:pt x="47" y="77"/>
                  </a:lnTo>
                  <a:lnTo>
                    <a:pt x="43" y="82"/>
                  </a:lnTo>
                  <a:lnTo>
                    <a:pt x="38" y="85"/>
                  </a:lnTo>
                  <a:lnTo>
                    <a:pt x="35" y="89"/>
                  </a:lnTo>
                  <a:lnTo>
                    <a:pt x="31" y="93"/>
                  </a:lnTo>
                  <a:lnTo>
                    <a:pt x="27" y="98"/>
                  </a:lnTo>
                  <a:lnTo>
                    <a:pt x="24" y="102"/>
                  </a:lnTo>
                  <a:lnTo>
                    <a:pt x="19" y="106"/>
                  </a:lnTo>
                  <a:lnTo>
                    <a:pt x="15" y="110"/>
                  </a:lnTo>
                  <a:lnTo>
                    <a:pt x="11" y="114"/>
                  </a:lnTo>
                  <a:lnTo>
                    <a:pt x="7" y="120"/>
                  </a:lnTo>
                  <a:lnTo>
                    <a:pt x="4" y="124"/>
                  </a:lnTo>
                  <a:lnTo>
                    <a:pt x="0" y="12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7366680" y="4596840"/>
              <a:ext cx="72000" cy="88920"/>
            </a:xfrm>
            <a:custGeom>
              <a:avLst/>
              <a:gdLst/>
              <a:ahLst/>
              <a:rect l="l" t="t" r="r" b="b"/>
              <a:pathLst>
                <a:path w="103" h="126">
                  <a:moveTo>
                    <a:pt x="103" y="0"/>
                  </a:moveTo>
                  <a:lnTo>
                    <a:pt x="98" y="4"/>
                  </a:lnTo>
                  <a:lnTo>
                    <a:pt x="94" y="8"/>
                  </a:lnTo>
                  <a:lnTo>
                    <a:pt x="90" y="11"/>
                  </a:lnTo>
                  <a:lnTo>
                    <a:pt x="87" y="16"/>
                  </a:lnTo>
                  <a:lnTo>
                    <a:pt x="83" y="20"/>
                  </a:lnTo>
                  <a:lnTo>
                    <a:pt x="79" y="24"/>
                  </a:lnTo>
                  <a:lnTo>
                    <a:pt x="75" y="27"/>
                  </a:lnTo>
                  <a:lnTo>
                    <a:pt x="72" y="31"/>
                  </a:lnTo>
                  <a:lnTo>
                    <a:pt x="69" y="35"/>
                  </a:lnTo>
                  <a:lnTo>
                    <a:pt x="65" y="39"/>
                  </a:lnTo>
                  <a:lnTo>
                    <a:pt x="62" y="43"/>
                  </a:lnTo>
                  <a:lnTo>
                    <a:pt x="58" y="47"/>
                  </a:lnTo>
                  <a:lnTo>
                    <a:pt x="55" y="50"/>
                  </a:lnTo>
                  <a:lnTo>
                    <a:pt x="52" y="53"/>
                  </a:lnTo>
                  <a:lnTo>
                    <a:pt x="49" y="57"/>
                  </a:lnTo>
                  <a:lnTo>
                    <a:pt x="46" y="62"/>
                  </a:lnTo>
                  <a:lnTo>
                    <a:pt x="43" y="65"/>
                  </a:lnTo>
                  <a:lnTo>
                    <a:pt x="41" y="69"/>
                  </a:lnTo>
                  <a:lnTo>
                    <a:pt x="36" y="73"/>
                  </a:lnTo>
                  <a:lnTo>
                    <a:pt x="34" y="76"/>
                  </a:lnTo>
                  <a:lnTo>
                    <a:pt x="31" y="82"/>
                  </a:lnTo>
                  <a:lnTo>
                    <a:pt x="28" y="85"/>
                  </a:lnTo>
                  <a:lnTo>
                    <a:pt x="26" y="89"/>
                  </a:lnTo>
                  <a:lnTo>
                    <a:pt x="23" y="93"/>
                  </a:lnTo>
                  <a:lnTo>
                    <a:pt x="20" y="96"/>
                  </a:lnTo>
                  <a:lnTo>
                    <a:pt x="17" y="100"/>
                  </a:lnTo>
                  <a:lnTo>
                    <a:pt x="14" y="105"/>
                  </a:lnTo>
                  <a:lnTo>
                    <a:pt x="11" y="109"/>
                  </a:lnTo>
                  <a:lnTo>
                    <a:pt x="8" y="113"/>
                  </a:lnTo>
                  <a:lnTo>
                    <a:pt x="5" y="117"/>
                  </a:lnTo>
                  <a:lnTo>
                    <a:pt x="2" y="121"/>
                  </a:lnTo>
                  <a:lnTo>
                    <a:pt x="0" y="12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7370640" y="4584240"/>
              <a:ext cx="94320" cy="63360"/>
            </a:xfrm>
            <a:custGeom>
              <a:avLst/>
              <a:gdLst/>
              <a:ahLst/>
              <a:rect l="l" t="t" r="r" b="b"/>
              <a:pathLst>
                <a:path w="136" h="89">
                  <a:moveTo>
                    <a:pt x="136" y="0"/>
                  </a:moveTo>
                  <a:lnTo>
                    <a:pt x="131" y="2"/>
                  </a:lnTo>
                  <a:lnTo>
                    <a:pt x="127" y="4"/>
                  </a:lnTo>
                  <a:lnTo>
                    <a:pt x="122" y="7"/>
                  </a:lnTo>
                  <a:lnTo>
                    <a:pt x="116" y="9"/>
                  </a:lnTo>
                  <a:lnTo>
                    <a:pt x="112" y="13"/>
                  </a:lnTo>
                  <a:lnTo>
                    <a:pt x="107" y="16"/>
                  </a:lnTo>
                  <a:lnTo>
                    <a:pt x="103" y="18"/>
                  </a:lnTo>
                  <a:lnTo>
                    <a:pt x="99" y="21"/>
                  </a:lnTo>
                  <a:lnTo>
                    <a:pt x="94" y="23"/>
                  </a:lnTo>
                  <a:lnTo>
                    <a:pt x="89" y="26"/>
                  </a:lnTo>
                  <a:lnTo>
                    <a:pt x="85" y="28"/>
                  </a:lnTo>
                  <a:lnTo>
                    <a:pt x="81" y="31"/>
                  </a:lnTo>
                  <a:lnTo>
                    <a:pt x="77" y="34"/>
                  </a:lnTo>
                  <a:lnTo>
                    <a:pt x="72" y="37"/>
                  </a:lnTo>
                  <a:lnTo>
                    <a:pt x="68" y="39"/>
                  </a:lnTo>
                  <a:lnTo>
                    <a:pt x="64" y="42"/>
                  </a:lnTo>
                  <a:lnTo>
                    <a:pt x="60" y="44"/>
                  </a:lnTo>
                  <a:lnTo>
                    <a:pt x="56" y="47"/>
                  </a:lnTo>
                  <a:lnTo>
                    <a:pt x="51" y="50"/>
                  </a:lnTo>
                  <a:lnTo>
                    <a:pt x="48" y="53"/>
                  </a:lnTo>
                  <a:lnTo>
                    <a:pt x="43" y="56"/>
                  </a:lnTo>
                  <a:lnTo>
                    <a:pt x="40" y="59"/>
                  </a:lnTo>
                  <a:lnTo>
                    <a:pt x="36" y="62"/>
                  </a:lnTo>
                  <a:lnTo>
                    <a:pt x="33" y="65"/>
                  </a:lnTo>
                  <a:lnTo>
                    <a:pt x="27" y="68"/>
                  </a:lnTo>
                  <a:lnTo>
                    <a:pt x="24" y="70"/>
                  </a:lnTo>
                  <a:lnTo>
                    <a:pt x="20" y="73"/>
                  </a:lnTo>
                  <a:lnTo>
                    <a:pt x="16" y="77"/>
                  </a:lnTo>
                  <a:lnTo>
                    <a:pt x="12" y="80"/>
                  </a:lnTo>
                  <a:lnTo>
                    <a:pt x="7" y="83"/>
                  </a:lnTo>
                  <a:lnTo>
                    <a:pt x="3" y="86"/>
                  </a:lnTo>
                  <a:lnTo>
                    <a:pt x="0" y="8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7466760" y="4689000"/>
              <a:ext cx="37440" cy="3492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16" y="14"/>
                  </a:moveTo>
                  <a:lnTo>
                    <a:pt x="24" y="8"/>
                  </a:lnTo>
                  <a:lnTo>
                    <a:pt x="32" y="4"/>
                  </a:lnTo>
                  <a:lnTo>
                    <a:pt x="38" y="1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3" y="8"/>
                  </a:lnTo>
                  <a:lnTo>
                    <a:pt x="52" y="14"/>
                  </a:lnTo>
                  <a:lnTo>
                    <a:pt x="49" y="22"/>
                  </a:lnTo>
                  <a:lnTo>
                    <a:pt x="42" y="28"/>
                  </a:lnTo>
                  <a:lnTo>
                    <a:pt x="36" y="36"/>
                  </a:lnTo>
                  <a:lnTo>
                    <a:pt x="28" y="43"/>
                  </a:lnTo>
                  <a:lnTo>
                    <a:pt x="19" y="48"/>
                  </a:lnTo>
                  <a:lnTo>
                    <a:pt x="13" y="50"/>
                  </a:lnTo>
                  <a:lnTo>
                    <a:pt x="7" y="50"/>
                  </a:lnTo>
                  <a:lnTo>
                    <a:pt x="1" y="48"/>
                  </a:lnTo>
                  <a:lnTo>
                    <a:pt x="0" y="41"/>
                  </a:lnTo>
                  <a:lnTo>
                    <a:pt x="2" y="34"/>
                  </a:lnTo>
                  <a:lnTo>
                    <a:pt x="6" y="26"/>
                  </a:lnTo>
                  <a:lnTo>
                    <a:pt x="11" y="20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00ff00"/>
            </a:solidFill>
            <a:ln w="1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7433640" y="4681800"/>
              <a:ext cx="30240" cy="3384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12" y="16"/>
                  </a:moveTo>
                  <a:lnTo>
                    <a:pt x="18" y="11"/>
                  </a:lnTo>
                  <a:lnTo>
                    <a:pt x="24" y="6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3" y="8"/>
                  </a:lnTo>
                  <a:lnTo>
                    <a:pt x="43" y="14"/>
                  </a:lnTo>
                  <a:lnTo>
                    <a:pt x="40" y="20"/>
                  </a:lnTo>
                  <a:lnTo>
                    <a:pt x="36" y="28"/>
                  </a:lnTo>
                  <a:lnTo>
                    <a:pt x="33" y="32"/>
                  </a:lnTo>
                  <a:lnTo>
                    <a:pt x="26" y="38"/>
                  </a:lnTo>
                  <a:lnTo>
                    <a:pt x="20" y="43"/>
                  </a:lnTo>
                  <a:lnTo>
                    <a:pt x="14" y="46"/>
                  </a:lnTo>
                  <a:lnTo>
                    <a:pt x="9" y="49"/>
                  </a:lnTo>
                  <a:lnTo>
                    <a:pt x="3" y="46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4" y="29"/>
                  </a:lnTo>
                  <a:lnTo>
                    <a:pt x="9" y="22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00ff00"/>
            </a:solidFill>
            <a:ln w="1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7461000" y="4643640"/>
              <a:ext cx="36000" cy="2664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19" y="8"/>
                  </a:moveTo>
                  <a:lnTo>
                    <a:pt x="27" y="4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1" y="7"/>
                  </a:lnTo>
                  <a:lnTo>
                    <a:pt x="49" y="13"/>
                  </a:lnTo>
                  <a:lnTo>
                    <a:pt x="45" y="19"/>
                  </a:lnTo>
                  <a:lnTo>
                    <a:pt x="40" y="25"/>
                  </a:lnTo>
                  <a:lnTo>
                    <a:pt x="32" y="30"/>
                  </a:lnTo>
                  <a:lnTo>
                    <a:pt x="24" y="33"/>
                  </a:lnTo>
                  <a:lnTo>
                    <a:pt x="17" y="37"/>
                  </a:lnTo>
                  <a:lnTo>
                    <a:pt x="10" y="38"/>
                  </a:lnTo>
                  <a:lnTo>
                    <a:pt x="4" y="37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7" y="18"/>
                  </a:lnTo>
                  <a:lnTo>
                    <a:pt x="15" y="12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ff00"/>
            </a:solidFill>
            <a:ln w="1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9:57:53Z</dcterms:created>
  <dc:creator>Emmanuel Barbeau</dc:creator>
  <dc:description/>
  <dc:language>en-US</dc:language>
  <cp:lastModifiedBy>Emmanuel BARBEAU</cp:lastModifiedBy>
  <dcterms:modified xsi:type="dcterms:W3CDTF">2002-02-07T18:24:34Z</dcterms:modified>
  <cp:revision>386</cp:revision>
  <dc:subject/>
  <dc:title>Présentation PowerPoint</dc:title>
</cp:coreProperties>
</file>